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21:45:55Z</dcterms:created>
  <dc:creator>fxs6</dc:creator>
  <dc:description/>
  <dc:language>en-US</dc:language>
  <cp:lastModifiedBy>krc4</cp:lastModifiedBy>
  <dcterms:modified xsi:type="dcterms:W3CDTF">2009-01-20T16:18:56Z</dcterms:modified>
  <cp:revision>625</cp:revision>
  <dc:subject/>
  <dc:title>Improving Collaboration Between Public Health and Law Enforcement</dc:title>
</cp:coreProperties>
</file>