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EAC-7984-4EA6-A4D2-7F1AF067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6AC-13FC-422D-84B1-AD7DC971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84F-63C2-4AFC-B9C6-6C115CC2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158-140E-404F-BBDD-66D8B28B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F5B-BAAF-458D-99D3-3E6D0A2B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A9F-3797-4458-B100-3F27CCEB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5CB5-1E90-45CA-9F1E-D74EE422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E2B-C89E-4310-B33F-C7965D65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CF7-873C-41BE-8134-104B78B0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9584-94B7-4040-8819-894478C0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E426-506A-471E-B2B4-23196A8C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33C-F4A7-4D4F-9F26-C841C4D0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807F-E702-4AC6-921F-F26983E1A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Slid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lid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Slide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lide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Slide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Slide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Slide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Slide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Slid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Slide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Slide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Slide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Slide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Slide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Slide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Slide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Slide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Slide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Slide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Slide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Slid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Slide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Slide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Slide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Slide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Slide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Slide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Slide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Slide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Slide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Slide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Slid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Slide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Slide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Slide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Slide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Slide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Slide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Slide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Slide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Slide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Slide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Slid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Slide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Slid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Slide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lid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2:49:00Z</dcterms:created>
  <dc:creator>krc4</dc:creator>
  <dc:description/>
  <dc:language>en-US</dc:language>
  <cp:lastModifiedBy>krc4</cp:lastModifiedBy>
  <dcterms:modified xsi:type="dcterms:W3CDTF">2011-08-31T12:50:28Z</dcterms:modified>
  <cp:revision>1</cp:revision>
  <dc:subject/>
  <dc:title>Slide 1</dc:title>
</cp:coreProperties>
</file>