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1D9-02F1-418B-94A0-A8300FFD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5E3-B219-4AF3-9E99-E7F147C6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0426-E596-4124-84AD-C98A3DC9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9A43-CC61-48E9-911A-1C48031E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6F8-3DEC-4646-96BB-4C885483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0DB-5133-4921-B02D-AABFCC46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2FB4-32A6-41B1-B4F5-3848C135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541-CBD1-4FBB-B941-BDD20B7C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2C7C-3D89-4A4A-A483-71E1ABB8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34F4-F0AF-4FEB-92A5-F4AB8521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21A0-5EA9-4E66-AFF8-AA85ECD3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7CBD-49FF-4D8F-A3AC-649AA312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6D16-C5FA-4C64-85B8-4238385BA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Slid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Slide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Slid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Slide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lide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Slide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Slide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Slide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Slide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Slide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Slide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Slide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Slide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Slide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Slide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Slide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Slide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Slide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Slide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Slide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Slide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Slid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Slide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Slide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Slide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Slide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Slide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Slide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Slide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Slide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Slide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Slide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Slid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Slide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Slide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Slide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Slide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Slide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Slide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Slide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Slide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Slide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Slide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Slide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Slide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Slid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Slide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lid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2:49:00Z</dcterms:created>
  <dc:creator>krc4</dc:creator>
  <dc:description/>
  <dc:language>en-US</dc:language>
  <cp:lastModifiedBy>krc4</cp:lastModifiedBy>
  <dcterms:modified xsi:type="dcterms:W3CDTF">2011-08-31T12:50:28Z</dcterms:modified>
  <cp:revision>1</cp:revision>
  <dc:subject/>
  <dc:title>Slide 1</dc:title>
</cp:coreProperties>
</file>