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309756-3FCA-42E9-86DE-5719353DA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81200"/>
          </a:xfrm>
          <a:prstGeom prst="rect">
            <a:avLst/>
          </a:prstGeom>
          <a:ln w="0">
            <a:noFill/>
          </a:ln>
        </p:spPr>
      </p:sp>
      <p:sp>
        <p:nvSpPr>
          <p:cNvPr id="1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 authority varies among the states.  Some AGs may have authority to make the decision.  Others may be required to defer to the wishes of the client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81200"/>
          </a:xfrm>
          <a:prstGeom prst="rect">
            <a:avLst/>
          </a:prstGeom>
          <a:ln w="0">
            <a:noFill/>
          </a:ln>
        </p:spPr>
      </p:sp>
      <p:sp>
        <p:nvSpPr>
          <p:cNvPr id="1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discussion purposes: One important consideration is the dependence of the answer and discussion upon a given state’s applicable laws.  For example, for states in which the attorney general has common law powers, the attorney general may be empowered to move forward.  In other states, however, the attorney general may be dependent on statutory authority and may lack the authority to proceed in the absence of gubernatorial appro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81200"/>
          </a:xfrm>
          <a:prstGeom prst="rect">
            <a:avLst/>
          </a:prstGeom>
          <a:ln w="0">
            <a:noFill/>
          </a:ln>
        </p:spPr>
      </p:sp>
      <p:sp>
        <p:nvSpPr>
          <p:cNvPr id="1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Many smaller cities and counties are represented by private attorneys who do government work part-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81200"/>
          </a:xfrm>
          <a:prstGeom prst="rect">
            <a:avLst/>
          </a:prstGeom>
          <a:ln w="0">
            <a:noFill/>
          </a:ln>
        </p:spPr>
      </p:sp>
      <p:sp>
        <p:nvSpPr>
          <p:cNvPr id="18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Who Gets Attorney-Client Privilege? -- The government agencies are often represented by attorneys from other governmental legal departments, such as the attorney general or the city attorney. These lawyers will be supervised by the legal department, which may have different objectives than the health department.  It is important to work with outside counsel to educate them and their supervisors on the special issues in public health law.</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Board of Health -- If there is a board of health, the legal counsel may owe its loyalty to the board of health rather than to the agency as represented by the health directo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e Agency -- Agency personnel in their official capacity: The agency counsel can represent the agency personnel when they are sued in their official capacity, meaning that they are being sued for their official acts.  The agency, however, not the individual, sets the terms of this representation, including how the case is handled.  If there are potential conflicts between the agency and official, the official may need private counsel in addition to the agency couns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Not individual agency employe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overnmental lawyers do not represent employees individually.  For example, if an employee seeks advice from counsel about potentially illegal behavior, there is no attorney client relationship between the employee and the attorney.  The attorney must protect the interests of the agency and not the rights of the employee.  It is very important that agency counsel makes sure that employees understand this if the attorney is conducting an investigation of improper behavio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81200"/>
          </a:xfrm>
          <a:prstGeom prst="rect">
            <a:avLst/>
          </a:prstGeom>
          <a:ln w="0">
            <a:noFill/>
          </a:ln>
        </p:spPr>
      </p:sp>
      <p:sp>
        <p:nvSpPr>
          <p:cNvPr id="1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formal Advice -- Informal advice is critical when there is legal uncertainty.  Most attorneys are very conservative when issuing a formal written legal opinion.  When the agency has to act in an uncertain legal situation, counsel may be unwilling to suggest innovative solutions if asked for a formal opin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8120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dvisory Opinions: These are opinions that the agency requests to better inform itself on legal issues and op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datory Opinions: In some situations the law requires a formal legal opinion before the agency can act.  For example, bond issues usually require a legal opinion that the issue has been done prope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81200"/>
          </a:xfrm>
          <a:prstGeom prst="rect">
            <a:avLst/>
          </a:prstGeom>
          <a:ln w="0">
            <a:noFill/>
          </a:ln>
        </p:spPr>
      </p:sp>
      <p:sp>
        <p:nvSpPr>
          <p:cNvPr id="18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unsel must also review health department activities to assure that the agency complies with the relevant la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81200"/>
          </a:xfrm>
          <a:prstGeom prst="rect">
            <a:avLst/>
          </a:prstGeom>
          <a:ln w="0">
            <a:noFill/>
          </a:ln>
        </p:spPr>
      </p:sp>
      <p:sp>
        <p:nvSpPr>
          <p:cNvPr id="19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for discussion and is linked to the following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81200"/>
          </a:xfrm>
          <a:prstGeom prst="rect">
            <a:avLst/>
          </a:prstGeom>
          <a:ln w="0">
            <a:noFill/>
          </a:ln>
        </p:spPr>
      </p:sp>
      <p:sp>
        <p:nvSpPr>
          <p:cNvPr id="1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e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6960"/>
            <a:ext cx="4641840" cy="3481200"/>
          </a:xfrm>
          <a:prstGeom prst="rect">
            <a:avLst/>
          </a:prstGeom>
          <a:ln w="0">
            <a:noFill/>
          </a:ln>
        </p:spPr>
      </p:sp>
      <p:sp>
        <p:nvSpPr>
          <p:cNvPr id="1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to stimulate discussion at the beginning of the class.  Potential discussion points for the hypo (legal authority for seizure of a private buil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ime is of the essence, requesting a formal legal opinion likely would be in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between the director and counsel concerning the legal authority to seize private property optimally should have occurred long before the day of potential seiz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determined that legal authority exists, an equally important consideration is the factual justification for the seiz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onsideration must be given to seeking the property owner’s co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6960"/>
            <a:ext cx="4641840" cy="3481200"/>
          </a:xfrm>
          <a:prstGeom prst="rect">
            <a:avLst/>
          </a:prstGeom>
          <a:ln w="0">
            <a:noFill/>
          </a:ln>
        </p:spPr>
      </p:sp>
      <p:sp>
        <p:nvSpPr>
          <p:cNvPr id="1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this is an essential slide, as the objectives frame the order of content included in this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6:02:02Z</dcterms:modified>
  <cp:revision>490</cp:revision>
  <dc:subject/>
  <dc:title>Improving Collaboration Between Public Health and Law Enforcement</dc:title>
</cp:coreProperties>
</file>