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3.png" ContentType="image/png"/>
  <Override PartName="/ppt/media/image50.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4"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2E4F7C-54B1-4354-8EAB-A0247890E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81200"/>
          </a:xfrm>
          <a:prstGeom prst="rect">
            <a:avLst/>
          </a:prstGeom>
          <a:ln w="0">
            <a:noFill/>
          </a:ln>
        </p:spPr>
      </p:sp>
      <p:sp>
        <p:nvSpPr>
          <p:cNvPr id="20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separation of powers doctrines vary.  Some resemble the federal government and see the governor as the primary executive, others see the governor and other elected officials as co-equal, and some allow the legislature more latitude in the control of enforcement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explain what caus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81200"/>
          </a:xfrm>
          <a:prstGeom prst="rect">
            <a:avLst/>
          </a:prstGeom>
          <a:ln w="0">
            <a:noFill/>
          </a:ln>
        </p:spPr>
      </p:sp>
      <p:sp>
        <p:nvSpPr>
          <p:cNvPr id="20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response to the terrorist attacks on September 11, 2001 was directed by executive orders, such as the order to shutdown commercial and private a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ate level, the response to events such as hurricanes is shaped by executive orders from the governor and presi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81200"/>
          </a:xfrm>
          <a:prstGeom prst="rect">
            <a:avLst/>
          </a:prstGeom>
          <a:ln w="0">
            <a:noFill/>
          </a:ln>
        </p:spPr>
      </p:sp>
      <p:sp>
        <p:nvSpPr>
          <p:cNvPr id="2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health department seizes and destroys a valuable pet dog that is in violation of the leash law?  This would not be a taking, and the dog is not entitled to due process.  The owner could contest the destruction of the dog in court, and could be compensated if the department acted illegally in seizing and destroying the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effect on public health practice if the state had to pay for all costs related regulations, such requiring standing water to be drained to prevent the growth of mosquit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81200"/>
          </a:xfrm>
          <a:prstGeom prst="rect">
            <a:avLst/>
          </a:prstGeom>
          <a:ln w="0">
            <a:noFill/>
          </a:ln>
        </p:spPr>
      </p:sp>
      <p:sp>
        <p:nvSpPr>
          <p:cNvPr id="2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for Judicial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Novo Revie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rt ignores the agency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n the Recor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rt uses the record of the agency proceeding but makes an independent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rence to the Agen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rt upholds the agency decision unless it is arbitrary and capriciou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usual standard for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vie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such as the Smallpox Compensation Fund, the legislature does not allow judicial review of the agency decision</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81200"/>
          </a:xfrm>
          <a:prstGeom prst="rect">
            <a:avLst/>
          </a:prstGeom>
          <a:ln w="0">
            <a:noFill/>
          </a:ln>
        </p:spPr>
      </p:sp>
      <p:sp>
        <p:nvSpPr>
          <p:cNvPr id="2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ere is no single source of administrative law.  It is drawn from statutes, regulations, and the constitution.  Like many areas of jurisprudence, such as national security law, it is a functional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5"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9"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0"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21:45:55Z</dcterms:created>
  <dc:creator>fxs6</dc:creator>
  <dc:description/>
  <dc:language>en-US</dc:language>
  <cp:lastModifiedBy>krc4</cp:lastModifiedBy>
  <dcterms:modified xsi:type="dcterms:W3CDTF">2009-01-20T15:58:38Z</dcterms:modified>
  <cp:revision>717</cp:revision>
  <dc:subject/>
  <dc:title>Improving Collaboration Between Public Health and Law Enforcement</dc:title>
</cp:coreProperties>
</file>