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765E-A567-42B1-BC94-E04AA2B18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09A6-CDDB-4719-B86C-C029BA4A2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29F1-743D-4D78-88A2-D6945056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the 20 Quarantine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C has been expanding the Q System from 8 stations in 2004 to 20 curr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roit Station ahs responsibility for 3 states and all ports of entry in thos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vision has three main branches which includ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ic medicine and health promotion ( travelers health and zoonos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immigrant , refugee and migrant health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Quarantine and border health service branch under which fall the quarantine statio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in 2004 there were only 8 QS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Dec of 2005, there are now 18 Q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ranches  collaborate with each other to fulfill the mission of the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531D-197B-482A-9CBC-BA6173948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B54E-02C1-405A-89A5-E14C3B96A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00" y="30456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B184-2B87-4A6C-A100-ACD5E4B85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864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7EB2-08BE-4D3C-8A5C-9B017464B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404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48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60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404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48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7319-2375-42AC-8A11-C8C6A090C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9398-90BD-4E05-92A1-39E6004DC8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8262-6BA9-4AFD-9B56-451ED47C2B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EFCD-1BC7-4038-AF43-4D0AC91878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6E01-F376-41DA-BF17-C9A6716FFE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09B7-792B-433C-BBB8-AE5440C915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15A7-FDE0-4411-A104-BBF785A6F3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F59F-760D-419F-8A0B-196CC3675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9E51-5BBA-4216-8224-1314E3F72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864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7F4E-E2A3-4B6E-9BBD-12917C3BBE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0FAE-E101-4E85-9684-F8FB94F23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" y="30456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53661-C10E-4918-AA85-D5FBF9F22A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864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3AF7-469E-4CFF-97D8-1B17F1A44C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404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648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160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404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648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5A89-20E8-4C4B-9B6E-AB5138A32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C830-C20E-465A-9AB7-4D5D1DA81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ACB4-7D5E-4623-A63F-821792389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1FFE-89FB-41C9-9F07-3B5DD6E83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2BEA-5CFE-451A-9C84-FD64F0DEA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B7BA-4ACE-49B9-9AAC-13767BE5F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864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3301-2EAD-43E3-85D1-C444A7392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B53F-7D00-4B08-9928-9879FE65F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35800" indent="-1620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0520" indent="-1620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37960" y="5637240"/>
            <a:ext cx="1162080" cy="116208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292929"/>
            </a:outerShdw>
          </a:effectLst>
        </p:spPr>
      </p:pic>
      <p:grpSp>
        <p:nvGrpSpPr>
          <p:cNvPr id="3" name=""/>
          <p:cNvGrpSpPr/>
          <p:nvPr/>
        </p:nvGrpSpPr>
        <p:grpSpPr>
          <a:xfrm>
            <a:off x="7737480" y="5808600"/>
            <a:ext cx="1289160" cy="934560"/>
            <a:chOff x="7737480" y="5808600"/>
            <a:chExt cx="1289160" cy="934560"/>
          </a:xfrm>
        </p:grpSpPr>
        <p:pic>
          <p:nvPicPr>
            <p:cNvPr id="4" name="" descr=""/>
            <p:cNvPicPr/>
            <p:nvPr/>
          </p:nvPicPr>
          <p:blipFill>
            <a:blip r:embed="rId3"/>
            <a:srcRect l="0" t="0" r="5067" b="0"/>
            <a:stretch/>
          </p:blipFill>
          <p:spPr>
            <a:xfrm>
              <a:off x="7745400" y="5808600"/>
              <a:ext cx="1096920" cy="660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" name=""/>
            <p:cNvSpPr/>
            <p:nvPr/>
          </p:nvSpPr>
          <p:spPr>
            <a:xfrm>
              <a:off x="7742160" y="6522840"/>
              <a:ext cx="1103400" cy="173160"/>
            </a:xfrm>
            <a:prstGeom prst="rect">
              <a:avLst/>
            </a:prstGeom>
            <a:solidFill>
              <a:srgbClr val="ffd91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37480" y="6481800"/>
              <a:ext cx="1112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ITCAvaGarMM"/>
                </a:rPr>
                <a:t>Quarant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74280" y="6378480"/>
              <a:ext cx="252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3490560" y="6314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556320"/>
            <a:ext cx="9144000" cy="301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76680" y="6603840"/>
            <a:ext cx="3570120" cy="20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37960" y="5637240"/>
            <a:ext cx="1162080" cy="116208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292929"/>
            </a:outerShdw>
          </a:effectLst>
        </p:spPr>
      </p:pic>
      <p:grpSp>
        <p:nvGrpSpPr>
          <p:cNvPr id="49" name=""/>
          <p:cNvGrpSpPr/>
          <p:nvPr/>
        </p:nvGrpSpPr>
        <p:grpSpPr>
          <a:xfrm>
            <a:off x="7737480" y="5808600"/>
            <a:ext cx="1289160" cy="934560"/>
            <a:chOff x="7737480" y="5808600"/>
            <a:chExt cx="1289160" cy="934560"/>
          </a:xfrm>
        </p:grpSpPr>
        <p:pic>
          <p:nvPicPr>
            <p:cNvPr id="50" name="" descr=""/>
            <p:cNvPicPr/>
            <p:nvPr/>
          </p:nvPicPr>
          <p:blipFill>
            <a:blip r:embed="rId4"/>
            <a:srcRect l="0" t="0" r="5067" b="0"/>
            <a:stretch/>
          </p:blipFill>
          <p:spPr>
            <a:xfrm>
              <a:off x="7745400" y="5808600"/>
              <a:ext cx="1096920" cy="660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1" name=""/>
            <p:cNvSpPr/>
            <p:nvPr/>
          </p:nvSpPr>
          <p:spPr>
            <a:xfrm>
              <a:off x="7742160" y="6522840"/>
              <a:ext cx="1103400" cy="173160"/>
            </a:xfrm>
            <a:prstGeom prst="rect">
              <a:avLst/>
            </a:prstGeom>
            <a:solidFill>
              <a:srgbClr val="ffd91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37480" y="6481800"/>
              <a:ext cx="1112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ITCAvaGarMM"/>
                </a:rPr>
                <a:t>Quarant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74280" y="6378480"/>
              <a:ext cx="252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3490560" y="6314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dc.gov/ncidod/dq/index.htm" TargetMode="External"/><Relationship Id="rId2" Type="http://schemas.openxmlformats.org/officeDocument/2006/relationships/hyperlink" Target="http://www.cdc.gov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gjp0@cdc.gov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d911"/>
                </a:solidFill>
                <a:latin typeface="Arial"/>
              </a:rPr>
              <a:t>CENTERS FOR DISEASE CONTROL &amp; PREVENTION</a:t>
            </a:r>
            <a:br>
              <a:rPr sz="2400"/>
            </a:br>
            <a:r>
              <a:rPr b="1" lang="en-US" sz="2400" spc="-1" strike="noStrike">
                <a:solidFill>
                  <a:srgbClr val="ffd911"/>
                </a:solidFill>
                <a:latin typeface="Arial"/>
              </a:rPr>
              <a:t>Division of Global Migration and Quarantine (DGMQ)</a:t>
            </a:r>
            <a:br>
              <a:rPr sz="3600"/>
            </a:br>
            <a:endParaRPr b="1" lang="en-US" sz="2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rveillance and Response to Imported Infectious Dise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590920"/>
            <a:ext cx="5105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be Palumbo, MBA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icer in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C Detroit Quarantin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Responding to Illness (cont.)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e surveillance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wait at arrival of each conveyance and visually examine each travel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iew those who are 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inue to respond to reports of ill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Responding to Illness (cont.)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aluation of ill person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symptoms and travel itiner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e if ill person should be isolated and further evaluated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potentially exposed trave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Symptoms of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29528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ver (&gt; 10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sh (smallpox, measl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re diarrhea (chole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andular swelling (pla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undice (yellow fe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ff neck (menin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usual bleeding (viral hemorrhagic fe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iratory distress (SARS, pan f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Notification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GMQ notifies state and local health authorities if ill travelers sent to hospit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GMQ identifies all travelers potentially exposed to the ill passen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Online Resources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9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ision of Global Migration and Quarantine: </a:t>
            </a:r>
            <a:r>
              <a:rPr b="1" lang="en-US" sz="3200" spc="-1" strike="noStrike" u="sng">
                <a:solidFill>
                  <a:srgbClr val="ffd911"/>
                </a:solidFill>
                <a:uFillTx/>
                <a:latin typeface="Arial"/>
                <a:hlinkClick r:id="rId1"/>
              </a:rPr>
              <a:t>www.cdc.gov/ncidod/dq/index.ht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s For Disease Control and Prevention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ffd911"/>
                </a:solidFill>
                <a:uFillTx/>
                <a:latin typeface="Arial"/>
                <a:hlinkClick r:id="rId2"/>
              </a:rPr>
              <a:t>www.cdc.go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DGMQ Staff in Detroit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be Palumbo, MBA, MP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r in Char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: 734-955-619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d911"/>
                </a:solidFill>
                <a:uFillTx/>
                <a:latin typeface="Arial"/>
                <a:hlinkClick r:id="rId1"/>
              </a:rPr>
              <a:t>gjp0@cdc.go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i Kim, MD, M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antine Medical Offi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nk6@cdc.go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85200" y="2654280"/>
            <a:ext cx="272880" cy="509760"/>
          </a:xfrm>
          <a:custGeom>
            <a:avLst/>
            <a:gdLst/>
            <a:ahLst/>
            <a:rect l="l" t="t" r="r" b="b"/>
            <a:pathLst>
              <a:path w="172" h="321">
                <a:moveTo>
                  <a:pt x="57" y="0"/>
                </a:moveTo>
                <a:lnTo>
                  <a:pt x="47" y="70"/>
                </a:lnTo>
                <a:lnTo>
                  <a:pt x="87" y="127"/>
                </a:lnTo>
                <a:lnTo>
                  <a:pt x="87" y="169"/>
                </a:lnTo>
                <a:lnTo>
                  <a:pt x="0" y="172"/>
                </a:lnTo>
                <a:lnTo>
                  <a:pt x="22" y="230"/>
                </a:lnTo>
                <a:lnTo>
                  <a:pt x="64" y="321"/>
                </a:lnTo>
                <a:lnTo>
                  <a:pt x="134" y="321"/>
                </a:lnTo>
                <a:lnTo>
                  <a:pt x="90" y="246"/>
                </a:lnTo>
                <a:lnTo>
                  <a:pt x="89" y="247"/>
                </a:lnTo>
                <a:lnTo>
                  <a:pt x="149" y="247"/>
                </a:lnTo>
                <a:lnTo>
                  <a:pt x="172" y="68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953400" y="2654280"/>
            <a:ext cx="841320" cy="506520"/>
            <a:chOff x="6953400" y="2654280"/>
            <a:chExt cx="841320" cy="506520"/>
          </a:xfrm>
        </p:grpSpPr>
        <p:grpSp>
          <p:nvGrpSpPr>
            <p:cNvPr id="104" name=""/>
            <p:cNvGrpSpPr/>
            <p:nvPr/>
          </p:nvGrpSpPr>
          <p:grpSpPr>
            <a:xfrm>
              <a:off x="6953400" y="2654280"/>
              <a:ext cx="841320" cy="498600"/>
              <a:chOff x="6953400" y="2654280"/>
              <a:chExt cx="841320" cy="49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6953400" y="2654280"/>
                <a:ext cx="771480" cy="365040"/>
              </a:xfrm>
              <a:custGeom>
                <a:avLst/>
                <a:gdLst/>
                <a:ahLst/>
                <a:rect l="l" t="t" r="r" b="b"/>
                <a:pathLst>
                  <a:path w="1169" h="542">
                    <a:moveTo>
                      <a:pt x="113" y="0"/>
                    </a:moveTo>
                    <a:lnTo>
                      <a:pt x="0" y="106"/>
                    </a:lnTo>
                    <a:lnTo>
                      <a:pt x="127" y="542"/>
                    </a:lnTo>
                    <a:lnTo>
                      <a:pt x="1015" y="542"/>
                    </a:lnTo>
                    <a:lnTo>
                      <a:pt x="971" y="397"/>
                    </a:lnTo>
                    <a:lnTo>
                      <a:pt x="1169" y="397"/>
                    </a:lnTo>
                    <a:lnTo>
                      <a:pt x="1169" y="297"/>
                    </a:lnTo>
                    <a:lnTo>
                      <a:pt x="1074" y="165"/>
                    </a:lnTo>
                    <a:lnTo>
                      <a:pt x="1097" y="3"/>
                    </a:lnTo>
                    <a:lnTo>
                      <a:pt x="113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588080" y="2914560"/>
                <a:ext cx="206640" cy="238320"/>
              </a:xfrm>
              <a:custGeom>
                <a:avLst/>
                <a:gdLst/>
                <a:ahLst/>
                <a:rect l="l" t="t" r="r" b="b"/>
                <a:pathLst>
                  <a:path w="130" h="154">
                    <a:moveTo>
                      <a:pt x="62" y="6"/>
                    </a:moveTo>
                    <a:lnTo>
                      <a:pt x="100" y="88"/>
                    </a:lnTo>
                    <a:lnTo>
                      <a:pt x="58" y="4"/>
                    </a:lnTo>
                    <a:lnTo>
                      <a:pt x="58" y="2"/>
                    </a:lnTo>
                    <a:lnTo>
                      <a:pt x="0" y="4"/>
                    </a:lnTo>
                    <a:lnTo>
                      <a:pt x="22" y="62"/>
                    </a:lnTo>
                    <a:lnTo>
                      <a:pt x="64" y="153"/>
                    </a:lnTo>
                    <a:lnTo>
                      <a:pt x="130" y="154"/>
                    </a:lnTo>
                    <a:lnTo>
                      <a:pt x="94" y="80"/>
                    </a:lnTo>
                    <a:lnTo>
                      <a:pt x="88" y="76"/>
                    </a:lnTo>
                    <a:lnTo>
                      <a:pt x="130" y="154"/>
                    </a:lnTo>
                    <a:lnTo>
                      <a:pt x="60" y="0"/>
                    </a:lnTo>
                    <a:lnTo>
                      <a:pt x="52" y="4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581960" y="2922480"/>
              <a:ext cx="212760" cy="238320"/>
            </a:xfrm>
            <a:custGeom>
              <a:avLst/>
              <a:gdLst/>
              <a:ahLst/>
              <a:rect l="l" t="t" r="r" b="b"/>
              <a:pathLst>
                <a:path w="134" h="150">
                  <a:moveTo>
                    <a:pt x="60" y="0"/>
                  </a:moveTo>
                  <a:lnTo>
                    <a:pt x="0" y="1"/>
                  </a:lnTo>
                  <a:lnTo>
                    <a:pt x="22" y="59"/>
                  </a:lnTo>
                  <a:lnTo>
                    <a:pt x="64" y="150"/>
                  </a:lnTo>
                  <a:lnTo>
                    <a:pt x="134" y="150"/>
                  </a:lnTo>
                  <a:lnTo>
                    <a:pt x="96" y="74"/>
                  </a:lnTo>
                  <a:lnTo>
                    <a:pt x="90" y="7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03040" y="5006880"/>
            <a:ext cx="2345040" cy="1470240"/>
            <a:chOff x="203040" y="5006880"/>
            <a:chExt cx="2345040" cy="1470240"/>
          </a:xfrm>
        </p:grpSpPr>
        <p:grpSp>
          <p:nvGrpSpPr>
            <p:cNvPr id="109" name=""/>
            <p:cNvGrpSpPr/>
            <p:nvPr/>
          </p:nvGrpSpPr>
          <p:grpSpPr>
            <a:xfrm>
              <a:off x="203040" y="5008680"/>
              <a:ext cx="2343240" cy="1468440"/>
              <a:chOff x="203040" y="5008680"/>
              <a:chExt cx="2343240" cy="1468440"/>
            </a:xfrm>
          </p:grpSpPr>
          <p:sp>
            <p:nvSpPr>
              <p:cNvPr id="110" name=""/>
              <p:cNvSpPr/>
              <p:nvPr/>
            </p:nvSpPr>
            <p:spPr>
              <a:xfrm>
                <a:off x="2133720" y="5703840"/>
                <a:ext cx="412560" cy="449280"/>
              </a:xfrm>
              <a:custGeom>
                <a:avLst/>
                <a:gdLst/>
                <a:ahLst/>
                <a:rect l="l" t="t" r="r" b="b"/>
                <a:pathLst>
                  <a:path w="991" h="1057">
                    <a:moveTo>
                      <a:pt x="319" y="1029"/>
                    </a:moveTo>
                    <a:lnTo>
                      <a:pt x="393" y="1005"/>
                    </a:lnTo>
                    <a:lnTo>
                      <a:pt x="384" y="965"/>
                    </a:lnTo>
                    <a:lnTo>
                      <a:pt x="499" y="897"/>
                    </a:lnTo>
                    <a:lnTo>
                      <a:pt x="595" y="774"/>
                    </a:lnTo>
                    <a:lnTo>
                      <a:pt x="660" y="831"/>
                    </a:lnTo>
                    <a:lnTo>
                      <a:pt x="786" y="762"/>
                    </a:lnTo>
                    <a:lnTo>
                      <a:pt x="851" y="722"/>
                    </a:lnTo>
                    <a:lnTo>
                      <a:pt x="883" y="657"/>
                    </a:lnTo>
                    <a:lnTo>
                      <a:pt x="979" y="601"/>
                    </a:lnTo>
                    <a:lnTo>
                      <a:pt x="991" y="548"/>
                    </a:lnTo>
                    <a:lnTo>
                      <a:pt x="894" y="522"/>
                    </a:lnTo>
                    <a:lnTo>
                      <a:pt x="851" y="377"/>
                    </a:lnTo>
                    <a:lnTo>
                      <a:pt x="757" y="399"/>
                    </a:lnTo>
                    <a:lnTo>
                      <a:pt x="757" y="308"/>
                    </a:lnTo>
                    <a:lnTo>
                      <a:pt x="712" y="256"/>
                    </a:lnTo>
                    <a:lnTo>
                      <a:pt x="564" y="162"/>
                    </a:lnTo>
                    <a:lnTo>
                      <a:pt x="455" y="148"/>
                    </a:lnTo>
                    <a:lnTo>
                      <a:pt x="404" y="95"/>
                    </a:lnTo>
                    <a:lnTo>
                      <a:pt x="170" y="0"/>
                    </a:lnTo>
                    <a:lnTo>
                      <a:pt x="138" y="28"/>
                    </a:lnTo>
                    <a:lnTo>
                      <a:pt x="138" y="107"/>
                    </a:lnTo>
                    <a:lnTo>
                      <a:pt x="181" y="132"/>
                    </a:lnTo>
                    <a:lnTo>
                      <a:pt x="181" y="216"/>
                    </a:lnTo>
                    <a:lnTo>
                      <a:pt x="147" y="268"/>
                    </a:lnTo>
                    <a:lnTo>
                      <a:pt x="116" y="308"/>
                    </a:lnTo>
                    <a:lnTo>
                      <a:pt x="55" y="322"/>
                    </a:lnTo>
                    <a:lnTo>
                      <a:pt x="0" y="426"/>
                    </a:lnTo>
                    <a:lnTo>
                      <a:pt x="126" y="697"/>
                    </a:lnTo>
                    <a:lnTo>
                      <a:pt x="126" y="870"/>
                    </a:lnTo>
                    <a:lnTo>
                      <a:pt x="104" y="921"/>
                    </a:lnTo>
                    <a:lnTo>
                      <a:pt x="126" y="990"/>
                    </a:lnTo>
                    <a:lnTo>
                      <a:pt x="275" y="1057"/>
                    </a:lnTo>
                    <a:lnTo>
                      <a:pt x="319" y="1029"/>
                    </a:lnTo>
                    <a:lnTo>
                      <a:pt x="319" y="1029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09800" y="5415120"/>
                <a:ext cx="244440" cy="158760"/>
              </a:xfrm>
              <a:custGeom>
                <a:avLst/>
                <a:gdLst/>
                <a:ahLst/>
                <a:rect l="l" t="t" r="r" b="b"/>
                <a:pathLst>
                  <a:path w="586" h="375">
                    <a:moveTo>
                      <a:pt x="586" y="253"/>
                    </a:moveTo>
                    <a:lnTo>
                      <a:pt x="586" y="176"/>
                    </a:lnTo>
                    <a:lnTo>
                      <a:pt x="481" y="148"/>
                    </a:lnTo>
                    <a:lnTo>
                      <a:pt x="461" y="92"/>
                    </a:lnTo>
                    <a:lnTo>
                      <a:pt x="416" y="92"/>
                    </a:lnTo>
                    <a:lnTo>
                      <a:pt x="375" y="31"/>
                    </a:lnTo>
                    <a:lnTo>
                      <a:pt x="258" y="31"/>
                    </a:lnTo>
                    <a:lnTo>
                      <a:pt x="174" y="92"/>
                    </a:lnTo>
                    <a:lnTo>
                      <a:pt x="109" y="0"/>
                    </a:lnTo>
                    <a:lnTo>
                      <a:pt x="56" y="0"/>
                    </a:lnTo>
                    <a:lnTo>
                      <a:pt x="0" y="55"/>
                    </a:lnTo>
                    <a:lnTo>
                      <a:pt x="35" y="148"/>
                    </a:lnTo>
                    <a:lnTo>
                      <a:pt x="129" y="203"/>
                    </a:lnTo>
                    <a:lnTo>
                      <a:pt x="202" y="282"/>
                    </a:lnTo>
                    <a:lnTo>
                      <a:pt x="184" y="323"/>
                    </a:lnTo>
                    <a:lnTo>
                      <a:pt x="312" y="375"/>
                    </a:lnTo>
                    <a:lnTo>
                      <a:pt x="405" y="310"/>
                    </a:lnTo>
                    <a:lnTo>
                      <a:pt x="516" y="310"/>
                    </a:lnTo>
                    <a:lnTo>
                      <a:pt x="586" y="253"/>
                    </a:lnTo>
                    <a:lnTo>
                      <a:pt x="586" y="25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09800" y="553716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127" h="133">
                    <a:moveTo>
                      <a:pt x="127" y="124"/>
                    </a:moveTo>
                    <a:lnTo>
                      <a:pt x="106" y="0"/>
                    </a:lnTo>
                    <a:lnTo>
                      <a:pt x="0" y="105"/>
                    </a:lnTo>
                    <a:lnTo>
                      <a:pt x="12" y="133"/>
                    </a:lnTo>
                    <a:lnTo>
                      <a:pt x="127" y="124"/>
                    </a:lnTo>
                    <a:lnTo>
                      <a:pt x="127" y="12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90640" y="5432400"/>
                <a:ext cx="84240" cy="77760"/>
              </a:xfrm>
              <a:custGeom>
                <a:avLst/>
                <a:gdLst/>
                <a:ahLst/>
                <a:rect l="l" t="t" r="r" b="b"/>
                <a:pathLst>
                  <a:path w="201" h="187">
                    <a:moveTo>
                      <a:pt x="180" y="187"/>
                    </a:moveTo>
                    <a:lnTo>
                      <a:pt x="201" y="121"/>
                    </a:lnTo>
                    <a:lnTo>
                      <a:pt x="134" y="54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63" y="121"/>
                    </a:lnTo>
                    <a:lnTo>
                      <a:pt x="180" y="187"/>
                    </a:lnTo>
                    <a:lnTo>
                      <a:pt x="180" y="18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11440" y="5327640"/>
                <a:ext cx="193680" cy="68400"/>
              </a:xfrm>
              <a:custGeom>
                <a:avLst/>
                <a:gdLst/>
                <a:ahLst/>
                <a:rect l="l" t="t" r="r" b="b"/>
                <a:pathLst>
                  <a:path w="470" h="161">
                    <a:moveTo>
                      <a:pt x="470" y="67"/>
                    </a:moveTo>
                    <a:lnTo>
                      <a:pt x="426" y="26"/>
                    </a:lnTo>
                    <a:lnTo>
                      <a:pt x="311" y="67"/>
                    </a:lnTo>
                    <a:lnTo>
                      <a:pt x="33" y="0"/>
                    </a:lnTo>
                    <a:lnTo>
                      <a:pt x="0" y="81"/>
                    </a:lnTo>
                    <a:lnTo>
                      <a:pt x="0" y="121"/>
                    </a:lnTo>
                    <a:lnTo>
                      <a:pt x="130" y="133"/>
                    </a:lnTo>
                    <a:lnTo>
                      <a:pt x="195" y="101"/>
                    </a:lnTo>
                    <a:lnTo>
                      <a:pt x="258" y="161"/>
                    </a:lnTo>
                    <a:lnTo>
                      <a:pt x="363" y="161"/>
                    </a:lnTo>
                    <a:lnTo>
                      <a:pt x="426" y="121"/>
                    </a:lnTo>
                    <a:lnTo>
                      <a:pt x="470" y="67"/>
                    </a:lnTo>
                    <a:lnTo>
                      <a:pt x="470" y="6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82760" y="5178600"/>
                <a:ext cx="209520" cy="158400"/>
              </a:xfrm>
              <a:custGeom>
                <a:avLst/>
                <a:gdLst/>
                <a:ahLst/>
                <a:rect l="l" t="t" r="r" b="b"/>
                <a:pathLst>
                  <a:path w="500" h="373">
                    <a:moveTo>
                      <a:pt x="491" y="332"/>
                    </a:moveTo>
                    <a:lnTo>
                      <a:pt x="500" y="291"/>
                    </a:lnTo>
                    <a:lnTo>
                      <a:pt x="448" y="279"/>
                    </a:lnTo>
                    <a:lnTo>
                      <a:pt x="448" y="186"/>
                    </a:lnTo>
                    <a:lnTo>
                      <a:pt x="394" y="226"/>
                    </a:lnTo>
                    <a:lnTo>
                      <a:pt x="342" y="133"/>
                    </a:lnTo>
                    <a:lnTo>
                      <a:pt x="383" y="133"/>
                    </a:lnTo>
                    <a:lnTo>
                      <a:pt x="277" y="0"/>
                    </a:lnTo>
                    <a:lnTo>
                      <a:pt x="212" y="0"/>
                    </a:lnTo>
                    <a:lnTo>
                      <a:pt x="148" y="106"/>
                    </a:lnTo>
                    <a:lnTo>
                      <a:pt x="0" y="106"/>
                    </a:lnTo>
                    <a:lnTo>
                      <a:pt x="55" y="239"/>
                    </a:lnTo>
                    <a:lnTo>
                      <a:pt x="115" y="345"/>
                    </a:lnTo>
                    <a:lnTo>
                      <a:pt x="256" y="345"/>
                    </a:lnTo>
                    <a:lnTo>
                      <a:pt x="225" y="291"/>
                    </a:lnTo>
                    <a:lnTo>
                      <a:pt x="298" y="291"/>
                    </a:lnTo>
                    <a:lnTo>
                      <a:pt x="330" y="308"/>
                    </a:lnTo>
                    <a:lnTo>
                      <a:pt x="371" y="373"/>
                    </a:lnTo>
                    <a:lnTo>
                      <a:pt x="491" y="332"/>
                    </a:lnTo>
                    <a:lnTo>
                      <a:pt x="491" y="332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35000" y="5008680"/>
                <a:ext cx="168480" cy="141120"/>
              </a:xfrm>
              <a:custGeom>
                <a:avLst/>
                <a:gdLst/>
                <a:ahLst/>
                <a:rect l="l" t="t" r="r" b="b"/>
                <a:pathLst>
                  <a:path w="405" h="333">
                    <a:moveTo>
                      <a:pt x="278" y="293"/>
                    </a:moveTo>
                    <a:lnTo>
                      <a:pt x="311" y="256"/>
                    </a:lnTo>
                    <a:lnTo>
                      <a:pt x="330" y="228"/>
                    </a:lnTo>
                    <a:lnTo>
                      <a:pt x="330" y="160"/>
                    </a:lnTo>
                    <a:lnTo>
                      <a:pt x="405" y="119"/>
                    </a:lnTo>
                    <a:lnTo>
                      <a:pt x="405" y="54"/>
                    </a:lnTo>
                    <a:lnTo>
                      <a:pt x="363" y="0"/>
                    </a:lnTo>
                    <a:lnTo>
                      <a:pt x="246" y="0"/>
                    </a:lnTo>
                    <a:lnTo>
                      <a:pt x="190" y="12"/>
                    </a:lnTo>
                    <a:lnTo>
                      <a:pt x="55" y="67"/>
                    </a:lnTo>
                    <a:lnTo>
                      <a:pt x="0" y="147"/>
                    </a:lnTo>
                    <a:lnTo>
                      <a:pt x="0" y="240"/>
                    </a:lnTo>
                    <a:lnTo>
                      <a:pt x="140" y="256"/>
                    </a:lnTo>
                    <a:lnTo>
                      <a:pt x="181" y="333"/>
                    </a:lnTo>
                    <a:lnTo>
                      <a:pt x="246" y="305"/>
                    </a:lnTo>
                    <a:lnTo>
                      <a:pt x="278" y="293"/>
                    </a:lnTo>
                    <a:lnTo>
                      <a:pt x="278" y="29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85960" y="5092560"/>
                <a:ext cx="72720" cy="86040"/>
              </a:xfrm>
              <a:custGeom>
                <a:avLst/>
                <a:gdLst/>
                <a:ahLst/>
                <a:rect l="l" t="t" r="r" b="b"/>
                <a:pathLst>
                  <a:path w="178" h="201">
                    <a:moveTo>
                      <a:pt x="20" y="201"/>
                    </a:moveTo>
                    <a:lnTo>
                      <a:pt x="49" y="120"/>
                    </a:lnTo>
                    <a:lnTo>
                      <a:pt x="135" y="80"/>
                    </a:lnTo>
                    <a:lnTo>
                      <a:pt x="135" y="56"/>
                    </a:lnTo>
                    <a:lnTo>
                      <a:pt x="178" y="0"/>
                    </a:lnTo>
                    <a:lnTo>
                      <a:pt x="114" y="0"/>
                    </a:lnTo>
                    <a:lnTo>
                      <a:pt x="73" y="68"/>
                    </a:lnTo>
                    <a:lnTo>
                      <a:pt x="8" y="80"/>
                    </a:lnTo>
                    <a:lnTo>
                      <a:pt x="0" y="201"/>
                    </a:lnTo>
                    <a:lnTo>
                      <a:pt x="20" y="201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203040" y="5818320"/>
                <a:ext cx="539640" cy="658800"/>
                <a:chOff x="203040" y="5818320"/>
                <a:chExt cx="539640" cy="658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25760" y="5904360"/>
                  <a:ext cx="7920" cy="2880"/>
                </a:xfrm>
                <a:custGeom>
                  <a:avLst/>
                  <a:gdLst/>
                  <a:ahLst/>
                  <a:rect l="l" t="t" r="r" b="b"/>
                  <a:pathLst>
                    <a:path w="36" h="10">
                      <a:moveTo>
                        <a:pt x="36" y="3"/>
                      </a:move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11" y="7"/>
                      </a:lnTo>
                      <a:lnTo>
                        <a:pt x="26" y="7"/>
                      </a:lnTo>
                      <a:lnTo>
                        <a:pt x="29" y="10"/>
                      </a:lnTo>
                      <a:lnTo>
                        <a:pt x="29" y="7"/>
                      </a:lnTo>
                      <a:lnTo>
                        <a:pt x="36" y="3"/>
                      </a:lnTo>
                      <a:lnTo>
                        <a:pt x="33" y="3"/>
                      </a:lnTo>
                      <a:lnTo>
                        <a:pt x="36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32600" y="590508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5" y="25"/>
                      </a:moveTo>
                      <a:lnTo>
                        <a:pt x="22" y="25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15" y="29"/>
                      </a:lnTo>
                      <a:lnTo>
                        <a:pt x="18" y="29"/>
                      </a:lnTo>
                      <a:lnTo>
                        <a:pt x="15" y="29"/>
                      </a:lnTo>
                      <a:lnTo>
                        <a:pt x="15" y="33"/>
                      </a:lnTo>
                      <a:lnTo>
                        <a:pt x="18" y="29"/>
                      </a:lnTo>
                      <a:lnTo>
                        <a:pt x="15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35840" y="590940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8" y="3"/>
                      </a:moveTo>
                      <a:lnTo>
                        <a:pt x="10" y="3"/>
                      </a:lnTo>
                      <a:lnTo>
                        <a:pt x="0" y="10"/>
                      </a:lnTo>
                      <a:lnTo>
                        <a:pt x="3" y="14"/>
                      </a:lnTo>
                      <a:lnTo>
                        <a:pt x="14" y="7"/>
                      </a:lnTo>
                      <a:lnTo>
                        <a:pt x="10" y="7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0" y="3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38000" y="591048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8" y="33"/>
                      </a:moveTo>
                      <a:lnTo>
                        <a:pt x="22" y="29"/>
                      </a:lnTo>
                      <a:lnTo>
                        <a:pt x="18" y="22"/>
                      </a:lnTo>
                      <a:lnTo>
                        <a:pt x="15" y="11"/>
                      </a:lnTo>
                      <a:lnTo>
                        <a:pt x="11" y="7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4" y="11"/>
                      </a:lnTo>
                      <a:lnTo>
                        <a:pt x="8" y="15"/>
                      </a:lnTo>
                      <a:lnTo>
                        <a:pt x="11" y="26"/>
                      </a:lnTo>
                      <a:lnTo>
                        <a:pt x="15" y="33"/>
                      </a:lnTo>
                      <a:lnTo>
                        <a:pt x="15" y="29"/>
                      </a:lnTo>
                      <a:lnTo>
                        <a:pt x="18" y="33"/>
                      </a:lnTo>
                      <a:lnTo>
                        <a:pt x="22" y="33"/>
                      </a:lnTo>
                      <a:lnTo>
                        <a:pt x="22" y="29"/>
                      </a:lnTo>
                      <a:lnTo>
                        <a:pt x="18" y="3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36560" y="5919120"/>
                  <a:ext cx="5400" cy="26640"/>
                </a:xfrm>
                <a:custGeom>
                  <a:avLst/>
                  <a:gdLst/>
                  <a:ahLst/>
                  <a:rect l="l" t="t" r="r" b="b"/>
                  <a:pathLst>
                    <a:path w="25" h="90">
                      <a:moveTo>
                        <a:pt x="7" y="90"/>
                      </a:moveTo>
                      <a:lnTo>
                        <a:pt x="11" y="79"/>
                      </a:lnTo>
                      <a:lnTo>
                        <a:pt x="15" y="69"/>
                      </a:lnTo>
                      <a:lnTo>
                        <a:pt x="15" y="58"/>
                      </a:lnTo>
                      <a:lnTo>
                        <a:pt x="18" y="43"/>
                      </a:lnTo>
                      <a:lnTo>
                        <a:pt x="15" y="33"/>
                      </a:lnTo>
                      <a:lnTo>
                        <a:pt x="18" y="22"/>
                      </a:lnTo>
                      <a:lnTo>
                        <a:pt x="22" y="15"/>
                      </a:lnTo>
                      <a:lnTo>
                        <a:pt x="25" y="4"/>
                      </a:lnTo>
                      <a:lnTo>
                        <a:pt x="22" y="0"/>
                      </a:lnTo>
                      <a:lnTo>
                        <a:pt x="15" y="11"/>
                      </a:lnTo>
                      <a:lnTo>
                        <a:pt x="11" y="22"/>
                      </a:lnTo>
                      <a:lnTo>
                        <a:pt x="11" y="33"/>
                      </a:lnTo>
                      <a:lnTo>
                        <a:pt x="7" y="43"/>
                      </a:lnTo>
                      <a:lnTo>
                        <a:pt x="7" y="69"/>
                      </a:lnTo>
                      <a:lnTo>
                        <a:pt x="4" y="79"/>
                      </a:lnTo>
                      <a:lnTo>
                        <a:pt x="0" y="87"/>
                      </a:lnTo>
                      <a:lnTo>
                        <a:pt x="7" y="9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32600" y="5945040"/>
                  <a:ext cx="5400" cy="1152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7" y="36"/>
                      </a:moveTo>
                      <a:lnTo>
                        <a:pt x="7" y="39"/>
                      </a:lnTo>
                      <a:lnTo>
                        <a:pt x="25" y="3"/>
                      </a:lnTo>
                      <a:lnTo>
                        <a:pt x="18" y="0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7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2600" y="5955480"/>
                  <a:ext cx="2520" cy="25560"/>
                </a:xfrm>
                <a:custGeom>
                  <a:avLst/>
                  <a:gdLst/>
                  <a:ahLst/>
                  <a:rect l="l" t="t" r="r" b="b"/>
                  <a:pathLst>
                    <a:path w="11" h="86">
                      <a:moveTo>
                        <a:pt x="11" y="86"/>
                      </a:moveTo>
                      <a:lnTo>
                        <a:pt x="11" y="21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4" y="21"/>
                      </a:lnTo>
                      <a:lnTo>
                        <a:pt x="4" y="86"/>
                      </a:lnTo>
                      <a:lnTo>
                        <a:pt x="4" y="83"/>
                      </a:lnTo>
                      <a:lnTo>
                        <a:pt x="11" y="86"/>
                      </a:lnTo>
                      <a:lnTo>
                        <a:pt x="11" y="83"/>
                      </a:lnTo>
                      <a:lnTo>
                        <a:pt x="11" y="8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11360" y="598032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104" h="68">
                      <a:moveTo>
                        <a:pt x="3" y="68"/>
                      </a:moveTo>
                      <a:lnTo>
                        <a:pt x="10" y="64"/>
                      </a:lnTo>
                      <a:lnTo>
                        <a:pt x="18" y="61"/>
                      </a:lnTo>
                      <a:lnTo>
                        <a:pt x="25" y="57"/>
                      </a:lnTo>
                      <a:lnTo>
                        <a:pt x="32" y="57"/>
                      </a:lnTo>
                      <a:lnTo>
                        <a:pt x="39" y="54"/>
                      </a:lnTo>
                      <a:lnTo>
                        <a:pt x="46" y="54"/>
                      </a:lnTo>
                      <a:lnTo>
                        <a:pt x="57" y="50"/>
                      </a:lnTo>
                      <a:lnTo>
                        <a:pt x="64" y="50"/>
                      </a:lnTo>
                      <a:lnTo>
                        <a:pt x="72" y="46"/>
                      </a:lnTo>
                      <a:lnTo>
                        <a:pt x="79" y="43"/>
                      </a:lnTo>
                      <a:lnTo>
                        <a:pt x="82" y="36"/>
                      </a:lnTo>
                      <a:lnTo>
                        <a:pt x="90" y="32"/>
                      </a:lnTo>
                      <a:lnTo>
                        <a:pt x="97" y="25"/>
                      </a:lnTo>
                      <a:lnTo>
                        <a:pt x="100" y="18"/>
                      </a:lnTo>
                      <a:lnTo>
                        <a:pt x="104" y="10"/>
                      </a:lnTo>
                      <a:lnTo>
                        <a:pt x="104" y="3"/>
                      </a:lnTo>
                      <a:lnTo>
                        <a:pt x="97" y="0"/>
                      </a:lnTo>
                      <a:lnTo>
                        <a:pt x="97" y="10"/>
                      </a:lnTo>
                      <a:lnTo>
                        <a:pt x="93" y="14"/>
                      </a:lnTo>
                      <a:lnTo>
                        <a:pt x="90" y="21"/>
                      </a:lnTo>
                      <a:lnTo>
                        <a:pt x="86" y="28"/>
                      </a:lnTo>
                      <a:lnTo>
                        <a:pt x="79" y="32"/>
                      </a:lnTo>
                      <a:lnTo>
                        <a:pt x="75" y="36"/>
                      </a:lnTo>
                      <a:lnTo>
                        <a:pt x="68" y="39"/>
                      </a:lnTo>
                      <a:lnTo>
                        <a:pt x="61" y="43"/>
                      </a:lnTo>
                      <a:lnTo>
                        <a:pt x="54" y="43"/>
                      </a:lnTo>
                      <a:lnTo>
                        <a:pt x="46" y="46"/>
                      </a:lnTo>
                      <a:lnTo>
                        <a:pt x="39" y="50"/>
                      </a:lnTo>
                      <a:lnTo>
                        <a:pt x="32" y="50"/>
                      </a:lnTo>
                      <a:lnTo>
                        <a:pt x="25" y="54"/>
                      </a:lnTo>
                      <a:lnTo>
                        <a:pt x="14" y="54"/>
                      </a:lnTo>
                      <a:lnTo>
                        <a:pt x="7" y="57"/>
                      </a:lnTo>
                      <a:lnTo>
                        <a:pt x="0" y="61"/>
                      </a:lnTo>
                      <a:lnTo>
                        <a:pt x="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1280" y="5998680"/>
                  <a:ext cx="10440" cy="12600"/>
                </a:xfrm>
                <a:custGeom>
                  <a:avLst/>
                  <a:gdLst/>
                  <a:ahLst/>
                  <a:rect l="l" t="t" r="r" b="b"/>
                  <a:pathLst>
                    <a:path w="47" h="43">
                      <a:moveTo>
                        <a:pt x="4" y="43"/>
                      </a:moveTo>
                      <a:lnTo>
                        <a:pt x="4" y="40"/>
                      </a:lnTo>
                      <a:lnTo>
                        <a:pt x="47" y="7"/>
                      </a:lnTo>
                      <a:lnTo>
                        <a:pt x="44" y="0"/>
                      </a:lnTo>
                      <a:lnTo>
                        <a:pt x="0" y="36"/>
                      </a:lnTo>
                      <a:lnTo>
                        <a:pt x="4" y="43"/>
                      </a:lnTo>
                      <a:lnTo>
                        <a:pt x="4" y="40"/>
                      </a:lnTo>
                      <a:lnTo>
                        <a:pt x="4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84720" y="6009120"/>
                  <a:ext cx="17280" cy="10440"/>
                </a:xfrm>
                <a:custGeom>
                  <a:avLst/>
                  <a:gdLst/>
                  <a:ahLst/>
                  <a:rect l="l" t="t" r="r" b="b"/>
                  <a:pathLst>
                    <a:path w="76" h="36">
                      <a:moveTo>
                        <a:pt x="7" y="32"/>
                      </a:moveTo>
                      <a:lnTo>
                        <a:pt x="7" y="36"/>
                      </a:lnTo>
                      <a:lnTo>
                        <a:pt x="11" y="29"/>
                      </a:lnTo>
                      <a:lnTo>
                        <a:pt x="22" y="22"/>
                      </a:lnTo>
                      <a:lnTo>
                        <a:pt x="29" y="18"/>
                      </a:lnTo>
                      <a:lnTo>
                        <a:pt x="36" y="18"/>
                      </a:lnTo>
                      <a:lnTo>
                        <a:pt x="47" y="14"/>
                      </a:lnTo>
                      <a:lnTo>
                        <a:pt x="54" y="11"/>
                      </a:lnTo>
                      <a:lnTo>
                        <a:pt x="65" y="11"/>
                      </a:lnTo>
                      <a:lnTo>
                        <a:pt x="76" y="7"/>
                      </a:lnTo>
                      <a:lnTo>
                        <a:pt x="72" y="0"/>
                      </a:lnTo>
                      <a:lnTo>
                        <a:pt x="61" y="4"/>
                      </a:lnTo>
                      <a:lnTo>
                        <a:pt x="54" y="4"/>
                      </a:lnTo>
                      <a:lnTo>
                        <a:pt x="43" y="7"/>
                      </a:lnTo>
                      <a:lnTo>
                        <a:pt x="36" y="11"/>
                      </a:lnTo>
                      <a:lnTo>
                        <a:pt x="25" y="14"/>
                      </a:lnTo>
                      <a:lnTo>
                        <a:pt x="18" y="18"/>
                      </a:lnTo>
                      <a:lnTo>
                        <a:pt x="7" y="22"/>
                      </a:lnTo>
                      <a:lnTo>
                        <a:pt x="0" y="32"/>
                      </a:lnTo>
                      <a:lnTo>
                        <a:pt x="7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84720" y="601884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18" y="15"/>
                      </a:moveTo>
                      <a:lnTo>
                        <a:pt x="15" y="15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5"/>
                      </a:lnTo>
                      <a:lnTo>
                        <a:pt x="7" y="18"/>
                      </a:lnTo>
                      <a:lnTo>
                        <a:pt x="18" y="22"/>
                      </a:lnTo>
                      <a:lnTo>
                        <a:pt x="18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89040" y="6023160"/>
                  <a:ext cx="7200" cy="3960"/>
                </a:xfrm>
                <a:custGeom>
                  <a:avLst/>
                  <a:gdLst/>
                  <a:ahLst/>
                  <a:rect l="l" t="t" r="r" b="b"/>
                  <a:pathLst>
                    <a:path w="33" h="14">
                      <a:moveTo>
                        <a:pt x="33" y="11"/>
                      </a:moveTo>
                      <a:lnTo>
                        <a:pt x="25" y="3"/>
                      </a:lnTo>
                      <a:lnTo>
                        <a:pt x="15" y="3"/>
                      </a:lnTo>
                      <a:lnTo>
                        <a:pt x="11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22" y="11"/>
                      </a:lnTo>
                      <a:lnTo>
                        <a:pt x="25" y="14"/>
                      </a:lnTo>
                      <a:lnTo>
                        <a:pt x="33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94800" y="6026400"/>
                  <a:ext cx="2520" cy="1368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11" y="43"/>
                      </a:moveTo>
                      <a:lnTo>
                        <a:pt x="8" y="43"/>
                      </a:lnTo>
                      <a:lnTo>
                        <a:pt x="8" y="0"/>
                      </a:lnTo>
                      <a:lnTo>
                        <a:pt x="0" y="3"/>
                      </a:lnTo>
                      <a:lnTo>
                        <a:pt x="0" y="46"/>
                      </a:lnTo>
                      <a:lnTo>
                        <a:pt x="0" y="43"/>
                      </a:lnTo>
                      <a:lnTo>
                        <a:pt x="11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91560" y="6039360"/>
                  <a:ext cx="5400" cy="936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4" y="32"/>
                      </a:moveTo>
                      <a:lnTo>
                        <a:pt x="18" y="18"/>
                      </a:lnTo>
                      <a:lnTo>
                        <a:pt x="22" y="11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14" y="11"/>
                      </a:lnTo>
                      <a:lnTo>
                        <a:pt x="11" y="14"/>
                      </a:lnTo>
                      <a:lnTo>
                        <a:pt x="7" y="21"/>
                      </a:lnTo>
                      <a:lnTo>
                        <a:pt x="0" y="25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84720" y="6046920"/>
                  <a:ext cx="7200" cy="6480"/>
                </a:xfrm>
                <a:custGeom>
                  <a:avLst/>
                  <a:gdLst/>
                  <a:ahLst/>
                  <a:rect l="l" t="t" r="r" b="b"/>
                  <a:pathLst>
                    <a:path w="33" h="22">
                      <a:moveTo>
                        <a:pt x="7" y="22"/>
                      </a:moveTo>
                      <a:lnTo>
                        <a:pt x="7" y="14"/>
                      </a:lnTo>
                      <a:lnTo>
                        <a:pt x="11" y="14"/>
                      </a:lnTo>
                      <a:lnTo>
                        <a:pt x="11" y="11"/>
                      </a:lnTo>
                      <a:lnTo>
                        <a:pt x="22" y="11"/>
                      </a:lnTo>
                      <a:lnTo>
                        <a:pt x="25" y="7"/>
                      </a:lnTo>
                      <a:lnTo>
                        <a:pt x="33" y="7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8" y="4"/>
                      </a:lnTo>
                      <a:lnTo>
                        <a:pt x="15" y="4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7" y="18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84000" y="6051960"/>
                  <a:ext cx="2160" cy="19080"/>
                </a:xfrm>
                <a:custGeom>
                  <a:avLst/>
                  <a:gdLst/>
                  <a:ahLst/>
                  <a:rect l="l" t="t" r="r" b="b"/>
                  <a:pathLst>
                    <a:path w="10" h="65">
                      <a:moveTo>
                        <a:pt x="7" y="65"/>
                      </a:moveTo>
                      <a:lnTo>
                        <a:pt x="7" y="15"/>
                      </a:lnTo>
                      <a:lnTo>
                        <a:pt x="10" y="4"/>
                      </a:lnTo>
                      <a:lnTo>
                        <a:pt x="3" y="0"/>
                      </a:lnTo>
                      <a:lnTo>
                        <a:pt x="0" y="15"/>
                      </a:lnTo>
                      <a:lnTo>
                        <a:pt x="0" y="47"/>
                      </a:lnTo>
                      <a:lnTo>
                        <a:pt x="3" y="61"/>
                      </a:lnTo>
                      <a:lnTo>
                        <a:pt x="7" y="65"/>
                      </a:lnTo>
                      <a:lnTo>
                        <a:pt x="7" y="61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80760" y="6070320"/>
                  <a:ext cx="4680" cy="15840"/>
                </a:xfrm>
                <a:custGeom>
                  <a:avLst/>
                  <a:gdLst/>
                  <a:ahLst/>
                  <a:rect l="l" t="t" r="r" b="b"/>
                  <a:pathLst>
                    <a:path w="22" h="54">
                      <a:moveTo>
                        <a:pt x="11" y="54"/>
                      </a:moveTo>
                      <a:lnTo>
                        <a:pt x="7" y="47"/>
                      </a:lnTo>
                      <a:lnTo>
                        <a:pt x="7" y="40"/>
                      </a:lnTo>
                      <a:lnTo>
                        <a:pt x="11" y="33"/>
                      </a:lnTo>
                      <a:lnTo>
                        <a:pt x="11" y="29"/>
                      </a:lnTo>
                      <a:lnTo>
                        <a:pt x="15" y="22"/>
                      </a:lnTo>
                      <a:lnTo>
                        <a:pt x="18" y="15"/>
                      </a:lnTo>
                      <a:lnTo>
                        <a:pt x="18" y="8"/>
                      </a:lnTo>
                      <a:lnTo>
                        <a:pt x="22" y="4"/>
                      </a:lnTo>
                      <a:lnTo>
                        <a:pt x="18" y="0"/>
                      </a:lnTo>
                      <a:lnTo>
                        <a:pt x="15" y="8"/>
                      </a:lnTo>
                      <a:lnTo>
                        <a:pt x="11" y="11"/>
                      </a:lnTo>
                      <a:lnTo>
                        <a:pt x="7" y="18"/>
                      </a:lnTo>
                      <a:lnTo>
                        <a:pt x="4" y="26"/>
                      </a:lnTo>
                      <a:lnTo>
                        <a:pt x="4" y="33"/>
                      </a:lnTo>
                      <a:lnTo>
                        <a:pt x="0" y="40"/>
                      </a:lnTo>
                      <a:lnTo>
                        <a:pt x="0" y="47"/>
                      </a:lnTo>
                      <a:lnTo>
                        <a:pt x="4" y="54"/>
                      </a:lnTo>
                      <a:lnTo>
                        <a:pt x="11" y="5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8240" y="60865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0" y="11"/>
                      </a:moveTo>
                      <a:lnTo>
                        <a:pt x="4" y="8"/>
                      </a:lnTo>
                      <a:lnTo>
                        <a:pt x="15" y="8"/>
                      </a:lnTo>
                      <a:lnTo>
                        <a:pt x="22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4" y="8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72480" y="607896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29" h="36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15" y="18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2" y="33"/>
                      </a:lnTo>
                      <a:lnTo>
                        <a:pt x="25" y="36"/>
                      </a:lnTo>
                      <a:lnTo>
                        <a:pt x="29" y="29"/>
                      </a:lnTo>
                      <a:lnTo>
                        <a:pt x="25" y="25"/>
                      </a:lnTo>
                      <a:lnTo>
                        <a:pt x="25" y="22"/>
                      </a:lnTo>
                      <a:lnTo>
                        <a:pt x="18" y="15"/>
                      </a:lnTo>
                      <a:lnTo>
                        <a:pt x="15" y="7"/>
                      </a:lnTo>
                      <a:lnTo>
                        <a:pt x="11" y="4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6720" y="6078960"/>
                  <a:ext cx="5400" cy="720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4" y="25"/>
                      </a:moveTo>
                      <a:lnTo>
                        <a:pt x="7" y="22"/>
                      </a:lnTo>
                      <a:lnTo>
                        <a:pt x="11" y="22"/>
                      </a:lnTo>
                      <a:lnTo>
                        <a:pt x="14" y="18"/>
                      </a:lnTo>
                      <a:lnTo>
                        <a:pt x="14" y="15"/>
                      </a:lnTo>
                      <a:lnTo>
                        <a:pt x="22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18" y="4"/>
                      </a:lnTo>
                      <a:lnTo>
                        <a:pt x="14" y="4"/>
                      </a:lnTo>
                      <a:lnTo>
                        <a:pt x="14" y="7"/>
                      </a:lnTo>
                      <a:lnTo>
                        <a:pt x="7" y="15"/>
                      </a:lnTo>
                      <a:lnTo>
                        <a:pt x="4" y="15"/>
                      </a:lnTo>
                      <a:lnTo>
                        <a:pt x="4" y="18"/>
                      </a:lnTo>
                      <a:lnTo>
                        <a:pt x="0" y="18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50520" y="6084360"/>
                  <a:ext cx="17280" cy="8640"/>
                </a:xfrm>
                <a:custGeom>
                  <a:avLst/>
                  <a:gdLst/>
                  <a:ahLst/>
                  <a:rect l="l" t="t" r="r" b="b"/>
                  <a:pathLst>
                    <a:path w="76" h="29">
                      <a:moveTo>
                        <a:pt x="0" y="29"/>
                      </a:moveTo>
                      <a:lnTo>
                        <a:pt x="21" y="29"/>
                      </a:lnTo>
                      <a:lnTo>
                        <a:pt x="32" y="25"/>
                      </a:lnTo>
                      <a:lnTo>
                        <a:pt x="39" y="25"/>
                      </a:lnTo>
                      <a:lnTo>
                        <a:pt x="50" y="22"/>
                      </a:lnTo>
                      <a:lnTo>
                        <a:pt x="57" y="15"/>
                      </a:lnTo>
                      <a:lnTo>
                        <a:pt x="65" y="11"/>
                      </a:lnTo>
                      <a:lnTo>
                        <a:pt x="76" y="7"/>
                      </a:lnTo>
                      <a:lnTo>
                        <a:pt x="72" y="0"/>
                      </a:lnTo>
                      <a:lnTo>
                        <a:pt x="65" y="4"/>
                      </a:lnTo>
                      <a:lnTo>
                        <a:pt x="54" y="7"/>
                      </a:lnTo>
                      <a:lnTo>
                        <a:pt x="47" y="15"/>
                      </a:lnTo>
                      <a:lnTo>
                        <a:pt x="36" y="18"/>
                      </a:lnTo>
                      <a:lnTo>
                        <a:pt x="29" y="22"/>
                      </a:lnTo>
                      <a:lnTo>
                        <a:pt x="21" y="22"/>
                      </a:ln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3" y="25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39720" y="6084360"/>
                  <a:ext cx="11160" cy="8640"/>
                </a:xfrm>
                <a:custGeom>
                  <a:avLst/>
                  <a:gdLst/>
                  <a:ahLst/>
                  <a:rect l="l" t="t" r="r" b="b"/>
                  <a:pathLst>
                    <a:path w="50" h="29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14" y="11"/>
                      </a:lnTo>
                      <a:lnTo>
                        <a:pt x="18" y="11"/>
                      </a:lnTo>
                      <a:lnTo>
                        <a:pt x="25" y="15"/>
                      </a:lnTo>
                      <a:lnTo>
                        <a:pt x="32" y="18"/>
                      </a:lnTo>
                      <a:lnTo>
                        <a:pt x="40" y="25"/>
                      </a:lnTo>
                      <a:lnTo>
                        <a:pt x="47" y="29"/>
                      </a:lnTo>
                      <a:lnTo>
                        <a:pt x="50" y="25"/>
                      </a:lnTo>
                      <a:lnTo>
                        <a:pt x="47" y="18"/>
                      </a:lnTo>
                      <a:lnTo>
                        <a:pt x="40" y="15"/>
                      </a:lnTo>
                      <a:lnTo>
                        <a:pt x="36" y="11"/>
                      </a:lnTo>
                      <a:lnTo>
                        <a:pt x="29" y="7"/>
                      </a:lnTo>
                      <a:lnTo>
                        <a:pt x="22" y="4"/>
                      </a:lnTo>
                      <a:lnTo>
                        <a:pt x="11" y="4"/>
                      </a:ln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35760" y="607572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25" h="36">
                      <a:moveTo>
                        <a:pt x="0" y="8"/>
                      </a:moveTo>
                      <a:lnTo>
                        <a:pt x="7" y="15"/>
                      </a:lnTo>
                      <a:lnTo>
                        <a:pt x="7" y="18"/>
                      </a:lnTo>
                      <a:lnTo>
                        <a:pt x="14" y="26"/>
                      </a:lnTo>
                      <a:lnTo>
                        <a:pt x="14" y="33"/>
                      </a:lnTo>
                      <a:lnTo>
                        <a:pt x="18" y="36"/>
                      </a:lnTo>
                      <a:lnTo>
                        <a:pt x="25" y="33"/>
                      </a:lnTo>
                      <a:lnTo>
                        <a:pt x="18" y="26"/>
                      </a:lnTo>
                      <a:lnTo>
                        <a:pt x="18" y="15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24960" y="6075720"/>
                  <a:ext cx="10440" cy="12960"/>
                </a:xfrm>
                <a:custGeom>
                  <a:avLst/>
                  <a:gdLst/>
                  <a:ahLst/>
                  <a:rect l="l" t="t" r="r" b="b"/>
                  <a:pathLst>
                    <a:path w="47" h="44">
                      <a:moveTo>
                        <a:pt x="4" y="40"/>
                      </a:moveTo>
                      <a:lnTo>
                        <a:pt x="4" y="44"/>
                      </a:lnTo>
                      <a:lnTo>
                        <a:pt x="11" y="36"/>
                      </a:lnTo>
                      <a:lnTo>
                        <a:pt x="18" y="33"/>
                      </a:lnTo>
                      <a:lnTo>
                        <a:pt x="22" y="26"/>
                      </a:lnTo>
                      <a:lnTo>
                        <a:pt x="25" y="18"/>
                      </a:lnTo>
                      <a:lnTo>
                        <a:pt x="33" y="15"/>
                      </a:lnTo>
                      <a:lnTo>
                        <a:pt x="40" y="8"/>
                      </a:lnTo>
                      <a:lnTo>
                        <a:pt x="47" y="8"/>
                      </a:lnTo>
                      <a:lnTo>
                        <a:pt x="47" y="0"/>
                      </a:lnTo>
                      <a:lnTo>
                        <a:pt x="40" y="0"/>
                      </a:lnTo>
                      <a:lnTo>
                        <a:pt x="33" y="4"/>
                      </a:lnTo>
                      <a:lnTo>
                        <a:pt x="22" y="15"/>
                      </a:lnTo>
                      <a:lnTo>
                        <a:pt x="18" y="22"/>
                      </a:lnTo>
                      <a:lnTo>
                        <a:pt x="11" y="26"/>
                      </a:lnTo>
                      <a:lnTo>
                        <a:pt x="7" y="33"/>
                      </a:lnTo>
                      <a:lnTo>
                        <a:pt x="4" y="33"/>
                      </a:lnTo>
                      <a:lnTo>
                        <a:pt x="0" y="36"/>
                      </a:lnTo>
                      <a:lnTo>
                        <a:pt x="4" y="33"/>
                      </a:lnTo>
                      <a:lnTo>
                        <a:pt x="0" y="36"/>
                      </a:lnTo>
                      <a:lnTo>
                        <a:pt x="4" y="4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12720" y="608328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29" y="18"/>
                      </a:lnTo>
                      <a:lnTo>
                        <a:pt x="36" y="21"/>
                      </a:lnTo>
                      <a:lnTo>
                        <a:pt x="50" y="21"/>
                      </a:lnTo>
                      <a:lnTo>
                        <a:pt x="58" y="14"/>
                      </a:lnTo>
                      <a:lnTo>
                        <a:pt x="54" y="10"/>
                      </a:lnTo>
                      <a:lnTo>
                        <a:pt x="50" y="10"/>
                      </a:lnTo>
                      <a:lnTo>
                        <a:pt x="43" y="14"/>
                      </a:lnTo>
                      <a:lnTo>
                        <a:pt x="36" y="14"/>
                      </a:lnTo>
                      <a:lnTo>
                        <a:pt x="29" y="10"/>
                      </a:lnTo>
                      <a:lnTo>
                        <a:pt x="22" y="7"/>
                      </a:lnTo>
                      <a:lnTo>
                        <a:pt x="18" y="7"/>
                      </a:lnTo>
                      <a:lnTo>
                        <a:pt x="11" y="3"/>
                      </a:lnTo>
                      <a:lnTo>
                        <a:pt x="4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04440" y="6083280"/>
                  <a:ext cx="9000" cy="1800"/>
                </a:xfrm>
                <a:custGeom>
                  <a:avLst/>
                  <a:gdLst/>
                  <a:ahLst/>
                  <a:rect l="l" t="t" r="r" b="b"/>
                  <a:pathLst>
                    <a:path w="40" h="7">
                      <a:moveTo>
                        <a:pt x="0" y="3"/>
                      </a:moveTo>
                      <a:lnTo>
                        <a:pt x="4" y="7"/>
                      </a:lnTo>
                      <a:lnTo>
                        <a:pt x="40" y="7"/>
                      </a:lnTo>
                      <a:lnTo>
                        <a:pt x="40" y="0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9400" y="607464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29" h="32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5" y="18"/>
                      </a:lnTo>
                      <a:lnTo>
                        <a:pt x="15" y="21"/>
                      </a:lnTo>
                      <a:lnTo>
                        <a:pt x="18" y="25"/>
                      </a:lnTo>
                      <a:lnTo>
                        <a:pt x="18" y="29"/>
                      </a:lnTo>
                      <a:lnTo>
                        <a:pt x="22" y="32"/>
                      </a:lnTo>
                      <a:lnTo>
                        <a:pt x="29" y="29"/>
                      </a:lnTo>
                      <a:lnTo>
                        <a:pt x="26" y="25"/>
                      </a:lnTo>
                      <a:lnTo>
                        <a:pt x="26" y="21"/>
                      </a:lnTo>
                      <a:lnTo>
                        <a:pt x="15" y="11"/>
                      </a:lnTo>
                      <a:lnTo>
                        <a:pt x="15" y="7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92200" y="607464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4" y="36"/>
                      </a:moveTo>
                      <a:lnTo>
                        <a:pt x="7" y="32"/>
                      </a:lnTo>
                      <a:lnTo>
                        <a:pt x="11" y="25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22" y="11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36" y="0"/>
                      </a:lnTo>
                      <a:lnTo>
                        <a:pt x="22" y="0"/>
                      </a:lnTo>
                      <a:lnTo>
                        <a:pt x="11" y="11"/>
                      </a:lnTo>
                      <a:lnTo>
                        <a:pt x="7" y="18"/>
                      </a:lnTo>
                      <a:lnTo>
                        <a:pt x="4" y="21"/>
                      </a:lnTo>
                      <a:lnTo>
                        <a:pt x="0" y="29"/>
                      </a:lnTo>
                      <a:lnTo>
                        <a:pt x="0" y="32"/>
                      </a:lnTo>
                      <a:lnTo>
                        <a:pt x="4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84640" y="6084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8" y="25"/>
                      </a:moveTo>
                      <a:lnTo>
                        <a:pt x="37" y="4"/>
                      </a:lnTo>
                      <a:lnTo>
                        <a:pt x="33" y="0"/>
                      </a:lnTo>
                      <a:lnTo>
                        <a:pt x="4" y="22"/>
                      </a:lnTo>
                      <a:lnTo>
                        <a:pt x="4" y="25"/>
                      </a:lnTo>
                      <a:lnTo>
                        <a:pt x="4" y="22"/>
                      </a:lnTo>
                      <a:lnTo>
                        <a:pt x="0" y="25"/>
                      </a:lnTo>
                      <a:lnTo>
                        <a:pt x="8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83920" y="609192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7" y="29"/>
                      </a:move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3" y="8"/>
                      </a:lnTo>
                      <a:lnTo>
                        <a:pt x="7" y="15"/>
                      </a:lnTo>
                      <a:lnTo>
                        <a:pt x="3" y="19"/>
                      </a:lnTo>
                      <a:lnTo>
                        <a:pt x="0" y="26"/>
                      </a:lnTo>
                      <a:lnTo>
                        <a:pt x="7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6360" y="6099480"/>
                  <a:ext cx="9000" cy="5400"/>
                </a:xfrm>
                <a:custGeom>
                  <a:avLst/>
                  <a:gdLst/>
                  <a:ahLst/>
                  <a:rect l="l" t="t" r="r" b="b"/>
                  <a:pathLst>
                    <a:path w="40" h="18">
                      <a:moveTo>
                        <a:pt x="8" y="14"/>
                      </a:moveTo>
                      <a:lnTo>
                        <a:pt x="8" y="18"/>
                      </a:lnTo>
                      <a:lnTo>
                        <a:pt x="11" y="14"/>
                      </a:lnTo>
                      <a:lnTo>
                        <a:pt x="26" y="14"/>
                      </a:lnTo>
                      <a:lnTo>
                        <a:pt x="29" y="11"/>
                      </a:lnTo>
                      <a:lnTo>
                        <a:pt x="36" y="7"/>
                      </a:lnTo>
                      <a:lnTo>
                        <a:pt x="40" y="3"/>
                      </a:ln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2" y="7"/>
                      </a:lnTo>
                      <a:lnTo>
                        <a:pt x="11" y="7"/>
                      </a:lnTo>
                      <a:lnTo>
                        <a:pt x="8" y="11"/>
                      </a:lnTo>
                      <a:lnTo>
                        <a:pt x="4" y="11"/>
                      </a:lnTo>
                      <a:lnTo>
                        <a:pt x="0" y="14"/>
                      </a:lnTo>
                      <a:lnTo>
                        <a:pt x="4" y="11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8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61600" y="6103800"/>
                  <a:ext cx="16200" cy="20520"/>
                </a:xfrm>
                <a:custGeom>
                  <a:avLst/>
                  <a:gdLst/>
                  <a:ahLst/>
                  <a:rect l="l" t="t" r="r" b="b"/>
                  <a:pathLst>
                    <a:path w="72" h="69">
                      <a:moveTo>
                        <a:pt x="7" y="69"/>
                      </a:moveTo>
                      <a:lnTo>
                        <a:pt x="10" y="58"/>
                      </a:lnTo>
                      <a:lnTo>
                        <a:pt x="25" y="43"/>
                      </a:lnTo>
                      <a:lnTo>
                        <a:pt x="36" y="36"/>
                      </a:lnTo>
                      <a:lnTo>
                        <a:pt x="46" y="29"/>
                      </a:lnTo>
                      <a:lnTo>
                        <a:pt x="57" y="22"/>
                      </a:lnTo>
                      <a:lnTo>
                        <a:pt x="64" y="15"/>
                      </a:lnTo>
                      <a:lnTo>
                        <a:pt x="72" y="0"/>
                      </a:lnTo>
                      <a:lnTo>
                        <a:pt x="64" y="0"/>
                      </a:lnTo>
                      <a:lnTo>
                        <a:pt x="61" y="7"/>
                      </a:lnTo>
                      <a:lnTo>
                        <a:pt x="43" y="25"/>
                      </a:lnTo>
                      <a:lnTo>
                        <a:pt x="32" y="33"/>
                      </a:lnTo>
                      <a:lnTo>
                        <a:pt x="21" y="40"/>
                      </a:lnTo>
                      <a:lnTo>
                        <a:pt x="14" y="47"/>
                      </a:lnTo>
                      <a:lnTo>
                        <a:pt x="3" y="54"/>
                      </a:lnTo>
                      <a:lnTo>
                        <a:pt x="0" y="69"/>
                      </a:lnTo>
                      <a:lnTo>
                        <a:pt x="7" y="6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55120" y="6124320"/>
                  <a:ext cx="7920" cy="13680"/>
                </a:xfrm>
                <a:custGeom>
                  <a:avLst/>
                  <a:gdLst/>
                  <a:ahLst/>
                  <a:rect l="l" t="t" r="r" b="b"/>
                  <a:pathLst>
                    <a:path w="36" h="46">
                      <a:moveTo>
                        <a:pt x="7" y="43"/>
                      </a:moveTo>
                      <a:lnTo>
                        <a:pt x="7" y="46"/>
                      </a:lnTo>
                      <a:lnTo>
                        <a:pt x="14" y="43"/>
                      </a:lnTo>
                      <a:lnTo>
                        <a:pt x="18" y="36"/>
                      </a:lnTo>
                      <a:lnTo>
                        <a:pt x="21" y="32"/>
                      </a:lnTo>
                      <a:lnTo>
                        <a:pt x="25" y="25"/>
                      </a:lnTo>
                      <a:lnTo>
                        <a:pt x="29" y="21"/>
                      </a:lnTo>
                      <a:lnTo>
                        <a:pt x="32" y="14"/>
                      </a:lnTo>
                      <a:lnTo>
                        <a:pt x="32" y="7"/>
                      </a:lnTo>
                      <a:lnTo>
                        <a:pt x="36" y="0"/>
                      </a:lnTo>
                      <a:lnTo>
                        <a:pt x="29" y="0"/>
                      </a:lnTo>
                      <a:lnTo>
                        <a:pt x="29" y="7"/>
                      </a:lnTo>
                      <a:lnTo>
                        <a:pt x="25" y="10"/>
                      </a:lnTo>
                      <a:lnTo>
                        <a:pt x="21" y="18"/>
                      </a:lnTo>
                      <a:lnTo>
                        <a:pt x="18" y="21"/>
                      </a:lnTo>
                      <a:lnTo>
                        <a:pt x="14" y="28"/>
                      </a:lnTo>
                      <a:lnTo>
                        <a:pt x="0" y="43"/>
                      </a:lnTo>
                      <a:lnTo>
                        <a:pt x="3" y="39"/>
                      </a:lnTo>
                      <a:lnTo>
                        <a:pt x="0" y="43"/>
                      </a:lnTo>
                      <a:lnTo>
                        <a:pt x="7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52600" y="6136920"/>
                  <a:ext cx="3960" cy="9360"/>
                </a:xfrm>
                <a:custGeom>
                  <a:avLst/>
                  <a:gdLst/>
                  <a:ahLst/>
                  <a:rect l="l" t="t" r="r" b="b"/>
                  <a:pathLst>
                    <a:path w="18" h="32">
                      <a:moveTo>
                        <a:pt x="0" y="32"/>
                      </a:moveTo>
                      <a:lnTo>
                        <a:pt x="4" y="32"/>
                      </a:lnTo>
                      <a:lnTo>
                        <a:pt x="11" y="25"/>
                      </a:lnTo>
                      <a:lnTo>
                        <a:pt x="14" y="18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1" y="0"/>
                      </a:lnTo>
                      <a:lnTo>
                        <a:pt x="11" y="7"/>
                      </a:lnTo>
                      <a:lnTo>
                        <a:pt x="7" y="14"/>
                      </a:lnTo>
                      <a:lnTo>
                        <a:pt x="4" y="22"/>
                      </a:ln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4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2880" y="614448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3" y="25"/>
                      </a:moveTo>
                      <a:lnTo>
                        <a:pt x="7" y="22"/>
                      </a:lnTo>
                      <a:lnTo>
                        <a:pt x="14" y="18"/>
                      </a:lnTo>
                      <a:lnTo>
                        <a:pt x="21" y="11"/>
                      </a:lnTo>
                      <a:lnTo>
                        <a:pt x="29" y="11"/>
                      </a:lnTo>
                      <a:lnTo>
                        <a:pt x="32" y="7"/>
                      </a:lnTo>
                      <a:lnTo>
                        <a:pt x="43" y="7"/>
                      </a:lnTo>
                      <a:lnTo>
                        <a:pt x="43" y="0"/>
                      </a:lnTo>
                      <a:lnTo>
                        <a:pt x="32" y="0"/>
                      </a:lnTo>
                      <a:lnTo>
                        <a:pt x="25" y="4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7" y="11"/>
                      </a:lnTo>
                      <a:lnTo>
                        <a:pt x="3" y="15"/>
                      </a:lnTo>
                      <a:lnTo>
                        <a:pt x="0" y="22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37120" y="61488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11" y="7"/>
                      </a:lnTo>
                      <a:lnTo>
                        <a:pt x="15" y="10"/>
                      </a:lnTo>
                      <a:lnTo>
                        <a:pt x="29" y="10"/>
                      </a:lnTo>
                      <a:lnTo>
                        <a:pt x="26" y="7"/>
                      </a:lnTo>
                      <a:lnTo>
                        <a:pt x="22" y="7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1640" y="6149880"/>
                  <a:ext cx="17280" cy="22320"/>
                </a:xfrm>
                <a:custGeom>
                  <a:avLst/>
                  <a:gdLst/>
                  <a:ahLst/>
                  <a:rect l="l" t="t" r="r" b="b"/>
                  <a:pathLst>
                    <a:path w="76" h="76">
                      <a:moveTo>
                        <a:pt x="4" y="76"/>
                      </a:moveTo>
                      <a:lnTo>
                        <a:pt x="14" y="69"/>
                      </a:lnTo>
                      <a:lnTo>
                        <a:pt x="25" y="61"/>
                      </a:lnTo>
                      <a:lnTo>
                        <a:pt x="36" y="54"/>
                      </a:lnTo>
                      <a:lnTo>
                        <a:pt x="47" y="43"/>
                      </a:lnTo>
                      <a:lnTo>
                        <a:pt x="54" y="33"/>
                      </a:lnTo>
                      <a:lnTo>
                        <a:pt x="61" y="25"/>
                      </a:lnTo>
                      <a:lnTo>
                        <a:pt x="68" y="15"/>
                      </a:lnTo>
                      <a:lnTo>
                        <a:pt x="76" y="4"/>
                      </a:lnTo>
                      <a:lnTo>
                        <a:pt x="68" y="0"/>
                      </a:lnTo>
                      <a:lnTo>
                        <a:pt x="61" y="11"/>
                      </a:lnTo>
                      <a:lnTo>
                        <a:pt x="58" y="22"/>
                      </a:lnTo>
                      <a:lnTo>
                        <a:pt x="47" y="29"/>
                      </a:lnTo>
                      <a:lnTo>
                        <a:pt x="40" y="40"/>
                      </a:lnTo>
                      <a:lnTo>
                        <a:pt x="22" y="58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69"/>
                      </a:lnTo>
                      <a:lnTo>
                        <a:pt x="4" y="69"/>
                      </a:lnTo>
                      <a:lnTo>
                        <a:pt x="0" y="69"/>
                      </a:lnTo>
                      <a:lnTo>
                        <a:pt x="4" y="7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20560" y="6170400"/>
                  <a:ext cx="1800" cy="612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8" y="14"/>
                      </a:moveTo>
                      <a:lnTo>
                        <a:pt x="8" y="18"/>
                      </a:lnTo>
                      <a:lnTo>
                        <a:pt x="8" y="7"/>
                      </a:lnTo>
                      <a:lnTo>
                        <a:pt x="4" y="0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4" y="21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8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21640" y="617436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54" h="18">
                      <a:moveTo>
                        <a:pt x="54" y="14"/>
                      </a:moveTo>
                      <a:lnTo>
                        <a:pt x="47" y="7"/>
                      </a:lnTo>
                      <a:lnTo>
                        <a:pt x="43" y="7"/>
                      </a:lnTo>
                      <a:lnTo>
                        <a:pt x="36" y="4"/>
                      </a:lnTo>
                      <a:lnTo>
                        <a:pt x="7" y="4"/>
                      </a:lnTo>
                      <a:lnTo>
                        <a:pt x="4" y="0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36" y="11"/>
                      </a:lnTo>
                      <a:lnTo>
                        <a:pt x="40" y="14"/>
                      </a:lnTo>
                      <a:lnTo>
                        <a:pt x="43" y="14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54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80" y="6178680"/>
                  <a:ext cx="12240" cy="12960"/>
                </a:xfrm>
                <a:custGeom>
                  <a:avLst/>
                  <a:gdLst/>
                  <a:ahLst/>
                  <a:rect l="l" t="t" r="r" b="b"/>
                  <a:pathLst>
                    <a:path w="54" h="44">
                      <a:moveTo>
                        <a:pt x="54" y="44"/>
                      </a:moveTo>
                      <a:lnTo>
                        <a:pt x="50" y="33"/>
                      </a:lnTo>
                      <a:lnTo>
                        <a:pt x="47" y="26"/>
                      </a:lnTo>
                      <a:lnTo>
                        <a:pt x="39" y="22"/>
                      </a:lnTo>
                      <a:lnTo>
                        <a:pt x="32" y="15"/>
                      </a:lnTo>
                      <a:lnTo>
                        <a:pt x="25" y="11"/>
                      </a:lnTo>
                      <a:lnTo>
                        <a:pt x="18" y="8"/>
                      </a:lnTo>
                      <a:lnTo>
                        <a:pt x="14" y="4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4" y="15"/>
                      </a:lnTo>
                      <a:lnTo>
                        <a:pt x="21" y="18"/>
                      </a:lnTo>
                      <a:lnTo>
                        <a:pt x="29" y="26"/>
                      </a:lnTo>
                      <a:lnTo>
                        <a:pt x="36" y="26"/>
                      </a:lnTo>
                      <a:lnTo>
                        <a:pt x="39" y="29"/>
                      </a:lnTo>
                      <a:lnTo>
                        <a:pt x="43" y="37"/>
                      </a:lnTo>
                      <a:lnTo>
                        <a:pt x="43" y="44"/>
                      </a:lnTo>
                      <a:lnTo>
                        <a:pt x="47" y="44"/>
                      </a:lnTo>
                      <a:lnTo>
                        <a:pt x="43" y="44"/>
                      </a:lnTo>
                      <a:lnTo>
                        <a:pt x="47" y="44"/>
                      </a:lnTo>
                      <a:lnTo>
                        <a:pt x="54" y="4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42160" y="6191640"/>
                  <a:ext cx="2160" cy="936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4" y="32"/>
                      </a:moveTo>
                      <a:lnTo>
                        <a:pt x="11" y="25"/>
                      </a:lnTo>
                      <a:lnTo>
                        <a:pt x="11" y="0"/>
                      </a:lnTo>
                      <a:lnTo>
                        <a:pt x="4" y="0"/>
                      </a:lnTo>
                      <a:lnTo>
                        <a:pt x="4" y="21"/>
                      </a:lnTo>
                      <a:lnTo>
                        <a:pt x="0" y="25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35320" y="619920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7" y="11"/>
                      </a:moveTo>
                      <a:lnTo>
                        <a:pt x="4" y="11"/>
                      </a:lnTo>
                      <a:lnTo>
                        <a:pt x="25" y="11"/>
                      </a:lnTo>
                      <a:lnTo>
                        <a:pt x="29" y="7"/>
                      </a:lnTo>
                      <a:lnTo>
                        <a:pt x="33" y="7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4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28120" y="620028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39" h="28">
                      <a:moveTo>
                        <a:pt x="0" y="28"/>
                      </a:move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25" y="21"/>
                      </a:lnTo>
                      <a:lnTo>
                        <a:pt x="39" y="7"/>
                      </a:lnTo>
                      <a:lnTo>
                        <a:pt x="32" y="0"/>
                      </a:lnTo>
                      <a:lnTo>
                        <a:pt x="29" y="7"/>
                      </a:lnTo>
                      <a:lnTo>
                        <a:pt x="18" y="18"/>
                      </a:lnTo>
                      <a:lnTo>
                        <a:pt x="14" y="18"/>
                      </a:lnTo>
                      <a:lnTo>
                        <a:pt x="11" y="21"/>
                      </a:lnTo>
                      <a:lnTo>
                        <a:pt x="3" y="21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13360" y="6202440"/>
                  <a:ext cx="15480" cy="6120"/>
                </a:xfrm>
                <a:custGeom>
                  <a:avLst/>
                  <a:gdLst/>
                  <a:ahLst/>
                  <a:rect l="l" t="t" r="r" b="b"/>
                  <a:pathLst>
                    <a:path w="68" h="21">
                      <a:moveTo>
                        <a:pt x="7" y="7"/>
                      </a:moveTo>
                      <a:lnTo>
                        <a:pt x="4" y="11"/>
                      </a:lnTo>
                      <a:lnTo>
                        <a:pt x="11" y="7"/>
                      </a:lnTo>
                      <a:lnTo>
                        <a:pt x="32" y="7"/>
                      </a:lnTo>
                      <a:lnTo>
                        <a:pt x="40" y="14"/>
                      </a:lnTo>
                      <a:lnTo>
                        <a:pt x="50" y="18"/>
                      </a:lnTo>
                      <a:lnTo>
                        <a:pt x="58" y="21"/>
                      </a:lnTo>
                      <a:lnTo>
                        <a:pt x="65" y="21"/>
                      </a:lnTo>
                      <a:lnTo>
                        <a:pt x="68" y="14"/>
                      </a:lnTo>
                      <a:lnTo>
                        <a:pt x="58" y="14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6" y="3"/>
                      </a:lnTo>
                      <a:lnTo>
                        <a:pt x="25" y="0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00040" y="6203520"/>
                  <a:ext cx="14760" cy="21240"/>
                </a:xfrm>
                <a:custGeom>
                  <a:avLst/>
                  <a:gdLst/>
                  <a:ahLst/>
                  <a:rect l="l" t="t" r="r" b="b"/>
                  <a:pathLst>
                    <a:path w="65" h="72">
                      <a:moveTo>
                        <a:pt x="7" y="72"/>
                      </a:moveTo>
                      <a:lnTo>
                        <a:pt x="11" y="62"/>
                      </a:lnTo>
                      <a:lnTo>
                        <a:pt x="58" y="15"/>
                      </a:lnTo>
                      <a:lnTo>
                        <a:pt x="65" y="4"/>
                      </a:lnTo>
                      <a:lnTo>
                        <a:pt x="58" y="0"/>
                      </a:lnTo>
                      <a:lnTo>
                        <a:pt x="51" y="11"/>
                      </a:lnTo>
                      <a:lnTo>
                        <a:pt x="22" y="40"/>
                      </a:lnTo>
                      <a:lnTo>
                        <a:pt x="15" y="51"/>
                      </a:lnTo>
                      <a:lnTo>
                        <a:pt x="7" y="58"/>
                      </a:lnTo>
                      <a:lnTo>
                        <a:pt x="0" y="69"/>
                      </a:lnTo>
                      <a:lnTo>
                        <a:pt x="7" y="7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91760" y="6224040"/>
                  <a:ext cx="9720" cy="3960"/>
                </a:xfrm>
                <a:custGeom>
                  <a:avLst/>
                  <a:gdLst/>
                  <a:ahLst/>
                  <a:rect l="l" t="t" r="r" b="b"/>
                  <a:pathLst>
                    <a:path w="43" h="14">
                      <a:moveTo>
                        <a:pt x="4" y="11"/>
                      </a:move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15" y="14"/>
                      </a:lnTo>
                      <a:lnTo>
                        <a:pt x="25" y="14"/>
                      </a:lnTo>
                      <a:lnTo>
                        <a:pt x="33" y="11"/>
                      </a:lnTo>
                      <a:lnTo>
                        <a:pt x="36" y="7"/>
                      </a:lnTo>
                      <a:lnTo>
                        <a:pt x="43" y="3"/>
                      </a:lnTo>
                      <a:lnTo>
                        <a:pt x="36" y="0"/>
                      </a:lnTo>
                      <a:lnTo>
                        <a:pt x="33" y="3"/>
                      </a:lnTo>
                      <a:lnTo>
                        <a:pt x="29" y="3"/>
                      </a:lnTo>
                      <a:lnTo>
                        <a:pt x="25" y="7"/>
                      </a:lnTo>
                      <a:lnTo>
                        <a:pt x="11" y="7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83480" y="6224760"/>
                  <a:ext cx="9000" cy="5040"/>
                </a:xfrm>
                <a:custGeom>
                  <a:avLst/>
                  <a:gdLst/>
                  <a:ahLst/>
                  <a:rect l="l" t="t" r="r" b="b"/>
                  <a:pathLst>
                    <a:path w="40" h="18">
                      <a:moveTo>
                        <a:pt x="0" y="15"/>
                      </a:moveTo>
                      <a:lnTo>
                        <a:pt x="7" y="18"/>
                      </a:lnTo>
                      <a:lnTo>
                        <a:pt x="22" y="18"/>
                      </a:lnTo>
                      <a:lnTo>
                        <a:pt x="29" y="15"/>
                      </a:lnTo>
                      <a:lnTo>
                        <a:pt x="36" y="8"/>
                      </a:lnTo>
                      <a:lnTo>
                        <a:pt x="40" y="8"/>
                      </a:lnTo>
                      <a:lnTo>
                        <a:pt x="36" y="0"/>
                      </a:lnTo>
                      <a:lnTo>
                        <a:pt x="33" y="4"/>
                      </a:lnTo>
                      <a:lnTo>
                        <a:pt x="29" y="4"/>
                      </a:lnTo>
                      <a:lnTo>
                        <a:pt x="25" y="8"/>
                      </a:lnTo>
                      <a:lnTo>
                        <a:pt x="22" y="8"/>
                      </a:lnTo>
                      <a:lnTo>
                        <a:pt x="18" y="11"/>
                      </a:lnTo>
                      <a:lnTo>
                        <a:pt x="7" y="11"/>
                      </a:lnTo>
                      <a:lnTo>
                        <a:pt x="4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75560" y="6225840"/>
                  <a:ext cx="9000" cy="5400"/>
                </a:xfrm>
                <a:custGeom>
                  <a:avLst/>
                  <a:gdLst/>
                  <a:ahLst/>
                  <a:rect l="l" t="t" r="r" b="b"/>
                  <a:pathLst>
                    <a:path w="40" h="18">
                      <a:moveTo>
                        <a:pt x="0" y="18"/>
                      </a:moveTo>
                      <a:lnTo>
                        <a:pt x="7" y="14"/>
                      </a:lnTo>
                      <a:lnTo>
                        <a:pt x="11" y="14"/>
                      </a:lnTo>
                      <a:lnTo>
                        <a:pt x="18" y="11"/>
                      </a:lnTo>
                      <a:lnTo>
                        <a:pt x="22" y="7"/>
                      </a:lnTo>
                      <a:lnTo>
                        <a:pt x="33" y="7"/>
                      </a:lnTo>
                      <a:lnTo>
                        <a:pt x="36" y="11"/>
                      </a:lnTo>
                      <a:lnTo>
                        <a:pt x="40" y="4"/>
                      </a:lnTo>
                      <a:lnTo>
                        <a:pt x="36" y="0"/>
                      </a:lnTo>
                      <a:lnTo>
                        <a:pt x="25" y="0"/>
                      </a:lnTo>
                      <a:lnTo>
                        <a:pt x="18" y="4"/>
                      </a:lnTo>
                      <a:lnTo>
                        <a:pt x="11" y="4"/>
                      </a:lnTo>
                      <a:lnTo>
                        <a:pt x="7" y="7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59000" y="622188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76" h="32">
                      <a:moveTo>
                        <a:pt x="0" y="3"/>
                      </a:moveTo>
                      <a:lnTo>
                        <a:pt x="4" y="14"/>
                      </a:lnTo>
                      <a:lnTo>
                        <a:pt x="14" y="21"/>
                      </a:lnTo>
                      <a:lnTo>
                        <a:pt x="22" y="25"/>
                      </a:lnTo>
                      <a:lnTo>
                        <a:pt x="33" y="25"/>
                      </a:lnTo>
                      <a:lnTo>
                        <a:pt x="43" y="28"/>
                      </a:lnTo>
                      <a:lnTo>
                        <a:pt x="61" y="28"/>
                      </a:lnTo>
                      <a:lnTo>
                        <a:pt x="72" y="32"/>
                      </a:lnTo>
                      <a:lnTo>
                        <a:pt x="76" y="25"/>
                      </a:lnTo>
                      <a:lnTo>
                        <a:pt x="65" y="21"/>
                      </a:lnTo>
                      <a:lnTo>
                        <a:pt x="54" y="21"/>
                      </a:lnTo>
                      <a:lnTo>
                        <a:pt x="43" y="18"/>
                      </a:lnTo>
                      <a:lnTo>
                        <a:pt x="22" y="18"/>
                      </a:lnTo>
                      <a:lnTo>
                        <a:pt x="18" y="14"/>
                      </a:lnTo>
                      <a:lnTo>
                        <a:pt x="11" y="10"/>
                      </a:lnTo>
                      <a:lnTo>
                        <a:pt x="7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5760" y="6215400"/>
                  <a:ext cx="4680" cy="72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10" y="14"/>
                      </a:lnTo>
                      <a:lnTo>
                        <a:pt x="10" y="22"/>
                      </a:lnTo>
                      <a:lnTo>
                        <a:pt x="14" y="25"/>
                      </a:lnTo>
                      <a:lnTo>
                        <a:pt x="21" y="22"/>
                      </a:lnTo>
                      <a:lnTo>
                        <a:pt x="18" y="18"/>
                      </a:lnTo>
                      <a:lnTo>
                        <a:pt x="14" y="11"/>
                      </a:lnTo>
                      <a:lnTo>
                        <a:pt x="10" y="4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0720" y="6215400"/>
                  <a:ext cx="5400" cy="1800"/>
                </a:xfrm>
                <a:custGeom>
                  <a:avLst/>
                  <a:gdLst/>
                  <a:ahLst/>
                  <a:rect l="l" t="t" r="r" b="b"/>
                  <a:pathLst>
                    <a:path w="25" h="7">
                      <a:moveTo>
                        <a:pt x="7" y="7"/>
                      </a:moveTo>
                      <a:lnTo>
                        <a:pt x="4" y="7"/>
                      </a:lnTo>
                      <a:lnTo>
                        <a:pt x="22" y="7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44960" y="6216480"/>
                  <a:ext cx="72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9">
                      <a:moveTo>
                        <a:pt x="3" y="36"/>
                      </a:moveTo>
                      <a:lnTo>
                        <a:pt x="0" y="39"/>
                      </a:lnTo>
                      <a:lnTo>
                        <a:pt x="7" y="36"/>
                      </a:lnTo>
                      <a:lnTo>
                        <a:pt x="14" y="36"/>
                      </a:lnTo>
                      <a:lnTo>
                        <a:pt x="18" y="28"/>
                      </a:lnTo>
                      <a:lnTo>
                        <a:pt x="21" y="25"/>
                      </a:lnTo>
                      <a:lnTo>
                        <a:pt x="25" y="18"/>
                      </a:lnTo>
                      <a:lnTo>
                        <a:pt x="29" y="14"/>
                      </a:lnTo>
                      <a:lnTo>
                        <a:pt x="29" y="7"/>
                      </a:lnTo>
                      <a:lnTo>
                        <a:pt x="32" y="3"/>
                      </a:lnTo>
                      <a:lnTo>
                        <a:pt x="25" y="0"/>
                      </a:lnTo>
                      <a:lnTo>
                        <a:pt x="21" y="7"/>
                      </a:lnTo>
                      <a:lnTo>
                        <a:pt x="21" y="10"/>
                      </a:lnTo>
                      <a:lnTo>
                        <a:pt x="18" y="18"/>
                      </a:lnTo>
                      <a:lnTo>
                        <a:pt x="18" y="21"/>
                      </a:lnTo>
                      <a:lnTo>
                        <a:pt x="7" y="32"/>
                      </a:lnTo>
                      <a:lnTo>
                        <a:pt x="0" y="32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39920" y="622584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33"/>
                      </a:moveTo>
                      <a:lnTo>
                        <a:pt x="7" y="33"/>
                      </a:lnTo>
                      <a:lnTo>
                        <a:pt x="15" y="25"/>
                      </a:lnTo>
                      <a:lnTo>
                        <a:pt x="18" y="18"/>
                      </a:lnTo>
                      <a:lnTo>
                        <a:pt x="18" y="14"/>
                      </a:lnTo>
                      <a:lnTo>
                        <a:pt x="22" y="11"/>
                      </a:lnTo>
                      <a:lnTo>
                        <a:pt x="22" y="7"/>
                      </a:lnTo>
                      <a:lnTo>
                        <a:pt x="25" y="4"/>
                      </a:lnTo>
                      <a:lnTo>
                        <a:pt x="22" y="0"/>
                      </a:lnTo>
                      <a:lnTo>
                        <a:pt x="11" y="11"/>
                      </a:lnTo>
                      <a:lnTo>
                        <a:pt x="11" y="18"/>
                      </a:lnTo>
                      <a:lnTo>
                        <a:pt x="7" y="22"/>
                      </a:lnTo>
                      <a:lnTo>
                        <a:pt x="7" y="25"/>
                      </a:lnTo>
                      <a:lnTo>
                        <a:pt x="0" y="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27680" y="622404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54" h="40">
                      <a:moveTo>
                        <a:pt x="7" y="11"/>
                      </a:move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22" y="11"/>
                      </a:lnTo>
                      <a:lnTo>
                        <a:pt x="25" y="18"/>
                      </a:lnTo>
                      <a:lnTo>
                        <a:pt x="33" y="25"/>
                      </a:lnTo>
                      <a:lnTo>
                        <a:pt x="36" y="32"/>
                      </a:lnTo>
                      <a:lnTo>
                        <a:pt x="43" y="4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47" y="32"/>
                      </a:lnTo>
                      <a:lnTo>
                        <a:pt x="40" y="29"/>
                      </a:lnTo>
                      <a:lnTo>
                        <a:pt x="36" y="21"/>
                      </a:lnTo>
                      <a:lnTo>
                        <a:pt x="33" y="14"/>
                      </a:lnTo>
                      <a:lnTo>
                        <a:pt x="29" y="7"/>
                      </a:lnTo>
                      <a:lnTo>
                        <a:pt x="22" y="0"/>
                      </a:lnTo>
                      <a:lnTo>
                        <a:pt x="11" y="0"/>
                      </a:lnTo>
                      <a:lnTo>
                        <a:pt x="0" y="7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17960" y="6225840"/>
                  <a:ext cx="11160" cy="39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0" y="11"/>
                      </a:moveTo>
                      <a:lnTo>
                        <a:pt x="7" y="14"/>
                      </a:lnTo>
                      <a:lnTo>
                        <a:pt x="25" y="14"/>
                      </a:lnTo>
                      <a:lnTo>
                        <a:pt x="32" y="11"/>
                      </a:lnTo>
                      <a:lnTo>
                        <a:pt x="40" y="11"/>
                      </a:lnTo>
                      <a:lnTo>
                        <a:pt x="43" y="7"/>
                      </a:lnTo>
                      <a:lnTo>
                        <a:pt x="50" y="4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4"/>
                      </a:lnTo>
                      <a:lnTo>
                        <a:pt x="32" y="4"/>
                      </a:lnTo>
                      <a:lnTo>
                        <a:pt x="25" y="7"/>
                      </a:lnTo>
                      <a:lnTo>
                        <a:pt x="14" y="7"/>
                      </a:lnTo>
                      <a:lnTo>
                        <a:pt x="11" y="4"/>
                      </a:lnTo>
                      <a:lnTo>
                        <a:pt x="3" y="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2920" y="6224040"/>
                  <a:ext cx="5400" cy="5040"/>
                </a:xfrm>
                <a:custGeom>
                  <a:avLst/>
                  <a:gdLst/>
                  <a:ahLst/>
                  <a:rect l="l" t="t" r="r" b="b"/>
                  <a:pathLst>
                    <a:path w="25" h="18">
                      <a:moveTo>
                        <a:pt x="7" y="3"/>
                      </a:moveTo>
                      <a:lnTo>
                        <a:pt x="4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8" y="11"/>
                      </a:lnTo>
                      <a:lnTo>
                        <a:pt x="22" y="14"/>
                      </a:lnTo>
                      <a:lnTo>
                        <a:pt x="22" y="18"/>
                      </a:lnTo>
                      <a:lnTo>
                        <a:pt x="25" y="11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960" y="6224040"/>
                  <a:ext cx="5400" cy="12600"/>
                </a:xfrm>
                <a:custGeom>
                  <a:avLst/>
                  <a:gdLst/>
                  <a:ahLst/>
                  <a:rect l="l" t="t" r="r" b="b"/>
                  <a:pathLst>
                    <a:path w="25" h="43">
                      <a:moveTo>
                        <a:pt x="0" y="43"/>
                      </a:moveTo>
                      <a:lnTo>
                        <a:pt x="7" y="40"/>
                      </a:lnTo>
                      <a:lnTo>
                        <a:pt x="11" y="36"/>
                      </a:lnTo>
                      <a:lnTo>
                        <a:pt x="15" y="29"/>
                      </a:lnTo>
                      <a:lnTo>
                        <a:pt x="18" y="25"/>
                      </a:lnTo>
                      <a:lnTo>
                        <a:pt x="18" y="11"/>
                      </a:lnTo>
                      <a:lnTo>
                        <a:pt x="25" y="3"/>
                      </a:lnTo>
                      <a:lnTo>
                        <a:pt x="18" y="0"/>
                      </a:lnTo>
                      <a:lnTo>
                        <a:pt x="15" y="3"/>
                      </a:lnTo>
                      <a:lnTo>
                        <a:pt x="15" y="11"/>
                      </a:lnTo>
                      <a:lnTo>
                        <a:pt x="11" y="18"/>
                      </a:lnTo>
                      <a:lnTo>
                        <a:pt x="11" y="21"/>
                      </a:lnTo>
                      <a:lnTo>
                        <a:pt x="7" y="29"/>
                      </a:lnTo>
                      <a:lnTo>
                        <a:pt x="4" y="32"/>
                      </a:lnTo>
                      <a:lnTo>
                        <a:pt x="0" y="32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93480" y="6219360"/>
                  <a:ext cx="15120" cy="17280"/>
                </a:xfrm>
                <a:custGeom>
                  <a:avLst/>
                  <a:gdLst/>
                  <a:ahLst/>
                  <a:rect l="l" t="t" r="r" b="b"/>
                  <a:pathLst>
                    <a:path w="68" h="58">
                      <a:moveTo>
                        <a:pt x="7" y="11"/>
                      </a:moveTo>
                      <a:lnTo>
                        <a:pt x="3" y="11"/>
                      </a:lnTo>
                      <a:lnTo>
                        <a:pt x="18" y="8"/>
                      </a:lnTo>
                      <a:lnTo>
                        <a:pt x="25" y="8"/>
                      </a:lnTo>
                      <a:lnTo>
                        <a:pt x="29" y="15"/>
                      </a:lnTo>
                      <a:lnTo>
                        <a:pt x="36" y="22"/>
                      </a:lnTo>
                      <a:lnTo>
                        <a:pt x="39" y="36"/>
                      </a:lnTo>
                      <a:lnTo>
                        <a:pt x="47" y="47"/>
                      </a:lnTo>
                      <a:lnTo>
                        <a:pt x="54" y="55"/>
                      </a:lnTo>
                      <a:lnTo>
                        <a:pt x="68" y="58"/>
                      </a:lnTo>
                      <a:lnTo>
                        <a:pt x="68" y="51"/>
                      </a:lnTo>
                      <a:lnTo>
                        <a:pt x="57" y="47"/>
                      </a:lnTo>
                      <a:lnTo>
                        <a:pt x="50" y="44"/>
                      </a:lnTo>
                      <a:lnTo>
                        <a:pt x="47" y="33"/>
                      </a:lnTo>
                      <a:lnTo>
                        <a:pt x="43" y="22"/>
                      </a:lnTo>
                      <a:lnTo>
                        <a:pt x="36" y="11"/>
                      </a:lnTo>
                      <a:lnTo>
                        <a:pt x="29" y="0"/>
                      </a:lnTo>
                      <a:lnTo>
                        <a:pt x="18" y="0"/>
                      </a:lnTo>
                      <a:lnTo>
                        <a:pt x="0" y="8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640" y="6221880"/>
                  <a:ext cx="7920" cy="1908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4" y="65"/>
                      </a:moveTo>
                      <a:lnTo>
                        <a:pt x="18" y="50"/>
                      </a:lnTo>
                      <a:lnTo>
                        <a:pt x="18" y="39"/>
                      </a:lnTo>
                      <a:lnTo>
                        <a:pt x="22" y="32"/>
                      </a:lnTo>
                      <a:lnTo>
                        <a:pt x="25" y="25"/>
                      </a:lnTo>
                      <a:lnTo>
                        <a:pt x="25" y="18"/>
                      </a:lnTo>
                      <a:lnTo>
                        <a:pt x="29" y="10"/>
                      </a:lnTo>
                      <a:lnTo>
                        <a:pt x="36" y="3"/>
                      </a:lnTo>
                      <a:lnTo>
                        <a:pt x="29" y="0"/>
                      </a:lnTo>
                      <a:lnTo>
                        <a:pt x="22" y="7"/>
                      </a:lnTo>
                      <a:lnTo>
                        <a:pt x="18" y="14"/>
                      </a:lnTo>
                      <a:lnTo>
                        <a:pt x="18" y="21"/>
                      </a:lnTo>
                      <a:lnTo>
                        <a:pt x="14" y="32"/>
                      </a:lnTo>
                      <a:lnTo>
                        <a:pt x="11" y="39"/>
                      </a:lnTo>
                      <a:lnTo>
                        <a:pt x="11" y="47"/>
                      </a:lnTo>
                      <a:lnTo>
                        <a:pt x="0" y="57"/>
                      </a:lnTo>
                      <a:lnTo>
                        <a:pt x="4" y="6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80160" y="6238800"/>
                  <a:ext cx="7200" cy="13680"/>
                </a:xfrm>
                <a:custGeom>
                  <a:avLst/>
                  <a:gdLst/>
                  <a:ahLst/>
                  <a:rect l="l" t="t" r="r" b="b"/>
                  <a:pathLst>
                    <a:path w="33" h="47">
                      <a:moveTo>
                        <a:pt x="4" y="47"/>
                      </a:moveTo>
                      <a:lnTo>
                        <a:pt x="7" y="47"/>
                      </a:lnTo>
                      <a:lnTo>
                        <a:pt x="7" y="40"/>
                      </a:lnTo>
                      <a:lnTo>
                        <a:pt x="11" y="36"/>
                      </a:lnTo>
                      <a:lnTo>
                        <a:pt x="11" y="29"/>
                      </a:lnTo>
                      <a:lnTo>
                        <a:pt x="15" y="22"/>
                      </a:lnTo>
                      <a:lnTo>
                        <a:pt x="25" y="11"/>
                      </a:lnTo>
                      <a:lnTo>
                        <a:pt x="33" y="8"/>
                      </a:lnTo>
                      <a:lnTo>
                        <a:pt x="29" y="0"/>
                      </a:lnTo>
                      <a:lnTo>
                        <a:pt x="22" y="4"/>
                      </a:lnTo>
                      <a:lnTo>
                        <a:pt x="18" y="11"/>
                      </a:lnTo>
                      <a:lnTo>
                        <a:pt x="11" y="15"/>
                      </a:lnTo>
                      <a:lnTo>
                        <a:pt x="7" y="22"/>
                      </a:lnTo>
                      <a:lnTo>
                        <a:pt x="7" y="26"/>
                      </a:lnTo>
                      <a:lnTo>
                        <a:pt x="4" y="33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4" y="4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64680" y="62517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72" h="54">
                      <a:moveTo>
                        <a:pt x="7" y="54"/>
                      </a:moveTo>
                      <a:lnTo>
                        <a:pt x="10" y="43"/>
                      </a:lnTo>
                      <a:lnTo>
                        <a:pt x="18" y="36"/>
                      </a:lnTo>
                      <a:lnTo>
                        <a:pt x="25" y="32"/>
                      </a:lnTo>
                      <a:lnTo>
                        <a:pt x="36" y="28"/>
                      </a:lnTo>
                      <a:lnTo>
                        <a:pt x="46" y="25"/>
                      </a:lnTo>
                      <a:lnTo>
                        <a:pt x="54" y="21"/>
                      </a:lnTo>
                      <a:lnTo>
                        <a:pt x="64" y="14"/>
                      </a:lnTo>
                      <a:lnTo>
                        <a:pt x="72" y="3"/>
                      </a:lnTo>
                      <a:lnTo>
                        <a:pt x="68" y="0"/>
                      </a:lnTo>
                      <a:lnTo>
                        <a:pt x="54" y="14"/>
                      </a:lnTo>
                      <a:lnTo>
                        <a:pt x="43" y="18"/>
                      </a:lnTo>
                      <a:lnTo>
                        <a:pt x="32" y="21"/>
                      </a:lnTo>
                      <a:lnTo>
                        <a:pt x="21" y="25"/>
                      </a:lnTo>
                      <a:lnTo>
                        <a:pt x="14" y="32"/>
                      </a:lnTo>
                      <a:lnTo>
                        <a:pt x="3" y="39"/>
                      </a:lnTo>
                      <a:lnTo>
                        <a:pt x="0" y="50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3880" y="6266880"/>
                  <a:ext cx="12240" cy="3960"/>
                </a:xfrm>
                <a:custGeom>
                  <a:avLst/>
                  <a:gdLst/>
                  <a:ahLst/>
                  <a:rect l="l" t="t" r="r" b="b"/>
                  <a:pathLst>
                    <a:path w="54" h="14">
                      <a:moveTo>
                        <a:pt x="0" y="11"/>
                      </a:moveTo>
                      <a:lnTo>
                        <a:pt x="3" y="11"/>
                      </a:lnTo>
                      <a:lnTo>
                        <a:pt x="11" y="14"/>
                      </a:lnTo>
                      <a:lnTo>
                        <a:pt x="39" y="14"/>
                      </a:lnTo>
                      <a:lnTo>
                        <a:pt x="47" y="11"/>
                      </a:lnTo>
                      <a:lnTo>
                        <a:pt x="54" y="4"/>
                      </a:lnTo>
                      <a:lnTo>
                        <a:pt x="47" y="0"/>
                      </a:lnTo>
                      <a:lnTo>
                        <a:pt x="43" y="4"/>
                      </a:lnTo>
                      <a:lnTo>
                        <a:pt x="36" y="7"/>
                      </a:lnTo>
                      <a:lnTo>
                        <a:pt x="7" y="7"/>
                      </a:lnTo>
                      <a:lnTo>
                        <a:pt x="0" y="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49920" y="6267960"/>
                  <a:ext cx="3960" cy="540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1" y="14"/>
                      </a:moveTo>
                      <a:lnTo>
                        <a:pt x="7" y="18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7" y="3"/>
                      </a:lnTo>
                      <a:lnTo>
                        <a:pt x="3" y="7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11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9920" y="62722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21" h="22">
                      <a:moveTo>
                        <a:pt x="21" y="14"/>
                      </a:moveTo>
                      <a:lnTo>
                        <a:pt x="18" y="14"/>
                      </a:lnTo>
                      <a:lnTo>
                        <a:pt x="11" y="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" y="14"/>
                      </a:lnTo>
                      <a:lnTo>
                        <a:pt x="14" y="18"/>
                      </a:lnTo>
                      <a:lnTo>
                        <a:pt x="21" y="22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4600" y="6276240"/>
                  <a:ext cx="7200" cy="4320"/>
                </a:xfrm>
                <a:custGeom>
                  <a:avLst/>
                  <a:gdLst/>
                  <a:ahLst/>
                  <a:rect l="l" t="t" r="r" b="b"/>
                  <a:pathLst>
                    <a:path w="33" h="15">
                      <a:moveTo>
                        <a:pt x="33" y="15"/>
                      </a:moveTo>
                      <a:lnTo>
                        <a:pt x="33" y="8"/>
                      </a:lnTo>
                      <a:lnTo>
                        <a:pt x="26" y="4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2" y="8"/>
                      </a:lnTo>
                      <a:lnTo>
                        <a:pt x="26" y="11"/>
                      </a:lnTo>
                      <a:lnTo>
                        <a:pt x="26" y="15"/>
                      </a:lnTo>
                      <a:lnTo>
                        <a:pt x="33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2440" y="6280920"/>
                  <a:ext cx="9720" cy="22320"/>
                </a:xfrm>
                <a:custGeom>
                  <a:avLst/>
                  <a:gdLst/>
                  <a:ahLst/>
                  <a:rect l="l" t="t" r="r" b="b"/>
                  <a:pathLst>
                    <a:path w="43" h="76">
                      <a:moveTo>
                        <a:pt x="7" y="76"/>
                      </a:moveTo>
                      <a:lnTo>
                        <a:pt x="10" y="68"/>
                      </a:lnTo>
                      <a:lnTo>
                        <a:pt x="18" y="61"/>
                      </a:lnTo>
                      <a:lnTo>
                        <a:pt x="25" y="50"/>
                      </a:lnTo>
                      <a:lnTo>
                        <a:pt x="28" y="40"/>
                      </a:lnTo>
                      <a:lnTo>
                        <a:pt x="36" y="32"/>
                      </a:lnTo>
                      <a:lnTo>
                        <a:pt x="39" y="22"/>
                      </a:lnTo>
                      <a:lnTo>
                        <a:pt x="43" y="11"/>
                      </a:ln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36" y="11"/>
                      </a:lnTo>
                      <a:lnTo>
                        <a:pt x="32" y="18"/>
                      </a:lnTo>
                      <a:lnTo>
                        <a:pt x="28" y="29"/>
                      </a:lnTo>
                      <a:lnTo>
                        <a:pt x="25" y="36"/>
                      </a:lnTo>
                      <a:lnTo>
                        <a:pt x="18" y="47"/>
                      </a:lnTo>
                      <a:lnTo>
                        <a:pt x="10" y="54"/>
                      </a:lnTo>
                      <a:lnTo>
                        <a:pt x="7" y="65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46320" y="6303240"/>
                  <a:ext cx="7200" cy="21240"/>
                </a:xfrm>
                <a:custGeom>
                  <a:avLst/>
                  <a:gdLst/>
                  <a:ahLst/>
                  <a:rect l="l" t="t" r="r" b="b"/>
                  <a:pathLst>
                    <a:path w="33" h="72">
                      <a:moveTo>
                        <a:pt x="8" y="72"/>
                      </a:moveTo>
                      <a:lnTo>
                        <a:pt x="15" y="64"/>
                      </a:lnTo>
                      <a:lnTo>
                        <a:pt x="18" y="57"/>
                      </a:lnTo>
                      <a:lnTo>
                        <a:pt x="26" y="46"/>
                      </a:lnTo>
                      <a:lnTo>
                        <a:pt x="29" y="39"/>
                      </a:lnTo>
                      <a:lnTo>
                        <a:pt x="33" y="28"/>
                      </a:lnTo>
                      <a:lnTo>
                        <a:pt x="33" y="0"/>
                      </a:lnTo>
                      <a:lnTo>
                        <a:pt x="26" y="0"/>
                      </a:lnTo>
                      <a:lnTo>
                        <a:pt x="26" y="21"/>
                      </a:lnTo>
                      <a:lnTo>
                        <a:pt x="22" y="28"/>
                      </a:lnTo>
                      <a:lnTo>
                        <a:pt x="22" y="36"/>
                      </a:lnTo>
                      <a:lnTo>
                        <a:pt x="18" y="46"/>
                      </a:lnTo>
                      <a:lnTo>
                        <a:pt x="15" y="54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8" y="7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44880" y="6324840"/>
                  <a:ext cx="3240" cy="2124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4" y="72"/>
                      </a:moveTo>
                      <a:lnTo>
                        <a:pt x="7" y="68"/>
                      </a:lnTo>
                      <a:lnTo>
                        <a:pt x="15" y="5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7" y="50"/>
                      </a:lnTo>
                      <a:lnTo>
                        <a:pt x="0" y="65"/>
                      </a:lnTo>
                      <a:lnTo>
                        <a:pt x="4" y="65"/>
                      </a:lnTo>
                      <a:lnTo>
                        <a:pt x="4" y="72"/>
                      </a:lnTo>
                      <a:lnTo>
                        <a:pt x="7" y="68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27600" y="63442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80" h="68">
                      <a:moveTo>
                        <a:pt x="4" y="68"/>
                      </a:moveTo>
                      <a:lnTo>
                        <a:pt x="0" y="68"/>
                      </a:lnTo>
                      <a:lnTo>
                        <a:pt x="15" y="68"/>
                      </a:lnTo>
                      <a:lnTo>
                        <a:pt x="26" y="61"/>
                      </a:lnTo>
                      <a:lnTo>
                        <a:pt x="40" y="54"/>
                      </a:lnTo>
                      <a:lnTo>
                        <a:pt x="47" y="43"/>
                      </a:lnTo>
                      <a:lnTo>
                        <a:pt x="54" y="32"/>
                      </a:lnTo>
                      <a:lnTo>
                        <a:pt x="62" y="21"/>
                      </a:lnTo>
                      <a:lnTo>
                        <a:pt x="69" y="14"/>
                      </a:lnTo>
                      <a:lnTo>
                        <a:pt x="80" y="7"/>
                      </a:lnTo>
                      <a:lnTo>
                        <a:pt x="80" y="0"/>
                      </a:lnTo>
                      <a:lnTo>
                        <a:pt x="65" y="7"/>
                      </a:lnTo>
                      <a:lnTo>
                        <a:pt x="58" y="18"/>
                      </a:lnTo>
                      <a:lnTo>
                        <a:pt x="47" y="28"/>
                      </a:lnTo>
                      <a:lnTo>
                        <a:pt x="40" y="39"/>
                      </a:lnTo>
                      <a:lnTo>
                        <a:pt x="33" y="46"/>
                      </a:lnTo>
                      <a:lnTo>
                        <a:pt x="22" y="54"/>
                      </a:lnTo>
                      <a:lnTo>
                        <a:pt x="15" y="61"/>
                      </a:lnTo>
                      <a:lnTo>
                        <a:pt x="0" y="64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4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24360" y="6363360"/>
                  <a:ext cx="3960" cy="11880"/>
                </a:xfrm>
                <a:custGeom>
                  <a:avLst/>
                  <a:gdLst/>
                  <a:ahLst/>
                  <a:rect l="l" t="t" r="r" b="b"/>
                  <a:pathLst>
                    <a:path w="18" h="40">
                      <a:moveTo>
                        <a:pt x="4" y="40"/>
                      </a:moveTo>
                      <a:lnTo>
                        <a:pt x="11" y="33"/>
                      </a:lnTo>
                      <a:lnTo>
                        <a:pt x="14" y="22"/>
                      </a:lnTo>
                      <a:lnTo>
                        <a:pt x="14" y="11"/>
                      </a:lnTo>
                      <a:lnTo>
                        <a:pt x="18" y="4"/>
                      </a:lnTo>
                      <a:lnTo>
                        <a:pt x="14" y="0"/>
                      </a:lnTo>
                      <a:lnTo>
                        <a:pt x="7" y="11"/>
                      </a:lnTo>
                      <a:lnTo>
                        <a:pt x="7" y="22"/>
                      </a:lnTo>
                      <a:lnTo>
                        <a:pt x="4" y="29"/>
                      </a:lnTo>
                      <a:lnTo>
                        <a:pt x="0" y="33"/>
                      </a:lnTo>
                      <a:lnTo>
                        <a:pt x="4" y="33"/>
                      </a:lnTo>
                      <a:lnTo>
                        <a:pt x="4" y="4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9320" y="637308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8" y="7"/>
                      </a:moveTo>
                      <a:lnTo>
                        <a:pt x="8" y="14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5" y="7"/>
                      </a:lnTo>
                      <a:lnTo>
                        <a:pt x="26" y="7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15" y="4"/>
                      </a:lnTo>
                      <a:lnTo>
                        <a:pt x="11" y="4"/>
                      </a:ln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0" y="14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9320" y="6375240"/>
                  <a:ext cx="7200" cy="20520"/>
                </a:xfrm>
                <a:custGeom>
                  <a:avLst/>
                  <a:gdLst/>
                  <a:ahLst/>
                  <a:rect l="l" t="t" r="r" b="b"/>
                  <a:pathLst>
                    <a:path w="33" h="69">
                      <a:moveTo>
                        <a:pt x="26" y="69"/>
                      </a:moveTo>
                      <a:lnTo>
                        <a:pt x="29" y="65"/>
                      </a:lnTo>
                      <a:lnTo>
                        <a:pt x="33" y="58"/>
                      </a:lnTo>
                      <a:lnTo>
                        <a:pt x="33" y="40"/>
                      </a:lnTo>
                      <a:lnTo>
                        <a:pt x="29" y="29"/>
                      </a:lnTo>
                      <a:lnTo>
                        <a:pt x="22" y="22"/>
                      </a:lnTo>
                      <a:lnTo>
                        <a:pt x="18" y="15"/>
                      </a:lnTo>
                      <a:lnTo>
                        <a:pt x="15" y="7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18" y="25"/>
                      </a:lnTo>
                      <a:lnTo>
                        <a:pt x="22" y="33"/>
                      </a:lnTo>
                      <a:lnTo>
                        <a:pt x="26" y="40"/>
                      </a:lnTo>
                      <a:lnTo>
                        <a:pt x="26" y="54"/>
                      </a:lnTo>
                      <a:lnTo>
                        <a:pt x="22" y="61"/>
                      </a:lnTo>
                      <a:lnTo>
                        <a:pt x="26" y="61"/>
                      </a:lnTo>
                      <a:lnTo>
                        <a:pt x="26" y="69"/>
                      </a:lnTo>
                      <a:lnTo>
                        <a:pt x="29" y="65"/>
                      </a:lnTo>
                      <a:lnTo>
                        <a:pt x="26" y="6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5360" y="639324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8" y="22"/>
                      </a:moveTo>
                      <a:lnTo>
                        <a:pt x="8" y="26"/>
                      </a:lnTo>
                      <a:lnTo>
                        <a:pt x="26" y="8"/>
                      </a:lnTo>
                      <a:lnTo>
                        <a:pt x="44" y="8"/>
                      </a:lnTo>
                      <a:lnTo>
                        <a:pt x="44" y="0"/>
                      </a:lnTo>
                      <a:lnTo>
                        <a:pt x="26" y="0"/>
                      </a:lnTo>
                      <a:lnTo>
                        <a:pt x="18" y="4"/>
                      </a:lnTo>
                      <a:lnTo>
                        <a:pt x="15" y="8"/>
                      </a:lnTo>
                      <a:lnTo>
                        <a:pt x="8" y="11"/>
                      </a:lnTo>
                      <a:lnTo>
                        <a:pt x="4" y="18"/>
                      </a:lnTo>
                      <a:lnTo>
                        <a:pt x="0" y="22"/>
                      </a:lnTo>
                      <a:lnTo>
                        <a:pt x="8" y="2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3840" y="6399720"/>
                  <a:ext cx="12960" cy="25560"/>
                </a:xfrm>
                <a:custGeom>
                  <a:avLst/>
                  <a:gdLst/>
                  <a:ahLst/>
                  <a:rect l="l" t="t" r="r" b="b"/>
                  <a:pathLst>
                    <a:path w="58" h="87">
                      <a:moveTo>
                        <a:pt x="4" y="87"/>
                      </a:moveTo>
                      <a:lnTo>
                        <a:pt x="14" y="79"/>
                      </a:lnTo>
                      <a:lnTo>
                        <a:pt x="22" y="69"/>
                      </a:lnTo>
                      <a:lnTo>
                        <a:pt x="40" y="51"/>
                      </a:lnTo>
                      <a:lnTo>
                        <a:pt x="47" y="40"/>
                      </a:lnTo>
                      <a:lnTo>
                        <a:pt x="50" y="29"/>
                      </a:lnTo>
                      <a:lnTo>
                        <a:pt x="54" y="14"/>
                      </a:lnTo>
                      <a:lnTo>
                        <a:pt x="58" y="0"/>
                      </a:lnTo>
                      <a:lnTo>
                        <a:pt x="50" y="0"/>
                      </a:lnTo>
                      <a:lnTo>
                        <a:pt x="47" y="14"/>
                      </a:lnTo>
                      <a:lnTo>
                        <a:pt x="43" y="25"/>
                      </a:lnTo>
                      <a:lnTo>
                        <a:pt x="40" y="36"/>
                      </a:lnTo>
                      <a:lnTo>
                        <a:pt x="32" y="47"/>
                      </a:lnTo>
                      <a:lnTo>
                        <a:pt x="25" y="54"/>
                      </a:lnTo>
                      <a:lnTo>
                        <a:pt x="18" y="65"/>
                      </a:lnTo>
                      <a:lnTo>
                        <a:pt x="0" y="83"/>
                      </a:lnTo>
                      <a:lnTo>
                        <a:pt x="4" y="8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02760" y="6424560"/>
                  <a:ext cx="2160" cy="86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25"/>
                      </a:moveTo>
                      <a:lnTo>
                        <a:pt x="8" y="25"/>
                      </a:lnTo>
                      <a:lnTo>
                        <a:pt x="8" y="4"/>
                      </a:lnTo>
                      <a:lnTo>
                        <a:pt x="4" y="0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4" y="29"/>
                      </a:lnTo>
                      <a:lnTo>
                        <a:pt x="11" y="25"/>
                      </a:lnTo>
                      <a:lnTo>
                        <a:pt x="8" y="25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03840" y="643212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32" h="36">
                      <a:moveTo>
                        <a:pt x="32" y="36"/>
                      </a:moveTo>
                      <a:lnTo>
                        <a:pt x="32" y="29"/>
                      </a:lnTo>
                      <a:lnTo>
                        <a:pt x="29" y="25"/>
                      </a:lnTo>
                      <a:lnTo>
                        <a:pt x="25" y="18"/>
                      </a:lnTo>
                      <a:lnTo>
                        <a:pt x="18" y="11"/>
                      </a:lnTo>
                      <a:lnTo>
                        <a:pt x="11" y="7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4" y="11"/>
                      </a:lnTo>
                      <a:lnTo>
                        <a:pt x="11" y="18"/>
                      </a:lnTo>
                      <a:lnTo>
                        <a:pt x="18" y="22"/>
                      </a:lnTo>
                      <a:lnTo>
                        <a:pt x="25" y="29"/>
                      </a:lnTo>
                      <a:lnTo>
                        <a:pt x="25" y="36"/>
                      </a:lnTo>
                      <a:lnTo>
                        <a:pt x="25" y="33"/>
                      </a:lnTo>
                      <a:lnTo>
                        <a:pt x="32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97360" y="6441840"/>
                  <a:ext cx="13680" cy="16920"/>
                </a:xfrm>
                <a:custGeom>
                  <a:avLst/>
                  <a:gdLst/>
                  <a:ahLst/>
                  <a:rect l="l" t="t" r="r" b="b"/>
                  <a:pathLst>
                    <a:path w="61" h="57">
                      <a:moveTo>
                        <a:pt x="7" y="57"/>
                      </a:moveTo>
                      <a:lnTo>
                        <a:pt x="11" y="46"/>
                      </a:lnTo>
                      <a:lnTo>
                        <a:pt x="14" y="39"/>
                      </a:lnTo>
                      <a:lnTo>
                        <a:pt x="22" y="36"/>
                      </a:lnTo>
                      <a:lnTo>
                        <a:pt x="29" y="28"/>
                      </a:lnTo>
                      <a:lnTo>
                        <a:pt x="36" y="25"/>
                      </a:lnTo>
                      <a:lnTo>
                        <a:pt x="47" y="18"/>
                      </a:lnTo>
                      <a:lnTo>
                        <a:pt x="54" y="14"/>
                      </a:lnTo>
                      <a:lnTo>
                        <a:pt x="61" y="3"/>
                      </a:lnTo>
                      <a:lnTo>
                        <a:pt x="54" y="0"/>
                      </a:lnTo>
                      <a:lnTo>
                        <a:pt x="51" y="7"/>
                      </a:lnTo>
                      <a:lnTo>
                        <a:pt x="43" y="14"/>
                      </a:lnTo>
                      <a:lnTo>
                        <a:pt x="33" y="18"/>
                      </a:lnTo>
                      <a:lnTo>
                        <a:pt x="25" y="25"/>
                      </a:lnTo>
                      <a:lnTo>
                        <a:pt x="18" y="28"/>
                      </a:lnTo>
                      <a:lnTo>
                        <a:pt x="11" y="36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7" y="5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90520" y="6458040"/>
                  <a:ext cx="7920" cy="1908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4" y="65"/>
                      </a:moveTo>
                      <a:lnTo>
                        <a:pt x="15" y="61"/>
                      </a:lnTo>
                      <a:lnTo>
                        <a:pt x="22" y="54"/>
                      </a:lnTo>
                      <a:lnTo>
                        <a:pt x="25" y="47"/>
                      </a:lnTo>
                      <a:lnTo>
                        <a:pt x="29" y="39"/>
                      </a:lnTo>
                      <a:lnTo>
                        <a:pt x="33" y="29"/>
                      </a:lnTo>
                      <a:lnTo>
                        <a:pt x="33" y="21"/>
                      </a:lnTo>
                      <a:lnTo>
                        <a:pt x="36" y="11"/>
                      </a:lnTo>
                      <a:lnTo>
                        <a:pt x="36" y="3"/>
                      </a:lnTo>
                      <a:lnTo>
                        <a:pt x="29" y="0"/>
                      </a:lnTo>
                      <a:lnTo>
                        <a:pt x="29" y="11"/>
                      </a:lnTo>
                      <a:lnTo>
                        <a:pt x="25" y="18"/>
                      </a:lnTo>
                      <a:lnTo>
                        <a:pt x="25" y="29"/>
                      </a:lnTo>
                      <a:lnTo>
                        <a:pt x="22" y="36"/>
                      </a:lnTo>
                      <a:lnTo>
                        <a:pt x="18" y="43"/>
                      </a:lnTo>
                      <a:lnTo>
                        <a:pt x="15" y="50"/>
                      </a:lnTo>
                      <a:lnTo>
                        <a:pt x="11" y="54"/>
                      </a:lnTo>
                      <a:lnTo>
                        <a:pt x="0" y="57"/>
                      </a:lnTo>
                      <a:lnTo>
                        <a:pt x="4" y="57"/>
                      </a:lnTo>
                      <a:lnTo>
                        <a:pt x="4" y="6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87280" y="647496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8"/>
                      </a:moveTo>
                      <a:lnTo>
                        <a:pt x="18" y="8"/>
                      </a:lnTo>
                      <a:lnTo>
                        <a:pt x="18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77560" y="6462000"/>
                  <a:ext cx="10440" cy="15120"/>
                </a:xfrm>
                <a:custGeom>
                  <a:avLst/>
                  <a:gdLst/>
                  <a:ahLst/>
                  <a:rect l="l" t="t" r="r" b="b"/>
                  <a:pathLst>
                    <a:path w="46" h="51">
                      <a:moveTo>
                        <a:pt x="0" y="7"/>
                      </a:moveTo>
                      <a:lnTo>
                        <a:pt x="7" y="11"/>
                      </a:lnTo>
                      <a:lnTo>
                        <a:pt x="28" y="33"/>
                      </a:lnTo>
                      <a:lnTo>
                        <a:pt x="32" y="40"/>
                      </a:lnTo>
                      <a:lnTo>
                        <a:pt x="43" y="51"/>
                      </a:lnTo>
                      <a:lnTo>
                        <a:pt x="46" y="47"/>
                      </a:lnTo>
                      <a:lnTo>
                        <a:pt x="43" y="40"/>
                      </a:lnTo>
                      <a:lnTo>
                        <a:pt x="32" y="29"/>
                      </a:lnTo>
                      <a:lnTo>
                        <a:pt x="28" y="22"/>
                      </a:lnTo>
                      <a:lnTo>
                        <a:pt x="21" y="18"/>
                      </a:lnTo>
                      <a:lnTo>
                        <a:pt x="18" y="11"/>
                      </a:lnTo>
                      <a:lnTo>
                        <a:pt x="10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71800" y="6462000"/>
                  <a:ext cx="5760" cy="720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0" y="25"/>
                      </a:moveTo>
                      <a:lnTo>
                        <a:pt x="15" y="11"/>
                      </a:lnTo>
                      <a:lnTo>
                        <a:pt x="18" y="11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8" y="4"/>
                      </a:lnTo>
                      <a:lnTo>
                        <a:pt x="15" y="4"/>
                      </a:lnTo>
                      <a:lnTo>
                        <a:pt x="0" y="18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61000" y="64674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" y="29"/>
                      </a:moveTo>
                      <a:lnTo>
                        <a:pt x="19" y="15"/>
                      </a:lnTo>
                      <a:lnTo>
                        <a:pt x="26" y="11"/>
                      </a:lnTo>
                      <a:lnTo>
                        <a:pt x="29" y="7"/>
                      </a:lnTo>
                      <a:lnTo>
                        <a:pt x="47" y="7"/>
                      </a:lnTo>
                      <a:lnTo>
                        <a:pt x="47" y="0"/>
                      </a:lnTo>
                      <a:lnTo>
                        <a:pt x="33" y="0"/>
                      </a:lnTo>
                      <a:lnTo>
                        <a:pt x="26" y="4"/>
                      </a:lnTo>
                      <a:lnTo>
                        <a:pt x="22" y="7"/>
                      </a:lnTo>
                      <a:lnTo>
                        <a:pt x="15" y="7"/>
                      </a:ln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8760" y="647172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8" h="18">
                      <a:moveTo>
                        <a:pt x="4" y="18"/>
                      </a:moveTo>
                      <a:lnTo>
                        <a:pt x="8" y="18"/>
                      </a:lnTo>
                      <a:lnTo>
                        <a:pt x="15" y="10"/>
                      </a:lnTo>
                      <a:lnTo>
                        <a:pt x="22" y="7"/>
                      </a:lnTo>
                      <a:lnTo>
                        <a:pt x="29" y="10"/>
                      </a:lnTo>
                      <a:lnTo>
                        <a:pt x="44" y="10"/>
                      </a:lnTo>
                      <a:lnTo>
                        <a:pt x="47" y="14"/>
                      </a:lnTo>
                      <a:lnTo>
                        <a:pt x="58" y="14"/>
                      </a:lnTo>
                      <a:lnTo>
                        <a:pt x="58" y="7"/>
                      </a:lnTo>
                      <a:lnTo>
                        <a:pt x="51" y="7"/>
                      </a:lnTo>
                      <a:lnTo>
                        <a:pt x="44" y="3"/>
                      </a:lnTo>
                      <a:lnTo>
                        <a:pt x="36" y="3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5" y="3"/>
                      </a:lnTo>
                      <a:lnTo>
                        <a:pt x="8" y="7"/>
                      </a:lnTo>
                      <a:lnTo>
                        <a:pt x="0" y="14"/>
                      </a:lnTo>
                      <a:lnTo>
                        <a:pt x="4" y="10"/>
                      </a:lnTo>
                      <a:lnTo>
                        <a:pt x="4" y="18"/>
                      </a:lnTo>
                      <a:lnTo>
                        <a:pt x="8" y="18"/>
                      </a:lnTo>
                      <a:lnTo>
                        <a:pt x="4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41200" y="646668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7" y="18"/>
                      </a:lnTo>
                      <a:lnTo>
                        <a:pt x="11" y="25"/>
                      </a:lnTo>
                      <a:lnTo>
                        <a:pt x="14" y="32"/>
                      </a:lnTo>
                      <a:lnTo>
                        <a:pt x="22" y="36"/>
                      </a:lnTo>
                      <a:lnTo>
                        <a:pt x="36" y="36"/>
                      </a:lnTo>
                      <a:lnTo>
                        <a:pt x="36" y="28"/>
                      </a:lnTo>
                      <a:lnTo>
                        <a:pt x="25" y="28"/>
                      </a:lnTo>
                      <a:lnTo>
                        <a:pt x="18" y="21"/>
                      </a:lnTo>
                      <a:lnTo>
                        <a:pt x="14" y="14"/>
                      </a:lnTo>
                      <a:lnTo>
                        <a:pt x="11" y="10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34000" y="64587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" y="15"/>
                      </a:lnTo>
                      <a:lnTo>
                        <a:pt x="7" y="18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1" y="26"/>
                      </a:lnTo>
                      <a:lnTo>
                        <a:pt x="28" y="29"/>
                      </a:lnTo>
                      <a:lnTo>
                        <a:pt x="32" y="29"/>
                      </a:lnTo>
                      <a:lnTo>
                        <a:pt x="36" y="26"/>
                      </a:lnTo>
                      <a:lnTo>
                        <a:pt x="32" y="22"/>
                      </a:lnTo>
                      <a:lnTo>
                        <a:pt x="25" y="18"/>
                      </a:lnTo>
                      <a:lnTo>
                        <a:pt x="21" y="18"/>
                      </a:lnTo>
                      <a:lnTo>
                        <a:pt x="18" y="15"/>
                      </a:lnTo>
                      <a:lnTo>
                        <a:pt x="10" y="11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30760" y="6432120"/>
                  <a:ext cx="5400" cy="26640"/>
                </a:xfrm>
                <a:custGeom>
                  <a:avLst/>
                  <a:gdLst/>
                  <a:ahLst/>
                  <a:rect l="l" t="t" r="r" b="b"/>
                  <a:pathLst>
                    <a:path w="25" h="90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1"/>
                      </a:lnTo>
                      <a:lnTo>
                        <a:pt x="11" y="22"/>
                      </a:lnTo>
                      <a:lnTo>
                        <a:pt x="15" y="33"/>
                      </a:lnTo>
                      <a:lnTo>
                        <a:pt x="15" y="90"/>
                      </a:lnTo>
                      <a:lnTo>
                        <a:pt x="22" y="90"/>
                      </a:lnTo>
                      <a:lnTo>
                        <a:pt x="22" y="79"/>
                      </a:lnTo>
                      <a:lnTo>
                        <a:pt x="25" y="69"/>
                      </a:lnTo>
                      <a:lnTo>
                        <a:pt x="25" y="54"/>
                      </a:lnTo>
                      <a:lnTo>
                        <a:pt x="22" y="43"/>
                      </a:lnTo>
                      <a:lnTo>
                        <a:pt x="22" y="33"/>
                      </a:lnTo>
                      <a:lnTo>
                        <a:pt x="18" y="22"/>
                      </a:lnTo>
                      <a:lnTo>
                        <a:pt x="15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30760" y="642240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29" h="32">
                      <a:moveTo>
                        <a:pt x="25" y="0"/>
                      </a:move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7" y="29"/>
                      </a:lnTo>
                      <a:lnTo>
                        <a:pt x="11" y="25"/>
                      </a:lnTo>
                      <a:lnTo>
                        <a:pt x="11" y="21"/>
                      </a:lnTo>
                      <a:lnTo>
                        <a:pt x="15" y="18"/>
                      </a:lnTo>
                      <a:lnTo>
                        <a:pt x="22" y="14"/>
                      </a:lnTo>
                      <a:lnTo>
                        <a:pt x="25" y="11"/>
                      </a:lnTo>
                      <a:lnTo>
                        <a:pt x="25" y="7"/>
                      </a:lnTo>
                      <a:lnTo>
                        <a:pt x="29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5800" y="6406560"/>
                  <a:ext cx="5400" cy="15840"/>
                </a:xfrm>
                <a:custGeom>
                  <a:avLst/>
                  <a:gdLst/>
                  <a:ahLst/>
                  <a:rect l="l" t="t" r="r" b="b"/>
                  <a:pathLst>
                    <a:path w="25" h="54">
                      <a:moveTo>
                        <a:pt x="11" y="7"/>
                      </a:move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5"/>
                      </a:lnTo>
                      <a:lnTo>
                        <a:pt x="3" y="36"/>
                      </a:lnTo>
                      <a:lnTo>
                        <a:pt x="0" y="47"/>
                      </a:lnTo>
                      <a:lnTo>
                        <a:pt x="3" y="54"/>
                      </a:lnTo>
                      <a:lnTo>
                        <a:pt x="7" y="54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1" y="21"/>
                      </a:lnTo>
                      <a:lnTo>
                        <a:pt x="25" y="14"/>
                      </a:lnTo>
                      <a:lnTo>
                        <a:pt x="21" y="7"/>
                      </a:lnTo>
                      <a:lnTo>
                        <a:pt x="11" y="0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23200" y="6406560"/>
                  <a:ext cx="14760" cy="3960"/>
                </a:xfrm>
                <a:custGeom>
                  <a:avLst/>
                  <a:gdLst/>
                  <a:ahLst/>
                  <a:rect l="l" t="t" r="r" b="b"/>
                  <a:pathLst>
                    <a:path w="65" h="14">
                      <a:moveTo>
                        <a:pt x="0" y="7"/>
                      </a:moveTo>
                      <a:lnTo>
                        <a:pt x="7" y="10"/>
                      </a:lnTo>
                      <a:lnTo>
                        <a:pt x="14" y="14"/>
                      </a:lnTo>
                      <a:lnTo>
                        <a:pt x="32" y="14"/>
                      </a:lnTo>
                      <a:lnTo>
                        <a:pt x="39" y="10"/>
                      </a:lnTo>
                      <a:lnTo>
                        <a:pt x="57" y="10"/>
                      </a:lnTo>
                      <a:lnTo>
                        <a:pt x="65" y="7"/>
                      </a:lnTo>
                      <a:lnTo>
                        <a:pt x="65" y="0"/>
                      </a:lnTo>
                      <a:lnTo>
                        <a:pt x="57" y="3"/>
                      </a:lnTo>
                      <a:lnTo>
                        <a:pt x="39" y="3"/>
                      </a:lnTo>
                      <a:lnTo>
                        <a:pt x="32" y="7"/>
                      </a:lnTo>
                      <a:lnTo>
                        <a:pt x="18" y="7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10960" y="6406560"/>
                  <a:ext cx="12240" cy="3960"/>
                </a:xfrm>
                <a:custGeom>
                  <a:avLst/>
                  <a:gdLst/>
                  <a:ahLst/>
                  <a:rect l="l" t="t" r="r" b="b"/>
                  <a:pathLst>
                    <a:path w="54" h="14">
                      <a:moveTo>
                        <a:pt x="0" y="7"/>
                      </a:moveTo>
                      <a:lnTo>
                        <a:pt x="7" y="10"/>
                      </a:lnTo>
                      <a:lnTo>
                        <a:pt x="14" y="14"/>
                      </a:lnTo>
                      <a:lnTo>
                        <a:pt x="28" y="14"/>
                      </a:lnTo>
                      <a:lnTo>
                        <a:pt x="36" y="10"/>
                      </a:lnTo>
                      <a:lnTo>
                        <a:pt x="43" y="10"/>
                      </a:lnTo>
                      <a:lnTo>
                        <a:pt x="50" y="7"/>
                      </a:lnTo>
                      <a:lnTo>
                        <a:pt x="54" y="7"/>
                      </a:lnTo>
                      <a:lnTo>
                        <a:pt x="54" y="0"/>
                      </a:lnTo>
                      <a:lnTo>
                        <a:pt x="46" y="0"/>
                      </a:lnTo>
                      <a:lnTo>
                        <a:pt x="39" y="3"/>
                      </a:lnTo>
                      <a:lnTo>
                        <a:pt x="32" y="3"/>
                      </a:lnTo>
                      <a:lnTo>
                        <a:pt x="28" y="7"/>
                      </a:lnTo>
                      <a:lnTo>
                        <a:pt x="14" y="7"/>
                      </a:lnTo>
                      <a:lnTo>
                        <a:pt x="1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07720" y="640116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4" y="14"/>
                      </a:lnTo>
                      <a:lnTo>
                        <a:pt x="7" y="21"/>
                      </a:lnTo>
                      <a:lnTo>
                        <a:pt x="15" y="25"/>
                      </a:lnTo>
                      <a:lnTo>
                        <a:pt x="18" y="18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07720" y="6387840"/>
                  <a:ext cx="4680" cy="1296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1" y="8"/>
                      </a:moveTo>
                      <a:lnTo>
                        <a:pt x="15" y="11"/>
                      </a:lnTo>
                      <a:lnTo>
                        <a:pt x="15" y="15"/>
                      </a:lnTo>
                      <a:lnTo>
                        <a:pt x="7" y="22"/>
                      </a:lnTo>
                      <a:lnTo>
                        <a:pt x="7" y="26"/>
                      </a:lnTo>
                      <a:lnTo>
                        <a:pt x="4" y="33"/>
                      </a:lnTo>
                      <a:lnTo>
                        <a:pt x="0" y="36"/>
                      </a:lnTo>
                      <a:lnTo>
                        <a:pt x="0" y="44"/>
                      </a:lnTo>
                      <a:lnTo>
                        <a:pt x="7" y="44"/>
                      </a:lnTo>
                      <a:lnTo>
                        <a:pt x="7" y="36"/>
                      </a:lnTo>
                      <a:lnTo>
                        <a:pt x="11" y="29"/>
                      </a:lnTo>
                      <a:lnTo>
                        <a:pt x="15" y="26"/>
                      </a:lnTo>
                      <a:lnTo>
                        <a:pt x="18" y="18"/>
                      </a:lnTo>
                      <a:lnTo>
                        <a:pt x="22" y="15"/>
                      </a:lnTo>
                      <a:lnTo>
                        <a:pt x="22" y="8"/>
                      </a:lnTo>
                      <a:lnTo>
                        <a:pt x="15" y="0"/>
                      </a:lnTo>
                      <a:lnTo>
                        <a:pt x="11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03400" y="6370920"/>
                  <a:ext cx="7200" cy="19080"/>
                </a:xfrm>
                <a:custGeom>
                  <a:avLst/>
                  <a:gdLst/>
                  <a:ahLst/>
                  <a:rect l="l" t="t" r="r" b="b"/>
                  <a:pathLst>
                    <a:path w="33" h="65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4" y="36"/>
                      </a:lnTo>
                      <a:lnTo>
                        <a:pt x="7" y="47"/>
                      </a:lnTo>
                      <a:lnTo>
                        <a:pt x="11" y="54"/>
                      </a:lnTo>
                      <a:lnTo>
                        <a:pt x="18" y="61"/>
                      </a:lnTo>
                      <a:lnTo>
                        <a:pt x="29" y="65"/>
                      </a:lnTo>
                      <a:lnTo>
                        <a:pt x="33" y="57"/>
                      </a:lnTo>
                      <a:lnTo>
                        <a:pt x="22" y="54"/>
                      </a:lnTo>
                      <a:lnTo>
                        <a:pt x="18" y="50"/>
                      </a:lnTo>
                      <a:lnTo>
                        <a:pt x="15" y="43"/>
                      </a:lnTo>
                      <a:lnTo>
                        <a:pt x="11" y="36"/>
                      </a:lnTo>
                      <a:lnTo>
                        <a:pt x="7" y="25"/>
                      </a:lnTo>
                      <a:lnTo>
                        <a:pt x="7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03040" y="636228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25" y="0"/>
                      </a:moveTo>
                      <a:lnTo>
                        <a:pt x="21" y="3"/>
                      </a:lnTo>
                      <a:lnTo>
                        <a:pt x="18" y="3"/>
                      </a:lnTo>
                      <a:lnTo>
                        <a:pt x="10" y="11"/>
                      </a:lnTo>
                      <a:lnTo>
                        <a:pt x="3" y="14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3" y="32"/>
                      </a:lnTo>
                      <a:lnTo>
                        <a:pt x="10" y="29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10" y="18"/>
                      </a:lnTo>
                      <a:lnTo>
                        <a:pt x="18" y="14"/>
                      </a:lnTo>
                      <a:lnTo>
                        <a:pt x="21" y="11"/>
                      </a:lnTo>
                      <a:lnTo>
                        <a:pt x="28" y="7"/>
                      </a:lnTo>
                      <a:lnTo>
                        <a:pt x="32" y="3"/>
                      </a:lnTo>
                      <a:lnTo>
                        <a:pt x="28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8440" y="6344280"/>
                  <a:ext cx="4680" cy="18720"/>
                </a:xfrm>
                <a:custGeom>
                  <a:avLst/>
                  <a:gdLst/>
                  <a:ahLst/>
                  <a:rect l="l" t="t" r="r" b="b"/>
                  <a:pathLst>
                    <a:path w="21" h="64">
                      <a:moveTo>
                        <a:pt x="14" y="0"/>
                      </a:moveTo>
                      <a:lnTo>
                        <a:pt x="14" y="18"/>
                      </a:lnTo>
                      <a:lnTo>
                        <a:pt x="11" y="32"/>
                      </a:lnTo>
                      <a:lnTo>
                        <a:pt x="7" y="46"/>
                      </a:lnTo>
                      <a:lnTo>
                        <a:pt x="0" y="61"/>
                      </a:lnTo>
                      <a:lnTo>
                        <a:pt x="3" y="64"/>
                      </a:lnTo>
                      <a:lnTo>
                        <a:pt x="14" y="50"/>
                      </a:lnTo>
                      <a:lnTo>
                        <a:pt x="18" y="36"/>
                      </a:lnTo>
                      <a:lnTo>
                        <a:pt x="21" y="18"/>
                      </a:lnTo>
                      <a:lnTo>
                        <a:pt x="21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11680" y="632592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43" h="65">
                      <a:moveTo>
                        <a:pt x="36" y="4"/>
                      </a:moveTo>
                      <a:lnTo>
                        <a:pt x="36" y="11"/>
                      </a:lnTo>
                      <a:lnTo>
                        <a:pt x="33" y="18"/>
                      </a:lnTo>
                      <a:lnTo>
                        <a:pt x="29" y="26"/>
                      </a:lnTo>
                      <a:lnTo>
                        <a:pt x="25" y="33"/>
                      </a:lnTo>
                      <a:lnTo>
                        <a:pt x="11" y="47"/>
                      </a:lnTo>
                      <a:lnTo>
                        <a:pt x="7" y="54"/>
                      </a:lnTo>
                      <a:lnTo>
                        <a:pt x="0" y="62"/>
                      </a:lnTo>
                      <a:lnTo>
                        <a:pt x="7" y="65"/>
                      </a:lnTo>
                      <a:lnTo>
                        <a:pt x="11" y="58"/>
                      </a:lnTo>
                      <a:lnTo>
                        <a:pt x="25" y="44"/>
                      </a:lnTo>
                      <a:lnTo>
                        <a:pt x="29" y="36"/>
                      </a:lnTo>
                      <a:lnTo>
                        <a:pt x="36" y="29"/>
                      </a:lnTo>
                      <a:lnTo>
                        <a:pt x="40" y="22"/>
                      </a:lnTo>
                      <a:lnTo>
                        <a:pt x="43" y="11"/>
                      </a:lnTo>
                      <a:lnTo>
                        <a:pt x="43" y="0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36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11680" y="630756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43" h="6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" y="22"/>
                      </a:lnTo>
                      <a:lnTo>
                        <a:pt x="18" y="36"/>
                      </a:lnTo>
                      <a:lnTo>
                        <a:pt x="25" y="40"/>
                      </a:lnTo>
                      <a:lnTo>
                        <a:pt x="29" y="47"/>
                      </a:lnTo>
                      <a:lnTo>
                        <a:pt x="33" y="54"/>
                      </a:lnTo>
                      <a:lnTo>
                        <a:pt x="36" y="65"/>
                      </a:lnTo>
                      <a:lnTo>
                        <a:pt x="43" y="65"/>
                      </a:lnTo>
                      <a:lnTo>
                        <a:pt x="40" y="50"/>
                      </a:lnTo>
                      <a:lnTo>
                        <a:pt x="36" y="43"/>
                      </a:lnTo>
                      <a:lnTo>
                        <a:pt x="11" y="18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0240" y="6293520"/>
                  <a:ext cx="3960" cy="15120"/>
                </a:xfrm>
                <a:custGeom>
                  <a:avLst/>
                  <a:gdLst/>
                  <a:ahLst/>
                  <a:rect l="l" t="t" r="r" b="b"/>
                  <a:pathLst>
                    <a:path w="18" h="51">
                      <a:moveTo>
                        <a:pt x="4" y="4"/>
                      </a:moveTo>
                      <a:lnTo>
                        <a:pt x="7" y="15"/>
                      </a:lnTo>
                      <a:lnTo>
                        <a:pt x="11" y="25"/>
                      </a:lnTo>
                      <a:lnTo>
                        <a:pt x="11" y="36"/>
                      </a:lnTo>
                      <a:lnTo>
                        <a:pt x="7" y="47"/>
                      </a:lnTo>
                      <a:lnTo>
                        <a:pt x="14" y="51"/>
                      </a:lnTo>
                      <a:lnTo>
                        <a:pt x="18" y="36"/>
                      </a:lnTo>
                      <a:lnTo>
                        <a:pt x="18" y="25"/>
                      </a:lnTo>
                      <a:lnTo>
                        <a:pt x="14" y="11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10960" y="6282720"/>
                  <a:ext cx="1440" cy="11880"/>
                </a:xfrm>
                <a:custGeom>
                  <a:avLst/>
                  <a:gdLst/>
                  <a:ahLst/>
                  <a:rect l="l" t="t" r="r" b="b"/>
                  <a:pathLst>
                    <a:path w="7" h="4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40"/>
                      </a:lnTo>
                      <a:lnTo>
                        <a:pt x="7" y="40"/>
                      </a:lnTo>
                      <a:lnTo>
                        <a:pt x="7" y="4"/>
                      </a:lnTo>
                      <a:lnTo>
                        <a:pt x="3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11680" y="6282720"/>
                  <a:ext cx="10440" cy="5040"/>
                </a:xfrm>
                <a:custGeom>
                  <a:avLst/>
                  <a:gdLst/>
                  <a:ahLst/>
                  <a:rect l="l" t="t" r="r" b="b"/>
                  <a:pathLst>
                    <a:path w="47" h="18">
                      <a:moveTo>
                        <a:pt x="40" y="7"/>
                      </a:moveTo>
                      <a:lnTo>
                        <a:pt x="36" y="11"/>
                      </a:lnTo>
                      <a:lnTo>
                        <a:pt x="33" y="11"/>
                      </a:lnTo>
                      <a:lnTo>
                        <a:pt x="25" y="7"/>
                      </a:lnTo>
                      <a:lnTo>
                        <a:pt x="22" y="7"/>
                      </a:lnTo>
                      <a:lnTo>
                        <a:pt x="18" y="4"/>
                      </a:lnTo>
                      <a:lnTo>
                        <a:pt x="11" y="4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8" y="15"/>
                      </a:lnTo>
                      <a:lnTo>
                        <a:pt x="25" y="15"/>
                      </a:lnTo>
                      <a:lnTo>
                        <a:pt x="33" y="18"/>
                      </a:lnTo>
                      <a:lnTo>
                        <a:pt x="40" y="15"/>
                      </a:lnTo>
                      <a:lnTo>
                        <a:pt x="43" y="15"/>
                      </a:lnTo>
                      <a:lnTo>
                        <a:pt x="47" y="11"/>
                      </a:lnTo>
                      <a:lnTo>
                        <a:pt x="43" y="15"/>
                      </a:lnTo>
                      <a:lnTo>
                        <a:pt x="47" y="11"/>
                      </a:ln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0680" y="6282000"/>
                  <a:ext cx="4680" cy="3960"/>
                </a:xfrm>
                <a:custGeom>
                  <a:avLst/>
                  <a:gdLst/>
                  <a:ahLst/>
                  <a:rect l="l" t="t" r="r" b="b"/>
                  <a:pathLst>
                    <a:path w="22" h="14">
                      <a:moveTo>
                        <a:pt x="22" y="0"/>
                      </a:moveTo>
                      <a:lnTo>
                        <a:pt x="14" y="0"/>
                      </a:lnTo>
                      <a:lnTo>
                        <a:pt x="7" y="3"/>
                      </a:lnTo>
                      <a:lnTo>
                        <a:pt x="0" y="10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22" y="7"/>
                      </a:lnTo>
                      <a:lnTo>
                        <a:pt x="18" y="7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5000" y="6276240"/>
                  <a:ext cx="21240" cy="10800"/>
                </a:xfrm>
                <a:custGeom>
                  <a:avLst/>
                  <a:gdLst/>
                  <a:ahLst/>
                  <a:rect l="l" t="t" r="r" b="b"/>
                  <a:pathLst>
                    <a:path w="94" h="37">
                      <a:moveTo>
                        <a:pt x="94" y="0"/>
                      </a:moveTo>
                      <a:lnTo>
                        <a:pt x="94" y="4"/>
                      </a:lnTo>
                      <a:lnTo>
                        <a:pt x="86" y="4"/>
                      </a:lnTo>
                      <a:lnTo>
                        <a:pt x="79" y="8"/>
                      </a:lnTo>
                      <a:lnTo>
                        <a:pt x="76" y="8"/>
                      </a:lnTo>
                      <a:lnTo>
                        <a:pt x="68" y="11"/>
                      </a:lnTo>
                      <a:lnTo>
                        <a:pt x="61" y="15"/>
                      </a:lnTo>
                      <a:lnTo>
                        <a:pt x="58" y="15"/>
                      </a:lnTo>
                      <a:lnTo>
                        <a:pt x="50" y="19"/>
                      </a:lnTo>
                      <a:lnTo>
                        <a:pt x="47" y="22"/>
                      </a:lnTo>
                      <a:lnTo>
                        <a:pt x="40" y="26"/>
                      </a:lnTo>
                      <a:lnTo>
                        <a:pt x="14" y="26"/>
                      </a:lnTo>
                      <a:lnTo>
                        <a:pt x="11" y="22"/>
                      </a:lnTo>
                      <a:lnTo>
                        <a:pt x="4" y="19"/>
                      </a:lnTo>
                      <a:lnTo>
                        <a:pt x="0" y="26"/>
                      </a:lnTo>
                      <a:lnTo>
                        <a:pt x="7" y="29"/>
                      </a:lnTo>
                      <a:lnTo>
                        <a:pt x="11" y="33"/>
                      </a:lnTo>
                      <a:lnTo>
                        <a:pt x="18" y="33"/>
                      </a:lnTo>
                      <a:lnTo>
                        <a:pt x="25" y="37"/>
                      </a:lnTo>
                      <a:lnTo>
                        <a:pt x="32" y="33"/>
                      </a:lnTo>
                      <a:lnTo>
                        <a:pt x="43" y="33"/>
                      </a:lnTo>
                      <a:lnTo>
                        <a:pt x="50" y="29"/>
                      </a:lnTo>
                      <a:lnTo>
                        <a:pt x="54" y="26"/>
                      </a:lnTo>
                      <a:lnTo>
                        <a:pt x="61" y="22"/>
                      </a:lnTo>
                      <a:lnTo>
                        <a:pt x="65" y="19"/>
                      </a:lnTo>
                      <a:lnTo>
                        <a:pt x="72" y="19"/>
                      </a:lnTo>
                      <a:lnTo>
                        <a:pt x="76" y="15"/>
                      </a:lnTo>
                      <a:lnTo>
                        <a:pt x="83" y="15"/>
                      </a:lnTo>
                      <a:lnTo>
                        <a:pt x="90" y="11"/>
                      </a:lnTo>
                      <a:lnTo>
                        <a:pt x="94" y="11"/>
                      </a:lnTo>
                      <a:lnTo>
                        <a:pt x="94" y="0"/>
                      </a:lnTo>
                      <a:lnTo>
                        <a:pt x="94" y="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46240" y="626364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86" y="4"/>
                      </a:moveTo>
                      <a:lnTo>
                        <a:pt x="86" y="0"/>
                      </a:lnTo>
                      <a:lnTo>
                        <a:pt x="75" y="7"/>
                      </a:lnTo>
                      <a:lnTo>
                        <a:pt x="64" y="15"/>
                      </a:lnTo>
                      <a:lnTo>
                        <a:pt x="54" y="22"/>
                      </a:lnTo>
                      <a:lnTo>
                        <a:pt x="46" y="29"/>
                      </a:lnTo>
                      <a:lnTo>
                        <a:pt x="36" y="36"/>
                      </a:lnTo>
                      <a:lnTo>
                        <a:pt x="21" y="40"/>
                      </a:lnTo>
                      <a:lnTo>
                        <a:pt x="10" y="43"/>
                      </a:lnTo>
                      <a:lnTo>
                        <a:pt x="0" y="43"/>
                      </a:lnTo>
                      <a:lnTo>
                        <a:pt x="0" y="54"/>
                      </a:lnTo>
                      <a:lnTo>
                        <a:pt x="14" y="51"/>
                      </a:lnTo>
                      <a:lnTo>
                        <a:pt x="25" y="47"/>
                      </a:lnTo>
                      <a:lnTo>
                        <a:pt x="36" y="40"/>
                      </a:lnTo>
                      <a:lnTo>
                        <a:pt x="50" y="36"/>
                      </a:lnTo>
                      <a:lnTo>
                        <a:pt x="57" y="25"/>
                      </a:lnTo>
                      <a:lnTo>
                        <a:pt x="72" y="18"/>
                      </a:lnTo>
                      <a:lnTo>
                        <a:pt x="79" y="11"/>
                      </a:lnTo>
                      <a:lnTo>
                        <a:pt x="90" y="7"/>
                      </a:lnTo>
                      <a:lnTo>
                        <a:pt x="93" y="4"/>
                      </a:lnTo>
                      <a:lnTo>
                        <a:pt x="90" y="7"/>
                      </a:lnTo>
                      <a:lnTo>
                        <a:pt x="93" y="4"/>
                      </a:lnTo>
                      <a:lnTo>
                        <a:pt x="86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63520" y="624852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18" h="54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9"/>
                      </a:lnTo>
                      <a:lnTo>
                        <a:pt x="4" y="36"/>
                      </a:lnTo>
                      <a:lnTo>
                        <a:pt x="8" y="39"/>
                      </a:lnTo>
                      <a:lnTo>
                        <a:pt x="11" y="47"/>
                      </a:lnTo>
                      <a:lnTo>
                        <a:pt x="11" y="54"/>
                      </a:lnTo>
                      <a:lnTo>
                        <a:pt x="18" y="54"/>
                      </a:lnTo>
                      <a:lnTo>
                        <a:pt x="18" y="47"/>
                      </a:lnTo>
                      <a:lnTo>
                        <a:pt x="15" y="39"/>
                      </a:lnTo>
                      <a:lnTo>
                        <a:pt x="11" y="32"/>
                      </a:lnTo>
                      <a:lnTo>
                        <a:pt x="11" y="25"/>
                      </a:lnTo>
                      <a:lnTo>
                        <a:pt x="8" y="21"/>
                      </a:lnTo>
                      <a:lnTo>
                        <a:pt x="8" y="14"/>
                      </a:lnTo>
                      <a:lnTo>
                        <a:pt x="15" y="7"/>
                      </a:lnTo>
                      <a:lnTo>
                        <a:pt x="11" y="7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66040" y="623988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29" h="36">
                      <a:moveTo>
                        <a:pt x="22" y="0"/>
                      </a:moveTo>
                      <a:lnTo>
                        <a:pt x="18" y="4"/>
                      </a:lnTo>
                      <a:lnTo>
                        <a:pt x="18" y="14"/>
                      </a:lnTo>
                      <a:lnTo>
                        <a:pt x="15" y="18"/>
                      </a:lnTo>
                      <a:lnTo>
                        <a:pt x="15" y="22"/>
                      </a:lnTo>
                      <a:lnTo>
                        <a:pt x="11" y="22"/>
                      </a:lnTo>
                      <a:lnTo>
                        <a:pt x="4" y="29"/>
                      </a:lnTo>
                      <a:lnTo>
                        <a:pt x="0" y="29"/>
                      </a:lnTo>
                      <a:lnTo>
                        <a:pt x="0" y="36"/>
                      </a:lnTo>
                      <a:lnTo>
                        <a:pt x="7" y="36"/>
                      </a:lnTo>
                      <a:lnTo>
                        <a:pt x="25" y="18"/>
                      </a:lnTo>
                      <a:lnTo>
                        <a:pt x="25" y="11"/>
                      </a:lnTo>
                      <a:lnTo>
                        <a:pt x="29" y="4"/>
                      </a:ln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1080" y="6233400"/>
                  <a:ext cx="8640" cy="864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36" y="11"/>
                      </a:moveTo>
                      <a:lnTo>
                        <a:pt x="39" y="15"/>
                      </a:lnTo>
                      <a:lnTo>
                        <a:pt x="36" y="4"/>
                      </a:lnTo>
                      <a:lnTo>
                        <a:pt x="29" y="0"/>
                      </a:lnTo>
                      <a:lnTo>
                        <a:pt x="21" y="4"/>
                      </a:lnTo>
                      <a:lnTo>
                        <a:pt x="14" y="8"/>
                      </a:lnTo>
                      <a:lnTo>
                        <a:pt x="11" y="15"/>
                      </a:lnTo>
                      <a:lnTo>
                        <a:pt x="3" y="22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7" y="29"/>
                      </a:lnTo>
                      <a:lnTo>
                        <a:pt x="29" y="8"/>
                      </a:lnTo>
                      <a:lnTo>
                        <a:pt x="29" y="11"/>
                      </a:lnTo>
                      <a:lnTo>
                        <a:pt x="32" y="18"/>
                      </a:lnTo>
                      <a:lnTo>
                        <a:pt x="36" y="18"/>
                      </a:lnTo>
                      <a:lnTo>
                        <a:pt x="32" y="18"/>
                      </a:lnTo>
                      <a:lnTo>
                        <a:pt x="36" y="18"/>
                      </a:lnTo>
                      <a:lnTo>
                        <a:pt x="36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79360" y="62272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54" h="39">
                      <a:moveTo>
                        <a:pt x="50" y="0"/>
                      </a:moveTo>
                      <a:lnTo>
                        <a:pt x="43" y="0"/>
                      </a:lnTo>
                      <a:lnTo>
                        <a:pt x="14" y="29"/>
                      </a:lnTo>
                      <a:lnTo>
                        <a:pt x="7" y="32"/>
                      </a:lnTo>
                      <a:lnTo>
                        <a:pt x="0" y="32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18" y="36"/>
                      </a:lnTo>
                      <a:lnTo>
                        <a:pt x="25" y="29"/>
                      </a:lnTo>
                      <a:lnTo>
                        <a:pt x="29" y="21"/>
                      </a:lnTo>
                      <a:lnTo>
                        <a:pt x="36" y="18"/>
                      </a:lnTo>
                      <a:lnTo>
                        <a:pt x="47" y="7"/>
                      </a:lnTo>
                      <a:lnTo>
                        <a:pt x="54" y="7"/>
                      </a:lnTo>
                      <a:lnTo>
                        <a:pt x="50" y="7"/>
                      </a:lnTo>
                      <a:lnTo>
                        <a:pt x="54" y="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0520" y="621324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0"/>
                      </a:moveTo>
                      <a:lnTo>
                        <a:pt x="36" y="0"/>
                      </a:lnTo>
                      <a:lnTo>
                        <a:pt x="29" y="3"/>
                      </a:lnTo>
                      <a:lnTo>
                        <a:pt x="22" y="11"/>
                      </a:lnTo>
                      <a:lnTo>
                        <a:pt x="18" y="18"/>
                      </a:lnTo>
                      <a:lnTo>
                        <a:pt x="11" y="25"/>
                      </a:lnTo>
                      <a:lnTo>
                        <a:pt x="7" y="32"/>
                      </a:lnTo>
                      <a:lnTo>
                        <a:pt x="4" y="39"/>
                      </a:lnTo>
                      <a:lnTo>
                        <a:pt x="0" y="47"/>
                      </a:lnTo>
                      <a:lnTo>
                        <a:pt x="4" y="54"/>
                      </a:lnTo>
                      <a:lnTo>
                        <a:pt x="11" y="47"/>
                      </a:lnTo>
                      <a:lnTo>
                        <a:pt x="15" y="36"/>
                      </a:lnTo>
                      <a:lnTo>
                        <a:pt x="18" y="29"/>
                      </a:lnTo>
                      <a:lnTo>
                        <a:pt x="22" y="21"/>
                      </a:lnTo>
                      <a:lnTo>
                        <a:pt x="25" y="14"/>
                      </a:lnTo>
                      <a:lnTo>
                        <a:pt x="33" y="11"/>
                      </a:lnTo>
                      <a:lnTo>
                        <a:pt x="40" y="7"/>
                      </a:lnTo>
                      <a:lnTo>
                        <a:pt x="47" y="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1320" y="62089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22" y="0"/>
                      </a:move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5" y="8"/>
                      </a:lnTo>
                      <a:lnTo>
                        <a:pt x="15" y="11"/>
                      </a:lnTo>
                      <a:lnTo>
                        <a:pt x="11" y="11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11" y="22"/>
                      </a:lnTo>
                      <a:lnTo>
                        <a:pt x="18" y="15"/>
                      </a:lnTo>
                      <a:lnTo>
                        <a:pt x="22" y="15"/>
                      </a:lnTo>
                      <a:lnTo>
                        <a:pt x="25" y="11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06360" y="619596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32" h="43">
                      <a:moveTo>
                        <a:pt x="29" y="0"/>
                      </a:moveTo>
                      <a:lnTo>
                        <a:pt x="21" y="4"/>
                      </a:lnTo>
                      <a:lnTo>
                        <a:pt x="18" y="7"/>
                      </a:lnTo>
                      <a:lnTo>
                        <a:pt x="11" y="11"/>
                      </a:lnTo>
                      <a:lnTo>
                        <a:pt x="7" y="18"/>
                      </a:lnTo>
                      <a:lnTo>
                        <a:pt x="3" y="22"/>
                      </a:lnTo>
                      <a:lnTo>
                        <a:pt x="3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7" y="43"/>
                      </a:lnTo>
                      <a:lnTo>
                        <a:pt x="7" y="36"/>
                      </a:lnTo>
                      <a:lnTo>
                        <a:pt x="11" y="29"/>
                      </a:lnTo>
                      <a:lnTo>
                        <a:pt x="11" y="25"/>
                      </a:lnTo>
                      <a:lnTo>
                        <a:pt x="14" y="22"/>
                      </a:lnTo>
                      <a:lnTo>
                        <a:pt x="18" y="15"/>
                      </a:lnTo>
                      <a:lnTo>
                        <a:pt x="25" y="7"/>
                      </a:lnTo>
                      <a:lnTo>
                        <a:pt x="32" y="7"/>
                      </a:lnTo>
                      <a:lnTo>
                        <a:pt x="32" y="4"/>
                      </a:lnTo>
                      <a:lnTo>
                        <a:pt x="32" y="7"/>
                      </a:lnTo>
                      <a:lnTo>
                        <a:pt x="32" y="4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12840" y="6186240"/>
                  <a:ext cx="2160" cy="10440"/>
                </a:xfrm>
                <a:custGeom>
                  <a:avLst/>
                  <a:gdLst/>
                  <a:ahLst/>
                  <a:rect l="l" t="t" r="r" b="b"/>
                  <a:pathLst>
                    <a:path w="10" h="36">
                      <a:moveTo>
                        <a:pt x="10" y="0"/>
                      </a:move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32"/>
                      </a:lnTo>
                      <a:lnTo>
                        <a:pt x="3" y="36"/>
                      </a:lnTo>
                      <a:lnTo>
                        <a:pt x="7" y="29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5360" y="618120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58" h="25">
                      <a:moveTo>
                        <a:pt x="54" y="10"/>
                      </a:moveTo>
                      <a:lnTo>
                        <a:pt x="58" y="10"/>
                      </a:lnTo>
                      <a:lnTo>
                        <a:pt x="51" y="3"/>
                      </a:lnTo>
                      <a:lnTo>
                        <a:pt x="44" y="0"/>
                      </a:lnTo>
                      <a:lnTo>
                        <a:pt x="33" y="3"/>
                      </a:lnTo>
                      <a:lnTo>
                        <a:pt x="29" y="7"/>
                      </a:lnTo>
                      <a:lnTo>
                        <a:pt x="22" y="10"/>
                      </a:lnTo>
                      <a:lnTo>
                        <a:pt x="15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8" y="25"/>
                      </a:lnTo>
                      <a:lnTo>
                        <a:pt x="18" y="21"/>
                      </a:lnTo>
                      <a:lnTo>
                        <a:pt x="26" y="18"/>
                      </a:lnTo>
                      <a:lnTo>
                        <a:pt x="33" y="14"/>
                      </a:lnTo>
                      <a:lnTo>
                        <a:pt x="36" y="10"/>
                      </a:lnTo>
                      <a:lnTo>
                        <a:pt x="44" y="7"/>
                      </a:lnTo>
                      <a:lnTo>
                        <a:pt x="54" y="18"/>
                      </a:lnTo>
                      <a:lnTo>
                        <a:pt x="58" y="14"/>
                      </a:lnTo>
                      <a:lnTo>
                        <a:pt x="54" y="18"/>
                      </a:lnTo>
                      <a:lnTo>
                        <a:pt x="58" y="18"/>
                      </a:lnTo>
                      <a:lnTo>
                        <a:pt x="58" y="14"/>
                      </a:lnTo>
                      <a:lnTo>
                        <a:pt x="54" y="1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27600" y="617580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8" y="0"/>
                      </a:moveTo>
                      <a:lnTo>
                        <a:pt x="22" y="0"/>
                      </a:lnTo>
                      <a:lnTo>
                        <a:pt x="0" y="28"/>
                      </a:lnTo>
                      <a:lnTo>
                        <a:pt x="4" y="3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31560" y="6162480"/>
                  <a:ext cx="2520" cy="12960"/>
                </a:xfrm>
                <a:custGeom>
                  <a:avLst/>
                  <a:gdLst/>
                  <a:ahLst/>
                  <a:rect l="l" t="t" r="r" b="b"/>
                  <a:pathLst>
                    <a:path w="11" h="44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0" y="11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15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33360" y="6156360"/>
                  <a:ext cx="12240" cy="8280"/>
                </a:xfrm>
                <a:custGeom>
                  <a:avLst/>
                  <a:gdLst/>
                  <a:ahLst/>
                  <a:rect l="l" t="t" r="r" b="b"/>
                  <a:pathLst>
                    <a:path w="54" h="29">
                      <a:moveTo>
                        <a:pt x="47" y="3"/>
                      </a:moveTo>
                      <a:lnTo>
                        <a:pt x="50" y="0"/>
                      </a:lnTo>
                      <a:lnTo>
                        <a:pt x="43" y="0"/>
                      </a:lnTo>
                      <a:lnTo>
                        <a:pt x="36" y="3"/>
                      </a:lnTo>
                      <a:lnTo>
                        <a:pt x="25" y="14"/>
                      </a:lnTo>
                      <a:lnTo>
                        <a:pt x="18" y="18"/>
                      </a:lnTo>
                      <a:lnTo>
                        <a:pt x="14" y="21"/>
                      </a:lnTo>
                      <a:lnTo>
                        <a:pt x="3" y="21"/>
                      </a:lnTo>
                      <a:lnTo>
                        <a:pt x="0" y="29"/>
                      </a:lnTo>
                      <a:lnTo>
                        <a:pt x="10" y="29"/>
                      </a:lnTo>
                      <a:lnTo>
                        <a:pt x="18" y="25"/>
                      </a:lnTo>
                      <a:lnTo>
                        <a:pt x="21" y="21"/>
                      </a:lnTo>
                      <a:lnTo>
                        <a:pt x="28" y="18"/>
                      </a:lnTo>
                      <a:lnTo>
                        <a:pt x="32" y="14"/>
                      </a:lnTo>
                      <a:lnTo>
                        <a:pt x="39" y="11"/>
                      </a:lnTo>
                      <a:lnTo>
                        <a:pt x="43" y="7"/>
                      </a:lnTo>
                      <a:lnTo>
                        <a:pt x="50" y="7"/>
                      </a:lnTo>
                      <a:lnTo>
                        <a:pt x="54" y="3"/>
                      </a:lnTo>
                      <a:lnTo>
                        <a:pt x="50" y="7"/>
                      </a:lnTo>
                      <a:lnTo>
                        <a:pt x="54" y="7"/>
                      </a:lnTo>
                      <a:lnTo>
                        <a:pt x="54" y="3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42360" y="61509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4" y="14"/>
                      </a:lnTo>
                      <a:lnTo>
                        <a:pt x="4" y="18"/>
                      </a:lnTo>
                      <a:lnTo>
                        <a:pt x="8" y="21"/>
                      </a:lnTo>
                      <a:lnTo>
                        <a:pt x="15" y="21"/>
                      </a:lnTo>
                      <a:lnTo>
                        <a:pt x="15" y="14"/>
                      </a:lnTo>
                      <a:lnTo>
                        <a:pt x="8" y="7"/>
                      </a:lnTo>
                      <a:lnTo>
                        <a:pt x="8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2360" y="614880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15" y="3"/>
                      </a:moveTo>
                      <a:lnTo>
                        <a:pt x="18" y="0"/>
                      </a:lnTo>
                      <a:lnTo>
                        <a:pt x="15" y="3"/>
                      </a:lnTo>
                      <a:lnTo>
                        <a:pt x="4" y="3"/>
                      </a:lnTo>
                      <a:lnTo>
                        <a:pt x="0" y="7"/>
                      </a:lnTo>
                      <a:lnTo>
                        <a:pt x="8" y="10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5600" y="6138000"/>
                  <a:ext cx="10440" cy="12960"/>
                </a:xfrm>
                <a:custGeom>
                  <a:avLst/>
                  <a:gdLst/>
                  <a:ahLst/>
                  <a:rect l="l" t="t" r="r" b="b"/>
                  <a:pathLst>
                    <a:path w="47" h="44">
                      <a:moveTo>
                        <a:pt x="39" y="0"/>
                      </a:moveTo>
                      <a:lnTo>
                        <a:pt x="39" y="15"/>
                      </a:lnTo>
                      <a:lnTo>
                        <a:pt x="36" y="19"/>
                      </a:lnTo>
                      <a:lnTo>
                        <a:pt x="29" y="22"/>
                      </a:lnTo>
                      <a:lnTo>
                        <a:pt x="21" y="26"/>
                      </a:lnTo>
                      <a:lnTo>
                        <a:pt x="14" y="26"/>
                      </a:lnTo>
                      <a:lnTo>
                        <a:pt x="0" y="40"/>
                      </a:lnTo>
                      <a:lnTo>
                        <a:pt x="7" y="44"/>
                      </a:lnTo>
                      <a:lnTo>
                        <a:pt x="18" y="33"/>
                      </a:lnTo>
                      <a:lnTo>
                        <a:pt x="25" y="33"/>
                      </a:lnTo>
                      <a:lnTo>
                        <a:pt x="32" y="29"/>
                      </a:lnTo>
                      <a:lnTo>
                        <a:pt x="39" y="26"/>
                      </a:lnTo>
                      <a:lnTo>
                        <a:pt x="43" y="19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47" y="4"/>
                      </a:lnTo>
                      <a:lnTo>
                        <a:pt x="39" y="0"/>
                      </a:lnTo>
                      <a:lnTo>
                        <a:pt x="39" y="4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4600" y="612720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58" h="40">
                      <a:moveTo>
                        <a:pt x="54" y="0"/>
                      </a:moveTo>
                      <a:lnTo>
                        <a:pt x="44" y="11"/>
                      </a:lnTo>
                      <a:lnTo>
                        <a:pt x="36" y="15"/>
                      </a:lnTo>
                      <a:lnTo>
                        <a:pt x="29" y="18"/>
                      </a:lnTo>
                      <a:lnTo>
                        <a:pt x="22" y="18"/>
                      </a:lnTo>
                      <a:lnTo>
                        <a:pt x="15" y="22"/>
                      </a:lnTo>
                      <a:lnTo>
                        <a:pt x="0" y="36"/>
                      </a:lnTo>
                      <a:lnTo>
                        <a:pt x="8" y="40"/>
                      </a:lnTo>
                      <a:lnTo>
                        <a:pt x="11" y="33"/>
                      </a:lnTo>
                      <a:lnTo>
                        <a:pt x="18" y="29"/>
                      </a:lnTo>
                      <a:lnTo>
                        <a:pt x="22" y="26"/>
                      </a:lnTo>
                      <a:lnTo>
                        <a:pt x="33" y="22"/>
                      </a:lnTo>
                      <a:lnTo>
                        <a:pt x="40" y="22"/>
                      </a:lnTo>
                      <a:lnTo>
                        <a:pt x="47" y="18"/>
                      </a:lnTo>
                      <a:lnTo>
                        <a:pt x="54" y="15"/>
                      </a:lnTo>
                      <a:lnTo>
                        <a:pt x="58" y="8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66840" y="6108120"/>
                  <a:ext cx="18720" cy="2124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80" y="0"/>
                      </a:moveTo>
                      <a:lnTo>
                        <a:pt x="76" y="0"/>
                      </a:lnTo>
                      <a:lnTo>
                        <a:pt x="69" y="10"/>
                      </a:lnTo>
                      <a:lnTo>
                        <a:pt x="58" y="18"/>
                      </a:lnTo>
                      <a:lnTo>
                        <a:pt x="51" y="25"/>
                      </a:lnTo>
                      <a:lnTo>
                        <a:pt x="40" y="32"/>
                      </a:lnTo>
                      <a:lnTo>
                        <a:pt x="22" y="50"/>
                      </a:lnTo>
                      <a:lnTo>
                        <a:pt x="11" y="57"/>
                      </a:lnTo>
                      <a:lnTo>
                        <a:pt x="0" y="64"/>
                      </a:lnTo>
                      <a:lnTo>
                        <a:pt x="4" y="72"/>
                      </a:lnTo>
                      <a:lnTo>
                        <a:pt x="15" y="64"/>
                      </a:lnTo>
                      <a:lnTo>
                        <a:pt x="26" y="54"/>
                      </a:lnTo>
                      <a:lnTo>
                        <a:pt x="36" y="46"/>
                      </a:lnTo>
                      <a:lnTo>
                        <a:pt x="44" y="39"/>
                      </a:lnTo>
                      <a:lnTo>
                        <a:pt x="54" y="32"/>
                      </a:lnTo>
                      <a:lnTo>
                        <a:pt x="65" y="25"/>
                      </a:lnTo>
                      <a:lnTo>
                        <a:pt x="73" y="14"/>
                      </a:lnTo>
                      <a:lnTo>
                        <a:pt x="83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85200" y="6095160"/>
                  <a:ext cx="25920" cy="13680"/>
                </a:xfrm>
                <a:custGeom>
                  <a:avLst/>
                  <a:gdLst/>
                  <a:ahLst/>
                  <a:rect l="l" t="t" r="r" b="b"/>
                  <a:pathLst>
                    <a:path w="115" h="47">
                      <a:moveTo>
                        <a:pt x="111" y="0"/>
                      </a:moveTo>
                      <a:lnTo>
                        <a:pt x="104" y="0"/>
                      </a:lnTo>
                      <a:lnTo>
                        <a:pt x="97" y="4"/>
                      </a:lnTo>
                      <a:lnTo>
                        <a:pt x="90" y="4"/>
                      </a:lnTo>
                      <a:lnTo>
                        <a:pt x="83" y="8"/>
                      </a:lnTo>
                      <a:lnTo>
                        <a:pt x="75" y="11"/>
                      </a:lnTo>
                      <a:lnTo>
                        <a:pt x="68" y="15"/>
                      </a:lnTo>
                      <a:lnTo>
                        <a:pt x="61" y="18"/>
                      </a:lnTo>
                      <a:lnTo>
                        <a:pt x="57" y="22"/>
                      </a:lnTo>
                      <a:lnTo>
                        <a:pt x="50" y="26"/>
                      </a:lnTo>
                      <a:lnTo>
                        <a:pt x="43" y="29"/>
                      </a:lnTo>
                      <a:lnTo>
                        <a:pt x="36" y="33"/>
                      </a:lnTo>
                      <a:lnTo>
                        <a:pt x="29" y="36"/>
                      </a:lnTo>
                      <a:lnTo>
                        <a:pt x="21" y="36"/>
                      </a:lnTo>
                      <a:lnTo>
                        <a:pt x="14" y="40"/>
                      </a:lnTo>
                      <a:lnTo>
                        <a:pt x="7" y="40"/>
                      </a:lnTo>
                      <a:lnTo>
                        <a:pt x="0" y="44"/>
                      </a:lnTo>
                      <a:lnTo>
                        <a:pt x="0" y="47"/>
                      </a:lnTo>
                      <a:lnTo>
                        <a:pt x="18" y="47"/>
                      </a:lnTo>
                      <a:lnTo>
                        <a:pt x="25" y="44"/>
                      </a:lnTo>
                      <a:lnTo>
                        <a:pt x="32" y="44"/>
                      </a:lnTo>
                      <a:lnTo>
                        <a:pt x="39" y="40"/>
                      </a:lnTo>
                      <a:lnTo>
                        <a:pt x="47" y="36"/>
                      </a:lnTo>
                      <a:lnTo>
                        <a:pt x="54" y="33"/>
                      </a:lnTo>
                      <a:lnTo>
                        <a:pt x="61" y="29"/>
                      </a:lnTo>
                      <a:lnTo>
                        <a:pt x="65" y="26"/>
                      </a:lnTo>
                      <a:lnTo>
                        <a:pt x="72" y="22"/>
                      </a:lnTo>
                      <a:lnTo>
                        <a:pt x="79" y="18"/>
                      </a:lnTo>
                      <a:lnTo>
                        <a:pt x="86" y="15"/>
                      </a:lnTo>
                      <a:lnTo>
                        <a:pt x="93" y="11"/>
                      </a:lnTo>
                      <a:lnTo>
                        <a:pt x="101" y="8"/>
                      </a:lnTo>
                      <a:lnTo>
                        <a:pt x="115" y="8"/>
                      </a:lnTo>
                      <a:lnTo>
                        <a:pt x="115" y="4"/>
                      </a:lnTo>
                      <a:lnTo>
                        <a:pt x="115" y="8"/>
                      </a:lnTo>
                      <a:lnTo>
                        <a:pt x="115" y="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10400" y="6070320"/>
                  <a:ext cx="14040" cy="25920"/>
                </a:xfrm>
                <a:custGeom>
                  <a:avLst/>
                  <a:gdLst/>
                  <a:ahLst/>
                  <a:rect l="l" t="t" r="r" b="b"/>
                  <a:pathLst>
                    <a:path w="62" h="87">
                      <a:moveTo>
                        <a:pt x="58" y="4"/>
                      </a:moveTo>
                      <a:lnTo>
                        <a:pt x="58" y="0"/>
                      </a:lnTo>
                      <a:lnTo>
                        <a:pt x="51" y="11"/>
                      </a:lnTo>
                      <a:lnTo>
                        <a:pt x="44" y="22"/>
                      </a:lnTo>
                      <a:lnTo>
                        <a:pt x="36" y="33"/>
                      </a:lnTo>
                      <a:lnTo>
                        <a:pt x="29" y="44"/>
                      </a:lnTo>
                      <a:lnTo>
                        <a:pt x="22" y="54"/>
                      </a:lnTo>
                      <a:lnTo>
                        <a:pt x="15" y="65"/>
                      </a:lnTo>
                      <a:lnTo>
                        <a:pt x="8" y="72"/>
                      </a:lnTo>
                      <a:lnTo>
                        <a:pt x="0" y="83"/>
                      </a:lnTo>
                      <a:lnTo>
                        <a:pt x="4" y="87"/>
                      </a:lnTo>
                      <a:lnTo>
                        <a:pt x="15" y="80"/>
                      </a:lnTo>
                      <a:lnTo>
                        <a:pt x="22" y="69"/>
                      </a:lnTo>
                      <a:lnTo>
                        <a:pt x="29" y="58"/>
                      </a:lnTo>
                      <a:lnTo>
                        <a:pt x="36" y="47"/>
                      </a:lnTo>
                      <a:lnTo>
                        <a:pt x="44" y="36"/>
                      </a:lnTo>
                      <a:lnTo>
                        <a:pt x="47" y="26"/>
                      </a:lnTo>
                      <a:lnTo>
                        <a:pt x="54" y="15"/>
                      </a:lnTo>
                      <a:lnTo>
                        <a:pt x="62" y="8"/>
                      </a:lnTo>
                      <a:lnTo>
                        <a:pt x="5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23720" y="6054120"/>
                  <a:ext cx="14760" cy="18360"/>
                </a:xfrm>
                <a:custGeom>
                  <a:avLst/>
                  <a:gdLst/>
                  <a:ahLst/>
                  <a:rect l="l" t="t" r="r" b="b"/>
                  <a:pathLst>
                    <a:path w="65" h="62">
                      <a:moveTo>
                        <a:pt x="61" y="0"/>
                      </a:moveTo>
                      <a:lnTo>
                        <a:pt x="58" y="4"/>
                      </a:lnTo>
                      <a:lnTo>
                        <a:pt x="54" y="11"/>
                      </a:lnTo>
                      <a:lnTo>
                        <a:pt x="51" y="18"/>
                      </a:lnTo>
                      <a:lnTo>
                        <a:pt x="40" y="26"/>
                      </a:lnTo>
                      <a:lnTo>
                        <a:pt x="33" y="29"/>
                      </a:lnTo>
                      <a:lnTo>
                        <a:pt x="25" y="33"/>
                      </a:lnTo>
                      <a:lnTo>
                        <a:pt x="15" y="40"/>
                      </a:lnTo>
                      <a:lnTo>
                        <a:pt x="7" y="47"/>
                      </a:lnTo>
                      <a:lnTo>
                        <a:pt x="0" y="58"/>
                      </a:lnTo>
                      <a:lnTo>
                        <a:pt x="4" y="62"/>
                      </a:lnTo>
                      <a:lnTo>
                        <a:pt x="11" y="51"/>
                      </a:lnTo>
                      <a:lnTo>
                        <a:pt x="18" y="47"/>
                      </a:lnTo>
                      <a:lnTo>
                        <a:pt x="29" y="40"/>
                      </a:lnTo>
                      <a:lnTo>
                        <a:pt x="36" y="36"/>
                      </a:lnTo>
                      <a:lnTo>
                        <a:pt x="43" y="29"/>
                      </a:lnTo>
                      <a:lnTo>
                        <a:pt x="54" y="22"/>
                      </a:lnTo>
                      <a:lnTo>
                        <a:pt x="61" y="15"/>
                      </a:lnTo>
                      <a:lnTo>
                        <a:pt x="65" y="4"/>
                      </a:lnTo>
                      <a:lnTo>
                        <a:pt x="61" y="8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8" y="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37760" y="6039360"/>
                  <a:ext cx="7920" cy="16920"/>
                </a:xfrm>
                <a:custGeom>
                  <a:avLst/>
                  <a:gdLst/>
                  <a:ahLst/>
                  <a:rect l="l" t="t" r="r" b="b"/>
                  <a:pathLst>
                    <a:path w="36" h="58">
                      <a:moveTo>
                        <a:pt x="29" y="0"/>
                      </a:moveTo>
                      <a:lnTo>
                        <a:pt x="26" y="11"/>
                      </a:lnTo>
                      <a:lnTo>
                        <a:pt x="26" y="18"/>
                      </a:lnTo>
                      <a:lnTo>
                        <a:pt x="22" y="25"/>
                      </a:lnTo>
                      <a:lnTo>
                        <a:pt x="22" y="32"/>
                      </a:lnTo>
                      <a:lnTo>
                        <a:pt x="18" y="39"/>
                      </a:lnTo>
                      <a:lnTo>
                        <a:pt x="15" y="43"/>
                      </a:lnTo>
                      <a:lnTo>
                        <a:pt x="8" y="47"/>
                      </a:lnTo>
                      <a:lnTo>
                        <a:pt x="0" y="50"/>
                      </a:lnTo>
                      <a:lnTo>
                        <a:pt x="0" y="58"/>
                      </a:lnTo>
                      <a:lnTo>
                        <a:pt x="11" y="54"/>
                      </a:lnTo>
                      <a:lnTo>
                        <a:pt x="18" y="50"/>
                      </a:lnTo>
                      <a:lnTo>
                        <a:pt x="22" y="43"/>
                      </a:lnTo>
                      <a:lnTo>
                        <a:pt x="29" y="36"/>
                      </a:lnTo>
                      <a:lnTo>
                        <a:pt x="29" y="25"/>
                      </a:lnTo>
                      <a:lnTo>
                        <a:pt x="33" y="18"/>
                      </a:lnTo>
                      <a:lnTo>
                        <a:pt x="33" y="11"/>
                      </a:lnTo>
                      <a:lnTo>
                        <a:pt x="36" y="3"/>
                      </a:lnTo>
                      <a:lnTo>
                        <a:pt x="33" y="3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44240" y="6023160"/>
                  <a:ext cx="13680" cy="16920"/>
                </a:xfrm>
                <a:custGeom>
                  <a:avLst/>
                  <a:gdLst/>
                  <a:ahLst/>
                  <a:rect l="l" t="t" r="r" b="b"/>
                  <a:pathLst>
                    <a:path w="61" h="57">
                      <a:moveTo>
                        <a:pt x="54" y="3"/>
                      </a:moveTo>
                      <a:lnTo>
                        <a:pt x="58" y="0"/>
                      </a:lnTo>
                      <a:lnTo>
                        <a:pt x="47" y="3"/>
                      </a:lnTo>
                      <a:lnTo>
                        <a:pt x="25" y="25"/>
                      </a:lnTo>
                      <a:lnTo>
                        <a:pt x="22" y="32"/>
                      </a:lnTo>
                      <a:lnTo>
                        <a:pt x="0" y="54"/>
                      </a:lnTo>
                      <a:lnTo>
                        <a:pt x="4" y="57"/>
                      </a:lnTo>
                      <a:lnTo>
                        <a:pt x="11" y="54"/>
                      </a:lnTo>
                      <a:lnTo>
                        <a:pt x="22" y="47"/>
                      </a:lnTo>
                      <a:lnTo>
                        <a:pt x="25" y="39"/>
                      </a:lnTo>
                      <a:lnTo>
                        <a:pt x="33" y="29"/>
                      </a:lnTo>
                      <a:lnTo>
                        <a:pt x="36" y="21"/>
                      </a:lnTo>
                      <a:lnTo>
                        <a:pt x="43" y="18"/>
                      </a:lnTo>
                      <a:lnTo>
                        <a:pt x="51" y="11"/>
                      </a:lnTo>
                      <a:lnTo>
                        <a:pt x="58" y="7"/>
                      </a:lnTo>
                      <a:lnTo>
                        <a:pt x="61" y="7"/>
                      </a:lnTo>
                      <a:lnTo>
                        <a:pt x="58" y="7"/>
                      </a:lnTo>
                      <a:lnTo>
                        <a:pt x="61" y="7"/>
                      </a:lnTo>
                      <a:lnTo>
                        <a:pt x="54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6480" y="601452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25" y="0"/>
                      </a:moveTo>
                      <a:lnTo>
                        <a:pt x="25" y="7"/>
                      </a:lnTo>
                      <a:lnTo>
                        <a:pt x="11" y="22"/>
                      </a:lnTo>
                      <a:lnTo>
                        <a:pt x="7" y="22"/>
                      </a:lnTo>
                      <a:lnTo>
                        <a:pt x="4" y="29"/>
                      </a:lnTo>
                      <a:lnTo>
                        <a:pt x="0" y="32"/>
                      </a:lnTo>
                      <a:lnTo>
                        <a:pt x="7" y="36"/>
                      </a:lnTo>
                      <a:lnTo>
                        <a:pt x="7" y="32"/>
                      </a:lnTo>
                      <a:lnTo>
                        <a:pt x="18" y="22"/>
                      </a:lnTo>
                      <a:lnTo>
                        <a:pt x="25" y="22"/>
                      </a:lnTo>
                      <a:lnTo>
                        <a:pt x="29" y="18"/>
                      </a:lnTo>
                      <a:lnTo>
                        <a:pt x="29" y="11"/>
                      </a:lnTo>
                      <a:lnTo>
                        <a:pt x="33" y="4"/>
                      </a:lnTo>
                      <a:lnTo>
                        <a:pt x="29" y="7"/>
                      </a:lnTo>
                      <a:lnTo>
                        <a:pt x="25" y="0"/>
                      </a:lnTo>
                      <a:lnTo>
                        <a:pt x="25" y="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2240" y="60048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51" h="40">
                      <a:moveTo>
                        <a:pt x="51" y="0"/>
                      </a:moveTo>
                      <a:lnTo>
                        <a:pt x="47" y="0"/>
                      </a:lnTo>
                      <a:lnTo>
                        <a:pt x="40" y="4"/>
                      </a:lnTo>
                      <a:lnTo>
                        <a:pt x="37" y="11"/>
                      </a:lnTo>
                      <a:lnTo>
                        <a:pt x="29" y="15"/>
                      </a:lnTo>
                      <a:lnTo>
                        <a:pt x="22" y="19"/>
                      </a:lnTo>
                      <a:lnTo>
                        <a:pt x="19" y="22"/>
                      </a:lnTo>
                      <a:lnTo>
                        <a:pt x="11" y="26"/>
                      </a:lnTo>
                      <a:lnTo>
                        <a:pt x="8" y="29"/>
                      </a:lnTo>
                      <a:lnTo>
                        <a:pt x="0" y="33"/>
                      </a:lnTo>
                      <a:lnTo>
                        <a:pt x="4" y="40"/>
                      </a:lnTo>
                      <a:lnTo>
                        <a:pt x="11" y="37"/>
                      </a:lnTo>
                      <a:lnTo>
                        <a:pt x="15" y="33"/>
                      </a:lnTo>
                      <a:lnTo>
                        <a:pt x="22" y="29"/>
                      </a:lnTo>
                      <a:lnTo>
                        <a:pt x="26" y="22"/>
                      </a:lnTo>
                      <a:lnTo>
                        <a:pt x="33" y="19"/>
                      </a:lnTo>
                      <a:lnTo>
                        <a:pt x="40" y="15"/>
                      </a:lnTo>
                      <a:lnTo>
                        <a:pt x="44" y="11"/>
                      </a:lnTo>
                      <a:lnTo>
                        <a:pt x="51" y="8"/>
                      </a:lnTo>
                      <a:lnTo>
                        <a:pt x="47" y="8"/>
                      </a:lnTo>
                      <a:lnTo>
                        <a:pt x="51" y="0"/>
                      </a:lnTo>
                      <a:lnTo>
                        <a:pt x="47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73040" y="600480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18" y="4"/>
                      </a:move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22" y="8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77000" y="60004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1" y="0"/>
                      </a:moveTo>
                      <a:lnTo>
                        <a:pt x="8" y="7"/>
                      </a:lnTo>
                      <a:lnTo>
                        <a:pt x="4" y="11"/>
                      </a:lnTo>
                      <a:lnTo>
                        <a:pt x="4" y="14"/>
                      </a:lnTo>
                      <a:lnTo>
                        <a:pt x="0" y="18"/>
                      </a:lnTo>
                      <a:lnTo>
                        <a:pt x="4" y="22"/>
                      </a:lnTo>
                      <a:lnTo>
                        <a:pt x="8" y="18"/>
                      </a:lnTo>
                      <a:lnTo>
                        <a:pt x="11" y="11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5" y="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79520" y="5982480"/>
                  <a:ext cx="25200" cy="20160"/>
                </a:xfrm>
                <a:custGeom>
                  <a:avLst/>
                  <a:gdLst/>
                  <a:ahLst/>
                  <a:rect l="l" t="t" r="r" b="b"/>
                  <a:pathLst>
                    <a:path w="112" h="68">
                      <a:moveTo>
                        <a:pt x="112" y="0"/>
                      </a:moveTo>
                      <a:lnTo>
                        <a:pt x="97" y="0"/>
                      </a:lnTo>
                      <a:lnTo>
                        <a:pt x="87" y="3"/>
                      </a:lnTo>
                      <a:lnTo>
                        <a:pt x="79" y="7"/>
                      </a:lnTo>
                      <a:lnTo>
                        <a:pt x="72" y="11"/>
                      </a:lnTo>
                      <a:lnTo>
                        <a:pt x="65" y="14"/>
                      </a:lnTo>
                      <a:lnTo>
                        <a:pt x="58" y="21"/>
                      </a:lnTo>
                      <a:lnTo>
                        <a:pt x="51" y="25"/>
                      </a:lnTo>
                      <a:lnTo>
                        <a:pt x="40" y="36"/>
                      </a:lnTo>
                      <a:lnTo>
                        <a:pt x="33" y="39"/>
                      </a:lnTo>
                      <a:lnTo>
                        <a:pt x="25" y="43"/>
                      </a:lnTo>
                      <a:lnTo>
                        <a:pt x="15" y="54"/>
                      </a:lnTo>
                      <a:lnTo>
                        <a:pt x="7" y="57"/>
                      </a:lnTo>
                      <a:lnTo>
                        <a:pt x="0" y="61"/>
                      </a:lnTo>
                      <a:lnTo>
                        <a:pt x="4" y="68"/>
                      </a:lnTo>
                      <a:lnTo>
                        <a:pt x="11" y="65"/>
                      </a:lnTo>
                      <a:lnTo>
                        <a:pt x="18" y="61"/>
                      </a:lnTo>
                      <a:lnTo>
                        <a:pt x="29" y="50"/>
                      </a:lnTo>
                      <a:lnTo>
                        <a:pt x="36" y="47"/>
                      </a:lnTo>
                      <a:lnTo>
                        <a:pt x="43" y="39"/>
                      </a:lnTo>
                      <a:lnTo>
                        <a:pt x="51" y="36"/>
                      </a:lnTo>
                      <a:lnTo>
                        <a:pt x="61" y="25"/>
                      </a:lnTo>
                      <a:lnTo>
                        <a:pt x="69" y="21"/>
                      </a:lnTo>
                      <a:lnTo>
                        <a:pt x="76" y="18"/>
                      </a:lnTo>
                      <a:lnTo>
                        <a:pt x="83" y="14"/>
                      </a:lnTo>
                      <a:lnTo>
                        <a:pt x="90" y="11"/>
                      </a:lnTo>
                      <a:lnTo>
                        <a:pt x="97" y="7"/>
                      </a:lnTo>
                      <a:lnTo>
                        <a:pt x="112" y="7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05080" y="596412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76" y="0"/>
                      </a:moveTo>
                      <a:lnTo>
                        <a:pt x="76" y="3"/>
                      </a:lnTo>
                      <a:lnTo>
                        <a:pt x="72" y="14"/>
                      </a:lnTo>
                      <a:lnTo>
                        <a:pt x="65" y="25"/>
                      </a:lnTo>
                      <a:lnTo>
                        <a:pt x="54" y="32"/>
                      </a:lnTo>
                      <a:lnTo>
                        <a:pt x="47" y="39"/>
                      </a:lnTo>
                      <a:lnTo>
                        <a:pt x="36" y="46"/>
                      </a:lnTo>
                      <a:lnTo>
                        <a:pt x="22" y="50"/>
                      </a:lnTo>
                      <a:lnTo>
                        <a:pt x="11" y="57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4" y="64"/>
                      </a:lnTo>
                      <a:lnTo>
                        <a:pt x="25" y="57"/>
                      </a:lnTo>
                      <a:lnTo>
                        <a:pt x="40" y="54"/>
                      </a:lnTo>
                      <a:lnTo>
                        <a:pt x="50" y="46"/>
                      </a:lnTo>
                      <a:lnTo>
                        <a:pt x="61" y="39"/>
                      </a:lnTo>
                      <a:lnTo>
                        <a:pt x="68" y="28"/>
                      </a:lnTo>
                      <a:lnTo>
                        <a:pt x="76" y="18"/>
                      </a:lnTo>
                      <a:lnTo>
                        <a:pt x="79" y="3"/>
                      </a:lnTo>
                      <a:lnTo>
                        <a:pt x="79" y="7"/>
                      </a:lnTo>
                      <a:lnTo>
                        <a:pt x="76" y="0"/>
                      </a:lnTo>
                      <a:lnTo>
                        <a:pt x="76" y="3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22360" y="5951160"/>
                  <a:ext cx="3960" cy="15120"/>
                </a:xfrm>
                <a:custGeom>
                  <a:avLst/>
                  <a:gdLst/>
                  <a:ahLst/>
                  <a:rect l="l" t="t" r="r" b="b"/>
                  <a:pathLst>
                    <a:path w="18" h="51">
                      <a:moveTo>
                        <a:pt x="10" y="0"/>
                      </a:moveTo>
                      <a:lnTo>
                        <a:pt x="7" y="11"/>
                      </a:lnTo>
                      <a:lnTo>
                        <a:pt x="7" y="25"/>
                      </a:lnTo>
                      <a:lnTo>
                        <a:pt x="3" y="36"/>
                      </a:lnTo>
                      <a:lnTo>
                        <a:pt x="0" y="44"/>
                      </a:lnTo>
                      <a:lnTo>
                        <a:pt x="3" y="51"/>
                      </a:lnTo>
                      <a:lnTo>
                        <a:pt x="10" y="36"/>
                      </a:lnTo>
                      <a:lnTo>
                        <a:pt x="14" y="25"/>
                      </a:lnTo>
                      <a:lnTo>
                        <a:pt x="14" y="15"/>
                      </a:lnTo>
                      <a:lnTo>
                        <a:pt x="18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4520" y="5928840"/>
                  <a:ext cx="10440" cy="23400"/>
                </a:xfrm>
                <a:custGeom>
                  <a:avLst/>
                  <a:gdLst/>
                  <a:ahLst/>
                  <a:rect l="l" t="t" r="r" b="b"/>
                  <a:pathLst>
                    <a:path w="47" h="79">
                      <a:moveTo>
                        <a:pt x="40" y="0"/>
                      </a:moveTo>
                      <a:lnTo>
                        <a:pt x="36" y="7"/>
                      </a:lnTo>
                      <a:lnTo>
                        <a:pt x="33" y="18"/>
                      </a:lnTo>
                      <a:lnTo>
                        <a:pt x="29" y="28"/>
                      </a:lnTo>
                      <a:lnTo>
                        <a:pt x="22" y="36"/>
                      </a:lnTo>
                      <a:lnTo>
                        <a:pt x="18" y="46"/>
                      </a:lnTo>
                      <a:lnTo>
                        <a:pt x="11" y="54"/>
                      </a:lnTo>
                      <a:lnTo>
                        <a:pt x="8" y="64"/>
                      </a:lnTo>
                      <a:lnTo>
                        <a:pt x="0" y="75"/>
                      </a:lnTo>
                      <a:lnTo>
                        <a:pt x="8" y="79"/>
                      </a:lnTo>
                      <a:lnTo>
                        <a:pt x="11" y="68"/>
                      </a:lnTo>
                      <a:lnTo>
                        <a:pt x="18" y="57"/>
                      </a:lnTo>
                      <a:lnTo>
                        <a:pt x="26" y="50"/>
                      </a:lnTo>
                      <a:lnTo>
                        <a:pt x="29" y="39"/>
                      </a:lnTo>
                      <a:lnTo>
                        <a:pt x="36" y="28"/>
                      </a:lnTo>
                      <a:lnTo>
                        <a:pt x="40" y="21"/>
                      </a:lnTo>
                      <a:lnTo>
                        <a:pt x="44" y="10"/>
                      </a:lnTo>
                      <a:lnTo>
                        <a:pt x="47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26320" y="591804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39" h="36">
                      <a:moveTo>
                        <a:pt x="0" y="3"/>
                      </a:moveTo>
                      <a:lnTo>
                        <a:pt x="3" y="10"/>
                      </a:lnTo>
                      <a:lnTo>
                        <a:pt x="7" y="14"/>
                      </a:lnTo>
                      <a:lnTo>
                        <a:pt x="14" y="18"/>
                      </a:lnTo>
                      <a:lnTo>
                        <a:pt x="21" y="21"/>
                      </a:lnTo>
                      <a:lnTo>
                        <a:pt x="25" y="21"/>
                      </a:lnTo>
                      <a:lnTo>
                        <a:pt x="32" y="28"/>
                      </a:lnTo>
                      <a:lnTo>
                        <a:pt x="32" y="36"/>
                      </a:lnTo>
                      <a:lnTo>
                        <a:pt x="39" y="36"/>
                      </a:lnTo>
                      <a:lnTo>
                        <a:pt x="39" y="28"/>
                      </a:lnTo>
                      <a:lnTo>
                        <a:pt x="36" y="21"/>
                      </a:lnTo>
                      <a:lnTo>
                        <a:pt x="28" y="18"/>
                      </a:lnTo>
                      <a:lnTo>
                        <a:pt x="21" y="14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80" y="5907240"/>
                  <a:ext cx="13680" cy="11880"/>
                </a:xfrm>
                <a:custGeom>
                  <a:avLst/>
                  <a:gdLst/>
                  <a:ahLst/>
                  <a:rect l="l" t="t" r="r" b="b"/>
                  <a:pathLst>
                    <a:path w="61" h="40">
                      <a:moveTo>
                        <a:pt x="0" y="4"/>
                      </a:moveTo>
                      <a:lnTo>
                        <a:pt x="14" y="18"/>
                      </a:lnTo>
                      <a:lnTo>
                        <a:pt x="21" y="22"/>
                      </a:lnTo>
                      <a:lnTo>
                        <a:pt x="28" y="26"/>
                      </a:lnTo>
                      <a:lnTo>
                        <a:pt x="36" y="29"/>
                      </a:lnTo>
                      <a:lnTo>
                        <a:pt x="43" y="33"/>
                      </a:lnTo>
                      <a:lnTo>
                        <a:pt x="50" y="37"/>
                      </a:lnTo>
                      <a:lnTo>
                        <a:pt x="54" y="40"/>
                      </a:lnTo>
                      <a:lnTo>
                        <a:pt x="61" y="37"/>
                      </a:lnTo>
                      <a:lnTo>
                        <a:pt x="46" y="22"/>
                      </a:lnTo>
                      <a:lnTo>
                        <a:pt x="39" y="22"/>
                      </a:lnTo>
                      <a:lnTo>
                        <a:pt x="32" y="18"/>
                      </a:lnTo>
                      <a:lnTo>
                        <a:pt x="21" y="15"/>
                      </a:lnTo>
                      <a:lnTo>
                        <a:pt x="14" y="11"/>
                      </a:lnTo>
                      <a:lnTo>
                        <a:pt x="10" y="8"/>
                      </a:lnTo>
                      <a:lnTo>
                        <a:pt x="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3360" y="590292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4"/>
                      </a:lnTo>
                      <a:lnTo>
                        <a:pt x="4" y="18"/>
                      </a:lnTo>
                      <a:lnTo>
                        <a:pt x="11" y="14"/>
                      </a:lnTo>
                      <a:lnTo>
                        <a:pt x="11" y="11"/>
                      </a:lnTo>
                      <a:lnTo>
                        <a:pt x="7" y="11"/>
                      </a:lnTo>
                      <a:lnTo>
                        <a:pt x="7" y="4"/>
                      </a:lnTo>
                      <a:lnTo>
                        <a:pt x="7" y="7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80" y="5898960"/>
                  <a:ext cx="14400" cy="6120"/>
                </a:xfrm>
                <a:custGeom>
                  <a:avLst/>
                  <a:gdLst/>
                  <a:ahLst/>
                  <a:rect l="l" t="t" r="r" b="b"/>
                  <a:pathLst>
                    <a:path w="64" h="21">
                      <a:moveTo>
                        <a:pt x="61" y="0"/>
                      </a:moveTo>
                      <a:lnTo>
                        <a:pt x="46" y="0"/>
                      </a:lnTo>
                      <a:lnTo>
                        <a:pt x="39" y="3"/>
                      </a:lnTo>
                      <a:lnTo>
                        <a:pt x="21" y="3"/>
                      </a:lnTo>
                      <a:lnTo>
                        <a:pt x="14" y="7"/>
                      </a:lnTo>
                      <a:lnTo>
                        <a:pt x="7" y="10"/>
                      </a:lnTo>
                      <a:lnTo>
                        <a:pt x="0" y="14"/>
                      </a:lnTo>
                      <a:lnTo>
                        <a:pt x="3" y="21"/>
                      </a:lnTo>
                      <a:lnTo>
                        <a:pt x="7" y="18"/>
                      </a:lnTo>
                      <a:lnTo>
                        <a:pt x="14" y="14"/>
                      </a:lnTo>
                      <a:lnTo>
                        <a:pt x="21" y="10"/>
                      </a:lnTo>
                      <a:lnTo>
                        <a:pt x="39" y="10"/>
                      </a:lnTo>
                      <a:lnTo>
                        <a:pt x="46" y="7"/>
                      </a:lnTo>
                      <a:lnTo>
                        <a:pt x="64" y="7"/>
                      </a:lnTo>
                      <a:lnTo>
                        <a:pt x="64" y="3"/>
                      </a:lnTo>
                      <a:lnTo>
                        <a:pt x="64" y="7"/>
                      </a:lnTo>
                      <a:lnTo>
                        <a:pt x="64" y="3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28120" y="5892120"/>
                  <a:ext cx="22680" cy="7200"/>
                </a:xfrm>
                <a:custGeom>
                  <a:avLst/>
                  <a:gdLst/>
                  <a:ahLst/>
                  <a:rect l="l" t="t" r="r" b="b"/>
                  <a:pathLst>
                    <a:path w="101" h="25">
                      <a:moveTo>
                        <a:pt x="101" y="0"/>
                      </a:moveTo>
                      <a:lnTo>
                        <a:pt x="97" y="4"/>
                      </a:lnTo>
                      <a:lnTo>
                        <a:pt x="94" y="4"/>
                      </a:lnTo>
                      <a:lnTo>
                        <a:pt x="90" y="7"/>
                      </a:lnTo>
                      <a:lnTo>
                        <a:pt x="32" y="7"/>
                      </a:lnTo>
                      <a:lnTo>
                        <a:pt x="25" y="11"/>
                      </a:lnTo>
                      <a:lnTo>
                        <a:pt x="18" y="11"/>
                      </a:lnTo>
                      <a:lnTo>
                        <a:pt x="11" y="14"/>
                      </a:lnTo>
                      <a:lnTo>
                        <a:pt x="7" y="14"/>
                      </a:lnTo>
                      <a:lnTo>
                        <a:pt x="0" y="22"/>
                      </a:lnTo>
                      <a:lnTo>
                        <a:pt x="3" y="25"/>
                      </a:lnTo>
                      <a:lnTo>
                        <a:pt x="11" y="22"/>
                      </a:lnTo>
                      <a:lnTo>
                        <a:pt x="14" y="18"/>
                      </a:lnTo>
                      <a:lnTo>
                        <a:pt x="18" y="18"/>
                      </a:lnTo>
                      <a:lnTo>
                        <a:pt x="25" y="14"/>
                      </a:lnTo>
                      <a:lnTo>
                        <a:pt x="90" y="14"/>
                      </a:lnTo>
                      <a:lnTo>
                        <a:pt x="97" y="11"/>
                      </a:lnTo>
                      <a:lnTo>
                        <a:pt x="101" y="7"/>
                      </a:lnTo>
                      <a:lnTo>
                        <a:pt x="101" y="11"/>
                      </a:lnTo>
                      <a:lnTo>
                        <a:pt x="101" y="0"/>
                      </a:lnTo>
                      <a:lnTo>
                        <a:pt x="97" y="4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51160" y="5892120"/>
                  <a:ext cx="7200" cy="396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29" y="4"/>
                      </a:move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4" y="11"/>
                      </a:lnTo>
                      <a:lnTo>
                        <a:pt x="18" y="14"/>
                      </a:lnTo>
                      <a:lnTo>
                        <a:pt x="21" y="11"/>
                      </a:lnTo>
                      <a:lnTo>
                        <a:pt x="29" y="11"/>
                      </a:lnTo>
                      <a:lnTo>
                        <a:pt x="32" y="7"/>
                      </a:lnTo>
                      <a:lnTo>
                        <a:pt x="29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57640" y="58888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7" y="4"/>
                      </a:moveTo>
                      <a:lnTo>
                        <a:pt x="7" y="7"/>
                      </a:lnTo>
                      <a:lnTo>
                        <a:pt x="0" y="15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0" y="15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3680" y="588492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28" h="1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0" y="14"/>
                      </a:lnTo>
                      <a:lnTo>
                        <a:pt x="18" y="18"/>
                      </a:lnTo>
                      <a:lnTo>
                        <a:pt x="25" y="18"/>
                      </a:lnTo>
                      <a:lnTo>
                        <a:pt x="28" y="14"/>
                      </a:lnTo>
                      <a:lnTo>
                        <a:pt x="25" y="11"/>
                      </a:lnTo>
                      <a:lnTo>
                        <a:pt x="18" y="11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53680" y="5878440"/>
                  <a:ext cx="14400" cy="7200"/>
                </a:xfrm>
                <a:custGeom>
                  <a:avLst/>
                  <a:gdLst/>
                  <a:ahLst/>
                  <a:rect l="l" t="t" r="r" b="b"/>
                  <a:pathLst>
                    <a:path w="64" h="25">
                      <a:moveTo>
                        <a:pt x="61" y="0"/>
                      </a:moveTo>
                      <a:lnTo>
                        <a:pt x="54" y="4"/>
                      </a:lnTo>
                      <a:lnTo>
                        <a:pt x="46" y="7"/>
                      </a:lnTo>
                      <a:lnTo>
                        <a:pt x="39" y="7"/>
                      </a:lnTo>
                      <a:lnTo>
                        <a:pt x="32" y="11"/>
                      </a:lnTo>
                      <a:lnTo>
                        <a:pt x="25" y="11"/>
                      </a:lnTo>
                      <a:lnTo>
                        <a:pt x="18" y="15"/>
                      </a:lnTo>
                      <a:lnTo>
                        <a:pt x="7" y="15"/>
                      </a:lnTo>
                      <a:lnTo>
                        <a:pt x="0" y="22"/>
                      </a:lnTo>
                      <a:lnTo>
                        <a:pt x="3" y="25"/>
                      </a:lnTo>
                      <a:lnTo>
                        <a:pt x="10" y="22"/>
                      </a:lnTo>
                      <a:lnTo>
                        <a:pt x="18" y="22"/>
                      </a:lnTo>
                      <a:lnTo>
                        <a:pt x="25" y="18"/>
                      </a:lnTo>
                      <a:lnTo>
                        <a:pt x="32" y="18"/>
                      </a:lnTo>
                      <a:lnTo>
                        <a:pt x="39" y="15"/>
                      </a:lnTo>
                      <a:lnTo>
                        <a:pt x="50" y="15"/>
                      </a:lnTo>
                      <a:lnTo>
                        <a:pt x="57" y="11"/>
                      </a:lnTo>
                      <a:lnTo>
                        <a:pt x="64" y="4"/>
                      </a:lnTo>
                      <a:lnTo>
                        <a:pt x="61" y="7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67360" y="5877360"/>
                  <a:ext cx="7200" cy="2880"/>
                </a:xfrm>
                <a:custGeom>
                  <a:avLst/>
                  <a:gdLst/>
                  <a:ahLst/>
                  <a:rect l="l" t="t" r="r" b="b"/>
                  <a:pathLst>
                    <a:path w="32" h="10">
                      <a:moveTo>
                        <a:pt x="25" y="0"/>
                      </a:moveTo>
                      <a:lnTo>
                        <a:pt x="25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32" y="7"/>
                      </a:lnTo>
                      <a:lnTo>
                        <a:pt x="32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73120" y="586872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0"/>
                      </a:moveTo>
                      <a:lnTo>
                        <a:pt x="29" y="0"/>
                      </a:lnTo>
                      <a:lnTo>
                        <a:pt x="25" y="3"/>
                      </a:lnTo>
                      <a:lnTo>
                        <a:pt x="18" y="7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29"/>
                      </a:lnTo>
                      <a:lnTo>
                        <a:pt x="7" y="32"/>
                      </a:lnTo>
                      <a:lnTo>
                        <a:pt x="11" y="29"/>
                      </a:lnTo>
                      <a:lnTo>
                        <a:pt x="11" y="25"/>
                      </a:lnTo>
                      <a:lnTo>
                        <a:pt x="22" y="14"/>
                      </a:lnTo>
                      <a:lnTo>
                        <a:pt x="25" y="14"/>
                      </a:lnTo>
                      <a:lnTo>
                        <a:pt x="32" y="7"/>
                      </a:lnTo>
                      <a:lnTo>
                        <a:pt x="29" y="7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79960" y="586548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50" h="22">
                      <a:moveTo>
                        <a:pt x="47" y="0"/>
                      </a:moveTo>
                      <a:lnTo>
                        <a:pt x="50" y="0"/>
                      </a:lnTo>
                      <a:lnTo>
                        <a:pt x="36" y="0"/>
                      </a:lnTo>
                      <a:lnTo>
                        <a:pt x="29" y="3"/>
                      </a:lnTo>
                      <a:lnTo>
                        <a:pt x="25" y="7"/>
                      </a:lnTo>
                      <a:lnTo>
                        <a:pt x="18" y="11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3" y="11"/>
                      </a:ln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4" y="22"/>
                      </a:lnTo>
                      <a:lnTo>
                        <a:pt x="21" y="18"/>
                      </a:lnTo>
                      <a:lnTo>
                        <a:pt x="29" y="14"/>
                      </a:lnTo>
                      <a:lnTo>
                        <a:pt x="32" y="11"/>
                      </a:lnTo>
                      <a:lnTo>
                        <a:pt x="40" y="7"/>
                      </a:lnTo>
                      <a:lnTo>
                        <a:pt x="43" y="3"/>
                      </a:lnTo>
                      <a:lnTo>
                        <a:pt x="50" y="3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90400" y="586116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39" h="18">
                      <a:moveTo>
                        <a:pt x="39" y="4"/>
                      </a:moveTo>
                      <a:lnTo>
                        <a:pt x="32" y="0"/>
                      </a:lnTo>
                      <a:lnTo>
                        <a:pt x="21" y="0"/>
                      </a:lnTo>
                      <a:lnTo>
                        <a:pt x="18" y="4"/>
                      </a:lnTo>
                      <a:lnTo>
                        <a:pt x="14" y="4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0" y="15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4" y="15"/>
                      </a:lnTo>
                      <a:lnTo>
                        <a:pt x="18" y="11"/>
                      </a:lnTo>
                      <a:lnTo>
                        <a:pt x="21" y="11"/>
                      </a:lnTo>
                      <a:lnTo>
                        <a:pt x="21" y="8"/>
                      </a:lnTo>
                      <a:lnTo>
                        <a:pt x="32" y="8"/>
                      </a:lnTo>
                      <a:lnTo>
                        <a:pt x="36" y="11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98680" y="586008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54" h="18">
                      <a:moveTo>
                        <a:pt x="54" y="0"/>
                      </a:moveTo>
                      <a:lnTo>
                        <a:pt x="47" y="0"/>
                      </a:lnTo>
                      <a:lnTo>
                        <a:pt x="39" y="3"/>
                      </a:lnTo>
                      <a:lnTo>
                        <a:pt x="32" y="3"/>
                      </a:lnTo>
                      <a:lnTo>
                        <a:pt x="25" y="7"/>
                      </a:lnTo>
                      <a:lnTo>
                        <a:pt x="18" y="11"/>
                      </a:lnTo>
                      <a:lnTo>
                        <a:pt x="7" y="11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7" y="18"/>
                      </a:lnTo>
                      <a:lnTo>
                        <a:pt x="21" y="18"/>
                      </a:lnTo>
                      <a:lnTo>
                        <a:pt x="29" y="14"/>
                      </a:lnTo>
                      <a:lnTo>
                        <a:pt x="36" y="11"/>
                      </a:lnTo>
                      <a:lnTo>
                        <a:pt x="39" y="11"/>
                      </a:lnTo>
                      <a:lnTo>
                        <a:pt x="47" y="7"/>
                      </a:lnTo>
                      <a:lnTo>
                        <a:pt x="54" y="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10920" y="5856840"/>
                  <a:ext cx="13680" cy="5400"/>
                </a:xfrm>
                <a:custGeom>
                  <a:avLst/>
                  <a:gdLst/>
                  <a:ahLst/>
                  <a:rect l="l" t="t" r="r" b="b"/>
                  <a:pathLst>
                    <a:path w="61" h="18">
                      <a:moveTo>
                        <a:pt x="57" y="0"/>
                      </a:moveTo>
                      <a:lnTo>
                        <a:pt x="61" y="0"/>
                      </a:lnTo>
                      <a:lnTo>
                        <a:pt x="43" y="0"/>
                      </a:lnTo>
                      <a:lnTo>
                        <a:pt x="32" y="4"/>
                      </a:lnTo>
                      <a:lnTo>
                        <a:pt x="25" y="4"/>
                      </a:lnTo>
                      <a:lnTo>
                        <a:pt x="21" y="7"/>
                      </a:lnTo>
                      <a:lnTo>
                        <a:pt x="14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14" y="18"/>
                      </a:lnTo>
                      <a:lnTo>
                        <a:pt x="21" y="14"/>
                      </a:lnTo>
                      <a:lnTo>
                        <a:pt x="29" y="11"/>
                      </a:lnTo>
                      <a:lnTo>
                        <a:pt x="36" y="11"/>
                      </a:lnTo>
                      <a:lnTo>
                        <a:pt x="43" y="7"/>
                      </a:lnTo>
                      <a:lnTo>
                        <a:pt x="61" y="7"/>
                      </a:lnTo>
                      <a:lnTo>
                        <a:pt x="57" y="7"/>
                      </a:lnTo>
                      <a:lnTo>
                        <a:pt x="61" y="11"/>
                      </a:lnTo>
                      <a:lnTo>
                        <a:pt x="61" y="7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23880" y="5848200"/>
                  <a:ext cx="8280" cy="1044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29" y="0"/>
                      </a:moveTo>
                      <a:lnTo>
                        <a:pt x="29" y="7"/>
                      </a:lnTo>
                      <a:lnTo>
                        <a:pt x="15" y="22"/>
                      </a:lnTo>
                      <a:lnTo>
                        <a:pt x="8" y="22"/>
                      </a:lnTo>
                      <a:lnTo>
                        <a:pt x="0" y="29"/>
                      </a:lnTo>
                      <a:lnTo>
                        <a:pt x="4" y="36"/>
                      </a:lnTo>
                      <a:lnTo>
                        <a:pt x="11" y="29"/>
                      </a:lnTo>
                      <a:lnTo>
                        <a:pt x="19" y="25"/>
                      </a:lnTo>
                      <a:lnTo>
                        <a:pt x="22" y="22"/>
                      </a:lnTo>
                      <a:lnTo>
                        <a:pt x="29" y="22"/>
                      </a:lnTo>
                      <a:lnTo>
                        <a:pt x="33" y="15"/>
                      </a:lnTo>
                      <a:lnTo>
                        <a:pt x="37" y="7"/>
                      </a:lnTo>
                      <a:lnTo>
                        <a:pt x="37" y="4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30720" y="584604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40" y="14"/>
                      </a:moveTo>
                      <a:lnTo>
                        <a:pt x="40" y="11"/>
                      </a:lnTo>
                      <a:lnTo>
                        <a:pt x="29" y="11"/>
                      </a:ln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1" y="0"/>
                      </a:lnTo>
                      <a:lnTo>
                        <a:pt x="8" y="4"/>
                      </a:lnTo>
                      <a:lnTo>
                        <a:pt x="0" y="7"/>
                      </a:lnTo>
                      <a:lnTo>
                        <a:pt x="8" y="11"/>
                      </a:lnTo>
                      <a:lnTo>
                        <a:pt x="11" y="11"/>
                      </a:lnTo>
                      <a:lnTo>
                        <a:pt x="11" y="7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9" y="18"/>
                      </a:lnTo>
                      <a:lnTo>
                        <a:pt x="36" y="22"/>
                      </a:lnTo>
                      <a:lnTo>
                        <a:pt x="33" y="18"/>
                      </a:lnTo>
                      <a:lnTo>
                        <a:pt x="40" y="14"/>
                      </a:lnTo>
                      <a:lnTo>
                        <a:pt x="40" y="11"/>
                      </a:lnTo>
                      <a:lnTo>
                        <a:pt x="40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8280" y="5849280"/>
                  <a:ext cx="5400" cy="3240"/>
                </a:xfrm>
                <a:custGeom>
                  <a:avLst/>
                  <a:gdLst/>
                  <a:ahLst/>
                  <a:rect l="l" t="t" r="r" b="b"/>
                  <a:pathLst>
                    <a:path w="25" h="11">
                      <a:moveTo>
                        <a:pt x="18" y="3"/>
                      </a:move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4" y="3"/>
                      </a:lnTo>
                      <a:lnTo>
                        <a:pt x="7" y="3"/>
                      </a:lnTo>
                      <a:lnTo>
                        <a:pt x="0" y="7"/>
                      </a:lnTo>
                      <a:lnTo>
                        <a:pt x="3" y="11"/>
                      </a:lnTo>
                      <a:lnTo>
                        <a:pt x="18" y="11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5" y="3"/>
                      </a:lnTo>
                      <a:lnTo>
                        <a:pt x="25" y="7"/>
                      </a:lnTo>
                      <a:lnTo>
                        <a:pt x="25" y="3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42240" y="5842080"/>
                  <a:ext cx="2160" cy="828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11" y="0"/>
                      </a:moveTo>
                      <a:lnTo>
                        <a:pt x="0" y="3"/>
                      </a:lnTo>
                      <a:lnTo>
                        <a:pt x="0" y="28"/>
                      </a:lnTo>
                      <a:lnTo>
                        <a:pt x="7" y="28"/>
                      </a:lnTo>
                      <a:lnTo>
                        <a:pt x="7" y="7"/>
                      </a:lnTo>
                      <a:lnTo>
                        <a:pt x="11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44760" y="5840640"/>
                  <a:ext cx="5400" cy="396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18" y="11"/>
                      </a:moveTo>
                      <a:lnTo>
                        <a:pt x="21" y="7"/>
                      </a:lnTo>
                      <a:lnTo>
                        <a:pt x="18" y="7"/>
                      </a:lnTo>
                      <a:lnTo>
                        <a:pt x="14" y="4"/>
                      </a:lnTo>
                      <a:lnTo>
                        <a:pt x="7" y="4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11"/>
                      </a:lnTo>
                      <a:lnTo>
                        <a:pt x="14" y="11"/>
                      </a:lnTo>
                      <a:lnTo>
                        <a:pt x="18" y="14"/>
                      </a:lnTo>
                      <a:lnTo>
                        <a:pt x="21" y="14"/>
                      </a:lnTo>
                      <a:lnTo>
                        <a:pt x="25" y="11"/>
                      </a:lnTo>
                      <a:lnTo>
                        <a:pt x="21" y="14"/>
                      </a:lnTo>
                      <a:lnTo>
                        <a:pt x="25" y="14"/>
                      </a:lnTo>
                      <a:lnTo>
                        <a:pt x="25" y="11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48720" y="583416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21" h="33">
                      <a:moveTo>
                        <a:pt x="10" y="4"/>
                      </a:moveTo>
                      <a:lnTo>
                        <a:pt x="18" y="11"/>
                      </a:lnTo>
                      <a:lnTo>
                        <a:pt x="18" y="15"/>
                      </a:lnTo>
                      <a:lnTo>
                        <a:pt x="14" y="15"/>
                      </a:lnTo>
                      <a:lnTo>
                        <a:pt x="10" y="18"/>
                      </a:lnTo>
                      <a:lnTo>
                        <a:pt x="3" y="22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7" y="33"/>
                      </a:lnTo>
                      <a:lnTo>
                        <a:pt x="7" y="29"/>
                      </a:lnTo>
                      <a:lnTo>
                        <a:pt x="10" y="29"/>
                      </a:lnTo>
                      <a:lnTo>
                        <a:pt x="21" y="18"/>
                      </a:lnTo>
                      <a:lnTo>
                        <a:pt x="21" y="8"/>
                      </a:ln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0" y="4"/>
                      </a:lnTo>
                      <a:lnTo>
                        <a:pt x="10" y="8"/>
                      </a:lnTo>
                      <a:lnTo>
                        <a:pt x="14" y="8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51240" y="58287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18" y="4"/>
                      </a:move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4" y="15"/>
                      </a:lnTo>
                      <a:lnTo>
                        <a:pt x="0" y="22"/>
                      </a:lnTo>
                      <a:lnTo>
                        <a:pt x="8" y="22"/>
                      </a:lnTo>
                      <a:lnTo>
                        <a:pt x="8" y="18"/>
                      </a:lnTo>
                      <a:lnTo>
                        <a:pt x="15" y="11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8" y="0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55200" y="582804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40" h="14">
                      <a:moveTo>
                        <a:pt x="36" y="0"/>
                      </a:moveTo>
                      <a:lnTo>
                        <a:pt x="33" y="0"/>
                      </a:lnTo>
                      <a:lnTo>
                        <a:pt x="26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11" y="14"/>
                      </a:lnTo>
                      <a:lnTo>
                        <a:pt x="26" y="14"/>
                      </a:lnTo>
                      <a:lnTo>
                        <a:pt x="29" y="11"/>
                      </a:lnTo>
                      <a:lnTo>
                        <a:pt x="36" y="11"/>
                      </a:lnTo>
                      <a:lnTo>
                        <a:pt x="40" y="3"/>
                      </a:lnTo>
                      <a:lnTo>
                        <a:pt x="36" y="7"/>
                      </a:lnTo>
                      <a:lnTo>
                        <a:pt x="36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63480" y="5826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19" y="7"/>
                      </a:moveTo>
                      <a:lnTo>
                        <a:pt x="22" y="0"/>
                      </a:lnTo>
                      <a:lnTo>
                        <a:pt x="19" y="4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15" y="15"/>
                      </a:lnTo>
                      <a:lnTo>
                        <a:pt x="19" y="11"/>
                      </a:lnTo>
                      <a:lnTo>
                        <a:pt x="22" y="11"/>
                      </a:lnTo>
                      <a:lnTo>
                        <a:pt x="26" y="7"/>
                      </a:lnTo>
                      <a:lnTo>
                        <a:pt x="26" y="4"/>
                      </a:lnTo>
                      <a:lnTo>
                        <a:pt x="26" y="7"/>
                      </a:lnTo>
                      <a:lnTo>
                        <a:pt x="29" y="4"/>
                      </a:lnTo>
                      <a:lnTo>
                        <a:pt x="26" y="4"/>
                      </a:lnTo>
                      <a:lnTo>
                        <a:pt x="19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6000" y="5820120"/>
                  <a:ext cx="3240" cy="8640"/>
                </a:xfrm>
                <a:custGeom>
                  <a:avLst/>
                  <a:gdLst/>
                  <a:ahLst/>
                  <a:rect l="l" t="t" r="r" b="b"/>
                  <a:pathLst>
                    <a:path w="15" h="29">
                      <a:moveTo>
                        <a:pt x="4" y="0"/>
                      </a:moveTo>
                      <a:lnTo>
                        <a:pt x="0" y="8"/>
                      </a:lnTo>
                      <a:lnTo>
                        <a:pt x="4" y="15"/>
                      </a:lnTo>
                      <a:lnTo>
                        <a:pt x="8" y="22"/>
                      </a:lnTo>
                      <a:lnTo>
                        <a:pt x="8" y="29"/>
                      </a:lnTo>
                      <a:lnTo>
                        <a:pt x="15" y="26"/>
                      </a:lnTo>
                      <a:lnTo>
                        <a:pt x="11" y="19"/>
                      </a:lnTo>
                      <a:lnTo>
                        <a:pt x="8" y="15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66720" y="581832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25" y="0"/>
                      </a:moveTo>
                      <a:lnTo>
                        <a:pt x="22" y="0"/>
                      </a:lnTo>
                      <a:lnTo>
                        <a:pt x="18" y="4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7" y="7"/>
                      </a:lnTo>
                      <a:lnTo>
                        <a:pt x="25" y="7"/>
                      </a:lnTo>
                      <a:lnTo>
                        <a:pt x="29" y="4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72480" y="581832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18" y="15"/>
                      </a:moveTo>
                      <a:lnTo>
                        <a:pt x="18" y="1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7" y="11"/>
                      </a:lnTo>
                      <a:lnTo>
                        <a:pt x="11" y="11"/>
                      </a:lnTo>
                      <a:lnTo>
                        <a:pt x="15" y="15"/>
                      </a:lnTo>
                      <a:lnTo>
                        <a:pt x="11" y="1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8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5200" y="5821560"/>
                  <a:ext cx="535320" cy="653400"/>
                </a:xfrm>
                <a:custGeom>
                  <a:avLst/>
                  <a:gdLst/>
                  <a:ahLst/>
                  <a:rect l="l" t="t" r="r" b="b"/>
                  <a:pathLst>
                    <a:path w="2350" h="2195">
                      <a:moveTo>
                        <a:pt x="2073" y="29"/>
                      </a:moveTo>
                      <a:lnTo>
                        <a:pt x="2076" y="29"/>
                      </a:lnTo>
                      <a:lnTo>
                        <a:pt x="2080" y="33"/>
                      </a:lnTo>
                      <a:lnTo>
                        <a:pt x="2091" y="33"/>
                      </a:lnTo>
                      <a:lnTo>
                        <a:pt x="2094" y="36"/>
                      </a:lnTo>
                      <a:lnTo>
                        <a:pt x="2094" y="47"/>
                      </a:lnTo>
                      <a:lnTo>
                        <a:pt x="2098" y="51"/>
                      </a:lnTo>
                      <a:lnTo>
                        <a:pt x="2098" y="54"/>
                      </a:lnTo>
                      <a:lnTo>
                        <a:pt x="2102" y="54"/>
                      </a:lnTo>
                      <a:lnTo>
                        <a:pt x="2105" y="58"/>
                      </a:lnTo>
                      <a:lnTo>
                        <a:pt x="2109" y="58"/>
                      </a:lnTo>
                      <a:lnTo>
                        <a:pt x="2112" y="61"/>
                      </a:lnTo>
                      <a:lnTo>
                        <a:pt x="2116" y="61"/>
                      </a:lnTo>
                      <a:lnTo>
                        <a:pt x="2120" y="65"/>
                      </a:lnTo>
                      <a:lnTo>
                        <a:pt x="2127" y="58"/>
                      </a:lnTo>
                      <a:lnTo>
                        <a:pt x="2166" y="58"/>
                      </a:lnTo>
                      <a:lnTo>
                        <a:pt x="2177" y="47"/>
                      </a:lnTo>
                      <a:lnTo>
                        <a:pt x="2181" y="47"/>
                      </a:lnTo>
                      <a:lnTo>
                        <a:pt x="2184" y="43"/>
                      </a:lnTo>
                      <a:lnTo>
                        <a:pt x="2188" y="43"/>
                      </a:lnTo>
                      <a:lnTo>
                        <a:pt x="2195" y="47"/>
                      </a:lnTo>
                      <a:lnTo>
                        <a:pt x="2203" y="47"/>
                      </a:lnTo>
                      <a:lnTo>
                        <a:pt x="2210" y="51"/>
                      </a:lnTo>
                      <a:lnTo>
                        <a:pt x="2217" y="47"/>
                      </a:lnTo>
                      <a:lnTo>
                        <a:pt x="2224" y="47"/>
                      </a:lnTo>
                      <a:lnTo>
                        <a:pt x="2228" y="43"/>
                      </a:lnTo>
                      <a:lnTo>
                        <a:pt x="2235" y="43"/>
                      </a:lnTo>
                      <a:lnTo>
                        <a:pt x="2242" y="40"/>
                      </a:lnTo>
                      <a:lnTo>
                        <a:pt x="2253" y="43"/>
                      </a:lnTo>
                      <a:lnTo>
                        <a:pt x="2275" y="43"/>
                      </a:lnTo>
                      <a:lnTo>
                        <a:pt x="2285" y="40"/>
                      </a:lnTo>
                      <a:lnTo>
                        <a:pt x="2318" y="40"/>
                      </a:lnTo>
                      <a:lnTo>
                        <a:pt x="2325" y="36"/>
                      </a:lnTo>
                      <a:lnTo>
                        <a:pt x="2343" y="54"/>
                      </a:lnTo>
                      <a:lnTo>
                        <a:pt x="2339" y="58"/>
                      </a:lnTo>
                      <a:lnTo>
                        <a:pt x="2332" y="58"/>
                      </a:lnTo>
                      <a:lnTo>
                        <a:pt x="2325" y="65"/>
                      </a:lnTo>
                      <a:lnTo>
                        <a:pt x="2307" y="65"/>
                      </a:lnTo>
                      <a:lnTo>
                        <a:pt x="2303" y="61"/>
                      </a:lnTo>
                      <a:lnTo>
                        <a:pt x="2296" y="65"/>
                      </a:lnTo>
                      <a:lnTo>
                        <a:pt x="2289" y="65"/>
                      </a:lnTo>
                      <a:lnTo>
                        <a:pt x="2282" y="69"/>
                      </a:lnTo>
                      <a:lnTo>
                        <a:pt x="2275" y="72"/>
                      </a:lnTo>
                      <a:lnTo>
                        <a:pt x="2267" y="72"/>
                      </a:lnTo>
                      <a:lnTo>
                        <a:pt x="2264" y="76"/>
                      </a:lnTo>
                      <a:lnTo>
                        <a:pt x="2253" y="72"/>
                      </a:lnTo>
                      <a:lnTo>
                        <a:pt x="2246" y="72"/>
                      </a:lnTo>
                      <a:lnTo>
                        <a:pt x="2239" y="76"/>
                      </a:lnTo>
                      <a:lnTo>
                        <a:pt x="2231" y="79"/>
                      </a:lnTo>
                      <a:lnTo>
                        <a:pt x="2224" y="87"/>
                      </a:lnTo>
                      <a:lnTo>
                        <a:pt x="2217" y="90"/>
                      </a:lnTo>
                      <a:lnTo>
                        <a:pt x="2210" y="94"/>
                      </a:lnTo>
                      <a:lnTo>
                        <a:pt x="2203" y="97"/>
                      </a:lnTo>
                      <a:lnTo>
                        <a:pt x="2184" y="97"/>
                      </a:lnTo>
                      <a:lnTo>
                        <a:pt x="2177" y="105"/>
                      </a:lnTo>
                      <a:lnTo>
                        <a:pt x="2177" y="108"/>
                      </a:lnTo>
                      <a:lnTo>
                        <a:pt x="2174" y="108"/>
                      </a:lnTo>
                      <a:lnTo>
                        <a:pt x="2170" y="112"/>
                      </a:lnTo>
                      <a:lnTo>
                        <a:pt x="2166" y="112"/>
                      </a:lnTo>
                      <a:lnTo>
                        <a:pt x="2163" y="108"/>
                      </a:lnTo>
                      <a:lnTo>
                        <a:pt x="2156" y="108"/>
                      </a:lnTo>
                      <a:lnTo>
                        <a:pt x="2156" y="105"/>
                      </a:lnTo>
                      <a:lnTo>
                        <a:pt x="2152" y="105"/>
                      </a:lnTo>
                      <a:lnTo>
                        <a:pt x="2148" y="112"/>
                      </a:lnTo>
                      <a:lnTo>
                        <a:pt x="2141" y="115"/>
                      </a:lnTo>
                      <a:lnTo>
                        <a:pt x="2127" y="115"/>
                      </a:lnTo>
                      <a:lnTo>
                        <a:pt x="2120" y="119"/>
                      </a:lnTo>
                      <a:lnTo>
                        <a:pt x="2112" y="119"/>
                      </a:lnTo>
                      <a:lnTo>
                        <a:pt x="2109" y="126"/>
                      </a:lnTo>
                      <a:lnTo>
                        <a:pt x="2105" y="133"/>
                      </a:lnTo>
                      <a:lnTo>
                        <a:pt x="2105" y="141"/>
                      </a:lnTo>
                      <a:lnTo>
                        <a:pt x="2094" y="151"/>
                      </a:lnTo>
                      <a:lnTo>
                        <a:pt x="2091" y="151"/>
                      </a:lnTo>
                      <a:lnTo>
                        <a:pt x="2084" y="159"/>
                      </a:lnTo>
                      <a:lnTo>
                        <a:pt x="2087" y="170"/>
                      </a:lnTo>
                      <a:lnTo>
                        <a:pt x="2091" y="180"/>
                      </a:lnTo>
                      <a:lnTo>
                        <a:pt x="2094" y="191"/>
                      </a:lnTo>
                      <a:lnTo>
                        <a:pt x="2094" y="242"/>
                      </a:lnTo>
                      <a:lnTo>
                        <a:pt x="2091" y="252"/>
                      </a:lnTo>
                      <a:lnTo>
                        <a:pt x="2094" y="263"/>
                      </a:lnTo>
                      <a:lnTo>
                        <a:pt x="2098" y="274"/>
                      </a:lnTo>
                      <a:lnTo>
                        <a:pt x="2102" y="281"/>
                      </a:lnTo>
                      <a:lnTo>
                        <a:pt x="2105" y="292"/>
                      </a:lnTo>
                      <a:lnTo>
                        <a:pt x="2112" y="299"/>
                      </a:lnTo>
                      <a:lnTo>
                        <a:pt x="2116" y="299"/>
                      </a:lnTo>
                      <a:lnTo>
                        <a:pt x="2123" y="296"/>
                      </a:lnTo>
                      <a:lnTo>
                        <a:pt x="2127" y="292"/>
                      </a:lnTo>
                      <a:lnTo>
                        <a:pt x="2127" y="274"/>
                      </a:lnTo>
                      <a:lnTo>
                        <a:pt x="2134" y="274"/>
                      </a:lnTo>
                      <a:lnTo>
                        <a:pt x="2134" y="278"/>
                      </a:lnTo>
                      <a:lnTo>
                        <a:pt x="2138" y="278"/>
                      </a:lnTo>
                      <a:lnTo>
                        <a:pt x="2141" y="281"/>
                      </a:lnTo>
                      <a:lnTo>
                        <a:pt x="2148" y="281"/>
                      </a:lnTo>
                      <a:lnTo>
                        <a:pt x="2152" y="285"/>
                      </a:lnTo>
                      <a:lnTo>
                        <a:pt x="2156" y="281"/>
                      </a:lnTo>
                      <a:lnTo>
                        <a:pt x="2170" y="281"/>
                      </a:lnTo>
                      <a:lnTo>
                        <a:pt x="2177" y="278"/>
                      </a:lnTo>
                      <a:lnTo>
                        <a:pt x="2181" y="274"/>
                      </a:lnTo>
                      <a:lnTo>
                        <a:pt x="2188" y="274"/>
                      </a:lnTo>
                      <a:lnTo>
                        <a:pt x="2195" y="270"/>
                      </a:lnTo>
                      <a:lnTo>
                        <a:pt x="2228" y="270"/>
                      </a:lnTo>
                      <a:lnTo>
                        <a:pt x="2235" y="274"/>
                      </a:lnTo>
                      <a:lnTo>
                        <a:pt x="2242" y="278"/>
                      </a:lnTo>
                      <a:lnTo>
                        <a:pt x="2246" y="285"/>
                      </a:lnTo>
                      <a:lnTo>
                        <a:pt x="2253" y="281"/>
                      </a:lnTo>
                      <a:lnTo>
                        <a:pt x="2264" y="285"/>
                      </a:lnTo>
                      <a:lnTo>
                        <a:pt x="2271" y="285"/>
                      </a:lnTo>
                      <a:lnTo>
                        <a:pt x="2278" y="288"/>
                      </a:lnTo>
                      <a:lnTo>
                        <a:pt x="2282" y="292"/>
                      </a:lnTo>
                      <a:lnTo>
                        <a:pt x="2289" y="296"/>
                      </a:lnTo>
                      <a:lnTo>
                        <a:pt x="2296" y="292"/>
                      </a:lnTo>
                      <a:lnTo>
                        <a:pt x="2303" y="288"/>
                      </a:lnTo>
                      <a:lnTo>
                        <a:pt x="2307" y="288"/>
                      </a:lnTo>
                      <a:lnTo>
                        <a:pt x="2314" y="292"/>
                      </a:lnTo>
                      <a:lnTo>
                        <a:pt x="2318" y="299"/>
                      </a:lnTo>
                      <a:lnTo>
                        <a:pt x="2321" y="306"/>
                      </a:lnTo>
                      <a:lnTo>
                        <a:pt x="2332" y="317"/>
                      </a:lnTo>
                      <a:lnTo>
                        <a:pt x="2343" y="310"/>
                      </a:lnTo>
                      <a:lnTo>
                        <a:pt x="2347" y="317"/>
                      </a:lnTo>
                      <a:lnTo>
                        <a:pt x="2350" y="325"/>
                      </a:lnTo>
                      <a:lnTo>
                        <a:pt x="2350" y="332"/>
                      </a:lnTo>
                      <a:lnTo>
                        <a:pt x="2347" y="335"/>
                      </a:lnTo>
                      <a:lnTo>
                        <a:pt x="2347" y="343"/>
                      </a:lnTo>
                      <a:lnTo>
                        <a:pt x="2343" y="350"/>
                      </a:lnTo>
                      <a:lnTo>
                        <a:pt x="2339" y="357"/>
                      </a:lnTo>
                      <a:lnTo>
                        <a:pt x="2339" y="397"/>
                      </a:lnTo>
                      <a:lnTo>
                        <a:pt x="2336" y="407"/>
                      </a:lnTo>
                      <a:lnTo>
                        <a:pt x="2329" y="415"/>
                      </a:lnTo>
                      <a:lnTo>
                        <a:pt x="2325" y="425"/>
                      </a:lnTo>
                      <a:lnTo>
                        <a:pt x="2321" y="436"/>
                      </a:lnTo>
                      <a:lnTo>
                        <a:pt x="2314" y="443"/>
                      </a:lnTo>
                      <a:lnTo>
                        <a:pt x="2314" y="461"/>
                      </a:lnTo>
                      <a:lnTo>
                        <a:pt x="2318" y="476"/>
                      </a:lnTo>
                      <a:lnTo>
                        <a:pt x="2318" y="490"/>
                      </a:lnTo>
                      <a:lnTo>
                        <a:pt x="2314" y="508"/>
                      </a:lnTo>
                      <a:lnTo>
                        <a:pt x="2318" y="519"/>
                      </a:lnTo>
                      <a:lnTo>
                        <a:pt x="2318" y="541"/>
                      </a:lnTo>
                      <a:lnTo>
                        <a:pt x="2314" y="552"/>
                      </a:lnTo>
                      <a:lnTo>
                        <a:pt x="2303" y="562"/>
                      </a:lnTo>
                      <a:lnTo>
                        <a:pt x="2293" y="570"/>
                      </a:lnTo>
                      <a:lnTo>
                        <a:pt x="2282" y="573"/>
                      </a:lnTo>
                      <a:lnTo>
                        <a:pt x="2271" y="577"/>
                      </a:lnTo>
                      <a:lnTo>
                        <a:pt x="2257" y="580"/>
                      </a:lnTo>
                      <a:lnTo>
                        <a:pt x="2246" y="584"/>
                      </a:lnTo>
                      <a:lnTo>
                        <a:pt x="2235" y="588"/>
                      </a:lnTo>
                      <a:lnTo>
                        <a:pt x="2224" y="595"/>
                      </a:lnTo>
                      <a:lnTo>
                        <a:pt x="2181" y="627"/>
                      </a:lnTo>
                      <a:lnTo>
                        <a:pt x="2170" y="631"/>
                      </a:lnTo>
                      <a:lnTo>
                        <a:pt x="2163" y="635"/>
                      </a:lnTo>
                      <a:lnTo>
                        <a:pt x="2152" y="635"/>
                      </a:lnTo>
                      <a:lnTo>
                        <a:pt x="2141" y="638"/>
                      </a:lnTo>
                      <a:lnTo>
                        <a:pt x="2134" y="642"/>
                      </a:lnTo>
                      <a:lnTo>
                        <a:pt x="2123" y="645"/>
                      </a:lnTo>
                      <a:lnTo>
                        <a:pt x="2116" y="649"/>
                      </a:lnTo>
                      <a:lnTo>
                        <a:pt x="2105" y="656"/>
                      </a:lnTo>
                      <a:lnTo>
                        <a:pt x="2105" y="678"/>
                      </a:lnTo>
                      <a:lnTo>
                        <a:pt x="2112" y="685"/>
                      </a:lnTo>
                      <a:lnTo>
                        <a:pt x="2120" y="689"/>
                      </a:lnTo>
                      <a:lnTo>
                        <a:pt x="2145" y="689"/>
                      </a:lnTo>
                      <a:lnTo>
                        <a:pt x="2148" y="692"/>
                      </a:lnTo>
                      <a:lnTo>
                        <a:pt x="2148" y="703"/>
                      </a:lnTo>
                      <a:lnTo>
                        <a:pt x="2145" y="714"/>
                      </a:lnTo>
                      <a:lnTo>
                        <a:pt x="2145" y="725"/>
                      </a:lnTo>
                      <a:lnTo>
                        <a:pt x="2148" y="732"/>
                      </a:lnTo>
                      <a:lnTo>
                        <a:pt x="2145" y="743"/>
                      </a:lnTo>
                      <a:lnTo>
                        <a:pt x="2141" y="750"/>
                      </a:lnTo>
                      <a:lnTo>
                        <a:pt x="2138" y="753"/>
                      </a:lnTo>
                      <a:lnTo>
                        <a:pt x="2134" y="753"/>
                      </a:lnTo>
                      <a:lnTo>
                        <a:pt x="2130" y="757"/>
                      </a:lnTo>
                      <a:lnTo>
                        <a:pt x="2116" y="757"/>
                      </a:lnTo>
                      <a:lnTo>
                        <a:pt x="2112" y="761"/>
                      </a:lnTo>
                      <a:lnTo>
                        <a:pt x="2109" y="761"/>
                      </a:lnTo>
                      <a:lnTo>
                        <a:pt x="2105" y="779"/>
                      </a:lnTo>
                      <a:lnTo>
                        <a:pt x="2102" y="800"/>
                      </a:lnTo>
                      <a:lnTo>
                        <a:pt x="2098" y="818"/>
                      </a:lnTo>
                      <a:lnTo>
                        <a:pt x="2098" y="840"/>
                      </a:lnTo>
                      <a:lnTo>
                        <a:pt x="2094" y="851"/>
                      </a:lnTo>
                      <a:lnTo>
                        <a:pt x="2091" y="865"/>
                      </a:lnTo>
                      <a:lnTo>
                        <a:pt x="2087" y="876"/>
                      </a:lnTo>
                      <a:lnTo>
                        <a:pt x="2087" y="890"/>
                      </a:lnTo>
                      <a:lnTo>
                        <a:pt x="2080" y="890"/>
                      </a:lnTo>
                      <a:lnTo>
                        <a:pt x="2073" y="883"/>
                      </a:lnTo>
                      <a:lnTo>
                        <a:pt x="2073" y="880"/>
                      </a:lnTo>
                      <a:lnTo>
                        <a:pt x="2069" y="876"/>
                      </a:lnTo>
                      <a:lnTo>
                        <a:pt x="2069" y="872"/>
                      </a:lnTo>
                      <a:lnTo>
                        <a:pt x="2062" y="865"/>
                      </a:lnTo>
                      <a:lnTo>
                        <a:pt x="2044" y="865"/>
                      </a:lnTo>
                      <a:lnTo>
                        <a:pt x="2030" y="880"/>
                      </a:lnTo>
                      <a:lnTo>
                        <a:pt x="2019" y="887"/>
                      </a:lnTo>
                      <a:lnTo>
                        <a:pt x="2008" y="890"/>
                      </a:lnTo>
                      <a:lnTo>
                        <a:pt x="2001" y="894"/>
                      </a:lnTo>
                      <a:lnTo>
                        <a:pt x="1990" y="898"/>
                      </a:lnTo>
                      <a:lnTo>
                        <a:pt x="1979" y="901"/>
                      </a:lnTo>
                      <a:lnTo>
                        <a:pt x="1968" y="905"/>
                      </a:lnTo>
                      <a:lnTo>
                        <a:pt x="1965" y="905"/>
                      </a:lnTo>
                      <a:lnTo>
                        <a:pt x="1957" y="901"/>
                      </a:lnTo>
                      <a:lnTo>
                        <a:pt x="1950" y="898"/>
                      </a:lnTo>
                      <a:lnTo>
                        <a:pt x="1943" y="894"/>
                      </a:lnTo>
                      <a:lnTo>
                        <a:pt x="1936" y="887"/>
                      </a:lnTo>
                      <a:lnTo>
                        <a:pt x="1929" y="883"/>
                      </a:lnTo>
                      <a:lnTo>
                        <a:pt x="1911" y="883"/>
                      </a:lnTo>
                      <a:lnTo>
                        <a:pt x="1911" y="880"/>
                      </a:lnTo>
                      <a:lnTo>
                        <a:pt x="1907" y="872"/>
                      </a:lnTo>
                      <a:lnTo>
                        <a:pt x="1907" y="865"/>
                      </a:lnTo>
                      <a:lnTo>
                        <a:pt x="1893" y="851"/>
                      </a:lnTo>
                      <a:lnTo>
                        <a:pt x="1882" y="854"/>
                      </a:lnTo>
                      <a:lnTo>
                        <a:pt x="1871" y="858"/>
                      </a:lnTo>
                      <a:lnTo>
                        <a:pt x="1864" y="865"/>
                      </a:lnTo>
                      <a:lnTo>
                        <a:pt x="1857" y="876"/>
                      </a:lnTo>
                      <a:lnTo>
                        <a:pt x="1849" y="883"/>
                      </a:lnTo>
                      <a:lnTo>
                        <a:pt x="1838" y="887"/>
                      </a:lnTo>
                      <a:lnTo>
                        <a:pt x="1828" y="890"/>
                      </a:lnTo>
                      <a:lnTo>
                        <a:pt x="1817" y="887"/>
                      </a:lnTo>
                      <a:lnTo>
                        <a:pt x="1810" y="883"/>
                      </a:lnTo>
                      <a:lnTo>
                        <a:pt x="1806" y="883"/>
                      </a:lnTo>
                      <a:lnTo>
                        <a:pt x="1799" y="880"/>
                      </a:lnTo>
                      <a:lnTo>
                        <a:pt x="1763" y="880"/>
                      </a:lnTo>
                      <a:lnTo>
                        <a:pt x="1759" y="872"/>
                      </a:lnTo>
                      <a:lnTo>
                        <a:pt x="1734" y="847"/>
                      </a:lnTo>
                      <a:lnTo>
                        <a:pt x="1727" y="847"/>
                      </a:lnTo>
                      <a:lnTo>
                        <a:pt x="1716" y="851"/>
                      </a:lnTo>
                      <a:lnTo>
                        <a:pt x="1709" y="858"/>
                      </a:lnTo>
                      <a:lnTo>
                        <a:pt x="1709" y="862"/>
                      </a:lnTo>
                      <a:lnTo>
                        <a:pt x="1702" y="869"/>
                      </a:lnTo>
                      <a:lnTo>
                        <a:pt x="1702" y="872"/>
                      </a:lnTo>
                      <a:lnTo>
                        <a:pt x="1698" y="880"/>
                      </a:lnTo>
                      <a:lnTo>
                        <a:pt x="1694" y="883"/>
                      </a:lnTo>
                      <a:lnTo>
                        <a:pt x="1665" y="901"/>
                      </a:lnTo>
                      <a:lnTo>
                        <a:pt x="1665" y="923"/>
                      </a:lnTo>
                      <a:lnTo>
                        <a:pt x="1662" y="930"/>
                      </a:lnTo>
                      <a:lnTo>
                        <a:pt x="1655" y="937"/>
                      </a:lnTo>
                      <a:lnTo>
                        <a:pt x="1644" y="937"/>
                      </a:lnTo>
                      <a:lnTo>
                        <a:pt x="1633" y="945"/>
                      </a:lnTo>
                      <a:lnTo>
                        <a:pt x="1622" y="952"/>
                      </a:lnTo>
                      <a:lnTo>
                        <a:pt x="1615" y="963"/>
                      </a:lnTo>
                      <a:lnTo>
                        <a:pt x="1590" y="988"/>
                      </a:lnTo>
                      <a:lnTo>
                        <a:pt x="1575" y="991"/>
                      </a:lnTo>
                      <a:lnTo>
                        <a:pt x="1572" y="999"/>
                      </a:lnTo>
                      <a:lnTo>
                        <a:pt x="1565" y="1009"/>
                      </a:lnTo>
                      <a:lnTo>
                        <a:pt x="1561" y="1017"/>
                      </a:lnTo>
                      <a:lnTo>
                        <a:pt x="1557" y="1027"/>
                      </a:lnTo>
                      <a:lnTo>
                        <a:pt x="1554" y="1035"/>
                      </a:lnTo>
                      <a:lnTo>
                        <a:pt x="1550" y="1045"/>
                      </a:lnTo>
                      <a:lnTo>
                        <a:pt x="1547" y="1053"/>
                      </a:lnTo>
                      <a:lnTo>
                        <a:pt x="1536" y="1060"/>
                      </a:lnTo>
                      <a:lnTo>
                        <a:pt x="1532" y="1067"/>
                      </a:lnTo>
                      <a:lnTo>
                        <a:pt x="1532" y="1074"/>
                      </a:lnTo>
                      <a:lnTo>
                        <a:pt x="1529" y="1082"/>
                      </a:lnTo>
                      <a:lnTo>
                        <a:pt x="1521" y="1085"/>
                      </a:lnTo>
                      <a:lnTo>
                        <a:pt x="1503" y="1085"/>
                      </a:lnTo>
                      <a:lnTo>
                        <a:pt x="1500" y="1089"/>
                      </a:lnTo>
                      <a:lnTo>
                        <a:pt x="1493" y="1092"/>
                      </a:lnTo>
                      <a:lnTo>
                        <a:pt x="1482" y="1103"/>
                      </a:lnTo>
                      <a:lnTo>
                        <a:pt x="1471" y="1100"/>
                      </a:lnTo>
                      <a:lnTo>
                        <a:pt x="1460" y="1100"/>
                      </a:lnTo>
                      <a:lnTo>
                        <a:pt x="1449" y="1107"/>
                      </a:lnTo>
                      <a:lnTo>
                        <a:pt x="1446" y="1114"/>
                      </a:lnTo>
                      <a:lnTo>
                        <a:pt x="1442" y="1125"/>
                      </a:lnTo>
                      <a:lnTo>
                        <a:pt x="1435" y="1132"/>
                      </a:lnTo>
                      <a:lnTo>
                        <a:pt x="1431" y="1143"/>
                      </a:lnTo>
                      <a:lnTo>
                        <a:pt x="1420" y="1146"/>
                      </a:lnTo>
                      <a:lnTo>
                        <a:pt x="1410" y="1157"/>
                      </a:lnTo>
                      <a:lnTo>
                        <a:pt x="1399" y="1164"/>
                      </a:lnTo>
                      <a:lnTo>
                        <a:pt x="1392" y="1168"/>
                      </a:lnTo>
                      <a:lnTo>
                        <a:pt x="1381" y="1179"/>
                      </a:lnTo>
                      <a:lnTo>
                        <a:pt x="1381" y="1186"/>
                      </a:lnTo>
                      <a:lnTo>
                        <a:pt x="1384" y="1193"/>
                      </a:lnTo>
                      <a:lnTo>
                        <a:pt x="1392" y="1197"/>
                      </a:lnTo>
                      <a:lnTo>
                        <a:pt x="1395" y="1200"/>
                      </a:lnTo>
                      <a:lnTo>
                        <a:pt x="1431" y="1200"/>
                      </a:lnTo>
                      <a:lnTo>
                        <a:pt x="1442" y="1211"/>
                      </a:lnTo>
                      <a:lnTo>
                        <a:pt x="1449" y="1215"/>
                      </a:lnTo>
                      <a:lnTo>
                        <a:pt x="1456" y="1222"/>
                      </a:lnTo>
                      <a:lnTo>
                        <a:pt x="1464" y="1226"/>
                      </a:lnTo>
                      <a:lnTo>
                        <a:pt x="1471" y="1229"/>
                      </a:lnTo>
                      <a:lnTo>
                        <a:pt x="1478" y="1233"/>
                      </a:lnTo>
                      <a:lnTo>
                        <a:pt x="1482" y="1244"/>
                      </a:lnTo>
                      <a:lnTo>
                        <a:pt x="1482" y="1258"/>
                      </a:lnTo>
                      <a:lnTo>
                        <a:pt x="1478" y="1265"/>
                      </a:lnTo>
                      <a:lnTo>
                        <a:pt x="1474" y="1269"/>
                      </a:lnTo>
                      <a:lnTo>
                        <a:pt x="1460" y="1269"/>
                      </a:lnTo>
                      <a:lnTo>
                        <a:pt x="1449" y="1273"/>
                      </a:lnTo>
                      <a:lnTo>
                        <a:pt x="1428" y="1294"/>
                      </a:lnTo>
                      <a:lnTo>
                        <a:pt x="1417" y="1294"/>
                      </a:lnTo>
                      <a:lnTo>
                        <a:pt x="1406" y="1291"/>
                      </a:lnTo>
                      <a:lnTo>
                        <a:pt x="1402" y="1287"/>
                      </a:lnTo>
                      <a:lnTo>
                        <a:pt x="1395" y="1283"/>
                      </a:lnTo>
                      <a:lnTo>
                        <a:pt x="1392" y="1283"/>
                      </a:lnTo>
                      <a:lnTo>
                        <a:pt x="1384" y="1280"/>
                      </a:lnTo>
                      <a:lnTo>
                        <a:pt x="1377" y="1280"/>
                      </a:lnTo>
                      <a:lnTo>
                        <a:pt x="1374" y="1276"/>
                      </a:lnTo>
                      <a:lnTo>
                        <a:pt x="1363" y="1276"/>
                      </a:lnTo>
                      <a:lnTo>
                        <a:pt x="1356" y="1283"/>
                      </a:lnTo>
                      <a:lnTo>
                        <a:pt x="1348" y="1287"/>
                      </a:lnTo>
                      <a:lnTo>
                        <a:pt x="1345" y="1294"/>
                      </a:lnTo>
                      <a:lnTo>
                        <a:pt x="1327" y="1312"/>
                      </a:lnTo>
                      <a:lnTo>
                        <a:pt x="1320" y="1316"/>
                      </a:lnTo>
                      <a:lnTo>
                        <a:pt x="1312" y="1319"/>
                      </a:lnTo>
                      <a:lnTo>
                        <a:pt x="1312" y="1323"/>
                      </a:lnTo>
                      <a:lnTo>
                        <a:pt x="1309" y="1330"/>
                      </a:lnTo>
                      <a:lnTo>
                        <a:pt x="1305" y="1337"/>
                      </a:lnTo>
                      <a:lnTo>
                        <a:pt x="1298" y="1341"/>
                      </a:lnTo>
                      <a:lnTo>
                        <a:pt x="1294" y="1345"/>
                      </a:lnTo>
                      <a:lnTo>
                        <a:pt x="1291" y="1352"/>
                      </a:lnTo>
                      <a:lnTo>
                        <a:pt x="1283" y="1359"/>
                      </a:lnTo>
                      <a:lnTo>
                        <a:pt x="1273" y="1359"/>
                      </a:lnTo>
                      <a:lnTo>
                        <a:pt x="1269" y="1355"/>
                      </a:lnTo>
                      <a:lnTo>
                        <a:pt x="1265" y="1355"/>
                      </a:lnTo>
                      <a:lnTo>
                        <a:pt x="1262" y="1352"/>
                      </a:lnTo>
                      <a:lnTo>
                        <a:pt x="1258" y="1352"/>
                      </a:lnTo>
                      <a:lnTo>
                        <a:pt x="1255" y="1355"/>
                      </a:lnTo>
                      <a:lnTo>
                        <a:pt x="1251" y="1355"/>
                      </a:lnTo>
                      <a:lnTo>
                        <a:pt x="1244" y="1363"/>
                      </a:lnTo>
                      <a:lnTo>
                        <a:pt x="1222" y="1363"/>
                      </a:lnTo>
                      <a:lnTo>
                        <a:pt x="1219" y="1359"/>
                      </a:lnTo>
                      <a:lnTo>
                        <a:pt x="1211" y="1355"/>
                      </a:lnTo>
                      <a:lnTo>
                        <a:pt x="1208" y="1359"/>
                      </a:lnTo>
                      <a:lnTo>
                        <a:pt x="1204" y="1359"/>
                      </a:lnTo>
                      <a:lnTo>
                        <a:pt x="1197" y="1363"/>
                      </a:lnTo>
                      <a:lnTo>
                        <a:pt x="1193" y="1363"/>
                      </a:lnTo>
                      <a:lnTo>
                        <a:pt x="1186" y="1370"/>
                      </a:lnTo>
                      <a:lnTo>
                        <a:pt x="1179" y="1366"/>
                      </a:lnTo>
                      <a:lnTo>
                        <a:pt x="1165" y="1366"/>
                      </a:lnTo>
                      <a:lnTo>
                        <a:pt x="1157" y="1363"/>
                      </a:lnTo>
                      <a:lnTo>
                        <a:pt x="1143" y="1363"/>
                      </a:lnTo>
                      <a:lnTo>
                        <a:pt x="1136" y="1359"/>
                      </a:lnTo>
                      <a:lnTo>
                        <a:pt x="1132" y="1359"/>
                      </a:lnTo>
                      <a:lnTo>
                        <a:pt x="1121" y="1348"/>
                      </a:lnTo>
                      <a:lnTo>
                        <a:pt x="1118" y="1341"/>
                      </a:lnTo>
                      <a:lnTo>
                        <a:pt x="1114" y="1334"/>
                      </a:lnTo>
                      <a:lnTo>
                        <a:pt x="1110" y="1327"/>
                      </a:lnTo>
                      <a:lnTo>
                        <a:pt x="1107" y="1323"/>
                      </a:lnTo>
                      <a:lnTo>
                        <a:pt x="1100" y="1319"/>
                      </a:lnTo>
                      <a:lnTo>
                        <a:pt x="1089" y="1319"/>
                      </a:lnTo>
                      <a:lnTo>
                        <a:pt x="1085" y="1323"/>
                      </a:lnTo>
                      <a:lnTo>
                        <a:pt x="1078" y="1323"/>
                      </a:lnTo>
                      <a:lnTo>
                        <a:pt x="1074" y="1327"/>
                      </a:lnTo>
                      <a:lnTo>
                        <a:pt x="1074" y="1330"/>
                      </a:lnTo>
                      <a:lnTo>
                        <a:pt x="1071" y="1334"/>
                      </a:lnTo>
                      <a:lnTo>
                        <a:pt x="1071" y="1345"/>
                      </a:lnTo>
                      <a:lnTo>
                        <a:pt x="1064" y="1352"/>
                      </a:lnTo>
                      <a:lnTo>
                        <a:pt x="1056" y="1355"/>
                      </a:lnTo>
                      <a:lnTo>
                        <a:pt x="1053" y="1359"/>
                      </a:lnTo>
                      <a:lnTo>
                        <a:pt x="1046" y="1363"/>
                      </a:lnTo>
                      <a:lnTo>
                        <a:pt x="1042" y="1366"/>
                      </a:lnTo>
                      <a:lnTo>
                        <a:pt x="1038" y="1373"/>
                      </a:lnTo>
                      <a:lnTo>
                        <a:pt x="1038" y="1377"/>
                      </a:lnTo>
                      <a:lnTo>
                        <a:pt x="1031" y="1384"/>
                      </a:lnTo>
                      <a:lnTo>
                        <a:pt x="1024" y="1384"/>
                      </a:lnTo>
                      <a:lnTo>
                        <a:pt x="1013" y="1373"/>
                      </a:lnTo>
                      <a:lnTo>
                        <a:pt x="1013" y="1366"/>
                      </a:lnTo>
                      <a:lnTo>
                        <a:pt x="1010" y="1363"/>
                      </a:lnTo>
                      <a:lnTo>
                        <a:pt x="1006" y="1355"/>
                      </a:lnTo>
                      <a:lnTo>
                        <a:pt x="999" y="1352"/>
                      </a:lnTo>
                      <a:lnTo>
                        <a:pt x="995" y="1348"/>
                      </a:lnTo>
                      <a:lnTo>
                        <a:pt x="988" y="1352"/>
                      </a:lnTo>
                      <a:lnTo>
                        <a:pt x="981" y="1355"/>
                      </a:lnTo>
                      <a:lnTo>
                        <a:pt x="974" y="1359"/>
                      </a:lnTo>
                      <a:lnTo>
                        <a:pt x="970" y="1363"/>
                      </a:lnTo>
                      <a:lnTo>
                        <a:pt x="963" y="1363"/>
                      </a:lnTo>
                      <a:lnTo>
                        <a:pt x="955" y="1366"/>
                      </a:lnTo>
                      <a:lnTo>
                        <a:pt x="948" y="1366"/>
                      </a:lnTo>
                      <a:lnTo>
                        <a:pt x="941" y="1363"/>
                      </a:lnTo>
                      <a:lnTo>
                        <a:pt x="937" y="1363"/>
                      </a:lnTo>
                      <a:lnTo>
                        <a:pt x="934" y="1359"/>
                      </a:lnTo>
                      <a:lnTo>
                        <a:pt x="934" y="1355"/>
                      </a:lnTo>
                      <a:lnTo>
                        <a:pt x="930" y="1352"/>
                      </a:lnTo>
                      <a:lnTo>
                        <a:pt x="923" y="1352"/>
                      </a:lnTo>
                      <a:lnTo>
                        <a:pt x="919" y="1348"/>
                      </a:lnTo>
                      <a:lnTo>
                        <a:pt x="912" y="1348"/>
                      </a:lnTo>
                      <a:lnTo>
                        <a:pt x="909" y="1352"/>
                      </a:lnTo>
                      <a:lnTo>
                        <a:pt x="905" y="1359"/>
                      </a:lnTo>
                      <a:lnTo>
                        <a:pt x="905" y="1366"/>
                      </a:lnTo>
                      <a:lnTo>
                        <a:pt x="901" y="1373"/>
                      </a:lnTo>
                      <a:lnTo>
                        <a:pt x="901" y="1377"/>
                      </a:lnTo>
                      <a:lnTo>
                        <a:pt x="898" y="1384"/>
                      </a:lnTo>
                      <a:lnTo>
                        <a:pt x="894" y="1384"/>
                      </a:lnTo>
                      <a:lnTo>
                        <a:pt x="887" y="1388"/>
                      </a:lnTo>
                      <a:lnTo>
                        <a:pt x="873" y="1373"/>
                      </a:lnTo>
                      <a:lnTo>
                        <a:pt x="869" y="1363"/>
                      </a:lnTo>
                      <a:lnTo>
                        <a:pt x="865" y="1352"/>
                      </a:lnTo>
                      <a:lnTo>
                        <a:pt x="858" y="1341"/>
                      </a:lnTo>
                      <a:lnTo>
                        <a:pt x="855" y="1337"/>
                      </a:lnTo>
                      <a:lnTo>
                        <a:pt x="844" y="1334"/>
                      </a:lnTo>
                      <a:lnTo>
                        <a:pt x="829" y="1341"/>
                      </a:lnTo>
                      <a:lnTo>
                        <a:pt x="822" y="1348"/>
                      </a:lnTo>
                      <a:lnTo>
                        <a:pt x="815" y="1359"/>
                      </a:lnTo>
                      <a:lnTo>
                        <a:pt x="811" y="1370"/>
                      </a:lnTo>
                      <a:lnTo>
                        <a:pt x="808" y="1381"/>
                      </a:lnTo>
                      <a:lnTo>
                        <a:pt x="804" y="1392"/>
                      </a:lnTo>
                      <a:lnTo>
                        <a:pt x="797" y="1402"/>
                      </a:lnTo>
                      <a:lnTo>
                        <a:pt x="790" y="1410"/>
                      </a:lnTo>
                      <a:lnTo>
                        <a:pt x="775" y="1417"/>
                      </a:lnTo>
                      <a:lnTo>
                        <a:pt x="775" y="1424"/>
                      </a:lnTo>
                      <a:lnTo>
                        <a:pt x="772" y="1431"/>
                      </a:lnTo>
                      <a:lnTo>
                        <a:pt x="768" y="1442"/>
                      </a:lnTo>
                      <a:lnTo>
                        <a:pt x="750" y="1460"/>
                      </a:lnTo>
                      <a:lnTo>
                        <a:pt x="743" y="1464"/>
                      </a:lnTo>
                      <a:lnTo>
                        <a:pt x="736" y="1467"/>
                      </a:lnTo>
                      <a:lnTo>
                        <a:pt x="725" y="1467"/>
                      </a:lnTo>
                      <a:lnTo>
                        <a:pt x="714" y="1471"/>
                      </a:lnTo>
                      <a:lnTo>
                        <a:pt x="707" y="1482"/>
                      </a:lnTo>
                      <a:lnTo>
                        <a:pt x="703" y="1489"/>
                      </a:lnTo>
                      <a:lnTo>
                        <a:pt x="689" y="1503"/>
                      </a:lnTo>
                      <a:lnTo>
                        <a:pt x="667" y="1503"/>
                      </a:lnTo>
                      <a:lnTo>
                        <a:pt x="664" y="1500"/>
                      </a:lnTo>
                      <a:lnTo>
                        <a:pt x="646" y="1500"/>
                      </a:lnTo>
                      <a:lnTo>
                        <a:pt x="635" y="1510"/>
                      </a:lnTo>
                      <a:lnTo>
                        <a:pt x="635" y="1521"/>
                      </a:lnTo>
                      <a:lnTo>
                        <a:pt x="638" y="1528"/>
                      </a:lnTo>
                      <a:lnTo>
                        <a:pt x="646" y="1532"/>
                      </a:lnTo>
                      <a:lnTo>
                        <a:pt x="653" y="1539"/>
                      </a:lnTo>
                      <a:lnTo>
                        <a:pt x="664" y="1539"/>
                      </a:lnTo>
                      <a:lnTo>
                        <a:pt x="667" y="1536"/>
                      </a:lnTo>
                      <a:lnTo>
                        <a:pt x="671" y="1539"/>
                      </a:lnTo>
                      <a:lnTo>
                        <a:pt x="678" y="1539"/>
                      </a:lnTo>
                      <a:lnTo>
                        <a:pt x="682" y="1543"/>
                      </a:lnTo>
                      <a:lnTo>
                        <a:pt x="678" y="1554"/>
                      </a:lnTo>
                      <a:lnTo>
                        <a:pt x="674" y="1565"/>
                      </a:lnTo>
                      <a:lnTo>
                        <a:pt x="674" y="1572"/>
                      </a:lnTo>
                      <a:lnTo>
                        <a:pt x="667" y="1583"/>
                      </a:lnTo>
                      <a:lnTo>
                        <a:pt x="664" y="1590"/>
                      </a:lnTo>
                      <a:lnTo>
                        <a:pt x="656" y="1601"/>
                      </a:lnTo>
                      <a:lnTo>
                        <a:pt x="649" y="1608"/>
                      </a:lnTo>
                      <a:lnTo>
                        <a:pt x="646" y="1615"/>
                      </a:lnTo>
                      <a:lnTo>
                        <a:pt x="646" y="1626"/>
                      </a:lnTo>
                      <a:lnTo>
                        <a:pt x="642" y="1637"/>
                      </a:lnTo>
                      <a:lnTo>
                        <a:pt x="642" y="1644"/>
                      </a:lnTo>
                      <a:lnTo>
                        <a:pt x="638" y="1655"/>
                      </a:lnTo>
                      <a:lnTo>
                        <a:pt x="635" y="1662"/>
                      </a:lnTo>
                      <a:lnTo>
                        <a:pt x="631" y="1673"/>
                      </a:lnTo>
                      <a:lnTo>
                        <a:pt x="628" y="1680"/>
                      </a:lnTo>
                      <a:lnTo>
                        <a:pt x="617" y="1687"/>
                      </a:lnTo>
                      <a:lnTo>
                        <a:pt x="620" y="1698"/>
                      </a:lnTo>
                      <a:lnTo>
                        <a:pt x="620" y="1738"/>
                      </a:lnTo>
                      <a:lnTo>
                        <a:pt x="617" y="1748"/>
                      </a:lnTo>
                      <a:lnTo>
                        <a:pt x="613" y="1756"/>
                      </a:lnTo>
                      <a:lnTo>
                        <a:pt x="602" y="1763"/>
                      </a:lnTo>
                      <a:lnTo>
                        <a:pt x="599" y="1770"/>
                      </a:lnTo>
                      <a:lnTo>
                        <a:pt x="588" y="1781"/>
                      </a:lnTo>
                      <a:lnTo>
                        <a:pt x="581" y="1784"/>
                      </a:lnTo>
                      <a:lnTo>
                        <a:pt x="577" y="1792"/>
                      </a:lnTo>
                      <a:lnTo>
                        <a:pt x="573" y="1799"/>
                      </a:lnTo>
                      <a:lnTo>
                        <a:pt x="566" y="1802"/>
                      </a:lnTo>
                      <a:lnTo>
                        <a:pt x="559" y="1810"/>
                      </a:lnTo>
                      <a:lnTo>
                        <a:pt x="555" y="1810"/>
                      </a:lnTo>
                      <a:lnTo>
                        <a:pt x="552" y="1813"/>
                      </a:lnTo>
                      <a:lnTo>
                        <a:pt x="545" y="1813"/>
                      </a:lnTo>
                      <a:lnTo>
                        <a:pt x="541" y="1817"/>
                      </a:lnTo>
                      <a:lnTo>
                        <a:pt x="537" y="1817"/>
                      </a:lnTo>
                      <a:lnTo>
                        <a:pt x="530" y="1824"/>
                      </a:lnTo>
                      <a:lnTo>
                        <a:pt x="527" y="1831"/>
                      </a:lnTo>
                      <a:lnTo>
                        <a:pt x="527" y="1849"/>
                      </a:lnTo>
                      <a:lnTo>
                        <a:pt x="519" y="1857"/>
                      </a:lnTo>
                      <a:lnTo>
                        <a:pt x="509" y="1857"/>
                      </a:lnTo>
                      <a:lnTo>
                        <a:pt x="505" y="1860"/>
                      </a:lnTo>
                      <a:lnTo>
                        <a:pt x="501" y="1860"/>
                      </a:lnTo>
                      <a:lnTo>
                        <a:pt x="501" y="1867"/>
                      </a:lnTo>
                      <a:lnTo>
                        <a:pt x="505" y="1875"/>
                      </a:lnTo>
                      <a:lnTo>
                        <a:pt x="512" y="1878"/>
                      </a:lnTo>
                      <a:lnTo>
                        <a:pt x="516" y="1882"/>
                      </a:lnTo>
                      <a:lnTo>
                        <a:pt x="519" y="1889"/>
                      </a:lnTo>
                      <a:lnTo>
                        <a:pt x="523" y="1893"/>
                      </a:lnTo>
                      <a:lnTo>
                        <a:pt x="527" y="1900"/>
                      </a:lnTo>
                      <a:lnTo>
                        <a:pt x="527" y="1914"/>
                      </a:lnTo>
                      <a:lnTo>
                        <a:pt x="519" y="1921"/>
                      </a:lnTo>
                      <a:lnTo>
                        <a:pt x="501" y="1921"/>
                      </a:lnTo>
                      <a:lnTo>
                        <a:pt x="483" y="1939"/>
                      </a:lnTo>
                      <a:lnTo>
                        <a:pt x="480" y="1947"/>
                      </a:lnTo>
                      <a:lnTo>
                        <a:pt x="480" y="1954"/>
                      </a:lnTo>
                      <a:lnTo>
                        <a:pt x="476" y="1961"/>
                      </a:lnTo>
                      <a:lnTo>
                        <a:pt x="476" y="1975"/>
                      </a:lnTo>
                      <a:lnTo>
                        <a:pt x="473" y="1979"/>
                      </a:lnTo>
                      <a:lnTo>
                        <a:pt x="465" y="1990"/>
                      </a:lnTo>
                      <a:lnTo>
                        <a:pt x="458" y="2001"/>
                      </a:lnTo>
                      <a:lnTo>
                        <a:pt x="447" y="2008"/>
                      </a:lnTo>
                      <a:lnTo>
                        <a:pt x="437" y="2015"/>
                      </a:lnTo>
                      <a:lnTo>
                        <a:pt x="433" y="2026"/>
                      </a:lnTo>
                      <a:lnTo>
                        <a:pt x="429" y="2037"/>
                      </a:lnTo>
                      <a:lnTo>
                        <a:pt x="429" y="2048"/>
                      </a:lnTo>
                      <a:lnTo>
                        <a:pt x="433" y="2058"/>
                      </a:lnTo>
                      <a:lnTo>
                        <a:pt x="444" y="2069"/>
                      </a:lnTo>
                      <a:lnTo>
                        <a:pt x="447" y="2069"/>
                      </a:lnTo>
                      <a:lnTo>
                        <a:pt x="458" y="2080"/>
                      </a:lnTo>
                      <a:lnTo>
                        <a:pt x="451" y="2091"/>
                      </a:lnTo>
                      <a:lnTo>
                        <a:pt x="444" y="2098"/>
                      </a:lnTo>
                      <a:lnTo>
                        <a:pt x="437" y="2102"/>
                      </a:lnTo>
                      <a:lnTo>
                        <a:pt x="426" y="2109"/>
                      </a:lnTo>
                      <a:lnTo>
                        <a:pt x="404" y="2130"/>
                      </a:lnTo>
                      <a:lnTo>
                        <a:pt x="404" y="2141"/>
                      </a:lnTo>
                      <a:lnTo>
                        <a:pt x="400" y="2149"/>
                      </a:lnTo>
                      <a:lnTo>
                        <a:pt x="400" y="2159"/>
                      </a:lnTo>
                      <a:lnTo>
                        <a:pt x="397" y="2163"/>
                      </a:lnTo>
                      <a:lnTo>
                        <a:pt x="397" y="2174"/>
                      </a:lnTo>
                      <a:lnTo>
                        <a:pt x="393" y="2177"/>
                      </a:lnTo>
                      <a:lnTo>
                        <a:pt x="390" y="2185"/>
                      </a:lnTo>
                      <a:lnTo>
                        <a:pt x="386" y="2192"/>
                      </a:lnTo>
                      <a:lnTo>
                        <a:pt x="375" y="2195"/>
                      </a:lnTo>
                      <a:lnTo>
                        <a:pt x="372" y="2195"/>
                      </a:lnTo>
                      <a:lnTo>
                        <a:pt x="364" y="2192"/>
                      </a:lnTo>
                      <a:lnTo>
                        <a:pt x="357" y="2188"/>
                      </a:lnTo>
                      <a:lnTo>
                        <a:pt x="354" y="2181"/>
                      </a:lnTo>
                      <a:lnTo>
                        <a:pt x="346" y="2174"/>
                      </a:lnTo>
                      <a:lnTo>
                        <a:pt x="343" y="2167"/>
                      </a:lnTo>
                      <a:lnTo>
                        <a:pt x="336" y="2159"/>
                      </a:lnTo>
                      <a:lnTo>
                        <a:pt x="328" y="2156"/>
                      </a:lnTo>
                      <a:lnTo>
                        <a:pt x="325" y="2152"/>
                      </a:lnTo>
                      <a:lnTo>
                        <a:pt x="310" y="2152"/>
                      </a:lnTo>
                      <a:lnTo>
                        <a:pt x="300" y="2163"/>
                      </a:lnTo>
                      <a:lnTo>
                        <a:pt x="292" y="2167"/>
                      </a:lnTo>
                      <a:lnTo>
                        <a:pt x="289" y="2167"/>
                      </a:lnTo>
                      <a:lnTo>
                        <a:pt x="282" y="2170"/>
                      </a:lnTo>
                      <a:lnTo>
                        <a:pt x="267" y="2170"/>
                      </a:lnTo>
                      <a:lnTo>
                        <a:pt x="264" y="2174"/>
                      </a:lnTo>
                      <a:lnTo>
                        <a:pt x="256" y="2177"/>
                      </a:lnTo>
                      <a:lnTo>
                        <a:pt x="256" y="2181"/>
                      </a:lnTo>
                      <a:lnTo>
                        <a:pt x="253" y="2185"/>
                      </a:lnTo>
                      <a:lnTo>
                        <a:pt x="245" y="2188"/>
                      </a:lnTo>
                      <a:lnTo>
                        <a:pt x="242" y="2192"/>
                      </a:lnTo>
                      <a:lnTo>
                        <a:pt x="238" y="2188"/>
                      </a:lnTo>
                      <a:lnTo>
                        <a:pt x="231" y="2188"/>
                      </a:lnTo>
                      <a:lnTo>
                        <a:pt x="231" y="2185"/>
                      </a:lnTo>
                      <a:lnTo>
                        <a:pt x="227" y="2185"/>
                      </a:lnTo>
                      <a:lnTo>
                        <a:pt x="224" y="2181"/>
                      </a:lnTo>
                      <a:lnTo>
                        <a:pt x="213" y="2181"/>
                      </a:lnTo>
                      <a:lnTo>
                        <a:pt x="213" y="2185"/>
                      </a:lnTo>
                      <a:lnTo>
                        <a:pt x="209" y="2185"/>
                      </a:lnTo>
                      <a:lnTo>
                        <a:pt x="206" y="2188"/>
                      </a:lnTo>
                      <a:lnTo>
                        <a:pt x="202" y="2188"/>
                      </a:lnTo>
                      <a:lnTo>
                        <a:pt x="195" y="2195"/>
                      </a:lnTo>
                      <a:lnTo>
                        <a:pt x="184" y="2195"/>
                      </a:lnTo>
                      <a:lnTo>
                        <a:pt x="177" y="2188"/>
                      </a:lnTo>
                      <a:lnTo>
                        <a:pt x="173" y="2181"/>
                      </a:lnTo>
                      <a:lnTo>
                        <a:pt x="170" y="2174"/>
                      </a:lnTo>
                      <a:lnTo>
                        <a:pt x="163" y="2170"/>
                      </a:lnTo>
                      <a:lnTo>
                        <a:pt x="159" y="2163"/>
                      </a:lnTo>
                      <a:lnTo>
                        <a:pt x="155" y="2159"/>
                      </a:lnTo>
                      <a:lnTo>
                        <a:pt x="148" y="2156"/>
                      </a:lnTo>
                      <a:lnTo>
                        <a:pt x="141" y="2152"/>
                      </a:lnTo>
                      <a:lnTo>
                        <a:pt x="137" y="2138"/>
                      </a:lnTo>
                      <a:lnTo>
                        <a:pt x="137" y="2080"/>
                      </a:lnTo>
                      <a:lnTo>
                        <a:pt x="134" y="2076"/>
                      </a:lnTo>
                      <a:lnTo>
                        <a:pt x="130" y="2069"/>
                      </a:lnTo>
                      <a:lnTo>
                        <a:pt x="127" y="2066"/>
                      </a:lnTo>
                      <a:lnTo>
                        <a:pt x="123" y="2058"/>
                      </a:lnTo>
                      <a:lnTo>
                        <a:pt x="123" y="2044"/>
                      </a:lnTo>
                      <a:lnTo>
                        <a:pt x="134" y="2037"/>
                      </a:lnTo>
                      <a:lnTo>
                        <a:pt x="137" y="2030"/>
                      </a:lnTo>
                      <a:lnTo>
                        <a:pt x="141" y="2022"/>
                      </a:lnTo>
                      <a:lnTo>
                        <a:pt x="145" y="2015"/>
                      </a:lnTo>
                      <a:lnTo>
                        <a:pt x="145" y="2008"/>
                      </a:lnTo>
                      <a:lnTo>
                        <a:pt x="148" y="2001"/>
                      </a:lnTo>
                      <a:lnTo>
                        <a:pt x="155" y="1994"/>
                      </a:lnTo>
                      <a:lnTo>
                        <a:pt x="159" y="1986"/>
                      </a:lnTo>
                      <a:lnTo>
                        <a:pt x="159" y="1979"/>
                      </a:lnTo>
                      <a:lnTo>
                        <a:pt x="155" y="1972"/>
                      </a:lnTo>
                      <a:lnTo>
                        <a:pt x="152" y="1968"/>
                      </a:lnTo>
                      <a:lnTo>
                        <a:pt x="145" y="1965"/>
                      </a:lnTo>
                      <a:lnTo>
                        <a:pt x="137" y="1965"/>
                      </a:lnTo>
                      <a:lnTo>
                        <a:pt x="130" y="1968"/>
                      </a:lnTo>
                      <a:lnTo>
                        <a:pt x="112" y="1968"/>
                      </a:lnTo>
                      <a:lnTo>
                        <a:pt x="105" y="1972"/>
                      </a:lnTo>
                      <a:lnTo>
                        <a:pt x="98" y="1968"/>
                      </a:lnTo>
                      <a:lnTo>
                        <a:pt x="87" y="1968"/>
                      </a:lnTo>
                      <a:lnTo>
                        <a:pt x="80" y="1961"/>
                      </a:lnTo>
                      <a:lnTo>
                        <a:pt x="72" y="1965"/>
                      </a:lnTo>
                      <a:lnTo>
                        <a:pt x="65" y="1965"/>
                      </a:lnTo>
                      <a:lnTo>
                        <a:pt x="58" y="1968"/>
                      </a:lnTo>
                      <a:lnTo>
                        <a:pt x="51" y="1972"/>
                      </a:lnTo>
                      <a:lnTo>
                        <a:pt x="40" y="1972"/>
                      </a:lnTo>
                      <a:lnTo>
                        <a:pt x="33" y="1968"/>
                      </a:lnTo>
                      <a:lnTo>
                        <a:pt x="22" y="1957"/>
                      </a:lnTo>
                      <a:lnTo>
                        <a:pt x="18" y="1950"/>
                      </a:lnTo>
                      <a:lnTo>
                        <a:pt x="18" y="1939"/>
                      </a:lnTo>
                      <a:lnTo>
                        <a:pt x="26" y="1932"/>
                      </a:lnTo>
                      <a:lnTo>
                        <a:pt x="29" y="1925"/>
                      </a:lnTo>
                      <a:lnTo>
                        <a:pt x="33" y="1921"/>
                      </a:lnTo>
                      <a:lnTo>
                        <a:pt x="33" y="1911"/>
                      </a:lnTo>
                      <a:lnTo>
                        <a:pt x="22" y="1900"/>
                      </a:lnTo>
                      <a:lnTo>
                        <a:pt x="18" y="1900"/>
                      </a:lnTo>
                      <a:lnTo>
                        <a:pt x="18" y="1896"/>
                      </a:lnTo>
                      <a:lnTo>
                        <a:pt x="15" y="1893"/>
                      </a:lnTo>
                      <a:lnTo>
                        <a:pt x="11" y="1893"/>
                      </a:lnTo>
                      <a:lnTo>
                        <a:pt x="4" y="1885"/>
                      </a:lnTo>
                      <a:lnTo>
                        <a:pt x="0" y="1839"/>
                      </a:lnTo>
                      <a:lnTo>
                        <a:pt x="11" y="1831"/>
                      </a:lnTo>
                      <a:lnTo>
                        <a:pt x="26" y="1817"/>
                      </a:lnTo>
                      <a:lnTo>
                        <a:pt x="29" y="1806"/>
                      </a:lnTo>
                      <a:lnTo>
                        <a:pt x="33" y="1795"/>
                      </a:lnTo>
                      <a:lnTo>
                        <a:pt x="36" y="1784"/>
                      </a:lnTo>
                      <a:lnTo>
                        <a:pt x="36" y="1770"/>
                      </a:lnTo>
                      <a:lnTo>
                        <a:pt x="40" y="1759"/>
                      </a:lnTo>
                      <a:lnTo>
                        <a:pt x="44" y="1752"/>
                      </a:lnTo>
                      <a:lnTo>
                        <a:pt x="58" y="1738"/>
                      </a:lnTo>
                      <a:lnTo>
                        <a:pt x="62" y="1727"/>
                      </a:lnTo>
                      <a:lnTo>
                        <a:pt x="69" y="1720"/>
                      </a:lnTo>
                      <a:lnTo>
                        <a:pt x="72" y="1709"/>
                      </a:lnTo>
                      <a:lnTo>
                        <a:pt x="72" y="1687"/>
                      </a:lnTo>
                      <a:lnTo>
                        <a:pt x="69" y="1680"/>
                      </a:lnTo>
                      <a:lnTo>
                        <a:pt x="65" y="1673"/>
                      </a:lnTo>
                      <a:lnTo>
                        <a:pt x="58" y="1669"/>
                      </a:lnTo>
                      <a:lnTo>
                        <a:pt x="54" y="1662"/>
                      </a:lnTo>
                      <a:lnTo>
                        <a:pt x="47" y="1658"/>
                      </a:lnTo>
                      <a:lnTo>
                        <a:pt x="44" y="1651"/>
                      </a:lnTo>
                      <a:lnTo>
                        <a:pt x="40" y="1647"/>
                      </a:lnTo>
                      <a:lnTo>
                        <a:pt x="36" y="1640"/>
                      </a:lnTo>
                      <a:lnTo>
                        <a:pt x="40" y="1626"/>
                      </a:lnTo>
                      <a:lnTo>
                        <a:pt x="40" y="1611"/>
                      </a:lnTo>
                      <a:lnTo>
                        <a:pt x="36" y="1593"/>
                      </a:lnTo>
                      <a:lnTo>
                        <a:pt x="33" y="1579"/>
                      </a:lnTo>
                      <a:lnTo>
                        <a:pt x="33" y="1561"/>
                      </a:lnTo>
                      <a:lnTo>
                        <a:pt x="40" y="1565"/>
                      </a:lnTo>
                      <a:lnTo>
                        <a:pt x="44" y="1565"/>
                      </a:lnTo>
                      <a:lnTo>
                        <a:pt x="51" y="1568"/>
                      </a:lnTo>
                      <a:lnTo>
                        <a:pt x="69" y="1568"/>
                      </a:lnTo>
                      <a:lnTo>
                        <a:pt x="76" y="1565"/>
                      </a:lnTo>
                      <a:lnTo>
                        <a:pt x="80" y="1565"/>
                      </a:lnTo>
                      <a:lnTo>
                        <a:pt x="83" y="1561"/>
                      </a:lnTo>
                      <a:lnTo>
                        <a:pt x="91" y="1561"/>
                      </a:lnTo>
                      <a:lnTo>
                        <a:pt x="94" y="1565"/>
                      </a:lnTo>
                      <a:lnTo>
                        <a:pt x="127" y="1565"/>
                      </a:lnTo>
                      <a:lnTo>
                        <a:pt x="134" y="1561"/>
                      </a:lnTo>
                      <a:lnTo>
                        <a:pt x="137" y="1557"/>
                      </a:lnTo>
                      <a:lnTo>
                        <a:pt x="145" y="1557"/>
                      </a:lnTo>
                      <a:lnTo>
                        <a:pt x="152" y="1554"/>
                      </a:lnTo>
                      <a:lnTo>
                        <a:pt x="159" y="1550"/>
                      </a:lnTo>
                      <a:lnTo>
                        <a:pt x="163" y="1547"/>
                      </a:lnTo>
                      <a:lnTo>
                        <a:pt x="170" y="1547"/>
                      </a:lnTo>
                      <a:lnTo>
                        <a:pt x="177" y="1543"/>
                      </a:lnTo>
                      <a:lnTo>
                        <a:pt x="184" y="1543"/>
                      </a:lnTo>
                      <a:lnTo>
                        <a:pt x="191" y="1539"/>
                      </a:lnTo>
                      <a:lnTo>
                        <a:pt x="199" y="1539"/>
                      </a:lnTo>
                      <a:lnTo>
                        <a:pt x="202" y="1536"/>
                      </a:lnTo>
                      <a:lnTo>
                        <a:pt x="209" y="1532"/>
                      </a:lnTo>
                      <a:lnTo>
                        <a:pt x="217" y="1532"/>
                      </a:lnTo>
                      <a:lnTo>
                        <a:pt x="220" y="1528"/>
                      </a:lnTo>
                      <a:lnTo>
                        <a:pt x="227" y="1525"/>
                      </a:lnTo>
                      <a:lnTo>
                        <a:pt x="235" y="1521"/>
                      </a:lnTo>
                      <a:lnTo>
                        <a:pt x="238" y="1514"/>
                      </a:lnTo>
                      <a:lnTo>
                        <a:pt x="245" y="1510"/>
                      </a:lnTo>
                      <a:lnTo>
                        <a:pt x="253" y="1507"/>
                      </a:lnTo>
                      <a:lnTo>
                        <a:pt x="260" y="1503"/>
                      </a:lnTo>
                      <a:lnTo>
                        <a:pt x="267" y="1500"/>
                      </a:lnTo>
                      <a:lnTo>
                        <a:pt x="278" y="1489"/>
                      </a:lnTo>
                      <a:lnTo>
                        <a:pt x="278" y="1478"/>
                      </a:lnTo>
                      <a:lnTo>
                        <a:pt x="274" y="1471"/>
                      </a:lnTo>
                      <a:lnTo>
                        <a:pt x="271" y="1464"/>
                      </a:lnTo>
                      <a:lnTo>
                        <a:pt x="267" y="1453"/>
                      </a:lnTo>
                      <a:lnTo>
                        <a:pt x="271" y="1446"/>
                      </a:lnTo>
                      <a:lnTo>
                        <a:pt x="274" y="1442"/>
                      </a:lnTo>
                      <a:lnTo>
                        <a:pt x="278" y="1442"/>
                      </a:lnTo>
                      <a:lnTo>
                        <a:pt x="282" y="1438"/>
                      </a:lnTo>
                      <a:lnTo>
                        <a:pt x="289" y="1438"/>
                      </a:lnTo>
                      <a:lnTo>
                        <a:pt x="296" y="1431"/>
                      </a:lnTo>
                      <a:lnTo>
                        <a:pt x="296" y="1417"/>
                      </a:lnTo>
                      <a:lnTo>
                        <a:pt x="307" y="1406"/>
                      </a:lnTo>
                      <a:lnTo>
                        <a:pt x="310" y="1406"/>
                      </a:lnTo>
                      <a:lnTo>
                        <a:pt x="314" y="1402"/>
                      </a:lnTo>
                      <a:lnTo>
                        <a:pt x="318" y="1402"/>
                      </a:lnTo>
                      <a:lnTo>
                        <a:pt x="321" y="1406"/>
                      </a:lnTo>
                      <a:lnTo>
                        <a:pt x="336" y="1406"/>
                      </a:lnTo>
                      <a:lnTo>
                        <a:pt x="339" y="1402"/>
                      </a:lnTo>
                      <a:lnTo>
                        <a:pt x="346" y="1399"/>
                      </a:lnTo>
                      <a:lnTo>
                        <a:pt x="354" y="1395"/>
                      </a:lnTo>
                      <a:lnTo>
                        <a:pt x="357" y="1388"/>
                      </a:lnTo>
                      <a:lnTo>
                        <a:pt x="364" y="1384"/>
                      </a:lnTo>
                      <a:lnTo>
                        <a:pt x="368" y="1381"/>
                      </a:lnTo>
                      <a:lnTo>
                        <a:pt x="375" y="1377"/>
                      </a:lnTo>
                      <a:lnTo>
                        <a:pt x="379" y="1370"/>
                      </a:lnTo>
                      <a:lnTo>
                        <a:pt x="386" y="1366"/>
                      </a:lnTo>
                      <a:lnTo>
                        <a:pt x="390" y="1363"/>
                      </a:lnTo>
                      <a:lnTo>
                        <a:pt x="393" y="1355"/>
                      </a:lnTo>
                      <a:lnTo>
                        <a:pt x="397" y="1348"/>
                      </a:lnTo>
                      <a:lnTo>
                        <a:pt x="400" y="1341"/>
                      </a:lnTo>
                      <a:lnTo>
                        <a:pt x="404" y="1337"/>
                      </a:lnTo>
                      <a:lnTo>
                        <a:pt x="408" y="1330"/>
                      </a:lnTo>
                      <a:lnTo>
                        <a:pt x="415" y="1327"/>
                      </a:lnTo>
                      <a:lnTo>
                        <a:pt x="429" y="1327"/>
                      </a:lnTo>
                      <a:lnTo>
                        <a:pt x="433" y="1323"/>
                      </a:lnTo>
                      <a:lnTo>
                        <a:pt x="440" y="1323"/>
                      </a:lnTo>
                      <a:lnTo>
                        <a:pt x="455" y="1309"/>
                      </a:lnTo>
                      <a:lnTo>
                        <a:pt x="458" y="1280"/>
                      </a:lnTo>
                      <a:lnTo>
                        <a:pt x="465" y="1276"/>
                      </a:lnTo>
                      <a:lnTo>
                        <a:pt x="469" y="1273"/>
                      </a:lnTo>
                      <a:lnTo>
                        <a:pt x="473" y="1273"/>
                      </a:lnTo>
                      <a:lnTo>
                        <a:pt x="483" y="1262"/>
                      </a:lnTo>
                      <a:lnTo>
                        <a:pt x="483" y="1240"/>
                      </a:lnTo>
                      <a:lnTo>
                        <a:pt x="487" y="1237"/>
                      </a:lnTo>
                      <a:lnTo>
                        <a:pt x="491" y="1240"/>
                      </a:lnTo>
                      <a:lnTo>
                        <a:pt x="498" y="1237"/>
                      </a:lnTo>
                      <a:lnTo>
                        <a:pt x="501" y="1237"/>
                      </a:lnTo>
                      <a:lnTo>
                        <a:pt x="509" y="1229"/>
                      </a:lnTo>
                      <a:lnTo>
                        <a:pt x="512" y="1229"/>
                      </a:lnTo>
                      <a:lnTo>
                        <a:pt x="519" y="1222"/>
                      </a:lnTo>
                      <a:lnTo>
                        <a:pt x="523" y="1226"/>
                      </a:lnTo>
                      <a:lnTo>
                        <a:pt x="534" y="1226"/>
                      </a:lnTo>
                      <a:lnTo>
                        <a:pt x="537" y="1229"/>
                      </a:lnTo>
                      <a:lnTo>
                        <a:pt x="545" y="1229"/>
                      </a:lnTo>
                      <a:lnTo>
                        <a:pt x="548" y="1226"/>
                      </a:lnTo>
                      <a:lnTo>
                        <a:pt x="548" y="1222"/>
                      </a:lnTo>
                      <a:lnTo>
                        <a:pt x="563" y="1208"/>
                      </a:lnTo>
                      <a:lnTo>
                        <a:pt x="566" y="1200"/>
                      </a:lnTo>
                      <a:lnTo>
                        <a:pt x="566" y="1193"/>
                      </a:lnTo>
                      <a:lnTo>
                        <a:pt x="570" y="1182"/>
                      </a:lnTo>
                      <a:lnTo>
                        <a:pt x="570" y="1157"/>
                      </a:lnTo>
                      <a:lnTo>
                        <a:pt x="581" y="1157"/>
                      </a:lnTo>
                      <a:lnTo>
                        <a:pt x="588" y="1154"/>
                      </a:lnTo>
                      <a:lnTo>
                        <a:pt x="595" y="1150"/>
                      </a:lnTo>
                      <a:lnTo>
                        <a:pt x="599" y="1146"/>
                      </a:lnTo>
                      <a:lnTo>
                        <a:pt x="602" y="1139"/>
                      </a:lnTo>
                      <a:lnTo>
                        <a:pt x="610" y="1139"/>
                      </a:lnTo>
                      <a:lnTo>
                        <a:pt x="617" y="1136"/>
                      </a:lnTo>
                      <a:lnTo>
                        <a:pt x="620" y="1132"/>
                      </a:lnTo>
                      <a:lnTo>
                        <a:pt x="620" y="1125"/>
                      </a:lnTo>
                      <a:lnTo>
                        <a:pt x="617" y="1118"/>
                      </a:lnTo>
                      <a:lnTo>
                        <a:pt x="617" y="1114"/>
                      </a:lnTo>
                      <a:lnTo>
                        <a:pt x="620" y="1110"/>
                      </a:lnTo>
                      <a:lnTo>
                        <a:pt x="628" y="1110"/>
                      </a:lnTo>
                      <a:lnTo>
                        <a:pt x="638" y="1100"/>
                      </a:lnTo>
                      <a:lnTo>
                        <a:pt x="646" y="1100"/>
                      </a:lnTo>
                      <a:lnTo>
                        <a:pt x="649" y="1096"/>
                      </a:lnTo>
                      <a:lnTo>
                        <a:pt x="656" y="1096"/>
                      </a:lnTo>
                      <a:lnTo>
                        <a:pt x="660" y="1092"/>
                      </a:lnTo>
                      <a:lnTo>
                        <a:pt x="664" y="1085"/>
                      </a:lnTo>
                      <a:lnTo>
                        <a:pt x="667" y="1078"/>
                      </a:lnTo>
                      <a:lnTo>
                        <a:pt x="671" y="1071"/>
                      </a:lnTo>
                      <a:lnTo>
                        <a:pt x="674" y="1067"/>
                      </a:lnTo>
                      <a:lnTo>
                        <a:pt x="674" y="1060"/>
                      </a:lnTo>
                      <a:lnTo>
                        <a:pt x="682" y="1056"/>
                      </a:lnTo>
                      <a:lnTo>
                        <a:pt x="689" y="1056"/>
                      </a:lnTo>
                      <a:lnTo>
                        <a:pt x="700" y="1053"/>
                      </a:lnTo>
                      <a:lnTo>
                        <a:pt x="714" y="1038"/>
                      </a:lnTo>
                      <a:lnTo>
                        <a:pt x="725" y="1031"/>
                      </a:lnTo>
                      <a:lnTo>
                        <a:pt x="732" y="1027"/>
                      </a:lnTo>
                      <a:lnTo>
                        <a:pt x="746" y="1013"/>
                      </a:lnTo>
                      <a:lnTo>
                        <a:pt x="757" y="1009"/>
                      </a:lnTo>
                      <a:lnTo>
                        <a:pt x="772" y="995"/>
                      </a:lnTo>
                      <a:lnTo>
                        <a:pt x="775" y="988"/>
                      </a:lnTo>
                      <a:lnTo>
                        <a:pt x="783" y="984"/>
                      </a:lnTo>
                      <a:lnTo>
                        <a:pt x="786" y="977"/>
                      </a:lnTo>
                      <a:lnTo>
                        <a:pt x="793" y="973"/>
                      </a:lnTo>
                      <a:lnTo>
                        <a:pt x="801" y="970"/>
                      </a:lnTo>
                      <a:lnTo>
                        <a:pt x="811" y="970"/>
                      </a:lnTo>
                      <a:lnTo>
                        <a:pt x="819" y="966"/>
                      </a:lnTo>
                      <a:lnTo>
                        <a:pt x="822" y="966"/>
                      </a:lnTo>
                      <a:lnTo>
                        <a:pt x="829" y="963"/>
                      </a:lnTo>
                      <a:lnTo>
                        <a:pt x="837" y="959"/>
                      </a:lnTo>
                      <a:lnTo>
                        <a:pt x="840" y="955"/>
                      </a:lnTo>
                      <a:lnTo>
                        <a:pt x="847" y="952"/>
                      </a:lnTo>
                      <a:lnTo>
                        <a:pt x="855" y="948"/>
                      </a:lnTo>
                      <a:lnTo>
                        <a:pt x="858" y="948"/>
                      </a:lnTo>
                      <a:lnTo>
                        <a:pt x="865" y="945"/>
                      </a:lnTo>
                      <a:lnTo>
                        <a:pt x="873" y="941"/>
                      </a:lnTo>
                      <a:lnTo>
                        <a:pt x="876" y="937"/>
                      </a:lnTo>
                      <a:lnTo>
                        <a:pt x="883" y="934"/>
                      </a:lnTo>
                      <a:lnTo>
                        <a:pt x="891" y="934"/>
                      </a:lnTo>
                      <a:lnTo>
                        <a:pt x="894" y="930"/>
                      </a:lnTo>
                      <a:lnTo>
                        <a:pt x="901" y="927"/>
                      </a:lnTo>
                      <a:lnTo>
                        <a:pt x="909" y="927"/>
                      </a:lnTo>
                      <a:lnTo>
                        <a:pt x="930" y="905"/>
                      </a:lnTo>
                      <a:lnTo>
                        <a:pt x="934" y="898"/>
                      </a:lnTo>
                      <a:lnTo>
                        <a:pt x="934" y="890"/>
                      </a:lnTo>
                      <a:lnTo>
                        <a:pt x="937" y="887"/>
                      </a:lnTo>
                      <a:lnTo>
                        <a:pt x="945" y="876"/>
                      </a:lnTo>
                      <a:lnTo>
                        <a:pt x="952" y="865"/>
                      </a:lnTo>
                      <a:lnTo>
                        <a:pt x="959" y="854"/>
                      </a:lnTo>
                      <a:lnTo>
                        <a:pt x="970" y="844"/>
                      </a:lnTo>
                      <a:lnTo>
                        <a:pt x="977" y="833"/>
                      </a:lnTo>
                      <a:lnTo>
                        <a:pt x="988" y="826"/>
                      </a:lnTo>
                      <a:lnTo>
                        <a:pt x="999" y="818"/>
                      </a:lnTo>
                      <a:lnTo>
                        <a:pt x="1010" y="811"/>
                      </a:lnTo>
                      <a:lnTo>
                        <a:pt x="1020" y="800"/>
                      </a:lnTo>
                      <a:lnTo>
                        <a:pt x="1024" y="793"/>
                      </a:lnTo>
                      <a:lnTo>
                        <a:pt x="1031" y="786"/>
                      </a:lnTo>
                      <a:lnTo>
                        <a:pt x="1038" y="782"/>
                      </a:lnTo>
                      <a:lnTo>
                        <a:pt x="1042" y="782"/>
                      </a:lnTo>
                      <a:lnTo>
                        <a:pt x="1049" y="771"/>
                      </a:lnTo>
                      <a:lnTo>
                        <a:pt x="1053" y="761"/>
                      </a:lnTo>
                      <a:lnTo>
                        <a:pt x="1056" y="750"/>
                      </a:lnTo>
                      <a:lnTo>
                        <a:pt x="1056" y="739"/>
                      </a:lnTo>
                      <a:lnTo>
                        <a:pt x="1064" y="732"/>
                      </a:lnTo>
                      <a:lnTo>
                        <a:pt x="1071" y="728"/>
                      </a:lnTo>
                      <a:lnTo>
                        <a:pt x="1074" y="721"/>
                      </a:lnTo>
                      <a:lnTo>
                        <a:pt x="1082" y="714"/>
                      </a:lnTo>
                      <a:lnTo>
                        <a:pt x="1085" y="707"/>
                      </a:lnTo>
                      <a:lnTo>
                        <a:pt x="1092" y="699"/>
                      </a:lnTo>
                      <a:lnTo>
                        <a:pt x="1100" y="696"/>
                      </a:lnTo>
                      <a:lnTo>
                        <a:pt x="1107" y="692"/>
                      </a:lnTo>
                      <a:lnTo>
                        <a:pt x="1110" y="685"/>
                      </a:lnTo>
                      <a:lnTo>
                        <a:pt x="1118" y="678"/>
                      </a:lnTo>
                      <a:lnTo>
                        <a:pt x="1125" y="674"/>
                      </a:lnTo>
                      <a:lnTo>
                        <a:pt x="1136" y="663"/>
                      </a:lnTo>
                      <a:lnTo>
                        <a:pt x="1139" y="656"/>
                      </a:lnTo>
                      <a:lnTo>
                        <a:pt x="1179" y="627"/>
                      </a:lnTo>
                      <a:lnTo>
                        <a:pt x="1201" y="627"/>
                      </a:lnTo>
                      <a:lnTo>
                        <a:pt x="1208" y="620"/>
                      </a:lnTo>
                      <a:lnTo>
                        <a:pt x="1208" y="613"/>
                      </a:lnTo>
                      <a:lnTo>
                        <a:pt x="1215" y="606"/>
                      </a:lnTo>
                      <a:lnTo>
                        <a:pt x="1222" y="602"/>
                      </a:lnTo>
                      <a:lnTo>
                        <a:pt x="1229" y="598"/>
                      </a:lnTo>
                      <a:lnTo>
                        <a:pt x="1237" y="595"/>
                      </a:lnTo>
                      <a:lnTo>
                        <a:pt x="1247" y="584"/>
                      </a:lnTo>
                      <a:lnTo>
                        <a:pt x="1255" y="580"/>
                      </a:lnTo>
                      <a:lnTo>
                        <a:pt x="1262" y="577"/>
                      </a:lnTo>
                      <a:lnTo>
                        <a:pt x="1265" y="570"/>
                      </a:lnTo>
                      <a:lnTo>
                        <a:pt x="1273" y="566"/>
                      </a:lnTo>
                      <a:lnTo>
                        <a:pt x="1280" y="562"/>
                      </a:lnTo>
                      <a:lnTo>
                        <a:pt x="1287" y="559"/>
                      </a:lnTo>
                      <a:lnTo>
                        <a:pt x="1294" y="555"/>
                      </a:lnTo>
                      <a:lnTo>
                        <a:pt x="1301" y="552"/>
                      </a:lnTo>
                      <a:lnTo>
                        <a:pt x="1316" y="552"/>
                      </a:lnTo>
                      <a:lnTo>
                        <a:pt x="1327" y="548"/>
                      </a:lnTo>
                      <a:lnTo>
                        <a:pt x="1341" y="544"/>
                      </a:lnTo>
                      <a:lnTo>
                        <a:pt x="1352" y="537"/>
                      </a:lnTo>
                      <a:lnTo>
                        <a:pt x="1363" y="534"/>
                      </a:lnTo>
                      <a:lnTo>
                        <a:pt x="1374" y="526"/>
                      </a:lnTo>
                      <a:lnTo>
                        <a:pt x="1381" y="516"/>
                      </a:lnTo>
                      <a:lnTo>
                        <a:pt x="1392" y="508"/>
                      </a:lnTo>
                      <a:lnTo>
                        <a:pt x="1395" y="494"/>
                      </a:lnTo>
                      <a:lnTo>
                        <a:pt x="1392" y="494"/>
                      </a:lnTo>
                      <a:lnTo>
                        <a:pt x="1395" y="494"/>
                      </a:lnTo>
                      <a:lnTo>
                        <a:pt x="1402" y="483"/>
                      </a:lnTo>
                      <a:lnTo>
                        <a:pt x="1406" y="469"/>
                      </a:lnTo>
                      <a:lnTo>
                        <a:pt x="1410" y="458"/>
                      </a:lnTo>
                      <a:lnTo>
                        <a:pt x="1410" y="447"/>
                      </a:lnTo>
                      <a:lnTo>
                        <a:pt x="1417" y="436"/>
                      </a:lnTo>
                      <a:lnTo>
                        <a:pt x="1420" y="425"/>
                      </a:lnTo>
                      <a:lnTo>
                        <a:pt x="1428" y="415"/>
                      </a:lnTo>
                      <a:lnTo>
                        <a:pt x="1431" y="407"/>
                      </a:lnTo>
                      <a:lnTo>
                        <a:pt x="1438" y="397"/>
                      </a:lnTo>
                      <a:lnTo>
                        <a:pt x="1442" y="389"/>
                      </a:lnTo>
                      <a:lnTo>
                        <a:pt x="1449" y="379"/>
                      </a:lnTo>
                      <a:lnTo>
                        <a:pt x="1453" y="368"/>
                      </a:lnTo>
                      <a:lnTo>
                        <a:pt x="1453" y="353"/>
                      </a:lnTo>
                      <a:lnTo>
                        <a:pt x="1449" y="350"/>
                      </a:lnTo>
                      <a:lnTo>
                        <a:pt x="1449" y="346"/>
                      </a:lnTo>
                      <a:lnTo>
                        <a:pt x="1446" y="343"/>
                      </a:lnTo>
                      <a:lnTo>
                        <a:pt x="1442" y="343"/>
                      </a:lnTo>
                      <a:lnTo>
                        <a:pt x="1438" y="339"/>
                      </a:lnTo>
                      <a:lnTo>
                        <a:pt x="1431" y="335"/>
                      </a:lnTo>
                      <a:lnTo>
                        <a:pt x="1424" y="332"/>
                      </a:lnTo>
                      <a:lnTo>
                        <a:pt x="1417" y="325"/>
                      </a:lnTo>
                      <a:lnTo>
                        <a:pt x="1413" y="317"/>
                      </a:lnTo>
                      <a:lnTo>
                        <a:pt x="1406" y="314"/>
                      </a:lnTo>
                      <a:lnTo>
                        <a:pt x="1399" y="310"/>
                      </a:lnTo>
                      <a:lnTo>
                        <a:pt x="1392" y="306"/>
                      </a:lnTo>
                      <a:lnTo>
                        <a:pt x="1384" y="303"/>
                      </a:lnTo>
                      <a:lnTo>
                        <a:pt x="1381" y="299"/>
                      </a:lnTo>
                      <a:lnTo>
                        <a:pt x="1377" y="299"/>
                      </a:lnTo>
                      <a:lnTo>
                        <a:pt x="1374" y="296"/>
                      </a:lnTo>
                      <a:lnTo>
                        <a:pt x="1370" y="296"/>
                      </a:lnTo>
                      <a:lnTo>
                        <a:pt x="1370" y="292"/>
                      </a:lnTo>
                      <a:lnTo>
                        <a:pt x="1366" y="288"/>
                      </a:lnTo>
                      <a:lnTo>
                        <a:pt x="1366" y="285"/>
                      </a:lnTo>
                      <a:lnTo>
                        <a:pt x="1363" y="281"/>
                      </a:lnTo>
                      <a:lnTo>
                        <a:pt x="1370" y="274"/>
                      </a:lnTo>
                      <a:lnTo>
                        <a:pt x="1381" y="270"/>
                      </a:lnTo>
                      <a:lnTo>
                        <a:pt x="1410" y="270"/>
                      </a:lnTo>
                      <a:lnTo>
                        <a:pt x="1420" y="267"/>
                      </a:lnTo>
                      <a:lnTo>
                        <a:pt x="1431" y="263"/>
                      </a:lnTo>
                      <a:lnTo>
                        <a:pt x="1438" y="256"/>
                      </a:lnTo>
                      <a:lnTo>
                        <a:pt x="1442" y="256"/>
                      </a:lnTo>
                      <a:lnTo>
                        <a:pt x="1449" y="252"/>
                      </a:lnTo>
                      <a:lnTo>
                        <a:pt x="1460" y="252"/>
                      </a:lnTo>
                      <a:lnTo>
                        <a:pt x="1467" y="256"/>
                      </a:lnTo>
                      <a:lnTo>
                        <a:pt x="1500" y="256"/>
                      </a:lnTo>
                      <a:lnTo>
                        <a:pt x="1507" y="252"/>
                      </a:lnTo>
                      <a:lnTo>
                        <a:pt x="1511" y="252"/>
                      </a:lnTo>
                      <a:lnTo>
                        <a:pt x="1518" y="249"/>
                      </a:lnTo>
                      <a:lnTo>
                        <a:pt x="1532" y="249"/>
                      </a:lnTo>
                      <a:lnTo>
                        <a:pt x="1539" y="252"/>
                      </a:lnTo>
                      <a:lnTo>
                        <a:pt x="1547" y="252"/>
                      </a:lnTo>
                      <a:lnTo>
                        <a:pt x="1550" y="249"/>
                      </a:lnTo>
                      <a:lnTo>
                        <a:pt x="1554" y="249"/>
                      </a:lnTo>
                      <a:lnTo>
                        <a:pt x="1565" y="238"/>
                      </a:lnTo>
                      <a:lnTo>
                        <a:pt x="1565" y="227"/>
                      </a:lnTo>
                      <a:lnTo>
                        <a:pt x="1561" y="224"/>
                      </a:lnTo>
                      <a:lnTo>
                        <a:pt x="1557" y="224"/>
                      </a:lnTo>
                      <a:lnTo>
                        <a:pt x="1550" y="220"/>
                      </a:lnTo>
                      <a:lnTo>
                        <a:pt x="1543" y="220"/>
                      </a:lnTo>
                      <a:lnTo>
                        <a:pt x="1539" y="216"/>
                      </a:lnTo>
                      <a:lnTo>
                        <a:pt x="1547" y="216"/>
                      </a:lnTo>
                      <a:lnTo>
                        <a:pt x="1554" y="213"/>
                      </a:lnTo>
                      <a:lnTo>
                        <a:pt x="1561" y="213"/>
                      </a:lnTo>
                      <a:lnTo>
                        <a:pt x="1568" y="209"/>
                      </a:lnTo>
                      <a:lnTo>
                        <a:pt x="1575" y="209"/>
                      </a:lnTo>
                      <a:lnTo>
                        <a:pt x="1583" y="206"/>
                      </a:lnTo>
                      <a:lnTo>
                        <a:pt x="1590" y="202"/>
                      </a:lnTo>
                      <a:lnTo>
                        <a:pt x="1593" y="198"/>
                      </a:lnTo>
                      <a:lnTo>
                        <a:pt x="1597" y="202"/>
                      </a:lnTo>
                      <a:lnTo>
                        <a:pt x="1619" y="202"/>
                      </a:lnTo>
                      <a:lnTo>
                        <a:pt x="1626" y="195"/>
                      </a:lnTo>
                      <a:lnTo>
                        <a:pt x="1626" y="191"/>
                      </a:lnTo>
                      <a:lnTo>
                        <a:pt x="1647" y="170"/>
                      </a:lnTo>
                      <a:lnTo>
                        <a:pt x="1655" y="173"/>
                      </a:lnTo>
                      <a:lnTo>
                        <a:pt x="1662" y="173"/>
                      </a:lnTo>
                      <a:lnTo>
                        <a:pt x="1669" y="166"/>
                      </a:lnTo>
                      <a:lnTo>
                        <a:pt x="1676" y="162"/>
                      </a:lnTo>
                      <a:lnTo>
                        <a:pt x="1684" y="159"/>
                      </a:lnTo>
                      <a:lnTo>
                        <a:pt x="1687" y="159"/>
                      </a:lnTo>
                      <a:lnTo>
                        <a:pt x="1694" y="155"/>
                      </a:lnTo>
                      <a:lnTo>
                        <a:pt x="1698" y="155"/>
                      </a:lnTo>
                      <a:lnTo>
                        <a:pt x="1705" y="151"/>
                      </a:lnTo>
                      <a:lnTo>
                        <a:pt x="1709" y="151"/>
                      </a:lnTo>
                      <a:lnTo>
                        <a:pt x="1712" y="148"/>
                      </a:lnTo>
                      <a:lnTo>
                        <a:pt x="1727" y="148"/>
                      </a:lnTo>
                      <a:lnTo>
                        <a:pt x="1730" y="151"/>
                      </a:lnTo>
                      <a:lnTo>
                        <a:pt x="1738" y="151"/>
                      </a:lnTo>
                      <a:lnTo>
                        <a:pt x="1745" y="148"/>
                      </a:lnTo>
                      <a:lnTo>
                        <a:pt x="1752" y="148"/>
                      </a:lnTo>
                      <a:lnTo>
                        <a:pt x="1759" y="144"/>
                      </a:lnTo>
                      <a:lnTo>
                        <a:pt x="1766" y="144"/>
                      </a:lnTo>
                      <a:lnTo>
                        <a:pt x="1770" y="141"/>
                      </a:lnTo>
                      <a:lnTo>
                        <a:pt x="1799" y="141"/>
                      </a:lnTo>
                      <a:lnTo>
                        <a:pt x="1806" y="137"/>
                      </a:lnTo>
                      <a:lnTo>
                        <a:pt x="1813" y="133"/>
                      </a:lnTo>
                      <a:lnTo>
                        <a:pt x="1820" y="130"/>
                      </a:lnTo>
                      <a:lnTo>
                        <a:pt x="1842" y="130"/>
                      </a:lnTo>
                      <a:lnTo>
                        <a:pt x="1846" y="126"/>
                      </a:lnTo>
                      <a:lnTo>
                        <a:pt x="1853" y="123"/>
                      </a:lnTo>
                      <a:lnTo>
                        <a:pt x="1857" y="119"/>
                      </a:lnTo>
                      <a:lnTo>
                        <a:pt x="1864" y="115"/>
                      </a:lnTo>
                      <a:lnTo>
                        <a:pt x="1875" y="105"/>
                      </a:lnTo>
                      <a:lnTo>
                        <a:pt x="1878" y="97"/>
                      </a:lnTo>
                      <a:lnTo>
                        <a:pt x="1889" y="97"/>
                      </a:lnTo>
                      <a:lnTo>
                        <a:pt x="1893" y="101"/>
                      </a:lnTo>
                      <a:lnTo>
                        <a:pt x="1900" y="105"/>
                      </a:lnTo>
                      <a:lnTo>
                        <a:pt x="1907" y="108"/>
                      </a:lnTo>
                      <a:lnTo>
                        <a:pt x="1918" y="108"/>
                      </a:lnTo>
                      <a:lnTo>
                        <a:pt x="1925" y="105"/>
                      </a:lnTo>
                      <a:lnTo>
                        <a:pt x="1929" y="101"/>
                      </a:lnTo>
                      <a:lnTo>
                        <a:pt x="1929" y="87"/>
                      </a:lnTo>
                      <a:lnTo>
                        <a:pt x="1925" y="83"/>
                      </a:lnTo>
                      <a:lnTo>
                        <a:pt x="1932" y="76"/>
                      </a:lnTo>
                      <a:lnTo>
                        <a:pt x="1936" y="76"/>
                      </a:lnTo>
                      <a:lnTo>
                        <a:pt x="1943" y="79"/>
                      </a:lnTo>
                      <a:lnTo>
                        <a:pt x="1947" y="79"/>
                      </a:lnTo>
                      <a:lnTo>
                        <a:pt x="1947" y="83"/>
                      </a:lnTo>
                      <a:lnTo>
                        <a:pt x="1957" y="83"/>
                      </a:lnTo>
                      <a:lnTo>
                        <a:pt x="1961" y="76"/>
                      </a:lnTo>
                      <a:lnTo>
                        <a:pt x="1961" y="72"/>
                      </a:lnTo>
                      <a:lnTo>
                        <a:pt x="1965" y="72"/>
                      </a:lnTo>
                      <a:lnTo>
                        <a:pt x="1968" y="65"/>
                      </a:lnTo>
                      <a:lnTo>
                        <a:pt x="1975" y="58"/>
                      </a:lnTo>
                      <a:lnTo>
                        <a:pt x="1975" y="51"/>
                      </a:lnTo>
                      <a:lnTo>
                        <a:pt x="1968" y="43"/>
                      </a:lnTo>
                      <a:lnTo>
                        <a:pt x="1975" y="40"/>
                      </a:lnTo>
                      <a:lnTo>
                        <a:pt x="1979" y="36"/>
                      </a:lnTo>
                      <a:lnTo>
                        <a:pt x="2011" y="36"/>
                      </a:lnTo>
                      <a:lnTo>
                        <a:pt x="2015" y="33"/>
                      </a:lnTo>
                      <a:lnTo>
                        <a:pt x="2037" y="33"/>
                      </a:lnTo>
                      <a:lnTo>
                        <a:pt x="2040" y="29"/>
                      </a:lnTo>
                      <a:lnTo>
                        <a:pt x="2040" y="15"/>
                      </a:lnTo>
                      <a:lnTo>
                        <a:pt x="2033" y="7"/>
                      </a:lnTo>
                      <a:lnTo>
                        <a:pt x="2033" y="4"/>
                      </a:lnTo>
                      <a:lnTo>
                        <a:pt x="2037" y="0"/>
                      </a:lnTo>
                      <a:lnTo>
                        <a:pt x="2051" y="0"/>
                      </a:lnTo>
                      <a:lnTo>
                        <a:pt x="2058" y="4"/>
                      </a:lnTo>
                      <a:lnTo>
                        <a:pt x="2058" y="7"/>
                      </a:lnTo>
                      <a:lnTo>
                        <a:pt x="2062" y="11"/>
                      </a:lnTo>
                      <a:lnTo>
                        <a:pt x="2062" y="15"/>
                      </a:lnTo>
                      <a:lnTo>
                        <a:pt x="2066" y="22"/>
                      </a:lnTo>
                      <a:lnTo>
                        <a:pt x="2073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77520" y="582876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25" h="22">
                      <a:moveTo>
                        <a:pt x="25" y="18"/>
                      </a:moveTo>
                      <a:lnTo>
                        <a:pt x="25" y="22"/>
                      </a:lnTo>
                      <a:lnTo>
                        <a:pt x="25" y="11"/>
                      </a:lnTo>
                      <a:lnTo>
                        <a:pt x="18" y="4"/>
                      </a:lnTo>
                      <a:lnTo>
                        <a:pt x="7" y="4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8" y="11"/>
                      </a:lnTo>
                      <a:lnTo>
                        <a:pt x="18" y="22"/>
                      </a:lnTo>
                      <a:lnTo>
                        <a:pt x="18" y="18"/>
                      </a:lnTo>
                      <a:lnTo>
                        <a:pt x="18" y="22"/>
                      </a:lnTo>
                      <a:lnTo>
                        <a:pt x="25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81840" y="5834160"/>
                  <a:ext cx="7200" cy="756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25" y="18"/>
                      </a:moveTo>
                      <a:lnTo>
                        <a:pt x="29" y="15"/>
                      </a:lnTo>
                      <a:lnTo>
                        <a:pt x="21" y="15"/>
                      </a:lnTo>
                      <a:lnTo>
                        <a:pt x="18" y="11"/>
                      </a:lnTo>
                      <a:lnTo>
                        <a:pt x="14" y="11"/>
                      </a:lnTo>
                      <a:lnTo>
                        <a:pt x="14" y="8"/>
                      </a:lnTo>
                      <a:lnTo>
                        <a:pt x="11" y="8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7" y="15"/>
                      </a:lnTo>
                      <a:lnTo>
                        <a:pt x="11" y="15"/>
                      </a:lnTo>
                      <a:lnTo>
                        <a:pt x="18" y="22"/>
                      </a:lnTo>
                      <a:lnTo>
                        <a:pt x="21" y="22"/>
                      </a:lnTo>
                      <a:lnTo>
                        <a:pt x="29" y="26"/>
                      </a:lnTo>
                      <a:lnTo>
                        <a:pt x="32" y="22"/>
                      </a:lnTo>
                      <a:lnTo>
                        <a:pt x="29" y="26"/>
                      </a:lnTo>
                      <a:lnTo>
                        <a:pt x="32" y="22"/>
                      </a:lnTo>
                      <a:lnTo>
                        <a:pt x="25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87240" y="58374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4"/>
                      </a:moveTo>
                      <a:lnTo>
                        <a:pt x="50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11" y="11"/>
                      </a:lnTo>
                      <a:lnTo>
                        <a:pt x="14" y="7"/>
                      </a:lnTo>
                      <a:lnTo>
                        <a:pt x="32" y="7"/>
                      </a:lnTo>
                      <a:lnTo>
                        <a:pt x="36" y="11"/>
                      </a:lnTo>
                      <a:lnTo>
                        <a:pt x="43" y="11"/>
                      </a:lnTo>
                      <a:lnTo>
                        <a:pt x="50" y="7"/>
                      </a:lnTo>
                      <a:lnTo>
                        <a:pt x="47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98040" y="58334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29" y="0"/>
                      </a:moveTo>
                      <a:lnTo>
                        <a:pt x="18" y="0"/>
                      </a:lnTo>
                      <a:lnTo>
                        <a:pt x="11" y="7"/>
                      </a:lnTo>
                      <a:lnTo>
                        <a:pt x="7" y="7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11" y="14"/>
                      </a:lnTo>
                      <a:lnTo>
                        <a:pt x="14" y="14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3800" y="5832000"/>
                  <a:ext cx="12240" cy="5400"/>
                </a:xfrm>
                <a:custGeom>
                  <a:avLst/>
                  <a:gdLst/>
                  <a:ahLst/>
                  <a:rect l="l" t="t" r="r" b="b"/>
                  <a:pathLst>
                    <a:path w="54" h="18">
                      <a:moveTo>
                        <a:pt x="54" y="0"/>
                      </a:moveTo>
                      <a:lnTo>
                        <a:pt x="47" y="4"/>
                      </a:lnTo>
                      <a:lnTo>
                        <a:pt x="40" y="4"/>
                      </a:lnTo>
                      <a:lnTo>
                        <a:pt x="33" y="7"/>
                      </a:lnTo>
                      <a:lnTo>
                        <a:pt x="11" y="7"/>
                      </a:lnTo>
                      <a:lnTo>
                        <a:pt x="4" y="4"/>
                      </a:lnTo>
                      <a:lnTo>
                        <a:pt x="0" y="11"/>
                      </a:lnTo>
                      <a:lnTo>
                        <a:pt x="7" y="15"/>
                      </a:lnTo>
                      <a:lnTo>
                        <a:pt x="15" y="15"/>
                      </a:lnTo>
                      <a:lnTo>
                        <a:pt x="22" y="18"/>
                      </a:lnTo>
                      <a:lnTo>
                        <a:pt x="29" y="15"/>
                      </a:lnTo>
                      <a:lnTo>
                        <a:pt x="36" y="15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4" y="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6040" y="5831280"/>
                  <a:ext cx="19440" cy="3960"/>
                </a:xfrm>
                <a:custGeom>
                  <a:avLst/>
                  <a:gdLst/>
                  <a:ahLst/>
                  <a:rect l="l" t="t" r="r" b="b"/>
                  <a:pathLst>
                    <a:path w="87" h="14">
                      <a:moveTo>
                        <a:pt x="87" y="3"/>
                      </a:moveTo>
                      <a:lnTo>
                        <a:pt x="83" y="0"/>
                      </a:lnTo>
                      <a:lnTo>
                        <a:pt x="76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11" y="14"/>
                      </a:lnTo>
                      <a:lnTo>
                        <a:pt x="33" y="14"/>
                      </a:lnTo>
                      <a:lnTo>
                        <a:pt x="43" y="10"/>
                      </a:lnTo>
                      <a:lnTo>
                        <a:pt x="76" y="10"/>
                      </a:lnTo>
                      <a:lnTo>
                        <a:pt x="83" y="7"/>
                      </a:lnTo>
                      <a:lnTo>
                        <a:pt x="87" y="3"/>
                      </a:lnTo>
                      <a:lnTo>
                        <a:pt x="87" y="0"/>
                      </a:lnTo>
                      <a:lnTo>
                        <a:pt x="83" y="0"/>
                      </a:lnTo>
                      <a:lnTo>
                        <a:pt x="87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35120" y="583200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2" y="18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4" y="18"/>
                      </a:lnTo>
                      <a:lnTo>
                        <a:pt x="14" y="15"/>
                      </a:lnTo>
                      <a:lnTo>
                        <a:pt x="22" y="18"/>
                      </a:lnTo>
                      <a:lnTo>
                        <a:pt x="18" y="15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30080" y="5836680"/>
                  <a:ext cx="9720" cy="5040"/>
                </a:xfrm>
                <a:custGeom>
                  <a:avLst/>
                  <a:gdLst/>
                  <a:ahLst/>
                  <a:rect l="l" t="t" r="r" b="b"/>
                  <a:pathLst>
                    <a:path w="44" h="18">
                      <a:moveTo>
                        <a:pt x="0" y="14"/>
                      </a:moveTo>
                      <a:lnTo>
                        <a:pt x="4" y="18"/>
                      </a:lnTo>
                      <a:lnTo>
                        <a:pt x="22" y="18"/>
                      </a:lnTo>
                      <a:lnTo>
                        <a:pt x="26" y="14"/>
                      </a:lnTo>
                      <a:lnTo>
                        <a:pt x="33" y="14"/>
                      </a:lnTo>
                      <a:lnTo>
                        <a:pt x="36" y="7"/>
                      </a:lnTo>
                      <a:lnTo>
                        <a:pt x="44" y="3"/>
                      </a:lnTo>
                      <a:lnTo>
                        <a:pt x="36" y="0"/>
                      </a:lnTo>
                      <a:lnTo>
                        <a:pt x="33" y="3"/>
                      </a:lnTo>
                      <a:lnTo>
                        <a:pt x="29" y="3"/>
                      </a:lnTo>
                      <a:lnTo>
                        <a:pt x="22" y="10"/>
                      </a:lnTo>
                      <a:lnTo>
                        <a:pt x="4" y="10"/>
                      </a:lnTo>
                      <a:lnTo>
                        <a:pt x="0" y="7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7120" y="583884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0" y="18"/>
                      </a:moveTo>
                      <a:lnTo>
                        <a:pt x="7" y="18"/>
                      </a:lnTo>
                      <a:lnTo>
                        <a:pt x="18" y="21"/>
                      </a:lnTo>
                      <a:lnTo>
                        <a:pt x="25" y="18"/>
                      </a:lnTo>
                      <a:lnTo>
                        <a:pt x="32" y="14"/>
                      </a:lnTo>
                      <a:lnTo>
                        <a:pt x="39" y="14"/>
                      </a:lnTo>
                      <a:lnTo>
                        <a:pt x="43" y="11"/>
                      </a:lnTo>
                      <a:lnTo>
                        <a:pt x="50" y="11"/>
                      </a:lnTo>
                      <a:lnTo>
                        <a:pt x="57" y="7"/>
                      </a:lnTo>
                      <a:lnTo>
                        <a:pt x="57" y="0"/>
                      </a:lnTo>
                      <a:lnTo>
                        <a:pt x="50" y="0"/>
                      </a:lnTo>
                      <a:lnTo>
                        <a:pt x="43" y="3"/>
                      </a:lnTo>
                      <a:lnTo>
                        <a:pt x="36" y="7"/>
                      </a:lnTo>
                      <a:lnTo>
                        <a:pt x="29" y="11"/>
                      </a:lnTo>
                      <a:lnTo>
                        <a:pt x="21" y="11"/>
                      </a:lnTo>
                      <a:lnTo>
                        <a:pt x="18" y="14"/>
                      </a:lnTo>
                      <a:lnTo>
                        <a:pt x="11" y="14"/>
                      </a:lnTo>
                      <a:lnTo>
                        <a:pt x="0" y="1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02360" y="5842080"/>
                  <a:ext cx="14760" cy="9360"/>
                </a:xfrm>
                <a:custGeom>
                  <a:avLst/>
                  <a:gdLst/>
                  <a:ahLst/>
                  <a:rect l="l" t="t" r="r" b="b"/>
                  <a:pathLst>
                    <a:path w="65" h="32">
                      <a:moveTo>
                        <a:pt x="3" y="32"/>
                      </a:moveTo>
                      <a:lnTo>
                        <a:pt x="22" y="32"/>
                      </a:lnTo>
                      <a:lnTo>
                        <a:pt x="29" y="28"/>
                      </a:lnTo>
                      <a:lnTo>
                        <a:pt x="36" y="25"/>
                      </a:lnTo>
                      <a:lnTo>
                        <a:pt x="43" y="21"/>
                      </a:lnTo>
                      <a:lnTo>
                        <a:pt x="54" y="14"/>
                      </a:lnTo>
                      <a:lnTo>
                        <a:pt x="61" y="10"/>
                      </a:lnTo>
                      <a:lnTo>
                        <a:pt x="65" y="7"/>
                      </a:lnTo>
                      <a:lnTo>
                        <a:pt x="65" y="0"/>
                      </a:lnTo>
                      <a:lnTo>
                        <a:pt x="58" y="3"/>
                      </a:lnTo>
                      <a:lnTo>
                        <a:pt x="47" y="7"/>
                      </a:lnTo>
                      <a:lnTo>
                        <a:pt x="40" y="14"/>
                      </a:lnTo>
                      <a:lnTo>
                        <a:pt x="32" y="18"/>
                      </a:lnTo>
                      <a:lnTo>
                        <a:pt x="25" y="21"/>
                      </a:lnTo>
                      <a:lnTo>
                        <a:pt x="18" y="25"/>
                      </a:lnTo>
                      <a:lnTo>
                        <a:pt x="3" y="25"/>
                      </a:lnTo>
                      <a:lnTo>
                        <a:pt x="0" y="28"/>
                      </a:lnTo>
                      <a:lnTo>
                        <a:pt x="3" y="25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3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7320" y="58503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15"/>
                      </a:moveTo>
                      <a:lnTo>
                        <a:pt x="18" y="15"/>
                      </a:lnTo>
                      <a:lnTo>
                        <a:pt x="25" y="8"/>
                      </a:lnTo>
                      <a:lnTo>
                        <a:pt x="25" y="4"/>
                      </a:lnTo>
                      <a:lnTo>
                        <a:pt x="22" y="0"/>
                      </a:lnTo>
                      <a:lnTo>
                        <a:pt x="15" y="8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7" y="11"/>
                      </a:lnTo>
                      <a:lnTo>
                        <a:pt x="4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94800" y="5851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11" y="11"/>
                      </a:lnTo>
                      <a:lnTo>
                        <a:pt x="15" y="4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84720" y="5852880"/>
                  <a:ext cx="11520" cy="8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4" y="28"/>
                      </a:moveTo>
                      <a:lnTo>
                        <a:pt x="7" y="21"/>
                      </a:lnTo>
                      <a:lnTo>
                        <a:pt x="11" y="18"/>
                      </a:lnTo>
                      <a:lnTo>
                        <a:pt x="18" y="18"/>
                      </a:lnTo>
                      <a:lnTo>
                        <a:pt x="22" y="14"/>
                      </a:lnTo>
                      <a:lnTo>
                        <a:pt x="36" y="14"/>
                      </a:lnTo>
                      <a:lnTo>
                        <a:pt x="43" y="7"/>
                      </a:lnTo>
                      <a:lnTo>
                        <a:pt x="51" y="3"/>
                      </a:lnTo>
                      <a:lnTo>
                        <a:pt x="43" y="0"/>
                      </a:lnTo>
                      <a:lnTo>
                        <a:pt x="36" y="7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7" y="14"/>
                      </a:lnTo>
                      <a:lnTo>
                        <a:pt x="0" y="18"/>
                      </a:lnTo>
                      <a:lnTo>
                        <a:pt x="0" y="28"/>
                      </a:lnTo>
                      <a:lnTo>
                        <a:pt x="4" y="2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8960" y="58611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7" y="22"/>
                      </a:moveTo>
                      <a:lnTo>
                        <a:pt x="7" y="26"/>
                      </a:lnTo>
                      <a:lnTo>
                        <a:pt x="7" y="22"/>
                      </a:lnTo>
                      <a:lnTo>
                        <a:pt x="11" y="22"/>
                      </a:lnTo>
                      <a:lnTo>
                        <a:pt x="14" y="18"/>
                      </a:lnTo>
                      <a:lnTo>
                        <a:pt x="18" y="18"/>
                      </a:lnTo>
                      <a:lnTo>
                        <a:pt x="29" y="8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4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1" y="15"/>
                      </a:lnTo>
                      <a:lnTo>
                        <a:pt x="7" y="15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78960" y="5867640"/>
                  <a:ext cx="3960" cy="28800"/>
                </a:xfrm>
                <a:custGeom>
                  <a:avLst/>
                  <a:gdLst/>
                  <a:ahLst/>
                  <a:rect l="l" t="t" r="r" b="b"/>
                  <a:pathLst>
                    <a:path w="18" h="97">
                      <a:moveTo>
                        <a:pt x="14" y="97"/>
                      </a:moveTo>
                      <a:lnTo>
                        <a:pt x="18" y="87"/>
                      </a:lnTo>
                      <a:lnTo>
                        <a:pt x="18" y="36"/>
                      </a:lnTo>
                      <a:lnTo>
                        <a:pt x="14" y="25"/>
                      </a:lnTo>
                      <a:lnTo>
                        <a:pt x="11" y="15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4" y="15"/>
                      </a:lnTo>
                      <a:lnTo>
                        <a:pt x="7" y="25"/>
                      </a:lnTo>
                      <a:lnTo>
                        <a:pt x="11" y="40"/>
                      </a:lnTo>
                      <a:lnTo>
                        <a:pt x="11" y="87"/>
                      </a:lnTo>
                      <a:lnTo>
                        <a:pt x="7" y="97"/>
                      </a:lnTo>
                      <a:lnTo>
                        <a:pt x="14" y="9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80760" y="5896440"/>
                  <a:ext cx="4680" cy="1296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8" y="36"/>
                      </a:moveTo>
                      <a:lnTo>
                        <a:pt x="22" y="40"/>
                      </a:lnTo>
                      <a:lnTo>
                        <a:pt x="18" y="29"/>
                      </a:lnTo>
                      <a:lnTo>
                        <a:pt x="15" y="18"/>
                      </a:lnTo>
                      <a:lnTo>
                        <a:pt x="11" y="1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11"/>
                      </a:lnTo>
                      <a:lnTo>
                        <a:pt x="7" y="22"/>
                      </a:lnTo>
                      <a:lnTo>
                        <a:pt x="11" y="33"/>
                      </a:lnTo>
                      <a:lnTo>
                        <a:pt x="15" y="40"/>
                      </a:lnTo>
                      <a:lnTo>
                        <a:pt x="15" y="44"/>
                      </a:lnTo>
                      <a:lnTo>
                        <a:pt x="15" y="40"/>
                      </a:lnTo>
                      <a:lnTo>
                        <a:pt x="15" y="44"/>
                      </a:lnTo>
                      <a:lnTo>
                        <a:pt x="18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84000" y="59072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21" h="15">
                      <a:moveTo>
                        <a:pt x="18" y="4"/>
                      </a:moveTo>
                      <a:lnTo>
                        <a:pt x="14" y="8"/>
                      </a:lnTo>
                      <a:lnTo>
                        <a:pt x="10" y="8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3" y="11"/>
                      </a:lnTo>
                      <a:lnTo>
                        <a:pt x="10" y="15"/>
                      </a:lnTo>
                      <a:lnTo>
                        <a:pt x="14" y="15"/>
                      </a:lnTo>
                      <a:lnTo>
                        <a:pt x="21" y="11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88320" y="5901840"/>
                  <a:ext cx="2160" cy="864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7" y="0"/>
                      </a:moveTo>
                      <a:lnTo>
                        <a:pt x="3" y="4"/>
                      </a:lnTo>
                      <a:lnTo>
                        <a:pt x="3" y="18"/>
                      </a:lnTo>
                      <a:lnTo>
                        <a:pt x="0" y="22"/>
                      </a:lnTo>
                      <a:lnTo>
                        <a:pt x="3" y="29"/>
                      </a:lnTo>
                      <a:lnTo>
                        <a:pt x="7" y="22"/>
                      </a:lnTo>
                      <a:lnTo>
                        <a:pt x="10" y="18"/>
                      </a:lnTo>
                      <a:lnTo>
                        <a:pt x="10" y="4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89760" y="5901840"/>
                  <a:ext cx="5400" cy="5400"/>
                </a:xfrm>
                <a:custGeom>
                  <a:avLst/>
                  <a:gdLst/>
                  <a:ahLst/>
                  <a:rect l="l" t="t" r="r" b="b"/>
                  <a:pathLst>
                    <a:path w="25" h="18">
                      <a:moveTo>
                        <a:pt x="25" y="11"/>
                      </a:moveTo>
                      <a:lnTo>
                        <a:pt x="21" y="8"/>
                      </a:lnTo>
                      <a:lnTo>
                        <a:pt x="18" y="8"/>
                      </a:lnTo>
                      <a:lnTo>
                        <a:pt x="18" y="4"/>
                      </a:lnTo>
                      <a:lnTo>
                        <a:pt x="11" y="4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11"/>
                      </a:lnTo>
                      <a:lnTo>
                        <a:pt x="11" y="11"/>
                      </a:lnTo>
                      <a:lnTo>
                        <a:pt x="14" y="15"/>
                      </a:lnTo>
                      <a:lnTo>
                        <a:pt x="21" y="15"/>
                      </a:lnTo>
                      <a:lnTo>
                        <a:pt x="25" y="18"/>
                      </a:lnTo>
                      <a:lnTo>
                        <a:pt x="25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95520" y="5900760"/>
                  <a:ext cx="21960" cy="6120"/>
                </a:xfrm>
                <a:custGeom>
                  <a:avLst/>
                  <a:gdLst/>
                  <a:ahLst/>
                  <a:rect l="l" t="t" r="r" b="b"/>
                  <a:pathLst>
                    <a:path w="97" h="21">
                      <a:moveTo>
                        <a:pt x="94" y="14"/>
                      </a:moveTo>
                      <a:lnTo>
                        <a:pt x="97" y="14"/>
                      </a:lnTo>
                      <a:lnTo>
                        <a:pt x="94" y="7"/>
                      </a:lnTo>
                      <a:lnTo>
                        <a:pt x="87" y="3"/>
                      </a:lnTo>
                      <a:lnTo>
                        <a:pt x="79" y="3"/>
                      </a:lnTo>
                      <a:lnTo>
                        <a:pt x="72" y="0"/>
                      </a:lnTo>
                      <a:lnTo>
                        <a:pt x="47" y="0"/>
                      </a:lnTo>
                      <a:lnTo>
                        <a:pt x="40" y="3"/>
                      </a:lnTo>
                      <a:lnTo>
                        <a:pt x="29" y="3"/>
                      </a:lnTo>
                      <a:lnTo>
                        <a:pt x="22" y="7"/>
                      </a:lnTo>
                      <a:lnTo>
                        <a:pt x="18" y="7"/>
                      </a:lnTo>
                      <a:lnTo>
                        <a:pt x="11" y="11"/>
                      </a:lnTo>
                      <a:lnTo>
                        <a:pt x="4" y="11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18"/>
                      </a:lnTo>
                      <a:lnTo>
                        <a:pt x="18" y="18"/>
                      </a:lnTo>
                      <a:lnTo>
                        <a:pt x="25" y="14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43" y="7"/>
                      </a:lnTo>
                      <a:lnTo>
                        <a:pt x="61" y="7"/>
                      </a:lnTo>
                      <a:lnTo>
                        <a:pt x="65" y="3"/>
                      </a:lnTo>
                      <a:lnTo>
                        <a:pt x="72" y="7"/>
                      </a:lnTo>
                      <a:lnTo>
                        <a:pt x="76" y="7"/>
                      </a:lnTo>
                      <a:lnTo>
                        <a:pt x="83" y="11"/>
                      </a:lnTo>
                      <a:lnTo>
                        <a:pt x="87" y="14"/>
                      </a:lnTo>
                      <a:lnTo>
                        <a:pt x="94" y="18"/>
                      </a:lnTo>
                      <a:lnTo>
                        <a:pt x="94" y="21"/>
                      </a:lnTo>
                      <a:lnTo>
                        <a:pt x="94" y="18"/>
                      </a:lnTo>
                      <a:lnTo>
                        <a:pt x="94" y="21"/>
                      </a:lnTo>
                      <a:lnTo>
                        <a:pt x="94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17120" y="590436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57" y="7"/>
                      </a:moveTo>
                      <a:lnTo>
                        <a:pt x="54" y="7"/>
                      </a:lnTo>
                      <a:lnTo>
                        <a:pt x="47" y="10"/>
                      </a:lnTo>
                      <a:lnTo>
                        <a:pt x="43" y="14"/>
                      </a:lnTo>
                      <a:lnTo>
                        <a:pt x="39" y="10"/>
                      </a:lnTo>
                      <a:lnTo>
                        <a:pt x="32" y="7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7" y="7"/>
                      </a:lnTo>
                      <a:lnTo>
                        <a:pt x="18" y="10"/>
                      </a:lnTo>
                      <a:lnTo>
                        <a:pt x="21" y="10"/>
                      </a:lnTo>
                      <a:lnTo>
                        <a:pt x="29" y="14"/>
                      </a:lnTo>
                      <a:lnTo>
                        <a:pt x="36" y="18"/>
                      </a:lnTo>
                      <a:lnTo>
                        <a:pt x="43" y="21"/>
                      </a:lnTo>
                      <a:lnTo>
                        <a:pt x="50" y="18"/>
                      </a:lnTo>
                      <a:lnTo>
                        <a:pt x="57" y="14"/>
                      </a:lnTo>
                      <a:lnTo>
                        <a:pt x="57" y="7"/>
                      </a:lnTo>
                      <a:lnTo>
                        <a:pt x="54" y="7"/>
                      </a:lnTo>
                      <a:lnTo>
                        <a:pt x="57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30080" y="5906160"/>
                  <a:ext cx="9000" cy="10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40" y="25"/>
                      </a:moveTo>
                      <a:lnTo>
                        <a:pt x="22" y="25"/>
                      </a:lnTo>
                      <a:lnTo>
                        <a:pt x="22" y="18"/>
                      </a:lnTo>
                      <a:lnTo>
                        <a:pt x="18" y="14"/>
                      </a:lnTo>
                      <a:lnTo>
                        <a:pt x="15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8" y="11"/>
                      </a:lnTo>
                      <a:lnTo>
                        <a:pt x="11" y="18"/>
                      </a:lnTo>
                      <a:lnTo>
                        <a:pt x="15" y="21"/>
                      </a:lnTo>
                      <a:lnTo>
                        <a:pt x="18" y="29"/>
                      </a:lnTo>
                      <a:lnTo>
                        <a:pt x="22" y="32"/>
                      </a:lnTo>
                      <a:lnTo>
                        <a:pt x="33" y="36"/>
                      </a:lnTo>
                      <a:lnTo>
                        <a:pt x="40" y="29"/>
                      </a:lnTo>
                      <a:lnTo>
                        <a:pt x="36" y="29"/>
                      </a:lnTo>
                      <a:lnTo>
                        <a:pt x="40" y="25"/>
                      </a:lnTo>
                      <a:lnTo>
                        <a:pt x="40" y="21"/>
                      </a:lnTo>
                      <a:lnTo>
                        <a:pt x="36" y="25"/>
                      </a:lnTo>
                      <a:lnTo>
                        <a:pt x="40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37640" y="591372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18" h="54">
                      <a:moveTo>
                        <a:pt x="7" y="54"/>
                      </a:moveTo>
                      <a:lnTo>
                        <a:pt x="7" y="47"/>
                      </a:lnTo>
                      <a:lnTo>
                        <a:pt x="11" y="40"/>
                      </a:lnTo>
                      <a:lnTo>
                        <a:pt x="14" y="36"/>
                      </a:lnTo>
                      <a:lnTo>
                        <a:pt x="14" y="25"/>
                      </a:lnTo>
                      <a:lnTo>
                        <a:pt x="18" y="22"/>
                      </a:lnTo>
                      <a:lnTo>
                        <a:pt x="18" y="15"/>
                      </a:lnTo>
                      <a:lnTo>
                        <a:pt x="14" y="4"/>
                      </a:lnTo>
                      <a:lnTo>
                        <a:pt x="7" y="0"/>
                      </a:lnTo>
                      <a:lnTo>
                        <a:pt x="3" y="4"/>
                      </a:lnTo>
                      <a:lnTo>
                        <a:pt x="7" y="11"/>
                      </a:lnTo>
                      <a:lnTo>
                        <a:pt x="11" y="15"/>
                      </a:lnTo>
                      <a:lnTo>
                        <a:pt x="11" y="22"/>
                      </a:lnTo>
                      <a:lnTo>
                        <a:pt x="7" y="25"/>
                      </a:lnTo>
                      <a:lnTo>
                        <a:pt x="7" y="33"/>
                      </a:lnTo>
                      <a:lnTo>
                        <a:pt x="3" y="40"/>
                      </a:lnTo>
                      <a:lnTo>
                        <a:pt x="0" y="47"/>
                      </a:lnTo>
                      <a:lnTo>
                        <a:pt x="0" y="54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31880" y="5929920"/>
                  <a:ext cx="7200" cy="24480"/>
                </a:xfrm>
                <a:custGeom>
                  <a:avLst/>
                  <a:gdLst/>
                  <a:ahLst/>
                  <a:rect l="l" t="t" r="r" b="b"/>
                  <a:pathLst>
                    <a:path w="32" h="83">
                      <a:moveTo>
                        <a:pt x="7" y="79"/>
                      </a:moveTo>
                      <a:lnTo>
                        <a:pt x="7" y="83"/>
                      </a:lnTo>
                      <a:lnTo>
                        <a:pt x="14" y="72"/>
                      </a:lnTo>
                      <a:lnTo>
                        <a:pt x="18" y="65"/>
                      </a:lnTo>
                      <a:lnTo>
                        <a:pt x="21" y="54"/>
                      </a:lnTo>
                      <a:lnTo>
                        <a:pt x="28" y="43"/>
                      </a:lnTo>
                      <a:lnTo>
                        <a:pt x="32" y="33"/>
                      </a:lnTo>
                      <a:lnTo>
                        <a:pt x="32" y="0"/>
                      </a:lnTo>
                      <a:lnTo>
                        <a:pt x="25" y="0"/>
                      </a:lnTo>
                      <a:lnTo>
                        <a:pt x="25" y="33"/>
                      </a:lnTo>
                      <a:lnTo>
                        <a:pt x="21" y="43"/>
                      </a:lnTo>
                      <a:lnTo>
                        <a:pt x="14" y="51"/>
                      </a:lnTo>
                      <a:lnTo>
                        <a:pt x="10" y="61"/>
                      </a:lnTo>
                      <a:lnTo>
                        <a:pt x="7" y="69"/>
                      </a:lnTo>
                      <a:lnTo>
                        <a:pt x="0" y="79"/>
                      </a:lnTo>
                      <a:lnTo>
                        <a:pt x="7" y="7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31880" y="5953320"/>
                  <a:ext cx="2160" cy="19080"/>
                </a:xfrm>
                <a:custGeom>
                  <a:avLst/>
                  <a:gdLst/>
                  <a:ahLst/>
                  <a:rect l="l" t="t" r="r" b="b"/>
                  <a:pathLst>
                    <a:path w="10" h="65">
                      <a:moveTo>
                        <a:pt x="7" y="65"/>
                      </a:moveTo>
                      <a:lnTo>
                        <a:pt x="10" y="47"/>
                      </a:lnTo>
                      <a:lnTo>
                        <a:pt x="10" y="33"/>
                      </a:lnTo>
                      <a:lnTo>
                        <a:pt x="7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3" y="33"/>
                      </a:lnTo>
                      <a:lnTo>
                        <a:pt x="3" y="47"/>
                      </a:lnTo>
                      <a:lnTo>
                        <a:pt x="0" y="65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31880" y="5972760"/>
                  <a:ext cx="2160" cy="136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3" y="47"/>
                      </a:moveTo>
                      <a:lnTo>
                        <a:pt x="7" y="47"/>
                      </a:lnTo>
                      <a:lnTo>
                        <a:pt x="10" y="36"/>
                      </a:lnTo>
                      <a:lnTo>
                        <a:pt x="10" y="1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3" y="33"/>
                      </a:lnTo>
                      <a:lnTo>
                        <a:pt x="0" y="44"/>
                      </a:lnTo>
                      <a:lnTo>
                        <a:pt x="3" y="47"/>
                      </a:lnTo>
                      <a:lnTo>
                        <a:pt x="7" y="47"/>
                      </a:lnTo>
                      <a:lnTo>
                        <a:pt x="3" y="4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11360" y="598572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93" h="46">
                      <a:moveTo>
                        <a:pt x="3" y="43"/>
                      </a:moveTo>
                      <a:lnTo>
                        <a:pt x="3" y="46"/>
                      </a:lnTo>
                      <a:lnTo>
                        <a:pt x="14" y="39"/>
                      </a:lnTo>
                      <a:lnTo>
                        <a:pt x="25" y="36"/>
                      </a:lnTo>
                      <a:lnTo>
                        <a:pt x="39" y="32"/>
                      </a:lnTo>
                      <a:lnTo>
                        <a:pt x="50" y="28"/>
                      </a:lnTo>
                      <a:lnTo>
                        <a:pt x="61" y="25"/>
                      </a:lnTo>
                      <a:lnTo>
                        <a:pt x="72" y="21"/>
                      </a:lnTo>
                      <a:lnTo>
                        <a:pt x="82" y="14"/>
                      </a:lnTo>
                      <a:lnTo>
                        <a:pt x="93" y="3"/>
                      </a:lnTo>
                      <a:lnTo>
                        <a:pt x="90" y="0"/>
                      </a:lnTo>
                      <a:lnTo>
                        <a:pt x="79" y="7"/>
                      </a:lnTo>
                      <a:lnTo>
                        <a:pt x="68" y="14"/>
                      </a:lnTo>
                      <a:lnTo>
                        <a:pt x="61" y="18"/>
                      </a:lnTo>
                      <a:lnTo>
                        <a:pt x="46" y="21"/>
                      </a:lnTo>
                      <a:lnTo>
                        <a:pt x="36" y="25"/>
                      </a:lnTo>
                      <a:lnTo>
                        <a:pt x="25" y="28"/>
                      </a:lnTo>
                      <a:lnTo>
                        <a:pt x="10" y="36"/>
                      </a:lnTo>
                      <a:lnTo>
                        <a:pt x="0" y="39"/>
                      </a:lnTo>
                      <a:lnTo>
                        <a:pt x="3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01280" y="599724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47" h="40">
                      <a:moveTo>
                        <a:pt x="4" y="40"/>
                      </a:moveTo>
                      <a:lnTo>
                        <a:pt x="47" y="4"/>
                      </a:lnTo>
                      <a:lnTo>
                        <a:pt x="44" y="0"/>
                      </a:lnTo>
                      <a:lnTo>
                        <a:pt x="0" y="33"/>
                      </a:lnTo>
                      <a:lnTo>
                        <a:pt x="4" y="4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84720" y="6007320"/>
                  <a:ext cx="17280" cy="10440"/>
                </a:xfrm>
                <a:custGeom>
                  <a:avLst/>
                  <a:gdLst/>
                  <a:ahLst/>
                  <a:rect l="l" t="t" r="r" b="b"/>
                  <a:pathLst>
                    <a:path w="76" h="36">
                      <a:moveTo>
                        <a:pt x="4" y="36"/>
                      </a:moveTo>
                      <a:lnTo>
                        <a:pt x="11" y="29"/>
                      </a:lnTo>
                      <a:lnTo>
                        <a:pt x="22" y="25"/>
                      </a:lnTo>
                      <a:lnTo>
                        <a:pt x="29" y="21"/>
                      </a:lnTo>
                      <a:lnTo>
                        <a:pt x="40" y="18"/>
                      </a:lnTo>
                      <a:lnTo>
                        <a:pt x="47" y="14"/>
                      </a:lnTo>
                      <a:lnTo>
                        <a:pt x="58" y="14"/>
                      </a:lnTo>
                      <a:lnTo>
                        <a:pt x="65" y="11"/>
                      </a:lnTo>
                      <a:lnTo>
                        <a:pt x="76" y="7"/>
                      </a:lnTo>
                      <a:lnTo>
                        <a:pt x="72" y="0"/>
                      </a:lnTo>
                      <a:lnTo>
                        <a:pt x="65" y="3"/>
                      </a:lnTo>
                      <a:lnTo>
                        <a:pt x="54" y="7"/>
                      </a:lnTo>
                      <a:lnTo>
                        <a:pt x="43" y="7"/>
                      </a:lnTo>
                      <a:lnTo>
                        <a:pt x="36" y="11"/>
                      </a:lnTo>
                      <a:lnTo>
                        <a:pt x="25" y="14"/>
                      </a:lnTo>
                      <a:lnTo>
                        <a:pt x="18" y="18"/>
                      </a:lnTo>
                      <a:lnTo>
                        <a:pt x="7" y="21"/>
                      </a:lnTo>
                      <a:lnTo>
                        <a:pt x="0" y="29"/>
                      </a:lnTo>
                      <a:lnTo>
                        <a:pt x="4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84000" y="601596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7" y="21"/>
                      </a:moveTo>
                      <a:lnTo>
                        <a:pt x="7" y="25"/>
                      </a:lnTo>
                      <a:lnTo>
                        <a:pt x="7" y="7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0" y="25"/>
                      </a:lnTo>
                      <a:lnTo>
                        <a:pt x="3" y="25"/>
                      </a:lnTo>
                      <a:lnTo>
                        <a:pt x="0" y="25"/>
                      </a:lnTo>
                      <a:lnTo>
                        <a:pt x="3" y="25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84720" y="602208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47" h="40">
                      <a:moveTo>
                        <a:pt x="43" y="40"/>
                      </a:moveTo>
                      <a:lnTo>
                        <a:pt x="47" y="29"/>
                      </a:lnTo>
                      <a:lnTo>
                        <a:pt x="47" y="18"/>
                      </a:lnTo>
                      <a:lnTo>
                        <a:pt x="40" y="15"/>
                      </a:lnTo>
                      <a:lnTo>
                        <a:pt x="33" y="11"/>
                      </a:lnTo>
                      <a:lnTo>
                        <a:pt x="15" y="11"/>
                      </a:lnTo>
                      <a:lnTo>
                        <a:pt x="7" y="7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4" y="11"/>
                      </a:lnTo>
                      <a:lnTo>
                        <a:pt x="15" y="15"/>
                      </a:lnTo>
                      <a:lnTo>
                        <a:pt x="22" y="18"/>
                      </a:lnTo>
                      <a:lnTo>
                        <a:pt x="36" y="18"/>
                      </a:lnTo>
                      <a:lnTo>
                        <a:pt x="40" y="22"/>
                      </a:lnTo>
                      <a:lnTo>
                        <a:pt x="40" y="25"/>
                      </a:lnTo>
                      <a:lnTo>
                        <a:pt x="36" y="36"/>
                      </a:lnTo>
                      <a:lnTo>
                        <a:pt x="36" y="40"/>
                      </a:lnTo>
                      <a:lnTo>
                        <a:pt x="36" y="36"/>
                      </a:lnTo>
                      <a:lnTo>
                        <a:pt x="36" y="40"/>
                      </a:lnTo>
                      <a:lnTo>
                        <a:pt x="43" y="4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92280" y="6033960"/>
                  <a:ext cx="2880" cy="11520"/>
                </a:xfrm>
                <a:custGeom>
                  <a:avLst/>
                  <a:gdLst/>
                  <a:ahLst/>
                  <a:rect l="l" t="t" r="r" b="b"/>
                  <a:pathLst>
                    <a:path w="14" h="39">
                      <a:moveTo>
                        <a:pt x="7" y="39"/>
                      </a:moveTo>
                      <a:lnTo>
                        <a:pt x="10" y="29"/>
                      </a:lnTo>
                      <a:lnTo>
                        <a:pt x="14" y="18"/>
                      </a:lnTo>
                      <a:lnTo>
                        <a:pt x="10" y="1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7" y="11"/>
                      </a:lnTo>
                      <a:lnTo>
                        <a:pt x="7" y="29"/>
                      </a:lnTo>
                      <a:lnTo>
                        <a:pt x="0" y="36"/>
                      </a:lnTo>
                      <a:lnTo>
                        <a:pt x="7" y="3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84720" y="604476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40" h="14">
                      <a:moveTo>
                        <a:pt x="7" y="14"/>
                      </a:moveTo>
                      <a:lnTo>
                        <a:pt x="11" y="14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9" y="7"/>
                      </a:lnTo>
                      <a:lnTo>
                        <a:pt x="36" y="7"/>
                      </a:lnTo>
                      <a:lnTo>
                        <a:pt x="40" y="3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5" y="3"/>
                      </a:lnTo>
                      <a:lnTo>
                        <a:pt x="11" y="3"/>
                      </a:lnTo>
                      <a:lnTo>
                        <a:pt x="7" y="7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82200" y="6048000"/>
                  <a:ext cx="3960" cy="23400"/>
                </a:xfrm>
                <a:custGeom>
                  <a:avLst/>
                  <a:gdLst/>
                  <a:ahLst/>
                  <a:rect l="l" t="t" r="r" b="b"/>
                  <a:pathLst>
                    <a:path w="18" h="79">
                      <a:moveTo>
                        <a:pt x="8" y="79"/>
                      </a:moveTo>
                      <a:lnTo>
                        <a:pt x="8" y="57"/>
                      </a:lnTo>
                      <a:lnTo>
                        <a:pt x="11" y="39"/>
                      </a:lnTo>
                      <a:lnTo>
                        <a:pt x="11" y="18"/>
                      </a:lnTo>
                      <a:lnTo>
                        <a:pt x="18" y="3"/>
                      </a:lnTo>
                      <a:lnTo>
                        <a:pt x="11" y="0"/>
                      </a:lnTo>
                      <a:lnTo>
                        <a:pt x="8" y="18"/>
                      </a:lnTo>
                      <a:lnTo>
                        <a:pt x="4" y="39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8" y="79"/>
                      </a:lnTo>
                      <a:lnTo>
                        <a:pt x="11" y="79"/>
                      </a:lnTo>
                      <a:lnTo>
                        <a:pt x="8" y="7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80040" y="6070320"/>
                  <a:ext cx="3960" cy="17280"/>
                </a:xfrm>
                <a:custGeom>
                  <a:avLst/>
                  <a:gdLst/>
                  <a:ahLst/>
                  <a:rect l="l" t="t" r="r" b="b"/>
                  <a:pathLst>
                    <a:path w="18" h="58">
                      <a:moveTo>
                        <a:pt x="3" y="58"/>
                      </a:moveTo>
                      <a:lnTo>
                        <a:pt x="7" y="54"/>
                      </a:lnTo>
                      <a:lnTo>
                        <a:pt x="7" y="40"/>
                      </a:lnTo>
                      <a:lnTo>
                        <a:pt x="10" y="29"/>
                      </a:lnTo>
                      <a:lnTo>
                        <a:pt x="14" y="15"/>
                      </a:lnTo>
                      <a:lnTo>
                        <a:pt x="18" y="4"/>
                      </a:lnTo>
                      <a:lnTo>
                        <a:pt x="10" y="0"/>
                      </a:lnTo>
                      <a:lnTo>
                        <a:pt x="7" y="11"/>
                      </a:lnTo>
                      <a:lnTo>
                        <a:pt x="3" y="26"/>
                      </a:lnTo>
                      <a:lnTo>
                        <a:pt x="0" y="40"/>
                      </a:lnTo>
                      <a:lnTo>
                        <a:pt x="0" y="54"/>
                      </a:lnTo>
                      <a:lnTo>
                        <a:pt x="3" y="51"/>
                      </a:lnTo>
                      <a:lnTo>
                        <a:pt x="3" y="58"/>
                      </a:lnTo>
                      <a:lnTo>
                        <a:pt x="7" y="58"/>
                      </a:lnTo>
                      <a:lnTo>
                        <a:pt x="7" y="54"/>
                      </a:lnTo>
                      <a:lnTo>
                        <a:pt x="3" y="5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76080" y="6080040"/>
                  <a:ext cx="4680" cy="72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3"/>
                      </a:move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0" y="21"/>
                      </a:lnTo>
                      <a:lnTo>
                        <a:pt x="18" y="25"/>
                      </a:lnTo>
                      <a:lnTo>
                        <a:pt x="21" y="25"/>
                      </a:lnTo>
                      <a:lnTo>
                        <a:pt x="21" y="18"/>
                      </a:lnTo>
                      <a:lnTo>
                        <a:pt x="14" y="18"/>
                      </a:lnTo>
                      <a:lnTo>
                        <a:pt x="14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69960" y="607788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22" y="7"/>
                      </a:lnTo>
                      <a:lnTo>
                        <a:pt x="26" y="10"/>
                      </a:lnTo>
                      <a:lnTo>
                        <a:pt x="29" y="7"/>
                      </a:lnTo>
                      <a:lnTo>
                        <a:pt x="22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3760" y="607896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80" h="43">
                      <a:moveTo>
                        <a:pt x="0" y="43"/>
                      </a:moveTo>
                      <a:lnTo>
                        <a:pt x="4" y="43"/>
                      </a:lnTo>
                      <a:lnTo>
                        <a:pt x="15" y="40"/>
                      </a:lnTo>
                      <a:lnTo>
                        <a:pt x="22" y="36"/>
                      </a:lnTo>
                      <a:lnTo>
                        <a:pt x="33" y="33"/>
                      </a:lnTo>
                      <a:lnTo>
                        <a:pt x="43" y="29"/>
                      </a:lnTo>
                      <a:lnTo>
                        <a:pt x="54" y="22"/>
                      </a:lnTo>
                      <a:lnTo>
                        <a:pt x="62" y="18"/>
                      </a:lnTo>
                      <a:lnTo>
                        <a:pt x="72" y="11"/>
                      </a:lnTo>
                      <a:lnTo>
                        <a:pt x="80" y="4"/>
                      </a:lnTo>
                      <a:lnTo>
                        <a:pt x="72" y="0"/>
                      </a:lnTo>
                      <a:lnTo>
                        <a:pt x="65" y="7"/>
                      </a:lnTo>
                      <a:lnTo>
                        <a:pt x="58" y="11"/>
                      </a:lnTo>
                      <a:lnTo>
                        <a:pt x="51" y="18"/>
                      </a:lnTo>
                      <a:lnTo>
                        <a:pt x="40" y="22"/>
                      </a:lnTo>
                      <a:lnTo>
                        <a:pt x="29" y="25"/>
                      </a:lnTo>
                      <a:lnTo>
                        <a:pt x="22" y="29"/>
                      </a:lnTo>
                      <a:lnTo>
                        <a:pt x="11" y="33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4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39720" y="6083280"/>
                  <a:ext cx="13680" cy="828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0" y="3"/>
                      </a:moveTo>
                      <a:lnTo>
                        <a:pt x="4" y="7"/>
                      </a:lnTo>
                      <a:lnTo>
                        <a:pt x="18" y="7"/>
                      </a:lnTo>
                      <a:lnTo>
                        <a:pt x="25" y="10"/>
                      </a:lnTo>
                      <a:lnTo>
                        <a:pt x="32" y="18"/>
                      </a:lnTo>
                      <a:lnTo>
                        <a:pt x="40" y="21"/>
                      </a:lnTo>
                      <a:lnTo>
                        <a:pt x="47" y="25"/>
                      </a:lnTo>
                      <a:lnTo>
                        <a:pt x="54" y="28"/>
                      </a:lnTo>
                      <a:lnTo>
                        <a:pt x="61" y="28"/>
                      </a:lnTo>
                      <a:lnTo>
                        <a:pt x="61" y="21"/>
                      </a:lnTo>
                      <a:lnTo>
                        <a:pt x="58" y="21"/>
                      </a:lnTo>
                      <a:lnTo>
                        <a:pt x="50" y="18"/>
                      </a:lnTo>
                      <a:lnTo>
                        <a:pt x="43" y="14"/>
                      </a:lnTo>
                      <a:lnTo>
                        <a:pt x="36" y="10"/>
                      </a:lnTo>
                      <a:lnTo>
                        <a:pt x="32" y="7"/>
                      </a:lnTo>
                      <a:lnTo>
                        <a:pt x="22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2136600" y="5700600"/>
              <a:ext cx="411480" cy="447840"/>
            </a:xfrm>
            <a:custGeom>
              <a:avLst/>
              <a:gdLst/>
              <a:ahLst/>
              <a:rect l="l" t="t" r="r" b="b"/>
              <a:pathLst>
                <a:path w="990" h="1057">
                  <a:moveTo>
                    <a:pt x="317" y="1030"/>
                  </a:moveTo>
                  <a:lnTo>
                    <a:pt x="393" y="1004"/>
                  </a:lnTo>
                  <a:lnTo>
                    <a:pt x="384" y="964"/>
                  </a:lnTo>
                  <a:lnTo>
                    <a:pt x="499" y="897"/>
                  </a:lnTo>
                  <a:lnTo>
                    <a:pt x="595" y="775"/>
                  </a:lnTo>
                  <a:lnTo>
                    <a:pt x="660" y="830"/>
                  </a:lnTo>
                  <a:lnTo>
                    <a:pt x="786" y="761"/>
                  </a:lnTo>
                  <a:lnTo>
                    <a:pt x="851" y="723"/>
                  </a:lnTo>
                  <a:lnTo>
                    <a:pt x="883" y="656"/>
                  </a:lnTo>
                  <a:lnTo>
                    <a:pt x="978" y="601"/>
                  </a:lnTo>
                  <a:lnTo>
                    <a:pt x="990" y="547"/>
                  </a:lnTo>
                  <a:lnTo>
                    <a:pt x="894" y="521"/>
                  </a:lnTo>
                  <a:lnTo>
                    <a:pt x="851" y="376"/>
                  </a:lnTo>
                  <a:lnTo>
                    <a:pt x="757" y="400"/>
                  </a:lnTo>
                  <a:lnTo>
                    <a:pt x="757" y="307"/>
                  </a:lnTo>
                  <a:lnTo>
                    <a:pt x="712" y="255"/>
                  </a:lnTo>
                  <a:lnTo>
                    <a:pt x="564" y="161"/>
                  </a:lnTo>
                  <a:lnTo>
                    <a:pt x="455" y="148"/>
                  </a:lnTo>
                  <a:lnTo>
                    <a:pt x="404" y="94"/>
                  </a:lnTo>
                  <a:lnTo>
                    <a:pt x="169" y="0"/>
                  </a:lnTo>
                  <a:lnTo>
                    <a:pt x="138" y="28"/>
                  </a:lnTo>
                  <a:lnTo>
                    <a:pt x="138" y="106"/>
                  </a:lnTo>
                  <a:lnTo>
                    <a:pt x="181" y="132"/>
                  </a:lnTo>
                  <a:lnTo>
                    <a:pt x="181" y="215"/>
                  </a:lnTo>
                  <a:lnTo>
                    <a:pt x="147" y="267"/>
                  </a:lnTo>
                  <a:lnTo>
                    <a:pt x="116" y="307"/>
                  </a:lnTo>
                  <a:lnTo>
                    <a:pt x="54" y="322"/>
                  </a:lnTo>
                  <a:lnTo>
                    <a:pt x="0" y="425"/>
                  </a:lnTo>
                  <a:lnTo>
                    <a:pt x="126" y="696"/>
                  </a:lnTo>
                  <a:lnTo>
                    <a:pt x="126" y="869"/>
                  </a:lnTo>
                  <a:lnTo>
                    <a:pt x="104" y="921"/>
                  </a:lnTo>
                  <a:lnTo>
                    <a:pt x="126" y="990"/>
                  </a:lnTo>
                  <a:lnTo>
                    <a:pt x="275" y="1057"/>
                  </a:lnTo>
                  <a:lnTo>
                    <a:pt x="317" y="1030"/>
                  </a:lnTo>
                  <a:lnTo>
                    <a:pt x="317" y="103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08000" y="5411880"/>
              <a:ext cx="244800" cy="158760"/>
            </a:xfrm>
            <a:custGeom>
              <a:avLst/>
              <a:gdLst/>
              <a:ahLst/>
              <a:rect l="l" t="t" r="r" b="b"/>
              <a:pathLst>
                <a:path w="587" h="376">
                  <a:moveTo>
                    <a:pt x="587" y="253"/>
                  </a:moveTo>
                  <a:lnTo>
                    <a:pt x="587" y="176"/>
                  </a:lnTo>
                  <a:lnTo>
                    <a:pt x="482" y="148"/>
                  </a:lnTo>
                  <a:lnTo>
                    <a:pt x="462" y="93"/>
                  </a:lnTo>
                  <a:lnTo>
                    <a:pt x="417" y="93"/>
                  </a:lnTo>
                  <a:lnTo>
                    <a:pt x="376" y="31"/>
                  </a:lnTo>
                  <a:lnTo>
                    <a:pt x="259" y="31"/>
                  </a:lnTo>
                  <a:lnTo>
                    <a:pt x="175" y="93"/>
                  </a:lnTo>
                  <a:lnTo>
                    <a:pt x="110" y="0"/>
                  </a:lnTo>
                  <a:lnTo>
                    <a:pt x="57" y="0"/>
                  </a:lnTo>
                  <a:lnTo>
                    <a:pt x="0" y="55"/>
                  </a:lnTo>
                  <a:lnTo>
                    <a:pt x="35" y="148"/>
                  </a:lnTo>
                  <a:lnTo>
                    <a:pt x="130" y="204"/>
                  </a:lnTo>
                  <a:lnTo>
                    <a:pt x="203" y="282"/>
                  </a:lnTo>
                  <a:lnTo>
                    <a:pt x="185" y="323"/>
                  </a:lnTo>
                  <a:lnTo>
                    <a:pt x="313" y="376"/>
                  </a:lnTo>
                  <a:lnTo>
                    <a:pt x="406" y="310"/>
                  </a:lnTo>
                  <a:lnTo>
                    <a:pt x="515" y="310"/>
                  </a:lnTo>
                  <a:lnTo>
                    <a:pt x="587" y="253"/>
                  </a:lnTo>
                  <a:lnTo>
                    <a:pt x="587" y="25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17720" y="5537160"/>
              <a:ext cx="54000" cy="55440"/>
            </a:xfrm>
            <a:custGeom>
              <a:avLst/>
              <a:gdLst/>
              <a:ahLst/>
              <a:rect l="l" t="t" r="r" b="b"/>
              <a:pathLst>
                <a:path w="126" h="133">
                  <a:moveTo>
                    <a:pt x="126" y="124"/>
                  </a:moveTo>
                  <a:lnTo>
                    <a:pt x="106" y="0"/>
                  </a:lnTo>
                  <a:lnTo>
                    <a:pt x="0" y="105"/>
                  </a:lnTo>
                  <a:lnTo>
                    <a:pt x="11" y="133"/>
                  </a:lnTo>
                  <a:lnTo>
                    <a:pt x="126" y="124"/>
                  </a:lnTo>
                  <a:lnTo>
                    <a:pt x="126" y="12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89200" y="5435640"/>
              <a:ext cx="83880" cy="79200"/>
            </a:xfrm>
            <a:custGeom>
              <a:avLst/>
              <a:gdLst/>
              <a:ahLst/>
              <a:rect l="l" t="t" r="r" b="b"/>
              <a:pathLst>
                <a:path w="200" h="189">
                  <a:moveTo>
                    <a:pt x="181" y="189"/>
                  </a:moveTo>
                  <a:lnTo>
                    <a:pt x="200" y="121"/>
                  </a:lnTo>
                  <a:lnTo>
                    <a:pt x="135" y="54"/>
                  </a:lnTo>
                  <a:lnTo>
                    <a:pt x="127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62" y="121"/>
                  </a:lnTo>
                  <a:lnTo>
                    <a:pt x="181" y="189"/>
                  </a:lnTo>
                  <a:lnTo>
                    <a:pt x="181" y="18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09640" y="5332320"/>
              <a:ext cx="195480" cy="68400"/>
            </a:xfrm>
            <a:custGeom>
              <a:avLst/>
              <a:gdLst/>
              <a:ahLst/>
              <a:rect l="l" t="t" r="r" b="b"/>
              <a:pathLst>
                <a:path w="469" h="160">
                  <a:moveTo>
                    <a:pt x="469" y="66"/>
                  </a:moveTo>
                  <a:lnTo>
                    <a:pt x="426" y="25"/>
                  </a:lnTo>
                  <a:lnTo>
                    <a:pt x="311" y="66"/>
                  </a:lnTo>
                  <a:lnTo>
                    <a:pt x="33" y="0"/>
                  </a:lnTo>
                  <a:lnTo>
                    <a:pt x="0" y="81"/>
                  </a:lnTo>
                  <a:lnTo>
                    <a:pt x="0" y="120"/>
                  </a:lnTo>
                  <a:lnTo>
                    <a:pt x="129" y="132"/>
                  </a:lnTo>
                  <a:lnTo>
                    <a:pt x="194" y="100"/>
                  </a:lnTo>
                  <a:lnTo>
                    <a:pt x="256" y="160"/>
                  </a:lnTo>
                  <a:lnTo>
                    <a:pt x="363" y="160"/>
                  </a:lnTo>
                  <a:lnTo>
                    <a:pt x="426" y="120"/>
                  </a:lnTo>
                  <a:lnTo>
                    <a:pt x="469" y="66"/>
                  </a:lnTo>
                  <a:lnTo>
                    <a:pt x="469" y="6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84200" y="5175360"/>
              <a:ext cx="208080" cy="156960"/>
            </a:xfrm>
            <a:custGeom>
              <a:avLst/>
              <a:gdLst/>
              <a:ahLst/>
              <a:rect l="l" t="t" r="r" b="b"/>
              <a:pathLst>
                <a:path w="501" h="374">
                  <a:moveTo>
                    <a:pt x="492" y="332"/>
                  </a:moveTo>
                  <a:lnTo>
                    <a:pt x="501" y="291"/>
                  </a:lnTo>
                  <a:lnTo>
                    <a:pt x="448" y="279"/>
                  </a:lnTo>
                  <a:lnTo>
                    <a:pt x="448" y="186"/>
                  </a:lnTo>
                  <a:lnTo>
                    <a:pt x="395" y="226"/>
                  </a:lnTo>
                  <a:lnTo>
                    <a:pt x="342" y="133"/>
                  </a:lnTo>
                  <a:lnTo>
                    <a:pt x="383" y="133"/>
                  </a:lnTo>
                  <a:lnTo>
                    <a:pt x="278" y="0"/>
                  </a:lnTo>
                  <a:lnTo>
                    <a:pt x="213" y="0"/>
                  </a:lnTo>
                  <a:lnTo>
                    <a:pt x="149" y="107"/>
                  </a:lnTo>
                  <a:lnTo>
                    <a:pt x="0" y="107"/>
                  </a:lnTo>
                  <a:lnTo>
                    <a:pt x="56" y="241"/>
                  </a:lnTo>
                  <a:lnTo>
                    <a:pt x="116" y="346"/>
                  </a:lnTo>
                  <a:lnTo>
                    <a:pt x="257" y="346"/>
                  </a:lnTo>
                  <a:lnTo>
                    <a:pt x="225" y="291"/>
                  </a:lnTo>
                  <a:lnTo>
                    <a:pt x="298" y="291"/>
                  </a:lnTo>
                  <a:lnTo>
                    <a:pt x="331" y="308"/>
                  </a:lnTo>
                  <a:lnTo>
                    <a:pt x="372" y="374"/>
                  </a:lnTo>
                  <a:lnTo>
                    <a:pt x="492" y="332"/>
                  </a:lnTo>
                  <a:lnTo>
                    <a:pt x="492" y="33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35000" y="5006880"/>
              <a:ext cx="168480" cy="142920"/>
            </a:xfrm>
            <a:custGeom>
              <a:avLst/>
              <a:gdLst/>
              <a:ahLst/>
              <a:rect l="l" t="t" r="r" b="b"/>
              <a:pathLst>
                <a:path w="404" h="334">
                  <a:moveTo>
                    <a:pt x="278" y="293"/>
                  </a:moveTo>
                  <a:lnTo>
                    <a:pt x="310" y="256"/>
                  </a:lnTo>
                  <a:lnTo>
                    <a:pt x="328" y="228"/>
                  </a:lnTo>
                  <a:lnTo>
                    <a:pt x="328" y="161"/>
                  </a:lnTo>
                  <a:lnTo>
                    <a:pt x="404" y="119"/>
                  </a:lnTo>
                  <a:lnTo>
                    <a:pt x="404" y="56"/>
                  </a:lnTo>
                  <a:lnTo>
                    <a:pt x="362" y="0"/>
                  </a:lnTo>
                  <a:lnTo>
                    <a:pt x="245" y="0"/>
                  </a:lnTo>
                  <a:lnTo>
                    <a:pt x="190" y="12"/>
                  </a:lnTo>
                  <a:lnTo>
                    <a:pt x="54" y="68"/>
                  </a:lnTo>
                  <a:lnTo>
                    <a:pt x="0" y="147"/>
                  </a:lnTo>
                  <a:lnTo>
                    <a:pt x="0" y="240"/>
                  </a:lnTo>
                  <a:lnTo>
                    <a:pt x="138" y="256"/>
                  </a:lnTo>
                  <a:lnTo>
                    <a:pt x="181" y="334"/>
                  </a:lnTo>
                  <a:lnTo>
                    <a:pt x="245" y="305"/>
                  </a:lnTo>
                  <a:lnTo>
                    <a:pt x="278" y="293"/>
                  </a:lnTo>
                  <a:lnTo>
                    <a:pt x="278" y="29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87400" y="5092560"/>
              <a:ext cx="73080" cy="84240"/>
            </a:xfrm>
            <a:custGeom>
              <a:avLst/>
              <a:gdLst/>
              <a:ahLst/>
              <a:rect l="l" t="t" r="r" b="b"/>
              <a:pathLst>
                <a:path w="179" h="201">
                  <a:moveTo>
                    <a:pt x="21" y="201"/>
                  </a:moveTo>
                  <a:lnTo>
                    <a:pt x="49" y="120"/>
                  </a:lnTo>
                  <a:lnTo>
                    <a:pt x="136" y="81"/>
                  </a:lnTo>
                  <a:lnTo>
                    <a:pt x="136" y="56"/>
                  </a:lnTo>
                  <a:lnTo>
                    <a:pt x="179" y="0"/>
                  </a:lnTo>
                  <a:lnTo>
                    <a:pt x="115" y="0"/>
                  </a:lnTo>
                  <a:lnTo>
                    <a:pt x="73" y="68"/>
                  </a:lnTo>
                  <a:lnTo>
                    <a:pt x="8" y="81"/>
                  </a:lnTo>
                  <a:lnTo>
                    <a:pt x="0" y="201"/>
                  </a:lnTo>
                  <a:lnTo>
                    <a:pt x="21" y="201"/>
                  </a:lnTo>
                  <a:lnTo>
                    <a:pt x="21" y="20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638360" y="461628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an Die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6324480"/>
            <a:ext cx="2476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47880" y="3062160"/>
            <a:ext cx="2574720" cy="1683000"/>
            <a:chOff x="1847880" y="3062160"/>
            <a:chExt cx="2574720" cy="1683000"/>
          </a:xfrm>
        </p:grpSpPr>
        <p:sp>
          <p:nvSpPr>
            <p:cNvPr id="330" name=""/>
            <p:cNvSpPr/>
            <p:nvPr/>
          </p:nvSpPr>
          <p:spPr>
            <a:xfrm>
              <a:off x="1847880" y="3063960"/>
              <a:ext cx="1087560" cy="1681200"/>
            </a:xfrm>
            <a:custGeom>
              <a:avLst/>
              <a:gdLst/>
              <a:ahLst/>
              <a:rect l="l" t="t" r="r" b="b"/>
              <a:pathLst>
                <a:path w="685" h="1059">
                  <a:moveTo>
                    <a:pt x="20" y="6"/>
                  </a:moveTo>
                  <a:lnTo>
                    <a:pt x="0" y="86"/>
                  </a:lnTo>
                  <a:lnTo>
                    <a:pt x="98" y="569"/>
                  </a:lnTo>
                  <a:lnTo>
                    <a:pt x="154" y="641"/>
                  </a:lnTo>
                  <a:lnTo>
                    <a:pt x="186" y="743"/>
                  </a:lnTo>
                  <a:lnTo>
                    <a:pt x="419" y="1002"/>
                  </a:lnTo>
                  <a:lnTo>
                    <a:pt x="600" y="1002"/>
                  </a:lnTo>
                  <a:lnTo>
                    <a:pt x="600" y="1032"/>
                  </a:lnTo>
                  <a:lnTo>
                    <a:pt x="654" y="1059"/>
                  </a:lnTo>
                  <a:lnTo>
                    <a:pt x="654" y="850"/>
                  </a:lnTo>
                  <a:lnTo>
                    <a:pt x="685" y="822"/>
                  </a:lnTo>
                  <a:lnTo>
                    <a:pt x="280" y="301"/>
                  </a:lnTo>
                  <a:lnTo>
                    <a:pt x="322" y="0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43c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75160" y="3354480"/>
              <a:ext cx="847440" cy="620640"/>
            </a:xfrm>
            <a:custGeom>
              <a:avLst/>
              <a:gdLst/>
              <a:ahLst/>
              <a:rect l="l" t="t" r="r" b="b"/>
              <a:pathLst>
                <a:path w="1216" h="883">
                  <a:moveTo>
                    <a:pt x="41" y="0"/>
                  </a:moveTo>
                  <a:lnTo>
                    <a:pt x="0" y="883"/>
                  </a:lnTo>
                  <a:lnTo>
                    <a:pt x="1216" y="883"/>
                  </a:lnTo>
                  <a:lnTo>
                    <a:pt x="1214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43c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93920" y="3062160"/>
              <a:ext cx="750960" cy="1154160"/>
            </a:xfrm>
            <a:custGeom>
              <a:avLst/>
              <a:gdLst/>
              <a:ahLst/>
              <a:rect l="l" t="t" r="r" b="b"/>
              <a:pathLst>
                <a:path w="1078" h="1643">
                  <a:moveTo>
                    <a:pt x="91" y="0"/>
                  </a:moveTo>
                  <a:lnTo>
                    <a:pt x="0" y="684"/>
                  </a:lnTo>
                  <a:lnTo>
                    <a:pt x="749" y="1643"/>
                  </a:lnTo>
                  <a:lnTo>
                    <a:pt x="831" y="1446"/>
                  </a:lnTo>
                  <a:lnTo>
                    <a:pt x="952" y="1453"/>
                  </a:lnTo>
                  <a:lnTo>
                    <a:pt x="1078" y="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3c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62440" y="3063960"/>
              <a:ext cx="642600" cy="911160"/>
            </a:xfrm>
            <a:custGeom>
              <a:avLst/>
              <a:gdLst/>
              <a:ahLst/>
              <a:rect l="l" t="t" r="r" b="b"/>
              <a:pathLst>
                <a:path w="918" h="1301">
                  <a:moveTo>
                    <a:pt x="111" y="0"/>
                  </a:moveTo>
                  <a:lnTo>
                    <a:pt x="0" y="1301"/>
                  </a:lnTo>
                  <a:lnTo>
                    <a:pt x="877" y="1301"/>
                  </a:lnTo>
                  <a:lnTo>
                    <a:pt x="918" y="418"/>
                  </a:lnTo>
                  <a:lnTo>
                    <a:pt x="576" y="416"/>
                  </a:lnTo>
                  <a:lnTo>
                    <a:pt x="598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43c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618320" y="1911240"/>
            <a:ext cx="244440" cy="341280"/>
          </a:xfrm>
          <a:custGeom>
            <a:avLst/>
            <a:gdLst/>
            <a:ahLst/>
            <a:rect l="l" t="t" r="r" b="b"/>
            <a:pathLst>
              <a:path w="372" h="504">
                <a:moveTo>
                  <a:pt x="0" y="115"/>
                </a:moveTo>
                <a:lnTo>
                  <a:pt x="147" y="501"/>
                </a:lnTo>
                <a:lnTo>
                  <a:pt x="372" y="504"/>
                </a:lnTo>
                <a:lnTo>
                  <a:pt x="310" y="0"/>
                </a:lnTo>
                <a:lnTo>
                  <a:pt x="0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6120" y="1990800"/>
            <a:ext cx="1000440" cy="772920"/>
          </a:xfrm>
          <a:custGeom>
            <a:avLst/>
            <a:gdLst/>
            <a:ahLst/>
            <a:rect l="l" t="t" r="r" b="b"/>
            <a:pathLst>
              <a:path w="1514" h="1143">
                <a:moveTo>
                  <a:pt x="895" y="0"/>
                </a:moveTo>
                <a:lnTo>
                  <a:pt x="671" y="82"/>
                </a:lnTo>
                <a:lnTo>
                  <a:pt x="549" y="344"/>
                </a:lnTo>
                <a:lnTo>
                  <a:pt x="549" y="539"/>
                </a:lnTo>
                <a:lnTo>
                  <a:pt x="98" y="739"/>
                </a:lnTo>
                <a:lnTo>
                  <a:pt x="97" y="890"/>
                </a:lnTo>
                <a:lnTo>
                  <a:pt x="0" y="983"/>
                </a:lnTo>
                <a:lnTo>
                  <a:pt x="985" y="985"/>
                </a:lnTo>
                <a:lnTo>
                  <a:pt x="1260" y="1143"/>
                </a:lnTo>
                <a:lnTo>
                  <a:pt x="1514" y="979"/>
                </a:lnTo>
                <a:lnTo>
                  <a:pt x="1444" y="904"/>
                </a:lnTo>
                <a:lnTo>
                  <a:pt x="1285" y="1012"/>
                </a:lnTo>
                <a:lnTo>
                  <a:pt x="895" y="0"/>
                </a:lnTo>
                <a:lnTo>
                  <a:pt x="895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026120" y="1911240"/>
            <a:ext cx="1000440" cy="852480"/>
            <a:chOff x="7026120" y="1911240"/>
            <a:chExt cx="1000440" cy="852480"/>
          </a:xfrm>
        </p:grpSpPr>
        <p:sp>
          <p:nvSpPr>
            <p:cNvPr id="337" name=""/>
            <p:cNvSpPr/>
            <p:nvPr/>
          </p:nvSpPr>
          <p:spPr>
            <a:xfrm>
              <a:off x="7781760" y="2430360"/>
              <a:ext cx="241560" cy="246240"/>
            </a:xfrm>
            <a:custGeom>
              <a:avLst/>
              <a:gdLst/>
              <a:ahLst/>
              <a:rect l="l" t="t" r="r" b="b"/>
              <a:pathLst>
                <a:path w="367" h="363">
                  <a:moveTo>
                    <a:pt x="0" y="0"/>
                  </a:moveTo>
                  <a:lnTo>
                    <a:pt x="138" y="363"/>
                  </a:lnTo>
                  <a:lnTo>
                    <a:pt x="367" y="203"/>
                  </a:lnTo>
                  <a:lnTo>
                    <a:pt x="27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f8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26120" y="1990800"/>
              <a:ext cx="1000440" cy="772920"/>
            </a:xfrm>
            <a:custGeom>
              <a:avLst/>
              <a:gdLst/>
              <a:ahLst/>
              <a:rect l="l" t="t" r="r" b="b"/>
              <a:pathLst>
                <a:path w="1514" h="1143">
                  <a:moveTo>
                    <a:pt x="895" y="0"/>
                  </a:moveTo>
                  <a:lnTo>
                    <a:pt x="671" y="82"/>
                  </a:lnTo>
                  <a:lnTo>
                    <a:pt x="549" y="344"/>
                  </a:lnTo>
                  <a:lnTo>
                    <a:pt x="549" y="539"/>
                  </a:lnTo>
                  <a:lnTo>
                    <a:pt x="98" y="739"/>
                  </a:lnTo>
                  <a:lnTo>
                    <a:pt x="97" y="890"/>
                  </a:lnTo>
                  <a:lnTo>
                    <a:pt x="0" y="983"/>
                  </a:lnTo>
                  <a:lnTo>
                    <a:pt x="985" y="985"/>
                  </a:lnTo>
                  <a:lnTo>
                    <a:pt x="1260" y="1143"/>
                  </a:lnTo>
                  <a:lnTo>
                    <a:pt x="1514" y="979"/>
                  </a:lnTo>
                  <a:lnTo>
                    <a:pt x="1444" y="904"/>
                  </a:lnTo>
                  <a:lnTo>
                    <a:pt x="1285" y="1012"/>
                  </a:lnTo>
                  <a:lnTo>
                    <a:pt x="895" y="0"/>
                  </a:lnTo>
                  <a:lnTo>
                    <a:pt x="895" y="0"/>
                  </a:lnTo>
                  <a:close/>
                </a:path>
              </a:pathLst>
            </a:custGeom>
            <a:solidFill>
              <a:srgbClr val="b2ff8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18320" y="1911240"/>
              <a:ext cx="244440" cy="341280"/>
            </a:xfrm>
            <a:custGeom>
              <a:avLst/>
              <a:gdLst/>
              <a:ahLst/>
              <a:rect l="l" t="t" r="r" b="b"/>
              <a:pathLst>
                <a:path w="372" h="504">
                  <a:moveTo>
                    <a:pt x="0" y="115"/>
                  </a:moveTo>
                  <a:lnTo>
                    <a:pt x="147" y="501"/>
                  </a:lnTo>
                  <a:lnTo>
                    <a:pt x="372" y="504"/>
                  </a:lnTo>
                  <a:lnTo>
                    <a:pt x="310" y="0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2ff8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832040" y="2712960"/>
            <a:ext cx="2361960" cy="1209600"/>
            <a:chOff x="1832040" y="2712960"/>
            <a:chExt cx="2361960" cy="1209600"/>
          </a:xfrm>
        </p:grpSpPr>
        <p:sp>
          <p:nvSpPr>
            <p:cNvPr id="341" name=""/>
            <p:cNvSpPr/>
            <p:nvPr/>
          </p:nvSpPr>
          <p:spPr>
            <a:xfrm>
              <a:off x="3362400" y="2712960"/>
              <a:ext cx="831600" cy="642960"/>
            </a:xfrm>
            <a:custGeom>
              <a:avLst/>
              <a:gdLst/>
              <a:ahLst/>
              <a:rect l="l" t="t" r="r" b="b"/>
              <a:pathLst>
                <a:path w="524" h="405">
                  <a:moveTo>
                    <a:pt x="24" y="0"/>
                  </a:moveTo>
                  <a:lnTo>
                    <a:pt x="0" y="405"/>
                  </a:lnTo>
                  <a:lnTo>
                    <a:pt x="523" y="404"/>
                  </a:lnTo>
                  <a:lnTo>
                    <a:pt x="5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00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32040" y="3071880"/>
              <a:ext cx="758880" cy="850680"/>
            </a:xfrm>
            <a:custGeom>
              <a:avLst/>
              <a:gdLst/>
              <a:ahLst/>
              <a:rect l="l" t="t" r="r" b="b"/>
              <a:pathLst>
                <a:path w="478" h="536">
                  <a:moveTo>
                    <a:pt x="478" y="536"/>
                  </a:moveTo>
                  <a:lnTo>
                    <a:pt x="291" y="300"/>
                  </a:lnTo>
                  <a:lnTo>
                    <a:pt x="332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0" y="85"/>
                  </a:lnTo>
                  <a:lnTo>
                    <a:pt x="0" y="228"/>
                  </a:lnTo>
                  <a:lnTo>
                    <a:pt x="36" y="412"/>
                  </a:lnTo>
                  <a:lnTo>
                    <a:pt x="88" y="464"/>
                  </a:lnTo>
                  <a:lnTo>
                    <a:pt x="100" y="524"/>
                  </a:lnTo>
                  <a:lnTo>
                    <a:pt x="136" y="530"/>
                  </a:lnTo>
                  <a:lnTo>
                    <a:pt x="388" y="530"/>
                  </a:lnTo>
                  <a:lnTo>
                    <a:pt x="385" y="419"/>
                  </a:lnTo>
                </a:path>
              </a:pathLst>
            </a:custGeom>
            <a:solidFill>
              <a:srgbClr val="d600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043600" y="2173320"/>
            <a:ext cx="1596960" cy="1555560"/>
            <a:chOff x="5043600" y="2173320"/>
            <a:chExt cx="1596960" cy="1555560"/>
          </a:xfrm>
        </p:grpSpPr>
        <p:sp>
          <p:nvSpPr>
            <p:cNvPr id="344" name=""/>
            <p:cNvSpPr/>
            <p:nvPr/>
          </p:nvSpPr>
          <p:spPr>
            <a:xfrm>
              <a:off x="5467320" y="2173320"/>
              <a:ext cx="963720" cy="824040"/>
            </a:xfrm>
            <a:custGeom>
              <a:avLst/>
              <a:gdLst/>
              <a:ahLst/>
              <a:rect l="l" t="t" r="r" b="b"/>
              <a:pathLst>
                <a:path w="1458" h="1283">
                  <a:moveTo>
                    <a:pt x="101" y="251"/>
                  </a:moveTo>
                  <a:lnTo>
                    <a:pt x="0" y="737"/>
                  </a:lnTo>
                  <a:lnTo>
                    <a:pt x="330" y="1003"/>
                  </a:lnTo>
                  <a:lnTo>
                    <a:pt x="473" y="1283"/>
                  </a:lnTo>
                  <a:lnTo>
                    <a:pt x="1051" y="1282"/>
                  </a:lnTo>
                  <a:lnTo>
                    <a:pt x="950" y="1059"/>
                  </a:lnTo>
                  <a:lnTo>
                    <a:pt x="928" y="734"/>
                  </a:lnTo>
                  <a:lnTo>
                    <a:pt x="1005" y="578"/>
                  </a:lnTo>
                  <a:lnTo>
                    <a:pt x="931" y="578"/>
                  </a:lnTo>
                  <a:lnTo>
                    <a:pt x="972" y="465"/>
                  </a:lnTo>
                  <a:lnTo>
                    <a:pt x="1458" y="195"/>
                  </a:lnTo>
                  <a:lnTo>
                    <a:pt x="1381" y="88"/>
                  </a:lnTo>
                  <a:lnTo>
                    <a:pt x="978" y="233"/>
                  </a:lnTo>
                  <a:lnTo>
                    <a:pt x="759" y="159"/>
                  </a:lnTo>
                  <a:lnTo>
                    <a:pt x="729" y="0"/>
                  </a:lnTo>
                  <a:lnTo>
                    <a:pt x="334" y="285"/>
                  </a:lnTo>
                  <a:lnTo>
                    <a:pt x="255" y="235"/>
                  </a:lnTo>
                  <a:lnTo>
                    <a:pt x="101" y="251"/>
                  </a:lnTo>
                  <a:lnTo>
                    <a:pt x="101" y="251"/>
                  </a:lnTo>
                  <a:close/>
                </a:path>
              </a:pathLst>
            </a:custGeom>
            <a:solidFill>
              <a:srgbClr val="b3d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43600" y="2935440"/>
              <a:ext cx="792000" cy="473040"/>
            </a:xfrm>
            <a:custGeom>
              <a:avLst/>
              <a:gdLst/>
              <a:ahLst/>
              <a:rect l="l" t="t" r="r" b="b"/>
              <a:pathLst>
                <a:path w="1195" h="740">
                  <a:moveTo>
                    <a:pt x="0" y="0"/>
                  </a:moveTo>
                  <a:lnTo>
                    <a:pt x="42" y="211"/>
                  </a:lnTo>
                  <a:lnTo>
                    <a:pt x="187" y="441"/>
                  </a:lnTo>
                  <a:lnTo>
                    <a:pt x="165" y="597"/>
                  </a:lnTo>
                  <a:lnTo>
                    <a:pt x="214" y="664"/>
                  </a:lnTo>
                  <a:lnTo>
                    <a:pt x="943" y="665"/>
                  </a:lnTo>
                  <a:lnTo>
                    <a:pt x="1030" y="740"/>
                  </a:lnTo>
                  <a:lnTo>
                    <a:pt x="1195" y="252"/>
                  </a:lnTo>
                  <a:lnTo>
                    <a:pt x="106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4360" y="2992320"/>
              <a:ext cx="473400" cy="736560"/>
            </a:xfrm>
            <a:custGeom>
              <a:avLst/>
              <a:gdLst/>
              <a:ahLst/>
              <a:rect l="l" t="t" r="r" b="b"/>
              <a:pathLst>
                <a:path w="714" h="1148">
                  <a:moveTo>
                    <a:pt x="83" y="5"/>
                  </a:moveTo>
                  <a:lnTo>
                    <a:pt x="162" y="158"/>
                  </a:lnTo>
                  <a:lnTo>
                    <a:pt x="0" y="649"/>
                  </a:lnTo>
                  <a:lnTo>
                    <a:pt x="603" y="1148"/>
                  </a:lnTo>
                  <a:lnTo>
                    <a:pt x="641" y="1148"/>
                  </a:lnTo>
                  <a:lnTo>
                    <a:pt x="707" y="794"/>
                  </a:lnTo>
                  <a:lnTo>
                    <a:pt x="714" y="103"/>
                  </a:lnTo>
                  <a:lnTo>
                    <a:pt x="661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b3d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45200" y="2928960"/>
              <a:ext cx="495360" cy="799920"/>
            </a:xfrm>
            <a:custGeom>
              <a:avLst/>
              <a:gdLst/>
              <a:ahLst/>
              <a:rect l="l" t="t" r="r" b="b"/>
              <a:pathLst>
                <a:path w="747" h="1247">
                  <a:moveTo>
                    <a:pt x="74" y="198"/>
                  </a:moveTo>
                  <a:lnTo>
                    <a:pt x="152" y="183"/>
                  </a:lnTo>
                  <a:lnTo>
                    <a:pt x="152" y="0"/>
                  </a:lnTo>
                  <a:lnTo>
                    <a:pt x="496" y="0"/>
                  </a:lnTo>
                  <a:lnTo>
                    <a:pt x="513" y="52"/>
                  </a:lnTo>
                  <a:lnTo>
                    <a:pt x="747" y="898"/>
                  </a:lnTo>
                  <a:lnTo>
                    <a:pt x="58" y="1247"/>
                  </a:lnTo>
                  <a:lnTo>
                    <a:pt x="0" y="1247"/>
                  </a:lnTo>
                  <a:lnTo>
                    <a:pt x="69" y="893"/>
                  </a:lnTo>
                  <a:lnTo>
                    <a:pt x="74" y="198"/>
                  </a:lnTo>
                  <a:lnTo>
                    <a:pt x="74" y="198"/>
                  </a:lnTo>
                  <a:close/>
                </a:path>
              </a:pathLst>
            </a:custGeom>
            <a:solidFill>
              <a:srgbClr val="b3d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786720" y="2946240"/>
            <a:ext cx="1033200" cy="873360"/>
            <a:chOff x="6786720" y="2946240"/>
            <a:chExt cx="1033200" cy="873360"/>
          </a:xfrm>
        </p:grpSpPr>
        <p:sp>
          <p:nvSpPr>
            <p:cNvPr id="349" name=""/>
            <p:cNvSpPr/>
            <p:nvPr/>
          </p:nvSpPr>
          <p:spPr>
            <a:xfrm>
              <a:off x="6845400" y="2946240"/>
              <a:ext cx="600120" cy="717840"/>
            </a:xfrm>
            <a:custGeom>
              <a:avLst/>
              <a:gdLst/>
              <a:ahLst/>
              <a:rect l="l" t="t" r="r" b="b"/>
              <a:pathLst>
                <a:path w="865" h="987">
                  <a:moveTo>
                    <a:pt x="215" y="0"/>
                  </a:moveTo>
                  <a:lnTo>
                    <a:pt x="215" y="443"/>
                  </a:lnTo>
                  <a:lnTo>
                    <a:pt x="0" y="772"/>
                  </a:lnTo>
                  <a:lnTo>
                    <a:pt x="74" y="987"/>
                  </a:lnTo>
                  <a:lnTo>
                    <a:pt x="272" y="987"/>
                  </a:lnTo>
                  <a:lnTo>
                    <a:pt x="498" y="831"/>
                  </a:lnTo>
                  <a:lnTo>
                    <a:pt x="865" y="253"/>
                  </a:lnTo>
                  <a:lnTo>
                    <a:pt x="741" y="196"/>
                  </a:lnTo>
                  <a:lnTo>
                    <a:pt x="509" y="243"/>
                  </a:lnTo>
                  <a:lnTo>
                    <a:pt x="509" y="99"/>
                  </a:lnTo>
                  <a:lnTo>
                    <a:pt x="323" y="99"/>
                  </a:lnTo>
                  <a:lnTo>
                    <a:pt x="279" y="4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99280" y="3014640"/>
              <a:ext cx="620640" cy="331920"/>
            </a:xfrm>
            <a:custGeom>
              <a:avLst/>
              <a:gdLst/>
              <a:ahLst/>
              <a:rect l="l" t="t" r="r" b="b"/>
              <a:pathLst>
                <a:path w="898" h="452">
                  <a:moveTo>
                    <a:pt x="0" y="2"/>
                  </a:moveTo>
                  <a:lnTo>
                    <a:pt x="0" y="146"/>
                  </a:lnTo>
                  <a:lnTo>
                    <a:pt x="234" y="101"/>
                  </a:lnTo>
                  <a:lnTo>
                    <a:pt x="356" y="156"/>
                  </a:lnTo>
                  <a:lnTo>
                    <a:pt x="479" y="215"/>
                  </a:lnTo>
                  <a:lnTo>
                    <a:pt x="481" y="281"/>
                  </a:lnTo>
                  <a:lnTo>
                    <a:pt x="629" y="327"/>
                  </a:lnTo>
                  <a:lnTo>
                    <a:pt x="631" y="152"/>
                  </a:lnTo>
                  <a:lnTo>
                    <a:pt x="821" y="452"/>
                  </a:lnTo>
                  <a:lnTo>
                    <a:pt x="898" y="182"/>
                  </a:lnTo>
                  <a:lnTo>
                    <a:pt x="732" y="182"/>
                  </a:lnTo>
                  <a:lnTo>
                    <a:pt x="62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86720" y="3129120"/>
              <a:ext cx="1033200" cy="690480"/>
            </a:xfrm>
            <a:custGeom>
              <a:avLst/>
              <a:gdLst/>
              <a:ahLst/>
              <a:rect l="l" t="t" r="r" b="b"/>
              <a:pathLst>
                <a:path w="1493" h="948">
                  <a:moveTo>
                    <a:pt x="158" y="734"/>
                  </a:moveTo>
                  <a:lnTo>
                    <a:pt x="0" y="943"/>
                  </a:lnTo>
                  <a:lnTo>
                    <a:pt x="1435" y="948"/>
                  </a:lnTo>
                  <a:lnTo>
                    <a:pt x="1493" y="874"/>
                  </a:lnTo>
                  <a:lnTo>
                    <a:pt x="1462" y="547"/>
                  </a:lnTo>
                  <a:lnTo>
                    <a:pt x="1223" y="167"/>
                  </a:lnTo>
                  <a:lnTo>
                    <a:pt x="1080" y="125"/>
                  </a:lnTo>
                  <a:lnTo>
                    <a:pt x="1080" y="59"/>
                  </a:lnTo>
                  <a:lnTo>
                    <a:pt x="951" y="0"/>
                  </a:lnTo>
                  <a:lnTo>
                    <a:pt x="584" y="576"/>
                  </a:lnTo>
                  <a:lnTo>
                    <a:pt x="354" y="734"/>
                  </a:lnTo>
                  <a:lnTo>
                    <a:pt x="158" y="734"/>
                  </a:lnTo>
                  <a:lnTo>
                    <a:pt x="158" y="734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776920" y="2174760"/>
            <a:ext cx="1298520" cy="1675080"/>
            <a:chOff x="5776920" y="2174760"/>
            <a:chExt cx="1298520" cy="1675080"/>
          </a:xfrm>
        </p:grpSpPr>
        <p:sp>
          <p:nvSpPr>
            <p:cNvPr id="353" name=""/>
            <p:cNvSpPr/>
            <p:nvPr/>
          </p:nvSpPr>
          <p:spPr>
            <a:xfrm>
              <a:off x="6242040" y="2374920"/>
              <a:ext cx="480960" cy="588960"/>
            </a:xfrm>
            <a:custGeom>
              <a:avLst/>
              <a:gdLst/>
              <a:ahLst/>
              <a:rect l="l" t="t" r="r" b="b"/>
              <a:pathLst>
                <a:path w="727" h="921">
                  <a:moveTo>
                    <a:pt x="218" y="0"/>
                  </a:moveTo>
                  <a:lnTo>
                    <a:pt x="0" y="181"/>
                  </a:lnTo>
                  <a:lnTo>
                    <a:pt x="46" y="260"/>
                  </a:lnTo>
                  <a:lnTo>
                    <a:pt x="6" y="413"/>
                  </a:lnTo>
                  <a:lnTo>
                    <a:pt x="6" y="869"/>
                  </a:lnTo>
                  <a:lnTo>
                    <a:pt x="350" y="871"/>
                  </a:lnTo>
                  <a:lnTo>
                    <a:pt x="363" y="921"/>
                  </a:lnTo>
                  <a:lnTo>
                    <a:pt x="659" y="921"/>
                  </a:lnTo>
                  <a:lnTo>
                    <a:pt x="727" y="606"/>
                  </a:lnTo>
                  <a:lnTo>
                    <a:pt x="506" y="67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81800" y="2814480"/>
              <a:ext cx="593640" cy="743040"/>
            </a:xfrm>
            <a:custGeom>
              <a:avLst/>
              <a:gdLst/>
              <a:ahLst/>
              <a:rect l="l" t="t" r="r" b="b"/>
              <a:pathLst>
                <a:path w="896" h="1162">
                  <a:moveTo>
                    <a:pt x="0" y="236"/>
                  </a:moveTo>
                  <a:lnTo>
                    <a:pt x="236" y="1077"/>
                  </a:lnTo>
                  <a:lnTo>
                    <a:pt x="570" y="1162"/>
                  </a:lnTo>
                  <a:lnTo>
                    <a:pt x="817" y="822"/>
                  </a:lnTo>
                  <a:lnTo>
                    <a:pt x="814" y="315"/>
                  </a:lnTo>
                  <a:lnTo>
                    <a:pt x="896" y="364"/>
                  </a:lnTo>
                  <a:lnTo>
                    <a:pt x="784" y="0"/>
                  </a:lnTo>
                  <a:lnTo>
                    <a:pt x="542" y="22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76800" y="3454560"/>
              <a:ext cx="831960" cy="395280"/>
            </a:xfrm>
            <a:custGeom>
              <a:avLst/>
              <a:gdLst/>
              <a:ahLst/>
              <a:rect l="l" t="t" r="r" b="b"/>
              <a:pathLst>
                <a:path w="1200" h="541">
                  <a:moveTo>
                    <a:pt x="29" y="300"/>
                  </a:moveTo>
                  <a:lnTo>
                    <a:pt x="0" y="541"/>
                  </a:lnTo>
                  <a:lnTo>
                    <a:pt x="329" y="541"/>
                  </a:lnTo>
                  <a:lnTo>
                    <a:pt x="375" y="499"/>
                  </a:lnTo>
                  <a:lnTo>
                    <a:pt x="1040" y="498"/>
                  </a:lnTo>
                  <a:lnTo>
                    <a:pt x="1200" y="287"/>
                  </a:lnTo>
                  <a:lnTo>
                    <a:pt x="1124" y="68"/>
                  </a:lnTo>
                  <a:lnTo>
                    <a:pt x="791" y="0"/>
                  </a:lnTo>
                  <a:lnTo>
                    <a:pt x="162" y="298"/>
                  </a:lnTo>
                  <a:lnTo>
                    <a:pt x="29" y="300"/>
                  </a:lnTo>
                  <a:lnTo>
                    <a:pt x="29" y="300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76920" y="2174760"/>
              <a:ext cx="652320" cy="298440"/>
            </a:xfrm>
            <a:custGeom>
              <a:avLst/>
              <a:gdLst/>
              <a:ahLst/>
              <a:rect l="l" t="t" r="r" b="b"/>
              <a:pathLst>
                <a:path w="411" h="188">
                  <a:moveTo>
                    <a:pt x="152" y="119"/>
                  </a:moveTo>
                  <a:lnTo>
                    <a:pt x="176" y="143"/>
                  </a:lnTo>
                  <a:lnTo>
                    <a:pt x="209" y="188"/>
                  </a:lnTo>
                  <a:lnTo>
                    <a:pt x="411" y="79"/>
                  </a:lnTo>
                  <a:lnTo>
                    <a:pt x="379" y="36"/>
                  </a:lnTo>
                  <a:lnTo>
                    <a:pt x="211" y="94"/>
                  </a:lnTo>
                  <a:lnTo>
                    <a:pt x="120" y="64"/>
                  </a:lnTo>
                  <a:lnTo>
                    <a:pt x="108" y="0"/>
                  </a:lnTo>
                  <a:lnTo>
                    <a:pt x="0" y="76"/>
                  </a:lnTo>
                  <a:lnTo>
                    <a:pt x="152" y="119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894120" y="4013280"/>
            <a:ext cx="2435400" cy="1792080"/>
            <a:chOff x="3894120" y="4013280"/>
            <a:chExt cx="2435400" cy="1792080"/>
          </a:xfrm>
        </p:grpSpPr>
        <p:sp>
          <p:nvSpPr>
            <p:cNvPr id="358" name=""/>
            <p:cNvSpPr/>
            <p:nvPr/>
          </p:nvSpPr>
          <p:spPr>
            <a:xfrm>
              <a:off x="3894120" y="4013280"/>
              <a:ext cx="1757520" cy="1792080"/>
            </a:xfrm>
            <a:custGeom>
              <a:avLst/>
              <a:gdLst/>
              <a:ahLst/>
              <a:rect l="l" t="t" r="r" b="b"/>
              <a:pathLst>
                <a:path w="2536" h="2462">
                  <a:moveTo>
                    <a:pt x="597" y="0"/>
                  </a:moveTo>
                  <a:lnTo>
                    <a:pt x="597" y="1027"/>
                  </a:lnTo>
                  <a:lnTo>
                    <a:pt x="0" y="1033"/>
                  </a:lnTo>
                  <a:lnTo>
                    <a:pt x="0" y="1149"/>
                  </a:lnTo>
                  <a:lnTo>
                    <a:pt x="348" y="1451"/>
                  </a:lnTo>
                  <a:lnTo>
                    <a:pt x="378" y="1601"/>
                  </a:lnTo>
                  <a:lnTo>
                    <a:pt x="700" y="1801"/>
                  </a:lnTo>
                  <a:lnTo>
                    <a:pt x="819" y="1591"/>
                  </a:lnTo>
                  <a:lnTo>
                    <a:pt x="1106" y="1694"/>
                  </a:lnTo>
                  <a:lnTo>
                    <a:pt x="1540" y="2331"/>
                  </a:lnTo>
                  <a:lnTo>
                    <a:pt x="1874" y="2462"/>
                  </a:lnTo>
                  <a:lnTo>
                    <a:pt x="1981" y="2424"/>
                  </a:lnTo>
                  <a:lnTo>
                    <a:pt x="1918" y="2112"/>
                  </a:lnTo>
                  <a:lnTo>
                    <a:pt x="2074" y="1806"/>
                  </a:lnTo>
                  <a:lnTo>
                    <a:pt x="2536" y="1542"/>
                  </a:lnTo>
                  <a:lnTo>
                    <a:pt x="2536" y="1076"/>
                  </a:lnTo>
                  <a:lnTo>
                    <a:pt x="2390" y="955"/>
                  </a:lnTo>
                  <a:lnTo>
                    <a:pt x="2390" y="609"/>
                  </a:lnTo>
                  <a:lnTo>
                    <a:pt x="1603" y="609"/>
                  </a:lnTo>
                  <a:lnTo>
                    <a:pt x="1190" y="400"/>
                  </a:lnTo>
                  <a:lnTo>
                    <a:pt x="1190" y="6"/>
                  </a:lnTo>
                  <a:lnTo>
                    <a:pt x="597" y="0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48320" y="4524480"/>
              <a:ext cx="781200" cy="637920"/>
            </a:xfrm>
            <a:custGeom>
              <a:avLst/>
              <a:gdLst/>
              <a:ahLst/>
              <a:rect l="l" t="t" r="r" b="b"/>
              <a:pathLst>
                <a:path w="1127" h="872">
                  <a:moveTo>
                    <a:pt x="2" y="0"/>
                  </a:moveTo>
                  <a:lnTo>
                    <a:pt x="0" y="272"/>
                  </a:lnTo>
                  <a:lnTo>
                    <a:pt x="146" y="395"/>
                  </a:lnTo>
                  <a:lnTo>
                    <a:pt x="146" y="861"/>
                  </a:lnTo>
                  <a:lnTo>
                    <a:pt x="186" y="836"/>
                  </a:lnTo>
                  <a:lnTo>
                    <a:pt x="509" y="836"/>
                  </a:lnTo>
                  <a:lnTo>
                    <a:pt x="553" y="764"/>
                  </a:lnTo>
                  <a:lnTo>
                    <a:pt x="800" y="872"/>
                  </a:lnTo>
                  <a:lnTo>
                    <a:pt x="947" y="821"/>
                  </a:lnTo>
                  <a:lnTo>
                    <a:pt x="1057" y="846"/>
                  </a:lnTo>
                  <a:lnTo>
                    <a:pt x="1127" y="785"/>
                  </a:lnTo>
                  <a:lnTo>
                    <a:pt x="1028" y="762"/>
                  </a:lnTo>
                  <a:lnTo>
                    <a:pt x="1047" y="663"/>
                  </a:lnTo>
                  <a:lnTo>
                    <a:pt x="924" y="646"/>
                  </a:lnTo>
                  <a:lnTo>
                    <a:pt x="924" y="600"/>
                  </a:lnTo>
                  <a:lnTo>
                    <a:pt x="1032" y="574"/>
                  </a:lnTo>
                  <a:lnTo>
                    <a:pt x="926" y="416"/>
                  </a:lnTo>
                  <a:lnTo>
                    <a:pt x="504" y="414"/>
                  </a:lnTo>
                  <a:lnTo>
                    <a:pt x="599" y="148"/>
                  </a:lnTo>
                  <a:lnTo>
                    <a:pt x="55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541680" y="3970440"/>
            <a:ext cx="1779480" cy="1833480"/>
            <a:chOff x="3541680" y="3970440"/>
            <a:chExt cx="1779480" cy="1833480"/>
          </a:xfrm>
        </p:grpSpPr>
        <p:sp>
          <p:nvSpPr>
            <p:cNvPr id="361" name=""/>
            <p:cNvSpPr/>
            <p:nvPr/>
          </p:nvSpPr>
          <p:spPr>
            <a:xfrm>
              <a:off x="3873600" y="4027320"/>
              <a:ext cx="1447560" cy="1776600"/>
            </a:xfrm>
            <a:custGeom>
              <a:avLst/>
              <a:gdLst/>
              <a:ahLst/>
              <a:rect l="l" t="t" r="r" b="b"/>
              <a:pathLst>
                <a:path w="912" h="1119">
                  <a:moveTo>
                    <a:pt x="272" y="8"/>
                  </a:moveTo>
                  <a:lnTo>
                    <a:pt x="264" y="488"/>
                  </a:lnTo>
                  <a:lnTo>
                    <a:pt x="0" y="480"/>
                  </a:lnTo>
                  <a:lnTo>
                    <a:pt x="8" y="528"/>
                  </a:lnTo>
                  <a:lnTo>
                    <a:pt x="160" y="648"/>
                  </a:lnTo>
                  <a:lnTo>
                    <a:pt x="166" y="712"/>
                  </a:lnTo>
                  <a:lnTo>
                    <a:pt x="320" y="824"/>
                  </a:lnTo>
                  <a:lnTo>
                    <a:pt x="366" y="718"/>
                  </a:lnTo>
                  <a:lnTo>
                    <a:pt x="496" y="762"/>
                  </a:lnTo>
                  <a:lnTo>
                    <a:pt x="680" y="1072"/>
                  </a:lnTo>
                  <a:lnTo>
                    <a:pt x="824" y="1119"/>
                  </a:lnTo>
                  <a:lnTo>
                    <a:pt x="888" y="1096"/>
                  </a:lnTo>
                  <a:lnTo>
                    <a:pt x="848" y="959"/>
                  </a:lnTo>
                  <a:lnTo>
                    <a:pt x="912" y="827"/>
                  </a:lnTo>
                  <a:lnTo>
                    <a:pt x="784" y="695"/>
                  </a:lnTo>
                  <a:lnTo>
                    <a:pt x="599" y="517"/>
                  </a:lnTo>
                  <a:lnTo>
                    <a:pt x="608" y="224"/>
                  </a:lnTo>
                  <a:lnTo>
                    <a:pt x="536" y="184"/>
                  </a:lnTo>
                  <a:lnTo>
                    <a:pt x="528" y="0"/>
                  </a:lnTo>
                  <a:lnTo>
                    <a:pt x="272" y="8"/>
                  </a:lnTo>
                  <a:close/>
                </a:path>
              </a:pathLst>
            </a:custGeom>
            <a:solidFill>
              <a:srgbClr val="ff86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41680" y="3970440"/>
              <a:ext cx="760320" cy="979560"/>
            </a:xfrm>
            <a:custGeom>
              <a:avLst/>
              <a:gdLst/>
              <a:ahLst/>
              <a:rect l="l" t="t" r="r" b="b"/>
              <a:pathLst>
                <a:path w="1093" h="1395">
                  <a:moveTo>
                    <a:pt x="48" y="0"/>
                  </a:moveTo>
                  <a:lnTo>
                    <a:pt x="0" y="1393"/>
                  </a:lnTo>
                  <a:lnTo>
                    <a:pt x="164" y="1395"/>
                  </a:lnTo>
                  <a:lnTo>
                    <a:pt x="199" y="1296"/>
                  </a:lnTo>
                  <a:lnTo>
                    <a:pt x="496" y="1296"/>
                  </a:lnTo>
                  <a:lnTo>
                    <a:pt x="496" y="1187"/>
                  </a:lnTo>
                  <a:lnTo>
                    <a:pt x="1093" y="1187"/>
                  </a:lnTo>
                  <a:lnTo>
                    <a:pt x="1093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86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305240" y="3359160"/>
            <a:ext cx="1819440" cy="1492200"/>
            <a:chOff x="4305240" y="3359160"/>
            <a:chExt cx="1819440" cy="1492200"/>
          </a:xfrm>
        </p:grpSpPr>
        <p:sp>
          <p:nvSpPr>
            <p:cNvPr id="364" name=""/>
            <p:cNvSpPr/>
            <p:nvPr/>
          </p:nvSpPr>
          <p:spPr>
            <a:xfrm>
              <a:off x="4419720" y="3500280"/>
              <a:ext cx="984240" cy="441360"/>
            </a:xfrm>
            <a:custGeom>
              <a:avLst/>
              <a:gdLst/>
              <a:ahLst/>
              <a:rect l="l" t="t" r="r" b="b"/>
              <a:pathLst>
                <a:path w="620" h="278">
                  <a:moveTo>
                    <a:pt x="0" y="0"/>
                  </a:moveTo>
                  <a:lnTo>
                    <a:pt x="0" y="278"/>
                  </a:lnTo>
                  <a:lnTo>
                    <a:pt x="620" y="278"/>
                  </a:lnTo>
                  <a:lnTo>
                    <a:pt x="600" y="65"/>
                  </a:lnTo>
                  <a:lnTo>
                    <a:pt x="552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86520" y="3359160"/>
              <a:ext cx="938160" cy="712800"/>
            </a:xfrm>
            <a:custGeom>
              <a:avLst/>
              <a:gdLst/>
              <a:ahLst/>
              <a:rect l="l" t="t" r="r" b="b"/>
              <a:pathLst>
                <a:path w="1419" h="1114">
                  <a:moveTo>
                    <a:pt x="0" y="0"/>
                  </a:moveTo>
                  <a:lnTo>
                    <a:pt x="164" y="224"/>
                  </a:lnTo>
                  <a:lnTo>
                    <a:pt x="282" y="380"/>
                  </a:lnTo>
                  <a:lnTo>
                    <a:pt x="334" y="969"/>
                  </a:lnTo>
                  <a:lnTo>
                    <a:pt x="1208" y="971"/>
                  </a:lnTo>
                  <a:lnTo>
                    <a:pt x="1147" y="1111"/>
                  </a:lnTo>
                  <a:lnTo>
                    <a:pt x="1315" y="1114"/>
                  </a:lnTo>
                  <a:lnTo>
                    <a:pt x="1419" y="572"/>
                  </a:lnTo>
                  <a:lnTo>
                    <a:pt x="72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07040" y="3919680"/>
              <a:ext cx="1198440" cy="552240"/>
            </a:xfrm>
            <a:custGeom>
              <a:avLst/>
              <a:gdLst/>
              <a:ahLst/>
              <a:rect l="l" t="t" r="r" b="b"/>
              <a:pathLst>
                <a:path w="1728" h="763">
                  <a:moveTo>
                    <a:pt x="0" y="154"/>
                  </a:moveTo>
                  <a:lnTo>
                    <a:pt x="0" y="0"/>
                  </a:lnTo>
                  <a:lnTo>
                    <a:pt x="1580" y="0"/>
                  </a:lnTo>
                  <a:lnTo>
                    <a:pt x="1606" y="59"/>
                  </a:lnTo>
                  <a:lnTo>
                    <a:pt x="1728" y="761"/>
                  </a:lnTo>
                  <a:lnTo>
                    <a:pt x="1008" y="763"/>
                  </a:lnTo>
                  <a:lnTo>
                    <a:pt x="591" y="557"/>
                  </a:lnTo>
                  <a:lnTo>
                    <a:pt x="593" y="162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21240" y="3960720"/>
              <a:ext cx="631800" cy="563760"/>
            </a:xfrm>
            <a:custGeom>
              <a:avLst/>
              <a:gdLst/>
              <a:ahLst/>
              <a:rect l="l" t="t" r="r" b="b"/>
              <a:pathLst>
                <a:path w="913" h="778">
                  <a:moveTo>
                    <a:pt x="0" y="0"/>
                  </a:moveTo>
                  <a:lnTo>
                    <a:pt x="825" y="0"/>
                  </a:lnTo>
                  <a:lnTo>
                    <a:pt x="763" y="141"/>
                  </a:lnTo>
                  <a:lnTo>
                    <a:pt x="913" y="141"/>
                  </a:lnTo>
                  <a:lnTo>
                    <a:pt x="710" y="694"/>
                  </a:lnTo>
                  <a:lnTo>
                    <a:pt x="736" y="778"/>
                  </a:lnTo>
                  <a:lnTo>
                    <a:pt x="185" y="778"/>
                  </a:lnTo>
                  <a:lnTo>
                    <a:pt x="185" y="706"/>
                  </a:lnTo>
                  <a:lnTo>
                    <a:pt x="120" y="70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05240" y="4025880"/>
              <a:ext cx="961920" cy="825480"/>
            </a:xfrm>
            <a:custGeom>
              <a:avLst/>
              <a:gdLst/>
              <a:ahLst/>
              <a:rect l="l" t="t" r="r" b="b"/>
              <a:pathLst>
                <a:path w="606" h="520">
                  <a:moveTo>
                    <a:pt x="2" y="0"/>
                  </a:moveTo>
                  <a:lnTo>
                    <a:pt x="0" y="360"/>
                  </a:lnTo>
                  <a:lnTo>
                    <a:pt x="328" y="520"/>
                  </a:lnTo>
                  <a:lnTo>
                    <a:pt x="592" y="448"/>
                  </a:lnTo>
                  <a:lnTo>
                    <a:pt x="606" y="281"/>
                  </a:lnTo>
                  <a:lnTo>
                    <a:pt x="441" y="279"/>
                  </a:lnTo>
                  <a:lnTo>
                    <a:pt x="260" y="183"/>
                  </a:lnTo>
                  <a:lnTo>
                    <a:pt x="260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13080" y="3975120"/>
            <a:ext cx="1162080" cy="976320"/>
            <a:chOff x="2413080" y="3975120"/>
            <a:chExt cx="1162080" cy="976320"/>
          </a:xfrm>
        </p:grpSpPr>
        <p:sp>
          <p:nvSpPr>
            <p:cNvPr id="370" name=""/>
            <p:cNvSpPr/>
            <p:nvPr/>
          </p:nvSpPr>
          <p:spPr>
            <a:xfrm>
              <a:off x="2814480" y="3975120"/>
              <a:ext cx="760680" cy="976320"/>
            </a:xfrm>
            <a:custGeom>
              <a:avLst/>
              <a:gdLst/>
              <a:ahLst/>
              <a:rect l="l" t="t" r="r" b="b"/>
              <a:pathLst>
                <a:path w="1091" h="1391">
                  <a:moveTo>
                    <a:pt x="214" y="0"/>
                  </a:moveTo>
                  <a:lnTo>
                    <a:pt x="201" y="151"/>
                  </a:lnTo>
                  <a:lnTo>
                    <a:pt x="82" y="145"/>
                  </a:lnTo>
                  <a:lnTo>
                    <a:pt x="0" y="342"/>
                  </a:lnTo>
                  <a:lnTo>
                    <a:pt x="164" y="560"/>
                  </a:lnTo>
                  <a:lnTo>
                    <a:pt x="99" y="625"/>
                  </a:lnTo>
                  <a:lnTo>
                    <a:pt x="97" y="1099"/>
                  </a:lnTo>
                  <a:lnTo>
                    <a:pt x="671" y="1391"/>
                  </a:lnTo>
                  <a:lnTo>
                    <a:pt x="1043" y="1391"/>
                  </a:lnTo>
                  <a:lnTo>
                    <a:pt x="1091" y="0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13080" y="4548240"/>
              <a:ext cx="473040" cy="203040"/>
            </a:xfrm>
            <a:custGeom>
              <a:avLst/>
              <a:gdLst/>
              <a:ahLst/>
              <a:rect l="l" t="t" r="r" b="b"/>
              <a:pathLst>
                <a:path w="298" h="128">
                  <a:moveTo>
                    <a:pt x="63" y="71"/>
                  </a:moveTo>
                  <a:lnTo>
                    <a:pt x="84" y="116"/>
                  </a:lnTo>
                  <a:lnTo>
                    <a:pt x="162" y="116"/>
                  </a:lnTo>
                  <a:lnTo>
                    <a:pt x="220" y="116"/>
                  </a:lnTo>
                  <a:lnTo>
                    <a:pt x="256" y="116"/>
                  </a:lnTo>
                  <a:lnTo>
                    <a:pt x="298" y="128"/>
                  </a:lnTo>
                  <a:lnTo>
                    <a:pt x="296" y="16"/>
                  </a:lnTo>
                  <a:lnTo>
                    <a:pt x="0" y="0"/>
                  </a:lnTo>
                  <a:lnTo>
                    <a:pt x="63" y="7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711920" y="1351080"/>
            <a:ext cx="687600" cy="1217520"/>
            <a:chOff x="7711920" y="1351080"/>
            <a:chExt cx="687600" cy="1217520"/>
          </a:xfrm>
        </p:grpSpPr>
        <p:sp>
          <p:nvSpPr>
            <p:cNvPr id="373" name=""/>
            <p:cNvSpPr/>
            <p:nvPr/>
          </p:nvSpPr>
          <p:spPr>
            <a:xfrm>
              <a:off x="7888320" y="1351080"/>
              <a:ext cx="511200" cy="809640"/>
            </a:xfrm>
            <a:custGeom>
              <a:avLst/>
              <a:gdLst/>
              <a:ahLst/>
              <a:rect l="l" t="t" r="r" b="b"/>
              <a:pathLst>
                <a:path w="774" h="1196">
                  <a:moveTo>
                    <a:pt x="305" y="0"/>
                  </a:moveTo>
                  <a:lnTo>
                    <a:pt x="4" y="135"/>
                  </a:lnTo>
                  <a:lnTo>
                    <a:pt x="0" y="660"/>
                  </a:lnTo>
                  <a:lnTo>
                    <a:pt x="275" y="1196"/>
                  </a:lnTo>
                  <a:lnTo>
                    <a:pt x="276" y="1056"/>
                  </a:lnTo>
                  <a:lnTo>
                    <a:pt x="774" y="595"/>
                  </a:lnTo>
                  <a:lnTo>
                    <a:pt x="480" y="397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11920" y="2249640"/>
              <a:ext cx="514440" cy="257040"/>
            </a:xfrm>
            <a:custGeom>
              <a:avLst/>
              <a:gdLst/>
              <a:ahLst/>
              <a:rect l="l" t="t" r="r" b="b"/>
              <a:pathLst>
                <a:path w="776" h="379">
                  <a:moveTo>
                    <a:pt x="0" y="0"/>
                  </a:moveTo>
                  <a:lnTo>
                    <a:pt x="103" y="269"/>
                  </a:lnTo>
                  <a:lnTo>
                    <a:pt x="547" y="270"/>
                  </a:lnTo>
                  <a:lnTo>
                    <a:pt x="601" y="379"/>
                  </a:lnTo>
                  <a:lnTo>
                    <a:pt x="776" y="259"/>
                  </a:lnTo>
                  <a:lnTo>
                    <a:pt x="728" y="125"/>
                  </a:lnTo>
                  <a:lnTo>
                    <a:pt x="646" y="194"/>
                  </a:lnTo>
                  <a:lnTo>
                    <a:pt x="54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59600" y="2432160"/>
              <a:ext cx="150840" cy="136440"/>
            </a:xfrm>
            <a:custGeom>
              <a:avLst/>
              <a:gdLst/>
              <a:ahLst/>
              <a:rect l="l" t="t" r="r" b="b"/>
              <a:pathLst>
                <a:path w="229" h="201">
                  <a:moveTo>
                    <a:pt x="0" y="0"/>
                  </a:moveTo>
                  <a:lnTo>
                    <a:pt x="96" y="201"/>
                  </a:lnTo>
                  <a:lnTo>
                    <a:pt x="229" y="110"/>
                  </a:lnTo>
                  <a:lnTo>
                    <a:pt x="17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21720" y="1797120"/>
              <a:ext cx="255600" cy="457200"/>
            </a:xfrm>
            <a:custGeom>
              <a:avLst/>
              <a:gdLst/>
              <a:ahLst/>
              <a:rect l="l" t="t" r="r" b="b"/>
              <a:pathLst>
                <a:path w="389" h="675">
                  <a:moveTo>
                    <a:pt x="0" y="69"/>
                  </a:moveTo>
                  <a:lnTo>
                    <a:pt x="0" y="168"/>
                  </a:lnTo>
                  <a:lnTo>
                    <a:pt x="61" y="669"/>
                  </a:lnTo>
                  <a:lnTo>
                    <a:pt x="389" y="675"/>
                  </a:lnTo>
                  <a:lnTo>
                    <a:pt x="379" y="657"/>
                  </a:lnTo>
                  <a:lnTo>
                    <a:pt x="379" y="534"/>
                  </a:lnTo>
                  <a:lnTo>
                    <a:pt x="103" y="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589880" y="199224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V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9920" y="160956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79240" y="223992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21760" y="237348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16920" y="271620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82120" y="205092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62760" y="323676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44000" y="34527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283520" y="2957400"/>
            <a:ext cx="41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03920" y="267804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905600" y="23605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51880" y="24256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98880" y="4295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A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191120" y="2054160"/>
            <a:ext cx="1579320" cy="1459080"/>
            <a:chOff x="4191120" y="2054160"/>
            <a:chExt cx="1579320" cy="1459080"/>
          </a:xfrm>
        </p:grpSpPr>
        <p:sp>
          <p:nvSpPr>
            <p:cNvPr id="391" name=""/>
            <p:cNvSpPr/>
            <p:nvPr/>
          </p:nvSpPr>
          <p:spPr>
            <a:xfrm>
              <a:off x="4194000" y="2054160"/>
              <a:ext cx="833760" cy="554040"/>
            </a:xfrm>
            <a:custGeom>
              <a:avLst/>
              <a:gdLst/>
              <a:ahLst/>
              <a:rect l="l" t="t" r="r" b="b"/>
              <a:pathLst>
                <a:path w="1260" h="865">
                  <a:moveTo>
                    <a:pt x="0" y="0"/>
                  </a:moveTo>
                  <a:lnTo>
                    <a:pt x="0" y="865"/>
                  </a:lnTo>
                  <a:lnTo>
                    <a:pt x="1235" y="865"/>
                  </a:lnTo>
                  <a:lnTo>
                    <a:pt x="1260" y="706"/>
                  </a:lnTo>
                  <a:lnTo>
                    <a:pt x="105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94000" y="2608200"/>
              <a:ext cx="928800" cy="473040"/>
            </a:xfrm>
            <a:custGeom>
              <a:avLst/>
              <a:gdLst/>
              <a:ahLst/>
              <a:rect l="l" t="t" r="r" b="b"/>
              <a:pathLst>
                <a:path w="1406" h="728">
                  <a:moveTo>
                    <a:pt x="0" y="0"/>
                  </a:moveTo>
                  <a:lnTo>
                    <a:pt x="1235" y="0"/>
                  </a:lnTo>
                  <a:lnTo>
                    <a:pt x="1227" y="33"/>
                  </a:lnTo>
                  <a:lnTo>
                    <a:pt x="1334" y="126"/>
                  </a:lnTo>
                  <a:lnTo>
                    <a:pt x="1406" y="510"/>
                  </a:lnTo>
                  <a:lnTo>
                    <a:pt x="1290" y="510"/>
                  </a:lnTo>
                  <a:lnTo>
                    <a:pt x="1334" y="728"/>
                  </a:lnTo>
                  <a:lnTo>
                    <a:pt x="1186" y="636"/>
                  </a:lnTo>
                  <a:lnTo>
                    <a:pt x="1060" y="727"/>
                  </a:lnTo>
                  <a:lnTo>
                    <a:pt x="984" y="666"/>
                  </a:lnTo>
                  <a:lnTo>
                    <a:pt x="0" y="6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91120" y="3024360"/>
              <a:ext cx="1106280" cy="488880"/>
            </a:xfrm>
            <a:custGeom>
              <a:avLst/>
              <a:gdLst/>
              <a:ahLst/>
              <a:rect l="l" t="t" r="r" b="b"/>
              <a:pathLst>
                <a:path w="697" h="308">
                  <a:moveTo>
                    <a:pt x="1" y="12"/>
                  </a:moveTo>
                  <a:lnTo>
                    <a:pt x="413" y="12"/>
                  </a:lnTo>
                  <a:lnTo>
                    <a:pt x="445" y="38"/>
                  </a:lnTo>
                  <a:lnTo>
                    <a:pt x="496" y="0"/>
                  </a:lnTo>
                  <a:lnTo>
                    <a:pt x="558" y="38"/>
                  </a:lnTo>
                  <a:lnTo>
                    <a:pt x="619" y="129"/>
                  </a:lnTo>
                  <a:lnTo>
                    <a:pt x="608" y="191"/>
                  </a:lnTo>
                  <a:lnTo>
                    <a:pt x="697" y="308"/>
                  </a:lnTo>
                  <a:lnTo>
                    <a:pt x="144" y="306"/>
                  </a:lnTo>
                  <a:lnTo>
                    <a:pt x="143" y="206"/>
                  </a:lnTo>
                  <a:lnTo>
                    <a:pt x="0" y="207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89520" y="2054160"/>
              <a:ext cx="880920" cy="881280"/>
            </a:xfrm>
            <a:custGeom>
              <a:avLst/>
              <a:gdLst/>
              <a:ahLst/>
              <a:rect l="l" t="t" r="r" b="b"/>
              <a:pathLst>
                <a:path w="1330" h="1375">
                  <a:moveTo>
                    <a:pt x="0" y="0"/>
                  </a:moveTo>
                  <a:lnTo>
                    <a:pt x="202" y="706"/>
                  </a:lnTo>
                  <a:lnTo>
                    <a:pt x="173" y="893"/>
                  </a:lnTo>
                  <a:lnTo>
                    <a:pt x="279" y="994"/>
                  </a:lnTo>
                  <a:lnTo>
                    <a:pt x="351" y="1375"/>
                  </a:lnTo>
                  <a:lnTo>
                    <a:pt x="1298" y="1375"/>
                  </a:lnTo>
                  <a:lnTo>
                    <a:pt x="1204" y="1192"/>
                  </a:lnTo>
                  <a:lnTo>
                    <a:pt x="876" y="926"/>
                  </a:lnTo>
                  <a:lnTo>
                    <a:pt x="977" y="443"/>
                  </a:lnTo>
                  <a:lnTo>
                    <a:pt x="1330" y="52"/>
                  </a:lnTo>
                  <a:lnTo>
                    <a:pt x="983" y="104"/>
                  </a:lnTo>
                  <a:lnTo>
                    <a:pt x="652" y="27"/>
                  </a:lnTo>
                  <a:lnTo>
                    <a:pt x="532" y="55"/>
                  </a:lnTo>
                  <a:lnTo>
                    <a:pt x="34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211800" y="32241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46600" y="2529000"/>
            <a:ext cx="3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37520" y="35481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K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75880" y="2513160"/>
            <a:ext cx="30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02760" y="310032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O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06760" y="30621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75640" y="24242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1160" y="3586320"/>
            <a:ext cx="36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46400" y="3300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0560" y="316692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94400" y="360504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37360" y="272880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05680" y="225252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18120" y="3817800"/>
            <a:ext cx="1770120" cy="970200"/>
            <a:chOff x="6018120" y="3817800"/>
            <a:chExt cx="1770120" cy="970200"/>
          </a:xfrm>
        </p:grpSpPr>
        <p:grpSp>
          <p:nvGrpSpPr>
            <p:cNvPr id="409" name=""/>
            <p:cNvGrpSpPr/>
            <p:nvPr/>
          </p:nvGrpSpPr>
          <p:grpSpPr>
            <a:xfrm>
              <a:off x="6018120" y="3817800"/>
              <a:ext cx="1770120" cy="582840"/>
              <a:chOff x="6018120" y="3817800"/>
              <a:chExt cx="1770120" cy="582840"/>
            </a:xfrm>
          </p:grpSpPr>
          <p:sp>
            <p:nvSpPr>
              <p:cNvPr id="410" name=""/>
              <p:cNvSpPr/>
              <p:nvPr/>
            </p:nvSpPr>
            <p:spPr>
              <a:xfrm>
                <a:off x="6018120" y="3817800"/>
                <a:ext cx="1150920" cy="336600"/>
              </a:xfrm>
              <a:custGeom>
                <a:avLst/>
                <a:gdLst/>
                <a:ahLst/>
                <a:rect l="l" t="t" r="r" b="b"/>
                <a:pathLst>
                  <a:path w="1662" h="461">
                    <a:moveTo>
                      <a:pt x="84" y="41"/>
                    </a:moveTo>
                    <a:lnTo>
                      <a:pt x="48" y="336"/>
                    </a:lnTo>
                    <a:lnTo>
                      <a:pt x="0" y="458"/>
                    </a:lnTo>
                    <a:lnTo>
                      <a:pt x="1217" y="461"/>
                    </a:lnTo>
                    <a:lnTo>
                      <a:pt x="1322" y="239"/>
                    </a:lnTo>
                    <a:lnTo>
                      <a:pt x="1662" y="1"/>
                    </a:lnTo>
                    <a:lnTo>
                      <a:pt x="459" y="0"/>
                    </a:lnTo>
                    <a:lnTo>
                      <a:pt x="411" y="43"/>
                    </a:lnTo>
                    <a:lnTo>
                      <a:pt x="84" y="41"/>
                    </a:lnTo>
                    <a:lnTo>
                      <a:pt x="84" y="41"/>
                    </a:lnTo>
                    <a:close/>
                  </a:path>
                </a:pathLst>
              </a:custGeom>
              <a:solidFill>
                <a:srgbClr val="00918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59440" y="3817800"/>
                <a:ext cx="928800" cy="336600"/>
              </a:xfrm>
              <a:custGeom>
                <a:avLst/>
                <a:gdLst/>
                <a:ahLst/>
                <a:rect l="l" t="t" r="r" b="b"/>
                <a:pathLst>
                  <a:path w="585" h="212">
                    <a:moveTo>
                      <a:pt x="585" y="0"/>
                    </a:moveTo>
                    <a:lnTo>
                      <a:pt x="196" y="0"/>
                    </a:lnTo>
                    <a:lnTo>
                      <a:pt x="47" y="111"/>
                    </a:lnTo>
                    <a:lnTo>
                      <a:pt x="0" y="212"/>
                    </a:lnTo>
                    <a:lnTo>
                      <a:pt x="152" y="212"/>
                    </a:lnTo>
                    <a:lnTo>
                      <a:pt x="159" y="175"/>
                    </a:lnTo>
                    <a:lnTo>
                      <a:pt x="230" y="103"/>
                    </a:lnTo>
                    <a:lnTo>
                      <a:pt x="351" y="103"/>
                    </a:lnTo>
                    <a:lnTo>
                      <a:pt x="351" y="132"/>
                    </a:lnTo>
                    <a:lnTo>
                      <a:pt x="382" y="132"/>
                    </a:lnTo>
                    <a:lnTo>
                      <a:pt x="426" y="212"/>
                    </a:lnTo>
                    <a:lnTo>
                      <a:pt x="585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00918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054920" y="3978360"/>
                <a:ext cx="480960" cy="422280"/>
              </a:xfrm>
              <a:custGeom>
                <a:avLst/>
                <a:gdLst/>
                <a:ahLst/>
                <a:rect l="l" t="t" r="r" b="b"/>
                <a:pathLst>
                  <a:path w="303" h="266">
                    <a:moveTo>
                      <a:pt x="303" y="108"/>
                    </a:moveTo>
                    <a:lnTo>
                      <a:pt x="259" y="31"/>
                    </a:lnTo>
                    <a:lnTo>
                      <a:pt x="228" y="31"/>
                    </a:lnTo>
                    <a:lnTo>
                      <a:pt x="228" y="0"/>
                    </a:lnTo>
                    <a:lnTo>
                      <a:pt x="107" y="1"/>
                    </a:lnTo>
                    <a:lnTo>
                      <a:pt x="0" y="106"/>
                    </a:lnTo>
                    <a:lnTo>
                      <a:pt x="188" y="266"/>
                    </a:lnTo>
                    <a:lnTo>
                      <a:pt x="303" y="108"/>
                    </a:lnTo>
                    <a:lnTo>
                      <a:pt x="303" y="108"/>
                    </a:lnTo>
                    <a:close/>
                  </a:path>
                </a:pathLst>
              </a:custGeom>
              <a:solidFill>
                <a:srgbClr val="00918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670800" y="4152960"/>
              <a:ext cx="788760" cy="635040"/>
            </a:xfrm>
            <a:custGeom>
              <a:avLst/>
              <a:gdLst/>
              <a:ahLst/>
              <a:rect l="l" t="t" r="r" b="b"/>
              <a:pathLst>
                <a:path w="1138" h="874">
                  <a:moveTo>
                    <a:pt x="0" y="0"/>
                  </a:moveTo>
                  <a:lnTo>
                    <a:pt x="254" y="543"/>
                  </a:lnTo>
                  <a:lnTo>
                    <a:pt x="209" y="633"/>
                  </a:lnTo>
                  <a:lnTo>
                    <a:pt x="328" y="864"/>
                  </a:lnTo>
                  <a:lnTo>
                    <a:pt x="1138" y="874"/>
                  </a:lnTo>
                  <a:lnTo>
                    <a:pt x="988" y="652"/>
                  </a:lnTo>
                  <a:lnTo>
                    <a:pt x="986" y="334"/>
                  </a:lnTo>
                  <a:lnTo>
                    <a:pt x="6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8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905440" y="4149720"/>
            <a:ext cx="1822680" cy="1379520"/>
            <a:chOff x="5905440" y="4149720"/>
            <a:chExt cx="1822680" cy="1379520"/>
          </a:xfrm>
        </p:grpSpPr>
        <p:sp>
          <p:nvSpPr>
            <p:cNvPr id="415" name=""/>
            <p:cNvSpPr/>
            <p:nvPr/>
          </p:nvSpPr>
          <p:spPr>
            <a:xfrm>
              <a:off x="6499080" y="4740120"/>
              <a:ext cx="1229040" cy="789120"/>
            </a:xfrm>
            <a:custGeom>
              <a:avLst/>
              <a:gdLst/>
              <a:ahLst/>
              <a:rect l="l" t="t" r="r" b="b"/>
              <a:pathLst>
                <a:path w="1774" h="1086">
                  <a:moveTo>
                    <a:pt x="0" y="0"/>
                  </a:moveTo>
                  <a:lnTo>
                    <a:pt x="31" y="196"/>
                  </a:lnTo>
                  <a:lnTo>
                    <a:pt x="213" y="154"/>
                  </a:lnTo>
                  <a:lnTo>
                    <a:pt x="434" y="156"/>
                  </a:lnTo>
                  <a:lnTo>
                    <a:pt x="538" y="291"/>
                  </a:lnTo>
                  <a:lnTo>
                    <a:pt x="668" y="154"/>
                  </a:lnTo>
                  <a:lnTo>
                    <a:pt x="805" y="154"/>
                  </a:lnTo>
                  <a:lnTo>
                    <a:pt x="1071" y="295"/>
                  </a:lnTo>
                  <a:lnTo>
                    <a:pt x="1213" y="709"/>
                  </a:lnTo>
                  <a:lnTo>
                    <a:pt x="1652" y="1086"/>
                  </a:lnTo>
                  <a:lnTo>
                    <a:pt x="1774" y="938"/>
                  </a:lnTo>
                  <a:lnTo>
                    <a:pt x="1774" y="622"/>
                  </a:lnTo>
                  <a:lnTo>
                    <a:pt x="1535" y="407"/>
                  </a:lnTo>
                  <a:lnTo>
                    <a:pt x="1535" y="293"/>
                  </a:lnTo>
                  <a:lnTo>
                    <a:pt x="1388" y="67"/>
                  </a:lnTo>
                  <a:lnTo>
                    <a:pt x="576" y="57"/>
                  </a:lnTo>
                  <a:lnTo>
                    <a:pt x="54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05440" y="4149720"/>
              <a:ext cx="506520" cy="793800"/>
            </a:xfrm>
            <a:custGeom>
              <a:avLst/>
              <a:gdLst/>
              <a:ahLst/>
              <a:rect l="l" t="t" r="r" b="b"/>
              <a:pathLst>
                <a:path w="730" h="1091">
                  <a:moveTo>
                    <a:pt x="180" y="0"/>
                  </a:moveTo>
                  <a:lnTo>
                    <a:pt x="21" y="433"/>
                  </a:lnTo>
                  <a:lnTo>
                    <a:pt x="95" y="665"/>
                  </a:lnTo>
                  <a:lnTo>
                    <a:pt x="0" y="935"/>
                  </a:lnTo>
                  <a:lnTo>
                    <a:pt x="424" y="935"/>
                  </a:lnTo>
                  <a:lnTo>
                    <a:pt x="528" y="1091"/>
                  </a:lnTo>
                  <a:lnTo>
                    <a:pt x="730" y="1045"/>
                  </a:lnTo>
                  <a:lnTo>
                    <a:pt x="570" y="4"/>
                  </a:lnTo>
                  <a:lnTo>
                    <a:pt x="18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89560" y="4152960"/>
              <a:ext cx="587520" cy="758880"/>
            </a:xfrm>
            <a:custGeom>
              <a:avLst/>
              <a:gdLst/>
              <a:ahLst/>
              <a:rect l="l" t="t" r="r" b="b"/>
              <a:pathLst>
                <a:path w="848" h="1043">
                  <a:moveTo>
                    <a:pt x="0" y="0"/>
                  </a:moveTo>
                  <a:lnTo>
                    <a:pt x="160" y="1043"/>
                  </a:lnTo>
                  <a:lnTo>
                    <a:pt x="339" y="1003"/>
                  </a:lnTo>
                  <a:lnTo>
                    <a:pt x="306" y="811"/>
                  </a:lnTo>
                  <a:lnTo>
                    <a:pt x="848" y="806"/>
                  </a:lnTo>
                  <a:lnTo>
                    <a:pt x="762" y="633"/>
                  </a:lnTo>
                  <a:lnTo>
                    <a:pt x="806" y="545"/>
                  </a:lnTo>
                  <a:lnTo>
                    <a:pt x="55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392880" y="4362480"/>
            <a:ext cx="33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94680" y="387684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T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925320" y="443232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53560" y="404820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75600" y="381312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31040" y="41338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18240" y="484812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977440" y="446724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0520" y="40672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05920" y="4200480"/>
            <a:ext cx="65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Atlan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14000" y="195264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Chica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89280" y="1809720"/>
            <a:ext cx="64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eatt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16200" y="292428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6600" y="1254240"/>
            <a:ext cx="1066680" cy="847440"/>
          </a:xfrm>
          <a:custGeom>
            <a:avLst/>
            <a:gdLst/>
            <a:ahLst/>
            <a:rect l="l" t="t" r="r" b="b"/>
            <a:pathLst>
              <a:path w="1280" h="1001">
                <a:moveTo>
                  <a:pt x="925" y="663"/>
                </a:moveTo>
                <a:lnTo>
                  <a:pt x="920" y="662"/>
                </a:lnTo>
                <a:lnTo>
                  <a:pt x="910" y="661"/>
                </a:lnTo>
                <a:lnTo>
                  <a:pt x="900" y="661"/>
                </a:lnTo>
                <a:lnTo>
                  <a:pt x="894" y="663"/>
                </a:lnTo>
                <a:lnTo>
                  <a:pt x="893" y="666"/>
                </a:lnTo>
                <a:lnTo>
                  <a:pt x="892" y="668"/>
                </a:lnTo>
                <a:lnTo>
                  <a:pt x="889" y="669"/>
                </a:lnTo>
                <a:lnTo>
                  <a:pt x="884" y="669"/>
                </a:lnTo>
                <a:lnTo>
                  <a:pt x="879" y="669"/>
                </a:lnTo>
                <a:lnTo>
                  <a:pt x="875" y="667"/>
                </a:lnTo>
                <a:lnTo>
                  <a:pt x="874" y="666"/>
                </a:lnTo>
                <a:lnTo>
                  <a:pt x="874" y="666"/>
                </a:lnTo>
                <a:lnTo>
                  <a:pt x="864" y="663"/>
                </a:lnTo>
                <a:lnTo>
                  <a:pt x="817" y="97"/>
                </a:lnTo>
                <a:lnTo>
                  <a:pt x="804" y="94"/>
                </a:lnTo>
                <a:lnTo>
                  <a:pt x="798" y="84"/>
                </a:lnTo>
                <a:lnTo>
                  <a:pt x="796" y="84"/>
                </a:lnTo>
                <a:lnTo>
                  <a:pt x="791" y="84"/>
                </a:lnTo>
                <a:lnTo>
                  <a:pt x="786" y="84"/>
                </a:lnTo>
                <a:lnTo>
                  <a:pt x="780" y="82"/>
                </a:lnTo>
                <a:lnTo>
                  <a:pt x="774" y="79"/>
                </a:lnTo>
                <a:lnTo>
                  <a:pt x="767" y="77"/>
                </a:lnTo>
                <a:lnTo>
                  <a:pt x="761" y="76"/>
                </a:lnTo>
                <a:lnTo>
                  <a:pt x="759" y="76"/>
                </a:lnTo>
                <a:lnTo>
                  <a:pt x="744" y="84"/>
                </a:lnTo>
                <a:lnTo>
                  <a:pt x="728" y="78"/>
                </a:lnTo>
                <a:lnTo>
                  <a:pt x="710" y="84"/>
                </a:lnTo>
                <a:lnTo>
                  <a:pt x="710" y="84"/>
                </a:lnTo>
                <a:lnTo>
                  <a:pt x="707" y="83"/>
                </a:lnTo>
                <a:lnTo>
                  <a:pt x="703" y="80"/>
                </a:lnTo>
                <a:lnTo>
                  <a:pt x="694" y="78"/>
                </a:lnTo>
                <a:lnTo>
                  <a:pt x="682" y="75"/>
                </a:lnTo>
                <a:lnTo>
                  <a:pt x="673" y="71"/>
                </a:lnTo>
                <a:lnTo>
                  <a:pt x="667" y="69"/>
                </a:lnTo>
                <a:lnTo>
                  <a:pt x="665" y="68"/>
                </a:lnTo>
                <a:lnTo>
                  <a:pt x="652" y="70"/>
                </a:lnTo>
                <a:lnTo>
                  <a:pt x="650" y="70"/>
                </a:lnTo>
                <a:lnTo>
                  <a:pt x="646" y="68"/>
                </a:lnTo>
                <a:lnTo>
                  <a:pt x="644" y="64"/>
                </a:lnTo>
                <a:lnTo>
                  <a:pt x="647" y="57"/>
                </a:lnTo>
                <a:lnTo>
                  <a:pt x="649" y="55"/>
                </a:lnTo>
                <a:lnTo>
                  <a:pt x="645" y="54"/>
                </a:lnTo>
                <a:lnTo>
                  <a:pt x="638" y="54"/>
                </a:lnTo>
                <a:lnTo>
                  <a:pt x="629" y="55"/>
                </a:lnTo>
                <a:lnTo>
                  <a:pt x="620" y="56"/>
                </a:lnTo>
                <a:lnTo>
                  <a:pt x="611" y="57"/>
                </a:lnTo>
                <a:lnTo>
                  <a:pt x="605" y="60"/>
                </a:lnTo>
                <a:lnTo>
                  <a:pt x="603" y="60"/>
                </a:lnTo>
                <a:lnTo>
                  <a:pt x="586" y="49"/>
                </a:lnTo>
                <a:lnTo>
                  <a:pt x="581" y="31"/>
                </a:lnTo>
                <a:lnTo>
                  <a:pt x="568" y="41"/>
                </a:lnTo>
                <a:lnTo>
                  <a:pt x="570" y="52"/>
                </a:lnTo>
                <a:lnTo>
                  <a:pt x="566" y="68"/>
                </a:lnTo>
                <a:lnTo>
                  <a:pt x="558" y="52"/>
                </a:lnTo>
                <a:lnTo>
                  <a:pt x="552" y="49"/>
                </a:lnTo>
                <a:lnTo>
                  <a:pt x="552" y="26"/>
                </a:lnTo>
                <a:lnTo>
                  <a:pt x="527" y="18"/>
                </a:lnTo>
                <a:lnTo>
                  <a:pt x="523" y="16"/>
                </a:lnTo>
                <a:lnTo>
                  <a:pt x="515" y="11"/>
                </a:lnTo>
                <a:lnTo>
                  <a:pt x="506" y="6"/>
                </a:lnTo>
                <a:lnTo>
                  <a:pt x="502" y="1"/>
                </a:lnTo>
                <a:lnTo>
                  <a:pt x="500" y="0"/>
                </a:lnTo>
                <a:lnTo>
                  <a:pt x="493" y="3"/>
                </a:lnTo>
                <a:lnTo>
                  <a:pt x="487" y="8"/>
                </a:lnTo>
                <a:lnTo>
                  <a:pt x="484" y="10"/>
                </a:lnTo>
                <a:lnTo>
                  <a:pt x="482" y="12"/>
                </a:lnTo>
                <a:lnTo>
                  <a:pt x="474" y="17"/>
                </a:lnTo>
                <a:lnTo>
                  <a:pt x="464" y="21"/>
                </a:lnTo>
                <a:lnTo>
                  <a:pt x="453" y="19"/>
                </a:lnTo>
                <a:lnTo>
                  <a:pt x="443" y="17"/>
                </a:lnTo>
                <a:lnTo>
                  <a:pt x="436" y="19"/>
                </a:lnTo>
                <a:lnTo>
                  <a:pt x="432" y="23"/>
                </a:lnTo>
                <a:lnTo>
                  <a:pt x="431" y="25"/>
                </a:lnTo>
                <a:lnTo>
                  <a:pt x="388" y="35"/>
                </a:lnTo>
                <a:lnTo>
                  <a:pt x="390" y="49"/>
                </a:lnTo>
                <a:lnTo>
                  <a:pt x="387" y="52"/>
                </a:lnTo>
                <a:lnTo>
                  <a:pt x="383" y="57"/>
                </a:lnTo>
                <a:lnTo>
                  <a:pt x="376" y="67"/>
                </a:lnTo>
                <a:lnTo>
                  <a:pt x="368" y="77"/>
                </a:lnTo>
                <a:lnTo>
                  <a:pt x="358" y="87"/>
                </a:lnTo>
                <a:lnTo>
                  <a:pt x="349" y="95"/>
                </a:lnTo>
                <a:lnTo>
                  <a:pt x="341" y="101"/>
                </a:lnTo>
                <a:lnTo>
                  <a:pt x="335" y="103"/>
                </a:lnTo>
                <a:lnTo>
                  <a:pt x="330" y="102"/>
                </a:lnTo>
                <a:lnTo>
                  <a:pt x="322" y="101"/>
                </a:lnTo>
                <a:lnTo>
                  <a:pt x="312" y="100"/>
                </a:lnTo>
                <a:lnTo>
                  <a:pt x="303" y="99"/>
                </a:lnTo>
                <a:lnTo>
                  <a:pt x="295" y="98"/>
                </a:lnTo>
                <a:lnTo>
                  <a:pt x="287" y="97"/>
                </a:lnTo>
                <a:lnTo>
                  <a:pt x="282" y="95"/>
                </a:lnTo>
                <a:lnTo>
                  <a:pt x="280" y="95"/>
                </a:lnTo>
                <a:lnTo>
                  <a:pt x="281" y="98"/>
                </a:lnTo>
                <a:lnTo>
                  <a:pt x="282" y="102"/>
                </a:lnTo>
                <a:lnTo>
                  <a:pt x="281" y="109"/>
                </a:lnTo>
                <a:lnTo>
                  <a:pt x="277" y="116"/>
                </a:lnTo>
                <a:lnTo>
                  <a:pt x="270" y="120"/>
                </a:lnTo>
                <a:lnTo>
                  <a:pt x="263" y="122"/>
                </a:lnTo>
                <a:lnTo>
                  <a:pt x="258" y="123"/>
                </a:lnTo>
                <a:lnTo>
                  <a:pt x="256" y="123"/>
                </a:lnTo>
                <a:lnTo>
                  <a:pt x="271" y="132"/>
                </a:lnTo>
                <a:lnTo>
                  <a:pt x="271" y="133"/>
                </a:lnTo>
                <a:lnTo>
                  <a:pt x="271" y="136"/>
                </a:lnTo>
                <a:lnTo>
                  <a:pt x="272" y="139"/>
                </a:lnTo>
                <a:lnTo>
                  <a:pt x="274" y="144"/>
                </a:lnTo>
                <a:lnTo>
                  <a:pt x="276" y="147"/>
                </a:lnTo>
                <a:lnTo>
                  <a:pt x="278" y="150"/>
                </a:lnTo>
                <a:lnTo>
                  <a:pt x="280" y="152"/>
                </a:lnTo>
                <a:lnTo>
                  <a:pt x="284" y="153"/>
                </a:lnTo>
                <a:lnTo>
                  <a:pt x="287" y="155"/>
                </a:lnTo>
                <a:lnTo>
                  <a:pt x="289" y="158"/>
                </a:lnTo>
                <a:lnTo>
                  <a:pt x="291" y="161"/>
                </a:lnTo>
                <a:lnTo>
                  <a:pt x="291" y="162"/>
                </a:lnTo>
                <a:lnTo>
                  <a:pt x="302" y="184"/>
                </a:lnTo>
                <a:lnTo>
                  <a:pt x="302" y="188"/>
                </a:lnTo>
                <a:lnTo>
                  <a:pt x="301" y="197"/>
                </a:lnTo>
                <a:lnTo>
                  <a:pt x="302" y="207"/>
                </a:lnTo>
                <a:lnTo>
                  <a:pt x="304" y="214"/>
                </a:lnTo>
                <a:lnTo>
                  <a:pt x="309" y="220"/>
                </a:lnTo>
                <a:lnTo>
                  <a:pt x="314" y="227"/>
                </a:lnTo>
                <a:lnTo>
                  <a:pt x="320" y="233"/>
                </a:lnTo>
                <a:lnTo>
                  <a:pt x="333" y="236"/>
                </a:lnTo>
                <a:lnTo>
                  <a:pt x="343" y="239"/>
                </a:lnTo>
                <a:lnTo>
                  <a:pt x="347" y="246"/>
                </a:lnTo>
                <a:lnTo>
                  <a:pt x="346" y="252"/>
                </a:lnTo>
                <a:lnTo>
                  <a:pt x="345" y="256"/>
                </a:lnTo>
                <a:lnTo>
                  <a:pt x="349" y="258"/>
                </a:lnTo>
                <a:lnTo>
                  <a:pt x="358" y="264"/>
                </a:lnTo>
                <a:lnTo>
                  <a:pt x="368" y="271"/>
                </a:lnTo>
                <a:lnTo>
                  <a:pt x="371" y="277"/>
                </a:lnTo>
                <a:lnTo>
                  <a:pt x="369" y="281"/>
                </a:lnTo>
                <a:lnTo>
                  <a:pt x="364" y="281"/>
                </a:lnTo>
                <a:lnTo>
                  <a:pt x="360" y="279"/>
                </a:lnTo>
                <a:lnTo>
                  <a:pt x="357" y="277"/>
                </a:lnTo>
                <a:lnTo>
                  <a:pt x="345" y="286"/>
                </a:lnTo>
                <a:lnTo>
                  <a:pt x="343" y="286"/>
                </a:lnTo>
                <a:lnTo>
                  <a:pt x="339" y="287"/>
                </a:lnTo>
                <a:lnTo>
                  <a:pt x="332" y="289"/>
                </a:lnTo>
                <a:lnTo>
                  <a:pt x="324" y="289"/>
                </a:lnTo>
                <a:lnTo>
                  <a:pt x="315" y="289"/>
                </a:lnTo>
                <a:lnTo>
                  <a:pt x="305" y="288"/>
                </a:lnTo>
                <a:lnTo>
                  <a:pt x="297" y="284"/>
                </a:lnTo>
                <a:lnTo>
                  <a:pt x="289" y="279"/>
                </a:lnTo>
                <a:lnTo>
                  <a:pt x="281" y="269"/>
                </a:lnTo>
                <a:lnTo>
                  <a:pt x="281" y="267"/>
                </a:lnTo>
                <a:lnTo>
                  <a:pt x="285" y="265"/>
                </a:lnTo>
                <a:lnTo>
                  <a:pt x="289" y="259"/>
                </a:lnTo>
                <a:lnTo>
                  <a:pt x="292" y="251"/>
                </a:lnTo>
                <a:lnTo>
                  <a:pt x="293" y="245"/>
                </a:lnTo>
                <a:lnTo>
                  <a:pt x="291" y="242"/>
                </a:lnTo>
                <a:lnTo>
                  <a:pt x="286" y="241"/>
                </a:lnTo>
                <a:lnTo>
                  <a:pt x="280" y="241"/>
                </a:lnTo>
                <a:lnTo>
                  <a:pt x="276" y="242"/>
                </a:lnTo>
                <a:lnTo>
                  <a:pt x="273" y="244"/>
                </a:lnTo>
                <a:lnTo>
                  <a:pt x="272" y="244"/>
                </a:lnTo>
                <a:lnTo>
                  <a:pt x="243" y="254"/>
                </a:lnTo>
                <a:lnTo>
                  <a:pt x="243" y="264"/>
                </a:lnTo>
                <a:lnTo>
                  <a:pt x="228" y="256"/>
                </a:lnTo>
                <a:lnTo>
                  <a:pt x="226" y="257"/>
                </a:lnTo>
                <a:lnTo>
                  <a:pt x="221" y="258"/>
                </a:lnTo>
                <a:lnTo>
                  <a:pt x="214" y="260"/>
                </a:lnTo>
                <a:lnTo>
                  <a:pt x="205" y="262"/>
                </a:lnTo>
                <a:lnTo>
                  <a:pt x="197" y="266"/>
                </a:lnTo>
                <a:lnTo>
                  <a:pt x="188" y="268"/>
                </a:lnTo>
                <a:lnTo>
                  <a:pt x="182" y="271"/>
                </a:lnTo>
                <a:lnTo>
                  <a:pt x="178" y="272"/>
                </a:lnTo>
                <a:lnTo>
                  <a:pt x="174" y="274"/>
                </a:lnTo>
                <a:lnTo>
                  <a:pt x="174" y="279"/>
                </a:lnTo>
                <a:lnTo>
                  <a:pt x="176" y="283"/>
                </a:lnTo>
                <a:lnTo>
                  <a:pt x="180" y="287"/>
                </a:lnTo>
                <a:lnTo>
                  <a:pt x="187" y="289"/>
                </a:lnTo>
                <a:lnTo>
                  <a:pt x="196" y="291"/>
                </a:lnTo>
                <a:lnTo>
                  <a:pt x="203" y="295"/>
                </a:lnTo>
                <a:lnTo>
                  <a:pt x="205" y="298"/>
                </a:lnTo>
                <a:lnTo>
                  <a:pt x="203" y="300"/>
                </a:lnTo>
                <a:lnTo>
                  <a:pt x="200" y="303"/>
                </a:lnTo>
                <a:lnTo>
                  <a:pt x="197" y="304"/>
                </a:lnTo>
                <a:lnTo>
                  <a:pt x="196" y="304"/>
                </a:lnTo>
                <a:lnTo>
                  <a:pt x="196" y="305"/>
                </a:lnTo>
                <a:lnTo>
                  <a:pt x="197" y="309"/>
                </a:lnTo>
                <a:lnTo>
                  <a:pt x="201" y="312"/>
                </a:lnTo>
                <a:lnTo>
                  <a:pt x="205" y="313"/>
                </a:lnTo>
                <a:lnTo>
                  <a:pt x="208" y="317"/>
                </a:lnTo>
                <a:lnTo>
                  <a:pt x="206" y="324"/>
                </a:lnTo>
                <a:lnTo>
                  <a:pt x="204" y="332"/>
                </a:lnTo>
                <a:lnTo>
                  <a:pt x="203" y="335"/>
                </a:lnTo>
                <a:lnTo>
                  <a:pt x="205" y="340"/>
                </a:lnTo>
                <a:lnTo>
                  <a:pt x="210" y="350"/>
                </a:lnTo>
                <a:lnTo>
                  <a:pt x="218" y="362"/>
                </a:lnTo>
                <a:lnTo>
                  <a:pt x="226" y="368"/>
                </a:lnTo>
                <a:lnTo>
                  <a:pt x="232" y="370"/>
                </a:lnTo>
                <a:lnTo>
                  <a:pt x="239" y="371"/>
                </a:lnTo>
                <a:lnTo>
                  <a:pt x="246" y="371"/>
                </a:lnTo>
                <a:lnTo>
                  <a:pt x="254" y="371"/>
                </a:lnTo>
                <a:lnTo>
                  <a:pt x="261" y="371"/>
                </a:lnTo>
                <a:lnTo>
                  <a:pt x="266" y="371"/>
                </a:lnTo>
                <a:lnTo>
                  <a:pt x="271" y="371"/>
                </a:lnTo>
                <a:lnTo>
                  <a:pt x="274" y="370"/>
                </a:lnTo>
                <a:lnTo>
                  <a:pt x="279" y="368"/>
                </a:lnTo>
                <a:lnTo>
                  <a:pt x="284" y="368"/>
                </a:lnTo>
                <a:lnTo>
                  <a:pt x="288" y="367"/>
                </a:lnTo>
                <a:lnTo>
                  <a:pt x="289" y="367"/>
                </a:lnTo>
                <a:lnTo>
                  <a:pt x="293" y="379"/>
                </a:lnTo>
                <a:lnTo>
                  <a:pt x="295" y="379"/>
                </a:lnTo>
                <a:lnTo>
                  <a:pt x="302" y="380"/>
                </a:lnTo>
                <a:lnTo>
                  <a:pt x="310" y="379"/>
                </a:lnTo>
                <a:lnTo>
                  <a:pt x="316" y="374"/>
                </a:lnTo>
                <a:lnTo>
                  <a:pt x="322" y="371"/>
                </a:lnTo>
                <a:lnTo>
                  <a:pt x="327" y="371"/>
                </a:lnTo>
                <a:lnTo>
                  <a:pt x="332" y="371"/>
                </a:lnTo>
                <a:lnTo>
                  <a:pt x="334" y="372"/>
                </a:lnTo>
                <a:lnTo>
                  <a:pt x="332" y="374"/>
                </a:lnTo>
                <a:lnTo>
                  <a:pt x="327" y="379"/>
                </a:lnTo>
                <a:lnTo>
                  <a:pt x="323" y="386"/>
                </a:lnTo>
                <a:lnTo>
                  <a:pt x="320" y="390"/>
                </a:lnTo>
                <a:lnTo>
                  <a:pt x="319" y="394"/>
                </a:lnTo>
                <a:lnTo>
                  <a:pt x="319" y="397"/>
                </a:lnTo>
                <a:lnTo>
                  <a:pt x="319" y="400"/>
                </a:lnTo>
                <a:lnTo>
                  <a:pt x="322" y="402"/>
                </a:lnTo>
                <a:lnTo>
                  <a:pt x="324" y="405"/>
                </a:lnTo>
                <a:lnTo>
                  <a:pt x="325" y="410"/>
                </a:lnTo>
                <a:lnTo>
                  <a:pt x="325" y="413"/>
                </a:lnTo>
                <a:lnTo>
                  <a:pt x="325" y="415"/>
                </a:lnTo>
                <a:lnTo>
                  <a:pt x="326" y="417"/>
                </a:lnTo>
                <a:lnTo>
                  <a:pt x="330" y="421"/>
                </a:lnTo>
                <a:lnTo>
                  <a:pt x="331" y="426"/>
                </a:lnTo>
                <a:lnTo>
                  <a:pt x="330" y="430"/>
                </a:lnTo>
                <a:lnTo>
                  <a:pt x="324" y="433"/>
                </a:lnTo>
                <a:lnTo>
                  <a:pt x="317" y="436"/>
                </a:lnTo>
                <a:lnTo>
                  <a:pt x="310" y="440"/>
                </a:lnTo>
                <a:lnTo>
                  <a:pt x="307" y="441"/>
                </a:lnTo>
                <a:lnTo>
                  <a:pt x="307" y="442"/>
                </a:lnTo>
                <a:lnTo>
                  <a:pt x="307" y="443"/>
                </a:lnTo>
                <a:lnTo>
                  <a:pt x="304" y="446"/>
                </a:lnTo>
                <a:lnTo>
                  <a:pt x="302" y="447"/>
                </a:lnTo>
                <a:lnTo>
                  <a:pt x="297" y="447"/>
                </a:lnTo>
                <a:lnTo>
                  <a:pt x="294" y="443"/>
                </a:lnTo>
                <a:lnTo>
                  <a:pt x="289" y="440"/>
                </a:lnTo>
                <a:lnTo>
                  <a:pt x="288" y="439"/>
                </a:lnTo>
                <a:lnTo>
                  <a:pt x="281" y="451"/>
                </a:lnTo>
                <a:lnTo>
                  <a:pt x="280" y="453"/>
                </a:lnTo>
                <a:lnTo>
                  <a:pt x="277" y="455"/>
                </a:lnTo>
                <a:lnTo>
                  <a:pt x="272" y="457"/>
                </a:lnTo>
                <a:lnTo>
                  <a:pt x="265" y="458"/>
                </a:lnTo>
                <a:lnTo>
                  <a:pt x="262" y="457"/>
                </a:lnTo>
                <a:lnTo>
                  <a:pt x="258" y="454"/>
                </a:lnTo>
                <a:lnTo>
                  <a:pt x="255" y="450"/>
                </a:lnTo>
                <a:lnTo>
                  <a:pt x="250" y="447"/>
                </a:lnTo>
                <a:lnTo>
                  <a:pt x="246" y="445"/>
                </a:lnTo>
                <a:lnTo>
                  <a:pt x="240" y="443"/>
                </a:lnTo>
                <a:lnTo>
                  <a:pt x="233" y="443"/>
                </a:lnTo>
                <a:lnTo>
                  <a:pt x="225" y="447"/>
                </a:lnTo>
                <a:lnTo>
                  <a:pt x="212" y="454"/>
                </a:lnTo>
                <a:lnTo>
                  <a:pt x="206" y="458"/>
                </a:lnTo>
                <a:lnTo>
                  <a:pt x="206" y="462"/>
                </a:lnTo>
                <a:lnTo>
                  <a:pt x="208" y="465"/>
                </a:lnTo>
                <a:lnTo>
                  <a:pt x="210" y="470"/>
                </a:lnTo>
                <a:lnTo>
                  <a:pt x="211" y="473"/>
                </a:lnTo>
                <a:lnTo>
                  <a:pt x="212" y="476"/>
                </a:lnTo>
                <a:lnTo>
                  <a:pt x="212" y="477"/>
                </a:lnTo>
                <a:lnTo>
                  <a:pt x="201" y="478"/>
                </a:lnTo>
                <a:lnTo>
                  <a:pt x="197" y="479"/>
                </a:lnTo>
                <a:lnTo>
                  <a:pt x="190" y="484"/>
                </a:lnTo>
                <a:lnTo>
                  <a:pt x="183" y="489"/>
                </a:lnTo>
                <a:lnTo>
                  <a:pt x="180" y="498"/>
                </a:lnTo>
                <a:lnTo>
                  <a:pt x="178" y="506"/>
                </a:lnTo>
                <a:lnTo>
                  <a:pt x="173" y="511"/>
                </a:lnTo>
                <a:lnTo>
                  <a:pt x="167" y="515"/>
                </a:lnTo>
                <a:lnTo>
                  <a:pt x="165" y="516"/>
                </a:lnTo>
                <a:lnTo>
                  <a:pt x="163" y="518"/>
                </a:lnTo>
                <a:lnTo>
                  <a:pt x="158" y="522"/>
                </a:lnTo>
                <a:lnTo>
                  <a:pt x="153" y="527"/>
                </a:lnTo>
                <a:lnTo>
                  <a:pt x="151" y="532"/>
                </a:lnTo>
                <a:lnTo>
                  <a:pt x="152" y="538"/>
                </a:lnTo>
                <a:lnTo>
                  <a:pt x="155" y="547"/>
                </a:lnTo>
                <a:lnTo>
                  <a:pt x="157" y="555"/>
                </a:lnTo>
                <a:lnTo>
                  <a:pt x="160" y="557"/>
                </a:lnTo>
                <a:lnTo>
                  <a:pt x="165" y="559"/>
                </a:lnTo>
                <a:lnTo>
                  <a:pt x="170" y="563"/>
                </a:lnTo>
                <a:lnTo>
                  <a:pt x="173" y="567"/>
                </a:lnTo>
                <a:lnTo>
                  <a:pt x="174" y="569"/>
                </a:lnTo>
                <a:lnTo>
                  <a:pt x="173" y="584"/>
                </a:lnTo>
                <a:lnTo>
                  <a:pt x="156" y="589"/>
                </a:lnTo>
                <a:lnTo>
                  <a:pt x="155" y="591"/>
                </a:lnTo>
                <a:lnTo>
                  <a:pt x="153" y="595"/>
                </a:lnTo>
                <a:lnTo>
                  <a:pt x="152" y="600"/>
                </a:lnTo>
                <a:lnTo>
                  <a:pt x="156" y="602"/>
                </a:lnTo>
                <a:lnTo>
                  <a:pt x="160" y="605"/>
                </a:lnTo>
                <a:lnTo>
                  <a:pt x="166" y="607"/>
                </a:lnTo>
                <a:lnTo>
                  <a:pt x="171" y="608"/>
                </a:lnTo>
                <a:lnTo>
                  <a:pt x="173" y="609"/>
                </a:lnTo>
                <a:lnTo>
                  <a:pt x="171" y="615"/>
                </a:lnTo>
                <a:lnTo>
                  <a:pt x="182" y="629"/>
                </a:lnTo>
                <a:lnTo>
                  <a:pt x="182" y="631"/>
                </a:lnTo>
                <a:lnTo>
                  <a:pt x="183" y="636"/>
                </a:lnTo>
                <a:lnTo>
                  <a:pt x="186" y="643"/>
                </a:lnTo>
                <a:lnTo>
                  <a:pt x="187" y="647"/>
                </a:lnTo>
                <a:lnTo>
                  <a:pt x="190" y="653"/>
                </a:lnTo>
                <a:lnTo>
                  <a:pt x="196" y="660"/>
                </a:lnTo>
                <a:lnTo>
                  <a:pt x="205" y="666"/>
                </a:lnTo>
                <a:lnTo>
                  <a:pt x="214" y="667"/>
                </a:lnTo>
                <a:lnTo>
                  <a:pt x="224" y="663"/>
                </a:lnTo>
                <a:lnTo>
                  <a:pt x="233" y="659"/>
                </a:lnTo>
                <a:lnTo>
                  <a:pt x="240" y="654"/>
                </a:lnTo>
                <a:lnTo>
                  <a:pt x="243" y="648"/>
                </a:lnTo>
                <a:lnTo>
                  <a:pt x="244" y="650"/>
                </a:lnTo>
                <a:lnTo>
                  <a:pt x="246" y="659"/>
                </a:lnTo>
                <a:lnTo>
                  <a:pt x="246" y="670"/>
                </a:lnTo>
                <a:lnTo>
                  <a:pt x="244" y="681"/>
                </a:lnTo>
                <a:lnTo>
                  <a:pt x="242" y="690"/>
                </a:lnTo>
                <a:lnTo>
                  <a:pt x="239" y="699"/>
                </a:lnTo>
                <a:lnTo>
                  <a:pt x="235" y="706"/>
                </a:lnTo>
                <a:lnTo>
                  <a:pt x="234" y="708"/>
                </a:lnTo>
                <a:lnTo>
                  <a:pt x="239" y="722"/>
                </a:lnTo>
                <a:lnTo>
                  <a:pt x="212" y="744"/>
                </a:lnTo>
                <a:lnTo>
                  <a:pt x="211" y="746"/>
                </a:lnTo>
                <a:lnTo>
                  <a:pt x="210" y="751"/>
                </a:lnTo>
                <a:lnTo>
                  <a:pt x="213" y="754"/>
                </a:lnTo>
                <a:lnTo>
                  <a:pt x="224" y="752"/>
                </a:lnTo>
                <a:lnTo>
                  <a:pt x="231" y="749"/>
                </a:lnTo>
                <a:lnTo>
                  <a:pt x="239" y="745"/>
                </a:lnTo>
                <a:lnTo>
                  <a:pt x="244" y="742"/>
                </a:lnTo>
                <a:lnTo>
                  <a:pt x="251" y="738"/>
                </a:lnTo>
                <a:lnTo>
                  <a:pt x="256" y="736"/>
                </a:lnTo>
                <a:lnTo>
                  <a:pt x="261" y="735"/>
                </a:lnTo>
                <a:lnTo>
                  <a:pt x="264" y="735"/>
                </a:lnTo>
                <a:lnTo>
                  <a:pt x="265" y="736"/>
                </a:lnTo>
                <a:lnTo>
                  <a:pt x="266" y="742"/>
                </a:lnTo>
                <a:lnTo>
                  <a:pt x="269" y="746"/>
                </a:lnTo>
                <a:lnTo>
                  <a:pt x="272" y="749"/>
                </a:lnTo>
                <a:lnTo>
                  <a:pt x="276" y="749"/>
                </a:lnTo>
                <a:lnTo>
                  <a:pt x="280" y="746"/>
                </a:lnTo>
                <a:lnTo>
                  <a:pt x="285" y="745"/>
                </a:lnTo>
                <a:lnTo>
                  <a:pt x="289" y="744"/>
                </a:lnTo>
                <a:lnTo>
                  <a:pt x="293" y="746"/>
                </a:lnTo>
                <a:lnTo>
                  <a:pt x="294" y="752"/>
                </a:lnTo>
                <a:lnTo>
                  <a:pt x="296" y="761"/>
                </a:lnTo>
                <a:lnTo>
                  <a:pt x="300" y="769"/>
                </a:lnTo>
                <a:lnTo>
                  <a:pt x="303" y="774"/>
                </a:lnTo>
                <a:lnTo>
                  <a:pt x="308" y="777"/>
                </a:lnTo>
                <a:lnTo>
                  <a:pt x="314" y="782"/>
                </a:lnTo>
                <a:lnTo>
                  <a:pt x="319" y="788"/>
                </a:lnTo>
                <a:lnTo>
                  <a:pt x="324" y="789"/>
                </a:lnTo>
                <a:lnTo>
                  <a:pt x="326" y="787"/>
                </a:lnTo>
                <a:lnTo>
                  <a:pt x="327" y="784"/>
                </a:lnTo>
                <a:lnTo>
                  <a:pt x="330" y="782"/>
                </a:lnTo>
                <a:lnTo>
                  <a:pt x="330" y="781"/>
                </a:lnTo>
                <a:lnTo>
                  <a:pt x="329" y="779"/>
                </a:lnTo>
                <a:lnTo>
                  <a:pt x="327" y="774"/>
                </a:lnTo>
                <a:lnTo>
                  <a:pt x="325" y="767"/>
                </a:lnTo>
                <a:lnTo>
                  <a:pt x="325" y="760"/>
                </a:lnTo>
                <a:lnTo>
                  <a:pt x="329" y="753"/>
                </a:lnTo>
                <a:lnTo>
                  <a:pt x="334" y="746"/>
                </a:lnTo>
                <a:lnTo>
                  <a:pt x="341" y="742"/>
                </a:lnTo>
                <a:lnTo>
                  <a:pt x="343" y="739"/>
                </a:lnTo>
                <a:lnTo>
                  <a:pt x="342" y="742"/>
                </a:lnTo>
                <a:lnTo>
                  <a:pt x="340" y="749"/>
                </a:lnTo>
                <a:lnTo>
                  <a:pt x="339" y="758"/>
                </a:lnTo>
                <a:lnTo>
                  <a:pt x="340" y="765"/>
                </a:lnTo>
                <a:lnTo>
                  <a:pt x="342" y="766"/>
                </a:lnTo>
                <a:lnTo>
                  <a:pt x="347" y="766"/>
                </a:lnTo>
                <a:lnTo>
                  <a:pt x="353" y="765"/>
                </a:lnTo>
                <a:lnTo>
                  <a:pt x="358" y="764"/>
                </a:lnTo>
                <a:lnTo>
                  <a:pt x="364" y="761"/>
                </a:lnTo>
                <a:lnTo>
                  <a:pt x="369" y="759"/>
                </a:lnTo>
                <a:lnTo>
                  <a:pt x="373" y="758"/>
                </a:lnTo>
                <a:lnTo>
                  <a:pt x="377" y="758"/>
                </a:lnTo>
                <a:lnTo>
                  <a:pt x="379" y="760"/>
                </a:lnTo>
                <a:lnTo>
                  <a:pt x="379" y="765"/>
                </a:lnTo>
                <a:lnTo>
                  <a:pt x="377" y="768"/>
                </a:lnTo>
                <a:lnTo>
                  <a:pt x="376" y="769"/>
                </a:lnTo>
                <a:lnTo>
                  <a:pt x="361" y="779"/>
                </a:lnTo>
                <a:lnTo>
                  <a:pt x="360" y="780"/>
                </a:lnTo>
                <a:lnTo>
                  <a:pt x="358" y="782"/>
                </a:lnTo>
                <a:lnTo>
                  <a:pt x="357" y="787"/>
                </a:lnTo>
                <a:lnTo>
                  <a:pt x="358" y="792"/>
                </a:lnTo>
                <a:lnTo>
                  <a:pt x="361" y="798"/>
                </a:lnTo>
                <a:lnTo>
                  <a:pt x="358" y="802"/>
                </a:lnTo>
                <a:lnTo>
                  <a:pt x="356" y="803"/>
                </a:lnTo>
                <a:lnTo>
                  <a:pt x="355" y="804"/>
                </a:lnTo>
                <a:lnTo>
                  <a:pt x="354" y="805"/>
                </a:lnTo>
                <a:lnTo>
                  <a:pt x="352" y="807"/>
                </a:lnTo>
                <a:lnTo>
                  <a:pt x="348" y="811"/>
                </a:lnTo>
                <a:lnTo>
                  <a:pt x="347" y="814"/>
                </a:lnTo>
                <a:lnTo>
                  <a:pt x="346" y="819"/>
                </a:lnTo>
                <a:lnTo>
                  <a:pt x="343" y="828"/>
                </a:lnTo>
                <a:lnTo>
                  <a:pt x="342" y="836"/>
                </a:lnTo>
                <a:lnTo>
                  <a:pt x="341" y="840"/>
                </a:lnTo>
                <a:lnTo>
                  <a:pt x="317" y="845"/>
                </a:lnTo>
                <a:lnTo>
                  <a:pt x="316" y="847"/>
                </a:lnTo>
                <a:lnTo>
                  <a:pt x="312" y="850"/>
                </a:lnTo>
                <a:lnTo>
                  <a:pt x="308" y="855"/>
                </a:lnTo>
                <a:lnTo>
                  <a:pt x="304" y="857"/>
                </a:lnTo>
                <a:lnTo>
                  <a:pt x="301" y="858"/>
                </a:lnTo>
                <a:lnTo>
                  <a:pt x="297" y="859"/>
                </a:lnTo>
                <a:lnTo>
                  <a:pt x="294" y="860"/>
                </a:lnTo>
                <a:lnTo>
                  <a:pt x="293" y="860"/>
                </a:lnTo>
                <a:lnTo>
                  <a:pt x="277" y="873"/>
                </a:lnTo>
                <a:lnTo>
                  <a:pt x="277" y="874"/>
                </a:lnTo>
                <a:lnTo>
                  <a:pt x="276" y="878"/>
                </a:lnTo>
                <a:lnTo>
                  <a:pt x="274" y="882"/>
                </a:lnTo>
                <a:lnTo>
                  <a:pt x="273" y="886"/>
                </a:lnTo>
                <a:lnTo>
                  <a:pt x="271" y="889"/>
                </a:lnTo>
                <a:lnTo>
                  <a:pt x="269" y="893"/>
                </a:lnTo>
                <a:lnTo>
                  <a:pt x="264" y="896"/>
                </a:lnTo>
                <a:lnTo>
                  <a:pt x="261" y="896"/>
                </a:lnTo>
                <a:lnTo>
                  <a:pt x="256" y="895"/>
                </a:lnTo>
                <a:lnTo>
                  <a:pt x="250" y="894"/>
                </a:lnTo>
                <a:lnTo>
                  <a:pt x="246" y="893"/>
                </a:lnTo>
                <a:lnTo>
                  <a:pt x="242" y="893"/>
                </a:lnTo>
                <a:lnTo>
                  <a:pt x="238" y="894"/>
                </a:lnTo>
                <a:lnTo>
                  <a:pt x="233" y="897"/>
                </a:lnTo>
                <a:lnTo>
                  <a:pt x="228" y="901"/>
                </a:lnTo>
                <a:lnTo>
                  <a:pt x="227" y="902"/>
                </a:lnTo>
                <a:lnTo>
                  <a:pt x="218" y="910"/>
                </a:lnTo>
                <a:lnTo>
                  <a:pt x="163" y="920"/>
                </a:lnTo>
                <a:lnTo>
                  <a:pt x="163" y="922"/>
                </a:lnTo>
                <a:lnTo>
                  <a:pt x="162" y="926"/>
                </a:lnTo>
                <a:lnTo>
                  <a:pt x="160" y="930"/>
                </a:lnTo>
                <a:lnTo>
                  <a:pt x="160" y="933"/>
                </a:lnTo>
                <a:lnTo>
                  <a:pt x="162" y="935"/>
                </a:lnTo>
                <a:lnTo>
                  <a:pt x="164" y="939"/>
                </a:lnTo>
                <a:lnTo>
                  <a:pt x="164" y="941"/>
                </a:lnTo>
                <a:lnTo>
                  <a:pt x="160" y="941"/>
                </a:lnTo>
                <a:lnTo>
                  <a:pt x="155" y="940"/>
                </a:lnTo>
                <a:lnTo>
                  <a:pt x="151" y="940"/>
                </a:lnTo>
                <a:lnTo>
                  <a:pt x="149" y="940"/>
                </a:lnTo>
                <a:lnTo>
                  <a:pt x="148" y="940"/>
                </a:lnTo>
                <a:lnTo>
                  <a:pt x="145" y="945"/>
                </a:lnTo>
                <a:lnTo>
                  <a:pt x="134" y="942"/>
                </a:lnTo>
                <a:lnTo>
                  <a:pt x="140" y="932"/>
                </a:lnTo>
                <a:lnTo>
                  <a:pt x="124" y="931"/>
                </a:lnTo>
                <a:lnTo>
                  <a:pt x="120" y="932"/>
                </a:lnTo>
                <a:lnTo>
                  <a:pt x="114" y="933"/>
                </a:lnTo>
                <a:lnTo>
                  <a:pt x="106" y="936"/>
                </a:lnTo>
                <a:lnTo>
                  <a:pt x="100" y="940"/>
                </a:lnTo>
                <a:lnTo>
                  <a:pt x="96" y="945"/>
                </a:lnTo>
                <a:lnTo>
                  <a:pt x="92" y="948"/>
                </a:lnTo>
                <a:lnTo>
                  <a:pt x="87" y="951"/>
                </a:lnTo>
                <a:lnTo>
                  <a:pt x="80" y="956"/>
                </a:lnTo>
                <a:lnTo>
                  <a:pt x="74" y="960"/>
                </a:lnTo>
                <a:lnTo>
                  <a:pt x="73" y="963"/>
                </a:lnTo>
                <a:lnTo>
                  <a:pt x="74" y="965"/>
                </a:lnTo>
                <a:lnTo>
                  <a:pt x="74" y="966"/>
                </a:lnTo>
                <a:lnTo>
                  <a:pt x="72" y="966"/>
                </a:lnTo>
                <a:lnTo>
                  <a:pt x="67" y="968"/>
                </a:lnTo>
                <a:lnTo>
                  <a:pt x="61" y="968"/>
                </a:lnTo>
                <a:lnTo>
                  <a:pt x="58" y="969"/>
                </a:lnTo>
                <a:lnTo>
                  <a:pt x="56" y="970"/>
                </a:lnTo>
                <a:lnTo>
                  <a:pt x="51" y="971"/>
                </a:lnTo>
                <a:lnTo>
                  <a:pt x="45" y="972"/>
                </a:lnTo>
                <a:lnTo>
                  <a:pt x="38" y="975"/>
                </a:lnTo>
                <a:lnTo>
                  <a:pt x="33" y="976"/>
                </a:lnTo>
                <a:lnTo>
                  <a:pt x="27" y="978"/>
                </a:lnTo>
                <a:lnTo>
                  <a:pt x="23" y="979"/>
                </a:lnTo>
                <a:lnTo>
                  <a:pt x="22" y="979"/>
                </a:lnTo>
                <a:lnTo>
                  <a:pt x="19" y="981"/>
                </a:lnTo>
                <a:lnTo>
                  <a:pt x="12" y="986"/>
                </a:lnTo>
                <a:lnTo>
                  <a:pt x="4" y="992"/>
                </a:lnTo>
                <a:lnTo>
                  <a:pt x="0" y="996"/>
                </a:lnTo>
                <a:lnTo>
                  <a:pt x="3" y="999"/>
                </a:lnTo>
                <a:lnTo>
                  <a:pt x="7" y="1000"/>
                </a:lnTo>
                <a:lnTo>
                  <a:pt x="12" y="1001"/>
                </a:lnTo>
                <a:lnTo>
                  <a:pt x="14" y="1001"/>
                </a:lnTo>
                <a:lnTo>
                  <a:pt x="16" y="1000"/>
                </a:lnTo>
                <a:lnTo>
                  <a:pt x="21" y="998"/>
                </a:lnTo>
                <a:lnTo>
                  <a:pt x="27" y="995"/>
                </a:lnTo>
                <a:lnTo>
                  <a:pt x="29" y="996"/>
                </a:lnTo>
                <a:lnTo>
                  <a:pt x="31" y="998"/>
                </a:lnTo>
                <a:lnTo>
                  <a:pt x="36" y="1000"/>
                </a:lnTo>
                <a:lnTo>
                  <a:pt x="39" y="1001"/>
                </a:lnTo>
                <a:lnTo>
                  <a:pt x="42" y="1001"/>
                </a:lnTo>
                <a:lnTo>
                  <a:pt x="53" y="987"/>
                </a:lnTo>
                <a:lnTo>
                  <a:pt x="60" y="998"/>
                </a:lnTo>
                <a:lnTo>
                  <a:pt x="79" y="994"/>
                </a:lnTo>
                <a:lnTo>
                  <a:pt x="97" y="976"/>
                </a:lnTo>
                <a:lnTo>
                  <a:pt x="115" y="963"/>
                </a:lnTo>
                <a:lnTo>
                  <a:pt x="111" y="975"/>
                </a:lnTo>
                <a:lnTo>
                  <a:pt x="102" y="985"/>
                </a:lnTo>
                <a:lnTo>
                  <a:pt x="104" y="985"/>
                </a:lnTo>
                <a:lnTo>
                  <a:pt x="110" y="986"/>
                </a:lnTo>
                <a:lnTo>
                  <a:pt x="118" y="985"/>
                </a:lnTo>
                <a:lnTo>
                  <a:pt x="124" y="981"/>
                </a:lnTo>
                <a:lnTo>
                  <a:pt x="129" y="977"/>
                </a:lnTo>
                <a:lnTo>
                  <a:pt x="136" y="972"/>
                </a:lnTo>
                <a:lnTo>
                  <a:pt x="141" y="969"/>
                </a:lnTo>
                <a:lnTo>
                  <a:pt x="143" y="968"/>
                </a:lnTo>
                <a:lnTo>
                  <a:pt x="165" y="968"/>
                </a:lnTo>
                <a:lnTo>
                  <a:pt x="165" y="966"/>
                </a:lnTo>
                <a:lnTo>
                  <a:pt x="166" y="962"/>
                </a:lnTo>
                <a:lnTo>
                  <a:pt x="168" y="957"/>
                </a:lnTo>
                <a:lnTo>
                  <a:pt x="171" y="951"/>
                </a:lnTo>
                <a:lnTo>
                  <a:pt x="175" y="949"/>
                </a:lnTo>
                <a:lnTo>
                  <a:pt x="179" y="951"/>
                </a:lnTo>
                <a:lnTo>
                  <a:pt x="181" y="955"/>
                </a:lnTo>
                <a:lnTo>
                  <a:pt x="182" y="956"/>
                </a:lnTo>
                <a:lnTo>
                  <a:pt x="185" y="966"/>
                </a:lnTo>
                <a:lnTo>
                  <a:pt x="196" y="966"/>
                </a:lnTo>
                <a:lnTo>
                  <a:pt x="196" y="965"/>
                </a:lnTo>
                <a:lnTo>
                  <a:pt x="197" y="961"/>
                </a:lnTo>
                <a:lnTo>
                  <a:pt x="200" y="957"/>
                </a:lnTo>
                <a:lnTo>
                  <a:pt x="202" y="955"/>
                </a:lnTo>
                <a:lnTo>
                  <a:pt x="204" y="954"/>
                </a:lnTo>
                <a:lnTo>
                  <a:pt x="209" y="953"/>
                </a:lnTo>
                <a:lnTo>
                  <a:pt x="216" y="951"/>
                </a:lnTo>
                <a:lnTo>
                  <a:pt x="223" y="950"/>
                </a:lnTo>
                <a:lnTo>
                  <a:pt x="229" y="948"/>
                </a:lnTo>
                <a:lnTo>
                  <a:pt x="236" y="947"/>
                </a:lnTo>
                <a:lnTo>
                  <a:pt x="241" y="945"/>
                </a:lnTo>
                <a:lnTo>
                  <a:pt x="244" y="943"/>
                </a:lnTo>
                <a:lnTo>
                  <a:pt x="250" y="942"/>
                </a:lnTo>
                <a:lnTo>
                  <a:pt x="256" y="945"/>
                </a:lnTo>
                <a:lnTo>
                  <a:pt x="261" y="947"/>
                </a:lnTo>
                <a:lnTo>
                  <a:pt x="263" y="948"/>
                </a:lnTo>
                <a:lnTo>
                  <a:pt x="265" y="947"/>
                </a:lnTo>
                <a:lnTo>
                  <a:pt x="270" y="943"/>
                </a:lnTo>
                <a:lnTo>
                  <a:pt x="274" y="940"/>
                </a:lnTo>
                <a:lnTo>
                  <a:pt x="277" y="938"/>
                </a:lnTo>
                <a:lnTo>
                  <a:pt x="274" y="935"/>
                </a:lnTo>
                <a:lnTo>
                  <a:pt x="271" y="932"/>
                </a:lnTo>
                <a:lnTo>
                  <a:pt x="267" y="930"/>
                </a:lnTo>
                <a:lnTo>
                  <a:pt x="266" y="927"/>
                </a:lnTo>
                <a:lnTo>
                  <a:pt x="271" y="925"/>
                </a:lnTo>
                <a:lnTo>
                  <a:pt x="279" y="923"/>
                </a:lnTo>
                <a:lnTo>
                  <a:pt x="288" y="922"/>
                </a:lnTo>
                <a:lnTo>
                  <a:pt x="296" y="923"/>
                </a:lnTo>
                <a:lnTo>
                  <a:pt x="303" y="925"/>
                </a:lnTo>
                <a:lnTo>
                  <a:pt x="309" y="925"/>
                </a:lnTo>
                <a:lnTo>
                  <a:pt x="314" y="924"/>
                </a:lnTo>
                <a:lnTo>
                  <a:pt x="315" y="920"/>
                </a:lnTo>
                <a:lnTo>
                  <a:pt x="311" y="917"/>
                </a:lnTo>
                <a:lnTo>
                  <a:pt x="307" y="913"/>
                </a:lnTo>
                <a:lnTo>
                  <a:pt x="302" y="912"/>
                </a:lnTo>
                <a:lnTo>
                  <a:pt x="300" y="911"/>
                </a:lnTo>
                <a:lnTo>
                  <a:pt x="331" y="902"/>
                </a:lnTo>
                <a:lnTo>
                  <a:pt x="331" y="901"/>
                </a:lnTo>
                <a:lnTo>
                  <a:pt x="333" y="898"/>
                </a:lnTo>
                <a:lnTo>
                  <a:pt x="334" y="895"/>
                </a:lnTo>
                <a:lnTo>
                  <a:pt x="335" y="893"/>
                </a:lnTo>
                <a:lnTo>
                  <a:pt x="339" y="892"/>
                </a:lnTo>
                <a:lnTo>
                  <a:pt x="346" y="892"/>
                </a:lnTo>
                <a:lnTo>
                  <a:pt x="353" y="892"/>
                </a:lnTo>
                <a:lnTo>
                  <a:pt x="358" y="890"/>
                </a:lnTo>
                <a:lnTo>
                  <a:pt x="363" y="887"/>
                </a:lnTo>
                <a:lnTo>
                  <a:pt x="368" y="881"/>
                </a:lnTo>
                <a:lnTo>
                  <a:pt x="372" y="878"/>
                </a:lnTo>
                <a:lnTo>
                  <a:pt x="373" y="875"/>
                </a:lnTo>
                <a:lnTo>
                  <a:pt x="393" y="874"/>
                </a:lnTo>
                <a:lnTo>
                  <a:pt x="395" y="870"/>
                </a:lnTo>
                <a:lnTo>
                  <a:pt x="400" y="859"/>
                </a:lnTo>
                <a:lnTo>
                  <a:pt x="407" y="849"/>
                </a:lnTo>
                <a:lnTo>
                  <a:pt x="413" y="842"/>
                </a:lnTo>
                <a:lnTo>
                  <a:pt x="416" y="841"/>
                </a:lnTo>
                <a:lnTo>
                  <a:pt x="422" y="839"/>
                </a:lnTo>
                <a:lnTo>
                  <a:pt x="430" y="836"/>
                </a:lnTo>
                <a:lnTo>
                  <a:pt x="438" y="834"/>
                </a:lnTo>
                <a:lnTo>
                  <a:pt x="446" y="833"/>
                </a:lnTo>
                <a:lnTo>
                  <a:pt x="453" y="830"/>
                </a:lnTo>
                <a:lnTo>
                  <a:pt x="459" y="829"/>
                </a:lnTo>
                <a:lnTo>
                  <a:pt x="461" y="829"/>
                </a:lnTo>
                <a:lnTo>
                  <a:pt x="463" y="827"/>
                </a:lnTo>
                <a:lnTo>
                  <a:pt x="467" y="821"/>
                </a:lnTo>
                <a:lnTo>
                  <a:pt x="471" y="813"/>
                </a:lnTo>
                <a:lnTo>
                  <a:pt x="476" y="805"/>
                </a:lnTo>
                <a:lnTo>
                  <a:pt x="483" y="796"/>
                </a:lnTo>
                <a:lnTo>
                  <a:pt x="491" y="787"/>
                </a:lnTo>
                <a:lnTo>
                  <a:pt x="498" y="781"/>
                </a:lnTo>
                <a:lnTo>
                  <a:pt x="500" y="779"/>
                </a:lnTo>
                <a:lnTo>
                  <a:pt x="501" y="754"/>
                </a:lnTo>
                <a:lnTo>
                  <a:pt x="500" y="753"/>
                </a:lnTo>
                <a:lnTo>
                  <a:pt x="497" y="749"/>
                </a:lnTo>
                <a:lnTo>
                  <a:pt x="491" y="745"/>
                </a:lnTo>
                <a:lnTo>
                  <a:pt x="485" y="743"/>
                </a:lnTo>
                <a:lnTo>
                  <a:pt x="481" y="742"/>
                </a:lnTo>
                <a:lnTo>
                  <a:pt x="477" y="738"/>
                </a:lnTo>
                <a:lnTo>
                  <a:pt x="477" y="734"/>
                </a:lnTo>
                <a:lnTo>
                  <a:pt x="481" y="729"/>
                </a:lnTo>
                <a:lnTo>
                  <a:pt x="489" y="723"/>
                </a:lnTo>
                <a:lnTo>
                  <a:pt x="498" y="719"/>
                </a:lnTo>
                <a:lnTo>
                  <a:pt x="506" y="713"/>
                </a:lnTo>
                <a:lnTo>
                  <a:pt x="510" y="710"/>
                </a:lnTo>
                <a:lnTo>
                  <a:pt x="514" y="705"/>
                </a:lnTo>
                <a:lnTo>
                  <a:pt x="519" y="699"/>
                </a:lnTo>
                <a:lnTo>
                  <a:pt x="522" y="695"/>
                </a:lnTo>
                <a:lnTo>
                  <a:pt x="523" y="689"/>
                </a:lnTo>
                <a:lnTo>
                  <a:pt x="524" y="682"/>
                </a:lnTo>
                <a:lnTo>
                  <a:pt x="527" y="674"/>
                </a:lnTo>
                <a:lnTo>
                  <a:pt x="531" y="666"/>
                </a:lnTo>
                <a:lnTo>
                  <a:pt x="538" y="659"/>
                </a:lnTo>
                <a:lnTo>
                  <a:pt x="548" y="652"/>
                </a:lnTo>
                <a:lnTo>
                  <a:pt x="558" y="644"/>
                </a:lnTo>
                <a:lnTo>
                  <a:pt x="565" y="636"/>
                </a:lnTo>
                <a:lnTo>
                  <a:pt x="569" y="630"/>
                </a:lnTo>
                <a:lnTo>
                  <a:pt x="573" y="628"/>
                </a:lnTo>
                <a:lnTo>
                  <a:pt x="578" y="627"/>
                </a:lnTo>
                <a:lnTo>
                  <a:pt x="585" y="624"/>
                </a:lnTo>
                <a:lnTo>
                  <a:pt x="593" y="622"/>
                </a:lnTo>
                <a:lnTo>
                  <a:pt x="601" y="620"/>
                </a:lnTo>
                <a:lnTo>
                  <a:pt x="608" y="618"/>
                </a:lnTo>
                <a:lnTo>
                  <a:pt x="613" y="617"/>
                </a:lnTo>
                <a:lnTo>
                  <a:pt x="615" y="617"/>
                </a:lnTo>
                <a:lnTo>
                  <a:pt x="614" y="618"/>
                </a:lnTo>
                <a:lnTo>
                  <a:pt x="613" y="622"/>
                </a:lnTo>
                <a:lnTo>
                  <a:pt x="611" y="625"/>
                </a:lnTo>
                <a:lnTo>
                  <a:pt x="609" y="628"/>
                </a:lnTo>
                <a:lnTo>
                  <a:pt x="611" y="631"/>
                </a:lnTo>
                <a:lnTo>
                  <a:pt x="615" y="635"/>
                </a:lnTo>
                <a:lnTo>
                  <a:pt x="620" y="638"/>
                </a:lnTo>
                <a:lnTo>
                  <a:pt x="622" y="642"/>
                </a:lnTo>
                <a:lnTo>
                  <a:pt x="620" y="644"/>
                </a:lnTo>
                <a:lnTo>
                  <a:pt x="615" y="645"/>
                </a:lnTo>
                <a:lnTo>
                  <a:pt x="609" y="646"/>
                </a:lnTo>
                <a:lnTo>
                  <a:pt x="607" y="646"/>
                </a:lnTo>
                <a:lnTo>
                  <a:pt x="590" y="657"/>
                </a:lnTo>
                <a:lnTo>
                  <a:pt x="578" y="652"/>
                </a:lnTo>
                <a:lnTo>
                  <a:pt x="577" y="652"/>
                </a:lnTo>
                <a:lnTo>
                  <a:pt x="576" y="652"/>
                </a:lnTo>
                <a:lnTo>
                  <a:pt x="574" y="653"/>
                </a:lnTo>
                <a:lnTo>
                  <a:pt x="573" y="657"/>
                </a:lnTo>
                <a:lnTo>
                  <a:pt x="570" y="662"/>
                </a:lnTo>
                <a:lnTo>
                  <a:pt x="567" y="667"/>
                </a:lnTo>
                <a:lnTo>
                  <a:pt x="563" y="671"/>
                </a:lnTo>
                <a:lnTo>
                  <a:pt x="562" y="673"/>
                </a:lnTo>
                <a:lnTo>
                  <a:pt x="561" y="673"/>
                </a:lnTo>
                <a:lnTo>
                  <a:pt x="559" y="675"/>
                </a:lnTo>
                <a:lnTo>
                  <a:pt x="555" y="677"/>
                </a:lnTo>
                <a:lnTo>
                  <a:pt x="554" y="682"/>
                </a:lnTo>
                <a:lnTo>
                  <a:pt x="553" y="691"/>
                </a:lnTo>
                <a:lnTo>
                  <a:pt x="551" y="704"/>
                </a:lnTo>
                <a:lnTo>
                  <a:pt x="550" y="716"/>
                </a:lnTo>
                <a:lnTo>
                  <a:pt x="551" y="724"/>
                </a:lnTo>
                <a:lnTo>
                  <a:pt x="554" y="728"/>
                </a:lnTo>
                <a:lnTo>
                  <a:pt x="560" y="727"/>
                </a:lnTo>
                <a:lnTo>
                  <a:pt x="563" y="726"/>
                </a:lnTo>
                <a:lnTo>
                  <a:pt x="566" y="724"/>
                </a:lnTo>
                <a:lnTo>
                  <a:pt x="563" y="736"/>
                </a:lnTo>
                <a:lnTo>
                  <a:pt x="547" y="742"/>
                </a:lnTo>
                <a:lnTo>
                  <a:pt x="547" y="744"/>
                </a:lnTo>
                <a:lnTo>
                  <a:pt x="547" y="750"/>
                </a:lnTo>
                <a:lnTo>
                  <a:pt x="550" y="756"/>
                </a:lnTo>
                <a:lnTo>
                  <a:pt x="554" y="758"/>
                </a:lnTo>
                <a:lnTo>
                  <a:pt x="558" y="757"/>
                </a:lnTo>
                <a:lnTo>
                  <a:pt x="562" y="756"/>
                </a:lnTo>
                <a:lnTo>
                  <a:pt x="568" y="753"/>
                </a:lnTo>
                <a:lnTo>
                  <a:pt x="575" y="751"/>
                </a:lnTo>
                <a:lnTo>
                  <a:pt x="581" y="749"/>
                </a:lnTo>
                <a:lnTo>
                  <a:pt x="585" y="746"/>
                </a:lnTo>
                <a:lnTo>
                  <a:pt x="589" y="745"/>
                </a:lnTo>
                <a:lnTo>
                  <a:pt x="590" y="744"/>
                </a:lnTo>
                <a:lnTo>
                  <a:pt x="592" y="734"/>
                </a:lnTo>
                <a:lnTo>
                  <a:pt x="603" y="736"/>
                </a:lnTo>
                <a:lnTo>
                  <a:pt x="616" y="703"/>
                </a:lnTo>
                <a:lnTo>
                  <a:pt x="628" y="708"/>
                </a:lnTo>
                <a:lnTo>
                  <a:pt x="642" y="710"/>
                </a:lnTo>
                <a:lnTo>
                  <a:pt x="654" y="704"/>
                </a:lnTo>
                <a:lnTo>
                  <a:pt x="654" y="700"/>
                </a:lnTo>
                <a:lnTo>
                  <a:pt x="653" y="693"/>
                </a:lnTo>
                <a:lnTo>
                  <a:pt x="652" y="685"/>
                </a:lnTo>
                <a:lnTo>
                  <a:pt x="653" y="681"/>
                </a:lnTo>
                <a:lnTo>
                  <a:pt x="656" y="677"/>
                </a:lnTo>
                <a:lnTo>
                  <a:pt x="659" y="673"/>
                </a:lnTo>
                <a:lnTo>
                  <a:pt x="661" y="669"/>
                </a:lnTo>
                <a:lnTo>
                  <a:pt x="662" y="668"/>
                </a:lnTo>
                <a:lnTo>
                  <a:pt x="662" y="667"/>
                </a:lnTo>
                <a:lnTo>
                  <a:pt x="662" y="663"/>
                </a:lnTo>
                <a:lnTo>
                  <a:pt x="660" y="660"/>
                </a:lnTo>
                <a:lnTo>
                  <a:pt x="658" y="659"/>
                </a:lnTo>
                <a:lnTo>
                  <a:pt x="654" y="660"/>
                </a:lnTo>
                <a:lnTo>
                  <a:pt x="652" y="662"/>
                </a:lnTo>
                <a:lnTo>
                  <a:pt x="650" y="665"/>
                </a:lnTo>
                <a:lnTo>
                  <a:pt x="649" y="666"/>
                </a:lnTo>
                <a:lnTo>
                  <a:pt x="649" y="655"/>
                </a:lnTo>
                <a:lnTo>
                  <a:pt x="661" y="636"/>
                </a:lnTo>
                <a:lnTo>
                  <a:pt x="676" y="633"/>
                </a:lnTo>
                <a:lnTo>
                  <a:pt x="698" y="635"/>
                </a:lnTo>
                <a:lnTo>
                  <a:pt x="700" y="632"/>
                </a:lnTo>
                <a:lnTo>
                  <a:pt x="705" y="628"/>
                </a:lnTo>
                <a:lnTo>
                  <a:pt x="710" y="625"/>
                </a:lnTo>
                <a:lnTo>
                  <a:pt x="713" y="629"/>
                </a:lnTo>
                <a:lnTo>
                  <a:pt x="713" y="637"/>
                </a:lnTo>
                <a:lnTo>
                  <a:pt x="712" y="645"/>
                </a:lnTo>
                <a:lnTo>
                  <a:pt x="711" y="652"/>
                </a:lnTo>
                <a:lnTo>
                  <a:pt x="711" y="654"/>
                </a:lnTo>
                <a:lnTo>
                  <a:pt x="727" y="667"/>
                </a:lnTo>
                <a:lnTo>
                  <a:pt x="758" y="675"/>
                </a:lnTo>
                <a:lnTo>
                  <a:pt x="759" y="680"/>
                </a:lnTo>
                <a:lnTo>
                  <a:pt x="763" y="689"/>
                </a:lnTo>
                <a:lnTo>
                  <a:pt x="767" y="699"/>
                </a:lnTo>
                <a:lnTo>
                  <a:pt x="771" y="704"/>
                </a:lnTo>
                <a:lnTo>
                  <a:pt x="773" y="704"/>
                </a:lnTo>
                <a:lnTo>
                  <a:pt x="779" y="704"/>
                </a:lnTo>
                <a:lnTo>
                  <a:pt x="785" y="705"/>
                </a:lnTo>
                <a:lnTo>
                  <a:pt x="791" y="705"/>
                </a:lnTo>
                <a:lnTo>
                  <a:pt x="798" y="705"/>
                </a:lnTo>
                <a:lnTo>
                  <a:pt x="804" y="706"/>
                </a:lnTo>
                <a:lnTo>
                  <a:pt x="809" y="706"/>
                </a:lnTo>
                <a:lnTo>
                  <a:pt x="810" y="706"/>
                </a:lnTo>
                <a:lnTo>
                  <a:pt x="836" y="690"/>
                </a:lnTo>
                <a:lnTo>
                  <a:pt x="839" y="693"/>
                </a:lnTo>
                <a:lnTo>
                  <a:pt x="846" y="700"/>
                </a:lnTo>
                <a:lnTo>
                  <a:pt x="854" y="708"/>
                </a:lnTo>
                <a:lnTo>
                  <a:pt x="859" y="712"/>
                </a:lnTo>
                <a:lnTo>
                  <a:pt x="863" y="712"/>
                </a:lnTo>
                <a:lnTo>
                  <a:pt x="867" y="713"/>
                </a:lnTo>
                <a:lnTo>
                  <a:pt x="873" y="713"/>
                </a:lnTo>
                <a:lnTo>
                  <a:pt x="879" y="713"/>
                </a:lnTo>
                <a:lnTo>
                  <a:pt x="885" y="714"/>
                </a:lnTo>
                <a:lnTo>
                  <a:pt x="889" y="714"/>
                </a:lnTo>
                <a:lnTo>
                  <a:pt x="893" y="714"/>
                </a:lnTo>
                <a:lnTo>
                  <a:pt x="894" y="714"/>
                </a:lnTo>
                <a:lnTo>
                  <a:pt x="896" y="713"/>
                </a:lnTo>
                <a:lnTo>
                  <a:pt x="901" y="710"/>
                </a:lnTo>
                <a:lnTo>
                  <a:pt x="907" y="706"/>
                </a:lnTo>
                <a:lnTo>
                  <a:pt x="912" y="703"/>
                </a:lnTo>
                <a:lnTo>
                  <a:pt x="918" y="700"/>
                </a:lnTo>
                <a:lnTo>
                  <a:pt x="925" y="701"/>
                </a:lnTo>
                <a:lnTo>
                  <a:pt x="930" y="704"/>
                </a:lnTo>
                <a:lnTo>
                  <a:pt x="931" y="707"/>
                </a:lnTo>
                <a:lnTo>
                  <a:pt x="928" y="711"/>
                </a:lnTo>
                <a:lnTo>
                  <a:pt x="925" y="712"/>
                </a:lnTo>
                <a:lnTo>
                  <a:pt x="923" y="713"/>
                </a:lnTo>
                <a:lnTo>
                  <a:pt x="922" y="713"/>
                </a:lnTo>
                <a:lnTo>
                  <a:pt x="917" y="711"/>
                </a:lnTo>
                <a:lnTo>
                  <a:pt x="917" y="713"/>
                </a:lnTo>
                <a:lnTo>
                  <a:pt x="916" y="719"/>
                </a:lnTo>
                <a:lnTo>
                  <a:pt x="916" y="724"/>
                </a:lnTo>
                <a:lnTo>
                  <a:pt x="918" y="728"/>
                </a:lnTo>
                <a:lnTo>
                  <a:pt x="922" y="730"/>
                </a:lnTo>
                <a:lnTo>
                  <a:pt x="925" y="733"/>
                </a:lnTo>
                <a:lnTo>
                  <a:pt x="931" y="736"/>
                </a:lnTo>
                <a:lnTo>
                  <a:pt x="937" y="737"/>
                </a:lnTo>
                <a:lnTo>
                  <a:pt x="942" y="739"/>
                </a:lnTo>
                <a:lnTo>
                  <a:pt x="947" y="745"/>
                </a:lnTo>
                <a:lnTo>
                  <a:pt x="950" y="752"/>
                </a:lnTo>
                <a:lnTo>
                  <a:pt x="952" y="758"/>
                </a:lnTo>
                <a:lnTo>
                  <a:pt x="953" y="760"/>
                </a:lnTo>
                <a:lnTo>
                  <a:pt x="956" y="764"/>
                </a:lnTo>
                <a:lnTo>
                  <a:pt x="961" y="767"/>
                </a:lnTo>
                <a:lnTo>
                  <a:pt x="965" y="772"/>
                </a:lnTo>
                <a:lnTo>
                  <a:pt x="971" y="776"/>
                </a:lnTo>
                <a:lnTo>
                  <a:pt x="978" y="781"/>
                </a:lnTo>
                <a:lnTo>
                  <a:pt x="985" y="786"/>
                </a:lnTo>
                <a:lnTo>
                  <a:pt x="991" y="790"/>
                </a:lnTo>
                <a:lnTo>
                  <a:pt x="998" y="794"/>
                </a:lnTo>
                <a:lnTo>
                  <a:pt x="1004" y="798"/>
                </a:lnTo>
                <a:lnTo>
                  <a:pt x="1011" y="802"/>
                </a:lnTo>
                <a:lnTo>
                  <a:pt x="1019" y="805"/>
                </a:lnTo>
                <a:lnTo>
                  <a:pt x="1026" y="809"/>
                </a:lnTo>
                <a:lnTo>
                  <a:pt x="1033" y="810"/>
                </a:lnTo>
                <a:lnTo>
                  <a:pt x="1038" y="811"/>
                </a:lnTo>
                <a:lnTo>
                  <a:pt x="1042" y="810"/>
                </a:lnTo>
                <a:lnTo>
                  <a:pt x="1046" y="804"/>
                </a:lnTo>
                <a:lnTo>
                  <a:pt x="1046" y="796"/>
                </a:lnTo>
                <a:lnTo>
                  <a:pt x="1042" y="789"/>
                </a:lnTo>
                <a:lnTo>
                  <a:pt x="1041" y="786"/>
                </a:lnTo>
                <a:lnTo>
                  <a:pt x="1063" y="801"/>
                </a:lnTo>
                <a:lnTo>
                  <a:pt x="1064" y="801"/>
                </a:lnTo>
                <a:lnTo>
                  <a:pt x="1067" y="801"/>
                </a:lnTo>
                <a:lnTo>
                  <a:pt x="1069" y="799"/>
                </a:lnTo>
                <a:lnTo>
                  <a:pt x="1070" y="796"/>
                </a:lnTo>
                <a:lnTo>
                  <a:pt x="1066" y="789"/>
                </a:lnTo>
                <a:lnTo>
                  <a:pt x="1059" y="779"/>
                </a:lnTo>
                <a:lnTo>
                  <a:pt x="1051" y="769"/>
                </a:lnTo>
                <a:lnTo>
                  <a:pt x="1049" y="764"/>
                </a:lnTo>
                <a:lnTo>
                  <a:pt x="1054" y="764"/>
                </a:lnTo>
                <a:lnTo>
                  <a:pt x="1061" y="768"/>
                </a:lnTo>
                <a:lnTo>
                  <a:pt x="1068" y="775"/>
                </a:lnTo>
                <a:lnTo>
                  <a:pt x="1072" y="781"/>
                </a:lnTo>
                <a:lnTo>
                  <a:pt x="1075" y="787"/>
                </a:lnTo>
                <a:lnTo>
                  <a:pt x="1078" y="794"/>
                </a:lnTo>
                <a:lnTo>
                  <a:pt x="1084" y="799"/>
                </a:lnTo>
                <a:lnTo>
                  <a:pt x="1095" y="804"/>
                </a:lnTo>
                <a:lnTo>
                  <a:pt x="1107" y="806"/>
                </a:lnTo>
                <a:lnTo>
                  <a:pt x="1112" y="807"/>
                </a:lnTo>
                <a:lnTo>
                  <a:pt x="1114" y="807"/>
                </a:lnTo>
                <a:lnTo>
                  <a:pt x="1114" y="807"/>
                </a:lnTo>
                <a:lnTo>
                  <a:pt x="1117" y="826"/>
                </a:lnTo>
                <a:lnTo>
                  <a:pt x="1115" y="835"/>
                </a:lnTo>
                <a:lnTo>
                  <a:pt x="1117" y="836"/>
                </a:lnTo>
                <a:lnTo>
                  <a:pt x="1122" y="841"/>
                </a:lnTo>
                <a:lnTo>
                  <a:pt x="1128" y="845"/>
                </a:lnTo>
                <a:lnTo>
                  <a:pt x="1132" y="849"/>
                </a:lnTo>
                <a:lnTo>
                  <a:pt x="1136" y="851"/>
                </a:lnTo>
                <a:lnTo>
                  <a:pt x="1139" y="854"/>
                </a:lnTo>
                <a:lnTo>
                  <a:pt x="1143" y="854"/>
                </a:lnTo>
                <a:lnTo>
                  <a:pt x="1146" y="852"/>
                </a:lnTo>
                <a:lnTo>
                  <a:pt x="1148" y="852"/>
                </a:lnTo>
                <a:lnTo>
                  <a:pt x="1154" y="855"/>
                </a:lnTo>
                <a:lnTo>
                  <a:pt x="1161" y="859"/>
                </a:lnTo>
                <a:lnTo>
                  <a:pt x="1168" y="865"/>
                </a:lnTo>
                <a:lnTo>
                  <a:pt x="1176" y="871"/>
                </a:lnTo>
                <a:lnTo>
                  <a:pt x="1183" y="878"/>
                </a:lnTo>
                <a:lnTo>
                  <a:pt x="1188" y="882"/>
                </a:lnTo>
                <a:lnTo>
                  <a:pt x="1191" y="886"/>
                </a:lnTo>
                <a:lnTo>
                  <a:pt x="1194" y="892"/>
                </a:lnTo>
                <a:lnTo>
                  <a:pt x="1199" y="897"/>
                </a:lnTo>
                <a:lnTo>
                  <a:pt x="1203" y="904"/>
                </a:lnTo>
                <a:lnTo>
                  <a:pt x="1205" y="910"/>
                </a:lnTo>
                <a:lnTo>
                  <a:pt x="1206" y="915"/>
                </a:lnTo>
                <a:lnTo>
                  <a:pt x="1209" y="919"/>
                </a:lnTo>
                <a:lnTo>
                  <a:pt x="1212" y="922"/>
                </a:lnTo>
                <a:lnTo>
                  <a:pt x="1214" y="919"/>
                </a:lnTo>
                <a:lnTo>
                  <a:pt x="1215" y="913"/>
                </a:lnTo>
                <a:lnTo>
                  <a:pt x="1216" y="908"/>
                </a:lnTo>
                <a:lnTo>
                  <a:pt x="1219" y="903"/>
                </a:lnTo>
                <a:lnTo>
                  <a:pt x="1222" y="902"/>
                </a:lnTo>
                <a:lnTo>
                  <a:pt x="1228" y="902"/>
                </a:lnTo>
                <a:lnTo>
                  <a:pt x="1235" y="904"/>
                </a:lnTo>
                <a:lnTo>
                  <a:pt x="1241" y="908"/>
                </a:lnTo>
                <a:lnTo>
                  <a:pt x="1243" y="912"/>
                </a:lnTo>
                <a:lnTo>
                  <a:pt x="1245" y="924"/>
                </a:lnTo>
                <a:lnTo>
                  <a:pt x="1249" y="941"/>
                </a:lnTo>
                <a:lnTo>
                  <a:pt x="1253" y="956"/>
                </a:lnTo>
                <a:lnTo>
                  <a:pt x="1254" y="963"/>
                </a:lnTo>
                <a:lnTo>
                  <a:pt x="1272" y="965"/>
                </a:lnTo>
                <a:lnTo>
                  <a:pt x="1273" y="961"/>
                </a:lnTo>
                <a:lnTo>
                  <a:pt x="1276" y="949"/>
                </a:lnTo>
                <a:lnTo>
                  <a:pt x="1280" y="936"/>
                </a:lnTo>
                <a:lnTo>
                  <a:pt x="1280" y="926"/>
                </a:lnTo>
                <a:lnTo>
                  <a:pt x="1275" y="913"/>
                </a:lnTo>
                <a:lnTo>
                  <a:pt x="1265" y="895"/>
                </a:lnTo>
                <a:lnTo>
                  <a:pt x="1254" y="879"/>
                </a:lnTo>
                <a:lnTo>
                  <a:pt x="1250" y="872"/>
                </a:lnTo>
                <a:lnTo>
                  <a:pt x="1249" y="872"/>
                </a:lnTo>
                <a:lnTo>
                  <a:pt x="1245" y="872"/>
                </a:lnTo>
                <a:lnTo>
                  <a:pt x="1241" y="872"/>
                </a:lnTo>
                <a:lnTo>
                  <a:pt x="1235" y="872"/>
                </a:lnTo>
                <a:lnTo>
                  <a:pt x="1229" y="872"/>
                </a:lnTo>
                <a:lnTo>
                  <a:pt x="1223" y="871"/>
                </a:lnTo>
                <a:lnTo>
                  <a:pt x="1219" y="870"/>
                </a:lnTo>
                <a:lnTo>
                  <a:pt x="1215" y="869"/>
                </a:lnTo>
                <a:lnTo>
                  <a:pt x="1212" y="865"/>
                </a:lnTo>
                <a:lnTo>
                  <a:pt x="1206" y="858"/>
                </a:lnTo>
                <a:lnTo>
                  <a:pt x="1199" y="849"/>
                </a:lnTo>
                <a:lnTo>
                  <a:pt x="1191" y="839"/>
                </a:lnTo>
                <a:lnTo>
                  <a:pt x="1183" y="828"/>
                </a:lnTo>
                <a:lnTo>
                  <a:pt x="1176" y="820"/>
                </a:lnTo>
                <a:lnTo>
                  <a:pt x="1170" y="814"/>
                </a:lnTo>
                <a:lnTo>
                  <a:pt x="1167" y="812"/>
                </a:lnTo>
                <a:lnTo>
                  <a:pt x="1163" y="810"/>
                </a:lnTo>
                <a:lnTo>
                  <a:pt x="1158" y="805"/>
                </a:lnTo>
                <a:lnTo>
                  <a:pt x="1151" y="798"/>
                </a:lnTo>
                <a:lnTo>
                  <a:pt x="1143" y="789"/>
                </a:lnTo>
                <a:lnTo>
                  <a:pt x="1135" y="781"/>
                </a:lnTo>
                <a:lnTo>
                  <a:pt x="1128" y="772"/>
                </a:lnTo>
                <a:lnTo>
                  <a:pt x="1122" y="766"/>
                </a:lnTo>
                <a:lnTo>
                  <a:pt x="1120" y="761"/>
                </a:lnTo>
                <a:lnTo>
                  <a:pt x="1117" y="758"/>
                </a:lnTo>
                <a:lnTo>
                  <a:pt x="1113" y="751"/>
                </a:lnTo>
                <a:lnTo>
                  <a:pt x="1106" y="744"/>
                </a:lnTo>
                <a:lnTo>
                  <a:pt x="1098" y="736"/>
                </a:lnTo>
                <a:lnTo>
                  <a:pt x="1090" y="728"/>
                </a:lnTo>
                <a:lnTo>
                  <a:pt x="1083" y="721"/>
                </a:lnTo>
                <a:lnTo>
                  <a:pt x="1077" y="716"/>
                </a:lnTo>
                <a:lnTo>
                  <a:pt x="1074" y="715"/>
                </a:lnTo>
                <a:lnTo>
                  <a:pt x="1068" y="711"/>
                </a:lnTo>
                <a:lnTo>
                  <a:pt x="1059" y="699"/>
                </a:lnTo>
                <a:lnTo>
                  <a:pt x="1049" y="688"/>
                </a:lnTo>
                <a:lnTo>
                  <a:pt x="1046" y="682"/>
                </a:lnTo>
                <a:lnTo>
                  <a:pt x="1007" y="722"/>
                </a:lnTo>
                <a:lnTo>
                  <a:pt x="1010" y="729"/>
                </a:lnTo>
                <a:lnTo>
                  <a:pt x="995" y="741"/>
                </a:lnTo>
                <a:lnTo>
                  <a:pt x="973" y="713"/>
                </a:lnTo>
                <a:lnTo>
                  <a:pt x="957" y="695"/>
                </a:lnTo>
                <a:lnTo>
                  <a:pt x="954" y="695"/>
                </a:lnTo>
                <a:lnTo>
                  <a:pt x="946" y="695"/>
                </a:lnTo>
                <a:lnTo>
                  <a:pt x="938" y="692"/>
                </a:lnTo>
                <a:lnTo>
                  <a:pt x="933" y="689"/>
                </a:lnTo>
                <a:lnTo>
                  <a:pt x="932" y="682"/>
                </a:lnTo>
                <a:lnTo>
                  <a:pt x="933" y="674"/>
                </a:lnTo>
                <a:lnTo>
                  <a:pt x="931" y="667"/>
                </a:lnTo>
                <a:lnTo>
                  <a:pt x="925" y="66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879560" y="2054160"/>
            <a:ext cx="2324160" cy="1022400"/>
            <a:chOff x="1879560" y="2054160"/>
            <a:chExt cx="2324160" cy="1022400"/>
          </a:xfrm>
        </p:grpSpPr>
        <p:sp>
          <p:nvSpPr>
            <p:cNvPr id="433" name=""/>
            <p:cNvSpPr/>
            <p:nvPr/>
          </p:nvSpPr>
          <p:spPr>
            <a:xfrm>
              <a:off x="2055960" y="2054160"/>
              <a:ext cx="799920" cy="487440"/>
            </a:xfrm>
            <a:custGeom>
              <a:avLst/>
              <a:gdLst/>
              <a:ahLst/>
              <a:rect l="l" t="t" r="r" b="b"/>
              <a:pathLst>
                <a:path w="1148" h="693">
                  <a:moveTo>
                    <a:pt x="29" y="24"/>
                  </a:moveTo>
                  <a:lnTo>
                    <a:pt x="0" y="544"/>
                  </a:lnTo>
                  <a:lnTo>
                    <a:pt x="200" y="544"/>
                  </a:lnTo>
                  <a:lnTo>
                    <a:pt x="293" y="693"/>
                  </a:lnTo>
                  <a:lnTo>
                    <a:pt x="1076" y="693"/>
                  </a:lnTo>
                  <a:lnTo>
                    <a:pt x="1052" y="661"/>
                  </a:lnTo>
                  <a:lnTo>
                    <a:pt x="1148" y="0"/>
                  </a:lnTo>
                  <a:lnTo>
                    <a:pt x="213" y="0"/>
                  </a:lnTo>
                  <a:lnTo>
                    <a:pt x="182" y="115"/>
                  </a:lnTo>
                  <a:lnTo>
                    <a:pt x="29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7f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79560" y="2435400"/>
              <a:ext cx="974880" cy="637920"/>
            </a:xfrm>
            <a:custGeom>
              <a:avLst/>
              <a:gdLst/>
              <a:ahLst/>
              <a:rect l="l" t="t" r="r" b="b"/>
              <a:pathLst>
                <a:path w="1397" h="906">
                  <a:moveTo>
                    <a:pt x="253" y="0"/>
                  </a:moveTo>
                  <a:lnTo>
                    <a:pt x="241" y="223"/>
                  </a:lnTo>
                  <a:lnTo>
                    <a:pt x="87" y="541"/>
                  </a:lnTo>
                  <a:lnTo>
                    <a:pt x="0" y="906"/>
                  </a:lnTo>
                  <a:lnTo>
                    <a:pt x="1212" y="906"/>
                  </a:lnTo>
                  <a:lnTo>
                    <a:pt x="1236" y="497"/>
                  </a:lnTo>
                  <a:lnTo>
                    <a:pt x="1397" y="233"/>
                  </a:lnTo>
                  <a:lnTo>
                    <a:pt x="1332" y="149"/>
                  </a:lnTo>
                  <a:lnTo>
                    <a:pt x="546" y="145"/>
                  </a:lnTo>
                  <a:lnTo>
                    <a:pt x="453" y="0"/>
                  </a:lnTo>
                  <a:lnTo>
                    <a:pt x="253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7f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2680" y="2054160"/>
              <a:ext cx="690480" cy="1022400"/>
            </a:xfrm>
            <a:custGeom>
              <a:avLst/>
              <a:gdLst/>
              <a:ahLst/>
              <a:rect l="l" t="t" r="r" b="b"/>
              <a:pathLst>
                <a:path w="989" h="1453">
                  <a:moveTo>
                    <a:pt x="187" y="0"/>
                  </a:moveTo>
                  <a:lnTo>
                    <a:pt x="89" y="661"/>
                  </a:lnTo>
                  <a:lnTo>
                    <a:pt x="184" y="777"/>
                  </a:lnTo>
                  <a:lnTo>
                    <a:pt x="24" y="1039"/>
                  </a:lnTo>
                  <a:lnTo>
                    <a:pt x="0" y="1450"/>
                  </a:lnTo>
                  <a:lnTo>
                    <a:pt x="966" y="1453"/>
                  </a:lnTo>
                  <a:lnTo>
                    <a:pt x="989" y="1043"/>
                  </a:lnTo>
                  <a:lnTo>
                    <a:pt x="739" y="1072"/>
                  </a:lnTo>
                  <a:lnTo>
                    <a:pt x="572" y="779"/>
                  </a:lnTo>
                  <a:lnTo>
                    <a:pt x="483" y="803"/>
                  </a:lnTo>
                  <a:lnTo>
                    <a:pt x="555" y="513"/>
                  </a:lnTo>
                  <a:lnTo>
                    <a:pt x="297" y="336"/>
                  </a:lnTo>
                  <a:lnTo>
                    <a:pt x="347" y="3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7f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28960" y="2054160"/>
              <a:ext cx="1274760" cy="755640"/>
            </a:xfrm>
            <a:custGeom>
              <a:avLst/>
              <a:gdLst/>
              <a:ahLst/>
              <a:rect l="l" t="t" r="r" b="b"/>
              <a:pathLst>
                <a:path w="1827" h="1076">
                  <a:moveTo>
                    <a:pt x="50" y="0"/>
                  </a:moveTo>
                  <a:lnTo>
                    <a:pt x="0" y="340"/>
                  </a:lnTo>
                  <a:lnTo>
                    <a:pt x="260" y="515"/>
                  </a:lnTo>
                  <a:lnTo>
                    <a:pt x="188" y="803"/>
                  </a:lnTo>
                  <a:lnTo>
                    <a:pt x="279" y="782"/>
                  </a:lnTo>
                  <a:lnTo>
                    <a:pt x="444" y="1076"/>
                  </a:lnTo>
                  <a:lnTo>
                    <a:pt x="694" y="1043"/>
                  </a:lnTo>
                  <a:lnTo>
                    <a:pt x="701" y="953"/>
                  </a:lnTo>
                  <a:lnTo>
                    <a:pt x="1827" y="951"/>
                  </a:lnTo>
                  <a:lnTo>
                    <a:pt x="1827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f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850840" y="27241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59080" y="2219400"/>
            <a:ext cx="37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93880" y="14670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46680" y="270504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56360" y="22860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05240" y="339084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08600" y="35146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63080" y="42670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13840" y="355284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74480" y="4822920"/>
            <a:ext cx="60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East T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701480" y="525780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Mia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97560" y="4962600"/>
            <a:ext cx="3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F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05040" y="3232080"/>
            <a:ext cx="52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o.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5280" y="40672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o.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57120" y="4317840"/>
            <a:ext cx="101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Los Ange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8680" y="3457440"/>
            <a:ext cx="11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an Francis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80240" y="2927520"/>
            <a:ext cx="50760" cy="110880"/>
          </a:xfrm>
          <a:custGeom>
            <a:avLst/>
            <a:gdLst/>
            <a:ahLst/>
            <a:rect l="l" t="t" r="r" b="b"/>
            <a:pathLst>
              <a:path w="32" h="70">
                <a:moveTo>
                  <a:pt x="0" y="0"/>
                </a:moveTo>
                <a:lnTo>
                  <a:pt x="32" y="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57120" y="58071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H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85760" y="5407200"/>
            <a:ext cx="78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Honolul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49000" y="3357720"/>
            <a:ext cx="1342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Washington, D.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474360" y="495000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El Pa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75880" y="5199120"/>
            <a:ext cx="74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Hous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41520" y="2797200"/>
            <a:ext cx="6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Newa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19000" y="25718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New Y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166600" y="2232000"/>
            <a:ext cx="662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Bos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8064360" y="5719680"/>
            <a:ext cx="768600" cy="412920"/>
            <a:chOff x="8064360" y="5719680"/>
            <a:chExt cx="768600" cy="412920"/>
          </a:xfrm>
        </p:grpSpPr>
        <p:sp>
          <p:nvSpPr>
            <p:cNvPr id="463" name=""/>
            <p:cNvSpPr/>
            <p:nvPr/>
          </p:nvSpPr>
          <p:spPr>
            <a:xfrm>
              <a:off x="8064360" y="5796000"/>
              <a:ext cx="560520" cy="304920"/>
            </a:xfrm>
            <a:custGeom>
              <a:avLst/>
              <a:gdLst/>
              <a:ahLst/>
              <a:rect l="l" t="t" r="r" b="b"/>
              <a:pathLst>
                <a:path w="321" h="252">
                  <a:moveTo>
                    <a:pt x="256" y="158"/>
                  </a:moveTo>
                  <a:lnTo>
                    <a:pt x="257" y="156"/>
                  </a:lnTo>
                  <a:lnTo>
                    <a:pt x="259" y="151"/>
                  </a:lnTo>
                  <a:lnTo>
                    <a:pt x="265" y="146"/>
                  </a:lnTo>
                  <a:lnTo>
                    <a:pt x="272" y="142"/>
                  </a:lnTo>
                  <a:lnTo>
                    <a:pt x="280" y="138"/>
                  </a:lnTo>
                  <a:lnTo>
                    <a:pt x="288" y="135"/>
                  </a:lnTo>
                  <a:lnTo>
                    <a:pt x="294" y="130"/>
                  </a:lnTo>
                  <a:lnTo>
                    <a:pt x="298" y="123"/>
                  </a:lnTo>
                  <a:lnTo>
                    <a:pt x="302" y="118"/>
                  </a:lnTo>
                  <a:lnTo>
                    <a:pt x="305" y="115"/>
                  </a:lnTo>
                  <a:lnTo>
                    <a:pt x="309" y="112"/>
                  </a:lnTo>
                  <a:lnTo>
                    <a:pt x="311" y="105"/>
                  </a:lnTo>
                  <a:lnTo>
                    <a:pt x="313" y="98"/>
                  </a:lnTo>
                  <a:lnTo>
                    <a:pt x="315" y="94"/>
                  </a:lnTo>
                  <a:lnTo>
                    <a:pt x="319" y="92"/>
                  </a:lnTo>
                  <a:lnTo>
                    <a:pt x="321" y="89"/>
                  </a:lnTo>
                  <a:lnTo>
                    <a:pt x="321" y="84"/>
                  </a:lnTo>
                  <a:lnTo>
                    <a:pt x="321" y="82"/>
                  </a:lnTo>
                  <a:lnTo>
                    <a:pt x="319" y="82"/>
                  </a:lnTo>
                  <a:lnTo>
                    <a:pt x="315" y="80"/>
                  </a:lnTo>
                  <a:lnTo>
                    <a:pt x="311" y="77"/>
                  </a:lnTo>
                  <a:lnTo>
                    <a:pt x="307" y="75"/>
                  </a:lnTo>
                  <a:lnTo>
                    <a:pt x="306" y="73"/>
                  </a:lnTo>
                  <a:lnTo>
                    <a:pt x="306" y="71"/>
                  </a:lnTo>
                  <a:lnTo>
                    <a:pt x="305" y="70"/>
                  </a:lnTo>
                  <a:lnTo>
                    <a:pt x="303" y="67"/>
                  </a:lnTo>
                  <a:lnTo>
                    <a:pt x="298" y="66"/>
                  </a:lnTo>
                  <a:lnTo>
                    <a:pt x="295" y="68"/>
                  </a:lnTo>
                  <a:lnTo>
                    <a:pt x="291" y="71"/>
                  </a:lnTo>
                  <a:lnTo>
                    <a:pt x="289" y="73"/>
                  </a:lnTo>
                  <a:lnTo>
                    <a:pt x="288" y="71"/>
                  </a:lnTo>
                  <a:lnTo>
                    <a:pt x="286" y="68"/>
                  </a:lnTo>
                  <a:lnTo>
                    <a:pt x="286" y="63"/>
                  </a:lnTo>
                  <a:lnTo>
                    <a:pt x="286" y="59"/>
                  </a:lnTo>
                  <a:lnTo>
                    <a:pt x="286" y="56"/>
                  </a:lnTo>
                  <a:lnTo>
                    <a:pt x="282" y="54"/>
                  </a:lnTo>
                  <a:lnTo>
                    <a:pt x="277" y="52"/>
                  </a:lnTo>
                  <a:lnTo>
                    <a:pt x="275" y="50"/>
                  </a:lnTo>
                  <a:lnTo>
                    <a:pt x="274" y="45"/>
                  </a:lnTo>
                  <a:lnTo>
                    <a:pt x="273" y="38"/>
                  </a:lnTo>
                  <a:lnTo>
                    <a:pt x="272" y="31"/>
                  </a:lnTo>
                  <a:lnTo>
                    <a:pt x="272" y="27"/>
                  </a:lnTo>
                  <a:lnTo>
                    <a:pt x="269" y="24"/>
                  </a:lnTo>
                  <a:lnTo>
                    <a:pt x="265" y="23"/>
                  </a:lnTo>
                  <a:lnTo>
                    <a:pt x="259" y="24"/>
                  </a:lnTo>
                  <a:lnTo>
                    <a:pt x="257" y="27"/>
                  </a:lnTo>
                  <a:lnTo>
                    <a:pt x="254" y="29"/>
                  </a:lnTo>
                  <a:lnTo>
                    <a:pt x="251" y="28"/>
                  </a:lnTo>
                  <a:lnTo>
                    <a:pt x="248" y="23"/>
                  </a:lnTo>
                  <a:lnTo>
                    <a:pt x="246" y="18"/>
                  </a:lnTo>
                  <a:lnTo>
                    <a:pt x="245" y="16"/>
                  </a:lnTo>
                  <a:lnTo>
                    <a:pt x="243" y="16"/>
                  </a:lnTo>
                  <a:lnTo>
                    <a:pt x="242" y="18"/>
                  </a:lnTo>
                  <a:lnTo>
                    <a:pt x="242" y="21"/>
                  </a:lnTo>
                  <a:lnTo>
                    <a:pt x="242" y="22"/>
                  </a:lnTo>
                  <a:lnTo>
                    <a:pt x="238" y="18"/>
                  </a:lnTo>
                  <a:lnTo>
                    <a:pt x="235" y="15"/>
                  </a:lnTo>
                  <a:lnTo>
                    <a:pt x="234" y="14"/>
                  </a:lnTo>
                  <a:lnTo>
                    <a:pt x="233" y="13"/>
                  </a:lnTo>
                  <a:lnTo>
                    <a:pt x="226" y="9"/>
                  </a:lnTo>
                  <a:lnTo>
                    <a:pt x="220" y="5"/>
                  </a:lnTo>
                  <a:lnTo>
                    <a:pt x="215" y="2"/>
                  </a:lnTo>
                  <a:lnTo>
                    <a:pt x="211" y="0"/>
                  </a:lnTo>
                  <a:lnTo>
                    <a:pt x="207" y="0"/>
                  </a:lnTo>
                  <a:lnTo>
                    <a:pt x="205" y="0"/>
                  </a:lnTo>
                  <a:lnTo>
                    <a:pt x="203" y="1"/>
                  </a:lnTo>
                  <a:lnTo>
                    <a:pt x="200" y="2"/>
                  </a:lnTo>
                  <a:lnTo>
                    <a:pt x="198" y="3"/>
                  </a:lnTo>
                  <a:lnTo>
                    <a:pt x="193" y="6"/>
                  </a:lnTo>
                  <a:lnTo>
                    <a:pt x="189" y="7"/>
                  </a:lnTo>
                  <a:lnTo>
                    <a:pt x="184" y="9"/>
                  </a:lnTo>
                  <a:lnTo>
                    <a:pt x="180" y="12"/>
                  </a:lnTo>
                  <a:lnTo>
                    <a:pt x="175" y="13"/>
                  </a:lnTo>
                  <a:lnTo>
                    <a:pt x="170" y="15"/>
                  </a:lnTo>
                  <a:lnTo>
                    <a:pt x="167" y="18"/>
                  </a:lnTo>
                  <a:lnTo>
                    <a:pt x="163" y="21"/>
                  </a:lnTo>
                  <a:lnTo>
                    <a:pt x="158" y="25"/>
                  </a:lnTo>
                  <a:lnTo>
                    <a:pt x="154" y="30"/>
                  </a:lnTo>
                  <a:lnTo>
                    <a:pt x="151" y="32"/>
                  </a:lnTo>
                  <a:lnTo>
                    <a:pt x="144" y="33"/>
                  </a:lnTo>
                  <a:lnTo>
                    <a:pt x="137" y="33"/>
                  </a:lnTo>
                  <a:lnTo>
                    <a:pt x="132" y="32"/>
                  </a:lnTo>
                  <a:lnTo>
                    <a:pt x="129" y="33"/>
                  </a:lnTo>
                  <a:lnTo>
                    <a:pt x="125" y="37"/>
                  </a:lnTo>
                  <a:lnTo>
                    <a:pt x="121" y="41"/>
                  </a:lnTo>
                  <a:lnTo>
                    <a:pt x="114" y="46"/>
                  </a:lnTo>
                  <a:lnTo>
                    <a:pt x="106" y="50"/>
                  </a:lnTo>
                  <a:lnTo>
                    <a:pt x="101" y="52"/>
                  </a:lnTo>
                  <a:lnTo>
                    <a:pt x="100" y="56"/>
                  </a:lnTo>
                  <a:lnTo>
                    <a:pt x="101" y="62"/>
                  </a:lnTo>
                  <a:lnTo>
                    <a:pt x="100" y="67"/>
                  </a:lnTo>
                  <a:lnTo>
                    <a:pt x="96" y="67"/>
                  </a:lnTo>
                  <a:lnTo>
                    <a:pt x="89" y="65"/>
                  </a:lnTo>
                  <a:lnTo>
                    <a:pt x="83" y="63"/>
                  </a:lnTo>
                  <a:lnTo>
                    <a:pt x="79" y="65"/>
                  </a:lnTo>
                  <a:lnTo>
                    <a:pt x="74" y="67"/>
                  </a:lnTo>
                  <a:lnTo>
                    <a:pt x="67" y="69"/>
                  </a:lnTo>
                  <a:lnTo>
                    <a:pt x="61" y="73"/>
                  </a:lnTo>
                  <a:lnTo>
                    <a:pt x="53" y="76"/>
                  </a:lnTo>
                  <a:lnTo>
                    <a:pt x="44" y="80"/>
                  </a:lnTo>
                  <a:lnTo>
                    <a:pt x="33" y="83"/>
                  </a:lnTo>
                  <a:lnTo>
                    <a:pt x="25" y="88"/>
                  </a:lnTo>
                  <a:lnTo>
                    <a:pt x="20" y="93"/>
                  </a:lnTo>
                  <a:lnTo>
                    <a:pt x="16" y="99"/>
                  </a:lnTo>
                  <a:lnTo>
                    <a:pt x="16" y="104"/>
                  </a:lnTo>
                  <a:lnTo>
                    <a:pt x="17" y="106"/>
                  </a:lnTo>
                  <a:lnTo>
                    <a:pt x="17" y="107"/>
                  </a:lnTo>
                  <a:lnTo>
                    <a:pt x="13" y="107"/>
                  </a:lnTo>
                  <a:lnTo>
                    <a:pt x="6" y="108"/>
                  </a:lnTo>
                  <a:lnTo>
                    <a:pt x="2" y="111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2" y="143"/>
                  </a:lnTo>
                  <a:lnTo>
                    <a:pt x="6" y="149"/>
                  </a:lnTo>
                  <a:lnTo>
                    <a:pt x="14" y="151"/>
                  </a:lnTo>
                  <a:lnTo>
                    <a:pt x="22" y="152"/>
                  </a:lnTo>
                  <a:lnTo>
                    <a:pt x="25" y="156"/>
                  </a:lnTo>
                  <a:lnTo>
                    <a:pt x="28" y="159"/>
                  </a:lnTo>
                  <a:lnTo>
                    <a:pt x="29" y="164"/>
                  </a:lnTo>
                  <a:lnTo>
                    <a:pt x="30" y="168"/>
                  </a:lnTo>
                  <a:lnTo>
                    <a:pt x="31" y="172"/>
                  </a:lnTo>
                  <a:lnTo>
                    <a:pt x="30" y="176"/>
                  </a:lnTo>
                  <a:lnTo>
                    <a:pt x="30" y="180"/>
                  </a:lnTo>
                  <a:lnTo>
                    <a:pt x="31" y="183"/>
                  </a:lnTo>
                  <a:lnTo>
                    <a:pt x="32" y="188"/>
                  </a:lnTo>
                  <a:lnTo>
                    <a:pt x="34" y="194"/>
                  </a:lnTo>
                  <a:lnTo>
                    <a:pt x="34" y="198"/>
                  </a:lnTo>
                  <a:lnTo>
                    <a:pt x="33" y="204"/>
                  </a:lnTo>
                  <a:lnTo>
                    <a:pt x="33" y="210"/>
                  </a:lnTo>
                  <a:lnTo>
                    <a:pt x="31" y="214"/>
                  </a:lnTo>
                  <a:lnTo>
                    <a:pt x="29" y="219"/>
                  </a:lnTo>
                  <a:lnTo>
                    <a:pt x="26" y="222"/>
                  </a:lnTo>
                  <a:lnTo>
                    <a:pt x="28" y="228"/>
                  </a:lnTo>
                  <a:lnTo>
                    <a:pt x="31" y="234"/>
                  </a:lnTo>
                  <a:lnTo>
                    <a:pt x="34" y="239"/>
                  </a:lnTo>
                  <a:lnTo>
                    <a:pt x="40" y="243"/>
                  </a:lnTo>
                  <a:lnTo>
                    <a:pt x="46" y="248"/>
                  </a:lnTo>
                  <a:lnTo>
                    <a:pt x="54" y="251"/>
                  </a:lnTo>
                  <a:lnTo>
                    <a:pt x="61" y="250"/>
                  </a:lnTo>
                  <a:lnTo>
                    <a:pt x="68" y="247"/>
                  </a:lnTo>
                  <a:lnTo>
                    <a:pt x="74" y="242"/>
                  </a:lnTo>
                  <a:lnTo>
                    <a:pt x="79" y="239"/>
                  </a:lnTo>
                  <a:lnTo>
                    <a:pt x="84" y="236"/>
                  </a:lnTo>
                  <a:lnTo>
                    <a:pt x="86" y="236"/>
                  </a:lnTo>
                  <a:lnTo>
                    <a:pt x="89" y="237"/>
                  </a:lnTo>
                  <a:lnTo>
                    <a:pt x="90" y="240"/>
                  </a:lnTo>
                  <a:lnTo>
                    <a:pt x="91" y="243"/>
                  </a:lnTo>
                  <a:lnTo>
                    <a:pt x="92" y="248"/>
                  </a:lnTo>
                  <a:lnTo>
                    <a:pt x="94" y="251"/>
                  </a:lnTo>
                  <a:lnTo>
                    <a:pt x="100" y="252"/>
                  </a:lnTo>
                  <a:lnTo>
                    <a:pt x="109" y="250"/>
                  </a:lnTo>
                  <a:lnTo>
                    <a:pt x="119" y="247"/>
                  </a:lnTo>
                  <a:lnTo>
                    <a:pt x="124" y="243"/>
                  </a:lnTo>
                  <a:lnTo>
                    <a:pt x="130" y="241"/>
                  </a:lnTo>
                  <a:lnTo>
                    <a:pt x="136" y="239"/>
                  </a:lnTo>
                  <a:lnTo>
                    <a:pt x="143" y="235"/>
                  </a:lnTo>
                  <a:lnTo>
                    <a:pt x="148" y="228"/>
                  </a:lnTo>
                  <a:lnTo>
                    <a:pt x="154" y="221"/>
                  </a:lnTo>
                  <a:lnTo>
                    <a:pt x="159" y="213"/>
                  </a:lnTo>
                  <a:lnTo>
                    <a:pt x="166" y="207"/>
                  </a:lnTo>
                  <a:lnTo>
                    <a:pt x="174" y="203"/>
                  </a:lnTo>
                  <a:lnTo>
                    <a:pt x="181" y="200"/>
                  </a:lnTo>
                  <a:lnTo>
                    <a:pt x="187" y="196"/>
                  </a:lnTo>
                  <a:lnTo>
                    <a:pt x="189" y="191"/>
                  </a:lnTo>
                  <a:lnTo>
                    <a:pt x="190" y="189"/>
                  </a:lnTo>
                  <a:lnTo>
                    <a:pt x="192" y="187"/>
                  </a:lnTo>
                  <a:lnTo>
                    <a:pt x="197" y="182"/>
                  </a:lnTo>
                  <a:lnTo>
                    <a:pt x="203" y="176"/>
                  </a:lnTo>
                  <a:lnTo>
                    <a:pt x="207" y="173"/>
                  </a:lnTo>
                  <a:lnTo>
                    <a:pt x="213" y="169"/>
                  </a:lnTo>
                  <a:lnTo>
                    <a:pt x="221" y="167"/>
                  </a:lnTo>
                  <a:lnTo>
                    <a:pt x="230" y="164"/>
                  </a:lnTo>
                  <a:lnTo>
                    <a:pt x="237" y="159"/>
                  </a:lnTo>
                  <a:lnTo>
                    <a:pt x="243" y="156"/>
                  </a:lnTo>
                  <a:lnTo>
                    <a:pt x="245" y="154"/>
                  </a:lnTo>
                  <a:lnTo>
                    <a:pt x="256" y="158"/>
                  </a:lnTo>
                  <a:close/>
                </a:path>
              </a:pathLst>
            </a:custGeom>
            <a:solidFill>
              <a:srgbClr val="b4b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50160" y="5948280"/>
              <a:ext cx="82800" cy="184320"/>
            </a:xfrm>
            <a:custGeom>
              <a:avLst/>
              <a:gdLst/>
              <a:ahLst/>
              <a:rect l="l" t="t" r="r" b="b"/>
              <a:pathLst>
                <a:path w="104" h="233">
                  <a:moveTo>
                    <a:pt x="90" y="185"/>
                  </a:moveTo>
                  <a:lnTo>
                    <a:pt x="88" y="186"/>
                  </a:lnTo>
                  <a:lnTo>
                    <a:pt x="84" y="188"/>
                  </a:lnTo>
                  <a:lnTo>
                    <a:pt x="81" y="194"/>
                  </a:lnTo>
                  <a:lnTo>
                    <a:pt x="83" y="200"/>
                  </a:lnTo>
                  <a:lnTo>
                    <a:pt x="88" y="208"/>
                  </a:lnTo>
                  <a:lnTo>
                    <a:pt x="90" y="216"/>
                  </a:lnTo>
                  <a:lnTo>
                    <a:pt x="89" y="225"/>
                  </a:lnTo>
                  <a:lnTo>
                    <a:pt x="83" y="230"/>
                  </a:lnTo>
                  <a:lnTo>
                    <a:pt x="75" y="232"/>
                  </a:lnTo>
                  <a:lnTo>
                    <a:pt x="69" y="233"/>
                  </a:lnTo>
                  <a:lnTo>
                    <a:pt x="65" y="233"/>
                  </a:lnTo>
                  <a:lnTo>
                    <a:pt x="63" y="233"/>
                  </a:lnTo>
                  <a:lnTo>
                    <a:pt x="62" y="233"/>
                  </a:lnTo>
                  <a:lnTo>
                    <a:pt x="59" y="231"/>
                  </a:lnTo>
                  <a:lnTo>
                    <a:pt x="55" y="227"/>
                  </a:lnTo>
                  <a:lnTo>
                    <a:pt x="54" y="220"/>
                  </a:lnTo>
                  <a:lnTo>
                    <a:pt x="55" y="215"/>
                  </a:lnTo>
                  <a:lnTo>
                    <a:pt x="55" y="212"/>
                  </a:lnTo>
                  <a:lnTo>
                    <a:pt x="54" y="209"/>
                  </a:lnTo>
                  <a:lnTo>
                    <a:pt x="54" y="205"/>
                  </a:lnTo>
                  <a:lnTo>
                    <a:pt x="55" y="201"/>
                  </a:lnTo>
                  <a:lnTo>
                    <a:pt x="57" y="196"/>
                  </a:lnTo>
                  <a:lnTo>
                    <a:pt x="57" y="193"/>
                  </a:lnTo>
                  <a:lnTo>
                    <a:pt x="53" y="189"/>
                  </a:lnTo>
                  <a:lnTo>
                    <a:pt x="47" y="186"/>
                  </a:lnTo>
                  <a:lnTo>
                    <a:pt x="43" y="180"/>
                  </a:lnTo>
                  <a:lnTo>
                    <a:pt x="42" y="175"/>
                  </a:lnTo>
                  <a:lnTo>
                    <a:pt x="45" y="172"/>
                  </a:lnTo>
                  <a:lnTo>
                    <a:pt x="50" y="169"/>
                  </a:lnTo>
                  <a:lnTo>
                    <a:pt x="53" y="165"/>
                  </a:lnTo>
                  <a:lnTo>
                    <a:pt x="53" y="160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3" y="143"/>
                  </a:lnTo>
                  <a:lnTo>
                    <a:pt x="39" y="137"/>
                  </a:lnTo>
                  <a:lnTo>
                    <a:pt x="35" y="134"/>
                  </a:lnTo>
                  <a:lnTo>
                    <a:pt x="30" y="134"/>
                  </a:lnTo>
                  <a:lnTo>
                    <a:pt x="28" y="135"/>
                  </a:lnTo>
                  <a:lnTo>
                    <a:pt x="24" y="136"/>
                  </a:lnTo>
                  <a:lnTo>
                    <a:pt x="20" y="137"/>
                  </a:lnTo>
                  <a:lnTo>
                    <a:pt x="15" y="139"/>
                  </a:lnTo>
                  <a:lnTo>
                    <a:pt x="10" y="140"/>
                  </a:lnTo>
                  <a:lnTo>
                    <a:pt x="7" y="139"/>
                  </a:lnTo>
                  <a:lnTo>
                    <a:pt x="6" y="136"/>
                  </a:lnTo>
                  <a:lnTo>
                    <a:pt x="8" y="133"/>
                  </a:lnTo>
                  <a:lnTo>
                    <a:pt x="12" y="129"/>
                  </a:lnTo>
                  <a:lnTo>
                    <a:pt x="15" y="127"/>
                  </a:lnTo>
                  <a:lnTo>
                    <a:pt x="16" y="122"/>
                  </a:lnTo>
                  <a:lnTo>
                    <a:pt x="15" y="118"/>
                  </a:lnTo>
                  <a:lnTo>
                    <a:pt x="13" y="114"/>
                  </a:lnTo>
                  <a:lnTo>
                    <a:pt x="10" y="112"/>
                  </a:lnTo>
                  <a:lnTo>
                    <a:pt x="9" y="112"/>
                  </a:lnTo>
                  <a:lnTo>
                    <a:pt x="8" y="111"/>
                  </a:lnTo>
                  <a:lnTo>
                    <a:pt x="6" y="107"/>
                  </a:lnTo>
                  <a:lnTo>
                    <a:pt x="6" y="103"/>
                  </a:lnTo>
                  <a:lnTo>
                    <a:pt x="8" y="99"/>
                  </a:lnTo>
                  <a:lnTo>
                    <a:pt x="13" y="96"/>
                  </a:lnTo>
                  <a:lnTo>
                    <a:pt x="15" y="92"/>
                  </a:lnTo>
                  <a:lnTo>
                    <a:pt x="15" y="89"/>
                  </a:lnTo>
                  <a:lnTo>
                    <a:pt x="13" y="87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2"/>
                  </a:lnTo>
                  <a:lnTo>
                    <a:pt x="8" y="64"/>
                  </a:lnTo>
                  <a:lnTo>
                    <a:pt x="5" y="58"/>
                  </a:lnTo>
                  <a:lnTo>
                    <a:pt x="2" y="53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6"/>
                  </a:lnTo>
                  <a:lnTo>
                    <a:pt x="15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4" y="23"/>
                  </a:lnTo>
                  <a:lnTo>
                    <a:pt x="25" y="23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1" y="15"/>
                  </a:lnTo>
                  <a:lnTo>
                    <a:pt x="34" y="12"/>
                  </a:lnTo>
                  <a:lnTo>
                    <a:pt x="37" y="13"/>
                  </a:lnTo>
                  <a:lnTo>
                    <a:pt x="40" y="14"/>
                  </a:lnTo>
                  <a:lnTo>
                    <a:pt x="43" y="15"/>
                  </a:lnTo>
                  <a:lnTo>
                    <a:pt x="45" y="16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4" y="14"/>
                  </a:lnTo>
                  <a:lnTo>
                    <a:pt x="55" y="7"/>
                  </a:lnTo>
                  <a:lnTo>
                    <a:pt x="58" y="3"/>
                  </a:lnTo>
                  <a:lnTo>
                    <a:pt x="61" y="0"/>
                  </a:lnTo>
                  <a:lnTo>
                    <a:pt x="65" y="4"/>
                  </a:lnTo>
                  <a:lnTo>
                    <a:pt x="68" y="9"/>
                  </a:lnTo>
                  <a:lnTo>
                    <a:pt x="70" y="14"/>
                  </a:lnTo>
                  <a:lnTo>
                    <a:pt x="73" y="16"/>
                  </a:lnTo>
                  <a:lnTo>
                    <a:pt x="75" y="18"/>
                  </a:lnTo>
                  <a:lnTo>
                    <a:pt x="80" y="18"/>
                  </a:lnTo>
                  <a:lnTo>
                    <a:pt x="85" y="20"/>
                  </a:lnTo>
                  <a:lnTo>
                    <a:pt x="88" y="23"/>
                  </a:lnTo>
                  <a:lnTo>
                    <a:pt x="85" y="29"/>
                  </a:lnTo>
                  <a:lnTo>
                    <a:pt x="80" y="35"/>
                  </a:lnTo>
                  <a:lnTo>
                    <a:pt x="75" y="41"/>
                  </a:lnTo>
                  <a:lnTo>
                    <a:pt x="74" y="45"/>
                  </a:lnTo>
                  <a:lnTo>
                    <a:pt x="76" y="51"/>
                  </a:lnTo>
                  <a:lnTo>
                    <a:pt x="82" y="54"/>
                  </a:lnTo>
                  <a:lnTo>
                    <a:pt x="87" y="57"/>
                  </a:lnTo>
                  <a:lnTo>
                    <a:pt x="90" y="59"/>
                  </a:lnTo>
                  <a:lnTo>
                    <a:pt x="91" y="59"/>
                  </a:lnTo>
                  <a:lnTo>
                    <a:pt x="90" y="60"/>
                  </a:lnTo>
                  <a:lnTo>
                    <a:pt x="88" y="63"/>
                  </a:lnTo>
                  <a:lnTo>
                    <a:pt x="85" y="65"/>
                  </a:lnTo>
                  <a:lnTo>
                    <a:pt x="85" y="69"/>
                  </a:lnTo>
                  <a:lnTo>
                    <a:pt x="88" y="72"/>
                  </a:lnTo>
                  <a:lnTo>
                    <a:pt x="92" y="72"/>
                  </a:lnTo>
                  <a:lnTo>
                    <a:pt x="96" y="74"/>
                  </a:lnTo>
                  <a:lnTo>
                    <a:pt x="95" y="77"/>
                  </a:lnTo>
                  <a:lnTo>
                    <a:pt x="92" y="82"/>
                  </a:lnTo>
                  <a:lnTo>
                    <a:pt x="90" y="86"/>
                  </a:lnTo>
                  <a:lnTo>
                    <a:pt x="88" y="88"/>
                  </a:lnTo>
                  <a:lnTo>
                    <a:pt x="83" y="90"/>
                  </a:lnTo>
                  <a:lnTo>
                    <a:pt x="80" y="94"/>
                  </a:lnTo>
                  <a:lnTo>
                    <a:pt x="80" y="99"/>
                  </a:lnTo>
                  <a:lnTo>
                    <a:pt x="81" y="106"/>
                  </a:lnTo>
                  <a:lnTo>
                    <a:pt x="83" y="114"/>
                  </a:lnTo>
                  <a:lnTo>
                    <a:pt x="85" y="121"/>
                  </a:lnTo>
                  <a:lnTo>
                    <a:pt x="89" y="127"/>
                  </a:lnTo>
                  <a:lnTo>
                    <a:pt x="90" y="132"/>
                  </a:lnTo>
                  <a:lnTo>
                    <a:pt x="91" y="134"/>
                  </a:lnTo>
                  <a:lnTo>
                    <a:pt x="98" y="136"/>
                  </a:lnTo>
                  <a:lnTo>
                    <a:pt x="98" y="137"/>
                  </a:lnTo>
                  <a:lnTo>
                    <a:pt x="97" y="141"/>
                  </a:lnTo>
                  <a:lnTo>
                    <a:pt x="97" y="145"/>
                  </a:lnTo>
                  <a:lnTo>
                    <a:pt x="98" y="149"/>
                  </a:lnTo>
                  <a:lnTo>
                    <a:pt x="101" y="154"/>
                  </a:lnTo>
                  <a:lnTo>
                    <a:pt x="104" y="158"/>
                  </a:lnTo>
                  <a:lnTo>
                    <a:pt x="104" y="164"/>
                  </a:lnTo>
                  <a:lnTo>
                    <a:pt x="100" y="169"/>
                  </a:lnTo>
                  <a:lnTo>
                    <a:pt x="95" y="173"/>
                  </a:lnTo>
                  <a:lnTo>
                    <a:pt x="93" y="178"/>
                  </a:lnTo>
                  <a:lnTo>
                    <a:pt x="92" y="181"/>
                  </a:lnTo>
                  <a:lnTo>
                    <a:pt x="90" y="185"/>
                  </a:lnTo>
                  <a:close/>
                </a:path>
              </a:pathLst>
            </a:custGeom>
            <a:solidFill>
              <a:srgbClr val="b4b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75640" y="5719680"/>
              <a:ext cx="10476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21" y="72"/>
                  </a:moveTo>
                  <a:lnTo>
                    <a:pt x="121" y="70"/>
                  </a:lnTo>
                  <a:lnTo>
                    <a:pt x="120" y="63"/>
                  </a:lnTo>
                  <a:lnTo>
                    <a:pt x="119" y="56"/>
                  </a:lnTo>
                  <a:lnTo>
                    <a:pt x="117" y="48"/>
                  </a:lnTo>
                  <a:lnTo>
                    <a:pt x="116" y="41"/>
                  </a:lnTo>
                  <a:lnTo>
                    <a:pt x="116" y="37"/>
                  </a:lnTo>
                  <a:lnTo>
                    <a:pt x="116" y="32"/>
                  </a:lnTo>
                  <a:lnTo>
                    <a:pt x="115" y="29"/>
                  </a:lnTo>
                  <a:lnTo>
                    <a:pt x="114" y="26"/>
                  </a:lnTo>
                  <a:lnTo>
                    <a:pt x="114" y="24"/>
                  </a:lnTo>
                  <a:lnTo>
                    <a:pt x="115" y="23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5" y="14"/>
                  </a:lnTo>
                  <a:lnTo>
                    <a:pt x="113" y="12"/>
                  </a:lnTo>
                  <a:lnTo>
                    <a:pt x="109" y="12"/>
                  </a:lnTo>
                  <a:lnTo>
                    <a:pt x="106" y="11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101" y="7"/>
                  </a:lnTo>
                  <a:lnTo>
                    <a:pt x="100" y="6"/>
                  </a:lnTo>
                  <a:lnTo>
                    <a:pt x="99" y="4"/>
                  </a:lnTo>
                  <a:lnTo>
                    <a:pt x="97" y="3"/>
                  </a:lnTo>
                  <a:lnTo>
                    <a:pt x="94" y="6"/>
                  </a:lnTo>
                  <a:lnTo>
                    <a:pt x="92" y="8"/>
                  </a:lnTo>
                  <a:lnTo>
                    <a:pt x="91" y="9"/>
                  </a:lnTo>
                  <a:lnTo>
                    <a:pt x="90" y="10"/>
                  </a:lnTo>
                  <a:lnTo>
                    <a:pt x="89" y="14"/>
                  </a:lnTo>
                  <a:lnTo>
                    <a:pt x="88" y="17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16"/>
                  </a:lnTo>
                  <a:lnTo>
                    <a:pt x="79" y="12"/>
                  </a:lnTo>
                  <a:lnTo>
                    <a:pt x="78" y="10"/>
                  </a:lnTo>
                  <a:lnTo>
                    <a:pt x="76" y="8"/>
                  </a:lnTo>
                  <a:lnTo>
                    <a:pt x="73" y="6"/>
                  </a:lnTo>
                  <a:lnTo>
                    <a:pt x="68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1" y="7"/>
                  </a:lnTo>
                  <a:lnTo>
                    <a:pt x="41" y="12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2" y="19"/>
                  </a:lnTo>
                  <a:lnTo>
                    <a:pt x="31" y="22"/>
                  </a:lnTo>
                  <a:lnTo>
                    <a:pt x="31" y="25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30" y="32"/>
                  </a:lnTo>
                  <a:lnTo>
                    <a:pt x="26" y="33"/>
                  </a:lnTo>
                  <a:lnTo>
                    <a:pt x="22" y="35"/>
                  </a:lnTo>
                  <a:lnTo>
                    <a:pt x="17" y="37"/>
                  </a:lnTo>
                  <a:lnTo>
                    <a:pt x="14" y="39"/>
                  </a:lnTo>
                  <a:lnTo>
                    <a:pt x="11" y="41"/>
                  </a:lnTo>
                  <a:lnTo>
                    <a:pt x="10" y="45"/>
                  </a:lnTo>
                  <a:lnTo>
                    <a:pt x="10" y="48"/>
                  </a:lnTo>
                  <a:lnTo>
                    <a:pt x="11" y="50"/>
                  </a:lnTo>
                  <a:lnTo>
                    <a:pt x="17" y="52"/>
                  </a:lnTo>
                  <a:lnTo>
                    <a:pt x="17" y="53"/>
                  </a:lnTo>
                  <a:lnTo>
                    <a:pt x="20" y="56"/>
                  </a:lnTo>
                  <a:lnTo>
                    <a:pt x="21" y="62"/>
                  </a:lnTo>
                  <a:lnTo>
                    <a:pt x="21" y="68"/>
                  </a:lnTo>
                  <a:lnTo>
                    <a:pt x="20" y="72"/>
                  </a:lnTo>
                  <a:lnTo>
                    <a:pt x="18" y="77"/>
                  </a:lnTo>
                  <a:lnTo>
                    <a:pt x="17" y="80"/>
                  </a:lnTo>
                  <a:lnTo>
                    <a:pt x="16" y="82"/>
                  </a:lnTo>
                  <a:lnTo>
                    <a:pt x="16" y="83"/>
                  </a:lnTo>
                  <a:lnTo>
                    <a:pt x="15" y="86"/>
                  </a:lnTo>
                  <a:lnTo>
                    <a:pt x="14" y="90"/>
                  </a:lnTo>
                  <a:lnTo>
                    <a:pt x="11" y="92"/>
                  </a:lnTo>
                  <a:lnTo>
                    <a:pt x="9" y="95"/>
                  </a:lnTo>
                  <a:lnTo>
                    <a:pt x="8" y="99"/>
                  </a:lnTo>
                  <a:lnTo>
                    <a:pt x="8" y="103"/>
                  </a:lnTo>
                  <a:lnTo>
                    <a:pt x="10" y="106"/>
                  </a:lnTo>
                  <a:lnTo>
                    <a:pt x="13" y="107"/>
                  </a:lnTo>
                  <a:lnTo>
                    <a:pt x="13" y="108"/>
                  </a:lnTo>
                  <a:lnTo>
                    <a:pt x="11" y="110"/>
                  </a:lnTo>
                  <a:lnTo>
                    <a:pt x="9" y="114"/>
                  </a:lnTo>
                  <a:lnTo>
                    <a:pt x="6" y="118"/>
                  </a:lnTo>
                  <a:lnTo>
                    <a:pt x="3" y="124"/>
                  </a:lnTo>
                  <a:lnTo>
                    <a:pt x="1" y="129"/>
                  </a:lnTo>
                  <a:lnTo>
                    <a:pt x="1" y="131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3" y="140"/>
                  </a:lnTo>
                  <a:lnTo>
                    <a:pt x="8" y="141"/>
                  </a:lnTo>
                  <a:lnTo>
                    <a:pt x="10" y="144"/>
                  </a:lnTo>
                  <a:lnTo>
                    <a:pt x="10" y="146"/>
                  </a:lnTo>
                  <a:lnTo>
                    <a:pt x="11" y="151"/>
                  </a:lnTo>
                  <a:lnTo>
                    <a:pt x="13" y="155"/>
                  </a:lnTo>
                  <a:lnTo>
                    <a:pt x="15" y="159"/>
                  </a:lnTo>
                  <a:lnTo>
                    <a:pt x="17" y="161"/>
                  </a:lnTo>
                  <a:lnTo>
                    <a:pt x="21" y="160"/>
                  </a:lnTo>
                  <a:lnTo>
                    <a:pt x="24" y="158"/>
                  </a:lnTo>
                  <a:lnTo>
                    <a:pt x="28" y="156"/>
                  </a:lnTo>
                  <a:lnTo>
                    <a:pt x="30" y="158"/>
                  </a:lnTo>
                  <a:lnTo>
                    <a:pt x="32" y="161"/>
                  </a:lnTo>
                  <a:lnTo>
                    <a:pt x="35" y="167"/>
                  </a:lnTo>
                  <a:lnTo>
                    <a:pt x="38" y="173"/>
                  </a:lnTo>
                  <a:lnTo>
                    <a:pt x="43" y="177"/>
                  </a:lnTo>
                  <a:lnTo>
                    <a:pt x="46" y="180"/>
                  </a:lnTo>
                  <a:lnTo>
                    <a:pt x="49" y="178"/>
                  </a:lnTo>
                  <a:lnTo>
                    <a:pt x="53" y="177"/>
                  </a:lnTo>
                  <a:lnTo>
                    <a:pt x="56" y="175"/>
                  </a:lnTo>
                  <a:lnTo>
                    <a:pt x="60" y="173"/>
                  </a:lnTo>
                  <a:lnTo>
                    <a:pt x="62" y="171"/>
                  </a:lnTo>
                  <a:lnTo>
                    <a:pt x="66" y="171"/>
                  </a:lnTo>
                  <a:lnTo>
                    <a:pt x="67" y="173"/>
                  </a:lnTo>
                  <a:lnTo>
                    <a:pt x="68" y="176"/>
                  </a:lnTo>
                  <a:lnTo>
                    <a:pt x="68" y="180"/>
                  </a:lnTo>
                  <a:lnTo>
                    <a:pt x="69" y="180"/>
                  </a:lnTo>
                  <a:lnTo>
                    <a:pt x="70" y="178"/>
                  </a:lnTo>
                  <a:lnTo>
                    <a:pt x="73" y="175"/>
                  </a:lnTo>
                  <a:lnTo>
                    <a:pt x="74" y="173"/>
                  </a:lnTo>
                  <a:lnTo>
                    <a:pt x="76" y="173"/>
                  </a:lnTo>
                  <a:lnTo>
                    <a:pt x="77" y="174"/>
                  </a:lnTo>
                  <a:lnTo>
                    <a:pt x="79" y="174"/>
                  </a:lnTo>
                  <a:lnTo>
                    <a:pt x="82" y="173"/>
                  </a:lnTo>
                  <a:lnTo>
                    <a:pt x="83" y="171"/>
                  </a:lnTo>
                  <a:lnTo>
                    <a:pt x="84" y="169"/>
                  </a:lnTo>
                  <a:lnTo>
                    <a:pt x="85" y="166"/>
                  </a:lnTo>
                  <a:lnTo>
                    <a:pt x="86" y="163"/>
                  </a:lnTo>
                  <a:lnTo>
                    <a:pt x="89" y="161"/>
                  </a:lnTo>
                  <a:lnTo>
                    <a:pt x="91" y="161"/>
                  </a:lnTo>
                  <a:lnTo>
                    <a:pt x="98" y="160"/>
                  </a:lnTo>
                  <a:lnTo>
                    <a:pt x="106" y="158"/>
                  </a:lnTo>
                  <a:lnTo>
                    <a:pt x="113" y="154"/>
                  </a:lnTo>
                  <a:lnTo>
                    <a:pt x="116" y="150"/>
                  </a:lnTo>
                  <a:lnTo>
                    <a:pt x="117" y="144"/>
                  </a:lnTo>
                  <a:lnTo>
                    <a:pt x="117" y="138"/>
                  </a:lnTo>
                  <a:lnTo>
                    <a:pt x="120" y="133"/>
                  </a:lnTo>
                  <a:lnTo>
                    <a:pt x="122" y="131"/>
                  </a:lnTo>
                  <a:lnTo>
                    <a:pt x="126" y="130"/>
                  </a:lnTo>
                  <a:lnTo>
                    <a:pt x="129" y="130"/>
                  </a:lnTo>
                  <a:lnTo>
                    <a:pt x="131" y="129"/>
                  </a:lnTo>
                  <a:lnTo>
                    <a:pt x="131" y="127"/>
                  </a:lnTo>
                  <a:lnTo>
                    <a:pt x="129" y="123"/>
                  </a:lnTo>
                  <a:lnTo>
                    <a:pt x="127" y="113"/>
                  </a:lnTo>
                  <a:lnTo>
                    <a:pt x="123" y="95"/>
                  </a:lnTo>
                  <a:lnTo>
                    <a:pt x="122" y="79"/>
                  </a:lnTo>
                  <a:lnTo>
                    <a:pt x="121" y="72"/>
                  </a:lnTo>
                  <a:close/>
                </a:path>
              </a:pathLst>
            </a:custGeom>
            <a:solidFill>
              <a:srgbClr val="b4b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43520" y="58546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G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61680" y="6076800"/>
            <a:ext cx="80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an Ju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27160" y="1758960"/>
            <a:ext cx="99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Minneapol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26080" y="228600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Detro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97760" y="1974960"/>
            <a:ext cx="91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Anch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33880" y="4873680"/>
            <a:ext cx="6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est T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22400" y="173340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78000" y="205740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79560" y="353700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92480" y="437508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39000" y="297828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10080" y="5035680"/>
            <a:ext cx="12888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07160" y="5365800"/>
            <a:ext cx="12888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985080" y="424188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08800" y="286380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461360" y="315756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753320" y="284472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54840" y="263196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74080" y="230832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69120" y="5877000"/>
            <a:ext cx="12888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275680" y="579924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28840" y="527364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12820800">
            <a:off x="6685920" y="2491560"/>
            <a:ext cx="42840" cy="3985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8601200">
            <a:off x="7682760" y="3200760"/>
            <a:ext cx="42840" cy="2761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6692600">
            <a:off x="7292880" y="4147200"/>
            <a:ext cx="42840" cy="31284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32480" y="624852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DC Quarantine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8601200">
            <a:off x="7803360" y="2877120"/>
            <a:ext cx="42840" cy="2761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899480" y="3038400"/>
            <a:ext cx="100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Philadelph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32440" y="4008600"/>
            <a:ext cx="71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Dal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 rot="17260200">
            <a:off x="5110560" y="4353120"/>
            <a:ext cx="295560" cy="6840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81640" y="266400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0297200">
            <a:off x="5306760" y="1992240"/>
            <a:ext cx="85680" cy="67464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99120" y="4403880"/>
            <a:ext cx="68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orth T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rot="10942200">
            <a:off x="6135120" y="2189160"/>
            <a:ext cx="42840" cy="76824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1880" y="24256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495520" y="464184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497720" y="29084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47040" y="280044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-12600" y="24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911"/>
                </a:solidFill>
                <a:latin typeface="Arial"/>
                <a:ea typeface="新細明體"/>
              </a:rPr>
              <a:t>CDC Quarantine St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911"/>
                </a:solidFill>
                <a:latin typeface="Arial"/>
                <a:ea typeface="新細明體"/>
              </a:rPr>
              <a:t>2007 Jurisdi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71800" y="4808520"/>
            <a:ext cx="12888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6248520"/>
            <a:ext cx="3403440" cy="40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40360" y="455292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rgchart2" descr=""/>
          <p:cNvPicPr/>
          <p:nvPr/>
        </p:nvPicPr>
        <p:blipFill>
          <a:blip r:embed="rId1"/>
          <a:stretch/>
        </p:blipFill>
        <p:spPr>
          <a:xfrm>
            <a:off x="-609480" y="-961920"/>
            <a:ext cx="10105920" cy="78199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0" y="0"/>
            <a:ext cx="89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sion of Global Migration and Quara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335268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09480" y="2362320"/>
            <a:ext cx="1066680" cy="1409760"/>
            <a:chOff x="609480" y="2362320"/>
            <a:chExt cx="1066680" cy="1409760"/>
          </a:xfrm>
        </p:grpSpPr>
        <p:sp>
          <p:nvSpPr>
            <p:cNvPr id="512" name=""/>
            <p:cNvSpPr/>
            <p:nvPr/>
          </p:nvSpPr>
          <p:spPr>
            <a:xfrm>
              <a:off x="609480" y="2362320"/>
              <a:ext cx="10666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velers’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480" y="3162600"/>
              <a:ext cx="10666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oono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819520" y="5257800"/>
            <a:ext cx="3124080" cy="1371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86600" y="251460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rica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90920" y="53053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rantine S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i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335268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gration and Health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629400" y="4664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294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2743200"/>
            <a:ext cx="0" cy="19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7913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67080"/>
            <a:ext cx="1295280" cy="7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 &amp; European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76520" y="2590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676520" y="3048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29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Our Mission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…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protect the health of the public from communicable diseases through science, partnerships, and response at U.S. 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Accomplishing Our Mission</a:t>
            </a:r>
            <a:br>
              <a:rPr sz="4400"/>
            </a:b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(42 CFR Parts 70 and 71)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7238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e impor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migrant docu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d9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11"/>
                </a:solidFill>
                <a:latin typeface="Arial"/>
              </a:rPr>
              <a:t>Respond to notification of illness in international travel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911"/>
                </a:solidFill>
                <a:latin typeface="Arial"/>
              </a:rPr>
              <a:t>Quarantine Diseases</a:t>
            </a:r>
            <a:br>
              <a:rPr sz="3600"/>
            </a:br>
            <a:r>
              <a:rPr b="1" lang="en-US" sz="2800" spc="-1" strike="noStrike">
                <a:solidFill>
                  <a:srgbClr val="ffd911"/>
                </a:solidFill>
                <a:latin typeface="Arial"/>
              </a:rPr>
              <a:t>Executive Order of the President 13295</a:t>
            </a:r>
            <a:endParaRPr b="1" lang="en-US" sz="28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553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THE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ECTIOUS T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HEMORRHAGIC FE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VEL OR RE-EMERGENT INFLUENZ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ola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aration of ill persons with contagious dis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ten in a hospital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ed to individual or group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11"/>
                </a:solidFill>
                <a:latin typeface="Aria"/>
              </a:rPr>
              <a:t>Definitions</a:t>
            </a:r>
            <a:endParaRPr b="1" lang="en-US" sz="5400" spc="-1" strike="noStrike">
              <a:solidFill>
                <a:srgbClr val="ffd9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"/>
              </a:rPr>
              <a:t>Definitions (cont.)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9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rant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riction of well persons presumed expos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ed at the individual or community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ay be voluntary or manda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Responding to Illness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010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sive surveillanc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wait for notification of illness from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rline / vessel pilo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deral partn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ce, fire, EM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depar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y, work colleag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3:54:43Z</dcterms:created>
  <dc:creator>sib1</dc:creator>
  <dc:description/>
  <dc:language>en-US</dc:language>
  <cp:lastModifiedBy>Administrator</cp:lastModifiedBy>
  <dcterms:modified xsi:type="dcterms:W3CDTF">2007-10-10T16:34:27Z</dcterms:modified>
  <cp:revision>30</cp:revision>
  <dc:subject/>
  <dc:title>Slide 1</dc:title>
</cp:coreProperties>
</file>