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18D26-A91D-4256-AD69-1E88C5372AD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 am running out of time, but before I finish, I thought I would give you a taster of the proposed set of criteria for judging the soundness of indicators. This is based on a couple of papers that  I wrote with Steve Jarvis and others, as well as one that John Langley and I wrote - but they have been supplemented following email exchanges between some of the group members over the last few month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y are…(see what is written in the report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BF3B-ECD3-48D3-A132-1955F5BC5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05E9-6135-40D4-B936-E091CB0FB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C558-B498-45EB-A179-057F7287B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99F7-69E4-49FB-A126-ECE5BE26A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F06D-8EDC-46A3-8A4C-5E0E211B4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E5EF-37AD-4CA9-BB58-1064E06D2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362C-135D-46E5-BC06-E48DE8AD8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3271-1939-4D2E-B04B-7917D5233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F11D-3675-4C58-8D8E-43356DE1C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CC1C-2C2A-4996-B3A9-E25FF239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6E46-9202-41C5-893D-8CD0B608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D56C-77FA-4362-A99A-0A5AC378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05DE4-0302-425B-B59D-6632373C5BA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from yesterday’s discu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tion of an indicator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njury indicator signals the occurrence of a phenomen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ise definition of an injury needs to be included (the blue book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thing about standardisation / comparability / harmonis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teria should be split into &gt;1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ful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acticality of measu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erarchy of criteria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much fuzziness can we tole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we need to resol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o are the injury indicator grou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me know if you want to continue your invol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can we get to before Montre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teria + discu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of case defin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tique of a few key indic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y other possible case defin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ine some current indicators of common inte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iteria for a sound indicator -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2819160"/>
            <a:ext cx="64008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by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eria for identifying an optimal indic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e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e definition:  anatomical or physiological damage 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jury cases ascertained should be important (eg. in terms of disablement and / or threat-to-life)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Re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es should be ascertained from routinely or easily collected data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Rew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bability of a case being ascertained should be independent of extraneous factors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dicator should capture all the events in universe that the indicator aims to reflect</a:t>
            </a:r>
            <a:r>
              <a:rPr b="0" lang="en-US" sz="2800" spc="-1" strike="noStrike">
                <a:solidFill>
                  <a:srgbClr val="000000"/>
                </a:solidFill>
                <a:latin typeface="CG Times"/>
              </a:rPr>
              <a:t>.-Rew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eria -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) The indicator should reflect the occurrence of injury satisfying some case definition of anatomical or physiological dam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) The indicator should reflect a well defined information objec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) It should be possible to use existing data systems, or it should be practical to develop a new systems, to provide data for computing the indica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eria -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) The probability of a case being ascertained should be independent of social, economic, and demographic factors, as well as health service supply and access f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) The indicator should be derived from data that are inclusive or representative of the target population that the indicator aims to reflec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Note: the intention is that (E) also implies not going beyond the bounds of the target population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one mo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F) The indicator should be based on events that are associated with significantly increased risk of impairment, functional limitation, disability, or death, decreased quality of life, or increased cos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ne (of many) possible case definitio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y case that dies or an injury case (classified by ICD) that has a probability of death above a predefined level, eg. based on ICI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y case that dies or an injury case (classified by ICD) that has a probability of death above a predefined level, eg. based on ICI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 Anatomical / physiological damage - 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 Reflect information objective - N/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) Existing or practical new systems - 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D) Unbiased - Y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f severity threshold high enough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ative of the target population 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ld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F) Burden - 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n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3T08:59:57Z</dcterms:created>
  <dc:creator>colin</dc:creator>
  <dc:description/>
  <dc:language>en-US</dc:language>
  <cp:lastModifiedBy>Lois Fingerhut - LAF4</cp:lastModifiedBy>
  <dcterms:modified xsi:type="dcterms:W3CDTF">2001-04-25T18:00:01Z</dcterms:modified>
  <cp:revision>7</cp:revision>
  <dc:subject/>
  <dc:title>Injury Indicators</dc:title>
</cp:coreProperties>
</file>