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B10C-FBF9-4FD8-B29D-2493C56190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 am running out of time, but before I finish, I thought I would give you a taster of the proposed set of criteria for judging the soundness of indicators. This is based on a couple of papers that  I wrote with Steve Jarvis and others, as well as one that John Langley and I wrote - but they have been supplemented following email exchanges between some of the group members over the last few month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y are…(see what is written in the report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D0A1-E6C7-4EB0-9F4D-867E5B60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901A-E8A6-42B1-9DB9-343612AA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00C-C46E-4320-B6D0-94011CE8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1CC-8DC1-40C0-B615-99B532D2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0CB-8876-438C-A6F3-E7BDF40E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129-50BC-4DD1-A03F-9075F3C5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18F9-4F3F-4285-AA31-BDF6884A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CA7-815A-4842-94EC-36242C4E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3BF-C98D-4B7D-8826-3CD49B38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E7EA-AB69-443D-8C20-D35E7E7C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90D4-D2F9-42BE-A5EE-05524D57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617-E81E-4D91-956C-DADB0EC8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866D-60DD-47FC-8914-865D839A90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from yesterday’s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 an indicator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jury indicator signals the occurrence of a phenome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 definition of an injury needs to be included (the blue book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hing about standardisation / comparability / harmoni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eria should be split into &gt;1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ful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cticality of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y of criteria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uch fuzziness can we tole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e need to resol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are the injury indicator gro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me know if you want to continue your invol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can we get to before Montre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eria +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case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que of a few key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other possible case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some current indicators of common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iteria for a sound indicator 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by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a for identifying an optimal indic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definition:  anatomical or physiological damage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jury cases ascertained should be important (eg. in terms of disablement and / or threat-to-life)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Re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s should be ascertained from routinely or easily collected data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Re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ability of a case being ascertained should be independent of extraneous factor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dicator should capture all the events in universe that the indicator aims to reflect</a:t>
            </a:r>
            <a:r>
              <a:rPr b="0" lang="en-US" sz="2800" spc="-1" strike="noStrike">
                <a:solidFill>
                  <a:srgbClr val="000000"/>
                </a:solidFill>
                <a:latin typeface="CG Times"/>
              </a:rPr>
              <a:t>.-Re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a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 The indicator should reflect the occurrence of injury satisfying some case definition of anatomical or physiological dam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The indicator should reflect a well defined information obj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) It should be possible to use existing data systems, or it should be practical to develop a new systems, to provide data for computing the indic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a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 The probability of a case being ascertained should be independent of social, economic, and demographic factors, as well as health service supply and access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) The indicator should be derived from data that are inclusive or representative of the target population that the indicator aims to refl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Note: the intention is that (E) also implies not going beyond the bounds of the target populatio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one mo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) The indicator should be based on events that are associated with significantly increased risk of impairment, functional limitation, disability, or death, decreased quality of life, or increased co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(of many) possible case defini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y case that dies or an injury case (classified by ICD) that has a probability of death above a predefined level, eg. based on ICI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y case that dies or an injury case (classified by ICD) that has a probability of death above a predefined level, eg. based on ICI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 Anatomical / physiological damage -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 Reflect information objective - N/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) Existing or practical new systems -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) Unbiased - Y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f severity threshold high enough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ve of the target population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) Burden -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08:59:57Z</dcterms:created>
  <dc:creator>colin</dc:creator>
  <dc:description/>
  <dc:language>en-US</dc:language>
  <cp:lastModifiedBy>Lois Fingerhut - LAF4</cp:lastModifiedBy>
  <dcterms:modified xsi:type="dcterms:W3CDTF">2001-04-25T18:00:01Z</dcterms:modified>
  <cp:revision>7</cp:revision>
  <dc:subject/>
  <dc:title>Injury Indicators</dc:title>
</cp:coreProperties>
</file>