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CFD-C7E4-463F-BCA3-17755A9B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47B-38F8-44B3-93FA-800257CA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755-E7E1-406F-BE02-9490EECB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358-F08A-4172-8F04-BECD8620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51B-D700-40D3-9387-D444ADA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BE8-08A8-4DF3-BBA2-62127B89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2E8-8CCF-4F91-AE75-BCF5E766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C61-88D0-493B-B27C-DD3EC094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982-2701-454E-BC4C-9DA6EDC7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8F6-4A57-417A-B4C3-416CFD4C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B39-EEC5-461A-85E4-0A4D507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E14-5F5F-4C65-AE5C-9BC1D40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375-0649-46BA-8A37-F2E8736D4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jury Indic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lin Cr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SS, University of Kent,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 behalf of the ICEII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a sound indi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existing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pose reliable indicat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dentify robust measures (indicators) of injury occurrence (fatal and non-fatal) that can be compared by person, place (including internationally) and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duce serious unintentional injury (sufficient to require a hospital stay of 4 or more days) by at least a ten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indicator is not stable over time (or across geographic ar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duce the rate of accidents - here being defined as those which involve a hospital visit or consultation with a family doctor - by at least a fif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focus attention on minor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ertainment influenced by extraneous fa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 (cont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to support those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er PC, et al. Why the Government was right to change the ‘Our Healthier Nation’ accidental injury target. Public Health 2000; 114: 232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im to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0574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05740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rob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e defin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429000"/>
            <a:ext cx="2743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429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eria for an ideal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429000"/>
            <a:ext cx="2133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characteristics of an ideal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robust definitions of a case that will be the basis of each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s that may compromise the validity of each proposed indicator and how they may be add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indicators in current use, and propose a robust set of indica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cus on occurrence of injury (initi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tly, focu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to haz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relating to 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a sound indic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definition:  anatomical or physiological damag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jury cases ascertained should be important (eg. in terms of disablement and / or threat-to-life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 should be ascertained from routinely or easily collected dat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 case being ascertained should be independent of extraneous factor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cator should capture all the events in universe that the indicator aims to ref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5:38:50Z</dcterms:created>
  <dc:creator>User1</dc:creator>
  <dc:description/>
  <dc:language>en-US</dc:language>
  <cp:lastModifiedBy>Lois Fingerhut - LAF4</cp:lastModifiedBy>
  <cp:lastPrinted>2001-03-12T16:36:53Z</cp:lastPrinted>
  <dcterms:modified xsi:type="dcterms:W3CDTF">2001-04-25T17:58:35Z</dcterms:modified>
  <cp:revision>9</cp:revision>
  <dc:subject/>
  <dc:title>Injury Indicators</dc:title>
</cp:coreProperties>
</file>