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EC2-5284-4B03-B1A0-D7D521C6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71E-1017-440E-AC27-3626DD49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6A7-8829-4361-BA63-5FCBE6B9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6EB-0623-464B-83BC-4AB5E97C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07E-3A76-49C8-A171-E962A6BA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AB6-37C8-4374-A395-57C798E4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2F2-CBC3-4E5F-BBCC-C3C1AE9E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9B3-E163-49DC-BBDF-DCECAC48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A0D-3C97-4894-9E95-FE7D6427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09E-FC54-4AC0-BA18-D2F9744B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E1E-D158-41E9-BF58-2593931F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AA1-3330-4EC9-BABC-41EA7BC6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F77D-DAB0-4874-90D0-461C5CDB3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jury Indic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in Cr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SS, University of Kent,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 behalf of the ICEII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a sound indic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 existing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pose reliable indicato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dentify robust measures (indicators) of injury occurrence (fatal and non-fatal) that can be compared by person, place (including internationally) and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duce serious unintentional injury (sufficient to require a hospital stay of 4 or more days) by at least a ten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ry indicator is not stable over time (or across geographic ar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duce the rate of accidents - here being defined as those which involve a hospital visit or consultation with a family doctor - by at least a fif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focus attention on minor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certainment influenced by extraneous fa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 (cont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to support those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er PC, et al. Why the Government was right to change the ‘Our Healthier Nation’ accidental injury target. Public Health 2000; 114: 232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im to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0574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05740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4290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robu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e defin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429000"/>
            <a:ext cx="2743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4290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teria for an ideal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429000"/>
            <a:ext cx="2133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characteristics of an ideal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robust definitions of a case that will be the basis of each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roblems that may compromise the validity of each proposed indicator and how they may be addr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indicators in current use, and propose a robust set of indicat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ocus on occurrence of injury (initi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quently, focu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den of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to haz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relating to 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for a sound indic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definition:  anatomical or physiological damag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jury cases ascertained should be important (eg. in terms of disablement and / or threat-to-life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s should be ascertained from routinely or easily collected dat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a case being ascertained should be independent of extraneous factor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icator should capture all the events in universe that the indicator aims to ref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5:38:50Z</dcterms:created>
  <dc:creator>User1</dc:creator>
  <dc:description/>
  <dc:language>en-US</dc:language>
  <cp:lastModifiedBy>Lois Fingerhut - LAF4</cp:lastModifiedBy>
  <cp:lastPrinted>2001-03-12T16:36:53Z</cp:lastPrinted>
  <dcterms:modified xsi:type="dcterms:W3CDTF">2001-04-25T17:58:35Z</dcterms:modified>
  <cp:revision>9</cp:revision>
  <dc:subject/>
  <dc:title>Injury Indicators</dc:title>
</cp:coreProperties>
</file>