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embeddings/oleObject3.bin" ContentType="application/vnd.openxmlformats-officedocument.oleObject"/>
  <Override PartName="/ppt/media/image25.wmf" ContentType="image/x-wmf"/>
  <Override PartName="/ppt/media/image15.jpeg" ContentType="image/jpeg"/>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6.wmf" ContentType="image/x-wmf"/>
  <Override PartName="/ppt/media/image11.wmf" ContentType="image/x-wmf"/>
  <Override PartName="/ppt/media/image3.png" ContentType="image/png"/>
  <Override PartName="/ppt/media/image17.jpeg" ContentType="image/jpeg"/>
  <Override PartName="/ppt/media/image32.wmf" ContentType="image/x-wmf"/>
  <Override PartName="/ppt/media/image12.wmf" ContentType="image/x-wmf"/>
  <Override PartName="/ppt/media/image7.wmf" ContentType="image/x-wmf"/>
  <Override PartName="/ppt/media/image37.wmf" ContentType="image/x-wmf"/>
  <Override PartName="/ppt/media/image33.wmf" ContentType="image/x-wmf"/>
  <Override PartName="/ppt/media/image13.wmf" ContentType="image/x-wmf"/>
  <Override PartName="/ppt/media/image8.wmf" ContentType="image/x-wmf"/>
  <Override PartName="/ppt/media/image38.wmf" ContentType="image/x-wmf"/>
  <Override PartName="/ppt/media/image9.wmf" ContentType="image/x-wmf"/>
  <Override PartName="/ppt/media/image39.wmf" ContentType="image/x-wmf"/>
  <Override PartName="/ppt/media/image30.wmf" ContentType="image/x-wmf"/>
  <Override PartName="/ppt/media/image28.wmf" ContentType="image/x-wmf"/>
  <Override PartName="/ppt/media/image31.wmf" ContentType="image/x-wmf"/>
  <Override PartName="/ppt/media/image6.wmf" ContentType="image/x-wmf"/>
  <Override PartName="/ppt/media/image36.wmf" ContentType="image/x-wmf"/>
  <Override PartName="/ppt/media/image10.wmf" ContentType="image/x-wmf"/>
  <Override PartName="/ppt/media/image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29.wmf" ContentType="image/x-wmf"/>
  <Override PartName="/ppt/media/image1.png" ContentType="image/png"/>
  <Override PartName="/ppt/media/image14.wmf" ContentType="image/x-wmf"/>
  <Override PartName="/ppt/media/image2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29262-57FF-4DA0-B1C8-83A66C8DB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055FE-B3A8-49AA-A8E8-4C1B56B5A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10EBA-352C-4000-9484-D872A32A6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2E09C-0FF6-4A54-A9BF-081976610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840936-E2D1-48A9-BCF5-15A545031C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35AB3-9796-4DDA-9688-5B58E6738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12B5C-E14E-446E-B1F3-0F010F069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BEAA8-8637-4DE0-8D4B-BE16E3F13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80A60-BB1C-4BEF-B18C-8B3B4385B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54A0DF-4835-411B-B75A-DAC022EEF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77292-D80D-4131-8D58-6C2956FE2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97516-B642-4105-AD1C-5B4B9C532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701C9-9B55-4493-84AE-927BD5FBE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3B67B-667C-4E3D-BC48-5372B4841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BA625-CC53-4C66-9751-0940E936D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FD226F-A77B-43A4-A25D-6AD4191DD2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3FE331-0AB9-4BCA-ADD2-211060D5E5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9EEB6-FC4C-40BD-B0E1-5FC22A6A5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BA4F4-55AC-41FB-894A-EB048E99B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BADB3-235D-4833-B1B7-BD51EBA9E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4F9C2-7309-439F-B056-D739F0C45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73492-C7DA-4525-8571-B0921FBB2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B105E-1E1C-4F24-B0E9-E286D5B33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34A20-C70E-4778-B6C3-27186DA407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ffffff"/>
                </a:gs>
                <a:gs pos="50000">
                  <a:srgbClr val="0099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ffffff"/>
                </a:gs>
                <a:gs pos="5000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ffffff"/>
                </a:gs>
                <a:gs pos="50000">
                  <a:srgbClr val="ffffff"/>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ffffff"/>
                </a:gs>
                <a:gs pos="5000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ffffff"/>
                </a:gs>
                <a:gs pos="50000">
                  <a:srgbClr val="00336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3366"/>
                </a:gs>
                <a:gs pos="50000">
                  <a:srgbClr val="ffffff"/>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ffffff"/>
                </a:gs>
                <a:gs pos="50000">
                  <a:srgbClr val="00336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3366"/>
                </a:gs>
                <a:gs pos="50000">
                  <a:srgbClr val="ffffff"/>
                </a:gs>
                <a:gs pos="100000">
                  <a:srgbClr val="00336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2D416-D789-4967-A99E-8D772E1560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ffffff"/>
                </a:gs>
                <a:gs pos="50000">
                  <a:srgbClr val="0099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ffffff"/>
                </a:gs>
                <a:gs pos="5000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ffffff"/>
                </a:gs>
                <a:gs pos="50000">
                  <a:srgbClr val="ffffff"/>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ffffff"/>
                </a:gs>
                <a:gs pos="5000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ffffff"/>
                </a:gs>
                <a:gs pos="50000">
                  <a:srgbClr val="00336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3366"/>
                </a:gs>
                <a:gs pos="50000">
                  <a:srgbClr val="ffffff"/>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ffffff"/>
                </a:gs>
                <a:gs pos="50000">
                  <a:srgbClr val="00336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3366"/>
                </a:gs>
                <a:gs pos="50000">
                  <a:srgbClr val="ffffff"/>
                </a:gs>
                <a:gs pos="100000">
                  <a:srgbClr val="00336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18D66-7DC3-45BC-B750-96E8D58919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jpe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graphicFrame>
        <p:nvGraphicFramePr>
          <p:cNvPr id="100" name=""/>
          <p:cNvGraphicFramePr/>
          <p:nvPr/>
        </p:nvGraphicFramePr>
        <p:xfrm>
          <a:off x="533520" y="4800600"/>
          <a:ext cx="1523880" cy="1295280"/>
        </p:xfrm>
        <a:graphic>
          <a:graphicData uri="http://schemas.openxmlformats.org/presentationml/2006/ole">
            <p:oleObj r:id="rId1" spid="">
              <p:embed/>
              <p:pic>
                <p:nvPicPr>
                  <p:cNvPr id="101" name="" descr=""/>
                  <p:cNvPicPr/>
                  <p:nvPr/>
                </p:nvPicPr>
                <p:blipFill>
                  <a:blip r:embed="rId2"/>
                  <a:stretch/>
                </p:blipFill>
                <p:spPr>
                  <a:xfrm>
                    <a:off x="533520" y="4800600"/>
                    <a:ext cx="1523880" cy="1295280"/>
                  </a:xfrm>
                  <a:prstGeom prst="rect">
                    <a:avLst/>
                  </a:prstGeom>
                  <a:ln w="0">
                    <a:noFill/>
                  </a:ln>
                  <a:effectLst>
                    <a:outerShdw dist="17819" dir="2700000" blurRad="0" rotWithShape="0">
                      <a:srgbClr val="ffffff"/>
                    </a:outerShdw>
                  </a:effectLst>
                </p:spPr>
              </p:pic>
            </p:oleObj>
          </a:graphicData>
        </a:graphic>
      </p:graphicFrame>
      <p:grpSp>
        <p:nvGrpSpPr>
          <p:cNvPr id="102" name=""/>
          <p:cNvGrpSpPr/>
          <p:nvPr/>
        </p:nvGrpSpPr>
        <p:grpSpPr>
          <a:xfrm>
            <a:off x="7086600" y="4724280"/>
            <a:ext cx="1676160" cy="1523880"/>
            <a:chOff x="7086600" y="4724280"/>
            <a:chExt cx="1676160" cy="1523880"/>
          </a:xfrm>
        </p:grpSpPr>
        <p:pic>
          <p:nvPicPr>
            <p:cNvPr id="103" name="new_cdc_logo" descr=""/>
            <p:cNvPicPr/>
            <p:nvPr/>
          </p:nvPicPr>
          <p:blipFill>
            <a:blip r:embed="rId3"/>
            <a:srcRect l="2065" t="1992" r="2101" b="11989"/>
            <a:stretch/>
          </p:blipFill>
          <p:spPr>
            <a:xfrm>
              <a:off x="7086600" y="4724280"/>
              <a:ext cx="1676160" cy="1248480"/>
            </a:xfrm>
            <a:prstGeom prst="rect">
              <a:avLst/>
            </a:prstGeom>
            <a:ln w="0">
              <a:noFill/>
            </a:ln>
          </p:spPr>
        </p:pic>
        <p:grpSp>
          <p:nvGrpSpPr>
            <p:cNvPr id="104" name=""/>
            <p:cNvGrpSpPr/>
            <p:nvPr/>
          </p:nvGrpSpPr>
          <p:grpSpPr>
            <a:xfrm>
              <a:off x="7088400" y="6106680"/>
              <a:ext cx="1664280" cy="141480"/>
              <a:chOff x="7088400" y="6106680"/>
              <a:chExt cx="1664280" cy="141480"/>
            </a:xfrm>
          </p:grpSpPr>
          <p:sp>
            <p:nvSpPr>
              <p:cNvPr id="105" name=""/>
              <p:cNvSpPr/>
              <p:nvPr/>
            </p:nvSpPr>
            <p:spPr>
              <a:xfrm>
                <a:off x="7088400" y="6122520"/>
                <a:ext cx="365760" cy="125640"/>
              </a:xfrm>
              <a:custGeom>
                <a:avLst/>
                <a:gdLst/>
                <a:ahLst/>
                <a:rect l="l" t="t" r="r" b="b"/>
                <a:pathLst>
                  <a:path w="3948" h="691">
                    <a:moveTo>
                      <a:pt x="579" y="226"/>
                    </a:moveTo>
                    <a:lnTo>
                      <a:pt x="581" y="221"/>
                    </a:lnTo>
                    <a:lnTo>
                      <a:pt x="582" y="217"/>
                    </a:lnTo>
                    <a:lnTo>
                      <a:pt x="583" y="213"/>
                    </a:lnTo>
                    <a:lnTo>
                      <a:pt x="583" y="210"/>
                    </a:lnTo>
                    <a:lnTo>
                      <a:pt x="582" y="204"/>
                    </a:lnTo>
                    <a:lnTo>
                      <a:pt x="578" y="198"/>
                    </a:lnTo>
                    <a:lnTo>
                      <a:pt x="573" y="191"/>
                    </a:lnTo>
                    <a:lnTo>
                      <a:pt x="565" y="185"/>
                    </a:lnTo>
                    <a:lnTo>
                      <a:pt x="556" y="180"/>
                    </a:lnTo>
                    <a:lnTo>
                      <a:pt x="544" y="174"/>
                    </a:lnTo>
                    <a:lnTo>
                      <a:pt x="529" y="169"/>
                    </a:lnTo>
                    <a:lnTo>
                      <a:pt x="512" y="163"/>
                    </a:lnTo>
                    <a:lnTo>
                      <a:pt x="494" y="157"/>
                    </a:lnTo>
                    <a:lnTo>
                      <a:pt x="476" y="153"/>
                    </a:lnTo>
                    <a:lnTo>
                      <a:pt x="457" y="149"/>
                    </a:lnTo>
                    <a:lnTo>
                      <a:pt x="438" y="146"/>
                    </a:lnTo>
                    <a:lnTo>
                      <a:pt x="419" y="144"/>
                    </a:lnTo>
                    <a:lnTo>
                      <a:pt x="398" y="142"/>
                    </a:lnTo>
                    <a:lnTo>
                      <a:pt x="377" y="140"/>
                    </a:lnTo>
                    <a:lnTo>
                      <a:pt x="356" y="140"/>
                    </a:lnTo>
                    <a:lnTo>
                      <a:pt x="339" y="140"/>
                    </a:lnTo>
                    <a:lnTo>
                      <a:pt x="322" y="142"/>
                    </a:lnTo>
                    <a:lnTo>
                      <a:pt x="307" y="143"/>
                    </a:lnTo>
                    <a:lnTo>
                      <a:pt x="292" y="145"/>
                    </a:lnTo>
                    <a:lnTo>
                      <a:pt x="278" y="148"/>
                    </a:lnTo>
                    <a:lnTo>
                      <a:pt x="265" y="151"/>
                    </a:lnTo>
                    <a:lnTo>
                      <a:pt x="254" y="155"/>
                    </a:lnTo>
                    <a:lnTo>
                      <a:pt x="243" y="160"/>
                    </a:lnTo>
                    <a:lnTo>
                      <a:pt x="232" y="164"/>
                    </a:lnTo>
                    <a:lnTo>
                      <a:pt x="223" y="170"/>
                    </a:lnTo>
                    <a:lnTo>
                      <a:pt x="216" y="175"/>
                    </a:lnTo>
                    <a:lnTo>
                      <a:pt x="210" y="181"/>
                    </a:lnTo>
                    <a:lnTo>
                      <a:pt x="205" y="186"/>
                    </a:lnTo>
                    <a:lnTo>
                      <a:pt x="202" y="193"/>
                    </a:lnTo>
                    <a:lnTo>
                      <a:pt x="200" y="201"/>
                    </a:lnTo>
                    <a:lnTo>
                      <a:pt x="200" y="208"/>
                    </a:lnTo>
                    <a:lnTo>
                      <a:pt x="200" y="213"/>
                    </a:lnTo>
                    <a:lnTo>
                      <a:pt x="202" y="218"/>
                    </a:lnTo>
                    <a:lnTo>
                      <a:pt x="205" y="223"/>
                    </a:lnTo>
                    <a:lnTo>
                      <a:pt x="210" y="228"/>
                    </a:lnTo>
                    <a:lnTo>
                      <a:pt x="216" y="231"/>
                    </a:lnTo>
                    <a:lnTo>
                      <a:pt x="222" y="236"/>
                    </a:lnTo>
                    <a:lnTo>
                      <a:pt x="231" y="239"/>
                    </a:lnTo>
                    <a:lnTo>
                      <a:pt x="240" y="243"/>
                    </a:lnTo>
                    <a:lnTo>
                      <a:pt x="264" y="249"/>
                    </a:lnTo>
                    <a:lnTo>
                      <a:pt x="292" y="254"/>
                    </a:lnTo>
                    <a:lnTo>
                      <a:pt x="326" y="257"/>
                    </a:lnTo>
                    <a:lnTo>
                      <a:pt x="364" y="259"/>
                    </a:lnTo>
                    <a:lnTo>
                      <a:pt x="376" y="260"/>
                    </a:lnTo>
                    <a:lnTo>
                      <a:pt x="387" y="260"/>
                    </a:lnTo>
                    <a:lnTo>
                      <a:pt x="396" y="262"/>
                    </a:lnTo>
                    <a:lnTo>
                      <a:pt x="404" y="262"/>
                    </a:lnTo>
                    <a:lnTo>
                      <a:pt x="440" y="264"/>
                    </a:lnTo>
                    <a:lnTo>
                      <a:pt x="475" y="268"/>
                    </a:lnTo>
                    <a:lnTo>
                      <a:pt x="506" y="273"/>
                    </a:lnTo>
                    <a:lnTo>
                      <a:pt x="536" y="280"/>
                    </a:lnTo>
                    <a:lnTo>
                      <a:pt x="561" y="286"/>
                    </a:lnTo>
                    <a:lnTo>
                      <a:pt x="585" y="295"/>
                    </a:lnTo>
                    <a:lnTo>
                      <a:pt x="596" y="300"/>
                    </a:lnTo>
                    <a:lnTo>
                      <a:pt x="606" y="304"/>
                    </a:lnTo>
                    <a:lnTo>
                      <a:pt x="615" y="310"/>
                    </a:lnTo>
                    <a:lnTo>
                      <a:pt x="624" y="315"/>
                    </a:lnTo>
                    <a:lnTo>
                      <a:pt x="632" y="321"/>
                    </a:lnTo>
                    <a:lnTo>
                      <a:pt x="640" y="327"/>
                    </a:lnTo>
                    <a:lnTo>
                      <a:pt x="647" y="333"/>
                    </a:lnTo>
                    <a:lnTo>
                      <a:pt x="654" y="340"/>
                    </a:lnTo>
                    <a:lnTo>
                      <a:pt x="660" y="348"/>
                    </a:lnTo>
                    <a:lnTo>
                      <a:pt x="666" y="356"/>
                    </a:lnTo>
                    <a:lnTo>
                      <a:pt x="670" y="364"/>
                    </a:lnTo>
                    <a:lnTo>
                      <a:pt x="675" y="371"/>
                    </a:lnTo>
                    <a:lnTo>
                      <a:pt x="679" y="380"/>
                    </a:lnTo>
                    <a:lnTo>
                      <a:pt x="683" y="389"/>
                    </a:lnTo>
                    <a:lnTo>
                      <a:pt x="685" y="398"/>
                    </a:lnTo>
                    <a:lnTo>
                      <a:pt x="687" y="408"/>
                    </a:lnTo>
                    <a:lnTo>
                      <a:pt x="689" y="419"/>
                    </a:lnTo>
                    <a:lnTo>
                      <a:pt x="691" y="430"/>
                    </a:lnTo>
                    <a:lnTo>
                      <a:pt x="692" y="440"/>
                    </a:lnTo>
                    <a:lnTo>
                      <a:pt x="692" y="451"/>
                    </a:lnTo>
                    <a:lnTo>
                      <a:pt x="692" y="463"/>
                    </a:lnTo>
                    <a:lnTo>
                      <a:pt x="691" y="475"/>
                    </a:lnTo>
                    <a:lnTo>
                      <a:pt x="688" y="486"/>
                    </a:lnTo>
                    <a:lnTo>
                      <a:pt x="686" y="497"/>
                    </a:lnTo>
                    <a:lnTo>
                      <a:pt x="683" y="508"/>
                    </a:lnTo>
                    <a:lnTo>
                      <a:pt x="679" y="518"/>
                    </a:lnTo>
                    <a:lnTo>
                      <a:pt x="675" y="528"/>
                    </a:lnTo>
                    <a:lnTo>
                      <a:pt x="669" y="539"/>
                    </a:lnTo>
                    <a:lnTo>
                      <a:pt x="664" y="547"/>
                    </a:lnTo>
                    <a:lnTo>
                      <a:pt x="657" y="558"/>
                    </a:lnTo>
                    <a:lnTo>
                      <a:pt x="649" y="567"/>
                    </a:lnTo>
                    <a:lnTo>
                      <a:pt x="641" y="576"/>
                    </a:lnTo>
                    <a:lnTo>
                      <a:pt x="633" y="583"/>
                    </a:lnTo>
                    <a:lnTo>
                      <a:pt x="623" y="592"/>
                    </a:lnTo>
                    <a:lnTo>
                      <a:pt x="613" y="600"/>
                    </a:lnTo>
                    <a:lnTo>
                      <a:pt x="602" y="608"/>
                    </a:lnTo>
                    <a:lnTo>
                      <a:pt x="591" y="615"/>
                    </a:lnTo>
                    <a:lnTo>
                      <a:pt x="579" y="621"/>
                    </a:lnTo>
                    <a:lnTo>
                      <a:pt x="567" y="628"/>
                    </a:lnTo>
                    <a:lnTo>
                      <a:pt x="554" y="634"/>
                    </a:lnTo>
                    <a:lnTo>
                      <a:pt x="540" y="639"/>
                    </a:lnTo>
                    <a:lnTo>
                      <a:pt x="527" y="645"/>
                    </a:lnTo>
                    <a:lnTo>
                      <a:pt x="513" y="650"/>
                    </a:lnTo>
                    <a:lnTo>
                      <a:pt x="499" y="653"/>
                    </a:lnTo>
                    <a:lnTo>
                      <a:pt x="468" y="660"/>
                    </a:lnTo>
                    <a:lnTo>
                      <a:pt x="436" y="664"/>
                    </a:lnTo>
                    <a:lnTo>
                      <a:pt x="402" y="667"/>
                    </a:lnTo>
                    <a:lnTo>
                      <a:pt x="366" y="669"/>
                    </a:lnTo>
                    <a:lnTo>
                      <a:pt x="325" y="667"/>
                    </a:lnTo>
                    <a:lnTo>
                      <a:pt x="284" y="665"/>
                    </a:lnTo>
                    <a:lnTo>
                      <a:pt x="244" y="661"/>
                    </a:lnTo>
                    <a:lnTo>
                      <a:pt x="205" y="655"/>
                    </a:lnTo>
                    <a:lnTo>
                      <a:pt x="167" y="648"/>
                    </a:lnTo>
                    <a:lnTo>
                      <a:pt x="130" y="639"/>
                    </a:lnTo>
                    <a:lnTo>
                      <a:pt x="94" y="629"/>
                    </a:lnTo>
                    <a:lnTo>
                      <a:pt x="58" y="618"/>
                    </a:lnTo>
                    <a:lnTo>
                      <a:pt x="46" y="614"/>
                    </a:lnTo>
                    <a:lnTo>
                      <a:pt x="39" y="613"/>
                    </a:lnTo>
                    <a:lnTo>
                      <a:pt x="35" y="613"/>
                    </a:lnTo>
                    <a:lnTo>
                      <a:pt x="30" y="616"/>
                    </a:lnTo>
                    <a:lnTo>
                      <a:pt x="25" y="621"/>
                    </a:lnTo>
                    <a:lnTo>
                      <a:pt x="16" y="632"/>
                    </a:lnTo>
                    <a:lnTo>
                      <a:pt x="0" y="624"/>
                    </a:lnTo>
                    <a:lnTo>
                      <a:pt x="88" y="432"/>
                    </a:lnTo>
                    <a:lnTo>
                      <a:pt x="103" y="440"/>
                    </a:lnTo>
                    <a:lnTo>
                      <a:pt x="102" y="442"/>
                    </a:lnTo>
                    <a:lnTo>
                      <a:pt x="101" y="444"/>
                    </a:lnTo>
                    <a:lnTo>
                      <a:pt x="100" y="447"/>
                    </a:lnTo>
                    <a:lnTo>
                      <a:pt x="100" y="450"/>
                    </a:lnTo>
                    <a:lnTo>
                      <a:pt x="100" y="454"/>
                    </a:lnTo>
                    <a:lnTo>
                      <a:pt x="101" y="459"/>
                    </a:lnTo>
                    <a:lnTo>
                      <a:pt x="102" y="463"/>
                    </a:lnTo>
                    <a:lnTo>
                      <a:pt x="104" y="468"/>
                    </a:lnTo>
                    <a:lnTo>
                      <a:pt x="111" y="477"/>
                    </a:lnTo>
                    <a:lnTo>
                      <a:pt x="120" y="485"/>
                    </a:lnTo>
                    <a:lnTo>
                      <a:pt x="131" y="493"/>
                    </a:lnTo>
                    <a:lnTo>
                      <a:pt x="146" y="502"/>
                    </a:lnTo>
                    <a:lnTo>
                      <a:pt x="162" y="509"/>
                    </a:lnTo>
                    <a:lnTo>
                      <a:pt x="181" y="517"/>
                    </a:lnTo>
                    <a:lnTo>
                      <a:pt x="202" y="524"/>
                    </a:lnTo>
                    <a:lnTo>
                      <a:pt x="223" y="531"/>
                    </a:lnTo>
                    <a:lnTo>
                      <a:pt x="246" y="536"/>
                    </a:lnTo>
                    <a:lnTo>
                      <a:pt x="268" y="541"/>
                    </a:lnTo>
                    <a:lnTo>
                      <a:pt x="292" y="544"/>
                    </a:lnTo>
                    <a:lnTo>
                      <a:pt x="316" y="546"/>
                    </a:lnTo>
                    <a:lnTo>
                      <a:pt x="341" y="547"/>
                    </a:lnTo>
                    <a:lnTo>
                      <a:pt x="366" y="547"/>
                    </a:lnTo>
                    <a:lnTo>
                      <a:pt x="384" y="547"/>
                    </a:lnTo>
                    <a:lnTo>
                      <a:pt x="401" y="546"/>
                    </a:lnTo>
                    <a:lnTo>
                      <a:pt x="417" y="545"/>
                    </a:lnTo>
                    <a:lnTo>
                      <a:pt x="431" y="543"/>
                    </a:lnTo>
                    <a:lnTo>
                      <a:pt x="445" y="540"/>
                    </a:lnTo>
                    <a:lnTo>
                      <a:pt x="458" y="536"/>
                    </a:lnTo>
                    <a:lnTo>
                      <a:pt x="469" y="532"/>
                    </a:lnTo>
                    <a:lnTo>
                      <a:pt x="481" y="527"/>
                    </a:lnTo>
                    <a:lnTo>
                      <a:pt x="491" y="522"/>
                    </a:lnTo>
                    <a:lnTo>
                      <a:pt x="499" y="515"/>
                    </a:lnTo>
                    <a:lnTo>
                      <a:pt x="506" y="509"/>
                    </a:lnTo>
                    <a:lnTo>
                      <a:pt x="512" y="503"/>
                    </a:lnTo>
                    <a:lnTo>
                      <a:pt x="517" y="495"/>
                    </a:lnTo>
                    <a:lnTo>
                      <a:pt x="520" y="487"/>
                    </a:lnTo>
                    <a:lnTo>
                      <a:pt x="522" y="479"/>
                    </a:lnTo>
                    <a:lnTo>
                      <a:pt x="522" y="470"/>
                    </a:lnTo>
                    <a:lnTo>
                      <a:pt x="522" y="462"/>
                    </a:lnTo>
                    <a:lnTo>
                      <a:pt x="520" y="454"/>
                    </a:lnTo>
                    <a:lnTo>
                      <a:pt x="517" y="448"/>
                    </a:lnTo>
                    <a:lnTo>
                      <a:pt x="512" y="441"/>
                    </a:lnTo>
                    <a:lnTo>
                      <a:pt x="505" y="435"/>
                    </a:lnTo>
                    <a:lnTo>
                      <a:pt x="497" y="430"/>
                    </a:lnTo>
                    <a:lnTo>
                      <a:pt x="488" y="424"/>
                    </a:lnTo>
                    <a:lnTo>
                      <a:pt x="478" y="420"/>
                    </a:lnTo>
                    <a:lnTo>
                      <a:pt x="467" y="415"/>
                    </a:lnTo>
                    <a:lnTo>
                      <a:pt x="454" y="412"/>
                    </a:lnTo>
                    <a:lnTo>
                      <a:pt x="440" y="408"/>
                    </a:lnTo>
                    <a:lnTo>
                      <a:pt x="424" y="405"/>
                    </a:lnTo>
                    <a:lnTo>
                      <a:pt x="408" y="403"/>
                    </a:lnTo>
                    <a:lnTo>
                      <a:pt x="389" y="401"/>
                    </a:lnTo>
                    <a:lnTo>
                      <a:pt x="368" y="399"/>
                    </a:lnTo>
                    <a:lnTo>
                      <a:pt x="348" y="398"/>
                    </a:lnTo>
                    <a:lnTo>
                      <a:pt x="336" y="397"/>
                    </a:lnTo>
                    <a:lnTo>
                      <a:pt x="328" y="397"/>
                    </a:lnTo>
                    <a:lnTo>
                      <a:pt x="292" y="395"/>
                    </a:lnTo>
                    <a:lnTo>
                      <a:pt x="259" y="392"/>
                    </a:lnTo>
                    <a:lnTo>
                      <a:pt x="228" y="387"/>
                    </a:lnTo>
                    <a:lnTo>
                      <a:pt x="200" y="382"/>
                    </a:lnTo>
                    <a:lnTo>
                      <a:pt x="174" y="375"/>
                    </a:lnTo>
                    <a:lnTo>
                      <a:pt x="149" y="367"/>
                    </a:lnTo>
                    <a:lnTo>
                      <a:pt x="128" y="358"/>
                    </a:lnTo>
                    <a:lnTo>
                      <a:pt x="109" y="348"/>
                    </a:lnTo>
                    <a:lnTo>
                      <a:pt x="100" y="342"/>
                    </a:lnTo>
                    <a:lnTo>
                      <a:pt x="92" y="336"/>
                    </a:lnTo>
                    <a:lnTo>
                      <a:pt x="84" y="330"/>
                    </a:lnTo>
                    <a:lnTo>
                      <a:pt x="77" y="323"/>
                    </a:lnTo>
                    <a:lnTo>
                      <a:pt x="71" y="315"/>
                    </a:lnTo>
                    <a:lnTo>
                      <a:pt x="65" y="309"/>
                    </a:lnTo>
                    <a:lnTo>
                      <a:pt x="60" y="301"/>
                    </a:lnTo>
                    <a:lnTo>
                      <a:pt x="55" y="293"/>
                    </a:lnTo>
                    <a:lnTo>
                      <a:pt x="51" y="285"/>
                    </a:lnTo>
                    <a:lnTo>
                      <a:pt x="47" y="276"/>
                    </a:lnTo>
                    <a:lnTo>
                      <a:pt x="44" y="267"/>
                    </a:lnTo>
                    <a:lnTo>
                      <a:pt x="40" y="258"/>
                    </a:lnTo>
                    <a:lnTo>
                      <a:pt x="39" y="249"/>
                    </a:lnTo>
                    <a:lnTo>
                      <a:pt x="37" y="239"/>
                    </a:lnTo>
                    <a:lnTo>
                      <a:pt x="37" y="229"/>
                    </a:lnTo>
                    <a:lnTo>
                      <a:pt x="36" y="218"/>
                    </a:lnTo>
                    <a:lnTo>
                      <a:pt x="37" y="208"/>
                    </a:lnTo>
                    <a:lnTo>
                      <a:pt x="38" y="197"/>
                    </a:lnTo>
                    <a:lnTo>
                      <a:pt x="39" y="186"/>
                    </a:lnTo>
                    <a:lnTo>
                      <a:pt x="42" y="176"/>
                    </a:lnTo>
                    <a:lnTo>
                      <a:pt x="45" y="166"/>
                    </a:lnTo>
                    <a:lnTo>
                      <a:pt x="48" y="157"/>
                    </a:lnTo>
                    <a:lnTo>
                      <a:pt x="53" y="147"/>
                    </a:lnTo>
                    <a:lnTo>
                      <a:pt x="57" y="138"/>
                    </a:lnTo>
                    <a:lnTo>
                      <a:pt x="63" y="130"/>
                    </a:lnTo>
                    <a:lnTo>
                      <a:pt x="70" y="121"/>
                    </a:lnTo>
                    <a:lnTo>
                      <a:pt x="76" y="112"/>
                    </a:lnTo>
                    <a:lnTo>
                      <a:pt x="84" y="105"/>
                    </a:lnTo>
                    <a:lnTo>
                      <a:pt x="92" y="97"/>
                    </a:lnTo>
                    <a:lnTo>
                      <a:pt x="101" y="90"/>
                    </a:lnTo>
                    <a:lnTo>
                      <a:pt x="111" y="82"/>
                    </a:lnTo>
                    <a:lnTo>
                      <a:pt x="121" y="75"/>
                    </a:lnTo>
                    <a:lnTo>
                      <a:pt x="131" y="69"/>
                    </a:lnTo>
                    <a:lnTo>
                      <a:pt x="143" y="62"/>
                    </a:lnTo>
                    <a:lnTo>
                      <a:pt x="155" y="56"/>
                    </a:lnTo>
                    <a:lnTo>
                      <a:pt x="167" y="51"/>
                    </a:lnTo>
                    <a:lnTo>
                      <a:pt x="192" y="42"/>
                    </a:lnTo>
                    <a:lnTo>
                      <a:pt x="219" y="34"/>
                    </a:lnTo>
                    <a:lnTo>
                      <a:pt x="248" y="28"/>
                    </a:lnTo>
                    <a:lnTo>
                      <a:pt x="278" y="24"/>
                    </a:lnTo>
                    <a:lnTo>
                      <a:pt x="311" y="22"/>
                    </a:lnTo>
                    <a:lnTo>
                      <a:pt x="345" y="21"/>
                    </a:lnTo>
                    <a:lnTo>
                      <a:pt x="366" y="21"/>
                    </a:lnTo>
                    <a:lnTo>
                      <a:pt x="389" y="22"/>
                    </a:lnTo>
                    <a:lnTo>
                      <a:pt x="411" y="24"/>
                    </a:lnTo>
                    <a:lnTo>
                      <a:pt x="433" y="27"/>
                    </a:lnTo>
                    <a:lnTo>
                      <a:pt x="456" y="31"/>
                    </a:lnTo>
                    <a:lnTo>
                      <a:pt x="479" y="35"/>
                    </a:lnTo>
                    <a:lnTo>
                      <a:pt x="503" y="41"/>
                    </a:lnTo>
                    <a:lnTo>
                      <a:pt x="527" y="46"/>
                    </a:lnTo>
                    <a:lnTo>
                      <a:pt x="568" y="59"/>
                    </a:lnTo>
                    <a:lnTo>
                      <a:pt x="600" y="66"/>
                    </a:lnTo>
                    <a:lnTo>
                      <a:pt x="619" y="71"/>
                    </a:lnTo>
                    <a:lnTo>
                      <a:pt x="628" y="73"/>
                    </a:lnTo>
                    <a:lnTo>
                      <a:pt x="638" y="72"/>
                    </a:lnTo>
                    <a:lnTo>
                      <a:pt x="646" y="70"/>
                    </a:lnTo>
                    <a:lnTo>
                      <a:pt x="651" y="65"/>
                    </a:lnTo>
                    <a:lnTo>
                      <a:pt x="656" y="58"/>
                    </a:lnTo>
                    <a:lnTo>
                      <a:pt x="672" y="65"/>
                    </a:lnTo>
                    <a:lnTo>
                      <a:pt x="594" y="234"/>
                    </a:lnTo>
                    <a:lnTo>
                      <a:pt x="579" y="226"/>
                    </a:lnTo>
                    <a:close/>
                    <a:moveTo>
                      <a:pt x="1025" y="422"/>
                    </a:moveTo>
                    <a:lnTo>
                      <a:pt x="1236" y="422"/>
                    </a:lnTo>
                    <a:lnTo>
                      <a:pt x="1127" y="145"/>
                    </a:lnTo>
                    <a:lnTo>
                      <a:pt x="1025" y="422"/>
                    </a:lnTo>
                    <a:close/>
                    <a:moveTo>
                      <a:pt x="1290" y="661"/>
                    </a:moveTo>
                    <a:lnTo>
                      <a:pt x="1290" y="644"/>
                    </a:lnTo>
                    <a:lnTo>
                      <a:pt x="1300" y="641"/>
                    </a:lnTo>
                    <a:lnTo>
                      <a:pt x="1307" y="636"/>
                    </a:lnTo>
                    <a:lnTo>
                      <a:pt x="1310" y="634"/>
                    </a:lnTo>
                    <a:lnTo>
                      <a:pt x="1312" y="630"/>
                    </a:lnTo>
                    <a:lnTo>
                      <a:pt x="1313" y="627"/>
                    </a:lnTo>
                    <a:lnTo>
                      <a:pt x="1313" y="623"/>
                    </a:lnTo>
                    <a:lnTo>
                      <a:pt x="1313" y="618"/>
                    </a:lnTo>
                    <a:lnTo>
                      <a:pt x="1312" y="613"/>
                    </a:lnTo>
                    <a:lnTo>
                      <a:pt x="1309" y="605"/>
                    </a:lnTo>
                    <a:lnTo>
                      <a:pt x="1306" y="595"/>
                    </a:lnTo>
                    <a:lnTo>
                      <a:pt x="1280" y="527"/>
                    </a:lnTo>
                    <a:lnTo>
                      <a:pt x="988" y="527"/>
                    </a:lnTo>
                    <a:lnTo>
                      <a:pt x="962" y="595"/>
                    </a:lnTo>
                    <a:lnTo>
                      <a:pt x="960" y="600"/>
                    </a:lnTo>
                    <a:lnTo>
                      <a:pt x="958" y="606"/>
                    </a:lnTo>
                    <a:lnTo>
                      <a:pt x="957" y="610"/>
                    </a:lnTo>
                    <a:lnTo>
                      <a:pt x="957" y="616"/>
                    </a:lnTo>
                    <a:lnTo>
                      <a:pt x="958" y="620"/>
                    </a:lnTo>
                    <a:lnTo>
                      <a:pt x="959" y="626"/>
                    </a:lnTo>
                    <a:lnTo>
                      <a:pt x="960" y="630"/>
                    </a:lnTo>
                    <a:lnTo>
                      <a:pt x="963" y="634"/>
                    </a:lnTo>
                    <a:lnTo>
                      <a:pt x="967" y="637"/>
                    </a:lnTo>
                    <a:lnTo>
                      <a:pt x="971" y="639"/>
                    </a:lnTo>
                    <a:lnTo>
                      <a:pt x="976" y="642"/>
                    </a:lnTo>
                    <a:lnTo>
                      <a:pt x="983" y="644"/>
                    </a:lnTo>
                    <a:lnTo>
                      <a:pt x="983" y="661"/>
                    </a:lnTo>
                    <a:lnTo>
                      <a:pt x="768" y="661"/>
                    </a:lnTo>
                    <a:lnTo>
                      <a:pt x="768" y="644"/>
                    </a:lnTo>
                    <a:lnTo>
                      <a:pt x="775" y="639"/>
                    </a:lnTo>
                    <a:lnTo>
                      <a:pt x="783" y="633"/>
                    </a:lnTo>
                    <a:lnTo>
                      <a:pt x="789" y="626"/>
                    </a:lnTo>
                    <a:lnTo>
                      <a:pt x="796" y="617"/>
                    </a:lnTo>
                    <a:lnTo>
                      <a:pt x="803" y="607"/>
                    </a:lnTo>
                    <a:lnTo>
                      <a:pt x="810" y="595"/>
                    </a:lnTo>
                    <a:lnTo>
                      <a:pt x="815" y="582"/>
                    </a:lnTo>
                    <a:lnTo>
                      <a:pt x="821" y="568"/>
                    </a:lnTo>
                    <a:lnTo>
                      <a:pt x="822" y="562"/>
                    </a:lnTo>
                    <a:lnTo>
                      <a:pt x="824" y="558"/>
                    </a:lnTo>
                    <a:lnTo>
                      <a:pt x="989" y="105"/>
                    </a:lnTo>
                    <a:lnTo>
                      <a:pt x="994" y="92"/>
                    </a:lnTo>
                    <a:lnTo>
                      <a:pt x="997" y="81"/>
                    </a:lnTo>
                    <a:lnTo>
                      <a:pt x="999" y="73"/>
                    </a:lnTo>
                    <a:lnTo>
                      <a:pt x="1001" y="68"/>
                    </a:lnTo>
                    <a:lnTo>
                      <a:pt x="1001" y="63"/>
                    </a:lnTo>
                    <a:lnTo>
                      <a:pt x="999" y="59"/>
                    </a:lnTo>
                    <a:lnTo>
                      <a:pt x="998" y="56"/>
                    </a:lnTo>
                    <a:lnTo>
                      <a:pt x="996" y="53"/>
                    </a:lnTo>
                    <a:lnTo>
                      <a:pt x="994" y="52"/>
                    </a:lnTo>
                    <a:lnTo>
                      <a:pt x="990" y="50"/>
                    </a:lnTo>
                    <a:lnTo>
                      <a:pt x="987" y="49"/>
                    </a:lnTo>
                    <a:lnTo>
                      <a:pt x="983" y="47"/>
                    </a:lnTo>
                    <a:lnTo>
                      <a:pt x="983" y="32"/>
                    </a:lnTo>
                    <a:lnTo>
                      <a:pt x="1296" y="32"/>
                    </a:lnTo>
                    <a:lnTo>
                      <a:pt x="1296" y="47"/>
                    </a:lnTo>
                    <a:lnTo>
                      <a:pt x="1291" y="49"/>
                    </a:lnTo>
                    <a:lnTo>
                      <a:pt x="1288" y="50"/>
                    </a:lnTo>
                    <a:lnTo>
                      <a:pt x="1285" y="52"/>
                    </a:lnTo>
                    <a:lnTo>
                      <a:pt x="1282" y="53"/>
                    </a:lnTo>
                    <a:lnTo>
                      <a:pt x="1280" y="56"/>
                    </a:lnTo>
                    <a:lnTo>
                      <a:pt x="1279" y="59"/>
                    </a:lnTo>
                    <a:lnTo>
                      <a:pt x="1278" y="63"/>
                    </a:lnTo>
                    <a:lnTo>
                      <a:pt x="1278" y="68"/>
                    </a:lnTo>
                    <a:lnTo>
                      <a:pt x="1279" y="72"/>
                    </a:lnTo>
                    <a:lnTo>
                      <a:pt x="1281" y="81"/>
                    </a:lnTo>
                    <a:lnTo>
                      <a:pt x="1285" y="92"/>
                    </a:lnTo>
                    <a:lnTo>
                      <a:pt x="1289" y="105"/>
                    </a:lnTo>
                    <a:lnTo>
                      <a:pt x="1490" y="609"/>
                    </a:lnTo>
                    <a:lnTo>
                      <a:pt x="1490" y="610"/>
                    </a:lnTo>
                    <a:lnTo>
                      <a:pt x="1490" y="611"/>
                    </a:lnTo>
                    <a:lnTo>
                      <a:pt x="1492" y="617"/>
                    </a:lnTo>
                    <a:lnTo>
                      <a:pt x="1496" y="623"/>
                    </a:lnTo>
                    <a:lnTo>
                      <a:pt x="1499" y="628"/>
                    </a:lnTo>
                    <a:lnTo>
                      <a:pt x="1502" y="633"/>
                    </a:lnTo>
                    <a:lnTo>
                      <a:pt x="1507" y="636"/>
                    </a:lnTo>
                    <a:lnTo>
                      <a:pt x="1511" y="639"/>
                    </a:lnTo>
                    <a:lnTo>
                      <a:pt x="1516" y="642"/>
                    </a:lnTo>
                    <a:lnTo>
                      <a:pt x="1520" y="644"/>
                    </a:lnTo>
                    <a:lnTo>
                      <a:pt x="1520" y="661"/>
                    </a:lnTo>
                    <a:lnTo>
                      <a:pt x="1290" y="661"/>
                    </a:lnTo>
                    <a:close/>
                    <a:moveTo>
                      <a:pt x="1635" y="661"/>
                    </a:moveTo>
                    <a:lnTo>
                      <a:pt x="1635" y="644"/>
                    </a:lnTo>
                    <a:lnTo>
                      <a:pt x="1644" y="642"/>
                    </a:lnTo>
                    <a:lnTo>
                      <a:pt x="1651" y="639"/>
                    </a:lnTo>
                    <a:lnTo>
                      <a:pt x="1655" y="637"/>
                    </a:lnTo>
                    <a:lnTo>
                      <a:pt x="1660" y="634"/>
                    </a:lnTo>
                    <a:lnTo>
                      <a:pt x="1662" y="629"/>
                    </a:lnTo>
                    <a:lnTo>
                      <a:pt x="1663" y="625"/>
                    </a:lnTo>
                    <a:lnTo>
                      <a:pt x="1664" y="618"/>
                    </a:lnTo>
                    <a:lnTo>
                      <a:pt x="1665" y="609"/>
                    </a:lnTo>
                    <a:lnTo>
                      <a:pt x="1665" y="83"/>
                    </a:lnTo>
                    <a:lnTo>
                      <a:pt x="1664" y="75"/>
                    </a:lnTo>
                    <a:lnTo>
                      <a:pt x="1663" y="69"/>
                    </a:lnTo>
                    <a:lnTo>
                      <a:pt x="1662" y="63"/>
                    </a:lnTo>
                    <a:lnTo>
                      <a:pt x="1660" y="59"/>
                    </a:lnTo>
                    <a:lnTo>
                      <a:pt x="1655" y="56"/>
                    </a:lnTo>
                    <a:lnTo>
                      <a:pt x="1651" y="53"/>
                    </a:lnTo>
                    <a:lnTo>
                      <a:pt x="1644" y="51"/>
                    </a:lnTo>
                    <a:lnTo>
                      <a:pt x="1635" y="47"/>
                    </a:lnTo>
                    <a:lnTo>
                      <a:pt x="1635" y="32"/>
                    </a:lnTo>
                    <a:lnTo>
                      <a:pt x="2218" y="32"/>
                    </a:lnTo>
                    <a:lnTo>
                      <a:pt x="2226" y="31"/>
                    </a:lnTo>
                    <a:lnTo>
                      <a:pt x="2232" y="31"/>
                    </a:lnTo>
                    <a:lnTo>
                      <a:pt x="2238" y="28"/>
                    </a:lnTo>
                    <a:lnTo>
                      <a:pt x="2243" y="26"/>
                    </a:lnTo>
                    <a:lnTo>
                      <a:pt x="2245" y="22"/>
                    </a:lnTo>
                    <a:lnTo>
                      <a:pt x="2248" y="16"/>
                    </a:lnTo>
                    <a:lnTo>
                      <a:pt x="2251" y="9"/>
                    </a:lnTo>
                    <a:lnTo>
                      <a:pt x="2254" y="0"/>
                    </a:lnTo>
                    <a:lnTo>
                      <a:pt x="2269" y="0"/>
                    </a:lnTo>
                    <a:lnTo>
                      <a:pt x="2269" y="210"/>
                    </a:lnTo>
                    <a:lnTo>
                      <a:pt x="2254" y="210"/>
                    </a:lnTo>
                    <a:lnTo>
                      <a:pt x="2250" y="201"/>
                    </a:lnTo>
                    <a:lnTo>
                      <a:pt x="2248" y="194"/>
                    </a:lnTo>
                    <a:lnTo>
                      <a:pt x="2245" y="189"/>
                    </a:lnTo>
                    <a:lnTo>
                      <a:pt x="2241" y="185"/>
                    </a:lnTo>
                    <a:lnTo>
                      <a:pt x="2238" y="183"/>
                    </a:lnTo>
                    <a:lnTo>
                      <a:pt x="2232" y="182"/>
                    </a:lnTo>
                    <a:lnTo>
                      <a:pt x="2226" y="181"/>
                    </a:lnTo>
                    <a:lnTo>
                      <a:pt x="2218" y="181"/>
                    </a:lnTo>
                    <a:lnTo>
                      <a:pt x="1843" y="181"/>
                    </a:lnTo>
                    <a:lnTo>
                      <a:pt x="1843" y="287"/>
                    </a:lnTo>
                    <a:lnTo>
                      <a:pt x="2089" y="287"/>
                    </a:lnTo>
                    <a:lnTo>
                      <a:pt x="2097" y="286"/>
                    </a:lnTo>
                    <a:lnTo>
                      <a:pt x="2103" y="285"/>
                    </a:lnTo>
                    <a:lnTo>
                      <a:pt x="2109" y="283"/>
                    </a:lnTo>
                    <a:lnTo>
                      <a:pt x="2113" y="281"/>
                    </a:lnTo>
                    <a:lnTo>
                      <a:pt x="2117" y="277"/>
                    </a:lnTo>
                    <a:lnTo>
                      <a:pt x="2120" y="272"/>
                    </a:lnTo>
                    <a:lnTo>
                      <a:pt x="2122" y="265"/>
                    </a:lnTo>
                    <a:lnTo>
                      <a:pt x="2125" y="257"/>
                    </a:lnTo>
                    <a:lnTo>
                      <a:pt x="2141" y="257"/>
                    </a:lnTo>
                    <a:lnTo>
                      <a:pt x="2141" y="452"/>
                    </a:lnTo>
                    <a:lnTo>
                      <a:pt x="2125" y="452"/>
                    </a:lnTo>
                    <a:lnTo>
                      <a:pt x="2122" y="444"/>
                    </a:lnTo>
                    <a:lnTo>
                      <a:pt x="2119" y="438"/>
                    </a:lnTo>
                    <a:lnTo>
                      <a:pt x="2117" y="432"/>
                    </a:lnTo>
                    <a:lnTo>
                      <a:pt x="2113" y="429"/>
                    </a:lnTo>
                    <a:lnTo>
                      <a:pt x="2109" y="425"/>
                    </a:lnTo>
                    <a:lnTo>
                      <a:pt x="2103" y="424"/>
                    </a:lnTo>
                    <a:lnTo>
                      <a:pt x="2097" y="423"/>
                    </a:lnTo>
                    <a:lnTo>
                      <a:pt x="2089" y="422"/>
                    </a:lnTo>
                    <a:lnTo>
                      <a:pt x="1843" y="422"/>
                    </a:lnTo>
                    <a:lnTo>
                      <a:pt x="1843" y="609"/>
                    </a:lnTo>
                    <a:lnTo>
                      <a:pt x="1843" y="617"/>
                    </a:lnTo>
                    <a:lnTo>
                      <a:pt x="1844" y="624"/>
                    </a:lnTo>
                    <a:lnTo>
                      <a:pt x="1846" y="629"/>
                    </a:lnTo>
                    <a:lnTo>
                      <a:pt x="1848" y="633"/>
                    </a:lnTo>
                    <a:lnTo>
                      <a:pt x="1852" y="636"/>
                    </a:lnTo>
                    <a:lnTo>
                      <a:pt x="1857" y="639"/>
                    </a:lnTo>
                    <a:lnTo>
                      <a:pt x="1865" y="642"/>
                    </a:lnTo>
                    <a:lnTo>
                      <a:pt x="1873" y="644"/>
                    </a:lnTo>
                    <a:lnTo>
                      <a:pt x="1873" y="661"/>
                    </a:lnTo>
                    <a:lnTo>
                      <a:pt x="1635" y="661"/>
                    </a:lnTo>
                    <a:close/>
                    <a:moveTo>
                      <a:pt x="3000" y="513"/>
                    </a:moveTo>
                    <a:lnTo>
                      <a:pt x="3008" y="512"/>
                    </a:lnTo>
                    <a:lnTo>
                      <a:pt x="3015" y="512"/>
                    </a:lnTo>
                    <a:lnTo>
                      <a:pt x="3020" y="509"/>
                    </a:lnTo>
                    <a:lnTo>
                      <a:pt x="3024" y="507"/>
                    </a:lnTo>
                    <a:lnTo>
                      <a:pt x="3027" y="504"/>
                    </a:lnTo>
                    <a:lnTo>
                      <a:pt x="3030" y="498"/>
                    </a:lnTo>
                    <a:lnTo>
                      <a:pt x="3033" y="491"/>
                    </a:lnTo>
                    <a:lnTo>
                      <a:pt x="3035" y="482"/>
                    </a:lnTo>
                    <a:lnTo>
                      <a:pt x="3052" y="482"/>
                    </a:lnTo>
                    <a:lnTo>
                      <a:pt x="3052" y="691"/>
                    </a:lnTo>
                    <a:lnTo>
                      <a:pt x="3035" y="691"/>
                    </a:lnTo>
                    <a:lnTo>
                      <a:pt x="3033" y="682"/>
                    </a:lnTo>
                    <a:lnTo>
                      <a:pt x="3030" y="675"/>
                    </a:lnTo>
                    <a:lnTo>
                      <a:pt x="3027" y="671"/>
                    </a:lnTo>
                    <a:lnTo>
                      <a:pt x="3024" y="666"/>
                    </a:lnTo>
                    <a:lnTo>
                      <a:pt x="3021" y="664"/>
                    </a:lnTo>
                    <a:lnTo>
                      <a:pt x="3015" y="663"/>
                    </a:lnTo>
                    <a:lnTo>
                      <a:pt x="3008" y="662"/>
                    </a:lnTo>
                    <a:lnTo>
                      <a:pt x="3000" y="661"/>
                    </a:lnTo>
                    <a:lnTo>
                      <a:pt x="2431" y="661"/>
                    </a:lnTo>
                    <a:lnTo>
                      <a:pt x="2431" y="644"/>
                    </a:lnTo>
                    <a:lnTo>
                      <a:pt x="2440" y="642"/>
                    </a:lnTo>
                    <a:lnTo>
                      <a:pt x="2447" y="639"/>
                    </a:lnTo>
                    <a:lnTo>
                      <a:pt x="2452" y="637"/>
                    </a:lnTo>
                    <a:lnTo>
                      <a:pt x="2456" y="634"/>
                    </a:lnTo>
                    <a:lnTo>
                      <a:pt x="2458" y="629"/>
                    </a:lnTo>
                    <a:lnTo>
                      <a:pt x="2460" y="625"/>
                    </a:lnTo>
                    <a:lnTo>
                      <a:pt x="2461" y="618"/>
                    </a:lnTo>
                    <a:lnTo>
                      <a:pt x="2461" y="609"/>
                    </a:lnTo>
                    <a:lnTo>
                      <a:pt x="2461" y="83"/>
                    </a:lnTo>
                    <a:lnTo>
                      <a:pt x="2461" y="75"/>
                    </a:lnTo>
                    <a:lnTo>
                      <a:pt x="2460" y="69"/>
                    </a:lnTo>
                    <a:lnTo>
                      <a:pt x="2458" y="63"/>
                    </a:lnTo>
                    <a:lnTo>
                      <a:pt x="2456" y="59"/>
                    </a:lnTo>
                    <a:lnTo>
                      <a:pt x="2452" y="56"/>
                    </a:lnTo>
                    <a:lnTo>
                      <a:pt x="2447" y="53"/>
                    </a:lnTo>
                    <a:lnTo>
                      <a:pt x="2440" y="51"/>
                    </a:lnTo>
                    <a:lnTo>
                      <a:pt x="2431" y="47"/>
                    </a:lnTo>
                    <a:lnTo>
                      <a:pt x="2431" y="32"/>
                    </a:lnTo>
                    <a:lnTo>
                      <a:pt x="3002" y="32"/>
                    </a:lnTo>
                    <a:lnTo>
                      <a:pt x="3009" y="31"/>
                    </a:lnTo>
                    <a:lnTo>
                      <a:pt x="3016" y="29"/>
                    </a:lnTo>
                    <a:lnTo>
                      <a:pt x="3021" y="28"/>
                    </a:lnTo>
                    <a:lnTo>
                      <a:pt x="3025" y="25"/>
                    </a:lnTo>
                    <a:lnTo>
                      <a:pt x="3029" y="22"/>
                    </a:lnTo>
                    <a:lnTo>
                      <a:pt x="3031" y="16"/>
                    </a:lnTo>
                    <a:lnTo>
                      <a:pt x="3033" y="9"/>
                    </a:lnTo>
                    <a:lnTo>
                      <a:pt x="3035" y="0"/>
                    </a:lnTo>
                    <a:lnTo>
                      <a:pt x="3052" y="0"/>
                    </a:lnTo>
                    <a:lnTo>
                      <a:pt x="3052" y="210"/>
                    </a:lnTo>
                    <a:lnTo>
                      <a:pt x="3035" y="210"/>
                    </a:lnTo>
                    <a:lnTo>
                      <a:pt x="3033" y="201"/>
                    </a:lnTo>
                    <a:lnTo>
                      <a:pt x="3031" y="194"/>
                    </a:lnTo>
                    <a:lnTo>
                      <a:pt x="3027" y="190"/>
                    </a:lnTo>
                    <a:lnTo>
                      <a:pt x="3024" y="185"/>
                    </a:lnTo>
                    <a:lnTo>
                      <a:pt x="3021" y="183"/>
                    </a:lnTo>
                    <a:lnTo>
                      <a:pt x="3015" y="182"/>
                    </a:lnTo>
                    <a:lnTo>
                      <a:pt x="3009" y="181"/>
                    </a:lnTo>
                    <a:lnTo>
                      <a:pt x="3002" y="181"/>
                    </a:lnTo>
                    <a:lnTo>
                      <a:pt x="2639" y="181"/>
                    </a:lnTo>
                    <a:lnTo>
                      <a:pt x="2639" y="268"/>
                    </a:lnTo>
                    <a:lnTo>
                      <a:pt x="2857" y="268"/>
                    </a:lnTo>
                    <a:lnTo>
                      <a:pt x="2865" y="268"/>
                    </a:lnTo>
                    <a:lnTo>
                      <a:pt x="2871" y="267"/>
                    </a:lnTo>
                    <a:lnTo>
                      <a:pt x="2876" y="266"/>
                    </a:lnTo>
                    <a:lnTo>
                      <a:pt x="2880" y="263"/>
                    </a:lnTo>
                    <a:lnTo>
                      <a:pt x="2884" y="259"/>
                    </a:lnTo>
                    <a:lnTo>
                      <a:pt x="2887" y="254"/>
                    </a:lnTo>
                    <a:lnTo>
                      <a:pt x="2889" y="247"/>
                    </a:lnTo>
                    <a:lnTo>
                      <a:pt x="2893" y="239"/>
                    </a:lnTo>
                    <a:lnTo>
                      <a:pt x="2910" y="239"/>
                    </a:lnTo>
                    <a:lnTo>
                      <a:pt x="2910" y="434"/>
                    </a:lnTo>
                    <a:lnTo>
                      <a:pt x="2893" y="434"/>
                    </a:lnTo>
                    <a:lnTo>
                      <a:pt x="2889" y="426"/>
                    </a:lnTo>
                    <a:lnTo>
                      <a:pt x="2886" y="419"/>
                    </a:lnTo>
                    <a:lnTo>
                      <a:pt x="2884" y="414"/>
                    </a:lnTo>
                    <a:lnTo>
                      <a:pt x="2880" y="411"/>
                    </a:lnTo>
                    <a:lnTo>
                      <a:pt x="2876" y="407"/>
                    </a:lnTo>
                    <a:lnTo>
                      <a:pt x="2870" y="406"/>
                    </a:lnTo>
                    <a:lnTo>
                      <a:pt x="2865" y="405"/>
                    </a:lnTo>
                    <a:lnTo>
                      <a:pt x="2857" y="405"/>
                    </a:lnTo>
                    <a:lnTo>
                      <a:pt x="2639" y="405"/>
                    </a:lnTo>
                    <a:lnTo>
                      <a:pt x="2639" y="513"/>
                    </a:lnTo>
                    <a:lnTo>
                      <a:pt x="3000" y="513"/>
                    </a:lnTo>
                    <a:close/>
                    <a:moveTo>
                      <a:pt x="3257" y="661"/>
                    </a:moveTo>
                    <a:lnTo>
                      <a:pt x="3257" y="644"/>
                    </a:lnTo>
                    <a:lnTo>
                      <a:pt x="3266" y="642"/>
                    </a:lnTo>
                    <a:lnTo>
                      <a:pt x="3272" y="639"/>
                    </a:lnTo>
                    <a:lnTo>
                      <a:pt x="3277" y="637"/>
                    </a:lnTo>
                    <a:lnTo>
                      <a:pt x="3281" y="634"/>
                    </a:lnTo>
                    <a:lnTo>
                      <a:pt x="3283" y="629"/>
                    </a:lnTo>
                    <a:lnTo>
                      <a:pt x="3285" y="625"/>
                    </a:lnTo>
                    <a:lnTo>
                      <a:pt x="3286" y="618"/>
                    </a:lnTo>
                    <a:lnTo>
                      <a:pt x="3287" y="609"/>
                    </a:lnTo>
                    <a:lnTo>
                      <a:pt x="3287" y="83"/>
                    </a:lnTo>
                    <a:lnTo>
                      <a:pt x="3286" y="75"/>
                    </a:lnTo>
                    <a:lnTo>
                      <a:pt x="3285" y="69"/>
                    </a:lnTo>
                    <a:lnTo>
                      <a:pt x="3283" y="63"/>
                    </a:lnTo>
                    <a:lnTo>
                      <a:pt x="3281" y="59"/>
                    </a:lnTo>
                    <a:lnTo>
                      <a:pt x="3277" y="56"/>
                    </a:lnTo>
                    <a:lnTo>
                      <a:pt x="3272" y="53"/>
                    </a:lnTo>
                    <a:lnTo>
                      <a:pt x="3266" y="51"/>
                    </a:lnTo>
                    <a:lnTo>
                      <a:pt x="3257" y="47"/>
                    </a:lnTo>
                    <a:lnTo>
                      <a:pt x="3257" y="32"/>
                    </a:lnTo>
                    <a:lnTo>
                      <a:pt x="3694" y="32"/>
                    </a:lnTo>
                    <a:lnTo>
                      <a:pt x="3724" y="33"/>
                    </a:lnTo>
                    <a:lnTo>
                      <a:pt x="3751" y="35"/>
                    </a:lnTo>
                    <a:lnTo>
                      <a:pt x="3775" y="38"/>
                    </a:lnTo>
                    <a:lnTo>
                      <a:pt x="3799" y="44"/>
                    </a:lnTo>
                    <a:lnTo>
                      <a:pt x="3821" y="52"/>
                    </a:lnTo>
                    <a:lnTo>
                      <a:pt x="3842" y="61"/>
                    </a:lnTo>
                    <a:lnTo>
                      <a:pt x="3852" y="66"/>
                    </a:lnTo>
                    <a:lnTo>
                      <a:pt x="3861" y="72"/>
                    </a:lnTo>
                    <a:lnTo>
                      <a:pt x="3870" y="78"/>
                    </a:lnTo>
                    <a:lnTo>
                      <a:pt x="3878" y="84"/>
                    </a:lnTo>
                    <a:lnTo>
                      <a:pt x="3885" y="91"/>
                    </a:lnTo>
                    <a:lnTo>
                      <a:pt x="3893" y="98"/>
                    </a:lnTo>
                    <a:lnTo>
                      <a:pt x="3900" y="105"/>
                    </a:lnTo>
                    <a:lnTo>
                      <a:pt x="3907" y="112"/>
                    </a:lnTo>
                    <a:lnTo>
                      <a:pt x="3912" y="120"/>
                    </a:lnTo>
                    <a:lnTo>
                      <a:pt x="3918" y="129"/>
                    </a:lnTo>
                    <a:lnTo>
                      <a:pt x="3922" y="138"/>
                    </a:lnTo>
                    <a:lnTo>
                      <a:pt x="3927" y="147"/>
                    </a:lnTo>
                    <a:lnTo>
                      <a:pt x="3930" y="156"/>
                    </a:lnTo>
                    <a:lnTo>
                      <a:pt x="3934" y="166"/>
                    </a:lnTo>
                    <a:lnTo>
                      <a:pt x="3937" y="176"/>
                    </a:lnTo>
                    <a:lnTo>
                      <a:pt x="3939" y="186"/>
                    </a:lnTo>
                    <a:lnTo>
                      <a:pt x="3943" y="208"/>
                    </a:lnTo>
                    <a:lnTo>
                      <a:pt x="3943" y="230"/>
                    </a:lnTo>
                    <a:lnTo>
                      <a:pt x="3943" y="248"/>
                    </a:lnTo>
                    <a:lnTo>
                      <a:pt x="3940" y="266"/>
                    </a:lnTo>
                    <a:lnTo>
                      <a:pt x="3937" y="282"/>
                    </a:lnTo>
                    <a:lnTo>
                      <a:pt x="3933" y="297"/>
                    </a:lnTo>
                    <a:lnTo>
                      <a:pt x="3927" y="313"/>
                    </a:lnTo>
                    <a:lnTo>
                      <a:pt x="3920" y="328"/>
                    </a:lnTo>
                    <a:lnTo>
                      <a:pt x="3912" y="341"/>
                    </a:lnTo>
                    <a:lnTo>
                      <a:pt x="3902" y="354"/>
                    </a:lnTo>
                    <a:lnTo>
                      <a:pt x="3892" y="366"/>
                    </a:lnTo>
                    <a:lnTo>
                      <a:pt x="3880" y="377"/>
                    </a:lnTo>
                    <a:lnTo>
                      <a:pt x="3866" y="387"/>
                    </a:lnTo>
                    <a:lnTo>
                      <a:pt x="3852" y="396"/>
                    </a:lnTo>
                    <a:lnTo>
                      <a:pt x="3836" y="405"/>
                    </a:lnTo>
                    <a:lnTo>
                      <a:pt x="3819" y="413"/>
                    </a:lnTo>
                    <a:lnTo>
                      <a:pt x="3801" y="420"/>
                    </a:lnTo>
                    <a:lnTo>
                      <a:pt x="3781" y="426"/>
                    </a:lnTo>
                    <a:lnTo>
                      <a:pt x="3875" y="573"/>
                    </a:lnTo>
                    <a:lnTo>
                      <a:pt x="3886" y="592"/>
                    </a:lnTo>
                    <a:lnTo>
                      <a:pt x="3898" y="607"/>
                    </a:lnTo>
                    <a:lnTo>
                      <a:pt x="3907" y="619"/>
                    </a:lnTo>
                    <a:lnTo>
                      <a:pt x="3915" y="627"/>
                    </a:lnTo>
                    <a:lnTo>
                      <a:pt x="3922" y="633"/>
                    </a:lnTo>
                    <a:lnTo>
                      <a:pt x="3930" y="638"/>
                    </a:lnTo>
                    <a:lnTo>
                      <a:pt x="3939" y="642"/>
                    </a:lnTo>
                    <a:lnTo>
                      <a:pt x="3948" y="644"/>
                    </a:lnTo>
                    <a:lnTo>
                      <a:pt x="3948" y="661"/>
                    </a:lnTo>
                    <a:lnTo>
                      <a:pt x="3694" y="661"/>
                    </a:lnTo>
                    <a:lnTo>
                      <a:pt x="3696" y="644"/>
                    </a:lnTo>
                    <a:lnTo>
                      <a:pt x="3703" y="641"/>
                    </a:lnTo>
                    <a:lnTo>
                      <a:pt x="3710" y="636"/>
                    </a:lnTo>
                    <a:lnTo>
                      <a:pt x="3712" y="634"/>
                    </a:lnTo>
                    <a:lnTo>
                      <a:pt x="3714" y="630"/>
                    </a:lnTo>
                    <a:lnTo>
                      <a:pt x="3715" y="628"/>
                    </a:lnTo>
                    <a:lnTo>
                      <a:pt x="3715" y="624"/>
                    </a:lnTo>
                    <a:lnTo>
                      <a:pt x="3715" y="619"/>
                    </a:lnTo>
                    <a:lnTo>
                      <a:pt x="3712" y="614"/>
                    </a:lnTo>
                    <a:lnTo>
                      <a:pt x="3709" y="608"/>
                    </a:lnTo>
                    <a:lnTo>
                      <a:pt x="3703" y="600"/>
                    </a:lnTo>
                    <a:lnTo>
                      <a:pt x="3700" y="595"/>
                    </a:lnTo>
                    <a:lnTo>
                      <a:pt x="3697" y="590"/>
                    </a:lnTo>
                    <a:lnTo>
                      <a:pt x="3593" y="429"/>
                    </a:lnTo>
                    <a:lnTo>
                      <a:pt x="3464" y="429"/>
                    </a:lnTo>
                    <a:lnTo>
                      <a:pt x="3464" y="609"/>
                    </a:lnTo>
                    <a:lnTo>
                      <a:pt x="3464" y="617"/>
                    </a:lnTo>
                    <a:lnTo>
                      <a:pt x="3465" y="624"/>
                    </a:lnTo>
                    <a:lnTo>
                      <a:pt x="3468" y="629"/>
                    </a:lnTo>
                    <a:lnTo>
                      <a:pt x="3470" y="633"/>
                    </a:lnTo>
                    <a:lnTo>
                      <a:pt x="3473" y="636"/>
                    </a:lnTo>
                    <a:lnTo>
                      <a:pt x="3479" y="639"/>
                    </a:lnTo>
                    <a:lnTo>
                      <a:pt x="3487" y="642"/>
                    </a:lnTo>
                    <a:lnTo>
                      <a:pt x="3496" y="644"/>
                    </a:lnTo>
                    <a:lnTo>
                      <a:pt x="3496" y="661"/>
                    </a:lnTo>
                    <a:lnTo>
                      <a:pt x="3257" y="661"/>
                    </a:lnTo>
                    <a:close/>
                    <a:moveTo>
                      <a:pt x="3464" y="158"/>
                    </a:moveTo>
                    <a:lnTo>
                      <a:pt x="3464" y="302"/>
                    </a:lnTo>
                    <a:lnTo>
                      <a:pt x="3619" y="302"/>
                    </a:lnTo>
                    <a:lnTo>
                      <a:pt x="3637" y="301"/>
                    </a:lnTo>
                    <a:lnTo>
                      <a:pt x="3653" y="301"/>
                    </a:lnTo>
                    <a:lnTo>
                      <a:pt x="3669" y="299"/>
                    </a:lnTo>
                    <a:lnTo>
                      <a:pt x="3682" y="297"/>
                    </a:lnTo>
                    <a:lnTo>
                      <a:pt x="3696" y="295"/>
                    </a:lnTo>
                    <a:lnTo>
                      <a:pt x="3707" y="292"/>
                    </a:lnTo>
                    <a:lnTo>
                      <a:pt x="3717" y="288"/>
                    </a:lnTo>
                    <a:lnTo>
                      <a:pt x="3726" y="284"/>
                    </a:lnTo>
                    <a:lnTo>
                      <a:pt x="3734" y="280"/>
                    </a:lnTo>
                    <a:lnTo>
                      <a:pt x="3739" y="274"/>
                    </a:lnTo>
                    <a:lnTo>
                      <a:pt x="3745" y="268"/>
                    </a:lnTo>
                    <a:lnTo>
                      <a:pt x="3751" y="262"/>
                    </a:lnTo>
                    <a:lnTo>
                      <a:pt x="3754" y="255"/>
                    </a:lnTo>
                    <a:lnTo>
                      <a:pt x="3756" y="247"/>
                    </a:lnTo>
                    <a:lnTo>
                      <a:pt x="3757" y="238"/>
                    </a:lnTo>
                    <a:lnTo>
                      <a:pt x="3758" y="229"/>
                    </a:lnTo>
                    <a:lnTo>
                      <a:pt x="3757" y="220"/>
                    </a:lnTo>
                    <a:lnTo>
                      <a:pt x="3756" y="211"/>
                    </a:lnTo>
                    <a:lnTo>
                      <a:pt x="3754" y="203"/>
                    </a:lnTo>
                    <a:lnTo>
                      <a:pt x="3751" y="197"/>
                    </a:lnTo>
                    <a:lnTo>
                      <a:pt x="3746" y="190"/>
                    </a:lnTo>
                    <a:lnTo>
                      <a:pt x="3741" y="184"/>
                    </a:lnTo>
                    <a:lnTo>
                      <a:pt x="3735" y="179"/>
                    </a:lnTo>
                    <a:lnTo>
                      <a:pt x="3727" y="174"/>
                    </a:lnTo>
                    <a:lnTo>
                      <a:pt x="3719" y="171"/>
                    </a:lnTo>
                    <a:lnTo>
                      <a:pt x="3709" y="167"/>
                    </a:lnTo>
                    <a:lnTo>
                      <a:pt x="3697" y="165"/>
                    </a:lnTo>
                    <a:lnTo>
                      <a:pt x="3684" y="163"/>
                    </a:lnTo>
                    <a:lnTo>
                      <a:pt x="3669" y="161"/>
                    </a:lnTo>
                    <a:lnTo>
                      <a:pt x="3652" y="160"/>
                    </a:lnTo>
                    <a:lnTo>
                      <a:pt x="3634" y="158"/>
                    </a:lnTo>
                    <a:lnTo>
                      <a:pt x="3615" y="158"/>
                    </a:lnTo>
                    <a:lnTo>
                      <a:pt x="3464" y="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546680" y="6121800"/>
                <a:ext cx="637200" cy="125640"/>
              </a:xfrm>
              <a:custGeom>
                <a:avLst/>
                <a:gdLst/>
                <a:ahLst/>
                <a:rect l="l" t="t" r="r" b="b"/>
                <a:pathLst>
                  <a:path w="6877" h="691">
                    <a:moveTo>
                      <a:pt x="0" y="660"/>
                    </a:moveTo>
                    <a:lnTo>
                      <a:pt x="0" y="644"/>
                    </a:lnTo>
                    <a:lnTo>
                      <a:pt x="9" y="641"/>
                    </a:lnTo>
                    <a:lnTo>
                      <a:pt x="16" y="639"/>
                    </a:lnTo>
                    <a:lnTo>
                      <a:pt x="21" y="636"/>
                    </a:lnTo>
                    <a:lnTo>
                      <a:pt x="25" y="633"/>
                    </a:lnTo>
                    <a:lnTo>
                      <a:pt x="27" y="629"/>
                    </a:lnTo>
                    <a:lnTo>
                      <a:pt x="28" y="623"/>
                    </a:lnTo>
                    <a:lnTo>
                      <a:pt x="29" y="617"/>
                    </a:lnTo>
                    <a:lnTo>
                      <a:pt x="30" y="609"/>
                    </a:lnTo>
                    <a:lnTo>
                      <a:pt x="30" y="83"/>
                    </a:lnTo>
                    <a:lnTo>
                      <a:pt x="29" y="74"/>
                    </a:lnTo>
                    <a:lnTo>
                      <a:pt x="28" y="67"/>
                    </a:lnTo>
                    <a:lnTo>
                      <a:pt x="27" y="63"/>
                    </a:lnTo>
                    <a:lnTo>
                      <a:pt x="25" y="58"/>
                    </a:lnTo>
                    <a:lnTo>
                      <a:pt x="21" y="55"/>
                    </a:lnTo>
                    <a:lnTo>
                      <a:pt x="16" y="53"/>
                    </a:lnTo>
                    <a:lnTo>
                      <a:pt x="9" y="49"/>
                    </a:lnTo>
                    <a:lnTo>
                      <a:pt x="0" y="47"/>
                    </a:lnTo>
                    <a:lnTo>
                      <a:pt x="0" y="31"/>
                    </a:lnTo>
                    <a:lnTo>
                      <a:pt x="239" y="31"/>
                    </a:lnTo>
                    <a:lnTo>
                      <a:pt x="239" y="47"/>
                    </a:lnTo>
                    <a:lnTo>
                      <a:pt x="230" y="49"/>
                    </a:lnTo>
                    <a:lnTo>
                      <a:pt x="222" y="53"/>
                    </a:lnTo>
                    <a:lnTo>
                      <a:pt x="218" y="56"/>
                    </a:lnTo>
                    <a:lnTo>
                      <a:pt x="213" y="58"/>
                    </a:lnTo>
                    <a:lnTo>
                      <a:pt x="211" y="63"/>
                    </a:lnTo>
                    <a:lnTo>
                      <a:pt x="209" y="68"/>
                    </a:lnTo>
                    <a:lnTo>
                      <a:pt x="208" y="75"/>
                    </a:lnTo>
                    <a:lnTo>
                      <a:pt x="208" y="83"/>
                    </a:lnTo>
                    <a:lnTo>
                      <a:pt x="208" y="258"/>
                    </a:lnTo>
                    <a:lnTo>
                      <a:pt x="520" y="258"/>
                    </a:lnTo>
                    <a:lnTo>
                      <a:pt x="520" y="83"/>
                    </a:lnTo>
                    <a:lnTo>
                      <a:pt x="520" y="75"/>
                    </a:lnTo>
                    <a:lnTo>
                      <a:pt x="519" y="68"/>
                    </a:lnTo>
                    <a:lnTo>
                      <a:pt x="517" y="63"/>
                    </a:lnTo>
                    <a:lnTo>
                      <a:pt x="514" y="58"/>
                    </a:lnTo>
                    <a:lnTo>
                      <a:pt x="510" y="56"/>
                    </a:lnTo>
                    <a:lnTo>
                      <a:pt x="504" y="53"/>
                    </a:lnTo>
                    <a:lnTo>
                      <a:pt x="497" y="49"/>
                    </a:lnTo>
                    <a:lnTo>
                      <a:pt x="489" y="47"/>
                    </a:lnTo>
                    <a:lnTo>
                      <a:pt x="489" y="31"/>
                    </a:lnTo>
                    <a:lnTo>
                      <a:pt x="728" y="31"/>
                    </a:lnTo>
                    <a:lnTo>
                      <a:pt x="728" y="47"/>
                    </a:lnTo>
                    <a:lnTo>
                      <a:pt x="719" y="49"/>
                    </a:lnTo>
                    <a:lnTo>
                      <a:pt x="712" y="53"/>
                    </a:lnTo>
                    <a:lnTo>
                      <a:pt x="707" y="55"/>
                    </a:lnTo>
                    <a:lnTo>
                      <a:pt x="704" y="58"/>
                    </a:lnTo>
                    <a:lnTo>
                      <a:pt x="701" y="63"/>
                    </a:lnTo>
                    <a:lnTo>
                      <a:pt x="700" y="67"/>
                    </a:lnTo>
                    <a:lnTo>
                      <a:pt x="698" y="74"/>
                    </a:lnTo>
                    <a:lnTo>
                      <a:pt x="698" y="83"/>
                    </a:lnTo>
                    <a:lnTo>
                      <a:pt x="698" y="609"/>
                    </a:lnTo>
                    <a:lnTo>
                      <a:pt x="698" y="617"/>
                    </a:lnTo>
                    <a:lnTo>
                      <a:pt x="700" y="623"/>
                    </a:lnTo>
                    <a:lnTo>
                      <a:pt x="701" y="629"/>
                    </a:lnTo>
                    <a:lnTo>
                      <a:pt x="704" y="633"/>
                    </a:lnTo>
                    <a:lnTo>
                      <a:pt x="707" y="636"/>
                    </a:lnTo>
                    <a:lnTo>
                      <a:pt x="712" y="639"/>
                    </a:lnTo>
                    <a:lnTo>
                      <a:pt x="719" y="641"/>
                    </a:lnTo>
                    <a:lnTo>
                      <a:pt x="728" y="644"/>
                    </a:lnTo>
                    <a:lnTo>
                      <a:pt x="728" y="660"/>
                    </a:lnTo>
                    <a:lnTo>
                      <a:pt x="489" y="660"/>
                    </a:lnTo>
                    <a:lnTo>
                      <a:pt x="489" y="644"/>
                    </a:lnTo>
                    <a:lnTo>
                      <a:pt x="497" y="641"/>
                    </a:lnTo>
                    <a:lnTo>
                      <a:pt x="504" y="638"/>
                    </a:lnTo>
                    <a:lnTo>
                      <a:pt x="510" y="636"/>
                    </a:lnTo>
                    <a:lnTo>
                      <a:pt x="514" y="632"/>
                    </a:lnTo>
                    <a:lnTo>
                      <a:pt x="517" y="628"/>
                    </a:lnTo>
                    <a:lnTo>
                      <a:pt x="519" y="623"/>
                    </a:lnTo>
                    <a:lnTo>
                      <a:pt x="520" y="617"/>
                    </a:lnTo>
                    <a:lnTo>
                      <a:pt x="520" y="609"/>
                    </a:lnTo>
                    <a:lnTo>
                      <a:pt x="520" y="402"/>
                    </a:lnTo>
                    <a:lnTo>
                      <a:pt x="208" y="402"/>
                    </a:lnTo>
                    <a:lnTo>
                      <a:pt x="208" y="609"/>
                    </a:lnTo>
                    <a:lnTo>
                      <a:pt x="208" y="617"/>
                    </a:lnTo>
                    <a:lnTo>
                      <a:pt x="209" y="623"/>
                    </a:lnTo>
                    <a:lnTo>
                      <a:pt x="211" y="628"/>
                    </a:lnTo>
                    <a:lnTo>
                      <a:pt x="213" y="632"/>
                    </a:lnTo>
                    <a:lnTo>
                      <a:pt x="218" y="636"/>
                    </a:lnTo>
                    <a:lnTo>
                      <a:pt x="222" y="638"/>
                    </a:lnTo>
                    <a:lnTo>
                      <a:pt x="230" y="641"/>
                    </a:lnTo>
                    <a:lnTo>
                      <a:pt x="239" y="644"/>
                    </a:lnTo>
                    <a:lnTo>
                      <a:pt x="239" y="660"/>
                    </a:lnTo>
                    <a:lnTo>
                      <a:pt x="0" y="660"/>
                    </a:lnTo>
                    <a:close/>
                    <a:moveTo>
                      <a:pt x="1487" y="511"/>
                    </a:moveTo>
                    <a:lnTo>
                      <a:pt x="1495" y="511"/>
                    </a:lnTo>
                    <a:lnTo>
                      <a:pt x="1501" y="510"/>
                    </a:lnTo>
                    <a:lnTo>
                      <a:pt x="1506" y="509"/>
                    </a:lnTo>
                    <a:lnTo>
                      <a:pt x="1510" y="506"/>
                    </a:lnTo>
                    <a:lnTo>
                      <a:pt x="1514" y="502"/>
                    </a:lnTo>
                    <a:lnTo>
                      <a:pt x="1517" y="498"/>
                    </a:lnTo>
                    <a:lnTo>
                      <a:pt x="1519" y="491"/>
                    </a:lnTo>
                    <a:lnTo>
                      <a:pt x="1522" y="482"/>
                    </a:lnTo>
                    <a:lnTo>
                      <a:pt x="1538" y="482"/>
                    </a:lnTo>
                    <a:lnTo>
                      <a:pt x="1538" y="691"/>
                    </a:lnTo>
                    <a:lnTo>
                      <a:pt x="1522" y="691"/>
                    </a:lnTo>
                    <a:lnTo>
                      <a:pt x="1519" y="682"/>
                    </a:lnTo>
                    <a:lnTo>
                      <a:pt x="1517" y="675"/>
                    </a:lnTo>
                    <a:lnTo>
                      <a:pt x="1514" y="669"/>
                    </a:lnTo>
                    <a:lnTo>
                      <a:pt x="1510" y="666"/>
                    </a:lnTo>
                    <a:lnTo>
                      <a:pt x="1507" y="664"/>
                    </a:lnTo>
                    <a:lnTo>
                      <a:pt x="1501" y="661"/>
                    </a:lnTo>
                    <a:lnTo>
                      <a:pt x="1495" y="660"/>
                    </a:lnTo>
                    <a:lnTo>
                      <a:pt x="1487" y="660"/>
                    </a:lnTo>
                    <a:lnTo>
                      <a:pt x="917" y="660"/>
                    </a:lnTo>
                    <a:lnTo>
                      <a:pt x="917" y="644"/>
                    </a:lnTo>
                    <a:lnTo>
                      <a:pt x="926" y="641"/>
                    </a:lnTo>
                    <a:lnTo>
                      <a:pt x="933" y="639"/>
                    </a:lnTo>
                    <a:lnTo>
                      <a:pt x="939" y="636"/>
                    </a:lnTo>
                    <a:lnTo>
                      <a:pt x="942" y="633"/>
                    </a:lnTo>
                    <a:lnTo>
                      <a:pt x="944" y="629"/>
                    </a:lnTo>
                    <a:lnTo>
                      <a:pt x="947" y="623"/>
                    </a:lnTo>
                    <a:lnTo>
                      <a:pt x="948" y="617"/>
                    </a:lnTo>
                    <a:lnTo>
                      <a:pt x="948" y="609"/>
                    </a:lnTo>
                    <a:lnTo>
                      <a:pt x="948" y="83"/>
                    </a:lnTo>
                    <a:lnTo>
                      <a:pt x="948" y="74"/>
                    </a:lnTo>
                    <a:lnTo>
                      <a:pt x="947" y="67"/>
                    </a:lnTo>
                    <a:lnTo>
                      <a:pt x="944" y="63"/>
                    </a:lnTo>
                    <a:lnTo>
                      <a:pt x="942" y="58"/>
                    </a:lnTo>
                    <a:lnTo>
                      <a:pt x="939" y="55"/>
                    </a:lnTo>
                    <a:lnTo>
                      <a:pt x="933" y="53"/>
                    </a:lnTo>
                    <a:lnTo>
                      <a:pt x="926" y="49"/>
                    </a:lnTo>
                    <a:lnTo>
                      <a:pt x="917" y="47"/>
                    </a:lnTo>
                    <a:lnTo>
                      <a:pt x="917" y="31"/>
                    </a:lnTo>
                    <a:lnTo>
                      <a:pt x="1488" y="31"/>
                    </a:lnTo>
                    <a:lnTo>
                      <a:pt x="1496" y="30"/>
                    </a:lnTo>
                    <a:lnTo>
                      <a:pt x="1503" y="29"/>
                    </a:lnTo>
                    <a:lnTo>
                      <a:pt x="1508" y="27"/>
                    </a:lnTo>
                    <a:lnTo>
                      <a:pt x="1512" y="25"/>
                    </a:lnTo>
                    <a:lnTo>
                      <a:pt x="1515" y="21"/>
                    </a:lnTo>
                    <a:lnTo>
                      <a:pt x="1517" y="16"/>
                    </a:lnTo>
                    <a:lnTo>
                      <a:pt x="1519" y="9"/>
                    </a:lnTo>
                    <a:lnTo>
                      <a:pt x="1522" y="0"/>
                    </a:lnTo>
                    <a:lnTo>
                      <a:pt x="1538" y="0"/>
                    </a:lnTo>
                    <a:lnTo>
                      <a:pt x="1538" y="210"/>
                    </a:lnTo>
                    <a:lnTo>
                      <a:pt x="1522" y="210"/>
                    </a:lnTo>
                    <a:lnTo>
                      <a:pt x="1519" y="201"/>
                    </a:lnTo>
                    <a:lnTo>
                      <a:pt x="1517" y="194"/>
                    </a:lnTo>
                    <a:lnTo>
                      <a:pt x="1514" y="188"/>
                    </a:lnTo>
                    <a:lnTo>
                      <a:pt x="1512" y="185"/>
                    </a:lnTo>
                    <a:lnTo>
                      <a:pt x="1507" y="183"/>
                    </a:lnTo>
                    <a:lnTo>
                      <a:pt x="1503" y="180"/>
                    </a:lnTo>
                    <a:lnTo>
                      <a:pt x="1496" y="180"/>
                    </a:lnTo>
                    <a:lnTo>
                      <a:pt x="1488" y="179"/>
                    </a:lnTo>
                    <a:lnTo>
                      <a:pt x="1125" y="179"/>
                    </a:lnTo>
                    <a:lnTo>
                      <a:pt x="1125" y="268"/>
                    </a:lnTo>
                    <a:lnTo>
                      <a:pt x="1343" y="268"/>
                    </a:lnTo>
                    <a:lnTo>
                      <a:pt x="1351" y="268"/>
                    </a:lnTo>
                    <a:lnTo>
                      <a:pt x="1358" y="267"/>
                    </a:lnTo>
                    <a:lnTo>
                      <a:pt x="1363" y="265"/>
                    </a:lnTo>
                    <a:lnTo>
                      <a:pt x="1367" y="262"/>
                    </a:lnTo>
                    <a:lnTo>
                      <a:pt x="1370" y="259"/>
                    </a:lnTo>
                    <a:lnTo>
                      <a:pt x="1373" y="253"/>
                    </a:lnTo>
                    <a:lnTo>
                      <a:pt x="1377" y="247"/>
                    </a:lnTo>
                    <a:lnTo>
                      <a:pt x="1379" y="239"/>
                    </a:lnTo>
                    <a:lnTo>
                      <a:pt x="1396" y="239"/>
                    </a:lnTo>
                    <a:lnTo>
                      <a:pt x="1396" y="434"/>
                    </a:lnTo>
                    <a:lnTo>
                      <a:pt x="1379" y="434"/>
                    </a:lnTo>
                    <a:lnTo>
                      <a:pt x="1376" y="425"/>
                    </a:lnTo>
                    <a:lnTo>
                      <a:pt x="1373" y="418"/>
                    </a:lnTo>
                    <a:lnTo>
                      <a:pt x="1370" y="414"/>
                    </a:lnTo>
                    <a:lnTo>
                      <a:pt x="1367" y="409"/>
                    </a:lnTo>
                    <a:lnTo>
                      <a:pt x="1362" y="407"/>
                    </a:lnTo>
                    <a:lnTo>
                      <a:pt x="1357" y="406"/>
                    </a:lnTo>
                    <a:lnTo>
                      <a:pt x="1351" y="405"/>
                    </a:lnTo>
                    <a:lnTo>
                      <a:pt x="1343" y="404"/>
                    </a:lnTo>
                    <a:lnTo>
                      <a:pt x="1125" y="404"/>
                    </a:lnTo>
                    <a:lnTo>
                      <a:pt x="1125" y="511"/>
                    </a:lnTo>
                    <a:lnTo>
                      <a:pt x="1487" y="511"/>
                    </a:lnTo>
                    <a:close/>
                    <a:moveTo>
                      <a:pt x="1924" y="422"/>
                    </a:moveTo>
                    <a:lnTo>
                      <a:pt x="2136" y="422"/>
                    </a:lnTo>
                    <a:lnTo>
                      <a:pt x="2026" y="145"/>
                    </a:lnTo>
                    <a:lnTo>
                      <a:pt x="1924" y="422"/>
                    </a:lnTo>
                    <a:close/>
                    <a:moveTo>
                      <a:pt x="2189" y="660"/>
                    </a:moveTo>
                    <a:lnTo>
                      <a:pt x="2189" y="644"/>
                    </a:lnTo>
                    <a:lnTo>
                      <a:pt x="2199" y="640"/>
                    </a:lnTo>
                    <a:lnTo>
                      <a:pt x="2205" y="636"/>
                    </a:lnTo>
                    <a:lnTo>
                      <a:pt x="2209" y="633"/>
                    </a:lnTo>
                    <a:lnTo>
                      <a:pt x="2210" y="630"/>
                    </a:lnTo>
                    <a:lnTo>
                      <a:pt x="2211" y="626"/>
                    </a:lnTo>
                    <a:lnTo>
                      <a:pt x="2211" y="622"/>
                    </a:lnTo>
                    <a:lnTo>
                      <a:pt x="2211" y="618"/>
                    </a:lnTo>
                    <a:lnTo>
                      <a:pt x="2210" y="611"/>
                    </a:lnTo>
                    <a:lnTo>
                      <a:pt x="2208" y="604"/>
                    </a:lnTo>
                    <a:lnTo>
                      <a:pt x="2204" y="594"/>
                    </a:lnTo>
                    <a:lnTo>
                      <a:pt x="2179" y="527"/>
                    </a:lnTo>
                    <a:lnTo>
                      <a:pt x="1887" y="527"/>
                    </a:lnTo>
                    <a:lnTo>
                      <a:pt x="1861" y="594"/>
                    </a:lnTo>
                    <a:lnTo>
                      <a:pt x="1858" y="600"/>
                    </a:lnTo>
                    <a:lnTo>
                      <a:pt x="1856" y="605"/>
                    </a:lnTo>
                    <a:lnTo>
                      <a:pt x="1856" y="610"/>
                    </a:lnTo>
                    <a:lnTo>
                      <a:pt x="1855" y="614"/>
                    </a:lnTo>
                    <a:lnTo>
                      <a:pt x="1856" y="620"/>
                    </a:lnTo>
                    <a:lnTo>
                      <a:pt x="1857" y="624"/>
                    </a:lnTo>
                    <a:lnTo>
                      <a:pt x="1860" y="629"/>
                    </a:lnTo>
                    <a:lnTo>
                      <a:pt x="1862" y="633"/>
                    </a:lnTo>
                    <a:lnTo>
                      <a:pt x="1865" y="637"/>
                    </a:lnTo>
                    <a:lnTo>
                      <a:pt x="1870" y="639"/>
                    </a:lnTo>
                    <a:lnTo>
                      <a:pt x="1874" y="641"/>
                    </a:lnTo>
                    <a:lnTo>
                      <a:pt x="1881" y="644"/>
                    </a:lnTo>
                    <a:lnTo>
                      <a:pt x="1881" y="660"/>
                    </a:lnTo>
                    <a:lnTo>
                      <a:pt x="1666" y="660"/>
                    </a:lnTo>
                    <a:lnTo>
                      <a:pt x="1666" y="644"/>
                    </a:lnTo>
                    <a:lnTo>
                      <a:pt x="1674" y="639"/>
                    </a:lnTo>
                    <a:lnTo>
                      <a:pt x="1681" y="632"/>
                    </a:lnTo>
                    <a:lnTo>
                      <a:pt x="1688" y="626"/>
                    </a:lnTo>
                    <a:lnTo>
                      <a:pt x="1696" y="617"/>
                    </a:lnTo>
                    <a:lnTo>
                      <a:pt x="1701" y="605"/>
                    </a:lnTo>
                    <a:lnTo>
                      <a:pt x="1708" y="594"/>
                    </a:lnTo>
                    <a:lnTo>
                      <a:pt x="1714" y="581"/>
                    </a:lnTo>
                    <a:lnTo>
                      <a:pt x="1719" y="567"/>
                    </a:lnTo>
                    <a:lnTo>
                      <a:pt x="1721" y="562"/>
                    </a:lnTo>
                    <a:lnTo>
                      <a:pt x="1723" y="557"/>
                    </a:lnTo>
                    <a:lnTo>
                      <a:pt x="1889" y="104"/>
                    </a:lnTo>
                    <a:lnTo>
                      <a:pt x="1892" y="92"/>
                    </a:lnTo>
                    <a:lnTo>
                      <a:pt x="1897" y="81"/>
                    </a:lnTo>
                    <a:lnTo>
                      <a:pt x="1898" y="72"/>
                    </a:lnTo>
                    <a:lnTo>
                      <a:pt x="1899" y="66"/>
                    </a:lnTo>
                    <a:lnTo>
                      <a:pt x="1899" y="63"/>
                    </a:lnTo>
                    <a:lnTo>
                      <a:pt x="1898" y="58"/>
                    </a:lnTo>
                    <a:lnTo>
                      <a:pt x="1897" y="55"/>
                    </a:lnTo>
                    <a:lnTo>
                      <a:pt x="1894" y="53"/>
                    </a:lnTo>
                    <a:lnTo>
                      <a:pt x="1892" y="50"/>
                    </a:lnTo>
                    <a:lnTo>
                      <a:pt x="1889" y="49"/>
                    </a:lnTo>
                    <a:lnTo>
                      <a:pt x="1885" y="48"/>
                    </a:lnTo>
                    <a:lnTo>
                      <a:pt x="1881" y="47"/>
                    </a:lnTo>
                    <a:lnTo>
                      <a:pt x="1881" y="31"/>
                    </a:lnTo>
                    <a:lnTo>
                      <a:pt x="2194" y="31"/>
                    </a:lnTo>
                    <a:lnTo>
                      <a:pt x="2194" y="47"/>
                    </a:lnTo>
                    <a:lnTo>
                      <a:pt x="2190" y="48"/>
                    </a:lnTo>
                    <a:lnTo>
                      <a:pt x="2186" y="49"/>
                    </a:lnTo>
                    <a:lnTo>
                      <a:pt x="2183" y="50"/>
                    </a:lnTo>
                    <a:lnTo>
                      <a:pt x="2181" y="53"/>
                    </a:lnTo>
                    <a:lnTo>
                      <a:pt x="2179" y="55"/>
                    </a:lnTo>
                    <a:lnTo>
                      <a:pt x="2177" y="58"/>
                    </a:lnTo>
                    <a:lnTo>
                      <a:pt x="2176" y="63"/>
                    </a:lnTo>
                    <a:lnTo>
                      <a:pt x="2176" y="66"/>
                    </a:lnTo>
                    <a:lnTo>
                      <a:pt x="2177" y="72"/>
                    </a:lnTo>
                    <a:lnTo>
                      <a:pt x="2180" y="81"/>
                    </a:lnTo>
                    <a:lnTo>
                      <a:pt x="2183" y="92"/>
                    </a:lnTo>
                    <a:lnTo>
                      <a:pt x="2188" y="104"/>
                    </a:lnTo>
                    <a:lnTo>
                      <a:pt x="2389" y="609"/>
                    </a:lnTo>
                    <a:lnTo>
                      <a:pt x="2389" y="610"/>
                    </a:lnTo>
                    <a:lnTo>
                      <a:pt x="2389" y="611"/>
                    </a:lnTo>
                    <a:lnTo>
                      <a:pt x="2392" y="617"/>
                    </a:lnTo>
                    <a:lnTo>
                      <a:pt x="2394" y="622"/>
                    </a:lnTo>
                    <a:lnTo>
                      <a:pt x="2398" y="627"/>
                    </a:lnTo>
                    <a:lnTo>
                      <a:pt x="2401" y="631"/>
                    </a:lnTo>
                    <a:lnTo>
                      <a:pt x="2405" y="636"/>
                    </a:lnTo>
                    <a:lnTo>
                      <a:pt x="2410" y="639"/>
                    </a:lnTo>
                    <a:lnTo>
                      <a:pt x="2414" y="641"/>
                    </a:lnTo>
                    <a:lnTo>
                      <a:pt x="2419" y="644"/>
                    </a:lnTo>
                    <a:lnTo>
                      <a:pt x="2419" y="660"/>
                    </a:lnTo>
                    <a:lnTo>
                      <a:pt x="2189" y="660"/>
                    </a:lnTo>
                    <a:close/>
                    <a:moveTo>
                      <a:pt x="3130" y="511"/>
                    </a:moveTo>
                    <a:lnTo>
                      <a:pt x="3136" y="511"/>
                    </a:lnTo>
                    <a:lnTo>
                      <a:pt x="3143" y="510"/>
                    </a:lnTo>
                    <a:lnTo>
                      <a:pt x="3149" y="509"/>
                    </a:lnTo>
                    <a:lnTo>
                      <a:pt x="3152" y="506"/>
                    </a:lnTo>
                    <a:lnTo>
                      <a:pt x="3155" y="502"/>
                    </a:lnTo>
                    <a:lnTo>
                      <a:pt x="3159" y="498"/>
                    </a:lnTo>
                    <a:lnTo>
                      <a:pt x="3161" y="491"/>
                    </a:lnTo>
                    <a:lnTo>
                      <a:pt x="3163" y="482"/>
                    </a:lnTo>
                    <a:lnTo>
                      <a:pt x="3181" y="482"/>
                    </a:lnTo>
                    <a:lnTo>
                      <a:pt x="3181" y="691"/>
                    </a:lnTo>
                    <a:lnTo>
                      <a:pt x="3163" y="691"/>
                    </a:lnTo>
                    <a:lnTo>
                      <a:pt x="3161" y="682"/>
                    </a:lnTo>
                    <a:lnTo>
                      <a:pt x="3159" y="675"/>
                    </a:lnTo>
                    <a:lnTo>
                      <a:pt x="3155" y="669"/>
                    </a:lnTo>
                    <a:lnTo>
                      <a:pt x="3152" y="666"/>
                    </a:lnTo>
                    <a:lnTo>
                      <a:pt x="3149" y="664"/>
                    </a:lnTo>
                    <a:lnTo>
                      <a:pt x="3143" y="661"/>
                    </a:lnTo>
                    <a:lnTo>
                      <a:pt x="3138" y="660"/>
                    </a:lnTo>
                    <a:lnTo>
                      <a:pt x="3130" y="660"/>
                    </a:lnTo>
                    <a:lnTo>
                      <a:pt x="2533" y="660"/>
                    </a:lnTo>
                    <a:lnTo>
                      <a:pt x="2533" y="644"/>
                    </a:lnTo>
                    <a:lnTo>
                      <a:pt x="2542" y="641"/>
                    </a:lnTo>
                    <a:lnTo>
                      <a:pt x="2549" y="639"/>
                    </a:lnTo>
                    <a:lnTo>
                      <a:pt x="2554" y="636"/>
                    </a:lnTo>
                    <a:lnTo>
                      <a:pt x="2558" y="633"/>
                    </a:lnTo>
                    <a:lnTo>
                      <a:pt x="2560" y="629"/>
                    </a:lnTo>
                    <a:lnTo>
                      <a:pt x="2561" y="623"/>
                    </a:lnTo>
                    <a:lnTo>
                      <a:pt x="2563" y="617"/>
                    </a:lnTo>
                    <a:lnTo>
                      <a:pt x="2564" y="609"/>
                    </a:lnTo>
                    <a:lnTo>
                      <a:pt x="2564" y="83"/>
                    </a:lnTo>
                    <a:lnTo>
                      <a:pt x="2563" y="74"/>
                    </a:lnTo>
                    <a:lnTo>
                      <a:pt x="2561" y="67"/>
                    </a:lnTo>
                    <a:lnTo>
                      <a:pt x="2560" y="63"/>
                    </a:lnTo>
                    <a:lnTo>
                      <a:pt x="2558" y="58"/>
                    </a:lnTo>
                    <a:lnTo>
                      <a:pt x="2554" y="55"/>
                    </a:lnTo>
                    <a:lnTo>
                      <a:pt x="2549" y="53"/>
                    </a:lnTo>
                    <a:lnTo>
                      <a:pt x="2542" y="49"/>
                    </a:lnTo>
                    <a:lnTo>
                      <a:pt x="2533" y="47"/>
                    </a:lnTo>
                    <a:lnTo>
                      <a:pt x="2533" y="31"/>
                    </a:lnTo>
                    <a:lnTo>
                      <a:pt x="2773" y="31"/>
                    </a:lnTo>
                    <a:lnTo>
                      <a:pt x="2773" y="47"/>
                    </a:lnTo>
                    <a:lnTo>
                      <a:pt x="2764" y="49"/>
                    </a:lnTo>
                    <a:lnTo>
                      <a:pt x="2756" y="53"/>
                    </a:lnTo>
                    <a:lnTo>
                      <a:pt x="2751" y="56"/>
                    </a:lnTo>
                    <a:lnTo>
                      <a:pt x="2747" y="58"/>
                    </a:lnTo>
                    <a:lnTo>
                      <a:pt x="2744" y="63"/>
                    </a:lnTo>
                    <a:lnTo>
                      <a:pt x="2742" y="68"/>
                    </a:lnTo>
                    <a:lnTo>
                      <a:pt x="2741" y="75"/>
                    </a:lnTo>
                    <a:lnTo>
                      <a:pt x="2741" y="83"/>
                    </a:lnTo>
                    <a:lnTo>
                      <a:pt x="2741" y="511"/>
                    </a:lnTo>
                    <a:lnTo>
                      <a:pt x="3130" y="511"/>
                    </a:lnTo>
                    <a:close/>
                    <a:moveTo>
                      <a:pt x="3614" y="185"/>
                    </a:moveTo>
                    <a:lnTo>
                      <a:pt x="3614" y="609"/>
                    </a:lnTo>
                    <a:lnTo>
                      <a:pt x="3614" y="617"/>
                    </a:lnTo>
                    <a:lnTo>
                      <a:pt x="3615" y="623"/>
                    </a:lnTo>
                    <a:lnTo>
                      <a:pt x="3617" y="629"/>
                    </a:lnTo>
                    <a:lnTo>
                      <a:pt x="3619" y="633"/>
                    </a:lnTo>
                    <a:lnTo>
                      <a:pt x="3623" y="636"/>
                    </a:lnTo>
                    <a:lnTo>
                      <a:pt x="3628" y="639"/>
                    </a:lnTo>
                    <a:lnTo>
                      <a:pt x="3635" y="641"/>
                    </a:lnTo>
                    <a:lnTo>
                      <a:pt x="3643" y="644"/>
                    </a:lnTo>
                    <a:lnTo>
                      <a:pt x="3643" y="660"/>
                    </a:lnTo>
                    <a:lnTo>
                      <a:pt x="3405" y="660"/>
                    </a:lnTo>
                    <a:lnTo>
                      <a:pt x="3405" y="644"/>
                    </a:lnTo>
                    <a:lnTo>
                      <a:pt x="3413" y="641"/>
                    </a:lnTo>
                    <a:lnTo>
                      <a:pt x="3420" y="638"/>
                    </a:lnTo>
                    <a:lnTo>
                      <a:pt x="3425" y="636"/>
                    </a:lnTo>
                    <a:lnTo>
                      <a:pt x="3428" y="631"/>
                    </a:lnTo>
                    <a:lnTo>
                      <a:pt x="3431" y="628"/>
                    </a:lnTo>
                    <a:lnTo>
                      <a:pt x="3433" y="622"/>
                    </a:lnTo>
                    <a:lnTo>
                      <a:pt x="3434" y="617"/>
                    </a:lnTo>
                    <a:lnTo>
                      <a:pt x="3434" y="609"/>
                    </a:lnTo>
                    <a:lnTo>
                      <a:pt x="3434" y="185"/>
                    </a:lnTo>
                    <a:lnTo>
                      <a:pt x="3246" y="185"/>
                    </a:lnTo>
                    <a:lnTo>
                      <a:pt x="3239" y="186"/>
                    </a:lnTo>
                    <a:lnTo>
                      <a:pt x="3232" y="187"/>
                    </a:lnTo>
                    <a:lnTo>
                      <a:pt x="3226" y="188"/>
                    </a:lnTo>
                    <a:lnTo>
                      <a:pt x="3223" y="192"/>
                    </a:lnTo>
                    <a:lnTo>
                      <a:pt x="3219" y="195"/>
                    </a:lnTo>
                    <a:lnTo>
                      <a:pt x="3216" y="201"/>
                    </a:lnTo>
                    <a:lnTo>
                      <a:pt x="3213" y="207"/>
                    </a:lnTo>
                    <a:lnTo>
                      <a:pt x="3211" y="215"/>
                    </a:lnTo>
                    <a:lnTo>
                      <a:pt x="3195" y="215"/>
                    </a:lnTo>
                    <a:lnTo>
                      <a:pt x="3195" y="0"/>
                    </a:lnTo>
                    <a:lnTo>
                      <a:pt x="3211" y="0"/>
                    </a:lnTo>
                    <a:lnTo>
                      <a:pt x="3213" y="9"/>
                    </a:lnTo>
                    <a:lnTo>
                      <a:pt x="3216" y="16"/>
                    </a:lnTo>
                    <a:lnTo>
                      <a:pt x="3218" y="21"/>
                    </a:lnTo>
                    <a:lnTo>
                      <a:pt x="3222" y="25"/>
                    </a:lnTo>
                    <a:lnTo>
                      <a:pt x="3226" y="28"/>
                    </a:lnTo>
                    <a:lnTo>
                      <a:pt x="3232" y="29"/>
                    </a:lnTo>
                    <a:lnTo>
                      <a:pt x="3237" y="30"/>
                    </a:lnTo>
                    <a:lnTo>
                      <a:pt x="3246" y="31"/>
                    </a:lnTo>
                    <a:lnTo>
                      <a:pt x="3801" y="31"/>
                    </a:lnTo>
                    <a:lnTo>
                      <a:pt x="3809" y="30"/>
                    </a:lnTo>
                    <a:lnTo>
                      <a:pt x="3816" y="29"/>
                    </a:lnTo>
                    <a:lnTo>
                      <a:pt x="3821" y="28"/>
                    </a:lnTo>
                    <a:lnTo>
                      <a:pt x="3826" y="25"/>
                    </a:lnTo>
                    <a:lnTo>
                      <a:pt x="3828" y="21"/>
                    </a:lnTo>
                    <a:lnTo>
                      <a:pt x="3831" y="16"/>
                    </a:lnTo>
                    <a:lnTo>
                      <a:pt x="3834" y="9"/>
                    </a:lnTo>
                    <a:lnTo>
                      <a:pt x="3836" y="0"/>
                    </a:lnTo>
                    <a:lnTo>
                      <a:pt x="3853" y="0"/>
                    </a:lnTo>
                    <a:lnTo>
                      <a:pt x="3853" y="215"/>
                    </a:lnTo>
                    <a:lnTo>
                      <a:pt x="3836" y="215"/>
                    </a:lnTo>
                    <a:lnTo>
                      <a:pt x="3834" y="207"/>
                    </a:lnTo>
                    <a:lnTo>
                      <a:pt x="3831" y="201"/>
                    </a:lnTo>
                    <a:lnTo>
                      <a:pt x="3828" y="195"/>
                    </a:lnTo>
                    <a:lnTo>
                      <a:pt x="3825" y="192"/>
                    </a:lnTo>
                    <a:lnTo>
                      <a:pt x="3821" y="188"/>
                    </a:lnTo>
                    <a:lnTo>
                      <a:pt x="3816" y="187"/>
                    </a:lnTo>
                    <a:lnTo>
                      <a:pt x="3809" y="186"/>
                    </a:lnTo>
                    <a:lnTo>
                      <a:pt x="3801" y="185"/>
                    </a:lnTo>
                    <a:lnTo>
                      <a:pt x="3614" y="185"/>
                    </a:lnTo>
                    <a:close/>
                    <a:moveTo>
                      <a:pt x="4019" y="660"/>
                    </a:moveTo>
                    <a:lnTo>
                      <a:pt x="4019" y="644"/>
                    </a:lnTo>
                    <a:lnTo>
                      <a:pt x="4028" y="641"/>
                    </a:lnTo>
                    <a:lnTo>
                      <a:pt x="4035" y="639"/>
                    </a:lnTo>
                    <a:lnTo>
                      <a:pt x="4040" y="636"/>
                    </a:lnTo>
                    <a:lnTo>
                      <a:pt x="4044" y="633"/>
                    </a:lnTo>
                    <a:lnTo>
                      <a:pt x="4046" y="629"/>
                    </a:lnTo>
                    <a:lnTo>
                      <a:pt x="4048" y="623"/>
                    </a:lnTo>
                    <a:lnTo>
                      <a:pt x="4049" y="617"/>
                    </a:lnTo>
                    <a:lnTo>
                      <a:pt x="4049" y="609"/>
                    </a:lnTo>
                    <a:lnTo>
                      <a:pt x="4049" y="83"/>
                    </a:lnTo>
                    <a:lnTo>
                      <a:pt x="4049" y="74"/>
                    </a:lnTo>
                    <a:lnTo>
                      <a:pt x="4048" y="67"/>
                    </a:lnTo>
                    <a:lnTo>
                      <a:pt x="4046" y="63"/>
                    </a:lnTo>
                    <a:lnTo>
                      <a:pt x="4044" y="58"/>
                    </a:lnTo>
                    <a:lnTo>
                      <a:pt x="4040" y="55"/>
                    </a:lnTo>
                    <a:lnTo>
                      <a:pt x="4035" y="53"/>
                    </a:lnTo>
                    <a:lnTo>
                      <a:pt x="4028" y="49"/>
                    </a:lnTo>
                    <a:lnTo>
                      <a:pt x="4019" y="47"/>
                    </a:lnTo>
                    <a:lnTo>
                      <a:pt x="4019" y="31"/>
                    </a:lnTo>
                    <a:lnTo>
                      <a:pt x="4258" y="31"/>
                    </a:lnTo>
                    <a:lnTo>
                      <a:pt x="4258" y="47"/>
                    </a:lnTo>
                    <a:lnTo>
                      <a:pt x="4249" y="49"/>
                    </a:lnTo>
                    <a:lnTo>
                      <a:pt x="4242" y="53"/>
                    </a:lnTo>
                    <a:lnTo>
                      <a:pt x="4237" y="56"/>
                    </a:lnTo>
                    <a:lnTo>
                      <a:pt x="4232" y="58"/>
                    </a:lnTo>
                    <a:lnTo>
                      <a:pt x="4230" y="63"/>
                    </a:lnTo>
                    <a:lnTo>
                      <a:pt x="4228" y="68"/>
                    </a:lnTo>
                    <a:lnTo>
                      <a:pt x="4227" y="75"/>
                    </a:lnTo>
                    <a:lnTo>
                      <a:pt x="4227" y="83"/>
                    </a:lnTo>
                    <a:lnTo>
                      <a:pt x="4227" y="258"/>
                    </a:lnTo>
                    <a:lnTo>
                      <a:pt x="4539" y="258"/>
                    </a:lnTo>
                    <a:lnTo>
                      <a:pt x="4539" y="83"/>
                    </a:lnTo>
                    <a:lnTo>
                      <a:pt x="4539" y="75"/>
                    </a:lnTo>
                    <a:lnTo>
                      <a:pt x="4538" y="68"/>
                    </a:lnTo>
                    <a:lnTo>
                      <a:pt x="4536" y="63"/>
                    </a:lnTo>
                    <a:lnTo>
                      <a:pt x="4533" y="58"/>
                    </a:lnTo>
                    <a:lnTo>
                      <a:pt x="4529" y="56"/>
                    </a:lnTo>
                    <a:lnTo>
                      <a:pt x="4523" y="53"/>
                    </a:lnTo>
                    <a:lnTo>
                      <a:pt x="4516" y="49"/>
                    </a:lnTo>
                    <a:lnTo>
                      <a:pt x="4508" y="47"/>
                    </a:lnTo>
                    <a:lnTo>
                      <a:pt x="4508" y="31"/>
                    </a:lnTo>
                    <a:lnTo>
                      <a:pt x="4747" y="31"/>
                    </a:lnTo>
                    <a:lnTo>
                      <a:pt x="4747" y="47"/>
                    </a:lnTo>
                    <a:lnTo>
                      <a:pt x="4739" y="49"/>
                    </a:lnTo>
                    <a:lnTo>
                      <a:pt x="4732" y="53"/>
                    </a:lnTo>
                    <a:lnTo>
                      <a:pt x="4726" y="55"/>
                    </a:lnTo>
                    <a:lnTo>
                      <a:pt x="4723" y="58"/>
                    </a:lnTo>
                    <a:lnTo>
                      <a:pt x="4720" y="63"/>
                    </a:lnTo>
                    <a:lnTo>
                      <a:pt x="4719" y="67"/>
                    </a:lnTo>
                    <a:lnTo>
                      <a:pt x="4717" y="74"/>
                    </a:lnTo>
                    <a:lnTo>
                      <a:pt x="4717" y="83"/>
                    </a:lnTo>
                    <a:lnTo>
                      <a:pt x="4717" y="609"/>
                    </a:lnTo>
                    <a:lnTo>
                      <a:pt x="4717" y="617"/>
                    </a:lnTo>
                    <a:lnTo>
                      <a:pt x="4719" y="623"/>
                    </a:lnTo>
                    <a:lnTo>
                      <a:pt x="4720" y="629"/>
                    </a:lnTo>
                    <a:lnTo>
                      <a:pt x="4723" y="633"/>
                    </a:lnTo>
                    <a:lnTo>
                      <a:pt x="4726" y="636"/>
                    </a:lnTo>
                    <a:lnTo>
                      <a:pt x="4732" y="639"/>
                    </a:lnTo>
                    <a:lnTo>
                      <a:pt x="4739" y="641"/>
                    </a:lnTo>
                    <a:lnTo>
                      <a:pt x="4747" y="644"/>
                    </a:lnTo>
                    <a:lnTo>
                      <a:pt x="4747" y="660"/>
                    </a:lnTo>
                    <a:lnTo>
                      <a:pt x="4508" y="660"/>
                    </a:lnTo>
                    <a:lnTo>
                      <a:pt x="4508" y="644"/>
                    </a:lnTo>
                    <a:lnTo>
                      <a:pt x="4516" y="641"/>
                    </a:lnTo>
                    <a:lnTo>
                      <a:pt x="4523" y="638"/>
                    </a:lnTo>
                    <a:lnTo>
                      <a:pt x="4529" y="636"/>
                    </a:lnTo>
                    <a:lnTo>
                      <a:pt x="4533" y="632"/>
                    </a:lnTo>
                    <a:lnTo>
                      <a:pt x="4536" y="628"/>
                    </a:lnTo>
                    <a:lnTo>
                      <a:pt x="4538" y="623"/>
                    </a:lnTo>
                    <a:lnTo>
                      <a:pt x="4539" y="617"/>
                    </a:lnTo>
                    <a:lnTo>
                      <a:pt x="4539" y="609"/>
                    </a:lnTo>
                    <a:lnTo>
                      <a:pt x="4539" y="402"/>
                    </a:lnTo>
                    <a:lnTo>
                      <a:pt x="4227" y="402"/>
                    </a:lnTo>
                    <a:lnTo>
                      <a:pt x="4227" y="609"/>
                    </a:lnTo>
                    <a:lnTo>
                      <a:pt x="4227" y="617"/>
                    </a:lnTo>
                    <a:lnTo>
                      <a:pt x="4228" y="623"/>
                    </a:lnTo>
                    <a:lnTo>
                      <a:pt x="4230" y="628"/>
                    </a:lnTo>
                    <a:lnTo>
                      <a:pt x="4232" y="632"/>
                    </a:lnTo>
                    <a:lnTo>
                      <a:pt x="4237" y="636"/>
                    </a:lnTo>
                    <a:lnTo>
                      <a:pt x="4242" y="638"/>
                    </a:lnTo>
                    <a:lnTo>
                      <a:pt x="4249" y="641"/>
                    </a:lnTo>
                    <a:lnTo>
                      <a:pt x="4258" y="644"/>
                    </a:lnTo>
                    <a:lnTo>
                      <a:pt x="4258" y="660"/>
                    </a:lnTo>
                    <a:lnTo>
                      <a:pt x="4019" y="660"/>
                    </a:lnTo>
                    <a:close/>
                    <a:moveTo>
                      <a:pt x="4934" y="660"/>
                    </a:moveTo>
                    <a:lnTo>
                      <a:pt x="4934" y="644"/>
                    </a:lnTo>
                    <a:lnTo>
                      <a:pt x="4943" y="641"/>
                    </a:lnTo>
                    <a:lnTo>
                      <a:pt x="4950" y="639"/>
                    </a:lnTo>
                    <a:lnTo>
                      <a:pt x="4956" y="636"/>
                    </a:lnTo>
                    <a:lnTo>
                      <a:pt x="4959" y="633"/>
                    </a:lnTo>
                    <a:lnTo>
                      <a:pt x="4961" y="629"/>
                    </a:lnTo>
                    <a:lnTo>
                      <a:pt x="4963" y="623"/>
                    </a:lnTo>
                    <a:lnTo>
                      <a:pt x="4965" y="617"/>
                    </a:lnTo>
                    <a:lnTo>
                      <a:pt x="4965" y="609"/>
                    </a:lnTo>
                    <a:lnTo>
                      <a:pt x="4965" y="83"/>
                    </a:lnTo>
                    <a:lnTo>
                      <a:pt x="4965" y="74"/>
                    </a:lnTo>
                    <a:lnTo>
                      <a:pt x="4963" y="67"/>
                    </a:lnTo>
                    <a:lnTo>
                      <a:pt x="4961" y="63"/>
                    </a:lnTo>
                    <a:lnTo>
                      <a:pt x="4959" y="58"/>
                    </a:lnTo>
                    <a:lnTo>
                      <a:pt x="4956" y="55"/>
                    </a:lnTo>
                    <a:lnTo>
                      <a:pt x="4950" y="53"/>
                    </a:lnTo>
                    <a:lnTo>
                      <a:pt x="4943" y="49"/>
                    </a:lnTo>
                    <a:lnTo>
                      <a:pt x="4934" y="47"/>
                    </a:lnTo>
                    <a:lnTo>
                      <a:pt x="4934" y="31"/>
                    </a:lnTo>
                    <a:lnTo>
                      <a:pt x="5173" y="31"/>
                    </a:lnTo>
                    <a:lnTo>
                      <a:pt x="5173" y="47"/>
                    </a:lnTo>
                    <a:lnTo>
                      <a:pt x="5164" y="49"/>
                    </a:lnTo>
                    <a:lnTo>
                      <a:pt x="5158" y="53"/>
                    </a:lnTo>
                    <a:lnTo>
                      <a:pt x="5152" y="56"/>
                    </a:lnTo>
                    <a:lnTo>
                      <a:pt x="5148" y="58"/>
                    </a:lnTo>
                    <a:lnTo>
                      <a:pt x="5145" y="63"/>
                    </a:lnTo>
                    <a:lnTo>
                      <a:pt x="5144" y="68"/>
                    </a:lnTo>
                    <a:lnTo>
                      <a:pt x="5143" y="75"/>
                    </a:lnTo>
                    <a:lnTo>
                      <a:pt x="5142" y="83"/>
                    </a:lnTo>
                    <a:lnTo>
                      <a:pt x="5142" y="609"/>
                    </a:lnTo>
                    <a:lnTo>
                      <a:pt x="5143" y="617"/>
                    </a:lnTo>
                    <a:lnTo>
                      <a:pt x="5144" y="623"/>
                    </a:lnTo>
                    <a:lnTo>
                      <a:pt x="5145" y="628"/>
                    </a:lnTo>
                    <a:lnTo>
                      <a:pt x="5148" y="632"/>
                    </a:lnTo>
                    <a:lnTo>
                      <a:pt x="5152" y="636"/>
                    </a:lnTo>
                    <a:lnTo>
                      <a:pt x="5158" y="638"/>
                    </a:lnTo>
                    <a:lnTo>
                      <a:pt x="5164" y="641"/>
                    </a:lnTo>
                    <a:lnTo>
                      <a:pt x="5173" y="644"/>
                    </a:lnTo>
                    <a:lnTo>
                      <a:pt x="5173" y="660"/>
                    </a:lnTo>
                    <a:lnTo>
                      <a:pt x="4934" y="660"/>
                    </a:lnTo>
                    <a:close/>
                    <a:moveTo>
                      <a:pt x="5930" y="511"/>
                    </a:moveTo>
                    <a:lnTo>
                      <a:pt x="5938" y="511"/>
                    </a:lnTo>
                    <a:lnTo>
                      <a:pt x="5945" y="510"/>
                    </a:lnTo>
                    <a:lnTo>
                      <a:pt x="5949" y="509"/>
                    </a:lnTo>
                    <a:lnTo>
                      <a:pt x="5954" y="506"/>
                    </a:lnTo>
                    <a:lnTo>
                      <a:pt x="5957" y="502"/>
                    </a:lnTo>
                    <a:lnTo>
                      <a:pt x="5959" y="498"/>
                    </a:lnTo>
                    <a:lnTo>
                      <a:pt x="5963" y="491"/>
                    </a:lnTo>
                    <a:lnTo>
                      <a:pt x="5965" y="482"/>
                    </a:lnTo>
                    <a:lnTo>
                      <a:pt x="5982" y="482"/>
                    </a:lnTo>
                    <a:lnTo>
                      <a:pt x="5982" y="691"/>
                    </a:lnTo>
                    <a:lnTo>
                      <a:pt x="5965" y="691"/>
                    </a:lnTo>
                    <a:lnTo>
                      <a:pt x="5963" y="682"/>
                    </a:lnTo>
                    <a:lnTo>
                      <a:pt x="5959" y="675"/>
                    </a:lnTo>
                    <a:lnTo>
                      <a:pt x="5957" y="669"/>
                    </a:lnTo>
                    <a:lnTo>
                      <a:pt x="5954" y="666"/>
                    </a:lnTo>
                    <a:lnTo>
                      <a:pt x="5950" y="664"/>
                    </a:lnTo>
                    <a:lnTo>
                      <a:pt x="5945" y="661"/>
                    </a:lnTo>
                    <a:lnTo>
                      <a:pt x="5938" y="660"/>
                    </a:lnTo>
                    <a:lnTo>
                      <a:pt x="5930" y="660"/>
                    </a:lnTo>
                    <a:lnTo>
                      <a:pt x="5361" y="660"/>
                    </a:lnTo>
                    <a:lnTo>
                      <a:pt x="5361" y="644"/>
                    </a:lnTo>
                    <a:lnTo>
                      <a:pt x="5370" y="641"/>
                    </a:lnTo>
                    <a:lnTo>
                      <a:pt x="5377" y="639"/>
                    </a:lnTo>
                    <a:lnTo>
                      <a:pt x="5382" y="636"/>
                    </a:lnTo>
                    <a:lnTo>
                      <a:pt x="5386" y="633"/>
                    </a:lnTo>
                    <a:lnTo>
                      <a:pt x="5388" y="629"/>
                    </a:lnTo>
                    <a:lnTo>
                      <a:pt x="5389" y="623"/>
                    </a:lnTo>
                    <a:lnTo>
                      <a:pt x="5390" y="617"/>
                    </a:lnTo>
                    <a:lnTo>
                      <a:pt x="5391" y="609"/>
                    </a:lnTo>
                    <a:lnTo>
                      <a:pt x="5391" y="83"/>
                    </a:lnTo>
                    <a:lnTo>
                      <a:pt x="5390" y="74"/>
                    </a:lnTo>
                    <a:lnTo>
                      <a:pt x="5389" y="67"/>
                    </a:lnTo>
                    <a:lnTo>
                      <a:pt x="5388" y="63"/>
                    </a:lnTo>
                    <a:lnTo>
                      <a:pt x="5386" y="58"/>
                    </a:lnTo>
                    <a:lnTo>
                      <a:pt x="5382" y="55"/>
                    </a:lnTo>
                    <a:lnTo>
                      <a:pt x="5377" y="53"/>
                    </a:lnTo>
                    <a:lnTo>
                      <a:pt x="5370" y="49"/>
                    </a:lnTo>
                    <a:lnTo>
                      <a:pt x="5361" y="47"/>
                    </a:lnTo>
                    <a:lnTo>
                      <a:pt x="5361" y="31"/>
                    </a:lnTo>
                    <a:lnTo>
                      <a:pt x="5931" y="31"/>
                    </a:lnTo>
                    <a:lnTo>
                      <a:pt x="5939" y="30"/>
                    </a:lnTo>
                    <a:lnTo>
                      <a:pt x="5946" y="29"/>
                    </a:lnTo>
                    <a:lnTo>
                      <a:pt x="5950" y="27"/>
                    </a:lnTo>
                    <a:lnTo>
                      <a:pt x="5955" y="25"/>
                    </a:lnTo>
                    <a:lnTo>
                      <a:pt x="5958" y="21"/>
                    </a:lnTo>
                    <a:lnTo>
                      <a:pt x="5961" y="16"/>
                    </a:lnTo>
                    <a:lnTo>
                      <a:pt x="5963" y="9"/>
                    </a:lnTo>
                    <a:lnTo>
                      <a:pt x="5965" y="0"/>
                    </a:lnTo>
                    <a:lnTo>
                      <a:pt x="5982" y="0"/>
                    </a:lnTo>
                    <a:lnTo>
                      <a:pt x="5982" y="210"/>
                    </a:lnTo>
                    <a:lnTo>
                      <a:pt x="5965" y="210"/>
                    </a:lnTo>
                    <a:lnTo>
                      <a:pt x="5963" y="201"/>
                    </a:lnTo>
                    <a:lnTo>
                      <a:pt x="5961" y="194"/>
                    </a:lnTo>
                    <a:lnTo>
                      <a:pt x="5957" y="188"/>
                    </a:lnTo>
                    <a:lnTo>
                      <a:pt x="5954" y="185"/>
                    </a:lnTo>
                    <a:lnTo>
                      <a:pt x="5950" y="183"/>
                    </a:lnTo>
                    <a:lnTo>
                      <a:pt x="5945" y="180"/>
                    </a:lnTo>
                    <a:lnTo>
                      <a:pt x="5939" y="180"/>
                    </a:lnTo>
                    <a:lnTo>
                      <a:pt x="5931" y="179"/>
                    </a:lnTo>
                    <a:lnTo>
                      <a:pt x="5569" y="179"/>
                    </a:lnTo>
                    <a:lnTo>
                      <a:pt x="5569" y="268"/>
                    </a:lnTo>
                    <a:lnTo>
                      <a:pt x="5787" y="268"/>
                    </a:lnTo>
                    <a:lnTo>
                      <a:pt x="5794" y="268"/>
                    </a:lnTo>
                    <a:lnTo>
                      <a:pt x="5800" y="267"/>
                    </a:lnTo>
                    <a:lnTo>
                      <a:pt x="5806" y="265"/>
                    </a:lnTo>
                    <a:lnTo>
                      <a:pt x="5810" y="262"/>
                    </a:lnTo>
                    <a:lnTo>
                      <a:pt x="5813" y="259"/>
                    </a:lnTo>
                    <a:lnTo>
                      <a:pt x="5817" y="253"/>
                    </a:lnTo>
                    <a:lnTo>
                      <a:pt x="5819" y="247"/>
                    </a:lnTo>
                    <a:lnTo>
                      <a:pt x="5822" y="239"/>
                    </a:lnTo>
                    <a:lnTo>
                      <a:pt x="5839" y="239"/>
                    </a:lnTo>
                    <a:lnTo>
                      <a:pt x="5839" y="434"/>
                    </a:lnTo>
                    <a:lnTo>
                      <a:pt x="5821" y="434"/>
                    </a:lnTo>
                    <a:lnTo>
                      <a:pt x="5819" y="425"/>
                    </a:lnTo>
                    <a:lnTo>
                      <a:pt x="5816" y="418"/>
                    </a:lnTo>
                    <a:lnTo>
                      <a:pt x="5813" y="414"/>
                    </a:lnTo>
                    <a:lnTo>
                      <a:pt x="5810" y="409"/>
                    </a:lnTo>
                    <a:lnTo>
                      <a:pt x="5806" y="407"/>
                    </a:lnTo>
                    <a:lnTo>
                      <a:pt x="5800" y="406"/>
                    </a:lnTo>
                    <a:lnTo>
                      <a:pt x="5793" y="405"/>
                    </a:lnTo>
                    <a:lnTo>
                      <a:pt x="5787" y="404"/>
                    </a:lnTo>
                    <a:lnTo>
                      <a:pt x="5569" y="404"/>
                    </a:lnTo>
                    <a:lnTo>
                      <a:pt x="5569" y="511"/>
                    </a:lnTo>
                    <a:lnTo>
                      <a:pt x="5930" y="511"/>
                    </a:lnTo>
                    <a:close/>
                    <a:moveTo>
                      <a:pt x="6186" y="660"/>
                    </a:moveTo>
                    <a:lnTo>
                      <a:pt x="6186" y="644"/>
                    </a:lnTo>
                    <a:lnTo>
                      <a:pt x="6194" y="641"/>
                    </a:lnTo>
                    <a:lnTo>
                      <a:pt x="6202" y="639"/>
                    </a:lnTo>
                    <a:lnTo>
                      <a:pt x="6207" y="636"/>
                    </a:lnTo>
                    <a:lnTo>
                      <a:pt x="6210" y="633"/>
                    </a:lnTo>
                    <a:lnTo>
                      <a:pt x="6213" y="629"/>
                    </a:lnTo>
                    <a:lnTo>
                      <a:pt x="6214" y="623"/>
                    </a:lnTo>
                    <a:lnTo>
                      <a:pt x="6215" y="617"/>
                    </a:lnTo>
                    <a:lnTo>
                      <a:pt x="6215" y="609"/>
                    </a:lnTo>
                    <a:lnTo>
                      <a:pt x="6215" y="83"/>
                    </a:lnTo>
                    <a:lnTo>
                      <a:pt x="6215" y="74"/>
                    </a:lnTo>
                    <a:lnTo>
                      <a:pt x="6214" y="67"/>
                    </a:lnTo>
                    <a:lnTo>
                      <a:pt x="6213" y="63"/>
                    </a:lnTo>
                    <a:lnTo>
                      <a:pt x="6210" y="58"/>
                    </a:lnTo>
                    <a:lnTo>
                      <a:pt x="6207" y="55"/>
                    </a:lnTo>
                    <a:lnTo>
                      <a:pt x="6202" y="53"/>
                    </a:lnTo>
                    <a:lnTo>
                      <a:pt x="6194" y="49"/>
                    </a:lnTo>
                    <a:lnTo>
                      <a:pt x="6186" y="47"/>
                    </a:lnTo>
                    <a:lnTo>
                      <a:pt x="6186" y="31"/>
                    </a:lnTo>
                    <a:lnTo>
                      <a:pt x="6624" y="31"/>
                    </a:lnTo>
                    <a:lnTo>
                      <a:pt x="6652" y="31"/>
                    </a:lnTo>
                    <a:lnTo>
                      <a:pt x="6679" y="34"/>
                    </a:lnTo>
                    <a:lnTo>
                      <a:pt x="6705" y="38"/>
                    </a:lnTo>
                    <a:lnTo>
                      <a:pt x="6729" y="44"/>
                    </a:lnTo>
                    <a:lnTo>
                      <a:pt x="6751" y="52"/>
                    </a:lnTo>
                    <a:lnTo>
                      <a:pt x="6771" y="61"/>
                    </a:lnTo>
                    <a:lnTo>
                      <a:pt x="6781" y="65"/>
                    </a:lnTo>
                    <a:lnTo>
                      <a:pt x="6790" y="71"/>
                    </a:lnTo>
                    <a:lnTo>
                      <a:pt x="6799" y="77"/>
                    </a:lnTo>
                    <a:lnTo>
                      <a:pt x="6807" y="83"/>
                    </a:lnTo>
                    <a:lnTo>
                      <a:pt x="6815" y="90"/>
                    </a:lnTo>
                    <a:lnTo>
                      <a:pt x="6823" y="98"/>
                    </a:lnTo>
                    <a:lnTo>
                      <a:pt x="6830" y="104"/>
                    </a:lnTo>
                    <a:lnTo>
                      <a:pt x="6836" y="112"/>
                    </a:lnTo>
                    <a:lnTo>
                      <a:pt x="6842" y="120"/>
                    </a:lnTo>
                    <a:lnTo>
                      <a:pt x="6848" y="129"/>
                    </a:lnTo>
                    <a:lnTo>
                      <a:pt x="6852" y="137"/>
                    </a:lnTo>
                    <a:lnTo>
                      <a:pt x="6857" y="146"/>
                    </a:lnTo>
                    <a:lnTo>
                      <a:pt x="6860" y="156"/>
                    </a:lnTo>
                    <a:lnTo>
                      <a:pt x="6863" y="165"/>
                    </a:lnTo>
                    <a:lnTo>
                      <a:pt x="6867" y="175"/>
                    </a:lnTo>
                    <a:lnTo>
                      <a:pt x="6869" y="186"/>
                    </a:lnTo>
                    <a:lnTo>
                      <a:pt x="6871" y="207"/>
                    </a:lnTo>
                    <a:lnTo>
                      <a:pt x="6872" y="230"/>
                    </a:lnTo>
                    <a:lnTo>
                      <a:pt x="6872" y="248"/>
                    </a:lnTo>
                    <a:lnTo>
                      <a:pt x="6870" y="266"/>
                    </a:lnTo>
                    <a:lnTo>
                      <a:pt x="6867" y="281"/>
                    </a:lnTo>
                    <a:lnTo>
                      <a:pt x="6862" y="297"/>
                    </a:lnTo>
                    <a:lnTo>
                      <a:pt x="6857" y="313"/>
                    </a:lnTo>
                    <a:lnTo>
                      <a:pt x="6850" y="326"/>
                    </a:lnTo>
                    <a:lnTo>
                      <a:pt x="6842" y="340"/>
                    </a:lnTo>
                    <a:lnTo>
                      <a:pt x="6832" y="353"/>
                    </a:lnTo>
                    <a:lnTo>
                      <a:pt x="6821" y="364"/>
                    </a:lnTo>
                    <a:lnTo>
                      <a:pt x="6810" y="376"/>
                    </a:lnTo>
                    <a:lnTo>
                      <a:pt x="6796" y="387"/>
                    </a:lnTo>
                    <a:lnTo>
                      <a:pt x="6781" y="396"/>
                    </a:lnTo>
                    <a:lnTo>
                      <a:pt x="6766" y="405"/>
                    </a:lnTo>
                    <a:lnTo>
                      <a:pt x="6749" y="413"/>
                    </a:lnTo>
                    <a:lnTo>
                      <a:pt x="6731" y="419"/>
                    </a:lnTo>
                    <a:lnTo>
                      <a:pt x="6711" y="426"/>
                    </a:lnTo>
                    <a:lnTo>
                      <a:pt x="6805" y="573"/>
                    </a:lnTo>
                    <a:lnTo>
                      <a:pt x="6816" y="591"/>
                    </a:lnTo>
                    <a:lnTo>
                      <a:pt x="6826" y="607"/>
                    </a:lnTo>
                    <a:lnTo>
                      <a:pt x="6836" y="618"/>
                    </a:lnTo>
                    <a:lnTo>
                      <a:pt x="6844" y="627"/>
                    </a:lnTo>
                    <a:lnTo>
                      <a:pt x="6852" y="632"/>
                    </a:lnTo>
                    <a:lnTo>
                      <a:pt x="6860" y="637"/>
                    </a:lnTo>
                    <a:lnTo>
                      <a:pt x="6869" y="641"/>
                    </a:lnTo>
                    <a:lnTo>
                      <a:pt x="6877" y="644"/>
                    </a:lnTo>
                    <a:lnTo>
                      <a:pt x="6877" y="660"/>
                    </a:lnTo>
                    <a:lnTo>
                      <a:pt x="6624" y="660"/>
                    </a:lnTo>
                    <a:lnTo>
                      <a:pt x="6624" y="644"/>
                    </a:lnTo>
                    <a:lnTo>
                      <a:pt x="6633" y="640"/>
                    </a:lnTo>
                    <a:lnTo>
                      <a:pt x="6640" y="636"/>
                    </a:lnTo>
                    <a:lnTo>
                      <a:pt x="6642" y="633"/>
                    </a:lnTo>
                    <a:lnTo>
                      <a:pt x="6643" y="630"/>
                    </a:lnTo>
                    <a:lnTo>
                      <a:pt x="6644" y="627"/>
                    </a:lnTo>
                    <a:lnTo>
                      <a:pt x="6644" y="623"/>
                    </a:lnTo>
                    <a:lnTo>
                      <a:pt x="6643" y="619"/>
                    </a:lnTo>
                    <a:lnTo>
                      <a:pt x="6642" y="613"/>
                    </a:lnTo>
                    <a:lnTo>
                      <a:pt x="6639" y="607"/>
                    </a:lnTo>
                    <a:lnTo>
                      <a:pt x="6633" y="600"/>
                    </a:lnTo>
                    <a:lnTo>
                      <a:pt x="6630" y="594"/>
                    </a:lnTo>
                    <a:lnTo>
                      <a:pt x="6626" y="590"/>
                    </a:lnTo>
                    <a:lnTo>
                      <a:pt x="6523" y="428"/>
                    </a:lnTo>
                    <a:lnTo>
                      <a:pt x="6394" y="428"/>
                    </a:lnTo>
                    <a:lnTo>
                      <a:pt x="6394" y="609"/>
                    </a:lnTo>
                    <a:lnTo>
                      <a:pt x="6394" y="617"/>
                    </a:lnTo>
                    <a:lnTo>
                      <a:pt x="6395" y="623"/>
                    </a:lnTo>
                    <a:lnTo>
                      <a:pt x="6397" y="628"/>
                    </a:lnTo>
                    <a:lnTo>
                      <a:pt x="6400" y="632"/>
                    </a:lnTo>
                    <a:lnTo>
                      <a:pt x="6403" y="636"/>
                    </a:lnTo>
                    <a:lnTo>
                      <a:pt x="6409" y="638"/>
                    </a:lnTo>
                    <a:lnTo>
                      <a:pt x="6416" y="641"/>
                    </a:lnTo>
                    <a:lnTo>
                      <a:pt x="6424" y="644"/>
                    </a:lnTo>
                    <a:lnTo>
                      <a:pt x="6424" y="660"/>
                    </a:lnTo>
                    <a:lnTo>
                      <a:pt x="6186" y="660"/>
                    </a:lnTo>
                    <a:close/>
                    <a:moveTo>
                      <a:pt x="6394" y="158"/>
                    </a:moveTo>
                    <a:lnTo>
                      <a:pt x="6394" y="300"/>
                    </a:lnTo>
                    <a:lnTo>
                      <a:pt x="6549" y="300"/>
                    </a:lnTo>
                    <a:lnTo>
                      <a:pt x="6566" y="300"/>
                    </a:lnTo>
                    <a:lnTo>
                      <a:pt x="6583" y="299"/>
                    </a:lnTo>
                    <a:lnTo>
                      <a:pt x="6598" y="298"/>
                    </a:lnTo>
                    <a:lnTo>
                      <a:pt x="6612" y="296"/>
                    </a:lnTo>
                    <a:lnTo>
                      <a:pt x="6624" y="294"/>
                    </a:lnTo>
                    <a:lnTo>
                      <a:pt x="6637" y="291"/>
                    </a:lnTo>
                    <a:lnTo>
                      <a:pt x="6647" y="288"/>
                    </a:lnTo>
                    <a:lnTo>
                      <a:pt x="6656" y="284"/>
                    </a:lnTo>
                    <a:lnTo>
                      <a:pt x="6662" y="279"/>
                    </a:lnTo>
                    <a:lnTo>
                      <a:pt x="6669" y="274"/>
                    </a:lnTo>
                    <a:lnTo>
                      <a:pt x="6675" y="268"/>
                    </a:lnTo>
                    <a:lnTo>
                      <a:pt x="6679" y="261"/>
                    </a:lnTo>
                    <a:lnTo>
                      <a:pt x="6684" y="254"/>
                    </a:lnTo>
                    <a:lnTo>
                      <a:pt x="6686" y="247"/>
                    </a:lnTo>
                    <a:lnTo>
                      <a:pt x="6687" y="238"/>
                    </a:lnTo>
                    <a:lnTo>
                      <a:pt x="6688" y="229"/>
                    </a:lnTo>
                    <a:lnTo>
                      <a:pt x="6687" y="220"/>
                    </a:lnTo>
                    <a:lnTo>
                      <a:pt x="6686" y="211"/>
                    </a:lnTo>
                    <a:lnTo>
                      <a:pt x="6684" y="203"/>
                    </a:lnTo>
                    <a:lnTo>
                      <a:pt x="6680" y="195"/>
                    </a:lnTo>
                    <a:lnTo>
                      <a:pt x="6676" y="189"/>
                    </a:lnTo>
                    <a:lnTo>
                      <a:pt x="6670" y="183"/>
                    </a:lnTo>
                    <a:lnTo>
                      <a:pt x="6665" y="178"/>
                    </a:lnTo>
                    <a:lnTo>
                      <a:pt x="6657" y="174"/>
                    </a:lnTo>
                    <a:lnTo>
                      <a:pt x="6649" y="170"/>
                    </a:lnTo>
                    <a:lnTo>
                      <a:pt x="6639" y="167"/>
                    </a:lnTo>
                    <a:lnTo>
                      <a:pt x="6626" y="164"/>
                    </a:lnTo>
                    <a:lnTo>
                      <a:pt x="6613" y="161"/>
                    </a:lnTo>
                    <a:lnTo>
                      <a:pt x="6598" y="160"/>
                    </a:lnTo>
                    <a:lnTo>
                      <a:pt x="6582" y="159"/>
                    </a:lnTo>
                    <a:lnTo>
                      <a:pt x="6564" y="158"/>
                    </a:lnTo>
                    <a:lnTo>
                      <a:pt x="6543" y="158"/>
                    </a:lnTo>
                    <a:lnTo>
                      <a:pt x="6394" y="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8268120" y="6121800"/>
                <a:ext cx="434880" cy="125640"/>
              </a:xfrm>
              <a:custGeom>
                <a:avLst/>
                <a:gdLst/>
                <a:ahLst/>
                <a:rect l="l" t="t" r="r" b="b"/>
                <a:pathLst>
                  <a:path w="4697" h="691">
                    <a:moveTo>
                      <a:pt x="0" y="660"/>
                    </a:moveTo>
                    <a:lnTo>
                      <a:pt x="0" y="644"/>
                    </a:lnTo>
                    <a:lnTo>
                      <a:pt x="8" y="641"/>
                    </a:lnTo>
                    <a:lnTo>
                      <a:pt x="15" y="639"/>
                    </a:lnTo>
                    <a:lnTo>
                      <a:pt x="20" y="636"/>
                    </a:lnTo>
                    <a:lnTo>
                      <a:pt x="24" y="633"/>
                    </a:lnTo>
                    <a:lnTo>
                      <a:pt x="27" y="629"/>
                    </a:lnTo>
                    <a:lnTo>
                      <a:pt x="28" y="623"/>
                    </a:lnTo>
                    <a:lnTo>
                      <a:pt x="29" y="617"/>
                    </a:lnTo>
                    <a:lnTo>
                      <a:pt x="29" y="609"/>
                    </a:lnTo>
                    <a:lnTo>
                      <a:pt x="29" y="83"/>
                    </a:lnTo>
                    <a:lnTo>
                      <a:pt x="29" y="74"/>
                    </a:lnTo>
                    <a:lnTo>
                      <a:pt x="28" y="67"/>
                    </a:lnTo>
                    <a:lnTo>
                      <a:pt x="27" y="63"/>
                    </a:lnTo>
                    <a:lnTo>
                      <a:pt x="24" y="58"/>
                    </a:lnTo>
                    <a:lnTo>
                      <a:pt x="20" y="55"/>
                    </a:lnTo>
                    <a:lnTo>
                      <a:pt x="15" y="53"/>
                    </a:lnTo>
                    <a:lnTo>
                      <a:pt x="8" y="49"/>
                    </a:lnTo>
                    <a:lnTo>
                      <a:pt x="0" y="47"/>
                    </a:lnTo>
                    <a:lnTo>
                      <a:pt x="0" y="31"/>
                    </a:lnTo>
                    <a:lnTo>
                      <a:pt x="400" y="31"/>
                    </a:lnTo>
                    <a:lnTo>
                      <a:pt x="428" y="31"/>
                    </a:lnTo>
                    <a:lnTo>
                      <a:pt x="455" y="34"/>
                    </a:lnTo>
                    <a:lnTo>
                      <a:pt x="481" y="38"/>
                    </a:lnTo>
                    <a:lnTo>
                      <a:pt x="504" y="44"/>
                    </a:lnTo>
                    <a:lnTo>
                      <a:pt x="526" y="52"/>
                    </a:lnTo>
                    <a:lnTo>
                      <a:pt x="546" y="61"/>
                    </a:lnTo>
                    <a:lnTo>
                      <a:pt x="556" y="65"/>
                    </a:lnTo>
                    <a:lnTo>
                      <a:pt x="565" y="71"/>
                    </a:lnTo>
                    <a:lnTo>
                      <a:pt x="574" y="77"/>
                    </a:lnTo>
                    <a:lnTo>
                      <a:pt x="582" y="83"/>
                    </a:lnTo>
                    <a:lnTo>
                      <a:pt x="590" y="90"/>
                    </a:lnTo>
                    <a:lnTo>
                      <a:pt x="598" y="98"/>
                    </a:lnTo>
                    <a:lnTo>
                      <a:pt x="604" y="104"/>
                    </a:lnTo>
                    <a:lnTo>
                      <a:pt x="611" y="112"/>
                    </a:lnTo>
                    <a:lnTo>
                      <a:pt x="617" y="120"/>
                    </a:lnTo>
                    <a:lnTo>
                      <a:pt x="622" y="129"/>
                    </a:lnTo>
                    <a:lnTo>
                      <a:pt x="627" y="137"/>
                    </a:lnTo>
                    <a:lnTo>
                      <a:pt x="631" y="146"/>
                    </a:lnTo>
                    <a:lnTo>
                      <a:pt x="635" y="156"/>
                    </a:lnTo>
                    <a:lnTo>
                      <a:pt x="638" y="165"/>
                    </a:lnTo>
                    <a:lnTo>
                      <a:pt x="641" y="175"/>
                    </a:lnTo>
                    <a:lnTo>
                      <a:pt x="644" y="186"/>
                    </a:lnTo>
                    <a:lnTo>
                      <a:pt x="646" y="207"/>
                    </a:lnTo>
                    <a:lnTo>
                      <a:pt x="647" y="230"/>
                    </a:lnTo>
                    <a:lnTo>
                      <a:pt x="647" y="242"/>
                    </a:lnTo>
                    <a:lnTo>
                      <a:pt x="646" y="254"/>
                    </a:lnTo>
                    <a:lnTo>
                      <a:pt x="644" y="267"/>
                    </a:lnTo>
                    <a:lnTo>
                      <a:pt x="641" y="279"/>
                    </a:lnTo>
                    <a:lnTo>
                      <a:pt x="639" y="290"/>
                    </a:lnTo>
                    <a:lnTo>
                      <a:pt x="635" y="302"/>
                    </a:lnTo>
                    <a:lnTo>
                      <a:pt x="630" y="313"/>
                    </a:lnTo>
                    <a:lnTo>
                      <a:pt x="626" y="323"/>
                    </a:lnTo>
                    <a:lnTo>
                      <a:pt x="620" y="334"/>
                    </a:lnTo>
                    <a:lnTo>
                      <a:pt x="613" y="343"/>
                    </a:lnTo>
                    <a:lnTo>
                      <a:pt x="607" y="353"/>
                    </a:lnTo>
                    <a:lnTo>
                      <a:pt x="600" y="361"/>
                    </a:lnTo>
                    <a:lnTo>
                      <a:pt x="592" y="370"/>
                    </a:lnTo>
                    <a:lnTo>
                      <a:pt x="583" y="377"/>
                    </a:lnTo>
                    <a:lnTo>
                      <a:pt x="574" y="385"/>
                    </a:lnTo>
                    <a:lnTo>
                      <a:pt x="565" y="390"/>
                    </a:lnTo>
                    <a:lnTo>
                      <a:pt x="548" y="400"/>
                    </a:lnTo>
                    <a:lnTo>
                      <a:pt x="530" y="408"/>
                    </a:lnTo>
                    <a:lnTo>
                      <a:pt x="510" y="415"/>
                    </a:lnTo>
                    <a:lnTo>
                      <a:pt x="488" y="419"/>
                    </a:lnTo>
                    <a:lnTo>
                      <a:pt x="463" y="424"/>
                    </a:lnTo>
                    <a:lnTo>
                      <a:pt x="433" y="426"/>
                    </a:lnTo>
                    <a:lnTo>
                      <a:pt x="397" y="427"/>
                    </a:lnTo>
                    <a:lnTo>
                      <a:pt x="355" y="428"/>
                    </a:lnTo>
                    <a:lnTo>
                      <a:pt x="208" y="428"/>
                    </a:lnTo>
                    <a:lnTo>
                      <a:pt x="208" y="609"/>
                    </a:lnTo>
                    <a:lnTo>
                      <a:pt x="208" y="617"/>
                    </a:lnTo>
                    <a:lnTo>
                      <a:pt x="209" y="623"/>
                    </a:lnTo>
                    <a:lnTo>
                      <a:pt x="211" y="628"/>
                    </a:lnTo>
                    <a:lnTo>
                      <a:pt x="214" y="632"/>
                    </a:lnTo>
                    <a:lnTo>
                      <a:pt x="217" y="636"/>
                    </a:lnTo>
                    <a:lnTo>
                      <a:pt x="223" y="638"/>
                    </a:lnTo>
                    <a:lnTo>
                      <a:pt x="229" y="641"/>
                    </a:lnTo>
                    <a:lnTo>
                      <a:pt x="238" y="644"/>
                    </a:lnTo>
                    <a:lnTo>
                      <a:pt x="238" y="660"/>
                    </a:lnTo>
                    <a:lnTo>
                      <a:pt x="0" y="660"/>
                    </a:lnTo>
                    <a:close/>
                    <a:moveTo>
                      <a:pt x="208" y="158"/>
                    </a:moveTo>
                    <a:lnTo>
                      <a:pt x="208" y="300"/>
                    </a:lnTo>
                    <a:lnTo>
                      <a:pt x="344" y="300"/>
                    </a:lnTo>
                    <a:lnTo>
                      <a:pt x="362" y="300"/>
                    </a:lnTo>
                    <a:lnTo>
                      <a:pt x="378" y="299"/>
                    </a:lnTo>
                    <a:lnTo>
                      <a:pt x="393" y="298"/>
                    </a:lnTo>
                    <a:lnTo>
                      <a:pt x="407" y="296"/>
                    </a:lnTo>
                    <a:lnTo>
                      <a:pt x="419" y="294"/>
                    </a:lnTo>
                    <a:lnTo>
                      <a:pt x="430" y="291"/>
                    </a:lnTo>
                    <a:lnTo>
                      <a:pt x="440" y="288"/>
                    </a:lnTo>
                    <a:lnTo>
                      <a:pt x="449" y="284"/>
                    </a:lnTo>
                    <a:lnTo>
                      <a:pt x="457" y="279"/>
                    </a:lnTo>
                    <a:lnTo>
                      <a:pt x="464" y="274"/>
                    </a:lnTo>
                    <a:lnTo>
                      <a:pt x="470" y="268"/>
                    </a:lnTo>
                    <a:lnTo>
                      <a:pt x="474" y="261"/>
                    </a:lnTo>
                    <a:lnTo>
                      <a:pt x="477" y="254"/>
                    </a:lnTo>
                    <a:lnTo>
                      <a:pt x="481" y="247"/>
                    </a:lnTo>
                    <a:lnTo>
                      <a:pt x="482" y="238"/>
                    </a:lnTo>
                    <a:lnTo>
                      <a:pt x="483" y="229"/>
                    </a:lnTo>
                    <a:lnTo>
                      <a:pt x="482" y="220"/>
                    </a:lnTo>
                    <a:lnTo>
                      <a:pt x="481" y="211"/>
                    </a:lnTo>
                    <a:lnTo>
                      <a:pt x="479" y="203"/>
                    </a:lnTo>
                    <a:lnTo>
                      <a:pt x="475" y="195"/>
                    </a:lnTo>
                    <a:lnTo>
                      <a:pt x="471" y="189"/>
                    </a:lnTo>
                    <a:lnTo>
                      <a:pt x="465" y="183"/>
                    </a:lnTo>
                    <a:lnTo>
                      <a:pt x="458" y="178"/>
                    </a:lnTo>
                    <a:lnTo>
                      <a:pt x="452" y="174"/>
                    </a:lnTo>
                    <a:lnTo>
                      <a:pt x="443" y="170"/>
                    </a:lnTo>
                    <a:lnTo>
                      <a:pt x="433" y="167"/>
                    </a:lnTo>
                    <a:lnTo>
                      <a:pt x="421" y="164"/>
                    </a:lnTo>
                    <a:lnTo>
                      <a:pt x="408" y="161"/>
                    </a:lnTo>
                    <a:lnTo>
                      <a:pt x="393" y="160"/>
                    </a:lnTo>
                    <a:lnTo>
                      <a:pt x="376" y="159"/>
                    </a:lnTo>
                    <a:lnTo>
                      <a:pt x="358" y="158"/>
                    </a:lnTo>
                    <a:lnTo>
                      <a:pt x="338" y="158"/>
                    </a:lnTo>
                    <a:lnTo>
                      <a:pt x="208" y="158"/>
                    </a:lnTo>
                    <a:close/>
                    <a:moveTo>
                      <a:pt x="1365" y="511"/>
                    </a:moveTo>
                    <a:lnTo>
                      <a:pt x="1372" y="511"/>
                    </a:lnTo>
                    <a:lnTo>
                      <a:pt x="1378" y="510"/>
                    </a:lnTo>
                    <a:lnTo>
                      <a:pt x="1384" y="509"/>
                    </a:lnTo>
                    <a:lnTo>
                      <a:pt x="1388" y="506"/>
                    </a:lnTo>
                    <a:lnTo>
                      <a:pt x="1390" y="502"/>
                    </a:lnTo>
                    <a:lnTo>
                      <a:pt x="1394" y="498"/>
                    </a:lnTo>
                    <a:lnTo>
                      <a:pt x="1396" y="491"/>
                    </a:lnTo>
                    <a:lnTo>
                      <a:pt x="1399" y="482"/>
                    </a:lnTo>
                    <a:lnTo>
                      <a:pt x="1416" y="482"/>
                    </a:lnTo>
                    <a:lnTo>
                      <a:pt x="1416" y="691"/>
                    </a:lnTo>
                    <a:lnTo>
                      <a:pt x="1399" y="691"/>
                    </a:lnTo>
                    <a:lnTo>
                      <a:pt x="1397" y="682"/>
                    </a:lnTo>
                    <a:lnTo>
                      <a:pt x="1394" y="675"/>
                    </a:lnTo>
                    <a:lnTo>
                      <a:pt x="1392" y="669"/>
                    </a:lnTo>
                    <a:lnTo>
                      <a:pt x="1388" y="666"/>
                    </a:lnTo>
                    <a:lnTo>
                      <a:pt x="1384" y="664"/>
                    </a:lnTo>
                    <a:lnTo>
                      <a:pt x="1379" y="661"/>
                    </a:lnTo>
                    <a:lnTo>
                      <a:pt x="1372" y="660"/>
                    </a:lnTo>
                    <a:lnTo>
                      <a:pt x="1365" y="660"/>
                    </a:lnTo>
                    <a:lnTo>
                      <a:pt x="795" y="660"/>
                    </a:lnTo>
                    <a:lnTo>
                      <a:pt x="795" y="644"/>
                    </a:lnTo>
                    <a:lnTo>
                      <a:pt x="804" y="641"/>
                    </a:lnTo>
                    <a:lnTo>
                      <a:pt x="811" y="639"/>
                    </a:lnTo>
                    <a:lnTo>
                      <a:pt x="815" y="636"/>
                    </a:lnTo>
                    <a:lnTo>
                      <a:pt x="820" y="633"/>
                    </a:lnTo>
                    <a:lnTo>
                      <a:pt x="822" y="629"/>
                    </a:lnTo>
                    <a:lnTo>
                      <a:pt x="823" y="623"/>
                    </a:lnTo>
                    <a:lnTo>
                      <a:pt x="824" y="617"/>
                    </a:lnTo>
                    <a:lnTo>
                      <a:pt x="824" y="609"/>
                    </a:lnTo>
                    <a:lnTo>
                      <a:pt x="824" y="83"/>
                    </a:lnTo>
                    <a:lnTo>
                      <a:pt x="824" y="74"/>
                    </a:lnTo>
                    <a:lnTo>
                      <a:pt x="823" y="67"/>
                    </a:lnTo>
                    <a:lnTo>
                      <a:pt x="822" y="63"/>
                    </a:lnTo>
                    <a:lnTo>
                      <a:pt x="820" y="58"/>
                    </a:lnTo>
                    <a:lnTo>
                      <a:pt x="815" y="55"/>
                    </a:lnTo>
                    <a:lnTo>
                      <a:pt x="811" y="53"/>
                    </a:lnTo>
                    <a:lnTo>
                      <a:pt x="804" y="49"/>
                    </a:lnTo>
                    <a:lnTo>
                      <a:pt x="795" y="47"/>
                    </a:lnTo>
                    <a:lnTo>
                      <a:pt x="795" y="31"/>
                    </a:lnTo>
                    <a:lnTo>
                      <a:pt x="1366" y="31"/>
                    </a:lnTo>
                    <a:lnTo>
                      <a:pt x="1374" y="30"/>
                    </a:lnTo>
                    <a:lnTo>
                      <a:pt x="1379" y="29"/>
                    </a:lnTo>
                    <a:lnTo>
                      <a:pt x="1385" y="27"/>
                    </a:lnTo>
                    <a:lnTo>
                      <a:pt x="1389" y="25"/>
                    </a:lnTo>
                    <a:lnTo>
                      <a:pt x="1392" y="21"/>
                    </a:lnTo>
                    <a:lnTo>
                      <a:pt x="1395" y="16"/>
                    </a:lnTo>
                    <a:lnTo>
                      <a:pt x="1397" y="9"/>
                    </a:lnTo>
                    <a:lnTo>
                      <a:pt x="1399" y="0"/>
                    </a:lnTo>
                    <a:lnTo>
                      <a:pt x="1416" y="0"/>
                    </a:lnTo>
                    <a:lnTo>
                      <a:pt x="1416" y="210"/>
                    </a:lnTo>
                    <a:lnTo>
                      <a:pt x="1399" y="210"/>
                    </a:lnTo>
                    <a:lnTo>
                      <a:pt x="1397" y="201"/>
                    </a:lnTo>
                    <a:lnTo>
                      <a:pt x="1394" y="194"/>
                    </a:lnTo>
                    <a:lnTo>
                      <a:pt x="1392" y="188"/>
                    </a:lnTo>
                    <a:lnTo>
                      <a:pt x="1388" y="185"/>
                    </a:lnTo>
                    <a:lnTo>
                      <a:pt x="1385" y="183"/>
                    </a:lnTo>
                    <a:lnTo>
                      <a:pt x="1379" y="180"/>
                    </a:lnTo>
                    <a:lnTo>
                      <a:pt x="1374" y="180"/>
                    </a:lnTo>
                    <a:lnTo>
                      <a:pt x="1366" y="179"/>
                    </a:lnTo>
                    <a:lnTo>
                      <a:pt x="1003" y="179"/>
                    </a:lnTo>
                    <a:lnTo>
                      <a:pt x="1003" y="268"/>
                    </a:lnTo>
                    <a:lnTo>
                      <a:pt x="1220" y="268"/>
                    </a:lnTo>
                    <a:lnTo>
                      <a:pt x="1228" y="268"/>
                    </a:lnTo>
                    <a:lnTo>
                      <a:pt x="1234" y="267"/>
                    </a:lnTo>
                    <a:lnTo>
                      <a:pt x="1240" y="265"/>
                    </a:lnTo>
                    <a:lnTo>
                      <a:pt x="1244" y="262"/>
                    </a:lnTo>
                    <a:lnTo>
                      <a:pt x="1247" y="259"/>
                    </a:lnTo>
                    <a:lnTo>
                      <a:pt x="1250" y="253"/>
                    </a:lnTo>
                    <a:lnTo>
                      <a:pt x="1253" y="247"/>
                    </a:lnTo>
                    <a:lnTo>
                      <a:pt x="1257" y="239"/>
                    </a:lnTo>
                    <a:lnTo>
                      <a:pt x="1273" y="239"/>
                    </a:lnTo>
                    <a:lnTo>
                      <a:pt x="1273" y="434"/>
                    </a:lnTo>
                    <a:lnTo>
                      <a:pt x="1256" y="434"/>
                    </a:lnTo>
                    <a:lnTo>
                      <a:pt x="1253" y="425"/>
                    </a:lnTo>
                    <a:lnTo>
                      <a:pt x="1250" y="418"/>
                    </a:lnTo>
                    <a:lnTo>
                      <a:pt x="1247" y="414"/>
                    </a:lnTo>
                    <a:lnTo>
                      <a:pt x="1243" y="409"/>
                    </a:lnTo>
                    <a:lnTo>
                      <a:pt x="1240" y="407"/>
                    </a:lnTo>
                    <a:lnTo>
                      <a:pt x="1234" y="406"/>
                    </a:lnTo>
                    <a:lnTo>
                      <a:pt x="1228" y="405"/>
                    </a:lnTo>
                    <a:lnTo>
                      <a:pt x="1220" y="404"/>
                    </a:lnTo>
                    <a:lnTo>
                      <a:pt x="1003" y="404"/>
                    </a:lnTo>
                    <a:lnTo>
                      <a:pt x="1003" y="511"/>
                    </a:lnTo>
                    <a:lnTo>
                      <a:pt x="1365" y="511"/>
                    </a:lnTo>
                    <a:close/>
                    <a:moveTo>
                      <a:pt x="1952" y="672"/>
                    </a:moveTo>
                    <a:lnTo>
                      <a:pt x="1932" y="670"/>
                    </a:lnTo>
                    <a:lnTo>
                      <a:pt x="1913" y="669"/>
                    </a:lnTo>
                    <a:lnTo>
                      <a:pt x="1894" y="668"/>
                    </a:lnTo>
                    <a:lnTo>
                      <a:pt x="1874" y="665"/>
                    </a:lnTo>
                    <a:lnTo>
                      <a:pt x="1856" y="663"/>
                    </a:lnTo>
                    <a:lnTo>
                      <a:pt x="1838" y="658"/>
                    </a:lnTo>
                    <a:lnTo>
                      <a:pt x="1822" y="654"/>
                    </a:lnTo>
                    <a:lnTo>
                      <a:pt x="1805" y="648"/>
                    </a:lnTo>
                    <a:lnTo>
                      <a:pt x="1788" y="641"/>
                    </a:lnTo>
                    <a:lnTo>
                      <a:pt x="1772" y="635"/>
                    </a:lnTo>
                    <a:lnTo>
                      <a:pt x="1757" y="627"/>
                    </a:lnTo>
                    <a:lnTo>
                      <a:pt x="1741" y="619"/>
                    </a:lnTo>
                    <a:lnTo>
                      <a:pt x="1726" y="610"/>
                    </a:lnTo>
                    <a:lnTo>
                      <a:pt x="1713" y="600"/>
                    </a:lnTo>
                    <a:lnTo>
                      <a:pt x="1698" y="590"/>
                    </a:lnTo>
                    <a:lnTo>
                      <a:pt x="1685" y="579"/>
                    </a:lnTo>
                    <a:lnTo>
                      <a:pt x="1672" y="566"/>
                    </a:lnTo>
                    <a:lnTo>
                      <a:pt x="1661" y="554"/>
                    </a:lnTo>
                    <a:lnTo>
                      <a:pt x="1650" y="542"/>
                    </a:lnTo>
                    <a:lnTo>
                      <a:pt x="1640" y="528"/>
                    </a:lnTo>
                    <a:lnTo>
                      <a:pt x="1630" y="516"/>
                    </a:lnTo>
                    <a:lnTo>
                      <a:pt x="1622" y="501"/>
                    </a:lnTo>
                    <a:lnTo>
                      <a:pt x="1614" y="488"/>
                    </a:lnTo>
                    <a:lnTo>
                      <a:pt x="1606" y="473"/>
                    </a:lnTo>
                    <a:lnTo>
                      <a:pt x="1600" y="459"/>
                    </a:lnTo>
                    <a:lnTo>
                      <a:pt x="1595" y="443"/>
                    </a:lnTo>
                    <a:lnTo>
                      <a:pt x="1590" y="428"/>
                    </a:lnTo>
                    <a:lnTo>
                      <a:pt x="1587" y="411"/>
                    </a:lnTo>
                    <a:lnTo>
                      <a:pt x="1584" y="396"/>
                    </a:lnTo>
                    <a:lnTo>
                      <a:pt x="1582" y="379"/>
                    </a:lnTo>
                    <a:lnTo>
                      <a:pt x="1580" y="362"/>
                    </a:lnTo>
                    <a:lnTo>
                      <a:pt x="1580" y="345"/>
                    </a:lnTo>
                    <a:lnTo>
                      <a:pt x="1580" y="327"/>
                    </a:lnTo>
                    <a:lnTo>
                      <a:pt x="1581" y="311"/>
                    </a:lnTo>
                    <a:lnTo>
                      <a:pt x="1584" y="294"/>
                    </a:lnTo>
                    <a:lnTo>
                      <a:pt x="1587" y="278"/>
                    </a:lnTo>
                    <a:lnTo>
                      <a:pt x="1590" y="261"/>
                    </a:lnTo>
                    <a:lnTo>
                      <a:pt x="1595" y="247"/>
                    </a:lnTo>
                    <a:lnTo>
                      <a:pt x="1600" y="231"/>
                    </a:lnTo>
                    <a:lnTo>
                      <a:pt x="1606" y="216"/>
                    </a:lnTo>
                    <a:lnTo>
                      <a:pt x="1613" y="202"/>
                    </a:lnTo>
                    <a:lnTo>
                      <a:pt x="1621" y="188"/>
                    </a:lnTo>
                    <a:lnTo>
                      <a:pt x="1630" y="174"/>
                    </a:lnTo>
                    <a:lnTo>
                      <a:pt x="1639" y="161"/>
                    </a:lnTo>
                    <a:lnTo>
                      <a:pt x="1649" y="148"/>
                    </a:lnTo>
                    <a:lnTo>
                      <a:pt x="1660" y="136"/>
                    </a:lnTo>
                    <a:lnTo>
                      <a:pt x="1672" y="123"/>
                    </a:lnTo>
                    <a:lnTo>
                      <a:pt x="1685" y="112"/>
                    </a:lnTo>
                    <a:lnTo>
                      <a:pt x="1698" y="101"/>
                    </a:lnTo>
                    <a:lnTo>
                      <a:pt x="1712" y="91"/>
                    </a:lnTo>
                    <a:lnTo>
                      <a:pt x="1726" y="81"/>
                    </a:lnTo>
                    <a:lnTo>
                      <a:pt x="1741" y="72"/>
                    </a:lnTo>
                    <a:lnTo>
                      <a:pt x="1755" y="63"/>
                    </a:lnTo>
                    <a:lnTo>
                      <a:pt x="1771" y="56"/>
                    </a:lnTo>
                    <a:lnTo>
                      <a:pt x="1787" y="49"/>
                    </a:lnTo>
                    <a:lnTo>
                      <a:pt x="1804" y="43"/>
                    </a:lnTo>
                    <a:lnTo>
                      <a:pt x="1821" y="37"/>
                    </a:lnTo>
                    <a:lnTo>
                      <a:pt x="1837" y="32"/>
                    </a:lnTo>
                    <a:lnTo>
                      <a:pt x="1855" y="29"/>
                    </a:lnTo>
                    <a:lnTo>
                      <a:pt x="1874" y="26"/>
                    </a:lnTo>
                    <a:lnTo>
                      <a:pt x="1892" y="22"/>
                    </a:lnTo>
                    <a:lnTo>
                      <a:pt x="1911" y="21"/>
                    </a:lnTo>
                    <a:lnTo>
                      <a:pt x="1932" y="20"/>
                    </a:lnTo>
                    <a:lnTo>
                      <a:pt x="1952" y="20"/>
                    </a:lnTo>
                    <a:lnTo>
                      <a:pt x="1972" y="20"/>
                    </a:lnTo>
                    <a:lnTo>
                      <a:pt x="1991" y="21"/>
                    </a:lnTo>
                    <a:lnTo>
                      <a:pt x="2010" y="22"/>
                    </a:lnTo>
                    <a:lnTo>
                      <a:pt x="2029" y="26"/>
                    </a:lnTo>
                    <a:lnTo>
                      <a:pt x="2047" y="29"/>
                    </a:lnTo>
                    <a:lnTo>
                      <a:pt x="2065" y="32"/>
                    </a:lnTo>
                    <a:lnTo>
                      <a:pt x="2082" y="37"/>
                    </a:lnTo>
                    <a:lnTo>
                      <a:pt x="2099" y="43"/>
                    </a:lnTo>
                    <a:lnTo>
                      <a:pt x="2116" y="49"/>
                    </a:lnTo>
                    <a:lnTo>
                      <a:pt x="2132" y="56"/>
                    </a:lnTo>
                    <a:lnTo>
                      <a:pt x="2147" y="63"/>
                    </a:lnTo>
                    <a:lnTo>
                      <a:pt x="2163" y="72"/>
                    </a:lnTo>
                    <a:lnTo>
                      <a:pt x="2178" y="81"/>
                    </a:lnTo>
                    <a:lnTo>
                      <a:pt x="2191" y="91"/>
                    </a:lnTo>
                    <a:lnTo>
                      <a:pt x="2205" y="101"/>
                    </a:lnTo>
                    <a:lnTo>
                      <a:pt x="2218" y="112"/>
                    </a:lnTo>
                    <a:lnTo>
                      <a:pt x="2232" y="123"/>
                    </a:lnTo>
                    <a:lnTo>
                      <a:pt x="2243" y="136"/>
                    </a:lnTo>
                    <a:lnTo>
                      <a:pt x="2254" y="148"/>
                    </a:lnTo>
                    <a:lnTo>
                      <a:pt x="2264" y="161"/>
                    </a:lnTo>
                    <a:lnTo>
                      <a:pt x="2273" y="174"/>
                    </a:lnTo>
                    <a:lnTo>
                      <a:pt x="2282" y="188"/>
                    </a:lnTo>
                    <a:lnTo>
                      <a:pt x="2290" y="202"/>
                    </a:lnTo>
                    <a:lnTo>
                      <a:pt x="2297" y="216"/>
                    </a:lnTo>
                    <a:lnTo>
                      <a:pt x="2302" y="231"/>
                    </a:lnTo>
                    <a:lnTo>
                      <a:pt x="2308" y="247"/>
                    </a:lnTo>
                    <a:lnTo>
                      <a:pt x="2312" y="261"/>
                    </a:lnTo>
                    <a:lnTo>
                      <a:pt x="2316" y="278"/>
                    </a:lnTo>
                    <a:lnTo>
                      <a:pt x="2319" y="294"/>
                    </a:lnTo>
                    <a:lnTo>
                      <a:pt x="2321" y="311"/>
                    </a:lnTo>
                    <a:lnTo>
                      <a:pt x="2322" y="327"/>
                    </a:lnTo>
                    <a:lnTo>
                      <a:pt x="2322" y="345"/>
                    </a:lnTo>
                    <a:lnTo>
                      <a:pt x="2322" y="362"/>
                    </a:lnTo>
                    <a:lnTo>
                      <a:pt x="2321" y="379"/>
                    </a:lnTo>
                    <a:lnTo>
                      <a:pt x="2319" y="396"/>
                    </a:lnTo>
                    <a:lnTo>
                      <a:pt x="2316" y="411"/>
                    </a:lnTo>
                    <a:lnTo>
                      <a:pt x="2312" y="428"/>
                    </a:lnTo>
                    <a:lnTo>
                      <a:pt x="2308" y="443"/>
                    </a:lnTo>
                    <a:lnTo>
                      <a:pt x="2302" y="459"/>
                    </a:lnTo>
                    <a:lnTo>
                      <a:pt x="2297" y="473"/>
                    </a:lnTo>
                    <a:lnTo>
                      <a:pt x="2290" y="488"/>
                    </a:lnTo>
                    <a:lnTo>
                      <a:pt x="2282" y="501"/>
                    </a:lnTo>
                    <a:lnTo>
                      <a:pt x="2273" y="516"/>
                    </a:lnTo>
                    <a:lnTo>
                      <a:pt x="2264" y="528"/>
                    </a:lnTo>
                    <a:lnTo>
                      <a:pt x="2253" y="542"/>
                    </a:lnTo>
                    <a:lnTo>
                      <a:pt x="2243" y="554"/>
                    </a:lnTo>
                    <a:lnTo>
                      <a:pt x="2230" y="566"/>
                    </a:lnTo>
                    <a:lnTo>
                      <a:pt x="2218" y="579"/>
                    </a:lnTo>
                    <a:lnTo>
                      <a:pt x="2205" y="590"/>
                    </a:lnTo>
                    <a:lnTo>
                      <a:pt x="2191" y="600"/>
                    </a:lnTo>
                    <a:lnTo>
                      <a:pt x="2176" y="610"/>
                    </a:lnTo>
                    <a:lnTo>
                      <a:pt x="2162" y="619"/>
                    </a:lnTo>
                    <a:lnTo>
                      <a:pt x="2146" y="627"/>
                    </a:lnTo>
                    <a:lnTo>
                      <a:pt x="2132" y="635"/>
                    </a:lnTo>
                    <a:lnTo>
                      <a:pt x="2115" y="641"/>
                    </a:lnTo>
                    <a:lnTo>
                      <a:pt x="2099" y="648"/>
                    </a:lnTo>
                    <a:lnTo>
                      <a:pt x="2082" y="654"/>
                    </a:lnTo>
                    <a:lnTo>
                      <a:pt x="2064" y="658"/>
                    </a:lnTo>
                    <a:lnTo>
                      <a:pt x="2047" y="663"/>
                    </a:lnTo>
                    <a:lnTo>
                      <a:pt x="2028" y="665"/>
                    </a:lnTo>
                    <a:lnTo>
                      <a:pt x="2010" y="668"/>
                    </a:lnTo>
                    <a:lnTo>
                      <a:pt x="1991" y="669"/>
                    </a:lnTo>
                    <a:lnTo>
                      <a:pt x="1971" y="670"/>
                    </a:lnTo>
                    <a:lnTo>
                      <a:pt x="1952" y="672"/>
                    </a:lnTo>
                    <a:close/>
                    <a:moveTo>
                      <a:pt x="1764" y="345"/>
                    </a:moveTo>
                    <a:lnTo>
                      <a:pt x="1765" y="365"/>
                    </a:lnTo>
                    <a:lnTo>
                      <a:pt x="1768" y="385"/>
                    </a:lnTo>
                    <a:lnTo>
                      <a:pt x="1771" y="402"/>
                    </a:lnTo>
                    <a:lnTo>
                      <a:pt x="1777" y="419"/>
                    </a:lnTo>
                    <a:lnTo>
                      <a:pt x="1785" y="435"/>
                    </a:lnTo>
                    <a:lnTo>
                      <a:pt x="1794" y="450"/>
                    </a:lnTo>
                    <a:lnTo>
                      <a:pt x="1804" y="463"/>
                    </a:lnTo>
                    <a:lnTo>
                      <a:pt x="1815" y="476"/>
                    </a:lnTo>
                    <a:lnTo>
                      <a:pt x="1828" y="488"/>
                    </a:lnTo>
                    <a:lnTo>
                      <a:pt x="1843" y="498"/>
                    </a:lnTo>
                    <a:lnTo>
                      <a:pt x="1859" y="506"/>
                    </a:lnTo>
                    <a:lnTo>
                      <a:pt x="1876" y="512"/>
                    </a:lnTo>
                    <a:lnTo>
                      <a:pt x="1892" y="518"/>
                    </a:lnTo>
                    <a:lnTo>
                      <a:pt x="1911" y="522"/>
                    </a:lnTo>
                    <a:lnTo>
                      <a:pt x="1932" y="525"/>
                    </a:lnTo>
                    <a:lnTo>
                      <a:pt x="1953" y="525"/>
                    </a:lnTo>
                    <a:lnTo>
                      <a:pt x="1973" y="525"/>
                    </a:lnTo>
                    <a:lnTo>
                      <a:pt x="1992" y="522"/>
                    </a:lnTo>
                    <a:lnTo>
                      <a:pt x="2011" y="518"/>
                    </a:lnTo>
                    <a:lnTo>
                      <a:pt x="2028" y="512"/>
                    </a:lnTo>
                    <a:lnTo>
                      <a:pt x="2045" y="506"/>
                    </a:lnTo>
                    <a:lnTo>
                      <a:pt x="2061" y="498"/>
                    </a:lnTo>
                    <a:lnTo>
                      <a:pt x="2074" y="488"/>
                    </a:lnTo>
                    <a:lnTo>
                      <a:pt x="2088" y="476"/>
                    </a:lnTo>
                    <a:lnTo>
                      <a:pt x="2100" y="463"/>
                    </a:lnTo>
                    <a:lnTo>
                      <a:pt x="2110" y="450"/>
                    </a:lnTo>
                    <a:lnTo>
                      <a:pt x="2119" y="435"/>
                    </a:lnTo>
                    <a:lnTo>
                      <a:pt x="2126" y="419"/>
                    </a:lnTo>
                    <a:lnTo>
                      <a:pt x="2132" y="402"/>
                    </a:lnTo>
                    <a:lnTo>
                      <a:pt x="2136" y="385"/>
                    </a:lnTo>
                    <a:lnTo>
                      <a:pt x="2138" y="365"/>
                    </a:lnTo>
                    <a:lnTo>
                      <a:pt x="2139" y="345"/>
                    </a:lnTo>
                    <a:lnTo>
                      <a:pt x="2138" y="326"/>
                    </a:lnTo>
                    <a:lnTo>
                      <a:pt x="2136" y="307"/>
                    </a:lnTo>
                    <a:lnTo>
                      <a:pt x="2132" y="290"/>
                    </a:lnTo>
                    <a:lnTo>
                      <a:pt x="2126" y="274"/>
                    </a:lnTo>
                    <a:lnTo>
                      <a:pt x="2119" y="258"/>
                    </a:lnTo>
                    <a:lnTo>
                      <a:pt x="2110" y="242"/>
                    </a:lnTo>
                    <a:lnTo>
                      <a:pt x="2100" y="229"/>
                    </a:lnTo>
                    <a:lnTo>
                      <a:pt x="2088" y="216"/>
                    </a:lnTo>
                    <a:lnTo>
                      <a:pt x="2074" y="204"/>
                    </a:lnTo>
                    <a:lnTo>
                      <a:pt x="2060" y="194"/>
                    </a:lnTo>
                    <a:lnTo>
                      <a:pt x="2044" y="185"/>
                    </a:lnTo>
                    <a:lnTo>
                      <a:pt x="2028" y="178"/>
                    </a:lnTo>
                    <a:lnTo>
                      <a:pt x="2010" y="173"/>
                    </a:lnTo>
                    <a:lnTo>
                      <a:pt x="1991" y="169"/>
                    </a:lnTo>
                    <a:lnTo>
                      <a:pt x="1972" y="167"/>
                    </a:lnTo>
                    <a:lnTo>
                      <a:pt x="1952" y="166"/>
                    </a:lnTo>
                    <a:lnTo>
                      <a:pt x="1931" y="167"/>
                    </a:lnTo>
                    <a:lnTo>
                      <a:pt x="1911" y="169"/>
                    </a:lnTo>
                    <a:lnTo>
                      <a:pt x="1894" y="173"/>
                    </a:lnTo>
                    <a:lnTo>
                      <a:pt x="1876" y="178"/>
                    </a:lnTo>
                    <a:lnTo>
                      <a:pt x="1860" y="185"/>
                    </a:lnTo>
                    <a:lnTo>
                      <a:pt x="1844" y="194"/>
                    </a:lnTo>
                    <a:lnTo>
                      <a:pt x="1829" y="204"/>
                    </a:lnTo>
                    <a:lnTo>
                      <a:pt x="1816" y="216"/>
                    </a:lnTo>
                    <a:lnTo>
                      <a:pt x="1804" y="229"/>
                    </a:lnTo>
                    <a:lnTo>
                      <a:pt x="1794" y="242"/>
                    </a:lnTo>
                    <a:lnTo>
                      <a:pt x="1785" y="258"/>
                    </a:lnTo>
                    <a:lnTo>
                      <a:pt x="1778" y="274"/>
                    </a:lnTo>
                    <a:lnTo>
                      <a:pt x="1772" y="290"/>
                    </a:lnTo>
                    <a:lnTo>
                      <a:pt x="1768" y="307"/>
                    </a:lnTo>
                    <a:lnTo>
                      <a:pt x="1765" y="326"/>
                    </a:lnTo>
                    <a:lnTo>
                      <a:pt x="1764" y="345"/>
                    </a:lnTo>
                    <a:close/>
                    <a:moveTo>
                      <a:pt x="2474" y="660"/>
                    </a:moveTo>
                    <a:lnTo>
                      <a:pt x="2474" y="644"/>
                    </a:lnTo>
                    <a:lnTo>
                      <a:pt x="2483" y="641"/>
                    </a:lnTo>
                    <a:lnTo>
                      <a:pt x="2490" y="639"/>
                    </a:lnTo>
                    <a:lnTo>
                      <a:pt x="2495" y="636"/>
                    </a:lnTo>
                    <a:lnTo>
                      <a:pt x="2499" y="633"/>
                    </a:lnTo>
                    <a:lnTo>
                      <a:pt x="2501" y="629"/>
                    </a:lnTo>
                    <a:lnTo>
                      <a:pt x="2502" y="623"/>
                    </a:lnTo>
                    <a:lnTo>
                      <a:pt x="2503" y="617"/>
                    </a:lnTo>
                    <a:lnTo>
                      <a:pt x="2504" y="609"/>
                    </a:lnTo>
                    <a:lnTo>
                      <a:pt x="2504" y="83"/>
                    </a:lnTo>
                    <a:lnTo>
                      <a:pt x="2503" y="74"/>
                    </a:lnTo>
                    <a:lnTo>
                      <a:pt x="2502" y="67"/>
                    </a:lnTo>
                    <a:lnTo>
                      <a:pt x="2501" y="63"/>
                    </a:lnTo>
                    <a:lnTo>
                      <a:pt x="2499" y="58"/>
                    </a:lnTo>
                    <a:lnTo>
                      <a:pt x="2495" y="55"/>
                    </a:lnTo>
                    <a:lnTo>
                      <a:pt x="2490" y="53"/>
                    </a:lnTo>
                    <a:lnTo>
                      <a:pt x="2483" y="49"/>
                    </a:lnTo>
                    <a:lnTo>
                      <a:pt x="2474" y="47"/>
                    </a:lnTo>
                    <a:lnTo>
                      <a:pt x="2474" y="31"/>
                    </a:lnTo>
                    <a:lnTo>
                      <a:pt x="2874" y="31"/>
                    </a:lnTo>
                    <a:lnTo>
                      <a:pt x="2903" y="31"/>
                    </a:lnTo>
                    <a:lnTo>
                      <a:pt x="2930" y="34"/>
                    </a:lnTo>
                    <a:lnTo>
                      <a:pt x="2955" y="38"/>
                    </a:lnTo>
                    <a:lnTo>
                      <a:pt x="2978" y="44"/>
                    </a:lnTo>
                    <a:lnTo>
                      <a:pt x="3001" y="52"/>
                    </a:lnTo>
                    <a:lnTo>
                      <a:pt x="3021" y="61"/>
                    </a:lnTo>
                    <a:lnTo>
                      <a:pt x="3030" y="65"/>
                    </a:lnTo>
                    <a:lnTo>
                      <a:pt x="3039" y="71"/>
                    </a:lnTo>
                    <a:lnTo>
                      <a:pt x="3048" y="77"/>
                    </a:lnTo>
                    <a:lnTo>
                      <a:pt x="3057" y="83"/>
                    </a:lnTo>
                    <a:lnTo>
                      <a:pt x="3065" y="90"/>
                    </a:lnTo>
                    <a:lnTo>
                      <a:pt x="3071" y="98"/>
                    </a:lnTo>
                    <a:lnTo>
                      <a:pt x="3078" y="104"/>
                    </a:lnTo>
                    <a:lnTo>
                      <a:pt x="3085" y="112"/>
                    </a:lnTo>
                    <a:lnTo>
                      <a:pt x="3091" y="120"/>
                    </a:lnTo>
                    <a:lnTo>
                      <a:pt x="3096" y="129"/>
                    </a:lnTo>
                    <a:lnTo>
                      <a:pt x="3101" y="137"/>
                    </a:lnTo>
                    <a:lnTo>
                      <a:pt x="3105" y="146"/>
                    </a:lnTo>
                    <a:lnTo>
                      <a:pt x="3110" y="156"/>
                    </a:lnTo>
                    <a:lnTo>
                      <a:pt x="3112" y="165"/>
                    </a:lnTo>
                    <a:lnTo>
                      <a:pt x="3115" y="175"/>
                    </a:lnTo>
                    <a:lnTo>
                      <a:pt x="3118" y="186"/>
                    </a:lnTo>
                    <a:lnTo>
                      <a:pt x="3121" y="207"/>
                    </a:lnTo>
                    <a:lnTo>
                      <a:pt x="3122" y="230"/>
                    </a:lnTo>
                    <a:lnTo>
                      <a:pt x="3121" y="242"/>
                    </a:lnTo>
                    <a:lnTo>
                      <a:pt x="3120" y="254"/>
                    </a:lnTo>
                    <a:lnTo>
                      <a:pt x="3119" y="267"/>
                    </a:lnTo>
                    <a:lnTo>
                      <a:pt x="3116" y="279"/>
                    </a:lnTo>
                    <a:lnTo>
                      <a:pt x="3113" y="290"/>
                    </a:lnTo>
                    <a:lnTo>
                      <a:pt x="3110" y="302"/>
                    </a:lnTo>
                    <a:lnTo>
                      <a:pt x="3105" y="313"/>
                    </a:lnTo>
                    <a:lnTo>
                      <a:pt x="3100" y="323"/>
                    </a:lnTo>
                    <a:lnTo>
                      <a:pt x="3094" y="334"/>
                    </a:lnTo>
                    <a:lnTo>
                      <a:pt x="3088" y="343"/>
                    </a:lnTo>
                    <a:lnTo>
                      <a:pt x="3082" y="353"/>
                    </a:lnTo>
                    <a:lnTo>
                      <a:pt x="3074" y="361"/>
                    </a:lnTo>
                    <a:lnTo>
                      <a:pt x="3066" y="370"/>
                    </a:lnTo>
                    <a:lnTo>
                      <a:pt x="3058" y="377"/>
                    </a:lnTo>
                    <a:lnTo>
                      <a:pt x="3049" y="385"/>
                    </a:lnTo>
                    <a:lnTo>
                      <a:pt x="3040" y="390"/>
                    </a:lnTo>
                    <a:lnTo>
                      <a:pt x="3023" y="400"/>
                    </a:lnTo>
                    <a:lnTo>
                      <a:pt x="3004" y="408"/>
                    </a:lnTo>
                    <a:lnTo>
                      <a:pt x="2984" y="415"/>
                    </a:lnTo>
                    <a:lnTo>
                      <a:pt x="2963" y="419"/>
                    </a:lnTo>
                    <a:lnTo>
                      <a:pt x="2937" y="424"/>
                    </a:lnTo>
                    <a:lnTo>
                      <a:pt x="2906" y="426"/>
                    </a:lnTo>
                    <a:lnTo>
                      <a:pt x="2870" y="427"/>
                    </a:lnTo>
                    <a:lnTo>
                      <a:pt x="2830" y="428"/>
                    </a:lnTo>
                    <a:lnTo>
                      <a:pt x="2682" y="428"/>
                    </a:lnTo>
                    <a:lnTo>
                      <a:pt x="2682" y="609"/>
                    </a:lnTo>
                    <a:lnTo>
                      <a:pt x="2682" y="617"/>
                    </a:lnTo>
                    <a:lnTo>
                      <a:pt x="2683" y="623"/>
                    </a:lnTo>
                    <a:lnTo>
                      <a:pt x="2685" y="628"/>
                    </a:lnTo>
                    <a:lnTo>
                      <a:pt x="2687" y="632"/>
                    </a:lnTo>
                    <a:lnTo>
                      <a:pt x="2692" y="636"/>
                    </a:lnTo>
                    <a:lnTo>
                      <a:pt x="2696" y="638"/>
                    </a:lnTo>
                    <a:lnTo>
                      <a:pt x="2704" y="641"/>
                    </a:lnTo>
                    <a:lnTo>
                      <a:pt x="2713" y="644"/>
                    </a:lnTo>
                    <a:lnTo>
                      <a:pt x="2713" y="660"/>
                    </a:lnTo>
                    <a:lnTo>
                      <a:pt x="2474" y="660"/>
                    </a:lnTo>
                    <a:close/>
                    <a:moveTo>
                      <a:pt x="2682" y="158"/>
                    </a:moveTo>
                    <a:lnTo>
                      <a:pt x="2682" y="300"/>
                    </a:lnTo>
                    <a:lnTo>
                      <a:pt x="2818" y="300"/>
                    </a:lnTo>
                    <a:lnTo>
                      <a:pt x="2836" y="300"/>
                    </a:lnTo>
                    <a:lnTo>
                      <a:pt x="2852" y="299"/>
                    </a:lnTo>
                    <a:lnTo>
                      <a:pt x="2867" y="298"/>
                    </a:lnTo>
                    <a:lnTo>
                      <a:pt x="2881" y="296"/>
                    </a:lnTo>
                    <a:lnTo>
                      <a:pt x="2894" y="294"/>
                    </a:lnTo>
                    <a:lnTo>
                      <a:pt x="2905" y="291"/>
                    </a:lnTo>
                    <a:lnTo>
                      <a:pt x="2915" y="288"/>
                    </a:lnTo>
                    <a:lnTo>
                      <a:pt x="2924" y="284"/>
                    </a:lnTo>
                    <a:lnTo>
                      <a:pt x="2932" y="279"/>
                    </a:lnTo>
                    <a:lnTo>
                      <a:pt x="2938" y="274"/>
                    </a:lnTo>
                    <a:lnTo>
                      <a:pt x="2943" y="268"/>
                    </a:lnTo>
                    <a:lnTo>
                      <a:pt x="2949" y="261"/>
                    </a:lnTo>
                    <a:lnTo>
                      <a:pt x="2952" y="254"/>
                    </a:lnTo>
                    <a:lnTo>
                      <a:pt x="2955" y="247"/>
                    </a:lnTo>
                    <a:lnTo>
                      <a:pt x="2956" y="238"/>
                    </a:lnTo>
                    <a:lnTo>
                      <a:pt x="2957" y="229"/>
                    </a:lnTo>
                    <a:lnTo>
                      <a:pt x="2956" y="220"/>
                    </a:lnTo>
                    <a:lnTo>
                      <a:pt x="2955" y="211"/>
                    </a:lnTo>
                    <a:lnTo>
                      <a:pt x="2952" y="203"/>
                    </a:lnTo>
                    <a:lnTo>
                      <a:pt x="2949" y="195"/>
                    </a:lnTo>
                    <a:lnTo>
                      <a:pt x="2945" y="189"/>
                    </a:lnTo>
                    <a:lnTo>
                      <a:pt x="2939" y="183"/>
                    </a:lnTo>
                    <a:lnTo>
                      <a:pt x="2933" y="178"/>
                    </a:lnTo>
                    <a:lnTo>
                      <a:pt x="2925" y="174"/>
                    </a:lnTo>
                    <a:lnTo>
                      <a:pt x="2918" y="170"/>
                    </a:lnTo>
                    <a:lnTo>
                      <a:pt x="2908" y="167"/>
                    </a:lnTo>
                    <a:lnTo>
                      <a:pt x="2895" y="164"/>
                    </a:lnTo>
                    <a:lnTo>
                      <a:pt x="2883" y="161"/>
                    </a:lnTo>
                    <a:lnTo>
                      <a:pt x="2867" y="160"/>
                    </a:lnTo>
                    <a:lnTo>
                      <a:pt x="2850" y="159"/>
                    </a:lnTo>
                    <a:lnTo>
                      <a:pt x="2832" y="158"/>
                    </a:lnTo>
                    <a:lnTo>
                      <a:pt x="2812" y="158"/>
                    </a:lnTo>
                    <a:lnTo>
                      <a:pt x="2682" y="158"/>
                    </a:lnTo>
                    <a:close/>
                    <a:moveTo>
                      <a:pt x="3865" y="511"/>
                    </a:moveTo>
                    <a:lnTo>
                      <a:pt x="3873" y="511"/>
                    </a:lnTo>
                    <a:lnTo>
                      <a:pt x="3879" y="510"/>
                    </a:lnTo>
                    <a:lnTo>
                      <a:pt x="3884" y="509"/>
                    </a:lnTo>
                    <a:lnTo>
                      <a:pt x="3889" y="506"/>
                    </a:lnTo>
                    <a:lnTo>
                      <a:pt x="3891" y="502"/>
                    </a:lnTo>
                    <a:lnTo>
                      <a:pt x="3895" y="498"/>
                    </a:lnTo>
                    <a:lnTo>
                      <a:pt x="3897" y="491"/>
                    </a:lnTo>
                    <a:lnTo>
                      <a:pt x="3900" y="482"/>
                    </a:lnTo>
                    <a:lnTo>
                      <a:pt x="3917" y="482"/>
                    </a:lnTo>
                    <a:lnTo>
                      <a:pt x="3917" y="691"/>
                    </a:lnTo>
                    <a:lnTo>
                      <a:pt x="3900" y="691"/>
                    </a:lnTo>
                    <a:lnTo>
                      <a:pt x="3897" y="682"/>
                    </a:lnTo>
                    <a:lnTo>
                      <a:pt x="3895" y="675"/>
                    </a:lnTo>
                    <a:lnTo>
                      <a:pt x="3891" y="669"/>
                    </a:lnTo>
                    <a:lnTo>
                      <a:pt x="3889" y="666"/>
                    </a:lnTo>
                    <a:lnTo>
                      <a:pt x="3884" y="664"/>
                    </a:lnTo>
                    <a:lnTo>
                      <a:pt x="3880" y="661"/>
                    </a:lnTo>
                    <a:lnTo>
                      <a:pt x="3873" y="660"/>
                    </a:lnTo>
                    <a:lnTo>
                      <a:pt x="3865" y="660"/>
                    </a:lnTo>
                    <a:lnTo>
                      <a:pt x="3269" y="660"/>
                    </a:lnTo>
                    <a:lnTo>
                      <a:pt x="3269" y="644"/>
                    </a:lnTo>
                    <a:lnTo>
                      <a:pt x="3278" y="641"/>
                    </a:lnTo>
                    <a:lnTo>
                      <a:pt x="3285" y="639"/>
                    </a:lnTo>
                    <a:lnTo>
                      <a:pt x="3290" y="636"/>
                    </a:lnTo>
                    <a:lnTo>
                      <a:pt x="3294" y="633"/>
                    </a:lnTo>
                    <a:lnTo>
                      <a:pt x="3296" y="629"/>
                    </a:lnTo>
                    <a:lnTo>
                      <a:pt x="3298" y="623"/>
                    </a:lnTo>
                    <a:lnTo>
                      <a:pt x="3299" y="617"/>
                    </a:lnTo>
                    <a:lnTo>
                      <a:pt x="3299" y="609"/>
                    </a:lnTo>
                    <a:lnTo>
                      <a:pt x="3299" y="83"/>
                    </a:lnTo>
                    <a:lnTo>
                      <a:pt x="3299" y="74"/>
                    </a:lnTo>
                    <a:lnTo>
                      <a:pt x="3298" y="67"/>
                    </a:lnTo>
                    <a:lnTo>
                      <a:pt x="3296" y="63"/>
                    </a:lnTo>
                    <a:lnTo>
                      <a:pt x="3294" y="58"/>
                    </a:lnTo>
                    <a:lnTo>
                      <a:pt x="3290" y="55"/>
                    </a:lnTo>
                    <a:lnTo>
                      <a:pt x="3285" y="53"/>
                    </a:lnTo>
                    <a:lnTo>
                      <a:pt x="3278" y="49"/>
                    </a:lnTo>
                    <a:lnTo>
                      <a:pt x="3269" y="47"/>
                    </a:lnTo>
                    <a:lnTo>
                      <a:pt x="3269" y="31"/>
                    </a:lnTo>
                    <a:lnTo>
                      <a:pt x="3508" y="31"/>
                    </a:lnTo>
                    <a:lnTo>
                      <a:pt x="3508" y="47"/>
                    </a:lnTo>
                    <a:lnTo>
                      <a:pt x="3499" y="49"/>
                    </a:lnTo>
                    <a:lnTo>
                      <a:pt x="3493" y="53"/>
                    </a:lnTo>
                    <a:lnTo>
                      <a:pt x="3487" y="56"/>
                    </a:lnTo>
                    <a:lnTo>
                      <a:pt x="3482" y="58"/>
                    </a:lnTo>
                    <a:lnTo>
                      <a:pt x="3480" y="63"/>
                    </a:lnTo>
                    <a:lnTo>
                      <a:pt x="3478" y="68"/>
                    </a:lnTo>
                    <a:lnTo>
                      <a:pt x="3478" y="75"/>
                    </a:lnTo>
                    <a:lnTo>
                      <a:pt x="3477" y="83"/>
                    </a:lnTo>
                    <a:lnTo>
                      <a:pt x="3477" y="511"/>
                    </a:lnTo>
                    <a:lnTo>
                      <a:pt x="3865" y="511"/>
                    </a:lnTo>
                    <a:close/>
                    <a:moveTo>
                      <a:pt x="4646" y="511"/>
                    </a:moveTo>
                    <a:lnTo>
                      <a:pt x="4654" y="511"/>
                    </a:lnTo>
                    <a:lnTo>
                      <a:pt x="4659" y="510"/>
                    </a:lnTo>
                    <a:lnTo>
                      <a:pt x="4665" y="509"/>
                    </a:lnTo>
                    <a:lnTo>
                      <a:pt x="4669" y="506"/>
                    </a:lnTo>
                    <a:lnTo>
                      <a:pt x="4672" y="502"/>
                    </a:lnTo>
                    <a:lnTo>
                      <a:pt x="4675" y="498"/>
                    </a:lnTo>
                    <a:lnTo>
                      <a:pt x="4677" y="491"/>
                    </a:lnTo>
                    <a:lnTo>
                      <a:pt x="4681" y="482"/>
                    </a:lnTo>
                    <a:lnTo>
                      <a:pt x="4697" y="482"/>
                    </a:lnTo>
                    <a:lnTo>
                      <a:pt x="4697" y="691"/>
                    </a:lnTo>
                    <a:lnTo>
                      <a:pt x="4681" y="691"/>
                    </a:lnTo>
                    <a:lnTo>
                      <a:pt x="4677" y="682"/>
                    </a:lnTo>
                    <a:lnTo>
                      <a:pt x="4675" y="675"/>
                    </a:lnTo>
                    <a:lnTo>
                      <a:pt x="4672" y="669"/>
                    </a:lnTo>
                    <a:lnTo>
                      <a:pt x="4669" y="666"/>
                    </a:lnTo>
                    <a:lnTo>
                      <a:pt x="4665" y="664"/>
                    </a:lnTo>
                    <a:lnTo>
                      <a:pt x="4660" y="661"/>
                    </a:lnTo>
                    <a:lnTo>
                      <a:pt x="4654" y="660"/>
                    </a:lnTo>
                    <a:lnTo>
                      <a:pt x="4646" y="660"/>
                    </a:lnTo>
                    <a:lnTo>
                      <a:pt x="4076" y="660"/>
                    </a:lnTo>
                    <a:lnTo>
                      <a:pt x="4076" y="644"/>
                    </a:lnTo>
                    <a:lnTo>
                      <a:pt x="4084" y="641"/>
                    </a:lnTo>
                    <a:lnTo>
                      <a:pt x="4092" y="639"/>
                    </a:lnTo>
                    <a:lnTo>
                      <a:pt x="4097" y="636"/>
                    </a:lnTo>
                    <a:lnTo>
                      <a:pt x="4100" y="633"/>
                    </a:lnTo>
                    <a:lnTo>
                      <a:pt x="4103" y="629"/>
                    </a:lnTo>
                    <a:lnTo>
                      <a:pt x="4105" y="623"/>
                    </a:lnTo>
                    <a:lnTo>
                      <a:pt x="4106" y="617"/>
                    </a:lnTo>
                    <a:lnTo>
                      <a:pt x="4106" y="609"/>
                    </a:lnTo>
                    <a:lnTo>
                      <a:pt x="4106" y="83"/>
                    </a:lnTo>
                    <a:lnTo>
                      <a:pt x="4106" y="74"/>
                    </a:lnTo>
                    <a:lnTo>
                      <a:pt x="4105" y="67"/>
                    </a:lnTo>
                    <a:lnTo>
                      <a:pt x="4103" y="63"/>
                    </a:lnTo>
                    <a:lnTo>
                      <a:pt x="4100" y="58"/>
                    </a:lnTo>
                    <a:lnTo>
                      <a:pt x="4097" y="55"/>
                    </a:lnTo>
                    <a:lnTo>
                      <a:pt x="4092" y="53"/>
                    </a:lnTo>
                    <a:lnTo>
                      <a:pt x="4084" y="49"/>
                    </a:lnTo>
                    <a:lnTo>
                      <a:pt x="4076" y="47"/>
                    </a:lnTo>
                    <a:lnTo>
                      <a:pt x="4076" y="31"/>
                    </a:lnTo>
                    <a:lnTo>
                      <a:pt x="4647" y="31"/>
                    </a:lnTo>
                    <a:lnTo>
                      <a:pt x="4655" y="30"/>
                    </a:lnTo>
                    <a:lnTo>
                      <a:pt x="4660" y="29"/>
                    </a:lnTo>
                    <a:lnTo>
                      <a:pt x="4666" y="27"/>
                    </a:lnTo>
                    <a:lnTo>
                      <a:pt x="4671" y="25"/>
                    </a:lnTo>
                    <a:lnTo>
                      <a:pt x="4673" y="21"/>
                    </a:lnTo>
                    <a:lnTo>
                      <a:pt x="4676" y="16"/>
                    </a:lnTo>
                    <a:lnTo>
                      <a:pt x="4678" y="9"/>
                    </a:lnTo>
                    <a:lnTo>
                      <a:pt x="4681" y="0"/>
                    </a:lnTo>
                    <a:lnTo>
                      <a:pt x="4697" y="0"/>
                    </a:lnTo>
                    <a:lnTo>
                      <a:pt x="4697" y="210"/>
                    </a:lnTo>
                    <a:lnTo>
                      <a:pt x="4681" y="210"/>
                    </a:lnTo>
                    <a:lnTo>
                      <a:pt x="4678" y="201"/>
                    </a:lnTo>
                    <a:lnTo>
                      <a:pt x="4675" y="194"/>
                    </a:lnTo>
                    <a:lnTo>
                      <a:pt x="4673" y="188"/>
                    </a:lnTo>
                    <a:lnTo>
                      <a:pt x="4669" y="185"/>
                    </a:lnTo>
                    <a:lnTo>
                      <a:pt x="4665" y="183"/>
                    </a:lnTo>
                    <a:lnTo>
                      <a:pt x="4660" y="180"/>
                    </a:lnTo>
                    <a:lnTo>
                      <a:pt x="4654" y="180"/>
                    </a:lnTo>
                    <a:lnTo>
                      <a:pt x="4647" y="179"/>
                    </a:lnTo>
                    <a:lnTo>
                      <a:pt x="4284" y="179"/>
                    </a:lnTo>
                    <a:lnTo>
                      <a:pt x="4284" y="268"/>
                    </a:lnTo>
                    <a:lnTo>
                      <a:pt x="4501" y="268"/>
                    </a:lnTo>
                    <a:lnTo>
                      <a:pt x="4509" y="268"/>
                    </a:lnTo>
                    <a:lnTo>
                      <a:pt x="4516" y="267"/>
                    </a:lnTo>
                    <a:lnTo>
                      <a:pt x="4521" y="265"/>
                    </a:lnTo>
                    <a:lnTo>
                      <a:pt x="4526" y="262"/>
                    </a:lnTo>
                    <a:lnTo>
                      <a:pt x="4528" y="259"/>
                    </a:lnTo>
                    <a:lnTo>
                      <a:pt x="4531" y="253"/>
                    </a:lnTo>
                    <a:lnTo>
                      <a:pt x="4535" y="247"/>
                    </a:lnTo>
                    <a:lnTo>
                      <a:pt x="4538" y="239"/>
                    </a:lnTo>
                    <a:lnTo>
                      <a:pt x="4554" y="239"/>
                    </a:lnTo>
                    <a:lnTo>
                      <a:pt x="4554" y="434"/>
                    </a:lnTo>
                    <a:lnTo>
                      <a:pt x="4537" y="434"/>
                    </a:lnTo>
                    <a:lnTo>
                      <a:pt x="4535" y="425"/>
                    </a:lnTo>
                    <a:lnTo>
                      <a:pt x="4531" y="418"/>
                    </a:lnTo>
                    <a:lnTo>
                      <a:pt x="4528" y="414"/>
                    </a:lnTo>
                    <a:lnTo>
                      <a:pt x="4525" y="409"/>
                    </a:lnTo>
                    <a:lnTo>
                      <a:pt x="4521" y="407"/>
                    </a:lnTo>
                    <a:lnTo>
                      <a:pt x="4516" y="406"/>
                    </a:lnTo>
                    <a:lnTo>
                      <a:pt x="4509" y="405"/>
                    </a:lnTo>
                    <a:lnTo>
                      <a:pt x="4501" y="404"/>
                    </a:lnTo>
                    <a:lnTo>
                      <a:pt x="4284" y="404"/>
                    </a:lnTo>
                    <a:lnTo>
                      <a:pt x="4284" y="511"/>
                    </a:lnTo>
                    <a:lnTo>
                      <a:pt x="4646" y="5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485120" y="6156720"/>
                <a:ext cx="25560" cy="50760"/>
              </a:xfrm>
              <a:custGeom>
                <a:avLst/>
                <a:gdLst/>
                <a:ahLst/>
                <a:rect l="l" t="t" r="r" b="b"/>
                <a:pathLst>
                  <a:path w="281" h="280">
                    <a:moveTo>
                      <a:pt x="140" y="0"/>
                    </a:moveTo>
                    <a:lnTo>
                      <a:pt x="155" y="1"/>
                    </a:lnTo>
                    <a:lnTo>
                      <a:pt x="168" y="2"/>
                    </a:lnTo>
                    <a:lnTo>
                      <a:pt x="182" y="6"/>
                    </a:lnTo>
                    <a:lnTo>
                      <a:pt x="195" y="11"/>
                    </a:lnTo>
                    <a:lnTo>
                      <a:pt x="208" y="17"/>
                    </a:lnTo>
                    <a:lnTo>
                      <a:pt x="219" y="23"/>
                    </a:lnTo>
                    <a:lnTo>
                      <a:pt x="230" y="32"/>
                    </a:lnTo>
                    <a:lnTo>
                      <a:pt x="239" y="41"/>
                    </a:lnTo>
                    <a:lnTo>
                      <a:pt x="249" y="51"/>
                    </a:lnTo>
                    <a:lnTo>
                      <a:pt x="257" y="61"/>
                    </a:lnTo>
                    <a:lnTo>
                      <a:pt x="264" y="74"/>
                    </a:lnTo>
                    <a:lnTo>
                      <a:pt x="269" y="86"/>
                    </a:lnTo>
                    <a:lnTo>
                      <a:pt x="275" y="98"/>
                    </a:lnTo>
                    <a:lnTo>
                      <a:pt x="278" y="112"/>
                    </a:lnTo>
                    <a:lnTo>
                      <a:pt x="281" y="125"/>
                    </a:lnTo>
                    <a:lnTo>
                      <a:pt x="281" y="140"/>
                    </a:lnTo>
                    <a:lnTo>
                      <a:pt x="281" y="154"/>
                    </a:lnTo>
                    <a:lnTo>
                      <a:pt x="278" y="168"/>
                    </a:lnTo>
                    <a:lnTo>
                      <a:pt x="275" y="181"/>
                    </a:lnTo>
                    <a:lnTo>
                      <a:pt x="269" y="195"/>
                    </a:lnTo>
                    <a:lnTo>
                      <a:pt x="264" y="207"/>
                    </a:lnTo>
                    <a:lnTo>
                      <a:pt x="257" y="218"/>
                    </a:lnTo>
                    <a:lnTo>
                      <a:pt x="249" y="230"/>
                    </a:lnTo>
                    <a:lnTo>
                      <a:pt x="239" y="240"/>
                    </a:lnTo>
                    <a:lnTo>
                      <a:pt x="230" y="249"/>
                    </a:lnTo>
                    <a:lnTo>
                      <a:pt x="219" y="256"/>
                    </a:lnTo>
                    <a:lnTo>
                      <a:pt x="208" y="263"/>
                    </a:lnTo>
                    <a:lnTo>
                      <a:pt x="195" y="270"/>
                    </a:lnTo>
                    <a:lnTo>
                      <a:pt x="182" y="274"/>
                    </a:lnTo>
                    <a:lnTo>
                      <a:pt x="168" y="278"/>
                    </a:lnTo>
                    <a:lnTo>
                      <a:pt x="155" y="280"/>
                    </a:lnTo>
                    <a:lnTo>
                      <a:pt x="140" y="280"/>
                    </a:lnTo>
                    <a:lnTo>
                      <a:pt x="126" y="280"/>
                    </a:lnTo>
                    <a:lnTo>
                      <a:pt x="112" y="278"/>
                    </a:lnTo>
                    <a:lnTo>
                      <a:pt x="99" y="274"/>
                    </a:lnTo>
                    <a:lnTo>
                      <a:pt x="85" y="270"/>
                    </a:lnTo>
                    <a:lnTo>
                      <a:pt x="73" y="263"/>
                    </a:lnTo>
                    <a:lnTo>
                      <a:pt x="62" y="256"/>
                    </a:lnTo>
                    <a:lnTo>
                      <a:pt x="50" y="249"/>
                    </a:lnTo>
                    <a:lnTo>
                      <a:pt x="40" y="240"/>
                    </a:lnTo>
                    <a:lnTo>
                      <a:pt x="31" y="230"/>
                    </a:lnTo>
                    <a:lnTo>
                      <a:pt x="23" y="218"/>
                    </a:lnTo>
                    <a:lnTo>
                      <a:pt x="17" y="207"/>
                    </a:lnTo>
                    <a:lnTo>
                      <a:pt x="11" y="195"/>
                    </a:lnTo>
                    <a:lnTo>
                      <a:pt x="5" y="181"/>
                    </a:lnTo>
                    <a:lnTo>
                      <a:pt x="2" y="168"/>
                    </a:lnTo>
                    <a:lnTo>
                      <a:pt x="0" y="154"/>
                    </a:lnTo>
                    <a:lnTo>
                      <a:pt x="0" y="140"/>
                    </a:lnTo>
                    <a:lnTo>
                      <a:pt x="0" y="125"/>
                    </a:lnTo>
                    <a:lnTo>
                      <a:pt x="2" y="112"/>
                    </a:lnTo>
                    <a:lnTo>
                      <a:pt x="5" y="98"/>
                    </a:lnTo>
                    <a:lnTo>
                      <a:pt x="11" y="86"/>
                    </a:lnTo>
                    <a:lnTo>
                      <a:pt x="17" y="74"/>
                    </a:lnTo>
                    <a:lnTo>
                      <a:pt x="23" y="61"/>
                    </a:lnTo>
                    <a:lnTo>
                      <a:pt x="31" y="51"/>
                    </a:lnTo>
                    <a:lnTo>
                      <a:pt x="40" y="41"/>
                    </a:lnTo>
                    <a:lnTo>
                      <a:pt x="50" y="32"/>
                    </a:lnTo>
                    <a:lnTo>
                      <a:pt x="62" y="23"/>
                    </a:lnTo>
                    <a:lnTo>
                      <a:pt x="73" y="17"/>
                    </a:lnTo>
                    <a:lnTo>
                      <a:pt x="85" y="11"/>
                    </a:lnTo>
                    <a:lnTo>
                      <a:pt x="99" y="6"/>
                    </a:lnTo>
                    <a:lnTo>
                      <a:pt x="112" y="2"/>
                    </a:lnTo>
                    <a:lnTo>
                      <a:pt x="126" y="1"/>
                    </a:lnTo>
                    <a:lnTo>
                      <a:pt x="140"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 name=""/>
              <p:cNvSpPr/>
              <p:nvPr/>
            </p:nvSpPr>
            <p:spPr>
              <a:xfrm>
                <a:off x="8206920" y="6156720"/>
                <a:ext cx="25920" cy="50760"/>
              </a:xfrm>
              <a:custGeom>
                <a:avLst/>
                <a:gdLst/>
                <a:ahLst/>
                <a:rect l="l" t="t" r="r" b="b"/>
                <a:pathLst>
                  <a:path w="281" h="280">
                    <a:moveTo>
                      <a:pt x="140" y="0"/>
                    </a:moveTo>
                    <a:lnTo>
                      <a:pt x="155" y="1"/>
                    </a:lnTo>
                    <a:lnTo>
                      <a:pt x="168" y="2"/>
                    </a:lnTo>
                    <a:lnTo>
                      <a:pt x="182" y="6"/>
                    </a:lnTo>
                    <a:lnTo>
                      <a:pt x="195" y="11"/>
                    </a:lnTo>
                    <a:lnTo>
                      <a:pt x="208" y="17"/>
                    </a:lnTo>
                    <a:lnTo>
                      <a:pt x="219" y="23"/>
                    </a:lnTo>
                    <a:lnTo>
                      <a:pt x="230" y="32"/>
                    </a:lnTo>
                    <a:lnTo>
                      <a:pt x="240" y="41"/>
                    </a:lnTo>
                    <a:lnTo>
                      <a:pt x="249" y="51"/>
                    </a:lnTo>
                    <a:lnTo>
                      <a:pt x="257" y="61"/>
                    </a:lnTo>
                    <a:lnTo>
                      <a:pt x="264" y="74"/>
                    </a:lnTo>
                    <a:lnTo>
                      <a:pt x="269" y="86"/>
                    </a:lnTo>
                    <a:lnTo>
                      <a:pt x="275" y="98"/>
                    </a:lnTo>
                    <a:lnTo>
                      <a:pt x="278" y="112"/>
                    </a:lnTo>
                    <a:lnTo>
                      <a:pt x="281" y="125"/>
                    </a:lnTo>
                    <a:lnTo>
                      <a:pt x="281" y="140"/>
                    </a:lnTo>
                    <a:lnTo>
                      <a:pt x="281" y="154"/>
                    </a:lnTo>
                    <a:lnTo>
                      <a:pt x="278" y="168"/>
                    </a:lnTo>
                    <a:lnTo>
                      <a:pt x="275" y="181"/>
                    </a:lnTo>
                    <a:lnTo>
                      <a:pt x="269" y="195"/>
                    </a:lnTo>
                    <a:lnTo>
                      <a:pt x="264" y="207"/>
                    </a:lnTo>
                    <a:lnTo>
                      <a:pt x="257" y="218"/>
                    </a:lnTo>
                    <a:lnTo>
                      <a:pt x="249" y="230"/>
                    </a:lnTo>
                    <a:lnTo>
                      <a:pt x="240" y="240"/>
                    </a:lnTo>
                    <a:lnTo>
                      <a:pt x="230" y="249"/>
                    </a:lnTo>
                    <a:lnTo>
                      <a:pt x="219" y="256"/>
                    </a:lnTo>
                    <a:lnTo>
                      <a:pt x="208" y="263"/>
                    </a:lnTo>
                    <a:lnTo>
                      <a:pt x="195" y="270"/>
                    </a:lnTo>
                    <a:lnTo>
                      <a:pt x="182" y="274"/>
                    </a:lnTo>
                    <a:lnTo>
                      <a:pt x="168" y="278"/>
                    </a:lnTo>
                    <a:lnTo>
                      <a:pt x="155" y="280"/>
                    </a:lnTo>
                    <a:lnTo>
                      <a:pt x="140" y="280"/>
                    </a:lnTo>
                    <a:lnTo>
                      <a:pt x="126" y="280"/>
                    </a:lnTo>
                    <a:lnTo>
                      <a:pt x="112" y="278"/>
                    </a:lnTo>
                    <a:lnTo>
                      <a:pt x="99" y="274"/>
                    </a:lnTo>
                    <a:lnTo>
                      <a:pt x="85" y="270"/>
                    </a:lnTo>
                    <a:lnTo>
                      <a:pt x="73" y="263"/>
                    </a:lnTo>
                    <a:lnTo>
                      <a:pt x="62" y="256"/>
                    </a:lnTo>
                    <a:lnTo>
                      <a:pt x="50" y="249"/>
                    </a:lnTo>
                    <a:lnTo>
                      <a:pt x="41" y="240"/>
                    </a:lnTo>
                    <a:lnTo>
                      <a:pt x="31" y="230"/>
                    </a:lnTo>
                    <a:lnTo>
                      <a:pt x="24" y="218"/>
                    </a:lnTo>
                    <a:lnTo>
                      <a:pt x="17" y="207"/>
                    </a:lnTo>
                    <a:lnTo>
                      <a:pt x="11" y="195"/>
                    </a:lnTo>
                    <a:lnTo>
                      <a:pt x="6" y="181"/>
                    </a:lnTo>
                    <a:lnTo>
                      <a:pt x="2" y="168"/>
                    </a:lnTo>
                    <a:lnTo>
                      <a:pt x="0" y="154"/>
                    </a:lnTo>
                    <a:lnTo>
                      <a:pt x="0" y="140"/>
                    </a:lnTo>
                    <a:lnTo>
                      <a:pt x="0" y="125"/>
                    </a:lnTo>
                    <a:lnTo>
                      <a:pt x="2" y="112"/>
                    </a:lnTo>
                    <a:lnTo>
                      <a:pt x="6" y="98"/>
                    </a:lnTo>
                    <a:lnTo>
                      <a:pt x="11" y="86"/>
                    </a:lnTo>
                    <a:lnTo>
                      <a:pt x="17" y="74"/>
                    </a:lnTo>
                    <a:lnTo>
                      <a:pt x="24" y="61"/>
                    </a:lnTo>
                    <a:lnTo>
                      <a:pt x="31" y="51"/>
                    </a:lnTo>
                    <a:lnTo>
                      <a:pt x="41" y="41"/>
                    </a:lnTo>
                    <a:lnTo>
                      <a:pt x="50" y="32"/>
                    </a:lnTo>
                    <a:lnTo>
                      <a:pt x="62" y="23"/>
                    </a:lnTo>
                    <a:lnTo>
                      <a:pt x="73" y="17"/>
                    </a:lnTo>
                    <a:lnTo>
                      <a:pt x="85" y="11"/>
                    </a:lnTo>
                    <a:lnTo>
                      <a:pt x="99" y="6"/>
                    </a:lnTo>
                    <a:lnTo>
                      <a:pt x="112" y="2"/>
                    </a:lnTo>
                    <a:lnTo>
                      <a:pt x="126" y="1"/>
                    </a:lnTo>
                    <a:lnTo>
                      <a:pt x="140"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 name=""/>
              <p:cNvSpPr/>
              <p:nvPr/>
            </p:nvSpPr>
            <p:spPr>
              <a:xfrm>
                <a:off x="8707680" y="6106680"/>
                <a:ext cx="45000" cy="47520"/>
              </a:xfrm>
              <a:custGeom>
                <a:avLst/>
                <a:gdLst/>
                <a:ahLst/>
                <a:rect l="l" t="t" r="r" b="b"/>
                <a:pathLst>
                  <a:path w="490" h="260">
                    <a:moveTo>
                      <a:pt x="87" y="260"/>
                    </a:moveTo>
                    <a:lnTo>
                      <a:pt x="87" y="30"/>
                    </a:lnTo>
                    <a:lnTo>
                      <a:pt x="0" y="30"/>
                    </a:lnTo>
                    <a:lnTo>
                      <a:pt x="0" y="0"/>
                    </a:lnTo>
                    <a:lnTo>
                      <a:pt x="207" y="0"/>
                    </a:lnTo>
                    <a:lnTo>
                      <a:pt x="207" y="30"/>
                    </a:lnTo>
                    <a:lnTo>
                      <a:pt x="122" y="30"/>
                    </a:lnTo>
                    <a:lnTo>
                      <a:pt x="122" y="260"/>
                    </a:lnTo>
                    <a:lnTo>
                      <a:pt x="87" y="260"/>
                    </a:lnTo>
                    <a:close/>
                    <a:moveTo>
                      <a:pt x="242" y="260"/>
                    </a:moveTo>
                    <a:lnTo>
                      <a:pt x="242" y="0"/>
                    </a:lnTo>
                    <a:lnTo>
                      <a:pt x="293" y="0"/>
                    </a:lnTo>
                    <a:lnTo>
                      <a:pt x="355" y="184"/>
                    </a:lnTo>
                    <a:lnTo>
                      <a:pt x="359" y="196"/>
                    </a:lnTo>
                    <a:lnTo>
                      <a:pt x="362" y="206"/>
                    </a:lnTo>
                    <a:lnTo>
                      <a:pt x="365" y="215"/>
                    </a:lnTo>
                    <a:lnTo>
                      <a:pt x="368" y="223"/>
                    </a:lnTo>
                    <a:lnTo>
                      <a:pt x="370" y="215"/>
                    </a:lnTo>
                    <a:lnTo>
                      <a:pt x="373" y="205"/>
                    </a:lnTo>
                    <a:lnTo>
                      <a:pt x="377" y="194"/>
                    </a:lnTo>
                    <a:lnTo>
                      <a:pt x="381" y="181"/>
                    </a:lnTo>
                    <a:lnTo>
                      <a:pt x="444" y="0"/>
                    </a:lnTo>
                    <a:lnTo>
                      <a:pt x="490" y="0"/>
                    </a:lnTo>
                    <a:lnTo>
                      <a:pt x="490" y="260"/>
                    </a:lnTo>
                    <a:lnTo>
                      <a:pt x="456" y="260"/>
                    </a:lnTo>
                    <a:lnTo>
                      <a:pt x="456" y="43"/>
                    </a:lnTo>
                    <a:lnTo>
                      <a:pt x="381" y="260"/>
                    </a:lnTo>
                    <a:lnTo>
                      <a:pt x="350" y="260"/>
                    </a:lnTo>
                    <a:lnTo>
                      <a:pt x="274" y="39"/>
                    </a:lnTo>
                    <a:lnTo>
                      <a:pt x="274" y="260"/>
                    </a:lnTo>
                    <a:lnTo>
                      <a:pt x="242" y="26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sp>
        <p:nvSpPr>
          <p:cNvPr id="111" name="PlaceHolder 1"/>
          <p:cNvSpPr>
            <a:spLocks noGrp="1"/>
          </p:cNvSpPr>
          <p:nvPr>
            <p:ph type="subTitle"/>
          </p:nvPr>
        </p:nvSpPr>
        <p:spPr>
          <a:xfrm>
            <a:off x="762120" y="2669760"/>
            <a:ext cx="7772400" cy="2359080"/>
          </a:xfrm>
          <a:prstGeom prst="rect">
            <a:avLst/>
          </a:prstGeom>
          <a:noFill/>
          <a:ln w="0">
            <a:noFill/>
          </a:ln>
        </p:spPr>
        <p: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Tobacco Progress Review</a:t>
            </a:r>
            <a:endParaRPr b="0" lang="en-US" sz="4400" spc="-1" strike="noStrike">
              <a:solidFill>
                <a:srgbClr val="000000"/>
              </a:solidFill>
              <a:latin typeface="Times New Roman"/>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May 14, 2003</a:t>
            </a:r>
            <a:endParaRPr b="0" lang="en-US" sz="4400" spc="-1" strike="noStrike">
              <a:solidFill>
                <a:srgbClr val="000000"/>
              </a:solidFill>
              <a:latin typeface="Times New Roman"/>
            </a:endParaRPr>
          </a:p>
        </p:txBody>
      </p:sp>
      <p:grpSp>
        <p:nvGrpSpPr>
          <p:cNvPr id="112" name=""/>
          <p:cNvGrpSpPr/>
          <p:nvPr/>
        </p:nvGrpSpPr>
        <p:grpSpPr>
          <a:xfrm>
            <a:off x="6934320" y="6248520"/>
            <a:ext cx="1904400" cy="228600"/>
            <a:chOff x="6934320" y="6248520"/>
            <a:chExt cx="1904400" cy="228600"/>
          </a:xfrm>
        </p:grpSpPr>
        <p:sp>
          <p:nvSpPr>
            <p:cNvPr id="113" name=""/>
            <p:cNvSpPr/>
            <p:nvPr/>
          </p:nvSpPr>
          <p:spPr>
            <a:xfrm>
              <a:off x="6934320" y="6274080"/>
              <a:ext cx="418320" cy="203040"/>
            </a:xfrm>
            <a:custGeom>
              <a:avLst/>
              <a:gdLst/>
              <a:ahLst/>
              <a:rect l="l" t="t" r="r" b="b"/>
              <a:pathLst>
                <a:path w="3948" h="691">
                  <a:moveTo>
                    <a:pt x="579" y="226"/>
                  </a:moveTo>
                  <a:lnTo>
                    <a:pt x="581" y="221"/>
                  </a:lnTo>
                  <a:lnTo>
                    <a:pt x="582" y="217"/>
                  </a:lnTo>
                  <a:lnTo>
                    <a:pt x="583" y="213"/>
                  </a:lnTo>
                  <a:lnTo>
                    <a:pt x="583" y="210"/>
                  </a:lnTo>
                  <a:lnTo>
                    <a:pt x="582" y="204"/>
                  </a:lnTo>
                  <a:lnTo>
                    <a:pt x="578" y="198"/>
                  </a:lnTo>
                  <a:lnTo>
                    <a:pt x="573" y="191"/>
                  </a:lnTo>
                  <a:lnTo>
                    <a:pt x="565" y="185"/>
                  </a:lnTo>
                  <a:lnTo>
                    <a:pt x="556" y="180"/>
                  </a:lnTo>
                  <a:lnTo>
                    <a:pt x="544" y="174"/>
                  </a:lnTo>
                  <a:lnTo>
                    <a:pt x="529" y="169"/>
                  </a:lnTo>
                  <a:lnTo>
                    <a:pt x="512" y="163"/>
                  </a:lnTo>
                  <a:lnTo>
                    <a:pt x="494" y="157"/>
                  </a:lnTo>
                  <a:lnTo>
                    <a:pt x="476" y="153"/>
                  </a:lnTo>
                  <a:lnTo>
                    <a:pt x="457" y="149"/>
                  </a:lnTo>
                  <a:lnTo>
                    <a:pt x="438" y="146"/>
                  </a:lnTo>
                  <a:lnTo>
                    <a:pt x="419" y="144"/>
                  </a:lnTo>
                  <a:lnTo>
                    <a:pt x="398" y="142"/>
                  </a:lnTo>
                  <a:lnTo>
                    <a:pt x="377" y="140"/>
                  </a:lnTo>
                  <a:lnTo>
                    <a:pt x="356" y="140"/>
                  </a:lnTo>
                  <a:lnTo>
                    <a:pt x="339" y="140"/>
                  </a:lnTo>
                  <a:lnTo>
                    <a:pt x="322" y="142"/>
                  </a:lnTo>
                  <a:lnTo>
                    <a:pt x="307" y="143"/>
                  </a:lnTo>
                  <a:lnTo>
                    <a:pt x="292" y="145"/>
                  </a:lnTo>
                  <a:lnTo>
                    <a:pt x="278" y="148"/>
                  </a:lnTo>
                  <a:lnTo>
                    <a:pt x="265" y="151"/>
                  </a:lnTo>
                  <a:lnTo>
                    <a:pt x="254" y="155"/>
                  </a:lnTo>
                  <a:lnTo>
                    <a:pt x="243" y="160"/>
                  </a:lnTo>
                  <a:lnTo>
                    <a:pt x="232" y="164"/>
                  </a:lnTo>
                  <a:lnTo>
                    <a:pt x="223" y="170"/>
                  </a:lnTo>
                  <a:lnTo>
                    <a:pt x="216" y="175"/>
                  </a:lnTo>
                  <a:lnTo>
                    <a:pt x="210" y="181"/>
                  </a:lnTo>
                  <a:lnTo>
                    <a:pt x="205" y="186"/>
                  </a:lnTo>
                  <a:lnTo>
                    <a:pt x="202" y="193"/>
                  </a:lnTo>
                  <a:lnTo>
                    <a:pt x="200" y="201"/>
                  </a:lnTo>
                  <a:lnTo>
                    <a:pt x="200" y="208"/>
                  </a:lnTo>
                  <a:lnTo>
                    <a:pt x="200" y="213"/>
                  </a:lnTo>
                  <a:lnTo>
                    <a:pt x="202" y="218"/>
                  </a:lnTo>
                  <a:lnTo>
                    <a:pt x="205" y="223"/>
                  </a:lnTo>
                  <a:lnTo>
                    <a:pt x="210" y="228"/>
                  </a:lnTo>
                  <a:lnTo>
                    <a:pt x="216" y="231"/>
                  </a:lnTo>
                  <a:lnTo>
                    <a:pt x="222" y="236"/>
                  </a:lnTo>
                  <a:lnTo>
                    <a:pt x="231" y="239"/>
                  </a:lnTo>
                  <a:lnTo>
                    <a:pt x="240" y="243"/>
                  </a:lnTo>
                  <a:lnTo>
                    <a:pt x="264" y="249"/>
                  </a:lnTo>
                  <a:lnTo>
                    <a:pt x="292" y="254"/>
                  </a:lnTo>
                  <a:lnTo>
                    <a:pt x="326" y="257"/>
                  </a:lnTo>
                  <a:lnTo>
                    <a:pt x="364" y="259"/>
                  </a:lnTo>
                  <a:lnTo>
                    <a:pt x="376" y="260"/>
                  </a:lnTo>
                  <a:lnTo>
                    <a:pt x="387" y="260"/>
                  </a:lnTo>
                  <a:lnTo>
                    <a:pt x="396" y="262"/>
                  </a:lnTo>
                  <a:lnTo>
                    <a:pt x="404" y="262"/>
                  </a:lnTo>
                  <a:lnTo>
                    <a:pt x="440" y="264"/>
                  </a:lnTo>
                  <a:lnTo>
                    <a:pt x="475" y="268"/>
                  </a:lnTo>
                  <a:lnTo>
                    <a:pt x="506" y="273"/>
                  </a:lnTo>
                  <a:lnTo>
                    <a:pt x="536" y="280"/>
                  </a:lnTo>
                  <a:lnTo>
                    <a:pt x="561" y="286"/>
                  </a:lnTo>
                  <a:lnTo>
                    <a:pt x="585" y="295"/>
                  </a:lnTo>
                  <a:lnTo>
                    <a:pt x="596" y="300"/>
                  </a:lnTo>
                  <a:lnTo>
                    <a:pt x="606" y="304"/>
                  </a:lnTo>
                  <a:lnTo>
                    <a:pt x="615" y="310"/>
                  </a:lnTo>
                  <a:lnTo>
                    <a:pt x="624" y="315"/>
                  </a:lnTo>
                  <a:lnTo>
                    <a:pt x="632" y="321"/>
                  </a:lnTo>
                  <a:lnTo>
                    <a:pt x="640" y="327"/>
                  </a:lnTo>
                  <a:lnTo>
                    <a:pt x="647" y="333"/>
                  </a:lnTo>
                  <a:lnTo>
                    <a:pt x="654" y="340"/>
                  </a:lnTo>
                  <a:lnTo>
                    <a:pt x="660" y="348"/>
                  </a:lnTo>
                  <a:lnTo>
                    <a:pt x="666" y="356"/>
                  </a:lnTo>
                  <a:lnTo>
                    <a:pt x="670" y="364"/>
                  </a:lnTo>
                  <a:lnTo>
                    <a:pt x="675" y="371"/>
                  </a:lnTo>
                  <a:lnTo>
                    <a:pt x="679" y="380"/>
                  </a:lnTo>
                  <a:lnTo>
                    <a:pt x="683" y="389"/>
                  </a:lnTo>
                  <a:lnTo>
                    <a:pt x="685" y="398"/>
                  </a:lnTo>
                  <a:lnTo>
                    <a:pt x="687" y="408"/>
                  </a:lnTo>
                  <a:lnTo>
                    <a:pt x="689" y="419"/>
                  </a:lnTo>
                  <a:lnTo>
                    <a:pt x="691" y="430"/>
                  </a:lnTo>
                  <a:lnTo>
                    <a:pt x="692" y="440"/>
                  </a:lnTo>
                  <a:lnTo>
                    <a:pt x="692" y="451"/>
                  </a:lnTo>
                  <a:lnTo>
                    <a:pt x="692" y="463"/>
                  </a:lnTo>
                  <a:lnTo>
                    <a:pt x="691" y="475"/>
                  </a:lnTo>
                  <a:lnTo>
                    <a:pt x="688" y="486"/>
                  </a:lnTo>
                  <a:lnTo>
                    <a:pt x="686" y="497"/>
                  </a:lnTo>
                  <a:lnTo>
                    <a:pt x="683" y="508"/>
                  </a:lnTo>
                  <a:lnTo>
                    <a:pt x="679" y="518"/>
                  </a:lnTo>
                  <a:lnTo>
                    <a:pt x="675" y="528"/>
                  </a:lnTo>
                  <a:lnTo>
                    <a:pt x="669" y="539"/>
                  </a:lnTo>
                  <a:lnTo>
                    <a:pt x="664" y="547"/>
                  </a:lnTo>
                  <a:lnTo>
                    <a:pt x="657" y="558"/>
                  </a:lnTo>
                  <a:lnTo>
                    <a:pt x="649" y="567"/>
                  </a:lnTo>
                  <a:lnTo>
                    <a:pt x="641" y="576"/>
                  </a:lnTo>
                  <a:lnTo>
                    <a:pt x="633" y="583"/>
                  </a:lnTo>
                  <a:lnTo>
                    <a:pt x="623" y="592"/>
                  </a:lnTo>
                  <a:lnTo>
                    <a:pt x="613" y="600"/>
                  </a:lnTo>
                  <a:lnTo>
                    <a:pt x="602" y="608"/>
                  </a:lnTo>
                  <a:lnTo>
                    <a:pt x="591" y="615"/>
                  </a:lnTo>
                  <a:lnTo>
                    <a:pt x="579" y="621"/>
                  </a:lnTo>
                  <a:lnTo>
                    <a:pt x="567" y="628"/>
                  </a:lnTo>
                  <a:lnTo>
                    <a:pt x="554" y="634"/>
                  </a:lnTo>
                  <a:lnTo>
                    <a:pt x="540" y="639"/>
                  </a:lnTo>
                  <a:lnTo>
                    <a:pt x="527" y="645"/>
                  </a:lnTo>
                  <a:lnTo>
                    <a:pt x="513" y="650"/>
                  </a:lnTo>
                  <a:lnTo>
                    <a:pt x="499" y="653"/>
                  </a:lnTo>
                  <a:lnTo>
                    <a:pt x="468" y="660"/>
                  </a:lnTo>
                  <a:lnTo>
                    <a:pt x="436" y="664"/>
                  </a:lnTo>
                  <a:lnTo>
                    <a:pt x="402" y="667"/>
                  </a:lnTo>
                  <a:lnTo>
                    <a:pt x="366" y="669"/>
                  </a:lnTo>
                  <a:lnTo>
                    <a:pt x="325" y="667"/>
                  </a:lnTo>
                  <a:lnTo>
                    <a:pt x="284" y="665"/>
                  </a:lnTo>
                  <a:lnTo>
                    <a:pt x="244" y="661"/>
                  </a:lnTo>
                  <a:lnTo>
                    <a:pt x="205" y="655"/>
                  </a:lnTo>
                  <a:lnTo>
                    <a:pt x="167" y="648"/>
                  </a:lnTo>
                  <a:lnTo>
                    <a:pt x="130" y="639"/>
                  </a:lnTo>
                  <a:lnTo>
                    <a:pt x="94" y="629"/>
                  </a:lnTo>
                  <a:lnTo>
                    <a:pt x="58" y="618"/>
                  </a:lnTo>
                  <a:lnTo>
                    <a:pt x="46" y="614"/>
                  </a:lnTo>
                  <a:lnTo>
                    <a:pt x="39" y="613"/>
                  </a:lnTo>
                  <a:lnTo>
                    <a:pt x="35" y="613"/>
                  </a:lnTo>
                  <a:lnTo>
                    <a:pt x="30" y="616"/>
                  </a:lnTo>
                  <a:lnTo>
                    <a:pt x="25" y="621"/>
                  </a:lnTo>
                  <a:lnTo>
                    <a:pt x="16" y="632"/>
                  </a:lnTo>
                  <a:lnTo>
                    <a:pt x="0" y="624"/>
                  </a:lnTo>
                  <a:lnTo>
                    <a:pt x="88" y="432"/>
                  </a:lnTo>
                  <a:lnTo>
                    <a:pt x="103" y="440"/>
                  </a:lnTo>
                  <a:lnTo>
                    <a:pt x="102" y="442"/>
                  </a:lnTo>
                  <a:lnTo>
                    <a:pt x="101" y="444"/>
                  </a:lnTo>
                  <a:lnTo>
                    <a:pt x="100" y="447"/>
                  </a:lnTo>
                  <a:lnTo>
                    <a:pt x="100" y="450"/>
                  </a:lnTo>
                  <a:lnTo>
                    <a:pt x="100" y="454"/>
                  </a:lnTo>
                  <a:lnTo>
                    <a:pt x="101" y="459"/>
                  </a:lnTo>
                  <a:lnTo>
                    <a:pt x="102" y="463"/>
                  </a:lnTo>
                  <a:lnTo>
                    <a:pt x="104" y="468"/>
                  </a:lnTo>
                  <a:lnTo>
                    <a:pt x="111" y="477"/>
                  </a:lnTo>
                  <a:lnTo>
                    <a:pt x="120" y="485"/>
                  </a:lnTo>
                  <a:lnTo>
                    <a:pt x="131" y="493"/>
                  </a:lnTo>
                  <a:lnTo>
                    <a:pt x="146" y="502"/>
                  </a:lnTo>
                  <a:lnTo>
                    <a:pt x="162" y="509"/>
                  </a:lnTo>
                  <a:lnTo>
                    <a:pt x="181" y="517"/>
                  </a:lnTo>
                  <a:lnTo>
                    <a:pt x="202" y="524"/>
                  </a:lnTo>
                  <a:lnTo>
                    <a:pt x="223" y="531"/>
                  </a:lnTo>
                  <a:lnTo>
                    <a:pt x="246" y="536"/>
                  </a:lnTo>
                  <a:lnTo>
                    <a:pt x="268" y="541"/>
                  </a:lnTo>
                  <a:lnTo>
                    <a:pt x="292" y="544"/>
                  </a:lnTo>
                  <a:lnTo>
                    <a:pt x="316" y="546"/>
                  </a:lnTo>
                  <a:lnTo>
                    <a:pt x="341" y="547"/>
                  </a:lnTo>
                  <a:lnTo>
                    <a:pt x="366" y="547"/>
                  </a:lnTo>
                  <a:lnTo>
                    <a:pt x="384" y="547"/>
                  </a:lnTo>
                  <a:lnTo>
                    <a:pt x="401" y="546"/>
                  </a:lnTo>
                  <a:lnTo>
                    <a:pt x="417" y="545"/>
                  </a:lnTo>
                  <a:lnTo>
                    <a:pt x="431" y="543"/>
                  </a:lnTo>
                  <a:lnTo>
                    <a:pt x="445" y="540"/>
                  </a:lnTo>
                  <a:lnTo>
                    <a:pt x="458" y="536"/>
                  </a:lnTo>
                  <a:lnTo>
                    <a:pt x="469" y="532"/>
                  </a:lnTo>
                  <a:lnTo>
                    <a:pt x="481" y="527"/>
                  </a:lnTo>
                  <a:lnTo>
                    <a:pt x="491" y="522"/>
                  </a:lnTo>
                  <a:lnTo>
                    <a:pt x="499" y="515"/>
                  </a:lnTo>
                  <a:lnTo>
                    <a:pt x="506" y="509"/>
                  </a:lnTo>
                  <a:lnTo>
                    <a:pt x="512" y="503"/>
                  </a:lnTo>
                  <a:lnTo>
                    <a:pt x="517" y="495"/>
                  </a:lnTo>
                  <a:lnTo>
                    <a:pt x="520" y="487"/>
                  </a:lnTo>
                  <a:lnTo>
                    <a:pt x="522" y="479"/>
                  </a:lnTo>
                  <a:lnTo>
                    <a:pt x="522" y="470"/>
                  </a:lnTo>
                  <a:lnTo>
                    <a:pt x="522" y="462"/>
                  </a:lnTo>
                  <a:lnTo>
                    <a:pt x="520" y="454"/>
                  </a:lnTo>
                  <a:lnTo>
                    <a:pt x="517" y="448"/>
                  </a:lnTo>
                  <a:lnTo>
                    <a:pt x="512" y="441"/>
                  </a:lnTo>
                  <a:lnTo>
                    <a:pt x="505" y="435"/>
                  </a:lnTo>
                  <a:lnTo>
                    <a:pt x="497" y="430"/>
                  </a:lnTo>
                  <a:lnTo>
                    <a:pt x="488" y="424"/>
                  </a:lnTo>
                  <a:lnTo>
                    <a:pt x="478" y="420"/>
                  </a:lnTo>
                  <a:lnTo>
                    <a:pt x="467" y="415"/>
                  </a:lnTo>
                  <a:lnTo>
                    <a:pt x="454" y="412"/>
                  </a:lnTo>
                  <a:lnTo>
                    <a:pt x="440" y="408"/>
                  </a:lnTo>
                  <a:lnTo>
                    <a:pt x="424" y="405"/>
                  </a:lnTo>
                  <a:lnTo>
                    <a:pt x="408" y="403"/>
                  </a:lnTo>
                  <a:lnTo>
                    <a:pt x="389" y="401"/>
                  </a:lnTo>
                  <a:lnTo>
                    <a:pt x="368" y="399"/>
                  </a:lnTo>
                  <a:lnTo>
                    <a:pt x="348" y="398"/>
                  </a:lnTo>
                  <a:lnTo>
                    <a:pt x="336" y="397"/>
                  </a:lnTo>
                  <a:lnTo>
                    <a:pt x="328" y="397"/>
                  </a:lnTo>
                  <a:lnTo>
                    <a:pt x="292" y="395"/>
                  </a:lnTo>
                  <a:lnTo>
                    <a:pt x="259" y="392"/>
                  </a:lnTo>
                  <a:lnTo>
                    <a:pt x="228" y="387"/>
                  </a:lnTo>
                  <a:lnTo>
                    <a:pt x="200" y="382"/>
                  </a:lnTo>
                  <a:lnTo>
                    <a:pt x="174" y="375"/>
                  </a:lnTo>
                  <a:lnTo>
                    <a:pt x="149" y="367"/>
                  </a:lnTo>
                  <a:lnTo>
                    <a:pt x="128" y="358"/>
                  </a:lnTo>
                  <a:lnTo>
                    <a:pt x="109" y="348"/>
                  </a:lnTo>
                  <a:lnTo>
                    <a:pt x="100" y="342"/>
                  </a:lnTo>
                  <a:lnTo>
                    <a:pt x="92" y="336"/>
                  </a:lnTo>
                  <a:lnTo>
                    <a:pt x="84" y="330"/>
                  </a:lnTo>
                  <a:lnTo>
                    <a:pt x="77" y="323"/>
                  </a:lnTo>
                  <a:lnTo>
                    <a:pt x="71" y="315"/>
                  </a:lnTo>
                  <a:lnTo>
                    <a:pt x="65" y="309"/>
                  </a:lnTo>
                  <a:lnTo>
                    <a:pt x="60" y="301"/>
                  </a:lnTo>
                  <a:lnTo>
                    <a:pt x="55" y="293"/>
                  </a:lnTo>
                  <a:lnTo>
                    <a:pt x="51" y="285"/>
                  </a:lnTo>
                  <a:lnTo>
                    <a:pt x="47" y="276"/>
                  </a:lnTo>
                  <a:lnTo>
                    <a:pt x="44" y="267"/>
                  </a:lnTo>
                  <a:lnTo>
                    <a:pt x="40" y="258"/>
                  </a:lnTo>
                  <a:lnTo>
                    <a:pt x="39" y="249"/>
                  </a:lnTo>
                  <a:lnTo>
                    <a:pt x="37" y="239"/>
                  </a:lnTo>
                  <a:lnTo>
                    <a:pt x="37" y="229"/>
                  </a:lnTo>
                  <a:lnTo>
                    <a:pt x="36" y="218"/>
                  </a:lnTo>
                  <a:lnTo>
                    <a:pt x="37" y="208"/>
                  </a:lnTo>
                  <a:lnTo>
                    <a:pt x="38" y="197"/>
                  </a:lnTo>
                  <a:lnTo>
                    <a:pt x="39" y="186"/>
                  </a:lnTo>
                  <a:lnTo>
                    <a:pt x="42" y="176"/>
                  </a:lnTo>
                  <a:lnTo>
                    <a:pt x="45" y="166"/>
                  </a:lnTo>
                  <a:lnTo>
                    <a:pt x="48" y="157"/>
                  </a:lnTo>
                  <a:lnTo>
                    <a:pt x="53" y="147"/>
                  </a:lnTo>
                  <a:lnTo>
                    <a:pt x="57" y="138"/>
                  </a:lnTo>
                  <a:lnTo>
                    <a:pt x="63" y="130"/>
                  </a:lnTo>
                  <a:lnTo>
                    <a:pt x="70" y="121"/>
                  </a:lnTo>
                  <a:lnTo>
                    <a:pt x="76" y="112"/>
                  </a:lnTo>
                  <a:lnTo>
                    <a:pt x="84" y="105"/>
                  </a:lnTo>
                  <a:lnTo>
                    <a:pt x="92" y="97"/>
                  </a:lnTo>
                  <a:lnTo>
                    <a:pt x="101" y="90"/>
                  </a:lnTo>
                  <a:lnTo>
                    <a:pt x="111" y="82"/>
                  </a:lnTo>
                  <a:lnTo>
                    <a:pt x="121" y="75"/>
                  </a:lnTo>
                  <a:lnTo>
                    <a:pt x="131" y="69"/>
                  </a:lnTo>
                  <a:lnTo>
                    <a:pt x="143" y="62"/>
                  </a:lnTo>
                  <a:lnTo>
                    <a:pt x="155" y="56"/>
                  </a:lnTo>
                  <a:lnTo>
                    <a:pt x="167" y="51"/>
                  </a:lnTo>
                  <a:lnTo>
                    <a:pt x="192" y="42"/>
                  </a:lnTo>
                  <a:lnTo>
                    <a:pt x="219" y="34"/>
                  </a:lnTo>
                  <a:lnTo>
                    <a:pt x="248" y="28"/>
                  </a:lnTo>
                  <a:lnTo>
                    <a:pt x="278" y="24"/>
                  </a:lnTo>
                  <a:lnTo>
                    <a:pt x="311" y="22"/>
                  </a:lnTo>
                  <a:lnTo>
                    <a:pt x="345" y="21"/>
                  </a:lnTo>
                  <a:lnTo>
                    <a:pt x="366" y="21"/>
                  </a:lnTo>
                  <a:lnTo>
                    <a:pt x="389" y="22"/>
                  </a:lnTo>
                  <a:lnTo>
                    <a:pt x="411" y="24"/>
                  </a:lnTo>
                  <a:lnTo>
                    <a:pt x="433" y="27"/>
                  </a:lnTo>
                  <a:lnTo>
                    <a:pt x="456" y="31"/>
                  </a:lnTo>
                  <a:lnTo>
                    <a:pt x="479" y="35"/>
                  </a:lnTo>
                  <a:lnTo>
                    <a:pt x="503" y="41"/>
                  </a:lnTo>
                  <a:lnTo>
                    <a:pt x="527" y="46"/>
                  </a:lnTo>
                  <a:lnTo>
                    <a:pt x="568" y="59"/>
                  </a:lnTo>
                  <a:lnTo>
                    <a:pt x="600" y="66"/>
                  </a:lnTo>
                  <a:lnTo>
                    <a:pt x="619" y="71"/>
                  </a:lnTo>
                  <a:lnTo>
                    <a:pt x="628" y="73"/>
                  </a:lnTo>
                  <a:lnTo>
                    <a:pt x="638" y="72"/>
                  </a:lnTo>
                  <a:lnTo>
                    <a:pt x="646" y="70"/>
                  </a:lnTo>
                  <a:lnTo>
                    <a:pt x="651" y="65"/>
                  </a:lnTo>
                  <a:lnTo>
                    <a:pt x="656" y="58"/>
                  </a:lnTo>
                  <a:lnTo>
                    <a:pt x="672" y="65"/>
                  </a:lnTo>
                  <a:lnTo>
                    <a:pt x="594" y="234"/>
                  </a:lnTo>
                  <a:lnTo>
                    <a:pt x="579" y="226"/>
                  </a:lnTo>
                  <a:close/>
                  <a:moveTo>
                    <a:pt x="1025" y="422"/>
                  </a:moveTo>
                  <a:lnTo>
                    <a:pt x="1236" y="422"/>
                  </a:lnTo>
                  <a:lnTo>
                    <a:pt x="1127" y="145"/>
                  </a:lnTo>
                  <a:lnTo>
                    <a:pt x="1025" y="422"/>
                  </a:lnTo>
                  <a:close/>
                  <a:moveTo>
                    <a:pt x="1290" y="661"/>
                  </a:moveTo>
                  <a:lnTo>
                    <a:pt x="1290" y="644"/>
                  </a:lnTo>
                  <a:lnTo>
                    <a:pt x="1300" y="641"/>
                  </a:lnTo>
                  <a:lnTo>
                    <a:pt x="1307" y="636"/>
                  </a:lnTo>
                  <a:lnTo>
                    <a:pt x="1310" y="634"/>
                  </a:lnTo>
                  <a:lnTo>
                    <a:pt x="1312" y="630"/>
                  </a:lnTo>
                  <a:lnTo>
                    <a:pt x="1313" y="627"/>
                  </a:lnTo>
                  <a:lnTo>
                    <a:pt x="1313" y="623"/>
                  </a:lnTo>
                  <a:lnTo>
                    <a:pt x="1313" y="618"/>
                  </a:lnTo>
                  <a:lnTo>
                    <a:pt x="1312" y="613"/>
                  </a:lnTo>
                  <a:lnTo>
                    <a:pt x="1309" y="605"/>
                  </a:lnTo>
                  <a:lnTo>
                    <a:pt x="1306" y="595"/>
                  </a:lnTo>
                  <a:lnTo>
                    <a:pt x="1280" y="527"/>
                  </a:lnTo>
                  <a:lnTo>
                    <a:pt x="988" y="527"/>
                  </a:lnTo>
                  <a:lnTo>
                    <a:pt x="962" y="595"/>
                  </a:lnTo>
                  <a:lnTo>
                    <a:pt x="960" y="600"/>
                  </a:lnTo>
                  <a:lnTo>
                    <a:pt x="958" y="606"/>
                  </a:lnTo>
                  <a:lnTo>
                    <a:pt x="957" y="610"/>
                  </a:lnTo>
                  <a:lnTo>
                    <a:pt x="957" y="616"/>
                  </a:lnTo>
                  <a:lnTo>
                    <a:pt x="958" y="620"/>
                  </a:lnTo>
                  <a:lnTo>
                    <a:pt x="959" y="626"/>
                  </a:lnTo>
                  <a:lnTo>
                    <a:pt x="960" y="630"/>
                  </a:lnTo>
                  <a:lnTo>
                    <a:pt x="963" y="634"/>
                  </a:lnTo>
                  <a:lnTo>
                    <a:pt x="967" y="637"/>
                  </a:lnTo>
                  <a:lnTo>
                    <a:pt x="971" y="639"/>
                  </a:lnTo>
                  <a:lnTo>
                    <a:pt x="976" y="642"/>
                  </a:lnTo>
                  <a:lnTo>
                    <a:pt x="983" y="644"/>
                  </a:lnTo>
                  <a:lnTo>
                    <a:pt x="983" y="661"/>
                  </a:lnTo>
                  <a:lnTo>
                    <a:pt x="768" y="661"/>
                  </a:lnTo>
                  <a:lnTo>
                    <a:pt x="768" y="644"/>
                  </a:lnTo>
                  <a:lnTo>
                    <a:pt x="775" y="639"/>
                  </a:lnTo>
                  <a:lnTo>
                    <a:pt x="783" y="633"/>
                  </a:lnTo>
                  <a:lnTo>
                    <a:pt x="789" y="626"/>
                  </a:lnTo>
                  <a:lnTo>
                    <a:pt x="796" y="617"/>
                  </a:lnTo>
                  <a:lnTo>
                    <a:pt x="803" y="607"/>
                  </a:lnTo>
                  <a:lnTo>
                    <a:pt x="810" y="595"/>
                  </a:lnTo>
                  <a:lnTo>
                    <a:pt x="815" y="582"/>
                  </a:lnTo>
                  <a:lnTo>
                    <a:pt x="821" y="568"/>
                  </a:lnTo>
                  <a:lnTo>
                    <a:pt x="822" y="562"/>
                  </a:lnTo>
                  <a:lnTo>
                    <a:pt x="824" y="558"/>
                  </a:lnTo>
                  <a:lnTo>
                    <a:pt x="989" y="105"/>
                  </a:lnTo>
                  <a:lnTo>
                    <a:pt x="994" y="92"/>
                  </a:lnTo>
                  <a:lnTo>
                    <a:pt x="997" y="81"/>
                  </a:lnTo>
                  <a:lnTo>
                    <a:pt x="999" y="73"/>
                  </a:lnTo>
                  <a:lnTo>
                    <a:pt x="1001" y="68"/>
                  </a:lnTo>
                  <a:lnTo>
                    <a:pt x="1001" y="63"/>
                  </a:lnTo>
                  <a:lnTo>
                    <a:pt x="999" y="59"/>
                  </a:lnTo>
                  <a:lnTo>
                    <a:pt x="998" y="56"/>
                  </a:lnTo>
                  <a:lnTo>
                    <a:pt x="996" y="53"/>
                  </a:lnTo>
                  <a:lnTo>
                    <a:pt x="994" y="52"/>
                  </a:lnTo>
                  <a:lnTo>
                    <a:pt x="990" y="50"/>
                  </a:lnTo>
                  <a:lnTo>
                    <a:pt x="987" y="49"/>
                  </a:lnTo>
                  <a:lnTo>
                    <a:pt x="983" y="47"/>
                  </a:lnTo>
                  <a:lnTo>
                    <a:pt x="983" y="32"/>
                  </a:lnTo>
                  <a:lnTo>
                    <a:pt x="1296" y="32"/>
                  </a:lnTo>
                  <a:lnTo>
                    <a:pt x="1296" y="47"/>
                  </a:lnTo>
                  <a:lnTo>
                    <a:pt x="1291" y="49"/>
                  </a:lnTo>
                  <a:lnTo>
                    <a:pt x="1288" y="50"/>
                  </a:lnTo>
                  <a:lnTo>
                    <a:pt x="1285" y="52"/>
                  </a:lnTo>
                  <a:lnTo>
                    <a:pt x="1282" y="53"/>
                  </a:lnTo>
                  <a:lnTo>
                    <a:pt x="1280" y="56"/>
                  </a:lnTo>
                  <a:lnTo>
                    <a:pt x="1279" y="59"/>
                  </a:lnTo>
                  <a:lnTo>
                    <a:pt x="1278" y="63"/>
                  </a:lnTo>
                  <a:lnTo>
                    <a:pt x="1278" y="68"/>
                  </a:lnTo>
                  <a:lnTo>
                    <a:pt x="1279" y="72"/>
                  </a:lnTo>
                  <a:lnTo>
                    <a:pt x="1281" y="81"/>
                  </a:lnTo>
                  <a:lnTo>
                    <a:pt x="1285" y="92"/>
                  </a:lnTo>
                  <a:lnTo>
                    <a:pt x="1289" y="105"/>
                  </a:lnTo>
                  <a:lnTo>
                    <a:pt x="1490" y="609"/>
                  </a:lnTo>
                  <a:lnTo>
                    <a:pt x="1490" y="610"/>
                  </a:lnTo>
                  <a:lnTo>
                    <a:pt x="1490" y="611"/>
                  </a:lnTo>
                  <a:lnTo>
                    <a:pt x="1492" y="617"/>
                  </a:lnTo>
                  <a:lnTo>
                    <a:pt x="1496" y="623"/>
                  </a:lnTo>
                  <a:lnTo>
                    <a:pt x="1499" y="628"/>
                  </a:lnTo>
                  <a:lnTo>
                    <a:pt x="1502" y="633"/>
                  </a:lnTo>
                  <a:lnTo>
                    <a:pt x="1507" y="636"/>
                  </a:lnTo>
                  <a:lnTo>
                    <a:pt x="1511" y="639"/>
                  </a:lnTo>
                  <a:lnTo>
                    <a:pt x="1516" y="642"/>
                  </a:lnTo>
                  <a:lnTo>
                    <a:pt x="1520" y="644"/>
                  </a:lnTo>
                  <a:lnTo>
                    <a:pt x="1520" y="661"/>
                  </a:lnTo>
                  <a:lnTo>
                    <a:pt x="1290" y="661"/>
                  </a:lnTo>
                  <a:close/>
                  <a:moveTo>
                    <a:pt x="1635" y="661"/>
                  </a:moveTo>
                  <a:lnTo>
                    <a:pt x="1635" y="644"/>
                  </a:lnTo>
                  <a:lnTo>
                    <a:pt x="1644" y="642"/>
                  </a:lnTo>
                  <a:lnTo>
                    <a:pt x="1651" y="639"/>
                  </a:lnTo>
                  <a:lnTo>
                    <a:pt x="1655" y="637"/>
                  </a:lnTo>
                  <a:lnTo>
                    <a:pt x="1660" y="634"/>
                  </a:lnTo>
                  <a:lnTo>
                    <a:pt x="1662" y="629"/>
                  </a:lnTo>
                  <a:lnTo>
                    <a:pt x="1663" y="625"/>
                  </a:lnTo>
                  <a:lnTo>
                    <a:pt x="1664" y="618"/>
                  </a:lnTo>
                  <a:lnTo>
                    <a:pt x="1665" y="609"/>
                  </a:lnTo>
                  <a:lnTo>
                    <a:pt x="1665" y="83"/>
                  </a:lnTo>
                  <a:lnTo>
                    <a:pt x="1664" y="75"/>
                  </a:lnTo>
                  <a:lnTo>
                    <a:pt x="1663" y="69"/>
                  </a:lnTo>
                  <a:lnTo>
                    <a:pt x="1662" y="63"/>
                  </a:lnTo>
                  <a:lnTo>
                    <a:pt x="1660" y="59"/>
                  </a:lnTo>
                  <a:lnTo>
                    <a:pt x="1655" y="56"/>
                  </a:lnTo>
                  <a:lnTo>
                    <a:pt x="1651" y="53"/>
                  </a:lnTo>
                  <a:lnTo>
                    <a:pt x="1644" y="51"/>
                  </a:lnTo>
                  <a:lnTo>
                    <a:pt x="1635" y="47"/>
                  </a:lnTo>
                  <a:lnTo>
                    <a:pt x="1635" y="32"/>
                  </a:lnTo>
                  <a:lnTo>
                    <a:pt x="2218" y="32"/>
                  </a:lnTo>
                  <a:lnTo>
                    <a:pt x="2226" y="31"/>
                  </a:lnTo>
                  <a:lnTo>
                    <a:pt x="2232" y="31"/>
                  </a:lnTo>
                  <a:lnTo>
                    <a:pt x="2238" y="28"/>
                  </a:lnTo>
                  <a:lnTo>
                    <a:pt x="2243" y="26"/>
                  </a:lnTo>
                  <a:lnTo>
                    <a:pt x="2245" y="22"/>
                  </a:lnTo>
                  <a:lnTo>
                    <a:pt x="2248" y="16"/>
                  </a:lnTo>
                  <a:lnTo>
                    <a:pt x="2251" y="9"/>
                  </a:lnTo>
                  <a:lnTo>
                    <a:pt x="2254" y="0"/>
                  </a:lnTo>
                  <a:lnTo>
                    <a:pt x="2269" y="0"/>
                  </a:lnTo>
                  <a:lnTo>
                    <a:pt x="2269" y="210"/>
                  </a:lnTo>
                  <a:lnTo>
                    <a:pt x="2254" y="210"/>
                  </a:lnTo>
                  <a:lnTo>
                    <a:pt x="2250" y="201"/>
                  </a:lnTo>
                  <a:lnTo>
                    <a:pt x="2248" y="194"/>
                  </a:lnTo>
                  <a:lnTo>
                    <a:pt x="2245" y="189"/>
                  </a:lnTo>
                  <a:lnTo>
                    <a:pt x="2241" y="185"/>
                  </a:lnTo>
                  <a:lnTo>
                    <a:pt x="2238" y="183"/>
                  </a:lnTo>
                  <a:lnTo>
                    <a:pt x="2232" y="182"/>
                  </a:lnTo>
                  <a:lnTo>
                    <a:pt x="2226" y="181"/>
                  </a:lnTo>
                  <a:lnTo>
                    <a:pt x="2218" y="181"/>
                  </a:lnTo>
                  <a:lnTo>
                    <a:pt x="1843" y="181"/>
                  </a:lnTo>
                  <a:lnTo>
                    <a:pt x="1843" y="287"/>
                  </a:lnTo>
                  <a:lnTo>
                    <a:pt x="2089" y="287"/>
                  </a:lnTo>
                  <a:lnTo>
                    <a:pt x="2097" y="286"/>
                  </a:lnTo>
                  <a:lnTo>
                    <a:pt x="2103" y="285"/>
                  </a:lnTo>
                  <a:lnTo>
                    <a:pt x="2109" y="283"/>
                  </a:lnTo>
                  <a:lnTo>
                    <a:pt x="2113" y="281"/>
                  </a:lnTo>
                  <a:lnTo>
                    <a:pt x="2117" y="277"/>
                  </a:lnTo>
                  <a:lnTo>
                    <a:pt x="2120" y="272"/>
                  </a:lnTo>
                  <a:lnTo>
                    <a:pt x="2122" y="265"/>
                  </a:lnTo>
                  <a:lnTo>
                    <a:pt x="2125" y="257"/>
                  </a:lnTo>
                  <a:lnTo>
                    <a:pt x="2141" y="257"/>
                  </a:lnTo>
                  <a:lnTo>
                    <a:pt x="2141" y="452"/>
                  </a:lnTo>
                  <a:lnTo>
                    <a:pt x="2125" y="452"/>
                  </a:lnTo>
                  <a:lnTo>
                    <a:pt x="2122" y="444"/>
                  </a:lnTo>
                  <a:lnTo>
                    <a:pt x="2119" y="438"/>
                  </a:lnTo>
                  <a:lnTo>
                    <a:pt x="2117" y="432"/>
                  </a:lnTo>
                  <a:lnTo>
                    <a:pt x="2113" y="429"/>
                  </a:lnTo>
                  <a:lnTo>
                    <a:pt x="2109" y="425"/>
                  </a:lnTo>
                  <a:lnTo>
                    <a:pt x="2103" y="424"/>
                  </a:lnTo>
                  <a:lnTo>
                    <a:pt x="2097" y="423"/>
                  </a:lnTo>
                  <a:lnTo>
                    <a:pt x="2089" y="422"/>
                  </a:lnTo>
                  <a:lnTo>
                    <a:pt x="1843" y="422"/>
                  </a:lnTo>
                  <a:lnTo>
                    <a:pt x="1843" y="609"/>
                  </a:lnTo>
                  <a:lnTo>
                    <a:pt x="1843" y="617"/>
                  </a:lnTo>
                  <a:lnTo>
                    <a:pt x="1844" y="624"/>
                  </a:lnTo>
                  <a:lnTo>
                    <a:pt x="1846" y="629"/>
                  </a:lnTo>
                  <a:lnTo>
                    <a:pt x="1848" y="633"/>
                  </a:lnTo>
                  <a:lnTo>
                    <a:pt x="1852" y="636"/>
                  </a:lnTo>
                  <a:lnTo>
                    <a:pt x="1857" y="639"/>
                  </a:lnTo>
                  <a:lnTo>
                    <a:pt x="1865" y="642"/>
                  </a:lnTo>
                  <a:lnTo>
                    <a:pt x="1873" y="644"/>
                  </a:lnTo>
                  <a:lnTo>
                    <a:pt x="1873" y="661"/>
                  </a:lnTo>
                  <a:lnTo>
                    <a:pt x="1635" y="661"/>
                  </a:lnTo>
                  <a:close/>
                  <a:moveTo>
                    <a:pt x="3000" y="513"/>
                  </a:moveTo>
                  <a:lnTo>
                    <a:pt x="3008" y="512"/>
                  </a:lnTo>
                  <a:lnTo>
                    <a:pt x="3015" y="512"/>
                  </a:lnTo>
                  <a:lnTo>
                    <a:pt x="3020" y="509"/>
                  </a:lnTo>
                  <a:lnTo>
                    <a:pt x="3024" y="507"/>
                  </a:lnTo>
                  <a:lnTo>
                    <a:pt x="3027" y="504"/>
                  </a:lnTo>
                  <a:lnTo>
                    <a:pt x="3030" y="498"/>
                  </a:lnTo>
                  <a:lnTo>
                    <a:pt x="3033" y="491"/>
                  </a:lnTo>
                  <a:lnTo>
                    <a:pt x="3035" y="482"/>
                  </a:lnTo>
                  <a:lnTo>
                    <a:pt x="3052" y="482"/>
                  </a:lnTo>
                  <a:lnTo>
                    <a:pt x="3052" y="691"/>
                  </a:lnTo>
                  <a:lnTo>
                    <a:pt x="3035" y="691"/>
                  </a:lnTo>
                  <a:lnTo>
                    <a:pt x="3033" y="682"/>
                  </a:lnTo>
                  <a:lnTo>
                    <a:pt x="3030" y="675"/>
                  </a:lnTo>
                  <a:lnTo>
                    <a:pt x="3027" y="671"/>
                  </a:lnTo>
                  <a:lnTo>
                    <a:pt x="3024" y="666"/>
                  </a:lnTo>
                  <a:lnTo>
                    <a:pt x="3021" y="664"/>
                  </a:lnTo>
                  <a:lnTo>
                    <a:pt x="3015" y="663"/>
                  </a:lnTo>
                  <a:lnTo>
                    <a:pt x="3008" y="662"/>
                  </a:lnTo>
                  <a:lnTo>
                    <a:pt x="3000" y="661"/>
                  </a:lnTo>
                  <a:lnTo>
                    <a:pt x="2431" y="661"/>
                  </a:lnTo>
                  <a:lnTo>
                    <a:pt x="2431" y="644"/>
                  </a:lnTo>
                  <a:lnTo>
                    <a:pt x="2440" y="642"/>
                  </a:lnTo>
                  <a:lnTo>
                    <a:pt x="2447" y="639"/>
                  </a:lnTo>
                  <a:lnTo>
                    <a:pt x="2452" y="637"/>
                  </a:lnTo>
                  <a:lnTo>
                    <a:pt x="2456" y="634"/>
                  </a:lnTo>
                  <a:lnTo>
                    <a:pt x="2458" y="629"/>
                  </a:lnTo>
                  <a:lnTo>
                    <a:pt x="2460" y="625"/>
                  </a:lnTo>
                  <a:lnTo>
                    <a:pt x="2461" y="618"/>
                  </a:lnTo>
                  <a:lnTo>
                    <a:pt x="2461" y="609"/>
                  </a:lnTo>
                  <a:lnTo>
                    <a:pt x="2461" y="83"/>
                  </a:lnTo>
                  <a:lnTo>
                    <a:pt x="2461" y="75"/>
                  </a:lnTo>
                  <a:lnTo>
                    <a:pt x="2460" y="69"/>
                  </a:lnTo>
                  <a:lnTo>
                    <a:pt x="2458" y="63"/>
                  </a:lnTo>
                  <a:lnTo>
                    <a:pt x="2456" y="59"/>
                  </a:lnTo>
                  <a:lnTo>
                    <a:pt x="2452" y="56"/>
                  </a:lnTo>
                  <a:lnTo>
                    <a:pt x="2447" y="53"/>
                  </a:lnTo>
                  <a:lnTo>
                    <a:pt x="2440" y="51"/>
                  </a:lnTo>
                  <a:lnTo>
                    <a:pt x="2431" y="47"/>
                  </a:lnTo>
                  <a:lnTo>
                    <a:pt x="2431" y="32"/>
                  </a:lnTo>
                  <a:lnTo>
                    <a:pt x="3002" y="32"/>
                  </a:lnTo>
                  <a:lnTo>
                    <a:pt x="3009" y="31"/>
                  </a:lnTo>
                  <a:lnTo>
                    <a:pt x="3016" y="29"/>
                  </a:lnTo>
                  <a:lnTo>
                    <a:pt x="3021" y="28"/>
                  </a:lnTo>
                  <a:lnTo>
                    <a:pt x="3025" y="25"/>
                  </a:lnTo>
                  <a:lnTo>
                    <a:pt x="3029" y="22"/>
                  </a:lnTo>
                  <a:lnTo>
                    <a:pt x="3031" y="16"/>
                  </a:lnTo>
                  <a:lnTo>
                    <a:pt x="3033" y="9"/>
                  </a:lnTo>
                  <a:lnTo>
                    <a:pt x="3035" y="0"/>
                  </a:lnTo>
                  <a:lnTo>
                    <a:pt x="3052" y="0"/>
                  </a:lnTo>
                  <a:lnTo>
                    <a:pt x="3052" y="210"/>
                  </a:lnTo>
                  <a:lnTo>
                    <a:pt x="3035" y="210"/>
                  </a:lnTo>
                  <a:lnTo>
                    <a:pt x="3033" y="201"/>
                  </a:lnTo>
                  <a:lnTo>
                    <a:pt x="3031" y="194"/>
                  </a:lnTo>
                  <a:lnTo>
                    <a:pt x="3027" y="190"/>
                  </a:lnTo>
                  <a:lnTo>
                    <a:pt x="3024" y="185"/>
                  </a:lnTo>
                  <a:lnTo>
                    <a:pt x="3021" y="183"/>
                  </a:lnTo>
                  <a:lnTo>
                    <a:pt x="3015" y="182"/>
                  </a:lnTo>
                  <a:lnTo>
                    <a:pt x="3009" y="181"/>
                  </a:lnTo>
                  <a:lnTo>
                    <a:pt x="3002" y="181"/>
                  </a:lnTo>
                  <a:lnTo>
                    <a:pt x="2639" y="181"/>
                  </a:lnTo>
                  <a:lnTo>
                    <a:pt x="2639" y="268"/>
                  </a:lnTo>
                  <a:lnTo>
                    <a:pt x="2857" y="268"/>
                  </a:lnTo>
                  <a:lnTo>
                    <a:pt x="2865" y="268"/>
                  </a:lnTo>
                  <a:lnTo>
                    <a:pt x="2871" y="267"/>
                  </a:lnTo>
                  <a:lnTo>
                    <a:pt x="2876" y="266"/>
                  </a:lnTo>
                  <a:lnTo>
                    <a:pt x="2880" y="263"/>
                  </a:lnTo>
                  <a:lnTo>
                    <a:pt x="2884" y="259"/>
                  </a:lnTo>
                  <a:lnTo>
                    <a:pt x="2887" y="254"/>
                  </a:lnTo>
                  <a:lnTo>
                    <a:pt x="2889" y="247"/>
                  </a:lnTo>
                  <a:lnTo>
                    <a:pt x="2893" y="239"/>
                  </a:lnTo>
                  <a:lnTo>
                    <a:pt x="2910" y="239"/>
                  </a:lnTo>
                  <a:lnTo>
                    <a:pt x="2910" y="434"/>
                  </a:lnTo>
                  <a:lnTo>
                    <a:pt x="2893" y="434"/>
                  </a:lnTo>
                  <a:lnTo>
                    <a:pt x="2889" y="426"/>
                  </a:lnTo>
                  <a:lnTo>
                    <a:pt x="2886" y="419"/>
                  </a:lnTo>
                  <a:lnTo>
                    <a:pt x="2884" y="414"/>
                  </a:lnTo>
                  <a:lnTo>
                    <a:pt x="2880" y="411"/>
                  </a:lnTo>
                  <a:lnTo>
                    <a:pt x="2876" y="407"/>
                  </a:lnTo>
                  <a:lnTo>
                    <a:pt x="2870" y="406"/>
                  </a:lnTo>
                  <a:lnTo>
                    <a:pt x="2865" y="405"/>
                  </a:lnTo>
                  <a:lnTo>
                    <a:pt x="2857" y="405"/>
                  </a:lnTo>
                  <a:lnTo>
                    <a:pt x="2639" y="405"/>
                  </a:lnTo>
                  <a:lnTo>
                    <a:pt x="2639" y="513"/>
                  </a:lnTo>
                  <a:lnTo>
                    <a:pt x="3000" y="513"/>
                  </a:lnTo>
                  <a:close/>
                  <a:moveTo>
                    <a:pt x="3257" y="661"/>
                  </a:moveTo>
                  <a:lnTo>
                    <a:pt x="3257" y="644"/>
                  </a:lnTo>
                  <a:lnTo>
                    <a:pt x="3266" y="642"/>
                  </a:lnTo>
                  <a:lnTo>
                    <a:pt x="3272" y="639"/>
                  </a:lnTo>
                  <a:lnTo>
                    <a:pt x="3277" y="637"/>
                  </a:lnTo>
                  <a:lnTo>
                    <a:pt x="3281" y="634"/>
                  </a:lnTo>
                  <a:lnTo>
                    <a:pt x="3283" y="629"/>
                  </a:lnTo>
                  <a:lnTo>
                    <a:pt x="3285" y="625"/>
                  </a:lnTo>
                  <a:lnTo>
                    <a:pt x="3286" y="618"/>
                  </a:lnTo>
                  <a:lnTo>
                    <a:pt x="3287" y="609"/>
                  </a:lnTo>
                  <a:lnTo>
                    <a:pt x="3287" y="83"/>
                  </a:lnTo>
                  <a:lnTo>
                    <a:pt x="3286" y="75"/>
                  </a:lnTo>
                  <a:lnTo>
                    <a:pt x="3285" y="69"/>
                  </a:lnTo>
                  <a:lnTo>
                    <a:pt x="3283" y="63"/>
                  </a:lnTo>
                  <a:lnTo>
                    <a:pt x="3281" y="59"/>
                  </a:lnTo>
                  <a:lnTo>
                    <a:pt x="3277" y="56"/>
                  </a:lnTo>
                  <a:lnTo>
                    <a:pt x="3272" y="53"/>
                  </a:lnTo>
                  <a:lnTo>
                    <a:pt x="3266" y="51"/>
                  </a:lnTo>
                  <a:lnTo>
                    <a:pt x="3257" y="47"/>
                  </a:lnTo>
                  <a:lnTo>
                    <a:pt x="3257" y="32"/>
                  </a:lnTo>
                  <a:lnTo>
                    <a:pt x="3694" y="32"/>
                  </a:lnTo>
                  <a:lnTo>
                    <a:pt x="3724" y="33"/>
                  </a:lnTo>
                  <a:lnTo>
                    <a:pt x="3751" y="35"/>
                  </a:lnTo>
                  <a:lnTo>
                    <a:pt x="3775" y="38"/>
                  </a:lnTo>
                  <a:lnTo>
                    <a:pt x="3799" y="44"/>
                  </a:lnTo>
                  <a:lnTo>
                    <a:pt x="3821" y="52"/>
                  </a:lnTo>
                  <a:lnTo>
                    <a:pt x="3842" y="61"/>
                  </a:lnTo>
                  <a:lnTo>
                    <a:pt x="3852" y="66"/>
                  </a:lnTo>
                  <a:lnTo>
                    <a:pt x="3861" y="72"/>
                  </a:lnTo>
                  <a:lnTo>
                    <a:pt x="3870" y="78"/>
                  </a:lnTo>
                  <a:lnTo>
                    <a:pt x="3878" y="84"/>
                  </a:lnTo>
                  <a:lnTo>
                    <a:pt x="3885" y="91"/>
                  </a:lnTo>
                  <a:lnTo>
                    <a:pt x="3893" y="98"/>
                  </a:lnTo>
                  <a:lnTo>
                    <a:pt x="3900" y="105"/>
                  </a:lnTo>
                  <a:lnTo>
                    <a:pt x="3907" y="112"/>
                  </a:lnTo>
                  <a:lnTo>
                    <a:pt x="3912" y="120"/>
                  </a:lnTo>
                  <a:lnTo>
                    <a:pt x="3918" y="129"/>
                  </a:lnTo>
                  <a:lnTo>
                    <a:pt x="3922" y="138"/>
                  </a:lnTo>
                  <a:lnTo>
                    <a:pt x="3927" y="147"/>
                  </a:lnTo>
                  <a:lnTo>
                    <a:pt x="3930" y="156"/>
                  </a:lnTo>
                  <a:lnTo>
                    <a:pt x="3934" y="166"/>
                  </a:lnTo>
                  <a:lnTo>
                    <a:pt x="3937" y="176"/>
                  </a:lnTo>
                  <a:lnTo>
                    <a:pt x="3939" y="186"/>
                  </a:lnTo>
                  <a:lnTo>
                    <a:pt x="3943" y="208"/>
                  </a:lnTo>
                  <a:lnTo>
                    <a:pt x="3943" y="230"/>
                  </a:lnTo>
                  <a:lnTo>
                    <a:pt x="3943" y="248"/>
                  </a:lnTo>
                  <a:lnTo>
                    <a:pt x="3940" y="266"/>
                  </a:lnTo>
                  <a:lnTo>
                    <a:pt x="3937" y="282"/>
                  </a:lnTo>
                  <a:lnTo>
                    <a:pt x="3933" y="297"/>
                  </a:lnTo>
                  <a:lnTo>
                    <a:pt x="3927" y="313"/>
                  </a:lnTo>
                  <a:lnTo>
                    <a:pt x="3920" y="328"/>
                  </a:lnTo>
                  <a:lnTo>
                    <a:pt x="3912" y="341"/>
                  </a:lnTo>
                  <a:lnTo>
                    <a:pt x="3902" y="354"/>
                  </a:lnTo>
                  <a:lnTo>
                    <a:pt x="3892" y="366"/>
                  </a:lnTo>
                  <a:lnTo>
                    <a:pt x="3880" y="377"/>
                  </a:lnTo>
                  <a:lnTo>
                    <a:pt x="3866" y="387"/>
                  </a:lnTo>
                  <a:lnTo>
                    <a:pt x="3852" y="396"/>
                  </a:lnTo>
                  <a:lnTo>
                    <a:pt x="3836" y="405"/>
                  </a:lnTo>
                  <a:lnTo>
                    <a:pt x="3819" y="413"/>
                  </a:lnTo>
                  <a:lnTo>
                    <a:pt x="3801" y="420"/>
                  </a:lnTo>
                  <a:lnTo>
                    <a:pt x="3781" y="426"/>
                  </a:lnTo>
                  <a:lnTo>
                    <a:pt x="3875" y="573"/>
                  </a:lnTo>
                  <a:lnTo>
                    <a:pt x="3886" y="592"/>
                  </a:lnTo>
                  <a:lnTo>
                    <a:pt x="3898" y="607"/>
                  </a:lnTo>
                  <a:lnTo>
                    <a:pt x="3907" y="619"/>
                  </a:lnTo>
                  <a:lnTo>
                    <a:pt x="3915" y="627"/>
                  </a:lnTo>
                  <a:lnTo>
                    <a:pt x="3922" y="633"/>
                  </a:lnTo>
                  <a:lnTo>
                    <a:pt x="3930" y="638"/>
                  </a:lnTo>
                  <a:lnTo>
                    <a:pt x="3939" y="642"/>
                  </a:lnTo>
                  <a:lnTo>
                    <a:pt x="3948" y="644"/>
                  </a:lnTo>
                  <a:lnTo>
                    <a:pt x="3948" y="661"/>
                  </a:lnTo>
                  <a:lnTo>
                    <a:pt x="3694" y="661"/>
                  </a:lnTo>
                  <a:lnTo>
                    <a:pt x="3696" y="644"/>
                  </a:lnTo>
                  <a:lnTo>
                    <a:pt x="3703" y="641"/>
                  </a:lnTo>
                  <a:lnTo>
                    <a:pt x="3710" y="636"/>
                  </a:lnTo>
                  <a:lnTo>
                    <a:pt x="3712" y="634"/>
                  </a:lnTo>
                  <a:lnTo>
                    <a:pt x="3714" y="630"/>
                  </a:lnTo>
                  <a:lnTo>
                    <a:pt x="3715" y="628"/>
                  </a:lnTo>
                  <a:lnTo>
                    <a:pt x="3715" y="624"/>
                  </a:lnTo>
                  <a:lnTo>
                    <a:pt x="3715" y="619"/>
                  </a:lnTo>
                  <a:lnTo>
                    <a:pt x="3712" y="614"/>
                  </a:lnTo>
                  <a:lnTo>
                    <a:pt x="3709" y="608"/>
                  </a:lnTo>
                  <a:lnTo>
                    <a:pt x="3703" y="600"/>
                  </a:lnTo>
                  <a:lnTo>
                    <a:pt x="3700" y="595"/>
                  </a:lnTo>
                  <a:lnTo>
                    <a:pt x="3697" y="590"/>
                  </a:lnTo>
                  <a:lnTo>
                    <a:pt x="3593" y="429"/>
                  </a:lnTo>
                  <a:lnTo>
                    <a:pt x="3464" y="429"/>
                  </a:lnTo>
                  <a:lnTo>
                    <a:pt x="3464" y="609"/>
                  </a:lnTo>
                  <a:lnTo>
                    <a:pt x="3464" y="617"/>
                  </a:lnTo>
                  <a:lnTo>
                    <a:pt x="3465" y="624"/>
                  </a:lnTo>
                  <a:lnTo>
                    <a:pt x="3468" y="629"/>
                  </a:lnTo>
                  <a:lnTo>
                    <a:pt x="3470" y="633"/>
                  </a:lnTo>
                  <a:lnTo>
                    <a:pt x="3473" y="636"/>
                  </a:lnTo>
                  <a:lnTo>
                    <a:pt x="3479" y="639"/>
                  </a:lnTo>
                  <a:lnTo>
                    <a:pt x="3487" y="642"/>
                  </a:lnTo>
                  <a:lnTo>
                    <a:pt x="3496" y="644"/>
                  </a:lnTo>
                  <a:lnTo>
                    <a:pt x="3496" y="661"/>
                  </a:lnTo>
                  <a:lnTo>
                    <a:pt x="3257" y="661"/>
                  </a:lnTo>
                  <a:close/>
                  <a:moveTo>
                    <a:pt x="3464" y="158"/>
                  </a:moveTo>
                  <a:lnTo>
                    <a:pt x="3464" y="302"/>
                  </a:lnTo>
                  <a:lnTo>
                    <a:pt x="3619" y="302"/>
                  </a:lnTo>
                  <a:lnTo>
                    <a:pt x="3637" y="301"/>
                  </a:lnTo>
                  <a:lnTo>
                    <a:pt x="3653" y="301"/>
                  </a:lnTo>
                  <a:lnTo>
                    <a:pt x="3669" y="299"/>
                  </a:lnTo>
                  <a:lnTo>
                    <a:pt x="3682" y="297"/>
                  </a:lnTo>
                  <a:lnTo>
                    <a:pt x="3696" y="295"/>
                  </a:lnTo>
                  <a:lnTo>
                    <a:pt x="3707" y="292"/>
                  </a:lnTo>
                  <a:lnTo>
                    <a:pt x="3717" y="288"/>
                  </a:lnTo>
                  <a:lnTo>
                    <a:pt x="3726" y="284"/>
                  </a:lnTo>
                  <a:lnTo>
                    <a:pt x="3734" y="280"/>
                  </a:lnTo>
                  <a:lnTo>
                    <a:pt x="3739" y="274"/>
                  </a:lnTo>
                  <a:lnTo>
                    <a:pt x="3745" y="268"/>
                  </a:lnTo>
                  <a:lnTo>
                    <a:pt x="3751" y="262"/>
                  </a:lnTo>
                  <a:lnTo>
                    <a:pt x="3754" y="255"/>
                  </a:lnTo>
                  <a:lnTo>
                    <a:pt x="3756" y="247"/>
                  </a:lnTo>
                  <a:lnTo>
                    <a:pt x="3757" y="238"/>
                  </a:lnTo>
                  <a:lnTo>
                    <a:pt x="3758" y="229"/>
                  </a:lnTo>
                  <a:lnTo>
                    <a:pt x="3757" y="220"/>
                  </a:lnTo>
                  <a:lnTo>
                    <a:pt x="3756" y="211"/>
                  </a:lnTo>
                  <a:lnTo>
                    <a:pt x="3754" y="203"/>
                  </a:lnTo>
                  <a:lnTo>
                    <a:pt x="3751" y="197"/>
                  </a:lnTo>
                  <a:lnTo>
                    <a:pt x="3746" y="190"/>
                  </a:lnTo>
                  <a:lnTo>
                    <a:pt x="3741" y="184"/>
                  </a:lnTo>
                  <a:lnTo>
                    <a:pt x="3735" y="179"/>
                  </a:lnTo>
                  <a:lnTo>
                    <a:pt x="3727" y="174"/>
                  </a:lnTo>
                  <a:lnTo>
                    <a:pt x="3719" y="171"/>
                  </a:lnTo>
                  <a:lnTo>
                    <a:pt x="3709" y="167"/>
                  </a:lnTo>
                  <a:lnTo>
                    <a:pt x="3697" y="165"/>
                  </a:lnTo>
                  <a:lnTo>
                    <a:pt x="3684" y="163"/>
                  </a:lnTo>
                  <a:lnTo>
                    <a:pt x="3669" y="161"/>
                  </a:lnTo>
                  <a:lnTo>
                    <a:pt x="3652" y="160"/>
                  </a:lnTo>
                  <a:lnTo>
                    <a:pt x="3634" y="158"/>
                  </a:lnTo>
                  <a:lnTo>
                    <a:pt x="3615" y="158"/>
                  </a:lnTo>
                  <a:lnTo>
                    <a:pt x="3464"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458840" y="6273000"/>
              <a:ext cx="729360" cy="203040"/>
            </a:xfrm>
            <a:custGeom>
              <a:avLst/>
              <a:gdLst/>
              <a:ahLst/>
              <a:rect l="l" t="t" r="r" b="b"/>
              <a:pathLst>
                <a:path w="6877" h="691">
                  <a:moveTo>
                    <a:pt x="0" y="660"/>
                  </a:moveTo>
                  <a:lnTo>
                    <a:pt x="0" y="644"/>
                  </a:lnTo>
                  <a:lnTo>
                    <a:pt x="9" y="641"/>
                  </a:lnTo>
                  <a:lnTo>
                    <a:pt x="16" y="639"/>
                  </a:lnTo>
                  <a:lnTo>
                    <a:pt x="21" y="636"/>
                  </a:lnTo>
                  <a:lnTo>
                    <a:pt x="25" y="633"/>
                  </a:lnTo>
                  <a:lnTo>
                    <a:pt x="27" y="629"/>
                  </a:lnTo>
                  <a:lnTo>
                    <a:pt x="28" y="623"/>
                  </a:lnTo>
                  <a:lnTo>
                    <a:pt x="29" y="617"/>
                  </a:lnTo>
                  <a:lnTo>
                    <a:pt x="30" y="609"/>
                  </a:lnTo>
                  <a:lnTo>
                    <a:pt x="30" y="83"/>
                  </a:lnTo>
                  <a:lnTo>
                    <a:pt x="29" y="74"/>
                  </a:lnTo>
                  <a:lnTo>
                    <a:pt x="28" y="67"/>
                  </a:lnTo>
                  <a:lnTo>
                    <a:pt x="27" y="63"/>
                  </a:lnTo>
                  <a:lnTo>
                    <a:pt x="25" y="58"/>
                  </a:lnTo>
                  <a:lnTo>
                    <a:pt x="21" y="55"/>
                  </a:lnTo>
                  <a:lnTo>
                    <a:pt x="16" y="53"/>
                  </a:lnTo>
                  <a:lnTo>
                    <a:pt x="9" y="49"/>
                  </a:lnTo>
                  <a:lnTo>
                    <a:pt x="0" y="47"/>
                  </a:lnTo>
                  <a:lnTo>
                    <a:pt x="0" y="31"/>
                  </a:lnTo>
                  <a:lnTo>
                    <a:pt x="239" y="31"/>
                  </a:lnTo>
                  <a:lnTo>
                    <a:pt x="239" y="47"/>
                  </a:lnTo>
                  <a:lnTo>
                    <a:pt x="230" y="49"/>
                  </a:lnTo>
                  <a:lnTo>
                    <a:pt x="222" y="53"/>
                  </a:lnTo>
                  <a:lnTo>
                    <a:pt x="218" y="56"/>
                  </a:lnTo>
                  <a:lnTo>
                    <a:pt x="213" y="58"/>
                  </a:lnTo>
                  <a:lnTo>
                    <a:pt x="211" y="63"/>
                  </a:lnTo>
                  <a:lnTo>
                    <a:pt x="209" y="68"/>
                  </a:lnTo>
                  <a:lnTo>
                    <a:pt x="208" y="75"/>
                  </a:lnTo>
                  <a:lnTo>
                    <a:pt x="208" y="83"/>
                  </a:lnTo>
                  <a:lnTo>
                    <a:pt x="208" y="258"/>
                  </a:lnTo>
                  <a:lnTo>
                    <a:pt x="520" y="258"/>
                  </a:lnTo>
                  <a:lnTo>
                    <a:pt x="520" y="83"/>
                  </a:lnTo>
                  <a:lnTo>
                    <a:pt x="520" y="75"/>
                  </a:lnTo>
                  <a:lnTo>
                    <a:pt x="519" y="68"/>
                  </a:lnTo>
                  <a:lnTo>
                    <a:pt x="517" y="63"/>
                  </a:lnTo>
                  <a:lnTo>
                    <a:pt x="514" y="58"/>
                  </a:lnTo>
                  <a:lnTo>
                    <a:pt x="510" y="56"/>
                  </a:lnTo>
                  <a:lnTo>
                    <a:pt x="504" y="53"/>
                  </a:lnTo>
                  <a:lnTo>
                    <a:pt x="497" y="49"/>
                  </a:lnTo>
                  <a:lnTo>
                    <a:pt x="489" y="47"/>
                  </a:lnTo>
                  <a:lnTo>
                    <a:pt x="489" y="31"/>
                  </a:lnTo>
                  <a:lnTo>
                    <a:pt x="728" y="31"/>
                  </a:lnTo>
                  <a:lnTo>
                    <a:pt x="728" y="47"/>
                  </a:lnTo>
                  <a:lnTo>
                    <a:pt x="719" y="49"/>
                  </a:lnTo>
                  <a:lnTo>
                    <a:pt x="712" y="53"/>
                  </a:lnTo>
                  <a:lnTo>
                    <a:pt x="707" y="55"/>
                  </a:lnTo>
                  <a:lnTo>
                    <a:pt x="704" y="58"/>
                  </a:lnTo>
                  <a:lnTo>
                    <a:pt x="701" y="63"/>
                  </a:lnTo>
                  <a:lnTo>
                    <a:pt x="700" y="67"/>
                  </a:lnTo>
                  <a:lnTo>
                    <a:pt x="698" y="74"/>
                  </a:lnTo>
                  <a:lnTo>
                    <a:pt x="698" y="83"/>
                  </a:lnTo>
                  <a:lnTo>
                    <a:pt x="698" y="609"/>
                  </a:lnTo>
                  <a:lnTo>
                    <a:pt x="698" y="617"/>
                  </a:lnTo>
                  <a:lnTo>
                    <a:pt x="700" y="623"/>
                  </a:lnTo>
                  <a:lnTo>
                    <a:pt x="701" y="629"/>
                  </a:lnTo>
                  <a:lnTo>
                    <a:pt x="704" y="633"/>
                  </a:lnTo>
                  <a:lnTo>
                    <a:pt x="707" y="636"/>
                  </a:lnTo>
                  <a:lnTo>
                    <a:pt x="712" y="639"/>
                  </a:lnTo>
                  <a:lnTo>
                    <a:pt x="719" y="641"/>
                  </a:lnTo>
                  <a:lnTo>
                    <a:pt x="728" y="644"/>
                  </a:lnTo>
                  <a:lnTo>
                    <a:pt x="728" y="660"/>
                  </a:lnTo>
                  <a:lnTo>
                    <a:pt x="489" y="660"/>
                  </a:lnTo>
                  <a:lnTo>
                    <a:pt x="489" y="644"/>
                  </a:lnTo>
                  <a:lnTo>
                    <a:pt x="497" y="641"/>
                  </a:lnTo>
                  <a:lnTo>
                    <a:pt x="504" y="638"/>
                  </a:lnTo>
                  <a:lnTo>
                    <a:pt x="510" y="636"/>
                  </a:lnTo>
                  <a:lnTo>
                    <a:pt x="514" y="632"/>
                  </a:lnTo>
                  <a:lnTo>
                    <a:pt x="517" y="628"/>
                  </a:lnTo>
                  <a:lnTo>
                    <a:pt x="519" y="623"/>
                  </a:lnTo>
                  <a:lnTo>
                    <a:pt x="520" y="617"/>
                  </a:lnTo>
                  <a:lnTo>
                    <a:pt x="520" y="609"/>
                  </a:lnTo>
                  <a:lnTo>
                    <a:pt x="520" y="402"/>
                  </a:lnTo>
                  <a:lnTo>
                    <a:pt x="208" y="402"/>
                  </a:lnTo>
                  <a:lnTo>
                    <a:pt x="208" y="609"/>
                  </a:lnTo>
                  <a:lnTo>
                    <a:pt x="208" y="617"/>
                  </a:lnTo>
                  <a:lnTo>
                    <a:pt x="209" y="623"/>
                  </a:lnTo>
                  <a:lnTo>
                    <a:pt x="211" y="628"/>
                  </a:lnTo>
                  <a:lnTo>
                    <a:pt x="213" y="632"/>
                  </a:lnTo>
                  <a:lnTo>
                    <a:pt x="218" y="636"/>
                  </a:lnTo>
                  <a:lnTo>
                    <a:pt x="222" y="638"/>
                  </a:lnTo>
                  <a:lnTo>
                    <a:pt x="230" y="641"/>
                  </a:lnTo>
                  <a:lnTo>
                    <a:pt x="239" y="644"/>
                  </a:lnTo>
                  <a:lnTo>
                    <a:pt x="239" y="660"/>
                  </a:lnTo>
                  <a:lnTo>
                    <a:pt x="0" y="660"/>
                  </a:lnTo>
                  <a:close/>
                  <a:moveTo>
                    <a:pt x="1487" y="511"/>
                  </a:moveTo>
                  <a:lnTo>
                    <a:pt x="1495" y="511"/>
                  </a:lnTo>
                  <a:lnTo>
                    <a:pt x="1501" y="510"/>
                  </a:lnTo>
                  <a:lnTo>
                    <a:pt x="1506" y="509"/>
                  </a:lnTo>
                  <a:lnTo>
                    <a:pt x="1510" y="506"/>
                  </a:lnTo>
                  <a:lnTo>
                    <a:pt x="1514" y="502"/>
                  </a:lnTo>
                  <a:lnTo>
                    <a:pt x="1517" y="498"/>
                  </a:lnTo>
                  <a:lnTo>
                    <a:pt x="1519" y="491"/>
                  </a:lnTo>
                  <a:lnTo>
                    <a:pt x="1522" y="482"/>
                  </a:lnTo>
                  <a:lnTo>
                    <a:pt x="1538" y="482"/>
                  </a:lnTo>
                  <a:lnTo>
                    <a:pt x="1538" y="691"/>
                  </a:lnTo>
                  <a:lnTo>
                    <a:pt x="1522" y="691"/>
                  </a:lnTo>
                  <a:lnTo>
                    <a:pt x="1519" y="682"/>
                  </a:lnTo>
                  <a:lnTo>
                    <a:pt x="1517" y="675"/>
                  </a:lnTo>
                  <a:lnTo>
                    <a:pt x="1514" y="669"/>
                  </a:lnTo>
                  <a:lnTo>
                    <a:pt x="1510" y="666"/>
                  </a:lnTo>
                  <a:lnTo>
                    <a:pt x="1507" y="664"/>
                  </a:lnTo>
                  <a:lnTo>
                    <a:pt x="1501" y="661"/>
                  </a:lnTo>
                  <a:lnTo>
                    <a:pt x="1495" y="660"/>
                  </a:lnTo>
                  <a:lnTo>
                    <a:pt x="1487" y="660"/>
                  </a:lnTo>
                  <a:lnTo>
                    <a:pt x="917" y="660"/>
                  </a:lnTo>
                  <a:lnTo>
                    <a:pt x="917" y="644"/>
                  </a:lnTo>
                  <a:lnTo>
                    <a:pt x="926" y="641"/>
                  </a:lnTo>
                  <a:lnTo>
                    <a:pt x="933" y="639"/>
                  </a:lnTo>
                  <a:lnTo>
                    <a:pt x="939" y="636"/>
                  </a:lnTo>
                  <a:lnTo>
                    <a:pt x="942" y="633"/>
                  </a:lnTo>
                  <a:lnTo>
                    <a:pt x="944" y="629"/>
                  </a:lnTo>
                  <a:lnTo>
                    <a:pt x="947" y="623"/>
                  </a:lnTo>
                  <a:lnTo>
                    <a:pt x="948" y="617"/>
                  </a:lnTo>
                  <a:lnTo>
                    <a:pt x="948" y="609"/>
                  </a:lnTo>
                  <a:lnTo>
                    <a:pt x="948" y="83"/>
                  </a:lnTo>
                  <a:lnTo>
                    <a:pt x="948" y="74"/>
                  </a:lnTo>
                  <a:lnTo>
                    <a:pt x="947" y="67"/>
                  </a:lnTo>
                  <a:lnTo>
                    <a:pt x="944" y="63"/>
                  </a:lnTo>
                  <a:lnTo>
                    <a:pt x="942" y="58"/>
                  </a:lnTo>
                  <a:lnTo>
                    <a:pt x="939" y="55"/>
                  </a:lnTo>
                  <a:lnTo>
                    <a:pt x="933" y="53"/>
                  </a:lnTo>
                  <a:lnTo>
                    <a:pt x="926" y="49"/>
                  </a:lnTo>
                  <a:lnTo>
                    <a:pt x="917" y="47"/>
                  </a:lnTo>
                  <a:lnTo>
                    <a:pt x="917" y="31"/>
                  </a:lnTo>
                  <a:lnTo>
                    <a:pt x="1488" y="31"/>
                  </a:lnTo>
                  <a:lnTo>
                    <a:pt x="1496" y="30"/>
                  </a:lnTo>
                  <a:lnTo>
                    <a:pt x="1503" y="29"/>
                  </a:lnTo>
                  <a:lnTo>
                    <a:pt x="1508" y="27"/>
                  </a:lnTo>
                  <a:lnTo>
                    <a:pt x="1512" y="25"/>
                  </a:lnTo>
                  <a:lnTo>
                    <a:pt x="1515" y="21"/>
                  </a:lnTo>
                  <a:lnTo>
                    <a:pt x="1517" y="16"/>
                  </a:lnTo>
                  <a:lnTo>
                    <a:pt x="1519" y="9"/>
                  </a:lnTo>
                  <a:lnTo>
                    <a:pt x="1522" y="0"/>
                  </a:lnTo>
                  <a:lnTo>
                    <a:pt x="1538" y="0"/>
                  </a:lnTo>
                  <a:lnTo>
                    <a:pt x="1538" y="210"/>
                  </a:lnTo>
                  <a:lnTo>
                    <a:pt x="1522" y="210"/>
                  </a:lnTo>
                  <a:lnTo>
                    <a:pt x="1519" y="201"/>
                  </a:lnTo>
                  <a:lnTo>
                    <a:pt x="1517" y="194"/>
                  </a:lnTo>
                  <a:lnTo>
                    <a:pt x="1514" y="188"/>
                  </a:lnTo>
                  <a:lnTo>
                    <a:pt x="1512" y="185"/>
                  </a:lnTo>
                  <a:lnTo>
                    <a:pt x="1507" y="183"/>
                  </a:lnTo>
                  <a:lnTo>
                    <a:pt x="1503" y="180"/>
                  </a:lnTo>
                  <a:lnTo>
                    <a:pt x="1496" y="180"/>
                  </a:lnTo>
                  <a:lnTo>
                    <a:pt x="1488" y="179"/>
                  </a:lnTo>
                  <a:lnTo>
                    <a:pt x="1125" y="179"/>
                  </a:lnTo>
                  <a:lnTo>
                    <a:pt x="1125" y="268"/>
                  </a:lnTo>
                  <a:lnTo>
                    <a:pt x="1343" y="268"/>
                  </a:lnTo>
                  <a:lnTo>
                    <a:pt x="1351" y="268"/>
                  </a:lnTo>
                  <a:lnTo>
                    <a:pt x="1358" y="267"/>
                  </a:lnTo>
                  <a:lnTo>
                    <a:pt x="1363" y="265"/>
                  </a:lnTo>
                  <a:lnTo>
                    <a:pt x="1367" y="262"/>
                  </a:lnTo>
                  <a:lnTo>
                    <a:pt x="1370" y="259"/>
                  </a:lnTo>
                  <a:lnTo>
                    <a:pt x="1373" y="253"/>
                  </a:lnTo>
                  <a:lnTo>
                    <a:pt x="1377" y="247"/>
                  </a:lnTo>
                  <a:lnTo>
                    <a:pt x="1379" y="239"/>
                  </a:lnTo>
                  <a:lnTo>
                    <a:pt x="1396" y="239"/>
                  </a:lnTo>
                  <a:lnTo>
                    <a:pt x="1396" y="434"/>
                  </a:lnTo>
                  <a:lnTo>
                    <a:pt x="1379" y="434"/>
                  </a:lnTo>
                  <a:lnTo>
                    <a:pt x="1376" y="425"/>
                  </a:lnTo>
                  <a:lnTo>
                    <a:pt x="1373" y="418"/>
                  </a:lnTo>
                  <a:lnTo>
                    <a:pt x="1370" y="414"/>
                  </a:lnTo>
                  <a:lnTo>
                    <a:pt x="1367" y="409"/>
                  </a:lnTo>
                  <a:lnTo>
                    <a:pt x="1362" y="407"/>
                  </a:lnTo>
                  <a:lnTo>
                    <a:pt x="1357" y="406"/>
                  </a:lnTo>
                  <a:lnTo>
                    <a:pt x="1351" y="405"/>
                  </a:lnTo>
                  <a:lnTo>
                    <a:pt x="1343" y="404"/>
                  </a:lnTo>
                  <a:lnTo>
                    <a:pt x="1125" y="404"/>
                  </a:lnTo>
                  <a:lnTo>
                    <a:pt x="1125" y="511"/>
                  </a:lnTo>
                  <a:lnTo>
                    <a:pt x="1487" y="511"/>
                  </a:lnTo>
                  <a:close/>
                  <a:moveTo>
                    <a:pt x="1924" y="422"/>
                  </a:moveTo>
                  <a:lnTo>
                    <a:pt x="2136" y="422"/>
                  </a:lnTo>
                  <a:lnTo>
                    <a:pt x="2026" y="145"/>
                  </a:lnTo>
                  <a:lnTo>
                    <a:pt x="1924" y="422"/>
                  </a:lnTo>
                  <a:close/>
                  <a:moveTo>
                    <a:pt x="2189" y="660"/>
                  </a:moveTo>
                  <a:lnTo>
                    <a:pt x="2189" y="644"/>
                  </a:lnTo>
                  <a:lnTo>
                    <a:pt x="2199" y="640"/>
                  </a:lnTo>
                  <a:lnTo>
                    <a:pt x="2205" y="636"/>
                  </a:lnTo>
                  <a:lnTo>
                    <a:pt x="2209" y="633"/>
                  </a:lnTo>
                  <a:lnTo>
                    <a:pt x="2210" y="630"/>
                  </a:lnTo>
                  <a:lnTo>
                    <a:pt x="2211" y="626"/>
                  </a:lnTo>
                  <a:lnTo>
                    <a:pt x="2211" y="622"/>
                  </a:lnTo>
                  <a:lnTo>
                    <a:pt x="2211" y="618"/>
                  </a:lnTo>
                  <a:lnTo>
                    <a:pt x="2210" y="611"/>
                  </a:lnTo>
                  <a:lnTo>
                    <a:pt x="2208" y="604"/>
                  </a:lnTo>
                  <a:lnTo>
                    <a:pt x="2204" y="594"/>
                  </a:lnTo>
                  <a:lnTo>
                    <a:pt x="2179" y="527"/>
                  </a:lnTo>
                  <a:lnTo>
                    <a:pt x="1887" y="527"/>
                  </a:lnTo>
                  <a:lnTo>
                    <a:pt x="1861" y="594"/>
                  </a:lnTo>
                  <a:lnTo>
                    <a:pt x="1858" y="600"/>
                  </a:lnTo>
                  <a:lnTo>
                    <a:pt x="1856" y="605"/>
                  </a:lnTo>
                  <a:lnTo>
                    <a:pt x="1856" y="610"/>
                  </a:lnTo>
                  <a:lnTo>
                    <a:pt x="1855" y="614"/>
                  </a:lnTo>
                  <a:lnTo>
                    <a:pt x="1856" y="620"/>
                  </a:lnTo>
                  <a:lnTo>
                    <a:pt x="1857" y="624"/>
                  </a:lnTo>
                  <a:lnTo>
                    <a:pt x="1860" y="629"/>
                  </a:lnTo>
                  <a:lnTo>
                    <a:pt x="1862" y="633"/>
                  </a:lnTo>
                  <a:lnTo>
                    <a:pt x="1865" y="637"/>
                  </a:lnTo>
                  <a:lnTo>
                    <a:pt x="1870" y="639"/>
                  </a:lnTo>
                  <a:lnTo>
                    <a:pt x="1874" y="641"/>
                  </a:lnTo>
                  <a:lnTo>
                    <a:pt x="1881" y="644"/>
                  </a:lnTo>
                  <a:lnTo>
                    <a:pt x="1881" y="660"/>
                  </a:lnTo>
                  <a:lnTo>
                    <a:pt x="1666" y="660"/>
                  </a:lnTo>
                  <a:lnTo>
                    <a:pt x="1666" y="644"/>
                  </a:lnTo>
                  <a:lnTo>
                    <a:pt x="1674" y="639"/>
                  </a:lnTo>
                  <a:lnTo>
                    <a:pt x="1681" y="632"/>
                  </a:lnTo>
                  <a:lnTo>
                    <a:pt x="1688" y="626"/>
                  </a:lnTo>
                  <a:lnTo>
                    <a:pt x="1696" y="617"/>
                  </a:lnTo>
                  <a:lnTo>
                    <a:pt x="1701" y="605"/>
                  </a:lnTo>
                  <a:lnTo>
                    <a:pt x="1708" y="594"/>
                  </a:lnTo>
                  <a:lnTo>
                    <a:pt x="1714" y="581"/>
                  </a:lnTo>
                  <a:lnTo>
                    <a:pt x="1719" y="567"/>
                  </a:lnTo>
                  <a:lnTo>
                    <a:pt x="1721" y="562"/>
                  </a:lnTo>
                  <a:lnTo>
                    <a:pt x="1723" y="557"/>
                  </a:lnTo>
                  <a:lnTo>
                    <a:pt x="1889" y="104"/>
                  </a:lnTo>
                  <a:lnTo>
                    <a:pt x="1892" y="92"/>
                  </a:lnTo>
                  <a:lnTo>
                    <a:pt x="1897" y="81"/>
                  </a:lnTo>
                  <a:lnTo>
                    <a:pt x="1898" y="72"/>
                  </a:lnTo>
                  <a:lnTo>
                    <a:pt x="1899" y="66"/>
                  </a:lnTo>
                  <a:lnTo>
                    <a:pt x="1899" y="63"/>
                  </a:lnTo>
                  <a:lnTo>
                    <a:pt x="1898" y="58"/>
                  </a:lnTo>
                  <a:lnTo>
                    <a:pt x="1897" y="55"/>
                  </a:lnTo>
                  <a:lnTo>
                    <a:pt x="1894" y="53"/>
                  </a:lnTo>
                  <a:lnTo>
                    <a:pt x="1892" y="50"/>
                  </a:lnTo>
                  <a:lnTo>
                    <a:pt x="1889" y="49"/>
                  </a:lnTo>
                  <a:lnTo>
                    <a:pt x="1885" y="48"/>
                  </a:lnTo>
                  <a:lnTo>
                    <a:pt x="1881" y="47"/>
                  </a:lnTo>
                  <a:lnTo>
                    <a:pt x="1881" y="31"/>
                  </a:lnTo>
                  <a:lnTo>
                    <a:pt x="2194" y="31"/>
                  </a:lnTo>
                  <a:lnTo>
                    <a:pt x="2194" y="47"/>
                  </a:lnTo>
                  <a:lnTo>
                    <a:pt x="2190" y="48"/>
                  </a:lnTo>
                  <a:lnTo>
                    <a:pt x="2186" y="49"/>
                  </a:lnTo>
                  <a:lnTo>
                    <a:pt x="2183" y="50"/>
                  </a:lnTo>
                  <a:lnTo>
                    <a:pt x="2181" y="53"/>
                  </a:lnTo>
                  <a:lnTo>
                    <a:pt x="2179" y="55"/>
                  </a:lnTo>
                  <a:lnTo>
                    <a:pt x="2177" y="58"/>
                  </a:lnTo>
                  <a:lnTo>
                    <a:pt x="2176" y="63"/>
                  </a:lnTo>
                  <a:lnTo>
                    <a:pt x="2176" y="66"/>
                  </a:lnTo>
                  <a:lnTo>
                    <a:pt x="2177" y="72"/>
                  </a:lnTo>
                  <a:lnTo>
                    <a:pt x="2180" y="81"/>
                  </a:lnTo>
                  <a:lnTo>
                    <a:pt x="2183" y="92"/>
                  </a:lnTo>
                  <a:lnTo>
                    <a:pt x="2188" y="104"/>
                  </a:lnTo>
                  <a:lnTo>
                    <a:pt x="2389" y="609"/>
                  </a:lnTo>
                  <a:lnTo>
                    <a:pt x="2389" y="610"/>
                  </a:lnTo>
                  <a:lnTo>
                    <a:pt x="2389" y="611"/>
                  </a:lnTo>
                  <a:lnTo>
                    <a:pt x="2392" y="617"/>
                  </a:lnTo>
                  <a:lnTo>
                    <a:pt x="2394" y="622"/>
                  </a:lnTo>
                  <a:lnTo>
                    <a:pt x="2398" y="627"/>
                  </a:lnTo>
                  <a:lnTo>
                    <a:pt x="2401" y="631"/>
                  </a:lnTo>
                  <a:lnTo>
                    <a:pt x="2405" y="636"/>
                  </a:lnTo>
                  <a:lnTo>
                    <a:pt x="2410" y="639"/>
                  </a:lnTo>
                  <a:lnTo>
                    <a:pt x="2414" y="641"/>
                  </a:lnTo>
                  <a:lnTo>
                    <a:pt x="2419" y="644"/>
                  </a:lnTo>
                  <a:lnTo>
                    <a:pt x="2419" y="660"/>
                  </a:lnTo>
                  <a:lnTo>
                    <a:pt x="2189" y="660"/>
                  </a:lnTo>
                  <a:close/>
                  <a:moveTo>
                    <a:pt x="3130" y="511"/>
                  </a:moveTo>
                  <a:lnTo>
                    <a:pt x="3136" y="511"/>
                  </a:lnTo>
                  <a:lnTo>
                    <a:pt x="3143" y="510"/>
                  </a:lnTo>
                  <a:lnTo>
                    <a:pt x="3149" y="509"/>
                  </a:lnTo>
                  <a:lnTo>
                    <a:pt x="3152" y="506"/>
                  </a:lnTo>
                  <a:lnTo>
                    <a:pt x="3155" y="502"/>
                  </a:lnTo>
                  <a:lnTo>
                    <a:pt x="3159" y="498"/>
                  </a:lnTo>
                  <a:lnTo>
                    <a:pt x="3161" y="491"/>
                  </a:lnTo>
                  <a:lnTo>
                    <a:pt x="3163" y="482"/>
                  </a:lnTo>
                  <a:lnTo>
                    <a:pt x="3181" y="482"/>
                  </a:lnTo>
                  <a:lnTo>
                    <a:pt x="3181" y="691"/>
                  </a:lnTo>
                  <a:lnTo>
                    <a:pt x="3163" y="691"/>
                  </a:lnTo>
                  <a:lnTo>
                    <a:pt x="3161" y="682"/>
                  </a:lnTo>
                  <a:lnTo>
                    <a:pt x="3159" y="675"/>
                  </a:lnTo>
                  <a:lnTo>
                    <a:pt x="3155" y="669"/>
                  </a:lnTo>
                  <a:lnTo>
                    <a:pt x="3152" y="666"/>
                  </a:lnTo>
                  <a:lnTo>
                    <a:pt x="3149" y="664"/>
                  </a:lnTo>
                  <a:lnTo>
                    <a:pt x="3143" y="661"/>
                  </a:lnTo>
                  <a:lnTo>
                    <a:pt x="3138" y="660"/>
                  </a:lnTo>
                  <a:lnTo>
                    <a:pt x="3130" y="660"/>
                  </a:lnTo>
                  <a:lnTo>
                    <a:pt x="2533" y="660"/>
                  </a:lnTo>
                  <a:lnTo>
                    <a:pt x="2533" y="644"/>
                  </a:lnTo>
                  <a:lnTo>
                    <a:pt x="2542" y="641"/>
                  </a:lnTo>
                  <a:lnTo>
                    <a:pt x="2549" y="639"/>
                  </a:lnTo>
                  <a:lnTo>
                    <a:pt x="2554" y="636"/>
                  </a:lnTo>
                  <a:lnTo>
                    <a:pt x="2558" y="633"/>
                  </a:lnTo>
                  <a:lnTo>
                    <a:pt x="2560" y="629"/>
                  </a:lnTo>
                  <a:lnTo>
                    <a:pt x="2561" y="623"/>
                  </a:lnTo>
                  <a:lnTo>
                    <a:pt x="2563" y="617"/>
                  </a:lnTo>
                  <a:lnTo>
                    <a:pt x="2564" y="609"/>
                  </a:lnTo>
                  <a:lnTo>
                    <a:pt x="2564" y="83"/>
                  </a:lnTo>
                  <a:lnTo>
                    <a:pt x="2563" y="74"/>
                  </a:lnTo>
                  <a:lnTo>
                    <a:pt x="2561" y="67"/>
                  </a:lnTo>
                  <a:lnTo>
                    <a:pt x="2560" y="63"/>
                  </a:lnTo>
                  <a:lnTo>
                    <a:pt x="2558" y="58"/>
                  </a:lnTo>
                  <a:lnTo>
                    <a:pt x="2554" y="55"/>
                  </a:lnTo>
                  <a:lnTo>
                    <a:pt x="2549" y="53"/>
                  </a:lnTo>
                  <a:lnTo>
                    <a:pt x="2542" y="49"/>
                  </a:lnTo>
                  <a:lnTo>
                    <a:pt x="2533" y="47"/>
                  </a:lnTo>
                  <a:lnTo>
                    <a:pt x="2533" y="31"/>
                  </a:lnTo>
                  <a:lnTo>
                    <a:pt x="2773" y="31"/>
                  </a:lnTo>
                  <a:lnTo>
                    <a:pt x="2773" y="47"/>
                  </a:lnTo>
                  <a:lnTo>
                    <a:pt x="2764" y="49"/>
                  </a:lnTo>
                  <a:lnTo>
                    <a:pt x="2756" y="53"/>
                  </a:lnTo>
                  <a:lnTo>
                    <a:pt x="2751" y="56"/>
                  </a:lnTo>
                  <a:lnTo>
                    <a:pt x="2747" y="58"/>
                  </a:lnTo>
                  <a:lnTo>
                    <a:pt x="2744" y="63"/>
                  </a:lnTo>
                  <a:lnTo>
                    <a:pt x="2742" y="68"/>
                  </a:lnTo>
                  <a:lnTo>
                    <a:pt x="2741" y="75"/>
                  </a:lnTo>
                  <a:lnTo>
                    <a:pt x="2741" y="83"/>
                  </a:lnTo>
                  <a:lnTo>
                    <a:pt x="2741" y="511"/>
                  </a:lnTo>
                  <a:lnTo>
                    <a:pt x="3130" y="511"/>
                  </a:lnTo>
                  <a:close/>
                  <a:moveTo>
                    <a:pt x="3614" y="185"/>
                  </a:moveTo>
                  <a:lnTo>
                    <a:pt x="3614" y="609"/>
                  </a:lnTo>
                  <a:lnTo>
                    <a:pt x="3614" y="617"/>
                  </a:lnTo>
                  <a:lnTo>
                    <a:pt x="3615" y="623"/>
                  </a:lnTo>
                  <a:lnTo>
                    <a:pt x="3617" y="629"/>
                  </a:lnTo>
                  <a:lnTo>
                    <a:pt x="3619" y="633"/>
                  </a:lnTo>
                  <a:lnTo>
                    <a:pt x="3623" y="636"/>
                  </a:lnTo>
                  <a:lnTo>
                    <a:pt x="3628" y="639"/>
                  </a:lnTo>
                  <a:lnTo>
                    <a:pt x="3635" y="641"/>
                  </a:lnTo>
                  <a:lnTo>
                    <a:pt x="3643" y="644"/>
                  </a:lnTo>
                  <a:lnTo>
                    <a:pt x="3643" y="660"/>
                  </a:lnTo>
                  <a:lnTo>
                    <a:pt x="3405" y="660"/>
                  </a:lnTo>
                  <a:lnTo>
                    <a:pt x="3405" y="644"/>
                  </a:lnTo>
                  <a:lnTo>
                    <a:pt x="3413" y="641"/>
                  </a:lnTo>
                  <a:lnTo>
                    <a:pt x="3420" y="638"/>
                  </a:lnTo>
                  <a:lnTo>
                    <a:pt x="3425" y="636"/>
                  </a:lnTo>
                  <a:lnTo>
                    <a:pt x="3428" y="631"/>
                  </a:lnTo>
                  <a:lnTo>
                    <a:pt x="3431" y="628"/>
                  </a:lnTo>
                  <a:lnTo>
                    <a:pt x="3433" y="622"/>
                  </a:lnTo>
                  <a:lnTo>
                    <a:pt x="3434" y="617"/>
                  </a:lnTo>
                  <a:lnTo>
                    <a:pt x="3434" y="609"/>
                  </a:lnTo>
                  <a:lnTo>
                    <a:pt x="3434" y="185"/>
                  </a:lnTo>
                  <a:lnTo>
                    <a:pt x="3246" y="185"/>
                  </a:lnTo>
                  <a:lnTo>
                    <a:pt x="3239" y="186"/>
                  </a:lnTo>
                  <a:lnTo>
                    <a:pt x="3232" y="187"/>
                  </a:lnTo>
                  <a:lnTo>
                    <a:pt x="3226" y="188"/>
                  </a:lnTo>
                  <a:lnTo>
                    <a:pt x="3223" y="192"/>
                  </a:lnTo>
                  <a:lnTo>
                    <a:pt x="3219" y="195"/>
                  </a:lnTo>
                  <a:lnTo>
                    <a:pt x="3216" y="201"/>
                  </a:lnTo>
                  <a:lnTo>
                    <a:pt x="3213" y="207"/>
                  </a:lnTo>
                  <a:lnTo>
                    <a:pt x="3211" y="215"/>
                  </a:lnTo>
                  <a:lnTo>
                    <a:pt x="3195" y="215"/>
                  </a:lnTo>
                  <a:lnTo>
                    <a:pt x="3195" y="0"/>
                  </a:lnTo>
                  <a:lnTo>
                    <a:pt x="3211" y="0"/>
                  </a:lnTo>
                  <a:lnTo>
                    <a:pt x="3213" y="9"/>
                  </a:lnTo>
                  <a:lnTo>
                    <a:pt x="3216" y="16"/>
                  </a:lnTo>
                  <a:lnTo>
                    <a:pt x="3218" y="21"/>
                  </a:lnTo>
                  <a:lnTo>
                    <a:pt x="3222" y="25"/>
                  </a:lnTo>
                  <a:lnTo>
                    <a:pt x="3226" y="28"/>
                  </a:lnTo>
                  <a:lnTo>
                    <a:pt x="3232" y="29"/>
                  </a:lnTo>
                  <a:lnTo>
                    <a:pt x="3237" y="30"/>
                  </a:lnTo>
                  <a:lnTo>
                    <a:pt x="3246" y="31"/>
                  </a:lnTo>
                  <a:lnTo>
                    <a:pt x="3801" y="31"/>
                  </a:lnTo>
                  <a:lnTo>
                    <a:pt x="3809" y="30"/>
                  </a:lnTo>
                  <a:lnTo>
                    <a:pt x="3816" y="29"/>
                  </a:lnTo>
                  <a:lnTo>
                    <a:pt x="3821" y="28"/>
                  </a:lnTo>
                  <a:lnTo>
                    <a:pt x="3826" y="25"/>
                  </a:lnTo>
                  <a:lnTo>
                    <a:pt x="3828" y="21"/>
                  </a:lnTo>
                  <a:lnTo>
                    <a:pt x="3831" y="16"/>
                  </a:lnTo>
                  <a:lnTo>
                    <a:pt x="3834" y="9"/>
                  </a:lnTo>
                  <a:lnTo>
                    <a:pt x="3836" y="0"/>
                  </a:lnTo>
                  <a:lnTo>
                    <a:pt x="3853" y="0"/>
                  </a:lnTo>
                  <a:lnTo>
                    <a:pt x="3853" y="215"/>
                  </a:lnTo>
                  <a:lnTo>
                    <a:pt x="3836" y="215"/>
                  </a:lnTo>
                  <a:lnTo>
                    <a:pt x="3834" y="207"/>
                  </a:lnTo>
                  <a:lnTo>
                    <a:pt x="3831" y="201"/>
                  </a:lnTo>
                  <a:lnTo>
                    <a:pt x="3828" y="195"/>
                  </a:lnTo>
                  <a:lnTo>
                    <a:pt x="3825" y="192"/>
                  </a:lnTo>
                  <a:lnTo>
                    <a:pt x="3821" y="188"/>
                  </a:lnTo>
                  <a:lnTo>
                    <a:pt x="3816" y="187"/>
                  </a:lnTo>
                  <a:lnTo>
                    <a:pt x="3809" y="186"/>
                  </a:lnTo>
                  <a:lnTo>
                    <a:pt x="3801" y="185"/>
                  </a:lnTo>
                  <a:lnTo>
                    <a:pt x="3614" y="185"/>
                  </a:lnTo>
                  <a:close/>
                  <a:moveTo>
                    <a:pt x="4019" y="660"/>
                  </a:moveTo>
                  <a:lnTo>
                    <a:pt x="4019" y="644"/>
                  </a:lnTo>
                  <a:lnTo>
                    <a:pt x="4028" y="641"/>
                  </a:lnTo>
                  <a:lnTo>
                    <a:pt x="4035" y="639"/>
                  </a:lnTo>
                  <a:lnTo>
                    <a:pt x="4040" y="636"/>
                  </a:lnTo>
                  <a:lnTo>
                    <a:pt x="4044" y="633"/>
                  </a:lnTo>
                  <a:lnTo>
                    <a:pt x="4046" y="629"/>
                  </a:lnTo>
                  <a:lnTo>
                    <a:pt x="4048" y="623"/>
                  </a:lnTo>
                  <a:lnTo>
                    <a:pt x="4049" y="617"/>
                  </a:lnTo>
                  <a:lnTo>
                    <a:pt x="4049" y="609"/>
                  </a:lnTo>
                  <a:lnTo>
                    <a:pt x="4049" y="83"/>
                  </a:lnTo>
                  <a:lnTo>
                    <a:pt x="4049" y="74"/>
                  </a:lnTo>
                  <a:lnTo>
                    <a:pt x="4048" y="67"/>
                  </a:lnTo>
                  <a:lnTo>
                    <a:pt x="4046" y="63"/>
                  </a:lnTo>
                  <a:lnTo>
                    <a:pt x="4044" y="58"/>
                  </a:lnTo>
                  <a:lnTo>
                    <a:pt x="4040" y="55"/>
                  </a:lnTo>
                  <a:lnTo>
                    <a:pt x="4035" y="53"/>
                  </a:lnTo>
                  <a:lnTo>
                    <a:pt x="4028" y="49"/>
                  </a:lnTo>
                  <a:lnTo>
                    <a:pt x="4019" y="47"/>
                  </a:lnTo>
                  <a:lnTo>
                    <a:pt x="4019" y="31"/>
                  </a:lnTo>
                  <a:lnTo>
                    <a:pt x="4258" y="31"/>
                  </a:lnTo>
                  <a:lnTo>
                    <a:pt x="4258" y="47"/>
                  </a:lnTo>
                  <a:lnTo>
                    <a:pt x="4249" y="49"/>
                  </a:lnTo>
                  <a:lnTo>
                    <a:pt x="4242" y="53"/>
                  </a:lnTo>
                  <a:lnTo>
                    <a:pt x="4237" y="56"/>
                  </a:lnTo>
                  <a:lnTo>
                    <a:pt x="4232" y="58"/>
                  </a:lnTo>
                  <a:lnTo>
                    <a:pt x="4230" y="63"/>
                  </a:lnTo>
                  <a:lnTo>
                    <a:pt x="4228" y="68"/>
                  </a:lnTo>
                  <a:lnTo>
                    <a:pt x="4227" y="75"/>
                  </a:lnTo>
                  <a:lnTo>
                    <a:pt x="4227" y="83"/>
                  </a:lnTo>
                  <a:lnTo>
                    <a:pt x="4227" y="258"/>
                  </a:lnTo>
                  <a:lnTo>
                    <a:pt x="4539" y="258"/>
                  </a:lnTo>
                  <a:lnTo>
                    <a:pt x="4539" y="83"/>
                  </a:lnTo>
                  <a:lnTo>
                    <a:pt x="4539" y="75"/>
                  </a:lnTo>
                  <a:lnTo>
                    <a:pt x="4538" y="68"/>
                  </a:lnTo>
                  <a:lnTo>
                    <a:pt x="4536" y="63"/>
                  </a:lnTo>
                  <a:lnTo>
                    <a:pt x="4533" y="58"/>
                  </a:lnTo>
                  <a:lnTo>
                    <a:pt x="4529" y="56"/>
                  </a:lnTo>
                  <a:lnTo>
                    <a:pt x="4523" y="53"/>
                  </a:lnTo>
                  <a:lnTo>
                    <a:pt x="4516" y="49"/>
                  </a:lnTo>
                  <a:lnTo>
                    <a:pt x="4508" y="47"/>
                  </a:lnTo>
                  <a:lnTo>
                    <a:pt x="4508" y="31"/>
                  </a:lnTo>
                  <a:lnTo>
                    <a:pt x="4747" y="31"/>
                  </a:lnTo>
                  <a:lnTo>
                    <a:pt x="4747" y="47"/>
                  </a:lnTo>
                  <a:lnTo>
                    <a:pt x="4739" y="49"/>
                  </a:lnTo>
                  <a:lnTo>
                    <a:pt x="4732" y="53"/>
                  </a:lnTo>
                  <a:lnTo>
                    <a:pt x="4726" y="55"/>
                  </a:lnTo>
                  <a:lnTo>
                    <a:pt x="4723" y="58"/>
                  </a:lnTo>
                  <a:lnTo>
                    <a:pt x="4720" y="63"/>
                  </a:lnTo>
                  <a:lnTo>
                    <a:pt x="4719" y="67"/>
                  </a:lnTo>
                  <a:lnTo>
                    <a:pt x="4717" y="74"/>
                  </a:lnTo>
                  <a:lnTo>
                    <a:pt x="4717" y="83"/>
                  </a:lnTo>
                  <a:lnTo>
                    <a:pt x="4717" y="609"/>
                  </a:lnTo>
                  <a:lnTo>
                    <a:pt x="4717" y="617"/>
                  </a:lnTo>
                  <a:lnTo>
                    <a:pt x="4719" y="623"/>
                  </a:lnTo>
                  <a:lnTo>
                    <a:pt x="4720" y="629"/>
                  </a:lnTo>
                  <a:lnTo>
                    <a:pt x="4723" y="633"/>
                  </a:lnTo>
                  <a:lnTo>
                    <a:pt x="4726" y="636"/>
                  </a:lnTo>
                  <a:lnTo>
                    <a:pt x="4732" y="639"/>
                  </a:lnTo>
                  <a:lnTo>
                    <a:pt x="4739" y="641"/>
                  </a:lnTo>
                  <a:lnTo>
                    <a:pt x="4747" y="644"/>
                  </a:lnTo>
                  <a:lnTo>
                    <a:pt x="4747" y="660"/>
                  </a:lnTo>
                  <a:lnTo>
                    <a:pt x="4508" y="660"/>
                  </a:lnTo>
                  <a:lnTo>
                    <a:pt x="4508" y="644"/>
                  </a:lnTo>
                  <a:lnTo>
                    <a:pt x="4516" y="641"/>
                  </a:lnTo>
                  <a:lnTo>
                    <a:pt x="4523" y="638"/>
                  </a:lnTo>
                  <a:lnTo>
                    <a:pt x="4529" y="636"/>
                  </a:lnTo>
                  <a:lnTo>
                    <a:pt x="4533" y="632"/>
                  </a:lnTo>
                  <a:lnTo>
                    <a:pt x="4536" y="628"/>
                  </a:lnTo>
                  <a:lnTo>
                    <a:pt x="4538" y="623"/>
                  </a:lnTo>
                  <a:lnTo>
                    <a:pt x="4539" y="617"/>
                  </a:lnTo>
                  <a:lnTo>
                    <a:pt x="4539" y="609"/>
                  </a:lnTo>
                  <a:lnTo>
                    <a:pt x="4539" y="402"/>
                  </a:lnTo>
                  <a:lnTo>
                    <a:pt x="4227" y="402"/>
                  </a:lnTo>
                  <a:lnTo>
                    <a:pt x="4227" y="609"/>
                  </a:lnTo>
                  <a:lnTo>
                    <a:pt x="4227" y="617"/>
                  </a:lnTo>
                  <a:lnTo>
                    <a:pt x="4228" y="623"/>
                  </a:lnTo>
                  <a:lnTo>
                    <a:pt x="4230" y="628"/>
                  </a:lnTo>
                  <a:lnTo>
                    <a:pt x="4232" y="632"/>
                  </a:lnTo>
                  <a:lnTo>
                    <a:pt x="4237" y="636"/>
                  </a:lnTo>
                  <a:lnTo>
                    <a:pt x="4242" y="638"/>
                  </a:lnTo>
                  <a:lnTo>
                    <a:pt x="4249" y="641"/>
                  </a:lnTo>
                  <a:lnTo>
                    <a:pt x="4258" y="644"/>
                  </a:lnTo>
                  <a:lnTo>
                    <a:pt x="4258" y="660"/>
                  </a:lnTo>
                  <a:lnTo>
                    <a:pt x="4019" y="660"/>
                  </a:lnTo>
                  <a:close/>
                  <a:moveTo>
                    <a:pt x="4934" y="660"/>
                  </a:moveTo>
                  <a:lnTo>
                    <a:pt x="4934" y="644"/>
                  </a:lnTo>
                  <a:lnTo>
                    <a:pt x="4943" y="641"/>
                  </a:lnTo>
                  <a:lnTo>
                    <a:pt x="4950" y="639"/>
                  </a:lnTo>
                  <a:lnTo>
                    <a:pt x="4956" y="636"/>
                  </a:lnTo>
                  <a:lnTo>
                    <a:pt x="4959" y="633"/>
                  </a:lnTo>
                  <a:lnTo>
                    <a:pt x="4961" y="629"/>
                  </a:lnTo>
                  <a:lnTo>
                    <a:pt x="4963" y="623"/>
                  </a:lnTo>
                  <a:lnTo>
                    <a:pt x="4965" y="617"/>
                  </a:lnTo>
                  <a:lnTo>
                    <a:pt x="4965" y="609"/>
                  </a:lnTo>
                  <a:lnTo>
                    <a:pt x="4965" y="83"/>
                  </a:lnTo>
                  <a:lnTo>
                    <a:pt x="4965" y="74"/>
                  </a:lnTo>
                  <a:lnTo>
                    <a:pt x="4963" y="67"/>
                  </a:lnTo>
                  <a:lnTo>
                    <a:pt x="4961" y="63"/>
                  </a:lnTo>
                  <a:lnTo>
                    <a:pt x="4959" y="58"/>
                  </a:lnTo>
                  <a:lnTo>
                    <a:pt x="4956" y="55"/>
                  </a:lnTo>
                  <a:lnTo>
                    <a:pt x="4950" y="53"/>
                  </a:lnTo>
                  <a:lnTo>
                    <a:pt x="4943" y="49"/>
                  </a:lnTo>
                  <a:lnTo>
                    <a:pt x="4934" y="47"/>
                  </a:lnTo>
                  <a:lnTo>
                    <a:pt x="4934" y="31"/>
                  </a:lnTo>
                  <a:lnTo>
                    <a:pt x="5173" y="31"/>
                  </a:lnTo>
                  <a:lnTo>
                    <a:pt x="5173" y="47"/>
                  </a:lnTo>
                  <a:lnTo>
                    <a:pt x="5164" y="49"/>
                  </a:lnTo>
                  <a:lnTo>
                    <a:pt x="5158" y="53"/>
                  </a:lnTo>
                  <a:lnTo>
                    <a:pt x="5152" y="56"/>
                  </a:lnTo>
                  <a:lnTo>
                    <a:pt x="5148" y="58"/>
                  </a:lnTo>
                  <a:lnTo>
                    <a:pt x="5145" y="63"/>
                  </a:lnTo>
                  <a:lnTo>
                    <a:pt x="5144" y="68"/>
                  </a:lnTo>
                  <a:lnTo>
                    <a:pt x="5143" y="75"/>
                  </a:lnTo>
                  <a:lnTo>
                    <a:pt x="5142" y="83"/>
                  </a:lnTo>
                  <a:lnTo>
                    <a:pt x="5142" y="609"/>
                  </a:lnTo>
                  <a:lnTo>
                    <a:pt x="5143" y="617"/>
                  </a:lnTo>
                  <a:lnTo>
                    <a:pt x="5144" y="623"/>
                  </a:lnTo>
                  <a:lnTo>
                    <a:pt x="5145" y="628"/>
                  </a:lnTo>
                  <a:lnTo>
                    <a:pt x="5148" y="632"/>
                  </a:lnTo>
                  <a:lnTo>
                    <a:pt x="5152" y="636"/>
                  </a:lnTo>
                  <a:lnTo>
                    <a:pt x="5158" y="638"/>
                  </a:lnTo>
                  <a:lnTo>
                    <a:pt x="5164" y="641"/>
                  </a:lnTo>
                  <a:lnTo>
                    <a:pt x="5173" y="644"/>
                  </a:lnTo>
                  <a:lnTo>
                    <a:pt x="5173" y="660"/>
                  </a:lnTo>
                  <a:lnTo>
                    <a:pt x="4934" y="660"/>
                  </a:lnTo>
                  <a:close/>
                  <a:moveTo>
                    <a:pt x="5930" y="511"/>
                  </a:moveTo>
                  <a:lnTo>
                    <a:pt x="5938" y="511"/>
                  </a:lnTo>
                  <a:lnTo>
                    <a:pt x="5945" y="510"/>
                  </a:lnTo>
                  <a:lnTo>
                    <a:pt x="5949" y="509"/>
                  </a:lnTo>
                  <a:lnTo>
                    <a:pt x="5954" y="506"/>
                  </a:lnTo>
                  <a:lnTo>
                    <a:pt x="5957" y="502"/>
                  </a:lnTo>
                  <a:lnTo>
                    <a:pt x="5959" y="498"/>
                  </a:lnTo>
                  <a:lnTo>
                    <a:pt x="5963" y="491"/>
                  </a:lnTo>
                  <a:lnTo>
                    <a:pt x="5965" y="482"/>
                  </a:lnTo>
                  <a:lnTo>
                    <a:pt x="5982" y="482"/>
                  </a:lnTo>
                  <a:lnTo>
                    <a:pt x="5982" y="691"/>
                  </a:lnTo>
                  <a:lnTo>
                    <a:pt x="5965" y="691"/>
                  </a:lnTo>
                  <a:lnTo>
                    <a:pt x="5963" y="682"/>
                  </a:lnTo>
                  <a:lnTo>
                    <a:pt x="5959" y="675"/>
                  </a:lnTo>
                  <a:lnTo>
                    <a:pt x="5957" y="669"/>
                  </a:lnTo>
                  <a:lnTo>
                    <a:pt x="5954" y="666"/>
                  </a:lnTo>
                  <a:lnTo>
                    <a:pt x="5950" y="664"/>
                  </a:lnTo>
                  <a:lnTo>
                    <a:pt x="5945" y="661"/>
                  </a:lnTo>
                  <a:lnTo>
                    <a:pt x="5938" y="660"/>
                  </a:lnTo>
                  <a:lnTo>
                    <a:pt x="5930" y="660"/>
                  </a:lnTo>
                  <a:lnTo>
                    <a:pt x="5361" y="660"/>
                  </a:lnTo>
                  <a:lnTo>
                    <a:pt x="5361" y="644"/>
                  </a:lnTo>
                  <a:lnTo>
                    <a:pt x="5370" y="641"/>
                  </a:lnTo>
                  <a:lnTo>
                    <a:pt x="5377" y="639"/>
                  </a:lnTo>
                  <a:lnTo>
                    <a:pt x="5382" y="636"/>
                  </a:lnTo>
                  <a:lnTo>
                    <a:pt x="5386" y="633"/>
                  </a:lnTo>
                  <a:lnTo>
                    <a:pt x="5388" y="629"/>
                  </a:lnTo>
                  <a:lnTo>
                    <a:pt x="5389" y="623"/>
                  </a:lnTo>
                  <a:lnTo>
                    <a:pt x="5390" y="617"/>
                  </a:lnTo>
                  <a:lnTo>
                    <a:pt x="5391" y="609"/>
                  </a:lnTo>
                  <a:lnTo>
                    <a:pt x="5391" y="83"/>
                  </a:lnTo>
                  <a:lnTo>
                    <a:pt x="5390" y="74"/>
                  </a:lnTo>
                  <a:lnTo>
                    <a:pt x="5389" y="67"/>
                  </a:lnTo>
                  <a:lnTo>
                    <a:pt x="5388" y="63"/>
                  </a:lnTo>
                  <a:lnTo>
                    <a:pt x="5386" y="58"/>
                  </a:lnTo>
                  <a:lnTo>
                    <a:pt x="5382" y="55"/>
                  </a:lnTo>
                  <a:lnTo>
                    <a:pt x="5377" y="53"/>
                  </a:lnTo>
                  <a:lnTo>
                    <a:pt x="5370" y="49"/>
                  </a:lnTo>
                  <a:lnTo>
                    <a:pt x="5361" y="47"/>
                  </a:lnTo>
                  <a:lnTo>
                    <a:pt x="5361" y="31"/>
                  </a:lnTo>
                  <a:lnTo>
                    <a:pt x="5931" y="31"/>
                  </a:lnTo>
                  <a:lnTo>
                    <a:pt x="5939" y="30"/>
                  </a:lnTo>
                  <a:lnTo>
                    <a:pt x="5946" y="29"/>
                  </a:lnTo>
                  <a:lnTo>
                    <a:pt x="5950" y="27"/>
                  </a:lnTo>
                  <a:lnTo>
                    <a:pt x="5955" y="25"/>
                  </a:lnTo>
                  <a:lnTo>
                    <a:pt x="5958" y="21"/>
                  </a:lnTo>
                  <a:lnTo>
                    <a:pt x="5961" y="16"/>
                  </a:lnTo>
                  <a:lnTo>
                    <a:pt x="5963" y="9"/>
                  </a:lnTo>
                  <a:lnTo>
                    <a:pt x="5965" y="0"/>
                  </a:lnTo>
                  <a:lnTo>
                    <a:pt x="5982" y="0"/>
                  </a:lnTo>
                  <a:lnTo>
                    <a:pt x="5982" y="210"/>
                  </a:lnTo>
                  <a:lnTo>
                    <a:pt x="5965" y="210"/>
                  </a:lnTo>
                  <a:lnTo>
                    <a:pt x="5963" y="201"/>
                  </a:lnTo>
                  <a:lnTo>
                    <a:pt x="5961" y="194"/>
                  </a:lnTo>
                  <a:lnTo>
                    <a:pt x="5957" y="188"/>
                  </a:lnTo>
                  <a:lnTo>
                    <a:pt x="5954" y="185"/>
                  </a:lnTo>
                  <a:lnTo>
                    <a:pt x="5950" y="183"/>
                  </a:lnTo>
                  <a:lnTo>
                    <a:pt x="5945" y="180"/>
                  </a:lnTo>
                  <a:lnTo>
                    <a:pt x="5939" y="180"/>
                  </a:lnTo>
                  <a:lnTo>
                    <a:pt x="5931" y="179"/>
                  </a:lnTo>
                  <a:lnTo>
                    <a:pt x="5569" y="179"/>
                  </a:lnTo>
                  <a:lnTo>
                    <a:pt x="5569" y="268"/>
                  </a:lnTo>
                  <a:lnTo>
                    <a:pt x="5787" y="268"/>
                  </a:lnTo>
                  <a:lnTo>
                    <a:pt x="5794" y="268"/>
                  </a:lnTo>
                  <a:lnTo>
                    <a:pt x="5800" y="267"/>
                  </a:lnTo>
                  <a:lnTo>
                    <a:pt x="5806" y="265"/>
                  </a:lnTo>
                  <a:lnTo>
                    <a:pt x="5810" y="262"/>
                  </a:lnTo>
                  <a:lnTo>
                    <a:pt x="5813" y="259"/>
                  </a:lnTo>
                  <a:lnTo>
                    <a:pt x="5817" y="253"/>
                  </a:lnTo>
                  <a:lnTo>
                    <a:pt x="5819" y="247"/>
                  </a:lnTo>
                  <a:lnTo>
                    <a:pt x="5822" y="239"/>
                  </a:lnTo>
                  <a:lnTo>
                    <a:pt x="5839" y="239"/>
                  </a:lnTo>
                  <a:lnTo>
                    <a:pt x="5839" y="434"/>
                  </a:lnTo>
                  <a:lnTo>
                    <a:pt x="5821" y="434"/>
                  </a:lnTo>
                  <a:lnTo>
                    <a:pt x="5819" y="425"/>
                  </a:lnTo>
                  <a:lnTo>
                    <a:pt x="5816" y="418"/>
                  </a:lnTo>
                  <a:lnTo>
                    <a:pt x="5813" y="414"/>
                  </a:lnTo>
                  <a:lnTo>
                    <a:pt x="5810" y="409"/>
                  </a:lnTo>
                  <a:lnTo>
                    <a:pt x="5806" y="407"/>
                  </a:lnTo>
                  <a:lnTo>
                    <a:pt x="5800" y="406"/>
                  </a:lnTo>
                  <a:lnTo>
                    <a:pt x="5793" y="405"/>
                  </a:lnTo>
                  <a:lnTo>
                    <a:pt x="5787" y="404"/>
                  </a:lnTo>
                  <a:lnTo>
                    <a:pt x="5569" y="404"/>
                  </a:lnTo>
                  <a:lnTo>
                    <a:pt x="5569" y="511"/>
                  </a:lnTo>
                  <a:lnTo>
                    <a:pt x="5930" y="511"/>
                  </a:lnTo>
                  <a:close/>
                  <a:moveTo>
                    <a:pt x="6186" y="660"/>
                  </a:moveTo>
                  <a:lnTo>
                    <a:pt x="6186" y="644"/>
                  </a:lnTo>
                  <a:lnTo>
                    <a:pt x="6194" y="641"/>
                  </a:lnTo>
                  <a:lnTo>
                    <a:pt x="6202" y="639"/>
                  </a:lnTo>
                  <a:lnTo>
                    <a:pt x="6207" y="636"/>
                  </a:lnTo>
                  <a:lnTo>
                    <a:pt x="6210" y="633"/>
                  </a:lnTo>
                  <a:lnTo>
                    <a:pt x="6213" y="629"/>
                  </a:lnTo>
                  <a:lnTo>
                    <a:pt x="6214" y="623"/>
                  </a:lnTo>
                  <a:lnTo>
                    <a:pt x="6215" y="617"/>
                  </a:lnTo>
                  <a:lnTo>
                    <a:pt x="6215" y="609"/>
                  </a:lnTo>
                  <a:lnTo>
                    <a:pt x="6215" y="83"/>
                  </a:lnTo>
                  <a:lnTo>
                    <a:pt x="6215" y="74"/>
                  </a:lnTo>
                  <a:lnTo>
                    <a:pt x="6214" y="67"/>
                  </a:lnTo>
                  <a:lnTo>
                    <a:pt x="6213" y="63"/>
                  </a:lnTo>
                  <a:lnTo>
                    <a:pt x="6210" y="58"/>
                  </a:lnTo>
                  <a:lnTo>
                    <a:pt x="6207" y="55"/>
                  </a:lnTo>
                  <a:lnTo>
                    <a:pt x="6202" y="53"/>
                  </a:lnTo>
                  <a:lnTo>
                    <a:pt x="6194" y="49"/>
                  </a:lnTo>
                  <a:lnTo>
                    <a:pt x="6186" y="47"/>
                  </a:lnTo>
                  <a:lnTo>
                    <a:pt x="6186" y="31"/>
                  </a:lnTo>
                  <a:lnTo>
                    <a:pt x="6624" y="31"/>
                  </a:lnTo>
                  <a:lnTo>
                    <a:pt x="6652" y="31"/>
                  </a:lnTo>
                  <a:lnTo>
                    <a:pt x="6679" y="34"/>
                  </a:lnTo>
                  <a:lnTo>
                    <a:pt x="6705" y="38"/>
                  </a:lnTo>
                  <a:lnTo>
                    <a:pt x="6729" y="44"/>
                  </a:lnTo>
                  <a:lnTo>
                    <a:pt x="6751" y="52"/>
                  </a:lnTo>
                  <a:lnTo>
                    <a:pt x="6771" y="61"/>
                  </a:lnTo>
                  <a:lnTo>
                    <a:pt x="6781" y="65"/>
                  </a:lnTo>
                  <a:lnTo>
                    <a:pt x="6790" y="71"/>
                  </a:lnTo>
                  <a:lnTo>
                    <a:pt x="6799" y="77"/>
                  </a:lnTo>
                  <a:lnTo>
                    <a:pt x="6807" y="83"/>
                  </a:lnTo>
                  <a:lnTo>
                    <a:pt x="6815" y="90"/>
                  </a:lnTo>
                  <a:lnTo>
                    <a:pt x="6823" y="98"/>
                  </a:lnTo>
                  <a:lnTo>
                    <a:pt x="6830" y="104"/>
                  </a:lnTo>
                  <a:lnTo>
                    <a:pt x="6836" y="112"/>
                  </a:lnTo>
                  <a:lnTo>
                    <a:pt x="6842" y="120"/>
                  </a:lnTo>
                  <a:lnTo>
                    <a:pt x="6848" y="129"/>
                  </a:lnTo>
                  <a:lnTo>
                    <a:pt x="6852" y="137"/>
                  </a:lnTo>
                  <a:lnTo>
                    <a:pt x="6857" y="146"/>
                  </a:lnTo>
                  <a:lnTo>
                    <a:pt x="6860" y="156"/>
                  </a:lnTo>
                  <a:lnTo>
                    <a:pt x="6863" y="165"/>
                  </a:lnTo>
                  <a:lnTo>
                    <a:pt x="6867" y="175"/>
                  </a:lnTo>
                  <a:lnTo>
                    <a:pt x="6869" y="186"/>
                  </a:lnTo>
                  <a:lnTo>
                    <a:pt x="6871" y="207"/>
                  </a:lnTo>
                  <a:lnTo>
                    <a:pt x="6872" y="230"/>
                  </a:lnTo>
                  <a:lnTo>
                    <a:pt x="6872" y="248"/>
                  </a:lnTo>
                  <a:lnTo>
                    <a:pt x="6870" y="266"/>
                  </a:lnTo>
                  <a:lnTo>
                    <a:pt x="6867" y="281"/>
                  </a:lnTo>
                  <a:lnTo>
                    <a:pt x="6862" y="297"/>
                  </a:lnTo>
                  <a:lnTo>
                    <a:pt x="6857" y="313"/>
                  </a:lnTo>
                  <a:lnTo>
                    <a:pt x="6850" y="326"/>
                  </a:lnTo>
                  <a:lnTo>
                    <a:pt x="6842" y="340"/>
                  </a:lnTo>
                  <a:lnTo>
                    <a:pt x="6832" y="353"/>
                  </a:lnTo>
                  <a:lnTo>
                    <a:pt x="6821" y="364"/>
                  </a:lnTo>
                  <a:lnTo>
                    <a:pt x="6810" y="376"/>
                  </a:lnTo>
                  <a:lnTo>
                    <a:pt x="6796" y="387"/>
                  </a:lnTo>
                  <a:lnTo>
                    <a:pt x="6781" y="396"/>
                  </a:lnTo>
                  <a:lnTo>
                    <a:pt x="6766" y="405"/>
                  </a:lnTo>
                  <a:lnTo>
                    <a:pt x="6749" y="413"/>
                  </a:lnTo>
                  <a:lnTo>
                    <a:pt x="6731" y="419"/>
                  </a:lnTo>
                  <a:lnTo>
                    <a:pt x="6711" y="426"/>
                  </a:lnTo>
                  <a:lnTo>
                    <a:pt x="6805" y="573"/>
                  </a:lnTo>
                  <a:lnTo>
                    <a:pt x="6816" y="591"/>
                  </a:lnTo>
                  <a:lnTo>
                    <a:pt x="6826" y="607"/>
                  </a:lnTo>
                  <a:lnTo>
                    <a:pt x="6836" y="618"/>
                  </a:lnTo>
                  <a:lnTo>
                    <a:pt x="6844" y="627"/>
                  </a:lnTo>
                  <a:lnTo>
                    <a:pt x="6852" y="632"/>
                  </a:lnTo>
                  <a:lnTo>
                    <a:pt x="6860" y="637"/>
                  </a:lnTo>
                  <a:lnTo>
                    <a:pt x="6869" y="641"/>
                  </a:lnTo>
                  <a:lnTo>
                    <a:pt x="6877" y="644"/>
                  </a:lnTo>
                  <a:lnTo>
                    <a:pt x="6877" y="660"/>
                  </a:lnTo>
                  <a:lnTo>
                    <a:pt x="6624" y="660"/>
                  </a:lnTo>
                  <a:lnTo>
                    <a:pt x="6624" y="644"/>
                  </a:lnTo>
                  <a:lnTo>
                    <a:pt x="6633" y="640"/>
                  </a:lnTo>
                  <a:lnTo>
                    <a:pt x="6640" y="636"/>
                  </a:lnTo>
                  <a:lnTo>
                    <a:pt x="6642" y="633"/>
                  </a:lnTo>
                  <a:lnTo>
                    <a:pt x="6643" y="630"/>
                  </a:lnTo>
                  <a:lnTo>
                    <a:pt x="6644" y="627"/>
                  </a:lnTo>
                  <a:lnTo>
                    <a:pt x="6644" y="623"/>
                  </a:lnTo>
                  <a:lnTo>
                    <a:pt x="6643" y="619"/>
                  </a:lnTo>
                  <a:lnTo>
                    <a:pt x="6642" y="613"/>
                  </a:lnTo>
                  <a:lnTo>
                    <a:pt x="6639" y="607"/>
                  </a:lnTo>
                  <a:lnTo>
                    <a:pt x="6633" y="600"/>
                  </a:lnTo>
                  <a:lnTo>
                    <a:pt x="6630" y="594"/>
                  </a:lnTo>
                  <a:lnTo>
                    <a:pt x="6626" y="590"/>
                  </a:lnTo>
                  <a:lnTo>
                    <a:pt x="6523" y="428"/>
                  </a:lnTo>
                  <a:lnTo>
                    <a:pt x="6394" y="428"/>
                  </a:lnTo>
                  <a:lnTo>
                    <a:pt x="6394" y="609"/>
                  </a:lnTo>
                  <a:lnTo>
                    <a:pt x="6394" y="617"/>
                  </a:lnTo>
                  <a:lnTo>
                    <a:pt x="6395" y="623"/>
                  </a:lnTo>
                  <a:lnTo>
                    <a:pt x="6397" y="628"/>
                  </a:lnTo>
                  <a:lnTo>
                    <a:pt x="6400" y="632"/>
                  </a:lnTo>
                  <a:lnTo>
                    <a:pt x="6403" y="636"/>
                  </a:lnTo>
                  <a:lnTo>
                    <a:pt x="6409" y="638"/>
                  </a:lnTo>
                  <a:lnTo>
                    <a:pt x="6416" y="641"/>
                  </a:lnTo>
                  <a:lnTo>
                    <a:pt x="6424" y="644"/>
                  </a:lnTo>
                  <a:lnTo>
                    <a:pt x="6424" y="660"/>
                  </a:lnTo>
                  <a:lnTo>
                    <a:pt x="6186" y="660"/>
                  </a:lnTo>
                  <a:close/>
                  <a:moveTo>
                    <a:pt x="6394" y="158"/>
                  </a:moveTo>
                  <a:lnTo>
                    <a:pt x="6394" y="300"/>
                  </a:lnTo>
                  <a:lnTo>
                    <a:pt x="6549" y="300"/>
                  </a:lnTo>
                  <a:lnTo>
                    <a:pt x="6566" y="300"/>
                  </a:lnTo>
                  <a:lnTo>
                    <a:pt x="6583" y="299"/>
                  </a:lnTo>
                  <a:lnTo>
                    <a:pt x="6598" y="298"/>
                  </a:lnTo>
                  <a:lnTo>
                    <a:pt x="6612" y="296"/>
                  </a:lnTo>
                  <a:lnTo>
                    <a:pt x="6624" y="294"/>
                  </a:lnTo>
                  <a:lnTo>
                    <a:pt x="6637" y="291"/>
                  </a:lnTo>
                  <a:lnTo>
                    <a:pt x="6647" y="288"/>
                  </a:lnTo>
                  <a:lnTo>
                    <a:pt x="6656" y="284"/>
                  </a:lnTo>
                  <a:lnTo>
                    <a:pt x="6662" y="279"/>
                  </a:lnTo>
                  <a:lnTo>
                    <a:pt x="6669" y="274"/>
                  </a:lnTo>
                  <a:lnTo>
                    <a:pt x="6675" y="268"/>
                  </a:lnTo>
                  <a:lnTo>
                    <a:pt x="6679" y="261"/>
                  </a:lnTo>
                  <a:lnTo>
                    <a:pt x="6684" y="254"/>
                  </a:lnTo>
                  <a:lnTo>
                    <a:pt x="6686" y="247"/>
                  </a:lnTo>
                  <a:lnTo>
                    <a:pt x="6687" y="238"/>
                  </a:lnTo>
                  <a:lnTo>
                    <a:pt x="6688" y="229"/>
                  </a:lnTo>
                  <a:lnTo>
                    <a:pt x="6687" y="220"/>
                  </a:lnTo>
                  <a:lnTo>
                    <a:pt x="6686" y="211"/>
                  </a:lnTo>
                  <a:lnTo>
                    <a:pt x="6684" y="203"/>
                  </a:lnTo>
                  <a:lnTo>
                    <a:pt x="6680" y="195"/>
                  </a:lnTo>
                  <a:lnTo>
                    <a:pt x="6676" y="189"/>
                  </a:lnTo>
                  <a:lnTo>
                    <a:pt x="6670" y="183"/>
                  </a:lnTo>
                  <a:lnTo>
                    <a:pt x="6665" y="178"/>
                  </a:lnTo>
                  <a:lnTo>
                    <a:pt x="6657" y="174"/>
                  </a:lnTo>
                  <a:lnTo>
                    <a:pt x="6649" y="170"/>
                  </a:lnTo>
                  <a:lnTo>
                    <a:pt x="6639" y="167"/>
                  </a:lnTo>
                  <a:lnTo>
                    <a:pt x="6626" y="164"/>
                  </a:lnTo>
                  <a:lnTo>
                    <a:pt x="6613" y="161"/>
                  </a:lnTo>
                  <a:lnTo>
                    <a:pt x="6598" y="160"/>
                  </a:lnTo>
                  <a:lnTo>
                    <a:pt x="6582" y="159"/>
                  </a:lnTo>
                  <a:lnTo>
                    <a:pt x="6564" y="158"/>
                  </a:lnTo>
                  <a:lnTo>
                    <a:pt x="6543" y="158"/>
                  </a:lnTo>
                  <a:lnTo>
                    <a:pt x="6394"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284320" y="6273000"/>
              <a:ext cx="497880" cy="203040"/>
            </a:xfrm>
            <a:custGeom>
              <a:avLst/>
              <a:gdLst/>
              <a:ahLst/>
              <a:rect l="l" t="t" r="r" b="b"/>
              <a:pathLst>
                <a:path w="4697" h="691">
                  <a:moveTo>
                    <a:pt x="0" y="660"/>
                  </a:moveTo>
                  <a:lnTo>
                    <a:pt x="0" y="644"/>
                  </a:lnTo>
                  <a:lnTo>
                    <a:pt x="8" y="641"/>
                  </a:lnTo>
                  <a:lnTo>
                    <a:pt x="15" y="639"/>
                  </a:lnTo>
                  <a:lnTo>
                    <a:pt x="20" y="636"/>
                  </a:lnTo>
                  <a:lnTo>
                    <a:pt x="24" y="633"/>
                  </a:lnTo>
                  <a:lnTo>
                    <a:pt x="27" y="629"/>
                  </a:lnTo>
                  <a:lnTo>
                    <a:pt x="28" y="623"/>
                  </a:lnTo>
                  <a:lnTo>
                    <a:pt x="29" y="617"/>
                  </a:lnTo>
                  <a:lnTo>
                    <a:pt x="29" y="609"/>
                  </a:lnTo>
                  <a:lnTo>
                    <a:pt x="29" y="83"/>
                  </a:lnTo>
                  <a:lnTo>
                    <a:pt x="29" y="74"/>
                  </a:lnTo>
                  <a:lnTo>
                    <a:pt x="28" y="67"/>
                  </a:lnTo>
                  <a:lnTo>
                    <a:pt x="27" y="63"/>
                  </a:lnTo>
                  <a:lnTo>
                    <a:pt x="24" y="58"/>
                  </a:lnTo>
                  <a:lnTo>
                    <a:pt x="20" y="55"/>
                  </a:lnTo>
                  <a:lnTo>
                    <a:pt x="15" y="53"/>
                  </a:lnTo>
                  <a:lnTo>
                    <a:pt x="8" y="49"/>
                  </a:lnTo>
                  <a:lnTo>
                    <a:pt x="0" y="47"/>
                  </a:lnTo>
                  <a:lnTo>
                    <a:pt x="0" y="31"/>
                  </a:lnTo>
                  <a:lnTo>
                    <a:pt x="400" y="31"/>
                  </a:lnTo>
                  <a:lnTo>
                    <a:pt x="428" y="31"/>
                  </a:lnTo>
                  <a:lnTo>
                    <a:pt x="455" y="34"/>
                  </a:lnTo>
                  <a:lnTo>
                    <a:pt x="481" y="38"/>
                  </a:lnTo>
                  <a:lnTo>
                    <a:pt x="504" y="44"/>
                  </a:lnTo>
                  <a:lnTo>
                    <a:pt x="526" y="52"/>
                  </a:lnTo>
                  <a:lnTo>
                    <a:pt x="546" y="61"/>
                  </a:lnTo>
                  <a:lnTo>
                    <a:pt x="556" y="65"/>
                  </a:lnTo>
                  <a:lnTo>
                    <a:pt x="565" y="71"/>
                  </a:lnTo>
                  <a:lnTo>
                    <a:pt x="574" y="77"/>
                  </a:lnTo>
                  <a:lnTo>
                    <a:pt x="582" y="83"/>
                  </a:lnTo>
                  <a:lnTo>
                    <a:pt x="590" y="90"/>
                  </a:lnTo>
                  <a:lnTo>
                    <a:pt x="598" y="98"/>
                  </a:lnTo>
                  <a:lnTo>
                    <a:pt x="604" y="104"/>
                  </a:lnTo>
                  <a:lnTo>
                    <a:pt x="611" y="112"/>
                  </a:lnTo>
                  <a:lnTo>
                    <a:pt x="617" y="120"/>
                  </a:lnTo>
                  <a:lnTo>
                    <a:pt x="622" y="129"/>
                  </a:lnTo>
                  <a:lnTo>
                    <a:pt x="627" y="137"/>
                  </a:lnTo>
                  <a:lnTo>
                    <a:pt x="631" y="146"/>
                  </a:lnTo>
                  <a:lnTo>
                    <a:pt x="635" y="156"/>
                  </a:lnTo>
                  <a:lnTo>
                    <a:pt x="638" y="165"/>
                  </a:lnTo>
                  <a:lnTo>
                    <a:pt x="641" y="175"/>
                  </a:lnTo>
                  <a:lnTo>
                    <a:pt x="644" y="186"/>
                  </a:lnTo>
                  <a:lnTo>
                    <a:pt x="646" y="207"/>
                  </a:lnTo>
                  <a:lnTo>
                    <a:pt x="647" y="230"/>
                  </a:lnTo>
                  <a:lnTo>
                    <a:pt x="647" y="242"/>
                  </a:lnTo>
                  <a:lnTo>
                    <a:pt x="646" y="254"/>
                  </a:lnTo>
                  <a:lnTo>
                    <a:pt x="644" y="267"/>
                  </a:lnTo>
                  <a:lnTo>
                    <a:pt x="641" y="279"/>
                  </a:lnTo>
                  <a:lnTo>
                    <a:pt x="639" y="290"/>
                  </a:lnTo>
                  <a:lnTo>
                    <a:pt x="635" y="302"/>
                  </a:lnTo>
                  <a:lnTo>
                    <a:pt x="630" y="313"/>
                  </a:lnTo>
                  <a:lnTo>
                    <a:pt x="626" y="323"/>
                  </a:lnTo>
                  <a:lnTo>
                    <a:pt x="620" y="334"/>
                  </a:lnTo>
                  <a:lnTo>
                    <a:pt x="613" y="343"/>
                  </a:lnTo>
                  <a:lnTo>
                    <a:pt x="607" y="353"/>
                  </a:lnTo>
                  <a:lnTo>
                    <a:pt x="600" y="361"/>
                  </a:lnTo>
                  <a:lnTo>
                    <a:pt x="592" y="370"/>
                  </a:lnTo>
                  <a:lnTo>
                    <a:pt x="583" y="377"/>
                  </a:lnTo>
                  <a:lnTo>
                    <a:pt x="574" y="385"/>
                  </a:lnTo>
                  <a:lnTo>
                    <a:pt x="565" y="390"/>
                  </a:lnTo>
                  <a:lnTo>
                    <a:pt x="548" y="400"/>
                  </a:lnTo>
                  <a:lnTo>
                    <a:pt x="530" y="408"/>
                  </a:lnTo>
                  <a:lnTo>
                    <a:pt x="510" y="415"/>
                  </a:lnTo>
                  <a:lnTo>
                    <a:pt x="488" y="419"/>
                  </a:lnTo>
                  <a:lnTo>
                    <a:pt x="463" y="424"/>
                  </a:lnTo>
                  <a:lnTo>
                    <a:pt x="433" y="426"/>
                  </a:lnTo>
                  <a:lnTo>
                    <a:pt x="397" y="427"/>
                  </a:lnTo>
                  <a:lnTo>
                    <a:pt x="355" y="428"/>
                  </a:lnTo>
                  <a:lnTo>
                    <a:pt x="208" y="428"/>
                  </a:lnTo>
                  <a:lnTo>
                    <a:pt x="208" y="609"/>
                  </a:lnTo>
                  <a:lnTo>
                    <a:pt x="208" y="617"/>
                  </a:lnTo>
                  <a:lnTo>
                    <a:pt x="209" y="623"/>
                  </a:lnTo>
                  <a:lnTo>
                    <a:pt x="211" y="628"/>
                  </a:lnTo>
                  <a:lnTo>
                    <a:pt x="214" y="632"/>
                  </a:lnTo>
                  <a:lnTo>
                    <a:pt x="217" y="636"/>
                  </a:lnTo>
                  <a:lnTo>
                    <a:pt x="223" y="638"/>
                  </a:lnTo>
                  <a:lnTo>
                    <a:pt x="229" y="641"/>
                  </a:lnTo>
                  <a:lnTo>
                    <a:pt x="238" y="644"/>
                  </a:lnTo>
                  <a:lnTo>
                    <a:pt x="238" y="660"/>
                  </a:lnTo>
                  <a:lnTo>
                    <a:pt x="0" y="660"/>
                  </a:lnTo>
                  <a:close/>
                  <a:moveTo>
                    <a:pt x="208" y="158"/>
                  </a:moveTo>
                  <a:lnTo>
                    <a:pt x="208" y="300"/>
                  </a:lnTo>
                  <a:lnTo>
                    <a:pt x="344" y="300"/>
                  </a:lnTo>
                  <a:lnTo>
                    <a:pt x="362" y="300"/>
                  </a:lnTo>
                  <a:lnTo>
                    <a:pt x="378" y="299"/>
                  </a:lnTo>
                  <a:lnTo>
                    <a:pt x="393" y="298"/>
                  </a:lnTo>
                  <a:lnTo>
                    <a:pt x="407" y="296"/>
                  </a:lnTo>
                  <a:lnTo>
                    <a:pt x="419" y="294"/>
                  </a:lnTo>
                  <a:lnTo>
                    <a:pt x="430" y="291"/>
                  </a:lnTo>
                  <a:lnTo>
                    <a:pt x="440" y="288"/>
                  </a:lnTo>
                  <a:lnTo>
                    <a:pt x="449" y="284"/>
                  </a:lnTo>
                  <a:lnTo>
                    <a:pt x="457" y="279"/>
                  </a:lnTo>
                  <a:lnTo>
                    <a:pt x="464" y="274"/>
                  </a:lnTo>
                  <a:lnTo>
                    <a:pt x="470" y="268"/>
                  </a:lnTo>
                  <a:lnTo>
                    <a:pt x="474" y="261"/>
                  </a:lnTo>
                  <a:lnTo>
                    <a:pt x="477" y="254"/>
                  </a:lnTo>
                  <a:lnTo>
                    <a:pt x="481" y="247"/>
                  </a:lnTo>
                  <a:lnTo>
                    <a:pt x="482" y="238"/>
                  </a:lnTo>
                  <a:lnTo>
                    <a:pt x="483" y="229"/>
                  </a:lnTo>
                  <a:lnTo>
                    <a:pt x="482" y="220"/>
                  </a:lnTo>
                  <a:lnTo>
                    <a:pt x="481" y="211"/>
                  </a:lnTo>
                  <a:lnTo>
                    <a:pt x="479" y="203"/>
                  </a:lnTo>
                  <a:lnTo>
                    <a:pt x="475" y="195"/>
                  </a:lnTo>
                  <a:lnTo>
                    <a:pt x="471" y="189"/>
                  </a:lnTo>
                  <a:lnTo>
                    <a:pt x="465" y="183"/>
                  </a:lnTo>
                  <a:lnTo>
                    <a:pt x="458" y="178"/>
                  </a:lnTo>
                  <a:lnTo>
                    <a:pt x="452" y="174"/>
                  </a:lnTo>
                  <a:lnTo>
                    <a:pt x="443" y="170"/>
                  </a:lnTo>
                  <a:lnTo>
                    <a:pt x="433" y="167"/>
                  </a:lnTo>
                  <a:lnTo>
                    <a:pt x="421" y="164"/>
                  </a:lnTo>
                  <a:lnTo>
                    <a:pt x="408" y="161"/>
                  </a:lnTo>
                  <a:lnTo>
                    <a:pt x="393" y="160"/>
                  </a:lnTo>
                  <a:lnTo>
                    <a:pt x="376" y="159"/>
                  </a:lnTo>
                  <a:lnTo>
                    <a:pt x="358" y="158"/>
                  </a:lnTo>
                  <a:lnTo>
                    <a:pt x="338" y="158"/>
                  </a:lnTo>
                  <a:lnTo>
                    <a:pt x="208" y="158"/>
                  </a:lnTo>
                  <a:close/>
                  <a:moveTo>
                    <a:pt x="1365" y="511"/>
                  </a:moveTo>
                  <a:lnTo>
                    <a:pt x="1372" y="511"/>
                  </a:lnTo>
                  <a:lnTo>
                    <a:pt x="1378" y="510"/>
                  </a:lnTo>
                  <a:lnTo>
                    <a:pt x="1384" y="509"/>
                  </a:lnTo>
                  <a:lnTo>
                    <a:pt x="1388" y="506"/>
                  </a:lnTo>
                  <a:lnTo>
                    <a:pt x="1390" y="502"/>
                  </a:lnTo>
                  <a:lnTo>
                    <a:pt x="1394" y="498"/>
                  </a:lnTo>
                  <a:lnTo>
                    <a:pt x="1396" y="491"/>
                  </a:lnTo>
                  <a:lnTo>
                    <a:pt x="1399" y="482"/>
                  </a:lnTo>
                  <a:lnTo>
                    <a:pt x="1416" y="482"/>
                  </a:lnTo>
                  <a:lnTo>
                    <a:pt x="1416" y="691"/>
                  </a:lnTo>
                  <a:lnTo>
                    <a:pt x="1399" y="691"/>
                  </a:lnTo>
                  <a:lnTo>
                    <a:pt x="1397" y="682"/>
                  </a:lnTo>
                  <a:lnTo>
                    <a:pt x="1394" y="675"/>
                  </a:lnTo>
                  <a:lnTo>
                    <a:pt x="1392" y="669"/>
                  </a:lnTo>
                  <a:lnTo>
                    <a:pt x="1388" y="666"/>
                  </a:lnTo>
                  <a:lnTo>
                    <a:pt x="1384" y="664"/>
                  </a:lnTo>
                  <a:lnTo>
                    <a:pt x="1379" y="661"/>
                  </a:lnTo>
                  <a:lnTo>
                    <a:pt x="1372" y="660"/>
                  </a:lnTo>
                  <a:lnTo>
                    <a:pt x="1365" y="660"/>
                  </a:lnTo>
                  <a:lnTo>
                    <a:pt x="795" y="660"/>
                  </a:lnTo>
                  <a:lnTo>
                    <a:pt x="795" y="644"/>
                  </a:lnTo>
                  <a:lnTo>
                    <a:pt x="804" y="641"/>
                  </a:lnTo>
                  <a:lnTo>
                    <a:pt x="811" y="639"/>
                  </a:lnTo>
                  <a:lnTo>
                    <a:pt x="815" y="636"/>
                  </a:lnTo>
                  <a:lnTo>
                    <a:pt x="820" y="633"/>
                  </a:lnTo>
                  <a:lnTo>
                    <a:pt x="822" y="629"/>
                  </a:lnTo>
                  <a:lnTo>
                    <a:pt x="823" y="623"/>
                  </a:lnTo>
                  <a:lnTo>
                    <a:pt x="824" y="617"/>
                  </a:lnTo>
                  <a:lnTo>
                    <a:pt x="824" y="609"/>
                  </a:lnTo>
                  <a:lnTo>
                    <a:pt x="824" y="83"/>
                  </a:lnTo>
                  <a:lnTo>
                    <a:pt x="824" y="74"/>
                  </a:lnTo>
                  <a:lnTo>
                    <a:pt x="823" y="67"/>
                  </a:lnTo>
                  <a:lnTo>
                    <a:pt x="822" y="63"/>
                  </a:lnTo>
                  <a:lnTo>
                    <a:pt x="820" y="58"/>
                  </a:lnTo>
                  <a:lnTo>
                    <a:pt x="815" y="55"/>
                  </a:lnTo>
                  <a:lnTo>
                    <a:pt x="811" y="53"/>
                  </a:lnTo>
                  <a:lnTo>
                    <a:pt x="804" y="49"/>
                  </a:lnTo>
                  <a:lnTo>
                    <a:pt x="795" y="47"/>
                  </a:lnTo>
                  <a:lnTo>
                    <a:pt x="795" y="31"/>
                  </a:lnTo>
                  <a:lnTo>
                    <a:pt x="1366" y="31"/>
                  </a:lnTo>
                  <a:lnTo>
                    <a:pt x="1374" y="30"/>
                  </a:lnTo>
                  <a:lnTo>
                    <a:pt x="1379" y="29"/>
                  </a:lnTo>
                  <a:lnTo>
                    <a:pt x="1385" y="27"/>
                  </a:lnTo>
                  <a:lnTo>
                    <a:pt x="1389" y="25"/>
                  </a:lnTo>
                  <a:lnTo>
                    <a:pt x="1392" y="21"/>
                  </a:lnTo>
                  <a:lnTo>
                    <a:pt x="1395" y="16"/>
                  </a:lnTo>
                  <a:lnTo>
                    <a:pt x="1397" y="9"/>
                  </a:lnTo>
                  <a:lnTo>
                    <a:pt x="1399" y="0"/>
                  </a:lnTo>
                  <a:lnTo>
                    <a:pt x="1416" y="0"/>
                  </a:lnTo>
                  <a:lnTo>
                    <a:pt x="1416" y="210"/>
                  </a:lnTo>
                  <a:lnTo>
                    <a:pt x="1399" y="210"/>
                  </a:lnTo>
                  <a:lnTo>
                    <a:pt x="1397" y="201"/>
                  </a:lnTo>
                  <a:lnTo>
                    <a:pt x="1394" y="194"/>
                  </a:lnTo>
                  <a:lnTo>
                    <a:pt x="1392" y="188"/>
                  </a:lnTo>
                  <a:lnTo>
                    <a:pt x="1388" y="185"/>
                  </a:lnTo>
                  <a:lnTo>
                    <a:pt x="1385" y="183"/>
                  </a:lnTo>
                  <a:lnTo>
                    <a:pt x="1379" y="180"/>
                  </a:lnTo>
                  <a:lnTo>
                    <a:pt x="1374" y="180"/>
                  </a:lnTo>
                  <a:lnTo>
                    <a:pt x="1366" y="179"/>
                  </a:lnTo>
                  <a:lnTo>
                    <a:pt x="1003" y="179"/>
                  </a:lnTo>
                  <a:lnTo>
                    <a:pt x="1003" y="268"/>
                  </a:lnTo>
                  <a:lnTo>
                    <a:pt x="1220" y="268"/>
                  </a:lnTo>
                  <a:lnTo>
                    <a:pt x="1228" y="268"/>
                  </a:lnTo>
                  <a:lnTo>
                    <a:pt x="1234" y="267"/>
                  </a:lnTo>
                  <a:lnTo>
                    <a:pt x="1240" y="265"/>
                  </a:lnTo>
                  <a:lnTo>
                    <a:pt x="1244" y="262"/>
                  </a:lnTo>
                  <a:lnTo>
                    <a:pt x="1247" y="259"/>
                  </a:lnTo>
                  <a:lnTo>
                    <a:pt x="1250" y="253"/>
                  </a:lnTo>
                  <a:lnTo>
                    <a:pt x="1253" y="247"/>
                  </a:lnTo>
                  <a:lnTo>
                    <a:pt x="1257" y="239"/>
                  </a:lnTo>
                  <a:lnTo>
                    <a:pt x="1273" y="239"/>
                  </a:lnTo>
                  <a:lnTo>
                    <a:pt x="1273" y="434"/>
                  </a:lnTo>
                  <a:lnTo>
                    <a:pt x="1256" y="434"/>
                  </a:lnTo>
                  <a:lnTo>
                    <a:pt x="1253" y="425"/>
                  </a:lnTo>
                  <a:lnTo>
                    <a:pt x="1250" y="418"/>
                  </a:lnTo>
                  <a:lnTo>
                    <a:pt x="1247" y="414"/>
                  </a:lnTo>
                  <a:lnTo>
                    <a:pt x="1243" y="409"/>
                  </a:lnTo>
                  <a:lnTo>
                    <a:pt x="1240" y="407"/>
                  </a:lnTo>
                  <a:lnTo>
                    <a:pt x="1234" y="406"/>
                  </a:lnTo>
                  <a:lnTo>
                    <a:pt x="1228" y="405"/>
                  </a:lnTo>
                  <a:lnTo>
                    <a:pt x="1220" y="404"/>
                  </a:lnTo>
                  <a:lnTo>
                    <a:pt x="1003" y="404"/>
                  </a:lnTo>
                  <a:lnTo>
                    <a:pt x="1003" y="511"/>
                  </a:lnTo>
                  <a:lnTo>
                    <a:pt x="1365" y="511"/>
                  </a:lnTo>
                  <a:close/>
                  <a:moveTo>
                    <a:pt x="1952" y="672"/>
                  </a:moveTo>
                  <a:lnTo>
                    <a:pt x="1932" y="670"/>
                  </a:lnTo>
                  <a:lnTo>
                    <a:pt x="1913" y="669"/>
                  </a:lnTo>
                  <a:lnTo>
                    <a:pt x="1894" y="668"/>
                  </a:lnTo>
                  <a:lnTo>
                    <a:pt x="1874" y="665"/>
                  </a:lnTo>
                  <a:lnTo>
                    <a:pt x="1856" y="663"/>
                  </a:lnTo>
                  <a:lnTo>
                    <a:pt x="1838" y="658"/>
                  </a:lnTo>
                  <a:lnTo>
                    <a:pt x="1822" y="654"/>
                  </a:lnTo>
                  <a:lnTo>
                    <a:pt x="1805" y="648"/>
                  </a:lnTo>
                  <a:lnTo>
                    <a:pt x="1788" y="641"/>
                  </a:lnTo>
                  <a:lnTo>
                    <a:pt x="1772" y="635"/>
                  </a:lnTo>
                  <a:lnTo>
                    <a:pt x="1757" y="627"/>
                  </a:lnTo>
                  <a:lnTo>
                    <a:pt x="1741" y="619"/>
                  </a:lnTo>
                  <a:lnTo>
                    <a:pt x="1726" y="610"/>
                  </a:lnTo>
                  <a:lnTo>
                    <a:pt x="1713" y="600"/>
                  </a:lnTo>
                  <a:lnTo>
                    <a:pt x="1698" y="590"/>
                  </a:lnTo>
                  <a:lnTo>
                    <a:pt x="1685" y="579"/>
                  </a:lnTo>
                  <a:lnTo>
                    <a:pt x="1672" y="566"/>
                  </a:lnTo>
                  <a:lnTo>
                    <a:pt x="1661" y="554"/>
                  </a:lnTo>
                  <a:lnTo>
                    <a:pt x="1650" y="542"/>
                  </a:lnTo>
                  <a:lnTo>
                    <a:pt x="1640" y="528"/>
                  </a:lnTo>
                  <a:lnTo>
                    <a:pt x="1630" y="516"/>
                  </a:lnTo>
                  <a:lnTo>
                    <a:pt x="1622" y="501"/>
                  </a:lnTo>
                  <a:lnTo>
                    <a:pt x="1614" y="488"/>
                  </a:lnTo>
                  <a:lnTo>
                    <a:pt x="1606" y="473"/>
                  </a:lnTo>
                  <a:lnTo>
                    <a:pt x="1600" y="459"/>
                  </a:lnTo>
                  <a:lnTo>
                    <a:pt x="1595" y="443"/>
                  </a:lnTo>
                  <a:lnTo>
                    <a:pt x="1590" y="428"/>
                  </a:lnTo>
                  <a:lnTo>
                    <a:pt x="1587" y="411"/>
                  </a:lnTo>
                  <a:lnTo>
                    <a:pt x="1584" y="396"/>
                  </a:lnTo>
                  <a:lnTo>
                    <a:pt x="1582" y="379"/>
                  </a:lnTo>
                  <a:lnTo>
                    <a:pt x="1580" y="362"/>
                  </a:lnTo>
                  <a:lnTo>
                    <a:pt x="1580" y="345"/>
                  </a:lnTo>
                  <a:lnTo>
                    <a:pt x="1580" y="327"/>
                  </a:lnTo>
                  <a:lnTo>
                    <a:pt x="1581" y="311"/>
                  </a:lnTo>
                  <a:lnTo>
                    <a:pt x="1584" y="294"/>
                  </a:lnTo>
                  <a:lnTo>
                    <a:pt x="1587" y="278"/>
                  </a:lnTo>
                  <a:lnTo>
                    <a:pt x="1590" y="261"/>
                  </a:lnTo>
                  <a:lnTo>
                    <a:pt x="1595" y="247"/>
                  </a:lnTo>
                  <a:lnTo>
                    <a:pt x="1600" y="231"/>
                  </a:lnTo>
                  <a:lnTo>
                    <a:pt x="1606" y="216"/>
                  </a:lnTo>
                  <a:lnTo>
                    <a:pt x="1613" y="202"/>
                  </a:lnTo>
                  <a:lnTo>
                    <a:pt x="1621" y="188"/>
                  </a:lnTo>
                  <a:lnTo>
                    <a:pt x="1630" y="174"/>
                  </a:lnTo>
                  <a:lnTo>
                    <a:pt x="1639" y="161"/>
                  </a:lnTo>
                  <a:lnTo>
                    <a:pt x="1649" y="148"/>
                  </a:lnTo>
                  <a:lnTo>
                    <a:pt x="1660" y="136"/>
                  </a:lnTo>
                  <a:lnTo>
                    <a:pt x="1672" y="123"/>
                  </a:lnTo>
                  <a:lnTo>
                    <a:pt x="1685" y="112"/>
                  </a:lnTo>
                  <a:lnTo>
                    <a:pt x="1698" y="101"/>
                  </a:lnTo>
                  <a:lnTo>
                    <a:pt x="1712" y="91"/>
                  </a:lnTo>
                  <a:lnTo>
                    <a:pt x="1726" y="81"/>
                  </a:lnTo>
                  <a:lnTo>
                    <a:pt x="1741" y="72"/>
                  </a:lnTo>
                  <a:lnTo>
                    <a:pt x="1755" y="63"/>
                  </a:lnTo>
                  <a:lnTo>
                    <a:pt x="1771" y="56"/>
                  </a:lnTo>
                  <a:lnTo>
                    <a:pt x="1787" y="49"/>
                  </a:lnTo>
                  <a:lnTo>
                    <a:pt x="1804" y="43"/>
                  </a:lnTo>
                  <a:lnTo>
                    <a:pt x="1821" y="37"/>
                  </a:lnTo>
                  <a:lnTo>
                    <a:pt x="1837" y="32"/>
                  </a:lnTo>
                  <a:lnTo>
                    <a:pt x="1855" y="29"/>
                  </a:lnTo>
                  <a:lnTo>
                    <a:pt x="1874" y="26"/>
                  </a:lnTo>
                  <a:lnTo>
                    <a:pt x="1892" y="22"/>
                  </a:lnTo>
                  <a:lnTo>
                    <a:pt x="1911" y="21"/>
                  </a:lnTo>
                  <a:lnTo>
                    <a:pt x="1932" y="20"/>
                  </a:lnTo>
                  <a:lnTo>
                    <a:pt x="1952" y="20"/>
                  </a:lnTo>
                  <a:lnTo>
                    <a:pt x="1972" y="20"/>
                  </a:lnTo>
                  <a:lnTo>
                    <a:pt x="1991" y="21"/>
                  </a:lnTo>
                  <a:lnTo>
                    <a:pt x="2010" y="22"/>
                  </a:lnTo>
                  <a:lnTo>
                    <a:pt x="2029" y="26"/>
                  </a:lnTo>
                  <a:lnTo>
                    <a:pt x="2047" y="29"/>
                  </a:lnTo>
                  <a:lnTo>
                    <a:pt x="2065" y="32"/>
                  </a:lnTo>
                  <a:lnTo>
                    <a:pt x="2082" y="37"/>
                  </a:lnTo>
                  <a:lnTo>
                    <a:pt x="2099" y="43"/>
                  </a:lnTo>
                  <a:lnTo>
                    <a:pt x="2116" y="49"/>
                  </a:lnTo>
                  <a:lnTo>
                    <a:pt x="2132" y="56"/>
                  </a:lnTo>
                  <a:lnTo>
                    <a:pt x="2147" y="63"/>
                  </a:lnTo>
                  <a:lnTo>
                    <a:pt x="2163" y="72"/>
                  </a:lnTo>
                  <a:lnTo>
                    <a:pt x="2178" y="81"/>
                  </a:lnTo>
                  <a:lnTo>
                    <a:pt x="2191" y="91"/>
                  </a:lnTo>
                  <a:lnTo>
                    <a:pt x="2205" y="101"/>
                  </a:lnTo>
                  <a:lnTo>
                    <a:pt x="2218" y="112"/>
                  </a:lnTo>
                  <a:lnTo>
                    <a:pt x="2232" y="123"/>
                  </a:lnTo>
                  <a:lnTo>
                    <a:pt x="2243" y="136"/>
                  </a:lnTo>
                  <a:lnTo>
                    <a:pt x="2254" y="148"/>
                  </a:lnTo>
                  <a:lnTo>
                    <a:pt x="2264" y="161"/>
                  </a:lnTo>
                  <a:lnTo>
                    <a:pt x="2273" y="174"/>
                  </a:lnTo>
                  <a:lnTo>
                    <a:pt x="2282" y="188"/>
                  </a:lnTo>
                  <a:lnTo>
                    <a:pt x="2290" y="202"/>
                  </a:lnTo>
                  <a:lnTo>
                    <a:pt x="2297" y="216"/>
                  </a:lnTo>
                  <a:lnTo>
                    <a:pt x="2302" y="231"/>
                  </a:lnTo>
                  <a:lnTo>
                    <a:pt x="2308" y="247"/>
                  </a:lnTo>
                  <a:lnTo>
                    <a:pt x="2312" y="261"/>
                  </a:lnTo>
                  <a:lnTo>
                    <a:pt x="2316" y="278"/>
                  </a:lnTo>
                  <a:lnTo>
                    <a:pt x="2319" y="294"/>
                  </a:lnTo>
                  <a:lnTo>
                    <a:pt x="2321" y="311"/>
                  </a:lnTo>
                  <a:lnTo>
                    <a:pt x="2322" y="327"/>
                  </a:lnTo>
                  <a:lnTo>
                    <a:pt x="2322" y="345"/>
                  </a:lnTo>
                  <a:lnTo>
                    <a:pt x="2322" y="362"/>
                  </a:lnTo>
                  <a:lnTo>
                    <a:pt x="2321" y="379"/>
                  </a:lnTo>
                  <a:lnTo>
                    <a:pt x="2319" y="396"/>
                  </a:lnTo>
                  <a:lnTo>
                    <a:pt x="2316" y="411"/>
                  </a:lnTo>
                  <a:lnTo>
                    <a:pt x="2312" y="428"/>
                  </a:lnTo>
                  <a:lnTo>
                    <a:pt x="2308" y="443"/>
                  </a:lnTo>
                  <a:lnTo>
                    <a:pt x="2302" y="459"/>
                  </a:lnTo>
                  <a:lnTo>
                    <a:pt x="2297" y="473"/>
                  </a:lnTo>
                  <a:lnTo>
                    <a:pt x="2290" y="488"/>
                  </a:lnTo>
                  <a:lnTo>
                    <a:pt x="2282" y="501"/>
                  </a:lnTo>
                  <a:lnTo>
                    <a:pt x="2273" y="516"/>
                  </a:lnTo>
                  <a:lnTo>
                    <a:pt x="2264" y="528"/>
                  </a:lnTo>
                  <a:lnTo>
                    <a:pt x="2253" y="542"/>
                  </a:lnTo>
                  <a:lnTo>
                    <a:pt x="2243" y="554"/>
                  </a:lnTo>
                  <a:lnTo>
                    <a:pt x="2230" y="566"/>
                  </a:lnTo>
                  <a:lnTo>
                    <a:pt x="2218" y="579"/>
                  </a:lnTo>
                  <a:lnTo>
                    <a:pt x="2205" y="590"/>
                  </a:lnTo>
                  <a:lnTo>
                    <a:pt x="2191" y="600"/>
                  </a:lnTo>
                  <a:lnTo>
                    <a:pt x="2176" y="610"/>
                  </a:lnTo>
                  <a:lnTo>
                    <a:pt x="2162" y="619"/>
                  </a:lnTo>
                  <a:lnTo>
                    <a:pt x="2146" y="627"/>
                  </a:lnTo>
                  <a:lnTo>
                    <a:pt x="2132" y="635"/>
                  </a:lnTo>
                  <a:lnTo>
                    <a:pt x="2115" y="641"/>
                  </a:lnTo>
                  <a:lnTo>
                    <a:pt x="2099" y="648"/>
                  </a:lnTo>
                  <a:lnTo>
                    <a:pt x="2082" y="654"/>
                  </a:lnTo>
                  <a:lnTo>
                    <a:pt x="2064" y="658"/>
                  </a:lnTo>
                  <a:lnTo>
                    <a:pt x="2047" y="663"/>
                  </a:lnTo>
                  <a:lnTo>
                    <a:pt x="2028" y="665"/>
                  </a:lnTo>
                  <a:lnTo>
                    <a:pt x="2010" y="668"/>
                  </a:lnTo>
                  <a:lnTo>
                    <a:pt x="1991" y="669"/>
                  </a:lnTo>
                  <a:lnTo>
                    <a:pt x="1971" y="670"/>
                  </a:lnTo>
                  <a:lnTo>
                    <a:pt x="1952" y="672"/>
                  </a:lnTo>
                  <a:close/>
                  <a:moveTo>
                    <a:pt x="1764" y="345"/>
                  </a:moveTo>
                  <a:lnTo>
                    <a:pt x="1765" y="365"/>
                  </a:lnTo>
                  <a:lnTo>
                    <a:pt x="1768" y="385"/>
                  </a:lnTo>
                  <a:lnTo>
                    <a:pt x="1771" y="402"/>
                  </a:lnTo>
                  <a:lnTo>
                    <a:pt x="1777" y="419"/>
                  </a:lnTo>
                  <a:lnTo>
                    <a:pt x="1785" y="435"/>
                  </a:lnTo>
                  <a:lnTo>
                    <a:pt x="1794" y="450"/>
                  </a:lnTo>
                  <a:lnTo>
                    <a:pt x="1804" y="463"/>
                  </a:lnTo>
                  <a:lnTo>
                    <a:pt x="1815" y="476"/>
                  </a:lnTo>
                  <a:lnTo>
                    <a:pt x="1828" y="488"/>
                  </a:lnTo>
                  <a:lnTo>
                    <a:pt x="1843" y="498"/>
                  </a:lnTo>
                  <a:lnTo>
                    <a:pt x="1859" y="506"/>
                  </a:lnTo>
                  <a:lnTo>
                    <a:pt x="1876" y="512"/>
                  </a:lnTo>
                  <a:lnTo>
                    <a:pt x="1892" y="518"/>
                  </a:lnTo>
                  <a:lnTo>
                    <a:pt x="1911" y="522"/>
                  </a:lnTo>
                  <a:lnTo>
                    <a:pt x="1932" y="525"/>
                  </a:lnTo>
                  <a:lnTo>
                    <a:pt x="1953" y="525"/>
                  </a:lnTo>
                  <a:lnTo>
                    <a:pt x="1973" y="525"/>
                  </a:lnTo>
                  <a:lnTo>
                    <a:pt x="1992" y="522"/>
                  </a:lnTo>
                  <a:lnTo>
                    <a:pt x="2011" y="518"/>
                  </a:lnTo>
                  <a:lnTo>
                    <a:pt x="2028" y="512"/>
                  </a:lnTo>
                  <a:lnTo>
                    <a:pt x="2045" y="506"/>
                  </a:lnTo>
                  <a:lnTo>
                    <a:pt x="2061" y="498"/>
                  </a:lnTo>
                  <a:lnTo>
                    <a:pt x="2074" y="488"/>
                  </a:lnTo>
                  <a:lnTo>
                    <a:pt x="2088" y="476"/>
                  </a:lnTo>
                  <a:lnTo>
                    <a:pt x="2100" y="463"/>
                  </a:lnTo>
                  <a:lnTo>
                    <a:pt x="2110" y="450"/>
                  </a:lnTo>
                  <a:lnTo>
                    <a:pt x="2119" y="435"/>
                  </a:lnTo>
                  <a:lnTo>
                    <a:pt x="2126" y="419"/>
                  </a:lnTo>
                  <a:lnTo>
                    <a:pt x="2132" y="402"/>
                  </a:lnTo>
                  <a:lnTo>
                    <a:pt x="2136" y="385"/>
                  </a:lnTo>
                  <a:lnTo>
                    <a:pt x="2138" y="365"/>
                  </a:lnTo>
                  <a:lnTo>
                    <a:pt x="2139" y="345"/>
                  </a:lnTo>
                  <a:lnTo>
                    <a:pt x="2138" y="326"/>
                  </a:lnTo>
                  <a:lnTo>
                    <a:pt x="2136" y="307"/>
                  </a:lnTo>
                  <a:lnTo>
                    <a:pt x="2132" y="290"/>
                  </a:lnTo>
                  <a:lnTo>
                    <a:pt x="2126" y="274"/>
                  </a:lnTo>
                  <a:lnTo>
                    <a:pt x="2119" y="258"/>
                  </a:lnTo>
                  <a:lnTo>
                    <a:pt x="2110" y="242"/>
                  </a:lnTo>
                  <a:lnTo>
                    <a:pt x="2100" y="229"/>
                  </a:lnTo>
                  <a:lnTo>
                    <a:pt x="2088" y="216"/>
                  </a:lnTo>
                  <a:lnTo>
                    <a:pt x="2074" y="204"/>
                  </a:lnTo>
                  <a:lnTo>
                    <a:pt x="2060" y="194"/>
                  </a:lnTo>
                  <a:lnTo>
                    <a:pt x="2044" y="185"/>
                  </a:lnTo>
                  <a:lnTo>
                    <a:pt x="2028" y="178"/>
                  </a:lnTo>
                  <a:lnTo>
                    <a:pt x="2010" y="173"/>
                  </a:lnTo>
                  <a:lnTo>
                    <a:pt x="1991" y="169"/>
                  </a:lnTo>
                  <a:lnTo>
                    <a:pt x="1972" y="167"/>
                  </a:lnTo>
                  <a:lnTo>
                    <a:pt x="1952" y="166"/>
                  </a:lnTo>
                  <a:lnTo>
                    <a:pt x="1931" y="167"/>
                  </a:lnTo>
                  <a:lnTo>
                    <a:pt x="1911" y="169"/>
                  </a:lnTo>
                  <a:lnTo>
                    <a:pt x="1894" y="173"/>
                  </a:lnTo>
                  <a:lnTo>
                    <a:pt x="1876" y="178"/>
                  </a:lnTo>
                  <a:lnTo>
                    <a:pt x="1860" y="185"/>
                  </a:lnTo>
                  <a:lnTo>
                    <a:pt x="1844" y="194"/>
                  </a:lnTo>
                  <a:lnTo>
                    <a:pt x="1829" y="204"/>
                  </a:lnTo>
                  <a:lnTo>
                    <a:pt x="1816" y="216"/>
                  </a:lnTo>
                  <a:lnTo>
                    <a:pt x="1804" y="229"/>
                  </a:lnTo>
                  <a:lnTo>
                    <a:pt x="1794" y="242"/>
                  </a:lnTo>
                  <a:lnTo>
                    <a:pt x="1785" y="258"/>
                  </a:lnTo>
                  <a:lnTo>
                    <a:pt x="1778" y="274"/>
                  </a:lnTo>
                  <a:lnTo>
                    <a:pt x="1772" y="290"/>
                  </a:lnTo>
                  <a:lnTo>
                    <a:pt x="1768" y="307"/>
                  </a:lnTo>
                  <a:lnTo>
                    <a:pt x="1765" y="326"/>
                  </a:lnTo>
                  <a:lnTo>
                    <a:pt x="1764" y="345"/>
                  </a:lnTo>
                  <a:close/>
                  <a:moveTo>
                    <a:pt x="2474" y="660"/>
                  </a:moveTo>
                  <a:lnTo>
                    <a:pt x="2474" y="644"/>
                  </a:lnTo>
                  <a:lnTo>
                    <a:pt x="2483" y="641"/>
                  </a:lnTo>
                  <a:lnTo>
                    <a:pt x="2490" y="639"/>
                  </a:lnTo>
                  <a:lnTo>
                    <a:pt x="2495" y="636"/>
                  </a:lnTo>
                  <a:lnTo>
                    <a:pt x="2499" y="633"/>
                  </a:lnTo>
                  <a:lnTo>
                    <a:pt x="2501" y="629"/>
                  </a:lnTo>
                  <a:lnTo>
                    <a:pt x="2502" y="623"/>
                  </a:lnTo>
                  <a:lnTo>
                    <a:pt x="2503" y="617"/>
                  </a:lnTo>
                  <a:lnTo>
                    <a:pt x="2504" y="609"/>
                  </a:lnTo>
                  <a:lnTo>
                    <a:pt x="2504" y="83"/>
                  </a:lnTo>
                  <a:lnTo>
                    <a:pt x="2503" y="74"/>
                  </a:lnTo>
                  <a:lnTo>
                    <a:pt x="2502" y="67"/>
                  </a:lnTo>
                  <a:lnTo>
                    <a:pt x="2501" y="63"/>
                  </a:lnTo>
                  <a:lnTo>
                    <a:pt x="2499" y="58"/>
                  </a:lnTo>
                  <a:lnTo>
                    <a:pt x="2495" y="55"/>
                  </a:lnTo>
                  <a:lnTo>
                    <a:pt x="2490" y="53"/>
                  </a:lnTo>
                  <a:lnTo>
                    <a:pt x="2483" y="49"/>
                  </a:lnTo>
                  <a:lnTo>
                    <a:pt x="2474" y="47"/>
                  </a:lnTo>
                  <a:lnTo>
                    <a:pt x="2474" y="31"/>
                  </a:lnTo>
                  <a:lnTo>
                    <a:pt x="2874" y="31"/>
                  </a:lnTo>
                  <a:lnTo>
                    <a:pt x="2903" y="31"/>
                  </a:lnTo>
                  <a:lnTo>
                    <a:pt x="2930" y="34"/>
                  </a:lnTo>
                  <a:lnTo>
                    <a:pt x="2955" y="38"/>
                  </a:lnTo>
                  <a:lnTo>
                    <a:pt x="2978" y="44"/>
                  </a:lnTo>
                  <a:lnTo>
                    <a:pt x="3001" y="52"/>
                  </a:lnTo>
                  <a:lnTo>
                    <a:pt x="3021" y="61"/>
                  </a:lnTo>
                  <a:lnTo>
                    <a:pt x="3030" y="65"/>
                  </a:lnTo>
                  <a:lnTo>
                    <a:pt x="3039" y="71"/>
                  </a:lnTo>
                  <a:lnTo>
                    <a:pt x="3048" y="77"/>
                  </a:lnTo>
                  <a:lnTo>
                    <a:pt x="3057" y="83"/>
                  </a:lnTo>
                  <a:lnTo>
                    <a:pt x="3065" y="90"/>
                  </a:lnTo>
                  <a:lnTo>
                    <a:pt x="3071" y="98"/>
                  </a:lnTo>
                  <a:lnTo>
                    <a:pt x="3078" y="104"/>
                  </a:lnTo>
                  <a:lnTo>
                    <a:pt x="3085" y="112"/>
                  </a:lnTo>
                  <a:lnTo>
                    <a:pt x="3091" y="120"/>
                  </a:lnTo>
                  <a:lnTo>
                    <a:pt x="3096" y="129"/>
                  </a:lnTo>
                  <a:lnTo>
                    <a:pt x="3101" y="137"/>
                  </a:lnTo>
                  <a:lnTo>
                    <a:pt x="3105" y="146"/>
                  </a:lnTo>
                  <a:lnTo>
                    <a:pt x="3110" y="156"/>
                  </a:lnTo>
                  <a:lnTo>
                    <a:pt x="3112" y="165"/>
                  </a:lnTo>
                  <a:lnTo>
                    <a:pt x="3115" y="175"/>
                  </a:lnTo>
                  <a:lnTo>
                    <a:pt x="3118" y="186"/>
                  </a:lnTo>
                  <a:lnTo>
                    <a:pt x="3121" y="207"/>
                  </a:lnTo>
                  <a:lnTo>
                    <a:pt x="3122" y="230"/>
                  </a:lnTo>
                  <a:lnTo>
                    <a:pt x="3121" y="242"/>
                  </a:lnTo>
                  <a:lnTo>
                    <a:pt x="3120" y="254"/>
                  </a:lnTo>
                  <a:lnTo>
                    <a:pt x="3119" y="267"/>
                  </a:lnTo>
                  <a:lnTo>
                    <a:pt x="3116" y="279"/>
                  </a:lnTo>
                  <a:lnTo>
                    <a:pt x="3113" y="290"/>
                  </a:lnTo>
                  <a:lnTo>
                    <a:pt x="3110" y="302"/>
                  </a:lnTo>
                  <a:lnTo>
                    <a:pt x="3105" y="313"/>
                  </a:lnTo>
                  <a:lnTo>
                    <a:pt x="3100" y="323"/>
                  </a:lnTo>
                  <a:lnTo>
                    <a:pt x="3094" y="334"/>
                  </a:lnTo>
                  <a:lnTo>
                    <a:pt x="3088" y="343"/>
                  </a:lnTo>
                  <a:lnTo>
                    <a:pt x="3082" y="353"/>
                  </a:lnTo>
                  <a:lnTo>
                    <a:pt x="3074" y="361"/>
                  </a:lnTo>
                  <a:lnTo>
                    <a:pt x="3066" y="370"/>
                  </a:lnTo>
                  <a:lnTo>
                    <a:pt x="3058" y="377"/>
                  </a:lnTo>
                  <a:lnTo>
                    <a:pt x="3049" y="385"/>
                  </a:lnTo>
                  <a:lnTo>
                    <a:pt x="3040" y="390"/>
                  </a:lnTo>
                  <a:lnTo>
                    <a:pt x="3023" y="400"/>
                  </a:lnTo>
                  <a:lnTo>
                    <a:pt x="3004" y="408"/>
                  </a:lnTo>
                  <a:lnTo>
                    <a:pt x="2984" y="415"/>
                  </a:lnTo>
                  <a:lnTo>
                    <a:pt x="2963" y="419"/>
                  </a:lnTo>
                  <a:lnTo>
                    <a:pt x="2937" y="424"/>
                  </a:lnTo>
                  <a:lnTo>
                    <a:pt x="2906" y="426"/>
                  </a:lnTo>
                  <a:lnTo>
                    <a:pt x="2870" y="427"/>
                  </a:lnTo>
                  <a:lnTo>
                    <a:pt x="2830" y="428"/>
                  </a:lnTo>
                  <a:lnTo>
                    <a:pt x="2682" y="428"/>
                  </a:lnTo>
                  <a:lnTo>
                    <a:pt x="2682" y="609"/>
                  </a:lnTo>
                  <a:lnTo>
                    <a:pt x="2682" y="617"/>
                  </a:lnTo>
                  <a:lnTo>
                    <a:pt x="2683" y="623"/>
                  </a:lnTo>
                  <a:lnTo>
                    <a:pt x="2685" y="628"/>
                  </a:lnTo>
                  <a:lnTo>
                    <a:pt x="2687" y="632"/>
                  </a:lnTo>
                  <a:lnTo>
                    <a:pt x="2692" y="636"/>
                  </a:lnTo>
                  <a:lnTo>
                    <a:pt x="2696" y="638"/>
                  </a:lnTo>
                  <a:lnTo>
                    <a:pt x="2704" y="641"/>
                  </a:lnTo>
                  <a:lnTo>
                    <a:pt x="2713" y="644"/>
                  </a:lnTo>
                  <a:lnTo>
                    <a:pt x="2713" y="660"/>
                  </a:lnTo>
                  <a:lnTo>
                    <a:pt x="2474" y="660"/>
                  </a:lnTo>
                  <a:close/>
                  <a:moveTo>
                    <a:pt x="2682" y="158"/>
                  </a:moveTo>
                  <a:lnTo>
                    <a:pt x="2682" y="300"/>
                  </a:lnTo>
                  <a:lnTo>
                    <a:pt x="2818" y="300"/>
                  </a:lnTo>
                  <a:lnTo>
                    <a:pt x="2836" y="300"/>
                  </a:lnTo>
                  <a:lnTo>
                    <a:pt x="2852" y="299"/>
                  </a:lnTo>
                  <a:lnTo>
                    <a:pt x="2867" y="298"/>
                  </a:lnTo>
                  <a:lnTo>
                    <a:pt x="2881" y="296"/>
                  </a:lnTo>
                  <a:lnTo>
                    <a:pt x="2894" y="294"/>
                  </a:lnTo>
                  <a:lnTo>
                    <a:pt x="2905" y="291"/>
                  </a:lnTo>
                  <a:lnTo>
                    <a:pt x="2915" y="288"/>
                  </a:lnTo>
                  <a:lnTo>
                    <a:pt x="2924" y="284"/>
                  </a:lnTo>
                  <a:lnTo>
                    <a:pt x="2932" y="279"/>
                  </a:lnTo>
                  <a:lnTo>
                    <a:pt x="2938" y="274"/>
                  </a:lnTo>
                  <a:lnTo>
                    <a:pt x="2943" y="268"/>
                  </a:lnTo>
                  <a:lnTo>
                    <a:pt x="2949" y="261"/>
                  </a:lnTo>
                  <a:lnTo>
                    <a:pt x="2952" y="254"/>
                  </a:lnTo>
                  <a:lnTo>
                    <a:pt x="2955" y="247"/>
                  </a:lnTo>
                  <a:lnTo>
                    <a:pt x="2956" y="238"/>
                  </a:lnTo>
                  <a:lnTo>
                    <a:pt x="2957" y="229"/>
                  </a:lnTo>
                  <a:lnTo>
                    <a:pt x="2956" y="220"/>
                  </a:lnTo>
                  <a:lnTo>
                    <a:pt x="2955" y="211"/>
                  </a:lnTo>
                  <a:lnTo>
                    <a:pt x="2952" y="203"/>
                  </a:lnTo>
                  <a:lnTo>
                    <a:pt x="2949" y="195"/>
                  </a:lnTo>
                  <a:lnTo>
                    <a:pt x="2945" y="189"/>
                  </a:lnTo>
                  <a:lnTo>
                    <a:pt x="2939" y="183"/>
                  </a:lnTo>
                  <a:lnTo>
                    <a:pt x="2933" y="178"/>
                  </a:lnTo>
                  <a:lnTo>
                    <a:pt x="2925" y="174"/>
                  </a:lnTo>
                  <a:lnTo>
                    <a:pt x="2918" y="170"/>
                  </a:lnTo>
                  <a:lnTo>
                    <a:pt x="2908" y="167"/>
                  </a:lnTo>
                  <a:lnTo>
                    <a:pt x="2895" y="164"/>
                  </a:lnTo>
                  <a:lnTo>
                    <a:pt x="2883" y="161"/>
                  </a:lnTo>
                  <a:lnTo>
                    <a:pt x="2867" y="160"/>
                  </a:lnTo>
                  <a:lnTo>
                    <a:pt x="2850" y="159"/>
                  </a:lnTo>
                  <a:lnTo>
                    <a:pt x="2832" y="158"/>
                  </a:lnTo>
                  <a:lnTo>
                    <a:pt x="2812" y="158"/>
                  </a:lnTo>
                  <a:lnTo>
                    <a:pt x="2682" y="158"/>
                  </a:lnTo>
                  <a:close/>
                  <a:moveTo>
                    <a:pt x="3865" y="511"/>
                  </a:moveTo>
                  <a:lnTo>
                    <a:pt x="3873" y="511"/>
                  </a:lnTo>
                  <a:lnTo>
                    <a:pt x="3879" y="510"/>
                  </a:lnTo>
                  <a:lnTo>
                    <a:pt x="3884" y="509"/>
                  </a:lnTo>
                  <a:lnTo>
                    <a:pt x="3889" y="506"/>
                  </a:lnTo>
                  <a:lnTo>
                    <a:pt x="3891" y="502"/>
                  </a:lnTo>
                  <a:lnTo>
                    <a:pt x="3895" y="498"/>
                  </a:lnTo>
                  <a:lnTo>
                    <a:pt x="3897" y="491"/>
                  </a:lnTo>
                  <a:lnTo>
                    <a:pt x="3900" y="482"/>
                  </a:lnTo>
                  <a:lnTo>
                    <a:pt x="3917" y="482"/>
                  </a:lnTo>
                  <a:lnTo>
                    <a:pt x="3917" y="691"/>
                  </a:lnTo>
                  <a:lnTo>
                    <a:pt x="3900" y="691"/>
                  </a:lnTo>
                  <a:lnTo>
                    <a:pt x="3897" y="682"/>
                  </a:lnTo>
                  <a:lnTo>
                    <a:pt x="3895" y="675"/>
                  </a:lnTo>
                  <a:lnTo>
                    <a:pt x="3891" y="669"/>
                  </a:lnTo>
                  <a:lnTo>
                    <a:pt x="3889" y="666"/>
                  </a:lnTo>
                  <a:lnTo>
                    <a:pt x="3884" y="664"/>
                  </a:lnTo>
                  <a:lnTo>
                    <a:pt x="3880" y="661"/>
                  </a:lnTo>
                  <a:lnTo>
                    <a:pt x="3873" y="660"/>
                  </a:lnTo>
                  <a:lnTo>
                    <a:pt x="3865" y="660"/>
                  </a:lnTo>
                  <a:lnTo>
                    <a:pt x="3269" y="660"/>
                  </a:lnTo>
                  <a:lnTo>
                    <a:pt x="3269" y="644"/>
                  </a:lnTo>
                  <a:lnTo>
                    <a:pt x="3278" y="641"/>
                  </a:lnTo>
                  <a:lnTo>
                    <a:pt x="3285" y="639"/>
                  </a:lnTo>
                  <a:lnTo>
                    <a:pt x="3290" y="636"/>
                  </a:lnTo>
                  <a:lnTo>
                    <a:pt x="3294" y="633"/>
                  </a:lnTo>
                  <a:lnTo>
                    <a:pt x="3296" y="629"/>
                  </a:lnTo>
                  <a:lnTo>
                    <a:pt x="3298" y="623"/>
                  </a:lnTo>
                  <a:lnTo>
                    <a:pt x="3299" y="617"/>
                  </a:lnTo>
                  <a:lnTo>
                    <a:pt x="3299" y="609"/>
                  </a:lnTo>
                  <a:lnTo>
                    <a:pt x="3299" y="83"/>
                  </a:lnTo>
                  <a:lnTo>
                    <a:pt x="3299" y="74"/>
                  </a:lnTo>
                  <a:lnTo>
                    <a:pt x="3298" y="67"/>
                  </a:lnTo>
                  <a:lnTo>
                    <a:pt x="3296" y="63"/>
                  </a:lnTo>
                  <a:lnTo>
                    <a:pt x="3294" y="58"/>
                  </a:lnTo>
                  <a:lnTo>
                    <a:pt x="3290" y="55"/>
                  </a:lnTo>
                  <a:lnTo>
                    <a:pt x="3285" y="53"/>
                  </a:lnTo>
                  <a:lnTo>
                    <a:pt x="3278" y="49"/>
                  </a:lnTo>
                  <a:lnTo>
                    <a:pt x="3269" y="47"/>
                  </a:lnTo>
                  <a:lnTo>
                    <a:pt x="3269" y="31"/>
                  </a:lnTo>
                  <a:lnTo>
                    <a:pt x="3508" y="31"/>
                  </a:lnTo>
                  <a:lnTo>
                    <a:pt x="3508" y="47"/>
                  </a:lnTo>
                  <a:lnTo>
                    <a:pt x="3499" y="49"/>
                  </a:lnTo>
                  <a:lnTo>
                    <a:pt x="3493" y="53"/>
                  </a:lnTo>
                  <a:lnTo>
                    <a:pt x="3487" y="56"/>
                  </a:lnTo>
                  <a:lnTo>
                    <a:pt x="3482" y="58"/>
                  </a:lnTo>
                  <a:lnTo>
                    <a:pt x="3480" y="63"/>
                  </a:lnTo>
                  <a:lnTo>
                    <a:pt x="3478" y="68"/>
                  </a:lnTo>
                  <a:lnTo>
                    <a:pt x="3478" y="75"/>
                  </a:lnTo>
                  <a:lnTo>
                    <a:pt x="3477" y="83"/>
                  </a:lnTo>
                  <a:lnTo>
                    <a:pt x="3477" y="511"/>
                  </a:lnTo>
                  <a:lnTo>
                    <a:pt x="3865" y="511"/>
                  </a:lnTo>
                  <a:close/>
                  <a:moveTo>
                    <a:pt x="4646" y="511"/>
                  </a:moveTo>
                  <a:lnTo>
                    <a:pt x="4654" y="511"/>
                  </a:lnTo>
                  <a:lnTo>
                    <a:pt x="4659" y="510"/>
                  </a:lnTo>
                  <a:lnTo>
                    <a:pt x="4665" y="509"/>
                  </a:lnTo>
                  <a:lnTo>
                    <a:pt x="4669" y="506"/>
                  </a:lnTo>
                  <a:lnTo>
                    <a:pt x="4672" y="502"/>
                  </a:lnTo>
                  <a:lnTo>
                    <a:pt x="4675" y="498"/>
                  </a:lnTo>
                  <a:lnTo>
                    <a:pt x="4677" y="491"/>
                  </a:lnTo>
                  <a:lnTo>
                    <a:pt x="4681" y="482"/>
                  </a:lnTo>
                  <a:lnTo>
                    <a:pt x="4697" y="482"/>
                  </a:lnTo>
                  <a:lnTo>
                    <a:pt x="4697" y="691"/>
                  </a:lnTo>
                  <a:lnTo>
                    <a:pt x="4681" y="691"/>
                  </a:lnTo>
                  <a:lnTo>
                    <a:pt x="4677" y="682"/>
                  </a:lnTo>
                  <a:lnTo>
                    <a:pt x="4675" y="675"/>
                  </a:lnTo>
                  <a:lnTo>
                    <a:pt x="4672" y="669"/>
                  </a:lnTo>
                  <a:lnTo>
                    <a:pt x="4669" y="666"/>
                  </a:lnTo>
                  <a:lnTo>
                    <a:pt x="4665" y="664"/>
                  </a:lnTo>
                  <a:lnTo>
                    <a:pt x="4660" y="661"/>
                  </a:lnTo>
                  <a:lnTo>
                    <a:pt x="4654" y="660"/>
                  </a:lnTo>
                  <a:lnTo>
                    <a:pt x="4646" y="660"/>
                  </a:lnTo>
                  <a:lnTo>
                    <a:pt x="4076" y="660"/>
                  </a:lnTo>
                  <a:lnTo>
                    <a:pt x="4076" y="644"/>
                  </a:lnTo>
                  <a:lnTo>
                    <a:pt x="4084" y="641"/>
                  </a:lnTo>
                  <a:lnTo>
                    <a:pt x="4092" y="639"/>
                  </a:lnTo>
                  <a:lnTo>
                    <a:pt x="4097" y="636"/>
                  </a:lnTo>
                  <a:lnTo>
                    <a:pt x="4100" y="633"/>
                  </a:lnTo>
                  <a:lnTo>
                    <a:pt x="4103" y="629"/>
                  </a:lnTo>
                  <a:lnTo>
                    <a:pt x="4105" y="623"/>
                  </a:lnTo>
                  <a:lnTo>
                    <a:pt x="4106" y="617"/>
                  </a:lnTo>
                  <a:lnTo>
                    <a:pt x="4106" y="609"/>
                  </a:lnTo>
                  <a:lnTo>
                    <a:pt x="4106" y="83"/>
                  </a:lnTo>
                  <a:lnTo>
                    <a:pt x="4106" y="74"/>
                  </a:lnTo>
                  <a:lnTo>
                    <a:pt x="4105" y="67"/>
                  </a:lnTo>
                  <a:lnTo>
                    <a:pt x="4103" y="63"/>
                  </a:lnTo>
                  <a:lnTo>
                    <a:pt x="4100" y="58"/>
                  </a:lnTo>
                  <a:lnTo>
                    <a:pt x="4097" y="55"/>
                  </a:lnTo>
                  <a:lnTo>
                    <a:pt x="4092" y="53"/>
                  </a:lnTo>
                  <a:lnTo>
                    <a:pt x="4084" y="49"/>
                  </a:lnTo>
                  <a:lnTo>
                    <a:pt x="4076" y="47"/>
                  </a:lnTo>
                  <a:lnTo>
                    <a:pt x="4076" y="31"/>
                  </a:lnTo>
                  <a:lnTo>
                    <a:pt x="4647" y="31"/>
                  </a:lnTo>
                  <a:lnTo>
                    <a:pt x="4655" y="30"/>
                  </a:lnTo>
                  <a:lnTo>
                    <a:pt x="4660" y="29"/>
                  </a:lnTo>
                  <a:lnTo>
                    <a:pt x="4666" y="27"/>
                  </a:lnTo>
                  <a:lnTo>
                    <a:pt x="4671" y="25"/>
                  </a:lnTo>
                  <a:lnTo>
                    <a:pt x="4673" y="21"/>
                  </a:lnTo>
                  <a:lnTo>
                    <a:pt x="4676" y="16"/>
                  </a:lnTo>
                  <a:lnTo>
                    <a:pt x="4678" y="9"/>
                  </a:lnTo>
                  <a:lnTo>
                    <a:pt x="4681" y="0"/>
                  </a:lnTo>
                  <a:lnTo>
                    <a:pt x="4697" y="0"/>
                  </a:lnTo>
                  <a:lnTo>
                    <a:pt x="4697" y="210"/>
                  </a:lnTo>
                  <a:lnTo>
                    <a:pt x="4681" y="210"/>
                  </a:lnTo>
                  <a:lnTo>
                    <a:pt x="4678" y="201"/>
                  </a:lnTo>
                  <a:lnTo>
                    <a:pt x="4675" y="194"/>
                  </a:lnTo>
                  <a:lnTo>
                    <a:pt x="4673" y="188"/>
                  </a:lnTo>
                  <a:lnTo>
                    <a:pt x="4669" y="185"/>
                  </a:lnTo>
                  <a:lnTo>
                    <a:pt x="4665" y="183"/>
                  </a:lnTo>
                  <a:lnTo>
                    <a:pt x="4660" y="180"/>
                  </a:lnTo>
                  <a:lnTo>
                    <a:pt x="4654" y="180"/>
                  </a:lnTo>
                  <a:lnTo>
                    <a:pt x="4647" y="179"/>
                  </a:lnTo>
                  <a:lnTo>
                    <a:pt x="4284" y="179"/>
                  </a:lnTo>
                  <a:lnTo>
                    <a:pt x="4284" y="268"/>
                  </a:lnTo>
                  <a:lnTo>
                    <a:pt x="4501" y="268"/>
                  </a:lnTo>
                  <a:lnTo>
                    <a:pt x="4509" y="268"/>
                  </a:lnTo>
                  <a:lnTo>
                    <a:pt x="4516" y="267"/>
                  </a:lnTo>
                  <a:lnTo>
                    <a:pt x="4521" y="265"/>
                  </a:lnTo>
                  <a:lnTo>
                    <a:pt x="4526" y="262"/>
                  </a:lnTo>
                  <a:lnTo>
                    <a:pt x="4528" y="259"/>
                  </a:lnTo>
                  <a:lnTo>
                    <a:pt x="4531" y="253"/>
                  </a:lnTo>
                  <a:lnTo>
                    <a:pt x="4535" y="247"/>
                  </a:lnTo>
                  <a:lnTo>
                    <a:pt x="4538" y="239"/>
                  </a:lnTo>
                  <a:lnTo>
                    <a:pt x="4554" y="239"/>
                  </a:lnTo>
                  <a:lnTo>
                    <a:pt x="4554" y="434"/>
                  </a:lnTo>
                  <a:lnTo>
                    <a:pt x="4537" y="434"/>
                  </a:lnTo>
                  <a:lnTo>
                    <a:pt x="4535" y="425"/>
                  </a:lnTo>
                  <a:lnTo>
                    <a:pt x="4531" y="418"/>
                  </a:lnTo>
                  <a:lnTo>
                    <a:pt x="4528" y="414"/>
                  </a:lnTo>
                  <a:lnTo>
                    <a:pt x="4525" y="409"/>
                  </a:lnTo>
                  <a:lnTo>
                    <a:pt x="4521" y="407"/>
                  </a:lnTo>
                  <a:lnTo>
                    <a:pt x="4516" y="406"/>
                  </a:lnTo>
                  <a:lnTo>
                    <a:pt x="4509" y="405"/>
                  </a:lnTo>
                  <a:lnTo>
                    <a:pt x="4501" y="404"/>
                  </a:lnTo>
                  <a:lnTo>
                    <a:pt x="4284" y="404"/>
                  </a:lnTo>
                  <a:lnTo>
                    <a:pt x="4284" y="511"/>
                  </a:lnTo>
                  <a:lnTo>
                    <a:pt x="4646" y="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388280" y="6329520"/>
              <a:ext cx="29520" cy="82080"/>
            </a:xfrm>
            <a:custGeom>
              <a:avLst/>
              <a:gdLst/>
              <a:ahLst/>
              <a:rect l="l" t="t" r="r" b="b"/>
              <a:pathLst>
                <a:path w="281" h="280">
                  <a:moveTo>
                    <a:pt x="140" y="0"/>
                  </a:moveTo>
                  <a:lnTo>
                    <a:pt x="155" y="1"/>
                  </a:lnTo>
                  <a:lnTo>
                    <a:pt x="168" y="2"/>
                  </a:lnTo>
                  <a:lnTo>
                    <a:pt x="182" y="6"/>
                  </a:lnTo>
                  <a:lnTo>
                    <a:pt x="195" y="11"/>
                  </a:lnTo>
                  <a:lnTo>
                    <a:pt x="208" y="17"/>
                  </a:lnTo>
                  <a:lnTo>
                    <a:pt x="219" y="23"/>
                  </a:lnTo>
                  <a:lnTo>
                    <a:pt x="230" y="32"/>
                  </a:lnTo>
                  <a:lnTo>
                    <a:pt x="239" y="41"/>
                  </a:lnTo>
                  <a:lnTo>
                    <a:pt x="249" y="51"/>
                  </a:lnTo>
                  <a:lnTo>
                    <a:pt x="257" y="61"/>
                  </a:lnTo>
                  <a:lnTo>
                    <a:pt x="264" y="74"/>
                  </a:lnTo>
                  <a:lnTo>
                    <a:pt x="269" y="86"/>
                  </a:lnTo>
                  <a:lnTo>
                    <a:pt x="275" y="98"/>
                  </a:lnTo>
                  <a:lnTo>
                    <a:pt x="278" y="112"/>
                  </a:lnTo>
                  <a:lnTo>
                    <a:pt x="281" y="125"/>
                  </a:lnTo>
                  <a:lnTo>
                    <a:pt x="281" y="140"/>
                  </a:lnTo>
                  <a:lnTo>
                    <a:pt x="281" y="154"/>
                  </a:lnTo>
                  <a:lnTo>
                    <a:pt x="278" y="168"/>
                  </a:lnTo>
                  <a:lnTo>
                    <a:pt x="275" y="181"/>
                  </a:lnTo>
                  <a:lnTo>
                    <a:pt x="269" y="195"/>
                  </a:lnTo>
                  <a:lnTo>
                    <a:pt x="264" y="207"/>
                  </a:lnTo>
                  <a:lnTo>
                    <a:pt x="257" y="218"/>
                  </a:lnTo>
                  <a:lnTo>
                    <a:pt x="249" y="230"/>
                  </a:lnTo>
                  <a:lnTo>
                    <a:pt x="239" y="240"/>
                  </a:lnTo>
                  <a:lnTo>
                    <a:pt x="230" y="249"/>
                  </a:lnTo>
                  <a:lnTo>
                    <a:pt x="219" y="256"/>
                  </a:lnTo>
                  <a:lnTo>
                    <a:pt x="208" y="263"/>
                  </a:lnTo>
                  <a:lnTo>
                    <a:pt x="195" y="270"/>
                  </a:lnTo>
                  <a:lnTo>
                    <a:pt x="182" y="274"/>
                  </a:lnTo>
                  <a:lnTo>
                    <a:pt x="168" y="278"/>
                  </a:lnTo>
                  <a:lnTo>
                    <a:pt x="155" y="280"/>
                  </a:lnTo>
                  <a:lnTo>
                    <a:pt x="140" y="280"/>
                  </a:lnTo>
                  <a:lnTo>
                    <a:pt x="126" y="280"/>
                  </a:lnTo>
                  <a:lnTo>
                    <a:pt x="112" y="278"/>
                  </a:lnTo>
                  <a:lnTo>
                    <a:pt x="99" y="274"/>
                  </a:lnTo>
                  <a:lnTo>
                    <a:pt x="85" y="270"/>
                  </a:lnTo>
                  <a:lnTo>
                    <a:pt x="73" y="263"/>
                  </a:lnTo>
                  <a:lnTo>
                    <a:pt x="62" y="256"/>
                  </a:lnTo>
                  <a:lnTo>
                    <a:pt x="50" y="249"/>
                  </a:lnTo>
                  <a:lnTo>
                    <a:pt x="40" y="240"/>
                  </a:lnTo>
                  <a:lnTo>
                    <a:pt x="31" y="230"/>
                  </a:lnTo>
                  <a:lnTo>
                    <a:pt x="23" y="218"/>
                  </a:lnTo>
                  <a:lnTo>
                    <a:pt x="17" y="207"/>
                  </a:lnTo>
                  <a:lnTo>
                    <a:pt x="11" y="195"/>
                  </a:lnTo>
                  <a:lnTo>
                    <a:pt x="5" y="181"/>
                  </a:lnTo>
                  <a:lnTo>
                    <a:pt x="2" y="168"/>
                  </a:lnTo>
                  <a:lnTo>
                    <a:pt x="0" y="154"/>
                  </a:lnTo>
                  <a:lnTo>
                    <a:pt x="0" y="140"/>
                  </a:lnTo>
                  <a:lnTo>
                    <a:pt x="0" y="125"/>
                  </a:lnTo>
                  <a:lnTo>
                    <a:pt x="2" y="112"/>
                  </a:lnTo>
                  <a:lnTo>
                    <a:pt x="5" y="98"/>
                  </a:lnTo>
                  <a:lnTo>
                    <a:pt x="11" y="86"/>
                  </a:lnTo>
                  <a:lnTo>
                    <a:pt x="17" y="74"/>
                  </a:lnTo>
                  <a:lnTo>
                    <a:pt x="23" y="61"/>
                  </a:lnTo>
                  <a:lnTo>
                    <a:pt x="31" y="51"/>
                  </a:lnTo>
                  <a:lnTo>
                    <a:pt x="40" y="41"/>
                  </a:lnTo>
                  <a:lnTo>
                    <a:pt x="50" y="32"/>
                  </a:lnTo>
                  <a:lnTo>
                    <a:pt x="62" y="23"/>
                  </a:lnTo>
                  <a:lnTo>
                    <a:pt x="73" y="17"/>
                  </a:lnTo>
                  <a:lnTo>
                    <a:pt x="85" y="11"/>
                  </a:lnTo>
                  <a:lnTo>
                    <a:pt x="99" y="6"/>
                  </a:lnTo>
                  <a:lnTo>
                    <a:pt x="112" y="2"/>
                  </a:lnTo>
                  <a:lnTo>
                    <a:pt x="126" y="1"/>
                  </a:lnTo>
                  <a:lnTo>
                    <a:pt x="14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17" name=""/>
            <p:cNvSpPr/>
            <p:nvPr/>
          </p:nvSpPr>
          <p:spPr>
            <a:xfrm>
              <a:off x="8214480" y="6329520"/>
              <a:ext cx="29520" cy="82080"/>
            </a:xfrm>
            <a:custGeom>
              <a:avLst/>
              <a:gdLst/>
              <a:ahLst/>
              <a:rect l="l" t="t" r="r" b="b"/>
              <a:pathLst>
                <a:path w="281" h="280">
                  <a:moveTo>
                    <a:pt x="140" y="0"/>
                  </a:moveTo>
                  <a:lnTo>
                    <a:pt x="155" y="1"/>
                  </a:lnTo>
                  <a:lnTo>
                    <a:pt x="168" y="2"/>
                  </a:lnTo>
                  <a:lnTo>
                    <a:pt x="182" y="6"/>
                  </a:lnTo>
                  <a:lnTo>
                    <a:pt x="195" y="11"/>
                  </a:lnTo>
                  <a:lnTo>
                    <a:pt x="208" y="17"/>
                  </a:lnTo>
                  <a:lnTo>
                    <a:pt x="219" y="23"/>
                  </a:lnTo>
                  <a:lnTo>
                    <a:pt x="230" y="32"/>
                  </a:lnTo>
                  <a:lnTo>
                    <a:pt x="240" y="41"/>
                  </a:lnTo>
                  <a:lnTo>
                    <a:pt x="249" y="51"/>
                  </a:lnTo>
                  <a:lnTo>
                    <a:pt x="257" y="61"/>
                  </a:lnTo>
                  <a:lnTo>
                    <a:pt x="264" y="74"/>
                  </a:lnTo>
                  <a:lnTo>
                    <a:pt x="269" y="86"/>
                  </a:lnTo>
                  <a:lnTo>
                    <a:pt x="275" y="98"/>
                  </a:lnTo>
                  <a:lnTo>
                    <a:pt x="278" y="112"/>
                  </a:lnTo>
                  <a:lnTo>
                    <a:pt x="281" y="125"/>
                  </a:lnTo>
                  <a:lnTo>
                    <a:pt x="281" y="140"/>
                  </a:lnTo>
                  <a:lnTo>
                    <a:pt x="281" y="154"/>
                  </a:lnTo>
                  <a:lnTo>
                    <a:pt x="278" y="168"/>
                  </a:lnTo>
                  <a:lnTo>
                    <a:pt x="275" y="181"/>
                  </a:lnTo>
                  <a:lnTo>
                    <a:pt x="269" y="195"/>
                  </a:lnTo>
                  <a:lnTo>
                    <a:pt x="264" y="207"/>
                  </a:lnTo>
                  <a:lnTo>
                    <a:pt x="257" y="218"/>
                  </a:lnTo>
                  <a:lnTo>
                    <a:pt x="249" y="230"/>
                  </a:lnTo>
                  <a:lnTo>
                    <a:pt x="240" y="240"/>
                  </a:lnTo>
                  <a:lnTo>
                    <a:pt x="230" y="249"/>
                  </a:lnTo>
                  <a:lnTo>
                    <a:pt x="219" y="256"/>
                  </a:lnTo>
                  <a:lnTo>
                    <a:pt x="208" y="263"/>
                  </a:lnTo>
                  <a:lnTo>
                    <a:pt x="195" y="270"/>
                  </a:lnTo>
                  <a:lnTo>
                    <a:pt x="182" y="274"/>
                  </a:lnTo>
                  <a:lnTo>
                    <a:pt x="168" y="278"/>
                  </a:lnTo>
                  <a:lnTo>
                    <a:pt x="155" y="280"/>
                  </a:lnTo>
                  <a:lnTo>
                    <a:pt x="140" y="280"/>
                  </a:lnTo>
                  <a:lnTo>
                    <a:pt x="126" y="280"/>
                  </a:lnTo>
                  <a:lnTo>
                    <a:pt x="112" y="278"/>
                  </a:lnTo>
                  <a:lnTo>
                    <a:pt x="99" y="274"/>
                  </a:lnTo>
                  <a:lnTo>
                    <a:pt x="85" y="270"/>
                  </a:lnTo>
                  <a:lnTo>
                    <a:pt x="73" y="263"/>
                  </a:lnTo>
                  <a:lnTo>
                    <a:pt x="62" y="256"/>
                  </a:lnTo>
                  <a:lnTo>
                    <a:pt x="50" y="249"/>
                  </a:lnTo>
                  <a:lnTo>
                    <a:pt x="41" y="240"/>
                  </a:lnTo>
                  <a:lnTo>
                    <a:pt x="31" y="230"/>
                  </a:lnTo>
                  <a:lnTo>
                    <a:pt x="24" y="218"/>
                  </a:lnTo>
                  <a:lnTo>
                    <a:pt x="17" y="207"/>
                  </a:lnTo>
                  <a:lnTo>
                    <a:pt x="11" y="195"/>
                  </a:lnTo>
                  <a:lnTo>
                    <a:pt x="6" y="181"/>
                  </a:lnTo>
                  <a:lnTo>
                    <a:pt x="2" y="168"/>
                  </a:lnTo>
                  <a:lnTo>
                    <a:pt x="0" y="154"/>
                  </a:lnTo>
                  <a:lnTo>
                    <a:pt x="0" y="140"/>
                  </a:lnTo>
                  <a:lnTo>
                    <a:pt x="0" y="125"/>
                  </a:lnTo>
                  <a:lnTo>
                    <a:pt x="2" y="112"/>
                  </a:lnTo>
                  <a:lnTo>
                    <a:pt x="6" y="98"/>
                  </a:lnTo>
                  <a:lnTo>
                    <a:pt x="11" y="86"/>
                  </a:lnTo>
                  <a:lnTo>
                    <a:pt x="17" y="74"/>
                  </a:lnTo>
                  <a:lnTo>
                    <a:pt x="24" y="61"/>
                  </a:lnTo>
                  <a:lnTo>
                    <a:pt x="31" y="51"/>
                  </a:lnTo>
                  <a:lnTo>
                    <a:pt x="41" y="41"/>
                  </a:lnTo>
                  <a:lnTo>
                    <a:pt x="50" y="32"/>
                  </a:lnTo>
                  <a:lnTo>
                    <a:pt x="62" y="23"/>
                  </a:lnTo>
                  <a:lnTo>
                    <a:pt x="73" y="17"/>
                  </a:lnTo>
                  <a:lnTo>
                    <a:pt x="85" y="11"/>
                  </a:lnTo>
                  <a:lnTo>
                    <a:pt x="99" y="6"/>
                  </a:lnTo>
                  <a:lnTo>
                    <a:pt x="112" y="2"/>
                  </a:lnTo>
                  <a:lnTo>
                    <a:pt x="126" y="1"/>
                  </a:lnTo>
                  <a:lnTo>
                    <a:pt x="14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18" name=""/>
            <p:cNvSpPr/>
            <p:nvPr/>
          </p:nvSpPr>
          <p:spPr>
            <a:xfrm>
              <a:off x="8787240" y="6248520"/>
              <a:ext cx="51480" cy="76680"/>
            </a:xfrm>
            <a:custGeom>
              <a:avLst/>
              <a:gdLst/>
              <a:ahLst/>
              <a:rect l="l" t="t" r="r" b="b"/>
              <a:pathLst>
                <a:path w="490" h="260">
                  <a:moveTo>
                    <a:pt x="87" y="260"/>
                  </a:moveTo>
                  <a:lnTo>
                    <a:pt x="87" y="30"/>
                  </a:lnTo>
                  <a:lnTo>
                    <a:pt x="0" y="30"/>
                  </a:lnTo>
                  <a:lnTo>
                    <a:pt x="0" y="0"/>
                  </a:lnTo>
                  <a:lnTo>
                    <a:pt x="207" y="0"/>
                  </a:lnTo>
                  <a:lnTo>
                    <a:pt x="207" y="30"/>
                  </a:lnTo>
                  <a:lnTo>
                    <a:pt x="122" y="30"/>
                  </a:lnTo>
                  <a:lnTo>
                    <a:pt x="122" y="260"/>
                  </a:lnTo>
                  <a:lnTo>
                    <a:pt x="87" y="260"/>
                  </a:lnTo>
                  <a:close/>
                  <a:moveTo>
                    <a:pt x="242" y="260"/>
                  </a:moveTo>
                  <a:lnTo>
                    <a:pt x="242" y="0"/>
                  </a:lnTo>
                  <a:lnTo>
                    <a:pt x="293" y="0"/>
                  </a:lnTo>
                  <a:lnTo>
                    <a:pt x="355" y="184"/>
                  </a:lnTo>
                  <a:lnTo>
                    <a:pt x="359" y="196"/>
                  </a:lnTo>
                  <a:lnTo>
                    <a:pt x="362" y="206"/>
                  </a:lnTo>
                  <a:lnTo>
                    <a:pt x="365" y="215"/>
                  </a:lnTo>
                  <a:lnTo>
                    <a:pt x="368" y="223"/>
                  </a:lnTo>
                  <a:lnTo>
                    <a:pt x="370" y="215"/>
                  </a:lnTo>
                  <a:lnTo>
                    <a:pt x="373" y="205"/>
                  </a:lnTo>
                  <a:lnTo>
                    <a:pt x="377" y="194"/>
                  </a:lnTo>
                  <a:lnTo>
                    <a:pt x="381" y="181"/>
                  </a:lnTo>
                  <a:lnTo>
                    <a:pt x="444" y="0"/>
                  </a:lnTo>
                  <a:lnTo>
                    <a:pt x="490" y="0"/>
                  </a:lnTo>
                  <a:lnTo>
                    <a:pt x="490" y="260"/>
                  </a:lnTo>
                  <a:lnTo>
                    <a:pt x="456" y="260"/>
                  </a:lnTo>
                  <a:lnTo>
                    <a:pt x="456" y="43"/>
                  </a:lnTo>
                  <a:lnTo>
                    <a:pt x="381" y="260"/>
                  </a:lnTo>
                  <a:lnTo>
                    <a:pt x="350" y="260"/>
                  </a:lnTo>
                  <a:lnTo>
                    <a:pt x="274" y="39"/>
                  </a:lnTo>
                  <a:lnTo>
                    <a:pt x="274" y="260"/>
                  </a:lnTo>
                  <a:lnTo>
                    <a:pt x="242" y="26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119"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 name="Hhslogo%20B%20copy" descr=""/>
          <p:cNvPicPr/>
          <p:nvPr/>
        </p:nvPicPr>
        <p:blipFill>
          <a:blip r:embed="rId4"/>
          <a:stretch/>
        </p:blipFill>
        <p:spPr>
          <a:xfrm>
            <a:off x="3809880" y="457200"/>
            <a:ext cx="1828800" cy="175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6680" y="76320"/>
            <a:ext cx="952524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7-2b. Cigarette Use in Past Month*:</a:t>
            </a:r>
            <a:br>
              <a:rPr sz="3200"/>
            </a:br>
            <a:r>
              <a:rPr b="1" lang="en-US" sz="3200" spc="-1" strike="noStrike">
                <a:solidFill>
                  <a:srgbClr val="000000"/>
                </a:solidFill>
                <a:latin typeface="Arial"/>
              </a:rPr>
              <a:t>Students (grades 9-12)</a:t>
            </a:r>
            <a:endParaRPr b="0" lang="en-US" sz="3200" spc="-1" strike="noStrike">
              <a:solidFill>
                <a:srgbClr val="000000"/>
              </a:solidFill>
              <a:latin typeface="Times New Roman"/>
            </a:endParaRPr>
          </a:p>
        </p:txBody>
      </p:sp>
      <p:graphicFrame>
        <p:nvGraphicFramePr>
          <p:cNvPr id="325" name=""/>
          <p:cNvGraphicFramePr/>
          <p:nvPr/>
        </p:nvGraphicFramePr>
        <p:xfrm>
          <a:off x="0" y="1600200"/>
          <a:ext cx="8759880" cy="4191120"/>
        </p:xfrm>
        <a:graphic>
          <a:graphicData uri="http://schemas.openxmlformats.org/presentationml/2006/ole">
            <p:oleObj r:id="rId1" spid="">
              <p:embed/>
              <p:pic>
                <p:nvPicPr>
                  <p:cNvPr id="326" name="" descr=""/>
                  <p:cNvPicPr/>
                  <p:nvPr/>
                </p:nvPicPr>
                <p:blipFill>
                  <a:blip r:embed="rId2"/>
                  <a:stretch/>
                </p:blipFill>
                <p:spPr>
                  <a:xfrm>
                    <a:off x="0" y="1600200"/>
                    <a:ext cx="8759880" cy="4191120"/>
                  </a:xfrm>
                  <a:prstGeom prst="rect">
                    <a:avLst/>
                  </a:prstGeom>
                  <a:ln w="0">
                    <a:noFill/>
                  </a:ln>
                </p:spPr>
              </p:pic>
            </p:oleObj>
          </a:graphicData>
        </a:graphic>
      </p:graphicFrame>
      <p:sp>
        <p:nvSpPr>
          <p:cNvPr id="327" name=""/>
          <p:cNvSpPr/>
          <p:nvPr/>
        </p:nvSpPr>
        <p:spPr>
          <a:xfrm>
            <a:off x="7696080" y="541008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les</a:t>
            </a:r>
            <a:endParaRPr b="0" lang="en-US" sz="1600" spc="-1" strike="noStrike">
              <a:solidFill>
                <a:srgbClr val="000000"/>
              </a:solidFill>
              <a:latin typeface="Times New Roman"/>
            </a:endParaRPr>
          </a:p>
        </p:txBody>
      </p:sp>
      <p:sp>
        <p:nvSpPr>
          <p:cNvPr id="328" name=""/>
          <p:cNvSpPr/>
          <p:nvPr/>
        </p:nvSpPr>
        <p:spPr>
          <a:xfrm>
            <a:off x="2230560" y="5486400"/>
            <a:ext cx="127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spanic </a:t>
            </a:r>
            <a:endParaRPr b="0" lang="en-US" sz="1600" spc="-1" strike="noStrike">
              <a:solidFill>
                <a:srgbClr val="000000"/>
              </a:solidFill>
              <a:latin typeface="Times New Roman"/>
            </a:endParaRPr>
          </a:p>
        </p:txBody>
      </p:sp>
      <p:sp>
        <p:nvSpPr>
          <p:cNvPr id="329" name=""/>
          <p:cNvSpPr/>
          <p:nvPr/>
        </p:nvSpPr>
        <p:spPr>
          <a:xfrm>
            <a:off x="3421080" y="5410080"/>
            <a:ext cx="1531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ack, not Hispanic</a:t>
            </a:r>
            <a:endParaRPr b="0" lang="en-US" sz="1600" spc="-1" strike="noStrike">
              <a:solidFill>
                <a:srgbClr val="000000"/>
              </a:solidFill>
              <a:latin typeface="Times New Roman"/>
            </a:endParaRPr>
          </a:p>
        </p:txBody>
      </p:sp>
      <p:sp>
        <p:nvSpPr>
          <p:cNvPr id="330" name=""/>
          <p:cNvSpPr/>
          <p:nvPr/>
        </p:nvSpPr>
        <p:spPr>
          <a:xfrm>
            <a:off x="4648320" y="5410080"/>
            <a:ext cx="1676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te, not Hispanic</a:t>
            </a:r>
            <a:endParaRPr b="0" lang="en-US" sz="1600" spc="-1" strike="noStrike">
              <a:solidFill>
                <a:srgbClr val="000000"/>
              </a:solidFill>
              <a:latin typeface="Times New Roman"/>
            </a:endParaRPr>
          </a:p>
        </p:txBody>
      </p:sp>
      <p:sp>
        <p:nvSpPr>
          <p:cNvPr id="331" name=""/>
          <p:cNvSpPr/>
          <p:nvPr/>
        </p:nvSpPr>
        <p:spPr>
          <a:xfrm>
            <a:off x="6248520" y="1523880"/>
            <a:ext cx="1768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332" name=""/>
          <p:cNvSpPr/>
          <p:nvPr/>
        </p:nvSpPr>
        <p:spPr>
          <a:xfrm>
            <a:off x="533520" y="4140360"/>
            <a:ext cx="7953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419720" y="1523880"/>
            <a:ext cx="304560" cy="304920"/>
          </a:xfrm>
          <a:prstGeom prst="rect">
            <a:avLst/>
          </a:prstGeom>
          <a:solidFill>
            <a:srgbClr val="cdd5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209680" y="1523880"/>
            <a:ext cx="304920" cy="30492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514600" y="1523880"/>
            <a:ext cx="200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9 Baseline</a:t>
            </a:r>
            <a:endParaRPr b="0" lang="en-US" sz="1400" spc="-1" strike="noStrike">
              <a:solidFill>
                <a:srgbClr val="000000"/>
              </a:solidFill>
              <a:latin typeface="Times New Roman"/>
            </a:endParaRPr>
          </a:p>
        </p:txBody>
      </p:sp>
      <p:sp>
        <p:nvSpPr>
          <p:cNvPr id="336" name=""/>
          <p:cNvSpPr/>
          <p:nvPr/>
        </p:nvSpPr>
        <p:spPr>
          <a:xfrm>
            <a:off x="4724280" y="1523880"/>
            <a:ext cx="335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1</a:t>
            </a:r>
            <a:endParaRPr b="0" lang="en-US" sz="1400" spc="-1" strike="noStrike">
              <a:solidFill>
                <a:srgbClr val="000000"/>
              </a:solidFill>
              <a:latin typeface="Times New Roman"/>
            </a:endParaRPr>
          </a:p>
        </p:txBody>
      </p:sp>
      <p:sp>
        <p:nvSpPr>
          <p:cNvPr id="337" name=""/>
          <p:cNvSpPr/>
          <p:nvPr/>
        </p:nvSpPr>
        <p:spPr>
          <a:xfrm>
            <a:off x="231840" y="15238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338"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5943600" y="16765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80880" y="5410080"/>
            <a:ext cx="127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Times New Roman"/>
            </a:endParaRPr>
          </a:p>
        </p:txBody>
      </p:sp>
      <p:sp>
        <p:nvSpPr>
          <p:cNvPr id="342" name=""/>
          <p:cNvSpPr/>
          <p:nvPr/>
        </p:nvSpPr>
        <p:spPr>
          <a:xfrm>
            <a:off x="6400800" y="54100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males</a:t>
            </a:r>
            <a:endParaRPr b="0" lang="en-US" sz="1600" spc="-1" strike="noStrike">
              <a:solidFill>
                <a:srgbClr val="000000"/>
              </a:solidFill>
              <a:latin typeface="Times New Roman"/>
            </a:endParaRPr>
          </a:p>
        </p:txBody>
      </p:sp>
      <p:sp>
        <p:nvSpPr>
          <p:cNvPr id="343" name=""/>
          <p:cNvSpPr/>
          <p:nvPr/>
        </p:nvSpPr>
        <p:spPr>
          <a:xfrm>
            <a:off x="-4680" y="6553080"/>
            <a:ext cx="7986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Sources: Youth Risk Behavior Surveillance System (YRBSS), NCCDPHP, CDC and **National Youth Tobacco Survey, OSH, CDC and The American Legacy Found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4" name=""/>
          <p:cNvSpPr/>
          <p:nvPr/>
        </p:nvSpPr>
        <p:spPr>
          <a:xfrm>
            <a:off x="28800" y="6019920"/>
            <a:ext cx="498888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oked cigarette(s) on one or more days of the 30 days preceding the surve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ata for American Indians, Alaska Natives, and Pacific Islanders are unreliabl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5" name=""/>
          <p:cNvSpPr/>
          <p:nvPr/>
        </p:nvSpPr>
        <p:spPr>
          <a:xfrm>
            <a:off x="691200" y="2006640"/>
            <a:ext cx="4264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2000, 11% of students in grades 6-8 smoked**</a:t>
            </a:r>
            <a:endParaRPr b="0" lang="en-US" sz="1400" spc="-1" strike="noStrike">
              <a:solidFill>
                <a:srgbClr val="000000"/>
              </a:solidFill>
              <a:latin typeface="Times New Roman"/>
            </a:endParaRPr>
          </a:p>
        </p:txBody>
      </p:sp>
      <p:sp>
        <p:nvSpPr>
          <p:cNvPr id="346" name=""/>
          <p:cNvSpPr/>
          <p:nvPr/>
        </p:nvSpPr>
        <p:spPr>
          <a:xfrm>
            <a:off x="685800" y="1879560"/>
            <a:ext cx="4229280" cy="533520"/>
          </a:xfrm>
          <a:prstGeom prst="ellipse">
            <a:avLst/>
          </a:prstGeom>
          <a:noFill/>
          <a:ln w="381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7" name=""/>
          <p:cNvGraphicFramePr/>
          <p:nvPr/>
        </p:nvGraphicFramePr>
        <p:xfrm>
          <a:off x="8534520" y="6324480"/>
          <a:ext cx="609480" cy="533520"/>
        </p:xfrm>
        <a:graphic>
          <a:graphicData uri="http://schemas.openxmlformats.org/presentationml/2006/ole">
            <p:oleObj r:id="rId3" spid="">
              <p:embed/>
              <p:pic>
                <p:nvPicPr>
                  <p:cNvPr id="348"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28600" y="304920"/>
            <a:ext cx="96012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Cigarette Smoking, Price and Tax:</a:t>
            </a:r>
            <a:br>
              <a:rPr sz="2800"/>
            </a:br>
            <a:r>
              <a:rPr b="1" lang="en-US" sz="2800" spc="-1" strike="noStrike">
                <a:solidFill>
                  <a:srgbClr val="000000"/>
                </a:solidFill>
                <a:latin typeface="Arial"/>
              </a:rPr>
              <a:t> Students (12</a:t>
            </a:r>
            <a:r>
              <a:rPr b="1" lang="en-US" sz="2800" spc="-1" strike="noStrike" baseline="30000">
                <a:solidFill>
                  <a:srgbClr val="000000"/>
                </a:solidFill>
                <a:latin typeface="Arial"/>
              </a:rPr>
              <a:t>th</a:t>
            </a:r>
            <a:r>
              <a:rPr b="1" lang="en-US" sz="2800" spc="-1" strike="noStrike">
                <a:solidFill>
                  <a:srgbClr val="000000"/>
                </a:solidFill>
                <a:latin typeface="Arial"/>
              </a:rPr>
              <a:t> Grade)</a:t>
            </a:r>
            <a:endParaRPr b="0" lang="en-US" sz="2800" spc="-1" strike="noStrike">
              <a:solidFill>
                <a:srgbClr val="000000"/>
              </a:solidFill>
              <a:latin typeface="Times New Roman"/>
            </a:endParaRPr>
          </a:p>
        </p:txBody>
      </p:sp>
      <p:graphicFrame>
        <p:nvGraphicFramePr>
          <p:cNvPr id="350" name=""/>
          <p:cNvGraphicFramePr/>
          <p:nvPr/>
        </p:nvGraphicFramePr>
        <p:xfrm>
          <a:off x="0" y="914400"/>
          <a:ext cx="8782200" cy="5091120"/>
        </p:xfrm>
        <a:graphic>
          <a:graphicData uri="http://schemas.openxmlformats.org/presentationml/2006/ole">
            <p:oleObj r:id="rId1" spid="">
              <p:embed/>
              <p:pic>
                <p:nvPicPr>
                  <p:cNvPr id="351" name="" descr=""/>
                  <p:cNvPicPr/>
                  <p:nvPr/>
                </p:nvPicPr>
                <p:blipFill>
                  <a:blip r:embed="rId2"/>
                  <a:stretch/>
                </p:blipFill>
                <p:spPr>
                  <a:xfrm>
                    <a:off x="0" y="914400"/>
                    <a:ext cx="8782200" cy="5091120"/>
                  </a:xfrm>
                  <a:prstGeom prst="rect">
                    <a:avLst/>
                  </a:prstGeom>
                  <a:ln w="0">
                    <a:noFill/>
                  </a:ln>
                </p:spPr>
              </p:pic>
            </p:oleObj>
          </a:graphicData>
        </a:graphic>
      </p:graphicFrame>
      <p:sp>
        <p:nvSpPr>
          <p:cNvPr id="352"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0" y="6629400"/>
            <a:ext cx="9144000" cy="22860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81000" y="1278000"/>
            <a:ext cx="785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llars</a:t>
            </a:r>
            <a:endParaRPr b="0" lang="en-US" sz="1400" spc="-1" strike="noStrike">
              <a:solidFill>
                <a:srgbClr val="000000"/>
              </a:solidFill>
              <a:latin typeface="Times New Roman"/>
            </a:endParaRPr>
          </a:p>
        </p:txBody>
      </p:sp>
      <p:graphicFrame>
        <p:nvGraphicFramePr>
          <p:cNvPr id="355" name=""/>
          <p:cNvGraphicFramePr/>
          <p:nvPr/>
        </p:nvGraphicFramePr>
        <p:xfrm>
          <a:off x="8567640" y="6353280"/>
          <a:ext cx="576360" cy="504720"/>
        </p:xfrm>
        <a:graphic>
          <a:graphicData uri="http://schemas.openxmlformats.org/presentationml/2006/ole">
            <p:oleObj r:id="rId3" spid="">
              <p:embed/>
              <p:pic>
                <p:nvPicPr>
                  <p:cNvPr id="356" name="" descr=""/>
                  <p:cNvPicPr/>
                  <p:nvPr/>
                </p:nvPicPr>
                <p:blipFill>
                  <a:blip r:embed="rId4"/>
                  <a:stretch/>
                </p:blipFill>
                <p:spPr>
                  <a:xfrm>
                    <a:off x="8567640" y="6353280"/>
                    <a:ext cx="576360" cy="504720"/>
                  </a:xfrm>
                  <a:prstGeom prst="rect">
                    <a:avLst/>
                  </a:prstGeom>
                  <a:ln w="0">
                    <a:noFill/>
                  </a:ln>
                  <a:effectLst>
                    <a:outerShdw dist="17819" dir="2700000" blurRad="0" rotWithShape="0">
                      <a:srgbClr val="ffffff"/>
                    </a:outerShdw>
                  </a:effectLst>
                </p:spPr>
              </p:pic>
            </p:oleObj>
          </a:graphicData>
        </a:graphic>
      </p:graphicFrame>
      <p:sp>
        <p:nvSpPr>
          <p:cNvPr id="357" name=""/>
          <p:cNvSpPr/>
          <p:nvPr/>
        </p:nvSpPr>
        <p:spPr>
          <a:xfrm>
            <a:off x="4495680" y="3809880"/>
            <a:ext cx="4114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an excise tax on a pack of cigarettes</a:t>
            </a:r>
            <a:endParaRPr b="0" lang="en-US" sz="1400" spc="-1" strike="noStrike">
              <a:solidFill>
                <a:srgbClr val="000000"/>
              </a:solidFill>
              <a:latin typeface="Times New Roman"/>
            </a:endParaRPr>
          </a:p>
        </p:txBody>
      </p:sp>
      <p:sp>
        <p:nvSpPr>
          <p:cNvPr id="358" name=""/>
          <p:cNvSpPr/>
          <p:nvPr/>
        </p:nvSpPr>
        <p:spPr>
          <a:xfrm>
            <a:off x="5886360" y="4038480"/>
            <a:ext cx="209520" cy="3240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562720" y="1523880"/>
            <a:ext cx="4114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smoking</a:t>
            </a:r>
            <a:endParaRPr b="0" lang="en-US" sz="1400" spc="-1" strike="noStrike">
              <a:solidFill>
                <a:srgbClr val="000000"/>
              </a:solidFill>
              <a:latin typeface="Times New Roman"/>
            </a:endParaRPr>
          </a:p>
        </p:txBody>
      </p:sp>
      <p:sp>
        <p:nvSpPr>
          <p:cNvPr id="360" name=""/>
          <p:cNvSpPr/>
          <p:nvPr/>
        </p:nvSpPr>
        <p:spPr>
          <a:xfrm>
            <a:off x="6400800" y="1752480"/>
            <a:ext cx="228600" cy="30492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943600" y="3124080"/>
            <a:ext cx="281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price per pack</a:t>
            </a:r>
            <a:endParaRPr b="0" lang="en-US" sz="1400" spc="-1" strike="noStrike">
              <a:solidFill>
                <a:srgbClr val="000000"/>
              </a:solidFill>
              <a:latin typeface="Times New Roman"/>
            </a:endParaRPr>
          </a:p>
        </p:txBody>
      </p:sp>
      <p:sp>
        <p:nvSpPr>
          <p:cNvPr id="362" name=""/>
          <p:cNvSpPr/>
          <p:nvPr/>
        </p:nvSpPr>
        <p:spPr>
          <a:xfrm flipH="1" flipV="1">
            <a:off x="7190640" y="2877480"/>
            <a:ext cx="172440" cy="339840"/>
          </a:xfrm>
          <a:prstGeom prst="line">
            <a:avLst/>
          </a:prstGeom>
          <a:ln w="28440">
            <a:solidFill>
              <a:srgbClr val="66106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rot="16180800">
            <a:off x="7354080" y="3008520"/>
            <a:ext cx="2819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smoking </a:t>
            </a:r>
            <a:endParaRPr b="0" lang="en-US" sz="1400" spc="-1" strike="noStrike">
              <a:solidFill>
                <a:srgbClr val="000000"/>
              </a:solidFill>
              <a:latin typeface="Times New Roman"/>
            </a:endParaRPr>
          </a:p>
        </p:txBody>
      </p:sp>
      <p:sp>
        <p:nvSpPr>
          <p:cNvPr id="364" name=""/>
          <p:cNvSpPr/>
          <p:nvPr/>
        </p:nvSpPr>
        <p:spPr>
          <a:xfrm>
            <a:off x="8004240" y="1295280"/>
            <a:ext cx="834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365" name=""/>
          <p:cNvSpPr/>
          <p:nvPr/>
        </p:nvSpPr>
        <p:spPr>
          <a:xfrm>
            <a:off x="0" y="5562720"/>
            <a:ext cx="98298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 cigarette smoking: Have smoked at least once in the past 30 days. ** Real price is Consumer Price Index-adjusted national average retail pri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 price and mean excise tax per pack of cigarettes adjusted for infla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Original analysis/slide prepared by the ImpacTeen Project.  Estimated prices for the period covered by the survey data are based on the 11/01 pric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ach year reported by Orzechowski and Walker, adjusted for changes in state and federal cigarette taxes and trends in the non-tax component of pric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data from: Orzechowski W, Walker RC.  The tax burden on tobacco: historical compilation 2001. Arlington, Virginia: Orzechowski and Walker, 20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oking prevalence data from:  Monitoring the Future Study, NIH, NIDA. Tax data from: The Tax Burden on Tobacco, The Tobacco Institu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graphicFrame>
        <p:nvGraphicFramePr>
          <p:cNvPr id="366" name=""/>
          <p:cNvGraphicFramePr/>
          <p:nvPr/>
        </p:nvGraphicFramePr>
        <p:xfrm>
          <a:off x="-158760" y="1941480"/>
          <a:ext cx="9496440" cy="3278160"/>
        </p:xfrm>
        <a:graphic>
          <a:graphicData uri="http://schemas.openxmlformats.org/presentationml/2006/ole">
            <p:oleObj progId="Excel.Sheet.12" r:id="rId1" spid="">
              <p:embed/>
              <p:pic>
                <p:nvPicPr>
                  <p:cNvPr id="367" name="" descr=""/>
                  <p:cNvPicPr/>
                  <p:nvPr/>
                </p:nvPicPr>
                <p:blipFill>
                  <a:blip r:embed="rId2"/>
                  <a:stretch/>
                </p:blipFill>
                <p:spPr>
                  <a:xfrm>
                    <a:off x="-158760" y="1941480"/>
                    <a:ext cx="9496440" cy="3278160"/>
                  </a:xfrm>
                  <a:prstGeom prst="rect">
                    <a:avLst/>
                  </a:prstGeom>
                  <a:ln w="0">
                    <a:noFill/>
                  </a:ln>
                </p:spPr>
              </p:pic>
            </p:oleObj>
          </a:graphicData>
        </a:graphic>
      </p:graphicFrame>
      <p:sp>
        <p:nvSpPr>
          <p:cNvPr id="368" name=""/>
          <p:cNvSpPr/>
          <p:nvPr/>
        </p:nvSpPr>
        <p:spPr>
          <a:xfrm>
            <a:off x="-14040" y="457200"/>
            <a:ext cx="910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Smoking* and Price: Students (12</a:t>
            </a:r>
            <a:r>
              <a:rPr b="1" lang="en-US" sz="2400" spc="-1" strike="noStrike" baseline="30000">
                <a:solidFill>
                  <a:srgbClr val="000000"/>
                </a:solidFill>
                <a:latin typeface="Arial"/>
              </a:rPr>
              <a:t>th</a:t>
            </a:r>
            <a:r>
              <a:rPr b="1" lang="en-US" sz="2400" spc="-1" strike="noStrike">
                <a:solidFill>
                  <a:srgbClr val="000000"/>
                </a:solidFill>
                <a:latin typeface="Arial"/>
              </a:rPr>
              <a:t> Grade), 1975-2002</a:t>
            </a:r>
            <a:endParaRPr b="0" lang="en-US" sz="2400" spc="-1" strike="noStrike">
              <a:solidFill>
                <a:srgbClr val="000000"/>
              </a:solidFill>
              <a:latin typeface="Times New Roman"/>
            </a:endParaRPr>
          </a:p>
        </p:txBody>
      </p:sp>
      <p:sp>
        <p:nvSpPr>
          <p:cNvPr id="369"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0" y="5013360"/>
            <a:ext cx="9407520" cy="17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 cigarette smoking: Have smoked at least once in the past 30 day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al price is Consumer Price Index-adjusted national average retail pri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Original analysis/slide prepared by the ImpacTeen Projec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imated prices for the period covered by the survey data are based on th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1 price for each year reported by Orzechowski and Walker, adjusted fo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nges in state and federal cigarette taxes and trends in the non-ta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onent of price.  Price data from: Orzechowski W, Walker RC.  The ta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rden on tobacco: historical compilation 2001. Arlington, Virgini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zechowski and Walker, 20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oking prevalence data from:  Monitoring the Future Study, NIH, NID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aphicFrame>
        <p:nvGraphicFramePr>
          <p:cNvPr id="372" name=""/>
          <p:cNvGraphicFramePr/>
          <p:nvPr/>
        </p:nvGraphicFramePr>
        <p:xfrm>
          <a:off x="8567640" y="6477120"/>
          <a:ext cx="576360" cy="380880"/>
        </p:xfrm>
        <a:graphic>
          <a:graphicData uri="http://schemas.openxmlformats.org/presentationml/2006/ole">
            <p:oleObj r:id="rId3" spid="">
              <p:embed/>
              <p:pic>
                <p:nvPicPr>
                  <p:cNvPr id="373" name="" descr=""/>
                  <p:cNvPicPr/>
                  <p:nvPr/>
                </p:nvPicPr>
                <p:blipFill>
                  <a:blip r:embed="rId4"/>
                  <a:stretch/>
                </p:blipFill>
                <p:spPr>
                  <a:xfrm>
                    <a:off x="8567640" y="6477120"/>
                    <a:ext cx="576360" cy="380880"/>
                  </a:xfrm>
                  <a:prstGeom prst="rect">
                    <a:avLst/>
                  </a:prstGeom>
                  <a:ln w="0">
                    <a:noFill/>
                  </a:ln>
                  <a:effectLst>
                    <a:outerShdw dist="17819" dir="2700000" blurRad="0" rotWithShape="0">
                      <a:srgbClr val="ffffff"/>
                    </a:outerShdw>
                  </a:effectLst>
                </p:spPr>
              </p:pic>
            </p:oleObj>
          </a:graphicData>
        </a:graphic>
      </p:graphicFrame>
      <p:sp>
        <p:nvSpPr>
          <p:cNvPr id="374" name=""/>
          <p:cNvSpPr/>
          <p:nvPr/>
        </p:nvSpPr>
        <p:spPr>
          <a:xfrm>
            <a:off x="5181480" y="1066680"/>
            <a:ext cx="1828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0a80"/>
                </a:solidFill>
                <a:latin typeface="Arial"/>
              </a:rPr>
              <a:t>Cigarette price</a:t>
            </a:r>
            <a:endParaRPr b="0" lang="en-US" sz="1600" spc="-1" strike="noStrike">
              <a:solidFill>
                <a:srgbClr val="000000"/>
              </a:solidFill>
              <a:latin typeface="Times New Roman"/>
            </a:endParaRPr>
          </a:p>
        </p:txBody>
      </p:sp>
      <p:sp>
        <p:nvSpPr>
          <p:cNvPr id="375" name=""/>
          <p:cNvSpPr/>
          <p:nvPr/>
        </p:nvSpPr>
        <p:spPr>
          <a:xfrm>
            <a:off x="2514600" y="1066680"/>
            <a:ext cx="274320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01575"/>
                </a:solidFill>
                <a:latin typeface="Arial"/>
              </a:rPr>
              <a:t>Current smoking</a:t>
            </a:r>
            <a:endParaRPr b="0" lang="en-US" sz="1600" spc="-1" strike="noStrike">
              <a:solidFill>
                <a:srgbClr val="000000"/>
              </a:solidFill>
              <a:latin typeface="Times New Roman"/>
            </a:endParaRPr>
          </a:p>
        </p:txBody>
      </p:sp>
      <p:cxnSp>
        <p:nvCxnSpPr>
          <p:cNvPr id="376" name=""/>
          <p:cNvCxnSpPr/>
          <p:nvPr/>
        </p:nvCxnSpPr>
        <p:spPr>
          <a:xfrm flipH="1" rot="16200000">
            <a:off x="4589280" y="1940400"/>
            <a:ext cx="2520" cy="2160"/>
          </a:xfrm>
          <a:prstGeom prst="bentConnector3">
            <a:avLst>
              <a:gd name="adj1" fmla="val -14400000"/>
            </a:avLst>
          </a:prstGeom>
          <a:ln w="0">
            <a:noFill/>
          </a:ln>
        </p:spPr>
      </p:cxnSp>
      <p:sp>
        <p:nvSpPr>
          <p:cNvPr id="377" name=""/>
          <p:cNvSpPr/>
          <p:nvPr/>
        </p:nvSpPr>
        <p:spPr>
          <a:xfrm>
            <a:off x="1981080" y="1295280"/>
            <a:ext cx="533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710240" y="1282680"/>
            <a:ext cx="533160" cy="0"/>
          </a:xfrm>
          <a:prstGeom prst="line">
            <a:avLst/>
          </a:prstGeom>
          <a:ln w="381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209680" y="1295280"/>
            <a:ext cx="1214640" cy="1214640"/>
          </a:xfrm>
          <a:prstGeom prst="diamond">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0" name=""/>
          <p:cNvSpPr/>
          <p:nvPr/>
        </p:nvSpPr>
        <p:spPr>
          <a:xfrm>
            <a:off x="9372600" y="76212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1" name=""/>
          <p:cNvSpPr/>
          <p:nvPr/>
        </p:nvSpPr>
        <p:spPr>
          <a:xfrm>
            <a:off x="3581280" y="16002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2" name=""/>
          <p:cNvSpPr/>
          <p:nvPr/>
        </p:nvSpPr>
        <p:spPr>
          <a:xfrm>
            <a:off x="5030640" y="1233360"/>
            <a:ext cx="74880" cy="90720"/>
          </a:xfrm>
          <a:prstGeom prst="rect">
            <a:avLst/>
          </a:prstGeom>
          <a:solidFill>
            <a:srgbClr val="660066"/>
          </a:solidFill>
          <a:ln w="0">
            <a:noFill/>
          </a:ln>
        </p:spPr>
        <p:style>
          <a:lnRef idx="0"/>
          <a:fillRef idx="0"/>
          <a:effectRef idx="0"/>
          <a:fontRef idx="minor"/>
        </p:style>
        <p:txBody>
          <a:bodyPr lIns="90000" rIns="90000" tIns="43920" bIns="43920" anchor="ctr">
            <a:spAutoFit/>
          </a:bodyPr>
          <a:p>
            <a:endParaRPr b="0" lang="en-US" sz="2400" spc="-1" strike="noStrike">
              <a:solidFill>
                <a:srgbClr val="000000"/>
              </a:solidFill>
              <a:latin typeface="Times New Roman"/>
            </a:endParaRPr>
          </a:p>
        </p:txBody>
      </p:sp>
      <p:sp>
        <p:nvSpPr>
          <p:cNvPr id="383" name=""/>
          <p:cNvSpPr/>
          <p:nvPr/>
        </p:nvSpPr>
        <p:spPr>
          <a:xfrm>
            <a:off x="2209680" y="1295280"/>
            <a:ext cx="1214640" cy="1214640"/>
          </a:xfrm>
          <a:prstGeom prst="diamond">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4" name=""/>
          <p:cNvSpPr/>
          <p:nvPr/>
        </p:nvSpPr>
        <p:spPr>
          <a:xfrm>
            <a:off x="2057400" y="1219320"/>
            <a:ext cx="76320" cy="152280"/>
          </a:xfrm>
          <a:prstGeom prst="diamond">
            <a:avLst/>
          </a:prstGeom>
          <a:solidFill>
            <a:srgbClr val="000080"/>
          </a:soli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85" name=""/>
          <p:cNvSpPr/>
          <p:nvPr/>
        </p:nvSpPr>
        <p:spPr>
          <a:xfrm>
            <a:off x="2362320" y="1219320"/>
            <a:ext cx="75960" cy="152280"/>
          </a:xfrm>
          <a:prstGeom prst="diamond">
            <a:avLst/>
          </a:prstGeom>
          <a:solidFill>
            <a:srgbClr val="000080"/>
          </a:soli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86" name=""/>
          <p:cNvSpPr/>
          <p:nvPr/>
        </p:nvSpPr>
        <p:spPr>
          <a:xfrm>
            <a:off x="4802040" y="1231920"/>
            <a:ext cx="74880" cy="90360"/>
          </a:xfrm>
          <a:prstGeom prst="rect">
            <a:avLst/>
          </a:prstGeom>
          <a:solidFill>
            <a:srgbClr val="660066"/>
          </a:solidFill>
          <a:ln w="0">
            <a:noFill/>
          </a:ln>
        </p:spPr>
        <p:style>
          <a:lnRef idx="0"/>
          <a:fillRef idx="0"/>
          <a:effectRef idx="0"/>
          <a:fontRef idx="minor"/>
        </p:style>
        <p:txBody>
          <a:bodyPr lIns="90000" rIns="90000" tIns="43560" bIns="4356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28600" y="151920"/>
            <a:ext cx="952488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7-10. Exposure to Environmental Tobacco Smoke: Nonsmokers* with Detectable Cotinine Levels**, </a:t>
            </a:r>
            <a:br>
              <a:rPr sz="2800"/>
            </a:br>
            <a:r>
              <a:rPr b="1" lang="en-US" sz="2800" spc="-1" strike="noStrike">
                <a:solidFill>
                  <a:srgbClr val="000000"/>
                </a:solidFill>
                <a:latin typeface="Arial"/>
              </a:rPr>
              <a:t>Ages 4 and Older</a:t>
            </a:r>
            <a:endParaRPr b="0" lang="en-US" sz="2800" spc="-1" strike="noStrike">
              <a:solidFill>
                <a:srgbClr val="000000"/>
              </a:solidFill>
              <a:latin typeface="Times New Roman"/>
            </a:endParaRPr>
          </a:p>
        </p:txBody>
      </p:sp>
      <p:graphicFrame>
        <p:nvGraphicFramePr>
          <p:cNvPr id="388" name=""/>
          <p:cNvGraphicFramePr/>
          <p:nvPr/>
        </p:nvGraphicFramePr>
        <p:xfrm>
          <a:off x="0" y="1676520"/>
          <a:ext cx="9144000" cy="4375080"/>
        </p:xfrm>
        <a:graphic>
          <a:graphicData uri="http://schemas.openxmlformats.org/presentationml/2006/ole">
            <p:oleObj r:id="rId1" spid="">
              <p:embed/>
              <p:pic>
                <p:nvPicPr>
                  <p:cNvPr id="389" name="" descr=""/>
                  <p:cNvPicPr/>
                  <p:nvPr/>
                </p:nvPicPr>
                <p:blipFill>
                  <a:blip r:embed="rId2"/>
                  <a:stretch/>
                </p:blipFill>
                <p:spPr>
                  <a:xfrm>
                    <a:off x="0" y="1676520"/>
                    <a:ext cx="9144000" cy="4375080"/>
                  </a:xfrm>
                  <a:prstGeom prst="rect">
                    <a:avLst/>
                  </a:prstGeom>
                  <a:ln w="0">
                    <a:noFill/>
                  </a:ln>
                </p:spPr>
              </p:pic>
            </p:oleObj>
          </a:graphicData>
        </a:graphic>
      </p:graphicFrame>
      <p:sp>
        <p:nvSpPr>
          <p:cNvPr id="390" name=""/>
          <p:cNvSpPr/>
          <p:nvPr/>
        </p:nvSpPr>
        <p:spPr>
          <a:xfrm>
            <a:off x="1981080" y="3701880"/>
            <a:ext cx="1768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sp>
        <p:nvSpPr>
          <p:cNvPr id="391" name=""/>
          <p:cNvSpPr/>
          <p:nvPr/>
        </p:nvSpPr>
        <p:spPr>
          <a:xfrm>
            <a:off x="6400800" y="1600200"/>
            <a:ext cx="304920" cy="304920"/>
          </a:xfrm>
          <a:prstGeom prst="rect">
            <a:avLst/>
          </a:prstGeom>
          <a:solidFill>
            <a:srgbClr val="cdd5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4240080" y="1600200"/>
            <a:ext cx="200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8-94 Baseline</a:t>
            </a:r>
            <a:endParaRPr b="0" lang="en-US" sz="1400" spc="-1" strike="noStrike">
              <a:solidFill>
                <a:srgbClr val="000000"/>
              </a:solidFill>
              <a:latin typeface="Times New Roman"/>
            </a:endParaRPr>
          </a:p>
        </p:txBody>
      </p:sp>
      <p:sp>
        <p:nvSpPr>
          <p:cNvPr id="393" name=""/>
          <p:cNvSpPr/>
          <p:nvPr/>
        </p:nvSpPr>
        <p:spPr>
          <a:xfrm>
            <a:off x="-86400" y="1600200"/>
            <a:ext cx="354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ercent with detectable serum cotinine</a:t>
            </a:r>
            <a:endParaRPr b="0" lang="en-US" sz="1400" spc="-1" strike="noStrike">
              <a:solidFill>
                <a:srgbClr val="000000"/>
              </a:solidFill>
              <a:latin typeface="Times New Roman"/>
            </a:endParaRPr>
          </a:p>
        </p:txBody>
      </p:sp>
      <p:sp>
        <p:nvSpPr>
          <p:cNvPr id="394" name=""/>
          <p:cNvSpPr/>
          <p:nvPr/>
        </p:nvSpPr>
        <p:spPr>
          <a:xfrm>
            <a:off x="3962520" y="1600200"/>
            <a:ext cx="304560" cy="30492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705720" y="16002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9-2000</a:t>
            </a:r>
            <a:endParaRPr b="0" lang="en-US" sz="1400" spc="-1" strike="noStrike">
              <a:solidFill>
                <a:srgbClr val="000000"/>
              </a:solidFill>
              <a:latin typeface="Times New Roman"/>
            </a:endParaRPr>
          </a:p>
        </p:txBody>
      </p:sp>
      <p:sp>
        <p:nvSpPr>
          <p:cNvPr id="396" name=""/>
          <p:cNvSpPr/>
          <p:nvPr/>
        </p:nvSpPr>
        <p:spPr>
          <a:xfrm>
            <a:off x="3325320" y="5607000"/>
            <a:ext cx="1780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Mexican American </a:t>
            </a:r>
            <a:endParaRPr b="0" lang="en-US" sz="1600" spc="-1" strike="noStrike">
              <a:solidFill>
                <a:srgbClr val="000000"/>
              </a:solidFill>
              <a:latin typeface="Times New Roman"/>
            </a:endParaRPr>
          </a:p>
        </p:txBody>
      </p:sp>
      <p:sp>
        <p:nvSpPr>
          <p:cNvPr id="397" name=""/>
          <p:cNvSpPr/>
          <p:nvPr/>
        </p:nvSpPr>
        <p:spPr>
          <a:xfrm>
            <a:off x="0" y="6659640"/>
            <a:ext cx="9144000" cy="19836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1017000" y="558972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a:t>
            </a:r>
            <a:endParaRPr b="0" lang="en-US" sz="1800" spc="-1" strike="noStrike">
              <a:solidFill>
                <a:srgbClr val="000000"/>
              </a:solidFill>
              <a:latin typeface="Times New Roman"/>
            </a:endParaRPr>
          </a:p>
        </p:txBody>
      </p:sp>
      <p:sp>
        <p:nvSpPr>
          <p:cNvPr id="400" name=""/>
          <p:cNvSpPr/>
          <p:nvPr/>
        </p:nvSpPr>
        <p:spPr>
          <a:xfrm>
            <a:off x="671400" y="4005360"/>
            <a:ext cx="8153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174800" y="5607000"/>
            <a:ext cx="181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White, not Hispanic </a:t>
            </a:r>
            <a:endParaRPr b="0" lang="en-US" sz="1600" spc="-1" strike="noStrike">
              <a:solidFill>
                <a:srgbClr val="000000"/>
              </a:solidFill>
              <a:latin typeface="Times New Roman"/>
            </a:endParaRPr>
          </a:p>
        </p:txBody>
      </p:sp>
      <p:sp>
        <p:nvSpPr>
          <p:cNvPr id="402" name=""/>
          <p:cNvSpPr/>
          <p:nvPr/>
        </p:nvSpPr>
        <p:spPr>
          <a:xfrm>
            <a:off x="5354640" y="5607000"/>
            <a:ext cx="180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Black, not Hispanic </a:t>
            </a:r>
            <a:endParaRPr b="0" lang="en-US" sz="1600" spc="-1" strike="noStrike">
              <a:solidFill>
                <a:srgbClr val="000000"/>
              </a:solidFill>
              <a:latin typeface="Times New Roman"/>
            </a:endParaRPr>
          </a:p>
        </p:txBody>
      </p:sp>
      <p:sp>
        <p:nvSpPr>
          <p:cNvPr id="403" name=""/>
          <p:cNvSpPr/>
          <p:nvPr/>
        </p:nvSpPr>
        <p:spPr>
          <a:xfrm>
            <a:off x="-42840" y="6599160"/>
            <a:ext cx="7815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and Nutrition Examination Survey (NHANES), NCHS, CDC.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4" name=""/>
          <p:cNvSpPr/>
          <p:nvPr/>
        </p:nvSpPr>
        <p:spPr>
          <a:xfrm>
            <a:off x="0" y="5851440"/>
            <a:ext cx="91440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onsmokers defined by serum cotinine levels &lt; 11 ng/mL.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ctable serum cotinine levels: </a:t>
            </a:r>
            <a:r>
              <a:rPr b="0" lang="en-US" sz="1000" spc="-1" strike="noStrike" u="sng">
                <a:solidFill>
                  <a:srgbClr val="000000"/>
                </a:solidFill>
                <a:uFillTx/>
                <a:latin typeface="Arial"/>
              </a:rPr>
              <a:t>&gt;</a:t>
            </a:r>
            <a:r>
              <a:rPr b="0" lang="en-US" sz="1000" spc="-1" strike="noStrike">
                <a:solidFill>
                  <a:srgbClr val="000000"/>
                </a:solidFill>
                <a:latin typeface="Arial"/>
              </a:rPr>
              <a:t> .05 ng/mL and </a:t>
            </a:r>
            <a:r>
              <a:rPr b="0" lang="en-US" sz="1000" spc="-1" strike="noStrike" u="sng">
                <a:solidFill>
                  <a:srgbClr val="000000"/>
                </a:solidFill>
                <a:uFillTx/>
                <a:latin typeface="Arial"/>
              </a:rPr>
              <a:t>&lt;</a:t>
            </a:r>
            <a:r>
              <a:rPr b="0" lang="en-US" sz="1000" spc="-1" strike="noStrike">
                <a:solidFill>
                  <a:srgbClr val="000000"/>
                </a:solidFill>
                <a:latin typeface="Arial"/>
              </a:rPr>
              <a:t> 10 ng/m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 Age adjusted to the 2000 standard popula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for other Hispanics, American Indians, Alaska Natives, Asians and Pacific Islanders are unreliab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aphicFrame>
        <p:nvGraphicFramePr>
          <p:cNvPr id="405" name=""/>
          <p:cNvGraphicFramePr/>
          <p:nvPr/>
        </p:nvGraphicFramePr>
        <p:xfrm>
          <a:off x="8686800" y="6477120"/>
          <a:ext cx="457200" cy="380880"/>
        </p:xfrm>
        <a:graphic>
          <a:graphicData uri="http://schemas.openxmlformats.org/presentationml/2006/ole">
            <p:oleObj r:id="rId3" spid="">
              <p:embed/>
              <p:pic>
                <p:nvPicPr>
                  <p:cNvPr id="406" name="" descr=""/>
                  <p:cNvPicPr/>
                  <p:nvPr/>
                </p:nvPicPr>
                <p:blipFill>
                  <a:blip r:embed="rId4"/>
                  <a:stretch/>
                </p:blipFill>
                <p:spPr>
                  <a:xfrm>
                    <a:off x="8686800" y="6477120"/>
                    <a:ext cx="457200" cy="38088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0" y="0"/>
            <a:ext cx="91440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7-13.  Smoke-Free Indoor Air Laws*  </a:t>
            </a:r>
            <a:endParaRPr b="0" lang="en-US" sz="3200" spc="-1" strike="noStrike">
              <a:solidFill>
                <a:srgbClr val="000000"/>
              </a:solidFill>
              <a:latin typeface="Times New Roman"/>
            </a:endParaRPr>
          </a:p>
        </p:txBody>
      </p:sp>
      <p:graphicFrame>
        <p:nvGraphicFramePr>
          <p:cNvPr id="408" name=""/>
          <p:cNvGraphicFramePr/>
          <p:nvPr/>
        </p:nvGraphicFramePr>
        <p:xfrm>
          <a:off x="0" y="1600200"/>
          <a:ext cx="8915400" cy="4191120"/>
        </p:xfrm>
        <a:graphic>
          <a:graphicData uri="http://schemas.openxmlformats.org/presentationml/2006/ole">
            <p:oleObj r:id="rId1" spid="">
              <p:embed/>
              <p:pic>
                <p:nvPicPr>
                  <p:cNvPr id="409" name="" descr=""/>
                  <p:cNvPicPr/>
                  <p:nvPr/>
                </p:nvPicPr>
                <p:blipFill>
                  <a:blip r:embed="rId2"/>
                  <a:stretch/>
                </p:blipFill>
                <p:spPr>
                  <a:xfrm>
                    <a:off x="0" y="1600200"/>
                    <a:ext cx="8915400" cy="4191120"/>
                  </a:xfrm>
                  <a:prstGeom prst="rect">
                    <a:avLst/>
                  </a:prstGeom>
                  <a:ln w="0">
                    <a:noFill/>
                  </a:ln>
                </p:spPr>
              </p:pic>
            </p:oleObj>
          </a:graphicData>
        </a:graphic>
      </p:graphicFrame>
      <p:sp>
        <p:nvSpPr>
          <p:cNvPr id="410" name=""/>
          <p:cNvSpPr/>
          <p:nvPr/>
        </p:nvSpPr>
        <p:spPr>
          <a:xfrm>
            <a:off x="6858000" y="1447920"/>
            <a:ext cx="1768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411" name=""/>
          <p:cNvSpPr/>
          <p:nvPr/>
        </p:nvSpPr>
        <p:spPr>
          <a:xfrm>
            <a:off x="533520" y="190512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2600" y="1430280"/>
            <a:ext cx="432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number of States with laws (including D.C.)</a:t>
            </a:r>
            <a:endParaRPr b="0" lang="en-US" sz="1400" spc="-1" strike="noStrike">
              <a:solidFill>
                <a:srgbClr val="000000"/>
              </a:solidFill>
              <a:latin typeface="Times New Roman"/>
            </a:endParaRPr>
          </a:p>
        </p:txBody>
      </p:sp>
      <p:sp>
        <p:nvSpPr>
          <p:cNvPr id="413"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6629400" y="16002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150200" y="5740560"/>
            <a:ext cx="159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place    </a:t>
            </a:r>
            <a:endParaRPr b="0" lang="en-US" sz="1800" spc="-1" strike="noStrike">
              <a:solidFill>
                <a:srgbClr val="000000"/>
              </a:solidFill>
              <a:latin typeface="Times New Roman"/>
            </a:endParaRPr>
          </a:p>
        </p:txBody>
      </p:sp>
      <p:sp>
        <p:nvSpPr>
          <p:cNvPr id="417" name=""/>
          <p:cNvSpPr/>
          <p:nvPr/>
        </p:nvSpPr>
        <p:spPr>
          <a:xfrm>
            <a:off x="685800" y="5715000"/>
            <a:ext cx="2286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608000" y="5607000"/>
            <a:ext cx="1608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ation</a:t>
            </a:r>
            <a:endParaRPr b="0" lang="en-US" sz="1600" spc="-1" strike="noStrike">
              <a:solidFill>
                <a:srgbClr val="000000"/>
              </a:solidFill>
              <a:latin typeface="Times New Roman"/>
            </a:endParaRPr>
          </a:p>
        </p:txBody>
      </p:sp>
      <p:sp>
        <p:nvSpPr>
          <p:cNvPr id="419" name=""/>
          <p:cNvSpPr/>
          <p:nvPr/>
        </p:nvSpPr>
        <p:spPr>
          <a:xfrm>
            <a:off x="3240" y="6578640"/>
            <a:ext cx="62859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State Tobacco Activities Tracking and Evaluation System (STATE System), OSH, NCCDPHP, CDC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0" name=""/>
          <p:cNvSpPr/>
          <p:nvPr/>
        </p:nvSpPr>
        <p:spPr>
          <a:xfrm>
            <a:off x="-42120" y="6311880"/>
            <a:ext cx="5008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oor air laws: smoking bans or limited to separately ventilated areas.</a:t>
            </a:r>
            <a:endParaRPr b="0" lang="en-US" sz="1200" spc="-1" strike="noStrike">
              <a:solidFill>
                <a:srgbClr val="000000"/>
              </a:solidFill>
              <a:latin typeface="Times New Roman"/>
            </a:endParaRPr>
          </a:p>
        </p:txBody>
      </p:sp>
      <p:graphicFrame>
        <p:nvGraphicFramePr>
          <p:cNvPr id="421" name=""/>
          <p:cNvGraphicFramePr/>
          <p:nvPr/>
        </p:nvGraphicFramePr>
        <p:xfrm>
          <a:off x="8534520" y="6324480"/>
          <a:ext cx="609480" cy="533520"/>
        </p:xfrm>
        <a:graphic>
          <a:graphicData uri="http://schemas.openxmlformats.org/presentationml/2006/ole">
            <p:oleObj r:id="rId3" spid="">
              <p:embed/>
              <p:pic>
                <p:nvPicPr>
                  <p:cNvPr id="422"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423" name=""/>
          <p:cNvSpPr/>
          <p:nvPr/>
        </p:nvSpPr>
        <p:spPr>
          <a:xfrm>
            <a:off x="1000440" y="47577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424" name=""/>
          <p:cNvSpPr/>
          <p:nvPr/>
        </p:nvSpPr>
        <p:spPr>
          <a:xfrm>
            <a:off x="38055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425" name=""/>
          <p:cNvSpPr/>
          <p:nvPr/>
        </p:nvSpPr>
        <p:spPr>
          <a:xfrm>
            <a:off x="5126760" y="379584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a:t>
            </a:r>
            <a:endParaRPr b="0" lang="en-US" sz="1800" spc="-1" strike="noStrike">
              <a:solidFill>
                <a:srgbClr val="000000"/>
              </a:solidFill>
              <a:latin typeface="Times New Roman"/>
            </a:endParaRPr>
          </a:p>
        </p:txBody>
      </p:sp>
      <p:sp>
        <p:nvSpPr>
          <p:cNvPr id="426" name=""/>
          <p:cNvSpPr/>
          <p:nvPr/>
        </p:nvSpPr>
        <p:spPr>
          <a:xfrm>
            <a:off x="6561720" y="335268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Times New Roman"/>
            </a:endParaRPr>
          </a:p>
        </p:txBody>
      </p:sp>
      <p:sp>
        <p:nvSpPr>
          <p:cNvPr id="427" name=""/>
          <p:cNvSpPr/>
          <p:nvPr/>
        </p:nvSpPr>
        <p:spPr>
          <a:xfrm>
            <a:off x="7996680" y="45720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428" name=""/>
          <p:cNvSpPr/>
          <p:nvPr/>
        </p:nvSpPr>
        <p:spPr>
          <a:xfrm>
            <a:off x="2294640" y="38862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Times New Roman"/>
            </a:endParaRPr>
          </a:p>
        </p:txBody>
      </p:sp>
      <p:sp>
        <p:nvSpPr>
          <p:cNvPr id="429" name=""/>
          <p:cNvSpPr/>
          <p:nvPr/>
        </p:nvSpPr>
        <p:spPr>
          <a:xfrm>
            <a:off x="2209680" y="27432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0" name=""/>
          <p:cNvSpPr/>
          <p:nvPr/>
        </p:nvSpPr>
        <p:spPr>
          <a:xfrm>
            <a:off x="2057400" y="259092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1" name=""/>
          <p:cNvSpPr/>
          <p:nvPr/>
        </p:nvSpPr>
        <p:spPr>
          <a:xfrm>
            <a:off x="8763120" y="106668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2" name=""/>
          <p:cNvSpPr/>
          <p:nvPr/>
        </p:nvSpPr>
        <p:spPr>
          <a:xfrm>
            <a:off x="5638680" y="2209680"/>
            <a:ext cx="457200" cy="3812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3" name=""/>
          <p:cNvSpPr/>
          <p:nvPr/>
        </p:nvSpPr>
        <p:spPr>
          <a:xfrm>
            <a:off x="3503160" y="2209680"/>
            <a:ext cx="136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 Baseline</a:t>
            </a:r>
            <a:endParaRPr b="0" lang="en-US" sz="1400" spc="-1" strike="noStrike">
              <a:solidFill>
                <a:srgbClr val="000000"/>
              </a:solidFill>
              <a:latin typeface="Times New Roman"/>
            </a:endParaRPr>
          </a:p>
        </p:txBody>
      </p:sp>
      <p:sp>
        <p:nvSpPr>
          <p:cNvPr id="434" name=""/>
          <p:cNvSpPr/>
          <p:nvPr/>
        </p:nvSpPr>
        <p:spPr>
          <a:xfrm>
            <a:off x="3048120" y="2209680"/>
            <a:ext cx="457200" cy="381240"/>
          </a:xfrm>
          <a:prstGeom prst="rect">
            <a:avLst/>
          </a:prstGeom>
          <a:solidFill>
            <a:srgbClr val="d0c8e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5" name=""/>
          <p:cNvSpPr/>
          <p:nvPr/>
        </p:nvSpPr>
        <p:spPr>
          <a:xfrm>
            <a:off x="6096240" y="220968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2</a:t>
            </a:r>
            <a:endParaRPr b="0" lang="en-US" sz="1400" spc="-1" strike="noStrike">
              <a:solidFill>
                <a:srgbClr val="000000"/>
              </a:solidFill>
              <a:latin typeface="Times New Roman"/>
            </a:endParaRPr>
          </a:p>
        </p:txBody>
      </p:sp>
      <p:sp>
        <p:nvSpPr>
          <p:cNvPr id="436" name=""/>
          <p:cNvSpPr/>
          <p:nvPr/>
        </p:nvSpPr>
        <p:spPr>
          <a:xfrm>
            <a:off x="1753560" y="49528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437" name=""/>
          <p:cNvSpPr/>
          <p:nvPr/>
        </p:nvSpPr>
        <p:spPr>
          <a:xfrm>
            <a:off x="2349720" y="436572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Times New Roman"/>
            </a:endParaRPr>
          </a:p>
        </p:txBody>
      </p:sp>
      <p:sp>
        <p:nvSpPr>
          <p:cNvPr id="438" name=""/>
          <p:cNvSpPr/>
          <p:nvPr/>
        </p:nvSpPr>
        <p:spPr>
          <a:xfrm>
            <a:off x="3847680" y="502920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439" name=""/>
          <p:cNvSpPr/>
          <p:nvPr/>
        </p:nvSpPr>
        <p:spPr>
          <a:xfrm>
            <a:off x="5177160" y="419112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440" name=""/>
          <p:cNvSpPr/>
          <p:nvPr/>
        </p:nvSpPr>
        <p:spPr>
          <a:xfrm>
            <a:off x="6582240" y="380988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441" name=""/>
          <p:cNvSpPr/>
          <p:nvPr/>
        </p:nvSpPr>
        <p:spPr>
          <a:xfrm>
            <a:off x="8033760" y="498312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442" name=""/>
          <p:cNvSpPr/>
          <p:nvPr/>
        </p:nvSpPr>
        <p:spPr>
          <a:xfrm>
            <a:off x="1828800" y="5486400"/>
            <a:ext cx="1057320" cy="914400"/>
          </a:xfrm>
          <a:prstGeom prst="triangle">
            <a:avLst>
              <a:gd name="adj" fmla="val 50000"/>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3" name=""/>
          <p:cNvSpPr/>
          <p:nvPr/>
        </p:nvSpPr>
        <p:spPr>
          <a:xfrm flipH="1">
            <a:off x="1596240" y="5111280"/>
            <a:ext cx="235800" cy="14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444"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spcBef>
                <a:spcPts val="876"/>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5"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spcBef>
                <a:spcPts val="876"/>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aphicFrame>
        <p:nvGraphicFramePr>
          <p:cNvPr id="446" name=""/>
          <p:cNvGraphicFramePr/>
          <p:nvPr/>
        </p:nvGraphicFramePr>
        <p:xfrm>
          <a:off x="28440" y="1657440"/>
          <a:ext cx="11734920" cy="4495680"/>
        </p:xfrm>
        <a:graphic>
          <a:graphicData uri="http://schemas.openxmlformats.org/presentationml/2006/ole">
            <p:oleObj r:id="rId1" spid="">
              <p:embed/>
              <p:pic>
                <p:nvPicPr>
                  <p:cNvPr id="447" name="" descr=""/>
                  <p:cNvPicPr/>
                  <p:nvPr/>
                </p:nvPicPr>
                <p:blipFill>
                  <a:blip r:embed="rId2"/>
                  <a:stretch/>
                </p:blipFill>
                <p:spPr>
                  <a:xfrm>
                    <a:off x="28440" y="1657440"/>
                    <a:ext cx="11734920" cy="4495680"/>
                  </a:xfrm>
                  <a:prstGeom prst="rect">
                    <a:avLst/>
                  </a:prstGeom>
                  <a:ln w="0">
                    <a:noFill/>
                  </a:ln>
                </p:spPr>
              </p:pic>
            </p:oleObj>
          </a:graphicData>
        </a:graphic>
      </p:graphicFrame>
      <p:sp>
        <p:nvSpPr>
          <p:cNvPr id="448" name=""/>
          <p:cNvSpPr/>
          <p:nvPr/>
        </p:nvSpPr>
        <p:spPr>
          <a:xfrm>
            <a:off x="806400" y="1866960"/>
            <a:ext cx="7620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485440" y="1432080"/>
            <a:ext cx="4263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10 Target: 51  (50 States + D.C.)</a:t>
            </a:r>
            <a:endParaRPr b="0" lang="en-US" sz="2000" spc="-1" strike="noStrike">
              <a:solidFill>
                <a:srgbClr val="000000"/>
              </a:solidFill>
              <a:latin typeface="Times New Roman"/>
            </a:endParaRPr>
          </a:p>
        </p:txBody>
      </p:sp>
      <p:sp>
        <p:nvSpPr>
          <p:cNvPr id="450" name=""/>
          <p:cNvSpPr/>
          <p:nvPr/>
        </p:nvSpPr>
        <p:spPr>
          <a:xfrm>
            <a:off x="1387800" y="4127400"/>
            <a:ext cx="577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5</a:t>
            </a:r>
            <a:endParaRPr b="0" lang="en-US" sz="2800" spc="-1" strike="noStrike">
              <a:solidFill>
                <a:srgbClr val="000000"/>
              </a:solidFill>
              <a:latin typeface="Times New Roman"/>
            </a:endParaRPr>
          </a:p>
        </p:txBody>
      </p:sp>
      <p:sp>
        <p:nvSpPr>
          <p:cNvPr id="451" name=""/>
          <p:cNvSpPr/>
          <p:nvPr/>
        </p:nvSpPr>
        <p:spPr>
          <a:xfrm>
            <a:off x="4332240" y="3336840"/>
            <a:ext cx="6760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4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2" name=""/>
          <p:cNvSpPr/>
          <p:nvPr/>
        </p:nvSpPr>
        <p:spPr>
          <a:xfrm>
            <a:off x="7067520" y="327348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5 </a:t>
            </a:r>
            <a:endParaRPr b="0" lang="en-US" sz="2800" spc="-1" strike="noStrike">
              <a:solidFill>
                <a:srgbClr val="000000"/>
              </a:solidFill>
              <a:latin typeface="Times New Roman"/>
            </a:endParaRPr>
          </a:p>
        </p:txBody>
      </p:sp>
      <p:sp>
        <p:nvSpPr>
          <p:cNvPr id="453" name=""/>
          <p:cNvSpPr/>
          <p:nvPr/>
        </p:nvSpPr>
        <p:spPr>
          <a:xfrm>
            <a:off x="228600" y="609480"/>
            <a:ext cx="199692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685800" y="6553080"/>
            <a:ext cx="5257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Source: Health Policy Tracking Service, National Conference of State Legislator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6" name=""/>
          <p:cNvSpPr/>
          <p:nvPr/>
        </p:nvSpPr>
        <p:spPr>
          <a:xfrm>
            <a:off x="809640" y="120600"/>
            <a:ext cx="7724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7-8b. States With Medicaid Coverage for Treatment of Nicotine Dependency</a:t>
            </a:r>
            <a:endParaRPr b="0" lang="en-US" sz="2800" spc="-1" strike="noStrike">
              <a:solidFill>
                <a:srgbClr val="000000"/>
              </a:solidFill>
              <a:latin typeface="Times New Roman"/>
            </a:endParaRPr>
          </a:p>
        </p:txBody>
      </p:sp>
      <p:sp>
        <p:nvSpPr>
          <p:cNvPr id="457" name=""/>
          <p:cNvSpPr/>
          <p:nvPr/>
        </p:nvSpPr>
        <p:spPr>
          <a:xfrm>
            <a:off x="1408320" y="2492280"/>
            <a:ext cx="5770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
          <p:cNvSpPr/>
          <p:nvPr/>
        </p:nvSpPr>
        <p:spPr>
          <a:xfrm>
            <a:off x="7283520" y="2139840"/>
            <a:ext cx="67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 </a:t>
            </a:r>
            <a:endParaRPr b="0" lang="en-US" sz="2800" spc="-1" strike="noStrike">
              <a:solidFill>
                <a:srgbClr val="000000"/>
              </a:solidFill>
              <a:latin typeface="Times New Roman"/>
            </a:endParaRPr>
          </a:p>
        </p:txBody>
      </p:sp>
      <p:sp>
        <p:nvSpPr>
          <p:cNvPr id="459" name=""/>
          <p:cNvSpPr/>
          <p:nvPr/>
        </p:nvSpPr>
        <p:spPr>
          <a:xfrm>
            <a:off x="4345200" y="2130480"/>
            <a:ext cx="577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a:t>
            </a:r>
            <a:endParaRPr b="0" lang="en-US" sz="2800" spc="-1" strike="noStrike">
              <a:solidFill>
                <a:srgbClr val="000000"/>
              </a:solidFill>
              <a:latin typeface="Times New Roman"/>
            </a:endParaRPr>
          </a:p>
        </p:txBody>
      </p:sp>
      <p:sp>
        <p:nvSpPr>
          <p:cNvPr id="460" name=""/>
          <p:cNvSpPr/>
          <p:nvPr/>
        </p:nvSpPr>
        <p:spPr>
          <a:xfrm>
            <a:off x="3276720" y="5943600"/>
            <a:ext cx="380880" cy="380880"/>
          </a:xfrm>
          <a:prstGeom prst="rect">
            <a:avLst/>
          </a:prstGeom>
          <a:solidFill>
            <a:srgbClr val="0033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656280" y="6021360"/>
            <a:ext cx="208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ete Coverage</a:t>
            </a:r>
            <a:endParaRPr b="0" lang="en-US" sz="1600" spc="-1" strike="noStrike">
              <a:solidFill>
                <a:srgbClr val="000000"/>
              </a:solidFill>
              <a:latin typeface="Times New Roman"/>
            </a:endParaRPr>
          </a:p>
        </p:txBody>
      </p:sp>
      <p:sp>
        <p:nvSpPr>
          <p:cNvPr id="462" name=""/>
          <p:cNvSpPr/>
          <p:nvPr/>
        </p:nvSpPr>
        <p:spPr>
          <a:xfrm>
            <a:off x="3662640" y="6021360"/>
            <a:ext cx="1837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ial  Coverage</a:t>
            </a:r>
            <a:endParaRPr b="0" lang="en-US" sz="1600" spc="-1" strike="noStrike">
              <a:solidFill>
                <a:srgbClr val="000000"/>
              </a:solidFill>
              <a:latin typeface="Times New Roman"/>
            </a:endParaRPr>
          </a:p>
        </p:txBody>
      </p:sp>
      <p:sp>
        <p:nvSpPr>
          <p:cNvPr id="463" name=""/>
          <p:cNvSpPr/>
          <p:nvPr/>
        </p:nvSpPr>
        <p:spPr>
          <a:xfrm>
            <a:off x="6590520" y="6021360"/>
            <a:ext cx="1486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 Coverage</a:t>
            </a:r>
            <a:endParaRPr b="0" lang="en-US" sz="1600" spc="-1" strike="noStrike">
              <a:solidFill>
                <a:srgbClr val="000000"/>
              </a:solidFill>
              <a:latin typeface="Times New Roman"/>
            </a:endParaRPr>
          </a:p>
        </p:txBody>
      </p:sp>
      <p:sp>
        <p:nvSpPr>
          <p:cNvPr id="464" name=""/>
          <p:cNvSpPr/>
          <p:nvPr/>
        </p:nvSpPr>
        <p:spPr>
          <a:xfrm>
            <a:off x="1296720" y="563868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8</a:t>
            </a:r>
            <a:endParaRPr b="0" lang="en-US" sz="1600" spc="-1" strike="noStrike">
              <a:solidFill>
                <a:srgbClr val="000000"/>
              </a:solidFill>
              <a:latin typeface="Times New Roman"/>
            </a:endParaRPr>
          </a:p>
        </p:txBody>
      </p:sp>
      <p:sp>
        <p:nvSpPr>
          <p:cNvPr id="465" name=""/>
          <p:cNvSpPr/>
          <p:nvPr/>
        </p:nvSpPr>
        <p:spPr>
          <a:xfrm>
            <a:off x="4268520" y="563868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466" name=""/>
          <p:cNvSpPr/>
          <p:nvPr/>
        </p:nvSpPr>
        <p:spPr>
          <a:xfrm>
            <a:off x="7291080" y="563868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467" name=""/>
          <p:cNvSpPr/>
          <p:nvPr/>
        </p:nvSpPr>
        <p:spPr>
          <a:xfrm>
            <a:off x="6248520" y="5943600"/>
            <a:ext cx="380880" cy="38088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5943600"/>
            <a:ext cx="380880" cy="38088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2477880" y="52578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71" name=""/>
          <p:cNvSpPr/>
          <p:nvPr/>
        </p:nvSpPr>
        <p:spPr>
          <a:xfrm>
            <a:off x="5468760" y="52578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72" name=""/>
          <p:cNvSpPr/>
          <p:nvPr/>
        </p:nvSpPr>
        <p:spPr>
          <a:xfrm>
            <a:off x="8421480" y="52578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73" name=""/>
          <p:cNvSpPr/>
          <p:nvPr/>
        </p:nvSpPr>
        <p:spPr>
          <a:xfrm flipH="1">
            <a:off x="2222640" y="5425200"/>
            <a:ext cx="278280" cy="124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194440" y="5425200"/>
            <a:ext cx="278280" cy="124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8166240" y="5425200"/>
            <a:ext cx="278280" cy="124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76" name=""/>
          <p:cNvGraphicFramePr/>
          <p:nvPr/>
        </p:nvGraphicFramePr>
        <p:xfrm>
          <a:off x="8534520" y="6324480"/>
          <a:ext cx="609480" cy="533520"/>
        </p:xfrm>
        <a:graphic>
          <a:graphicData uri="http://schemas.openxmlformats.org/presentationml/2006/ole">
            <p:oleObj r:id="rId4" spid="">
              <p:embed/>
              <p:pic>
                <p:nvPicPr>
                  <p:cNvPr id="477" name="" descr=""/>
                  <p:cNvPicPr/>
                  <p:nvPr/>
                </p:nvPicPr>
                <p:blipFill>
                  <a:blip r:embed="rId5"/>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478"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80" name=""/>
          <p:cNvGraphicFramePr/>
          <p:nvPr/>
        </p:nvGraphicFramePr>
        <p:xfrm>
          <a:off x="8534520" y="6324480"/>
          <a:ext cx="609480" cy="533520"/>
        </p:xfrm>
        <a:graphic>
          <a:graphicData uri="http://schemas.openxmlformats.org/presentationml/2006/ole">
            <p:oleObj r:id="rId1" spid="">
              <p:embed/>
              <p:pic>
                <p:nvPicPr>
                  <p:cNvPr id="481" name="" descr=""/>
                  <p:cNvPicPr/>
                  <p:nvPr/>
                </p:nvPicPr>
                <p:blipFill>
                  <a:blip r:embed="rId2"/>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482" name=""/>
          <p:cNvSpPr/>
          <p:nvPr/>
        </p:nvSpPr>
        <p:spPr>
          <a:xfrm>
            <a:off x="9677520" y="533412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3" name=""/>
          <p:cNvSpPr/>
          <p:nvPr/>
        </p:nvSpPr>
        <p:spPr>
          <a:xfrm>
            <a:off x="152280" y="1905120"/>
            <a:ext cx="8839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gress review data and slides</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n be found on the web at:</a:t>
            </a:r>
            <a:endParaRPr b="0" lang="en-US" sz="4400" spc="-1" strike="noStrike">
              <a:solidFill>
                <a:srgbClr val="000000"/>
              </a:solidFill>
              <a:latin typeface="Times New Roman"/>
            </a:endParaRPr>
          </a:p>
        </p:txBody>
      </p:sp>
      <p:sp>
        <p:nvSpPr>
          <p:cNvPr id="484" name=""/>
          <p:cNvSpPr/>
          <p:nvPr/>
        </p:nvSpPr>
        <p:spPr>
          <a:xfrm>
            <a:off x="152280" y="4648320"/>
            <a:ext cx="8767800" cy="761760"/>
          </a:xfrm>
          <a:prstGeom prst="rect">
            <a:avLst/>
          </a:prstGeom>
          <a:noFill/>
          <a:ln w="0">
            <a:noFill/>
          </a:ln>
          <a:effectLst>
            <a:outerShdw dist="12600" dir="10800000" blurRad="0" rotWithShape="0">
              <a:srgbClr val="ffffff"/>
            </a:outerShdw>
          </a:effectLst>
        </p:spPr>
        <p:style>
          <a:lnRef idx="0"/>
          <a:fillRef idx="0"/>
          <a:effectRef idx="0"/>
          <a:fontRef idx="minor"/>
        </p:style>
        <p:txBody>
          <a:bodyPr lIns="90000" rIns="90000" tIns="46800" bIns="46800" anchor="t">
            <a:no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http://www.cdc.gov/nchs/hphome.ht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y People 2010 Objectives</a:t>
            </a:r>
            <a:br>
              <a:rPr sz="2800"/>
            </a:br>
            <a:r>
              <a:rPr b="1" lang="en-US" sz="2800" spc="-1" strike="noStrike">
                <a:solidFill>
                  <a:srgbClr val="000000"/>
                </a:solidFill>
                <a:latin typeface="Arial"/>
              </a:rPr>
              <a:t>Current Regular* Tobacco Users: Adults</a:t>
            </a:r>
            <a:endParaRPr b="0" lang="en-US" sz="2800" spc="-1" strike="noStrike">
              <a:solidFill>
                <a:srgbClr val="000000"/>
              </a:solidFill>
              <a:latin typeface="Times New Roman"/>
            </a:endParaRPr>
          </a:p>
        </p:txBody>
      </p:sp>
      <p:graphicFrame>
        <p:nvGraphicFramePr>
          <p:cNvPr id="486" name=""/>
          <p:cNvGraphicFramePr/>
          <p:nvPr/>
        </p:nvGraphicFramePr>
        <p:xfrm>
          <a:off x="90360" y="1073160"/>
          <a:ext cx="9031320" cy="5113440"/>
        </p:xfrm>
        <a:graphic>
          <a:graphicData uri="http://schemas.openxmlformats.org/drawingml/2006/table">
            <a:tbl>
              <a:tblPr/>
              <a:tblGrid>
                <a:gridCol w="1330560"/>
                <a:gridCol w="1641240"/>
                <a:gridCol w="1505160"/>
                <a:gridCol w="1490760"/>
                <a:gridCol w="1652400"/>
                <a:gridCol w="1411200"/>
              </a:tblGrid>
              <a:tr h="1135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bacco Product</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ea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9cbf7"/>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igarettes</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2, Jan.-Sept., preliminary</a:t>
                      </a:r>
                      <a:r>
                        <a:rPr b="1"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9cbf7"/>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t Tobacco</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9cbf7"/>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igars</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9cbf7"/>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pes</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9cbf7"/>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dis</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9cbf7"/>
                    </a:solidFill>
                  </a:tcPr>
                </a:tc>
              </a:tr>
              <a:tr h="789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ber of User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9cbf7"/>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6,155,000</a:t>
                      </a:r>
                      <a:endParaRPr b="0" lang="en-US" sz="20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son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444,000</a:t>
                      </a:r>
                      <a:endParaRPr b="0" lang="en-US" sz="20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son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386,000</a:t>
                      </a:r>
                      <a:endParaRPr b="0" lang="en-US" sz="20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son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73,000</a:t>
                      </a:r>
                      <a:endParaRPr b="0" lang="en-US" sz="20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son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7,000</a:t>
                      </a:r>
                      <a:endParaRPr b="0" lang="en-US" sz="20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son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97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e</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9cbf7"/>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2% </a:t>
                      </a:r>
                      <a:r>
                        <a:rPr b="1" lang="en-US" sz="1400" spc="-1" strike="noStrike">
                          <a:solidFill>
                            <a:srgbClr val="000000"/>
                          </a:solidFill>
                          <a:latin typeface="Times New Roman"/>
                        </a:rPr>
                        <a:t>(tot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 (femal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5% (mal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3% </a:t>
                      </a:r>
                      <a:r>
                        <a:rPr b="1" lang="en-US" sz="1400" spc="-1" strike="noStrike">
                          <a:solidFill>
                            <a:srgbClr val="000000"/>
                          </a:solidFill>
                          <a:latin typeface="Times New Roman"/>
                        </a:rPr>
                        <a:t>(tot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3% (femal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4% (mal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2% </a:t>
                      </a:r>
                      <a:r>
                        <a:rPr b="1" lang="en-US" sz="1400" spc="-1" strike="noStrike">
                          <a:solidFill>
                            <a:srgbClr val="000000"/>
                          </a:solidFill>
                          <a:latin typeface="Times New Roman"/>
                        </a:rPr>
                        <a:t>(tot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 (femal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4% (mal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5% </a:t>
                      </a:r>
                      <a:r>
                        <a:rPr b="1" lang="en-US" sz="1400" spc="-1" strike="noStrike">
                          <a:solidFill>
                            <a:srgbClr val="000000"/>
                          </a:solidFill>
                          <a:latin typeface="Times New Roman"/>
                        </a:rPr>
                        <a:t>(tot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0.06% (females</a:t>
                      </a:r>
                      <a:r>
                        <a:rPr b="1" lang="en-US" sz="1400" spc="-1" strike="noStrike">
                          <a:solidFill>
                            <a:srgbClr val="003366"/>
                          </a:solidFill>
                          <a:latin typeface="Times New Roman"/>
                        </a:rPr>
                        <a: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 (mal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09% </a:t>
                      </a:r>
                      <a:r>
                        <a:rPr b="1" lang="en-US" sz="1400" spc="-1" strike="noStrike">
                          <a:solidFill>
                            <a:srgbClr val="000000"/>
                          </a:solidFill>
                          <a:latin typeface="Times New Roman"/>
                        </a:rPr>
                        <a:t>(tot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8% (femal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9% (mal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10</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rge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9cbf7"/>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argets: to be determine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ive Numb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9cbf7"/>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7-1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7-1b</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7-1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27-1d               27-1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87"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14400" y="6172200"/>
            <a:ext cx="9144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 Data are age adjusted to the 2000 standard population.  Estimated number of users are rounded to the nearest thousa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s may regularly use more than one tobacco product.  Adults: 18 years and older. *Everyday or somedays.**Unreliable estim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ve standard error &gt;30%.</a:t>
            </a:r>
            <a:endParaRPr b="0" lang="en-US" sz="1000" spc="-1" strike="noStrike">
              <a:solidFill>
                <a:srgbClr val="000000"/>
              </a:solidFill>
              <a:latin typeface="Times New Roman"/>
            </a:endParaRPr>
          </a:p>
        </p:txBody>
      </p:sp>
      <p:sp>
        <p:nvSpPr>
          <p:cNvPr id="489" name=""/>
          <p:cNvSpPr/>
          <p:nvPr/>
        </p:nvSpPr>
        <p:spPr>
          <a:xfrm>
            <a:off x="0" y="6654960"/>
            <a:ext cx="9144000" cy="30456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54360" y="6629400"/>
            <a:ext cx="3783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Interview Survey (NHIS), NCHS, CDC.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aphicFrame>
        <p:nvGraphicFramePr>
          <p:cNvPr id="491" name=""/>
          <p:cNvGraphicFramePr/>
          <p:nvPr/>
        </p:nvGraphicFramePr>
        <p:xfrm>
          <a:off x="8534520" y="6324480"/>
          <a:ext cx="609480" cy="533520"/>
        </p:xfrm>
        <a:graphic>
          <a:graphicData uri="http://schemas.openxmlformats.org/presentationml/2006/ole">
            <p:oleObj r:id="rId1" spid="">
              <p:embed/>
              <p:pic>
                <p:nvPicPr>
                  <p:cNvPr id="492" name="" descr=""/>
                  <p:cNvPicPr/>
                  <p:nvPr/>
                </p:nvPicPr>
                <p:blipFill>
                  <a:blip r:embed="rId2"/>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493" name=""/>
          <p:cNvSpPr/>
          <p:nvPr/>
        </p:nvSpPr>
        <p:spPr>
          <a:xfrm>
            <a:off x="1999080" y="2819520"/>
            <a:ext cx="586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1)</a:t>
            </a:r>
            <a:endParaRPr b="0" lang="en-US" sz="1200" spc="-1" strike="noStrike">
              <a:solidFill>
                <a:srgbClr val="000000"/>
              </a:solidFill>
              <a:latin typeface="Times New Roman"/>
            </a:endParaRPr>
          </a:p>
        </p:txBody>
      </p:sp>
      <p:sp>
        <p:nvSpPr>
          <p:cNvPr id="494" name=""/>
          <p:cNvSpPr/>
          <p:nvPr/>
        </p:nvSpPr>
        <p:spPr>
          <a:xfrm>
            <a:off x="7696080" y="548640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9677520" y="533412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76680" y="76320"/>
            <a:ext cx="952524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7-1a. Current Cigarette Smoking for Adults </a:t>
            </a:r>
            <a:br>
              <a:rPr sz="2800"/>
            </a:br>
            <a:r>
              <a:rPr b="1" lang="en-US" sz="2800" spc="-1" strike="noStrike">
                <a:solidFill>
                  <a:srgbClr val="000000"/>
                </a:solidFill>
                <a:latin typeface="Arial"/>
              </a:rPr>
              <a:t>18 years and older: 1998, 2001, and 2002</a:t>
            </a:r>
            <a:endParaRPr b="0" lang="en-US" sz="2800" spc="-1" strike="noStrike">
              <a:solidFill>
                <a:srgbClr val="000000"/>
              </a:solidFill>
              <a:latin typeface="Times New Roman"/>
            </a:endParaRPr>
          </a:p>
        </p:txBody>
      </p:sp>
      <p:graphicFrame>
        <p:nvGraphicFramePr>
          <p:cNvPr id="497" name=""/>
          <p:cNvGraphicFramePr/>
          <p:nvPr/>
        </p:nvGraphicFramePr>
        <p:xfrm>
          <a:off x="152280" y="1600200"/>
          <a:ext cx="8759880" cy="4191120"/>
        </p:xfrm>
        <a:graphic>
          <a:graphicData uri="http://schemas.openxmlformats.org/presentationml/2006/ole">
            <p:oleObj r:id="rId1" spid="">
              <p:embed/>
              <p:pic>
                <p:nvPicPr>
                  <p:cNvPr id="498" name="" descr=""/>
                  <p:cNvPicPr/>
                  <p:nvPr/>
                </p:nvPicPr>
                <p:blipFill>
                  <a:blip r:embed="rId2"/>
                  <a:stretch/>
                </p:blipFill>
                <p:spPr>
                  <a:xfrm>
                    <a:off x="152280" y="1600200"/>
                    <a:ext cx="8759880" cy="4191120"/>
                  </a:xfrm>
                  <a:prstGeom prst="rect">
                    <a:avLst/>
                  </a:prstGeom>
                  <a:ln w="0">
                    <a:noFill/>
                  </a:ln>
                </p:spPr>
              </p:pic>
            </p:oleObj>
          </a:graphicData>
        </a:graphic>
      </p:graphicFrame>
      <p:sp>
        <p:nvSpPr>
          <p:cNvPr id="499" name=""/>
          <p:cNvSpPr/>
          <p:nvPr/>
        </p:nvSpPr>
        <p:spPr>
          <a:xfrm>
            <a:off x="1828800" y="5410080"/>
            <a:ext cx="1676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n Indi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ska Native only</a:t>
            </a:r>
            <a:endParaRPr b="0" lang="en-US" sz="1200" spc="-1" strike="noStrike">
              <a:solidFill>
                <a:srgbClr val="000000"/>
              </a:solidFill>
              <a:latin typeface="Times New Roman"/>
            </a:endParaRPr>
          </a:p>
        </p:txBody>
      </p:sp>
      <p:sp>
        <p:nvSpPr>
          <p:cNvPr id="500" name=""/>
          <p:cNvSpPr/>
          <p:nvPr/>
        </p:nvSpPr>
        <p:spPr>
          <a:xfrm>
            <a:off x="3048120" y="5424480"/>
            <a:ext cx="16002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sian only</a:t>
            </a:r>
            <a:endParaRPr b="0" lang="en-US" sz="1300" spc="-1" strike="noStrike">
              <a:solidFill>
                <a:srgbClr val="000000"/>
              </a:solidFill>
              <a:latin typeface="Times New Roman"/>
            </a:endParaRPr>
          </a:p>
        </p:txBody>
      </p:sp>
      <p:sp>
        <p:nvSpPr>
          <p:cNvPr id="501" name=""/>
          <p:cNvSpPr/>
          <p:nvPr/>
        </p:nvSpPr>
        <p:spPr>
          <a:xfrm>
            <a:off x="4419720" y="5410080"/>
            <a:ext cx="12747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ispanic </a:t>
            </a:r>
            <a:endParaRPr b="0" lang="en-US" sz="1300" spc="-1" strike="noStrike">
              <a:solidFill>
                <a:srgbClr val="000000"/>
              </a:solidFill>
              <a:latin typeface="Times New Roman"/>
            </a:endParaRPr>
          </a:p>
        </p:txBody>
      </p:sp>
      <p:sp>
        <p:nvSpPr>
          <p:cNvPr id="502" name=""/>
          <p:cNvSpPr/>
          <p:nvPr/>
        </p:nvSpPr>
        <p:spPr>
          <a:xfrm>
            <a:off x="5715000" y="5378400"/>
            <a:ext cx="15318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lack, not Hispanic only</a:t>
            </a:r>
            <a:endParaRPr b="0" lang="en-US" sz="1300" spc="-1" strike="noStrike">
              <a:solidFill>
                <a:srgbClr val="000000"/>
              </a:solidFill>
              <a:latin typeface="Times New Roman"/>
            </a:endParaRPr>
          </a:p>
        </p:txBody>
      </p:sp>
      <p:sp>
        <p:nvSpPr>
          <p:cNvPr id="503" name=""/>
          <p:cNvSpPr/>
          <p:nvPr/>
        </p:nvSpPr>
        <p:spPr>
          <a:xfrm>
            <a:off x="7238880" y="5378400"/>
            <a:ext cx="16765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hite, not Hispanic only</a:t>
            </a:r>
            <a:endParaRPr b="0" lang="en-US" sz="1300" spc="-1" strike="noStrike">
              <a:solidFill>
                <a:srgbClr val="000000"/>
              </a:solidFill>
              <a:latin typeface="Times New Roman"/>
            </a:endParaRPr>
          </a:p>
        </p:txBody>
      </p:sp>
      <p:sp>
        <p:nvSpPr>
          <p:cNvPr id="504" name=""/>
          <p:cNvSpPr/>
          <p:nvPr/>
        </p:nvSpPr>
        <p:spPr>
          <a:xfrm>
            <a:off x="7299360" y="1447920"/>
            <a:ext cx="1768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505" name=""/>
          <p:cNvSpPr/>
          <p:nvPr/>
        </p:nvSpPr>
        <p:spPr>
          <a:xfrm>
            <a:off x="825480" y="444492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4876920" y="1447920"/>
            <a:ext cx="304560" cy="304560"/>
          </a:xfrm>
          <a:prstGeom prst="rect">
            <a:avLst/>
          </a:prstGeom>
          <a:solidFill>
            <a:srgbClr val="cdd5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048120" y="1447920"/>
            <a:ext cx="304560" cy="30456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325680" y="1447920"/>
            <a:ext cx="200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 Baseline</a:t>
            </a:r>
            <a:endParaRPr b="0" lang="en-US" sz="1400" spc="-1" strike="noStrike">
              <a:solidFill>
                <a:srgbClr val="000000"/>
              </a:solidFill>
              <a:latin typeface="Times New Roman"/>
            </a:endParaRPr>
          </a:p>
        </p:txBody>
      </p:sp>
      <p:sp>
        <p:nvSpPr>
          <p:cNvPr id="509" name=""/>
          <p:cNvSpPr/>
          <p:nvPr/>
        </p:nvSpPr>
        <p:spPr>
          <a:xfrm>
            <a:off x="5181480" y="144792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1</a:t>
            </a:r>
            <a:endParaRPr b="0" lang="en-US" sz="1400" spc="-1" strike="noStrike">
              <a:solidFill>
                <a:srgbClr val="000000"/>
              </a:solidFill>
              <a:latin typeface="Times New Roman"/>
            </a:endParaRPr>
          </a:p>
        </p:txBody>
      </p:sp>
      <p:sp>
        <p:nvSpPr>
          <p:cNvPr id="510" name=""/>
          <p:cNvSpPr/>
          <p:nvPr/>
        </p:nvSpPr>
        <p:spPr>
          <a:xfrm>
            <a:off x="0" y="5775480"/>
            <a:ext cx="8513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liminary data: January-September 200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 Current smokers report smoking everyday/some days and have smoked at least 100 cigarettes.  Data are age adjusted to the 2000 standard population.  American Indians/Alaska Natives or Asians/Pacific Islanders may be of Hispanic origin.  Hispanics may be of any race.  For 1998 and 2002, persons reported only one race or reported more than one race and identified one race as best representing their ra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1" name=""/>
          <p:cNvSpPr/>
          <p:nvPr/>
        </p:nvSpPr>
        <p:spPr>
          <a:xfrm>
            <a:off x="-3240" y="1430280"/>
            <a:ext cx="2000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adjusted percent</a:t>
            </a:r>
            <a:endParaRPr b="0" lang="en-US" sz="1400" spc="-1" strike="noStrike">
              <a:solidFill>
                <a:srgbClr val="000000"/>
              </a:solidFill>
              <a:latin typeface="Times New Roman"/>
            </a:endParaRPr>
          </a:p>
        </p:txBody>
      </p:sp>
      <p:sp>
        <p:nvSpPr>
          <p:cNvPr id="512"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0" y="662940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7086600" y="16002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30360" y="5410080"/>
            <a:ext cx="127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Times New Roman"/>
            </a:endParaRPr>
          </a:p>
        </p:txBody>
      </p:sp>
      <p:sp>
        <p:nvSpPr>
          <p:cNvPr id="516" name=""/>
          <p:cNvSpPr/>
          <p:nvPr/>
        </p:nvSpPr>
        <p:spPr>
          <a:xfrm>
            <a:off x="6019920" y="1447920"/>
            <a:ext cx="304560" cy="30456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324480" y="144792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2*</a:t>
            </a:r>
            <a:endParaRPr b="0" lang="en-US" sz="1400" spc="-1" strike="noStrike">
              <a:solidFill>
                <a:srgbClr val="000000"/>
              </a:solidFill>
              <a:latin typeface="Times New Roman"/>
            </a:endParaRPr>
          </a:p>
        </p:txBody>
      </p:sp>
      <p:sp>
        <p:nvSpPr>
          <p:cNvPr id="518" name=""/>
          <p:cNvSpPr/>
          <p:nvPr/>
        </p:nvSpPr>
        <p:spPr>
          <a:xfrm>
            <a:off x="-76320" y="6613560"/>
            <a:ext cx="8588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Interview Survey (NHIS), NCHS, CDC.</a:t>
            </a:r>
            <a:endParaRPr b="0" lang="en-US" sz="1000" spc="-1" strike="noStrike">
              <a:solidFill>
                <a:srgbClr val="000000"/>
              </a:solidFill>
              <a:latin typeface="Times New Roman"/>
            </a:endParaRPr>
          </a:p>
        </p:txBody>
      </p:sp>
      <p:graphicFrame>
        <p:nvGraphicFramePr>
          <p:cNvPr id="519" name=""/>
          <p:cNvGraphicFramePr/>
          <p:nvPr/>
        </p:nvGraphicFramePr>
        <p:xfrm>
          <a:off x="8534520" y="6324480"/>
          <a:ext cx="609480" cy="533520"/>
        </p:xfrm>
        <a:graphic>
          <a:graphicData uri="http://schemas.openxmlformats.org/presentationml/2006/ole">
            <p:oleObj r:id="rId3" spid="">
              <p:embed/>
              <p:pic>
                <p:nvPicPr>
                  <p:cNvPr id="520"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3" name="PlaceHolder 2"/>
          <p:cNvSpPr>
            <a:spLocks noGrp="1"/>
          </p:cNvSpPr>
          <p:nvPr>
            <p:ph type="ftr" idx="2"/>
          </p:nvPr>
        </p:nvSpPr>
        <p:spPr/>
        <p:txBody>
          <a:bodyPr/>
          <a:p>
            <a:r>
              <a:t>tes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0" y="53352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7-1a. Current Cigarette Smoking for Adults</a:t>
            </a:r>
            <a:br>
              <a:rPr sz="2800"/>
            </a:br>
            <a:r>
              <a:rPr b="1" lang="en-US" sz="2800" spc="-1" strike="noStrike">
                <a:solidFill>
                  <a:srgbClr val="000000"/>
                </a:solidFill>
                <a:latin typeface="Arial"/>
              </a:rPr>
              <a:t>18 years and older: 1998, 2001, and 2002</a:t>
            </a:r>
            <a:endParaRPr b="0" lang="en-US" sz="2800" spc="-1" strike="noStrike">
              <a:solidFill>
                <a:srgbClr val="000000"/>
              </a:solidFill>
              <a:latin typeface="Times New Roman"/>
            </a:endParaRPr>
          </a:p>
        </p:txBody>
      </p:sp>
      <p:graphicFrame>
        <p:nvGraphicFramePr>
          <p:cNvPr id="522" name=""/>
          <p:cNvGraphicFramePr/>
          <p:nvPr/>
        </p:nvGraphicFramePr>
        <p:xfrm>
          <a:off x="0" y="1962000"/>
          <a:ext cx="9048600" cy="4127760"/>
        </p:xfrm>
        <a:graphic>
          <a:graphicData uri="http://schemas.openxmlformats.org/presentationml/2006/ole">
            <p:oleObj r:id="rId1" spid="">
              <p:embed/>
              <p:pic>
                <p:nvPicPr>
                  <p:cNvPr id="523" name="" descr=""/>
                  <p:cNvPicPr/>
                  <p:nvPr/>
                </p:nvPicPr>
                <p:blipFill>
                  <a:blip r:embed="rId2"/>
                  <a:stretch/>
                </p:blipFill>
                <p:spPr>
                  <a:xfrm>
                    <a:off x="0" y="1962000"/>
                    <a:ext cx="9048600" cy="4127760"/>
                  </a:xfrm>
                  <a:prstGeom prst="rect">
                    <a:avLst/>
                  </a:prstGeom>
                  <a:ln w="0">
                    <a:noFill/>
                  </a:ln>
                </p:spPr>
              </p:pic>
            </p:oleObj>
          </a:graphicData>
        </a:graphic>
      </p:graphicFrame>
      <p:sp>
        <p:nvSpPr>
          <p:cNvPr id="524" name=""/>
          <p:cNvSpPr/>
          <p:nvPr/>
        </p:nvSpPr>
        <p:spPr>
          <a:xfrm>
            <a:off x="73080" y="1752480"/>
            <a:ext cx="2000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adjusted percent</a:t>
            </a:r>
            <a:endParaRPr b="0" lang="en-US" sz="1400" spc="-1" strike="noStrike">
              <a:solidFill>
                <a:srgbClr val="000000"/>
              </a:solidFill>
              <a:latin typeface="Times New Roman"/>
            </a:endParaRPr>
          </a:p>
        </p:txBody>
      </p:sp>
      <p:sp>
        <p:nvSpPr>
          <p:cNvPr id="525" name=""/>
          <p:cNvSpPr/>
          <p:nvPr/>
        </p:nvSpPr>
        <p:spPr>
          <a:xfrm>
            <a:off x="0" y="6232680"/>
            <a:ext cx="5410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  * Preliminary data: January-September 200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ata are age adjusted to the 2000 standard population.</a:t>
            </a:r>
            <a:endParaRPr b="0" lang="en-US" sz="1000" spc="-1" strike="noStrike">
              <a:solidFill>
                <a:srgbClr val="000000"/>
              </a:solidFill>
              <a:latin typeface="Times New Roman"/>
            </a:endParaRPr>
          </a:p>
        </p:txBody>
      </p:sp>
      <p:sp>
        <p:nvSpPr>
          <p:cNvPr id="526" name=""/>
          <p:cNvSpPr/>
          <p:nvPr/>
        </p:nvSpPr>
        <p:spPr>
          <a:xfrm>
            <a:off x="5526000" y="6172200"/>
            <a:ext cx="2246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ducation Level</a:t>
            </a:r>
            <a:endParaRPr b="0" lang="en-US" sz="2000" spc="-1" strike="noStrike">
              <a:solidFill>
                <a:srgbClr val="000000"/>
              </a:solidFill>
              <a:latin typeface="Times New Roman"/>
            </a:endParaRPr>
          </a:p>
        </p:txBody>
      </p:sp>
      <p:sp>
        <p:nvSpPr>
          <p:cNvPr id="527" name=""/>
          <p:cNvSpPr/>
          <p:nvPr/>
        </p:nvSpPr>
        <p:spPr>
          <a:xfrm>
            <a:off x="2286000" y="1447920"/>
            <a:ext cx="380880" cy="38088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267080" y="1447920"/>
            <a:ext cx="381240" cy="380880"/>
          </a:xfrm>
          <a:prstGeom prst="rect">
            <a:avLst/>
          </a:prstGeom>
          <a:solidFill>
            <a:srgbClr val="cdd5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2666880" y="1461960"/>
            <a:ext cx="175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8 Baseline</a:t>
            </a:r>
            <a:endParaRPr b="0" lang="en-US" sz="1600" spc="-1" strike="noStrike">
              <a:solidFill>
                <a:srgbClr val="000000"/>
              </a:solidFill>
              <a:latin typeface="Times New Roman"/>
            </a:endParaRPr>
          </a:p>
        </p:txBody>
      </p:sp>
      <p:grpSp>
        <p:nvGrpSpPr>
          <p:cNvPr id="530" name=""/>
          <p:cNvGrpSpPr/>
          <p:nvPr/>
        </p:nvGrpSpPr>
        <p:grpSpPr>
          <a:xfrm>
            <a:off x="6934320" y="1447920"/>
            <a:ext cx="1904040" cy="337320"/>
            <a:chOff x="6934320" y="1447920"/>
            <a:chExt cx="1904040" cy="337320"/>
          </a:xfrm>
        </p:grpSpPr>
        <p:sp>
          <p:nvSpPr>
            <p:cNvPr id="531" name=""/>
            <p:cNvSpPr/>
            <p:nvPr/>
          </p:nvSpPr>
          <p:spPr>
            <a:xfrm>
              <a:off x="7301520" y="1447920"/>
              <a:ext cx="153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sp>
          <p:nvSpPr>
            <p:cNvPr id="532" name=""/>
            <p:cNvSpPr/>
            <p:nvPr/>
          </p:nvSpPr>
          <p:spPr>
            <a:xfrm>
              <a:off x="6934320" y="1616040"/>
              <a:ext cx="401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3" name=""/>
          <p:cNvSpPr/>
          <p:nvPr/>
        </p:nvSpPr>
        <p:spPr>
          <a:xfrm>
            <a:off x="4114800" y="5867280"/>
            <a:ext cx="2209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9-11 yrs.</a:t>
            </a:r>
            <a:endParaRPr b="0" lang="en-US" sz="1200" spc="-1" strike="noStrike">
              <a:solidFill>
                <a:srgbClr val="000000"/>
              </a:solidFill>
              <a:latin typeface="Times New Roman"/>
            </a:endParaRPr>
          </a:p>
        </p:txBody>
      </p:sp>
      <p:sp>
        <p:nvSpPr>
          <p:cNvPr id="534" name=""/>
          <p:cNvSpPr/>
          <p:nvPr/>
        </p:nvSpPr>
        <p:spPr>
          <a:xfrm>
            <a:off x="192240" y="5851440"/>
            <a:ext cx="1407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ll adults</a:t>
            </a:r>
            <a:endParaRPr b="0" lang="en-US" sz="2000" spc="-1" strike="noStrike">
              <a:solidFill>
                <a:srgbClr val="000000"/>
              </a:solidFill>
              <a:latin typeface="Times New Roman"/>
            </a:endParaRPr>
          </a:p>
        </p:txBody>
      </p:sp>
      <p:sp>
        <p:nvSpPr>
          <p:cNvPr id="535" name=""/>
          <p:cNvSpPr/>
          <p:nvPr/>
        </p:nvSpPr>
        <p:spPr>
          <a:xfrm>
            <a:off x="4952880" y="5848200"/>
            <a:ext cx="2438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HS graduate</a:t>
            </a:r>
            <a:endParaRPr b="0" lang="en-US" sz="1200" spc="-1" strike="noStrike">
              <a:solidFill>
                <a:srgbClr val="000000"/>
              </a:solidFill>
              <a:latin typeface="Times New Roman"/>
            </a:endParaRPr>
          </a:p>
        </p:txBody>
      </p:sp>
      <p:sp>
        <p:nvSpPr>
          <p:cNvPr id="536" name=""/>
          <p:cNvSpPr/>
          <p:nvPr/>
        </p:nvSpPr>
        <p:spPr>
          <a:xfrm>
            <a:off x="6858000" y="5867280"/>
            <a:ext cx="1143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3-15 years</a:t>
            </a:r>
            <a:endParaRPr b="0" lang="en-US" sz="1200" spc="-1" strike="noStrike">
              <a:solidFill>
                <a:srgbClr val="000000"/>
              </a:solidFill>
              <a:latin typeface="Times New Roman"/>
            </a:endParaRPr>
          </a:p>
        </p:txBody>
      </p:sp>
      <p:sp>
        <p:nvSpPr>
          <p:cNvPr id="537" name=""/>
          <p:cNvSpPr/>
          <p:nvPr/>
        </p:nvSpPr>
        <p:spPr>
          <a:xfrm>
            <a:off x="7848720" y="586728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6 years or more</a:t>
            </a:r>
            <a:endParaRPr b="0" lang="en-US" sz="1200" spc="-1" strike="noStrike">
              <a:solidFill>
                <a:srgbClr val="000000"/>
              </a:solidFill>
              <a:latin typeface="Times New Roman"/>
            </a:endParaRPr>
          </a:p>
        </p:txBody>
      </p:sp>
      <p:sp>
        <p:nvSpPr>
          <p:cNvPr id="538" name=""/>
          <p:cNvSpPr/>
          <p:nvPr/>
        </p:nvSpPr>
        <p:spPr>
          <a:xfrm>
            <a:off x="1905120" y="5835600"/>
            <a:ext cx="114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Females</a:t>
            </a:r>
            <a:endParaRPr b="0" lang="en-US" sz="1600" spc="-1" strike="noStrike">
              <a:solidFill>
                <a:srgbClr val="000000"/>
              </a:solidFill>
              <a:latin typeface="Times New Roman"/>
            </a:endParaRPr>
          </a:p>
        </p:txBody>
      </p:sp>
      <p:sp>
        <p:nvSpPr>
          <p:cNvPr id="539" name=""/>
          <p:cNvSpPr/>
          <p:nvPr/>
        </p:nvSpPr>
        <p:spPr>
          <a:xfrm>
            <a:off x="3200400" y="5835600"/>
            <a:ext cx="114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ales</a:t>
            </a:r>
            <a:endParaRPr b="0" lang="en-US" sz="1600" spc="-1" strike="noStrike">
              <a:solidFill>
                <a:srgbClr val="000000"/>
              </a:solidFill>
              <a:latin typeface="Times New Roman"/>
            </a:endParaRPr>
          </a:p>
        </p:txBody>
      </p:sp>
      <p:sp>
        <p:nvSpPr>
          <p:cNvPr id="540"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0" y="6613560"/>
            <a:ext cx="9144000" cy="24444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4800600" y="6172200"/>
            <a:ext cx="4191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648320" y="144792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1</a:t>
            </a:r>
            <a:endParaRPr b="0" lang="en-US" sz="1600" spc="-1" strike="noStrike">
              <a:solidFill>
                <a:srgbClr val="000000"/>
              </a:solidFill>
              <a:latin typeface="Times New Roman"/>
            </a:endParaRPr>
          </a:p>
        </p:txBody>
      </p:sp>
      <p:sp>
        <p:nvSpPr>
          <p:cNvPr id="544" name=""/>
          <p:cNvSpPr/>
          <p:nvPr/>
        </p:nvSpPr>
        <p:spPr>
          <a:xfrm>
            <a:off x="380880" y="4800600"/>
            <a:ext cx="8305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680" y="6613560"/>
            <a:ext cx="3713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Interview Survey (NHIS), NCHS, CD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aphicFrame>
        <p:nvGraphicFramePr>
          <p:cNvPr id="546" name=""/>
          <p:cNvGraphicFramePr/>
          <p:nvPr/>
        </p:nvGraphicFramePr>
        <p:xfrm>
          <a:off x="8534520" y="6324480"/>
          <a:ext cx="609480" cy="533520"/>
        </p:xfrm>
        <a:graphic>
          <a:graphicData uri="http://schemas.openxmlformats.org/presentationml/2006/ole">
            <p:oleObj r:id="rId3" spid="">
              <p:embed/>
              <p:pic>
                <p:nvPicPr>
                  <p:cNvPr id="547"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548" name=""/>
          <p:cNvSpPr/>
          <p:nvPr/>
        </p:nvSpPr>
        <p:spPr>
          <a:xfrm>
            <a:off x="5562720" y="1447920"/>
            <a:ext cx="380880" cy="38088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019920" y="144792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122" name=""/>
          <p:cNvSpPr/>
          <p:nvPr/>
        </p:nvSpPr>
        <p:spPr>
          <a:xfrm>
            <a:off x="2209680" y="2819520"/>
            <a:ext cx="4800600" cy="459720"/>
          </a:xfrm>
          <a:prstGeom prst="rect">
            <a:avLst/>
          </a:prstGeom>
          <a:solidFill>
            <a:srgbClr val="d9cbf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 Health Challenges</a:t>
            </a:r>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Tobacco Impact and Public Health Challenges</a:t>
            </a:r>
            <a:endParaRPr b="0" lang="en-US" sz="3600" spc="-1" strike="noStrike">
              <a:solidFill>
                <a:srgbClr val="000000"/>
              </a:solidFill>
              <a:latin typeface="Times New Roman"/>
            </a:endParaRPr>
          </a:p>
        </p:txBody>
      </p:sp>
      <p:sp>
        <p:nvSpPr>
          <p:cNvPr id="124" name=""/>
          <p:cNvSpPr/>
          <p:nvPr/>
        </p:nvSpPr>
        <p:spPr>
          <a:xfrm>
            <a:off x="2819520" y="4676760"/>
            <a:ext cx="2057400" cy="1191240"/>
          </a:xfrm>
          <a:prstGeom prst="rect">
            <a:avLst/>
          </a:prstGeom>
          <a:solidFill>
            <a:srgbClr val="d9cbf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 of High School Student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1% of Middle School Students</a:t>
            </a:r>
            <a:endParaRPr b="0" lang="en-US" sz="1800" spc="-1" strike="noStrike">
              <a:solidFill>
                <a:srgbClr val="000000"/>
              </a:solidFill>
              <a:latin typeface="Times New Roman"/>
            </a:endParaRPr>
          </a:p>
        </p:txBody>
      </p:sp>
      <p:sp>
        <p:nvSpPr>
          <p:cNvPr id="125" name=""/>
          <p:cNvSpPr/>
          <p:nvPr/>
        </p:nvSpPr>
        <p:spPr>
          <a:xfrm>
            <a:off x="120600" y="4997520"/>
            <a:ext cx="2165400" cy="642600"/>
          </a:xfrm>
          <a:prstGeom prst="rect">
            <a:avLst/>
          </a:prstGeom>
          <a:solidFill>
            <a:srgbClr val="d9cbf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 of Adul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6 million adults)</a:t>
            </a:r>
            <a:endParaRPr b="0" lang="en-US" sz="1800" spc="-1" strike="noStrike">
              <a:solidFill>
                <a:srgbClr val="000000"/>
              </a:solidFill>
              <a:latin typeface="Times New Roman"/>
            </a:endParaRPr>
          </a:p>
        </p:txBody>
      </p:sp>
      <p:sp>
        <p:nvSpPr>
          <p:cNvPr id="126" name=""/>
          <p:cNvSpPr/>
          <p:nvPr/>
        </p:nvSpPr>
        <p:spPr>
          <a:xfrm>
            <a:off x="1066680" y="3885120"/>
            <a:ext cx="2895840" cy="459720"/>
          </a:xfrm>
          <a:prstGeom prst="rect">
            <a:avLst/>
          </a:prstGeom>
          <a:gradFill rotWithShape="0">
            <a:gsLst>
              <a:gs pos="0">
                <a:srgbClr val="cac0fa"/>
              </a:gs>
              <a:gs pos="50000">
                <a:srgbClr val="ffff99"/>
              </a:gs>
              <a:gs pos="100000">
                <a:srgbClr val="cac0fa"/>
              </a:gs>
            </a:gsLst>
            <a:lin ang="10800000"/>
          </a:grad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Smokers</a:t>
            </a:r>
            <a:endParaRPr b="0" lang="en-US" sz="2400" spc="-1" strike="noStrike">
              <a:solidFill>
                <a:srgbClr val="000000"/>
              </a:solidFill>
              <a:latin typeface="Times New Roman"/>
            </a:endParaRPr>
          </a:p>
        </p:txBody>
      </p:sp>
      <p:grpSp>
        <p:nvGrpSpPr>
          <p:cNvPr id="127" name=""/>
          <p:cNvGrpSpPr/>
          <p:nvPr/>
        </p:nvGrpSpPr>
        <p:grpSpPr>
          <a:xfrm>
            <a:off x="2438280" y="5181480"/>
            <a:ext cx="152640" cy="228600"/>
            <a:chOff x="2438280" y="5181480"/>
            <a:chExt cx="152640" cy="228600"/>
          </a:xfrm>
        </p:grpSpPr>
        <p:sp>
          <p:nvSpPr>
            <p:cNvPr id="128" name=""/>
            <p:cNvSpPr/>
            <p:nvPr/>
          </p:nvSpPr>
          <p:spPr>
            <a:xfrm>
              <a:off x="2514600" y="5181480"/>
              <a:ext cx="0" cy="228600"/>
            </a:xfrm>
            <a:prstGeom prst="line">
              <a:avLst/>
            </a:prstGeom>
            <a:ln w="572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38280" y="5272920"/>
              <a:ext cx="152640" cy="0"/>
            </a:xfrm>
            <a:prstGeom prst="line">
              <a:avLst/>
            </a:prstGeom>
            <a:ln w="572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 name=""/>
          <p:cNvGrpSpPr/>
          <p:nvPr/>
        </p:nvGrpSpPr>
        <p:grpSpPr>
          <a:xfrm>
            <a:off x="5334120" y="5181480"/>
            <a:ext cx="152280" cy="228600"/>
            <a:chOff x="5334120" y="5181480"/>
            <a:chExt cx="152280" cy="228600"/>
          </a:xfrm>
        </p:grpSpPr>
        <p:sp>
          <p:nvSpPr>
            <p:cNvPr id="131" name=""/>
            <p:cNvSpPr/>
            <p:nvPr/>
          </p:nvSpPr>
          <p:spPr>
            <a:xfrm>
              <a:off x="5410440" y="5181480"/>
              <a:ext cx="0" cy="228600"/>
            </a:xfrm>
            <a:prstGeom prst="line">
              <a:avLst/>
            </a:prstGeom>
            <a:ln w="572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334120" y="5272920"/>
              <a:ext cx="152280" cy="0"/>
            </a:xfrm>
            <a:prstGeom prst="line">
              <a:avLst/>
            </a:prstGeom>
            <a:ln w="572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 name=""/>
          <p:cNvSpPr/>
          <p:nvPr/>
        </p:nvSpPr>
        <p:spPr>
          <a:xfrm>
            <a:off x="5791320" y="3809880"/>
            <a:ext cx="2895480" cy="825480"/>
          </a:xfrm>
          <a:prstGeom prst="rect">
            <a:avLst/>
          </a:prstGeom>
          <a:gradFill rotWithShape="0">
            <a:gsLst>
              <a:gs pos="0">
                <a:srgbClr val="d9cbf7"/>
              </a:gs>
              <a:gs pos="50000">
                <a:srgbClr val="ffff99"/>
              </a:gs>
              <a:gs pos="100000">
                <a:srgbClr val="d9cbf7"/>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vironment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bacco Smoke</a:t>
            </a:r>
            <a:endParaRPr b="0" lang="en-US" sz="2400" spc="-1" strike="noStrike">
              <a:solidFill>
                <a:srgbClr val="000000"/>
              </a:solidFill>
              <a:latin typeface="Times New Roman"/>
            </a:endParaRPr>
          </a:p>
        </p:txBody>
      </p:sp>
      <p:sp>
        <p:nvSpPr>
          <p:cNvPr id="134" name=""/>
          <p:cNvSpPr/>
          <p:nvPr/>
        </p:nvSpPr>
        <p:spPr>
          <a:xfrm>
            <a:off x="6019920" y="4951440"/>
            <a:ext cx="2514600" cy="642600"/>
          </a:xfrm>
          <a:prstGeom prst="rect">
            <a:avLst/>
          </a:prstGeom>
          <a:solidFill>
            <a:srgbClr val="d9cbf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4% of Nonsmokers Exposed</a:t>
            </a:r>
            <a:endParaRPr b="0" lang="en-US" sz="1800" spc="-1" strike="noStrike">
              <a:solidFill>
                <a:srgbClr val="000000"/>
              </a:solidFill>
              <a:latin typeface="Times New Roman"/>
            </a:endParaRPr>
          </a:p>
        </p:txBody>
      </p:sp>
      <p:sp>
        <p:nvSpPr>
          <p:cNvPr id="135" name=""/>
          <p:cNvSpPr/>
          <p:nvPr/>
        </p:nvSpPr>
        <p:spPr>
          <a:xfrm>
            <a:off x="3276720" y="914400"/>
            <a:ext cx="2666880" cy="459720"/>
          </a:xfrm>
          <a:prstGeom prst="rect">
            <a:avLst/>
          </a:prstGeom>
          <a:solidFill>
            <a:srgbClr val="d9cbf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ual Impact</a:t>
            </a:r>
            <a:endParaRPr b="0" lang="en-US" sz="2400" spc="-1" strike="noStrike">
              <a:solidFill>
                <a:srgbClr val="000000"/>
              </a:solidFill>
              <a:latin typeface="Times New Roman"/>
            </a:endParaRPr>
          </a:p>
        </p:txBody>
      </p:sp>
      <p:sp>
        <p:nvSpPr>
          <p:cNvPr id="136" name=""/>
          <p:cNvSpPr/>
          <p:nvPr/>
        </p:nvSpPr>
        <p:spPr>
          <a:xfrm>
            <a:off x="1295280" y="4343400"/>
            <a:ext cx="0" cy="609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124080" y="434340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162920" y="4648320"/>
            <a:ext cx="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76160" y="1523880"/>
            <a:ext cx="150984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0,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ematu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ths</a:t>
            </a:r>
            <a:endParaRPr b="0" lang="en-US" sz="2000" spc="-1" strike="noStrike">
              <a:solidFill>
                <a:srgbClr val="000000"/>
              </a:solidFill>
              <a:latin typeface="Times New Roman"/>
            </a:endParaRPr>
          </a:p>
        </p:txBody>
      </p:sp>
      <p:sp>
        <p:nvSpPr>
          <p:cNvPr id="140" name=""/>
          <p:cNvSpPr/>
          <p:nvPr/>
        </p:nvSpPr>
        <p:spPr>
          <a:xfrm>
            <a:off x="2666880" y="1600200"/>
            <a:ext cx="3048120" cy="824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ung / Other Canc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onic Respiratory Dise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diovascular Disease</a:t>
            </a:r>
            <a:endParaRPr b="0" lang="en-US" sz="1600" spc="-1" strike="noStrike">
              <a:solidFill>
                <a:srgbClr val="000000"/>
              </a:solidFill>
              <a:latin typeface="Times New Roman"/>
            </a:endParaRPr>
          </a:p>
        </p:txBody>
      </p:sp>
      <p:sp>
        <p:nvSpPr>
          <p:cNvPr id="141" name=""/>
          <p:cNvSpPr/>
          <p:nvPr/>
        </p:nvSpPr>
        <p:spPr>
          <a:xfrm>
            <a:off x="5867280" y="1612800"/>
            <a:ext cx="3124440" cy="824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of Medicaid Expendit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and Indirect Cos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57 Billion </a:t>
            </a:r>
            <a:endParaRPr b="0" lang="en-US" sz="1600" spc="-1" strike="noStrike">
              <a:solidFill>
                <a:srgbClr val="000000"/>
              </a:solidFill>
              <a:latin typeface="Times New Roman"/>
            </a:endParaRPr>
          </a:p>
        </p:txBody>
      </p:sp>
      <p:sp>
        <p:nvSpPr>
          <p:cNvPr id="142" name=""/>
          <p:cNvSpPr/>
          <p:nvPr/>
        </p:nvSpPr>
        <p:spPr>
          <a:xfrm flipH="1">
            <a:off x="2286000" y="1295280"/>
            <a:ext cx="99072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955840" y="1257120"/>
            <a:ext cx="81360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343400" y="13716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5791320" y="3276720"/>
            <a:ext cx="68580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2742840" y="3276720"/>
            <a:ext cx="76212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49" name=""/>
          <p:cNvGraphicFramePr/>
          <p:nvPr/>
        </p:nvGraphicFramePr>
        <p:xfrm>
          <a:off x="8534520" y="6324480"/>
          <a:ext cx="609480" cy="533520"/>
        </p:xfrm>
        <a:graphic>
          <a:graphicData uri="http://schemas.openxmlformats.org/presentationml/2006/ole">
            <p:oleObj r:id="rId1" spid="">
              <p:embed/>
              <p:pic>
                <p:nvPicPr>
                  <p:cNvPr id="150" name="" descr=""/>
                  <p:cNvPicPr/>
                  <p:nvPr/>
                </p:nvPicPr>
                <p:blipFill>
                  <a:blip r:embed="rId2"/>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52640" y="228240"/>
            <a:ext cx="93726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7-5. Percent of Current Adult Smokers Who Attempted to Quit in the Past Year</a:t>
            </a:r>
            <a:endParaRPr b="0" lang="en-US" sz="2800" spc="-1" strike="noStrike">
              <a:solidFill>
                <a:srgbClr val="000000"/>
              </a:solidFill>
              <a:latin typeface="Times New Roman"/>
            </a:endParaRPr>
          </a:p>
        </p:txBody>
      </p:sp>
      <p:graphicFrame>
        <p:nvGraphicFramePr>
          <p:cNvPr id="551" name=""/>
          <p:cNvGraphicFramePr/>
          <p:nvPr/>
        </p:nvGraphicFramePr>
        <p:xfrm>
          <a:off x="152280" y="1600200"/>
          <a:ext cx="8759880" cy="4191120"/>
        </p:xfrm>
        <a:graphic>
          <a:graphicData uri="http://schemas.openxmlformats.org/presentationml/2006/ole">
            <p:oleObj r:id="rId1" spid="">
              <p:embed/>
              <p:pic>
                <p:nvPicPr>
                  <p:cNvPr id="552" name="" descr=""/>
                  <p:cNvPicPr/>
                  <p:nvPr/>
                </p:nvPicPr>
                <p:blipFill>
                  <a:blip r:embed="rId2"/>
                  <a:stretch/>
                </p:blipFill>
                <p:spPr>
                  <a:xfrm>
                    <a:off x="152280" y="1600200"/>
                    <a:ext cx="8759880" cy="4191120"/>
                  </a:xfrm>
                  <a:prstGeom prst="rect">
                    <a:avLst/>
                  </a:prstGeom>
                  <a:ln w="0">
                    <a:noFill/>
                  </a:ln>
                </p:spPr>
              </p:pic>
            </p:oleObj>
          </a:graphicData>
        </a:graphic>
      </p:graphicFrame>
      <p:sp>
        <p:nvSpPr>
          <p:cNvPr id="553" name=""/>
          <p:cNvSpPr/>
          <p:nvPr/>
        </p:nvSpPr>
        <p:spPr>
          <a:xfrm>
            <a:off x="2209680" y="5362560"/>
            <a:ext cx="1905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merican Indi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laska Native only</a:t>
            </a:r>
            <a:endParaRPr b="0" lang="en-US" sz="1400" spc="-1" strike="noStrike">
              <a:solidFill>
                <a:srgbClr val="000000"/>
              </a:solidFill>
              <a:latin typeface="Times New Roman"/>
            </a:endParaRPr>
          </a:p>
        </p:txBody>
      </p:sp>
      <p:sp>
        <p:nvSpPr>
          <p:cNvPr id="554" name=""/>
          <p:cNvSpPr/>
          <p:nvPr/>
        </p:nvSpPr>
        <p:spPr>
          <a:xfrm>
            <a:off x="3505320" y="537840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sian only </a:t>
            </a:r>
            <a:endParaRPr b="0" lang="en-US" sz="1400" spc="-1" strike="noStrike">
              <a:solidFill>
                <a:srgbClr val="000000"/>
              </a:solidFill>
              <a:latin typeface="Times New Roman"/>
            </a:endParaRPr>
          </a:p>
        </p:txBody>
      </p:sp>
      <p:sp>
        <p:nvSpPr>
          <p:cNvPr id="555" name=""/>
          <p:cNvSpPr/>
          <p:nvPr/>
        </p:nvSpPr>
        <p:spPr>
          <a:xfrm>
            <a:off x="4952880" y="5410080"/>
            <a:ext cx="127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ispanic </a:t>
            </a:r>
            <a:endParaRPr b="0" lang="en-US" sz="1400" spc="-1" strike="noStrike">
              <a:solidFill>
                <a:srgbClr val="000000"/>
              </a:solidFill>
              <a:latin typeface="Times New Roman"/>
            </a:endParaRPr>
          </a:p>
        </p:txBody>
      </p:sp>
      <p:sp>
        <p:nvSpPr>
          <p:cNvPr id="556" name=""/>
          <p:cNvSpPr/>
          <p:nvPr/>
        </p:nvSpPr>
        <p:spPr>
          <a:xfrm>
            <a:off x="6164280" y="5410080"/>
            <a:ext cx="1531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lack, no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ispanic only</a:t>
            </a:r>
            <a:endParaRPr b="0" lang="en-US" sz="1400" spc="-1" strike="noStrike">
              <a:solidFill>
                <a:srgbClr val="000000"/>
              </a:solidFill>
              <a:latin typeface="Times New Roman"/>
            </a:endParaRPr>
          </a:p>
        </p:txBody>
      </p:sp>
      <p:sp>
        <p:nvSpPr>
          <p:cNvPr id="557" name=""/>
          <p:cNvSpPr/>
          <p:nvPr/>
        </p:nvSpPr>
        <p:spPr>
          <a:xfrm>
            <a:off x="7391520" y="5410080"/>
            <a:ext cx="1676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hite, no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ispanic only</a:t>
            </a:r>
            <a:endParaRPr b="0" lang="en-US" sz="1400" spc="-1" strike="noStrike">
              <a:solidFill>
                <a:srgbClr val="000000"/>
              </a:solidFill>
              <a:latin typeface="Times New Roman"/>
            </a:endParaRPr>
          </a:p>
        </p:txBody>
      </p:sp>
      <p:sp>
        <p:nvSpPr>
          <p:cNvPr id="558" name=""/>
          <p:cNvSpPr/>
          <p:nvPr/>
        </p:nvSpPr>
        <p:spPr>
          <a:xfrm>
            <a:off x="6248520" y="1371600"/>
            <a:ext cx="1768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559" name=""/>
          <p:cNvSpPr/>
          <p:nvPr/>
        </p:nvSpPr>
        <p:spPr>
          <a:xfrm>
            <a:off x="762120" y="190512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419720" y="1371600"/>
            <a:ext cx="304560" cy="304920"/>
          </a:xfrm>
          <a:prstGeom prst="rect">
            <a:avLst/>
          </a:prstGeom>
          <a:solidFill>
            <a:srgbClr val="cdd5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209680" y="1371600"/>
            <a:ext cx="304920" cy="30492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514600" y="1371600"/>
            <a:ext cx="200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 Baseline</a:t>
            </a:r>
            <a:endParaRPr b="0" lang="en-US" sz="1400" spc="-1" strike="noStrike">
              <a:solidFill>
                <a:srgbClr val="000000"/>
              </a:solidFill>
              <a:latin typeface="Times New Roman"/>
            </a:endParaRPr>
          </a:p>
        </p:txBody>
      </p:sp>
      <p:sp>
        <p:nvSpPr>
          <p:cNvPr id="563" name=""/>
          <p:cNvSpPr/>
          <p:nvPr/>
        </p:nvSpPr>
        <p:spPr>
          <a:xfrm>
            <a:off x="4724280" y="1371600"/>
            <a:ext cx="335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1</a:t>
            </a:r>
            <a:endParaRPr b="0" lang="en-US" sz="1400" spc="-1" strike="noStrike">
              <a:solidFill>
                <a:srgbClr val="000000"/>
              </a:solidFill>
              <a:latin typeface="Times New Roman"/>
            </a:endParaRPr>
          </a:p>
        </p:txBody>
      </p:sp>
      <p:sp>
        <p:nvSpPr>
          <p:cNvPr id="564" name=""/>
          <p:cNvSpPr/>
          <p:nvPr/>
        </p:nvSpPr>
        <p:spPr>
          <a:xfrm>
            <a:off x="0" y="5791320"/>
            <a:ext cx="89917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 smokers (everyday/some days who have smoked at least 100 cigarettes) who have quit smoking one day or longer in the year prior to interview</a:t>
            </a:r>
            <a:r>
              <a:rPr b="0" lang="en-US" sz="1000" spc="-1" strike="noStrike">
                <a:solidFill>
                  <a:srgbClr val="000000"/>
                </a:solidFill>
                <a:latin typeface="Times New Roman"/>
              </a:rPr>
              <a:t>.  </a:t>
            </a:r>
            <a:r>
              <a:rPr b="0" lang="en-US" sz="1000" spc="-1" strike="noStrike">
                <a:solidFill>
                  <a:srgbClr val="000000"/>
                </a:solidFill>
                <a:latin typeface="Arial"/>
              </a:rPr>
              <a:t>Notes:  American Indians/Alaska Natives or Asians may be of Hispanic origin.  Hispanics may be of any race.  For 1998, persons reported only one race or reported more than one race and identified one race as best representing their race.  Data are age adjusted to the 2000 standard popula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ults:</a:t>
            </a:r>
            <a:r>
              <a:rPr b="0" lang="en-US" sz="1000" spc="-1" strike="noStrike">
                <a:solidFill>
                  <a:srgbClr val="000000"/>
                </a:solidFill>
                <a:latin typeface="Times New Roman"/>
              </a:rPr>
              <a:t> </a:t>
            </a:r>
            <a:r>
              <a:rPr b="0" lang="en-US" sz="1000" spc="-1" strike="noStrike">
                <a:solidFill>
                  <a:srgbClr val="000000"/>
                </a:solidFill>
                <a:latin typeface="Arial"/>
              </a:rPr>
              <a:t>18 years and old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5" name=""/>
          <p:cNvSpPr/>
          <p:nvPr/>
        </p:nvSpPr>
        <p:spPr>
          <a:xfrm>
            <a:off x="-15840" y="1523880"/>
            <a:ext cx="2000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adjusted percent</a:t>
            </a:r>
            <a:endParaRPr b="0" lang="en-US" sz="1400" spc="-1" strike="noStrike">
              <a:solidFill>
                <a:srgbClr val="000000"/>
              </a:solidFill>
              <a:latin typeface="Times New Roman"/>
            </a:endParaRPr>
          </a:p>
        </p:txBody>
      </p:sp>
      <p:sp>
        <p:nvSpPr>
          <p:cNvPr id="566"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
          <p:cNvSpPr/>
          <p:nvPr/>
        </p:nvSpPr>
        <p:spPr>
          <a:xfrm>
            <a:off x="0" y="662940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p:nvPr/>
        </p:nvSpPr>
        <p:spPr>
          <a:xfrm>
            <a:off x="5943600" y="15238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533520" y="5486400"/>
            <a:ext cx="127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Times New Roman"/>
            </a:endParaRPr>
          </a:p>
        </p:txBody>
      </p:sp>
      <p:sp>
        <p:nvSpPr>
          <p:cNvPr id="570" name=""/>
          <p:cNvSpPr/>
          <p:nvPr/>
        </p:nvSpPr>
        <p:spPr>
          <a:xfrm>
            <a:off x="4680" y="6607080"/>
            <a:ext cx="3748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Interview Survey (NHIS),  NCHS, CDC.</a:t>
            </a:r>
            <a:endParaRPr b="0" lang="en-US" sz="1000" spc="-1" strike="noStrike">
              <a:solidFill>
                <a:srgbClr val="000000"/>
              </a:solidFill>
              <a:latin typeface="Times New Roman"/>
            </a:endParaRPr>
          </a:p>
        </p:txBody>
      </p:sp>
      <p:graphicFrame>
        <p:nvGraphicFramePr>
          <p:cNvPr id="571" name=""/>
          <p:cNvGraphicFramePr/>
          <p:nvPr/>
        </p:nvGraphicFramePr>
        <p:xfrm>
          <a:off x="8534520" y="6324480"/>
          <a:ext cx="609480" cy="533520"/>
        </p:xfrm>
        <a:graphic>
          <a:graphicData uri="http://schemas.openxmlformats.org/presentationml/2006/ole">
            <p:oleObj r:id="rId3" spid="">
              <p:embed/>
              <p:pic>
                <p:nvPicPr>
                  <p:cNvPr id="572"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grpSp>
        <p:nvGrpSpPr>
          <p:cNvPr id="573" name=""/>
          <p:cNvGrpSpPr/>
          <p:nvPr/>
        </p:nvGrpSpPr>
        <p:grpSpPr>
          <a:xfrm>
            <a:off x="0" y="0"/>
            <a:ext cx="9144000" cy="6859800"/>
            <a:chOff x="0" y="0"/>
            <a:chExt cx="9144000" cy="6859800"/>
          </a:xfrm>
        </p:grpSpPr>
        <p:sp>
          <p:nvSpPr>
            <p:cNvPr id="574" name=""/>
            <p:cNvSpPr/>
            <p:nvPr/>
          </p:nvSpPr>
          <p:spPr>
            <a:xfrm>
              <a:off x="6561000" y="5526000"/>
              <a:ext cx="341280" cy="184320"/>
            </a:xfrm>
            <a:prstGeom prst="rect">
              <a:avLst/>
            </a:prstGeom>
            <a:solidFill>
              <a:srgbClr val="a6d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554880" y="5907240"/>
              <a:ext cx="344520" cy="183960"/>
            </a:xfrm>
            <a:prstGeom prst="rect">
              <a:avLst/>
            </a:prstGeom>
            <a:solidFill>
              <a:srgbClr val="0099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554880" y="6211800"/>
              <a:ext cx="344520" cy="184320"/>
            </a:xfrm>
            <a:prstGeom prst="rect">
              <a:avLst/>
            </a:prstGeom>
            <a:solidFill>
              <a:srgbClr val="00547e"/>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553080" y="6561000"/>
              <a:ext cx="341280" cy="184320"/>
            </a:xfrm>
            <a:prstGeom prst="rect">
              <a:avLst/>
            </a:prstGeom>
            <a:solidFill>
              <a:srgbClr val="00244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615720" y="5183280"/>
              <a:ext cx="230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adjusted percent </a:t>
              </a:r>
              <a:endParaRPr b="0" lang="en-US" sz="1600" spc="-1" strike="noStrike">
                <a:solidFill>
                  <a:srgbClr val="000000"/>
                </a:solidFill>
                <a:latin typeface="Times New Roman"/>
              </a:endParaRPr>
            </a:p>
          </p:txBody>
        </p:sp>
        <p:sp>
          <p:nvSpPr>
            <p:cNvPr id="579" name=""/>
            <p:cNvSpPr/>
            <p:nvPr/>
          </p:nvSpPr>
          <p:spPr>
            <a:xfrm>
              <a:off x="7013520" y="5473800"/>
              <a:ext cx="131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99- 21.73</a:t>
              </a:r>
              <a:endParaRPr b="0" lang="en-US" sz="1600" spc="-1" strike="noStrike">
                <a:solidFill>
                  <a:srgbClr val="000000"/>
                </a:solidFill>
                <a:latin typeface="Times New Roman"/>
              </a:endParaRPr>
            </a:p>
          </p:txBody>
        </p:sp>
        <p:sp>
          <p:nvSpPr>
            <p:cNvPr id="580" name=""/>
            <p:cNvSpPr/>
            <p:nvPr/>
          </p:nvSpPr>
          <p:spPr>
            <a:xfrm>
              <a:off x="7013520" y="5830920"/>
              <a:ext cx="131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16- 23.45</a:t>
              </a:r>
              <a:endParaRPr b="0" lang="en-US" sz="1600" spc="-1" strike="noStrike">
                <a:solidFill>
                  <a:srgbClr val="000000"/>
                </a:solidFill>
                <a:latin typeface="Times New Roman"/>
              </a:endParaRPr>
            </a:p>
          </p:txBody>
        </p:sp>
        <p:sp>
          <p:nvSpPr>
            <p:cNvPr id="581" name=""/>
            <p:cNvSpPr/>
            <p:nvPr/>
          </p:nvSpPr>
          <p:spPr>
            <a:xfrm>
              <a:off x="7013520" y="6135840"/>
              <a:ext cx="131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68- 25.30</a:t>
              </a:r>
              <a:endParaRPr b="0" lang="en-US" sz="1600" spc="-1" strike="noStrike">
                <a:solidFill>
                  <a:srgbClr val="000000"/>
                </a:solidFill>
                <a:latin typeface="Times New Roman"/>
              </a:endParaRPr>
            </a:p>
          </p:txBody>
        </p:sp>
        <p:sp>
          <p:nvSpPr>
            <p:cNvPr id="582" name=""/>
            <p:cNvSpPr/>
            <p:nvPr/>
          </p:nvSpPr>
          <p:spPr>
            <a:xfrm>
              <a:off x="7032600" y="6464160"/>
              <a:ext cx="131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32- 31.11</a:t>
              </a:r>
              <a:endParaRPr b="0" lang="en-US" sz="1600" spc="-1" strike="noStrike">
                <a:solidFill>
                  <a:srgbClr val="000000"/>
                </a:solidFill>
                <a:latin typeface="Times New Roman"/>
              </a:endParaRPr>
            </a:p>
          </p:txBody>
        </p:sp>
        <p:sp>
          <p:nvSpPr>
            <p:cNvPr id="583" name=""/>
            <p:cNvSpPr/>
            <p:nvPr/>
          </p:nvSpPr>
          <p:spPr>
            <a:xfrm>
              <a:off x="69480" y="6400800"/>
              <a:ext cx="5301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re age adjusted to the 2000 standard population.  Ages 18 and 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Behavioral Risk Factor Surveillance Survey, NCCDPHP, CDC.</a:t>
              </a:r>
              <a:endParaRPr b="0" lang="en-US" sz="1200" spc="-1" strike="noStrike">
                <a:solidFill>
                  <a:srgbClr val="000000"/>
                </a:solidFill>
                <a:latin typeface="Times New Roman"/>
              </a:endParaRPr>
            </a:p>
          </p:txBody>
        </p:sp>
        <p:sp>
          <p:nvSpPr>
            <p:cNvPr id="584" name=""/>
            <p:cNvSpPr/>
            <p:nvPr/>
          </p:nvSpPr>
          <p:spPr>
            <a:xfrm>
              <a:off x="3936960" y="5378400"/>
              <a:ext cx="228600" cy="262080"/>
            </a:xfrm>
            <a:custGeom>
              <a:avLst/>
              <a:gdLst/>
              <a:ahLst/>
              <a:rect l="l" t="t" r="r" b="b"/>
              <a:pathLst>
                <a:path w="324" h="379">
                  <a:moveTo>
                    <a:pt x="0" y="128"/>
                  </a:moveTo>
                  <a:lnTo>
                    <a:pt x="36" y="255"/>
                  </a:lnTo>
                  <a:lnTo>
                    <a:pt x="38" y="318"/>
                  </a:lnTo>
                  <a:lnTo>
                    <a:pt x="136" y="379"/>
                  </a:lnTo>
                  <a:lnTo>
                    <a:pt x="164" y="314"/>
                  </a:lnTo>
                  <a:lnTo>
                    <a:pt x="324" y="214"/>
                  </a:lnTo>
                  <a:lnTo>
                    <a:pt x="255" y="90"/>
                  </a:lnTo>
                  <a:lnTo>
                    <a:pt x="59" y="0"/>
                  </a:lnTo>
                  <a:lnTo>
                    <a:pt x="62" y="96"/>
                  </a:lnTo>
                  <a:lnTo>
                    <a:pt x="0" y="128"/>
                  </a:lnTo>
                  <a:close/>
                </a:path>
              </a:pathLst>
            </a:custGeom>
            <a:solidFill>
              <a:srgbClr val="dd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819600" y="5230800"/>
              <a:ext cx="135000" cy="87480"/>
            </a:xfrm>
            <a:custGeom>
              <a:avLst/>
              <a:gdLst/>
              <a:ahLst/>
              <a:rect l="l" t="t" r="r" b="b"/>
              <a:pathLst>
                <a:path w="191" h="127">
                  <a:moveTo>
                    <a:pt x="68" y="127"/>
                  </a:moveTo>
                  <a:lnTo>
                    <a:pt x="161" y="124"/>
                  </a:lnTo>
                  <a:lnTo>
                    <a:pt x="191" y="59"/>
                  </a:lnTo>
                  <a:lnTo>
                    <a:pt x="95" y="29"/>
                  </a:lnTo>
                  <a:lnTo>
                    <a:pt x="65" y="30"/>
                  </a:lnTo>
                  <a:lnTo>
                    <a:pt x="30" y="0"/>
                  </a:lnTo>
                  <a:lnTo>
                    <a:pt x="0" y="31"/>
                  </a:lnTo>
                  <a:lnTo>
                    <a:pt x="33" y="95"/>
                  </a:lnTo>
                  <a:lnTo>
                    <a:pt x="68" y="127"/>
                  </a:lnTo>
                  <a:close/>
                </a:path>
              </a:pathLst>
            </a:custGeom>
            <a:solidFill>
              <a:srgbClr val="ddffff"/>
            </a:solidFill>
            <a:ln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6" name=""/>
            <p:cNvSpPr/>
            <p:nvPr/>
          </p:nvSpPr>
          <p:spPr>
            <a:xfrm>
              <a:off x="3819600" y="5230800"/>
              <a:ext cx="135000" cy="87480"/>
            </a:xfrm>
            <a:custGeom>
              <a:avLst/>
              <a:gdLst/>
              <a:ahLst/>
              <a:rect l="l" t="t" r="r" b="b"/>
              <a:pathLst>
                <a:path w="191" h="127">
                  <a:moveTo>
                    <a:pt x="68" y="127"/>
                  </a:moveTo>
                  <a:lnTo>
                    <a:pt x="161" y="124"/>
                  </a:lnTo>
                  <a:lnTo>
                    <a:pt x="191" y="59"/>
                  </a:lnTo>
                  <a:lnTo>
                    <a:pt x="95" y="29"/>
                  </a:lnTo>
                  <a:lnTo>
                    <a:pt x="65" y="30"/>
                  </a:lnTo>
                  <a:lnTo>
                    <a:pt x="30" y="0"/>
                  </a:lnTo>
                  <a:lnTo>
                    <a:pt x="0" y="31"/>
                  </a:lnTo>
                  <a:lnTo>
                    <a:pt x="33" y="95"/>
                  </a:lnTo>
                  <a:lnTo>
                    <a:pt x="68" y="127"/>
                  </a:lnTo>
                  <a:lnTo>
                    <a:pt x="68" y="127"/>
                  </a:lnTo>
                </a:path>
              </a:pathLst>
            </a:custGeom>
            <a:solidFill>
              <a:srgbClr val="ddffff"/>
            </a:solidFill>
            <a:ln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7" name=""/>
            <p:cNvSpPr/>
            <p:nvPr/>
          </p:nvSpPr>
          <p:spPr>
            <a:xfrm>
              <a:off x="3797280" y="5319720"/>
              <a:ext cx="44640" cy="22320"/>
            </a:xfrm>
            <a:custGeom>
              <a:avLst/>
              <a:gdLst/>
              <a:ahLst/>
              <a:rect l="l" t="t" r="r" b="b"/>
              <a:pathLst>
                <a:path w="62" h="32">
                  <a:moveTo>
                    <a:pt x="0" y="32"/>
                  </a:moveTo>
                  <a:lnTo>
                    <a:pt x="61" y="0"/>
                  </a:lnTo>
                  <a:lnTo>
                    <a:pt x="62" y="30"/>
                  </a:lnTo>
                  <a:lnTo>
                    <a:pt x="0" y="32"/>
                  </a:lnTo>
                  <a:close/>
                </a:path>
              </a:pathLst>
            </a:custGeom>
            <a:solidFill>
              <a:srgbClr val="ddffff"/>
            </a:solidFill>
            <a:ln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8" name=""/>
            <p:cNvSpPr/>
            <p:nvPr/>
          </p:nvSpPr>
          <p:spPr>
            <a:xfrm>
              <a:off x="3797280" y="5319720"/>
              <a:ext cx="44640" cy="22320"/>
            </a:xfrm>
            <a:custGeom>
              <a:avLst/>
              <a:gdLst/>
              <a:ahLst/>
              <a:rect l="l" t="t" r="r" b="b"/>
              <a:pathLst>
                <a:path w="62" h="32">
                  <a:moveTo>
                    <a:pt x="0" y="32"/>
                  </a:moveTo>
                  <a:lnTo>
                    <a:pt x="61" y="0"/>
                  </a:lnTo>
                  <a:lnTo>
                    <a:pt x="62" y="30"/>
                  </a:lnTo>
                  <a:lnTo>
                    <a:pt x="0" y="32"/>
                  </a:lnTo>
                  <a:lnTo>
                    <a:pt x="0" y="32"/>
                  </a:lnTo>
                </a:path>
              </a:pathLst>
            </a:custGeom>
            <a:solidFill>
              <a:srgbClr val="ddffff"/>
            </a:solidFill>
            <a:ln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9" name=""/>
            <p:cNvSpPr/>
            <p:nvPr/>
          </p:nvSpPr>
          <p:spPr>
            <a:xfrm>
              <a:off x="3755880" y="5259240"/>
              <a:ext cx="44640" cy="44640"/>
            </a:xfrm>
            <a:custGeom>
              <a:avLst/>
              <a:gdLst/>
              <a:ahLst/>
              <a:rect l="l" t="t" r="r" b="b"/>
              <a:pathLst>
                <a:path w="63" h="61">
                  <a:moveTo>
                    <a:pt x="31" y="0"/>
                  </a:moveTo>
                  <a:lnTo>
                    <a:pt x="42" y="1"/>
                  </a:lnTo>
                  <a:lnTo>
                    <a:pt x="52" y="8"/>
                  </a:lnTo>
                  <a:lnTo>
                    <a:pt x="60" y="18"/>
                  </a:lnTo>
                  <a:lnTo>
                    <a:pt x="63" y="29"/>
                  </a:lnTo>
                  <a:lnTo>
                    <a:pt x="61" y="42"/>
                  </a:lnTo>
                  <a:lnTo>
                    <a:pt x="54" y="52"/>
                  </a:lnTo>
                  <a:lnTo>
                    <a:pt x="44" y="57"/>
                  </a:lnTo>
                  <a:lnTo>
                    <a:pt x="33" y="61"/>
                  </a:lnTo>
                  <a:lnTo>
                    <a:pt x="19" y="59"/>
                  </a:lnTo>
                  <a:lnTo>
                    <a:pt x="11" y="53"/>
                  </a:lnTo>
                  <a:lnTo>
                    <a:pt x="2" y="44"/>
                  </a:lnTo>
                  <a:lnTo>
                    <a:pt x="0" y="31"/>
                  </a:lnTo>
                  <a:lnTo>
                    <a:pt x="1" y="20"/>
                  </a:lnTo>
                  <a:lnTo>
                    <a:pt x="9" y="10"/>
                  </a:lnTo>
                  <a:lnTo>
                    <a:pt x="18" y="2"/>
                  </a:lnTo>
                  <a:lnTo>
                    <a:pt x="31" y="0"/>
                  </a:lnTo>
                  <a:close/>
                </a:path>
              </a:pathLst>
            </a:custGeom>
            <a:solidFill>
              <a:srgbClr val="ddffff"/>
            </a:solidFill>
            <a:ln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0" name=""/>
            <p:cNvSpPr/>
            <p:nvPr/>
          </p:nvSpPr>
          <p:spPr>
            <a:xfrm>
              <a:off x="3755880" y="5259240"/>
              <a:ext cx="44640" cy="44640"/>
            </a:xfrm>
            <a:custGeom>
              <a:avLst/>
              <a:gdLst/>
              <a:ahLst/>
              <a:rect l="l" t="t" r="r" b="b"/>
              <a:pathLst>
                <a:path w="63" h="61">
                  <a:moveTo>
                    <a:pt x="31" y="0"/>
                  </a:moveTo>
                  <a:lnTo>
                    <a:pt x="42" y="1"/>
                  </a:lnTo>
                  <a:lnTo>
                    <a:pt x="52" y="8"/>
                  </a:lnTo>
                  <a:lnTo>
                    <a:pt x="60" y="18"/>
                  </a:lnTo>
                  <a:lnTo>
                    <a:pt x="63" y="29"/>
                  </a:lnTo>
                  <a:lnTo>
                    <a:pt x="61" y="42"/>
                  </a:lnTo>
                  <a:lnTo>
                    <a:pt x="54" y="52"/>
                  </a:lnTo>
                  <a:lnTo>
                    <a:pt x="44" y="57"/>
                  </a:lnTo>
                  <a:lnTo>
                    <a:pt x="33" y="61"/>
                  </a:lnTo>
                  <a:lnTo>
                    <a:pt x="19" y="59"/>
                  </a:lnTo>
                  <a:lnTo>
                    <a:pt x="11" y="53"/>
                  </a:lnTo>
                  <a:lnTo>
                    <a:pt x="2" y="44"/>
                  </a:lnTo>
                  <a:lnTo>
                    <a:pt x="0" y="31"/>
                  </a:lnTo>
                  <a:lnTo>
                    <a:pt x="1" y="20"/>
                  </a:lnTo>
                  <a:lnTo>
                    <a:pt x="9" y="10"/>
                  </a:lnTo>
                  <a:lnTo>
                    <a:pt x="18" y="2"/>
                  </a:lnTo>
                  <a:lnTo>
                    <a:pt x="31" y="0"/>
                  </a:lnTo>
                  <a:lnTo>
                    <a:pt x="31" y="0"/>
                  </a:lnTo>
                </a:path>
              </a:pathLst>
            </a:custGeom>
            <a:solidFill>
              <a:srgbClr val="ddffff"/>
            </a:solidFill>
            <a:ln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1" name=""/>
            <p:cNvSpPr/>
            <p:nvPr/>
          </p:nvSpPr>
          <p:spPr>
            <a:xfrm>
              <a:off x="3681360" y="5189400"/>
              <a:ext cx="109440" cy="46080"/>
            </a:xfrm>
            <a:custGeom>
              <a:avLst/>
              <a:gdLst/>
              <a:ahLst/>
              <a:rect l="l" t="t" r="r" b="b"/>
              <a:pathLst>
                <a:path w="156" h="67">
                  <a:moveTo>
                    <a:pt x="0" y="67"/>
                  </a:moveTo>
                  <a:lnTo>
                    <a:pt x="127" y="63"/>
                  </a:lnTo>
                  <a:lnTo>
                    <a:pt x="156" y="0"/>
                  </a:lnTo>
                  <a:lnTo>
                    <a:pt x="31" y="4"/>
                  </a:lnTo>
                  <a:lnTo>
                    <a:pt x="0" y="67"/>
                  </a:lnTo>
                  <a:close/>
                </a:path>
              </a:pathLst>
            </a:custGeom>
            <a:solidFill>
              <a:srgbClr val="ddffff"/>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2" name=""/>
            <p:cNvSpPr/>
            <p:nvPr/>
          </p:nvSpPr>
          <p:spPr>
            <a:xfrm>
              <a:off x="3681360" y="5189400"/>
              <a:ext cx="109440" cy="46080"/>
            </a:xfrm>
            <a:custGeom>
              <a:avLst/>
              <a:gdLst/>
              <a:ahLst/>
              <a:rect l="l" t="t" r="r" b="b"/>
              <a:pathLst>
                <a:path w="156" h="67">
                  <a:moveTo>
                    <a:pt x="0" y="67"/>
                  </a:moveTo>
                  <a:lnTo>
                    <a:pt x="127" y="63"/>
                  </a:lnTo>
                  <a:lnTo>
                    <a:pt x="156" y="0"/>
                  </a:lnTo>
                  <a:lnTo>
                    <a:pt x="31" y="4"/>
                  </a:lnTo>
                  <a:lnTo>
                    <a:pt x="0" y="67"/>
                  </a:lnTo>
                  <a:lnTo>
                    <a:pt x="0" y="67"/>
                  </a:lnTo>
                </a:path>
              </a:pathLst>
            </a:custGeom>
            <a:solidFill>
              <a:srgbClr val="ddffff"/>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3" name=""/>
            <p:cNvSpPr/>
            <p:nvPr/>
          </p:nvSpPr>
          <p:spPr>
            <a:xfrm>
              <a:off x="3205080" y="5011560"/>
              <a:ext cx="109800" cy="65160"/>
            </a:xfrm>
            <a:custGeom>
              <a:avLst/>
              <a:gdLst/>
              <a:ahLst/>
              <a:rect l="l" t="t" r="r" b="b"/>
              <a:pathLst>
                <a:path w="157" h="97">
                  <a:moveTo>
                    <a:pt x="0" y="65"/>
                  </a:moveTo>
                  <a:lnTo>
                    <a:pt x="64" y="97"/>
                  </a:lnTo>
                  <a:lnTo>
                    <a:pt x="126" y="96"/>
                  </a:lnTo>
                  <a:lnTo>
                    <a:pt x="157" y="30"/>
                  </a:lnTo>
                  <a:lnTo>
                    <a:pt x="92" y="0"/>
                  </a:lnTo>
                  <a:lnTo>
                    <a:pt x="30" y="34"/>
                  </a:lnTo>
                  <a:lnTo>
                    <a:pt x="0" y="65"/>
                  </a:lnTo>
                  <a:close/>
                </a:path>
              </a:pathLst>
            </a:custGeom>
            <a:solidFill>
              <a:srgbClr val="ddffff"/>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4" name=""/>
            <p:cNvSpPr/>
            <p:nvPr/>
          </p:nvSpPr>
          <p:spPr>
            <a:xfrm>
              <a:off x="3205080" y="5011560"/>
              <a:ext cx="109800" cy="65160"/>
            </a:xfrm>
            <a:custGeom>
              <a:avLst/>
              <a:gdLst/>
              <a:ahLst/>
              <a:rect l="l" t="t" r="r" b="b"/>
              <a:pathLst>
                <a:path w="157" h="97">
                  <a:moveTo>
                    <a:pt x="0" y="65"/>
                  </a:moveTo>
                  <a:lnTo>
                    <a:pt x="64" y="97"/>
                  </a:lnTo>
                  <a:lnTo>
                    <a:pt x="126" y="96"/>
                  </a:lnTo>
                  <a:lnTo>
                    <a:pt x="157" y="30"/>
                  </a:lnTo>
                  <a:lnTo>
                    <a:pt x="92" y="0"/>
                  </a:lnTo>
                  <a:lnTo>
                    <a:pt x="30" y="34"/>
                  </a:lnTo>
                  <a:lnTo>
                    <a:pt x="0" y="65"/>
                  </a:lnTo>
                  <a:lnTo>
                    <a:pt x="0" y="65"/>
                  </a:lnTo>
                </a:path>
              </a:pathLst>
            </a:custGeom>
            <a:solidFill>
              <a:srgbClr val="ddffff"/>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5" name=""/>
            <p:cNvSpPr/>
            <p:nvPr/>
          </p:nvSpPr>
          <p:spPr>
            <a:xfrm>
              <a:off x="3116160" y="5013360"/>
              <a:ext cx="44640" cy="68400"/>
            </a:xfrm>
            <a:custGeom>
              <a:avLst/>
              <a:gdLst/>
              <a:ahLst/>
              <a:rect l="l" t="t" r="r" b="b"/>
              <a:pathLst>
                <a:path w="64" h="99">
                  <a:moveTo>
                    <a:pt x="1" y="99"/>
                  </a:moveTo>
                  <a:lnTo>
                    <a:pt x="64" y="33"/>
                  </a:lnTo>
                  <a:lnTo>
                    <a:pt x="62" y="0"/>
                  </a:lnTo>
                  <a:lnTo>
                    <a:pt x="0" y="65"/>
                  </a:lnTo>
                  <a:lnTo>
                    <a:pt x="1" y="99"/>
                  </a:lnTo>
                  <a:close/>
                </a:path>
              </a:pathLst>
            </a:custGeom>
            <a:solidFill>
              <a:srgbClr val="ddffff"/>
            </a:solidFill>
            <a:ln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6" name=""/>
            <p:cNvSpPr/>
            <p:nvPr/>
          </p:nvSpPr>
          <p:spPr>
            <a:xfrm>
              <a:off x="3116160" y="5013360"/>
              <a:ext cx="44640" cy="68400"/>
            </a:xfrm>
            <a:custGeom>
              <a:avLst/>
              <a:gdLst/>
              <a:ahLst/>
              <a:rect l="l" t="t" r="r" b="b"/>
              <a:pathLst>
                <a:path w="64" h="99">
                  <a:moveTo>
                    <a:pt x="1" y="99"/>
                  </a:moveTo>
                  <a:lnTo>
                    <a:pt x="64" y="33"/>
                  </a:lnTo>
                  <a:lnTo>
                    <a:pt x="62" y="0"/>
                  </a:lnTo>
                  <a:lnTo>
                    <a:pt x="0" y="65"/>
                  </a:lnTo>
                  <a:lnTo>
                    <a:pt x="1" y="99"/>
                  </a:lnTo>
                  <a:lnTo>
                    <a:pt x="1" y="99"/>
                  </a:lnTo>
                </a:path>
              </a:pathLst>
            </a:custGeom>
            <a:solidFill>
              <a:srgbClr val="ddffff"/>
            </a:solidFill>
            <a:ln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7" name=""/>
            <p:cNvSpPr/>
            <p:nvPr/>
          </p:nvSpPr>
          <p:spPr>
            <a:xfrm>
              <a:off x="3502080" y="5110200"/>
              <a:ext cx="114120" cy="85680"/>
            </a:xfrm>
            <a:custGeom>
              <a:avLst/>
              <a:gdLst/>
              <a:ahLst/>
              <a:rect l="l" t="t" r="r" b="b"/>
              <a:pathLst>
                <a:path w="163" h="128">
                  <a:moveTo>
                    <a:pt x="68" y="128"/>
                  </a:moveTo>
                  <a:lnTo>
                    <a:pt x="163" y="126"/>
                  </a:lnTo>
                  <a:lnTo>
                    <a:pt x="161" y="63"/>
                  </a:lnTo>
                  <a:lnTo>
                    <a:pt x="94" y="0"/>
                  </a:lnTo>
                  <a:lnTo>
                    <a:pt x="0" y="34"/>
                  </a:lnTo>
                  <a:lnTo>
                    <a:pt x="68" y="128"/>
                  </a:lnTo>
                  <a:close/>
                </a:path>
              </a:pathLst>
            </a:custGeom>
            <a:solidFill>
              <a:srgbClr val="ddffff"/>
            </a:solidFill>
            <a:ln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3502080" y="5110200"/>
              <a:ext cx="114120" cy="85680"/>
            </a:xfrm>
            <a:custGeom>
              <a:avLst/>
              <a:gdLst/>
              <a:ahLst/>
              <a:rect l="l" t="t" r="r" b="b"/>
              <a:pathLst>
                <a:path w="163" h="128">
                  <a:moveTo>
                    <a:pt x="68" y="128"/>
                  </a:moveTo>
                  <a:lnTo>
                    <a:pt x="163" y="126"/>
                  </a:lnTo>
                  <a:lnTo>
                    <a:pt x="161" y="63"/>
                  </a:lnTo>
                  <a:lnTo>
                    <a:pt x="94" y="0"/>
                  </a:lnTo>
                  <a:lnTo>
                    <a:pt x="0" y="34"/>
                  </a:lnTo>
                  <a:lnTo>
                    <a:pt x="68" y="128"/>
                  </a:lnTo>
                  <a:lnTo>
                    <a:pt x="68" y="128"/>
                  </a:lnTo>
                </a:path>
              </a:pathLst>
            </a:custGeom>
            <a:solidFill>
              <a:srgbClr val="ddffff"/>
            </a:solidFill>
            <a:ln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9" name=""/>
            <p:cNvSpPr/>
            <p:nvPr/>
          </p:nvSpPr>
          <p:spPr>
            <a:xfrm>
              <a:off x="1279440" y="609480"/>
              <a:ext cx="992160" cy="703440"/>
            </a:xfrm>
            <a:custGeom>
              <a:avLst/>
              <a:gdLst/>
              <a:ahLst/>
              <a:rect l="l" t="t" r="r" b="b"/>
              <a:pathLst>
                <a:path w="1406" h="1026">
                  <a:moveTo>
                    <a:pt x="54" y="648"/>
                  </a:moveTo>
                  <a:lnTo>
                    <a:pt x="19" y="623"/>
                  </a:lnTo>
                  <a:lnTo>
                    <a:pt x="7" y="623"/>
                  </a:lnTo>
                  <a:lnTo>
                    <a:pt x="0" y="619"/>
                  </a:lnTo>
                  <a:lnTo>
                    <a:pt x="0" y="609"/>
                  </a:lnTo>
                  <a:lnTo>
                    <a:pt x="10" y="578"/>
                  </a:lnTo>
                  <a:lnTo>
                    <a:pt x="15" y="563"/>
                  </a:lnTo>
                  <a:lnTo>
                    <a:pt x="15" y="549"/>
                  </a:lnTo>
                  <a:lnTo>
                    <a:pt x="15" y="541"/>
                  </a:lnTo>
                  <a:lnTo>
                    <a:pt x="23" y="539"/>
                  </a:lnTo>
                  <a:lnTo>
                    <a:pt x="27" y="541"/>
                  </a:lnTo>
                  <a:lnTo>
                    <a:pt x="28" y="560"/>
                  </a:lnTo>
                  <a:lnTo>
                    <a:pt x="27" y="571"/>
                  </a:lnTo>
                  <a:lnTo>
                    <a:pt x="25" y="578"/>
                  </a:lnTo>
                  <a:lnTo>
                    <a:pt x="27" y="585"/>
                  </a:lnTo>
                  <a:lnTo>
                    <a:pt x="51" y="563"/>
                  </a:lnTo>
                  <a:lnTo>
                    <a:pt x="49" y="554"/>
                  </a:lnTo>
                  <a:lnTo>
                    <a:pt x="49" y="541"/>
                  </a:lnTo>
                  <a:lnTo>
                    <a:pt x="59" y="528"/>
                  </a:lnTo>
                  <a:lnTo>
                    <a:pt x="51" y="514"/>
                  </a:lnTo>
                  <a:lnTo>
                    <a:pt x="36" y="509"/>
                  </a:lnTo>
                  <a:lnTo>
                    <a:pt x="34" y="468"/>
                  </a:lnTo>
                  <a:lnTo>
                    <a:pt x="41" y="465"/>
                  </a:lnTo>
                  <a:lnTo>
                    <a:pt x="55" y="468"/>
                  </a:lnTo>
                  <a:lnTo>
                    <a:pt x="61" y="463"/>
                  </a:lnTo>
                  <a:lnTo>
                    <a:pt x="86" y="457"/>
                  </a:lnTo>
                  <a:lnTo>
                    <a:pt x="67" y="440"/>
                  </a:lnTo>
                  <a:lnTo>
                    <a:pt x="67" y="434"/>
                  </a:lnTo>
                  <a:lnTo>
                    <a:pt x="61" y="432"/>
                  </a:lnTo>
                  <a:lnTo>
                    <a:pt x="41" y="442"/>
                  </a:lnTo>
                  <a:lnTo>
                    <a:pt x="42" y="414"/>
                  </a:lnTo>
                  <a:lnTo>
                    <a:pt x="42" y="395"/>
                  </a:lnTo>
                  <a:lnTo>
                    <a:pt x="49" y="365"/>
                  </a:lnTo>
                  <a:lnTo>
                    <a:pt x="45" y="339"/>
                  </a:lnTo>
                  <a:lnTo>
                    <a:pt x="44" y="318"/>
                  </a:lnTo>
                  <a:lnTo>
                    <a:pt x="49" y="260"/>
                  </a:lnTo>
                  <a:lnTo>
                    <a:pt x="54" y="240"/>
                  </a:lnTo>
                  <a:lnTo>
                    <a:pt x="28" y="166"/>
                  </a:lnTo>
                  <a:lnTo>
                    <a:pt x="31" y="116"/>
                  </a:lnTo>
                  <a:lnTo>
                    <a:pt x="39" y="89"/>
                  </a:lnTo>
                  <a:lnTo>
                    <a:pt x="47" y="52"/>
                  </a:lnTo>
                  <a:lnTo>
                    <a:pt x="180" y="143"/>
                  </a:lnTo>
                  <a:lnTo>
                    <a:pt x="247" y="179"/>
                  </a:lnTo>
                  <a:lnTo>
                    <a:pt x="300" y="196"/>
                  </a:lnTo>
                  <a:lnTo>
                    <a:pt x="331" y="216"/>
                  </a:lnTo>
                  <a:lnTo>
                    <a:pt x="359" y="216"/>
                  </a:lnTo>
                  <a:lnTo>
                    <a:pt x="371" y="223"/>
                  </a:lnTo>
                  <a:lnTo>
                    <a:pt x="379" y="238"/>
                  </a:lnTo>
                  <a:lnTo>
                    <a:pt x="385" y="304"/>
                  </a:lnTo>
                  <a:lnTo>
                    <a:pt x="381" y="318"/>
                  </a:lnTo>
                  <a:lnTo>
                    <a:pt x="359" y="332"/>
                  </a:lnTo>
                  <a:lnTo>
                    <a:pt x="349" y="360"/>
                  </a:lnTo>
                  <a:lnTo>
                    <a:pt x="349" y="383"/>
                  </a:lnTo>
                  <a:lnTo>
                    <a:pt x="351" y="395"/>
                  </a:lnTo>
                  <a:lnTo>
                    <a:pt x="351" y="408"/>
                  </a:lnTo>
                  <a:lnTo>
                    <a:pt x="343" y="420"/>
                  </a:lnTo>
                  <a:lnTo>
                    <a:pt x="343" y="432"/>
                  </a:lnTo>
                  <a:lnTo>
                    <a:pt x="357" y="440"/>
                  </a:lnTo>
                  <a:lnTo>
                    <a:pt x="383" y="428"/>
                  </a:lnTo>
                  <a:lnTo>
                    <a:pt x="397" y="370"/>
                  </a:lnTo>
                  <a:lnTo>
                    <a:pt x="410" y="357"/>
                  </a:lnTo>
                  <a:lnTo>
                    <a:pt x="420" y="329"/>
                  </a:lnTo>
                  <a:lnTo>
                    <a:pt x="454" y="292"/>
                  </a:lnTo>
                  <a:lnTo>
                    <a:pt x="455" y="281"/>
                  </a:lnTo>
                  <a:lnTo>
                    <a:pt x="442" y="227"/>
                  </a:lnTo>
                  <a:lnTo>
                    <a:pt x="413" y="155"/>
                  </a:lnTo>
                  <a:lnTo>
                    <a:pt x="412" y="143"/>
                  </a:lnTo>
                  <a:lnTo>
                    <a:pt x="422" y="139"/>
                  </a:lnTo>
                  <a:lnTo>
                    <a:pt x="436" y="143"/>
                  </a:lnTo>
                  <a:lnTo>
                    <a:pt x="451" y="109"/>
                  </a:lnTo>
                  <a:lnTo>
                    <a:pt x="448" y="73"/>
                  </a:lnTo>
                  <a:lnTo>
                    <a:pt x="430" y="70"/>
                  </a:lnTo>
                  <a:lnTo>
                    <a:pt x="425" y="46"/>
                  </a:lnTo>
                  <a:lnTo>
                    <a:pt x="423" y="0"/>
                  </a:lnTo>
                  <a:lnTo>
                    <a:pt x="703" y="76"/>
                  </a:lnTo>
                  <a:lnTo>
                    <a:pt x="968" y="143"/>
                  </a:lnTo>
                  <a:lnTo>
                    <a:pt x="1404" y="245"/>
                  </a:lnTo>
                  <a:lnTo>
                    <a:pt x="1406" y="245"/>
                  </a:lnTo>
                  <a:lnTo>
                    <a:pt x="1258" y="912"/>
                  </a:lnTo>
                  <a:lnTo>
                    <a:pt x="1257" y="916"/>
                  </a:lnTo>
                  <a:lnTo>
                    <a:pt x="1251" y="922"/>
                  </a:lnTo>
                  <a:lnTo>
                    <a:pt x="1247" y="935"/>
                  </a:lnTo>
                  <a:lnTo>
                    <a:pt x="1251" y="947"/>
                  </a:lnTo>
                  <a:lnTo>
                    <a:pt x="1255" y="956"/>
                  </a:lnTo>
                  <a:lnTo>
                    <a:pt x="1263" y="966"/>
                  </a:lnTo>
                  <a:lnTo>
                    <a:pt x="1261" y="977"/>
                  </a:lnTo>
                  <a:lnTo>
                    <a:pt x="1258" y="981"/>
                  </a:lnTo>
                  <a:lnTo>
                    <a:pt x="1248" y="994"/>
                  </a:lnTo>
                  <a:lnTo>
                    <a:pt x="1248" y="1011"/>
                  </a:lnTo>
                  <a:lnTo>
                    <a:pt x="1253" y="1026"/>
                  </a:lnTo>
                  <a:lnTo>
                    <a:pt x="882" y="941"/>
                  </a:lnTo>
                  <a:lnTo>
                    <a:pt x="854" y="952"/>
                  </a:lnTo>
                  <a:lnTo>
                    <a:pt x="835" y="952"/>
                  </a:lnTo>
                  <a:lnTo>
                    <a:pt x="815" y="946"/>
                  </a:lnTo>
                  <a:lnTo>
                    <a:pt x="791" y="944"/>
                  </a:lnTo>
                  <a:lnTo>
                    <a:pt x="778" y="937"/>
                  </a:lnTo>
                  <a:lnTo>
                    <a:pt x="758" y="937"/>
                  </a:lnTo>
                  <a:lnTo>
                    <a:pt x="736" y="944"/>
                  </a:lnTo>
                  <a:lnTo>
                    <a:pt x="709" y="937"/>
                  </a:lnTo>
                  <a:lnTo>
                    <a:pt x="687" y="937"/>
                  </a:lnTo>
                  <a:lnTo>
                    <a:pt x="659" y="952"/>
                  </a:lnTo>
                  <a:lnTo>
                    <a:pt x="640" y="954"/>
                  </a:lnTo>
                  <a:lnTo>
                    <a:pt x="594" y="948"/>
                  </a:lnTo>
                  <a:lnTo>
                    <a:pt x="581" y="941"/>
                  </a:lnTo>
                  <a:lnTo>
                    <a:pt x="552" y="927"/>
                  </a:lnTo>
                  <a:lnTo>
                    <a:pt x="469" y="939"/>
                  </a:lnTo>
                  <a:lnTo>
                    <a:pt x="451" y="916"/>
                  </a:lnTo>
                  <a:lnTo>
                    <a:pt x="383" y="896"/>
                  </a:lnTo>
                  <a:lnTo>
                    <a:pt x="347" y="891"/>
                  </a:lnTo>
                  <a:lnTo>
                    <a:pt x="305" y="896"/>
                  </a:lnTo>
                  <a:lnTo>
                    <a:pt x="240" y="891"/>
                  </a:lnTo>
                  <a:lnTo>
                    <a:pt x="188" y="864"/>
                  </a:lnTo>
                  <a:lnTo>
                    <a:pt x="177" y="842"/>
                  </a:lnTo>
                  <a:lnTo>
                    <a:pt x="182" y="776"/>
                  </a:lnTo>
                  <a:lnTo>
                    <a:pt x="185" y="761"/>
                  </a:lnTo>
                  <a:lnTo>
                    <a:pt x="179" y="724"/>
                  </a:lnTo>
                  <a:lnTo>
                    <a:pt x="138" y="692"/>
                  </a:lnTo>
                  <a:lnTo>
                    <a:pt x="108" y="691"/>
                  </a:lnTo>
                  <a:lnTo>
                    <a:pt x="106" y="679"/>
                  </a:lnTo>
                  <a:lnTo>
                    <a:pt x="86" y="661"/>
                  </a:lnTo>
                  <a:lnTo>
                    <a:pt x="54" y="648"/>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285920" y="609480"/>
              <a:ext cx="992160" cy="703440"/>
            </a:xfrm>
            <a:custGeom>
              <a:avLst/>
              <a:gdLst/>
              <a:ahLst/>
              <a:rect l="l" t="t" r="r" b="b"/>
              <a:pathLst>
                <a:path w="1406" h="1026">
                  <a:moveTo>
                    <a:pt x="54" y="648"/>
                  </a:moveTo>
                  <a:lnTo>
                    <a:pt x="19" y="623"/>
                  </a:lnTo>
                  <a:lnTo>
                    <a:pt x="7" y="623"/>
                  </a:lnTo>
                  <a:lnTo>
                    <a:pt x="0" y="619"/>
                  </a:lnTo>
                  <a:lnTo>
                    <a:pt x="0" y="609"/>
                  </a:lnTo>
                  <a:lnTo>
                    <a:pt x="10" y="578"/>
                  </a:lnTo>
                  <a:lnTo>
                    <a:pt x="15" y="563"/>
                  </a:lnTo>
                  <a:lnTo>
                    <a:pt x="15" y="549"/>
                  </a:lnTo>
                  <a:lnTo>
                    <a:pt x="15" y="541"/>
                  </a:lnTo>
                  <a:lnTo>
                    <a:pt x="23" y="539"/>
                  </a:lnTo>
                  <a:lnTo>
                    <a:pt x="27" y="541"/>
                  </a:lnTo>
                  <a:lnTo>
                    <a:pt x="28" y="560"/>
                  </a:lnTo>
                  <a:lnTo>
                    <a:pt x="27" y="571"/>
                  </a:lnTo>
                  <a:lnTo>
                    <a:pt x="25" y="578"/>
                  </a:lnTo>
                  <a:lnTo>
                    <a:pt x="27" y="585"/>
                  </a:lnTo>
                  <a:lnTo>
                    <a:pt x="51" y="563"/>
                  </a:lnTo>
                  <a:lnTo>
                    <a:pt x="49" y="554"/>
                  </a:lnTo>
                  <a:lnTo>
                    <a:pt x="49" y="541"/>
                  </a:lnTo>
                  <a:lnTo>
                    <a:pt x="59" y="528"/>
                  </a:lnTo>
                  <a:lnTo>
                    <a:pt x="51" y="514"/>
                  </a:lnTo>
                  <a:lnTo>
                    <a:pt x="36" y="509"/>
                  </a:lnTo>
                  <a:lnTo>
                    <a:pt x="34" y="468"/>
                  </a:lnTo>
                  <a:lnTo>
                    <a:pt x="41" y="465"/>
                  </a:lnTo>
                  <a:lnTo>
                    <a:pt x="55" y="468"/>
                  </a:lnTo>
                  <a:lnTo>
                    <a:pt x="61" y="463"/>
                  </a:lnTo>
                  <a:lnTo>
                    <a:pt x="86" y="457"/>
                  </a:lnTo>
                  <a:lnTo>
                    <a:pt x="67" y="440"/>
                  </a:lnTo>
                  <a:lnTo>
                    <a:pt x="67" y="434"/>
                  </a:lnTo>
                  <a:lnTo>
                    <a:pt x="61" y="432"/>
                  </a:lnTo>
                  <a:lnTo>
                    <a:pt x="41" y="442"/>
                  </a:lnTo>
                  <a:lnTo>
                    <a:pt x="42" y="414"/>
                  </a:lnTo>
                  <a:lnTo>
                    <a:pt x="42" y="395"/>
                  </a:lnTo>
                  <a:lnTo>
                    <a:pt x="49" y="365"/>
                  </a:lnTo>
                  <a:lnTo>
                    <a:pt x="45" y="339"/>
                  </a:lnTo>
                  <a:lnTo>
                    <a:pt x="44" y="318"/>
                  </a:lnTo>
                  <a:lnTo>
                    <a:pt x="49" y="260"/>
                  </a:lnTo>
                  <a:lnTo>
                    <a:pt x="54" y="240"/>
                  </a:lnTo>
                  <a:lnTo>
                    <a:pt x="28" y="166"/>
                  </a:lnTo>
                  <a:lnTo>
                    <a:pt x="31" y="116"/>
                  </a:lnTo>
                  <a:lnTo>
                    <a:pt x="39" y="89"/>
                  </a:lnTo>
                  <a:lnTo>
                    <a:pt x="47" y="52"/>
                  </a:lnTo>
                  <a:lnTo>
                    <a:pt x="180" y="143"/>
                  </a:lnTo>
                  <a:lnTo>
                    <a:pt x="247" y="179"/>
                  </a:lnTo>
                  <a:lnTo>
                    <a:pt x="300" y="196"/>
                  </a:lnTo>
                  <a:lnTo>
                    <a:pt x="331" y="216"/>
                  </a:lnTo>
                  <a:lnTo>
                    <a:pt x="359" y="216"/>
                  </a:lnTo>
                  <a:lnTo>
                    <a:pt x="371" y="223"/>
                  </a:lnTo>
                  <a:lnTo>
                    <a:pt x="379" y="238"/>
                  </a:lnTo>
                  <a:lnTo>
                    <a:pt x="385" y="304"/>
                  </a:lnTo>
                  <a:lnTo>
                    <a:pt x="381" y="318"/>
                  </a:lnTo>
                  <a:lnTo>
                    <a:pt x="359" y="332"/>
                  </a:lnTo>
                  <a:lnTo>
                    <a:pt x="349" y="360"/>
                  </a:lnTo>
                  <a:lnTo>
                    <a:pt x="349" y="383"/>
                  </a:lnTo>
                  <a:lnTo>
                    <a:pt x="351" y="395"/>
                  </a:lnTo>
                  <a:lnTo>
                    <a:pt x="351" y="408"/>
                  </a:lnTo>
                  <a:lnTo>
                    <a:pt x="343" y="420"/>
                  </a:lnTo>
                  <a:lnTo>
                    <a:pt x="343" y="432"/>
                  </a:lnTo>
                  <a:lnTo>
                    <a:pt x="357" y="440"/>
                  </a:lnTo>
                  <a:lnTo>
                    <a:pt x="383" y="428"/>
                  </a:lnTo>
                  <a:lnTo>
                    <a:pt x="397" y="370"/>
                  </a:lnTo>
                  <a:lnTo>
                    <a:pt x="410" y="357"/>
                  </a:lnTo>
                  <a:lnTo>
                    <a:pt x="420" y="329"/>
                  </a:lnTo>
                  <a:lnTo>
                    <a:pt x="454" y="292"/>
                  </a:lnTo>
                  <a:lnTo>
                    <a:pt x="455" y="281"/>
                  </a:lnTo>
                  <a:lnTo>
                    <a:pt x="442" y="227"/>
                  </a:lnTo>
                  <a:lnTo>
                    <a:pt x="413" y="155"/>
                  </a:lnTo>
                  <a:lnTo>
                    <a:pt x="412" y="143"/>
                  </a:lnTo>
                  <a:lnTo>
                    <a:pt x="422" y="139"/>
                  </a:lnTo>
                  <a:lnTo>
                    <a:pt x="436" y="143"/>
                  </a:lnTo>
                  <a:lnTo>
                    <a:pt x="451" y="109"/>
                  </a:lnTo>
                  <a:lnTo>
                    <a:pt x="448" y="73"/>
                  </a:lnTo>
                  <a:lnTo>
                    <a:pt x="430" y="70"/>
                  </a:lnTo>
                  <a:lnTo>
                    <a:pt x="425" y="46"/>
                  </a:lnTo>
                  <a:lnTo>
                    <a:pt x="423" y="0"/>
                  </a:lnTo>
                  <a:lnTo>
                    <a:pt x="703" y="76"/>
                  </a:lnTo>
                  <a:lnTo>
                    <a:pt x="968" y="143"/>
                  </a:lnTo>
                  <a:lnTo>
                    <a:pt x="1404" y="245"/>
                  </a:lnTo>
                  <a:lnTo>
                    <a:pt x="1406" y="245"/>
                  </a:lnTo>
                  <a:lnTo>
                    <a:pt x="1258" y="912"/>
                  </a:lnTo>
                  <a:lnTo>
                    <a:pt x="1257" y="916"/>
                  </a:lnTo>
                  <a:lnTo>
                    <a:pt x="1251" y="922"/>
                  </a:lnTo>
                  <a:lnTo>
                    <a:pt x="1247" y="935"/>
                  </a:lnTo>
                  <a:lnTo>
                    <a:pt x="1251" y="947"/>
                  </a:lnTo>
                  <a:lnTo>
                    <a:pt x="1255" y="956"/>
                  </a:lnTo>
                  <a:lnTo>
                    <a:pt x="1263" y="966"/>
                  </a:lnTo>
                  <a:lnTo>
                    <a:pt x="1261" y="977"/>
                  </a:lnTo>
                  <a:lnTo>
                    <a:pt x="1258" y="981"/>
                  </a:lnTo>
                  <a:lnTo>
                    <a:pt x="1248" y="994"/>
                  </a:lnTo>
                  <a:lnTo>
                    <a:pt x="1248" y="1011"/>
                  </a:lnTo>
                  <a:lnTo>
                    <a:pt x="1253" y="1026"/>
                  </a:lnTo>
                  <a:lnTo>
                    <a:pt x="882" y="941"/>
                  </a:lnTo>
                  <a:lnTo>
                    <a:pt x="854" y="952"/>
                  </a:lnTo>
                  <a:lnTo>
                    <a:pt x="835" y="952"/>
                  </a:lnTo>
                  <a:lnTo>
                    <a:pt x="815" y="946"/>
                  </a:lnTo>
                  <a:lnTo>
                    <a:pt x="791" y="944"/>
                  </a:lnTo>
                  <a:lnTo>
                    <a:pt x="778" y="937"/>
                  </a:lnTo>
                  <a:lnTo>
                    <a:pt x="758" y="937"/>
                  </a:lnTo>
                  <a:lnTo>
                    <a:pt x="736" y="944"/>
                  </a:lnTo>
                  <a:lnTo>
                    <a:pt x="709" y="937"/>
                  </a:lnTo>
                  <a:lnTo>
                    <a:pt x="687" y="937"/>
                  </a:lnTo>
                  <a:lnTo>
                    <a:pt x="659" y="952"/>
                  </a:lnTo>
                  <a:lnTo>
                    <a:pt x="640" y="954"/>
                  </a:lnTo>
                  <a:lnTo>
                    <a:pt x="594" y="948"/>
                  </a:lnTo>
                  <a:lnTo>
                    <a:pt x="581" y="941"/>
                  </a:lnTo>
                  <a:lnTo>
                    <a:pt x="552" y="927"/>
                  </a:lnTo>
                  <a:lnTo>
                    <a:pt x="469" y="939"/>
                  </a:lnTo>
                  <a:lnTo>
                    <a:pt x="451" y="916"/>
                  </a:lnTo>
                  <a:lnTo>
                    <a:pt x="383" y="896"/>
                  </a:lnTo>
                  <a:lnTo>
                    <a:pt x="347" y="891"/>
                  </a:lnTo>
                  <a:lnTo>
                    <a:pt x="305" y="896"/>
                  </a:lnTo>
                  <a:lnTo>
                    <a:pt x="240" y="891"/>
                  </a:lnTo>
                  <a:lnTo>
                    <a:pt x="188" y="864"/>
                  </a:lnTo>
                  <a:lnTo>
                    <a:pt x="177" y="842"/>
                  </a:lnTo>
                  <a:lnTo>
                    <a:pt x="182" y="776"/>
                  </a:lnTo>
                  <a:lnTo>
                    <a:pt x="185" y="761"/>
                  </a:lnTo>
                  <a:lnTo>
                    <a:pt x="179" y="724"/>
                  </a:lnTo>
                  <a:lnTo>
                    <a:pt x="138" y="692"/>
                  </a:lnTo>
                  <a:lnTo>
                    <a:pt x="108" y="691"/>
                  </a:lnTo>
                  <a:lnTo>
                    <a:pt x="106" y="679"/>
                  </a:lnTo>
                  <a:lnTo>
                    <a:pt x="86" y="661"/>
                  </a:lnTo>
                  <a:lnTo>
                    <a:pt x="54" y="648"/>
                  </a:lnTo>
                  <a:lnTo>
                    <a:pt x="54" y="648"/>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017720" y="1050840"/>
              <a:ext cx="1197000" cy="970200"/>
            </a:xfrm>
            <a:custGeom>
              <a:avLst/>
              <a:gdLst/>
              <a:ahLst/>
              <a:rect l="l" t="t" r="r" b="b"/>
              <a:pathLst>
                <a:path w="1696" h="1414">
                  <a:moveTo>
                    <a:pt x="25" y="1064"/>
                  </a:moveTo>
                  <a:lnTo>
                    <a:pt x="13" y="1051"/>
                  </a:lnTo>
                  <a:lnTo>
                    <a:pt x="0" y="997"/>
                  </a:lnTo>
                  <a:lnTo>
                    <a:pt x="10" y="970"/>
                  </a:lnTo>
                  <a:lnTo>
                    <a:pt x="10" y="945"/>
                  </a:lnTo>
                  <a:lnTo>
                    <a:pt x="28" y="905"/>
                  </a:lnTo>
                  <a:lnTo>
                    <a:pt x="19" y="823"/>
                  </a:lnTo>
                  <a:lnTo>
                    <a:pt x="33" y="804"/>
                  </a:lnTo>
                  <a:lnTo>
                    <a:pt x="49" y="794"/>
                  </a:lnTo>
                  <a:lnTo>
                    <a:pt x="60" y="779"/>
                  </a:lnTo>
                  <a:lnTo>
                    <a:pt x="70" y="754"/>
                  </a:lnTo>
                  <a:lnTo>
                    <a:pt x="79" y="743"/>
                  </a:lnTo>
                  <a:lnTo>
                    <a:pt x="85" y="705"/>
                  </a:lnTo>
                  <a:lnTo>
                    <a:pt x="92" y="703"/>
                  </a:lnTo>
                  <a:lnTo>
                    <a:pt x="142" y="644"/>
                  </a:lnTo>
                  <a:lnTo>
                    <a:pt x="168" y="587"/>
                  </a:lnTo>
                  <a:lnTo>
                    <a:pt x="211" y="507"/>
                  </a:lnTo>
                  <a:lnTo>
                    <a:pt x="259" y="360"/>
                  </a:lnTo>
                  <a:lnTo>
                    <a:pt x="294" y="297"/>
                  </a:lnTo>
                  <a:lnTo>
                    <a:pt x="325" y="203"/>
                  </a:lnTo>
                  <a:lnTo>
                    <a:pt x="361" y="90"/>
                  </a:lnTo>
                  <a:lnTo>
                    <a:pt x="378" y="51"/>
                  </a:lnTo>
                  <a:lnTo>
                    <a:pt x="385" y="16"/>
                  </a:lnTo>
                  <a:lnTo>
                    <a:pt x="384" y="4"/>
                  </a:lnTo>
                  <a:lnTo>
                    <a:pt x="401" y="0"/>
                  </a:lnTo>
                  <a:lnTo>
                    <a:pt x="424" y="4"/>
                  </a:lnTo>
                  <a:lnTo>
                    <a:pt x="435" y="1"/>
                  </a:lnTo>
                  <a:lnTo>
                    <a:pt x="467" y="14"/>
                  </a:lnTo>
                  <a:lnTo>
                    <a:pt x="486" y="32"/>
                  </a:lnTo>
                  <a:lnTo>
                    <a:pt x="489" y="43"/>
                  </a:lnTo>
                  <a:lnTo>
                    <a:pt x="518" y="44"/>
                  </a:lnTo>
                  <a:lnTo>
                    <a:pt x="559" y="76"/>
                  </a:lnTo>
                  <a:lnTo>
                    <a:pt x="565" y="114"/>
                  </a:lnTo>
                  <a:lnTo>
                    <a:pt x="563" y="128"/>
                  </a:lnTo>
                  <a:lnTo>
                    <a:pt x="558" y="194"/>
                  </a:lnTo>
                  <a:lnTo>
                    <a:pt x="569" y="216"/>
                  </a:lnTo>
                  <a:lnTo>
                    <a:pt x="621" y="244"/>
                  </a:lnTo>
                  <a:lnTo>
                    <a:pt x="685" y="248"/>
                  </a:lnTo>
                  <a:lnTo>
                    <a:pt x="728" y="244"/>
                  </a:lnTo>
                  <a:lnTo>
                    <a:pt x="763" y="248"/>
                  </a:lnTo>
                  <a:lnTo>
                    <a:pt x="832" y="269"/>
                  </a:lnTo>
                  <a:lnTo>
                    <a:pt x="850" y="292"/>
                  </a:lnTo>
                  <a:lnTo>
                    <a:pt x="933" y="279"/>
                  </a:lnTo>
                  <a:lnTo>
                    <a:pt x="962" y="293"/>
                  </a:lnTo>
                  <a:lnTo>
                    <a:pt x="975" y="301"/>
                  </a:lnTo>
                  <a:lnTo>
                    <a:pt x="1021" y="307"/>
                  </a:lnTo>
                  <a:lnTo>
                    <a:pt x="1040" y="304"/>
                  </a:lnTo>
                  <a:lnTo>
                    <a:pt x="1068" y="289"/>
                  </a:lnTo>
                  <a:lnTo>
                    <a:pt x="1089" y="289"/>
                  </a:lnTo>
                  <a:lnTo>
                    <a:pt x="1116" y="297"/>
                  </a:lnTo>
                  <a:lnTo>
                    <a:pt x="1138" y="289"/>
                  </a:lnTo>
                  <a:lnTo>
                    <a:pt x="1158" y="289"/>
                  </a:lnTo>
                  <a:lnTo>
                    <a:pt x="1172" y="297"/>
                  </a:lnTo>
                  <a:lnTo>
                    <a:pt x="1195" y="298"/>
                  </a:lnTo>
                  <a:lnTo>
                    <a:pt x="1215" y="304"/>
                  </a:lnTo>
                  <a:lnTo>
                    <a:pt x="1235" y="304"/>
                  </a:lnTo>
                  <a:lnTo>
                    <a:pt x="1262" y="293"/>
                  </a:lnTo>
                  <a:lnTo>
                    <a:pt x="1633" y="379"/>
                  </a:lnTo>
                  <a:lnTo>
                    <a:pt x="1636" y="402"/>
                  </a:lnTo>
                  <a:lnTo>
                    <a:pt x="1653" y="427"/>
                  </a:lnTo>
                  <a:lnTo>
                    <a:pt x="1672" y="433"/>
                  </a:lnTo>
                  <a:lnTo>
                    <a:pt x="1691" y="449"/>
                  </a:lnTo>
                  <a:lnTo>
                    <a:pt x="1696" y="486"/>
                  </a:lnTo>
                  <a:lnTo>
                    <a:pt x="1605" y="627"/>
                  </a:lnTo>
                  <a:lnTo>
                    <a:pt x="1590" y="641"/>
                  </a:lnTo>
                  <a:lnTo>
                    <a:pt x="1586" y="661"/>
                  </a:lnTo>
                  <a:lnTo>
                    <a:pt x="1567" y="682"/>
                  </a:lnTo>
                  <a:lnTo>
                    <a:pt x="1539" y="695"/>
                  </a:lnTo>
                  <a:lnTo>
                    <a:pt x="1491" y="768"/>
                  </a:lnTo>
                  <a:lnTo>
                    <a:pt x="1482" y="800"/>
                  </a:lnTo>
                  <a:lnTo>
                    <a:pt x="1490" y="817"/>
                  </a:lnTo>
                  <a:lnTo>
                    <a:pt x="1519" y="830"/>
                  </a:lnTo>
                  <a:lnTo>
                    <a:pt x="1532" y="850"/>
                  </a:lnTo>
                  <a:lnTo>
                    <a:pt x="1525" y="866"/>
                  </a:lnTo>
                  <a:lnTo>
                    <a:pt x="1522" y="875"/>
                  </a:lnTo>
                  <a:lnTo>
                    <a:pt x="1514" y="878"/>
                  </a:lnTo>
                  <a:lnTo>
                    <a:pt x="1514" y="909"/>
                  </a:lnTo>
                  <a:lnTo>
                    <a:pt x="1487" y="943"/>
                  </a:lnTo>
                  <a:lnTo>
                    <a:pt x="1384" y="1414"/>
                  </a:lnTo>
                  <a:lnTo>
                    <a:pt x="814" y="1280"/>
                  </a:lnTo>
                  <a:lnTo>
                    <a:pt x="25" y="1064"/>
                  </a:lnTo>
                  <a:close/>
                </a:path>
              </a:pathLst>
            </a:cu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017720" y="1050840"/>
              <a:ext cx="1197000" cy="970200"/>
            </a:xfrm>
            <a:custGeom>
              <a:avLst/>
              <a:gdLst/>
              <a:ahLst/>
              <a:rect l="l" t="t" r="r" b="b"/>
              <a:pathLst>
                <a:path w="1696" h="1414">
                  <a:moveTo>
                    <a:pt x="25" y="1064"/>
                  </a:moveTo>
                  <a:lnTo>
                    <a:pt x="13" y="1051"/>
                  </a:lnTo>
                  <a:lnTo>
                    <a:pt x="0" y="997"/>
                  </a:lnTo>
                  <a:lnTo>
                    <a:pt x="10" y="970"/>
                  </a:lnTo>
                  <a:lnTo>
                    <a:pt x="10" y="945"/>
                  </a:lnTo>
                  <a:lnTo>
                    <a:pt x="28" y="905"/>
                  </a:lnTo>
                  <a:lnTo>
                    <a:pt x="19" y="823"/>
                  </a:lnTo>
                  <a:lnTo>
                    <a:pt x="33" y="804"/>
                  </a:lnTo>
                  <a:lnTo>
                    <a:pt x="49" y="794"/>
                  </a:lnTo>
                  <a:lnTo>
                    <a:pt x="60" y="779"/>
                  </a:lnTo>
                  <a:lnTo>
                    <a:pt x="70" y="754"/>
                  </a:lnTo>
                  <a:lnTo>
                    <a:pt x="79" y="743"/>
                  </a:lnTo>
                  <a:lnTo>
                    <a:pt x="85" y="705"/>
                  </a:lnTo>
                  <a:lnTo>
                    <a:pt x="92" y="703"/>
                  </a:lnTo>
                  <a:lnTo>
                    <a:pt x="142" y="644"/>
                  </a:lnTo>
                  <a:lnTo>
                    <a:pt x="168" y="587"/>
                  </a:lnTo>
                  <a:lnTo>
                    <a:pt x="211" y="507"/>
                  </a:lnTo>
                  <a:lnTo>
                    <a:pt x="259" y="360"/>
                  </a:lnTo>
                  <a:lnTo>
                    <a:pt x="294" y="297"/>
                  </a:lnTo>
                  <a:lnTo>
                    <a:pt x="325" y="203"/>
                  </a:lnTo>
                  <a:lnTo>
                    <a:pt x="361" y="90"/>
                  </a:lnTo>
                  <a:lnTo>
                    <a:pt x="378" y="51"/>
                  </a:lnTo>
                  <a:lnTo>
                    <a:pt x="385" y="16"/>
                  </a:lnTo>
                  <a:lnTo>
                    <a:pt x="384" y="4"/>
                  </a:lnTo>
                  <a:lnTo>
                    <a:pt x="401" y="0"/>
                  </a:lnTo>
                  <a:lnTo>
                    <a:pt x="424" y="4"/>
                  </a:lnTo>
                  <a:lnTo>
                    <a:pt x="435" y="1"/>
                  </a:lnTo>
                  <a:lnTo>
                    <a:pt x="467" y="14"/>
                  </a:lnTo>
                  <a:lnTo>
                    <a:pt x="486" y="32"/>
                  </a:lnTo>
                  <a:lnTo>
                    <a:pt x="489" y="43"/>
                  </a:lnTo>
                  <a:lnTo>
                    <a:pt x="518" y="44"/>
                  </a:lnTo>
                  <a:lnTo>
                    <a:pt x="559" y="76"/>
                  </a:lnTo>
                  <a:lnTo>
                    <a:pt x="565" y="114"/>
                  </a:lnTo>
                  <a:lnTo>
                    <a:pt x="563" y="128"/>
                  </a:lnTo>
                  <a:lnTo>
                    <a:pt x="558" y="194"/>
                  </a:lnTo>
                  <a:lnTo>
                    <a:pt x="569" y="216"/>
                  </a:lnTo>
                  <a:lnTo>
                    <a:pt x="621" y="244"/>
                  </a:lnTo>
                  <a:lnTo>
                    <a:pt x="685" y="248"/>
                  </a:lnTo>
                  <a:lnTo>
                    <a:pt x="728" y="244"/>
                  </a:lnTo>
                  <a:lnTo>
                    <a:pt x="763" y="248"/>
                  </a:lnTo>
                  <a:lnTo>
                    <a:pt x="832" y="269"/>
                  </a:lnTo>
                  <a:lnTo>
                    <a:pt x="850" y="292"/>
                  </a:lnTo>
                  <a:lnTo>
                    <a:pt x="933" y="279"/>
                  </a:lnTo>
                  <a:lnTo>
                    <a:pt x="962" y="293"/>
                  </a:lnTo>
                  <a:lnTo>
                    <a:pt x="975" y="301"/>
                  </a:lnTo>
                  <a:lnTo>
                    <a:pt x="1021" y="307"/>
                  </a:lnTo>
                  <a:lnTo>
                    <a:pt x="1040" y="304"/>
                  </a:lnTo>
                  <a:lnTo>
                    <a:pt x="1068" y="289"/>
                  </a:lnTo>
                  <a:lnTo>
                    <a:pt x="1089" y="289"/>
                  </a:lnTo>
                  <a:lnTo>
                    <a:pt x="1116" y="297"/>
                  </a:lnTo>
                  <a:lnTo>
                    <a:pt x="1138" y="289"/>
                  </a:lnTo>
                  <a:lnTo>
                    <a:pt x="1158" y="289"/>
                  </a:lnTo>
                  <a:lnTo>
                    <a:pt x="1172" y="297"/>
                  </a:lnTo>
                  <a:lnTo>
                    <a:pt x="1195" y="298"/>
                  </a:lnTo>
                  <a:lnTo>
                    <a:pt x="1215" y="304"/>
                  </a:lnTo>
                  <a:lnTo>
                    <a:pt x="1235" y="304"/>
                  </a:lnTo>
                  <a:lnTo>
                    <a:pt x="1262" y="293"/>
                  </a:lnTo>
                  <a:lnTo>
                    <a:pt x="1633" y="379"/>
                  </a:lnTo>
                  <a:lnTo>
                    <a:pt x="1636" y="402"/>
                  </a:lnTo>
                  <a:lnTo>
                    <a:pt x="1653" y="427"/>
                  </a:lnTo>
                  <a:lnTo>
                    <a:pt x="1672" y="433"/>
                  </a:lnTo>
                  <a:lnTo>
                    <a:pt x="1691" y="449"/>
                  </a:lnTo>
                  <a:lnTo>
                    <a:pt x="1696" y="486"/>
                  </a:lnTo>
                  <a:lnTo>
                    <a:pt x="1605" y="627"/>
                  </a:lnTo>
                  <a:lnTo>
                    <a:pt x="1590" y="641"/>
                  </a:lnTo>
                  <a:lnTo>
                    <a:pt x="1586" y="661"/>
                  </a:lnTo>
                  <a:lnTo>
                    <a:pt x="1567" y="682"/>
                  </a:lnTo>
                  <a:lnTo>
                    <a:pt x="1539" y="695"/>
                  </a:lnTo>
                  <a:lnTo>
                    <a:pt x="1491" y="768"/>
                  </a:lnTo>
                  <a:lnTo>
                    <a:pt x="1482" y="800"/>
                  </a:lnTo>
                  <a:lnTo>
                    <a:pt x="1490" y="817"/>
                  </a:lnTo>
                  <a:lnTo>
                    <a:pt x="1519" y="830"/>
                  </a:lnTo>
                  <a:lnTo>
                    <a:pt x="1532" y="850"/>
                  </a:lnTo>
                  <a:lnTo>
                    <a:pt x="1525" y="866"/>
                  </a:lnTo>
                  <a:lnTo>
                    <a:pt x="1522" y="875"/>
                  </a:lnTo>
                  <a:lnTo>
                    <a:pt x="1514" y="878"/>
                  </a:lnTo>
                  <a:lnTo>
                    <a:pt x="1514" y="909"/>
                  </a:lnTo>
                  <a:lnTo>
                    <a:pt x="1487" y="943"/>
                  </a:lnTo>
                  <a:lnTo>
                    <a:pt x="1384" y="1414"/>
                  </a:lnTo>
                  <a:lnTo>
                    <a:pt x="814" y="1280"/>
                  </a:lnTo>
                  <a:lnTo>
                    <a:pt x="25" y="1064"/>
                  </a:lnTo>
                  <a:lnTo>
                    <a:pt x="25" y="1064"/>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920880" y="1781280"/>
              <a:ext cx="1185840" cy="1973160"/>
            </a:xfrm>
            <a:custGeom>
              <a:avLst/>
              <a:gdLst/>
              <a:ahLst/>
              <a:rect l="l" t="t" r="r" b="b"/>
              <a:pathLst>
                <a:path w="1684" h="2879">
                  <a:moveTo>
                    <a:pt x="1469" y="2869"/>
                  </a:moveTo>
                  <a:lnTo>
                    <a:pt x="956" y="2819"/>
                  </a:lnTo>
                  <a:lnTo>
                    <a:pt x="952" y="2810"/>
                  </a:lnTo>
                  <a:lnTo>
                    <a:pt x="948" y="2784"/>
                  </a:lnTo>
                  <a:lnTo>
                    <a:pt x="952" y="2774"/>
                  </a:lnTo>
                  <a:lnTo>
                    <a:pt x="956" y="2768"/>
                  </a:lnTo>
                  <a:lnTo>
                    <a:pt x="950" y="2762"/>
                  </a:lnTo>
                  <a:lnTo>
                    <a:pt x="944" y="2760"/>
                  </a:lnTo>
                  <a:lnTo>
                    <a:pt x="939" y="2739"/>
                  </a:lnTo>
                  <a:lnTo>
                    <a:pt x="940" y="2728"/>
                  </a:lnTo>
                  <a:lnTo>
                    <a:pt x="936" y="2644"/>
                  </a:lnTo>
                  <a:lnTo>
                    <a:pt x="893" y="2550"/>
                  </a:lnTo>
                  <a:lnTo>
                    <a:pt x="866" y="2525"/>
                  </a:lnTo>
                  <a:lnTo>
                    <a:pt x="847" y="2487"/>
                  </a:lnTo>
                  <a:lnTo>
                    <a:pt x="796" y="2441"/>
                  </a:lnTo>
                  <a:lnTo>
                    <a:pt x="763" y="2444"/>
                  </a:lnTo>
                  <a:lnTo>
                    <a:pt x="746" y="2424"/>
                  </a:lnTo>
                  <a:lnTo>
                    <a:pt x="756" y="2399"/>
                  </a:lnTo>
                  <a:lnTo>
                    <a:pt x="750" y="2384"/>
                  </a:lnTo>
                  <a:lnTo>
                    <a:pt x="750" y="2365"/>
                  </a:lnTo>
                  <a:lnTo>
                    <a:pt x="731" y="2348"/>
                  </a:lnTo>
                  <a:lnTo>
                    <a:pt x="677" y="2340"/>
                  </a:lnTo>
                  <a:lnTo>
                    <a:pt x="649" y="2328"/>
                  </a:lnTo>
                  <a:lnTo>
                    <a:pt x="610" y="2295"/>
                  </a:lnTo>
                  <a:lnTo>
                    <a:pt x="589" y="2238"/>
                  </a:lnTo>
                  <a:lnTo>
                    <a:pt x="555" y="2212"/>
                  </a:lnTo>
                  <a:lnTo>
                    <a:pt x="520" y="2202"/>
                  </a:lnTo>
                  <a:lnTo>
                    <a:pt x="426" y="2159"/>
                  </a:lnTo>
                  <a:lnTo>
                    <a:pt x="392" y="2159"/>
                  </a:lnTo>
                  <a:lnTo>
                    <a:pt x="353" y="2135"/>
                  </a:lnTo>
                  <a:lnTo>
                    <a:pt x="329" y="2109"/>
                  </a:lnTo>
                  <a:lnTo>
                    <a:pt x="331" y="2088"/>
                  </a:lnTo>
                  <a:lnTo>
                    <a:pt x="344" y="2072"/>
                  </a:lnTo>
                  <a:lnTo>
                    <a:pt x="352" y="2025"/>
                  </a:lnTo>
                  <a:lnTo>
                    <a:pt x="359" y="1998"/>
                  </a:lnTo>
                  <a:lnTo>
                    <a:pt x="366" y="1983"/>
                  </a:lnTo>
                  <a:lnTo>
                    <a:pt x="356" y="1949"/>
                  </a:lnTo>
                  <a:lnTo>
                    <a:pt x="333" y="1939"/>
                  </a:lnTo>
                  <a:lnTo>
                    <a:pt x="329" y="1908"/>
                  </a:lnTo>
                  <a:lnTo>
                    <a:pt x="335" y="1900"/>
                  </a:lnTo>
                  <a:lnTo>
                    <a:pt x="341" y="1898"/>
                  </a:lnTo>
                  <a:lnTo>
                    <a:pt x="344" y="1874"/>
                  </a:lnTo>
                  <a:lnTo>
                    <a:pt x="319" y="1851"/>
                  </a:lnTo>
                  <a:lnTo>
                    <a:pt x="255" y="1739"/>
                  </a:lnTo>
                  <a:lnTo>
                    <a:pt x="251" y="1707"/>
                  </a:lnTo>
                  <a:lnTo>
                    <a:pt x="239" y="1682"/>
                  </a:lnTo>
                  <a:lnTo>
                    <a:pt x="235" y="1656"/>
                  </a:lnTo>
                  <a:lnTo>
                    <a:pt x="188" y="1591"/>
                  </a:lnTo>
                  <a:lnTo>
                    <a:pt x="193" y="1525"/>
                  </a:lnTo>
                  <a:lnTo>
                    <a:pt x="204" y="1509"/>
                  </a:lnTo>
                  <a:lnTo>
                    <a:pt x="219" y="1509"/>
                  </a:lnTo>
                  <a:lnTo>
                    <a:pt x="241" y="1481"/>
                  </a:lnTo>
                  <a:lnTo>
                    <a:pt x="245" y="1438"/>
                  </a:lnTo>
                  <a:lnTo>
                    <a:pt x="230" y="1423"/>
                  </a:lnTo>
                  <a:lnTo>
                    <a:pt x="196" y="1407"/>
                  </a:lnTo>
                  <a:lnTo>
                    <a:pt x="162" y="1378"/>
                  </a:lnTo>
                  <a:lnTo>
                    <a:pt x="149" y="1346"/>
                  </a:lnTo>
                  <a:lnTo>
                    <a:pt x="151" y="1258"/>
                  </a:lnTo>
                  <a:lnTo>
                    <a:pt x="158" y="1246"/>
                  </a:lnTo>
                  <a:lnTo>
                    <a:pt x="154" y="1223"/>
                  </a:lnTo>
                  <a:lnTo>
                    <a:pt x="164" y="1218"/>
                  </a:lnTo>
                  <a:lnTo>
                    <a:pt x="171" y="1176"/>
                  </a:lnTo>
                  <a:lnTo>
                    <a:pt x="180" y="1173"/>
                  </a:lnTo>
                  <a:lnTo>
                    <a:pt x="188" y="1187"/>
                  </a:lnTo>
                  <a:lnTo>
                    <a:pt x="188" y="1220"/>
                  </a:lnTo>
                  <a:lnTo>
                    <a:pt x="193" y="1233"/>
                  </a:lnTo>
                  <a:lnTo>
                    <a:pt x="224" y="1255"/>
                  </a:lnTo>
                  <a:lnTo>
                    <a:pt x="231" y="1246"/>
                  </a:lnTo>
                  <a:lnTo>
                    <a:pt x="234" y="1223"/>
                  </a:lnTo>
                  <a:lnTo>
                    <a:pt x="219" y="1176"/>
                  </a:lnTo>
                  <a:lnTo>
                    <a:pt x="213" y="1145"/>
                  </a:lnTo>
                  <a:lnTo>
                    <a:pt x="219" y="1110"/>
                  </a:lnTo>
                  <a:lnTo>
                    <a:pt x="211" y="1107"/>
                  </a:lnTo>
                  <a:lnTo>
                    <a:pt x="188" y="1129"/>
                  </a:lnTo>
                  <a:lnTo>
                    <a:pt x="186" y="1142"/>
                  </a:lnTo>
                  <a:lnTo>
                    <a:pt x="180" y="1157"/>
                  </a:lnTo>
                  <a:lnTo>
                    <a:pt x="149" y="1145"/>
                  </a:lnTo>
                  <a:lnTo>
                    <a:pt x="121" y="1102"/>
                  </a:lnTo>
                  <a:lnTo>
                    <a:pt x="89" y="1088"/>
                  </a:lnTo>
                  <a:lnTo>
                    <a:pt x="103" y="1060"/>
                  </a:lnTo>
                  <a:lnTo>
                    <a:pt x="103" y="962"/>
                  </a:lnTo>
                  <a:lnTo>
                    <a:pt x="64" y="920"/>
                  </a:lnTo>
                  <a:lnTo>
                    <a:pt x="47" y="883"/>
                  </a:lnTo>
                  <a:lnTo>
                    <a:pt x="16" y="804"/>
                  </a:lnTo>
                  <a:lnTo>
                    <a:pt x="31" y="774"/>
                  </a:lnTo>
                  <a:lnTo>
                    <a:pt x="25" y="749"/>
                  </a:lnTo>
                  <a:lnTo>
                    <a:pt x="23" y="728"/>
                  </a:lnTo>
                  <a:lnTo>
                    <a:pt x="38" y="670"/>
                  </a:lnTo>
                  <a:lnTo>
                    <a:pt x="58" y="643"/>
                  </a:lnTo>
                  <a:lnTo>
                    <a:pt x="63" y="628"/>
                  </a:lnTo>
                  <a:lnTo>
                    <a:pt x="57" y="571"/>
                  </a:lnTo>
                  <a:lnTo>
                    <a:pt x="32" y="517"/>
                  </a:lnTo>
                  <a:lnTo>
                    <a:pt x="29" y="501"/>
                  </a:lnTo>
                  <a:lnTo>
                    <a:pt x="23" y="488"/>
                  </a:lnTo>
                  <a:lnTo>
                    <a:pt x="11" y="472"/>
                  </a:lnTo>
                  <a:lnTo>
                    <a:pt x="3" y="448"/>
                  </a:lnTo>
                  <a:lnTo>
                    <a:pt x="0" y="413"/>
                  </a:lnTo>
                  <a:lnTo>
                    <a:pt x="4" y="404"/>
                  </a:lnTo>
                  <a:lnTo>
                    <a:pt x="3" y="379"/>
                  </a:lnTo>
                  <a:lnTo>
                    <a:pt x="28" y="334"/>
                  </a:lnTo>
                  <a:lnTo>
                    <a:pt x="104" y="250"/>
                  </a:lnTo>
                  <a:lnTo>
                    <a:pt x="106" y="234"/>
                  </a:lnTo>
                  <a:lnTo>
                    <a:pt x="111" y="202"/>
                  </a:lnTo>
                  <a:lnTo>
                    <a:pt x="129" y="187"/>
                  </a:lnTo>
                  <a:lnTo>
                    <a:pt x="145" y="154"/>
                  </a:lnTo>
                  <a:lnTo>
                    <a:pt x="152" y="82"/>
                  </a:lnTo>
                  <a:lnTo>
                    <a:pt x="136" y="50"/>
                  </a:lnTo>
                  <a:lnTo>
                    <a:pt x="152" y="14"/>
                  </a:lnTo>
                  <a:lnTo>
                    <a:pt x="164" y="0"/>
                  </a:lnTo>
                  <a:lnTo>
                    <a:pt x="954" y="216"/>
                  </a:lnTo>
                  <a:lnTo>
                    <a:pt x="754" y="1003"/>
                  </a:lnTo>
                  <a:lnTo>
                    <a:pt x="1625" y="2283"/>
                  </a:lnTo>
                  <a:lnTo>
                    <a:pt x="1623" y="2321"/>
                  </a:lnTo>
                  <a:lnTo>
                    <a:pt x="1626" y="2334"/>
                  </a:lnTo>
                  <a:lnTo>
                    <a:pt x="1623" y="2345"/>
                  </a:lnTo>
                  <a:lnTo>
                    <a:pt x="1638" y="2377"/>
                  </a:lnTo>
                  <a:lnTo>
                    <a:pt x="1638" y="2405"/>
                  </a:lnTo>
                  <a:lnTo>
                    <a:pt x="1649" y="2422"/>
                  </a:lnTo>
                  <a:lnTo>
                    <a:pt x="1657" y="2454"/>
                  </a:lnTo>
                  <a:lnTo>
                    <a:pt x="1668" y="2462"/>
                  </a:lnTo>
                  <a:lnTo>
                    <a:pt x="1682" y="2478"/>
                  </a:lnTo>
                  <a:lnTo>
                    <a:pt x="1684" y="2505"/>
                  </a:lnTo>
                  <a:lnTo>
                    <a:pt x="1682" y="2513"/>
                  </a:lnTo>
                  <a:lnTo>
                    <a:pt x="1673" y="2505"/>
                  </a:lnTo>
                  <a:lnTo>
                    <a:pt x="1647" y="2526"/>
                  </a:lnTo>
                  <a:lnTo>
                    <a:pt x="1616" y="2538"/>
                  </a:lnTo>
                  <a:lnTo>
                    <a:pt x="1590" y="2572"/>
                  </a:lnTo>
                  <a:lnTo>
                    <a:pt x="1576" y="2642"/>
                  </a:lnTo>
                  <a:lnTo>
                    <a:pt x="1535" y="2696"/>
                  </a:lnTo>
                  <a:lnTo>
                    <a:pt x="1511" y="2696"/>
                  </a:lnTo>
                  <a:lnTo>
                    <a:pt x="1509" y="2711"/>
                  </a:lnTo>
                  <a:lnTo>
                    <a:pt x="1516" y="2728"/>
                  </a:lnTo>
                  <a:lnTo>
                    <a:pt x="1512" y="2745"/>
                  </a:lnTo>
                  <a:lnTo>
                    <a:pt x="1503" y="2780"/>
                  </a:lnTo>
                  <a:lnTo>
                    <a:pt x="1509" y="2793"/>
                  </a:lnTo>
                  <a:lnTo>
                    <a:pt x="1539" y="2819"/>
                  </a:lnTo>
                  <a:lnTo>
                    <a:pt x="1544" y="2831"/>
                  </a:lnTo>
                  <a:lnTo>
                    <a:pt x="1537" y="2841"/>
                  </a:lnTo>
                  <a:lnTo>
                    <a:pt x="1533" y="2859"/>
                  </a:lnTo>
                  <a:lnTo>
                    <a:pt x="1514" y="2879"/>
                  </a:lnTo>
                  <a:lnTo>
                    <a:pt x="1503" y="2876"/>
                  </a:lnTo>
                  <a:lnTo>
                    <a:pt x="1469" y="2869"/>
                  </a:lnTo>
                  <a:close/>
                </a:path>
              </a:pathLst>
            </a:custGeom>
            <a:solidFill>
              <a:srgbClr val="dd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920880" y="1781280"/>
              <a:ext cx="1185840" cy="1973160"/>
            </a:xfrm>
            <a:custGeom>
              <a:avLst/>
              <a:gdLst/>
              <a:ahLst/>
              <a:rect l="l" t="t" r="r" b="b"/>
              <a:pathLst>
                <a:path w="1684" h="2879">
                  <a:moveTo>
                    <a:pt x="1469" y="2869"/>
                  </a:moveTo>
                  <a:lnTo>
                    <a:pt x="956" y="2819"/>
                  </a:lnTo>
                  <a:lnTo>
                    <a:pt x="952" y="2810"/>
                  </a:lnTo>
                  <a:lnTo>
                    <a:pt x="948" y="2784"/>
                  </a:lnTo>
                  <a:lnTo>
                    <a:pt x="952" y="2774"/>
                  </a:lnTo>
                  <a:lnTo>
                    <a:pt x="956" y="2768"/>
                  </a:lnTo>
                  <a:lnTo>
                    <a:pt x="950" y="2762"/>
                  </a:lnTo>
                  <a:lnTo>
                    <a:pt x="944" y="2760"/>
                  </a:lnTo>
                  <a:lnTo>
                    <a:pt x="939" y="2739"/>
                  </a:lnTo>
                  <a:lnTo>
                    <a:pt x="940" y="2728"/>
                  </a:lnTo>
                  <a:lnTo>
                    <a:pt x="936" y="2644"/>
                  </a:lnTo>
                  <a:lnTo>
                    <a:pt x="893" y="2550"/>
                  </a:lnTo>
                  <a:lnTo>
                    <a:pt x="866" y="2525"/>
                  </a:lnTo>
                  <a:lnTo>
                    <a:pt x="847" y="2487"/>
                  </a:lnTo>
                  <a:lnTo>
                    <a:pt x="796" y="2441"/>
                  </a:lnTo>
                  <a:lnTo>
                    <a:pt x="763" y="2444"/>
                  </a:lnTo>
                  <a:lnTo>
                    <a:pt x="746" y="2424"/>
                  </a:lnTo>
                  <a:lnTo>
                    <a:pt x="756" y="2399"/>
                  </a:lnTo>
                  <a:lnTo>
                    <a:pt x="750" y="2384"/>
                  </a:lnTo>
                  <a:lnTo>
                    <a:pt x="750" y="2365"/>
                  </a:lnTo>
                  <a:lnTo>
                    <a:pt x="731" y="2348"/>
                  </a:lnTo>
                  <a:lnTo>
                    <a:pt x="677" y="2340"/>
                  </a:lnTo>
                  <a:lnTo>
                    <a:pt x="649" y="2328"/>
                  </a:lnTo>
                  <a:lnTo>
                    <a:pt x="610" y="2295"/>
                  </a:lnTo>
                  <a:lnTo>
                    <a:pt x="589" y="2238"/>
                  </a:lnTo>
                  <a:lnTo>
                    <a:pt x="555" y="2212"/>
                  </a:lnTo>
                  <a:lnTo>
                    <a:pt x="520" y="2202"/>
                  </a:lnTo>
                  <a:lnTo>
                    <a:pt x="426" y="2159"/>
                  </a:lnTo>
                  <a:lnTo>
                    <a:pt x="392" y="2159"/>
                  </a:lnTo>
                  <a:lnTo>
                    <a:pt x="353" y="2135"/>
                  </a:lnTo>
                  <a:lnTo>
                    <a:pt x="329" y="2109"/>
                  </a:lnTo>
                  <a:lnTo>
                    <a:pt x="331" y="2088"/>
                  </a:lnTo>
                  <a:lnTo>
                    <a:pt x="344" y="2072"/>
                  </a:lnTo>
                  <a:lnTo>
                    <a:pt x="352" y="2025"/>
                  </a:lnTo>
                  <a:lnTo>
                    <a:pt x="359" y="1998"/>
                  </a:lnTo>
                  <a:lnTo>
                    <a:pt x="366" y="1983"/>
                  </a:lnTo>
                  <a:lnTo>
                    <a:pt x="356" y="1949"/>
                  </a:lnTo>
                  <a:lnTo>
                    <a:pt x="333" y="1939"/>
                  </a:lnTo>
                  <a:lnTo>
                    <a:pt x="329" y="1908"/>
                  </a:lnTo>
                  <a:lnTo>
                    <a:pt x="335" y="1900"/>
                  </a:lnTo>
                  <a:lnTo>
                    <a:pt x="341" y="1898"/>
                  </a:lnTo>
                  <a:lnTo>
                    <a:pt x="344" y="1874"/>
                  </a:lnTo>
                  <a:lnTo>
                    <a:pt x="319" y="1851"/>
                  </a:lnTo>
                  <a:lnTo>
                    <a:pt x="255" y="1739"/>
                  </a:lnTo>
                  <a:lnTo>
                    <a:pt x="251" y="1707"/>
                  </a:lnTo>
                  <a:lnTo>
                    <a:pt x="239" y="1682"/>
                  </a:lnTo>
                  <a:lnTo>
                    <a:pt x="235" y="1656"/>
                  </a:lnTo>
                  <a:lnTo>
                    <a:pt x="188" y="1591"/>
                  </a:lnTo>
                  <a:lnTo>
                    <a:pt x="193" y="1525"/>
                  </a:lnTo>
                  <a:lnTo>
                    <a:pt x="204" y="1509"/>
                  </a:lnTo>
                  <a:lnTo>
                    <a:pt x="219" y="1509"/>
                  </a:lnTo>
                  <a:lnTo>
                    <a:pt x="241" y="1481"/>
                  </a:lnTo>
                  <a:lnTo>
                    <a:pt x="245" y="1438"/>
                  </a:lnTo>
                  <a:lnTo>
                    <a:pt x="230" y="1423"/>
                  </a:lnTo>
                  <a:lnTo>
                    <a:pt x="196" y="1407"/>
                  </a:lnTo>
                  <a:lnTo>
                    <a:pt x="162" y="1378"/>
                  </a:lnTo>
                  <a:lnTo>
                    <a:pt x="149" y="1346"/>
                  </a:lnTo>
                  <a:lnTo>
                    <a:pt x="151" y="1258"/>
                  </a:lnTo>
                  <a:lnTo>
                    <a:pt x="158" y="1246"/>
                  </a:lnTo>
                  <a:lnTo>
                    <a:pt x="154" y="1223"/>
                  </a:lnTo>
                  <a:lnTo>
                    <a:pt x="164" y="1218"/>
                  </a:lnTo>
                  <a:lnTo>
                    <a:pt x="171" y="1176"/>
                  </a:lnTo>
                  <a:lnTo>
                    <a:pt x="180" y="1173"/>
                  </a:lnTo>
                  <a:lnTo>
                    <a:pt x="188" y="1187"/>
                  </a:lnTo>
                  <a:lnTo>
                    <a:pt x="188" y="1220"/>
                  </a:lnTo>
                  <a:lnTo>
                    <a:pt x="193" y="1233"/>
                  </a:lnTo>
                  <a:lnTo>
                    <a:pt x="224" y="1255"/>
                  </a:lnTo>
                  <a:lnTo>
                    <a:pt x="231" y="1246"/>
                  </a:lnTo>
                  <a:lnTo>
                    <a:pt x="234" y="1223"/>
                  </a:lnTo>
                  <a:lnTo>
                    <a:pt x="219" y="1176"/>
                  </a:lnTo>
                  <a:lnTo>
                    <a:pt x="213" y="1145"/>
                  </a:lnTo>
                  <a:lnTo>
                    <a:pt x="219" y="1110"/>
                  </a:lnTo>
                  <a:lnTo>
                    <a:pt x="211" y="1107"/>
                  </a:lnTo>
                  <a:lnTo>
                    <a:pt x="188" y="1129"/>
                  </a:lnTo>
                  <a:lnTo>
                    <a:pt x="186" y="1142"/>
                  </a:lnTo>
                  <a:lnTo>
                    <a:pt x="180" y="1157"/>
                  </a:lnTo>
                  <a:lnTo>
                    <a:pt x="149" y="1145"/>
                  </a:lnTo>
                  <a:lnTo>
                    <a:pt x="121" y="1102"/>
                  </a:lnTo>
                  <a:lnTo>
                    <a:pt x="89" y="1088"/>
                  </a:lnTo>
                  <a:lnTo>
                    <a:pt x="103" y="1060"/>
                  </a:lnTo>
                  <a:lnTo>
                    <a:pt x="103" y="962"/>
                  </a:lnTo>
                  <a:lnTo>
                    <a:pt x="64" y="920"/>
                  </a:lnTo>
                  <a:lnTo>
                    <a:pt x="47" y="883"/>
                  </a:lnTo>
                  <a:lnTo>
                    <a:pt x="16" y="804"/>
                  </a:lnTo>
                  <a:lnTo>
                    <a:pt x="31" y="774"/>
                  </a:lnTo>
                  <a:lnTo>
                    <a:pt x="25" y="749"/>
                  </a:lnTo>
                  <a:lnTo>
                    <a:pt x="23" y="728"/>
                  </a:lnTo>
                  <a:lnTo>
                    <a:pt x="38" y="670"/>
                  </a:lnTo>
                  <a:lnTo>
                    <a:pt x="58" y="643"/>
                  </a:lnTo>
                  <a:lnTo>
                    <a:pt x="63" y="628"/>
                  </a:lnTo>
                  <a:lnTo>
                    <a:pt x="57" y="571"/>
                  </a:lnTo>
                  <a:lnTo>
                    <a:pt x="32" y="517"/>
                  </a:lnTo>
                  <a:lnTo>
                    <a:pt x="29" y="501"/>
                  </a:lnTo>
                  <a:lnTo>
                    <a:pt x="23" y="488"/>
                  </a:lnTo>
                  <a:lnTo>
                    <a:pt x="11" y="472"/>
                  </a:lnTo>
                  <a:lnTo>
                    <a:pt x="3" y="448"/>
                  </a:lnTo>
                  <a:lnTo>
                    <a:pt x="0" y="413"/>
                  </a:lnTo>
                  <a:lnTo>
                    <a:pt x="4" y="404"/>
                  </a:lnTo>
                  <a:lnTo>
                    <a:pt x="3" y="379"/>
                  </a:lnTo>
                  <a:lnTo>
                    <a:pt x="28" y="334"/>
                  </a:lnTo>
                  <a:lnTo>
                    <a:pt x="104" y="250"/>
                  </a:lnTo>
                  <a:lnTo>
                    <a:pt x="106" y="234"/>
                  </a:lnTo>
                  <a:lnTo>
                    <a:pt x="111" y="202"/>
                  </a:lnTo>
                  <a:lnTo>
                    <a:pt x="129" y="187"/>
                  </a:lnTo>
                  <a:lnTo>
                    <a:pt x="145" y="154"/>
                  </a:lnTo>
                  <a:lnTo>
                    <a:pt x="152" y="82"/>
                  </a:lnTo>
                  <a:lnTo>
                    <a:pt x="136" y="50"/>
                  </a:lnTo>
                  <a:lnTo>
                    <a:pt x="152" y="14"/>
                  </a:lnTo>
                  <a:lnTo>
                    <a:pt x="164" y="0"/>
                  </a:lnTo>
                  <a:lnTo>
                    <a:pt x="954" y="216"/>
                  </a:lnTo>
                  <a:lnTo>
                    <a:pt x="754" y="1003"/>
                  </a:lnTo>
                  <a:lnTo>
                    <a:pt x="1625" y="2283"/>
                  </a:lnTo>
                  <a:lnTo>
                    <a:pt x="1623" y="2321"/>
                  </a:lnTo>
                  <a:lnTo>
                    <a:pt x="1626" y="2334"/>
                  </a:lnTo>
                  <a:lnTo>
                    <a:pt x="1623" y="2345"/>
                  </a:lnTo>
                  <a:lnTo>
                    <a:pt x="1638" y="2377"/>
                  </a:lnTo>
                  <a:lnTo>
                    <a:pt x="1638" y="2405"/>
                  </a:lnTo>
                  <a:lnTo>
                    <a:pt x="1649" y="2422"/>
                  </a:lnTo>
                  <a:lnTo>
                    <a:pt x="1657" y="2454"/>
                  </a:lnTo>
                  <a:lnTo>
                    <a:pt x="1668" y="2462"/>
                  </a:lnTo>
                  <a:lnTo>
                    <a:pt x="1682" y="2478"/>
                  </a:lnTo>
                  <a:lnTo>
                    <a:pt x="1684" y="2505"/>
                  </a:lnTo>
                  <a:lnTo>
                    <a:pt x="1682" y="2513"/>
                  </a:lnTo>
                  <a:lnTo>
                    <a:pt x="1673" y="2505"/>
                  </a:lnTo>
                  <a:lnTo>
                    <a:pt x="1647" y="2526"/>
                  </a:lnTo>
                  <a:lnTo>
                    <a:pt x="1616" y="2538"/>
                  </a:lnTo>
                  <a:lnTo>
                    <a:pt x="1590" y="2572"/>
                  </a:lnTo>
                  <a:lnTo>
                    <a:pt x="1576" y="2642"/>
                  </a:lnTo>
                  <a:lnTo>
                    <a:pt x="1535" y="2696"/>
                  </a:lnTo>
                  <a:lnTo>
                    <a:pt x="1511" y="2696"/>
                  </a:lnTo>
                  <a:lnTo>
                    <a:pt x="1509" y="2711"/>
                  </a:lnTo>
                  <a:lnTo>
                    <a:pt x="1516" y="2728"/>
                  </a:lnTo>
                  <a:lnTo>
                    <a:pt x="1512" y="2745"/>
                  </a:lnTo>
                  <a:lnTo>
                    <a:pt x="1503" y="2780"/>
                  </a:lnTo>
                  <a:lnTo>
                    <a:pt x="1509" y="2793"/>
                  </a:lnTo>
                  <a:lnTo>
                    <a:pt x="1539" y="2819"/>
                  </a:lnTo>
                  <a:lnTo>
                    <a:pt x="1544" y="2831"/>
                  </a:lnTo>
                  <a:lnTo>
                    <a:pt x="1537" y="2841"/>
                  </a:lnTo>
                  <a:lnTo>
                    <a:pt x="1533" y="2859"/>
                  </a:lnTo>
                  <a:lnTo>
                    <a:pt x="1514" y="2879"/>
                  </a:lnTo>
                  <a:lnTo>
                    <a:pt x="1503" y="2876"/>
                  </a:lnTo>
                  <a:lnTo>
                    <a:pt x="1469" y="2869"/>
                  </a:lnTo>
                  <a:lnTo>
                    <a:pt x="1469" y="2869"/>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995480" y="777960"/>
              <a:ext cx="885960" cy="1396800"/>
            </a:xfrm>
            <a:custGeom>
              <a:avLst/>
              <a:gdLst/>
              <a:ahLst/>
              <a:rect l="l" t="t" r="r" b="b"/>
              <a:pathLst>
                <a:path w="1258" h="2040">
                  <a:moveTo>
                    <a:pt x="0" y="1816"/>
                  </a:moveTo>
                  <a:lnTo>
                    <a:pt x="103" y="1345"/>
                  </a:lnTo>
                  <a:lnTo>
                    <a:pt x="130" y="1311"/>
                  </a:lnTo>
                  <a:lnTo>
                    <a:pt x="130" y="1280"/>
                  </a:lnTo>
                  <a:lnTo>
                    <a:pt x="137" y="1277"/>
                  </a:lnTo>
                  <a:lnTo>
                    <a:pt x="141" y="1268"/>
                  </a:lnTo>
                  <a:lnTo>
                    <a:pt x="148" y="1252"/>
                  </a:lnTo>
                  <a:lnTo>
                    <a:pt x="135" y="1232"/>
                  </a:lnTo>
                  <a:lnTo>
                    <a:pt x="105" y="1219"/>
                  </a:lnTo>
                  <a:lnTo>
                    <a:pt x="98" y="1202"/>
                  </a:lnTo>
                  <a:lnTo>
                    <a:pt x="107" y="1170"/>
                  </a:lnTo>
                  <a:lnTo>
                    <a:pt x="155" y="1097"/>
                  </a:lnTo>
                  <a:lnTo>
                    <a:pt x="183" y="1084"/>
                  </a:lnTo>
                  <a:lnTo>
                    <a:pt x="202" y="1063"/>
                  </a:lnTo>
                  <a:lnTo>
                    <a:pt x="205" y="1043"/>
                  </a:lnTo>
                  <a:lnTo>
                    <a:pt x="221" y="1028"/>
                  </a:lnTo>
                  <a:lnTo>
                    <a:pt x="312" y="887"/>
                  </a:lnTo>
                  <a:lnTo>
                    <a:pt x="307" y="851"/>
                  </a:lnTo>
                  <a:lnTo>
                    <a:pt x="287" y="835"/>
                  </a:lnTo>
                  <a:lnTo>
                    <a:pt x="269" y="829"/>
                  </a:lnTo>
                  <a:lnTo>
                    <a:pt x="251" y="804"/>
                  </a:lnTo>
                  <a:lnTo>
                    <a:pt x="249" y="781"/>
                  </a:lnTo>
                  <a:lnTo>
                    <a:pt x="246" y="748"/>
                  </a:lnTo>
                  <a:lnTo>
                    <a:pt x="255" y="735"/>
                  </a:lnTo>
                  <a:lnTo>
                    <a:pt x="259" y="720"/>
                  </a:lnTo>
                  <a:lnTo>
                    <a:pt x="247" y="701"/>
                  </a:lnTo>
                  <a:lnTo>
                    <a:pt x="247" y="677"/>
                  </a:lnTo>
                  <a:lnTo>
                    <a:pt x="255" y="667"/>
                  </a:lnTo>
                  <a:lnTo>
                    <a:pt x="402" y="0"/>
                  </a:lnTo>
                  <a:lnTo>
                    <a:pt x="400" y="0"/>
                  </a:lnTo>
                  <a:lnTo>
                    <a:pt x="568" y="40"/>
                  </a:lnTo>
                  <a:lnTo>
                    <a:pt x="522" y="296"/>
                  </a:lnTo>
                  <a:lnTo>
                    <a:pt x="551" y="365"/>
                  </a:lnTo>
                  <a:lnTo>
                    <a:pt x="561" y="410"/>
                  </a:lnTo>
                  <a:lnTo>
                    <a:pt x="551" y="438"/>
                  </a:lnTo>
                  <a:lnTo>
                    <a:pt x="541" y="448"/>
                  </a:lnTo>
                  <a:lnTo>
                    <a:pt x="555" y="463"/>
                  </a:lnTo>
                  <a:lnTo>
                    <a:pt x="575" y="492"/>
                  </a:lnTo>
                  <a:lnTo>
                    <a:pt x="621" y="536"/>
                  </a:lnTo>
                  <a:lnTo>
                    <a:pt x="653" y="605"/>
                  </a:lnTo>
                  <a:lnTo>
                    <a:pt x="659" y="640"/>
                  </a:lnTo>
                  <a:lnTo>
                    <a:pt x="674" y="673"/>
                  </a:lnTo>
                  <a:lnTo>
                    <a:pt x="701" y="674"/>
                  </a:lnTo>
                  <a:lnTo>
                    <a:pt x="704" y="697"/>
                  </a:lnTo>
                  <a:lnTo>
                    <a:pt x="744" y="703"/>
                  </a:lnTo>
                  <a:lnTo>
                    <a:pt x="757" y="718"/>
                  </a:lnTo>
                  <a:lnTo>
                    <a:pt x="715" y="801"/>
                  </a:lnTo>
                  <a:lnTo>
                    <a:pt x="718" y="815"/>
                  </a:lnTo>
                  <a:lnTo>
                    <a:pt x="703" y="829"/>
                  </a:lnTo>
                  <a:lnTo>
                    <a:pt x="700" y="869"/>
                  </a:lnTo>
                  <a:lnTo>
                    <a:pt x="704" y="876"/>
                  </a:lnTo>
                  <a:lnTo>
                    <a:pt x="701" y="897"/>
                  </a:lnTo>
                  <a:lnTo>
                    <a:pt x="673" y="917"/>
                  </a:lnTo>
                  <a:lnTo>
                    <a:pt x="673" y="943"/>
                  </a:lnTo>
                  <a:lnTo>
                    <a:pt x="674" y="956"/>
                  </a:lnTo>
                  <a:lnTo>
                    <a:pt x="663" y="977"/>
                  </a:lnTo>
                  <a:lnTo>
                    <a:pt x="700" y="1017"/>
                  </a:lnTo>
                  <a:lnTo>
                    <a:pt x="713" y="1012"/>
                  </a:lnTo>
                  <a:lnTo>
                    <a:pt x="769" y="966"/>
                  </a:lnTo>
                  <a:lnTo>
                    <a:pt x="777" y="964"/>
                  </a:lnTo>
                  <a:lnTo>
                    <a:pt x="783" y="966"/>
                  </a:lnTo>
                  <a:lnTo>
                    <a:pt x="791" y="986"/>
                  </a:lnTo>
                  <a:lnTo>
                    <a:pt x="798" y="991"/>
                  </a:lnTo>
                  <a:lnTo>
                    <a:pt x="808" y="1002"/>
                  </a:lnTo>
                  <a:lnTo>
                    <a:pt x="802" y="1031"/>
                  </a:lnTo>
                  <a:lnTo>
                    <a:pt x="803" y="1086"/>
                  </a:lnTo>
                  <a:lnTo>
                    <a:pt x="813" y="1122"/>
                  </a:lnTo>
                  <a:lnTo>
                    <a:pt x="838" y="1151"/>
                  </a:lnTo>
                  <a:lnTo>
                    <a:pt x="836" y="1168"/>
                  </a:lnTo>
                  <a:lnTo>
                    <a:pt x="823" y="1192"/>
                  </a:lnTo>
                  <a:lnTo>
                    <a:pt x="844" y="1226"/>
                  </a:lnTo>
                  <a:lnTo>
                    <a:pt x="865" y="1226"/>
                  </a:lnTo>
                  <a:lnTo>
                    <a:pt x="886" y="1251"/>
                  </a:lnTo>
                  <a:lnTo>
                    <a:pt x="891" y="1267"/>
                  </a:lnTo>
                  <a:lnTo>
                    <a:pt x="882" y="1302"/>
                  </a:lnTo>
                  <a:lnTo>
                    <a:pt x="882" y="1311"/>
                  </a:lnTo>
                  <a:lnTo>
                    <a:pt x="897" y="1339"/>
                  </a:lnTo>
                  <a:lnTo>
                    <a:pt x="922" y="1355"/>
                  </a:lnTo>
                  <a:lnTo>
                    <a:pt x="934" y="1330"/>
                  </a:lnTo>
                  <a:lnTo>
                    <a:pt x="949" y="1322"/>
                  </a:lnTo>
                  <a:lnTo>
                    <a:pt x="989" y="1337"/>
                  </a:lnTo>
                  <a:lnTo>
                    <a:pt x="1005" y="1340"/>
                  </a:lnTo>
                  <a:lnTo>
                    <a:pt x="1022" y="1325"/>
                  </a:lnTo>
                  <a:lnTo>
                    <a:pt x="1037" y="1322"/>
                  </a:lnTo>
                  <a:lnTo>
                    <a:pt x="1049" y="1333"/>
                  </a:lnTo>
                  <a:lnTo>
                    <a:pt x="1099" y="1334"/>
                  </a:lnTo>
                  <a:lnTo>
                    <a:pt x="1121" y="1346"/>
                  </a:lnTo>
                  <a:lnTo>
                    <a:pt x="1130" y="1341"/>
                  </a:lnTo>
                  <a:lnTo>
                    <a:pt x="1183" y="1343"/>
                  </a:lnTo>
                  <a:lnTo>
                    <a:pt x="1181" y="1322"/>
                  </a:lnTo>
                  <a:lnTo>
                    <a:pt x="1205" y="1304"/>
                  </a:lnTo>
                  <a:lnTo>
                    <a:pt x="1230" y="1331"/>
                  </a:lnTo>
                  <a:lnTo>
                    <a:pt x="1239" y="1362"/>
                  </a:lnTo>
                  <a:lnTo>
                    <a:pt x="1258" y="1381"/>
                  </a:lnTo>
                  <a:lnTo>
                    <a:pt x="1162" y="2040"/>
                  </a:lnTo>
                  <a:lnTo>
                    <a:pt x="1160" y="2040"/>
                  </a:lnTo>
                  <a:lnTo>
                    <a:pt x="575" y="1935"/>
                  </a:lnTo>
                  <a:lnTo>
                    <a:pt x="0" y="1816"/>
                  </a:lnTo>
                  <a:close/>
                </a:path>
              </a:pathLst>
            </a:cu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995480" y="777960"/>
              <a:ext cx="885960" cy="1396800"/>
            </a:xfrm>
            <a:custGeom>
              <a:avLst/>
              <a:gdLst/>
              <a:ahLst/>
              <a:rect l="l" t="t" r="r" b="b"/>
              <a:pathLst>
                <a:path w="1258" h="2040">
                  <a:moveTo>
                    <a:pt x="0" y="1816"/>
                  </a:moveTo>
                  <a:lnTo>
                    <a:pt x="103" y="1345"/>
                  </a:lnTo>
                  <a:lnTo>
                    <a:pt x="130" y="1311"/>
                  </a:lnTo>
                  <a:lnTo>
                    <a:pt x="130" y="1280"/>
                  </a:lnTo>
                  <a:lnTo>
                    <a:pt x="137" y="1277"/>
                  </a:lnTo>
                  <a:lnTo>
                    <a:pt x="141" y="1268"/>
                  </a:lnTo>
                  <a:lnTo>
                    <a:pt x="148" y="1252"/>
                  </a:lnTo>
                  <a:lnTo>
                    <a:pt x="135" y="1232"/>
                  </a:lnTo>
                  <a:lnTo>
                    <a:pt x="105" y="1219"/>
                  </a:lnTo>
                  <a:lnTo>
                    <a:pt x="98" y="1202"/>
                  </a:lnTo>
                  <a:lnTo>
                    <a:pt x="107" y="1170"/>
                  </a:lnTo>
                  <a:lnTo>
                    <a:pt x="155" y="1097"/>
                  </a:lnTo>
                  <a:lnTo>
                    <a:pt x="183" y="1084"/>
                  </a:lnTo>
                  <a:lnTo>
                    <a:pt x="202" y="1063"/>
                  </a:lnTo>
                  <a:lnTo>
                    <a:pt x="205" y="1043"/>
                  </a:lnTo>
                  <a:lnTo>
                    <a:pt x="221" y="1028"/>
                  </a:lnTo>
                  <a:lnTo>
                    <a:pt x="312" y="887"/>
                  </a:lnTo>
                  <a:lnTo>
                    <a:pt x="307" y="851"/>
                  </a:lnTo>
                  <a:lnTo>
                    <a:pt x="287" y="835"/>
                  </a:lnTo>
                  <a:lnTo>
                    <a:pt x="269" y="829"/>
                  </a:lnTo>
                  <a:lnTo>
                    <a:pt x="251" y="804"/>
                  </a:lnTo>
                  <a:lnTo>
                    <a:pt x="249" y="781"/>
                  </a:lnTo>
                  <a:lnTo>
                    <a:pt x="246" y="748"/>
                  </a:lnTo>
                  <a:lnTo>
                    <a:pt x="255" y="735"/>
                  </a:lnTo>
                  <a:lnTo>
                    <a:pt x="259" y="720"/>
                  </a:lnTo>
                  <a:lnTo>
                    <a:pt x="247" y="701"/>
                  </a:lnTo>
                  <a:lnTo>
                    <a:pt x="247" y="677"/>
                  </a:lnTo>
                  <a:lnTo>
                    <a:pt x="255" y="667"/>
                  </a:lnTo>
                  <a:lnTo>
                    <a:pt x="402" y="0"/>
                  </a:lnTo>
                  <a:lnTo>
                    <a:pt x="400" y="0"/>
                  </a:lnTo>
                  <a:lnTo>
                    <a:pt x="568" y="40"/>
                  </a:lnTo>
                  <a:lnTo>
                    <a:pt x="522" y="296"/>
                  </a:lnTo>
                  <a:lnTo>
                    <a:pt x="551" y="365"/>
                  </a:lnTo>
                  <a:lnTo>
                    <a:pt x="561" y="410"/>
                  </a:lnTo>
                  <a:lnTo>
                    <a:pt x="551" y="438"/>
                  </a:lnTo>
                  <a:lnTo>
                    <a:pt x="541" y="448"/>
                  </a:lnTo>
                  <a:lnTo>
                    <a:pt x="555" y="463"/>
                  </a:lnTo>
                  <a:lnTo>
                    <a:pt x="575" y="492"/>
                  </a:lnTo>
                  <a:lnTo>
                    <a:pt x="621" y="536"/>
                  </a:lnTo>
                  <a:lnTo>
                    <a:pt x="653" y="605"/>
                  </a:lnTo>
                  <a:lnTo>
                    <a:pt x="659" y="640"/>
                  </a:lnTo>
                  <a:lnTo>
                    <a:pt x="674" y="673"/>
                  </a:lnTo>
                  <a:lnTo>
                    <a:pt x="701" y="674"/>
                  </a:lnTo>
                  <a:lnTo>
                    <a:pt x="704" y="697"/>
                  </a:lnTo>
                  <a:lnTo>
                    <a:pt x="744" y="703"/>
                  </a:lnTo>
                  <a:lnTo>
                    <a:pt x="757" y="718"/>
                  </a:lnTo>
                  <a:lnTo>
                    <a:pt x="715" y="801"/>
                  </a:lnTo>
                  <a:lnTo>
                    <a:pt x="718" y="815"/>
                  </a:lnTo>
                  <a:lnTo>
                    <a:pt x="703" y="829"/>
                  </a:lnTo>
                  <a:lnTo>
                    <a:pt x="700" y="869"/>
                  </a:lnTo>
                  <a:lnTo>
                    <a:pt x="704" y="876"/>
                  </a:lnTo>
                  <a:lnTo>
                    <a:pt x="701" y="897"/>
                  </a:lnTo>
                  <a:lnTo>
                    <a:pt x="673" y="917"/>
                  </a:lnTo>
                  <a:lnTo>
                    <a:pt x="673" y="943"/>
                  </a:lnTo>
                  <a:lnTo>
                    <a:pt x="674" y="956"/>
                  </a:lnTo>
                  <a:lnTo>
                    <a:pt x="663" y="977"/>
                  </a:lnTo>
                  <a:lnTo>
                    <a:pt x="700" y="1017"/>
                  </a:lnTo>
                  <a:lnTo>
                    <a:pt x="713" y="1012"/>
                  </a:lnTo>
                  <a:lnTo>
                    <a:pt x="769" y="966"/>
                  </a:lnTo>
                  <a:lnTo>
                    <a:pt x="777" y="964"/>
                  </a:lnTo>
                  <a:lnTo>
                    <a:pt x="783" y="966"/>
                  </a:lnTo>
                  <a:lnTo>
                    <a:pt x="791" y="986"/>
                  </a:lnTo>
                  <a:lnTo>
                    <a:pt x="798" y="991"/>
                  </a:lnTo>
                  <a:lnTo>
                    <a:pt x="808" y="1002"/>
                  </a:lnTo>
                  <a:lnTo>
                    <a:pt x="802" y="1031"/>
                  </a:lnTo>
                  <a:lnTo>
                    <a:pt x="803" y="1086"/>
                  </a:lnTo>
                  <a:lnTo>
                    <a:pt x="813" y="1122"/>
                  </a:lnTo>
                  <a:lnTo>
                    <a:pt x="838" y="1151"/>
                  </a:lnTo>
                  <a:lnTo>
                    <a:pt x="836" y="1168"/>
                  </a:lnTo>
                  <a:lnTo>
                    <a:pt x="823" y="1192"/>
                  </a:lnTo>
                  <a:lnTo>
                    <a:pt x="844" y="1226"/>
                  </a:lnTo>
                  <a:lnTo>
                    <a:pt x="865" y="1226"/>
                  </a:lnTo>
                  <a:lnTo>
                    <a:pt x="886" y="1251"/>
                  </a:lnTo>
                  <a:lnTo>
                    <a:pt x="891" y="1267"/>
                  </a:lnTo>
                  <a:lnTo>
                    <a:pt x="882" y="1302"/>
                  </a:lnTo>
                  <a:lnTo>
                    <a:pt x="882" y="1311"/>
                  </a:lnTo>
                  <a:lnTo>
                    <a:pt x="897" y="1339"/>
                  </a:lnTo>
                  <a:lnTo>
                    <a:pt x="922" y="1355"/>
                  </a:lnTo>
                  <a:lnTo>
                    <a:pt x="934" y="1330"/>
                  </a:lnTo>
                  <a:lnTo>
                    <a:pt x="949" y="1322"/>
                  </a:lnTo>
                  <a:lnTo>
                    <a:pt x="989" y="1337"/>
                  </a:lnTo>
                  <a:lnTo>
                    <a:pt x="1005" y="1340"/>
                  </a:lnTo>
                  <a:lnTo>
                    <a:pt x="1022" y="1325"/>
                  </a:lnTo>
                  <a:lnTo>
                    <a:pt x="1037" y="1322"/>
                  </a:lnTo>
                  <a:lnTo>
                    <a:pt x="1049" y="1333"/>
                  </a:lnTo>
                  <a:lnTo>
                    <a:pt x="1099" y="1334"/>
                  </a:lnTo>
                  <a:lnTo>
                    <a:pt x="1121" y="1346"/>
                  </a:lnTo>
                  <a:lnTo>
                    <a:pt x="1130" y="1341"/>
                  </a:lnTo>
                  <a:lnTo>
                    <a:pt x="1183" y="1343"/>
                  </a:lnTo>
                  <a:lnTo>
                    <a:pt x="1181" y="1322"/>
                  </a:lnTo>
                  <a:lnTo>
                    <a:pt x="1205" y="1304"/>
                  </a:lnTo>
                  <a:lnTo>
                    <a:pt x="1230" y="1331"/>
                  </a:lnTo>
                  <a:lnTo>
                    <a:pt x="1239" y="1362"/>
                  </a:lnTo>
                  <a:lnTo>
                    <a:pt x="1258" y="1381"/>
                  </a:lnTo>
                  <a:lnTo>
                    <a:pt x="1162" y="2040"/>
                  </a:lnTo>
                  <a:lnTo>
                    <a:pt x="1160" y="2040"/>
                  </a:lnTo>
                  <a:lnTo>
                    <a:pt x="575" y="1935"/>
                  </a:lnTo>
                  <a:lnTo>
                    <a:pt x="0" y="1816"/>
                  </a:lnTo>
                  <a:lnTo>
                    <a:pt x="0" y="1816"/>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2363760" y="804960"/>
              <a:ext cx="1521000" cy="939600"/>
            </a:xfrm>
            <a:custGeom>
              <a:avLst/>
              <a:gdLst/>
              <a:ahLst/>
              <a:rect l="l" t="t" r="r" b="b"/>
              <a:pathLst>
                <a:path w="2157" h="1370">
                  <a:moveTo>
                    <a:pt x="2068" y="1370"/>
                  </a:moveTo>
                  <a:lnTo>
                    <a:pt x="753" y="1205"/>
                  </a:lnTo>
                  <a:lnTo>
                    <a:pt x="736" y="1341"/>
                  </a:lnTo>
                  <a:lnTo>
                    <a:pt x="716" y="1323"/>
                  </a:lnTo>
                  <a:lnTo>
                    <a:pt x="708" y="1292"/>
                  </a:lnTo>
                  <a:lnTo>
                    <a:pt x="683" y="1264"/>
                  </a:lnTo>
                  <a:lnTo>
                    <a:pt x="658" y="1282"/>
                  </a:lnTo>
                  <a:lnTo>
                    <a:pt x="661" y="1303"/>
                  </a:lnTo>
                  <a:lnTo>
                    <a:pt x="607" y="1302"/>
                  </a:lnTo>
                  <a:lnTo>
                    <a:pt x="598" y="1307"/>
                  </a:lnTo>
                  <a:lnTo>
                    <a:pt x="576" y="1294"/>
                  </a:lnTo>
                  <a:lnTo>
                    <a:pt x="527" y="1293"/>
                  </a:lnTo>
                  <a:lnTo>
                    <a:pt x="514" y="1282"/>
                  </a:lnTo>
                  <a:lnTo>
                    <a:pt x="500" y="1286"/>
                  </a:lnTo>
                  <a:lnTo>
                    <a:pt x="482" y="1300"/>
                  </a:lnTo>
                  <a:lnTo>
                    <a:pt x="466" y="1298"/>
                  </a:lnTo>
                  <a:lnTo>
                    <a:pt x="425" y="1282"/>
                  </a:lnTo>
                  <a:lnTo>
                    <a:pt x="412" y="1290"/>
                  </a:lnTo>
                  <a:lnTo>
                    <a:pt x="399" y="1315"/>
                  </a:lnTo>
                  <a:lnTo>
                    <a:pt x="374" y="1299"/>
                  </a:lnTo>
                  <a:lnTo>
                    <a:pt x="360" y="1271"/>
                  </a:lnTo>
                  <a:lnTo>
                    <a:pt x="360" y="1262"/>
                  </a:lnTo>
                  <a:lnTo>
                    <a:pt x="368" y="1227"/>
                  </a:lnTo>
                  <a:lnTo>
                    <a:pt x="363" y="1211"/>
                  </a:lnTo>
                  <a:lnTo>
                    <a:pt x="343" y="1186"/>
                  </a:lnTo>
                  <a:lnTo>
                    <a:pt x="321" y="1186"/>
                  </a:lnTo>
                  <a:lnTo>
                    <a:pt x="300" y="1152"/>
                  </a:lnTo>
                  <a:lnTo>
                    <a:pt x="314" y="1129"/>
                  </a:lnTo>
                  <a:lnTo>
                    <a:pt x="315" y="1111"/>
                  </a:lnTo>
                  <a:lnTo>
                    <a:pt x="291" y="1083"/>
                  </a:lnTo>
                  <a:lnTo>
                    <a:pt x="280" y="1047"/>
                  </a:lnTo>
                  <a:lnTo>
                    <a:pt x="279" y="991"/>
                  </a:lnTo>
                  <a:lnTo>
                    <a:pt x="285" y="962"/>
                  </a:lnTo>
                  <a:lnTo>
                    <a:pt x="276" y="951"/>
                  </a:lnTo>
                  <a:lnTo>
                    <a:pt x="268" y="946"/>
                  </a:lnTo>
                  <a:lnTo>
                    <a:pt x="261" y="927"/>
                  </a:lnTo>
                  <a:lnTo>
                    <a:pt x="254" y="924"/>
                  </a:lnTo>
                  <a:lnTo>
                    <a:pt x="247" y="927"/>
                  </a:lnTo>
                  <a:lnTo>
                    <a:pt x="190" y="972"/>
                  </a:lnTo>
                  <a:lnTo>
                    <a:pt x="178" y="977"/>
                  </a:lnTo>
                  <a:lnTo>
                    <a:pt x="141" y="938"/>
                  </a:lnTo>
                  <a:lnTo>
                    <a:pt x="152" y="917"/>
                  </a:lnTo>
                  <a:lnTo>
                    <a:pt x="150" y="903"/>
                  </a:lnTo>
                  <a:lnTo>
                    <a:pt x="150" y="877"/>
                  </a:lnTo>
                  <a:lnTo>
                    <a:pt x="179" y="858"/>
                  </a:lnTo>
                  <a:lnTo>
                    <a:pt x="182" y="836"/>
                  </a:lnTo>
                  <a:lnTo>
                    <a:pt x="178" y="829"/>
                  </a:lnTo>
                  <a:lnTo>
                    <a:pt x="180" y="789"/>
                  </a:lnTo>
                  <a:lnTo>
                    <a:pt x="195" y="776"/>
                  </a:lnTo>
                  <a:lnTo>
                    <a:pt x="192" y="761"/>
                  </a:lnTo>
                  <a:lnTo>
                    <a:pt x="235" y="678"/>
                  </a:lnTo>
                  <a:lnTo>
                    <a:pt x="221" y="663"/>
                  </a:lnTo>
                  <a:lnTo>
                    <a:pt x="182" y="657"/>
                  </a:lnTo>
                  <a:lnTo>
                    <a:pt x="179" y="635"/>
                  </a:lnTo>
                  <a:lnTo>
                    <a:pt x="152" y="633"/>
                  </a:lnTo>
                  <a:lnTo>
                    <a:pt x="137" y="600"/>
                  </a:lnTo>
                  <a:lnTo>
                    <a:pt x="131" y="565"/>
                  </a:lnTo>
                  <a:lnTo>
                    <a:pt x="99" y="496"/>
                  </a:lnTo>
                  <a:lnTo>
                    <a:pt x="53" y="453"/>
                  </a:lnTo>
                  <a:lnTo>
                    <a:pt x="33" y="423"/>
                  </a:lnTo>
                  <a:lnTo>
                    <a:pt x="18" y="408"/>
                  </a:lnTo>
                  <a:lnTo>
                    <a:pt x="28" y="398"/>
                  </a:lnTo>
                  <a:lnTo>
                    <a:pt x="38" y="370"/>
                  </a:lnTo>
                  <a:lnTo>
                    <a:pt x="28" y="325"/>
                  </a:lnTo>
                  <a:lnTo>
                    <a:pt x="0" y="256"/>
                  </a:lnTo>
                  <a:lnTo>
                    <a:pt x="45" y="0"/>
                  </a:lnTo>
                  <a:lnTo>
                    <a:pt x="243" y="36"/>
                  </a:lnTo>
                  <a:lnTo>
                    <a:pt x="771" y="126"/>
                  </a:lnTo>
                  <a:lnTo>
                    <a:pt x="1312" y="217"/>
                  </a:lnTo>
                  <a:lnTo>
                    <a:pt x="2157" y="305"/>
                  </a:lnTo>
                  <a:lnTo>
                    <a:pt x="2091" y="1110"/>
                  </a:lnTo>
                  <a:lnTo>
                    <a:pt x="2068" y="1370"/>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2363760" y="804960"/>
              <a:ext cx="1521000" cy="939600"/>
            </a:xfrm>
            <a:custGeom>
              <a:avLst/>
              <a:gdLst/>
              <a:ahLst/>
              <a:rect l="l" t="t" r="r" b="b"/>
              <a:pathLst>
                <a:path w="2157" h="1370">
                  <a:moveTo>
                    <a:pt x="2068" y="1370"/>
                  </a:moveTo>
                  <a:lnTo>
                    <a:pt x="753" y="1205"/>
                  </a:lnTo>
                  <a:lnTo>
                    <a:pt x="736" y="1341"/>
                  </a:lnTo>
                  <a:lnTo>
                    <a:pt x="716" y="1323"/>
                  </a:lnTo>
                  <a:lnTo>
                    <a:pt x="708" y="1292"/>
                  </a:lnTo>
                  <a:lnTo>
                    <a:pt x="683" y="1264"/>
                  </a:lnTo>
                  <a:lnTo>
                    <a:pt x="658" y="1282"/>
                  </a:lnTo>
                  <a:lnTo>
                    <a:pt x="661" y="1303"/>
                  </a:lnTo>
                  <a:lnTo>
                    <a:pt x="607" y="1302"/>
                  </a:lnTo>
                  <a:lnTo>
                    <a:pt x="598" y="1307"/>
                  </a:lnTo>
                  <a:lnTo>
                    <a:pt x="576" y="1294"/>
                  </a:lnTo>
                  <a:lnTo>
                    <a:pt x="527" y="1293"/>
                  </a:lnTo>
                  <a:lnTo>
                    <a:pt x="514" y="1282"/>
                  </a:lnTo>
                  <a:lnTo>
                    <a:pt x="500" y="1286"/>
                  </a:lnTo>
                  <a:lnTo>
                    <a:pt x="482" y="1300"/>
                  </a:lnTo>
                  <a:lnTo>
                    <a:pt x="466" y="1298"/>
                  </a:lnTo>
                  <a:lnTo>
                    <a:pt x="425" y="1282"/>
                  </a:lnTo>
                  <a:lnTo>
                    <a:pt x="412" y="1290"/>
                  </a:lnTo>
                  <a:lnTo>
                    <a:pt x="399" y="1315"/>
                  </a:lnTo>
                  <a:lnTo>
                    <a:pt x="374" y="1299"/>
                  </a:lnTo>
                  <a:lnTo>
                    <a:pt x="360" y="1271"/>
                  </a:lnTo>
                  <a:lnTo>
                    <a:pt x="360" y="1262"/>
                  </a:lnTo>
                  <a:lnTo>
                    <a:pt x="368" y="1227"/>
                  </a:lnTo>
                  <a:lnTo>
                    <a:pt x="363" y="1211"/>
                  </a:lnTo>
                  <a:lnTo>
                    <a:pt x="343" y="1186"/>
                  </a:lnTo>
                  <a:lnTo>
                    <a:pt x="321" y="1186"/>
                  </a:lnTo>
                  <a:lnTo>
                    <a:pt x="300" y="1152"/>
                  </a:lnTo>
                  <a:lnTo>
                    <a:pt x="314" y="1129"/>
                  </a:lnTo>
                  <a:lnTo>
                    <a:pt x="315" y="1111"/>
                  </a:lnTo>
                  <a:lnTo>
                    <a:pt x="291" y="1083"/>
                  </a:lnTo>
                  <a:lnTo>
                    <a:pt x="280" y="1047"/>
                  </a:lnTo>
                  <a:lnTo>
                    <a:pt x="279" y="991"/>
                  </a:lnTo>
                  <a:lnTo>
                    <a:pt x="285" y="962"/>
                  </a:lnTo>
                  <a:lnTo>
                    <a:pt x="276" y="951"/>
                  </a:lnTo>
                  <a:lnTo>
                    <a:pt x="268" y="946"/>
                  </a:lnTo>
                  <a:lnTo>
                    <a:pt x="261" y="927"/>
                  </a:lnTo>
                  <a:lnTo>
                    <a:pt x="254" y="924"/>
                  </a:lnTo>
                  <a:lnTo>
                    <a:pt x="247" y="927"/>
                  </a:lnTo>
                  <a:lnTo>
                    <a:pt x="190" y="972"/>
                  </a:lnTo>
                  <a:lnTo>
                    <a:pt x="178" y="977"/>
                  </a:lnTo>
                  <a:lnTo>
                    <a:pt x="141" y="938"/>
                  </a:lnTo>
                  <a:lnTo>
                    <a:pt x="152" y="917"/>
                  </a:lnTo>
                  <a:lnTo>
                    <a:pt x="150" y="903"/>
                  </a:lnTo>
                  <a:lnTo>
                    <a:pt x="150" y="877"/>
                  </a:lnTo>
                  <a:lnTo>
                    <a:pt x="179" y="858"/>
                  </a:lnTo>
                  <a:lnTo>
                    <a:pt x="182" y="836"/>
                  </a:lnTo>
                  <a:lnTo>
                    <a:pt x="178" y="829"/>
                  </a:lnTo>
                  <a:lnTo>
                    <a:pt x="180" y="789"/>
                  </a:lnTo>
                  <a:lnTo>
                    <a:pt x="195" y="776"/>
                  </a:lnTo>
                  <a:lnTo>
                    <a:pt x="192" y="761"/>
                  </a:lnTo>
                  <a:lnTo>
                    <a:pt x="235" y="678"/>
                  </a:lnTo>
                  <a:lnTo>
                    <a:pt x="221" y="663"/>
                  </a:lnTo>
                  <a:lnTo>
                    <a:pt x="182" y="657"/>
                  </a:lnTo>
                  <a:lnTo>
                    <a:pt x="179" y="635"/>
                  </a:lnTo>
                  <a:lnTo>
                    <a:pt x="152" y="633"/>
                  </a:lnTo>
                  <a:lnTo>
                    <a:pt x="137" y="600"/>
                  </a:lnTo>
                  <a:lnTo>
                    <a:pt x="131" y="565"/>
                  </a:lnTo>
                  <a:lnTo>
                    <a:pt x="99" y="496"/>
                  </a:lnTo>
                  <a:lnTo>
                    <a:pt x="53" y="453"/>
                  </a:lnTo>
                  <a:lnTo>
                    <a:pt x="33" y="423"/>
                  </a:lnTo>
                  <a:lnTo>
                    <a:pt x="18" y="408"/>
                  </a:lnTo>
                  <a:lnTo>
                    <a:pt x="28" y="398"/>
                  </a:lnTo>
                  <a:lnTo>
                    <a:pt x="38" y="370"/>
                  </a:lnTo>
                  <a:lnTo>
                    <a:pt x="28" y="325"/>
                  </a:lnTo>
                  <a:lnTo>
                    <a:pt x="0" y="256"/>
                  </a:lnTo>
                  <a:lnTo>
                    <a:pt x="45" y="0"/>
                  </a:lnTo>
                  <a:lnTo>
                    <a:pt x="243" y="36"/>
                  </a:lnTo>
                  <a:lnTo>
                    <a:pt x="771" y="126"/>
                  </a:lnTo>
                  <a:lnTo>
                    <a:pt x="1312" y="217"/>
                  </a:lnTo>
                  <a:lnTo>
                    <a:pt x="2157" y="305"/>
                  </a:lnTo>
                  <a:lnTo>
                    <a:pt x="2091" y="1110"/>
                  </a:lnTo>
                  <a:lnTo>
                    <a:pt x="2068" y="1370"/>
                  </a:lnTo>
                  <a:lnTo>
                    <a:pt x="2068" y="137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2784600" y="1628640"/>
              <a:ext cx="1036440" cy="836640"/>
            </a:xfrm>
            <a:custGeom>
              <a:avLst/>
              <a:gdLst/>
              <a:ahLst/>
              <a:rect l="l" t="t" r="r" b="b"/>
              <a:pathLst>
                <a:path w="1472" h="1222">
                  <a:moveTo>
                    <a:pt x="1382" y="1222"/>
                  </a:moveTo>
                  <a:lnTo>
                    <a:pt x="1426" y="689"/>
                  </a:lnTo>
                  <a:lnTo>
                    <a:pt x="1472" y="165"/>
                  </a:lnTo>
                  <a:lnTo>
                    <a:pt x="157" y="0"/>
                  </a:lnTo>
                  <a:lnTo>
                    <a:pt x="139" y="136"/>
                  </a:lnTo>
                  <a:lnTo>
                    <a:pt x="43" y="796"/>
                  </a:lnTo>
                  <a:lnTo>
                    <a:pt x="41" y="796"/>
                  </a:lnTo>
                  <a:lnTo>
                    <a:pt x="0" y="1052"/>
                  </a:lnTo>
                  <a:lnTo>
                    <a:pt x="392" y="1114"/>
                  </a:lnTo>
                  <a:lnTo>
                    <a:pt x="1383" y="1222"/>
                  </a:lnTo>
                  <a:lnTo>
                    <a:pt x="1382" y="1222"/>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2784600" y="1628640"/>
              <a:ext cx="1036440" cy="836640"/>
            </a:xfrm>
            <a:custGeom>
              <a:avLst/>
              <a:gdLst/>
              <a:ahLst/>
              <a:rect l="l" t="t" r="r" b="b"/>
              <a:pathLst>
                <a:path w="1472" h="1222">
                  <a:moveTo>
                    <a:pt x="1382" y="1222"/>
                  </a:moveTo>
                  <a:lnTo>
                    <a:pt x="1426" y="689"/>
                  </a:lnTo>
                  <a:lnTo>
                    <a:pt x="1472" y="165"/>
                  </a:lnTo>
                  <a:lnTo>
                    <a:pt x="157" y="0"/>
                  </a:lnTo>
                  <a:lnTo>
                    <a:pt x="139" y="136"/>
                  </a:lnTo>
                  <a:lnTo>
                    <a:pt x="43" y="796"/>
                  </a:lnTo>
                  <a:lnTo>
                    <a:pt x="41" y="796"/>
                  </a:lnTo>
                  <a:lnTo>
                    <a:pt x="0" y="1052"/>
                  </a:lnTo>
                  <a:lnTo>
                    <a:pt x="392" y="1114"/>
                  </a:lnTo>
                  <a:lnTo>
                    <a:pt x="1383" y="1222"/>
                  </a:lnTo>
                  <a:lnTo>
                    <a:pt x="1382" y="1222"/>
                  </a:lnTo>
                  <a:lnTo>
                    <a:pt x="1382" y="1222"/>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450800" y="1928880"/>
              <a:ext cx="947880" cy="1415880"/>
            </a:xfrm>
            <a:custGeom>
              <a:avLst/>
              <a:gdLst/>
              <a:ahLst/>
              <a:rect l="l" t="t" r="r" b="b"/>
              <a:pathLst>
                <a:path w="1345" h="2068">
                  <a:moveTo>
                    <a:pt x="200" y="0"/>
                  </a:moveTo>
                  <a:lnTo>
                    <a:pt x="0" y="787"/>
                  </a:lnTo>
                  <a:lnTo>
                    <a:pt x="871" y="2068"/>
                  </a:lnTo>
                  <a:lnTo>
                    <a:pt x="869" y="2053"/>
                  </a:lnTo>
                  <a:lnTo>
                    <a:pt x="879" y="2036"/>
                  </a:lnTo>
                  <a:lnTo>
                    <a:pt x="895" y="1981"/>
                  </a:lnTo>
                  <a:lnTo>
                    <a:pt x="884" y="1959"/>
                  </a:lnTo>
                  <a:lnTo>
                    <a:pt x="899" y="1835"/>
                  </a:lnTo>
                  <a:lnTo>
                    <a:pt x="889" y="1785"/>
                  </a:lnTo>
                  <a:lnTo>
                    <a:pt x="899" y="1772"/>
                  </a:lnTo>
                  <a:lnTo>
                    <a:pt x="930" y="1766"/>
                  </a:lnTo>
                  <a:lnTo>
                    <a:pt x="973" y="1777"/>
                  </a:lnTo>
                  <a:lnTo>
                    <a:pt x="987" y="1795"/>
                  </a:lnTo>
                  <a:lnTo>
                    <a:pt x="987" y="1803"/>
                  </a:lnTo>
                  <a:lnTo>
                    <a:pt x="1001" y="1819"/>
                  </a:lnTo>
                  <a:lnTo>
                    <a:pt x="1026" y="1819"/>
                  </a:lnTo>
                  <a:lnTo>
                    <a:pt x="1064" y="1708"/>
                  </a:lnTo>
                  <a:lnTo>
                    <a:pt x="1092" y="1570"/>
                  </a:lnTo>
                  <a:lnTo>
                    <a:pt x="1345" y="254"/>
                  </a:lnTo>
                  <a:lnTo>
                    <a:pt x="769" y="134"/>
                  </a:lnTo>
                  <a:lnTo>
                    <a:pt x="200" y="0"/>
                  </a:lnTo>
                  <a:close/>
                </a:path>
              </a:pathLst>
            </a:custGeom>
            <a:solidFill>
              <a:srgbClr val="00152a"/>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450800" y="1928880"/>
              <a:ext cx="947880" cy="1415880"/>
            </a:xfrm>
            <a:custGeom>
              <a:avLst/>
              <a:gdLst/>
              <a:ahLst/>
              <a:rect l="l" t="t" r="r" b="b"/>
              <a:pathLst>
                <a:path w="1345" h="2068">
                  <a:moveTo>
                    <a:pt x="200" y="0"/>
                  </a:moveTo>
                  <a:lnTo>
                    <a:pt x="0" y="787"/>
                  </a:lnTo>
                  <a:lnTo>
                    <a:pt x="871" y="2068"/>
                  </a:lnTo>
                  <a:lnTo>
                    <a:pt x="869" y="2053"/>
                  </a:lnTo>
                  <a:lnTo>
                    <a:pt x="879" y="2036"/>
                  </a:lnTo>
                  <a:lnTo>
                    <a:pt x="895" y="1981"/>
                  </a:lnTo>
                  <a:lnTo>
                    <a:pt x="884" y="1959"/>
                  </a:lnTo>
                  <a:lnTo>
                    <a:pt x="899" y="1835"/>
                  </a:lnTo>
                  <a:lnTo>
                    <a:pt x="889" y="1785"/>
                  </a:lnTo>
                  <a:lnTo>
                    <a:pt x="899" y="1772"/>
                  </a:lnTo>
                  <a:lnTo>
                    <a:pt x="930" y="1766"/>
                  </a:lnTo>
                  <a:lnTo>
                    <a:pt x="973" y="1777"/>
                  </a:lnTo>
                  <a:lnTo>
                    <a:pt x="987" y="1795"/>
                  </a:lnTo>
                  <a:lnTo>
                    <a:pt x="987" y="1803"/>
                  </a:lnTo>
                  <a:lnTo>
                    <a:pt x="1001" y="1819"/>
                  </a:lnTo>
                  <a:lnTo>
                    <a:pt x="1026" y="1819"/>
                  </a:lnTo>
                  <a:lnTo>
                    <a:pt x="1064" y="1708"/>
                  </a:lnTo>
                  <a:lnTo>
                    <a:pt x="1092" y="1570"/>
                  </a:lnTo>
                  <a:lnTo>
                    <a:pt x="1345" y="254"/>
                  </a:lnTo>
                  <a:lnTo>
                    <a:pt x="769" y="134"/>
                  </a:lnTo>
                  <a:lnTo>
                    <a:pt x="200" y="0"/>
                  </a:lnTo>
                  <a:lnTo>
                    <a:pt x="200"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1944720" y="3005280"/>
              <a:ext cx="1012680" cy="1141200"/>
            </a:xfrm>
            <a:custGeom>
              <a:avLst/>
              <a:gdLst/>
              <a:ahLst/>
              <a:rect l="l" t="t" r="r" b="b"/>
              <a:pathLst>
                <a:path w="1436" h="1666">
                  <a:moveTo>
                    <a:pt x="1226" y="1664"/>
                  </a:moveTo>
                  <a:lnTo>
                    <a:pt x="1436" y="163"/>
                  </a:lnTo>
                  <a:lnTo>
                    <a:pt x="392" y="0"/>
                  </a:lnTo>
                  <a:lnTo>
                    <a:pt x="365" y="137"/>
                  </a:lnTo>
                  <a:lnTo>
                    <a:pt x="327" y="249"/>
                  </a:lnTo>
                  <a:lnTo>
                    <a:pt x="302" y="249"/>
                  </a:lnTo>
                  <a:lnTo>
                    <a:pt x="288" y="232"/>
                  </a:lnTo>
                  <a:lnTo>
                    <a:pt x="288" y="225"/>
                  </a:lnTo>
                  <a:lnTo>
                    <a:pt x="274" y="207"/>
                  </a:lnTo>
                  <a:lnTo>
                    <a:pt x="231" y="196"/>
                  </a:lnTo>
                  <a:lnTo>
                    <a:pt x="200" y="203"/>
                  </a:lnTo>
                  <a:lnTo>
                    <a:pt x="190" y="215"/>
                  </a:lnTo>
                  <a:lnTo>
                    <a:pt x="200" y="266"/>
                  </a:lnTo>
                  <a:lnTo>
                    <a:pt x="185" y="389"/>
                  </a:lnTo>
                  <a:lnTo>
                    <a:pt x="196" y="411"/>
                  </a:lnTo>
                  <a:lnTo>
                    <a:pt x="180" y="465"/>
                  </a:lnTo>
                  <a:lnTo>
                    <a:pt x="170" y="483"/>
                  </a:lnTo>
                  <a:lnTo>
                    <a:pt x="172" y="497"/>
                  </a:lnTo>
                  <a:lnTo>
                    <a:pt x="170" y="535"/>
                  </a:lnTo>
                  <a:lnTo>
                    <a:pt x="173" y="548"/>
                  </a:lnTo>
                  <a:lnTo>
                    <a:pt x="170" y="559"/>
                  </a:lnTo>
                  <a:lnTo>
                    <a:pt x="185" y="591"/>
                  </a:lnTo>
                  <a:lnTo>
                    <a:pt x="185" y="619"/>
                  </a:lnTo>
                  <a:lnTo>
                    <a:pt x="196" y="637"/>
                  </a:lnTo>
                  <a:lnTo>
                    <a:pt x="204" y="668"/>
                  </a:lnTo>
                  <a:lnTo>
                    <a:pt x="215" y="676"/>
                  </a:lnTo>
                  <a:lnTo>
                    <a:pt x="229" y="693"/>
                  </a:lnTo>
                  <a:lnTo>
                    <a:pt x="231" y="719"/>
                  </a:lnTo>
                  <a:lnTo>
                    <a:pt x="229" y="727"/>
                  </a:lnTo>
                  <a:lnTo>
                    <a:pt x="220" y="720"/>
                  </a:lnTo>
                  <a:lnTo>
                    <a:pt x="194" y="741"/>
                  </a:lnTo>
                  <a:lnTo>
                    <a:pt x="163" y="752"/>
                  </a:lnTo>
                  <a:lnTo>
                    <a:pt x="137" y="786"/>
                  </a:lnTo>
                  <a:lnTo>
                    <a:pt x="123" y="856"/>
                  </a:lnTo>
                  <a:lnTo>
                    <a:pt x="82" y="910"/>
                  </a:lnTo>
                  <a:lnTo>
                    <a:pt x="58" y="910"/>
                  </a:lnTo>
                  <a:lnTo>
                    <a:pt x="56" y="925"/>
                  </a:lnTo>
                  <a:lnTo>
                    <a:pt x="63" y="943"/>
                  </a:lnTo>
                  <a:lnTo>
                    <a:pt x="59" y="960"/>
                  </a:lnTo>
                  <a:lnTo>
                    <a:pt x="50" y="994"/>
                  </a:lnTo>
                  <a:lnTo>
                    <a:pt x="56" y="1007"/>
                  </a:lnTo>
                  <a:lnTo>
                    <a:pt x="86" y="1033"/>
                  </a:lnTo>
                  <a:lnTo>
                    <a:pt x="91" y="1045"/>
                  </a:lnTo>
                  <a:lnTo>
                    <a:pt x="84" y="1055"/>
                  </a:lnTo>
                  <a:lnTo>
                    <a:pt x="80" y="1073"/>
                  </a:lnTo>
                  <a:lnTo>
                    <a:pt x="61" y="1093"/>
                  </a:lnTo>
                  <a:lnTo>
                    <a:pt x="50" y="1091"/>
                  </a:lnTo>
                  <a:lnTo>
                    <a:pt x="16" y="1085"/>
                  </a:lnTo>
                  <a:lnTo>
                    <a:pt x="0" y="1148"/>
                  </a:lnTo>
                  <a:lnTo>
                    <a:pt x="772" y="1594"/>
                  </a:lnTo>
                  <a:lnTo>
                    <a:pt x="1226" y="1666"/>
                  </a:lnTo>
                  <a:lnTo>
                    <a:pt x="1226" y="1664"/>
                  </a:lnTo>
                  <a:close/>
                </a:path>
              </a:pathLst>
            </a:cu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1944720" y="3005280"/>
              <a:ext cx="1012680" cy="1141200"/>
            </a:xfrm>
            <a:custGeom>
              <a:avLst/>
              <a:gdLst/>
              <a:ahLst/>
              <a:rect l="l" t="t" r="r" b="b"/>
              <a:pathLst>
                <a:path w="1436" h="1666">
                  <a:moveTo>
                    <a:pt x="1226" y="1664"/>
                  </a:moveTo>
                  <a:lnTo>
                    <a:pt x="1436" y="163"/>
                  </a:lnTo>
                  <a:lnTo>
                    <a:pt x="392" y="0"/>
                  </a:lnTo>
                  <a:lnTo>
                    <a:pt x="365" y="137"/>
                  </a:lnTo>
                  <a:lnTo>
                    <a:pt x="327" y="249"/>
                  </a:lnTo>
                  <a:lnTo>
                    <a:pt x="302" y="249"/>
                  </a:lnTo>
                  <a:lnTo>
                    <a:pt x="288" y="232"/>
                  </a:lnTo>
                  <a:lnTo>
                    <a:pt x="288" y="225"/>
                  </a:lnTo>
                  <a:lnTo>
                    <a:pt x="274" y="207"/>
                  </a:lnTo>
                  <a:lnTo>
                    <a:pt x="231" y="196"/>
                  </a:lnTo>
                  <a:lnTo>
                    <a:pt x="200" y="203"/>
                  </a:lnTo>
                  <a:lnTo>
                    <a:pt x="190" y="215"/>
                  </a:lnTo>
                  <a:lnTo>
                    <a:pt x="200" y="266"/>
                  </a:lnTo>
                  <a:lnTo>
                    <a:pt x="185" y="389"/>
                  </a:lnTo>
                  <a:lnTo>
                    <a:pt x="196" y="411"/>
                  </a:lnTo>
                  <a:lnTo>
                    <a:pt x="180" y="465"/>
                  </a:lnTo>
                  <a:lnTo>
                    <a:pt x="170" y="483"/>
                  </a:lnTo>
                  <a:lnTo>
                    <a:pt x="172" y="497"/>
                  </a:lnTo>
                  <a:lnTo>
                    <a:pt x="170" y="535"/>
                  </a:lnTo>
                  <a:lnTo>
                    <a:pt x="173" y="548"/>
                  </a:lnTo>
                  <a:lnTo>
                    <a:pt x="170" y="559"/>
                  </a:lnTo>
                  <a:lnTo>
                    <a:pt x="185" y="591"/>
                  </a:lnTo>
                  <a:lnTo>
                    <a:pt x="185" y="619"/>
                  </a:lnTo>
                  <a:lnTo>
                    <a:pt x="196" y="637"/>
                  </a:lnTo>
                  <a:lnTo>
                    <a:pt x="204" y="668"/>
                  </a:lnTo>
                  <a:lnTo>
                    <a:pt x="215" y="676"/>
                  </a:lnTo>
                  <a:lnTo>
                    <a:pt x="229" y="693"/>
                  </a:lnTo>
                  <a:lnTo>
                    <a:pt x="231" y="719"/>
                  </a:lnTo>
                  <a:lnTo>
                    <a:pt x="229" y="727"/>
                  </a:lnTo>
                  <a:lnTo>
                    <a:pt x="220" y="720"/>
                  </a:lnTo>
                  <a:lnTo>
                    <a:pt x="194" y="741"/>
                  </a:lnTo>
                  <a:lnTo>
                    <a:pt x="163" y="752"/>
                  </a:lnTo>
                  <a:lnTo>
                    <a:pt x="137" y="786"/>
                  </a:lnTo>
                  <a:lnTo>
                    <a:pt x="123" y="856"/>
                  </a:lnTo>
                  <a:lnTo>
                    <a:pt x="82" y="910"/>
                  </a:lnTo>
                  <a:lnTo>
                    <a:pt x="58" y="910"/>
                  </a:lnTo>
                  <a:lnTo>
                    <a:pt x="56" y="925"/>
                  </a:lnTo>
                  <a:lnTo>
                    <a:pt x="63" y="943"/>
                  </a:lnTo>
                  <a:lnTo>
                    <a:pt x="59" y="960"/>
                  </a:lnTo>
                  <a:lnTo>
                    <a:pt x="50" y="994"/>
                  </a:lnTo>
                  <a:lnTo>
                    <a:pt x="56" y="1007"/>
                  </a:lnTo>
                  <a:lnTo>
                    <a:pt x="86" y="1033"/>
                  </a:lnTo>
                  <a:lnTo>
                    <a:pt x="91" y="1045"/>
                  </a:lnTo>
                  <a:lnTo>
                    <a:pt x="84" y="1055"/>
                  </a:lnTo>
                  <a:lnTo>
                    <a:pt x="80" y="1073"/>
                  </a:lnTo>
                  <a:lnTo>
                    <a:pt x="61" y="1093"/>
                  </a:lnTo>
                  <a:lnTo>
                    <a:pt x="50" y="1091"/>
                  </a:lnTo>
                  <a:lnTo>
                    <a:pt x="16" y="1085"/>
                  </a:lnTo>
                  <a:lnTo>
                    <a:pt x="0" y="1148"/>
                  </a:lnTo>
                  <a:lnTo>
                    <a:pt x="772" y="1594"/>
                  </a:lnTo>
                  <a:lnTo>
                    <a:pt x="1226" y="1666"/>
                  </a:lnTo>
                  <a:lnTo>
                    <a:pt x="1226" y="1664"/>
                  </a:lnTo>
                  <a:lnTo>
                    <a:pt x="1226" y="1664"/>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957400" y="2390760"/>
              <a:ext cx="1081080" cy="830160"/>
            </a:xfrm>
            <a:custGeom>
              <a:avLst/>
              <a:gdLst/>
              <a:ahLst/>
              <a:rect l="l" t="t" r="r" b="b"/>
              <a:pathLst>
                <a:path w="1532" h="1212">
                  <a:moveTo>
                    <a:pt x="0" y="1057"/>
                  </a:moveTo>
                  <a:lnTo>
                    <a:pt x="145" y="0"/>
                  </a:lnTo>
                  <a:lnTo>
                    <a:pt x="1136" y="108"/>
                  </a:lnTo>
                  <a:lnTo>
                    <a:pt x="1532" y="141"/>
                  </a:lnTo>
                  <a:lnTo>
                    <a:pt x="1517" y="409"/>
                  </a:lnTo>
                  <a:lnTo>
                    <a:pt x="1471" y="1212"/>
                  </a:lnTo>
                  <a:lnTo>
                    <a:pt x="1265" y="1200"/>
                  </a:lnTo>
                  <a:lnTo>
                    <a:pt x="0" y="1057"/>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2957400" y="2390760"/>
              <a:ext cx="1081080" cy="830160"/>
            </a:xfrm>
            <a:custGeom>
              <a:avLst/>
              <a:gdLst/>
              <a:ahLst/>
              <a:rect l="l" t="t" r="r" b="b"/>
              <a:pathLst>
                <a:path w="1532" h="1212">
                  <a:moveTo>
                    <a:pt x="0" y="1057"/>
                  </a:moveTo>
                  <a:lnTo>
                    <a:pt x="145" y="0"/>
                  </a:lnTo>
                  <a:lnTo>
                    <a:pt x="1136" y="108"/>
                  </a:lnTo>
                  <a:lnTo>
                    <a:pt x="1532" y="141"/>
                  </a:lnTo>
                  <a:lnTo>
                    <a:pt x="1517" y="409"/>
                  </a:lnTo>
                  <a:lnTo>
                    <a:pt x="1471" y="1212"/>
                  </a:lnTo>
                  <a:lnTo>
                    <a:pt x="1265" y="1200"/>
                  </a:lnTo>
                  <a:lnTo>
                    <a:pt x="0" y="1057"/>
                  </a:lnTo>
                  <a:lnTo>
                    <a:pt x="0" y="1057"/>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2809800" y="3116160"/>
              <a:ext cx="1041480" cy="1044720"/>
            </a:xfrm>
            <a:custGeom>
              <a:avLst/>
              <a:gdLst/>
              <a:ahLst/>
              <a:rect l="l" t="t" r="r" b="b"/>
              <a:pathLst>
                <a:path w="1475" h="1525">
                  <a:moveTo>
                    <a:pt x="210" y="0"/>
                  </a:moveTo>
                  <a:lnTo>
                    <a:pt x="0" y="1501"/>
                  </a:lnTo>
                  <a:lnTo>
                    <a:pt x="0" y="1503"/>
                  </a:lnTo>
                  <a:lnTo>
                    <a:pt x="192" y="1525"/>
                  </a:lnTo>
                  <a:lnTo>
                    <a:pt x="207" y="1406"/>
                  </a:lnTo>
                  <a:lnTo>
                    <a:pt x="573" y="1453"/>
                  </a:lnTo>
                  <a:lnTo>
                    <a:pt x="570" y="1450"/>
                  </a:lnTo>
                  <a:lnTo>
                    <a:pt x="560" y="1428"/>
                  </a:lnTo>
                  <a:lnTo>
                    <a:pt x="570" y="1412"/>
                  </a:lnTo>
                  <a:lnTo>
                    <a:pt x="568" y="1405"/>
                  </a:lnTo>
                  <a:lnTo>
                    <a:pt x="560" y="1399"/>
                  </a:lnTo>
                  <a:lnTo>
                    <a:pt x="567" y="1395"/>
                  </a:lnTo>
                  <a:lnTo>
                    <a:pt x="1360" y="1471"/>
                  </a:lnTo>
                  <a:lnTo>
                    <a:pt x="1455" y="271"/>
                  </a:lnTo>
                  <a:lnTo>
                    <a:pt x="1468" y="271"/>
                  </a:lnTo>
                  <a:lnTo>
                    <a:pt x="1475" y="143"/>
                  </a:lnTo>
                  <a:lnTo>
                    <a:pt x="210" y="0"/>
                  </a:lnTo>
                  <a:close/>
                </a:path>
              </a:pathLst>
            </a:custGeom>
            <a:solidFill>
              <a:srgbClr val="00547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809800" y="3116160"/>
              <a:ext cx="1041480" cy="1044720"/>
            </a:xfrm>
            <a:custGeom>
              <a:avLst/>
              <a:gdLst/>
              <a:ahLst/>
              <a:rect l="l" t="t" r="r" b="b"/>
              <a:pathLst>
                <a:path w="1475" h="1525">
                  <a:moveTo>
                    <a:pt x="210" y="0"/>
                  </a:moveTo>
                  <a:lnTo>
                    <a:pt x="0" y="1501"/>
                  </a:lnTo>
                  <a:lnTo>
                    <a:pt x="0" y="1503"/>
                  </a:lnTo>
                  <a:lnTo>
                    <a:pt x="192" y="1525"/>
                  </a:lnTo>
                  <a:lnTo>
                    <a:pt x="207" y="1406"/>
                  </a:lnTo>
                  <a:lnTo>
                    <a:pt x="573" y="1453"/>
                  </a:lnTo>
                  <a:lnTo>
                    <a:pt x="570" y="1450"/>
                  </a:lnTo>
                  <a:lnTo>
                    <a:pt x="560" y="1428"/>
                  </a:lnTo>
                  <a:lnTo>
                    <a:pt x="570" y="1412"/>
                  </a:lnTo>
                  <a:lnTo>
                    <a:pt x="568" y="1405"/>
                  </a:lnTo>
                  <a:lnTo>
                    <a:pt x="560" y="1399"/>
                  </a:lnTo>
                  <a:lnTo>
                    <a:pt x="567" y="1395"/>
                  </a:lnTo>
                  <a:lnTo>
                    <a:pt x="1360" y="1471"/>
                  </a:lnTo>
                  <a:lnTo>
                    <a:pt x="1455" y="271"/>
                  </a:lnTo>
                  <a:lnTo>
                    <a:pt x="1468" y="271"/>
                  </a:lnTo>
                  <a:lnTo>
                    <a:pt x="1475" y="143"/>
                  </a:lnTo>
                  <a:lnTo>
                    <a:pt x="210" y="0"/>
                  </a:lnTo>
                  <a:lnTo>
                    <a:pt x="210"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838680" y="1012680"/>
              <a:ext cx="976320" cy="594000"/>
            </a:xfrm>
            <a:custGeom>
              <a:avLst/>
              <a:gdLst/>
              <a:ahLst/>
              <a:rect l="l" t="t" r="r" b="b"/>
              <a:pathLst>
                <a:path w="1385" h="867">
                  <a:moveTo>
                    <a:pt x="0" y="806"/>
                  </a:moveTo>
                  <a:lnTo>
                    <a:pt x="66" y="0"/>
                  </a:lnTo>
                  <a:lnTo>
                    <a:pt x="675" y="45"/>
                  </a:lnTo>
                  <a:lnTo>
                    <a:pt x="1273" y="60"/>
                  </a:lnTo>
                  <a:lnTo>
                    <a:pt x="1275" y="79"/>
                  </a:lnTo>
                  <a:lnTo>
                    <a:pt x="1296" y="143"/>
                  </a:lnTo>
                  <a:lnTo>
                    <a:pt x="1289" y="160"/>
                  </a:lnTo>
                  <a:lnTo>
                    <a:pt x="1282" y="208"/>
                  </a:lnTo>
                  <a:lnTo>
                    <a:pt x="1284" y="282"/>
                  </a:lnTo>
                  <a:lnTo>
                    <a:pt x="1301" y="368"/>
                  </a:lnTo>
                  <a:lnTo>
                    <a:pt x="1323" y="391"/>
                  </a:lnTo>
                  <a:lnTo>
                    <a:pt x="1338" y="468"/>
                  </a:lnTo>
                  <a:lnTo>
                    <a:pt x="1345" y="602"/>
                  </a:lnTo>
                  <a:lnTo>
                    <a:pt x="1351" y="627"/>
                  </a:lnTo>
                  <a:lnTo>
                    <a:pt x="1351" y="676"/>
                  </a:lnTo>
                  <a:lnTo>
                    <a:pt x="1352" y="694"/>
                  </a:lnTo>
                  <a:lnTo>
                    <a:pt x="1385" y="792"/>
                  </a:lnTo>
                  <a:lnTo>
                    <a:pt x="1380" y="827"/>
                  </a:lnTo>
                  <a:lnTo>
                    <a:pt x="1382" y="867"/>
                  </a:lnTo>
                  <a:lnTo>
                    <a:pt x="0" y="806"/>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3838680" y="1012680"/>
              <a:ext cx="976320" cy="594000"/>
            </a:xfrm>
            <a:custGeom>
              <a:avLst/>
              <a:gdLst/>
              <a:ahLst/>
              <a:rect l="l" t="t" r="r" b="b"/>
              <a:pathLst>
                <a:path w="1385" h="867">
                  <a:moveTo>
                    <a:pt x="0" y="806"/>
                  </a:moveTo>
                  <a:lnTo>
                    <a:pt x="66" y="0"/>
                  </a:lnTo>
                  <a:lnTo>
                    <a:pt x="675" y="45"/>
                  </a:lnTo>
                  <a:lnTo>
                    <a:pt x="1273" y="60"/>
                  </a:lnTo>
                  <a:lnTo>
                    <a:pt x="1275" y="79"/>
                  </a:lnTo>
                  <a:lnTo>
                    <a:pt x="1296" y="143"/>
                  </a:lnTo>
                  <a:lnTo>
                    <a:pt x="1289" y="160"/>
                  </a:lnTo>
                  <a:lnTo>
                    <a:pt x="1282" y="208"/>
                  </a:lnTo>
                  <a:lnTo>
                    <a:pt x="1284" y="282"/>
                  </a:lnTo>
                  <a:lnTo>
                    <a:pt x="1301" y="368"/>
                  </a:lnTo>
                  <a:lnTo>
                    <a:pt x="1323" y="391"/>
                  </a:lnTo>
                  <a:lnTo>
                    <a:pt x="1338" y="468"/>
                  </a:lnTo>
                  <a:lnTo>
                    <a:pt x="1345" y="602"/>
                  </a:lnTo>
                  <a:lnTo>
                    <a:pt x="1351" y="627"/>
                  </a:lnTo>
                  <a:lnTo>
                    <a:pt x="1351" y="676"/>
                  </a:lnTo>
                  <a:lnTo>
                    <a:pt x="1352" y="694"/>
                  </a:lnTo>
                  <a:lnTo>
                    <a:pt x="1385" y="792"/>
                  </a:lnTo>
                  <a:lnTo>
                    <a:pt x="1380" y="827"/>
                  </a:lnTo>
                  <a:lnTo>
                    <a:pt x="1382" y="867"/>
                  </a:lnTo>
                  <a:lnTo>
                    <a:pt x="0" y="806"/>
                  </a:lnTo>
                  <a:lnTo>
                    <a:pt x="0" y="806"/>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3789360" y="1565280"/>
              <a:ext cx="1041480" cy="682560"/>
            </a:xfrm>
            <a:custGeom>
              <a:avLst/>
              <a:gdLst/>
              <a:ahLst/>
              <a:rect l="l" t="t" r="r" b="b"/>
              <a:pathLst>
                <a:path w="1475" h="996">
                  <a:moveTo>
                    <a:pt x="0" y="784"/>
                  </a:moveTo>
                  <a:lnTo>
                    <a:pt x="46" y="260"/>
                  </a:lnTo>
                  <a:lnTo>
                    <a:pt x="69" y="0"/>
                  </a:lnTo>
                  <a:lnTo>
                    <a:pt x="1450" y="62"/>
                  </a:lnTo>
                  <a:lnTo>
                    <a:pt x="1452" y="83"/>
                  </a:lnTo>
                  <a:lnTo>
                    <a:pt x="1440" y="110"/>
                  </a:lnTo>
                  <a:lnTo>
                    <a:pt x="1405" y="144"/>
                  </a:lnTo>
                  <a:lnTo>
                    <a:pt x="1408" y="172"/>
                  </a:lnTo>
                  <a:lnTo>
                    <a:pt x="1474" y="231"/>
                  </a:lnTo>
                  <a:lnTo>
                    <a:pt x="1475" y="716"/>
                  </a:lnTo>
                  <a:lnTo>
                    <a:pt x="1465" y="715"/>
                  </a:lnTo>
                  <a:lnTo>
                    <a:pt x="1447" y="718"/>
                  </a:lnTo>
                  <a:lnTo>
                    <a:pt x="1456" y="735"/>
                  </a:lnTo>
                  <a:lnTo>
                    <a:pt x="1464" y="750"/>
                  </a:lnTo>
                  <a:lnTo>
                    <a:pt x="1454" y="775"/>
                  </a:lnTo>
                  <a:lnTo>
                    <a:pt x="1466" y="790"/>
                  </a:lnTo>
                  <a:lnTo>
                    <a:pt x="1474" y="829"/>
                  </a:lnTo>
                  <a:lnTo>
                    <a:pt x="1459" y="843"/>
                  </a:lnTo>
                  <a:lnTo>
                    <a:pt x="1465" y="867"/>
                  </a:lnTo>
                  <a:lnTo>
                    <a:pt x="1446" y="912"/>
                  </a:lnTo>
                  <a:lnTo>
                    <a:pt x="1465" y="964"/>
                  </a:lnTo>
                  <a:lnTo>
                    <a:pt x="1471" y="989"/>
                  </a:lnTo>
                  <a:lnTo>
                    <a:pt x="1468" y="996"/>
                  </a:lnTo>
                  <a:lnTo>
                    <a:pt x="1427" y="967"/>
                  </a:lnTo>
                  <a:lnTo>
                    <a:pt x="1342" y="912"/>
                  </a:lnTo>
                  <a:lnTo>
                    <a:pt x="1321" y="904"/>
                  </a:lnTo>
                  <a:lnTo>
                    <a:pt x="1286" y="904"/>
                  </a:lnTo>
                  <a:lnTo>
                    <a:pt x="1258" y="926"/>
                  </a:lnTo>
                  <a:lnTo>
                    <a:pt x="1231" y="933"/>
                  </a:lnTo>
                  <a:lnTo>
                    <a:pt x="1203" y="926"/>
                  </a:lnTo>
                  <a:lnTo>
                    <a:pt x="1188" y="891"/>
                  </a:lnTo>
                  <a:lnTo>
                    <a:pt x="1166" y="876"/>
                  </a:lnTo>
                  <a:lnTo>
                    <a:pt x="1138" y="883"/>
                  </a:lnTo>
                  <a:lnTo>
                    <a:pt x="1103" y="883"/>
                  </a:lnTo>
                  <a:lnTo>
                    <a:pt x="1074" y="841"/>
                  </a:lnTo>
                  <a:lnTo>
                    <a:pt x="0" y="784"/>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3789360" y="1565280"/>
              <a:ext cx="1041480" cy="682560"/>
            </a:xfrm>
            <a:custGeom>
              <a:avLst/>
              <a:gdLst/>
              <a:ahLst/>
              <a:rect l="l" t="t" r="r" b="b"/>
              <a:pathLst>
                <a:path w="1475" h="996">
                  <a:moveTo>
                    <a:pt x="0" y="784"/>
                  </a:moveTo>
                  <a:lnTo>
                    <a:pt x="46" y="260"/>
                  </a:lnTo>
                  <a:lnTo>
                    <a:pt x="69" y="0"/>
                  </a:lnTo>
                  <a:lnTo>
                    <a:pt x="1450" y="62"/>
                  </a:lnTo>
                  <a:lnTo>
                    <a:pt x="1452" y="83"/>
                  </a:lnTo>
                  <a:lnTo>
                    <a:pt x="1440" y="110"/>
                  </a:lnTo>
                  <a:lnTo>
                    <a:pt x="1405" y="144"/>
                  </a:lnTo>
                  <a:lnTo>
                    <a:pt x="1408" y="172"/>
                  </a:lnTo>
                  <a:lnTo>
                    <a:pt x="1474" y="231"/>
                  </a:lnTo>
                  <a:lnTo>
                    <a:pt x="1475" y="716"/>
                  </a:lnTo>
                  <a:lnTo>
                    <a:pt x="1465" y="715"/>
                  </a:lnTo>
                  <a:lnTo>
                    <a:pt x="1447" y="718"/>
                  </a:lnTo>
                  <a:lnTo>
                    <a:pt x="1456" y="735"/>
                  </a:lnTo>
                  <a:lnTo>
                    <a:pt x="1464" y="750"/>
                  </a:lnTo>
                  <a:lnTo>
                    <a:pt x="1454" y="775"/>
                  </a:lnTo>
                  <a:lnTo>
                    <a:pt x="1466" y="790"/>
                  </a:lnTo>
                  <a:lnTo>
                    <a:pt x="1474" y="829"/>
                  </a:lnTo>
                  <a:lnTo>
                    <a:pt x="1459" y="843"/>
                  </a:lnTo>
                  <a:lnTo>
                    <a:pt x="1465" y="867"/>
                  </a:lnTo>
                  <a:lnTo>
                    <a:pt x="1446" y="912"/>
                  </a:lnTo>
                  <a:lnTo>
                    <a:pt x="1465" y="964"/>
                  </a:lnTo>
                  <a:lnTo>
                    <a:pt x="1471" y="989"/>
                  </a:lnTo>
                  <a:lnTo>
                    <a:pt x="1468" y="996"/>
                  </a:lnTo>
                  <a:lnTo>
                    <a:pt x="1427" y="967"/>
                  </a:lnTo>
                  <a:lnTo>
                    <a:pt x="1342" y="912"/>
                  </a:lnTo>
                  <a:lnTo>
                    <a:pt x="1321" y="904"/>
                  </a:lnTo>
                  <a:lnTo>
                    <a:pt x="1286" y="904"/>
                  </a:lnTo>
                  <a:lnTo>
                    <a:pt x="1258" y="926"/>
                  </a:lnTo>
                  <a:lnTo>
                    <a:pt x="1231" y="933"/>
                  </a:lnTo>
                  <a:lnTo>
                    <a:pt x="1203" y="926"/>
                  </a:lnTo>
                  <a:lnTo>
                    <a:pt x="1188" y="891"/>
                  </a:lnTo>
                  <a:lnTo>
                    <a:pt x="1166" y="876"/>
                  </a:lnTo>
                  <a:lnTo>
                    <a:pt x="1138" y="883"/>
                  </a:lnTo>
                  <a:lnTo>
                    <a:pt x="1103" y="883"/>
                  </a:lnTo>
                  <a:lnTo>
                    <a:pt x="1074" y="841"/>
                  </a:lnTo>
                  <a:lnTo>
                    <a:pt x="0" y="784"/>
                  </a:lnTo>
                  <a:lnTo>
                    <a:pt x="0" y="784"/>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757680" y="2101680"/>
              <a:ext cx="1227240" cy="592200"/>
            </a:xfrm>
            <a:custGeom>
              <a:avLst/>
              <a:gdLst/>
              <a:ahLst/>
              <a:rect l="l" t="t" r="r" b="b"/>
              <a:pathLst>
                <a:path w="1740" h="864">
                  <a:moveTo>
                    <a:pt x="0" y="533"/>
                  </a:moveTo>
                  <a:lnTo>
                    <a:pt x="44" y="0"/>
                  </a:lnTo>
                  <a:lnTo>
                    <a:pt x="1117" y="57"/>
                  </a:lnTo>
                  <a:lnTo>
                    <a:pt x="1147" y="99"/>
                  </a:lnTo>
                  <a:lnTo>
                    <a:pt x="1182" y="99"/>
                  </a:lnTo>
                  <a:lnTo>
                    <a:pt x="1210" y="91"/>
                  </a:lnTo>
                  <a:lnTo>
                    <a:pt x="1231" y="106"/>
                  </a:lnTo>
                  <a:lnTo>
                    <a:pt x="1247" y="142"/>
                  </a:lnTo>
                  <a:lnTo>
                    <a:pt x="1274" y="148"/>
                  </a:lnTo>
                  <a:lnTo>
                    <a:pt x="1302" y="142"/>
                  </a:lnTo>
                  <a:lnTo>
                    <a:pt x="1330" y="120"/>
                  </a:lnTo>
                  <a:lnTo>
                    <a:pt x="1365" y="120"/>
                  </a:lnTo>
                  <a:lnTo>
                    <a:pt x="1386" y="127"/>
                  </a:lnTo>
                  <a:lnTo>
                    <a:pt x="1471" y="183"/>
                  </a:lnTo>
                  <a:lnTo>
                    <a:pt x="1512" y="211"/>
                  </a:lnTo>
                  <a:lnTo>
                    <a:pt x="1515" y="240"/>
                  </a:lnTo>
                  <a:lnTo>
                    <a:pt x="1542" y="253"/>
                  </a:lnTo>
                  <a:lnTo>
                    <a:pt x="1542" y="275"/>
                  </a:lnTo>
                  <a:lnTo>
                    <a:pt x="1529" y="310"/>
                  </a:lnTo>
                  <a:lnTo>
                    <a:pt x="1549" y="332"/>
                  </a:lnTo>
                  <a:lnTo>
                    <a:pt x="1565" y="375"/>
                  </a:lnTo>
                  <a:lnTo>
                    <a:pt x="1585" y="395"/>
                  </a:lnTo>
                  <a:lnTo>
                    <a:pt x="1576" y="417"/>
                  </a:lnTo>
                  <a:lnTo>
                    <a:pt x="1585" y="438"/>
                  </a:lnTo>
                  <a:lnTo>
                    <a:pt x="1614" y="459"/>
                  </a:lnTo>
                  <a:lnTo>
                    <a:pt x="1620" y="482"/>
                  </a:lnTo>
                  <a:lnTo>
                    <a:pt x="1614" y="502"/>
                  </a:lnTo>
                  <a:lnTo>
                    <a:pt x="1607" y="543"/>
                  </a:lnTo>
                  <a:lnTo>
                    <a:pt x="1633" y="558"/>
                  </a:lnTo>
                  <a:lnTo>
                    <a:pt x="1641" y="579"/>
                  </a:lnTo>
                  <a:lnTo>
                    <a:pt x="1627" y="600"/>
                  </a:lnTo>
                  <a:lnTo>
                    <a:pt x="1633" y="622"/>
                  </a:lnTo>
                  <a:lnTo>
                    <a:pt x="1649" y="644"/>
                  </a:lnTo>
                  <a:lnTo>
                    <a:pt x="1641" y="664"/>
                  </a:lnTo>
                  <a:lnTo>
                    <a:pt x="1649" y="691"/>
                  </a:lnTo>
                  <a:lnTo>
                    <a:pt x="1658" y="704"/>
                  </a:lnTo>
                  <a:lnTo>
                    <a:pt x="1671" y="727"/>
                  </a:lnTo>
                  <a:lnTo>
                    <a:pt x="1690" y="750"/>
                  </a:lnTo>
                  <a:lnTo>
                    <a:pt x="1698" y="784"/>
                  </a:lnTo>
                  <a:lnTo>
                    <a:pt x="1726" y="819"/>
                  </a:lnTo>
                  <a:lnTo>
                    <a:pt x="1740" y="825"/>
                  </a:lnTo>
                  <a:lnTo>
                    <a:pt x="1732" y="857"/>
                  </a:lnTo>
                  <a:lnTo>
                    <a:pt x="1737" y="864"/>
                  </a:lnTo>
                  <a:lnTo>
                    <a:pt x="382" y="833"/>
                  </a:lnTo>
                  <a:lnTo>
                    <a:pt x="397" y="565"/>
                  </a:lnTo>
                  <a:lnTo>
                    <a:pt x="1" y="533"/>
                  </a:lnTo>
                  <a:lnTo>
                    <a:pt x="0" y="533"/>
                  </a:lnTo>
                  <a:close/>
                </a:path>
              </a:pathLst>
            </a:custGeom>
            <a:solidFill>
              <a:srgbClr val="0099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757680" y="2101680"/>
              <a:ext cx="1227240" cy="592200"/>
            </a:xfrm>
            <a:custGeom>
              <a:avLst/>
              <a:gdLst/>
              <a:ahLst/>
              <a:rect l="l" t="t" r="r" b="b"/>
              <a:pathLst>
                <a:path w="1740" h="864">
                  <a:moveTo>
                    <a:pt x="0" y="533"/>
                  </a:moveTo>
                  <a:lnTo>
                    <a:pt x="44" y="0"/>
                  </a:lnTo>
                  <a:lnTo>
                    <a:pt x="1117" y="57"/>
                  </a:lnTo>
                  <a:lnTo>
                    <a:pt x="1147" y="99"/>
                  </a:lnTo>
                  <a:lnTo>
                    <a:pt x="1182" y="99"/>
                  </a:lnTo>
                  <a:lnTo>
                    <a:pt x="1210" y="91"/>
                  </a:lnTo>
                  <a:lnTo>
                    <a:pt x="1231" y="106"/>
                  </a:lnTo>
                  <a:lnTo>
                    <a:pt x="1247" y="142"/>
                  </a:lnTo>
                  <a:lnTo>
                    <a:pt x="1274" y="148"/>
                  </a:lnTo>
                  <a:lnTo>
                    <a:pt x="1302" y="142"/>
                  </a:lnTo>
                  <a:lnTo>
                    <a:pt x="1330" y="120"/>
                  </a:lnTo>
                  <a:lnTo>
                    <a:pt x="1365" y="120"/>
                  </a:lnTo>
                  <a:lnTo>
                    <a:pt x="1386" y="127"/>
                  </a:lnTo>
                  <a:lnTo>
                    <a:pt x="1471" y="183"/>
                  </a:lnTo>
                  <a:lnTo>
                    <a:pt x="1512" y="211"/>
                  </a:lnTo>
                  <a:lnTo>
                    <a:pt x="1515" y="240"/>
                  </a:lnTo>
                  <a:lnTo>
                    <a:pt x="1542" y="253"/>
                  </a:lnTo>
                  <a:lnTo>
                    <a:pt x="1542" y="275"/>
                  </a:lnTo>
                  <a:lnTo>
                    <a:pt x="1529" y="310"/>
                  </a:lnTo>
                  <a:lnTo>
                    <a:pt x="1549" y="332"/>
                  </a:lnTo>
                  <a:lnTo>
                    <a:pt x="1565" y="375"/>
                  </a:lnTo>
                  <a:lnTo>
                    <a:pt x="1585" y="395"/>
                  </a:lnTo>
                  <a:lnTo>
                    <a:pt x="1576" y="417"/>
                  </a:lnTo>
                  <a:lnTo>
                    <a:pt x="1585" y="438"/>
                  </a:lnTo>
                  <a:lnTo>
                    <a:pt x="1614" y="459"/>
                  </a:lnTo>
                  <a:lnTo>
                    <a:pt x="1620" y="482"/>
                  </a:lnTo>
                  <a:lnTo>
                    <a:pt x="1614" y="502"/>
                  </a:lnTo>
                  <a:lnTo>
                    <a:pt x="1607" y="543"/>
                  </a:lnTo>
                  <a:lnTo>
                    <a:pt x="1633" y="558"/>
                  </a:lnTo>
                  <a:lnTo>
                    <a:pt x="1641" y="579"/>
                  </a:lnTo>
                  <a:lnTo>
                    <a:pt x="1627" y="600"/>
                  </a:lnTo>
                  <a:lnTo>
                    <a:pt x="1633" y="622"/>
                  </a:lnTo>
                  <a:lnTo>
                    <a:pt x="1649" y="644"/>
                  </a:lnTo>
                  <a:lnTo>
                    <a:pt x="1641" y="664"/>
                  </a:lnTo>
                  <a:lnTo>
                    <a:pt x="1649" y="691"/>
                  </a:lnTo>
                  <a:lnTo>
                    <a:pt x="1658" y="704"/>
                  </a:lnTo>
                  <a:lnTo>
                    <a:pt x="1671" y="727"/>
                  </a:lnTo>
                  <a:lnTo>
                    <a:pt x="1690" y="750"/>
                  </a:lnTo>
                  <a:lnTo>
                    <a:pt x="1698" y="784"/>
                  </a:lnTo>
                  <a:lnTo>
                    <a:pt x="1726" y="819"/>
                  </a:lnTo>
                  <a:lnTo>
                    <a:pt x="1740" y="825"/>
                  </a:lnTo>
                  <a:lnTo>
                    <a:pt x="1732" y="857"/>
                  </a:lnTo>
                  <a:lnTo>
                    <a:pt x="1737" y="864"/>
                  </a:lnTo>
                  <a:lnTo>
                    <a:pt x="382" y="833"/>
                  </a:lnTo>
                  <a:lnTo>
                    <a:pt x="397" y="565"/>
                  </a:lnTo>
                  <a:lnTo>
                    <a:pt x="1" y="533"/>
                  </a:lnTo>
                  <a:lnTo>
                    <a:pt x="0" y="533"/>
                  </a:lnTo>
                  <a:lnTo>
                    <a:pt x="0" y="533"/>
                  </a:lnTo>
                </a:path>
              </a:pathLst>
            </a:custGeom>
            <a:solidFill>
              <a:srgbClr val="ccffff"/>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3994200" y="2670120"/>
              <a:ext cx="1101600" cy="574560"/>
            </a:xfrm>
            <a:custGeom>
              <a:avLst/>
              <a:gdLst/>
              <a:ahLst/>
              <a:rect l="l" t="t" r="r" b="b"/>
              <a:pathLst>
                <a:path w="1561" h="837">
                  <a:moveTo>
                    <a:pt x="46" y="0"/>
                  </a:moveTo>
                  <a:lnTo>
                    <a:pt x="1402" y="31"/>
                  </a:lnTo>
                  <a:lnTo>
                    <a:pt x="1490" y="97"/>
                  </a:lnTo>
                  <a:lnTo>
                    <a:pt x="1463" y="129"/>
                  </a:lnTo>
                  <a:lnTo>
                    <a:pt x="1457" y="161"/>
                  </a:lnTo>
                  <a:lnTo>
                    <a:pt x="1471" y="181"/>
                  </a:lnTo>
                  <a:lnTo>
                    <a:pt x="1492" y="190"/>
                  </a:lnTo>
                  <a:lnTo>
                    <a:pt x="1505" y="234"/>
                  </a:lnTo>
                  <a:lnTo>
                    <a:pt x="1528" y="250"/>
                  </a:lnTo>
                  <a:lnTo>
                    <a:pt x="1547" y="256"/>
                  </a:lnTo>
                  <a:lnTo>
                    <a:pt x="1555" y="260"/>
                  </a:lnTo>
                  <a:lnTo>
                    <a:pt x="1561" y="837"/>
                  </a:lnTo>
                  <a:lnTo>
                    <a:pt x="0" y="803"/>
                  </a:lnTo>
                  <a:lnTo>
                    <a:pt x="46" y="0"/>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994200" y="2670120"/>
              <a:ext cx="1101600" cy="574560"/>
            </a:xfrm>
            <a:custGeom>
              <a:avLst/>
              <a:gdLst/>
              <a:ahLst/>
              <a:rect l="l" t="t" r="r" b="b"/>
              <a:pathLst>
                <a:path w="1561" h="837">
                  <a:moveTo>
                    <a:pt x="46" y="0"/>
                  </a:moveTo>
                  <a:lnTo>
                    <a:pt x="1402" y="31"/>
                  </a:lnTo>
                  <a:lnTo>
                    <a:pt x="1490" y="97"/>
                  </a:lnTo>
                  <a:lnTo>
                    <a:pt x="1463" y="129"/>
                  </a:lnTo>
                  <a:lnTo>
                    <a:pt x="1457" y="161"/>
                  </a:lnTo>
                  <a:lnTo>
                    <a:pt x="1471" y="181"/>
                  </a:lnTo>
                  <a:lnTo>
                    <a:pt x="1492" y="190"/>
                  </a:lnTo>
                  <a:lnTo>
                    <a:pt x="1505" y="234"/>
                  </a:lnTo>
                  <a:lnTo>
                    <a:pt x="1528" y="250"/>
                  </a:lnTo>
                  <a:lnTo>
                    <a:pt x="1547" y="256"/>
                  </a:lnTo>
                  <a:lnTo>
                    <a:pt x="1555" y="260"/>
                  </a:lnTo>
                  <a:lnTo>
                    <a:pt x="1561" y="837"/>
                  </a:lnTo>
                  <a:lnTo>
                    <a:pt x="0" y="803"/>
                  </a:lnTo>
                  <a:lnTo>
                    <a:pt x="46" y="0"/>
                  </a:lnTo>
                  <a:lnTo>
                    <a:pt x="46"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3844800" y="3213000"/>
              <a:ext cx="1279800" cy="642960"/>
            </a:xfrm>
            <a:custGeom>
              <a:avLst/>
              <a:gdLst/>
              <a:ahLst/>
              <a:rect l="l" t="t" r="r" b="b"/>
              <a:pathLst>
                <a:path w="1816" h="939">
                  <a:moveTo>
                    <a:pt x="1775" y="45"/>
                  </a:moveTo>
                  <a:lnTo>
                    <a:pt x="213" y="12"/>
                  </a:lnTo>
                  <a:lnTo>
                    <a:pt x="8" y="0"/>
                  </a:lnTo>
                  <a:lnTo>
                    <a:pt x="0" y="128"/>
                  </a:lnTo>
                  <a:lnTo>
                    <a:pt x="635" y="166"/>
                  </a:lnTo>
                  <a:lnTo>
                    <a:pt x="618" y="681"/>
                  </a:lnTo>
                  <a:lnTo>
                    <a:pt x="640" y="684"/>
                  </a:lnTo>
                  <a:lnTo>
                    <a:pt x="652" y="692"/>
                  </a:lnTo>
                  <a:lnTo>
                    <a:pt x="682" y="735"/>
                  </a:lnTo>
                  <a:lnTo>
                    <a:pt x="697" y="741"/>
                  </a:lnTo>
                  <a:lnTo>
                    <a:pt x="742" y="738"/>
                  </a:lnTo>
                  <a:lnTo>
                    <a:pt x="755" y="723"/>
                  </a:lnTo>
                  <a:lnTo>
                    <a:pt x="780" y="738"/>
                  </a:lnTo>
                  <a:lnTo>
                    <a:pt x="789" y="749"/>
                  </a:lnTo>
                  <a:lnTo>
                    <a:pt x="787" y="760"/>
                  </a:lnTo>
                  <a:lnTo>
                    <a:pt x="798" y="781"/>
                  </a:lnTo>
                  <a:lnTo>
                    <a:pt x="804" y="785"/>
                  </a:lnTo>
                  <a:lnTo>
                    <a:pt x="862" y="795"/>
                  </a:lnTo>
                  <a:lnTo>
                    <a:pt x="883" y="806"/>
                  </a:lnTo>
                  <a:lnTo>
                    <a:pt x="895" y="806"/>
                  </a:lnTo>
                  <a:lnTo>
                    <a:pt x="901" y="801"/>
                  </a:lnTo>
                  <a:lnTo>
                    <a:pt x="918" y="796"/>
                  </a:lnTo>
                  <a:lnTo>
                    <a:pt x="930" y="817"/>
                  </a:lnTo>
                  <a:lnTo>
                    <a:pt x="954" y="829"/>
                  </a:lnTo>
                  <a:lnTo>
                    <a:pt x="969" y="810"/>
                  </a:lnTo>
                  <a:lnTo>
                    <a:pt x="1025" y="817"/>
                  </a:lnTo>
                  <a:lnTo>
                    <a:pt x="1026" y="827"/>
                  </a:lnTo>
                  <a:lnTo>
                    <a:pt x="1048" y="849"/>
                  </a:lnTo>
                  <a:lnTo>
                    <a:pt x="1057" y="852"/>
                  </a:lnTo>
                  <a:lnTo>
                    <a:pt x="1057" y="880"/>
                  </a:lnTo>
                  <a:lnTo>
                    <a:pt x="1099" y="889"/>
                  </a:lnTo>
                  <a:lnTo>
                    <a:pt x="1107" y="861"/>
                  </a:lnTo>
                  <a:lnTo>
                    <a:pt x="1124" y="857"/>
                  </a:lnTo>
                  <a:lnTo>
                    <a:pt x="1177" y="894"/>
                  </a:lnTo>
                  <a:lnTo>
                    <a:pt x="1186" y="894"/>
                  </a:lnTo>
                  <a:lnTo>
                    <a:pt x="1209" y="879"/>
                  </a:lnTo>
                  <a:lnTo>
                    <a:pt x="1227" y="879"/>
                  </a:lnTo>
                  <a:lnTo>
                    <a:pt x="1229" y="889"/>
                  </a:lnTo>
                  <a:lnTo>
                    <a:pt x="1223" y="910"/>
                  </a:lnTo>
                  <a:lnTo>
                    <a:pt x="1233" y="926"/>
                  </a:lnTo>
                  <a:lnTo>
                    <a:pt x="1246" y="916"/>
                  </a:lnTo>
                  <a:lnTo>
                    <a:pt x="1244" y="902"/>
                  </a:lnTo>
                  <a:lnTo>
                    <a:pt x="1261" y="880"/>
                  </a:lnTo>
                  <a:lnTo>
                    <a:pt x="1284" y="868"/>
                  </a:lnTo>
                  <a:lnTo>
                    <a:pt x="1290" y="868"/>
                  </a:lnTo>
                  <a:lnTo>
                    <a:pt x="1293" y="886"/>
                  </a:lnTo>
                  <a:lnTo>
                    <a:pt x="1318" y="894"/>
                  </a:lnTo>
                  <a:lnTo>
                    <a:pt x="1328" y="894"/>
                  </a:lnTo>
                  <a:lnTo>
                    <a:pt x="1338" y="883"/>
                  </a:lnTo>
                  <a:lnTo>
                    <a:pt x="1353" y="884"/>
                  </a:lnTo>
                  <a:lnTo>
                    <a:pt x="1357" y="889"/>
                  </a:lnTo>
                  <a:lnTo>
                    <a:pt x="1356" y="894"/>
                  </a:lnTo>
                  <a:lnTo>
                    <a:pt x="1379" y="904"/>
                  </a:lnTo>
                  <a:lnTo>
                    <a:pt x="1413" y="930"/>
                  </a:lnTo>
                  <a:lnTo>
                    <a:pt x="1445" y="899"/>
                  </a:lnTo>
                  <a:lnTo>
                    <a:pt x="1460" y="894"/>
                  </a:lnTo>
                  <a:lnTo>
                    <a:pt x="1508" y="890"/>
                  </a:lnTo>
                  <a:lnTo>
                    <a:pt x="1547" y="875"/>
                  </a:lnTo>
                  <a:lnTo>
                    <a:pt x="1561" y="873"/>
                  </a:lnTo>
                  <a:lnTo>
                    <a:pt x="1580" y="873"/>
                  </a:lnTo>
                  <a:lnTo>
                    <a:pt x="1627" y="880"/>
                  </a:lnTo>
                  <a:lnTo>
                    <a:pt x="1659" y="871"/>
                  </a:lnTo>
                  <a:lnTo>
                    <a:pt x="1666" y="863"/>
                  </a:lnTo>
                  <a:lnTo>
                    <a:pt x="1770" y="921"/>
                  </a:lnTo>
                  <a:lnTo>
                    <a:pt x="1791" y="926"/>
                  </a:lnTo>
                  <a:lnTo>
                    <a:pt x="1800" y="936"/>
                  </a:lnTo>
                  <a:lnTo>
                    <a:pt x="1810" y="939"/>
                  </a:lnTo>
                  <a:lnTo>
                    <a:pt x="1816" y="470"/>
                  </a:lnTo>
                  <a:lnTo>
                    <a:pt x="1776" y="177"/>
                  </a:lnTo>
                  <a:lnTo>
                    <a:pt x="1775" y="45"/>
                  </a:lnTo>
                  <a:close/>
                </a:path>
              </a:pathLst>
            </a:custGeom>
            <a:solidFill>
              <a:srgbClr val="00152a"/>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3844800" y="3213000"/>
              <a:ext cx="1279800" cy="642960"/>
            </a:xfrm>
            <a:custGeom>
              <a:avLst/>
              <a:gdLst/>
              <a:ahLst/>
              <a:rect l="l" t="t" r="r" b="b"/>
              <a:pathLst>
                <a:path w="1816" h="939">
                  <a:moveTo>
                    <a:pt x="1775" y="45"/>
                  </a:moveTo>
                  <a:lnTo>
                    <a:pt x="213" y="12"/>
                  </a:lnTo>
                  <a:lnTo>
                    <a:pt x="8" y="0"/>
                  </a:lnTo>
                  <a:lnTo>
                    <a:pt x="0" y="128"/>
                  </a:lnTo>
                  <a:lnTo>
                    <a:pt x="635" y="166"/>
                  </a:lnTo>
                  <a:lnTo>
                    <a:pt x="618" y="681"/>
                  </a:lnTo>
                  <a:lnTo>
                    <a:pt x="640" y="684"/>
                  </a:lnTo>
                  <a:lnTo>
                    <a:pt x="652" y="692"/>
                  </a:lnTo>
                  <a:lnTo>
                    <a:pt x="682" y="735"/>
                  </a:lnTo>
                  <a:lnTo>
                    <a:pt x="697" y="741"/>
                  </a:lnTo>
                  <a:lnTo>
                    <a:pt x="742" y="738"/>
                  </a:lnTo>
                  <a:lnTo>
                    <a:pt x="755" y="723"/>
                  </a:lnTo>
                  <a:lnTo>
                    <a:pt x="780" y="738"/>
                  </a:lnTo>
                  <a:lnTo>
                    <a:pt x="789" y="749"/>
                  </a:lnTo>
                  <a:lnTo>
                    <a:pt x="787" y="760"/>
                  </a:lnTo>
                  <a:lnTo>
                    <a:pt x="798" y="781"/>
                  </a:lnTo>
                  <a:lnTo>
                    <a:pt x="804" y="785"/>
                  </a:lnTo>
                  <a:lnTo>
                    <a:pt x="862" y="795"/>
                  </a:lnTo>
                  <a:lnTo>
                    <a:pt x="883" y="806"/>
                  </a:lnTo>
                  <a:lnTo>
                    <a:pt x="895" y="806"/>
                  </a:lnTo>
                  <a:lnTo>
                    <a:pt x="901" y="801"/>
                  </a:lnTo>
                  <a:lnTo>
                    <a:pt x="918" y="796"/>
                  </a:lnTo>
                  <a:lnTo>
                    <a:pt x="930" y="817"/>
                  </a:lnTo>
                  <a:lnTo>
                    <a:pt x="954" y="829"/>
                  </a:lnTo>
                  <a:lnTo>
                    <a:pt x="969" y="810"/>
                  </a:lnTo>
                  <a:lnTo>
                    <a:pt x="1025" y="817"/>
                  </a:lnTo>
                  <a:lnTo>
                    <a:pt x="1026" y="827"/>
                  </a:lnTo>
                  <a:lnTo>
                    <a:pt x="1048" y="849"/>
                  </a:lnTo>
                  <a:lnTo>
                    <a:pt x="1057" y="852"/>
                  </a:lnTo>
                  <a:lnTo>
                    <a:pt x="1057" y="880"/>
                  </a:lnTo>
                  <a:lnTo>
                    <a:pt x="1099" y="889"/>
                  </a:lnTo>
                  <a:lnTo>
                    <a:pt x="1107" y="861"/>
                  </a:lnTo>
                  <a:lnTo>
                    <a:pt x="1124" y="857"/>
                  </a:lnTo>
                  <a:lnTo>
                    <a:pt x="1177" y="894"/>
                  </a:lnTo>
                  <a:lnTo>
                    <a:pt x="1186" y="894"/>
                  </a:lnTo>
                  <a:lnTo>
                    <a:pt x="1209" y="879"/>
                  </a:lnTo>
                  <a:lnTo>
                    <a:pt x="1227" y="879"/>
                  </a:lnTo>
                  <a:lnTo>
                    <a:pt x="1229" y="889"/>
                  </a:lnTo>
                  <a:lnTo>
                    <a:pt x="1223" y="910"/>
                  </a:lnTo>
                  <a:lnTo>
                    <a:pt x="1233" y="926"/>
                  </a:lnTo>
                  <a:lnTo>
                    <a:pt x="1246" y="916"/>
                  </a:lnTo>
                  <a:lnTo>
                    <a:pt x="1244" y="902"/>
                  </a:lnTo>
                  <a:lnTo>
                    <a:pt x="1261" y="880"/>
                  </a:lnTo>
                  <a:lnTo>
                    <a:pt x="1284" y="868"/>
                  </a:lnTo>
                  <a:lnTo>
                    <a:pt x="1290" y="868"/>
                  </a:lnTo>
                  <a:lnTo>
                    <a:pt x="1293" y="886"/>
                  </a:lnTo>
                  <a:lnTo>
                    <a:pt x="1318" y="894"/>
                  </a:lnTo>
                  <a:lnTo>
                    <a:pt x="1328" y="894"/>
                  </a:lnTo>
                  <a:lnTo>
                    <a:pt x="1338" y="883"/>
                  </a:lnTo>
                  <a:lnTo>
                    <a:pt x="1353" y="884"/>
                  </a:lnTo>
                  <a:lnTo>
                    <a:pt x="1357" y="889"/>
                  </a:lnTo>
                  <a:lnTo>
                    <a:pt x="1356" y="894"/>
                  </a:lnTo>
                  <a:lnTo>
                    <a:pt x="1379" y="904"/>
                  </a:lnTo>
                  <a:lnTo>
                    <a:pt x="1413" y="930"/>
                  </a:lnTo>
                  <a:lnTo>
                    <a:pt x="1445" y="899"/>
                  </a:lnTo>
                  <a:lnTo>
                    <a:pt x="1460" y="894"/>
                  </a:lnTo>
                  <a:lnTo>
                    <a:pt x="1508" y="890"/>
                  </a:lnTo>
                  <a:lnTo>
                    <a:pt x="1547" y="875"/>
                  </a:lnTo>
                  <a:lnTo>
                    <a:pt x="1561" y="873"/>
                  </a:lnTo>
                  <a:lnTo>
                    <a:pt x="1580" y="873"/>
                  </a:lnTo>
                  <a:lnTo>
                    <a:pt x="1627" y="880"/>
                  </a:lnTo>
                  <a:lnTo>
                    <a:pt x="1659" y="871"/>
                  </a:lnTo>
                  <a:lnTo>
                    <a:pt x="1666" y="863"/>
                  </a:lnTo>
                  <a:lnTo>
                    <a:pt x="1770" y="921"/>
                  </a:lnTo>
                  <a:lnTo>
                    <a:pt x="1791" y="926"/>
                  </a:lnTo>
                  <a:lnTo>
                    <a:pt x="1800" y="936"/>
                  </a:lnTo>
                  <a:lnTo>
                    <a:pt x="1810" y="939"/>
                  </a:lnTo>
                  <a:lnTo>
                    <a:pt x="1816" y="470"/>
                  </a:lnTo>
                  <a:lnTo>
                    <a:pt x="1776" y="177"/>
                  </a:lnTo>
                  <a:lnTo>
                    <a:pt x="1775" y="45"/>
                  </a:lnTo>
                  <a:lnTo>
                    <a:pt x="1775" y="45"/>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05080" y="3301920"/>
              <a:ext cx="2079720" cy="1971720"/>
            </a:xfrm>
            <a:custGeom>
              <a:avLst/>
              <a:gdLst/>
              <a:ahLst/>
              <a:rect l="l" t="t" r="r" b="b"/>
              <a:pathLst>
                <a:path w="2950" h="2880">
                  <a:moveTo>
                    <a:pt x="2717" y="811"/>
                  </a:moveTo>
                  <a:lnTo>
                    <a:pt x="2707" y="807"/>
                  </a:lnTo>
                  <a:lnTo>
                    <a:pt x="2698" y="797"/>
                  </a:lnTo>
                  <a:lnTo>
                    <a:pt x="2678" y="792"/>
                  </a:lnTo>
                  <a:lnTo>
                    <a:pt x="2574" y="735"/>
                  </a:lnTo>
                  <a:lnTo>
                    <a:pt x="2566" y="743"/>
                  </a:lnTo>
                  <a:lnTo>
                    <a:pt x="2535" y="752"/>
                  </a:lnTo>
                  <a:lnTo>
                    <a:pt x="2488" y="744"/>
                  </a:lnTo>
                  <a:lnTo>
                    <a:pt x="2468" y="744"/>
                  </a:lnTo>
                  <a:lnTo>
                    <a:pt x="2455" y="747"/>
                  </a:lnTo>
                  <a:lnTo>
                    <a:pt x="2415" y="762"/>
                  </a:lnTo>
                  <a:lnTo>
                    <a:pt x="2368" y="765"/>
                  </a:lnTo>
                  <a:lnTo>
                    <a:pt x="2352" y="771"/>
                  </a:lnTo>
                  <a:lnTo>
                    <a:pt x="2321" y="802"/>
                  </a:lnTo>
                  <a:lnTo>
                    <a:pt x="2287" y="775"/>
                  </a:lnTo>
                  <a:lnTo>
                    <a:pt x="2264" y="765"/>
                  </a:lnTo>
                  <a:lnTo>
                    <a:pt x="2264" y="760"/>
                  </a:lnTo>
                  <a:lnTo>
                    <a:pt x="2260" y="756"/>
                  </a:lnTo>
                  <a:lnTo>
                    <a:pt x="2245" y="755"/>
                  </a:lnTo>
                  <a:lnTo>
                    <a:pt x="2236" y="765"/>
                  </a:lnTo>
                  <a:lnTo>
                    <a:pt x="2226" y="766"/>
                  </a:lnTo>
                  <a:lnTo>
                    <a:pt x="2201" y="758"/>
                  </a:lnTo>
                  <a:lnTo>
                    <a:pt x="2197" y="740"/>
                  </a:lnTo>
                  <a:lnTo>
                    <a:pt x="2191" y="740"/>
                  </a:lnTo>
                  <a:lnTo>
                    <a:pt x="2169" y="752"/>
                  </a:lnTo>
                  <a:lnTo>
                    <a:pt x="2152" y="774"/>
                  </a:lnTo>
                  <a:lnTo>
                    <a:pt x="2154" y="788"/>
                  </a:lnTo>
                  <a:lnTo>
                    <a:pt x="2140" y="798"/>
                  </a:lnTo>
                  <a:lnTo>
                    <a:pt x="2131" y="782"/>
                  </a:lnTo>
                  <a:lnTo>
                    <a:pt x="2137" y="760"/>
                  </a:lnTo>
                  <a:lnTo>
                    <a:pt x="2134" y="750"/>
                  </a:lnTo>
                  <a:lnTo>
                    <a:pt x="2117" y="750"/>
                  </a:lnTo>
                  <a:lnTo>
                    <a:pt x="2093" y="765"/>
                  </a:lnTo>
                  <a:lnTo>
                    <a:pt x="2085" y="765"/>
                  </a:lnTo>
                  <a:lnTo>
                    <a:pt x="2032" y="729"/>
                  </a:lnTo>
                  <a:lnTo>
                    <a:pt x="2014" y="733"/>
                  </a:lnTo>
                  <a:lnTo>
                    <a:pt x="2007" y="760"/>
                  </a:lnTo>
                  <a:lnTo>
                    <a:pt x="1965" y="752"/>
                  </a:lnTo>
                  <a:lnTo>
                    <a:pt x="1965" y="724"/>
                  </a:lnTo>
                  <a:lnTo>
                    <a:pt x="1956" y="721"/>
                  </a:lnTo>
                  <a:lnTo>
                    <a:pt x="1934" y="699"/>
                  </a:lnTo>
                  <a:lnTo>
                    <a:pt x="1932" y="689"/>
                  </a:lnTo>
                  <a:lnTo>
                    <a:pt x="1877" y="682"/>
                  </a:lnTo>
                  <a:lnTo>
                    <a:pt x="1862" y="701"/>
                  </a:lnTo>
                  <a:lnTo>
                    <a:pt x="1837" y="689"/>
                  </a:lnTo>
                  <a:lnTo>
                    <a:pt x="1826" y="668"/>
                  </a:lnTo>
                  <a:lnTo>
                    <a:pt x="1809" y="672"/>
                  </a:lnTo>
                  <a:lnTo>
                    <a:pt x="1803" y="677"/>
                  </a:lnTo>
                  <a:lnTo>
                    <a:pt x="1790" y="677"/>
                  </a:lnTo>
                  <a:lnTo>
                    <a:pt x="1769" y="666"/>
                  </a:lnTo>
                  <a:lnTo>
                    <a:pt x="1711" y="656"/>
                  </a:lnTo>
                  <a:lnTo>
                    <a:pt x="1706" y="653"/>
                  </a:lnTo>
                  <a:lnTo>
                    <a:pt x="1695" y="632"/>
                  </a:lnTo>
                  <a:lnTo>
                    <a:pt x="1696" y="621"/>
                  </a:lnTo>
                  <a:lnTo>
                    <a:pt x="1687" y="609"/>
                  </a:lnTo>
                  <a:lnTo>
                    <a:pt x="1663" y="595"/>
                  </a:lnTo>
                  <a:lnTo>
                    <a:pt x="1649" y="609"/>
                  </a:lnTo>
                  <a:lnTo>
                    <a:pt x="1605" y="613"/>
                  </a:lnTo>
                  <a:lnTo>
                    <a:pt x="1590" y="607"/>
                  </a:lnTo>
                  <a:lnTo>
                    <a:pt x="1560" y="564"/>
                  </a:lnTo>
                  <a:lnTo>
                    <a:pt x="1548" y="556"/>
                  </a:lnTo>
                  <a:lnTo>
                    <a:pt x="1525" y="552"/>
                  </a:lnTo>
                  <a:lnTo>
                    <a:pt x="1542" y="38"/>
                  </a:lnTo>
                  <a:lnTo>
                    <a:pt x="908" y="0"/>
                  </a:lnTo>
                  <a:lnTo>
                    <a:pt x="895" y="0"/>
                  </a:lnTo>
                  <a:lnTo>
                    <a:pt x="800" y="1200"/>
                  </a:lnTo>
                  <a:lnTo>
                    <a:pt x="7" y="1124"/>
                  </a:lnTo>
                  <a:lnTo>
                    <a:pt x="0" y="1128"/>
                  </a:lnTo>
                  <a:lnTo>
                    <a:pt x="8" y="1134"/>
                  </a:lnTo>
                  <a:lnTo>
                    <a:pt x="10" y="1141"/>
                  </a:lnTo>
                  <a:lnTo>
                    <a:pt x="0" y="1157"/>
                  </a:lnTo>
                  <a:lnTo>
                    <a:pt x="10" y="1179"/>
                  </a:lnTo>
                  <a:lnTo>
                    <a:pt x="13" y="1182"/>
                  </a:lnTo>
                  <a:lnTo>
                    <a:pt x="54" y="1209"/>
                  </a:lnTo>
                  <a:lnTo>
                    <a:pt x="66" y="1236"/>
                  </a:lnTo>
                  <a:lnTo>
                    <a:pt x="81" y="1273"/>
                  </a:lnTo>
                  <a:lnTo>
                    <a:pt x="122" y="1301"/>
                  </a:lnTo>
                  <a:lnTo>
                    <a:pt x="245" y="1448"/>
                  </a:lnTo>
                  <a:lnTo>
                    <a:pt x="350" y="1531"/>
                  </a:lnTo>
                  <a:lnTo>
                    <a:pt x="357" y="1547"/>
                  </a:lnTo>
                  <a:lnTo>
                    <a:pt x="363" y="1563"/>
                  </a:lnTo>
                  <a:lnTo>
                    <a:pt x="363" y="1588"/>
                  </a:lnTo>
                  <a:lnTo>
                    <a:pt x="371" y="1601"/>
                  </a:lnTo>
                  <a:lnTo>
                    <a:pt x="394" y="1638"/>
                  </a:lnTo>
                  <a:lnTo>
                    <a:pt x="391" y="1720"/>
                  </a:lnTo>
                  <a:lnTo>
                    <a:pt x="397" y="1750"/>
                  </a:lnTo>
                  <a:lnTo>
                    <a:pt x="435" y="1809"/>
                  </a:lnTo>
                  <a:lnTo>
                    <a:pt x="589" y="1922"/>
                  </a:lnTo>
                  <a:lnTo>
                    <a:pt x="696" y="1988"/>
                  </a:lnTo>
                  <a:lnTo>
                    <a:pt x="728" y="1994"/>
                  </a:lnTo>
                  <a:lnTo>
                    <a:pt x="746" y="1982"/>
                  </a:lnTo>
                  <a:lnTo>
                    <a:pt x="770" y="1954"/>
                  </a:lnTo>
                  <a:lnTo>
                    <a:pt x="788" y="1939"/>
                  </a:lnTo>
                  <a:lnTo>
                    <a:pt x="835" y="1834"/>
                  </a:lnTo>
                  <a:lnTo>
                    <a:pt x="854" y="1803"/>
                  </a:lnTo>
                  <a:lnTo>
                    <a:pt x="872" y="1793"/>
                  </a:lnTo>
                  <a:lnTo>
                    <a:pt x="908" y="1805"/>
                  </a:lnTo>
                  <a:lnTo>
                    <a:pt x="917" y="1802"/>
                  </a:lnTo>
                  <a:lnTo>
                    <a:pt x="925" y="1787"/>
                  </a:lnTo>
                  <a:lnTo>
                    <a:pt x="935" y="1773"/>
                  </a:lnTo>
                  <a:lnTo>
                    <a:pt x="954" y="1780"/>
                  </a:lnTo>
                  <a:lnTo>
                    <a:pt x="972" y="1793"/>
                  </a:lnTo>
                  <a:lnTo>
                    <a:pt x="1034" y="1802"/>
                  </a:lnTo>
                  <a:lnTo>
                    <a:pt x="1050" y="1809"/>
                  </a:lnTo>
                  <a:lnTo>
                    <a:pt x="1091" y="1821"/>
                  </a:lnTo>
                  <a:lnTo>
                    <a:pt x="1109" y="1812"/>
                  </a:lnTo>
                  <a:lnTo>
                    <a:pt x="1157" y="1840"/>
                  </a:lnTo>
                  <a:lnTo>
                    <a:pt x="1165" y="1866"/>
                  </a:lnTo>
                  <a:lnTo>
                    <a:pt x="1175" y="1869"/>
                  </a:lnTo>
                  <a:lnTo>
                    <a:pt x="1180" y="1881"/>
                  </a:lnTo>
                  <a:lnTo>
                    <a:pt x="1186" y="1884"/>
                  </a:lnTo>
                  <a:lnTo>
                    <a:pt x="1209" y="1896"/>
                  </a:lnTo>
                  <a:lnTo>
                    <a:pt x="1237" y="1933"/>
                  </a:lnTo>
                  <a:lnTo>
                    <a:pt x="1279" y="1972"/>
                  </a:lnTo>
                  <a:lnTo>
                    <a:pt x="1305" y="2008"/>
                  </a:lnTo>
                  <a:lnTo>
                    <a:pt x="1306" y="2023"/>
                  </a:lnTo>
                  <a:lnTo>
                    <a:pt x="1374" y="2190"/>
                  </a:lnTo>
                  <a:lnTo>
                    <a:pt x="1386" y="2221"/>
                  </a:lnTo>
                  <a:lnTo>
                    <a:pt x="1461" y="2308"/>
                  </a:lnTo>
                  <a:lnTo>
                    <a:pt x="1468" y="2329"/>
                  </a:lnTo>
                  <a:lnTo>
                    <a:pt x="1519" y="2383"/>
                  </a:lnTo>
                  <a:lnTo>
                    <a:pt x="1533" y="2392"/>
                  </a:lnTo>
                  <a:lnTo>
                    <a:pt x="1554" y="2418"/>
                  </a:lnTo>
                  <a:lnTo>
                    <a:pt x="1560" y="2433"/>
                  </a:lnTo>
                  <a:lnTo>
                    <a:pt x="1555" y="2487"/>
                  </a:lnTo>
                  <a:lnTo>
                    <a:pt x="1572" y="2509"/>
                  </a:lnTo>
                  <a:lnTo>
                    <a:pt x="1578" y="2573"/>
                  </a:lnTo>
                  <a:lnTo>
                    <a:pt x="1594" y="2591"/>
                  </a:lnTo>
                  <a:lnTo>
                    <a:pt x="1649" y="2693"/>
                  </a:lnTo>
                  <a:lnTo>
                    <a:pt x="1654" y="2726"/>
                  </a:lnTo>
                  <a:lnTo>
                    <a:pt x="1689" y="2728"/>
                  </a:lnTo>
                  <a:lnTo>
                    <a:pt x="1732" y="2756"/>
                  </a:lnTo>
                  <a:lnTo>
                    <a:pt x="1781" y="2771"/>
                  </a:lnTo>
                  <a:lnTo>
                    <a:pt x="1855" y="2819"/>
                  </a:lnTo>
                  <a:lnTo>
                    <a:pt x="1959" y="2827"/>
                  </a:lnTo>
                  <a:lnTo>
                    <a:pt x="1978" y="2832"/>
                  </a:lnTo>
                  <a:lnTo>
                    <a:pt x="2032" y="2868"/>
                  </a:lnTo>
                  <a:lnTo>
                    <a:pt x="2060" y="2880"/>
                  </a:lnTo>
                  <a:lnTo>
                    <a:pt x="2085" y="2849"/>
                  </a:lnTo>
                  <a:lnTo>
                    <a:pt x="2107" y="2852"/>
                  </a:lnTo>
                  <a:lnTo>
                    <a:pt x="2112" y="2846"/>
                  </a:lnTo>
                  <a:lnTo>
                    <a:pt x="2112" y="2832"/>
                  </a:lnTo>
                  <a:lnTo>
                    <a:pt x="2093" y="2823"/>
                  </a:lnTo>
                  <a:lnTo>
                    <a:pt x="2093" y="2815"/>
                  </a:lnTo>
                  <a:lnTo>
                    <a:pt x="2073" y="2787"/>
                  </a:lnTo>
                  <a:lnTo>
                    <a:pt x="2039" y="2662"/>
                  </a:lnTo>
                  <a:lnTo>
                    <a:pt x="2023" y="2613"/>
                  </a:lnTo>
                  <a:lnTo>
                    <a:pt x="2047" y="2537"/>
                  </a:lnTo>
                  <a:lnTo>
                    <a:pt x="2045" y="2514"/>
                  </a:lnTo>
                  <a:lnTo>
                    <a:pt x="2038" y="2509"/>
                  </a:lnTo>
                  <a:lnTo>
                    <a:pt x="2032" y="2508"/>
                  </a:lnTo>
                  <a:lnTo>
                    <a:pt x="2028" y="2502"/>
                  </a:lnTo>
                  <a:lnTo>
                    <a:pt x="2028" y="2497"/>
                  </a:lnTo>
                  <a:lnTo>
                    <a:pt x="2034" y="2493"/>
                  </a:lnTo>
                  <a:lnTo>
                    <a:pt x="2066" y="2471"/>
                  </a:lnTo>
                  <a:lnTo>
                    <a:pt x="2087" y="2401"/>
                  </a:lnTo>
                  <a:lnTo>
                    <a:pt x="2070" y="2396"/>
                  </a:lnTo>
                  <a:lnTo>
                    <a:pt x="2062" y="2363"/>
                  </a:lnTo>
                  <a:lnTo>
                    <a:pt x="2080" y="2343"/>
                  </a:lnTo>
                  <a:lnTo>
                    <a:pt x="2101" y="2360"/>
                  </a:lnTo>
                  <a:lnTo>
                    <a:pt x="2140" y="2332"/>
                  </a:lnTo>
                  <a:lnTo>
                    <a:pt x="2149" y="2295"/>
                  </a:lnTo>
                  <a:lnTo>
                    <a:pt x="2131" y="2282"/>
                  </a:lnTo>
                  <a:lnTo>
                    <a:pt x="2140" y="2266"/>
                  </a:lnTo>
                  <a:lnTo>
                    <a:pt x="2149" y="2269"/>
                  </a:lnTo>
                  <a:lnTo>
                    <a:pt x="2159" y="2271"/>
                  </a:lnTo>
                  <a:lnTo>
                    <a:pt x="2167" y="2262"/>
                  </a:lnTo>
                  <a:lnTo>
                    <a:pt x="2180" y="2269"/>
                  </a:lnTo>
                  <a:lnTo>
                    <a:pt x="2194" y="2269"/>
                  </a:lnTo>
                  <a:lnTo>
                    <a:pt x="2201" y="2263"/>
                  </a:lnTo>
                  <a:lnTo>
                    <a:pt x="2203" y="2256"/>
                  </a:lnTo>
                  <a:lnTo>
                    <a:pt x="2203" y="2226"/>
                  </a:lnTo>
                  <a:lnTo>
                    <a:pt x="2209" y="2217"/>
                  </a:lnTo>
                  <a:lnTo>
                    <a:pt x="2218" y="2217"/>
                  </a:lnTo>
                  <a:lnTo>
                    <a:pt x="2224" y="2219"/>
                  </a:lnTo>
                  <a:lnTo>
                    <a:pt x="2234" y="2223"/>
                  </a:lnTo>
                  <a:lnTo>
                    <a:pt x="2289" y="2209"/>
                  </a:lnTo>
                  <a:lnTo>
                    <a:pt x="2295" y="2203"/>
                  </a:lnTo>
                  <a:lnTo>
                    <a:pt x="2297" y="2196"/>
                  </a:lnTo>
                  <a:lnTo>
                    <a:pt x="2295" y="2190"/>
                  </a:lnTo>
                  <a:lnTo>
                    <a:pt x="2264" y="2173"/>
                  </a:lnTo>
                  <a:lnTo>
                    <a:pt x="2264" y="2160"/>
                  </a:lnTo>
                  <a:lnTo>
                    <a:pt x="2316" y="2145"/>
                  </a:lnTo>
                  <a:lnTo>
                    <a:pt x="2325" y="2136"/>
                  </a:lnTo>
                  <a:lnTo>
                    <a:pt x="2342" y="2129"/>
                  </a:lnTo>
                  <a:lnTo>
                    <a:pt x="2344" y="2136"/>
                  </a:lnTo>
                  <a:lnTo>
                    <a:pt x="2338" y="2141"/>
                  </a:lnTo>
                  <a:lnTo>
                    <a:pt x="2346" y="2155"/>
                  </a:lnTo>
                  <a:lnTo>
                    <a:pt x="2352" y="2155"/>
                  </a:lnTo>
                  <a:lnTo>
                    <a:pt x="2363" y="2147"/>
                  </a:lnTo>
                  <a:lnTo>
                    <a:pt x="2445" y="2123"/>
                  </a:lnTo>
                  <a:lnTo>
                    <a:pt x="2580" y="2033"/>
                  </a:lnTo>
                  <a:lnTo>
                    <a:pt x="2586" y="2001"/>
                  </a:lnTo>
                  <a:lnTo>
                    <a:pt x="2650" y="1948"/>
                  </a:lnTo>
                  <a:lnTo>
                    <a:pt x="2651" y="1939"/>
                  </a:lnTo>
                  <a:lnTo>
                    <a:pt x="2624" y="1901"/>
                  </a:lnTo>
                  <a:lnTo>
                    <a:pt x="2631" y="1872"/>
                  </a:lnTo>
                  <a:lnTo>
                    <a:pt x="2670" y="1855"/>
                  </a:lnTo>
                  <a:lnTo>
                    <a:pt x="2680" y="1856"/>
                  </a:lnTo>
                  <a:lnTo>
                    <a:pt x="2674" y="1887"/>
                  </a:lnTo>
                  <a:lnTo>
                    <a:pt x="2678" y="1901"/>
                  </a:lnTo>
                  <a:lnTo>
                    <a:pt x="2727" y="1894"/>
                  </a:lnTo>
                  <a:lnTo>
                    <a:pt x="2733" y="1905"/>
                  </a:lnTo>
                  <a:lnTo>
                    <a:pt x="2832" y="1863"/>
                  </a:lnTo>
                  <a:lnTo>
                    <a:pt x="2887" y="1860"/>
                  </a:lnTo>
                  <a:lnTo>
                    <a:pt x="2890" y="1857"/>
                  </a:lnTo>
                  <a:lnTo>
                    <a:pt x="2886" y="1851"/>
                  </a:lnTo>
                  <a:lnTo>
                    <a:pt x="2876" y="1840"/>
                  </a:lnTo>
                  <a:lnTo>
                    <a:pt x="2872" y="1823"/>
                  </a:lnTo>
                  <a:lnTo>
                    <a:pt x="2878" y="1813"/>
                  </a:lnTo>
                  <a:lnTo>
                    <a:pt x="2884" y="1800"/>
                  </a:lnTo>
                  <a:lnTo>
                    <a:pt x="2900" y="1779"/>
                  </a:lnTo>
                  <a:lnTo>
                    <a:pt x="2921" y="1720"/>
                  </a:lnTo>
                  <a:lnTo>
                    <a:pt x="2906" y="1699"/>
                  </a:lnTo>
                  <a:lnTo>
                    <a:pt x="2906" y="1679"/>
                  </a:lnTo>
                  <a:lnTo>
                    <a:pt x="2910" y="1667"/>
                  </a:lnTo>
                  <a:lnTo>
                    <a:pt x="2908" y="1651"/>
                  </a:lnTo>
                  <a:lnTo>
                    <a:pt x="2915" y="1617"/>
                  </a:lnTo>
                  <a:lnTo>
                    <a:pt x="2931" y="1604"/>
                  </a:lnTo>
                  <a:lnTo>
                    <a:pt x="2941" y="1578"/>
                  </a:lnTo>
                  <a:lnTo>
                    <a:pt x="2950" y="1530"/>
                  </a:lnTo>
                  <a:lnTo>
                    <a:pt x="2950" y="1501"/>
                  </a:lnTo>
                  <a:lnTo>
                    <a:pt x="2941" y="1459"/>
                  </a:lnTo>
                  <a:lnTo>
                    <a:pt x="2924" y="1432"/>
                  </a:lnTo>
                  <a:lnTo>
                    <a:pt x="2917" y="1426"/>
                  </a:lnTo>
                  <a:lnTo>
                    <a:pt x="2920" y="1409"/>
                  </a:lnTo>
                  <a:lnTo>
                    <a:pt x="2910" y="1398"/>
                  </a:lnTo>
                  <a:lnTo>
                    <a:pt x="2900" y="1375"/>
                  </a:lnTo>
                  <a:lnTo>
                    <a:pt x="2884" y="1362"/>
                  </a:lnTo>
                  <a:lnTo>
                    <a:pt x="2878" y="1354"/>
                  </a:lnTo>
                  <a:lnTo>
                    <a:pt x="2890" y="1326"/>
                  </a:lnTo>
                  <a:lnTo>
                    <a:pt x="2870" y="1287"/>
                  </a:lnTo>
                  <a:lnTo>
                    <a:pt x="2837" y="1257"/>
                  </a:lnTo>
                  <a:lnTo>
                    <a:pt x="2827" y="1241"/>
                  </a:lnTo>
                  <a:lnTo>
                    <a:pt x="2822" y="974"/>
                  </a:lnTo>
                  <a:lnTo>
                    <a:pt x="2822" y="831"/>
                  </a:lnTo>
                  <a:lnTo>
                    <a:pt x="2788" y="823"/>
                  </a:lnTo>
                  <a:lnTo>
                    <a:pt x="2759" y="837"/>
                  </a:lnTo>
                  <a:lnTo>
                    <a:pt x="2750" y="834"/>
                  </a:lnTo>
                  <a:lnTo>
                    <a:pt x="2717" y="811"/>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3205080" y="3301920"/>
              <a:ext cx="2079720" cy="1971720"/>
            </a:xfrm>
            <a:custGeom>
              <a:avLst/>
              <a:gdLst/>
              <a:ahLst/>
              <a:rect l="l" t="t" r="r" b="b"/>
              <a:pathLst>
                <a:path w="2950" h="2880">
                  <a:moveTo>
                    <a:pt x="2717" y="811"/>
                  </a:moveTo>
                  <a:lnTo>
                    <a:pt x="2707" y="807"/>
                  </a:lnTo>
                  <a:lnTo>
                    <a:pt x="2698" y="797"/>
                  </a:lnTo>
                  <a:lnTo>
                    <a:pt x="2678" y="792"/>
                  </a:lnTo>
                  <a:lnTo>
                    <a:pt x="2574" y="735"/>
                  </a:lnTo>
                  <a:lnTo>
                    <a:pt x="2566" y="743"/>
                  </a:lnTo>
                  <a:lnTo>
                    <a:pt x="2535" y="752"/>
                  </a:lnTo>
                  <a:lnTo>
                    <a:pt x="2488" y="744"/>
                  </a:lnTo>
                  <a:lnTo>
                    <a:pt x="2468" y="744"/>
                  </a:lnTo>
                  <a:lnTo>
                    <a:pt x="2455" y="747"/>
                  </a:lnTo>
                  <a:lnTo>
                    <a:pt x="2415" y="762"/>
                  </a:lnTo>
                  <a:lnTo>
                    <a:pt x="2368" y="765"/>
                  </a:lnTo>
                  <a:lnTo>
                    <a:pt x="2352" y="771"/>
                  </a:lnTo>
                  <a:lnTo>
                    <a:pt x="2321" y="802"/>
                  </a:lnTo>
                  <a:lnTo>
                    <a:pt x="2287" y="775"/>
                  </a:lnTo>
                  <a:lnTo>
                    <a:pt x="2264" y="765"/>
                  </a:lnTo>
                  <a:lnTo>
                    <a:pt x="2264" y="760"/>
                  </a:lnTo>
                  <a:lnTo>
                    <a:pt x="2260" y="756"/>
                  </a:lnTo>
                  <a:lnTo>
                    <a:pt x="2245" y="755"/>
                  </a:lnTo>
                  <a:lnTo>
                    <a:pt x="2236" y="765"/>
                  </a:lnTo>
                  <a:lnTo>
                    <a:pt x="2226" y="766"/>
                  </a:lnTo>
                  <a:lnTo>
                    <a:pt x="2201" y="758"/>
                  </a:lnTo>
                  <a:lnTo>
                    <a:pt x="2197" y="740"/>
                  </a:lnTo>
                  <a:lnTo>
                    <a:pt x="2191" y="740"/>
                  </a:lnTo>
                  <a:lnTo>
                    <a:pt x="2169" y="752"/>
                  </a:lnTo>
                  <a:lnTo>
                    <a:pt x="2152" y="774"/>
                  </a:lnTo>
                  <a:lnTo>
                    <a:pt x="2154" y="788"/>
                  </a:lnTo>
                  <a:lnTo>
                    <a:pt x="2140" y="798"/>
                  </a:lnTo>
                  <a:lnTo>
                    <a:pt x="2131" y="782"/>
                  </a:lnTo>
                  <a:lnTo>
                    <a:pt x="2137" y="760"/>
                  </a:lnTo>
                  <a:lnTo>
                    <a:pt x="2134" y="750"/>
                  </a:lnTo>
                  <a:lnTo>
                    <a:pt x="2117" y="750"/>
                  </a:lnTo>
                  <a:lnTo>
                    <a:pt x="2093" y="765"/>
                  </a:lnTo>
                  <a:lnTo>
                    <a:pt x="2085" y="765"/>
                  </a:lnTo>
                  <a:lnTo>
                    <a:pt x="2032" y="729"/>
                  </a:lnTo>
                  <a:lnTo>
                    <a:pt x="2014" y="733"/>
                  </a:lnTo>
                  <a:lnTo>
                    <a:pt x="2007" y="760"/>
                  </a:lnTo>
                  <a:lnTo>
                    <a:pt x="1965" y="752"/>
                  </a:lnTo>
                  <a:lnTo>
                    <a:pt x="1965" y="724"/>
                  </a:lnTo>
                  <a:lnTo>
                    <a:pt x="1956" y="721"/>
                  </a:lnTo>
                  <a:lnTo>
                    <a:pt x="1934" y="699"/>
                  </a:lnTo>
                  <a:lnTo>
                    <a:pt x="1932" y="689"/>
                  </a:lnTo>
                  <a:lnTo>
                    <a:pt x="1877" y="682"/>
                  </a:lnTo>
                  <a:lnTo>
                    <a:pt x="1862" y="701"/>
                  </a:lnTo>
                  <a:lnTo>
                    <a:pt x="1837" y="689"/>
                  </a:lnTo>
                  <a:lnTo>
                    <a:pt x="1826" y="668"/>
                  </a:lnTo>
                  <a:lnTo>
                    <a:pt x="1809" y="672"/>
                  </a:lnTo>
                  <a:lnTo>
                    <a:pt x="1803" y="677"/>
                  </a:lnTo>
                  <a:lnTo>
                    <a:pt x="1790" y="677"/>
                  </a:lnTo>
                  <a:lnTo>
                    <a:pt x="1769" y="666"/>
                  </a:lnTo>
                  <a:lnTo>
                    <a:pt x="1711" y="656"/>
                  </a:lnTo>
                  <a:lnTo>
                    <a:pt x="1706" y="653"/>
                  </a:lnTo>
                  <a:lnTo>
                    <a:pt x="1695" y="632"/>
                  </a:lnTo>
                  <a:lnTo>
                    <a:pt x="1696" y="621"/>
                  </a:lnTo>
                  <a:lnTo>
                    <a:pt x="1687" y="609"/>
                  </a:lnTo>
                  <a:lnTo>
                    <a:pt x="1663" y="595"/>
                  </a:lnTo>
                  <a:lnTo>
                    <a:pt x="1649" y="609"/>
                  </a:lnTo>
                  <a:lnTo>
                    <a:pt x="1605" y="613"/>
                  </a:lnTo>
                  <a:lnTo>
                    <a:pt x="1590" y="607"/>
                  </a:lnTo>
                  <a:lnTo>
                    <a:pt x="1560" y="564"/>
                  </a:lnTo>
                  <a:lnTo>
                    <a:pt x="1548" y="556"/>
                  </a:lnTo>
                  <a:lnTo>
                    <a:pt x="1525" y="552"/>
                  </a:lnTo>
                  <a:lnTo>
                    <a:pt x="1542" y="38"/>
                  </a:lnTo>
                  <a:lnTo>
                    <a:pt x="908" y="0"/>
                  </a:lnTo>
                  <a:lnTo>
                    <a:pt x="895" y="0"/>
                  </a:lnTo>
                  <a:lnTo>
                    <a:pt x="800" y="1200"/>
                  </a:lnTo>
                  <a:lnTo>
                    <a:pt x="7" y="1124"/>
                  </a:lnTo>
                  <a:lnTo>
                    <a:pt x="0" y="1128"/>
                  </a:lnTo>
                  <a:lnTo>
                    <a:pt x="8" y="1134"/>
                  </a:lnTo>
                  <a:lnTo>
                    <a:pt x="10" y="1141"/>
                  </a:lnTo>
                  <a:lnTo>
                    <a:pt x="0" y="1157"/>
                  </a:lnTo>
                  <a:lnTo>
                    <a:pt x="10" y="1179"/>
                  </a:lnTo>
                  <a:lnTo>
                    <a:pt x="13" y="1182"/>
                  </a:lnTo>
                  <a:lnTo>
                    <a:pt x="54" y="1209"/>
                  </a:lnTo>
                  <a:lnTo>
                    <a:pt x="66" y="1236"/>
                  </a:lnTo>
                  <a:lnTo>
                    <a:pt x="81" y="1273"/>
                  </a:lnTo>
                  <a:lnTo>
                    <a:pt x="122" y="1301"/>
                  </a:lnTo>
                  <a:lnTo>
                    <a:pt x="245" y="1448"/>
                  </a:lnTo>
                  <a:lnTo>
                    <a:pt x="350" y="1531"/>
                  </a:lnTo>
                  <a:lnTo>
                    <a:pt x="357" y="1547"/>
                  </a:lnTo>
                  <a:lnTo>
                    <a:pt x="363" y="1563"/>
                  </a:lnTo>
                  <a:lnTo>
                    <a:pt x="363" y="1588"/>
                  </a:lnTo>
                  <a:lnTo>
                    <a:pt x="371" y="1601"/>
                  </a:lnTo>
                  <a:lnTo>
                    <a:pt x="394" y="1638"/>
                  </a:lnTo>
                  <a:lnTo>
                    <a:pt x="391" y="1720"/>
                  </a:lnTo>
                  <a:lnTo>
                    <a:pt x="397" y="1750"/>
                  </a:lnTo>
                  <a:lnTo>
                    <a:pt x="435" y="1809"/>
                  </a:lnTo>
                  <a:lnTo>
                    <a:pt x="589" y="1922"/>
                  </a:lnTo>
                  <a:lnTo>
                    <a:pt x="696" y="1988"/>
                  </a:lnTo>
                  <a:lnTo>
                    <a:pt x="728" y="1994"/>
                  </a:lnTo>
                  <a:lnTo>
                    <a:pt x="746" y="1982"/>
                  </a:lnTo>
                  <a:lnTo>
                    <a:pt x="770" y="1954"/>
                  </a:lnTo>
                  <a:lnTo>
                    <a:pt x="788" y="1939"/>
                  </a:lnTo>
                  <a:lnTo>
                    <a:pt x="835" y="1834"/>
                  </a:lnTo>
                  <a:lnTo>
                    <a:pt x="854" y="1803"/>
                  </a:lnTo>
                  <a:lnTo>
                    <a:pt x="872" y="1793"/>
                  </a:lnTo>
                  <a:lnTo>
                    <a:pt x="908" y="1805"/>
                  </a:lnTo>
                  <a:lnTo>
                    <a:pt x="917" y="1802"/>
                  </a:lnTo>
                  <a:lnTo>
                    <a:pt x="925" y="1787"/>
                  </a:lnTo>
                  <a:lnTo>
                    <a:pt x="935" y="1773"/>
                  </a:lnTo>
                  <a:lnTo>
                    <a:pt x="954" y="1780"/>
                  </a:lnTo>
                  <a:lnTo>
                    <a:pt x="972" y="1793"/>
                  </a:lnTo>
                  <a:lnTo>
                    <a:pt x="1034" y="1802"/>
                  </a:lnTo>
                  <a:lnTo>
                    <a:pt x="1050" y="1809"/>
                  </a:lnTo>
                  <a:lnTo>
                    <a:pt x="1091" y="1821"/>
                  </a:lnTo>
                  <a:lnTo>
                    <a:pt x="1109" y="1812"/>
                  </a:lnTo>
                  <a:lnTo>
                    <a:pt x="1157" y="1840"/>
                  </a:lnTo>
                  <a:lnTo>
                    <a:pt x="1165" y="1866"/>
                  </a:lnTo>
                  <a:lnTo>
                    <a:pt x="1175" y="1869"/>
                  </a:lnTo>
                  <a:lnTo>
                    <a:pt x="1180" y="1881"/>
                  </a:lnTo>
                  <a:lnTo>
                    <a:pt x="1186" y="1884"/>
                  </a:lnTo>
                  <a:lnTo>
                    <a:pt x="1209" y="1896"/>
                  </a:lnTo>
                  <a:lnTo>
                    <a:pt x="1237" y="1933"/>
                  </a:lnTo>
                  <a:lnTo>
                    <a:pt x="1279" y="1972"/>
                  </a:lnTo>
                  <a:lnTo>
                    <a:pt x="1305" y="2008"/>
                  </a:lnTo>
                  <a:lnTo>
                    <a:pt x="1306" y="2023"/>
                  </a:lnTo>
                  <a:lnTo>
                    <a:pt x="1374" y="2190"/>
                  </a:lnTo>
                  <a:lnTo>
                    <a:pt x="1386" y="2221"/>
                  </a:lnTo>
                  <a:lnTo>
                    <a:pt x="1461" y="2308"/>
                  </a:lnTo>
                  <a:lnTo>
                    <a:pt x="1468" y="2329"/>
                  </a:lnTo>
                  <a:lnTo>
                    <a:pt x="1519" y="2383"/>
                  </a:lnTo>
                  <a:lnTo>
                    <a:pt x="1533" y="2392"/>
                  </a:lnTo>
                  <a:lnTo>
                    <a:pt x="1554" y="2418"/>
                  </a:lnTo>
                  <a:lnTo>
                    <a:pt x="1560" y="2433"/>
                  </a:lnTo>
                  <a:lnTo>
                    <a:pt x="1555" y="2487"/>
                  </a:lnTo>
                  <a:lnTo>
                    <a:pt x="1572" y="2509"/>
                  </a:lnTo>
                  <a:lnTo>
                    <a:pt x="1578" y="2573"/>
                  </a:lnTo>
                  <a:lnTo>
                    <a:pt x="1594" y="2591"/>
                  </a:lnTo>
                  <a:lnTo>
                    <a:pt x="1649" y="2693"/>
                  </a:lnTo>
                  <a:lnTo>
                    <a:pt x="1654" y="2726"/>
                  </a:lnTo>
                  <a:lnTo>
                    <a:pt x="1689" y="2728"/>
                  </a:lnTo>
                  <a:lnTo>
                    <a:pt x="1732" y="2756"/>
                  </a:lnTo>
                  <a:lnTo>
                    <a:pt x="1781" y="2771"/>
                  </a:lnTo>
                  <a:lnTo>
                    <a:pt x="1855" y="2819"/>
                  </a:lnTo>
                  <a:lnTo>
                    <a:pt x="1959" y="2827"/>
                  </a:lnTo>
                  <a:lnTo>
                    <a:pt x="1978" y="2832"/>
                  </a:lnTo>
                  <a:lnTo>
                    <a:pt x="2032" y="2868"/>
                  </a:lnTo>
                  <a:lnTo>
                    <a:pt x="2060" y="2880"/>
                  </a:lnTo>
                  <a:lnTo>
                    <a:pt x="2085" y="2849"/>
                  </a:lnTo>
                  <a:lnTo>
                    <a:pt x="2107" y="2852"/>
                  </a:lnTo>
                  <a:lnTo>
                    <a:pt x="2112" y="2846"/>
                  </a:lnTo>
                  <a:lnTo>
                    <a:pt x="2112" y="2832"/>
                  </a:lnTo>
                  <a:lnTo>
                    <a:pt x="2093" y="2823"/>
                  </a:lnTo>
                  <a:lnTo>
                    <a:pt x="2093" y="2815"/>
                  </a:lnTo>
                  <a:lnTo>
                    <a:pt x="2073" y="2787"/>
                  </a:lnTo>
                  <a:lnTo>
                    <a:pt x="2039" y="2662"/>
                  </a:lnTo>
                  <a:lnTo>
                    <a:pt x="2023" y="2613"/>
                  </a:lnTo>
                  <a:lnTo>
                    <a:pt x="2047" y="2537"/>
                  </a:lnTo>
                  <a:lnTo>
                    <a:pt x="2045" y="2514"/>
                  </a:lnTo>
                  <a:lnTo>
                    <a:pt x="2038" y="2509"/>
                  </a:lnTo>
                  <a:lnTo>
                    <a:pt x="2032" y="2508"/>
                  </a:lnTo>
                  <a:lnTo>
                    <a:pt x="2028" y="2502"/>
                  </a:lnTo>
                  <a:lnTo>
                    <a:pt x="2028" y="2497"/>
                  </a:lnTo>
                  <a:lnTo>
                    <a:pt x="2034" y="2493"/>
                  </a:lnTo>
                  <a:lnTo>
                    <a:pt x="2066" y="2471"/>
                  </a:lnTo>
                  <a:lnTo>
                    <a:pt x="2087" y="2401"/>
                  </a:lnTo>
                  <a:lnTo>
                    <a:pt x="2070" y="2396"/>
                  </a:lnTo>
                  <a:lnTo>
                    <a:pt x="2062" y="2363"/>
                  </a:lnTo>
                  <a:lnTo>
                    <a:pt x="2080" y="2343"/>
                  </a:lnTo>
                  <a:lnTo>
                    <a:pt x="2101" y="2360"/>
                  </a:lnTo>
                  <a:lnTo>
                    <a:pt x="2140" y="2332"/>
                  </a:lnTo>
                  <a:lnTo>
                    <a:pt x="2149" y="2295"/>
                  </a:lnTo>
                  <a:lnTo>
                    <a:pt x="2131" y="2282"/>
                  </a:lnTo>
                  <a:lnTo>
                    <a:pt x="2140" y="2266"/>
                  </a:lnTo>
                  <a:lnTo>
                    <a:pt x="2149" y="2269"/>
                  </a:lnTo>
                  <a:lnTo>
                    <a:pt x="2159" y="2271"/>
                  </a:lnTo>
                  <a:lnTo>
                    <a:pt x="2167" y="2262"/>
                  </a:lnTo>
                  <a:lnTo>
                    <a:pt x="2180" y="2269"/>
                  </a:lnTo>
                  <a:lnTo>
                    <a:pt x="2194" y="2269"/>
                  </a:lnTo>
                  <a:lnTo>
                    <a:pt x="2201" y="2263"/>
                  </a:lnTo>
                  <a:lnTo>
                    <a:pt x="2203" y="2256"/>
                  </a:lnTo>
                  <a:lnTo>
                    <a:pt x="2203" y="2226"/>
                  </a:lnTo>
                  <a:lnTo>
                    <a:pt x="2209" y="2217"/>
                  </a:lnTo>
                  <a:lnTo>
                    <a:pt x="2218" y="2217"/>
                  </a:lnTo>
                  <a:lnTo>
                    <a:pt x="2224" y="2219"/>
                  </a:lnTo>
                  <a:lnTo>
                    <a:pt x="2234" y="2223"/>
                  </a:lnTo>
                  <a:lnTo>
                    <a:pt x="2289" y="2209"/>
                  </a:lnTo>
                  <a:lnTo>
                    <a:pt x="2295" y="2203"/>
                  </a:lnTo>
                  <a:lnTo>
                    <a:pt x="2297" y="2196"/>
                  </a:lnTo>
                  <a:lnTo>
                    <a:pt x="2295" y="2190"/>
                  </a:lnTo>
                  <a:lnTo>
                    <a:pt x="2264" y="2173"/>
                  </a:lnTo>
                  <a:lnTo>
                    <a:pt x="2264" y="2160"/>
                  </a:lnTo>
                  <a:lnTo>
                    <a:pt x="2316" y="2145"/>
                  </a:lnTo>
                  <a:lnTo>
                    <a:pt x="2325" y="2136"/>
                  </a:lnTo>
                  <a:lnTo>
                    <a:pt x="2342" y="2129"/>
                  </a:lnTo>
                  <a:lnTo>
                    <a:pt x="2344" y="2136"/>
                  </a:lnTo>
                  <a:lnTo>
                    <a:pt x="2338" y="2141"/>
                  </a:lnTo>
                  <a:lnTo>
                    <a:pt x="2346" y="2155"/>
                  </a:lnTo>
                  <a:lnTo>
                    <a:pt x="2352" y="2155"/>
                  </a:lnTo>
                  <a:lnTo>
                    <a:pt x="2363" y="2147"/>
                  </a:lnTo>
                  <a:lnTo>
                    <a:pt x="2445" y="2123"/>
                  </a:lnTo>
                  <a:lnTo>
                    <a:pt x="2580" y="2033"/>
                  </a:lnTo>
                  <a:lnTo>
                    <a:pt x="2586" y="2001"/>
                  </a:lnTo>
                  <a:lnTo>
                    <a:pt x="2650" y="1948"/>
                  </a:lnTo>
                  <a:lnTo>
                    <a:pt x="2651" y="1939"/>
                  </a:lnTo>
                  <a:lnTo>
                    <a:pt x="2624" y="1901"/>
                  </a:lnTo>
                  <a:lnTo>
                    <a:pt x="2631" y="1872"/>
                  </a:lnTo>
                  <a:lnTo>
                    <a:pt x="2670" y="1855"/>
                  </a:lnTo>
                  <a:lnTo>
                    <a:pt x="2680" y="1856"/>
                  </a:lnTo>
                  <a:lnTo>
                    <a:pt x="2674" y="1887"/>
                  </a:lnTo>
                  <a:lnTo>
                    <a:pt x="2678" y="1901"/>
                  </a:lnTo>
                  <a:lnTo>
                    <a:pt x="2727" y="1894"/>
                  </a:lnTo>
                  <a:lnTo>
                    <a:pt x="2733" y="1905"/>
                  </a:lnTo>
                  <a:lnTo>
                    <a:pt x="2832" y="1863"/>
                  </a:lnTo>
                  <a:lnTo>
                    <a:pt x="2887" y="1860"/>
                  </a:lnTo>
                  <a:lnTo>
                    <a:pt x="2890" y="1857"/>
                  </a:lnTo>
                  <a:lnTo>
                    <a:pt x="2886" y="1851"/>
                  </a:lnTo>
                  <a:lnTo>
                    <a:pt x="2876" y="1840"/>
                  </a:lnTo>
                  <a:lnTo>
                    <a:pt x="2872" y="1823"/>
                  </a:lnTo>
                  <a:lnTo>
                    <a:pt x="2878" y="1813"/>
                  </a:lnTo>
                  <a:lnTo>
                    <a:pt x="2884" y="1800"/>
                  </a:lnTo>
                  <a:lnTo>
                    <a:pt x="2900" y="1779"/>
                  </a:lnTo>
                  <a:lnTo>
                    <a:pt x="2921" y="1720"/>
                  </a:lnTo>
                  <a:lnTo>
                    <a:pt x="2906" y="1699"/>
                  </a:lnTo>
                  <a:lnTo>
                    <a:pt x="2906" y="1679"/>
                  </a:lnTo>
                  <a:lnTo>
                    <a:pt x="2910" y="1667"/>
                  </a:lnTo>
                  <a:lnTo>
                    <a:pt x="2908" y="1651"/>
                  </a:lnTo>
                  <a:lnTo>
                    <a:pt x="2915" y="1617"/>
                  </a:lnTo>
                  <a:lnTo>
                    <a:pt x="2931" y="1604"/>
                  </a:lnTo>
                  <a:lnTo>
                    <a:pt x="2941" y="1578"/>
                  </a:lnTo>
                  <a:lnTo>
                    <a:pt x="2950" y="1530"/>
                  </a:lnTo>
                  <a:lnTo>
                    <a:pt x="2950" y="1501"/>
                  </a:lnTo>
                  <a:lnTo>
                    <a:pt x="2941" y="1459"/>
                  </a:lnTo>
                  <a:lnTo>
                    <a:pt x="2924" y="1432"/>
                  </a:lnTo>
                  <a:lnTo>
                    <a:pt x="2917" y="1426"/>
                  </a:lnTo>
                  <a:lnTo>
                    <a:pt x="2920" y="1409"/>
                  </a:lnTo>
                  <a:lnTo>
                    <a:pt x="2910" y="1398"/>
                  </a:lnTo>
                  <a:lnTo>
                    <a:pt x="2900" y="1375"/>
                  </a:lnTo>
                  <a:lnTo>
                    <a:pt x="2884" y="1362"/>
                  </a:lnTo>
                  <a:lnTo>
                    <a:pt x="2878" y="1354"/>
                  </a:lnTo>
                  <a:lnTo>
                    <a:pt x="2890" y="1326"/>
                  </a:lnTo>
                  <a:lnTo>
                    <a:pt x="2870" y="1287"/>
                  </a:lnTo>
                  <a:lnTo>
                    <a:pt x="2837" y="1257"/>
                  </a:lnTo>
                  <a:lnTo>
                    <a:pt x="2827" y="1241"/>
                  </a:lnTo>
                  <a:lnTo>
                    <a:pt x="2822" y="974"/>
                  </a:lnTo>
                  <a:lnTo>
                    <a:pt x="2822" y="831"/>
                  </a:lnTo>
                  <a:lnTo>
                    <a:pt x="2788" y="823"/>
                  </a:lnTo>
                  <a:lnTo>
                    <a:pt x="2759" y="837"/>
                  </a:lnTo>
                  <a:lnTo>
                    <a:pt x="2750" y="834"/>
                  </a:lnTo>
                  <a:lnTo>
                    <a:pt x="2717" y="811"/>
                  </a:lnTo>
                  <a:lnTo>
                    <a:pt x="2717" y="811"/>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4735440" y="987480"/>
              <a:ext cx="979560" cy="1066680"/>
            </a:xfrm>
            <a:custGeom>
              <a:avLst/>
              <a:gdLst/>
              <a:ahLst/>
              <a:rect l="l" t="t" r="r" b="b"/>
              <a:pathLst>
                <a:path w="1387" h="1559">
                  <a:moveTo>
                    <a:pt x="133" y="1559"/>
                  </a:moveTo>
                  <a:lnTo>
                    <a:pt x="132" y="1074"/>
                  </a:lnTo>
                  <a:lnTo>
                    <a:pt x="66" y="1015"/>
                  </a:lnTo>
                  <a:lnTo>
                    <a:pt x="63" y="987"/>
                  </a:lnTo>
                  <a:lnTo>
                    <a:pt x="98" y="953"/>
                  </a:lnTo>
                  <a:lnTo>
                    <a:pt x="110" y="926"/>
                  </a:lnTo>
                  <a:lnTo>
                    <a:pt x="108" y="905"/>
                  </a:lnTo>
                  <a:lnTo>
                    <a:pt x="107" y="865"/>
                  </a:lnTo>
                  <a:lnTo>
                    <a:pt x="112" y="830"/>
                  </a:lnTo>
                  <a:lnTo>
                    <a:pt x="79" y="732"/>
                  </a:lnTo>
                  <a:lnTo>
                    <a:pt x="77" y="714"/>
                  </a:lnTo>
                  <a:lnTo>
                    <a:pt x="77" y="665"/>
                  </a:lnTo>
                  <a:lnTo>
                    <a:pt x="71" y="640"/>
                  </a:lnTo>
                  <a:lnTo>
                    <a:pt x="65" y="506"/>
                  </a:lnTo>
                  <a:lnTo>
                    <a:pt x="50" y="429"/>
                  </a:lnTo>
                  <a:lnTo>
                    <a:pt x="28" y="406"/>
                  </a:lnTo>
                  <a:lnTo>
                    <a:pt x="11" y="320"/>
                  </a:lnTo>
                  <a:lnTo>
                    <a:pt x="9" y="246"/>
                  </a:lnTo>
                  <a:lnTo>
                    <a:pt x="16" y="198"/>
                  </a:lnTo>
                  <a:lnTo>
                    <a:pt x="23" y="182"/>
                  </a:lnTo>
                  <a:lnTo>
                    <a:pt x="2" y="117"/>
                  </a:lnTo>
                  <a:lnTo>
                    <a:pt x="0" y="98"/>
                  </a:lnTo>
                  <a:lnTo>
                    <a:pt x="360" y="98"/>
                  </a:lnTo>
                  <a:lnTo>
                    <a:pt x="362" y="38"/>
                  </a:lnTo>
                  <a:lnTo>
                    <a:pt x="366" y="0"/>
                  </a:lnTo>
                  <a:lnTo>
                    <a:pt x="394" y="0"/>
                  </a:lnTo>
                  <a:lnTo>
                    <a:pt x="430" y="16"/>
                  </a:lnTo>
                  <a:lnTo>
                    <a:pt x="434" y="74"/>
                  </a:lnTo>
                  <a:lnTo>
                    <a:pt x="445" y="113"/>
                  </a:lnTo>
                  <a:lnTo>
                    <a:pt x="442" y="149"/>
                  </a:lnTo>
                  <a:lnTo>
                    <a:pt x="482" y="177"/>
                  </a:lnTo>
                  <a:lnTo>
                    <a:pt x="497" y="172"/>
                  </a:lnTo>
                  <a:lnTo>
                    <a:pt x="524" y="178"/>
                  </a:lnTo>
                  <a:lnTo>
                    <a:pt x="539" y="193"/>
                  </a:lnTo>
                  <a:lnTo>
                    <a:pt x="567" y="190"/>
                  </a:lnTo>
                  <a:lnTo>
                    <a:pt x="600" y="193"/>
                  </a:lnTo>
                  <a:lnTo>
                    <a:pt x="607" y="206"/>
                  </a:lnTo>
                  <a:lnTo>
                    <a:pt x="607" y="216"/>
                  </a:lnTo>
                  <a:lnTo>
                    <a:pt x="662" y="214"/>
                  </a:lnTo>
                  <a:lnTo>
                    <a:pt x="678" y="194"/>
                  </a:lnTo>
                  <a:lnTo>
                    <a:pt x="754" y="191"/>
                  </a:lnTo>
                  <a:lnTo>
                    <a:pt x="804" y="204"/>
                  </a:lnTo>
                  <a:lnTo>
                    <a:pt x="816" y="204"/>
                  </a:lnTo>
                  <a:lnTo>
                    <a:pt x="810" y="219"/>
                  </a:lnTo>
                  <a:lnTo>
                    <a:pt x="825" y="233"/>
                  </a:lnTo>
                  <a:lnTo>
                    <a:pt x="832" y="229"/>
                  </a:lnTo>
                  <a:lnTo>
                    <a:pt x="842" y="240"/>
                  </a:lnTo>
                  <a:lnTo>
                    <a:pt x="851" y="273"/>
                  </a:lnTo>
                  <a:lnTo>
                    <a:pt x="870" y="284"/>
                  </a:lnTo>
                  <a:lnTo>
                    <a:pt x="891" y="259"/>
                  </a:lnTo>
                  <a:lnTo>
                    <a:pt x="904" y="250"/>
                  </a:lnTo>
                  <a:lnTo>
                    <a:pt x="921" y="259"/>
                  </a:lnTo>
                  <a:lnTo>
                    <a:pt x="935" y="282"/>
                  </a:lnTo>
                  <a:lnTo>
                    <a:pt x="975" y="294"/>
                  </a:lnTo>
                  <a:lnTo>
                    <a:pt x="987" y="309"/>
                  </a:lnTo>
                  <a:lnTo>
                    <a:pt x="1006" y="324"/>
                  </a:lnTo>
                  <a:lnTo>
                    <a:pt x="1032" y="326"/>
                  </a:lnTo>
                  <a:lnTo>
                    <a:pt x="1061" y="318"/>
                  </a:lnTo>
                  <a:lnTo>
                    <a:pt x="1129" y="272"/>
                  </a:lnTo>
                  <a:lnTo>
                    <a:pt x="1139" y="279"/>
                  </a:lnTo>
                  <a:lnTo>
                    <a:pt x="1159" y="298"/>
                  </a:lnTo>
                  <a:lnTo>
                    <a:pt x="1261" y="298"/>
                  </a:lnTo>
                  <a:lnTo>
                    <a:pt x="1278" y="300"/>
                  </a:lnTo>
                  <a:lnTo>
                    <a:pt x="1293" y="309"/>
                  </a:lnTo>
                  <a:lnTo>
                    <a:pt x="1318" y="330"/>
                  </a:lnTo>
                  <a:lnTo>
                    <a:pt x="1339" y="318"/>
                  </a:lnTo>
                  <a:lnTo>
                    <a:pt x="1387" y="318"/>
                  </a:lnTo>
                  <a:lnTo>
                    <a:pt x="1361" y="341"/>
                  </a:lnTo>
                  <a:lnTo>
                    <a:pt x="1299" y="375"/>
                  </a:lnTo>
                  <a:lnTo>
                    <a:pt x="1267" y="386"/>
                  </a:lnTo>
                  <a:lnTo>
                    <a:pt x="1242" y="396"/>
                  </a:lnTo>
                  <a:lnTo>
                    <a:pt x="1215" y="422"/>
                  </a:lnTo>
                  <a:lnTo>
                    <a:pt x="1163" y="448"/>
                  </a:lnTo>
                  <a:lnTo>
                    <a:pt x="1139" y="464"/>
                  </a:lnTo>
                  <a:lnTo>
                    <a:pt x="1051" y="559"/>
                  </a:lnTo>
                  <a:lnTo>
                    <a:pt x="924" y="675"/>
                  </a:lnTo>
                  <a:lnTo>
                    <a:pt x="911" y="695"/>
                  </a:lnTo>
                  <a:lnTo>
                    <a:pt x="898" y="705"/>
                  </a:lnTo>
                  <a:lnTo>
                    <a:pt x="905" y="849"/>
                  </a:lnTo>
                  <a:lnTo>
                    <a:pt x="889" y="865"/>
                  </a:lnTo>
                  <a:lnTo>
                    <a:pt x="872" y="871"/>
                  </a:lnTo>
                  <a:lnTo>
                    <a:pt x="816" y="917"/>
                  </a:lnTo>
                  <a:lnTo>
                    <a:pt x="816" y="940"/>
                  </a:lnTo>
                  <a:lnTo>
                    <a:pt x="809" y="947"/>
                  </a:lnTo>
                  <a:lnTo>
                    <a:pt x="795" y="985"/>
                  </a:lnTo>
                  <a:lnTo>
                    <a:pt x="823" y="1001"/>
                  </a:lnTo>
                  <a:lnTo>
                    <a:pt x="842" y="1035"/>
                  </a:lnTo>
                  <a:lnTo>
                    <a:pt x="825" y="1065"/>
                  </a:lnTo>
                  <a:lnTo>
                    <a:pt x="829" y="1090"/>
                  </a:lnTo>
                  <a:lnTo>
                    <a:pt x="823" y="1136"/>
                  </a:lnTo>
                  <a:lnTo>
                    <a:pt x="823" y="1206"/>
                  </a:lnTo>
                  <a:lnTo>
                    <a:pt x="834" y="1223"/>
                  </a:lnTo>
                  <a:lnTo>
                    <a:pt x="855" y="1236"/>
                  </a:lnTo>
                  <a:lnTo>
                    <a:pt x="860" y="1248"/>
                  </a:lnTo>
                  <a:lnTo>
                    <a:pt x="910" y="1255"/>
                  </a:lnTo>
                  <a:lnTo>
                    <a:pt x="917" y="1262"/>
                  </a:lnTo>
                  <a:lnTo>
                    <a:pt x="920" y="1277"/>
                  </a:lnTo>
                  <a:lnTo>
                    <a:pt x="931" y="1282"/>
                  </a:lnTo>
                  <a:lnTo>
                    <a:pt x="988" y="1309"/>
                  </a:lnTo>
                  <a:lnTo>
                    <a:pt x="1009" y="1349"/>
                  </a:lnTo>
                  <a:lnTo>
                    <a:pt x="1062" y="1391"/>
                  </a:lnTo>
                  <a:lnTo>
                    <a:pt x="1120" y="1431"/>
                  </a:lnTo>
                  <a:lnTo>
                    <a:pt x="1128" y="1444"/>
                  </a:lnTo>
                  <a:lnTo>
                    <a:pt x="1128" y="1479"/>
                  </a:lnTo>
                  <a:lnTo>
                    <a:pt x="1133" y="1528"/>
                  </a:lnTo>
                  <a:lnTo>
                    <a:pt x="133" y="1559"/>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4735440" y="987480"/>
              <a:ext cx="979560" cy="1066680"/>
            </a:xfrm>
            <a:custGeom>
              <a:avLst/>
              <a:gdLst/>
              <a:ahLst/>
              <a:rect l="l" t="t" r="r" b="b"/>
              <a:pathLst>
                <a:path w="1387" h="1559">
                  <a:moveTo>
                    <a:pt x="133" y="1559"/>
                  </a:moveTo>
                  <a:lnTo>
                    <a:pt x="132" y="1074"/>
                  </a:lnTo>
                  <a:lnTo>
                    <a:pt x="66" y="1015"/>
                  </a:lnTo>
                  <a:lnTo>
                    <a:pt x="63" y="987"/>
                  </a:lnTo>
                  <a:lnTo>
                    <a:pt x="98" y="953"/>
                  </a:lnTo>
                  <a:lnTo>
                    <a:pt x="110" y="926"/>
                  </a:lnTo>
                  <a:lnTo>
                    <a:pt x="108" y="905"/>
                  </a:lnTo>
                  <a:lnTo>
                    <a:pt x="107" y="865"/>
                  </a:lnTo>
                  <a:lnTo>
                    <a:pt x="112" y="830"/>
                  </a:lnTo>
                  <a:lnTo>
                    <a:pt x="79" y="732"/>
                  </a:lnTo>
                  <a:lnTo>
                    <a:pt x="77" y="714"/>
                  </a:lnTo>
                  <a:lnTo>
                    <a:pt x="77" y="665"/>
                  </a:lnTo>
                  <a:lnTo>
                    <a:pt x="71" y="640"/>
                  </a:lnTo>
                  <a:lnTo>
                    <a:pt x="65" y="506"/>
                  </a:lnTo>
                  <a:lnTo>
                    <a:pt x="50" y="429"/>
                  </a:lnTo>
                  <a:lnTo>
                    <a:pt x="28" y="406"/>
                  </a:lnTo>
                  <a:lnTo>
                    <a:pt x="11" y="320"/>
                  </a:lnTo>
                  <a:lnTo>
                    <a:pt x="9" y="246"/>
                  </a:lnTo>
                  <a:lnTo>
                    <a:pt x="16" y="198"/>
                  </a:lnTo>
                  <a:lnTo>
                    <a:pt x="23" y="182"/>
                  </a:lnTo>
                  <a:lnTo>
                    <a:pt x="2" y="117"/>
                  </a:lnTo>
                  <a:lnTo>
                    <a:pt x="0" y="98"/>
                  </a:lnTo>
                  <a:lnTo>
                    <a:pt x="360" y="98"/>
                  </a:lnTo>
                  <a:lnTo>
                    <a:pt x="362" y="38"/>
                  </a:lnTo>
                  <a:lnTo>
                    <a:pt x="366" y="0"/>
                  </a:lnTo>
                  <a:lnTo>
                    <a:pt x="394" y="0"/>
                  </a:lnTo>
                  <a:lnTo>
                    <a:pt x="430" y="16"/>
                  </a:lnTo>
                  <a:lnTo>
                    <a:pt x="434" y="74"/>
                  </a:lnTo>
                  <a:lnTo>
                    <a:pt x="445" y="113"/>
                  </a:lnTo>
                  <a:lnTo>
                    <a:pt x="442" y="149"/>
                  </a:lnTo>
                  <a:lnTo>
                    <a:pt x="482" y="177"/>
                  </a:lnTo>
                  <a:lnTo>
                    <a:pt x="497" y="172"/>
                  </a:lnTo>
                  <a:lnTo>
                    <a:pt x="524" y="178"/>
                  </a:lnTo>
                  <a:lnTo>
                    <a:pt x="539" y="193"/>
                  </a:lnTo>
                  <a:lnTo>
                    <a:pt x="567" y="190"/>
                  </a:lnTo>
                  <a:lnTo>
                    <a:pt x="600" y="193"/>
                  </a:lnTo>
                  <a:lnTo>
                    <a:pt x="607" y="206"/>
                  </a:lnTo>
                  <a:lnTo>
                    <a:pt x="607" y="216"/>
                  </a:lnTo>
                  <a:lnTo>
                    <a:pt x="662" y="214"/>
                  </a:lnTo>
                  <a:lnTo>
                    <a:pt x="678" y="194"/>
                  </a:lnTo>
                  <a:lnTo>
                    <a:pt x="754" y="191"/>
                  </a:lnTo>
                  <a:lnTo>
                    <a:pt x="804" y="204"/>
                  </a:lnTo>
                  <a:lnTo>
                    <a:pt x="816" y="204"/>
                  </a:lnTo>
                  <a:lnTo>
                    <a:pt x="810" y="219"/>
                  </a:lnTo>
                  <a:lnTo>
                    <a:pt x="825" y="233"/>
                  </a:lnTo>
                  <a:lnTo>
                    <a:pt x="832" y="229"/>
                  </a:lnTo>
                  <a:lnTo>
                    <a:pt x="842" y="240"/>
                  </a:lnTo>
                  <a:lnTo>
                    <a:pt x="851" y="273"/>
                  </a:lnTo>
                  <a:lnTo>
                    <a:pt x="870" y="284"/>
                  </a:lnTo>
                  <a:lnTo>
                    <a:pt x="891" y="259"/>
                  </a:lnTo>
                  <a:lnTo>
                    <a:pt x="904" y="250"/>
                  </a:lnTo>
                  <a:lnTo>
                    <a:pt x="921" y="259"/>
                  </a:lnTo>
                  <a:lnTo>
                    <a:pt x="935" y="282"/>
                  </a:lnTo>
                  <a:lnTo>
                    <a:pt x="975" y="294"/>
                  </a:lnTo>
                  <a:lnTo>
                    <a:pt x="987" y="309"/>
                  </a:lnTo>
                  <a:lnTo>
                    <a:pt x="1006" y="324"/>
                  </a:lnTo>
                  <a:lnTo>
                    <a:pt x="1032" y="326"/>
                  </a:lnTo>
                  <a:lnTo>
                    <a:pt x="1061" y="318"/>
                  </a:lnTo>
                  <a:lnTo>
                    <a:pt x="1129" y="272"/>
                  </a:lnTo>
                  <a:lnTo>
                    <a:pt x="1139" y="279"/>
                  </a:lnTo>
                  <a:lnTo>
                    <a:pt x="1159" y="298"/>
                  </a:lnTo>
                  <a:lnTo>
                    <a:pt x="1261" y="298"/>
                  </a:lnTo>
                  <a:lnTo>
                    <a:pt x="1278" y="300"/>
                  </a:lnTo>
                  <a:lnTo>
                    <a:pt x="1293" y="309"/>
                  </a:lnTo>
                  <a:lnTo>
                    <a:pt x="1318" y="330"/>
                  </a:lnTo>
                  <a:lnTo>
                    <a:pt x="1339" y="318"/>
                  </a:lnTo>
                  <a:lnTo>
                    <a:pt x="1387" y="318"/>
                  </a:lnTo>
                  <a:lnTo>
                    <a:pt x="1361" y="341"/>
                  </a:lnTo>
                  <a:lnTo>
                    <a:pt x="1299" y="375"/>
                  </a:lnTo>
                  <a:lnTo>
                    <a:pt x="1267" y="386"/>
                  </a:lnTo>
                  <a:lnTo>
                    <a:pt x="1242" y="396"/>
                  </a:lnTo>
                  <a:lnTo>
                    <a:pt x="1215" y="422"/>
                  </a:lnTo>
                  <a:lnTo>
                    <a:pt x="1163" y="448"/>
                  </a:lnTo>
                  <a:lnTo>
                    <a:pt x="1139" y="464"/>
                  </a:lnTo>
                  <a:lnTo>
                    <a:pt x="1051" y="559"/>
                  </a:lnTo>
                  <a:lnTo>
                    <a:pt x="924" y="675"/>
                  </a:lnTo>
                  <a:lnTo>
                    <a:pt x="911" y="695"/>
                  </a:lnTo>
                  <a:lnTo>
                    <a:pt x="898" y="705"/>
                  </a:lnTo>
                  <a:lnTo>
                    <a:pt x="905" y="849"/>
                  </a:lnTo>
                  <a:lnTo>
                    <a:pt x="889" y="865"/>
                  </a:lnTo>
                  <a:lnTo>
                    <a:pt x="872" y="871"/>
                  </a:lnTo>
                  <a:lnTo>
                    <a:pt x="816" y="917"/>
                  </a:lnTo>
                  <a:lnTo>
                    <a:pt x="816" y="940"/>
                  </a:lnTo>
                  <a:lnTo>
                    <a:pt x="809" y="947"/>
                  </a:lnTo>
                  <a:lnTo>
                    <a:pt x="795" y="985"/>
                  </a:lnTo>
                  <a:lnTo>
                    <a:pt x="823" y="1001"/>
                  </a:lnTo>
                  <a:lnTo>
                    <a:pt x="842" y="1035"/>
                  </a:lnTo>
                  <a:lnTo>
                    <a:pt x="825" y="1065"/>
                  </a:lnTo>
                  <a:lnTo>
                    <a:pt x="829" y="1090"/>
                  </a:lnTo>
                  <a:lnTo>
                    <a:pt x="823" y="1136"/>
                  </a:lnTo>
                  <a:lnTo>
                    <a:pt x="823" y="1206"/>
                  </a:lnTo>
                  <a:lnTo>
                    <a:pt x="834" y="1223"/>
                  </a:lnTo>
                  <a:lnTo>
                    <a:pt x="855" y="1236"/>
                  </a:lnTo>
                  <a:lnTo>
                    <a:pt x="860" y="1248"/>
                  </a:lnTo>
                  <a:lnTo>
                    <a:pt x="910" y="1255"/>
                  </a:lnTo>
                  <a:lnTo>
                    <a:pt x="917" y="1262"/>
                  </a:lnTo>
                  <a:lnTo>
                    <a:pt x="920" y="1277"/>
                  </a:lnTo>
                  <a:lnTo>
                    <a:pt x="931" y="1282"/>
                  </a:lnTo>
                  <a:lnTo>
                    <a:pt x="988" y="1309"/>
                  </a:lnTo>
                  <a:lnTo>
                    <a:pt x="1009" y="1349"/>
                  </a:lnTo>
                  <a:lnTo>
                    <a:pt x="1062" y="1391"/>
                  </a:lnTo>
                  <a:lnTo>
                    <a:pt x="1120" y="1431"/>
                  </a:lnTo>
                  <a:lnTo>
                    <a:pt x="1128" y="1444"/>
                  </a:lnTo>
                  <a:lnTo>
                    <a:pt x="1128" y="1479"/>
                  </a:lnTo>
                  <a:lnTo>
                    <a:pt x="1133" y="1528"/>
                  </a:lnTo>
                  <a:lnTo>
                    <a:pt x="133" y="1559"/>
                  </a:lnTo>
                  <a:lnTo>
                    <a:pt x="133" y="1559"/>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4808520" y="2033640"/>
              <a:ext cx="893880" cy="576360"/>
            </a:xfrm>
            <a:custGeom>
              <a:avLst/>
              <a:gdLst/>
              <a:ahLst/>
              <a:rect l="l" t="t" r="r" b="b"/>
              <a:pathLst>
                <a:path w="1266" h="839">
                  <a:moveTo>
                    <a:pt x="29" y="31"/>
                  </a:moveTo>
                  <a:lnTo>
                    <a:pt x="1028" y="0"/>
                  </a:lnTo>
                  <a:lnTo>
                    <a:pt x="1041" y="31"/>
                  </a:lnTo>
                  <a:lnTo>
                    <a:pt x="1063" y="53"/>
                  </a:lnTo>
                  <a:lnTo>
                    <a:pt x="1063" y="71"/>
                  </a:lnTo>
                  <a:lnTo>
                    <a:pt x="1046" y="93"/>
                  </a:lnTo>
                  <a:lnTo>
                    <a:pt x="1057" y="127"/>
                  </a:lnTo>
                  <a:lnTo>
                    <a:pt x="1074" y="200"/>
                  </a:lnTo>
                  <a:lnTo>
                    <a:pt x="1135" y="222"/>
                  </a:lnTo>
                  <a:lnTo>
                    <a:pt x="1154" y="240"/>
                  </a:lnTo>
                  <a:lnTo>
                    <a:pt x="1162" y="263"/>
                  </a:lnTo>
                  <a:lnTo>
                    <a:pt x="1170" y="279"/>
                  </a:lnTo>
                  <a:lnTo>
                    <a:pt x="1209" y="307"/>
                  </a:lnTo>
                  <a:lnTo>
                    <a:pt x="1215" y="330"/>
                  </a:lnTo>
                  <a:lnTo>
                    <a:pt x="1251" y="353"/>
                  </a:lnTo>
                  <a:lnTo>
                    <a:pt x="1266" y="398"/>
                  </a:lnTo>
                  <a:lnTo>
                    <a:pt x="1265" y="420"/>
                  </a:lnTo>
                  <a:lnTo>
                    <a:pt x="1251" y="448"/>
                  </a:lnTo>
                  <a:lnTo>
                    <a:pt x="1236" y="461"/>
                  </a:lnTo>
                  <a:lnTo>
                    <a:pt x="1236" y="486"/>
                  </a:lnTo>
                  <a:lnTo>
                    <a:pt x="1202" y="524"/>
                  </a:lnTo>
                  <a:lnTo>
                    <a:pt x="1170" y="536"/>
                  </a:lnTo>
                  <a:lnTo>
                    <a:pt x="1160" y="543"/>
                  </a:lnTo>
                  <a:lnTo>
                    <a:pt x="1117" y="546"/>
                  </a:lnTo>
                  <a:lnTo>
                    <a:pt x="1099" y="558"/>
                  </a:lnTo>
                  <a:lnTo>
                    <a:pt x="1085" y="585"/>
                  </a:lnTo>
                  <a:lnTo>
                    <a:pt x="1089" y="609"/>
                  </a:lnTo>
                  <a:lnTo>
                    <a:pt x="1114" y="634"/>
                  </a:lnTo>
                  <a:lnTo>
                    <a:pt x="1121" y="648"/>
                  </a:lnTo>
                  <a:lnTo>
                    <a:pt x="1114" y="691"/>
                  </a:lnTo>
                  <a:lnTo>
                    <a:pt x="1084" y="756"/>
                  </a:lnTo>
                  <a:lnTo>
                    <a:pt x="1053" y="774"/>
                  </a:lnTo>
                  <a:lnTo>
                    <a:pt x="1042" y="797"/>
                  </a:lnTo>
                  <a:lnTo>
                    <a:pt x="1046" y="818"/>
                  </a:lnTo>
                  <a:lnTo>
                    <a:pt x="1031" y="839"/>
                  </a:lnTo>
                  <a:lnTo>
                    <a:pt x="968" y="779"/>
                  </a:lnTo>
                  <a:lnTo>
                    <a:pt x="167" y="803"/>
                  </a:lnTo>
                  <a:lnTo>
                    <a:pt x="159" y="791"/>
                  </a:lnTo>
                  <a:lnTo>
                    <a:pt x="151" y="764"/>
                  </a:lnTo>
                  <a:lnTo>
                    <a:pt x="159" y="743"/>
                  </a:lnTo>
                  <a:lnTo>
                    <a:pt x="143" y="722"/>
                  </a:lnTo>
                  <a:lnTo>
                    <a:pt x="137" y="699"/>
                  </a:lnTo>
                  <a:lnTo>
                    <a:pt x="151" y="678"/>
                  </a:lnTo>
                  <a:lnTo>
                    <a:pt x="143" y="657"/>
                  </a:lnTo>
                  <a:lnTo>
                    <a:pt x="116" y="642"/>
                  </a:lnTo>
                  <a:lnTo>
                    <a:pt x="124" y="602"/>
                  </a:lnTo>
                  <a:lnTo>
                    <a:pt x="130" y="581"/>
                  </a:lnTo>
                  <a:lnTo>
                    <a:pt x="124" y="558"/>
                  </a:lnTo>
                  <a:lnTo>
                    <a:pt x="93" y="537"/>
                  </a:lnTo>
                  <a:lnTo>
                    <a:pt x="86" y="516"/>
                  </a:lnTo>
                  <a:lnTo>
                    <a:pt x="93" y="495"/>
                  </a:lnTo>
                  <a:lnTo>
                    <a:pt x="74" y="474"/>
                  </a:lnTo>
                  <a:lnTo>
                    <a:pt x="59" y="432"/>
                  </a:lnTo>
                  <a:lnTo>
                    <a:pt x="39" y="410"/>
                  </a:lnTo>
                  <a:lnTo>
                    <a:pt x="52" y="375"/>
                  </a:lnTo>
                  <a:lnTo>
                    <a:pt x="52" y="353"/>
                  </a:lnTo>
                  <a:lnTo>
                    <a:pt x="25" y="339"/>
                  </a:lnTo>
                  <a:lnTo>
                    <a:pt x="21" y="311"/>
                  </a:lnTo>
                  <a:lnTo>
                    <a:pt x="25" y="304"/>
                  </a:lnTo>
                  <a:lnTo>
                    <a:pt x="19" y="279"/>
                  </a:lnTo>
                  <a:lnTo>
                    <a:pt x="0" y="227"/>
                  </a:lnTo>
                  <a:lnTo>
                    <a:pt x="19" y="183"/>
                  </a:lnTo>
                  <a:lnTo>
                    <a:pt x="13" y="158"/>
                  </a:lnTo>
                  <a:lnTo>
                    <a:pt x="27" y="145"/>
                  </a:lnTo>
                  <a:lnTo>
                    <a:pt x="20" y="105"/>
                  </a:lnTo>
                  <a:lnTo>
                    <a:pt x="7" y="90"/>
                  </a:lnTo>
                  <a:lnTo>
                    <a:pt x="17" y="65"/>
                  </a:lnTo>
                  <a:lnTo>
                    <a:pt x="10" y="51"/>
                  </a:lnTo>
                  <a:lnTo>
                    <a:pt x="0" y="33"/>
                  </a:lnTo>
                  <a:lnTo>
                    <a:pt x="19" y="31"/>
                  </a:lnTo>
                  <a:lnTo>
                    <a:pt x="29" y="31"/>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808520" y="2033640"/>
              <a:ext cx="893880" cy="576360"/>
            </a:xfrm>
            <a:custGeom>
              <a:avLst/>
              <a:gdLst/>
              <a:ahLst/>
              <a:rect l="l" t="t" r="r" b="b"/>
              <a:pathLst>
                <a:path w="1266" h="839">
                  <a:moveTo>
                    <a:pt x="29" y="31"/>
                  </a:moveTo>
                  <a:lnTo>
                    <a:pt x="1028" y="0"/>
                  </a:lnTo>
                  <a:lnTo>
                    <a:pt x="1041" y="31"/>
                  </a:lnTo>
                  <a:lnTo>
                    <a:pt x="1063" y="53"/>
                  </a:lnTo>
                  <a:lnTo>
                    <a:pt x="1063" y="71"/>
                  </a:lnTo>
                  <a:lnTo>
                    <a:pt x="1046" y="93"/>
                  </a:lnTo>
                  <a:lnTo>
                    <a:pt x="1057" y="127"/>
                  </a:lnTo>
                  <a:lnTo>
                    <a:pt x="1074" y="200"/>
                  </a:lnTo>
                  <a:lnTo>
                    <a:pt x="1135" y="222"/>
                  </a:lnTo>
                  <a:lnTo>
                    <a:pt x="1154" y="240"/>
                  </a:lnTo>
                  <a:lnTo>
                    <a:pt x="1162" y="263"/>
                  </a:lnTo>
                  <a:lnTo>
                    <a:pt x="1170" y="279"/>
                  </a:lnTo>
                  <a:lnTo>
                    <a:pt x="1209" y="307"/>
                  </a:lnTo>
                  <a:lnTo>
                    <a:pt x="1215" y="330"/>
                  </a:lnTo>
                  <a:lnTo>
                    <a:pt x="1251" y="353"/>
                  </a:lnTo>
                  <a:lnTo>
                    <a:pt x="1266" y="398"/>
                  </a:lnTo>
                  <a:lnTo>
                    <a:pt x="1265" y="420"/>
                  </a:lnTo>
                  <a:lnTo>
                    <a:pt x="1251" y="448"/>
                  </a:lnTo>
                  <a:lnTo>
                    <a:pt x="1236" y="461"/>
                  </a:lnTo>
                  <a:lnTo>
                    <a:pt x="1236" y="486"/>
                  </a:lnTo>
                  <a:lnTo>
                    <a:pt x="1202" y="524"/>
                  </a:lnTo>
                  <a:lnTo>
                    <a:pt x="1170" y="536"/>
                  </a:lnTo>
                  <a:lnTo>
                    <a:pt x="1160" y="543"/>
                  </a:lnTo>
                  <a:lnTo>
                    <a:pt x="1117" y="546"/>
                  </a:lnTo>
                  <a:lnTo>
                    <a:pt x="1099" y="558"/>
                  </a:lnTo>
                  <a:lnTo>
                    <a:pt x="1085" y="585"/>
                  </a:lnTo>
                  <a:lnTo>
                    <a:pt x="1089" y="609"/>
                  </a:lnTo>
                  <a:lnTo>
                    <a:pt x="1114" y="634"/>
                  </a:lnTo>
                  <a:lnTo>
                    <a:pt x="1121" y="648"/>
                  </a:lnTo>
                  <a:lnTo>
                    <a:pt x="1114" y="691"/>
                  </a:lnTo>
                  <a:lnTo>
                    <a:pt x="1084" y="756"/>
                  </a:lnTo>
                  <a:lnTo>
                    <a:pt x="1053" y="774"/>
                  </a:lnTo>
                  <a:lnTo>
                    <a:pt x="1042" y="797"/>
                  </a:lnTo>
                  <a:lnTo>
                    <a:pt x="1046" y="818"/>
                  </a:lnTo>
                  <a:lnTo>
                    <a:pt x="1031" y="839"/>
                  </a:lnTo>
                  <a:lnTo>
                    <a:pt x="968" y="779"/>
                  </a:lnTo>
                  <a:lnTo>
                    <a:pt x="167" y="803"/>
                  </a:lnTo>
                  <a:lnTo>
                    <a:pt x="159" y="791"/>
                  </a:lnTo>
                  <a:lnTo>
                    <a:pt x="151" y="764"/>
                  </a:lnTo>
                  <a:lnTo>
                    <a:pt x="159" y="743"/>
                  </a:lnTo>
                  <a:lnTo>
                    <a:pt x="143" y="722"/>
                  </a:lnTo>
                  <a:lnTo>
                    <a:pt x="137" y="699"/>
                  </a:lnTo>
                  <a:lnTo>
                    <a:pt x="151" y="678"/>
                  </a:lnTo>
                  <a:lnTo>
                    <a:pt x="143" y="657"/>
                  </a:lnTo>
                  <a:lnTo>
                    <a:pt x="116" y="642"/>
                  </a:lnTo>
                  <a:lnTo>
                    <a:pt x="124" y="602"/>
                  </a:lnTo>
                  <a:lnTo>
                    <a:pt x="130" y="581"/>
                  </a:lnTo>
                  <a:lnTo>
                    <a:pt x="124" y="558"/>
                  </a:lnTo>
                  <a:lnTo>
                    <a:pt x="93" y="537"/>
                  </a:lnTo>
                  <a:lnTo>
                    <a:pt x="86" y="516"/>
                  </a:lnTo>
                  <a:lnTo>
                    <a:pt x="93" y="495"/>
                  </a:lnTo>
                  <a:lnTo>
                    <a:pt x="74" y="474"/>
                  </a:lnTo>
                  <a:lnTo>
                    <a:pt x="59" y="432"/>
                  </a:lnTo>
                  <a:lnTo>
                    <a:pt x="39" y="410"/>
                  </a:lnTo>
                  <a:lnTo>
                    <a:pt x="52" y="375"/>
                  </a:lnTo>
                  <a:lnTo>
                    <a:pt x="52" y="353"/>
                  </a:lnTo>
                  <a:lnTo>
                    <a:pt x="25" y="339"/>
                  </a:lnTo>
                  <a:lnTo>
                    <a:pt x="21" y="311"/>
                  </a:lnTo>
                  <a:lnTo>
                    <a:pt x="25" y="304"/>
                  </a:lnTo>
                  <a:lnTo>
                    <a:pt x="19" y="279"/>
                  </a:lnTo>
                  <a:lnTo>
                    <a:pt x="0" y="227"/>
                  </a:lnTo>
                  <a:lnTo>
                    <a:pt x="19" y="183"/>
                  </a:lnTo>
                  <a:lnTo>
                    <a:pt x="13" y="158"/>
                  </a:lnTo>
                  <a:lnTo>
                    <a:pt x="27" y="145"/>
                  </a:lnTo>
                  <a:lnTo>
                    <a:pt x="20" y="105"/>
                  </a:lnTo>
                  <a:lnTo>
                    <a:pt x="7" y="90"/>
                  </a:lnTo>
                  <a:lnTo>
                    <a:pt x="17" y="65"/>
                  </a:lnTo>
                  <a:lnTo>
                    <a:pt x="10" y="51"/>
                  </a:lnTo>
                  <a:lnTo>
                    <a:pt x="0" y="33"/>
                  </a:lnTo>
                  <a:lnTo>
                    <a:pt x="19" y="31"/>
                  </a:lnTo>
                  <a:lnTo>
                    <a:pt x="29" y="31"/>
                  </a:lnTo>
                  <a:lnTo>
                    <a:pt x="29" y="31"/>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927680" y="2568600"/>
              <a:ext cx="996840" cy="833400"/>
            </a:xfrm>
            <a:custGeom>
              <a:avLst/>
              <a:gdLst/>
              <a:ahLst/>
              <a:rect l="l" t="t" r="r" b="b"/>
              <a:pathLst>
                <a:path w="1412" h="1218">
                  <a:moveTo>
                    <a:pt x="241" y="1122"/>
                  </a:moveTo>
                  <a:lnTo>
                    <a:pt x="1187" y="1080"/>
                  </a:lnTo>
                  <a:lnTo>
                    <a:pt x="1183" y="1092"/>
                  </a:lnTo>
                  <a:lnTo>
                    <a:pt x="1203" y="1108"/>
                  </a:lnTo>
                  <a:lnTo>
                    <a:pt x="1212" y="1128"/>
                  </a:lnTo>
                  <a:lnTo>
                    <a:pt x="1208" y="1149"/>
                  </a:lnTo>
                  <a:lnTo>
                    <a:pt x="1178" y="1171"/>
                  </a:lnTo>
                  <a:lnTo>
                    <a:pt x="1153" y="1204"/>
                  </a:lnTo>
                  <a:lnTo>
                    <a:pt x="1152" y="1218"/>
                  </a:lnTo>
                  <a:lnTo>
                    <a:pt x="1292" y="1210"/>
                  </a:lnTo>
                  <a:lnTo>
                    <a:pt x="1306" y="1171"/>
                  </a:lnTo>
                  <a:lnTo>
                    <a:pt x="1300" y="1158"/>
                  </a:lnTo>
                  <a:lnTo>
                    <a:pt x="1313" y="1112"/>
                  </a:lnTo>
                  <a:lnTo>
                    <a:pt x="1325" y="1075"/>
                  </a:lnTo>
                  <a:lnTo>
                    <a:pt x="1339" y="1054"/>
                  </a:lnTo>
                  <a:lnTo>
                    <a:pt x="1368" y="1044"/>
                  </a:lnTo>
                  <a:lnTo>
                    <a:pt x="1378" y="1048"/>
                  </a:lnTo>
                  <a:lnTo>
                    <a:pt x="1390" y="1042"/>
                  </a:lnTo>
                  <a:lnTo>
                    <a:pt x="1412" y="973"/>
                  </a:lnTo>
                  <a:lnTo>
                    <a:pt x="1406" y="947"/>
                  </a:lnTo>
                  <a:lnTo>
                    <a:pt x="1391" y="940"/>
                  </a:lnTo>
                  <a:lnTo>
                    <a:pt x="1385" y="937"/>
                  </a:lnTo>
                  <a:lnTo>
                    <a:pt x="1382" y="931"/>
                  </a:lnTo>
                  <a:lnTo>
                    <a:pt x="1378" y="925"/>
                  </a:lnTo>
                  <a:lnTo>
                    <a:pt x="1365" y="925"/>
                  </a:lnTo>
                  <a:lnTo>
                    <a:pt x="1362" y="937"/>
                  </a:lnTo>
                  <a:lnTo>
                    <a:pt x="1355" y="940"/>
                  </a:lnTo>
                  <a:lnTo>
                    <a:pt x="1311" y="868"/>
                  </a:lnTo>
                  <a:lnTo>
                    <a:pt x="1313" y="857"/>
                  </a:lnTo>
                  <a:lnTo>
                    <a:pt x="1325" y="840"/>
                  </a:lnTo>
                  <a:lnTo>
                    <a:pt x="1328" y="830"/>
                  </a:lnTo>
                  <a:lnTo>
                    <a:pt x="1311" y="805"/>
                  </a:lnTo>
                  <a:lnTo>
                    <a:pt x="1299" y="761"/>
                  </a:lnTo>
                  <a:lnTo>
                    <a:pt x="1239" y="709"/>
                  </a:lnTo>
                  <a:lnTo>
                    <a:pt x="1209" y="697"/>
                  </a:lnTo>
                  <a:lnTo>
                    <a:pt x="1152" y="663"/>
                  </a:lnTo>
                  <a:lnTo>
                    <a:pt x="1115" y="628"/>
                  </a:lnTo>
                  <a:lnTo>
                    <a:pt x="1103" y="596"/>
                  </a:lnTo>
                  <a:lnTo>
                    <a:pt x="1109" y="581"/>
                  </a:lnTo>
                  <a:lnTo>
                    <a:pt x="1147" y="539"/>
                  </a:lnTo>
                  <a:lnTo>
                    <a:pt x="1140" y="499"/>
                  </a:lnTo>
                  <a:lnTo>
                    <a:pt x="1153" y="466"/>
                  </a:lnTo>
                  <a:lnTo>
                    <a:pt x="1146" y="450"/>
                  </a:lnTo>
                  <a:lnTo>
                    <a:pt x="1095" y="424"/>
                  </a:lnTo>
                  <a:lnTo>
                    <a:pt x="1080" y="434"/>
                  </a:lnTo>
                  <a:lnTo>
                    <a:pt x="1058" y="452"/>
                  </a:lnTo>
                  <a:lnTo>
                    <a:pt x="1050" y="442"/>
                  </a:lnTo>
                  <a:lnTo>
                    <a:pt x="1013" y="346"/>
                  </a:lnTo>
                  <a:lnTo>
                    <a:pt x="997" y="330"/>
                  </a:lnTo>
                  <a:lnTo>
                    <a:pt x="937" y="283"/>
                  </a:lnTo>
                  <a:lnTo>
                    <a:pt x="875" y="213"/>
                  </a:lnTo>
                  <a:lnTo>
                    <a:pt x="874" y="193"/>
                  </a:lnTo>
                  <a:lnTo>
                    <a:pt x="856" y="147"/>
                  </a:lnTo>
                  <a:lnTo>
                    <a:pt x="854" y="99"/>
                  </a:lnTo>
                  <a:lnTo>
                    <a:pt x="864" y="71"/>
                  </a:lnTo>
                  <a:lnTo>
                    <a:pt x="864" y="59"/>
                  </a:lnTo>
                  <a:lnTo>
                    <a:pt x="801" y="0"/>
                  </a:lnTo>
                  <a:lnTo>
                    <a:pt x="0" y="24"/>
                  </a:lnTo>
                  <a:lnTo>
                    <a:pt x="14" y="48"/>
                  </a:lnTo>
                  <a:lnTo>
                    <a:pt x="33" y="70"/>
                  </a:lnTo>
                  <a:lnTo>
                    <a:pt x="41" y="105"/>
                  </a:lnTo>
                  <a:lnTo>
                    <a:pt x="68" y="139"/>
                  </a:lnTo>
                  <a:lnTo>
                    <a:pt x="83" y="146"/>
                  </a:lnTo>
                  <a:lnTo>
                    <a:pt x="75" y="177"/>
                  </a:lnTo>
                  <a:lnTo>
                    <a:pt x="80" y="184"/>
                  </a:lnTo>
                  <a:lnTo>
                    <a:pt x="168" y="250"/>
                  </a:lnTo>
                  <a:lnTo>
                    <a:pt x="141" y="282"/>
                  </a:lnTo>
                  <a:lnTo>
                    <a:pt x="135" y="314"/>
                  </a:lnTo>
                  <a:lnTo>
                    <a:pt x="149" y="334"/>
                  </a:lnTo>
                  <a:lnTo>
                    <a:pt x="171" y="343"/>
                  </a:lnTo>
                  <a:lnTo>
                    <a:pt x="183" y="387"/>
                  </a:lnTo>
                  <a:lnTo>
                    <a:pt x="206" y="403"/>
                  </a:lnTo>
                  <a:lnTo>
                    <a:pt x="225" y="409"/>
                  </a:lnTo>
                  <a:lnTo>
                    <a:pt x="234" y="414"/>
                  </a:lnTo>
                  <a:lnTo>
                    <a:pt x="239" y="990"/>
                  </a:lnTo>
                  <a:lnTo>
                    <a:pt x="241" y="1122"/>
                  </a:lnTo>
                  <a:close/>
                </a:path>
              </a:pathLst>
            </a:custGeom>
            <a:solidFill>
              <a:srgbClr val="00152a"/>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4927680" y="2568600"/>
              <a:ext cx="996840" cy="833400"/>
            </a:xfrm>
            <a:custGeom>
              <a:avLst/>
              <a:gdLst/>
              <a:ahLst/>
              <a:rect l="l" t="t" r="r" b="b"/>
              <a:pathLst>
                <a:path w="1412" h="1218">
                  <a:moveTo>
                    <a:pt x="241" y="1122"/>
                  </a:moveTo>
                  <a:lnTo>
                    <a:pt x="1187" y="1080"/>
                  </a:lnTo>
                  <a:lnTo>
                    <a:pt x="1183" y="1092"/>
                  </a:lnTo>
                  <a:lnTo>
                    <a:pt x="1203" y="1108"/>
                  </a:lnTo>
                  <a:lnTo>
                    <a:pt x="1212" y="1128"/>
                  </a:lnTo>
                  <a:lnTo>
                    <a:pt x="1208" y="1149"/>
                  </a:lnTo>
                  <a:lnTo>
                    <a:pt x="1178" y="1171"/>
                  </a:lnTo>
                  <a:lnTo>
                    <a:pt x="1153" y="1204"/>
                  </a:lnTo>
                  <a:lnTo>
                    <a:pt x="1152" y="1218"/>
                  </a:lnTo>
                  <a:lnTo>
                    <a:pt x="1292" y="1210"/>
                  </a:lnTo>
                  <a:lnTo>
                    <a:pt x="1306" y="1171"/>
                  </a:lnTo>
                  <a:lnTo>
                    <a:pt x="1300" y="1158"/>
                  </a:lnTo>
                  <a:lnTo>
                    <a:pt x="1313" y="1112"/>
                  </a:lnTo>
                  <a:lnTo>
                    <a:pt x="1325" y="1075"/>
                  </a:lnTo>
                  <a:lnTo>
                    <a:pt x="1339" y="1054"/>
                  </a:lnTo>
                  <a:lnTo>
                    <a:pt x="1368" y="1044"/>
                  </a:lnTo>
                  <a:lnTo>
                    <a:pt x="1378" y="1048"/>
                  </a:lnTo>
                  <a:lnTo>
                    <a:pt x="1390" y="1042"/>
                  </a:lnTo>
                  <a:lnTo>
                    <a:pt x="1412" y="973"/>
                  </a:lnTo>
                  <a:lnTo>
                    <a:pt x="1406" y="947"/>
                  </a:lnTo>
                  <a:lnTo>
                    <a:pt x="1391" y="940"/>
                  </a:lnTo>
                  <a:lnTo>
                    <a:pt x="1385" y="937"/>
                  </a:lnTo>
                  <a:lnTo>
                    <a:pt x="1382" y="931"/>
                  </a:lnTo>
                  <a:lnTo>
                    <a:pt x="1378" y="925"/>
                  </a:lnTo>
                  <a:lnTo>
                    <a:pt x="1365" y="925"/>
                  </a:lnTo>
                  <a:lnTo>
                    <a:pt x="1362" y="937"/>
                  </a:lnTo>
                  <a:lnTo>
                    <a:pt x="1355" y="940"/>
                  </a:lnTo>
                  <a:lnTo>
                    <a:pt x="1311" y="868"/>
                  </a:lnTo>
                  <a:lnTo>
                    <a:pt x="1313" y="857"/>
                  </a:lnTo>
                  <a:lnTo>
                    <a:pt x="1325" y="840"/>
                  </a:lnTo>
                  <a:lnTo>
                    <a:pt x="1328" y="830"/>
                  </a:lnTo>
                  <a:lnTo>
                    <a:pt x="1311" y="805"/>
                  </a:lnTo>
                  <a:lnTo>
                    <a:pt x="1299" y="761"/>
                  </a:lnTo>
                  <a:lnTo>
                    <a:pt x="1239" y="709"/>
                  </a:lnTo>
                  <a:lnTo>
                    <a:pt x="1209" y="697"/>
                  </a:lnTo>
                  <a:lnTo>
                    <a:pt x="1152" y="663"/>
                  </a:lnTo>
                  <a:lnTo>
                    <a:pt x="1115" y="628"/>
                  </a:lnTo>
                  <a:lnTo>
                    <a:pt x="1103" y="596"/>
                  </a:lnTo>
                  <a:lnTo>
                    <a:pt x="1109" y="581"/>
                  </a:lnTo>
                  <a:lnTo>
                    <a:pt x="1147" y="539"/>
                  </a:lnTo>
                  <a:lnTo>
                    <a:pt x="1140" y="499"/>
                  </a:lnTo>
                  <a:lnTo>
                    <a:pt x="1153" y="466"/>
                  </a:lnTo>
                  <a:lnTo>
                    <a:pt x="1146" y="450"/>
                  </a:lnTo>
                  <a:lnTo>
                    <a:pt x="1095" y="424"/>
                  </a:lnTo>
                  <a:lnTo>
                    <a:pt x="1080" y="434"/>
                  </a:lnTo>
                  <a:lnTo>
                    <a:pt x="1058" y="452"/>
                  </a:lnTo>
                  <a:lnTo>
                    <a:pt x="1050" y="442"/>
                  </a:lnTo>
                  <a:lnTo>
                    <a:pt x="1013" y="346"/>
                  </a:lnTo>
                  <a:lnTo>
                    <a:pt x="997" y="330"/>
                  </a:lnTo>
                  <a:lnTo>
                    <a:pt x="937" y="283"/>
                  </a:lnTo>
                  <a:lnTo>
                    <a:pt x="875" y="213"/>
                  </a:lnTo>
                  <a:lnTo>
                    <a:pt x="874" y="193"/>
                  </a:lnTo>
                  <a:lnTo>
                    <a:pt x="856" y="147"/>
                  </a:lnTo>
                  <a:lnTo>
                    <a:pt x="854" y="99"/>
                  </a:lnTo>
                  <a:lnTo>
                    <a:pt x="864" y="71"/>
                  </a:lnTo>
                  <a:lnTo>
                    <a:pt x="864" y="59"/>
                  </a:lnTo>
                  <a:lnTo>
                    <a:pt x="801" y="0"/>
                  </a:lnTo>
                  <a:lnTo>
                    <a:pt x="0" y="24"/>
                  </a:lnTo>
                  <a:lnTo>
                    <a:pt x="14" y="48"/>
                  </a:lnTo>
                  <a:lnTo>
                    <a:pt x="33" y="70"/>
                  </a:lnTo>
                  <a:lnTo>
                    <a:pt x="41" y="105"/>
                  </a:lnTo>
                  <a:lnTo>
                    <a:pt x="68" y="139"/>
                  </a:lnTo>
                  <a:lnTo>
                    <a:pt x="83" y="146"/>
                  </a:lnTo>
                  <a:lnTo>
                    <a:pt x="75" y="177"/>
                  </a:lnTo>
                  <a:lnTo>
                    <a:pt x="80" y="184"/>
                  </a:lnTo>
                  <a:lnTo>
                    <a:pt x="168" y="250"/>
                  </a:lnTo>
                  <a:lnTo>
                    <a:pt x="141" y="282"/>
                  </a:lnTo>
                  <a:lnTo>
                    <a:pt x="135" y="314"/>
                  </a:lnTo>
                  <a:lnTo>
                    <a:pt x="149" y="334"/>
                  </a:lnTo>
                  <a:lnTo>
                    <a:pt x="171" y="343"/>
                  </a:lnTo>
                  <a:lnTo>
                    <a:pt x="183" y="387"/>
                  </a:lnTo>
                  <a:lnTo>
                    <a:pt x="206" y="403"/>
                  </a:lnTo>
                  <a:lnTo>
                    <a:pt x="225" y="409"/>
                  </a:lnTo>
                  <a:lnTo>
                    <a:pt x="234" y="414"/>
                  </a:lnTo>
                  <a:lnTo>
                    <a:pt x="239" y="990"/>
                  </a:lnTo>
                  <a:lnTo>
                    <a:pt x="241" y="1122"/>
                  </a:lnTo>
                  <a:lnTo>
                    <a:pt x="241" y="1122"/>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5194440" y="3957480"/>
              <a:ext cx="841320" cy="711360"/>
            </a:xfrm>
            <a:custGeom>
              <a:avLst/>
              <a:gdLst/>
              <a:ahLst/>
              <a:rect l="l" t="t" r="r" b="b"/>
              <a:pathLst>
                <a:path w="1194" h="1040">
                  <a:moveTo>
                    <a:pt x="0" y="18"/>
                  </a:moveTo>
                  <a:lnTo>
                    <a:pt x="642" y="0"/>
                  </a:lnTo>
                  <a:lnTo>
                    <a:pt x="639" y="22"/>
                  </a:lnTo>
                  <a:lnTo>
                    <a:pt x="668" y="75"/>
                  </a:lnTo>
                  <a:lnTo>
                    <a:pt x="672" y="124"/>
                  </a:lnTo>
                  <a:lnTo>
                    <a:pt x="684" y="154"/>
                  </a:lnTo>
                  <a:lnTo>
                    <a:pt x="699" y="168"/>
                  </a:lnTo>
                  <a:lnTo>
                    <a:pt x="702" y="190"/>
                  </a:lnTo>
                  <a:lnTo>
                    <a:pt x="672" y="209"/>
                  </a:lnTo>
                  <a:lnTo>
                    <a:pt x="664" y="219"/>
                  </a:lnTo>
                  <a:lnTo>
                    <a:pt x="651" y="274"/>
                  </a:lnTo>
                  <a:lnTo>
                    <a:pt x="610" y="339"/>
                  </a:lnTo>
                  <a:lnTo>
                    <a:pt x="573" y="450"/>
                  </a:lnTo>
                  <a:lnTo>
                    <a:pt x="569" y="533"/>
                  </a:lnTo>
                  <a:lnTo>
                    <a:pt x="986" y="514"/>
                  </a:lnTo>
                  <a:lnTo>
                    <a:pt x="994" y="528"/>
                  </a:lnTo>
                  <a:lnTo>
                    <a:pt x="985" y="568"/>
                  </a:lnTo>
                  <a:lnTo>
                    <a:pt x="986" y="627"/>
                  </a:lnTo>
                  <a:lnTo>
                    <a:pt x="1030" y="670"/>
                  </a:lnTo>
                  <a:lnTo>
                    <a:pt x="1039" y="723"/>
                  </a:lnTo>
                  <a:lnTo>
                    <a:pt x="979" y="710"/>
                  </a:lnTo>
                  <a:lnTo>
                    <a:pt x="926" y="684"/>
                  </a:lnTo>
                  <a:lnTo>
                    <a:pt x="912" y="682"/>
                  </a:lnTo>
                  <a:lnTo>
                    <a:pt x="895" y="689"/>
                  </a:lnTo>
                  <a:lnTo>
                    <a:pt x="857" y="727"/>
                  </a:lnTo>
                  <a:lnTo>
                    <a:pt x="855" y="745"/>
                  </a:lnTo>
                  <a:lnTo>
                    <a:pt x="872" y="764"/>
                  </a:lnTo>
                  <a:lnTo>
                    <a:pt x="891" y="769"/>
                  </a:lnTo>
                  <a:lnTo>
                    <a:pt x="937" y="768"/>
                  </a:lnTo>
                  <a:lnTo>
                    <a:pt x="963" y="749"/>
                  </a:lnTo>
                  <a:lnTo>
                    <a:pt x="979" y="741"/>
                  </a:lnTo>
                  <a:lnTo>
                    <a:pt x="1006" y="743"/>
                  </a:lnTo>
                  <a:lnTo>
                    <a:pt x="1019" y="741"/>
                  </a:lnTo>
                  <a:lnTo>
                    <a:pt x="1021" y="748"/>
                  </a:lnTo>
                  <a:lnTo>
                    <a:pt x="1014" y="760"/>
                  </a:lnTo>
                  <a:lnTo>
                    <a:pt x="996" y="775"/>
                  </a:lnTo>
                  <a:lnTo>
                    <a:pt x="1001" y="790"/>
                  </a:lnTo>
                  <a:lnTo>
                    <a:pt x="1017" y="800"/>
                  </a:lnTo>
                  <a:lnTo>
                    <a:pt x="1033" y="802"/>
                  </a:lnTo>
                  <a:lnTo>
                    <a:pt x="1042" y="796"/>
                  </a:lnTo>
                  <a:lnTo>
                    <a:pt x="1059" y="761"/>
                  </a:lnTo>
                  <a:lnTo>
                    <a:pt x="1105" y="743"/>
                  </a:lnTo>
                  <a:lnTo>
                    <a:pt x="1121" y="735"/>
                  </a:lnTo>
                  <a:lnTo>
                    <a:pt x="1134" y="735"/>
                  </a:lnTo>
                  <a:lnTo>
                    <a:pt x="1143" y="748"/>
                  </a:lnTo>
                  <a:lnTo>
                    <a:pt x="1136" y="768"/>
                  </a:lnTo>
                  <a:lnTo>
                    <a:pt x="1143" y="777"/>
                  </a:lnTo>
                  <a:lnTo>
                    <a:pt x="1141" y="794"/>
                  </a:lnTo>
                  <a:lnTo>
                    <a:pt x="1120" y="805"/>
                  </a:lnTo>
                  <a:lnTo>
                    <a:pt x="1089" y="851"/>
                  </a:lnTo>
                  <a:lnTo>
                    <a:pt x="1052" y="875"/>
                  </a:lnTo>
                  <a:lnTo>
                    <a:pt x="1051" y="900"/>
                  </a:lnTo>
                  <a:lnTo>
                    <a:pt x="1061" y="918"/>
                  </a:lnTo>
                  <a:lnTo>
                    <a:pt x="1108" y="945"/>
                  </a:lnTo>
                  <a:lnTo>
                    <a:pt x="1187" y="977"/>
                  </a:lnTo>
                  <a:lnTo>
                    <a:pt x="1194" y="992"/>
                  </a:lnTo>
                  <a:lnTo>
                    <a:pt x="1188" y="1010"/>
                  </a:lnTo>
                  <a:lnTo>
                    <a:pt x="1175" y="1013"/>
                  </a:lnTo>
                  <a:lnTo>
                    <a:pt x="1112" y="1040"/>
                  </a:lnTo>
                  <a:lnTo>
                    <a:pt x="1105" y="991"/>
                  </a:lnTo>
                  <a:lnTo>
                    <a:pt x="1070" y="976"/>
                  </a:lnTo>
                  <a:lnTo>
                    <a:pt x="1002" y="949"/>
                  </a:lnTo>
                  <a:lnTo>
                    <a:pt x="992" y="926"/>
                  </a:lnTo>
                  <a:lnTo>
                    <a:pt x="980" y="918"/>
                  </a:lnTo>
                  <a:lnTo>
                    <a:pt x="963" y="926"/>
                  </a:lnTo>
                  <a:lnTo>
                    <a:pt x="951" y="975"/>
                  </a:lnTo>
                  <a:lnTo>
                    <a:pt x="959" y="981"/>
                  </a:lnTo>
                  <a:lnTo>
                    <a:pt x="959" y="992"/>
                  </a:lnTo>
                  <a:lnTo>
                    <a:pt x="926" y="1014"/>
                  </a:lnTo>
                  <a:lnTo>
                    <a:pt x="912" y="1012"/>
                  </a:lnTo>
                  <a:lnTo>
                    <a:pt x="891" y="985"/>
                  </a:lnTo>
                  <a:lnTo>
                    <a:pt x="881" y="983"/>
                  </a:lnTo>
                  <a:lnTo>
                    <a:pt x="859" y="992"/>
                  </a:lnTo>
                  <a:lnTo>
                    <a:pt x="847" y="981"/>
                  </a:lnTo>
                  <a:lnTo>
                    <a:pt x="838" y="983"/>
                  </a:lnTo>
                  <a:lnTo>
                    <a:pt x="806" y="1016"/>
                  </a:lnTo>
                  <a:lnTo>
                    <a:pt x="772" y="1018"/>
                  </a:lnTo>
                  <a:lnTo>
                    <a:pt x="758" y="1008"/>
                  </a:lnTo>
                  <a:lnTo>
                    <a:pt x="721" y="1002"/>
                  </a:lnTo>
                  <a:lnTo>
                    <a:pt x="667" y="932"/>
                  </a:lnTo>
                  <a:lnTo>
                    <a:pt x="633" y="926"/>
                  </a:lnTo>
                  <a:lnTo>
                    <a:pt x="602" y="912"/>
                  </a:lnTo>
                  <a:lnTo>
                    <a:pt x="590" y="894"/>
                  </a:lnTo>
                  <a:lnTo>
                    <a:pt x="583" y="890"/>
                  </a:lnTo>
                  <a:lnTo>
                    <a:pt x="579" y="888"/>
                  </a:lnTo>
                  <a:lnTo>
                    <a:pt x="576" y="882"/>
                  </a:lnTo>
                  <a:lnTo>
                    <a:pt x="579" y="871"/>
                  </a:lnTo>
                  <a:lnTo>
                    <a:pt x="564" y="866"/>
                  </a:lnTo>
                  <a:lnTo>
                    <a:pt x="556" y="871"/>
                  </a:lnTo>
                  <a:lnTo>
                    <a:pt x="531" y="866"/>
                  </a:lnTo>
                  <a:lnTo>
                    <a:pt x="527" y="862"/>
                  </a:lnTo>
                  <a:lnTo>
                    <a:pt x="522" y="846"/>
                  </a:lnTo>
                  <a:lnTo>
                    <a:pt x="506" y="847"/>
                  </a:lnTo>
                  <a:lnTo>
                    <a:pt x="463" y="886"/>
                  </a:lnTo>
                  <a:lnTo>
                    <a:pt x="484" y="910"/>
                  </a:lnTo>
                  <a:lnTo>
                    <a:pt x="476" y="914"/>
                  </a:lnTo>
                  <a:lnTo>
                    <a:pt x="407" y="919"/>
                  </a:lnTo>
                  <a:lnTo>
                    <a:pt x="287" y="898"/>
                  </a:lnTo>
                  <a:lnTo>
                    <a:pt x="220" y="869"/>
                  </a:lnTo>
                  <a:lnTo>
                    <a:pt x="63" y="895"/>
                  </a:lnTo>
                  <a:lnTo>
                    <a:pt x="53" y="884"/>
                  </a:lnTo>
                  <a:lnTo>
                    <a:pt x="49" y="866"/>
                  </a:lnTo>
                  <a:lnTo>
                    <a:pt x="55" y="857"/>
                  </a:lnTo>
                  <a:lnTo>
                    <a:pt x="62" y="844"/>
                  </a:lnTo>
                  <a:lnTo>
                    <a:pt x="78" y="823"/>
                  </a:lnTo>
                  <a:lnTo>
                    <a:pt x="99" y="764"/>
                  </a:lnTo>
                  <a:lnTo>
                    <a:pt x="84" y="743"/>
                  </a:lnTo>
                  <a:lnTo>
                    <a:pt x="84" y="723"/>
                  </a:lnTo>
                  <a:lnTo>
                    <a:pt x="87" y="710"/>
                  </a:lnTo>
                  <a:lnTo>
                    <a:pt x="85" y="695"/>
                  </a:lnTo>
                  <a:lnTo>
                    <a:pt x="93" y="661"/>
                  </a:lnTo>
                  <a:lnTo>
                    <a:pt x="109" y="648"/>
                  </a:lnTo>
                  <a:lnTo>
                    <a:pt x="118" y="621"/>
                  </a:lnTo>
                  <a:lnTo>
                    <a:pt x="127" y="574"/>
                  </a:lnTo>
                  <a:lnTo>
                    <a:pt x="127" y="545"/>
                  </a:lnTo>
                  <a:lnTo>
                    <a:pt x="118" y="503"/>
                  </a:lnTo>
                  <a:lnTo>
                    <a:pt x="101" y="476"/>
                  </a:lnTo>
                  <a:lnTo>
                    <a:pt x="94" y="470"/>
                  </a:lnTo>
                  <a:lnTo>
                    <a:pt x="97" y="453"/>
                  </a:lnTo>
                  <a:lnTo>
                    <a:pt x="88" y="442"/>
                  </a:lnTo>
                  <a:lnTo>
                    <a:pt x="78" y="418"/>
                  </a:lnTo>
                  <a:lnTo>
                    <a:pt x="62" y="406"/>
                  </a:lnTo>
                  <a:lnTo>
                    <a:pt x="56" y="397"/>
                  </a:lnTo>
                  <a:lnTo>
                    <a:pt x="68" y="370"/>
                  </a:lnTo>
                  <a:lnTo>
                    <a:pt x="47" y="331"/>
                  </a:lnTo>
                  <a:lnTo>
                    <a:pt x="15" y="301"/>
                  </a:lnTo>
                  <a:lnTo>
                    <a:pt x="5" y="285"/>
                  </a:lnTo>
                  <a:lnTo>
                    <a:pt x="0" y="18"/>
                  </a:lnTo>
                  <a:close/>
                </a:path>
              </a:pathLst>
            </a:custGeom>
            <a:solidFill>
              <a:srgbClr val="00547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5194440" y="3957480"/>
              <a:ext cx="841320" cy="711360"/>
            </a:xfrm>
            <a:custGeom>
              <a:avLst/>
              <a:gdLst/>
              <a:ahLst/>
              <a:rect l="l" t="t" r="r" b="b"/>
              <a:pathLst>
                <a:path w="1194" h="1040">
                  <a:moveTo>
                    <a:pt x="0" y="18"/>
                  </a:moveTo>
                  <a:lnTo>
                    <a:pt x="642" y="0"/>
                  </a:lnTo>
                  <a:lnTo>
                    <a:pt x="639" y="22"/>
                  </a:lnTo>
                  <a:lnTo>
                    <a:pt x="668" y="75"/>
                  </a:lnTo>
                  <a:lnTo>
                    <a:pt x="672" y="124"/>
                  </a:lnTo>
                  <a:lnTo>
                    <a:pt x="684" y="154"/>
                  </a:lnTo>
                  <a:lnTo>
                    <a:pt x="699" y="168"/>
                  </a:lnTo>
                  <a:lnTo>
                    <a:pt x="702" y="190"/>
                  </a:lnTo>
                  <a:lnTo>
                    <a:pt x="672" y="209"/>
                  </a:lnTo>
                  <a:lnTo>
                    <a:pt x="664" y="219"/>
                  </a:lnTo>
                  <a:lnTo>
                    <a:pt x="651" y="274"/>
                  </a:lnTo>
                  <a:lnTo>
                    <a:pt x="610" y="339"/>
                  </a:lnTo>
                  <a:lnTo>
                    <a:pt x="573" y="450"/>
                  </a:lnTo>
                  <a:lnTo>
                    <a:pt x="569" y="533"/>
                  </a:lnTo>
                  <a:lnTo>
                    <a:pt x="986" y="514"/>
                  </a:lnTo>
                  <a:lnTo>
                    <a:pt x="994" y="528"/>
                  </a:lnTo>
                  <a:lnTo>
                    <a:pt x="985" y="568"/>
                  </a:lnTo>
                  <a:lnTo>
                    <a:pt x="986" y="627"/>
                  </a:lnTo>
                  <a:lnTo>
                    <a:pt x="1030" y="670"/>
                  </a:lnTo>
                  <a:lnTo>
                    <a:pt x="1039" y="723"/>
                  </a:lnTo>
                  <a:lnTo>
                    <a:pt x="979" y="710"/>
                  </a:lnTo>
                  <a:lnTo>
                    <a:pt x="926" y="684"/>
                  </a:lnTo>
                  <a:lnTo>
                    <a:pt x="912" y="682"/>
                  </a:lnTo>
                  <a:lnTo>
                    <a:pt x="895" y="689"/>
                  </a:lnTo>
                  <a:lnTo>
                    <a:pt x="857" y="727"/>
                  </a:lnTo>
                  <a:lnTo>
                    <a:pt x="855" y="745"/>
                  </a:lnTo>
                  <a:lnTo>
                    <a:pt x="872" y="764"/>
                  </a:lnTo>
                  <a:lnTo>
                    <a:pt x="891" y="769"/>
                  </a:lnTo>
                  <a:lnTo>
                    <a:pt x="937" y="768"/>
                  </a:lnTo>
                  <a:lnTo>
                    <a:pt x="963" y="749"/>
                  </a:lnTo>
                  <a:lnTo>
                    <a:pt x="979" y="741"/>
                  </a:lnTo>
                  <a:lnTo>
                    <a:pt x="1006" y="743"/>
                  </a:lnTo>
                  <a:lnTo>
                    <a:pt x="1019" y="741"/>
                  </a:lnTo>
                  <a:lnTo>
                    <a:pt x="1021" y="748"/>
                  </a:lnTo>
                  <a:lnTo>
                    <a:pt x="1014" y="760"/>
                  </a:lnTo>
                  <a:lnTo>
                    <a:pt x="996" y="775"/>
                  </a:lnTo>
                  <a:lnTo>
                    <a:pt x="1001" y="790"/>
                  </a:lnTo>
                  <a:lnTo>
                    <a:pt x="1017" y="800"/>
                  </a:lnTo>
                  <a:lnTo>
                    <a:pt x="1033" y="802"/>
                  </a:lnTo>
                  <a:lnTo>
                    <a:pt x="1042" y="796"/>
                  </a:lnTo>
                  <a:lnTo>
                    <a:pt x="1059" y="761"/>
                  </a:lnTo>
                  <a:lnTo>
                    <a:pt x="1105" y="743"/>
                  </a:lnTo>
                  <a:lnTo>
                    <a:pt x="1121" y="735"/>
                  </a:lnTo>
                  <a:lnTo>
                    <a:pt x="1134" y="735"/>
                  </a:lnTo>
                  <a:lnTo>
                    <a:pt x="1143" y="748"/>
                  </a:lnTo>
                  <a:lnTo>
                    <a:pt x="1136" y="768"/>
                  </a:lnTo>
                  <a:lnTo>
                    <a:pt x="1143" y="777"/>
                  </a:lnTo>
                  <a:lnTo>
                    <a:pt x="1141" y="794"/>
                  </a:lnTo>
                  <a:lnTo>
                    <a:pt x="1120" y="805"/>
                  </a:lnTo>
                  <a:lnTo>
                    <a:pt x="1089" y="851"/>
                  </a:lnTo>
                  <a:lnTo>
                    <a:pt x="1052" y="875"/>
                  </a:lnTo>
                  <a:lnTo>
                    <a:pt x="1051" y="900"/>
                  </a:lnTo>
                  <a:lnTo>
                    <a:pt x="1061" y="918"/>
                  </a:lnTo>
                  <a:lnTo>
                    <a:pt x="1108" y="945"/>
                  </a:lnTo>
                  <a:lnTo>
                    <a:pt x="1187" y="977"/>
                  </a:lnTo>
                  <a:lnTo>
                    <a:pt x="1194" y="992"/>
                  </a:lnTo>
                  <a:lnTo>
                    <a:pt x="1188" y="1010"/>
                  </a:lnTo>
                  <a:lnTo>
                    <a:pt x="1175" y="1013"/>
                  </a:lnTo>
                  <a:lnTo>
                    <a:pt x="1112" y="1040"/>
                  </a:lnTo>
                  <a:lnTo>
                    <a:pt x="1105" y="991"/>
                  </a:lnTo>
                  <a:lnTo>
                    <a:pt x="1070" y="976"/>
                  </a:lnTo>
                  <a:lnTo>
                    <a:pt x="1002" y="949"/>
                  </a:lnTo>
                  <a:lnTo>
                    <a:pt x="992" y="926"/>
                  </a:lnTo>
                  <a:lnTo>
                    <a:pt x="980" y="918"/>
                  </a:lnTo>
                  <a:lnTo>
                    <a:pt x="963" y="926"/>
                  </a:lnTo>
                  <a:lnTo>
                    <a:pt x="951" y="975"/>
                  </a:lnTo>
                  <a:lnTo>
                    <a:pt x="959" y="981"/>
                  </a:lnTo>
                  <a:lnTo>
                    <a:pt x="959" y="992"/>
                  </a:lnTo>
                  <a:lnTo>
                    <a:pt x="926" y="1014"/>
                  </a:lnTo>
                  <a:lnTo>
                    <a:pt x="912" y="1012"/>
                  </a:lnTo>
                  <a:lnTo>
                    <a:pt x="891" y="985"/>
                  </a:lnTo>
                  <a:lnTo>
                    <a:pt x="881" y="983"/>
                  </a:lnTo>
                  <a:lnTo>
                    <a:pt x="859" y="992"/>
                  </a:lnTo>
                  <a:lnTo>
                    <a:pt x="847" y="981"/>
                  </a:lnTo>
                  <a:lnTo>
                    <a:pt x="838" y="983"/>
                  </a:lnTo>
                  <a:lnTo>
                    <a:pt x="806" y="1016"/>
                  </a:lnTo>
                  <a:lnTo>
                    <a:pt x="772" y="1018"/>
                  </a:lnTo>
                  <a:lnTo>
                    <a:pt x="758" y="1008"/>
                  </a:lnTo>
                  <a:lnTo>
                    <a:pt x="721" y="1002"/>
                  </a:lnTo>
                  <a:lnTo>
                    <a:pt x="667" y="932"/>
                  </a:lnTo>
                  <a:lnTo>
                    <a:pt x="633" y="926"/>
                  </a:lnTo>
                  <a:lnTo>
                    <a:pt x="602" y="912"/>
                  </a:lnTo>
                  <a:lnTo>
                    <a:pt x="590" y="894"/>
                  </a:lnTo>
                  <a:lnTo>
                    <a:pt x="583" y="890"/>
                  </a:lnTo>
                  <a:lnTo>
                    <a:pt x="579" y="888"/>
                  </a:lnTo>
                  <a:lnTo>
                    <a:pt x="576" y="882"/>
                  </a:lnTo>
                  <a:lnTo>
                    <a:pt x="579" y="871"/>
                  </a:lnTo>
                  <a:lnTo>
                    <a:pt x="564" y="866"/>
                  </a:lnTo>
                  <a:lnTo>
                    <a:pt x="556" y="871"/>
                  </a:lnTo>
                  <a:lnTo>
                    <a:pt x="531" y="866"/>
                  </a:lnTo>
                  <a:lnTo>
                    <a:pt x="527" y="862"/>
                  </a:lnTo>
                  <a:lnTo>
                    <a:pt x="522" y="846"/>
                  </a:lnTo>
                  <a:lnTo>
                    <a:pt x="506" y="847"/>
                  </a:lnTo>
                  <a:lnTo>
                    <a:pt x="463" y="886"/>
                  </a:lnTo>
                  <a:lnTo>
                    <a:pt x="484" y="910"/>
                  </a:lnTo>
                  <a:lnTo>
                    <a:pt x="476" y="914"/>
                  </a:lnTo>
                  <a:lnTo>
                    <a:pt x="407" y="919"/>
                  </a:lnTo>
                  <a:lnTo>
                    <a:pt x="287" y="898"/>
                  </a:lnTo>
                  <a:lnTo>
                    <a:pt x="220" y="869"/>
                  </a:lnTo>
                  <a:lnTo>
                    <a:pt x="63" y="895"/>
                  </a:lnTo>
                  <a:lnTo>
                    <a:pt x="53" y="884"/>
                  </a:lnTo>
                  <a:lnTo>
                    <a:pt x="49" y="866"/>
                  </a:lnTo>
                  <a:lnTo>
                    <a:pt x="55" y="857"/>
                  </a:lnTo>
                  <a:lnTo>
                    <a:pt x="62" y="844"/>
                  </a:lnTo>
                  <a:lnTo>
                    <a:pt x="78" y="823"/>
                  </a:lnTo>
                  <a:lnTo>
                    <a:pt x="99" y="764"/>
                  </a:lnTo>
                  <a:lnTo>
                    <a:pt x="84" y="743"/>
                  </a:lnTo>
                  <a:lnTo>
                    <a:pt x="84" y="723"/>
                  </a:lnTo>
                  <a:lnTo>
                    <a:pt x="87" y="710"/>
                  </a:lnTo>
                  <a:lnTo>
                    <a:pt x="85" y="695"/>
                  </a:lnTo>
                  <a:lnTo>
                    <a:pt x="93" y="661"/>
                  </a:lnTo>
                  <a:lnTo>
                    <a:pt x="109" y="648"/>
                  </a:lnTo>
                  <a:lnTo>
                    <a:pt x="118" y="621"/>
                  </a:lnTo>
                  <a:lnTo>
                    <a:pt x="127" y="574"/>
                  </a:lnTo>
                  <a:lnTo>
                    <a:pt x="127" y="545"/>
                  </a:lnTo>
                  <a:lnTo>
                    <a:pt x="118" y="503"/>
                  </a:lnTo>
                  <a:lnTo>
                    <a:pt x="101" y="476"/>
                  </a:lnTo>
                  <a:lnTo>
                    <a:pt x="94" y="470"/>
                  </a:lnTo>
                  <a:lnTo>
                    <a:pt x="97" y="453"/>
                  </a:lnTo>
                  <a:lnTo>
                    <a:pt x="88" y="442"/>
                  </a:lnTo>
                  <a:lnTo>
                    <a:pt x="78" y="418"/>
                  </a:lnTo>
                  <a:lnTo>
                    <a:pt x="62" y="406"/>
                  </a:lnTo>
                  <a:lnTo>
                    <a:pt x="56" y="397"/>
                  </a:lnTo>
                  <a:lnTo>
                    <a:pt x="68" y="370"/>
                  </a:lnTo>
                  <a:lnTo>
                    <a:pt x="47" y="331"/>
                  </a:lnTo>
                  <a:lnTo>
                    <a:pt x="15" y="301"/>
                  </a:lnTo>
                  <a:lnTo>
                    <a:pt x="5" y="285"/>
                  </a:lnTo>
                  <a:lnTo>
                    <a:pt x="0" y="18"/>
                  </a:lnTo>
                  <a:lnTo>
                    <a:pt x="0" y="18"/>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297400" y="1405080"/>
              <a:ext cx="782640" cy="809640"/>
            </a:xfrm>
            <a:custGeom>
              <a:avLst/>
              <a:gdLst/>
              <a:ahLst/>
              <a:rect l="l" t="t" r="r" b="b"/>
              <a:pathLst>
                <a:path w="1110" h="1183">
                  <a:moveTo>
                    <a:pt x="470" y="1183"/>
                  </a:moveTo>
                  <a:lnTo>
                    <a:pt x="463" y="1159"/>
                  </a:lnTo>
                  <a:lnTo>
                    <a:pt x="443" y="1141"/>
                  </a:lnTo>
                  <a:lnTo>
                    <a:pt x="383" y="1120"/>
                  </a:lnTo>
                  <a:lnTo>
                    <a:pt x="365" y="1047"/>
                  </a:lnTo>
                  <a:lnTo>
                    <a:pt x="354" y="1013"/>
                  </a:lnTo>
                  <a:lnTo>
                    <a:pt x="371" y="990"/>
                  </a:lnTo>
                  <a:lnTo>
                    <a:pt x="371" y="973"/>
                  </a:lnTo>
                  <a:lnTo>
                    <a:pt x="349" y="951"/>
                  </a:lnTo>
                  <a:lnTo>
                    <a:pt x="337" y="920"/>
                  </a:lnTo>
                  <a:lnTo>
                    <a:pt x="332" y="870"/>
                  </a:lnTo>
                  <a:lnTo>
                    <a:pt x="332" y="836"/>
                  </a:lnTo>
                  <a:lnTo>
                    <a:pt x="324" y="823"/>
                  </a:lnTo>
                  <a:lnTo>
                    <a:pt x="266" y="782"/>
                  </a:lnTo>
                  <a:lnTo>
                    <a:pt x="213" y="740"/>
                  </a:lnTo>
                  <a:lnTo>
                    <a:pt x="193" y="701"/>
                  </a:lnTo>
                  <a:lnTo>
                    <a:pt x="135" y="674"/>
                  </a:lnTo>
                  <a:lnTo>
                    <a:pt x="124" y="668"/>
                  </a:lnTo>
                  <a:lnTo>
                    <a:pt x="121" y="654"/>
                  </a:lnTo>
                  <a:lnTo>
                    <a:pt x="114" y="646"/>
                  </a:lnTo>
                  <a:lnTo>
                    <a:pt x="64" y="640"/>
                  </a:lnTo>
                  <a:lnTo>
                    <a:pt x="59" y="628"/>
                  </a:lnTo>
                  <a:lnTo>
                    <a:pt x="38" y="615"/>
                  </a:lnTo>
                  <a:lnTo>
                    <a:pt x="27" y="598"/>
                  </a:lnTo>
                  <a:lnTo>
                    <a:pt x="27" y="527"/>
                  </a:lnTo>
                  <a:lnTo>
                    <a:pt x="33" y="482"/>
                  </a:lnTo>
                  <a:lnTo>
                    <a:pt x="29" y="457"/>
                  </a:lnTo>
                  <a:lnTo>
                    <a:pt x="46" y="427"/>
                  </a:lnTo>
                  <a:lnTo>
                    <a:pt x="27" y="393"/>
                  </a:lnTo>
                  <a:lnTo>
                    <a:pt x="0" y="377"/>
                  </a:lnTo>
                  <a:lnTo>
                    <a:pt x="13" y="339"/>
                  </a:lnTo>
                  <a:lnTo>
                    <a:pt x="20" y="332"/>
                  </a:lnTo>
                  <a:lnTo>
                    <a:pt x="20" y="308"/>
                  </a:lnTo>
                  <a:lnTo>
                    <a:pt x="76" y="263"/>
                  </a:lnTo>
                  <a:lnTo>
                    <a:pt x="93" y="257"/>
                  </a:lnTo>
                  <a:lnTo>
                    <a:pt x="109" y="241"/>
                  </a:lnTo>
                  <a:lnTo>
                    <a:pt x="102" y="97"/>
                  </a:lnTo>
                  <a:lnTo>
                    <a:pt x="115" y="87"/>
                  </a:lnTo>
                  <a:lnTo>
                    <a:pt x="128" y="67"/>
                  </a:lnTo>
                  <a:lnTo>
                    <a:pt x="149" y="77"/>
                  </a:lnTo>
                  <a:lnTo>
                    <a:pt x="173" y="82"/>
                  </a:lnTo>
                  <a:lnTo>
                    <a:pt x="206" y="78"/>
                  </a:lnTo>
                  <a:lnTo>
                    <a:pt x="257" y="49"/>
                  </a:lnTo>
                  <a:lnTo>
                    <a:pt x="348" y="2"/>
                  </a:lnTo>
                  <a:lnTo>
                    <a:pt x="365" y="0"/>
                  </a:lnTo>
                  <a:lnTo>
                    <a:pt x="373" y="6"/>
                  </a:lnTo>
                  <a:lnTo>
                    <a:pt x="373" y="30"/>
                  </a:lnTo>
                  <a:lnTo>
                    <a:pt x="365" y="45"/>
                  </a:lnTo>
                  <a:lnTo>
                    <a:pt x="363" y="55"/>
                  </a:lnTo>
                  <a:lnTo>
                    <a:pt x="351" y="93"/>
                  </a:lnTo>
                  <a:lnTo>
                    <a:pt x="388" y="74"/>
                  </a:lnTo>
                  <a:lnTo>
                    <a:pt x="406" y="76"/>
                  </a:lnTo>
                  <a:lnTo>
                    <a:pt x="428" y="97"/>
                  </a:lnTo>
                  <a:lnTo>
                    <a:pt x="449" y="94"/>
                  </a:lnTo>
                  <a:lnTo>
                    <a:pt x="459" y="108"/>
                  </a:lnTo>
                  <a:lnTo>
                    <a:pt x="484" y="112"/>
                  </a:lnTo>
                  <a:lnTo>
                    <a:pt x="500" y="122"/>
                  </a:lnTo>
                  <a:lnTo>
                    <a:pt x="508" y="154"/>
                  </a:lnTo>
                  <a:lnTo>
                    <a:pt x="521" y="160"/>
                  </a:lnTo>
                  <a:lnTo>
                    <a:pt x="693" y="196"/>
                  </a:lnTo>
                  <a:lnTo>
                    <a:pt x="716" y="196"/>
                  </a:lnTo>
                  <a:lnTo>
                    <a:pt x="754" y="226"/>
                  </a:lnTo>
                  <a:lnTo>
                    <a:pt x="779" y="224"/>
                  </a:lnTo>
                  <a:lnTo>
                    <a:pt x="786" y="235"/>
                  </a:lnTo>
                  <a:lnTo>
                    <a:pt x="793" y="228"/>
                  </a:lnTo>
                  <a:lnTo>
                    <a:pt x="807" y="226"/>
                  </a:lnTo>
                  <a:lnTo>
                    <a:pt x="849" y="234"/>
                  </a:lnTo>
                  <a:lnTo>
                    <a:pt x="878" y="244"/>
                  </a:lnTo>
                  <a:lnTo>
                    <a:pt x="890" y="253"/>
                  </a:lnTo>
                  <a:lnTo>
                    <a:pt x="884" y="260"/>
                  </a:lnTo>
                  <a:lnTo>
                    <a:pt x="883" y="269"/>
                  </a:lnTo>
                  <a:lnTo>
                    <a:pt x="911" y="277"/>
                  </a:lnTo>
                  <a:lnTo>
                    <a:pt x="946" y="293"/>
                  </a:lnTo>
                  <a:lnTo>
                    <a:pt x="948" y="318"/>
                  </a:lnTo>
                  <a:lnTo>
                    <a:pt x="940" y="383"/>
                  </a:lnTo>
                  <a:lnTo>
                    <a:pt x="947" y="386"/>
                  </a:lnTo>
                  <a:lnTo>
                    <a:pt x="977" y="380"/>
                  </a:lnTo>
                  <a:lnTo>
                    <a:pt x="983" y="383"/>
                  </a:lnTo>
                  <a:lnTo>
                    <a:pt x="979" y="399"/>
                  </a:lnTo>
                  <a:lnTo>
                    <a:pt x="968" y="412"/>
                  </a:lnTo>
                  <a:lnTo>
                    <a:pt x="977" y="438"/>
                  </a:lnTo>
                  <a:lnTo>
                    <a:pt x="1006" y="457"/>
                  </a:lnTo>
                  <a:lnTo>
                    <a:pt x="999" y="462"/>
                  </a:lnTo>
                  <a:lnTo>
                    <a:pt x="960" y="501"/>
                  </a:lnTo>
                  <a:lnTo>
                    <a:pt x="937" y="553"/>
                  </a:lnTo>
                  <a:lnTo>
                    <a:pt x="927" y="585"/>
                  </a:lnTo>
                  <a:lnTo>
                    <a:pt x="924" y="603"/>
                  </a:lnTo>
                  <a:lnTo>
                    <a:pt x="932" y="610"/>
                  </a:lnTo>
                  <a:lnTo>
                    <a:pt x="960" y="594"/>
                  </a:lnTo>
                  <a:lnTo>
                    <a:pt x="991" y="537"/>
                  </a:lnTo>
                  <a:lnTo>
                    <a:pt x="1025" y="509"/>
                  </a:lnTo>
                  <a:lnTo>
                    <a:pt x="1042" y="501"/>
                  </a:lnTo>
                  <a:lnTo>
                    <a:pt x="1048" y="487"/>
                  </a:lnTo>
                  <a:lnTo>
                    <a:pt x="1062" y="472"/>
                  </a:lnTo>
                  <a:lnTo>
                    <a:pt x="1068" y="457"/>
                  </a:lnTo>
                  <a:lnTo>
                    <a:pt x="1066" y="438"/>
                  </a:lnTo>
                  <a:lnTo>
                    <a:pt x="1072" y="422"/>
                  </a:lnTo>
                  <a:lnTo>
                    <a:pt x="1079" y="417"/>
                  </a:lnTo>
                  <a:lnTo>
                    <a:pt x="1086" y="401"/>
                  </a:lnTo>
                  <a:lnTo>
                    <a:pt x="1095" y="392"/>
                  </a:lnTo>
                  <a:lnTo>
                    <a:pt x="1104" y="391"/>
                  </a:lnTo>
                  <a:lnTo>
                    <a:pt x="1110" y="403"/>
                  </a:lnTo>
                  <a:lnTo>
                    <a:pt x="1107" y="433"/>
                  </a:lnTo>
                  <a:lnTo>
                    <a:pt x="1080" y="501"/>
                  </a:lnTo>
                  <a:lnTo>
                    <a:pt x="1066" y="520"/>
                  </a:lnTo>
                  <a:lnTo>
                    <a:pt x="1059" y="541"/>
                  </a:lnTo>
                  <a:lnTo>
                    <a:pt x="1060" y="556"/>
                  </a:lnTo>
                  <a:lnTo>
                    <a:pt x="1036" y="611"/>
                  </a:lnTo>
                  <a:lnTo>
                    <a:pt x="1036" y="660"/>
                  </a:lnTo>
                  <a:lnTo>
                    <a:pt x="1034" y="693"/>
                  </a:lnTo>
                  <a:lnTo>
                    <a:pt x="1010" y="720"/>
                  </a:lnTo>
                  <a:lnTo>
                    <a:pt x="1002" y="735"/>
                  </a:lnTo>
                  <a:lnTo>
                    <a:pt x="1010" y="771"/>
                  </a:lnTo>
                  <a:lnTo>
                    <a:pt x="1013" y="834"/>
                  </a:lnTo>
                  <a:lnTo>
                    <a:pt x="1002" y="850"/>
                  </a:lnTo>
                  <a:lnTo>
                    <a:pt x="983" y="918"/>
                  </a:lnTo>
                  <a:lnTo>
                    <a:pt x="996" y="1015"/>
                  </a:lnTo>
                  <a:lnTo>
                    <a:pt x="1023" y="1080"/>
                  </a:lnTo>
                  <a:lnTo>
                    <a:pt x="1016" y="1093"/>
                  </a:lnTo>
                  <a:lnTo>
                    <a:pt x="1021" y="1105"/>
                  </a:lnTo>
                  <a:lnTo>
                    <a:pt x="1017" y="1118"/>
                  </a:lnTo>
                  <a:lnTo>
                    <a:pt x="1021" y="1146"/>
                  </a:lnTo>
                  <a:lnTo>
                    <a:pt x="470" y="1183"/>
                  </a:lnTo>
                  <a:close/>
                </a:path>
              </a:pathLst>
            </a:custGeom>
            <a:solidFill>
              <a:srgbClr val="00547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5297400" y="1405080"/>
              <a:ext cx="782640" cy="809640"/>
            </a:xfrm>
            <a:custGeom>
              <a:avLst/>
              <a:gdLst/>
              <a:ahLst/>
              <a:rect l="l" t="t" r="r" b="b"/>
              <a:pathLst>
                <a:path w="1110" h="1183">
                  <a:moveTo>
                    <a:pt x="470" y="1183"/>
                  </a:moveTo>
                  <a:lnTo>
                    <a:pt x="463" y="1159"/>
                  </a:lnTo>
                  <a:lnTo>
                    <a:pt x="443" y="1141"/>
                  </a:lnTo>
                  <a:lnTo>
                    <a:pt x="383" y="1120"/>
                  </a:lnTo>
                  <a:lnTo>
                    <a:pt x="365" y="1047"/>
                  </a:lnTo>
                  <a:lnTo>
                    <a:pt x="354" y="1013"/>
                  </a:lnTo>
                  <a:lnTo>
                    <a:pt x="371" y="990"/>
                  </a:lnTo>
                  <a:lnTo>
                    <a:pt x="371" y="973"/>
                  </a:lnTo>
                  <a:lnTo>
                    <a:pt x="349" y="951"/>
                  </a:lnTo>
                  <a:lnTo>
                    <a:pt x="337" y="920"/>
                  </a:lnTo>
                  <a:lnTo>
                    <a:pt x="332" y="870"/>
                  </a:lnTo>
                  <a:lnTo>
                    <a:pt x="332" y="836"/>
                  </a:lnTo>
                  <a:lnTo>
                    <a:pt x="324" y="823"/>
                  </a:lnTo>
                  <a:lnTo>
                    <a:pt x="266" y="782"/>
                  </a:lnTo>
                  <a:lnTo>
                    <a:pt x="213" y="740"/>
                  </a:lnTo>
                  <a:lnTo>
                    <a:pt x="193" y="701"/>
                  </a:lnTo>
                  <a:lnTo>
                    <a:pt x="135" y="674"/>
                  </a:lnTo>
                  <a:lnTo>
                    <a:pt x="124" y="668"/>
                  </a:lnTo>
                  <a:lnTo>
                    <a:pt x="121" y="654"/>
                  </a:lnTo>
                  <a:lnTo>
                    <a:pt x="114" y="646"/>
                  </a:lnTo>
                  <a:lnTo>
                    <a:pt x="64" y="640"/>
                  </a:lnTo>
                  <a:lnTo>
                    <a:pt x="59" y="628"/>
                  </a:lnTo>
                  <a:lnTo>
                    <a:pt x="38" y="615"/>
                  </a:lnTo>
                  <a:lnTo>
                    <a:pt x="27" y="598"/>
                  </a:lnTo>
                  <a:lnTo>
                    <a:pt x="27" y="527"/>
                  </a:lnTo>
                  <a:lnTo>
                    <a:pt x="33" y="482"/>
                  </a:lnTo>
                  <a:lnTo>
                    <a:pt x="29" y="457"/>
                  </a:lnTo>
                  <a:lnTo>
                    <a:pt x="46" y="427"/>
                  </a:lnTo>
                  <a:lnTo>
                    <a:pt x="27" y="393"/>
                  </a:lnTo>
                  <a:lnTo>
                    <a:pt x="0" y="377"/>
                  </a:lnTo>
                  <a:lnTo>
                    <a:pt x="13" y="339"/>
                  </a:lnTo>
                  <a:lnTo>
                    <a:pt x="20" y="332"/>
                  </a:lnTo>
                  <a:lnTo>
                    <a:pt x="20" y="308"/>
                  </a:lnTo>
                  <a:lnTo>
                    <a:pt x="76" y="263"/>
                  </a:lnTo>
                  <a:lnTo>
                    <a:pt x="93" y="257"/>
                  </a:lnTo>
                  <a:lnTo>
                    <a:pt x="109" y="241"/>
                  </a:lnTo>
                  <a:lnTo>
                    <a:pt x="102" y="97"/>
                  </a:lnTo>
                  <a:lnTo>
                    <a:pt x="115" y="87"/>
                  </a:lnTo>
                  <a:lnTo>
                    <a:pt x="128" y="67"/>
                  </a:lnTo>
                  <a:lnTo>
                    <a:pt x="149" y="77"/>
                  </a:lnTo>
                  <a:lnTo>
                    <a:pt x="173" y="82"/>
                  </a:lnTo>
                  <a:lnTo>
                    <a:pt x="206" y="78"/>
                  </a:lnTo>
                  <a:lnTo>
                    <a:pt x="257" y="49"/>
                  </a:lnTo>
                  <a:lnTo>
                    <a:pt x="348" y="2"/>
                  </a:lnTo>
                  <a:lnTo>
                    <a:pt x="365" y="0"/>
                  </a:lnTo>
                  <a:lnTo>
                    <a:pt x="373" y="6"/>
                  </a:lnTo>
                  <a:lnTo>
                    <a:pt x="373" y="30"/>
                  </a:lnTo>
                  <a:lnTo>
                    <a:pt x="365" y="45"/>
                  </a:lnTo>
                  <a:lnTo>
                    <a:pt x="363" y="55"/>
                  </a:lnTo>
                  <a:lnTo>
                    <a:pt x="351" y="93"/>
                  </a:lnTo>
                  <a:lnTo>
                    <a:pt x="388" y="74"/>
                  </a:lnTo>
                  <a:lnTo>
                    <a:pt x="406" y="76"/>
                  </a:lnTo>
                  <a:lnTo>
                    <a:pt x="428" y="97"/>
                  </a:lnTo>
                  <a:lnTo>
                    <a:pt x="449" y="94"/>
                  </a:lnTo>
                  <a:lnTo>
                    <a:pt x="459" y="108"/>
                  </a:lnTo>
                  <a:lnTo>
                    <a:pt x="484" y="112"/>
                  </a:lnTo>
                  <a:lnTo>
                    <a:pt x="500" y="122"/>
                  </a:lnTo>
                  <a:lnTo>
                    <a:pt x="508" y="154"/>
                  </a:lnTo>
                  <a:lnTo>
                    <a:pt x="521" y="160"/>
                  </a:lnTo>
                  <a:lnTo>
                    <a:pt x="693" y="196"/>
                  </a:lnTo>
                  <a:lnTo>
                    <a:pt x="716" y="196"/>
                  </a:lnTo>
                  <a:lnTo>
                    <a:pt x="754" y="226"/>
                  </a:lnTo>
                  <a:lnTo>
                    <a:pt x="779" y="224"/>
                  </a:lnTo>
                  <a:lnTo>
                    <a:pt x="786" y="235"/>
                  </a:lnTo>
                  <a:lnTo>
                    <a:pt x="793" y="228"/>
                  </a:lnTo>
                  <a:lnTo>
                    <a:pt x="807" y="226"/>
                  </a:lnTo>
                  <a:lnTo>
                    <a:pt x="849" y="234"/>
                  </a:lnTo>
                  <a:lnTo>
                    <a:pt x="878" y="244"/>
                  </a:lnTo>
                  <a:lnTo>
                    <a:pt x="890" y="253"/>
                  </a:lnTo>
                  <a:lnTo>
                    <a:pt x="884" y="260"/>
                  </a:lnTo>
                  <a:lnTo>
                    <a:pt x="883" y="269"/>
                  </a:lnTo>
                  <a:lnTo>
                    <a:pt x="911" y="277"/>
                  </a:lnTo>
                  <a:lnTo>
                    <a:pt x="946" y="293"/>
                  </a:lnTo>
                  <a:lnTo>
                    <a:pt x="948" y="318"/>
                  </a:lnTo>
                  <a:lnTo>
                    <a:pt x="940" y="383"/>
                  </a:lnTo>
                  <a:lnTo>
                    <a:pt x="947" y="386"/>
                  </a:lnTo>
                  <a:lnTo>
                    <a:pt x="977" y="380"/>
                  </a:lnTo>
                  <a:lnTo>
                    <a:pt x="983" y="383"/>
                  </a:lnTo>
                  <a:lnTo>
                    <a:pt x="979" y="399"/>
                  </a:lnTo>
                  <a:lnTo>
                    <a:pt x="968" y="412"/>
                  </a:lnTo>
                  <a:lnTo>
                    <a:pt x="977" y="438"/>
                  </a:lnTo>
                  <a:lnTo>
                    <a:pt x="1006" y="457"/>
                  </a:lnTo>
                  <a:lnTo>
                    <a:pt x="999" y="462"/>
                  </a:lnTo>
                  <a:lnTo>
                    <a:pt x="960" y="501"/>
                  </a:lnTo>
                  <a:lnTo>
                    <a:pt x="937" y="553"/>
                  </a:lnTo>
                  <a:lnTo>
                    <a:pt x="927" y="585"/>
                  </a:lnTo>
                  <a:lnTo>
                    <a:pt x="924" y="603"/>
                  </a:lnTo>
                  <a:lnTo>
                    <a:pt x="932" y="610"/>
                  </a:lnTo>
                  <a:lnTo>
                    <a:pt x="960" y="594"/>
                  </a:lnTo>
                  <a:lnTo>
                    <a:pt x="991" y="537"/>
                  </a:lnTo>
                  <a:lnTo>
                    <a:pt x="1025" y="509"/>
                  </a:lnTo>
                  <a:lnTo>
                    <a:pt x="1042" y="501"/>
                  </a:lnTo>
                  <a:lnTo>
                    <a:pt x="1048" y="487"/>
                  </a:lnTo>
                  <a:lnTo>
                    <a:pt x="1062" y="472"/>
                  </a:lnTo>
                  <a:lnTo>
                    <a:pt x="1068" y="457"/>
                  </a:lnTo>
                  <a:lnTo>
                    <a:pt x="1066" y="438"/>
                  </a:lnTo>
                  <a:lnTo>
                    <a:pt x="1072" y="422"/>
                  </a:lnTo>
                  <a:lnTo>
                    <a:pt x="1079" y="417"/>
                  </a:lnTo>
                  <a:lnTo>
                    <a:pt x="1086" y="401"/>
                  </a:lnTo>
                  <a:lnTo>
                    <a:pt x="1095" y="392"/>
                  </a:lnTo>
                  <a:lnTo>
                    <a:pt x="1104" y="391"/>
                  </a:lnTo>
                  <a:lnTo>
                    <a:pt x="1110" y="403"/>
                  </a:lnTo>
                  <a:lnTo>
                    <a:pt x="1107" y="433"/>
                  </a:lnTo>
                  <a:lnTo>
                    <a:pt x="1080" y="501"/>
                  </a:lnTo>
                  <a:lnTo>
                    <a:pt x="1066" y="520"/>
                  </a:lnTo>
                  <a:lnTo>
                    <a:pt x="1059" y="541"/>
                  </a:lnTo>
                  <a:lnTo>
                    <a:pt x="1060" y="556"/>
                  </a:lnTo>
                  <a:lnTo>
                    <a:pt x="1036" y="611"/>
                  </a:lnTo>
                  <a:lnTo>
                    <a:pt x="1036" y="660"/>
                  </a:lnTo>
                  <a:lnTo>
                    <a:pt x="1034" y="693"/>
                  </a:lnTo>
                  <a:lnTo>
                    <a:pt x="1010" y="720"/>
                  </a:lnTo>
                  <a:lnTo>
                    <a:pt x="1002" y="735"/>
                  </a:lnTo>
                  <a:lnTo>
                    <a:pt x="1010" y="771"/>
                  </a:lnTo>
                  <a:lnTo>
                    <a:pt x="1013" y="834"/>
                  </a:lnTo>
                  <a:lnTo>
                    <a:pt x="1002" y="850"/>
                  </a:lnTo>
                  <a:lnTo>
                    <a:pt x="983" y="918"/>
                  </a:lnTo>
                  <a:lnTo>
                    <a:pt x="996" y="1015"/>
                  </a:lnTo>
                  <a:lnTo>
                    <a:pt x="1023" y="1080"/>
                  </a:lnTo>
                  <a:lnTo>
                    <a:pt x="1016" y="1093"/>
                  </a:lnTo>
                  <a:lnTo>
                    <a:pt x="1021" y="1105"/>
                  </a:lnTo>
                  <a:lnTo>
                    <a:pt x="1017" y="1118"/>
                  </a:lnTo>
                  <a:lnTo>
                    <a:pt x="1021" y="1146"/>
                  </a:lnTo>
                  <a:lnTo>
                    <a:pt x="470" y="1183"/>
                  </a:lnTo>
                  <a:lnTo>
                    <a:pt x="470" y="1183"/>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5527800" y="2189160"/>
              <a:ext cx="591840" cy="1022400"/>
            </a:xfrm>
            <a:custGeom>
              <a:avLst/>
              <a:gdLst/>
              <a:ahLst/>
              <a:rect l="l" t="t" r="r" b="b"/>
              <a:pathLst>
                <a:path w="839" h="1492">
                  <a:moveTo>
                    <a:pt x="692" y="0"/>
                  </a:moveTo>
                  <a:lnTo>
                    <a:pt x="141" y="36"/>
                  </a:lnTo>
                  <a:lnTo>
                    <a:pt x="150" y="52"/>
                  </a:lnTo>
                  <a:lnTo>
                    <a:pt x="189" y="80"/>
                  </a:lnTo>
                  <a:lnTo>
                    <a:pt x="195" y="103"/>
                  </a:lnTo>
                  <a:lnTo>
                    <a:pt x="231" y="126"/>
                  </a:lnTo>
                  <a:lnTo>
                    <a:pt x="246" y="171"/>
                  </a:lnTo>
                  <a:lnTo>
                    <a:pt x="245" y="193"/>
                  </a:lnTo>
                  <a:lnTo>
                    <a:pt x="231" y="221"/>
                  </a:lnTo>
                  <a:lnTo>
                    <a:pt x="216" y="234"/>
                  </a:lnTo>
                  <a:lnTo>
                    <a:pt x="216" y="259"/>
                  </a:lnTo>
                  <a:lnTo>
                    <a:pt x="182" y="297"/>
                  </a:lnTo>
                  <a:lnTo>
                    <a:pt x="150" y="309"/>
                  </a:lnTo>
                  <a:lnTo>
                    <a:pt x="140" y="316"/>
                  </a:lnTo>
                  <a:lnTo>
                    <a:pt x="97" y="319"/>
                  </a:lnTo>
                  <a:lnTo>
                    <a:pt x="79" y="332"/>
                  </a:lnTo>
                  <a:lnTo>
                    <a:pt x="65" y="358"/>
                  </a:lnTo>
                  <a:lnTo>
                    <a:pt x="69" y="382"/>
                  </a:lnTo>
                  <a:lnTo>
                    <a:pt x="94" y="407"/>
                  </a:lnTo>
                  <a:lnTo>
                    <a:pt x="101" y="421"/>
                  </a:lnTo>
                  <a:lnTo>
                    <a:pt x="94" y="464"/>
                  </a:lnTo>
                  <a:lnTo>
                    <a:pt x="63" y="530"/>
                  </a:lnTo>
                  <a:lnTo>
                    <a:pt x="34" y="547"/>
                  </a:lnTo>
                  <a:lnTo>
                    <a:pt x="22" y="570"/>
                  </a:lnTo>
                  <a:lnTo>
                    <a:pt x="26" y="591"/>
                  </a:lnTo>
                  <a:lnTo>
                    <a:pt x="10" y="612"/>
                  </a:lnTo>
                  <a:lnTo>
                    <a:pt x="10" y="623"/>
                  </a:lnTo>
                  <a:lnTo>
                    <a:pt x="0" y="651"/>
                  </a:lnTo>
                  <a:lnTo>
                    <a:pt x="3" y="701"/>
                  </a:lnTo>
                  <a:lnTo>
                    <a:pt x="21" y="745"/>
                  </a:lnTo>
                  <a:lnTo>
                    <a:pt x="22" y="765"/>
                  </a:lnTo>
                  <a:lnTo>
                    <a:pt x="84" y="836"/>
                  </a:lnTo>
                  <a:lnTo>
                    <a:pt x="144" y="883"/>
                  </a:lnTo>
                  <a:lnTo>
                    <a:pt x="160" y="899"/>
                  </a:lnTo>
                  <a:lnTo>
                    <a:pt x="197" y="994"/>
                  </a:lnTo>
                  <a:lnTo>
                    <a:pt x="205" y="1004"/>
                  </a:lnTo>
                  <a:lnTo>
                    <a:pt x="227" y="987"/>
                  </a:lnTo>
                  <a:lnTo>
                    <a:pt x="242" y="977"/>
                  </a:lnTo>
                  <a:lnTo>
                    <a:pt x="293" y="1002"/>
                  </a:lnTo>
                  <a:lnTo>
                    <a:pt x="300" y="1019"/>
                  </a:lnTo>
                  <a:lnTo>
                    <a:pt x="287" y="1051"/>
                  </a:lnTo>
                  <a:lnTo>
                    <a:pt x="294" y="1091"/>
                  </a:lnTo>
                  <a:lnTo>
                    <a:pt x="256" y="1134"/>
                  </a:lnTo>
                  <a:lnTo>
                    <a:pt x="250" y="1149"/>
                  </a:lnTo>
                  <a:lnTo>
                    <a:pt x="262" y="1181"/>
                  </a:lnTo>
                  <a:lnTo>
                    <a:pt x="299" y="1215"/>
                  </a:lnTo>
                  <a:lnTo>
                    <a:pt x="356" y="1249"/>
                  </a:lnTo>
                  <a:lnTo>
                    <a:pt x="386" y="1261"/>
                  </a:lnTo>
                  <a:lnTo>
                    <a:pt x="446" y="1313"/>
                  </a:lnTo>
                  <a:lnTo>
                    <a:pt x="458" y="1358"/>
                  </a:lnTo>
                  <a:lnTo>
                    <a:pt x="475" y="1383"/>
                  </a:lnTo>
                  <a:lnTo>
                    <a:pt x="472" y="1394"/>
                  </a:lnTo>
                  <a:lnTo>
                    <a:pt x="460" y="1410"/>
                  </a:lnTo>
                  <a:lnTo>
                    <a:pt x="458" y="1421"/>
                  </a:lnTo>
                  <a:lnTo>
                    <a:pt x="501" y="1492"/>
                  </a:lnTo>
                  <a:lnTo>
                    <a:pt x="509" y="1489"/>
                  </a:lnTo>
                  <a:lnTo>
                    <a:pt x="511" y="1478"/>
                  </a:lnTo>
                  <a:lnTo>
                    <a:pt x="525" y="1478"/>
                  </a:lnTo>
                  <a:lnTo>
                    <a:pt x="529" y="1484"/>
                  </a:lnTo>
                  <a:lnTo>
                    <a:pt x="541" y="1438"/>
                  </a:lnTo>
                  <a:lnTo>
                    <a:pt x="567" y="1425"/>
                  </a:lnTo>
                  <a:lnTo>
                    <a:pt x="603" y="1431"/>
                  </a:lnTo>
                  <a:lnTo>
                    <a:pt x="627" y="1446"/>
                  </a:lnTo>
                  <a:lnTo>
                    <a:pt x="654" y="1463"/>
                  </a:lnTo>
                  <a:lnTo>
                    <a:pt x="683" y="1450"/>
                  </a:lnTo>
                  <a:lnTo>
                    <a:pt x="670" y="1396"/>
                  </a:lnTo>
                  <a:lnTo>
                    <a:pt x="668" y="1366"/>
                  </a:lnTo>
                  <a:lnTo>
                    <a:pt x="686" y="1358"/>
                  </a:lnTo>
                  <a:lnTo>
                    <a:pt x="751" y="1339"/>
                  </a:lnTo>
                  <a:lnTo>
                    <a:pt x="755" y="1333"/>
                  </a:lnTo>
                  <a:lnTo>
                    <a:pt x="734" y="1306"/>
                  </a:lnTo>
                  <a:lnTo>
                    <a:pt x="731" y="1299"/>
                  </a:lnTo>
                  <a:lnTo>
                    <a:pt x="740" y="1293"/>
                  </a:lnTo>
                  <a:lnTo>
                    <a:pt x="744" y="1272"/>
                  </a:lnTo>
                  <a:lnTo>
                    <a:pt x="753" y="1259"/>
                  </a:lnTo>
                  <a:lnTo>
                    <a:pt x="749" y="1254"/>
                  </a:lnTo>
                  <a:lnTo>
                    <a:pt x="747" y="1244"/>
                  </a:lnTo>
                  <a:lnTo>
                    <a:pt x="747" y="1233"/>
                  </a:lnTo>
                  <a:lnTo>
                    <a:pt x="759" y="1186"/>
                  </a:lnTo>
                  <a:lnTo>
                    <a:pt x="759" y="1145"/>
                  </a:lnTo>
                  <a:lnTo>
                    <a:pt x="790" y="1116"/>
                  </a:lnTo>
                  <a:lnTo>
                    <a:pt x="810" y="1072"/>
                  </a:lnTo>
                  <a:lnTo>
                    <a:pt x="812" y="1056"/>
                  </a:lnTo>
                  <a:lnTo>
                    <a:pt x="839" y="1003"/>
                  </a:lnTo>
                  <a:lnTo>
                    <a:pt x="831" y="946"/>
                  </a:lnTo>
                  <a:lnTo>
                    <a:pt x="808" y="899"/>
                  </a:lnTo>
                  <a:lnTo>
                    <a:pt x="816" y="865"/>
                  </a:lnTo>
                  <a:lnTo>
                    <a:pt x="812" y="842"/>
                  </a:lnTo>
                  <a:lnTo>
                    <a:pt x="820" y="833"/>
                  </a:lnTo>
                  <a:lnTo>
                    <a:pt x="768" y="202"/>
                  </a:lnTo>
                  <a:lnTo>
                    <a:pt x="756" y="193"/>
                  </a:lnTo>
                  <a:lnTo>
                    <a:pt x="749" y="179"/>
                  </a:lnTo>
                  <a:lnTo>
                    <a:pt x="736" y="120"/>
                  </a:lnTo>
                  <a:lnTo>
                    <a:pt x="727" y="103"/>
                  </a:lnTo>
                  <a:lnTo>
                    <a:pt x="709" y="86"/>
                  </a:lnTo>
                  <a:lnTo>
                    <a:pt x="692" y="48"/>
                  </a:lnTo>
                  <a:lnTo>
                    <a:pt x="692" y="0"/>
                  </a:lnTo>
                  <a:close/>
                </a:path>
              </a:pathLst>
            </a:custGeom>
            <a:solidFill>
              <a:srgbClr val="0054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527800" y="2189160"/>
              <a:ext cx="591840" cy="1022400"/>
            </a:xfrm>
            <a:custGeom>
              <a:avLst/>
              <a:gdLst/>
              <a:ahLst/>
              <a:rect l="l" t="t" r="r" b="b"/>
              <a:pathLst>
                <a:path w="839" h="1492">
                  <a:moveTo>
                    <a:pt x="692" y="0"/>
                  </a:moveTo>
                  <a:lnTo>
                    <a:pt x="141" y="36"/>
                  </a:lnTo>
                  <a:lnTo>
                    <a:pt x="150" y="52"/>
                  </a:lnTo>
                  <a:lnTo>
                    <a:pt x="189" y="80"/>
                  </a:lnTo>
                  <a:lnTo>
                    <a:pt x="195" y="103"/>
                  </a:lnTo>
                  <a:lnTo>
                    <a:pt x="231" y="126"/>
                  </a:lnTo>
                  <a:lnTo>
                    <a:pt x="246" y="171"/>
                  </a:lnTo>
                  <a:lnTo>
                    <a:pt x="245" y="193"/>
                  </a:lnTo>
                  <a:lnTo>
                    <a:pt x="231" y="221"/>
                  </a:lnTo>
                  <a:lnTo>
                    <a:pt x="216" y="234"/>
                  </a:lnTo>
                  <a:lnTo>
                    <a:pt x="216" y="259"/>
                  </a:lnTo>
                  <a:lnTo>
                    <a:pt x="182" y="297"/>
                  </a:lnTo>
                  <a:lnTo>
                    <a:pt x="150" y="309"/>
                  </a:lnTo>
                  <a:lnTo>
                    <a:pt x="140" y="316"/>
                  </a:lnTo>
                  <a:lnTo>
                    <a:pt x="97" y="319"/>
                  </a:lnTo>
                  <a:lnTo>
                    <a:pt x="79" y="332"/>
                  </a:lnTo>
                  <a:lnTo>
                    <a:pt x="65" y="358"/>
                  </a:lnTo>
                  <a:lnTo>
                    <a:pt x="69" y="382"/>
                  </a:lnTo>
                  <a:lnTo>
                    <a:pt x="94" y="407"/>
                  </a:lnTo>
                  <a:lnTo>
                    <a:pt x="101" y="421"/>
                  </a:lnTo>
                  <a:lnTo>
                    <a:pt x="94" y="464"/>
                  </a:lnTo>
                  <a:lnTo>
                    <a:pt x="63" y="530"/>
                  </a:lnTo>
                  <a:lnTo>
                    <a:pt x="34" y="547"/>
                  </a:lnTo>
                  <a:lnTo>
                    <a:pt x="22" y="570"/>
                  </a:lnTo>
                  <a:lnTo>
                    <a:pt x="26" y="591"/>
                  </a:lnTo>
                  <a:lnTo>
                    <a:pt x="10" y="612"/>
                  </a:lnTo>
                  <a:lnTo>
                    <a:pt x="10" y="623"/>
                  </a:lnTo>
                  <a:lnTo>
                    <a:pt x="0" y="651"/>
                  </a:lnTo>
                  <a:lnTo>
                    <a:pt x="3" y="701"/>
                  </a:lnTo>
                  <a:lnTo>
                    <a:pt x="21" y="745"/>
                  </a:lnTo>
                  <a:lnTo>
                    <a:pt x="22" y="765"/>
                  </a:lnTo>
                  <a:lnTo>
                    <a:pt x="84" y="836"/>
                  </a:lnTo>
                  <a:lnTo>
                    <a:pt x="144" y="883"/>
                  </a:lnTo>
                  <a:lnTo>
                    <a:pt x="160" y="899"/>
                  </a:lnTo>
                  <a:lnTo>
                    <a:pt x="197" y="994"/>
                  </a:lnTo>
                  <a:lnTo>
                    <a:pt x="205" y="1004"/>
                  </a:lnTo>
                  <a:lnTo>
                    <a:pt x="227" y="987"/>
                  </a:lnTo>
                  <a:lnTo>
                    <a:pt x="242" y="977"/>
                  </a:lnTo>
                  <a:lnTo>
                    <a:pt x="293" y="1002"/>
                  </a:lnTo>
                  <a:lnTo>
                    <a:pt x="300" y="1019"/>
                  </a:lnTo>
                  <a:lnTo>
                    <a:pt x="287" y="1051"/>
                  </a:lnTo>
                  <a:lnTo>
                    <a:pt x="294" y="1091"/>
                  </a:lnTo>
                  <a:lnTo>
                    <a:pt x="256" y="1134"/>
                  </a:lnTo>
                  <a:lnTo>
                    <a:pt x="250" y="1149"/>
                  </a:lnTo>
                  <a:lnTo>
                    <a:pt x="262" y="1181"/>
                  </a:lnTo>
                  <a:lnTo>
                    <a:pt x="299" y="1215"/>
                  </a:lnTo>
                  <a:lnTo>
                    <a:pt x="356" y="1249"/>
                  </a:lnTo>
                  <a:lnTo>
                    <a:pt x="386" y="1261"/>
                  </a:lnTo>
                  <a:lnTo>
                    <a:pt x="446" y="1313"/>
                  </a:lnTo>
                  <a:lnTo>
                    <a:pt x="458" y="1358"/>
                  </a:lnTo>
                  <a:lnTo>
                    <a:pt x="475" y="1383"/>
                  </a:lnTo>
                  <a:lnTo>
                    <a:pt x="472" y="1394"/>
                  </a:lnTo>
                  <a:lnTo>
                    <a:pt x="460" y="1410"/>
                  </a:lnTo>
                  <a:lnTo>
                    <a:pt x="458" y="1421"/>
                  </a:lnTo>
                  <a:lnTo>
                    <a:pt x="501" y="1492"/>
                  </a:lnTo>
                  <a:lnTo>
                    <a:pt x="509" y="1489"/>
                  </a:lnTo>
                  <a:lnTo>
                    <a:pt x="511" y="1478"/>
                  </a:lnTo>
                  <a:lnTo>
                    <a:pt x="525" y="1478"/>
                  </a:lnTo>
                  <a:lnTo>
                    <a:pt x="529" y="1484"/>
                  </a:lnTo>
                  <a:lnTo>
                    <a:pt x="541" y="1438"/>
                  </a:lnTo>
                  <a:lnTo>
                    <a:pt x="567" y="1425"/>
                  </a:lnTo>
                  <a:lnTo>
                    <a:pt x="603" y="1431"/>
                  </a:lnTo>
                  <a:lnTo>
                    <a:pt x="627" y="1446"/>
                  </a:lnTo>
                  <a:lnTo>
                    <a:pt x="654" y="1463"/>
                  </a:lnTo>
                  <a:lnTo>
                    <a:pt x="683" y="1450"/>
                  </a:lnTo>
                  <a:lnTo>
                    <a:pt x="670" y="1396"/>
                  </a:lnTo>
                  <a:lnTo>
                    <a:pt x="668" y="1366"/>
                  </a:lnTo>
                  <a:lnTo>
                    <a:pt x="686" y="1358"/>
                  </a:lnTo>
                  <a:lnTo>
                    <a:pt x="751" y="1339"/>
                  </a:lnTo>
                  <a:lnTo>
                    <a:pt x="755" y="1333"/>
                  </a:lnTo>
                  <a:lnTo>
                    <a:pt x="734" y="1306"/>
                  </a:lnTo>
                  <a:lnTo>
                    <a:pt x="731" y="1299"/>
                  </a:lnTo>
                  <a:lnTo>
                    <a:pt x="740" y="1293"/>
                  </a:lnTo>
                  <a:lnTo>
                    <a:pt x="744" y="1272"/>
                  </a:lnTo>
                  <a:lnTo>
                    <a:pt x="753" y="1259"/>
                  </a:lnTo>
                  <a:lnTo>
                    <a:pt x="749" y="1254"/>
                  </a:lnTo>
                  <a:lnTo>
                    <a:pt x="747" y="1244"/>
                  </a:lnTo>
                  <a:lnTo>
                    <a:pt x="747" y="1233"/>
                  </a:lnTo>
                  <a:lnTo>
                    <a:pt x="759" y="1186"/>
                  </a:lnTo>
                  <a:lnTo>
                    <a:pt x="759" y="1145"/>
                  </a:lnTo>
                  <a:lnTo>
                    <a:pt x="790" y="1116"/>
                  </a:lnTo>
                  <a:lnTo>
                    <a:pt x="810" y="1072"/>
                  </a:lnTo>
                  <a:lnTo>
                    <a:pt x="812" y="1056"/>
                  </a:lnTo>
                  <a:lnTo>
                    <a:pt x="839" y="1003"/>
                  </a:lnTo>
                  <a:lnTo>
                    <a:pt x="831" y="946"/>
                  </a:lnTo>
                  <a:lnTo>
                    <a:pt x="808" y="899"/>
                  </a:lnTo>
                  <a:lnTo>
                    <a:pt x="816" y="865"/>
                  </a:lnTo>
                  <a:lnTo>
                    <a:pt x="812" y="842"/>
                  </a:lnTo>
                  <a:lnTo>
                    <a:pt x="820" y="833"/>
                  </a:lnTo>
                  <a:lnTo>
                    <a:pt x="768" y="202"/>
                  </a:lnTo>
                  <a:lnTo>
                    <a:pt x="756" y="193"/>
                  </a:lnTo>
                  <a:lnTo>
                    <a:pt x="749" y="179"/>
                  </a:lnTo>
                  <a:lnTo>
                    <a:pt x="736" y="120"/>
                  </a:lnTo>
                  <a:lnTo>
                    <a:pt x="727" y="103"/>
                  </a:lnTo>
                  <a:lnTo>
                    <a:pt x="709" y="86"/>
                  </a:lnTo>
                  <a:lnTo>
                    <a:pt x="692" y="48"/>
                  </a:lnTo>
                  <a:lnTo>
                    <a:pt x="692" y="0"/>
                  </a:lnTo>
                  <a:lnTo>
                    <a:pt x="692"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6156360" y="1546200"/>
              <a:ext cx="577800" cy="768240"/>
            </a:xfrm>
            <a:custGeom>
              <a:avLst/>
              <a:gdLst/>
              <a:ahLst/>
              <a:rect l="l" t="t" r="r" b="b"/>
              <a:pathLst>
                <a:path w="819" h="1121">
                  <a:moveTo>
                    <a:pt x="0" y="1121"/>
                  </a:moveTo>
                  <a:lnTo>
                    <a:pt x="408" y="1073"/>
                  </a:lnTo>
                  <a:lnTo>
                    <a:pt x="410" y="1086"/>
                  </a:lnTo>
                  <a:lnTo>
                    <a:pt x="669" y="1048"/>
                  </a:lnTo>
                  <a:lnTo>
                    <a:pt x="670" y="1037"/>
                  </a:lnTo>
                  <a:lnTo>
                    <a:pt x="704" y="975"/>
                  </a:lnTo>
                  <a:lnTo>
                    <a:pt x="714" y="957"/>
                  </a:lnTo>
                  <a:lnTo>
                    <a:pt x="713" y="917"/>
                  </a:lnTo>
                  <a:lnTo>
                    <a:pt x="724" y="882"/>
                  </a:lnTo>
                  <a:lnTo>
                    <a:pt x="759" y="856"/>
                  </a:lnTo>
                  <a:lnTo>
                    <a:pt x="759" y="824"/>
                  </a:lnTo>
                  <a:lnTo>
                    <a:pt x="764" y="813"/>
                  </a:lnTo>
                  <a:lnTo>
                    <a:pt x="766" y="796"/>
                  </a:lnTo>
                  <a:lnTo>
                    <a:pt x="783" y="780"/>
                  </a:lnTo>
                  <a:lnTo>
                    <a:pt x="792" y="796"/>
                  </a:lnTo>
                  <a:lnTo>
                    <a:pt x="799" y="799"/>
                  </a:lnTo>
                  <a:lnTo>
                    <a:pt x="810" y="793"/>
                  </a:lnTo>
                  <a:lnTo>
                    <a:pt x="818" y="782"/>
                  </a:lnTo>
                  <a:lnTo>
                    <a:pt x="819" y="765"/>
                  </a:lnTo>
                  <a:lnTo>
                    <a:pt x="813" y="730"/>
                  </a:lnTo>
                  <a:lnTo>
                    <a:pt x="819" y="682"/>
                  </a:lnTo>
                  <a:lnTo>
                    <a:pt x="805" y="655"/>
                  </a:lnTo>
                  <a:lnTo>
                    <a:pt x="797" y="589"/>
                  </a:lnTo>
                  <a:lnTo>
                    <a:pt x="738" y="438"/>
                  </a:lnTo>
                  <a:lnTo>
                    <a:pt x="682" y="420"/>
                  </a:lnTo>
                  <a:lnTo>
                    <a:pt x="658" y="436"/>
                  </a:lnTo>
                  <a:lnTo>
                    <a:pt x="632" y="462"/>
                  </a:lnTo>
                  <a:lnTo>
                    <a:pt x="563" y="563"/>
                  </a:lnTo>
                  <a:lnTo>
                    <a:pt x="556" y="563"/>
                  </a:lnTo>
                  <a:lnTo>
                    <a:pt x="550" y="559"/>
                  </a:lnTo>
                  <a:lnTo>
                    <a:pt x="522" y="548"/>
                  </a:lnTo>
                  <a:lnTo>
                    <a:pt x="513" y="540"/>
                  </a:lnTo>
                  <a:lnTo>
                    <a:pt x="505" y="519"/>
                  </a:lnTo>
                  <a:lnTo>
                    <a:pt x="511" y="474"/>
                  </a:lnTo>
                  <a:lnTo>
                    <a:pt x="525" y="458"/>
                  </a:lnTo>
                  <a:lnTo>
                    <a:pt x="558" y="436"/>
                  </a:lnTo>
                  <a:lnTo>
                    <a:pt x="568" y="418"/>
                  </a:lnTo>
                  <a:lnTo>
                    <a:pt x="568" y="405"/>
                  </a:lnTo>
                  <a:lnTo>
                    <a:pt x="574" y="386"/>
                  </a:lnTo>
                  <a:lnTo>
                    <a:pt x="588" y="375"/>
                  </a:lnTo>
                  <a:lnTo>
                    <a:pt x="604" y="344"/>
                  </a:lnTo>
                  <a:lnTo>
                    <a:pt x="604" y="277"/>
                  </a:lnTo>
                  <a:lnTo>
                    <a:pt x="594" y="244"/>
                  </a:lnTo>
                  <a:lnTo>
                    <a:pt x="584" y="224"/>
                  </a:lnTo>
                  <a:lnTo>
                    <a:pt x="563" y="199"/>
                  </a:lnTo>
                  <a:lnTo>
                    <a:pt x="557" y="187"/>
                  </a:lnTo>
                  <a:lnTo>
                    <a:pt x="560" y="169"/>
                  </a:lnTo>
                  <a:lnTo>
                    <a:pt x="584" y="163"/>
                  </a:lnTo>
                  <a:lnTo>
                    <a:pt x="587" y="157"/>
                  </a:lnTo>
                  <a:lnTo>
                    <a:pt x="560" y="106"/>
                  </a:lnTo>
                  <a:lnTo>
                    <a:pt x="537" y="96"/>
                  </a:lnTo>
                  <a:lnTo>
                    <a:pt x="468" y="69"/>
                  </a:lnTo>
                  <a:lnTo>
                    <a:pt x="418" y="58"/>
                  </a:lnTo>
                  <a:lnTo>
                    <a:pt x="402" y="40"/>
                  </a:lnTo>
                  <a:lnTo>
                    <a:pt x="362" y="30"/>
                  </a:lnTo>
                  <a:lnTo>
                    <a:pt x="326" y="20"/>
                  </a:lnTo>
                  <a:lnTo>
                    <a:pt x="299" y="0"/>
                  </a:lnTo>
                  <a:lnTo>
                    <a:pt x="282" y="15"/>
                  </a:lnTo>
                  <a:lnTo>
                    <a:pt x="260" y="22"/>
                  </a:lnTo>
                  <a:lnTo>
                    <a:pt x="240" y="58"/>
                  </a:lnTo>
                  <a:lnTo>
                    <a:pt x="240" y="90"/>
                  </a:lnTo>
                  <a:lnTo>
                    <a:pt x="244" y="100"/>
                  </a:lnTo>
                  <a:lnTo>
                    <a:pt x="252" y="103"/>
                  </a:lnTo>
                  <a:lnTo>
                    <a:pt x="256" y="114"/>
                  </a:lnTo>
                  <a:lnTo>
                    <a:pt x="246" y="118"/>
                  </a:lnTo>
                  <a:lnTo>
                    <a:pt x="232" y="124"/>
                  </a:lnTo>
                  <a:lnTo>
                    <a:pt x="219" y="134"/>
                  </a:lnTo>
                  <a:lnTo>
                    <a:pt x="203" y="154"/>
                  </a:lnTo>
                  <a:lnTo>
                    <a:pt x="193" y="179"/>
                  </a:lnTo>
                  <a:lnTo>
                    <a:pt x="194" y="210"/>
                  </a:lnTo>
                  <a:lnTo>
                    <a:pt x="200" y="236"/>
                  </a:lnTo>
                  <a:lnTo>
                    <a:pt x="183" y="268"/>
                  </a:lnTo>
                  <a:lnTo>
                    <a:pt x="159" y="279"/>
                  </a:lnTo>
                  <a:lnTo>
                    <a:pt x="153" y="258"/>
                  </a:lnTo>
                  <a:lnTo>
                    <a:pt x="165" y="230"/>
                  </a:lnTo>
                  <a:lnTo>
                    <a:pt x="155" y="204"/>
                  </a:lnTo>
                  <a:lnTo>
                    <a:pt x="159" y="191"/>
                  </a:lnTo>
                  <a:lnTo>
                    <a:pt x="155" y="182"/>
                  </a:lnTo>
                  <a:lnTo>
                    <a:pt x="146" y="188"/>
                  </a:lnTo>
                  <a:lnTo>
                    <a:pt x="134" y="209"/>
                  </a:lnTo>
                  <a:lnTo>
                    <a:pt x="130" y="235"/>
                  </a:lnTo>
                  <a:lnTo>
                    <a:pt x="120" y="250"/>
                  </a:lnTo>
                  <a:lnTo>
                    <a:pt x="107" y="249"/>
                  </a:lnTo>
                  <a:lnTo>
                    <a:pt x="83" y="270"/>
                  </a:lnTo>
                  <a:lnTo>
                    <a:pt x="73" y="289"/>
                  </a:lnTo>
                  <a:lnTo>
                    <a:pt x="71" y="304"/>
                  </a:lnTo>
                  <a:lnTo>
                    <a:pt x="49" y="329"/>
                  </a:lnTo>
                  <a:lnTo>
                    <a:pt x="46" y="370"/>
                  </a:lnTo>
                  <a:lnTo>
                    <a:pt x="44" y="418"/>
                  </a:lnTo>
                  <a:lnTo>
                    <a:pt x="40" y="446"/>
                  </a:lnTo>
                  <a:lnTo>
                    <a:pt x="26" y="480"/>
                  </a:lnTo>
                  <a:lnTo>
                    <a:pt x="11" y="502"/>
                  </a:lnTo>
                  <a:lnTo>
                    <a:pt x="12" y="522"/>
                  </a:lnTo>
                  <a:lnTo>
                    <a:pt x="31" y="582"/>
                  </a:lnTo>
                  <a:lnTo>
                    <a:pt x="21" y="619"/>
                  </a:lnTo>
                  <a:lnTo>
                    <a:pt x="36" y="648"/>
                  </a:lnTo>
                  <a:lnTo>
                    <a:pt x="74" y="729"/>
                  </a:lnTo>
                  <a:lnTo>
                    <a:pt x="99" y="792"/>
                  </a:lnTo>
                  <a:lnTo>
                    <a:pt x="100" y="845"/>
                  </a:lnTo>
                  <a:lnTo>
                    <a:pt x="113" y="857"/>
                  </a:lnTo>
                  <a:lnTo>
                    <a:pt x="113" y="866"/>
                  </a:lnTo>
                  <a:lnTo>
                    <a:pt x="106" y="876"/>
                  </a:lnTo>
                  <a:lnTo>
                    <a:pt x="98" y="931"/>
                  </a:lnTo>
                  <a:lnTo>
                    <a:pt x="89" y="971"/>
                  </a:lnTo>
                  <a:lnTo>
                    <a:pt x="73" y="1011"/>
                  </a:lnTo>
                  <a:lnTo>
                    <a:pt x="37" y="1087"/>
                  </a:lnTo>
                  <a:lnTo>
                    <a:pt x="11" y="1112"/>
                  </a:lnTo>
                  <a:lnTo>
                    <a:pt x="0" y="1121"/>
                  </a:lnTo>
                  <a:close/>
                </a:path>
              </a:pathLst>
            </a:custGeom>
            <a:solidFill>
              <a:srgbClr val="00152a"/>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156360" y="1546200"/>
              <a:ext cx="577800" cy="768240"/>
            </a:xfrm>
            <a:custGeom>
              <a:avLst/>
              <a:gdLst/>
              <a:ahLst/>
              <a:rect l="l" t="t" r="r" b="b"/>
              <a:pathLst>
                <a:path w="819" h="1121">
                  <a:moveTo>
                    <a:pt x="0" y="1121"/>
                  </a:moveTo>
                  <a:lnTo>
                    <a:pt x="408" y="1073"/>
                  </a:lnTo>
                  <a:lnTo>
                    <a:pt x="410" y="1086"/>
                  </a:lnTo>
                  <a:lnTo>
                    <a:pt x="669" y="1048"/>
                  </a:lnTo>
                  <a:lnTo>
                    <a:pt x="670" y="1037"/>
                  </a:lnTo>
                  <a:lnTo>
                    <a:pt x="704" y="975"/>
                  </a:lnTo>
                  <a:lnTo>
                    <a:pt x="714" y="957"/>
                  </a:lnTo>
                  <a:lnTo>
                    <a:pt x="713" y="917"/>
                  </a:lnTo>
                  <a:lnTo>
                    <a:pt x="724" y="882"/>
                  </a:lnTo>
                  <a:lnTo>
                    <a:pt x="759" y="856"/>
                  </a:lnTo>
                  <a:lnTo>
                    <a:pt x="759" y="824"/>
                  </a:lnTo>
                  <a:lnTo>
                    <a:pt x="764" y="813"/>
                  </a:lnTo>
                  <a:lnTo>
                    <a:pt x="766" y="796"/>
                  </a:lnTo>
                  <a:lnTo>
                    <a:pt x="783" y="780"/>
                  </a:lnTo>
                  <a:lnTo>
                    <a:pt x="792" y="796"/>
                  </a:lnTo>
                  <a:lnTo>
                    <a:pt x="799" y="799"/>
                  </a:lnTo>
                  <a:lnTo>
                    <a:pt x="810" y="793"/>
                  </a:lnTo>
                  <a:lnTo>
                    <a:pt x="818" y="782"/>
                  </a:lnTo>
                  <a:lnTo>
                    <a:pt x="819" y="765"/>
                  </a:lnTo>
                  <a:lnTo>
                    <a:pt x="813" y="730"/>
                  </a:lnTo>
                  <a:lnTo>
                    <a:pt x="819" y="682"/>
                  </a:lnTo>
                  <a:lnTo>
                    <a:pt x="805" y="655"/>
                  </a:lnTo>
                  <a:lnTo>
                    <a:pt x="797" y="589"/>
                  </a:lnTo>
                  <a:lnTo>
                    <a:pt x="738" y="438"/>
                  </a:lnTo>
                  <a:lnTo>
                    <a:pt x="682" y="420"/>
                  </a:lnTo>
                  <a:lnTo>
                    <a:pt x="658" y="436"/>
                  </a:lnTo>
                  <a:lnTo>
                    <a:pt x="632" y="462"/>
                  </a:lnTo>
                  <a:lnTo>
                    <a:pt x="563" y="563"/>
                  </a:lnTo>
                  <a:lnTo>
                    <a:pt x="556" y="563"/>
                  </a:lnTo>
                  <a:lnTo>
                    <a:pt x="550" y="559"/>
                  </a:lnTo>
                  <a:lnTo>
                    <a:pt x="522" y="548"/>
                  </a:lnTo>
                  <a:lnTo>
                    <a:pt x="513" y="540"/>
                  </a:lnTo>
                  <a:lnTo>
                    <a:pt x="505" y="519"/>
                  </a:lnTo>
                  <a:lnTo>
                    <a:pt x="511" y="474"/>
                  </a:lnTo>
                  <a:lnTo>
                    <a:pt x="525" y="458"/>
                  </a:lnTo>
                  <a:lnTo>
                    <a:pt x="558" y="436"/>
                  </a:lnTo>
                  <a:lnTo>
                    <a:pt x="568" y="418"/>
                  </a:lnTo>
                  <a:lnTo>
                    <a:pt x="568" y="405"/>
                  </a:lnTo>
                  <a:lnTo>
                    <a:pt x="574" y="386"/>
                  </a:lnTo>
                  <a:lnTo>
                    <a:pt x="588" y="375"/>
                  </a:lnTo>
                  <a:lnTo>
                    <a:pt x="604" y="344"/>
                  </a:lnTo>
                  <a:lnTo>
                    <a:pt x="604" y="277"/>
                  </a:lnTo>
                  <a:lnTo>
                    <a:pt x="594" y="244"/>
                  </a:lnTo>
                  <a:lnTo>
                    <a:pt x="584" y="224"/>
                  </a:lnTo>
                  <a:lnTo>
                    <a:pt x="563" y="199"/>
                  </a:lnTo>
                  <a:lnTo>
                    <a:pt x="557" y="187"/>
                  </a:lnTo>
                  <a:lnTo>
                    <a:pt x="560" y="169"/>
                  </a:lnTo>
                  <a:lnTo>
                    <a:pt x="584" y="163"/>
                  </a:lnTo>
                  <a:lnTo>
                    <a:pt x="587" y="157"/>
                  </a:lnTo>
                  <a:lnTo>
                    <a:pt x="560" y="106"/>
                  </a:lnTo>
                  <a:lnTo>
                    <a:pt x="537" y="96"/>
                  </a:lnTo>
                  <a:lnTo>
                    <a:pt x="468" y="69"/>
                  </a:lnTo>
                  <a:lnTo>
                    <a:pt x="418" y="58"/>
                  </a:lnTo>
                  <a:lnTo>
                    <a:pt x="402" y="40"/>
                  </a:lnTo>
                  <a:lnTo>
                    <a:pt x="362" y="30"/>
                  </a:lnTo>
                  <a:lnTo>
                    <a:pt x="326" y="20"/>
                  </a:lnTo>
                  <a:lnTo>
                    <a:pt x="299" y="0"/>
                  </a:lnTo>
                  <a:lnTo>
                    <a:pt x="282" y="15"/>
                  </a:lnTo>
                  <a:lnTo>
                    <a:pt x="260" y="22"/>
                  </a:lnTo>
                  <a:lnTo>
                    <a:pt x="240" y="58"/>
                  </a:lnTo>
                  <a:lnTo>
                    <a:pt x="240" y="90"/>
                  </a:lnTo>
                  <a:lnTo>
                    <a:pt x="244" y="100"/>
                  </a:lnTo>
                  <a:lnTo>
                    <a:pt x="252" y="103"/>
                  </a:lnTo>
                  <a:lnTo>
                    <a:pt x="256" y="114"/>
                  </a:lnTo>
                  <a:lnTo>
                    <a:pt x="246" y="118"/>
                  </a:lnTo>
                  <a:lnTo>
                    <a:pt x="232" y="124"/>
                  </a:lnTo>
                  <a:lnTo>
                    <a:pt x="219" y="134"/>
                  </a:lnTo>
                  <a:lnTo>
                    <a:pt x="203" y="154"/>
                  </a:lnTo>
                  <a:lnTo>
                    <a:pt x="193" y="179"/>
                  </a:lnTo>
                  <a:lnTo>
                    <a:pt x="194" y="210"/>
                  </a:lnTo>
                  <a:lnTo>
                    <a:pt x="200" y="236"/>
                  </a:lnTo>
                  <a:lnTo>
                    <a:pt x="183" y="268"/>
                  </a:lnTo>
                  <a:lnTo>
                    <a:pt x="159" y="279"/>
                  </a:lnTo>
                  <a:lnTo>
                    <a:pt x="153" y="258"/>
                  </a:lnTo>
                  <a:lnTo>
                    <a:pt x="165" y="230"/>
                  </a:lnTo>
                  <a:lnTo>
                    <a:pt x="155" y="204"/>
                  </a:lnTo>
                  <a:lnTo>
                    <a:pt x="159" y="191"/>
                  </a:lnTo>
                  <a:lnTo>
                    <a:pt x="155" y="182"/>
                  </a:lnTo>
                  <a:lnTo>
                    <a:pt x="146" y="188"/>
                  </a:lnTo>
                  <a:lnTo>
                    <a:pt x="134" y="209"/>
                  </a:lnTo>
                  <a:lnTo>
                    <a:pt x="130" y="235"/>
                  </a:lnTo>
                  <a:lnTo>
                    <a:pt x="120" y="250"/>
                  </a:lnTo>
                  <a:lnTo>
                    <a:pt x="107" y="249"/>
                  </a:lnTo>
                  <a:lnTo>
                    <a:pt x="83" y="270"/>
                  </a:lnTo>
                  <a:lnTo>
                    <a:pt x="73" y="289"/>
                  </a:lnTo>
                  <a:lnTo>
                    <a:pt x="71" y="304"/>
                  </a:lnTo>
                  <a:lnTo>
                    <a:pt x="49" y="329"/>
                  </a:lnTo>
                  <a:lnTo>
                    <a:pt x="46" y="370"/>
                  </a:lnTo>
                  <a:lnTo>
                    <a:pt x="44" y="418"/>
                  </a:lnTo>
                  <a:lnTo>
                    <a:pt x="40" y="446"/>
                  </a:lnTo>
                  <a:lnTo>
                    <a:pt x="26" y="480"/>
                  </a:lnTo>
                  <a:lnTo>
                    <a:pt x="11" y="502"/>
                  </a:lnTo>
                  <a:lnTo>
                    <a:pt x="12" y="522"/>
                  </a:lnTo>
                  <a:lnTo>
                    <a:pt x="31" y="582"/>
                  </a:lnTo>
                  <a:lnTo>
                    <a:pt x="21" y="619"/>
                  </a:lnTo>
                  <a:lnTo>
                    <a:pt x="36" y="648"/>
                  </a:lnTo>
                  <a:lnTo>
                    <a:pt x="74" y="729"/>
                  </a:lnTo>
                  <a:lnTo>
                    <a:pt x="99" y="792"/>
                  </a:lnTo>
                  <a:lnTo>
                    <a:pt x="100" y="845"/>
                  </a:lnTo>
                  <a:lnTo>
                    <a:pt x="113" y="857"/>
                  </a:lnTo>
                  <a:lnTo>
                    <a:pt x="113" y="866"/>
                  </a:lnTo>
                  <a:lnTo>
                    <a:pt x="106" y="876"/>
                  </a:lnTo>
                  <a:lnTo>
                    <a:pt x="98" y="931"/>
                  </a:lnTo>
                  <a:lnTo>
                    <a:pt x="89" y="971"/>
                  </a:lnTo>
                  <a:lnTo>
                    <a:pt x="73" y="1011"/>
                  </a:lnTo>
                  <a:lnTo>
                    <a:pt x="37" y="1087"/>
                  </a:lnTo>
                  <a:lnTo>
                    <a:pt x="11" y="1112"/>
                  </a:lnTo>
                  <a:lnTo>
                    <a:pt x="0" y="1121"/>
                  </a:lnTo>
                  <a:lnTo>
                    <a:pt x="0" y="1121"/>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613480" y="1284120"/>
              <a:ext cx="904680" cy="433440"/>
            </a:xfrm>
            <a:custGeom>
              <a:avLst/>
              <a:gdLst/>
              <a:ahLst/>
              <a:rect l="l" t="t" r="r" b="b"/>
              <a:pathLst>
                <a:path w="1283" h="631">
                  <a:moveTo>
                    <a:pt x="0" y="269"/>
                  </a:moveTo>
                  <a:lnTo>
                    <a:pt x="37" y="256"/>
                  </a:lnTo>
                  <a:lnTo>
                    <a:pt x="57" y="243"/>
                  </a:lnTo>
                  <a:lnTo>
                    <a:pt x="96" y="220"/>
                  </a:lnTo>
                  <a:lnTo>
                    <a:pt x="104" y="201"/>
                  </a:lnTo>
                  <a:lnTo>
                    <a:pt x="123" y="199"/>
                  </a:lnTo>
                  <a:lnTo>
                    <a:pt x="192" y="172"/>
                  </a:lnTo>
                  <a:lnTo>
                    <a:pt x="242" y="146"/>
                  </a:lnTo>
                  <a:lnTo>
                    <a:pt x="300" y="86"/>
                  </a:lnTo>
                  <a:lnTo>
                    <a:pt x="319" y="80"/>
                  </a:lnTo>
                  <a:lnTo>
                    <a:pt x="369" y="26"/>
                  </a:lnTo>
                  <a:lnTo>
                    <a:pt x="400" y="10"/>
                  </a:lnTo>
                  <a:lnTo>
                    <a:pt x="457" y="0"/>
                  </a:lnTo>
                  <a:lnTo>
                    <a:pt x="471" y="4"/>
                  </a:lnTo>
                  <a:lnTo>
                    <a:pt x="473" y="11"/>
                  </a:lnTo>
                  <a:lnTo>
                    <a:pt x="444" y="30"/>
                  </a:lnTo>
                  <a:lnTo>
                    <a:pt x="435" y="33"/>
                  </a:lnTo>
                  <a:lnTo>
                    <a:pt x="422" y="57"/>
                  </a:lnTo>
                  <a:lnTo>
                    <a:pt x="383" y="102"/>
                  </a:lnTo>
                  <a:lnTo>
                    <a:pt x="366" y="118"/>
                  </a:lnTo>
                  <a:lnTo>
                    <a:pt x="355" y="130"/>
                  </a:lnTo>
                  <a:lnTo>
                    <a:pt x="344" y="171"/>
                  </a:lnTo>
                  <a:lnTo>
                    <a:pt x="351" y="194"/>
                  </a:lnTo>
                  <a:lnTo>
                    <a:pt x="359" y="180"/>
                  </a:lnTo>
                  <a:lnTo>
                    <a:pt x="394" y="155"/>
                  </a:lnTo>
                  <a:lnTo>
                    <a:pt x="416" y="157"/>
                  </a:lnTo>
                  <a:lnTo>
                    <a:pt x="432" y="149"/>
                  </a:lnTo>
                  <a:lnTo>
                    <a:pt x="505" y="181"/>
                  </a:lnTo>
                  <a:lnTo>
                    <a:pt x="561" y="245"/>
                  </a:lnTo>
                  <a:lnTo>
                    <a:pt x="607" y="239"/>
                  </a:lnTo>
                  <a:lnTo>
                    <a:pt x="631" y="241"/>
                  </a:lnTo>
                  <a:lnTo>
                    <a:pt x="649" y="249"/>
                  </a:lnTo>
                  <a:lnTo>
                    <a:pt x="661" y="251"/>
                  </a:lnTo>
                  <a:lnTo>
                    <a:pt x="668" y="249"/>
                  </a:lnTo>
                  <a:lnTo>
                    <a:pt x="684" y="255"/>
                  </a:lnTo>
                  <a:lnTo>
                    <a:pt x="686" y="264"/>
                  </a:lnTo>
                  <a:lnTo>
                    <a:pt x="696" y="256"/>
                  </a:lnTo>
                  <a:lnTo>
                    <a:pt x="706" y="237"/>
                  </a:lnTo>
                  <a:lnTo>
                    <a:pt x="757" y="203"/>
                  </a:lnTo>
                  <a:lnTo>
                    <a:pt x="921" y="159"/>
                  </a:lnTo>
                  <a:lnTo>
                    <a:pt x="966" y="134"/>
                  </a:lnTo>
                  <a:lnTo>
                    <a:pt x="986" y="127"/>
                  </a:lnTo>
                  <a:lnTo>
                    <a:pt x="995" y="138"/>
                  </a:lnTo>
                  <a:lnTo>
                    <a:pt x="982" y="162"/>
                  </a:lnTo>
                  <a:lnTo>
                    <a:pt x="982" y="177"/>
                  </a:lnTo>
                  <a:lnTo>
                    <a:pt x="1002" y="216"/>
                  </a:lnTo>
                  <a:lnTo>
                    <a:pt x="1017" y="220"/>
                  </a:lnTo>
                  <a:lnTo>
                    <a:pt x="1024" y="214"/>
                  </a:lnTo>
                  <a:lnTo>
                    <a:pt x="1050" y="216"/>
                  </a:lnTo>
                  <a:lnTo>
                    <a:pt x="1065" y="210"/>
                  </a:lnTo>
                  <a:lnTo>
                    <a:pt x="1117" y="204"/>
                  </a:lnTo>
                  <a:lnTo>
                    <a:pt x="1139" y="219"/>
                  </a:lnTo>
                  <a:lnTo>
                    <a:pt x="1160" y="261"/>
                  </a:lnTo>
                  <a:lnTo>
                    <a:pt x="1176" y="277"/>
                  </a:lnTo>
                  <a:lnTo>
                    <a:pt x="1219" y="296"/>
                  </a:lnTo>
                  <a:lnTo>
                    <a:pt x="1261" y="283"/>
                  </a:lnTo>
                  <a:lnTo>
                    <a:pt x="1274" y="285"/>
                  </a:lnTo>
                  <a:lnTo>
                    <a:pt x="1282" y="294"/>
                  </a:lnTo>
                  <a:lnTo>
                    <a:pt x="1283" y="310"/>
                  </a:lnTo>
                  <a:lnTo>
                    <a:pt x="1269" y="328"/>
                  </a:lnTo>
                  <a:lnTo>
                    <a:pt x="1239" y="330"/>
                  </a:lnTo>
                  <a:lnTo>
                    <a:pt x="1226" y="326"/>
                  </a:lnTo>
                  <a:lnTo>
                    <a:pt x="1222" y="318"/>
                  </a:lnTo>
                  <a:lnTo>
                    <a:pt x="1214" y="318"/>
                  </a:lnTo>
                  <a:lnTo>
                    <a:pt x="1185" y="332"/>
                  </a:lnTo>
                  <a:lnTo>
                    <a:pt x="1168" y="326"/>
                  </a:lnTo>
                  <a:lnTo>
                    <a:pt x="1151" y="324"/>
                  </a:lnTo>
                  <a:lnTo>
                    <a:pt x="1106" y="334"/>
                  </a:lnTo>
                  <a:lnTo>
                    <a:pt x="1078" y="326"/>
                  </a:lnTo>
                  <a:lnTo>
                    <a:pt x="1068" y="334"/>
                  </a:lnTo>
                  <a:lnTo>
                    <a:pt x="1074" y="359"/>
                  </a:lnTo>
                  <a:lnTo>
                    <a:pt x="1068" y="367"/>
                  </a:lnTo>
                  <a:lnTo>
                    <a:pt x="1056" y="365"/>
                  </a:lnTo>
                  <a:lnTo>
                    <a:pt x="1027" y="339"/>
                  </a:lnTo>
                  <a:lnTo>
                    <a:pt x="958" y="332"/>
                  </a:lnTo>
                  <a:lnTo>
                    <a:pt x="945" y="334"/>
                  </a:lnTo>
                  <a:lnTo>
                    <a:pt x="926" y="329"/>
                  </a:lnTo>
                  <a:lnTo>
                    <a:pt x="880" y="361"/>
                  </a:lnTo>
                  <a:lnTo>
                    <a:pt x="869" y="361"/>
                  </a:lnTo>
                  <a:lnTo>
                    <a:pt x="852" y="370"/>
                  </a:lnTo>
                  <a:lnTo>
                    <a:pt x="844" y="380"/>
                  </a:lnTo>
                  <a:lnTo>
                    <a:pt x="835" y="385"/>
                  </a:lnTo>
                  <a:lnTo>
                    <a:pt x="809" y="378"/>
                  </a:lnTo>
                  <a:lnTo>
                    <a:pt x="779" y="385"/>
                  </a:lnTo>
                  <a:lnTo>
                    <a:pt x="776" y="407"/>
                  </a:lnTo>
                  <a:lnTo>
                    <a:pt x="769" y="420"/>
                  </a:lnTo>
                  <a:lnTo>
                    <a:pt x="711" y="473"/>
                  </a:lnTo>
                  <a:lnTo>
                    <a:pt x="703" y="468"/>
                  </a:lnTo>
                  <a:lnTo>
                    <a:pt x="697" y="460"/>
                  </a:lnTo>
                  <a:lnTo>
                    <a:pt x="722" y="427"/>
                  </a:lnTo>
                  <a:lnTo>
                    <a:pt x="719" y="411"/>
                  </a:lnTo>
                  <a:lnTo>
                    <a:pt x="690" y="411"/>
                  </a:lnTo>
                  <a:lnTo>
                    <a:pt x="674" y="441"/>
                  </a:lnTo>
                  <a:lnTo>
                    <a:pt x="662" y="456"/>
                  </a:lnTo>
                  <a:lnTo>
                    <a:pt x="650" y="438"/>
                  </a:lnTo>
                  <a:lnTo>
                    <a:pt x="644" y="412"/>
                  </a:lnTo>
                  <a:lnTo>
                    <a:pt x="640" y="416"/>
                  </a:lnTo>
                  <a:lnTo>
                    <a:pt x="634" y="454"/>
                  </a:lnTo>
                  <a:lnTo>
                    <a:pt x="611" y="489"/>
                  </a:lnTo>
                  <a:lnTo>
                    <a:pt x="601" y="528"/>
                  </a:lnTo>
                  <a:lnTo>
                    <a:pt x="587" y="552"/>
                  </a:lnTo>
                  <a:lnTo>
                    <a:pt x="560" y="593"/>
                  </a:lnTo>
                  <a:lnTo>
                    <a:pt x="560" y="620"/>
                  </a:lnTo>
                  <a:lnTo>
                    <a:pt x="556" y="631"/>
                  </a:lnTo>
                  <a:lnTo>
                    <a:pt x="528" y="613"/>
                  </a:lnTo>
                  <a:lnTo>
                    <a:pt x="518" y="587"/>
                  </a:lnTo>
                  <a:lnTo>
                    <a:pt x="530" y="574"/>
                  </a:lnTo>
                  <a:lnTo>
                    <a:pt x="534" y="557"/>
                  </a:lnTo>
                  <a:lnTo>
                    <a:pt x="528" y="555"/>
                  </a:lnTo>
                  <a:lnTo>
                    <a:pt x="498" y="561"/>
                  </a:lnTo>
                  <a:lnTo>
                    <a:pt x="490" y="557"/>
                  </a:lnTo>
                  <a:lnTo>
                    <a:pt x="499" y="492"/>
                  </a:lnTo>
                  <a:lnTo>
                    <a:pt x="497" y="468"/>
                  </a:lnTo>
                  <a:lnTo>
                    <a:pt x="461" y="452"/>
                  </a:lnTo>
                  <a:lnTo>
                    <a:pt x="434" y="443"/>
                  </a:lnTo>
                  <a:lnTo>
                    <a:pt x="435" y="435"/>
                  </a:lnTo>
                  <a:lnTo>
                    <a:pt x="441" y="427"/>
                  </a:lnTo>
                  <a:lnTo>
                    <a:pt x="429" y="418"/>
                  </a:lnTo>
                  <a:lnTo>
                    <a:pt x="400" y="408"/>
                  </a:lnTo>
                  <a:lnTo>
                    <a:pt x="357" y="401"/>
                  </a:lnTo>
                  <a:lnTo>
                    <a:pt x="344" y="402"/>
                  </a:lnTo>
                  <a:lnTo>
                    <a:pt x="337" y="410"/>
                  </a:lnTo>
                  <a:lnTo>
                    <a:pt x="330" y="399"/>
                  </a:lnTo>
                  <a:lnTo>
                    <a:pt x="305" y="401"/>
                  </a:lnTo>
                  <a:lnTo>
                    <a:pt x="267" y="370"/>
                  </a:lnTo>
                  <a:lnTo>
                    <a:pt x="244" y="370"/>
                  </a:lnTo>
                  <a:lnTo>
                    <a:pt x="71" y="334"/>
                  </a:lnTo>
                  <a:lnTo>
                    <a:pt x="59" y="329"/>
                  </a:lnTo>
                  <a:lnTo>
                    <a:pt x="51" y="297"/>
                  </a:lnTo>
                  <a:lnTo>
                    <a:pt x="35" y="287"/>
                  </a:lnTo>
                  <a:lnTo>
                    <a:pt x="10" y="282"/>
                  </a:lnTo>
                  <a:lnTo>
                    <a:pt x="0" y="269"/>
                  </a:lnTo>
                  <a:close/>
                </a:path>
              </a:pathLst>
            </a:custGeom>
            <a:solidFill>
              <a:srgbClr val="8dc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613480" y="1284120"/>
              <a:ext cx="904680" cy="433440"/>
            </a:xfrm>
            <a:custGeom>
              <a:avLst/>
              <a:gdLst/>
              <a:ahLst/>
              <a:rect l="l" t="t" r="r" b="b"/>
              <a:pathLst>
                <a:path w="1283" h="631">
                  <a:moveTo>
                    <a:pt x="0" y="269"/>
                  </a:moveTo>
                  <a:lnTo>
                    <a:pt x="37" y="256"/>
                  </a:lnTo>
                  <a:lnTo>
                    <a:pt x="57" y="243"/>
                  </a:lnTo>
                  <a:lnTo>
                    <a:pt x="96" y="220"/>
                  </a:lnTo>
                  <a:lnTo>
                    <a:pt x="104" y="201"/>
                  </a:lnTo>
                  <a:lnTo>
                    <a:pt x="123" y="199"/>
                  </a:lnTo>
                  <a:lnTo>
                    <a:pt x="192" y="172"/>
                  </a:lnTo>
                  <a:lnTo>
                    <a:pt x="242" y="146"/>
                  </a:lnTo>
                  <a:lnTo>
                    <a:pt x="300" y="86"/>
                  </a:lnTo>
                  <a:lnTo>
                    <a:pt x="319" y="80"/>
                  </a:lnTo>
                  <a:lnTo>
                    <a:pt x="369" y="26"/>
                  </a:lnTo>
                  <a:lnTo>
                    <a:pt x="400" y="10"/>
                  </a:lnTo>
                  <a:lnTo>
                    <a:pt x="457" y="0"/>
                  </a:lnTo>
                  <a:lnTo>
                    <a:pt x="471" y="4"/>
                  </a:lnTo>
                  <a:lnTo>
                    <a:pt x="473" y="11"/>
                  </a:lnTo>
                  <a:lnTo>
                    <a:pt x="444" y="30"/>
                  </a:lnTo>
                  <a:lnTo>
                    <a:pt x="435" y="33"/>
                  </a:lnTo>
                  <a:lnTo>
                    <a:pt x="422" y="57"/>
                  </a:lnTo>
                  <a:lnTo>
                    <a:pt x="383" y="102"/>
                  </a:lnTo>
                  <a:lnTo>
                    <a:pt x="366" y="118"/>
                  </a:lnTo>
                  <a:lnTo>
                    <a:pt x="355" y="130"/>
                  </a:lnTo>
                  <a:lnTo>
                    <a:pt x="344" y="171"/>
                  </a:lnTo>
                  <a:lnTo>
                    <a:pt x="351" y="194"/>
                  </a:lnTo>
                  <a:lnTo>
                    <a:pt x="359" y="180"/>
                  </a:lnTo>
                  <a:lnTo>
                    <a:pt x="394" y="155"/>
                  </a:lnTo>
                  <a:lnTo>
                    <a:pt x="416" y="157"/>
                  </a:lnTo>
                  <a:lnTo>
                    <a:pt x="432" y="149"/>
                  </a:lnTo>
                  <a:lnTo>
                    <a:pt x="505" y="181"/>
                  </a:lnTo>
                  <a:lnTo>
                    <a:pt x="561" y="245"/>
                  </a:lnTo>
                  <a:lnTo>
                    <a:pt x="607" y="239"/>
                  </a:lnTo>
                  <a:lnTo>
                    <a:pt x="631" y="241"/>
                  </a:lnTo>
                  <a:lnTo>
                    <a:pt x="649" y="249"/>
                  </a:lnTo>
                  <a:lnTo>
                    <a:pt x="661" y="251"/>
                  </a:lnTo>
                  <a:lnTo>
                    <a:pt x="668" y="249"/>
                  </a:lnTo>
                  <a:lnTo>
                    <a:pt x="684" y="255"/>
                  </a:lnTo>
                  <a:lnTo>
                    <a:pt x="686" y="264"/>
                  </a:lnTo>
                  <a:lnTo>
                    <a:pt x="696" y="256"/>
                  </a:lnTo>
                  <a:lnTo>
                    <a:pt x="706" y="237"/>
                  </a:lnTo>
                  <a:lnTo>
                    <a:pt x="757" y="203"/>
                  </a:lnTo>
                  <a:lnTo>
                    <a:pt x="921" y="159"/>
                  </a:lnTo>
                  <a:lnTo>
                    <a:pt x="966" y="134"/>
                  </a:lnTo>
                  <a:lnTo>
                    <a:pt x="986" y="127"/>
                  </a:lnTo>
                  <a:lnTo>
                    <a:pt x="995" y="138"/>
                  </a:lnTo>
                  <a:lnTo>
                    <a:pt x="982" y="162"/>
                  </a:lnTo>
                  <a:lnTo>
                    <a:pt x="982" y="177"/>
                  </a:lnTo>
                  <a:lnTo>
                    <a:pt x="1002" y="216"/>
                  </a:lnTo>
                  <a:lnTo>
                    <a:pt x="1017" y="220"/>
                  </a:lnTo>
                  <a:lnTo>
                    <a:pt x="1024" y="214"/>
                  </a:lnTo>
                  <a:lnTo>
                    <a:pt x="1050" y="216"/>
                  </a:lnTo>
                  <a:lnTo>
                    <a:pt x="1065" y="210"/>
                  </a:lnTo>
                  <a:lnTo>
                    <a:pt x="1117" y="204"/>
                  </a:lnTo>
                  <a:lnTo>
                    <a:pt x="1139" y="219"/>
                  </a:lnTo>
                  <a:lnTo>
                    <a:pt x="1160" y="261"/>
                  </a:lnTo>
                  <a:lnTo>
                    <a:pt x="1176" y="277"/>
                  </a:lnTo>
                  <a:lnTo>
                    <a:pt x="1219" y="296"/>
                  </a:lnTo>
                  <a:lnTo>
                    <a:pt x="1261" y="283"/>
                  </a:lnTo>
                  <a:lnTo>
                    <a:pt x="1274" y="285"/>
                  </a:lnTo>
                  <a:lnTo>
                    <a:pt x="1282" y="294"/>
                  </a:lnTo>
                  <a:lnTo>
                    <a:pt x="1283" y="310"/>
                  </a:lnTo>
                  <a:lnTo>
                    <a:pt x="1269" y="328"/>
                  </a:lnTo>
                  <a:lnTo>
                    <a:pt x="1239" y="330"/>
                  </a:lnTo>
                  <a:lnTo>
                    <a:pt x="1226" y="326"/>
                  </a:lnTo>
                  <a:lnTo>
                    <a:pt x="1222" y="318"/>
                  </a:lnTo>
                  <a:lnTo>
                    <a:pt x="1214" y="318"/>
                  </a:lnTo>
                  <a:lnTo>
                    <a:pt x="1185" y="332"/>
                  </a:lnTo>
                  <a:lnTo>
                    <a:pt x="1168" y="326"/>
                  </a:lnTo>
                  <a:lnTo>
                    <a:pt x="1151" y="324"/>
                  </a:lnTo>
                  <a:lnTo>
                    <a:pt x="1106" y="334"/>
                  </a:lnTo>
                  <a:lnTo>
                    <a:pt x="1078" y="326"/>
                  </a:lnTo>
                  <a:lnTo>
                    <a:pt x="1068" y="334"/>
                  </a:lnTo>
                  <a:lnTo>
                    <a:pt x="1074" y="359"/>
                  </a:lnTo>
                  <a:lnTo>
                    <a:pt x="1068" y="367"/>
                  </a:lnTo>
                  <a:lnTo>
                    <a:pt x="1056" y="365"/>
                  </a:lnTo>
                  <a:lnTo>
                    <a:pt x="1027" y="339"/>
                  </a:lnTo>
                  <a:lnTo>
                    <a:pt x="958" y="332"/>
                  </a:lnTo>
                  <a:lnTo>
                    <a:pt x="945" y="334"/>
                  </a:lnTo>
                  <a:lnTo>
                    <a:pt x="926" y="329"/>
                  </a:lnTo>
                  <a:lnTo>
                    <a:pt x="880" y="361"/>
                  </a:lnTo>
                  <a:lnTo>
                    <a:pt x="869" y="361"/>
                  </a:lnTo>
                  <a:lnTo>
                    <a:pt x="852" y="370"/>
                  </a:lnTo>
                  <a:lnTo>
                    <a:pt x="844" y="380"/>
                  </a:lnTo>
                  <a:lnTo>
                    <a:pt x="835" y="385"/>
                  </a:lnTo>
                  <a:lnTo>
                    <a:pt x="809" y="378"/>
                  </a:lnTo>
                  <a:lnTo>
                    <a:pt x="779" y="385"/>
                  </a:lnTo>
                  <a:lnTo>
                    <a:pt x="776" y="407"/>
                  </a:lnTo>
                  <a:lnTo>
                    <a:pt x="769" y="420"/>
                  </a:lnTo>
                  <a:lnTo>
                    <a:pt x="711" y="473"/>
                  </a:lnTo>
                  <a:lnTo>
                    <a:pt x="703" y="468"/>
                  </a:lnTo>
                  <a:lnTo>
                    <a:pt x="697" y="460"/>
                  </a:lnTo>
                  <a:lnTo>
                    <a:pt x="722" y="427"/>
                  </a:lnTo>
                  <a:lnTo>
                    <a:pt x="719" y="411"/>
                  </a:lnTo>
                  <a:lnTo>
                    <a:pt x="690" y="411"/>
                  </a:lnTo>
                  <a:lnTo>
                    <a:pt x="674" y="441"/>
                  </a:lnTo>
                  <a:lnTo>
                    <a:pt x="662" y="456"/>
                  </a:lnTo>
                  <a:lnTo>
                    <a:pt x="650" y="438"/>
                  </a:lnTo>
                  <a:lnTo>
                    <a:pt x="644" y="412"/>
                  </a:lnTo>
                  <a:lnTo>
                    <a:pt x="640" y="416"/>
                  </a:lnTo>
                  <a:lnTo>
                    <a:pt x="634" y="454"/>
                  </a:lnTo>
                  <a:lnTo>
                    <a:pt x="611" y="489"/>
                  </a:lnTo>
                  <a:lnTo>
                    <a:pt x="601" y="528"/>
                  </a:lnTo>
                  <a:lnTo>
                    <a:pt x="587" y="552"/>
                  </a:lnTo>
                  <a:lnTo>
                    <a:pt x="560" y="593"/>
                  </a:lnTo>
                  <a:lnTo>
                    <a:pt x="560" y="620"/>
                  </a:lnTo>
                  <a:lnTo>
                    <a:pt x="556" y="631"/>
                  </a:lnTo>
                  <a:lnTo>
                    <a:pt x="528" y="613"/>
                  </a:lnTo>
                  <a:lnTo>
                    <a:pt x="518" y="587"/>
                  </a:lnTo>
                  <a:lnTo>
                    <a:pt x="530" y="574"/>
                  </a:lnTo>
                  <a:lnTo>
                    <a:pt x="534" y="557"/>
                  </a:lnTo>
                  <a:lnTo>
                    <a:pt x="528" y="555"/>
                  </a:lnTo>
                  <a:lnTo>
                    <a:pt x="498" y="561"/>
                  </a:lnTo>
                  <a:lnTo>
                    <a:pt x="490" y="557"/>
                  </a:lnTo>
                  <a:lnTo>
                    <a:pt x="499" y="492"/>
                  </a:lnTo>
                  <a:lnTo>
                    <a:pt x="497" y="468"/>
                  </a:lnTo>
                  <a:lnTo>
                    <a:pt x="461" y="452"/>
                  </a:lnTo>
                  <a:lnTo>
                    <a:pt x="434" y="443"/>
                  </a:lnTo>
                  <a:lnTo>
                    <a:pt x="435" y="435"/>
                  </a:lnTo>
                  <a:lnTo>
                    <a:pt x="441" y="427"/>
                  </a:lnTo>
                  <a:lnTo>
                    <a:pt x="429" y="418"/>
                  </a:lnTo>
                  <a:lnTo>
                    <a:pt x="400" y="408"/>
                  </a:lnTo>
                  <a:lnTo>
                    <a:pt x="357" y="401"/>
                  </a:lnTo>
                  <a:lnTo>
                    <a:pt x="344" y="402"/>
                  </a:lnTo>
                  <a:lnTo>
                    <a:pt x="337" y="410"/>
                  </a:lnTo>
                  <a:lnTo>
                    <a:pt x="330" y="399"/>
                  </a:lnTo>
                  <a:lnTo>
                    <a:pt x="305" y="401"/>
                  </a:lnTo>
                  <a:lnTo>
                    <a:pt x="267" y="370"/>
                  </a:lnTo>
                  <a:lnTo>
                    <a:pt x="244" y="370"/>
                  </a:lnTo>
                  <a:lnTo>
                    <a:pt x="71" y="334"/>
                  </a:lnTo>
                  <a:lnTo>
                    <a:pt x="59" y="329"/>
                  </a:lnTo>
                  <a:lnTo>
                    <a:pt x="51" y="297"/>
                  </a:lnTo>
                  <a:lnTo>
                    <a:pt x="35" y="287"/>
                  </a:lnTo>
                  <a:lnTo>
                    <a:pt x="10" y="282"/>
                  </a:lnTo>
                  <a:lnTo>
                    <a:pt x="0" y="269"/>
                  </a:lnTo>
                  <a:lnTo>
                    <a:pt x="0" y="269"/>
                  </a:lnTo>
                </a:path>
              </a:pathLst>
            </a:custGeom>
            <a:solidFill>
              <a:srgbClr val="00547e"/>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6054840" y="2282760"/>
              <a:ext cx="450720" cy="766800"/>
            </a:xfrm>
            <a:custGeom>
              <a:avLst/>
              <a:gdLst/>
              <a:ahLst/>
              <a:rect l="l" t="t" r="r" b="b"/>
              <a:pathLst>
                <a:path w="639" h="1121">
                  <a:moveTo>
                    <a:pt x="21" y="67"/>
                  </a:moveTo>
                  <a:lnTo>
                    <a:pt x="73" y="698"/>
                  </a:lnTo>
                  <a:lnTo>
                    <a:pt x="65" y="707"/>
                  </a:lnTo>
                  <a:lnTo>
                    <a:pt x="69" y="730"/>
                  </a:lnTo>
                  <a:lnTo>
                    <a:pt x="61" y="764"/>
                  </a:lnTo>
                  <a:lnTo>
                    <a:pt x="84" y="811"/>
                  </a:lnTo>
                  <a:lnTo>
                    <a:pt x="92" y="868"/>
                  </a:lnTo>
                  <a:lnTo>
                    <a:pt x="65" y="921"/>
                  </a:lnTo>
                  <a:lnTo>
                    <a:pt x="63" y="938"/>
                  </a:lnTo>
                  <a:lnTo>
                    <a:pt x="43" y="981"/>
                  </a:lnTo>
                  <a:lnTo>
                    <a:pt x="12" y="1010"/>
                  </a:lnTo>
                  <a:lnTo>
                    <a:pt x="12" y="1052"/>
                  </a:lnTo>
                  <a:lnTo>
                    <a:pt x="0" y="1098"/>
                  </a:lnTo>
                  <a:lnTo>
                    <a:pt x="0" y="1110"/>
                  </a:lnTo>
                  <a:lnTo>
                    <a:pt x="2" y="1119"/>
                  </a:lnTo>
                  <a:lnTo>
                    <a:pt x="4" y="1119"/>
                  </a:lnTo>
                  <a:lnTo>
                    <a:pt x="19" y="1121"/>
                  </a:lnTo>
                  <a:lnTo>
                    <a:pt x="34" y="1115"/>
                  </a:lnTo>
                  <a:lnTo>
                    <a:pt x="33" y="1110"/>
                  </a:lnTo>
                  <a:lnTo>
                    <a:pt x="40" y="1090"/>
                  </a:lnTo>
                  <a:lnTo>
                    <a:pt x="79" y="1092"/>
                  </a:lnTo>
                  <a:lnTo>
                    <a:pt x="130" y="1073"/>
                  </a:lnTo>
                  <a:lnTo>
                    <a:pt x="191" y="1103"/>
                  </a:lnTo>
                  <a:lnTo>
                    <a:pt x="198" y="1110"/>
                  </a:lnTo>
                  <a:lnTo>
                    <a:pt x="210" y="1104"/>
                  </a:lnTo>
                  <a:lnTo>
                    <a:pt x="223" y="1062"/>
                  </a:lnTo>
                  <a:lnTo>
                    <a:pt x="258" y="1048"/>
                  </a:lnTo>
                  <a:lnTo>
                    <a:pt x="271" y="1070"/>
                  </a:lnTo>
                  <a:lnTo>
                    <a:pt x="292" y="1084"/>
                  </a:lnTo>
                  <a:lnTo>
                    <a:pt x="310" y="1068"/>
                  </a:lnTo>
                  <a:lnTo>
                    <a:pt x="326" y="1014"/>
                  </a:lnTo>
                  <a:lnTo>
                    <a:pt x="339" y="997"/>
                  </a:lnTo>
                  <a:lnTo>
                    <a:pt x="353" y="1000"/>
                  </a:lnTo>
                  <a:lnTo>
                    <a:pt x="379" y="1027"/>
                  </a:lnTo>
                  <a:lnTo>
                    <a:pt x="430" y="1025"/>
                  </a:lnTo>
                  <a:lnTo>
                    <a:pt x="444" y="978"/>
                  </a:lnTo>
                  <a:lnTo>
                    <a:pt x="526" y="868"/>
                  </a:lnTo>
                  <a:lnTo>
                    <a:pt x="526" y="829"/>
                  </a:lnTo>
                  <a:lnTo>
                    <a:pt x="544" y="819"/>
                  </a:lnTo>
                  <a:lnTo>
                    <a:pt x="579" y="824"/>
                  </a:lnTo>
                  <a:lnTo>
                    <a:pt x="606" y="801"/>
                  </a:lnTo>
                  <a:lnTo>
                    <a:pt x="629" y="798"/>
                  </a:lnTo>
                  <a:lnTo>
                    <a:pt x="639" y="780"/>
                  </a:lnTo>
                  <a:lnTo>
                    <a:pt x="624" y="734"/>
                  </a:lnTo>
                  <a:lnTo>
                    <a:pt x="628" y="720"/>
                  </a:lnTo>
                  <a:lnTo>
                    <a:pt x="634" y="699"/>
                  </a:lnTo>
                  <a:lnTo>
                    <a:pt x="555" y="13"/>
                  </a:lnTo>
                  <a:lnTo>
                    <a:pt x="553" y="0"/>
                  </a:lnTo>
                  <a:lnTo>
                    <a:pt x="145" y="48"/>
                  </a:lnTo>
                  <a:lnTo>
                    <a:pt x="134" y="58"/>
                  </a:lnTo>
                  <a:lnTo>
                    <a:pt x="102" y="73"/>
                  </a:lnTo>
                  <a:lnTo>
                    <a:pt x="84" y="80"/>
                  </a:lnTo>
                  <a:lnTo>
                    <a:pt x="47" y="88"/>
                  </a:lnTo>
                  <a:lnTo>
                    <a:pt x="21" y="67"/>
                  </a:lnTo>
                  <a:close/>
                </a:path>
              </a:pathLst>
            </a:custGeom>
            <a:solidFill>
              <a:srgbClr val="00152a"/>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054840" y="2282760"/>
              <a:ext cx="450720" cy="766800"/>
            </a:xfrm>
            <a:custGeom>
              <a:avLst/>
              <a:gdLst/>
              <a:ahLst/>
              <a:rect l="l" t="t" r="r" b="b"/>
              <a:pathLst>
                <a:path w="639" h="1121">
                  <a:moveTo>
                    <a:pt x="21" y="67"/>
                  </a:moveTo>
                  <a:lnTo>
                    <a:pt x="73" y="698"/>
                  </a:lnTo>
                  <a:lnTo>
                    <a:pt x="65" y="707"/>
                  </a:lnTo>
                  <a:lnTo>
                    <a:pt x="69" y="730"/>
                  </a:lnTo>
                  <a:lnTo>
                    <a:pt x="61" y="764"/>
                  </a:lnTo>
                  <a:lnTo>
                    <a:pt x="84" y="811"/>
                  </a:lnTo>
                  <a:lnTo>
                    <a:pt x="92" y="868"/>
                  </a:lnTo>
                  <a:lnTo>
                    <a:pt x="65" y="921"/>
                  </a:lnTo>
                  <a:lnTo>
                    <a:pt x="63" y="938"/>
                  </a:lnTo>
                  <a:lnTo>
                    <a:pt x="43" y="981"/>
                  </a:lnTo>
                  <a:lnTo>
                    <a:pt x="12" y="1010"/>
                  </a:lnTo>
                  <a:lnTo>
                    <a:pt x="12" y="1052"/>
                  </a:lnTo>
                  <a:lnTo>
                    <a:pt x="0" y="1098"/>
                  </a:lnTo>
                  <a:lnTo>
                    <a:pt x="0" y="1110"/>
                  </a:lnTo>
                  <a:lnTo>
                    <a:pt x="2" y="1119"/>
                  </a:lnTo>
                  <a:lnTo>
                    <a:pt x="4" y="1119"/>
                  </a:lnTo>
                  <a:lnTo>
                    <a:pt x="19" y="1121"/>
                  </a:lnTo>
                  <a:lnTo>
                    <a:pt x="34" y="1115"/>
                  </a:lnTo>
                  <a:lnTo>
                    <a:pt x="33" y="1110"/>
                  </a:lnTo>
                  <a:lnTo>
                    <a:pt x="40" y="1090"/>
                  </a:lnTo>
                  <a:lnTo>
                    <a:pt x="79" y="1092"/>
                  </a:lnTo>
                  <a:lnTo>
                    <a:pt x="130" y="1073"/>
                  </a:lnTo>
                  <a:lnTo>
                    <a:pt x="191" y="1103"/>
                  </a:lnTo>
                  <a:lnTo>
                    <a:pt x="198" y="1110"/>
                  </a:lnTo>
                  <a:lnTo>
                    <a:pt x="210" y="1104"/>
                  </a:lnTo>
                  <a:lnTo>
                    <a:pt x="223" y="1062"/>
                  </a:lnTo>
                  <a:lnTo>
                    <a:pt x="258" y="1048"/>
                  </a:lnTo>
                  <a:lnTo>
                    <a:pt x="271" y="1070"/>
                  </a:lnTo>
                  <a:lnTo>
                    <a:pt x="292" y="1084"/>
                  </a:lnTo>
                  <a:lnTo>
                    <a:pt x="310" y="1068"/>
                  </a:lnTo>
                  <a:lnTo>
                    <a:pt x="326" y="1014"/>
                  </a:lnTo>
                  <a:lnTo>
                    <a:pt x="339" y="997"/>
                  </a:lnTo>
                  <a:lnTo>
                    <a:pt x="353" y="1000"/>
                  </a:lnTo>
                  <a:lnTo>
                    <a:pt x="379" y="1027"/>
                  </a:lnTo>
                  <a:lnTo>
                    <a:pt x="430" y="1025"/>
                  </a:lnTo>
                  <a:lnTo>
                    <a:pt x="444" y="978"/>
                  </a:lnTo>
                  <a:lnTo>
                    <a:pt x="526" y="868"/>
                  </a:lnTo>
                  <a:lnTo>
                    <a:pt x="526" y="829"/>
                  </a:lnTo>
                  <a:lnTo>
                    <a:pt x="544" y="819"/>
                  </a:lnTo>
                  <a:lnTo>
                    <a:pt x="579" y="824"/>
                  </a:lnTo>
                  <a:lnTo>
                    <a:pt x="606" y="801"/>
                  </a:lnTo>
                  <a:lnTo>
                    <a:pt x="629" y="798"/>
                  </a:lnTo>
                  <a:lnTo>
                    <a:pt x="639" y="780"/>
                  </a:lnTo>
                  <a:lnTo>
                    <a:pt x="624" y="734"/>
                  </a:lnTo>
                  <a:lnTo>
                    <a:pt x="628" y="720"/>
                  </a:lnTo>
                  <a:lnTo>
                    <a:pt x="634" y="699"/>
                  </a:lnTo>
                  <a:lnTo>
                    <a:pt x="555" y="13"/>
                  </a:lnTo>
                  <a:lnTo>
                    <a:pt x="553" y="0"/>
                  </a:lnTo>
                  <a:lnTo>
                    <a:pt x="145" y="48"/>
                  </a:lnTo>
                  <a:lnTo>
                    <a:pt x="134" y="58"/>
                  </a:lnTo>
                  <a:lnTo>
                    <a:pt x="102" y="73"/>
                  </a:lnTo>
                  <a:lnTo>
                    <a:pt x="84" y="80"/>
                  </a:lnTo>
                  <a:lnTo>
                    <a:pt x="47" y="88"/>
                  </a:lnTo>
                  <a:lnTo>
                    <a:pt x="21" y="67"/>
                  </a:lnTo>
                  <a:lnTo>
                    <a:pt x="21" y="67"/>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5862600" y="2759040"/>
              <a:ext cx="1093680" cy="544680"/>
            </a:xfrm>
            <a:custGeom>
              <a:avLst/>
              <a:gdLst/>
              <a:ahLst/>
              <a:rect l="l" t="t" r="r" b="b"/>
              <a:pathLst>
                <a:path w="1551" h="795">
                  <a:moveTo>
                    <a:pt x="0" y="795"/>
                  </a:moveTo>
                  <a:lnTo>
                    <a:pt x="310" y="770"/>
                  </a:lnTo>
                  <a:lnTo>
                    <a:pt x="309" y="743"/>
                  </a:lnTo>
                  <a:lnTo>
                    <a:pt x="304" y="728"/>
                  </a:lnTo>
                  <a:lnTo>
                    <a:pt x="338" y="726"/>
                  </a:lnTo>
                  <a:lnTo>
                    <a:pt x="351" y="733"/>
                  </a:lnTo>
                  <a:lnTo>
                    <a:pt x="1227" y="654"/>
                  </a:lnTo>
                  <a:lnTo>
                    <a:pt x="1243" y="640"/>
                  </a:lnTo>
                  <a:lnTo>
                    <a:pt x="1258" y="628"/>
                  </a:lnTo>
                  <a:lnTo>
                    <a:pt x="1333" y="591"/>
                  </a:lnTo>
                  <a:lnTo>
                    <a:pt x="1342" y="573"/>
                  </a:lnTo>
                  <a:lnTo>
                    <a:pt x="1384" y="543"/>
                  </a:lnTo>
                  <a:lnTo>
                    <a:pt x="1388" y="524"/>
                  </a:lnTo>
                  <a:lnTo>
                    <a:pt x="1392" y="514"/>
                  </a:lnTo>
                  <a:lnTo>
                    <a:pt x="1413" y="504"/>
                  </a:lnTo>
                  <a:lnTo>
                    <a:pt x="1413" y="478"/>
                  </a:lnTo>
                  <a:lnTo>
                    <a:pt x="1435" y="459"/>
                  </a:lnTo>
                  <a:lnTo>
                    <a:pt x="1543" y="364"/>
                  </a:lnTo>
                  <a:lnTo>
                    <a:pt x="1551" y="347"/>
                  </a:lnTo>
                  <a:lnTo>
                    <a:pt x="1535" y="347"/>
                  </a:lnTo>
                  <a:lnTo>
                    <a:pt x="1521" y="337"/>
                  </a:lnTo>
                  <a:lnTo>
                    <a:pt x="1515" y="335"/>
                  </a:lnTo>
                  <a:lnTo>
                    <a:pt x="1508" y="327"/>
                  </a:lnTo>
                  <a:lnTo>
                    <a:pt x="1488" y="317"/>
                  </a:lnTo>
                  <a:lnTo>
                    <a:pt x="1478" y="320"/>
                  </a:lnTo>
                  <a:lnTo>
                    <a:pt x="1471" y="316"/>
                  </a:lnTo>
                  <a:lnTo>
                    <a:pt x="1445" y="273"/>
                  </a:lnTo>
                  <a:lnTo>
                    <a:pt x="1399" y="217"/>
                  </a:lnTo>
                  <a:lnTo>
                    <a:pt x="1394" y="202"/>
                  </a:lnTo>
                  <a:lnTo>
                    <a:pt x="1398" y="185"/>
                  </a:lnTo>
                  <a:lnTo>
                    <a:pt x="1398" y="162"/>
                  </a:lnTo>
                  <a:lnTo>
                    <a:pt x="1394" y="129"/>
                  </a:lnTo>
                  <a:lnTo>
                    <a:pt x="1384" y="118"/>
                  </a:lnTo>
                  <a:lnTo>
                    <a:pt x="1362" y="102"/>
                  </a:lnTo>
                  <a:lnTo>
                    <a:pt x="1337" y="97"/>
                  </a:lnTo>
                  <a:lnTo>
                    <a:pt x="1319" y="66"/>
                  </a:lnTo>
                  <a:lnTo>
                    <a:pt x="1306" y="50"/>
                  </a:lnTo>
                  <a:lnTo>
                    <a:pt x="1280" y="68"/>
                  </a:lnTo>
                  <a:lnTo>
                    <a:pt x="1276" y="82"/>
                  </a:lnTo>
                  <a:lnTo>
                    <a:pt x="1260" y="88"/>
                  </a:lnTo>
                  <a:lnTo>
                    <a:pt x="1255" y="96"/>
                  </a:lnTo>
                  <a:lnTo>
                    <a:pt x="1225" y="99"/>
                  </a:lnTo>
                  <a:lnTo>
                    <a:pt x="1186" y="82"/>
                  </a:lnTo>
                  <a:lnTo>
                    <a:pt x="1173" y="88"/>
                  </a:lnTo>
                  <a:lnTo>
                    <a:pt x="1156" y="107"/>
                  </a:lnTo>
                  <a:lnTo>
                    <a:pt x="1113" y="78"/>
                  </a:lnTo>
                  <a:lnTo>
                    <a:pt x="1071" y="82"/>
                  </a:lnTo>
                  <a:lnTo>
                    <a:pt x="1039" y="68"/>
                  </a:lnTo>
                  <a:lnTo>
                    <a:pt x="1024" y="31"/>
                  </a:lnTo>
                  <a:lnTo>
                    <a:pt x="982" y="0"/>
                  </a:lnTo>
                  <a:lnTo>
                    <a:pt x="960" y="14"/>
                  </a:lnTo>
                  <a:lnTo>
                    <a:pt x="946" y="14"/>
                  </a:lnTo>
                  <a:lnTo>
                    <a:pt x="927" y="0"/>
                  </a:lnTo>
                  <a:lnTo>
                    <a:pt x="909" y="2"/>
                  </a:lnTo>
                  <a:lnTo>
                    <a:pt x="903" y="23"/>
                  </a:lnTo>
                  <a:lnTo>
                    <a:pt x="899" y="36"/>
                  </a:lnTo>
                  <a:lnTo>
                    <a:pt x="914" y="82"/>
                  </a:lnTo>
                  <a:lnTo>
                    <a:pt x="904" y="101"/>
                  </a:lnTo>
                  <a:lnTo>
                    <a:pt x="881" y="103"/>
                  </a:lnTo>
                  <a:lnTo>
                    <a:pt x="854" y="127"/>
                  </a:lnTo>
                  <a:lnTo>
                    <a:pt x="819" y="122"/>
                  </a:lnTo>
                  <a:lnTo>
                    <a:pt x="801" y="131"/>
                  </a:lnTo>
                  <a:lnTo>
                    <a:pt x="801" y="170"/>
                  </a:lnTo>
                  <a:lnTo>
                    <a:pt x="719" y="280"/>
                  </a:lnTo>
                  <a:lnTo>
                    <a:pt x="705" y="327"/>
                  </a:lnTo>
                  <a:lnTo>
                    <a:pt x="654" y="330"/>
                  </a:lnTo>
                  <a:lnTo>
                    <a:pt x="628" y="303"/>
                  </a:lnTo>
                  <a:lnTo>
                    <a:pt x="614" y="300"/>
                  </a:lnTo>
                  <a:lnTo>
                    <a:pt x="601" y="317"/>
                  </a:lnTo>
                  <a:lnTo>
                    <a:pt x="585" y="370"/>
                  </a:lnTo>
                  <a:lnTo>
                    <a:pt x="567" y="386"/>
                  </a:lnTo>
                  <a:lnTo>
                    <a:pt x="546" y="373"/>
                  </a:lnTo>
                  <a:lnTo>
                    <a:pt x="533" y="351"/>
                  </a:lnTo>
                  <a:lnTo>
                    <a:pt x="498" y="364"/>
                  </a:lnTo>
                  <a:lnTo>
                    <a:pt x="485" y="406"/>
                  </a:lnTo>
                  <a:lnTo>
                    <a:pt x="473" y="412"/>
                  </a:lnTo>
                  <a:lnTo>
                    <a:pt x="466" y="405"/>
                  </a:lnTo>
                  <a:lnTo>
                    <a:pt x="405" y="375"/>
                  </a:lnTo>
                  <a:lnTo>
                    <a:pt x="354" y="394"/>
                  </a:lnTo>
                  <a:lnTo>
                    <a:pt x="315" y="392"/>
                  </a:lnTo>
                  <a:lnTo>
                    <a:pt x="308" y="412"/>
                  </a:lnTo>
                  <a:lnTo>
                    <a:pt x="309" y="417"/>
                  </a:lnTo>
                  <a:lnTo>
                    <a:pt x="294" y="424"/>
                  </a:lnTo>
                  <a:lnTo>
                    <a:pt x="278" y="421"/>
                  </a:lnTo>
                  <a:lnTo>
                    <a:pt x="277" y="421"/>
                  </a:lnTo>
                  <a:lnTo>
                    <a:pt x="281" y="427"/>
                  </a:lnTo>
                  <a:lnTo>
                    <a:pt x="272" y="440"/>
                  </a:lnTo>
                  <a:lnTo>
                    <a:pt x="268" y="461"/>
                  </a:lnTo>
                  <a:lnTo>
                    <a:pt x="259" y="467"/>
                  </a:lnTo>
                  <a:lnTo>
                    <a:pt x="262" y="474"/>
                  </a:lnTo>
                  <a:lnTo>
                    <a:pt x="283" y="501"/>
                  </a:lnTo>
                  <a:lnTo>
                    <a:pt x="278" y="507"/>
                  </a:lnTo>
                  <a:lnTo>
                    <a:pt x="214" y="525"/>
                  </a:lnTo>
                  <a:lnTo>
                    <a:pt x="196" y="534"/>
                  </a:lnTo>
                  <a:lnTo>
                    <a:pt x="198" y="564"/>
                  </a:lnTo>
                  <a:lnTo>
                    <a:pt x="211" y="618"/>
                  </a:lnTo>
                  <a:lnTo>
                    <a:pt x="182" y="630"/>
                  </a:lnTo>
                  <a:lnTo>
                    <a:pt x="155" y="613"/>
                  </a:lnTo>
                  <a:lnTo>
                    <a:pt x="131" y="598"/>
                  </a:lnTo>
                  <a:lnTo>
                    <a:pt x="95" y="592"/>
                  </a:lnTo>
                  <a:lnTo>
                    <a:pt x="69" y="606"/>
                  </a:lnTo>
                  <a:lnTo>
                    <a:pt x="57" y="651"/>
                  </a:lnTo>
                  <a:lnTo>
                    <a:pt x="60" y="657"/>
                  </a:lnTo>
                  <a:lnTo>
                    <a:pt x="66" y="660"/>
                  </a:lnTo>
                  <a:lnTo>
                    <a:pt x="80" y="667"/>
                  </a:lnTo>
                  <a:lnTo>
                    <a:pt x="86" y="693"/>
                  </a:lnTo>
                  <a:lnTo>
                    <a:pt x="64" y="762"/>
                  </a:lnTo>
                  <a:lnTo>
                    <a:pt x="53" y="768"/>
                  </a:lnTo>
                  <a:lnTo>
                    <a:pt x="43" y="764"/>
                  </a:lnTo>
                  <a:lnTo>
                    <a:pt x="14" y="774"/>
                  </a:lnTo>
                  <a:lnTo>
                    <a:pt x="0" y="795"/>
                  </a:lnTo>
                  <a:close/>
                </a:path>
              </a:pathLst>
            </a:custGeom>
            <a:solidFill>
              <a:srgbClr val="ffff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862600" y="2759040"/>
              <a:ext cx="1093680" cy="544680"/>
            </a:xfrm>
            <a:custGeom>
              <a:avLst/>
              <a:gdLst/>
              <a:ahLst/>
              <a:rect l="l" t="t" r="r" b="b"/>
              <a:pathLst>
                <a:path w="1551" h="795">
                  <a:moveTo>
                    <a:pt x="0" y="795"/>
                  </a:moveTo>
                  <a:lnTo>
                    <a:pt x="310" y="770"/>
                  </a:lnTo>
                  <a:lnTo>
                    <a:pt x="309" y="743"/>
                  </a:lnTo>
                  <a:lnTo>
                    <a:pt x="304" y="728"/>
                  </a:lnTo>
                  <a:lnTo>
                    <a:pt x="338" y="726"/>
                  </a:lnTo>
                  <a:lnTo>
                    <a:pt x="351" y="733"/>
                  </a:lnTo>
                  <a:lnTo>
                    <a:pt x="1227" y="654"/>
                  </a:lnTo>
                  <a:lnTo>
                    <a:pt x="1243" y="640"/>
                  </a:lnTo>
                  <a:lnTo>
                    <a:pt x="1258" y="628"/>
                  </a:lnTo>
                  <a:lnTo>
                    <a:pt x="1333" y="591"/>
                  </a:lnTo>
                  <a:lnTo>
                    <a:pt x="1342" y="573"/>
                  </a:lnTo>
                  <a:lnTo>
                    <a:pt x="1384" y="543"/>
                  </a:lnTo>
                  <a:lnTo>
                    <a:pt x="1388" y="524"/>
                  </a:lnTo>
                  <a:lnTo>
                    <a:pt x="1392" y="514"/>
                  </a:lnTo>
                  <a:lnTo>
                    <a:pt x="1413" y="504"/>
                  </a:lnTo>
                  <a:lnTo>
                    <a:pt x="1413" y="478"/>
                  </a:lnTo>
                  <a:lnTo>
                    <a:pt x="1435" y="459"/>
                  </a:lnTo>
                  <a:lnTo>
                    <a:pt x="1543" y="364"/>
                  </a:lnTo>
                  <a:lnTo>
                    <a:pt x="1551" y="347"/>
                  </a:lnTo>
                  <a:lnTo>
                    <a:pt x="1535" y="347"/>
                  </a:lnTo>
                  <a:lnTo>
                    <a:pt x="1521" y="337"/>
                  </a:lnTo>
                  <a:lnTo>
                    <a:pt x="1515" y="335"/>
                  </a:lnTo>
                  <a:lnTo>
                    <a:pt x="1508" y="327"/>
                  </a:lnTo>
                  <a:lnTo>
                    <a:pt x="1488" y="317"/>
                  </a:lnTo>
                  <a:lnTo>
                    <a:pt x="1478" y="320"/>
                  </a:lnTo>
                  <a:lnTo>
                    <a:pt x="1471" y="316"/>
                  </a:lnTo>
                  <a:lnTo>
                    <a:pt x="1445" y="273"/>
                  </a:lnTo>
                  <a:lnTo>
                    <a:pt x="1399" y="217"/>
                  </a:lnTo>
                  <a:lnTo>
                    <a:pt x="1394" y="202"/>
                  </a:lnTo>
                  <a:lnTo>
                    <a:pt x="1398" y="185"/>
                  </a:lnTo>
                  <a:lnTo>
                    <a:pt x="1398" y="162"/>
                  </a:lnTo>
                  <a:lnTo>
                    <a:pt x="1394" y="129"/>
                  </a:lnTo>
                  <a:lnTo>
                    <a:pt x="1384" y="118"/>
                  </a:lnTo>
                  <a:lnTo>
                    <a:pt x="1362" y="102"/>
                  </a:lnTo>
                  <a:lnTo>
                    <a:pt x="1337" y="97"/>
                  </a:lnTo>
                  <a:lnTo>
                    <a:pt x="1319" y="66"/>
                  </a:lnTo>
                  <a:lnTo>
                    <a:pt x="1306" y="50"/>
                  </a:lnTo>
                  <a:lnTo>
                    <a:pt x="1280" y="68"/>
                  </a:lnTo>
                  <a:lnTo>
                    <a:pt x="1276" y="82"/>
                  </a:lnTo>
                  <a:lnTo>
                    <a:pt x="1260" y="88"/>
                  </a:lnTo>
                  <a:lnTo>
                    <a:pt x="1255" y="96"/>
                  </a:lnTo>
                  <a:lnTo>
                    <a:pt x="1225" y="99"/>
                  </a:lnTo>
                  <a:lnTo>
                    <a:pt x="1186" y="82"/>
                  </a:lnTo>
                  <a:lnTo>
                    <a:pt x="1173" y="88"/>
                  </a:lnTo>
                  <a:lnTo>
                    <a:pt x="1156" y="107"/>
                  </a:lnTo>
                  <a:lnTo>
                    <a:pt x="1113" y="78"/>
                  </a:lnTo>
                  <a:lnTo>
                    <a:pt x="1071" y="82"/>
                  </a:lnTo>
                  <a:lnTo>
                    <a:pt x="1039" y="68"/>
                  </a:lnTo>
                  <a:lnTo>
                    <a:pt x="1024" y="31"/>
                  </a:lnTo>
                  <a:lnTo>
                    <a:pt x="982" y="0"/>
                  </a:lnTo>
                  <a:lnTo>
                    <a:pt x="960" y="14"/>
                  </a:lnTo>
                  <a:lnTo>
                    <a:pt x="946" y="14"/>
                  </a:lnTo>
                  <a:lnTo>
                    <a:pt x="927" y="0"/>
                  </a:lnTo>
                  <a:lnTo>
                    <a:pt x="909" y="2"/>
                  </a:lnTo>
                  <a:lnTo>
                    <a:pt x="903" y="23"/>
                  </a:lnTo>
                  <a:lnTo>
                    <a:pt x="899" y="36"/>
                  </a:lnTo>
                  <a:lnTo>
                    <a:pt x="914" y="82"/>
                  </a:lnTo>
                  <a:lnTo>
                    <a:pt x="904" y="101"/>
                  </a:lnTo>
                  <a:lnTo>
                    <a:pt x="881" y="103"/>
                  </a:lnTo>
                  <a:lnTo>
                    <a:pt x="854" y="127"/>
                  </a:lnTo>
                  <a:lnTo>
                    <a:pt x="819" y="122"/>
                  </a:lnTo>
                  <a:lnTo>
                    <a:pt x="801" y="131"/>
                  </a:lnTo>
                  <a:lnTo>
                    <a:pt x="801" y="170"/>
                  </a:lnTo>
                  <a:lnTo>
                    <a:pt x="719" y="280"/>
                  </a:lnTo>
                  <a:lnTo>
                    <a:pt x="705" y="327"/>
                  </a:lnTo>
                  <a:lnTo>
                    <a:pt x="654" y="330"/>
                  </a:lnTo>
                  <a:lnTo>
                    <a:pt x="628" y="303"/>
                  </a:lnTo>
                  <a:lnTo>
                    <a:pt x="614" y="300"/>
                  </a:lnTo>
                  <a:lnTo>
                    <a:pt x="601" y="317"/>
                  </a:lnTo>
                  <a:lnTo>
                    <a:pt x="585" y="370"/>
                  </a:lnTo>
                  <a:lnTo>
                    <a:pt x="567" y="386"/>
                  </a:lnTo>
                  <a:lnTo>
                    <a:pt x="546" y="373"/>
                  </a:lnTo>
                  <a:lnTo>
                    <a:pt x="533" y="351"/>
                  </a:lnTo>
                  <a:lnTo>
                    <a:pt x="498" y="364"/>
                  </a:lnTo>
                  <a:lnTo>
                    <a:pt x="485" y="406"/>
                  </a:lnTo>
                  <a:lnTo>
                    <a:pt x="473" y="412"/>
                  </a:lnTo>
                  <a:lnTo>
                    <a:pt x="466" y="405"/>
                  </a:lnTo>
                  <a:lnTo>
                    <a:pt x="405" y="375"/>
                  </a:lnTo>
                  <a:lnTo>
                    <a:pt x="354" y="394"/>
                  </a:lnTo>
                  <a:lnTo>
                    <a:pt x="315" y="392"/>
                  </a:lnTo>
                  <a:lnTo>
                    <a:pt x="308" y="412"/>
                  </a:lnTo>
                  <a:lnTo>
                    <a:pt x="309" y="417"/>
                  </a:lnTo>
                  <a:lnTo>
                    <a:pt x="294" y="424"/>
                  </a:lnTo>
                  <a:lnTo>
                    <a:pt x="278" y="421"/>
                  </a:lnTo>
                  <a:lnTo>
                    <a:pt x="277" y="421"/>
                  </a:lnTo>
                  <a:lnTo>
                    <a:pt x="281" y="427"/>
                  </a:lnTo>
                  <a:lnTo>
                    <a:pt x="272" y="440"/>
                  </a:lnTo>
                  <a:lnTo>
                    <a:pt x="268" y="461"/>
                  </a:lnTo>
                  <a:lnTo>
                    <a:pt x="259" y="467"/>
                  </a:lnTo>
                  <a:lnTo>
                    <a:pt x="262" y="474"/>
                  </a:lnTo>
                  <a:lnTo>
                    <a:pt x="283" y="501"/>
                  </a:lnTo>
                  <a:lnTo>
                    <a:pt x="278" y="507"/>
                  </a:lnTo>
                  <a:lnTo>
                    <a:pt x="214" y="525"/>
                  </a:lnTo>
                  <a:lnTo>
                    <a:pt x="196" y="534"/>
                  </a:lnTo>
                  <a:lnTo>
                    <a:pt x="198" y="564"/>
                  </a:lnTo>
                  <a:lnTo>
                    <a:pt x="211" y="618"/>
                  </a:lnTo>
                  <a:lnTo>
                    <a:pt x="182" y="630"/>
                  </a:lnTo>
                  <a:lnTo>
                    <a:pt x="155" y="613"/>
                  </a:lnTo>
                  <a:lnTo>
                    <a:pt x="131" y="598"/>
                  </a:lnTo>
                  <a:lnTo>
                    <a:pt x="95" y="592"/>
                  </a:lnTo>
                  <a:lnTo>
                    <a:pt x="69" y="606"/>
                  </a:lnTo>
                  <a:lnTo>
                    <a:pt x="57" y="651"/>
                  </a:lnTo>
                  <a:lnTo>
                    <a:pt x="60" y="657"/>
                  </a:lnTo>
                  <a:lnTo>
                    <a:pt x="66" y="660"/>
                  </a:lnTo>
                  <a:lnTo>
                    <a:pt x="80" y="667"/>
                  </a:lnTo>
                  <a:lnTo>
                    <a:pt x="86" y="693"/>
                  </a:lnTo>
                  <a:lnTo>
                    <a:pt x="64" y="762"/>
                  </a:lnTo>
                  <a:lnTo>
                    <a:pt x="53" y="768"/>
                  </a:lnTo>
                  <a:lnTo>
                    <a:pt x="43" y="764"/>
                  </a:lnTo>
                  <a:lnTo>
                    <a:pt x="14" y="774"/>
                  </a:lnTo>
                  <a:lnTo>
                    <a:pt x="0" y="795"/>
                  </a:lnTo>
                  <a:lnTo>
                    <a:pt x="0" y="795"/>
                  </a:lnTo>
                </a:path>
              </a:pathLst>
            </a:custGeom>
            <a:solidFill>
              <a:srgbClr val="00152a"/>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5765760" y="3168720"/>
              <a:ext cx="1222560" cy="415800"/>
            </a:xfrm>
            <a:custGeom>
              <a:avLst/>
              <a:gdLst/>
              <a:ahLst/>
              <a:rect l="l" t="t" r="r" b="b"/>
              <a:pathLst>
                <a:path w="1732" h="608">
                  <a:moveTo>
                    <a:pt x="1732" y="0"/>
                  </a:moveTo>
                  <a:lnTo>
                    <a:pt x="1379" y="42"/>
                  </a:lnTo>
                  <a:lnTo>
                    <a:pt x="1364" y="56"/>
                  </a:lnTo>
                  <a:lnTo>
                    <a:pt x="488" y="135"/>
                  </a:lnTo>
                  <a:lnTo>
                    <a:pt x="474" y="128"/>
                  </a:lnTo>
                  <a:lnTo>
                    <a:pt x="440" y="130"/>
                  </a:lnTo>
                  <a:lnTo>
                    <a:pt x="446" y="145"/>
                  </a:lnTo>
                  <a:lnTo>
                    <a:pt x="446" y="171"/>
                  </a:lnTo>
                  <a:lnTo>
                    <a:pt x="136" y="197"/>
                  </a:lnTo>
                  <a:lnTo>
                    <a:pt x="124" y="234"/>
                  </a:lnTo>
                  <a:lnTo>
                    <a:pt x="111" y="280"/>
                  </a:lnTo>
                  <a:lnTo>
                    <a:pt x="117" y="293"/>
                  </a:lnTo>
                  <a:lnTo>
                    <a:pt x="103" y="332"/>
                  </a:lnTo>
                  <a:lnTo>
                    <a:pt x="97" y="346"/>
                  </a:lnTo>
                  <a:lnTo>
                    <a:pt x="103" y="359"/>
                  </a:lnTo>
                  <a:lnTo>
                    <a:pt x="92" y="381"/>
                  </a:lnTo>
                  <a:lnTo>
                    <a:pt x="66" y="409"/>
                  </a:lnTo>
                  <a:lnTo>
                    <a:pt x="55" y="465"/>
                  </a:lnTo>
                  <a:lnTo>
                    <a:pt x="28" y="499"/>
                  </a:lnTo>
                  <a:lnTo>
                    <a:pt x="34" y="536"/>
                  </a:lnTo>
                  <a:lnTo>
                    <a:pt x="30" y="583"/>
                  </a:lnTo>
                  <a:lnTo>
                    <a:pt x="23" y="587"/>
                  </a:lnTo>
                  <a:lnTo>
                    <a:pt x="0" y="608"/>
                  </a:lnTo>
                  <a:lnTo>
                    <a:pt x="446" y="574"/>
                  </a:lnTo>
                  <a:lnTo>
                    <a:pt x="1004" y="526"/>
                  </a:lnTo>
                  <a:lnTo>
                    <a:pt x="1219" y="499"/>
                  </a:lnTo>
                  <a:lnTo>
                    <a:pt x="1225" y="440"/>
                  </a:lnTo>
                  <a:lnTo>
                    <a:pt x="1245" y="440"/>
                  </a:lnTo>
                  <a:lnTo>
                    <a:pt x="1254" y="437"/>
                  </a:lnTo>
                  <a:lnTo>
                    <a:pt x="1270" y="422"/>
                  </a:lnTo>
                  <a:lnTo>
                    <a:pt x="1271" y="406"/>
                  </a:lnTo>
                  <a:lnTo>
                    <a:pt x="1270" y="391"/>
                  </a:lnTo>
                  <a:lnTo>
                    <a:pt x="1276" y="377"/>
                  </a:lnTo>
                  <a:lnTo>
                    <a:pt x="1292" y="358"/>
                  </a:lnTo>
                  <a:lnTo>
                    <a:pt x="1337" y="339"/>
                  </a:lnTo>
                  <a:lnTo>
                    <a:pt x="1387" y="326"/>
                  </a:lnTo>
                  <a:lnTo>
                    <a:pt x="1437" y="283"/>
                  </a:lnTo>
                  <a:lnTo>
                    <a:pt x="1456" y="275"/>
                  </a:lnTo>
                  <a:lnTo>
                    <a:pt x="1487" y="246"/>
                  </a:lnTo>
                  <a:lnTo>
                    <a:pt x="1494" y="221"/>
                  </a:lnTo>
                  <a:lnTo>
                    <a:pt x="1499" y="218"/>
                  </a:lnTo>
                  <a:lnTo>
                    <a:pt x="1512" y="219"/>
                  </a:lnTo>
                  <a:lnTo>
                    <a:pt x="1522" y="208"/>
                  </a:lnTo>
                  <a:lnTo>
                    <a:pt x="1524" y="201"/>
                  </a:lnTo>
                  <a:lnTo>
                    <a:pt x="1541" y="183"/>
                  </a:lnTo>
                  <a:lnTo>
                    <a:pt x="1547" y="185"/>
                  </a:lnTo>
                  <a:lnTo>
                    <a:pt x="1562" y="197"/>
                  </a:lnTo>
                  <a:lnTo>
                    <a:pt x="1577" y="187"/>
                  </a:lnTo>
                  <a:lnTo>
                    <a:pt x="1582" y="177"/>
                  </a:lnTo>
                  <a:lnTo>
                    <a:pt x="1606" y="156"/>
                  </a:lnTo>
                  <a:lnTo>
                    <a:pt x="1624" y="150"/>
                  </a:lnTo>
                  <a:lnTo>
                    <a:pt x="1658" y="147"/>
                  </a:lnTo>
                  <a:lnTo>
                    <a:pt x="1695" y="88"/>
                  </a:lnTo>
                  <a:lnTo>
                    <a:pt x="1724" y="69"/>
                  </a:lnTo>
                  <a:lnTo>
                    <a:pt x="1726" y="53"/>
                  </a:lnTo>
                  <a:lnTo>
                    <a:pt x="1732" y="36"/>
                  </a:lnTo>
                  <a:lnTo>
                    <a:pt x="1726" y="16"/>
                  </a:lnTo>
                  <a:lnTo>
                    <a:pt x="1732" y="0"/>
                  </a:lnTo>
                  <a:close/>
                </a:path>
              </a:pathLst>
            </a:custGeom>
            <a:solidFill>
              <a:srgbClr val="00547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5765760" y="3168720"/>
              <a:ext cx="1222560" cy="415800"/>
            </a:xfrm>
            <a:custGeom>
              <a:avLst/>
              <a:gdLst/>
              <a:ahLst/>
              <a:rect l="l" t="t" r="r" b="b"/>
              <a:pathLst>
                <a:path w="1732" h="608">
                  <a:moveTo>
                    <a:pt x="1732" y="0"/>
                  </a:moveTo>
                  <a:lnTo>
                    <a:pt x="1379" y="42"/>
                  </a:lnTo>
                  <a:lnTo>
                    <a:pt x="1364" y="56"/>
                  </a:lnTo>
                  <a:lnTo>
                    <a:pt x="488" y="135"/>
                  </a:lnTo>
                  <a:lnTo>
                    <a:pt x="474" y="128"/>
                  </a:lnTo>
                  <a:lnTo>
                    <a:pt x="440" y="130"/>
                  </a:lnTo>
                  <a:lnTo>
                    <a:pt x="446" y="145"/>
                  </a:lnTo>
                  <a:lnTo>
                    <a:pt x="446" y="171"/>
                  </a:lnTo>
                  <a:lnTo>
                    <a:pt x="136" y="197"/>
                  </a:lnTo>
                  <a:lnTo>
                    <a:pt x="124" y="234"/>
                  </a:lnTo>
                  <a:lnTo>
                    <a:pt x="111" y="280"/>
                  </a:lnTo>
                  <a:lnTo>
                    <a:pt x="117" y="293"/>
                  </a:lnTo>
                  <a:lnTo>
                    <a:pt x="103" y="332"/>
                  </a:lnTo>
                  <a:lnTo>
                    <a:pt x="97" y="346"/>
                  </a:lnTo>
                  <a:lnTo>
                    <a:pt x="103" y="359"/>
                  </a:lnTo>
                  <a:lnTo>
                    <a:pt x="92" y="381"/>
                  </a:lnTo>
                  <a:lnTo>
                    <a:pt x="66" y="409"/>
                  </a:lnTo>
                  <a:lnTo>
                    <a:pt x="55" y="465"/>
                  </a:lnTo>
                  <a:lnTo>
                    <a:pt x="28" y="499"/>
                  </a:lnTo>
                  <a:lnTo>
                    <a:pt x="34" y="536"/>
                  </a:lnTo>
                  <a:lnTo>
                    <a:pt x="30" y="583"/>
                  </a:lnTo>
                  <a:lnTo>
                    <a:pt x="23" y="587"/>
                  </a:lnTo>
                  <a:lnTo>
                    <a:pt x="0" y="608"/>
                  </a:lnTo>
                  <a:lnTo>
                    <a:pt x="446" y="574"/>
                  </a:lnTo>
                  <a:lnTo>
                    <a:pt x="1004" y="526"/>
                  </a:lnTo>
                  <a:lnTo>
                    <a:pt x="1219" y="499"/>
                  </a:lnTo>
                  <a:lnTo>
                    <a:pt x="1225" y="440"/>
                  </a:lnTo>
                  <a:lnTo>
                    <a:pt x="1245" y="440"/>
                  </a:lnTo>
                  <a:lnTo>
                    <a:pt x="1254" y="437"/>
                  </a:lnTo>
                  <a:lnTo>
                    <a:pt x="1270" y="422"/>
                  </a:lnTo>
                  <a:lnTo>
                    <a:pt x="1271" y="406"/>
                  </a:lnTo>
                  <a:lnTo>
                    <a:pt x="1270" y="391"/>
                  </a:lnTo>
                  <a:lnTo>
                    <a:pt x="1276" y="377"/>
                  </a:lnTo>
                  <a:lnTo>
                    <a:pt x="1292" y="358"/>
                  </a:lnTo>
                  <a:lnTo>
                    <a:pt x="1337" y="339"/>
                  </a:lnTo>
                  <a:lnTo>
                    <a:pt x="1387" y="326"/>
                  </a:lnTo>
                  <a:lnTo>
                    <a:pt x="1437" y="283"/>
                  </a:lnTo>
                  <a:lnTo>
                    <a:pt x="1456" y="275"/>
                  </a:lnTo>
                  <a:lnTo>
                    <a:pt x="1487" y="246"/>
                  </a:lnTo>
                  <a:lnTo>
                    <a:pt x="1494" y="221"/>
                  </a:lnTo>
                  <a:lnTo>
                    <a:pt x="1499" y="218"/>
                  </a:lnTo>
                  <a:lnTo>
                    <a:pt x="1512" y="219"/>
                  </a:lnTo>
                  <a:lnTo>
                    <a:pt x="1522" y="208"/>
                  </a:lnTo>
                  <a:lnTo>
                    <a:pt x="1524" y="201"/>
                  </a:lnTo>
                  <a:lnTo>
                    <a:pt x="1541" y="183"/>
                  </a:lnTo>
                  <a:lnTo>
                    <a:pt x="1547" y="185"/>
                  </a:lnTo>
                  <a:lnTo>
                    <a:pt x="1562" y="197"/>
                  </a:lnTo>
                  <a:lnTo>
                    <a:pt x="1577" y="187"/>
                  </a:lnTo>
                  <a:lnTo>
                    <a:pt x="1582" y="177"/>
                  </a:lnTo>
                  <a:lnTo>
                    <a:pt x="1606" y="156"/>
                  </a:lnTo>
                  <a:lnTo>
                    <a:pt x="1624" y="150"/>
                  </a:lnTo>
                  <a:lnTo>
                    <a:pt x="1658" y="147"/>
                  </a:lnTo>
                  <a:lnTo>
                    <a:pt x="1695" y="88"/>
                  </a:lnTo>
                  <a:lnTo>
                    <a:pt x="1724" y="69"/>
                  </a:lnTo>
                  <a:lnTo>
                    <a:pt x="1726" y="53"/>
                  </a:lnTo>
                  <a:lnTo>
                    <a:pt x="1732" y="36"/>
                  </a:lnTo>
                  <a:lnTo>
                    <a:pt x="1726" y="16"/>
                  </a:lnTo>
                  <a:lnTo>
                    <a:pt x="1732" y="0"/>
                  </a:lnTo>
                  <a:lnTo>
                    <a:pt x="1732"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5595840" y="3562200"/>
              <a:ext cx="523800" cy="890640"/>
            </a:xfrm>
            <a:custGeom>
              <a:avLst/>
              <a:gdLst/>
              <a:ahLst/>
              <a:rect l="l" t="t" r="r" b="b"/>
              <a:pathLst>
                <a:path w="743" h="1299">
                  <a:moveTo>
                    <a:pt x="686" y="0"/>
                  </a:moveTo>
                  <a:lnTo>
                    <a:pt x="240" y="33"/>
                  </a:lnTo>
                  <a:lnTo>
                    <a:pt x="237" y="48"/>
                  </a:lnTo>
                  <a:lnTo>
                    <a:pt x="197" y="85"/>
                  </a:lnTo>
                  <a:lnTo>
                    <a:pt x="181" y="126"/>
                  </a:lnTo>
                  <a:lnTo>
                    <a:pt x="185" y="168"/>
                  </a:lnTo>
                  <a:lnTo>
                    <a:pt x="178" y="189"/>
                  </a:lnTo>
                  <a:lnTo>
                    <a:pt x="141" y="215"/>
                  </a:lnTo>
                  <a:lnTo>
                    <a:pt x="114" y="255"/>
                  </a:lnTo>
                  <a:lnTo>
                    <a:pt x="103" y="266"/>
                  </a:lnTo>
                  <a:lnTo>
                    <a:pt x="103" y="300"/>
                  </a:lnTo>
                  <a:lnTo>
                    <a:pt x="83" y="323"/>
                  </a:lnTo>
                  <a:lnTo>
                    <a:pt x="83" y="350"/>
                  </a:lnTo>
                  <a:lnTo>
                    <a:pt x="70" y="386"/>
                  </a:lnTo>
                  <a:lnTo>
                    <a:pt x="48" y="423"/>
                  </a:lnTo>
                  <a:lnTo>
                    <a:pt x="57" y="463"/>
                  </a:lnTo>
                  <a:lnTo>
                    <a:pt x="77" y="485"/>
                  </a:lnTo>
                  <a:lnTo>
                    <a:pt x="80" y="510"/>
                  </a:lnTo>
                  <a:lnTo>
                    <a:pt x="87" y="517"/>
                  </a:lnTo>
                  <a:lnTo>
                    <a:pt x="87" y="532"/>
                  </a:lnTo>
                  <a:lnTo>
                    <a:pt x="74" y="538"/>
                  </a:lnTo>
                  <a:lnTo>
                    <a:pt x="70" y="563"/>
                  </a:lnTo>
                  <a:lnTo>
                    <a:pt x="72" y="576"/>
                  </a:lnTo>
                  <a:lnTo>
                    <a:pt x="70" y="599"/>
                  </a:lnTo>
                  <a:lnTo>
                    <a:pt x="99" y="652"/>
                  </a:lnTo>
                  <a:lnTo>
                    <a:pt x="103" y="700"/>
                  </a:lnTo>
                  <a:lnTo>
                    <a:pt x="115" y="730"/>
                  </a:lnTo>
                  <a:lnTo>
                    <a:pt x="130" y="744"/>
                  </a:lnTo>
                  <a:lnTo>
                    <a:pt x="133" y="766"/>
                  </a:lnTo>
                  <a:lnTo>
                    <a:pt x="103" y="785"/>
                  </a:lnTo>
                  <a:lnTo>
                    <a:pt x="95" y="795"/>
                  </a:lnTo>
                  <a:lnTo>
                    <a:pt x="82" y="850"/>
                  </a:lnTo>
                  <a:lnTo>
                    <a:pt x="40" y="915"/>
                  </a:lnTo>
                  <a:lnTo>
                    <a:pt x="4" y="1028"/>
                  </a:lnTo>
                  <a:lnTo>
                    <a:pt x="0" y="1110"/>
                  </a:lnTo>
                  <a:lnTo>
                    <a:pt x="417" y="1090"/>
                  </a:lnTo>
                  <a:lnTo>
                    <a:pt x="425" y="1104"/>
                  </a:lnTo>
                  <a:lnTo>
                    <a:pt x="416" y="1144"/>
                  </a:lnTo>
                  <a:lnTo>
                    <a:pt x="417" y="1204"/>
                  </a:lnTo>
                  <a:lnTo>
                    <a:pt x="461" y="1246"/>
                  </a:lnTo>
                  <a:lnTo>
                    <a:pt x="470" y="1299"/>
                  </a:lnTo>
                  <a:lnTo>
                    <a:pt x="499" y="1299"/>
                  </a:lnTo>
                  <a:lnTo>
                    <a:pt x="543" y="1262"/>
                  </a:lnTo>
                  <a:lnTo>
                    <a:pt x="647" y="1231"/>
                  </a:lnTo>
                  <a:lnTo>
                    <a:pt x="669" y="1239"/>
                  </a:lnTo>
                  <a:lnTo>
                    <a:pt x="706" y="1227"/>
                  </a:lnTo>
                  <a:lnTo>
                    <a:pt x="714" y="1237"/>
                  </a:lnTo>
                  <a:lnTo>
                    <a:pt x="733" y="1245"/>
                  </a:lnTo>
                  <a:lnTo>
                    <a:pt x="743" y="1239"/>
                  </a:lnTo>
                  <a:lnTo>
                    <a:pt x="696" y="843"/>
                  </a:lnTo>
                  <a:lnTo>
                    <a:pt x="691" y="807"/>
                  </a:lnTo>
                  <a:lnTo>
                    <a:pt x="706" y="26"/>
                  </a:lnTo>
                  <a:lnTo>
                    <a:pt x="686" y="0"/>
                  </a:lnTo>
                  <a:close/>
                </a:path>
              </a:pathLst>
            </a:custGeom>
            <a:solidFill>
              <a:srgbClr val="00152a"/>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5595840" y="3562200"/>
              <a:ext cx="523800" cy="890640"/>
            </a:xfrm>
            <a:custGeom>
              <a:avLst/>
              <a:gdLst/>
              <a:ahLst/>
              <a:rect l="l" t="t" r="r" b="b"/>
              <a:pathLst>
                <a:path w="743" h="1299">
                  <a:moveTo>
                    <a:pt x="686" y="0"/>
                  </a:moveTo>
                  <a:lnTo>
                    <a:pt x="240" y="33"/>
                  </a:lnTo>
                  <a:lnTo>
                    <a:pt x="237" y="48"/>
                  </a:lnTo>
                  <a:lnTo>
                    <a:pt x="197" y="85"/>
                  </a:lnTo>
                  <a:lnTo>
                    <a:pt x="181" y="126"/>
                  </a:lnTo>
                  <a:lnTo>
                    <a:pt x="185" y="168"/>
                  </a:lnTo>
                  <a:lnTo>
                    <a:pt x="178" y="189"/>
                  </a:lnTo>
                  <a:lnTo>
                    <a:pt x="141" y="215"/>
                  </a:lnTo>
                  <a:lnTo>
                    <a:pt x="114" y="255"/>
                  </a:lnTo>
                  <a:lnTo>
                    <a:pt x="103" y="266"/>
                  </a:lnTo>
                  <a:lnTo>
                    <a:pt x="103" y="300"/>
                  </a:lnTo>
                  <a:lnTo>
                    <a:pt x="83" y="323"/>
                  </a:lnTo>
                  <a:lnTo>
                    <a:pt x="83" y="350"/>
                  </a:lnTo>
                  <a:lnTo>
                    <a:pt x="70" y="386"/>
                  </a:lnTo>
                  <a:lnTo>
                    <a:pt x="48" y="423"/>
                  </a:lnTo>
                  <a:lnTo>
                    <a:pt x="57" y="463"/>
                  </a:lnTo>
                  <a:lnTo>
                    <a:pt x="77" y="485"/>
                  </a:lnTo>
                  <a:lnTo>
                    <a:pt x="80" y="510"/>
                  </a:lnTo>
                  <a:lnTo>
                    <a:pt x="87" y="517"/>
                  </a:lnTo>
                  <a:lnTo>
                    <a:pt x="87" y="532"/>
                  </a:lnTo>
                  <a:lnTo>
                    <a:pt x="74" y="538"/>
                  </a:lnTo>
                  <a:lnTo>
                    <a:pt x="70" y="563"/>
                  </a:lnTo>
                  <a:lnTo>
                    <a:pt x="72" y="576"/>
                  </a:lnTo>
                  <a:lnTo>
                    <a:pt x="70" y="599"/>
                  </a:lnTo>
                  <a:lnTo>
                    <a:pt x="99" y="652"/>
                  </a:lnTo>
                  <a:lnTo>
                    <a:pt x="103" y="700"/>
                  </a:lnTo>
                  <a:lnTo>
                    <a:pt x="115" y="730"/>
                  </a:lnTo>
                  <a:lnTo>
                    <a:pt x="130" y="744"/>
                  </a:lnTo>
                  <a:lnTo>
                    <a:pt x="133" y="766"/>
                  </a:lnTo>
                  <a:lnTo>
                    <a:pt x="103" y="785"/>
                  </a:lnTo>
                  <a:lnTo>
                    <a:pt x="95" y="795"/>
                  </a:lnTo>
                  <a:lnTo>
                    <a:pt x="82" y="850"/>
                  </a:lnTo>
                  <a:lnTo>
                    <a:pt x="40" y="915"/>
                  </a:lnTo>
                  <a:lnTo>
                    <a:pt x="4" y="1028"/>
                  </a:lnTo>
                  <a:lnTo>
                    <a:pt x="0" y="1110"/>
                  </a:lnTo>
                  <a:lnTo>
                    <a:pt x="417" y="1090"/>
                  </a:lnTo>
                  <a:lnTo>
                    <a:pt x="425" y="1104"/>
                  </a:lnTo>
                  <a:lnTo>
                    <a:pt x="416" y="1144"/>
                  </a:lnTo>
                  <a:lnTo>
                    <a:pt x="417" y="1204"/>
                  </a:lnTo>
                  <a:lnTo>
                    <a:pt x="461" y="1246"/>
                  </a:lnTo>
                  <a:lnTo>
                    <a:pt x="470" y="1299"/>
                  </a:lnTo>
                  <a:lnTo>
                    <a:pt x="499" y="1299"/>
                  </a:lnTo>
                  <a:lnTo>
                    <a:pt x="543" y="1262"/>
                  </a:lnTo>
                  <a:lnTo>
                    <a:pt x="647" y="1231"/>
                  </a:lnTo>
                  <a:lnTo>
                    <a:pt x="669" y="1239"/>
                  </a:lnTo>
                  <a:lnTo>
                    <a:pt x="706" y="1227"/>
                  </a:lnTo>
                  <a:lnTo>
                    <a:pt x="714" y="1237"/>
                  </a:lnTo>
                  <a:lnTo>
                    <a:pt x="733" y="1245"/>
                  </a:lnTo>
                  <a:lnTo>
                    <a:pt x="743" y="1239"/>
                  </a:lnTo>
                  <a:lnTo>
                    <a:pt x="696" y="843"/>
                  </a:lnTo>
                  <a:lnTo>
                    <a:pt x="691" y="807"/>
                  </a:lnTo>
                  <a:lnTo>
                    <a:pt x="706" y="26"/>
                  </a:lnTo>
                  <a:lnTo>
                    <a:pt x="686" y="0"/>
                  </a:lnTo>
                  <a:lnTo>
                    <a:pt x="686"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080040" y="3529080"/>
              <a:ext cx="573120" cy="885600"/>
            </a:xfrm>
            <a:custGeom>
              <a:avLst/>
              <a:gdLst/>
              <a:ahLst/>
              <a:rect l="l" t="t" r="r" b="b"/>
              <a:pathLst>
                <a:path w="814" h="1293">
                  <a:moveTo>
                    <a:pt x="0" y="48"/>
                  </a:moveTo>
                  <a:lnTo>
                    <a:pt x="21" y="74"/>
                  </a:lnTo>
                  <a:lnTo>
                    <a:pt x="6" y="855"/>
                  </a:lnTo>
                  <a:lnTo>
                    <a:pt x="10" y="891"/>
                  </a:lnTo>
                  <a:lnTo>
                    <a:pt x="57" y="1287"/>
                  </a:lnTo>
                  <a:lnTo>
                    <a:pt x="67" y="1280"/>
                  </a:lnTo>
                  <a:lnTo>
                    <a:pt x="80" y="1271"/>
                  </a:lnTo>
                  <a:lnTo>
                    <a:pt x="115" y="1283"/>
                  </a:lnTo>
                  <a:lnTo>
                    <a:pt x="122" y="1268"/>
                  </a:lnTo>
                  <a:lnTo>
                    <a:pt x="130" y="1211"/>
                  </a:lnTo>
                  <a:lnTo>
                    <a:pt x="145" y="1170"/>
                  </a:lnTo>
                  <a:lnTo>
                    <a:pt x="166" y="1211"/>
                  </a:lnTo>
                  <a:lnTo>
                    <a:pt x="164" y="1224"/>
                  </a:lnTo>
                  <a:lnTo>
                    <a:pt x="175" y="1255"/>
                  </a:lnTo>
                  <a:lnTo>
                    <a:pt x="200" y="1293"/>
                  </a:lnTo>
                  <a:lnTo>
                    <a:pt x="223" y="1293"/>
                  </a:lnTo>
                  <a:lnTo>
                    <a:pt x="242" y="1293"/>
                  </a:lnTo>
                  <a:lnTo>
                    <a:pt x="269" y="1264"/>
                  </a:lnTo>
                  <a:lnTo>
                    <a:pt x="273" y="1261"/>
                  </a:lnTo>
                  <a:lnTo>
                    <a:pt x="288" y="1249"/>
                  </a:lnTo>
                  <a:lnTo>
                    <a:pt x="288" y="1245"/>
                  </a:lnTo>
                  <a:lnTo>
                    <a:pt x="284" y="1238"/>
                  </a:lnTo>
                  <a:lnTo>
                    <a:pt x="271" y="1232"/>
                  </a:lnTo>
                  <a:lnTo>
                    <a:pt x="271" y="1224"/>
                  </a:lnTo>
                  <a:lnTo>
                    <a:pt x="282" y="1202"/>
                  </a:lnTo>
                  <a:lnTo>
                    <a:pt x="278" y="1191"/>
                  </a:lnTo>
                  <a:lnTo>
                    <a:pt x="260" y="1177"/>
                  </a:lnTo>
                  <a:lnTo>
                    <a:pt x="253" y="1177"/>
                  </a:lnTo>
                  <a:lnTo>
                    <a:pt x="244" y="1165"/>
                  </a:lnTo>
                  <a:lnTo>
                    <a:pt x="225" y="1142"/>
                  </a:lnTo>
                  <a:lnTo>
                    <a:pt x="223" y="1122"/>
                  </a:lnTo>
                  <a:lnTo>
                    <a:pt x="229" y="1116"/>
                  </a:lnTo>
                  <a:lnTo>
                    <a:pt x="228" y="1112"/>
                  </a:lnTo>
                  <a:lnTo>
                    <a:pt x="228" y="1098"/>
                  </a:lnTo>
                  <a:lnTo>
                    <a:pt x="814" y="1041"/>
                  </a:lnTo>
                  <a:lnTo>
                    <a:pt x="811" y="1024"/>
                  </a:lnTo>
                  <a:lnTo>
                    <a:pt x="784" y="983"/>
                  </a:lnTo>
                  <a:lnTo>
                    <a:pt x="786" y="914"/>
                  </a:lnTo>
                  <a:lnTo>
                    <a:pt x="762" y="855"/>
                  </a:lnTo>
                  <a:lnTo>
                    <a:pt x="757" y="808"/>
                  </a:lnTo>
                  <a:lnTo>
                    <a:pt x="772" y="777"/>
                  </a:lnTo>
                  <a:lnTo>
                    <a:pt x="772" y="741"/>
                  </a:lnTo>
                  <a:lnTo>
                    <a:pt x="792" y="713"/>
                  </a:lnTo>
                  <a:lnTo>
                    <a:pt x="795" y="706"/>
                  </a:lnTo>
                  <a:lnTo>
                    <a:pt x="774" y="682"/>
                  </a:lnTo>
                  <a:lnTo>
                    <a:pt x="780" y="659"/>
                  </a:lnTo>
                  <a:lnTo>
                    <a:pt x="768" y="644"/>
                  </a:lnTo>
                  <a:lnTo>
                    <a:pt x="748" y="631"/>
                  </a:lnTo>
                  <a:lnTo>
                    <a:pt x="741" y="613"/>
                  </a:lnTo>
                  <a:lnTo>
                    <a:pt x="727" y="574"/>
                  </a:lnTo>
                  <a:lnTo>
                    <a:pt x="715" y="560"/>
                  </a:lnTo>
                  <a:lnTo>
                    <a:pt x="558" y="0"/>
                  </a:lnTo>
                  <a:lnTo>
                    <a:pt x="0" y="48"/>
                  </a:lnTo>
                  <a:close/>
                </a:path>
              </a:pathLst>
            </a:custGeom>
            <a:solidFill>
              <a:srgbClr val="00547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080040" y="3529080"/>
              <a:ext cx="573120" cy="885600"/>
            </a:xfrm>
            <a:custGeom>
              <a:avLst/>
              <a:gdLst/>
              <a:ahLst/>
              <a:rect l="l" t="t" r="r" b="b"/>
              <a:pathLst>
                <a:path w="814" h="1293">
                  <a:moveTo>
                    <a:pt x="0" y="48"/>
                  </a:moveTo>
                  <a:lnTo>
                    <a:pt x="21" y="74"/>
                  </a:lnTo>
                  <a:lnTo>
                    <a:pt x="6" y="855"/>
                  </a:lnTo>
                  <a:lnTo>
                    <a:pt x="10" y="891"/>
                  </a:lnTo>
                  <a:lnTo>
                    <a:pt x="57" y="1287"/>
                  </a:lnTo>
                  <a:lnTo>
                    <a:pt x="67" y="1280"/>
                  </a:lnTo>
                  <a:lnTo>
                    <a:pt x="80" y="1271"/>
                  </a:lnTo>
                  <a:lnTo>
                    <a:pt x="115" y="1283"/>
                  </a:lnTo>
                  <a:lnTo>
                    <a:pt x="122" y="1268"/>
                  </a:lnTo>
                  <a:lnTo>
                    <a:pt x="130" y="1211"/>
                  </a:lnTo>
                  <a:lnTo>
                    <a:pt x="145" y="1170"/>
                  </a:lnTo>
                  <a:lnTo>
                    <a:pt x="166" y="1211"/>
                  </a:lnTo>
                  <a:lnTo>
                    <a:pt x="164" y="1224"/>
                  </a:lnTo>
                  <a:lnTo>
                    <a:pt x="175" y="1255"/>
                  </a:lnTo>
                  <a:lnTo>
                    <a:pt x="200" y="1293"/>
                  </a:lnTo>
                  <a:lnTo>
                    <a:pt x="223" y="1293"/>
                  </a:lnTo>
                  <a:lnTo>
                    <a:pt x="242" y="1293"/>
                  </a:lnTo>
                  <a:lnTo>
                    <a:pt x="269" y="1264"/>
                  </a:lnTo>
                  <a:lnTo>
                    <a:pt x="273" y="1261"/>
                  </a:lnTo>
                  <a:lnTo>
                    <a:pt x="288" y="1249"/>
                  </a:lnTo>
                  <a:lnTo>
                    <a:pt x="288" y="1245"/>
                  </a:lnTo>
                  <a:lnTo>
                    <a:pt x="284" y="1238"/>
                  </a:lnTo>
                  <a:lnTo>
                    <a:pt x="271" y="1232"/>
                  </a:lnTo>
                  <a:lnTo>
                    <a:pt x="271" y="1224"/>
                  </a:lnTo>
                  <a:lnTo>
                    <a:pt x="282" y="1202"/>
                  </a:lnTo>
                  <a:lnTo>
                    <a:pt x="278" y="1191"/>
                  </a:lnTo>
                  <a:lnTo>
                    <a:pt x="260" y="1177"/>
                  </a:lnTo>
                  <a:lnTo>
                    <a:pt x="253" y="1177"/>
                  </a:lnTo>
                  <a:lnTo>
                    <a:pt x="244" y="1165"/>
                  </a:lnTo>
                  <a:lnTo>
                    <a:pt x="225" y="1142"/>
                  </a:lnTo>
                  <a:lnTo>
                    <a:pt x="223" y="1122"/>
                  </a:lnTo>
                  <a:lnTo>
                    <a:pt x="229" y="1116"/>
                  </a:lnTo>
                  <a:lnTo>
                    <a:pt x="228" y="1112"/>
                  </a:lnTo>
                  <a:lnTo>
                    <a:pt x="228" y="1098"/>
                  </a:lnTo>
                  <a:lnTo>
                    <a:pt x="814" y="1041"/>
                  </a:lnTo>
                  <a:lnTo>
                    <a:pt x="811" y="1024"/>
                  </a:lnTo>
                  <a:lnTo>
                    <a:pt x="784" y="983"/>
                  </a:lnTo>
                  <a:lnTo>
                    <a:pt x="786" y="914"/>
                  </a:lnTo>
                  <a:lnTo>
                    <a:pt x="762" y="855"/>
                  </a:lnTo>
                  <a:lnTo>
                    <a:pt x="757" y="808"/>
                  </a:lnTo>
                  <a:lnTo>
                    <a:pt x="772" y="777"/>
                  </a:lnTo>
                  <a:lnTo>
                    <a:pt x="772" y="741"/>
                  </a:lnTo>
                  <a:lnTo>
                    <a:pt x="792" y="713"/>
                  </a:lnTo>
                  <a:lnTo>
                    <a:pt x="795" y="706"/>
                  </a:lnTo>
                  <a:lnTo>
                    <a:pt x="774" y="682"/>
                  </a:lnTo>
                  <a:lnTo>
                    <a:pt x="780" y="659"/>
                  </a:lnTo>
                  <a:lnTo>
                    <a:pt x="768" y="644"/>
                  </a:lnTo>
                  <a:lnTo>
                    <a:pt x="748" y="631"/>
                  </a:lnTo>
                  <a:lnTo>
                    <a:pt x="741" y="613"/>
                  </a:lnTo>
                  <a:lnTo>
                    <a:pt x="727" y="574"/>
                  </a:lnTo>
                  <a:lnTo>
                    <a:pt x="715" y="560"/>
                  </a:lnTo>
                  <a:lnTo>
                    <a:pt x="558" y="0"/>
                  </a:lnTo>
                  <a:lnTo>
                    <a:pt x="0" y="48"/>
                  </a:lnTo>
                  <a:lnTo>
                    <a:pt x="0" y="48"/>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6446880" y="2166840"/>
              <a:ext cx="622080" cy="681120"/>
            </a:xfrm>
            <a:custGeom>
              <a:avLst/>
              <a:gdLst/>
              <a:ahLst/>
              <a:rect l="l" t="t" r="r" b="b"/>
              <a:pathLst>
                <a:path w="882" h="993">
                  <a:moveTo>
                    <a:pt x="0" y="179"/>
                  </a:moveTo>
                  <a:lnTo>
                    <a:pt x="80" y="865"/>
                  </a:lnTo>
                  <a:lnTo>
                    <a:pt x="97" y="864"/>
                  </a:lnTo>
                  <a:lnTo>
                    <a:pt x="116" y="877"/>
                  </a:lnTo>
                  <a:lnTo>
                    <a:pt x="130" y="877"/>
                  </a:lnTo>
                  <a:lnTo>
                    <a:pt x="152" y="864"/>
                  </a:lnTo>
                  <a:lnTo>
                    <a:pt x="194" y="894"/>
                  </a:lnTo>
                  <a:lnTo>
                    <a:pt x="209" y="931"/>
                  </a:lnTo>
                  <a:lnTo>
                    <a:pt x="241" y="946"/>
                  </a:lnTo>
                  <a:lnTo>
                    <a:pt x="283" y="942"/>
                  </a:lnTo>
                  <a:lnTo>
                    <a:pt x="326" y="971"/>
                  </a:lnTo>
                  <a:lnTo>
                    <a:pt x="343" y="952"/>
                  </a:lnTo>
                  <a:lnTo>
                    <a:pt x="356" y="946"/>
                  </a:lnTo>
                  <a:lnTo>
                    <a:pt x="395" y="962"/>
                  </a:lnTo>
                  <a:lnTo>
                    <a:pt x="425" y="959"/>
                  </a:lnTo>
                  <a:lnTo>
                    <a:pt x="430" y="952"/>
                  </a:lnTo>
                  <a:lnTo>
                    <a:pt x="446" y="945"/>
                  </a:lnTo>
                  <a:lnTo>
                    <a:pt x="450" y="931"/>
                  </a:lnTo>
                  <a:lnTo>
                    <a:pt x="476" y="914"/>
                  </a:lnTo>
                  <a:lnTo>
                    <a:pt x="489" y="930"/>
                  </a:lnTo>
                  <a:lnTo>
                    <a:pt x="507" y="961"/>
                  </a:lnTo>
                  <a:lnTo>
                    <a:pt x="533" y="965"/>
                  </a:lnTo>
                  <a:lnTo>
                    <a:pt x="554" y="982"/>
                  </a:lnTo>
                  <a:lnTo>
                    <a:pt x="564" y="993"/>
                  </a:lnTo>
                  <a:lnTo>
                    <a:pt x="590" y="990"/>
                  </a:lnTo>
                  <a:lnTo>
                    <a:pt x="611" y="953"/>
                  </a:lnTo>
                  <a:lnTo>
                    <a:pt x="623" y="943"/>
                  </a:lnTo>
                  <a:lnTo>
                    <a:pt x="626" y="914"/>
                  </a:lnTo>
                  <a:lnTo>
                    <a:pt x="623" y="883"/>
                  </a:lnTo>
                  <a:lnTo>
                    <a:pt x="644" y="820"/>
                  </a:lnTo>
                  <a:lnTo>
                    <a:pt x="661" y="820"/>
                  </a:lnTo>
                  <a:lnTo>
                    <a:pt x="678" y="851"/>
                  </a:lnTo>
                  <a:lnTo>
                    <a:pt x="703" y="823"/>
                  </a:lnTo>
                  <a:lnTo>
                    <a:pt x="695" y="793"/>
                  </a:lnTo>
                  <a:lnTo>
                    <a:pt x="716" y="747"/>
                  </a:lnTo>
                  <a:lnTo>
                    <a:pt x="733" y="729"/>
                  </a:lnTo>
                  <a:lnTo>
                    <a:pt x="736" y="717"/>
                  </a:lnTo>
                  <a:lnTo>
                    <a:pt x="752" y="700"/>
                  </a:lnTo>
                  <a:lnTo>
                    <a:pt x="770" y="704"/>
                  </a:lnTo>
                  <a:lnTo>
                    <a:pt x="793" y="697"/>
                  </a:lnTo>
                  <a:lnTo>
                    <a:pt x="796" y="688"/>
                  </a:lnTo>
                  <a:lnTo>
                    <a:pt x="833" y="643"/>
                  </a:lnTo>
                  <a:lnTo>
                    <a:pt x="844" y="639"/>
                  </a:lnTo>
                  <a:lnTo>
                    <a:pt x="868" y="616"/>
                  </a:lnTo>
                  <a:lnTo>
                    <a:pt x="866" y="586"/>
                  </a:lnTo>
                  <a:lnTo>
                    <a:pt x="861" y="571"/>
                  </a:lnTo>
                  <a:lnTo>
                    <a:pt x="861" y="552"/>
                  </a:lnTo>
                  <a:lnTo>
                    <a:pt x="869" y="527"/>
                  </a:lnTo>
                  <a:lnTo>
                    <a:pt x="882" y="433"/>
                  </a:lnTo>
                  <a:lnTo>
                    <a:pt x="844" y="413"/>
                  </a:lnTo>
                  <a:lnTo>
                    <a:pt x="874" y="388"/>
                  </a:lnTo>
                  <a:lnTo>
                    <a:pt x="865" y="360"/>
                  </a:lnTo>
                  <a:lnTo>
                    <a:pt x="878" y="347"/>
                  </a:lnTo>
                  <a:lnTo>
                    <a:pt x="882" y="352"/>
                  </a:lnTo>
                  <a:lnTo>
                    <a:pt x="823" y="0"/>
                  </a:lnTo>
                  <a:lnTo>
                    <a:pt x="723" y="50"/>
                  </a:lnTo>
                  <a:lnTo>
                    <a:pt x="678" y="79"/>
                  </a:lnTo>
                  <a:lnTo>
                    <a:pt x="661" y="92"/>
                  </a:lnTo>
                  <a:lnTo>
                    <a:pt x="604" y="155"/>
                  </a:lnTo>
                  <a:lnTo>
                    <a:pt x="584" y="164"/>
                  </a:lnTo>
                  <a:lnTo>
                    <a:pt x="569" y="163"/>
                  </a:lnTo>
                  <a:lnTo>
                    <a:pt x="537" y="163"/>
                  </a:lnTo>
                  <a:lnTo>
                    <a:pt x="516" y="170"/>
                  </a:lnTo>
                  <a:lnTo>
                    <a:pt x="470" y="208"/>
                  </a:lnTo>
                  <a:lnTo>
                    <a:pt x="452" y="205"/>
                  </a:lnTo>
                  <a:lnTo>
                    <a:pt x="413" y="191"/>
                  </a:lnTo>
                  <a:lnTo>
                    <a:pt x="403" y="197"/>
                  </a:lnTo>
                  <a:lnTo>
                    <a:pt x="389" y="195"/>
                  </a:lnTo>
                  <a:lnTo>
                    <a:pt x="400" y="179"/>
                  </a:lnTo>
                  <a:lnTo>
                    <a:pt x="391" y="176"/>
                  </a:lnTo>
                  <a:lnTo>
                    <a:pt x="361" y="172"/>
                  </a:lnTo>
                  <a:lnTo>
                    <a:pt x="301" y="151"/>
                  </a:lnTo>
                  <a:lnTo>
                    <a:pt x="288" y="145"/>
                  </a:lnTo>
                  <a:lnTo>
                    <a:pt x="259" y="154"/>
                  </a:lnTo>
                  <a:lnTo>
                    <a:pt x="259" y="140"/>
                  </a:lnTo>
                  <a:lnTo>
                    <a:pt x="0" y="179"/>
                  </a:lnTo>
                  <a:close/>
                </a:path>
              </a:pathLst>
            </a:custGeom>
            <a:solidFill>
              <a:srgbClr val="00152a"/>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446880" y="2166840"/>
              <a:ext cx="622080" cy="681120"/>
            </a:xfrm>
            <a:custGeom>
              <a:avLst/>
              <a:gdLst/>
              <a:ahLst/>
              <a:rect l="l" t="t" r="r" b="b"/>
              <a:pathLst>
                <a:path w="882" h="993">
                  <a:moveTo>
                    <a:pt x="0" y="179"/>
                  </a:moveTo>
                  <a:lnTo>
                    <a:pt x="80" y="865"/>
                  </a:lnTo>
                  <a:lnTo>
                    <a:pt x="97" y="864"/>
                  </a:lnTo>
                  <a:lnTo>
                    <a:pt x="116" y="877"/>
                  </a:lnTo>
                  <a:lnTo>
                    <a:pt x="130" y="877"/>
                  </a:lnTo>
                  <a:lnTo>
                    <a:pt x="152" y="864"/>
                  </a:lnTo>
                  <a:lnTo>
                    <a:pt x="194" y="894"/>
                  </a:lnTo>
                  <a:lnTo>
                    <a:pt x="209" y="931"/>
                  </a:lnTo>
                  <a:lnTo>
                    <a:pt x="241" y="946"/>
                  </a:lnTo>
                  <a:lnTo>
                    <a:pt x="283" y="942"/>
                  </a:lnTo>
                  <a:lnTo>
                    <a:pt x="326" y="971"/>
                  </a:lnTo>
                  <a:lnTo>
                    <a:pt x="343" y="952"/>
                  </a:lnTo>
                  <a:lnTo>
                    <a:pt x="356" y="946"/>
                  </a:lnTo>
                  <a:lnTo>
                    <a:pt x="395" y="962"/>
                  </a:lnTo>
                  <a:lnTo>
                    <a:pt x="425" y="959"/>
                  </a:lnTo>
                  <a:lnTo>
                    <a:pt x="430" y="952"/>
                  </a:lnTo>
                  <a:lnTo>
                    <a:pt x="446" y="945"/>
                  </a:lnTo>
                  <a:lnTo>
                    <a:pt x="450" y="931"/>
                  </a:lnTo>
                  <a:lnTo>
                    <a:pt x="476" y="914"/>
                  </a:lnTo>
                  <a:lnTo>
                    <a:pt x="489" y="930"/>
                  </a:lnTo>
                  <a:lnTo>
                    <a:pt x="507" y="961"/>
                  </a:lnTo>
                  <a:lnTo>
                    <a:pt x="533" y="965"/>
                  </a:lnTo>
                  <a:lnTo>
                    <a:pt x="554" y="982"/>
                  </a:lnTo>
                  <a:lnTo>
                    <a:pt x="564" y="993"/>
                  </a:lnTo>
                  <a:lnTo>
                    <a:pt x="590" y="990"/>
                  </a:lnTo>
                  <a:lnTo>
                    <a:pt x="611" y="953"/>
                  </a:lnTo>
                  <a:lnTo>
                    <a:pt x="623" y="943"/>
                  </a:lnTo>
                  <a:lnTo>
                    <a:pt x="626" y="914"/>
                  </a:lnTo>
                  <a:lnTo>
                    <a:pt x="623" y="883"/>
                  </a:lnTo>
                  <a:lnTo>
                    <a:pt x="644" y="820"/>
                  </a:lnTo>
                  <a:lnTo>
                    <a:pt x="661" y="820"/>
                  </a:lnTo>
                  <a:lnTo>
                    <a:pt x="678" y="851"/>
                  </a:lnTo>
                  <a:lnTo>
                    <a:pt x="703" y="823"/>
                  </a:lnTo>
                  <a:lnTo>
                    <a:pt x="695" y="793"/>
                  </a:lnTo>
                  <a:lnTo>
                    <a:pt x="716" y="747"/>
                  </a:lnTo>
                  <a:lnTo>
                    <a:pt x="733" y="729"/>
                  </a:lnTo>
                  <a:lnTo>
                    <a:pt x="736" y="717"/>
                  </a:lnTo>
                  <a:lnTo>
                    <a:pt x="752" y="700"/>
                  </a:lnTo>
                  <a:lnTo>
                    <a:pt x="770" y="704"/>
                  </a:lnTo>
                  <a:lnTo>
                    <a:pt x="793" y="697"/>
                  </a:lnTo>
                  <a:lnTo>
                    <a:pt x="796" y="688"/>
                  </a:lnTo>
                  <a:lnTo>
                    <a:pt x="833" y="643"/>
                  </a:lnTo>
                  <a:lnTo>
                    <a:pt x="844" y="639"/>
                  </a:lnTo>
                  <a:lnTo>
                    <a:pt x="868" y="616"/>
                  </a:lnTo>
                  <a:lnTo>
                    <a:pt x="866" y="586"/>
                  </a:lnTo>
                  <a:lnTo>
                    <a:pt x="861" y="571"/>
                  </a:lnTo>
                  <a:lnTo>
                    <a:pt x="861" y="552"/>
                  </a:lnTo>
                  <a:lnTo>
                    <a:pt x="869" y="527"/>
                  </a:lnTo>
                  <a:lnTo>
                    <a:pt x="882" y="433"/>
                  </a:lnTo>
                  <a:lnTo>
                    <a:pt x="844" y="413"/>
                  </a:lnTo>
                  <a:lnTo>
                    <a:pt x="874" y="388"/>
                  </a:lnTo>
                  <a:lnTo>
                    <a:pt x="865" y="360"/>
                  </a:lnTo>
                  <a:lnTo>
                    <a:pt x="878" y="347"/>
                  </a:lnTo>
                  <a:lnTo>
                    <a:pt x="882" y="352"/>
                  </a:lnTo>
                  <a:lnTo>
                    <a:pt x="823" y="0"/>
                  </a:lnTo>
                  <a:lnTo>
                    <a:pt x="723" y="50"/>
                  </a:lnTo>
                  <a:lnTo>
                    <a:pt x="678" y="79"/>
                  </a:lnTo>
                  <a:lnTo>
                    <a:pt x="661" y="92"/>
                  </a:lnTo>
                  <a:lnTo>
                    <a:pt x="604" y="155"/>
                  </a:lnTo>
                  <a:lnTo>
                    <a:pt x="584" y="164"/>
                  </a:lnTo>
                  <a:lnTo>
                    <a:pt x="569" y="163"/>
                  </a:lnTo>
                  <a:lnTo>
                    <a:pt x="537" y="163"/>
                  </a:lnTo>
                  <a:lnTo>
                    <a:pt x="516" y="170"/>
                  </a:lnTo>
                  <a:lnTo>
                    <a:pt x="470" y="208"/>
                  </a:lnTo>
                  <a:lnTo>
                    <a:pt x="452" y="205"/>
                  </a:lnTo>
                  <a:lnTo>
                    <a:pt x="413" y="191"/>
                  </a:lnTo>
                  <a:lnTo>
                    <a:pt x="403" y="197"/>
                  </a:lnTo>
                  <a:lnTo>
                    <a:pt x="389" y="195"/>
                  </a:lnTo>
                  <a:lnTo>
                    <a:pt x="400" y="179"/>
                  </a:lnTo>
                  <a:lnTo>
                    <a:pt x="391" y="176"/>
                  </a:lnTo>
                  <a:lnTo>
                    <a:pt x="361" y="172"/>
                  </a:lnTo>
                  <a:lnTo>
                    <a:pt x="301" y="151"/>
                  </a:lnTo>
                  <a:lnTo>
                    <a:pt x="288" y="145"/>
                  </a:lnTo>
                  <a:lnTo>
                    <a:pt x="259" y="154"/>
                  </a:lnTo>
                  <a:lnTo>
                    <a:pt x="259" y="140"/>
                  </a:lnTo>
                  <a:lnTo>
                    <a:pt x="0" y="179"/>
                  </a:lnTo>
                  <a:lnTo>
                    <a:pt x="0" y="179"/>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7121520" y="1432080"/>
              <a:ext cx="1120680" cy="836280"/>
            </a:xfrm>
            <a:custGeom>
              <a:avLst/>
              <a:gdLst/>
              <a:ahLst/>
              <a:rect l="l" t="t" r="r" b="b"/>
              <a:pathLst>
                <a:path w="1590" h="1219">
                  <a:moveTo>
                    <a:pt x="1031" y="1006"/>
                  </a:moveTo>
                  <a:lnTo>
                    <a:pt x="1205" y="1066"/>
                  </a:lnTo>
                  <a:lnTo>
                    <a:pt x="1217" y="1096"/>
                  </a:lnTo>
                  <a:lnTo>
                    <a:pt x="1204" y="1106"/>
                  </a:lnTo>
                  <a:lnTo>
                    <a:pt x="1195" y="1119"/>
                  </a:lnTo>
                  <a:lnTo>
                    <a:pt x="1190" y="1137"/>
                  </a:lnTo>
                  <a:lnTo>
                    <a:pt x="1192" y="1163"/>
                  </a:lnTo>
                  <a:lnTo>
                    <a:pt x="1183" y="1164"/>
                  </a:lnTo>
                  <a:lnTo>
                    <a:pt x="1173" y="1172"/>
                  </a:lnTo>
                  <a:lnTo>
                    <a:pt x="1158" y="1207"/>
                  </a:lnTo>
                  <a:lnTo>
                    <a:pt x="1158" y="1217"/>
                  </a:lnTo>
                  <a:lnTo>
                    <a:pt x="1163" y="1219"/>
                  </a:lnTo>
                  <a:lnTo>
                    <a:pt x="1171" y="1214"/>
                  </a:lnTo>
                  <a:lnTo>
                    <a:pt x="1176" y="1207"/>
                  </a:lnTo>
                  <a:lnTo>
                    <a:pt x="1202" y="1181"/>
                  </a:lnTo>
                  <a:lnTo>
                    <a:pt x="1219" y="1185"/>
                  </a:lnTo>
                  <a:lnTo>
                    <a:pt x="1258" y="1183"/>
                  </a:lnTo>
                  <a:lnTo>
                    <a:pt x="1270" y="1172"/>
                  </a:lnTo>
                  <a:lnTo>
                    <a:pt x="1304" y="1163"/>
                  </a:lnTo>
                  <a:lnTo>
                    <a:pt x="1333" y="1151"/>
                  </a:lnTo>
                  <a:lnTo>
                    <a:pt x="1354" y="1139"/>
                  </a:lnTo>
                  <a:lnTo>
                    <a:pt x="1378" y="1118"/>
                  </a:lnTo>
                  <a:lnTo>
                    <a:pt x="1474" y="1053"/>
                  </a:lnTo>
                  <a:lnTo>
                    <a:pt x="1498" y="1036"/>
                  </a:lnTo>
                  <a:lnTo>
                    <a:pt x="1519" y="1018"/>
                  </a:lnTo>
                  <a:lnTo>
                    <a:pt x="1533" y="1012"/>
                  </a:lnTo>
                  <a:lnTo>
                    <a:pt x="1547" y="1000"/>
                  </a:lnTo>
                  <a:lnTo>
                    <a:pt x="1567" y="990"/>
                  </a:lnTo>
                  <a:lnTo>
                    <a:pt x="1580" y="979"/>
                  </a:lnTo>
                  <a:lnTo>
                    <a:pt x="1588" y="955"/>
                  </a:lnTo>
                  <a:lnTo>
                    <a:pt x="1590" y="949"/>
                  </a:lnTo>
                  <a:lnTo>
                    <a:pt x="1588" y="945"/>
                  </a:lnTo>
                  <a:lnTo>
                    <a:pt x="1567" y="962"/>
                  </a:lnTo>
                  <a:lnTo>
                    <a:pt x="1544" y="971"/>
                  </a:lnTo>
                  <a:lnTo>
                    <a:pt x="1520" y="980"/>
                  </a:lnTo>
                  <a:lnTo>
                    <a:pt x="1506" y="996"/>
                  </a:lnTo>
                  <a:lnTo>
                    <a:pt x="1498" y="1009"/>
                  </a:lnTo>
                  <a:lnTo>
                    <a:pt x="1474" y="1023"/>
                  </a:lnTo>
                  <a:lnTo>
                    <a:pt x="1470" y="1013"/>
                  </a:lnTo>
                  <a:lnTo>
                    <a:pt x="1479" y="998"/>
                  </a:lnTo>
                  <a:lnTo>
                    <a:pt x="1495" y="979"/>
                  </a:lnTo>
                  <a:lnTo>
                    <a:pt x="1514" y="948"/>
                  </a:lnTo>
                  <a:lnTo>
                    <a:pt x="1506" y="943"/>
                  </a:lnTo>
                  <a:lnTo>
                    <a:pt x="1491" y="958"/>
                  </a:lnTo>
                  <a:lnTo>
                    <a:pt x="1480" y="974"/>
                  </a:lnTo>
                  <a:lnTo>
                    <a:pt x="1466" y="990"/>
                  </a:lnTo>
                  <a:lnTo>
                    <a:pt x="1412" y="1019"/>
                  </a:lnTo>
                  <a:lnTo>
                    <a:pt x="1344" y="1053"/>
                  </a:lnTo>
                  <a:lnTo>
                    <a:pt x="1287" y="1081"/>
                  </a:lnTo>
                  <a:lnTo>
                    <a:pt x="1266" y="1093"/>
                  </a:lnTo>
                  <a:lnTo>
                    <a:pt x="1245" y="1122"/>
                  </a:lnTo>
                  <a:lnTo>
                    <a:pt x="1232" y="1111"/>
                  </a:lnTo>
                  <a:lnTo>
                    <a:pt x="1229" y="1091"/>
                  </a:lnTo>
                  <a:lnTo>
                    <a:pt x="1239" y="1066"/>
                  </a:lnTo>
                  <a:lnTo>
                    <a:pt x="1258" y="1053"/>
                  </a:lnTo>
                  <a:lnTo>
                    <a:pt x="1235" y="1030"/>
                  </a:lnTo>
                  <a:lnTo>
                    <a:pt x="1265" y="998"/>
                  </a:lnTo>
                  <a:lnTo>
                    <a:pt x="1270" y="985"/>
                  </a:lnTo>
                  <a:lnTo>
                    <a:pt x="1255" y="968"/>
                  </a:lnTo>
                  <a:lnTo>
                    <a:pt x="1229" y="772"/>
                  </a:lnTo>
                  <a:lnTo>
                    <a:pt x="1221" y="763"/>
                  </a:lnTo>
                  <a:lnTo>
                    <a:pt x="1223" y="581"/>
                  </a:lnTo>
                  <a:lnTo>
                    <a:pt x="1202" y="538"/>
                  </a:lnTo>
                  <a:lnTo>
                    <a:pt x="1188" y="495"/>
                  </a:lnTo>
                  <a:lnTo>
                    <a:pt x="1188" y="457"/>
                  </a:lnTo>
                  <a:lnTo>
                    <a:pt x="1176" y="390"/>
                  </a:lnTo>
                  <a:lnTo>
                    <a:pt x="1156" y="359"/>
                  </a:lnTo>
                  <a:lnTo>
                    <a:pt x="1144" y="362"/>
                  </a:lnTo>
                  <a:lnTo>
                    <a:pt x="1145" y="369"/>
                  </a:lnTo>
                  <a:lnTo>
                    <a:pt x="1141" y="371"/>
                  </a:lnTo>
                  <a:lnTo>
                    <a:pt x="1133" y="359"/>
                  </a:lnTo>
                  <a:lnTo>
                    <a:pt x="1138" y="324"/>
                  </a:lnTo>
                  <a:lnTo>
                    <a:pt x="1104" y="249"/>
                  </a:lnTo>
                  <a:lnTo>
                    <a:pt x="1101" y="220"/>
                  </a:lnTo>
                  <a:lnTo>
                    <a:pt x="1117" y="192"/>
                  </a:lnTo>
                  <a:lnTo>
                    <a:pt x="1104" y="138"/>
                  </a:lnTo>
                  <a:lnTo>
                    <a:pt x="1074" y="61"/>
                  </a:lnTo>
                  <a:lnTo>
                    <a:pt x="1073" y="51"/>
                  </a:lnTo>
                  <a:lnTo>
                    <a:pt x="1064" y="40"/>
                  </a:lnTo>
                  <a:lnTo>
                    <a:pt x="1068" y="27"/>
                  </a:lnTo>
                  <a:lnTo>
                    <a:pt x="1057" y="0"/>
                  </a:lnTo>
                  <a:lnTo>
                    <a:pt x="805" y="65"/>
                  </a:lnTo>
                  <a:lnTo>
                    <a:pt x="801" y="57"/>
                  </a:lnTo>
                  <a:lnTo>
                    <a:pt x="792" y="60"/>
                  </a:lnTo>
                  <a:lnTo>
                    <a:pt x="770" y="70"/>
                  </a:lnTo>
                  <a:lnTo>
                    <a:pt x="710" y="133"/>
                  </a:lnTo>
                  <a:lnTo>
                    <a:pt x="650" y="216"/>
                  </a:lnTo>
                  <a:lnTo>
                    <a:pt x="641" y="229"/>
                  </a:lnTo>
                  <a:lnTo>
                    <a:pt x="646" y="244"/>
                  </a:lnTo>
                  <a:lnTo>
                    <a:pt x="637" y="274"/>
                  </a:lnTo>
                  <a:lnTo>
                    <a:pt x="624" y="289"/>
                  </a:lnTo>
                  <a:lnTo>
                    <a:pt x="561" y="351"/>
                  </a:lnTo>
                  <a:lnTo>
                    <a:pt x="555" y="365"/>
                  </a:lnTo>
                  <a:lnTo>
                    <a:pt x="563" y="388"/>
                  </a:lnTo>
                  <a:lnTo>
                    <a:pt x="569" y="393"/>
                  </a:lnTo>
                  <a:lnTo>
                    <a:pt x="584" y="390"/>
                  </a:lnTo>
                  <a:lnTo>
                    <a:pt x="599" y="398"/>
                  </a:lnTo>
                  <a:lnTo>
                    <a:pt x="600" y="412"/>
                  </a:lnTo>
                  <a:lnTo>
                    <a:pt x="590" y="425"/>
                  </a:lnTo>
                  <a:lnTo>
                    <a:pt x="595" y="445"/>
                  </a:lnTo>
                  <a:lnTo>
                    <a:pt x="610" y="471"/>
                  </a:lnTo>
                  <a:lnTo>
                    <a:pt x="605" y="507"/>
                  </a:lnTo>
                  <a:lnTo>
                    <a:pt x="567" y="524"/>
                  </a:lnTo>
                  <a:lnTo>
                    <a:pt x="508" y="586"/>
                  </a:lnTo>
                  <a:lnTo>
                    <a:pt x="463" y="601"/>
                  </a:lnTo>
                  <a:lnTo>
                    <a:pt x="365" y="630"/>
                  </a:lnTo>
                  <a:lnTo>
                    <a:pt x="329" y="617"/>
                  </a:lnTo>
                  <a:lnTo>
                    <a:pt x="301" y="613"/>
                  </a:lnTo>
                  <a:lnTo>
                    <a:pt x="247" y="617"/>
                  </a:lnTo>
                  <a:lnTo>
                    <a:pt x="193" y="628"/>
                  </a:lnTo>
                  <a:lnTo>
                    <a:pt x="133" y="652"/>
                  </a:lnTo>
                  <a:lnTo>
                    <a:pt x="108" y="669"/>
                  </a:lnTo>
                  <a:lnTo>
                    <a:pt x="98" y="701"/>
                  </a:lnTo>
                  <a:lnTo>
                    <a:pt x="98" y="722"/>
                  </a:lnTo>
                  <a:lnTo>
                    <a:pt x="143" y="774"/>
                  </a:lnTo>
                  <a:lnTo>
                    <a:pt x="147" y="793"/>
                  </a:lnTo>
                  <a:lnTo>
                    <a:pt x="140" y="811"/>
                  </a:lnTo>
                  <a:lnTo>
                    <a:pt x="127" y="821"/>
                  </a:lnTo>
                  <a:lnTo>
                    <a:pt x="112" y="860"/>
                  </a:lnTo>
                  <a:lnTo>
                    <a:pt x="30" y="941"/>
                  </a:lnTo>
                  <a:lnTo>
                    <a:pt x="0" y="964"/>
                  </a:lnTo>
                  <a:lnTo>
                    <a:pt x="15" y="1033"/>
                  </a:lnTo>
                  <a:lnTo>
                    <a:pt x="866" y="863"/>
                  </a:lnTo>
                  <a:lnTo>
                    <a:pt x="881" y="873"/>
                  </a:lnTo>
                  <a:lnTo>
                    <a:pt x="887" y="889"/>
                  </a:lnTo>
                  <a:lnTo>
                    <a:pt x="895" y="895"/>
                  </a:lnTo>
                  <a:lnTo>
                    <a:pt x="901" y="895"/>
                  </a:lnTo>
                  <a:lnTo>
                    <a:pt x="908" y="901"/>
                  </a:lnTo>
                  <a:lnTo>
                    <a:pt x="923" y="904"/>
                  </a:lnTo>
                  <a:lnTo>
                    <a:pt x="948" y="954"/>
                  </a:lnTo>
                  <a:lnTo>
                    <a:pt x="953" y="973"/>
                  </a:lnTo>
                  <a:lnTo>
                    <a:pt x="962" y="980"/>
                  </a:lnTo>
                  <a:lnTo>
                    <a:pt x="964" y="990"/>
                  </a:lnTo>
                  <a:lnTo>
                    <a:pt x="1015" y="993"/>
                  </a:lnTo>
                  <a:lnTo>
                    <a:pt x="1031" y="1006"/>
                  </a:lnTo>
                  <a:close/>
                </a:path>
              </a:pathLst>
            </a:custGeom>
            <a:solidFill>
              <a:srgbClr val="00547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7121520" y="1432080"/>
              <a:ext cx="1120680" cy="836280"/>
            </a:xfrm>
            <a:custGeom>
              <a:avLst/>
              <a:gdLst/>
              <a:ahLst/>
              <a:rect l="l" t="t" r="r" b="b"/>
              <a:pathLst>
                <a:path w="1590" h="1219">
                  <a:moveTo>
                    <a:pt x="1031" y="1006"/>
                  </a:moveTo>
                  <a:lnTo>
                    <a:pt x="1205" y="1066"/>
                  </a:lnTo>
                  <a:lnTo>
                    <a:pt x="1217" y="1096"/>
                  </a:lnTo>
                  <a:lnTo>
                    <a:pt x="1204" y="1106"/>
                  </a:lnTo>
                  <a:lnTo>
                    <a:pt x="1195" y="1119"/>
                  </a:lnTo>
                  <a:lnTo>
                    <a:pt x="1190" y="1137"/>
                  </a:lnTo>
                  <a:lnTo>
                    <a:pt x="1192" y="1163"/>
                  </a:lnTo>
                  <a:lnTo>
                    <a:pt x="1183" y="1164"/>
                  </a:lnTo>
                  <a:lnTo>
                    <a:pt x="1173" y="1172"/>
                  </a:lnTo>
                  <a:lnTo>
                    <a:pt x="1158" y="1207"/>
                  </a:lnTo>
                  <a:lnTo>
                    <a:pt x="1158" y="1217"/>
                  </a:lnTo>
                  <a:lnTo>
                    <a:pt x="1163" y="1219"/>
                  </a:lnTo>
                  <a:lnTo>
                    <a:pt x="1171" y="1214"/>
                  </a:lnTo>
                  <a:lnTo>
                    <a:pt x="1176" y="1207"/>
                  </a:lnTo>
                  <a:lnTo>
                    <a:pt x="1202" y="1181"/>
                  </a:lnTo>
                  <a:lnTo>
                    <a:pt x="1219" y="1185"/>
                  </a:lnTo>
                  <a:lnTo>
                    <a:pt x="1258" y="1183"/>
                  </a:lnTo>
                  <a:lnTo>
                    <a:pt x="1270" y="1172"/>
                  </a:lnTo>
                  <a:lnTo>
                    <a:pt x="1304" y="1163"/>
                  </a:lnTo>
                  <a:lnTo>
                    <a:pt x="1333" y="1151"/>
                  </a:lnTo>
                  <a:lnTo>
                    <a:pt x="1354" y="1139"/>
                  </a:lnTo>
                  <a:lnTo>
                    <a:pt x="1378" y="1118"/>
                  </a:lnTo>
                  <a:lnTo>
                    <a:pt x="1474" y="1053"/>
                  </a:lnTo>
                  <a:lnTo>
                    <a:pt x="1498" y="1036"/>
                  </a:lnTo>
                  <a:lnTo>
                    <a:pt x="1519" y="1018"/>
                  </a:lnTo>
                  <a:lnTo>
                    <a:pt x="1533" y="1012"/>
                  </a:lnTo>
                  <a:lnTo>
                    <a:pt x="1547" y="1000"/>
                  </a:lnTo>
                  <a:lnTo>
                    <a:pt x="1567" y="990"/>
                  </a:lnTo>
                  <a:lnTo>
                    <a:pt x="1580" y="979"/>
                  </a:lnTo>
                  <a:lnTo>
                    <a:pt x="1588" y="955"/>
                  </a:lnTo>
                  <a:lnTo>
                    <a:pt x="1590" y="949"/>
                  </a:lnTo>
                  <a:lnTo>
                    <a:pt x="1588" y="945"/>
                  </a:lnTo>
                  <a:lnTo>
                    <a:pt x="1567" y="962"/>
                  </a:lnTo>
                  <a:lnTo>
                    <a:pt x="1544" y="971"/>
                  </a:lnTo>
                  <a:lnTo>
                    <a:pt x="1520" y="980"/>
                  </a:lnTo>
                  <a:lnTo>
                    <a:pt x="1506" y="996"/>
                  </a:lnTo>
                  <a:lnTo>
                    <a:pt x="1498" y="1009"/>
                  </a:lnTo>
                  <a:lnTo>
                    <a:pt x="1474" y="1023"/>
                  </a:lnTo>
                  <a:lnTo>
                    <a:pt x="1470" y="1013"/>
                  </a:lnTo>
                  <a:lnTo>
                    <a:pt x="1479" y="998"/>
                  </a:lnTo>
                  <a:lnTo>
                    <a:pt x="1495" y="979"/>
                  </a:lnTo>
                  <a:lnTo>
                    <a:pt x="1514" y="948"/>
                  </a:lnTo>
                  <a:lnTo>
                    <a:pt x="1506" y="943"/>
                  </a:lnTo>
                  <a:lnTo>
                    <a:pt x="1491" y="958"/>
                  </a:lnTo>
                  <a:lnTo>
                    <a:pt x="1480" y="974"/>
                  </a:lnTo>
                  <a:lnTo>
                    <a:pt x="1466" y="990"/>
                  </a:lnTo>
                  <a:lnTo>
                    <a:pt x="1412" y="1019"/>
                  </a:lnTo>
                  <a:lnTo>
                    <a:pt x="1344" y="1053"/>
                  </a:lnTo>
                  <a:lnTo>
                    <a:pt x="1287" y="1081"/>
                  </a:lnTo>
                  <a:lnTo>
                    <a:pt x="1266" y="1093"/>
                  </a:lnTo>
                  <a:lnTo>
                    <a:pt x="1245" y="1122"/>
                  </a:lnTo>
                  <a:lnTo>
                    <a:pt x="1232" y="1111"/>
                  </a:lnTo>
                  <a:lnTo>
                    <a:pt x="1229" y="1091"/>
                  </a:lnTo>
                  <a:lnTo>
                    <a:pt x="1239" y="1066"/>
                  </a:lnTo>
                  <a:lnTo>
                    <a:pt x="1258" y="1053"/>
                  </a:lnTo>
                  <a:lnTo>
                    <a:pt x="1235" y="1030"/>
                  </a:lnTo>
                  <a:lnTo>
                    <a:pt x="1265" y="998"/>
                  </a:lnTo>
                  <a:lnTo>
                    <a:pt x="1270" y="985"/>
                  </a:lnTo>
                  <a:lnTo>
                    <a:pt x="1255" y="968"/>
                  </a:lnTo>
                  <a:lnTo>
                    <a:pt x="1229" y="772"/>
                  </a:lnTo>
                  <a:lnTo>
                    <a:pt x="1221" y="763"/>
                  </a:lnTo>
                  <a:lnTo>
                    <a:pt x="1223" y="581"/>
                  </a:lnTo>
                  <a:lnTo>
                    <a:pt x="1202" y="538"/>
                  </a:lnTo>
                  <a:lnTo>
                    <a:pt x="1188" y="495"/>
                  </a:lnTo>
                  <a:lnTo>
                    <a:pt x="1188" y="457"/>
                  </a:lnTo>
                  <a:lnTo>
                    <a:pt x="1176" y="390"/>
                  </a:lnTo>
                  <a:lnTo>
                    <a:pt x="1156" y="359"/>
                  </a:lnTo>
                  <a:lnTo>
                    <a:pt x="1144" y="362"/>
                  </a:lnTo>
                  <a:lnTo>
                    <a:pt x="1145" y="369"/>
                  </a:lnTo>
                  <a:lnTo>
                    <a:pt x="1141" y="371"/>
                  </a:lnTo>
                  <a:lnTo>
                    <a:pt x="1133" y="359"/>
                  </a:lnTo>
                  <a:lnTo>
                    <a:pt x="1138" y="324"/>
                  </a:lnTo>
                  <a:lnTo>
                    <a:pt x="1104" y="249"/>
                  </a:lnTo>
                  <a:lnTo>
                    <a:pt x="1101" y="220"/>
                  </a:lnTo>
                  <a:lnTo>
                    <a:pt x="1117" y="192"/>
                  </a:lnTo>
                  <a:lnTo>
                    <a:pt x="1104" y="138"/>
                  </a:lnTo>
                  <a:lnTo>
                    <a:pt x="1074" y="61"/>
                  </a:lnTo>
                  <a:lnTo>
                    <a:pt x="1073" y="51"/>
                  </a:lnTo>
                  <a:lnTo>
                    <a:pt x="1064" y="40"/>
                  </a:lnTo>
                  <a:lnTo>
                    <a:pt x="1068" y="27"/>
                  </a:lnTo>
                  <a:lnTo>
                    <a:pt x="1057" y="0"/>
                  </a:lnTo>
                  <a:lnTo>
                    <a:pt x="805" y="65"/>
                  </a:lnTo>
                  <a:lnTo>
                    <a:pt x="801" y="57"/>
                  </a:lnTo>
                  <a:lnTo>
                    <a:pt x="792" y="60"/>
                  </a:lnTo>
                  <a:lnTo>
                    <a:pt x="770" y="70"/>
                  </a:lnTo>
                  <a:lnTo>
                    <a:pt x="710" y="133"/>
                  </a:lnTo>
                  <a:lnTo>
                    <a:pt x="650" y="216"/>
                  </a:lnTo>
                  <a:lnTo>
                    <a:pt x="641" y="229"/>
                  </a:lnTo>
                  <a:lnTo>
                    <a:pt x="646" y="244"/>
                  </a:lnTo>
                  <a:lnTo>
                    <a:pt x="637" y="274"/>
                  </a:lnTo>
                  <a:lnTo>
                    <a:pt x="624" y="289"/>
                  </a:lnTo>
                  <a:lnTo>
                    <a:pt x="561" y="351"/>
                  </a:lnTo>
                  <a:lnTo>
                    <a:pt x="555" y="365"/>
                  </a:lnTo>
                  <a:lnTo>
                    <a:pt x="563" y="388"/>
                  </a:lnTo>
                  <a:lnTo>
                    <a:pt x="569" y="393"/>
                  </a:lnTo>
                  <a:lnTo>
                    <a:pt x="584" y="390"/>
                  </a:lnTo>
                  <a:lnTo>
                    <a:pt x="599" y="398"/>
                  </a:lnTo>
                  <a:lnTo>
                    <a:pt x="600" y="412"/>
                  </a:lnTo>
                  <a:lnTo>
                    <a:pt x="590" y="425"/>
                  </a:lnTo>
                  <a:lnTo>
                    <a:pt x="595" y="445"/>
                  </a:lnTo>
                  <a:lnTo>
                    <a:pt x="610" y="471"/>
                  </a:lnTo>
                  <a:lnTo>
                    <a:pt x="605" y="507"/>
                  </a:lnTo>
                  <a:lnTo>
                    <a:pt x="567" y="524"/>
                  </a:lnTo>
                  <a:lnTo>
                    <a:pt x="508" y="586"/>
                  </a:lnTo>
                  <a:lnTo>
                    <a:pt x="463" y="601"/>
                  </a:lnTo>
                  <a:lnTo>
                    <a:pt x="365" y="630"/>
                  </a:lnTo>
                  <a:lnTo>
                    <a:pt x="329" y="617"/>
                  </a:lnTo>
                  <a:lnTo>
                    <a:pt x="301" y="613"/>
                  </a:lnTo>
                  <a:lnTo>
                    <a:pt x="247" y="617"/>
                  </a:lnTo>
                  <a:lnTo>
                    <a:pt x="193" y="628"/>
                  </a:lnTo>
                  <a:lnTo>
                    <a:pt x="133" y="652"/>
                  </a:lnTo>
                  <a:lnTo>
                    <a:pt x="108" y="669"/>
                  </a:lnTo>
                  <a:lnTo>
                    <a:pt x="98" y="701"/>
                  </a:lnTo>
                  <a:lnTo>
                    <a:pt x="98" y="722"/>
                  </a:lnTo>
                  <a:lnTo>
                    <a:pt x="143" y="774"/>
                  </a:lnTo>
                  <a:lnTo>
                    <a:pt x="147" y="793"/>
                  </a:lnTo>
                  <a:lnTo>
                    <a:pt x="140" y="811"/>
                  </a:lnTo>
                  <a:lnTo>
                    <a:pt x="127" y="821"/>
                  </a:lnTo>
                  <a:lnTo>
                    <a:pt x="112" y="860"/>
                  </a:lnTo>
                  <a:lnTo>
                    <a:pt x="30" y="941"/>
                  </a:lnTo>
                  <a:lnTo>
                    <a:pt x="0" y="964"/>
                  </a:lnTo>
                  <a:lnTo>
                    <a:pt x="15" y="1033"/>
                  </a:lnTo>
                  <a:lnTo>
                    <a:pt x="866" y="863"/>
                  </a:lnTo>
                  <a:lnTo>
                    <a:pt x="881" y="873"/>
                  </a:lnTo>
                  <a:lnTo>
                    <a:pt x="887" y="889"/>
                  </a:lnTo>
                  <a:lnTo>
                    <a:pt x="895" y="895"/>
                  </a:lnTo>
                  <a:lnTo>
                    <a:pt x="901" y="895"/>
                  </a:lnTo>
                  <a:lnTo>
                    <a:pt x="908" y="901"/>
                  </a:lnTo>
                  <a:lnTo>
                    <a:pt x="923" y="904"/>
                  </a:lnTo>
                  <a:lnTo>
                    <a:pt x="948" y="954"/>
                  </a:lnTo>
                  <a:lnTo>
                    <a:pt x="953" y="973"/>
                  </a:lnTo>
                  <a:lnTo>
                    <a:pt x="962" y="980"/>
                  </a:lnTo>
                  <a:lnTo>
                    <a:pt x="964" y="990"/>
                  </a:lnTo>
                  <a:lnTo>
                    <a:pt x="1015" y="993"/>
                  </a:lnTo>
                  <a:lnTo>
                    <a:pt x="1031" y="1006"/>
                  </a:lnTo>
                  <a:lnTo>
                    <a:pt x="1031" y="1006"/>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7026120" y="2023920"/>
              <a:ext cx="871560" cy="544680"/>
            </a:xfrm>
            <a:custGeom>
              <a:avLst/>
              <a:gdLst/>
              <a:ahLst/>
              <a:rect l="l" t="t" r="r" b="b"/>
              <a:pathLst>
                <a:path w="1235" h="796">
                  <a:moveTo>
                    <a:pt x="308" y="758"/>
                  </a:moveTo>
                  <a:lnTo>
                    <a:pt x="866" y="650"/>
                  </a:lnTo>
                  <a:lnTo>
                    <a:pt x="1041" y="617"/>
                  </a:lnTo>
                  <a:lnTo>
                    <a:pt x="1042" y="614"/>
                  </a:lnTo>
                  <a:lnTo>
                    <a:pt x="1049" y="611"/>
                  </a:lnTo>
                  <a:lnTo>
                    <a:pt x="1052" y="594"/>
                  </a:lnTo>
                  <a:lnTo>
                    <a:pt x="1073" y="577"/>
                  </a:lnTo>
                  <a:lnTo>
                    <a:pt x="1094" y="573"/>
                  </a:lnTo>
                  <a:lnTo>
                    <a:pt x="1111" y="577"/>
                  </a:lnTo>
                  <a:lnTo>
                    <a:pt x="1162" y="541"/>
                  </a:lnTo>
                  <a:lnTo>
                    <a:pt x="1168" y="514"/>
                  </a:lnTo>
                  <a:lnTo>
                    <a:pt x="1201" y="482"/>
                  </a:lnTo>
                  <a:lnTo>
                    <a:pt x="1232" y="463"/>
                  </a:lnTo>
                  <a:lnTo>
                    <a:pt x="1235" y="455"/>
                  </a:lnTo>
                  <a:lnTo>
                    <a:pt x="1206" y="433"/>
                  </a:lnTo>
                  <a:lnTo>
                    <a:pt x="1195" y="421"/>
                  </a:lnTo>
                  <a:lnTo>
                    <a:pt x="1181" y="416"/>
                  </a:lnTo>
                  <a:lnTo>
                    <a:pt x="1172" y="407"/>
                  </a:lnTo>
                  <a:lnTo>
                    <a:pt x="1150" y="401"/>
                  </a:lnTo>
                  <a:lnTo>
                    <a:pt x="1141" y="369"/>
                  </a:lnTo>
                  <a:lnTo>
                    <a:pt x="1116" y="364"/>
                  </a:lnTo>
                  <a:lnTo>
                    <a:pt x="1112" y="362"/>
                  </a:lnTo>
                  <a:lnTo>
                    <a:pt x="1108" y="314"/>
                  </a:lnTo>
                  <a:lnTo>
                    <a:pt x="1122" y="306"/>
                  </a:lnTo>
                  <a:lnTo>
                    <a:pt x="1119" y="278"/>
                  </a:lnTo>
                  <a:lnTo>
                    <a:pt x="1100" y="263"/>
                  </a:lnTo>
                  <a:lnTo>
                    <a:pt x="1100" y="255"/>
                  </a:lnTo>
                  <a:lnTo>
                    <a:pt x="1106" y="246"/>
                  </a:lnTo>
                  <a:lnTo>
                    <a:pt x="1134" y="223"/>
                  </a:lnTo>
                  <a:lnTo>
                    <a:pt x="1141" y="183"/>
                  </a:lnTo>
                  <a:lnTo>
                    <a:pt x="1141" y="171"/>
                  </a:lnTo>
                  <a:lnTo>
                    <a:pt x="1153" y="148"/>
                  </a:lnTo>
                  <a:lnTo>
                    <a:pt x="1163" y="143"/>
                  </a:lnTo>
                  <a:lnTo>
                    <a:pt x="1147" y="130"/>
                  </a:lnTo>
                  <a:lnTo>
                    <a:pt x="1096" y="127"/>
                  </a:lnTo>
                  <a:lnTo>
                    <a:pt x="1094" y="117"/>
                  </a:lnTo>
                  <a:lnTo>
                    <a:pt x="1086" y="110"/>
                  </a:lnTo>
                  <a:lnTo>
                    <a:pt x="1081" y="91"/>
                  </a:lnTo>
                  <a:lnTo>
                    <a:pt x="1055" y="41"/>
                  </a:lnTo>
                  <a:lnTo>
                    <a:pt x="1041" y="38"/>
                  </a:lnTo>
                  <a:lnTo>
                    <a:pt x="1033" y="32"/>
                  </a:lnTo>
                  <a:lnTo>
                    <a:pt x="1027" y="32"/>
                  </a:lnTo>
                  <a:lnTo>
                    <a:pt x="1020" y="26"/>
                  </a:lnTo>
                  <a:lnTo>
                    <a:pt x="1014" y="10"/>
                  </a:lnTo>
                  <a:lnTo>
                    <a:pt x="999" y="0"/>
                  </a:lnTo>
                  <a:lnTo>
                    <a:pt x="147" y="170"/>
                  </a:lnTo>
                  <a:lnTo>
                    <a:pt x="132" y="101"/>
                  </a:lnTo>
                  <a:lnTo>
                    <a:pt x="85" y="146"/>
                  </a:lnTo>
                  <a:lnTo>
                    <a:pt x="78" y="149"/>
                  </a:lnTo>
                  <a:lnTo>
                    <a:pt x="71" y="142"/>
                  </a:lnTo>
                  <a:lnTo>
                    <a:pt x="65" y="142"/>
                  </a:lnTo>
                  <a:lnTo>
                    <a:pt x="54" y="168"/>
                  </a:lnTo>
                  <a:lnTo>
                    <a:pt x="15" y="202"/>
                  </a:lnTo>
                  <a:lnTo>
                    <a:pt x="0" y="211"/>
                  </a:lnTo>
                  <a:lnTo>
                    <a:pt x="60" y="562"/>
                  </a:lnTo>
                  <a:lnTo>
                    <a:pt x="103" y="796"/>
                  </a:lnTo>
                  <a:lnTo>
                    <a:pt x="308" y="758"/>
                  </a:lnTo>
                  <a:close/>
                </a:path>
              </a:pathLst>
            </a:custGeom>
            <a:solidFill>
              <a:srgbClr val="00172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7026120" y="2023920"/>
              <a:ext cx="871560" cy="544680"/>
            </a:xfrm>
            <a:custGeom>
              <a:avLst/>
              <a:gdLst/>
              <a:ahLst/>
              <a:rect l="l" t="t" r="r" b="b"/>
              <a:pathLst>
                <a:path w="1235" h="796">
                  <a:moveTo>
                    <a:pt x="308" y="758"/>
                  </a:moveTo>
                  <a:lnTo>
                    <a:pt x="866" y="650"/>
                  </a:lnTo>
                  <a:lnTo>
                    <a:pt x="1041" y="617"/>
                  </a:lnTo>
                  <a:lnTo>
                    <a:pt x="1042" y="614"/>
                  </a:lnTo>
                  <a:lnTo>
                    <a:pt x="1049" y="611"/>
                  </a:lnTo>
                  <a:lnTo>
                    <a:pt x="1052" y="594"/>
                  </a:lnTo>
                  <a:lnTo>
                    <a:pt x="1073" y="577"/>
                  </a:lnTo>
                  <a:lnTo>
                    <a:pt x="1094" y="573"/>
                  </a:lnTo>
                  <a:lnTo>
                    <a:pt x="1111" y="577"/>
                  </a:lnTo>
                  <a:lnTo>
                    <a:pt x="1162" y="541"/>
                  </a:lnTo>
                  <a:lnTo>
                    <a:pt x="1168" y="514"/>
                  </a:lnTo>
                  <a:lnTo>
                    <a:pt x="1201" y="482"/>
                  </a:lnTo>
                  <a:lnTo>
                    <a:pt x="1232" y="463"/>
                  </a:lnTo>
                  <a:lnTo>
                    <a:pt x="1235" y="455"/>
                  </a:lnTo>
                  <a:lnTo>
                    <a:pt x="1206" y="433"/>
                  </a:lnTo>
                  <a:lnTo>
                    <a:pt x="1195" y="421"/>
                  </a:lnTo>
                  <a:lnTo>
                    <a:pt x="1181" y="416"/>
                  </a:lnTo>
                  <a:lnTo>
                    <a:pt x="1172" y="407"/>
                  </a:lnTo>
                  <a:lnTo>
                    <a:pt x="1150" y="401"/>
                  </a:lnTo>
                  <a:lnTo>
                    <a:pt x="1141" y="369"/>
                  </a:lnTo>
                  <a:lnTo>
                    <a:pt x="1116" y="364"/>
                  </a:lnTo>
                  <a:lnTo>
                    <a:pt x="1112" y="362"/>
                  </a:lnTo>
                  <a:lnTo>
                    <a:pt x="1108" y="314"/>
                  </a:lnTo>
                  <a:lnTo>
                    <a:pt x="1122" y="306"/>
                  </a:lnTo>
                  <a:lnTo>
                    <a:pt x="1119" y="278"/>
                  </a:lnTo>
                  <a:lnTo>
                    <a:pt x="1100" y="263"/>
                  </a:lnTo>
                  <a:lnTo>
                    <a:pt x="1100" y="255"/>
                  </a:lnTo>
                  <a:lnTo>
                    <a:pt x="1106" y="246"/>
                  </a:lnTo>
                  <a:lnTo>
                    <a:pt x="1134" y="223"/>
                  </a:lnTo>
                  <a:lnTo>
                    <a:pt x="1141" y="183"/>
                  </a:lnTo>
                  <a:lnTo>
                    <a:pt x="1141" y="171"/>
                  </a:lnTo>
                  <a:lnTo>
                    <a:pt x="1153" y="148"/>
                  </a:lnTo>
                  <a:lnTo>
                    <a:pt x="1163" y="143"/>
                  </a:lnTo>
                  <a:lnTo>
                    <a:pt x="1147" y="130"/>
                  </a:lnTo>
                  <a:lnTo>
                    <a:pt x="1096" y="127"/>
                  </a:lnTo>
                  <a:lnTo>
                    <a:pt x="1094" y="117"/>
                  </a:lnTo>
                  <a:lnTo>
                    <a:pt x="1086" y="110"/>
                  </a:lnTo>
                  <a:lnTo>
                    <a:pt x="1081" y="91"/>
                  </a:lnTo>
                  <a:lnTo>
                    <a:pt x="1055" y="41"/>
                  </a:lnTo>
                  <a:lnTo>
                    <a:pt x="1041" y="38"/>
                  </a:lnTo>
                  <a:lnTo>
                    <a:pt x="1033" y="32"/>
                  </a:lnTo>
                  <a:lnTo>
                    <a:pt x="1027" y="32"/>
                  </a:lnTo>
                  <a:lnTo>
                    <a:pt x="1020" y="26"/>
                  </a:lnTo>
                  <a:lnTo>
                    <a:pt x="1014" y="10"/>
                  </a:lnTo>
                  <a:lnTo>
                    <a:pt x="999" y="0"/>
                  </a:lnTo>
                  <a:lnTo>
                    <a:pt x="147" y="170"/>
                  </a:lnTo>
                  <a:lnTo>
                    <a:pt x="132" y="101"/>
                  </a:lnTo>
                  <a:lnTo>
                    <a:pt x="85" y="146"/>
                  </a:lnTo>
                  <a:lnTo>
                    <a:pt x="78" y="149"/>
                  </a:lnTo>
                  <a:lnTo>
                    <a:pt x="71" y="142"/>
                  </a:lnTo>
                  <a:lnTo>
                    <a:pt x="65" y="142"/>
                  </a:lnTo>
                  <a:lnTo>
                    <a:pt x="54" y="168"/>
                  </a:lnTo>
                  <a:lnTo>
                    <a:pt x="15" y="202"/>
                  </a:lnTo>
                  <a:lnTo>
                    <a:pt x="0" y="211"/>
                  </a:lnTo>
                  <a:lnTo>
                    <a:pt x="60" y="562"/>
                  </a:lnTo>
                  <a:lnTo>
                    <a:pt x="103" y="796"/>
                  </a:lnTo>
                  <a:lnTo>
                    <a:pt x="308" y="758"/>
                  </a:lnTo>
                  <a:lnTo>
                    <a:pt x="308" y="758"/>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738840" y="2565360"/>
              <a:ext cx="1131840" cy="631800"/>
            </a:xfrm>
            <a:custGeom>
              <a:avLst/>
              <a:gdLst/>
              <a:ahLst/>
              <a:rect l="l" t="t" r="r" b="b"/>
              <a:pathLst>
                <a:path w="1606" h="921">
                  <a:moveTo>
                    <a:pt x="1585" y="672"/>
                  </a:moveTo>
                  <a:lnTo>
                    <a:pt x="1055" y="772"/>
                  </a:lnTo>
                  <a:lnTo>
                    <a:pt x="500" y="864"/>
                  </a:lnTo>
                  <a:lnTo>
                    <a:pt x="487" y="859"/>
                  </a:lnTo>
                  <a:lnTo>
                    <a:pt x="465" y="865"/>
                  </a:lnTo>
                  <a:lnTo>
                    <a:pt x="408" y="871"/>
                  </a:lnTo>
                  <a:lnTo>
                    <a:pt x="411" y="861"/>
                  </a:lnTo>
                  <a:lnTo>
                    <a:pt x="352" y="871"/>
                  </a:lnTo>
                  <a:lnTo>
                    <a:pt x="352" y="879"/>
                  </a:lnTo>
                  <a:lnTo>
                    <a:pt x="0" y="921"/>
                  </a:lnTo>
                  <a:lnTo>
                    <a:pt x="15" y="908"/>
                  </a:lnTo>
                  <a:lnTo>
                    <a:pt x="90" y="871"/>
                  </a:lnTo>
                  <a:lnTo>
                    <a:pt x="99" y="854"/>
                  </a:lnTo>
                  <a:lnTo>
                    <a:pt x="141" y="823"/>
                  </a:lnTo>
                  <a:lnTo>
                    <a:pt x="144" y="804"/>
                  </a:lnTo>
                  <a:lnTo>
                    <a:pt x="148" y="795"/>
                  </a:lnTo>
                  <a:lnTo>
                    <a:pt x="169" y="785"/>
                  </a:lnTo>
                  <a:lnTo>
                    <a:pt x="170" y="759"/>
                  </a:lnTo>
                  <a:lnTo>
                    <a:pt x="192" y="739"/>
                  </a:lnTo>
                  <a:lnTo>
                    <a:pt x="299" y="645"/>
                  </a:lnTo>
                  <a:lnTo>
                    <a:pt x="308" y="627"/>
                  </a:lnTo>
                  <a:lnTo>
                    <a:pt x="315" y="631"/>
                  </a:lnTo>
                  <a:lnTo>
                    <a:pt x="308" y="652"/>
                  </a:lnTo>
                  <a:lnTo>
                    <a:pt x="339" y="686"/>
                  </a:lnTo>
                  <a:lnTo>
                    <a:pt x="386" y="700"/>
                  </a:lnTo>
                  <a:lnTo>
                    <a:pt x="406" y="702"/>
                  </a:lnTo>
                  <a:lnTo>
                    <a:pt x="432" y="684"/>
                  </a:lnTo>
                  <a:lnTo>
                    <a:pt x="434" y="671"/>
                  </a:lnTo>
                  <a:lnTo>
                    <a:pt x="451" y="661"/>
                  </a:lnTo>
                  <a:lnTo>
                    <a:pt x="466" y="675"/>
                  </a:lnTo>
                  <a:lnTo>
                    <a:pt x="476" y="679"/>
                  </a:lnTo>
                  <a:lnTo>
                    <a:pt x="493" y="677"/>
                  </a:lnTo>
                  <a:lnTo>
                    <a:pt x="545" y="656"/>
                  </a:lnTo>
                  <a:lnTo>
                    <a:pt x="553" y="622"/>
                  </a:lnTo>
                  <a:lnTo>
                    <a:pt x="561" y="622"/>
                  </a:lnTo>
                  <a:lnTo>
                    <a:pt x="571" y="635"/>
                  </a:lnTo>
                  <a:lnTo>
                    <a:pt x="614" y="596"/>
                  </a:lnTo>
                  <a:lnTo>
                    <a:pt x="628" y="604"/>
                  </a:lnTo>
                  <a:lnTo>
                    <a:pt x="664" y="557"/>
                  </a:lnTo>
                  <a:lnTo>
                    <a:pt x="655" y="540"/>
                  </a:lnTo>
                  <a:lnTo>
                    <a:pt x="659" y="508"/>
                  </a:lnTo>
                  <a:lnTo>
                    <a:pt x="695" y="442"/>
                  </a:lnTo>
                  <a:lnTo>
                    <a:pt x="739" y="268"/>
                  </a:lnTo>
                  <a:lnTo>
                    <a:pt x="747" y="267"/>
                  </a:lnTo>
                  <a:lnTo>
                    <a:pt x="774" y="282"/>
                  </a:lnTo>
                  <a:lnTo>
                    <a:pt x="775" y="294"/>
                  </a:lnTo>
                  <a:lnTo>
                    <a:pt x="789" y="307"/>
                  </a:lnTo>
                  <a:lnTo>
                    <a:pt x="817" y="302"/>
                  </a:lnTo>
                  <a:lnTo>
                    <a:pt x="834" y="271"/>
                  </a:lnTo>
                  <a:lnTo>
                    <a:pt x="852" y="205"/>
                  </a:lnTo>
                  <a:lnTo>
                    <a:pt x="867" y="180"/>
                  </a:lnTo>
                  <a:lnTo>
                    <a:pt x="891" y="192"/>
                  </a:lnTo>
                  <a:lnTo>
                    <a:pt x="909" y="154"/>
                  </a:lnTo>
                  <a:lnTo>
                    <a:pt x="925" y="146"/>
                  </a:lnTo>
                  <a:lnTo>
                    <a:pt x="937" y="126"/>
                  </a:lnTo>
                  <a:lnTo>
                    <a:pt x="951" y="92"/>
                  </a:lnTo>
                  <a:lnTo>
                    <a:pt x="961" y="83"/>
                  </a:lnTo>
                  <a:lnTo>
                    <a:pt x="964" y="73"/>
                  </a:lnTo>
                  <a:lnTo>
                    <a:pt x="956" y="67"/>
                  </a:lnTo>
                  <a:lnTo>
                    <a:pt x="960" y="14"/>
                  </a:lnTo>
                  <a:lnTo>
                    <a:pt x="964" y="6"/>
                  </a:lnTo>
                  <a:lnTo>
                    <a:pt x="973" y="0"/>
                  </a:lnTo>
                  <a:lnTo>
                    <a:pt x="1067" y="60"/>
                  </a:lnTo>
                  <a:lnTo>
                    <a:pt x="1083" y="66"/>
                  </a:lnTo>
                  <a:lnTo>
                    <a:pt x="1087" y="62"/>
                  </a:lnTo>
                  <a:lnTo>
                    <a:pt x="1097" y="10"/>
                  </a:lnTo>
                  <a:lnTo>
                    <a:pt x="1112" y="7"/>
                  </a:lnTo>
                  <a:lnTo>
                    <a:pt x="1132" y="14"/>
                  </a:lnTo>
                  <a:lnTo>
                    <a:pt x="1152" y="20"/>
                  </a:lnTo>
                  <a:lnTo>
                    <a:pt x="1140" y="44"/>
                  </a:lnTo>
                  <a:lnTo>
                    <a:pt x="1160" y="67"/>
                  </a:lnTo>
                  <a:lnTo>
                    <a:pt x="1200" y="67"/>
                  </a:lnTo>
                  <a:lnTo>
                    <a:pt x="1219" y="85"/>
                  </a:lnTo>
                  <a:lnTo>
                    <a:pt x="1242" y="96"/>
                  </a:lnTo>
                  <a:lnTo>
                    <a:pt x="1262" y="120"/>
                  </a:lnTo>
                  <a:lnTo>
                    <a:pt x="1259" y="130"/>
                  </a:lnTo>
                  <a:lnTo>
                    <a:pt x="1234" y="178"/>
                  </a:lnTo>
                  <a:lnTo>
                    <a:pt x="1217" y="221"/>
                  </a:lnTo>
                  <a:lnTo>
                    <a:pt x="1222" y="248"/>
                  </a:lnTo>
                  <a:lnTo>
                    <a:pt x="1252" y="249"/>
                  </a:lnTo>
                  <a:lnTo>
                    <a:pt x="1279" y="233"/>
                  </a:lnTo>
                  <a:lnTo>
                    <a:pt x="1300" y="256"/>
                  </a:lnTo>
                  <a:lnTo>
                    <a:pt x="1315" y="264"/>
                  </a:lnTo>
                  <a:lnTo>
                    <a:pt x="1324" y="268"/>
                  </a:lnTo>
                  <a:lnTo>
                    <a:pt x="1341" y="281"/>
                  </a:lnTo>
                  <a:lnTo>
                    <a:pt x="1348" y="282"/>
                  </a:lnTo>
                  <a:lnTo>
                    <a:pt x="1362" y="276"/>
                  </a:lnTo>
                  <a:lnTo>
                    <a:pt x="1370" y="278"/>
                  </a:lnTo>
                  <a:lnTo>
                    <a:pt x="1419" y="303"/>
                  </a:lnTo>
                  <a:lnTo>
                    <a:pt x="1451" y="312"/>
                  </a:lnTo>
                  <a:lnTo>
                    <a:pt x="1471" y="334"/>
                  </a:lnTo>
                  <a:lnTo>
                    <a:pt x="1468" y="344"/>
                  </a:lnTo>
                  <a:lnTo>
                    <a:pt x="1457" y="354"/>
                  </a:lnTo>
                  <a:lnTo>
                    <a:pt x="1462" y="387"/>
                  </a:lnTo>
                  <a:lnTo>
                    <a:pt x="1457" y="394"/>
                  </a:lnTo>
                  <a:lnTo>
                    <a:pt x="1446" y="402"/>
                  </a:lnTo>
                  <a:lnTo>
                    <a:pt x="1446" y="404"/>
                  </a:lnTo>
                  <a:lnTo>
                    <a:pt x="1483" y="422"/>
                  </a:lnTo>
                  <a:lnTo>
                    <a:pt x="1495" y="447"/>
                  </a:lnTo>
                  <a:lnTo>
                    <a:pt x="1495" y="456"/>
                  </a:lnTo>
                  <a:lnTo>
                    <a:pt x="1487" y="467"/>
                  </a:lnTo>
                  <a:lnTo>
                    <a:pt x="1458" y="460"/>
                  </a:lnTo>
                  <a:lnTo>
                    <a:pt x="1454" y="473"/>
                  </a:lnTo>
                  <a:lnTo>
                    <a:pt x="1465" y="484"/>
                  </a:lnTo>
                  <a:lnTo>
                    <a:pt x="1470" y="484"/>
                  </a:lnTo>
                  <a:lnTo>
                    <a:pt x="1470" y="494"/>
                  </a:lnTo>
                  <a:lnTo>
                    <a:pt x="1452" y="499"/>
                  </a:lnTo>
                  <a:lnTo>
                    <a:pt x="1446" y="498"/>
                  </a:lnTo>
                  <a:lnTo>
                    <a:pt x="1444" y="505"/>
                  </a:lnTo>
                  <a:lnTo>
                    <a:pt x="1454" y="513"/>
                  </a:lnTo>
                  <a:lnTo>
                    <a:pt x="1477" y="517"/>
                  </a:lnTo>
                  <a:lnTo>
                    <a:pt x="1502" y="526"/>
                  </a:lnTo>
                  <a:lnTo>
                    <a:pt x="1508" y="539"/>
                  </a:lnTo>
                  <a:lnTo>
                    <a:pt x="1483" y="564"/>
                  </a:lnTo>
                  <a:lnTo>
                    <a:pt x="1470" y="564"/>
                  </a:lnTo>
                  <a:lnTo>
                    <a:pt x="1440" y="551"/>
                  </a:lnTo>
                  <a:lnTo>
                    <a:pt x="1440" y="564"/>
                  </a:lnTo>
                  <a:lnTo>
                    <a:pt x="1459" y="576"/>
                  </a:lnTo>
                  <a:lnTo>
                    <a:pt x="1482" y="593"/>
                  </a:lnTo>
                  <a:lnTo>
                    <a:pt x="1503" y="584"/>
                  </a:lnTo>
                  <a:lnTo>
                    <a:pt x="1525" y="564"/>
                  </a:lnTo>
                  <a:lnTo>
                    <a:pt x="1549" y="567"/>
                  </a:lnTo>
                  <a:lnTo>
                    <a:pt x="1577" y="564"/>
                  </a:lnTo>
                  <a:lnTo>
                    <a:pt x="1581" y="570"/>
                  </a:lnTo>
                  <a:lnTo>
                    <a:pt x="1606" y="645"/>
                  </a:lnTo>
                  <a:lnTo>
                    <a:pt x="1590" y="661"/>
                  </a:lnTo>
                  <a:lnTo>
                    <a:pt x="1584" y="661"/>
                  </a:lnTo>
                  <a:lnTo>
                    <a:pt x="1585" y="672"/>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6738840" y="2565360"/>
              <a:ext cx="1131840" cy="631800"/>
            </a:xfrm>
            <a:custGeom>
              <a:avLst/>
              <a:gdLst/>
              <a:ahLst/>
              <a:rect l="l" t="t" r="r" b="b"/>
              <a:pathLst>
                <a:path w="1606" h="921">
                  <a:moveTo>
                    <a:pt x="1585" y="672"/>
                  </a:moveTo>
                  <a:lnTo>
                    <a:pt x="1055" y="772"/>
                  </a:lnTo>
                  <a:lnTo>
                    <a:pt x="500" y="864"/>
                  </a:lnTo>
                  <a:lnTo>
                    <a:pt x="487" y="859"/>
                  </a:lnTo>
                  <a:lnTo>
                    <a:pt x="465" y="865"/>
                  </a:lnTo>
                  <a:lnTo>
                    <a:pt x="408" y="871"/>
                  </a:lnTo>
                  <a:lnTo>
                    <a:pt x="411" y="861"/>
                  </a:lnTo>
                  <a:lnTo>
                    <a:pt x="352" y="871"/>
                  </a:lnTo>
                  <a:lnTo>
                    <a:pt x="352" y="879"/>
                  </a:lnTo>
                  <a:lnTo>
                    <a:pt x="0" y="921"/>
                  </a:lnTo>
                  <a:lnTo>
                    <a:pt x="15" y="908"/>
                  </a:lnTo>
                  <a:lnTo>
                    <a:pt x="90" y="871"/>
                  </a:lnTo>
                  <a:lnTo>
                    <a:pt x="99" y="854"/>
                  </a:lnTo>
                  <a:lnTo>
                    <a:pt x="141" y="823"/>
                  </a:lnTo>
                  <a:lnTo>
                    <a:pt x="144" y="804"/>
                  </a:lnTo>
                  <a:lnTo>
                    <a:pt x="148" y="795"/>
                  </a:lnTo>
                  <a:lnTo>
                    <a:pt x="169" y="785"/>
                  </a:lnTo>
                  <a:lnTo>
                    <a:pt x="170" y="759"/>
                  </a:lnTo>
                  <a:lnTo>
                    <a:pt x="192" y="739"/>
                  </a:lnTo>
                  <a:lnTo>
                    <a:pt x="299" y="645"/>
                  </a:lnTo>
                  <a:lnTo>
                    <a:pt x="308" y="627"/>
                  </a:lnTo>
                  <a:lnTo>
                    <a:pt x="315" y="631"/>
                  </a:lnTo>
                  <a:lnTo>
                    <a:pt x="308" y="652"/>
                  </a:lnTo>
                  <a:lnTo>
                    <a:pt x="339" y="686"/>
                  </a:lnTo>
                  <a:lnTo>
                    <a:pt x="386" y="700"/>
                  </a:lnTo>
                  <a:lnTo>
                    <a:pt x="406" y="702"/>
                  </a:lnTo>
                  <a:lnTo>
                    <a:pt x="432" y="684"/>
                  </a:lnTo>
                  <a:lnTo>
                    <a:pt x="434" y="671"/>
                  </a:lnTo>
                  <a:lnTo>
                    <a:pt x="451" y="661"/>
                  </a:lnTo>
                  <a:lnTo>
                    <a:pt x="466" y="675"/>
                  </a:lnTo>
                  <a:lnTo>
                    <a:pt x="476" y="679"/>
                  </a:lnTo>
                  <a:lnTo>
                    <a:pt x="493" y="677"/>
                  </a:lnTo>
                  <a:lnTo>
                    <a:pt x="545" y="656"/>
                  </a:lnTo>
                  <a:lnTo>
                    <a:pt x="553" y="622"/>
                  </a:lnTo>
                  <a:lnTo>
                    <a:pt x="561" y="622"/>
                  </a:lnTo>
                  <a:lnTo>
                    <a:pt x="571" y="635"/>
                  </a:lnTo>
                  <a:lnTo>
                    <a:pt x="614" y="596"/>
                  </a:lnTo>
                  <a:lnTo>
                    <a:pt x="628" y="604"/>
                  </a:lnTo>
                  <a:lnTo>
                    <a:pt x="664" y="557"/>
                  </a:lnTo>
                  <a:lnTo>
                    <a:pt x="655" y="540"/>
                  </a:lnTo>
                  <a:lnTo>
                    <a:pt x="659" y="508"/>
                  </a:lnTo>
                  <a:lnTo>
                    <a:pt x="695" y="442"/>
                  </a:lnTo>
                  <a:lnTo>
                    <a:pt x="739" y="268"/>
                  </a:lnTo>
                  <a:lnTo>
                    <a:pt x="747" y="267"/>
                  </a:lnTo>
                  <a:lnTo>
                    <a:pt x="774" y="282"/>
                  </a:lnTo>
                  <a:lnTo>
                    <a:pt x="775" y="294"/>
                  </a:lnTo>
                  <a:lnTo>
                    <a:pt x="789" y="307"/>
                  </a:lnTo>
                  <a:lnTo>
                    <a:pt x="817" y="302"/>
                  </a:lnTo>
                  <a:lnTo>
                    <a:pt x="834" y="271"/>
                  </a:lnTo>
                  <a:lnTo>
                    <a:pt x="852" y="205"/>
                  </a:lnTo>
                  <a:lnTo>
                    <a:pt x="867" y="180"/>
                  </a:lnTo>
                  <a:lnTo>
                    <a:pt x="891" y="192"/>
                  </a:lnTo>
                  <a:lnTo>
                    <a:pt x="909" y="154"/>
                  </a:lnTo>
                  <a:lnTo>
                    <a:pt x="925" y="146"/>
                  </a:lnTo>
                  <a:lnTo>
                    <a:pt x="937" y="126"/>
                  </a:lnTo>
                  <a:lnTo>
                    <a:pt x="951" y="92"/>
                  </a:lnTo>
                  <a:lnTo>
                    <a:pt x="961" y="83"/>
                  </a:lnTo>
                  <a:lnTo>
                    <a:pt x="964" y="73"/>
                  </a:lnTo>
                  <a:lnTo>
                    <a:pt x="956" y="67"/>
                  </a:lnTo>
                  <a:lnTo>
                    <a:pt x="960" y="14"/>
                  </a:lnTo>
                  <a:lnTo>
                    <a:pt x="964" y="6"/>
                  </a:lnTo>
                  <a:lnTo>
                    <a:pt x="973" y="0"/>
                  </a:lnTo>
                  <a:lnTo>
                    <a:pt x="1067" y="60"/>
                  </a:lnTo>
                  <a:lnTo>
                    <a:pt x="1083" y="66"/>
                  </a:lnTo>
                  <a:lnTo>
                    <a:pt x="1087" y="62"/>
                  </a:lnTo>
                  <a:lnTo>
                    <a:pt x="1097" y="10"/>
                  </a:lnTo>
                  <a:lnTo>
                    <a:pt x="1112" y="7"/>
                  </a:lnTo>
                  <a:lnTo>
                    <a:pt x="1132" y="14"/>
                  </a:lnTo>
                  <a:lnTo>
                    <a:pt x="1152" y="20"/>
                  </a:lnTo>
                  <a:lnTo>
                    <a:pt x="1140" y="44"/>
                  </a:lnTo>
                  <a:lnTo>
                    <a:pt x="1160" y="67"/>
                  </a:lnTo>
                  <a:lnTo>
                    <a:pt x="1200" y="67"/>
                  </a:lnTo>
                  <a:lnTo>
                    <a:pt x="1219" y="85"/>
                  </a:lnTo>
                  <a:lnTo>
                    <a:pt x="1242" y="96"/>
                  </a:lnTo>
                  <a:lnTo>
                    <a:pt x="1262" y="120"/>
                  </a:lnTo>
                  <a:lnTo>
                    <a:pt x="1259" y="130"/>
                  </a:lnTo>
                  <a:lnTo>
                    <a:pt x="1234" y="178"/>
                  </a:lnTo>
                  <a:lnTo>
                    <a:pt x="1217" y="221"/>
                  </a:lnTo>
                  <a:lnTo>
                    <a:pt x="1222" y="248"/>
                  </a:lnTo>
                  <a:lnTo>
                    <a:pt x="1252" y="249"/>
                  </a:lnTo>
                  <a:lnTo>
                    <a:pt x="1279" y="233"/>
                  </a:lnTo>
                  <a:lnTo>
                    <a:pt x="1300" y="256"/>
                  </a:lnTo>
                  <a:lnTo>
                    <a:pt x="1315" y="264"/>
                  </a:lnTo>
                  <a:lnTo>
                    <a:pt x="1324" y="268"/>
                  </a:lnTo>
                  <a:lnTo>
                    <a:pt x="1341" y="281"/>
                  </a:lnTo>
                  <a:lnTo>
                    <a:pt x="1348" y="282"/>
                  </a:lnTo>
                  <a:lnTo>
                    <a:pt x="1362" y="276"/>
                  </a:lnTo>
                  <a:lnTo>
                    <a:pt x="1370" y="278"/>
                  </a:lnTo>
                  <a:lnTo>
                    <a:pt x="1419" y="303"/>
                  </a:lnTo>
                  <a:lnTo>
                    <a:pt x="1451" y="312"/>
                  </a:lnTo>
                  <a:lnTo>
                    <a:pt x="1471" y="334"/>
                  </a:lnTo>
                  <a:lnTo>
                    <a:pt x="1468" y="344"/>
                  </a:lnTo>
                  <a:lnTo>
                    <a:pt x="1457" y="354"/>
                  </a:lnTo>
                  <a:lnTo>
                    <a:pt x="1462" y="387"/>
                  </a:lnTo>
                  <a:lnTo>
                    <a:pt x="1457" y="394"/>
                  </a:lnTo>
                  <a:lnTo>
                    <a:pt x="1446" y="402"/>
                  </a:lnTo>
                  <a:lnTo>
                    <a:pt x="1446" y="404"/>
                  </a:lnTo>
                  <a:lnTo>
                    <a:pt x="1483" y="422"/>
                  </a:lnTo>
                  <a:lnTo>
                    <a:pt x="1495" y="447"/>
                  </a:lnTo>
                  <a:lnTo>
                    <a:pt x="1495" y="456"/>
                  </a:lnTo>
                  <a:lnTo>
                    <a:pt x="1487" y="467"/>
                  </a:lnTo>
                  <a:lnTo>
                    <a:pt x="1458" y="460"/>
                  </a:lnTo>
                  <a:lnTo>
                    <a:pt x="1454" y="473"/>
                  </a:lnTo>
                  <a:lnTo>
                    <a:pt x="1465" y="484"/>
                  </a:lnTo>
                  <a:lnTo>
                    <a:pt x="1470" y="484"/>
                  </a:lnTo>
                  <a:lnTo>
                    <a:pt x="1470" y="494"/>
                  </a:lnTo>
                  <a:lnTo>
                    <a:pt x="1452" y="499"/>
                  </a:lnTo>
                  <a:lnTo>
                    <a:pt x="1446" y="498"/>
                  </a:lnTo>
                  <a:lnTo>
                    <a:pt x="1444" y="505"/>
                  </a:lnTo>
                  <a:lnTo>
                    <a:pt x="1454" y="513"/>
                  </a:lnTo>
                  <a:lnTo>
                    <a:pt x="1477" y="517"/>
                  </a:lnTo>
                  <a:lnTo>
                    <a:pt x="1502" y="526"/>
                  </a:lnTo>
                  <a:lnTo>
                    <a:pt x="1508" y="539"/>
                  </a:lnTo>
                  <a:lnTo>
                    <a:pt x="1483" y="564"/>
                  </a:lnTo>
                  <a:lnTo>
                    <a:pt x="1470" y="564"/>
                  </a:lnTo>
                  <a:lnTo>
                    <a:pt x="1440" y="551"/>
                  </a:lnTo>
                  <a:lnTo>
                    <a:pt x="1440" y="564"/>
                  </a:lnTo>
                  <a:lnTo>
                    <a:pt x="1459" y="576"/>
                  </a:lnTo>
                  <a:lnTo>
                    <a:pt x="1482" y="593"/>
                  </a:lnTo>
                  <a:lnTo>
                    <a:pt x="1503" y="584"/>
                  </a:lnTo>
                  <a:lnTo>
                    <a:pt x="1525" y="564"/>
                  </a:lnTo>
                  <a:lnTo>
                    <a:pt x="1549" y="567"/>
                  </a:lnTo>
                  <a:lnTo>
                    <a:pt x="1577" y="564"/>
                  </a:lnTo>
                  <a:lnTo>
                    <a:pt x="1581" y="570"/>
                  </a:lnTo>
                  <a:lnTo>
                    <a:pt x="1606" y="645"/>
                  </a:lnTo>
                  <a:lnTo>
                    <a:pt x="1590" y="661"/>
                  </a:lnTo>
                  <a:lnTo>
                    <a:pt x="1584" y="661"/>
                  </a:lnTo>
                  <a:lnTo>
                    <a:pt x="1585" y="672"/>
                  </a:lnTo>
                  <a:lnTo>
                    <a:pt x="1585" y="672"/>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624720" y="3029040"/>
              <a:ext cx="1311120" cy="546120"/>
            </a:xfrm>
            <a:custGeom>
              <a:avLst/>
              <a:gdLst/>
              <a:ahLst/>
              <a:rect l="l" t="t" r="r" b="b"/>
              <a:pathLst>
                <a:path w="1858" h="800">
                  <a:moveTo>
                    <a:pt x="0" y="705"/>
                  </a:moveTo>
                  <a:lnTo>
                    <a:pt x="6" y="646"/>
                  </a:lnTo>
                  <a:lnTo>
                    <a:pt x="26" y="646"/>
                  </a:lnTo>
                  <a:lnTo>
                    <a:pt x="35" y="642"/>
                  </a:lnTo>
                  <a:lnTo>
                    <a:pt x="51" y="628"/>
                  </a:lnTo>
                  <a:lnTo>
                    <a:pt x="52" y="611"/>
                  </a:lnTo>
                  <a:lnTo>
                    <a:pt x="51" y="597"/>
                  </a:lnTo>
                  <a:lnTo>
                    <a:pt x="57" y="583"/>
                  </a:lnTo>
                  <a:lnTo>
                    <a:pt x="73" y="564"/>
                  </a:lnTo>
                  <a:lnTo>
                    <a:pt x="118" y="545"/>
                  </a:lnTo>
                  <a:lnTo>
                    <a:pt x="168" y="532"/>
                  </a:lnTo>
                  <a:lnTo>
                    <a:pt x="218" y="489"/>
                  </a:lnTo>
                  <a:lnTo>
                    <a:pt x="237" y="480"/>
                  </a:lnTo>
                  <a:lnTo>
                    <a:pt x="268" y="452"/>
                  </a:lnTo>
                  <a:lnTo>
                    <a:pt x="275" y="427"/>
                  </a:lnTo>
                  <a:lnTo>
                    <a:pt x="280" y="424"/>
                  </a:lnTo>
                  <a:lnTo>
                    <a:pt x="293" y="425"/>
                  </a:lnTo>
                  <a:lnTo>
                    <a:pt x="303" y="414"/>
                  </a:lnTo>
                  <a:lnTo>
                    <a:pt x="305" y="407"/>
                  </a:lnTo>
                  <a:lnTo>
                    <a:pt x="322" y="389"/>
                  </a:lnTo>
                  <a:lnTo>
                    <a:pt x="328" y="391"/>
                  </a:lnTo>
                  <a:lnTo>
                    <a:pt x="343" y="402"/>
                  </a:lnTo>
                  <a:lnTo>
                    <a:pt x="358" y="392"/>
                  </a:lnTo>
                  <a:lnTo>
                    <a:pt x="363" y="383"/>
                  </a:lnTo>
                  <a:lnTo>
                    <a:pt x="387" y="362"/>
                  </a:lnTo>
                  <a:lnTo>
                    <a:pt x="406" y="355"/>
                  </a:lnTo>
                  <a:lnTo>
                    <a:pt x="439" y="353"/>
                  </a:lnTo>
                  <a:lnTo>
                    <a:pt x="476" y="294"/>
                  </a:lnTo>
                  <a:lnTo>
                    <a:pt x="505" y="275"/>
                  </a:lnTo>
                  <a:lnTo>
                    <a:pt x="507" y="259"/>
                  </a:lnTo>
                  <a:lnTo>
                    <a:pt x="513" y="241"/>
                  </a:lnTo>
                  <a:lnTo>
                    <a:pt x="507" y="222"/>
                  </a:lnTo>
                  <a:lnTo>
                    <a:pt x="513" y="206"/>
                  </a:lnTo>
                  <a:lnTo>
                    <a:pt x="513" y="199"/>
                  </a:lnTo>
                  <a:lnTo>
                    <a:pt x="572" y="188"/>
                  </a:lnTo>
                  <a:lnTo>
                    <a:pt x="568" y="199"/>
                  </a:lnTo>
                  <a:lnTo>
                    <a:pt x="625" y="193"/>
                  </a:lnTo>
                  <a:lnTo>
                    <a:pt x="647" y="187"/>
                  </a:lnTo>
                  <a:lnTo>
                    <a:pt x="661" y="191"/>
                  </a:lnTo>
                  <a:lnTo>
                    <a:pt x="1216" y="99"/>
                  </a:lnTo>
                  <a:lnTo>
                    <a:pt x="1745" y="0"/>
                  </a:lnTo>
                  <a:lnTo>
                    <a:pt x="1755" y="6"/>
                  </a:lnTo>
                  <a:lnTo>
                    <a:pt x="1759" y="16"/>
                  </a:lnTo>
                  <a:lnTo>
                    <a:pt x="1772" y="25"/>
                  </a:lnTo>
                  <a:lnTo>
                    <a:pt x="1783" y="27"/>
                  </a:lnTo>
                  <a:lnTo>
                    <a:pt x="1791" y="39"/>
                  </a:lnTo>
                  <a:lnTo>
                    <a:pt x="1799" y="49"/>
                  </a:lnTo>
                  <a:lnTo>
                    <a:pt x="1812" y="76"/>
                  </a:lnTo>
                  <a:lnTo>
                    <a:pt x="1806" y="82"/>
                  </a:lnTo>
                  <a:lnTo>
                    <a:pt x="1810" y="84"/>
                  </a:lnTo>
                  <a:lnTo>
                    <a:pt x="1801" y="84"/>
                  </a:lnTo>
                  <a:lnTo>
                    <a:pt x="1797" y="77"/>
                  </a:lnTo>
                  <a:lnTo>
                    <a:pt x="1783" y="80"/>
                  </a:lnTo>
                  <a:lnTo>
                    <a:pt x="1770" y="80"/>
                  </a:lnTo>
                  <a:lnTo>
                    <a:pt x="1760" y="76"/>
                  </a:lnTo>
                  <a:lnTo>
                    <a:pt x="1753" y="79"/>
                  </a:lnTo>
                  <a:lnTo>
                    <a:pt x="1759" y="88"/>
                  </a:lnTo>
                  <a:lnTo>
                    <a:pt x="1759" y="95"/>
                  </a:lnTo>
                  <a:lnTo>
                    <a:pt x="1708" y="118"/>
                  </a:lnTo>
                  <a:lnTo>
                    <a:pt x="1698" y="128"/>
                  </a:lnTo>
                  <a:lnTo>
                    <a:pt x="1676" y="147"/>
                  </a:lnTo>
                  <a:lnTo>
                    <a:pt x="1646" y="152"/>
                  </a:lnTo>
                  <a:lnTo>
                    <a:pt x="1639" y="173"/>
                  </a:lnTo>
                  <a:lnTo>
                    <a:pt x="1639" y="181"/>
                  </a:lnTo>
                  <a:lnTo>
                    <a:pt x="1645" y="181"/>
                  </a:lnTo>
                  <a:lnTo>
                    <a:pt x="1658" y="179"/>
                  </a:lnTo>
                  <a:lnTo>
                    <a:pt x="1688" y="162"/>
                  </a:lnTo>
                  <a:lnTo>
                    <a:pt x="1723" y="153"/>
                  </a:lnTo>
                  <a:lnTo>
                    <a:pt x="1742" y="140"/>
                  </a:lnTo>
                  <a:lnTo>
                    <a:pt x="1772" y="140"/>
                  </a:lnTo>
                  <a:lnTo>
                    <a:pt x="1776" y="147"/>
                  </a:lnTo>
                  <a:lnTo>
                    <a:pt x="1772" y="167"/>
                  </a:lnTo>
                  <a:lnTo>
                    <a:pt x="1776" y="175"/>
                  </a:lnTo>
                  <a:lnTo>
                    <a:pt x="1786" y="181"/>
                  </a:lnTo>
                  <a:lnTo>
                    <a:pt x="1797" y="177"/>
                  </a:lnTo>
                  <a:lnTo>
                    <a:pt x="1801" y="167"/>
                  </a:lnTo>
                  <a:lnTo>
                    <a:pt x="1821" y="141"/>
                  </a:lnTo>
                  <a:lnTo>
                    <a:pt x="1837" y="141"/>
                  </a:lnTo>
                  <a:lnTo>
                    <a:pt x="1848" y="167"/>
                  </a:lnTo>
                  <a:lnTo>
                    <a:pt x="1852" y="210"/>
                  </a:lnTo>
                  <a:lnTo>
                    <a:pt x="1858" y="222"/>
                  </a:lnTo>
                  <a:lnTo>
                    <a:pt x="1856" y="229"/>
                  </a:lnTo>
                  <a:lnTo>
                    <a:pt x="1829" y="251"/>
                  </a:lnTo>
                  <a:lnTo>
                    <a:pt x="1821" y="269"/>
                  </a:lnTo>
                  <a:lnTo>
                    <a:pt x="1819" y="279"/>
                  </a:lnTo>
                  <a:lnTo>
                    <a:pt x="1797" y="294"/>
                  </a:lnTo>
                  <a:lnTo>
                    <a:pt x="1783" y="303"/>
                  </a:lnTo>
                  <a:lnTo>
                    <a:pt x="1766" y="313"/>
                  </a:lnTo>
                  <a:lnTo>
                    <a:pt x="1730" y="308"/>
                  </a:lnTo>
                  <a:lnTo>
                    <a:pt x="1718" y="305"/>
                  </a:lnTo>
                  <a:lnTo>
                    <a:pt x="1717" y="310"/>
                  </a:lnTo>
                  <a:lnTo>
                    <a:pt x="1711" y="310"/>
                  </a:lnTo>
                  <a:lnTo>
                    <a:pt x="1705" y="292"/>
                  </a:lnTo>
                  <a:lnTo>
                    <a:pt x="1705" y="285"/>
                  </a:lnTo>
                  <a:lnTo>
                    <a:pt x="1699" y="279"/>
                  </a:lnTo>
                  <a:lnTo>
                    <a:pt x="1690" y="276"/>
                  </a:lnTo>
                  <a:lnTo>
                    <a:pt x="1684" y="282"/>
                  </a:lnTo>
                  <a:lnTo>
                    <a:pt x="1688" y="316"/>
                  </a:lnTo>
                  <a:lnTo>
                    <a:pt x="1684" y="324"/>
                  </a:lnTo>
                  <a:lnTo>
                    <a:pt x="1679" y="320"/>
                  </a:lnTo>
                  <a:lnTo>
                    <a:pt x="1690" y="336"/>
                  </a:lnTo>
                  <a:lnTo>
                    <a:pt x="1705" y="336"/>
                  </a:lnTo>
                  <a:lnTo>
                    <a:pt x="1718" y="353"/>
                  </a:lnTo>
                  <a:lnTo>
                    <a:pt x="1709" y="371"/>
                  </a:lnTo>
                  <a:lnTo>
                    <a:pt x="1717" y="381"/>
                  </a:lnTo>
                  <a:lnTo>
                    <a:pt x="1675" y="432"/>
                  </a:lnTo>
                  <a:lnTo>
                    <a:pt x="1664" y="434"/>
                  </a:lnTo>
                  <a:lnTo>
                    <a:pt x="1640" y="428"/>
                  </a:lnTo>
                  <a:lnTo>
                    <a:pt x="1625" y="428"/>
                  </a:lnTo>
                  <a:lnTo>
                    <a:pt x="1621" y="434"/>
                  </a:lnTo>
                  <a:lnTo>
                    <a:pt x="1636" y="444"/>
                  </a:lnTo>
                  <a:lnTo>
                    <a:pt x="1679" y="442"/>
                  </a:lnTo>
                  <a:lnTo>
                    <a:pt x="1708" y="436"/>
                  </a:lnTo>
                  <a:lnTo>
                    <a:pt x="1745" y="414"/>
                  </a:lnTo>
                  <a:lnTo>
                    <a:pt x="1752" y="401"/>
                  </a:lnTo>
                  <a:lnTo>
                    <a:pt x="1760" y="404"/>
                  </a:lnTo>
                  <a:lnTo>
                    <a:pt x="1775" y="417"/>
                  </a:lnTo>
                  <a:lnTo>
                    <a:pt x="1762" y="449"/>
                  </a:lnTo>
                  <a:lnTo>
                    <a:pt x="1728" y="487"/>
                  </a:lnTo>
                  <a:lnTo>
                    <a:pt x="1693" y="493"/>
                  </a:lnTo>
                  <a:lnTo>
                    <a:pt x="1676" y="501"/>
                  </a:lnTo>
                  <a:lnTo>
                    <a:pt x="1635" y="506"/>
                  </a:lnTo>
                  <a:lnTo>
                    <a:pt x="1598" y="566"/>
                  </a:lnTo>
                  <a:lnTo>
                    <a:pt x="1582" y="571"/>
                  </a:lnTo>
                  <a:lnTo>
                    <a:pt x="1582" y="578"/>
                  </a:lnTo>
                  <a:lnTo>
                    <a:pt x="1585" y="579"/>
                  </a:lnTo>
                  <a:lnTo>
                    <a:pt x="1542" y="605"/>
                  </a:lnTo>
                  <a:lnTo>
                    <a:pt x="1519" y="636"/>
                  </a:lnTo>
                  <a:lnTo>
                    <a:pt x="1497" y="688"/>
                  </a:lnTo>
                  <a:lnTo>
                    <a:pt x="1484" y="752"/>
                  </a:lnTo>
                  <a:lnTo>
                    <a:pt x="1475" y="766"/>
                  </a:lnTo>
                  <a:lnTo>
                    <a:pt x="1453" y="776"/>
                  </a:lnTo>
                  <a:lnTo>
                    <a:pt x="1366" y="792"/>
                  </a:lnTo>
                  <a:lnTo>
                    <a:pt x="1355" y="800"/>
                  </a:lnTo>
                  <a:lnTo>
                    <a:pt x="1072" y="603"/>
                  </a:lnTo>
                  <a:lnTo>
                    <a:pt x="832" y="634"/>
                  </a:lnTo>
                  <a:lnTo>
                    <a:pt x="826" y="600"/>
                  </a:lnTo>
                  <a:lnTo>
                    <a:pt x="780" y="566"/>
                  </a:lnTo>
                  <a:lnTo>
                    <a:pt x="762" y="578"/>
                  </a:lnTo>
                  <a:lnTo>
                    <a:pt x="754" y="569"/>
                  </a:lnTo>
                  <a:lnTo>
                    <a:pt x="757" y="558"/>
                  </a:lnTo>
                  <a:lnTo>
                    <a:pt x="755" y="552"/>
                  </a:lnTo>
                  <a:lnTo>
                    <a:pt x="476" y="585"/>
                  </a:lnTo>
                  <a:lnTo>
                    <a:pt x="467" y="583"/>
                  </a:lnTo>
                  <a:lnTo>
                    <a:pt x="462" y="591"/>
                  </a:lnTo>
                  <a:lnTo>
                    <a:pt x="406" y="619"/>
                  </a:lnTo>
                  <a:lnTo>
                    <a:pt x="404" y="631"/>
                  </a:lnTo>
                  <a:lnTo>
                    <a:pt x="384" y="631"/>
                  </a:lnTo>
                  <a:lnTo>
                    <a:pt x="321" y="662"/>
                  </a:lnTo>
                  <a:lnTo>
                    <a:pt x="0" y="705"/>
                  </a:lnTo>
                  <a:close/>
                </a:path>
              </a:pathLst>
            </a:custGeom>
            <a:solidFill>
              <a:srgbClr val="00152a"/>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624720" y="3029040"/>
              <a:ext cx="1311120" cy="546120"/>
            </a:xfrm>
            <a:custGeom>
              <a:avLst/>
              <a:gdLst/>
              <a:ahLst/>
              <a:rect l="l" t="t" r="r" b="b"/>
              <a:pathLst>
                <a:path w="1858" h="800">
                  <a:moveTo>
                    <a:pt x="0" y="705"/>
                  </a:moveTo>
                  <a:lnTo>
                    <a:pt x="6" y="646"/>
                  </a:lnTo>
                  <a:lnTo>
                    <a:pt x="26" y="646"/>
                  </a:lnTo>
                  <a:lnTo>
                    <a:pt x="35" y="642"/>
                  </a:lnTo>
                  <a:lnTo>
                    <a:pt x="51" y="628"/>
                  </a:lnTo>
                  <a:lnTo>
                    <a:pt x="52" y="611"/>
                  </a:lnTo>
                  <a:lnTo>
                    <a:pt x="51" y="597"/>
                  </a:lnTo>
                  <a:lnTo>
                    <a:pt x="57" y="583"/>
                  </a:lnTo>
                  <a:lnTo>
                    <a:pt x="73" y="564"/>
                  </a:lnTo>
                  <a:lnTo>
                    <a:pt x="118" y="545"/>
                  </a:lnTo>
                  <a:lnTo>
                    <a:pt x="168" y="532"/>
                  </a:lnTo>
                  <a:lnTo>
                    <a:pt x="218" y="489"/>
                  </a:lnTo>
                  <a:lnTo>
                    <a:pt x="237" y="480"/>
                  </a:lnTo>
                  <a:lnTo>
                    <a:pt x="268" y="452"/>
                  </a:lnTo>
                  <a:lnTo>
                    <a:pt x="275" y="427"/>
                  </a:lnTo>
                  <a:lnTo>
                    <a:pt x="280" y="424"/>
                  </a:lnTo>
                  <a:lnTo>
                    <a:pt x="293" y="425"/>
                  </a:lnTo>
                  <a:lnTo>
                    <a:pt x="303" y="414"/>
                  </a:lnTo>
                  <a:lnTo>
                    <a:pt x="305" y="407"/>
                  </a:lnTo>
                  <a:lnTo>
                    <a:pt x="322" y="389"/>
                  </a:lnTo>
                  <a:lnTo>
                    <a:pt x="328" y="391"/>
                  </a:lnTo>
                  <a:lnTo>
                    <a:pt x="343" y="402"/>
                  </a:lnTo>
                  <a:lnTo>
                    <a:pt x="358" y="392"/>
                  </a:lnTo>
                  <a:lnTo>
                    <a:pt x="363" y="383"/>
                  </a:lnTo>
                  <a:lnTo>
                    <a:pt x="387" y="362"/>
                  </a:lnTo>
                  <a:lnTo>
                    <a:pt x="406" y="355"/>
                  </a:lnTo>
                  <a:lnTo>
                    <a:pt x="439" y="353"/>
                  </a:lnTo>
                  <a:lnTo>
                    <a:pt x="476" y="294"/>
                  </a:lnTo>
                  <a:lnTo>
                    <a:pt x="505" y="275"/>
                  </a:lnTo>
                  <a:lnTo>
                    <a:pt x="507" y="259"/>
                  </a:lnTo>
                  <a:lnTo>
                    <a:pt x="513" y="241"/>
                  </a:lnTo>
                  <a:lnTo>
                    <a:pt x="507" y="222"/>
                  </a:lnTo>
                  <a:lnTo>
                    <a:pt x="513" y="206"/>
                  </a:lnTo>
                  <a:lnTo>
                    <a:pt x="513" y="199"/>
                  </a:lnTo>
                  <a:lnTo>
                    <a:pt x="572" y="188"/>
                  </a:lnTo>
                  <a:lnTo>
                    <a:pt x="568" y="199"/>
                  </a:lnTo>
                  <a:lnTo>
                    <a:pt x="625" y="193"/>
                  </a:lnTo>
                  <a:lnTo>
                    <a:pt x="647" y="187"/>
                  </a:lnTo>
                  <a:lnTo>
                    <a:pt x="661" y="191"/>
                  </a:lnTo>
                  <a:lnTo>
                    <a:pt x="1216" y="99"/>
                  </a:lnTo>
                  <a:lnTo>
                    <a:pt x="1745" y="0"/>
                  </a:lnTo>
                  <a:lnTo>
                    <a:pt x="1755" y="6"/>
                  </a:lnTo>
                  <a:lnTo>
                    <a:pt x="1759" y="16"/>
                  </a:lnTo>
                  <a:lnTo>
                    <a:pt x="1772" y="25"/>
                  </a:lnTo>
                  <a:lnTo>
                    <a:pt x="1783" y="27"/>
                  </a:lnTo>
                  <a:lnTo>
                    <a:pt x="1791" y="39"/>
                  </a:lnTo>
                  <a:lnTo>
                    <a:pt x="1799" y="49"/>
                  </a:lnTo>
                  <a:lnTo>
                    <a:pt x="1812" y="76"/>
                  </a:lnTo>
                  <a:lnTo>
                    <a:pt x="1806" y="82"/>
                  </a:lnTo>
                  <a:lnTo>
                    <a:pt x="1810" y="84"/>
                  </a:lnTo>
                  <a:lnTo>
                    <a:pt x="1801" y="84"/>
                  </a:lnTo>
                  <a:lnTo>
                    <a:pt x="1797" y="77"/>
                  </a:lnTo>
                  <a:lnTo>
                    <a:pt x="1783" y="80"/>
                  </a:lnTo>
                  <a:lnTo>
                    <a:pt x="1770" y="80"/>
                  </a:lnTo>
                  <a:lnTo>
                    <a:pt x="1760" y="76"/>
                  </a:lnTo>
                  <a:lnTo>
                    <a:pt x="1753" y="79"/>
                  </a:lnTo>
                  <a:lnTo>
                    <a:pt x="1759" y="88"/>
                  </a:lnTo>
                  <a:lnTo>
                    <a:pt x="1759" y="95"/>
                  </a:lnTo>
                  <a:lnTo>
                    <a:pt x="1708" y="118"/>
                  </a:lnTo>
                  <a:lnTo>
                    <a:pt x="1698" y="128"/>
                  </a:lnTo>
                  <a:lnTo>
                    <a:pt x="1676" y="147"/>
                  </a:lnTo>
                  <a:lnTo>
                    <a:pt x="1646" y="152"/>
                  </a:lnTo>
                  <a:lnTo>
                    <a:pt x="1639" y="173"/>
                  </a:lnTo>
                  <a:lnTo>
                    <a:pt x="1639" y="181"/>
                  </a:lnTo>
                  <a:lnTo>
                    <a:pt x="1645" y="181"/>
                  </a:lnTo>
                  <a:lnTo>
                    <a:pt x="1658" y="179"/>
                  </a:lnTo>
                  <a:lnTo>
                    <a:pt x="1688" y="162"/>
                  </a:lnTo>
                  <a:lnTo>
                    <a:pt x="1723" y="153"/>
                  </a:lnTo>
                  <a:lnTo>
                    <a:pt x="1742" y="140"/>
                  </a:lnTo>
                  <a:lnTo>
                    <a:pt x="1772" y="140"/>
                  </a:lnTo>
                  <a:lnTo>
                    <a:pt x="1776" y="147"/>
                  </a:lnTo>
                  <a:lnTo>
                    <a:pt x="1772" y="167"/>
                  </a:lnTo>
                  <a:lnTo>
                    <a:pt x="1776" y="175"/>
                  </a:lnTo>
                  <a:lnTo>
                    <a:pt x="1786" y="181"/>
                  </a:lnTo>
                  <a:lnTo>
                    <a:pt x="1797" y="177"/>
                  </a:lnTo>
                  <a:lnTo>
                    <a:pt x="1801" y="167"/>
                  </a:lnTo>
                  <a:lnTo>
                    <a:pt x="1821" y="141"/>
                  </a:lnTo>
                  <a:lnTo>
                    <a:pt x="1837" y="141"/>
                  </a:lnTo>
                  <a:lnTo>
                    <a:pt x="1848" y="167"/>
                  </a:lnTo>
                  <a:lnTo>
                    <a:pt x="1852" y="210"/>
                  </a:lnTo>
                  <a:lnTo>
                    <a:pt x="1858" y="222"/>
                  </a:lnTo>
                  <a:lnTo>
                    <a:pt x="1856" y="229"/>
                  </a:lnTo>
                  <a:lnTo>
                    <a:pt x="1829" y="251"/>
                  </a:lnTo>
                  <a:lnTo>
                    <a:pt x="1821" y="269"/>
                  </a:lnTo>
                  <a:lnTo>
                    <a:pt x="1819" y="279"/>
                  </a:lnTo>
                  <a:lnTo>
                    <a:pt x="1797" y="294"/>
                  </a:lnTo>
                  <a:lnTo>
                    <a:pt x="1783" y="303"/>
                  </a:lnTo>
                  <a:lnTo>
                    <a:pt x="1766" y="313"/>
                  </a:lnTo>
                  <a:lnTo>
                    <a:pt x="1730" y="308"/>
                  </a:lnTo>
                  <a:lnTo>
                    <a:pt x="1718" y="305"/>
                  </a:lnTo>
                  <a:lnTo>
                    <a:pt x="1717" y="310"/>
                  </a:lnTo>
                  <a:lnTo>
                    <a:pt x="1711" y="310"/>
                  </a:lnTo>
                  <a:lnTo>
                    <a:pt x="1705" y="292"/>
                  </a:lnTo>
                  <a:lnTo>
                    <a:pt x="1705" y="285"/>
                  </a:lnTo>
                  <a:lnTo>
                    <a:pt x="1699" y="279"/>
                  </a:lnTo>
                  <a:lnTo>
                    <a:pt x="1690" y="276"/>
                  </a:lnTo>
                  <a:lnTo>
                    <a:pt x="1684" y="282"/>
                  </a:lnTo>
                  <a:lnTo>
                    <a:pt x="1688" y="316"/>
                  </a:lnTo>
                  <a:lnTo>
                    <a:pt x="1684" y="324"/>
                  </a:lnTo>
                  <a:lnTo>
                    <a:pt x="1679" y="320"/>
                  </a:lnTo>
                  <a:lnTo>
                    <a:pt x="1690" y="336"/>
                  </a:lnTo>
                  <a:lnTo>
                    <a:pt x="1705" y="336"/>
                  </a:lnTo>
                  <a:lnTo>
                    <a:pt x="1718" y="353"/>
                  </a:lnTo>
                  <a:lnTo>
                    <a:pt x="1709" y="371"/>
                  </a:lnTo>
                  <a:lnTo>
                    <a:pt x="1717" y="381"/>
                  </a:lnTo>
                  <a:lnTo>
                    <a:pt x="1675" y="432"/>
                  </a:lnTo>
                  <a:lnTo>
                    <a:pt x="1664" y="434"/>
                  </a:lnTo>
                  <a:lnTo>
                    <a:pt x="1640" y="428"/>
                  </a:lnTo>
                  <a:lnTo>
                    <a:pt x="1625" y="428"/>
                  </a:lnTo>
                  <a:lnTo>
                    <a:pt x="1621" y="434"/>
                  </a:lnTo>
                  <a:lnTo>
                    <a:pt x="1636" y="444"/>
                  </a:lnTo>
                  <a:lnTo>
                    <a:pt x="1679" y="442"/>
                  </a:lnTo>
                  <a:lnTo>
                    <a:pt x="1708" y="436"/>
                  </a:lnTo>
                  <a:lnTo>
                    <a:pt x="1745" y="414"/>
                  </a:lnTo>
                  <a:lnTo>
                    <a:pt x="1752" y="401"/>
                  </a:lnTo>
                  <a:lnTo>
                    <a:pt x="1760" y="404"/>
                  </a:lnTo>
                  <a:lnTo>
                    <a:pt x="1775" y="417"/>
                  </a:lnTo>
                  <a:lnTo>
                    <a:pt x="1762" y="449"/>
                  </a:lnTo>
                  <a:lnTo>
                    <a:pt x="1728" y="487"/>
                  </a:lnTo>
                  <a:lnTo>
                    <a:pt x="1693" y="493"/>
                  </a:lnTo>
                  <a:lnTo>
                    <a:pt x="1676" y="501"/>
                  </a:lnTo>
                  <a:lnTo>
                    <a:pt x="1635" y="506"/>
                  </a:lnTo>
                  <a:lnTo>
                    <a:pt x="1598" y="566"/>
                  </a:lnTo>
                  <a:lnTo>
                    <a:pt x="1582" y="571"/>
                  </a:lnTo>
                  <a:lnTo>
                    <a:pt x="1582" y="578"/>
                  </a:lnTo>
                  <a:lnTo>
                    <a:pt x="1585" y="579"/>
                  </a:lnTo>
                  <a:lnTo>
                    <a:pt x="1542" y="605"/>
                  </a:lnTo>
                  <a:lnTo>
                    <a:pt x="1519" y="636"/>
                  </a:lnTo>
                  <a:lnTo>
                    <a:pt x="1497" y="688"/>
                  </a:lnTo>
                  <a:lnTo>
                    <a:pt x="1484" y="752"/>
                  </a:lnTo>
                  <a:lnTo>
                    <a:pt x="1475" y="766"/>
                  </a:lnTo>
                  <a:lnTo>
                    <a:pt x="1453" y="776"/>
                  </a:lnTo>
                  <a:lnTo>
                    <a:pt x="1366" y="792"/>
                  </a:lnTo>
                  <a:lnTo>
                    <a:pt x="1355" y="800"/>
                  </a:lnTo>
                  <a:lnTo>
                    <a:pt x="1072" y="603"/>
                  </a:lnTo>
                  <a:lnTo>
                    <a:pt x="832" y="634"/>
                  </a:lnTo>
                  <a:lnTo>
                    <a:pt x="826" y="600"/>
                  </a:lnTo>
                  <a:lnTo>
                    <a:pt x="780" y="566"/>
                  </a:lnTo>
                  <a:lnTo>
                    <a:pt x="762" y="578"/>
                  </a:lnTo>
                  <a:lnTo>
                    <a:pt x="754" y="569"/>
                  </a:lnTo>
                  <a:lnTo>
                    <a:pt x="757" y="558"/>
                  </a:lnTo>
                  <a:lnTo>
                    <a:pt x="755" y="552"/>
                  </a:lnTo>
                  <a:lnTo>
                    <a:pt x="476" y="585"/>
                  </a:lnTo>
                  <a:lnTo>
                    <a:pt x="467" y="583"/>
                  </a:lnTo>
                  <a:lnTo>
                    <a:pt x="462" y="591"/>
                  </a:lnTo>
                  <a:lnTo>
                    <a:pt x="406" y="619"/>
                  </a:lnTo>
                  <a:lnTo>
                    <a:pt x="404" y="631"/>
                  </a:lnTo>
                  <a:lnTo>
                    <a:pt x="384" y="631"/>
                  </a:lnTo>
                  <a:lnTo>
                    <a:pt x="321" y="662"/>
                  </a:lnTo>
                  <a:lnTo>
                    <a:pt x="0" y="705"/>
                  </a:lnTo>
                  <a:lnTo>
                    <a:pt x="0" y="705"/>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6821640" y="3406680"/>
              <a:ext cx="758520" cy="558720"/>
            </a:xfrm>
            <a:custGeom>
              <a:avLst/>
              <a:gdLst/>
              <a:ahLst/>
              <a:rect l="l" t="t" r="r" b="b"/>
              <a:pathLst>
                <a:path w="1078" h="818">
                  <a:moveTo>
                    <a:pt x="648" y="816"/>
                  </a:moveTo>
                  <a:lnTo>
                    <a:pt x="637" y="818"/>
                  </a:lnTo>
                  <a:lnTo>
                    <a:pt x="605" y="813"/>
                  </a:lnTo>
                  <a:lnTo>
                    <a:pt x="597" y="806"/>
                  </a:lnTo>
                  <a:lnTo>
                    <a:pt x="591" y="794"/>
                  </a:lnTo>
                  <a:lnTo>
                    <a:pt x="578" y="740"/>
                  </a:lnTo>
                  <a:lnTo>
                    <a:pt x="550" y="703"/>
                  </a:lnTo>
                  <a:lnTo>
                    <a:pt x="517" y="687"/>
                  </a:lnTo>
                  <a:lnTo>
                    <a:pt x="500" y="633"/>
                  </a:lnTo>
                  <a:lnTo>
                    <a:pt x="478" y="609"/>
                  </a:lnTo>
                  <a:lnTo>
                    <a:pt x="469" y="578"/>
                  </a:lnTo>
                  <a:lnTo>
                    <a:pt x="450" y="571"/>
                  </a:lnTo>
                  <a:lnTo>
                    <a:pt x="412" y="558"/>
                  </a:lnTo>
                  <a:lnTo>
                    <a:pt x="390" y="526"/>
                  </a:lnTo>
                  <a:lnTo>
                    <a:pt x="364" y="511"/>
                  </a:lnTo>
                  <a:lnTo>
                    <a:pt x="363" y="495"/>
                  </a:lnTo>
                  <a:lnTo>
                    <a:pt x="349" y="470"/>
                  </a:lnTo>
                  <a:lnTo>
                    <a:pt x="342" y="462"/>
                  </a:lnTo>
                  <a:lnTo>
                    <a:pt x="304" y="448"/>
                  </a:lnTo>
                  <a:lnTo>
                    <a:pt x="237" y="385"/>
                  </a:lnTo>
                  <a:lnTo>
                    <a:pt x="205" y="375"/>
                  </a:lnTo>
                  <a:lnTo>
                    <a:pt x="197" y="353"/>
                  </a:lnTo>
                  <a:lnTo>
                    <a:pt x="167" y="330"/>
                  </a:lnTo>
                  <a:lnTo>
                    <a:pt x="148" y="285"/>
                  </a:lnTo>
                  <a:lnTo>
                    <a:pt x="128" y="264"/>
                  </a:lnTo>
                  <a:lnTo>
                    <a:pt x="119" y="250"/>
                  </a:lnTo>
                  <a:lnTo>
                    <a:pt x="75" y="242"/>
                  </a:lnTo>
                  <a:lnTo>
                    <a:pt x="16" y="211"/>
                  </a:lnTo>
                  <a:lnTo>
                    <a:pt x="0" y="197"/>
                  </a:lnTo>
                  <a:lnTo>
                    <a:pt x="20" y="151"/>
                  </a:lnTo>
                  <a:lnTo>
                    <a:pt x="34" y="140"/>
                  </a:lnTo>
                  <a:lnTo>
                    <a:pt x="45" y="123"/>
                  </a:lnTo>
                  <a:lnTo>
                    <a:pt x="46" y="113"/>
                  </a:lnTo>
                  <a:lnTo>
                    <a:pt x="43" y="110"/>
                  </a:lnTo>
                  <a:lnTo>
                    <a:pt x="106" y="79"/>
                  </a:lnTo>
                  <a:lnTo>
                    <a:pt x="126" y="79"/>
                  </a:lnTo>
                  <a:lnTo>
                    <a:pt x="128" y="67"/>
                  </a:lnTo>
                  <a:lnTo>
                    <a:pt x="184" y="40"/>
                  </a:lnTo>
                  <a:lnTo>
                    <a:pt x="189" y="31"/>
                  </a:lnTo>
                  <a:lnTo>
                    <a:pt x="198" y="34"/>
                  </a:lnTo>
                  <a:lnTo>
                    <a:pt x="478" y="0"/>
                  </a:lnTo>
                  <a:lnTo>
                    <a:pt x="479" y="7"/>
                  </a:lnTo>
                  <a:lnTo>
                    <a:pt x="477" y="18"/>
                  </a:lnTo>
                  <a:lnTo>
                    <a:pt x="484" y="26"/>
                  </a:lnTo>
                  <a:lnTo>
                    <a:pt x="503" y="15"/>
                  </a:lnTo>
                  <a:lnTo>
                    <a:pt x="548" y="49"/>
                  </a:lnTo>
                  <a:lnTo>
                    <a:pt x="554" y="82"/>
                  </a:lnTo>
                  <a:lnTo>
                    <a:pt x="795" y="51"/>
                  </a:lnTo>
                  <a:lnTo>
                    <a:pt x="1078" y="249"/>
                  </a:lnTo>
                  <a:lnTo>
                    <a:pt x="1070" y="255"/>
                  </a:lnTo>
                  <a:lnTo>
                    <a:pt x="1045" y="270"/>
                  </a:lnTo>
                  <a:lnTo>
                    <a:pt x="1026" y="296"/>
                  </a:lnTo>
                  <a:lnTo>
                    <a:pt x="991" y="350"/>
                  </a:lnTo>
                  <a:lnTo>
                    <a:pt x="982" y="371"/>
                  </a:lnTo>
                  <a:lnTo>
                    <a:pt x="970" y="403"/>
                  </a:lnTo>
                  <a:lnTo>
                    <a:pt x="972" y="430"/>
                  </a:lnTo>
                  <a:lnTo>
                    <a:pt x="970" y="454"/>
                  </a:lnTo>
                  <a:lnTo>
                    <a:pt x="964" y="463"/>
                  </a:lnTo>
                  <a:lnTo>
                    <a:pt x="957" y="476"/>
                  </a:lnTo>
                  <a:lnTo>
                    <a:pt x="940" y="476"/>
                  </a:lnTo>
                  <a:lnTo>
                    <a:pt x="928" y="491"/>
                  </a:lnTo>
                  <a:lnTo>
                    <a:pt x="916" y="505"/>
                  </a:lnTo>
                  <a:lnTo>
                    <a:pt x="900" y="529"/>
                  </a:lnTo>
                  <a:lnTo>
                    <a:pt x="889" y="550"/>
                  </a:lnTo>
                  <a:lnTo>
                    <a:pt x="854" y="574"/>
                  </a:lnTo>
                  <a:lnTo>
                    <a:pt x="834" y="605"/>
                  </a:lnTo>
                  <a:lnTo>
                    <a:pt x="814" y="620"/>
                  </a:lnTo>
                  <a:lnTo>
                    <a:pt x="789" y="640"/>
                  </a:lnTo>
                  <a:lnTo>
                    <a:pt x="774" y="655"/>
                  </a:lnTo>
                  <a:lnTo>
                    <a:pt x="760" y="666"/>
                  </a:lnTo>
                  <a:lnTo>
                    <a:pt x="740" y="678"/>
                  </a:lnTo>
                  <a:lnTo>
                    <a:pt x="725" y="680"/>
                  </a:lnTo>
                  <a:lnTo>
                    <a:pt x="719" y="692"/>
                  </a:lnTo>
                  <a:lnTo>
                    <a:pt x="719" y="698"/>
                  </a:lnTo>
                  <a:lnTo>
                    <a:pt x="719" y="703"/>
                  </a:lnTo>
                  <a:lnTo>
                    <a:pt x="709" y="721"/>
                  </a:lnTo>
                  <a:lnTo>
                    <a:pt x="692" y="739"/>
                  </a:lnTo>
                  <a:lnTo>
                    <a:pt x="675" y="740"/>
                  </a:lnTo>
                  <a:lnTo>
                    <a:pt x="670" y="744"/>
                  </a:lnTo>
                  <a:lnTo>
                    <a:pt x="667" y="748"/>
                  </a:lnTo>
                  <a:lnTo>
                    <a:pt x="672" y="755"/>
                  </a:lnTo>
                  <a:lnTo>
                    <a:pt x="679" y="759"/>
                  </a:lnTo>
                  <a:lnTo>
                    <a:pt x="685" y="760"/>
                  </a:lnTo>
                  <a:lnTo>
                    <a:pt x="682" y="772"/>
                  </a:lnTo>
                  <a:lnTo>
                    <a:pt x="672" y="776"/>
                  </a:lnTo>
                  <a:lnTo>
                    <a:pt x="654" y="796"/>
                  </a:lnTo>
                  <a:lnTo>
                    <a:pt x="646" y="811"/>
                  </a:lnTo>
                  <a:lnTo>
                    <a:pt x="648" y="816"/>
                  </a:lnTo>
                  <a:close/>
                </a:path>
              </a:pathLst>
            </a:custGeom>
            <a:solidFill>
              <a:srgbClr val="ffff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821640" y="3406680"/>
              <a:ext cx="758520" cy="558720"/>
            </a:xfrm>
            <a:custGeom>
              <a:avLst/>
              <a:gdLst/>
              <a:ahLst/>
              <a:rect l="l" t="t" r="r" b="b"/>
              <a:pathLst>
                <a:path w="1078" h="818">
                  <a:moveTo>
                    <a:pt x="648" y="816"/>
                  </a:moveTo>
                  <a:lnTo>
                    <a:pt x="637" y="818"/>
                  </a:lnTo>
                  <a:lnTo>
                    <a:pt x="605" y="813"/>
                  </a:lnTo>
                  <a:lnTo>
                    <a:pt x="597" y="806"/>
                  </a:lnTo>
                  <a:lnTo>
                    <a:pt x="591" y="794"/>
                  </a:lnTo>
                  <a:lnTo>
                    <a:pt x="578" y="740"/>
                  </a:lnTo>
                  <a:lnTo>
                    <a:pt x="550" y="703"/>
                  </a:lnTo>
                  <a:lnTo>
                    <a:pt x="517" y="687"/>
                  </a:lnTo>
                  <a:lnTo>
                    <a:pt x="500" y="633"/>
                  </a:lnTo>
                  <a:lnTo>
                    <a:pt x="478" y="609"/>
                  </a:lnTo>
                  <a:lnTo>
                    <a:pt x="469" y="578"/>
                  </a:lnTo>
                  <a:lnTo>
                    <a:pt x="450" y="571"/>
                  </a:lnTo>
                  <a:lnTo>
                    <a:pt x="412" y="558"/>
                  </a:lnTo>
                  <a:lnTo>
                    <a:pt x="390" y="526"/>
                  </a:lnTo>
                  <a:lnTo>
                    <a:pt x="364" y="511"/>
                  </a:lnTo>
                  <a:lnTo>
                    <a:pt x="363" y="495"/>
                  </a:lnTo>
                  <a:lnTo>
                    <a:pt x="349" y="470"/>
                  </a:lnTo>
                  <a:lnTo>
                    <a:pt x="342" y="462"/>
                  </a:lnTo>
                  <a:lnTo>
                    <a:pt x="304" y="448"/>
                  </a:lnTo>
                  <a:lnTo>
                    <a:pt x="237" y="385"/>
                  </a:lnTo>
                  <a:lnTo>
                    <a:pt x="205" y="375"/>
                  </a:lnTo>
                  <a:lnTo>
                    <a:pt x="197" y="353"/>
                  </a:lnTo>
                  <a:lnTo>
                    <a:pt x="167" y="330"/>
                  </a:lnTo>
                  <a:lnTo>
                    <a:pt x="148" y="285"/>
                  </a:lnTo>
                  <a:lnTo>
                    <a:pt x="128" y="264"/>
                  </a:lnTo>
                  <a:lnTo>
                    <a:pt x="119" y="250"/>
                  </a:lnTo>
                  <a:lnTo>
                    <a:pt x="75" y="242"/>
                  </a:lnTo>
                  <a:lnTo>
                    <a:pt x="16" y="211"/>
                  </a:lnTo>
                  <a:lnTo>
                    <a:pt x="0" y="197"/>
                  </a:lnTo>
                  <a:lnTo>
                    <a:pt x="20" y="151"/>
                  </a:lnTo>
                  <a:lnTo>
                    <a:pt x="34" y="140"/>
                  </a:lnTo>
                  <a:lnTo>
                    <a:pt x="45" y="123"/>
                  </a:lnTo>
                  <a:lnTo>
                    <a:pt x="46" y="113"/>
                  </a:lnTo>
                  <a:lnTo>
                    <a:pt x="43" y="110"/>
                  </a:lnTo>
                  <a:lnTo>
                    <a:pt x="106" y="79"/>
                  </a:lnTo>
                  <a:lnTo>
                    <a:pt x="126" y="79"/>
                  </a:lnTo>
                  <a:lnTo>
                    <a:pt x="128" y="67"/>
                  </a:lnTo>
                  <a:lnTo>
                    <a:pt x="184" y="40"/>
                  </a:lnTo>
                  <a:lnTo>
                    <a:pt x="189" y="31"/>
                  </a:lnTo>
                  <a:lnTo>
                    <a:pt x="198" y="34"/>
                  </a:lnTo>
                  <a:lnTo>
                    <a:pt x="478" y="0"/>
                  </a:lnTo>
                  <a:lnTo>
                    <a:pt x="479" y="7"/>
                  </a:lnTo>
                  <a:lnTo>
                    <a:pt x="477" y="18"/>
                  </a:lnTo>
                  <a:lnTo>
                    <a:pt x="484" y="26"/>
                  </a:lnTo>
                  <a:lnTo>
                    <a:pt x="503" y="15"/>
                  </a:lnTo>
                  <a:lnTo>
                    <a:pt x="548" y="49"/>
                  </a:lnTo>
                  <a:lnTo>
                    <a:pt x="554" y="82"/>
                  </a:lnTo>
                  <a:lnTo>
                    <a:pt x="795" y="51"/>
                  </a:lnTo>
                  <a:lnTo>
                    <a:pt x="1078" y="249"/>
                  </a:lnTo>
                  <a:lnTo>
                    <a:pt x="1070" y="255"/>
                  </a:lnTo>
                  <a:lnTo>
                    <a:pt x="1045" y="270"/>
                  </a:lnTo>
                  <a:lnTo>
                    <a:pt x="1026" y="296"/>
                  </a:lnTo>
                  <a:lnTo>
                    <a:pt x="991" y="350"/>
                  </a:lnTo>
                  <a:lnTo>
                    <a:pt x="982" y="371"/>
                  </a:lnTo>
                  <a:lnTo>
                    <a:pt x="970" y="403"/>
                  </a:lnTo>
                  <a:lnTo>
                    <a:pt x="972" y="430"/>
                  </a:lnTo>
                  <a:lnTo>
                    <a:pt x="970" y="454"/>
                  </a:lnTo>
                  <a:lnTo>
                    <a:pt x="964" y="463"/>
                  </a:lnTo>
                  <a:lnTo>
                    <a:pt x="957" y="476"/>
                  </a:lnTo>
                  <a:lnTo>
                    <a:pt x="940" y="476"/>
                  </a:lnTo>
                  <a:lnTo>
                    <a:pt x="928" y="491"/>
                  </a:lnTo>
                  <a:lnTo>
                    <a:pt x="916" y="505"/>
                  </a:lnTo>
                  <a:lnTo>
                    <a:pt x="900" y="529"/>
                  </a:lnTo>
                  <a:lnTo>
                    <a:pt x="889" y="550"/>
                  </a:lnTo>
                  <a:lnTo>
                    <a:pt x="854" y="574"/>
                  </a:lnTo>
                  <a:lnTo>
                    <a:pt x="834" y="605"/>
                  </a:lnTo>
                  <a:lnTo>
                    <a:pt x="814" y="620"/>
                  </a:lnTo>
                  <a:lnTo>
                    <a:pt x="789" y="640"/>
                  </a:lnTo>
                  <a:lnTo>
                    <a:pt x="774" y="655"/>
                  </a:lnTo>
                  <a:lnTo>
                    <a:pt x="760" y="666"/>
                  </a:lnTo>
                  <a:lnTo>
                    <a:pt x="740" y="678"/>
                  </a:lnTo>
                  <a:lnTo>
                    <a:pt x="725" y="680"/>
                  </a:lnTo>
                  <a:lnTo>
                    <a:pt x="719" y="692"/>
                  </a:lnTo>
                  <a:lnTo>
                    <a:pt x="719" y="698"/>
                  </a:lnTo>
                  <a:lnTo>
                    <a:pt x="719" y="703"/>
                  </a:lnTo>
                  <a:lnTo>
                    <a:pt x="709" y="721"/>
                  </a:lnTo>
                  <a:lnTo>
                    <a:pt x="692" y="739"/>
                  </a:lnTo>
                  <a:lnTo>
                    <a:pt x="675" y="740"/>
                  </a:lnTo>
                  <a:lnTo>
                    <a:pt x="670" y="744"/>
                  </a:lnTo>
                  <a:lnTo>
                    <a:pt x="667" y="748"/>
                  </a:lnTo>
                  <a:lnTo>
                    <a:pt x="672" y="755"/>
                  </a:lnTo>
                  <a:lnTo>
                    <a:pt x="679" y="759"/>
                  </a:lnTo>
                  <a:lnTo>
                    <a:pt x="685" y="760"/>
                  </a:lnTo>
                  <a:lnTo>
                    <a:pt x="682" y="772"/>
                  </a:lnTo>
                  <a:lnTo>
                    <a:pt x="672" y="776"/>
                  </a:lnTo>
                  <a:lnTo>
                    <a:pt x="654" y="796"/>
                  </a:lnTo>
                  <a:lnTo>
                    <a:pt x="646" y="811"/>
                  </a:lnTo>
                  <a:lnTo>
                    <a:pt x="648" y="816"/>
                  </a:lnTo>
                  <a:lnTo>
                    <a:pt x="648" y="816"/>
                  </a:lnTo>
                </a:path>
              </a:pathLst>
            </a:custGeom>
            <a:solidFill>
              <a:srgbClr val="00152a"/>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473880" y="3483000"/>
              <a:ext cx="814320" cy="812880"/>
            </a:xfrm>
            <a:custGeom>
              <a:avLst/>
              <a:gdLst/>
              <a:ahLst/>
              <a:rect l="l" t="t" r="r" b="b"/>
              <a:pathLst>
                <a:path w="1154" h="1189">
                  <a:moveTo>
                    <a:pt x="0" y="71"/>
                  </a:moveTo>
                  <a:lnTo>
                    <a:pt x="157" y="630"/>
                  </a:lnTo>
                  <a:lnTo>
                    <a:pt x="169" y="645"/>
                  </a:lnTo>
                  <a:lnTo>
                    <a:pt x="183" y="684"/>
                  </a:lnTo>
                  <a:lnTo>
                    <a:pt x="190" y="701"/>
                  </a:lnTo>
                  <a:lnTo>
                    <a:pt x="210" y="714"/>
                  </a:lnTo>
                  <a:lnTo>
                    <a:pt x="222" y="729"/>
                  </a:lnTo>
                  <a:lnTo>
                    <a:pt x="215" y="753"/>
                  </a:lnTo>
                  <a:lnTo>
                    <a:pt x="236" y="776"/>
                  </a:lnTo>
                  <a:lnTo>
                    <a:pt x="234" y="784"/>
                  </a:lnTo>
                  <a:lnTo>
                    <a:pt x="214" y="811"/>
                  </a:lnTo>
                  <a:lnTo>
                    <a:pt x="214" y="848"/>
                  </a:lnTo>
                  <a:lnTo>
                    <a:pt x="199" y="879"/>
                  </a:lnTo>
                  <a:lnTo>
                    <a:pt x="204" y="926"/>
                  </a:lnTo>
                  <a:lnTo>
                    <a:pt x="228" y="984"/>
                  </a:lnTo>
                  <a:lnTo>
                    <a:pt x="225" y="1053"/>
                  </a:lnTo>
                  <a:lnTo>
                    <a:pt x="253" y="1094"/>
                  </a:lnTo>
                  <a:lnTo>
                    <a:pt x="256" y="1112"/>
                  </a:lnTo>
                  <a:lnTo>
                    <a:pt x="259" y="1125"/>
                  </a:lnTo>
                  <a:lnTo>
                    <a:pt x="278" y="1146"/>
                  </a:lnTo>
                  <a:lnTo>
                    <a:pt x="277" y="1163"/>
                  </a:lnTo>
                  <a:lnTo>
                    <a:pt x="292" y="1183"/>
                  </a:lnTo>
                  <a:lnTo>
                    <a:pt x="897" y="1145"/>
                  </a:lnTo>
                  <a:lnTo>
                    <a:pt x="908" y="1176"/>
                  </a:lnTo>
                  <a:lnTo>
                    <a:pt x="917" y="1188"/>
                  </a:lnTo>
                  <a:lnTo>
                    <a:pt x="947" y="1189"/>
                  </a:lnTo>
                  <a:lnTo>
                    <a:pt x="953" y="1160"/>
                  </a:lnTo>
                  <a:lnTo>
                    <a:pt x="937" y="1101"/>
                  </a:lnTo>
                  <a:lnTo>
                    <a:pt x="939" y="1083"/>
                  </a:lnTo>
                  <a:lnTo>
                    <a:pt x="943" y="1072"/>
                  </a:lnTo>
                  <a:lnTo>
                    <a:pt x="962" y="1059"/>
                  </a:lnTo>
                  <a:lnTo>
                    <a:pt x="1004" y="1078"/>
                  </a:lnTo>
                  <a:lnTo>
                    <a:pt x="1044" y="1080"/>
                  </a:lnTo>
                  <a:lnTo>
                    <a:pt x="1063" y="1075"/>
                  </a:lnTo>
                  <a:lnTo>
                    <a:pt x="1056" y="1031"/>
                  </a:lnTo>
                  <a:lnTo>
                    <a:pt x="1048" y="1008"/>
                  </a:lnTo>
                  <a:lnTo>
                    <a:pt x="1048" y="978"/>
                  </a:lnTo>
                  <a:lnTo>
                    <a:pt x="1052" y="959"/>
                  </a:lnTo>
                  <a:lnTo>
                    <a:pt x="1085" y="866"/>
                  </a:lnTo>
                  <a:lnTo>
                    <a:pt x="1092" y="825"/>
                  </a:lnTo>
                  <a:lnTo>
                    <a:pt x="1104" y="790"/>
                  </a:lnTo>
                  <a:lnTo>
                    <a:pt x="1123" y="752"/>
                  </a:lnTo>
                  <a:lnTo>
                    <a:pt x="1143" y="731"/>
                  </a:lnTo>
                  <a:lnTo>
                    <a:pt x="1151" y="727"/>
                  </a:lnTo>
                  <a:lnTo>
                    <a:pt x="1154" y="716"/>
                  </a:lnTo>
                  <a:lnTo>
                    <a:pt x="1142" y="712"/>
                  </a:lnTo>
                  <a:lnTo>
                    <a:pt x="1141" y="706"/>
                  </a:lnTo>
                  <a:lnTo>
                    <a:pt x="1130" y="707"/>
                  </a:lnTo>
                  <a:lnTo>
                    <a:pt x="1098" y="704"/>
                  </a:lnTo>
                  <a:lnTo>
                    <a:pt x="1090" y="696"/>
                  </a:lnTo>
                  <a:lnTo>
                    <a:pt x="1084" y="684"/>
                  </a:lnTo>
                  <a:lnTo>
                    <a:pt x="1070" y="630"/>
                  </a:lnTo>
                  <a:lnTo>
                    <a:pt x="1043" y="593"/>
                  </a:lnTo>
                  <a:lnTo>
                    <a:pt x="1010" y="578"/>
                  </a:lnTo>
                  <a:lnTo>
                    <a:pt x="993" y="523"/>
                  </a:lnTo>
                  <a:lnTo>
                    <a:pt x="970" y="499"/>
                  </a:lnTo>
                  <a:lnTo>
                    <a:pt x="962" y="468"/>
                  </a:lnTo>
                  <a:lnTo>
                    <a:pt x="943" y="461"/>
                  </a:lnTo>
                  <a:lnTo>
                    <a:pt x="905" y="448"/>
                  </a:lnTo>
                  <a:lnTo>
                    <a:pt x="882" y="416"/>
                  </a:lnTo>
                  <a:lnTo>
                    <a:pt x="856" y="401"/>
                  </a:lnTo>
                  <a:lnTo>
                    <a:pt x="855" y="385"/>
                  </a:lnTo>
                  <a:lnTo>
                    <a:pt x="842" y="360"/>
                  </a:lnTo>
                  <a:lnTo>
                    <a:pt x="835" y="352"/>
                  </a:lnTo>
                  <a:lnTo>
                    <a:pt x="797" y="338"/>
                  </a:lnTo>
                  <a:lnTo>
                    <a:pt x="730" y="275"/>
                  </a:lnTo>
                  <a:lnTo>
                    <a:pt x="698" y="264"/>
                  </a:lnTo>
                  <a:lnTo>
                    <a:pt x="689" y="243"/>
                  </a:lnTo>
                  <a:lnTo>
                    <a:pt x="660" y="220"/>
                  </a:lnTo>
                  <a:lnTo>
                    <a:pt x="641" y="175"/>
                  </a:lnTo>
                  <a:lnTo>
                    <a:pt x="621" y="154"/>
                  </a:lnTo>
                  <a:lnTo>
                    <a:pt x="612" y="140"/>
                  </a:lnTo>
                  <a:lnTo>
                    <a:pt x="568" y="132"/>
                  </a:lnTo>
                  <a:lnTo>
                    <a:pt x="509" y="101"/>
                  </a:lnTo>
                  <a:lnTo>
                    <a:pt x="493" y="87"/>
                  </a:lnTo>
                  <a:lnTo>
                    <a:pt x="512" y="41"/>
                  </a:lnTo>
                  <a:lnTo>
                    <a:pt x="527" y="30"/>
                  </a:lnTo>
                  <a:lnTo>
                    <a:pt x="538" y="13"/>
                  </a:lnTo>
                  <a:lnTo>
                    <a:pt x="539" y="3"/>
                  </a:lnTo>
                  <a:lnTo>
                    <a:pt x="536" y="0"/>
                  </a:lnTo>
                  <a:lnTo>
                    <a:pt x="215" y="44"/>
                  </a:lnTo>
                  <a:lnTo>
                    <a:pt x="0" y="71"/>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473880" y="3483000"/>
              <a:ext cx="814320" cy="812880"/>
            </a:xfrm>
            <a:custGeom>
              <a:avLst/>
              <a:gdLst/>
              <a:ahLst/>
              <a:rect l="l" t="t" r="r" b="b"/>
              <a:pathLst>
                <a:path w="1154" h="1189">
                  <a:moveTo>
                    <a:pt x="0" y="71"/>
                  </a:moveTo>
                  <a:lnTo>
                    <a:pt x="157" y="630"/>
                  </a:lnTo>
                  <a:lnTo>
                    <a:pt x="169" y="645"/>
                  </a:lnTo>
                  <a:lnTo>
                    <a:pt x="183" y="684"/>
                  </a:lnTo>
                  <a:lnTo>
                    <a:pt x="190" y="701"/>
                  </a:lnTo>
                  <a:lnTo>
                    <a:pt x="210" y="714"/>
                  </a:lnTo>
                  <a:lnTo>
                    <a:pt x="222" y="729"/>
                  </a:lnTo>
                  <a:lnTo>
                    <a:pt x="215" y="753"/>
                  </a:lnTo>
                  <a:lnTo>
                    <a:pt x="236" y="776"/>
                  </a:lnTo>
                  <a:lnTo>
                    <a:pt x="234" y="784"/>
                  </a:lnTo>
                  <a:lnTo>
                    <a:pt x="214" y="811"/>
                  </a:lnTo>
                  <a:lnTo>
                    <a:pt x="214" y="848"/>
                  </a:lnTo>
                  <a:lnTo>
                    <a:pt x="199" y="879"/>
                  </a:lnTo>
                  <a:lnTo>
                    <a:pt x="204" y="926"/>
                  </a:lnTo>
                  <a:lnTo>
                    <a:pt x="228" y="984"/>
                  </a:lnTo>
                  <a:lnTo>
                    <a:pt x="225" y="1053"/>
                  </a:lnTo>
                  <a:lnTo>
                    <a:pt x="253" y="1094"/>
                  </a:lnTo>
                  <a:lnTo>
                    <a:pt x="256" y="1112"/>
                  </a:lnTo>
                  <a:lnTo>
                    <a:pt x="259" y="1125"/>
                  </a:lnTo>
                  <a:lnTo>
                    <a:pt x="278" y="1146"/>
                  </a:lnTo>
                  <a:lnTo>
                    <a:pt x="277" y="1163"/>
                  </a:lnTo>
                  <a:lnTo>
                    <a:pt x="292" y="1183"/>
                  </a:lnTo>
                  <a:lnTo>
                    <a:pt x="897" y="1145"/>
                  </a:lnTo>
                  <a:lnTo>
                    <a:pt x="908" y="1176"/>
                  </a:lnTo>
                  <a:lnTo>
                    <a:pt x="917" y="1188"/>
                  </a:lnTo>
                  <a:lnTo>
                    <a:pt x="947" y="1189"/>
                  </a:lnTo>
                  <a:lnTo>
                    <a:pt x="953" y="1160"/>
                  </a:lnTo>
                  <a:lnTo>
                    <a:pt x="937" y="1101"/>
                  </a:lnTo>
                  <a:lnTo>
                    <a:pt x="939" y="1083"/>
                  </a:lnTo>
                  <a:lnTo>
                    <a:pt x="943" y="1072"/>
                  </a:lnTo>
                  <a:lnTo>
                    <a:pt x="962" y="1059"/>
                  </a:lnTo>
                  <a:lnTo>
                    <a:pt x="1004" y="1078"/>
                  </a:lnTo>
                  <a:lnTo>
                    <a:pt x="1044" y="1080"/>
                  </a:lnTo>
                  <a:lnTo>
                    <a:pt x="1063" y="1075"/>
                  </a:lnTo>
                  <a:lnTo>
                    <a:pt x="1056" y="1031"/>
                  </a:lnTo>
                  <a:lnTo>
                    <a:pt x="1048" y="1008"/>
                  </a:lnTo>
                  <a:lnTo>
                    <a:pt x="1048" y="978"/>
                  </a:lnTo>
                  <a:lnTo>
                    <a:pt x="1052" y="959"/>
                  </a:lnTo>
                  <a:lnTo>
                    <a:pt x="1085" y="866"/>
                  </a:lnTo>
                  <a:lnTo>
                    <a:pt x="1092" y="825"/>
                  </a:lnTo>
                  <a:lnTo>
                    <a:pt x="1104" y="790"/>
                  </a:lnTo>
                  <a:lnTo>
                    <a:pt x="1123" y="752"/>
                  </a:lnTo>
                  <a:lnTo>
                    <a:pt x="1143" y="731"/>
                  </a:lnTo>
                  <a:lnTo>
                    <a:pt x="1151" y="727"/>
                  </a:lnTo>
                  <a:lnTo>
                    <a:pt x="1154" y="716"/>
                  </a:lnTo>
                  <a:lnTo>
                    <a:pt x="1142" y="712"/>
                  </a:lnTo>
                  <a:lnTo>
                    <a:pt x="1141" y="706"/>
                  </a:lnTo>
                  <a:lnTo>
                    <a:pt x="1130" y="707"/>
                  </a:lnTo>
                  <a:lnTo>
                    <a:pt x="1098" y="704"/>
                  </a:lnTo>
                  <a:lnTo>
                    <a:pt x="1090" y="696"/>
                  </a:lnTo>
                  <a:lnTo>
                    <a:pt x="1084" y="684"/>
                  </a:lnTo>
                  <a:lnTo>
                    <a:pt x="1070" y="630"/>
                  </a:lnTo>
                  <a:lnTo>
                    <a:pt x="1043" y="593"/>
                  </a:lnTo>
                  <a:lnTo>
                    <a:pt x="1010" y="578"/>
                  </a:lnTo>
                  <a:lnTo>
                    <a:pt x="993" y="523"/>
                  </a:lnTo>
                  <a:lnTo>
                    <a:pt x="970" y="499"/>
                  </a:lnTo>
                  <a:lnTo>
                    <a:pt x="962" y="468"/>
                  </a:lnTo>
                  <a:lnTo>
                    <a:pt x="943" y="461"/>
                  </a:lnTo>
                  <a:lnTo>
                    <a:pt x="905" y="448"/>
                  </a:lnTo>
                  <a:lnTo>
                    <a:pt x="882" y="416"/>
                  </a:lnTo>
                  <a:lnTo>
                    <a:pt x="856" y="401"/>
                  </a:lnTo>
                  <a:lnTo>
                    <a:pt x="855" y="385"/>
                  </a:lnTo>
                  <a:lnTo>
                    <a:pt x="842" y="360"/>
                  </a:lnTo>
                  <a:lnTo>
                    <a:pt x="835" y="352"/>
                  </a:lnTo>
                  <a:lnTo>
                    <a:pt x="797" y="338"/>
                  </a:lnTo>
                  <a:lnTo>
                    <a:pt x="730" y="275"/>
                  </a:lnTo>
                  <a:lnTo>
                    <a:pt x="698" y="264"/>
                  </a:lnTo>
                  <a:lnTo>
                    <a:pt x="689" y="243"/>
                  </a:lnTo>
                  <a:lnTo>
                    <a:pt x="660" y="220"/>
                  </a:lnTo>
                  <a:lnTo>
                    <a:pt x="641" y="175"/>
                  </a:lnTo>
                  <a:lnTo>
                    <a:pt x="621" y="154"/>
                  </a:lnTo>
                  <a:lnTo>
                    <a:pt x="612" y="140"/>
                  </a:lnTo>
                  <a:lnTo>
                    <a:pt x="568" y="132"/>
                  </a:lnTo>
                  <a:lnTo>
                    <a:pt x="509" y="101"/>
                  </a:lnTo>
                  <a:lnTo>
                    <a:pt x="493" y="87"/>
                  </a:lnTo>
                  <a:lnTo>
                    <a:pt x="512" y="41"/>
                  </a:lnTo>
                  <a:lnTo>
                    <a:pt x="527" y="30"/>
                  </a:lnTo>
                  <a:lnTo>
                    <a:pt x="538" y="13"/>
                  </a:lnTo>
                  <a:lnTo>
                    <a:pt x="539" y="3"/>
                  </a:lnTo>
                  <a:lnTo>
                    <a:pt x="536" y="0"/>
                  </a:lnTo>
                  <a:lnTo>
                    <a:pt x="215" y="44"/>
                  </a:lnTo>
                  <a:lnTo>
                    <a:pt x="0" y="71"/>
                  </a:lnTo>
                  <a:lnTo>
                    <a:pt x="0" y="71"/>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238800" y="4205160"/>
              <a:ext cx="1355760" cy="997200"/>
            </a:xfrm>
            <a:custGeom>
              <a:avLst/>
              <a:gdLst/>
              <a:ahLst/>
              <a:rect l="l" t="t" r="r" b="b"/>
              <a:pathLst>
                <a:path w="1923" h="1454">
                  <a:moveTo>
                    <a:pt x="590" y="52"/>
                  </a:moveTo>
                  <a:lnTo>
                    <a:pt x="5" y="109"/>
                  </a:lnTo>
                  <a:lnTo>
                    <a:pt x="5" y="123"/>
                  </a:lnTo>
                  <a:lnTo>
                    <a:pt x="5" y="127"/>
                  </a:lnTo>
                  <a:lnTo>
                    <a:pt x="0" y="133"/>
                  </a:lnTo>
                  <a:lnTo>
                    <a:pt x="1" y="153"/>
                  </a:lnTo>
                  <a:lnTo>
                    <a:pt x="20" y="177"/>
                  </a:lnTo>
                  <a:lnTo>
                    <a:pt x="30" y="188"/>
                  </a:lnTo>
                  <a:lnTo>
                    <a:pt x="36" y="188"/>
                  </a:lnTo>
                  <a:lnTo>
                    <a:pt x="54" y="202"/>
                  </a:lnTo>
                  <a:lnTo>
                    <a:pt x="58" y="213"/>
                  </a:lnTo>
                  <a:lnTo>
                    <a:pt x="47" y="235"/>
                  </a:lnTo>
                  <a:lnTo>
                    <a:pt x="47" y="243"/>
                  </a:lnTo>
                  <a:lnTo>
                    <a:pt x="60" y="249"/>
                  </a:lnTo>
                  <a:lnTo>
                    <a:pt x="64" y="256"/>
                  </a:lnTo>
                  <a:lnTo>
                    <a:pt x="64" y="260"/>
                  </a:lnTo>
                  <a:lnTo>
                    <a:pt x="50" y="272"/>
                  </a:lnTo>
                  <a:lnTo>
                    <a:pt x="51" y="289"/>
                  </a:lnTo>
                  <a:lnTo>
                    <a:pt x="57" y="291"/>
                  </a:lnTo>
                  <a:lnTo>
                    <a:pt x="91" y="282"/>
                  </a:lnTo>
                  <a:lnTo>
                    <a:pt x="103" y="274"/>
                  </a:lnTo>
                  <a:lnTo>
                    <a:pt x="113" y="241"/>
                  </a:lnTo>
                  <a:lnTo>
                    <a:pt x="121" y="231"/>
                  </a:lnTo>
                  <a:lnTo>
                    <a:pt x="133" y="237"/>
                  </a:lnTo>
                  <a:lnTo>
                    <a:pt x="145" y="237"/>
                  </a:lnTo>
                  <a:lnTo>
                    <a:pt x="150" y="231"/>
                  </a:lnTo>
                  <a:lnTo>
                    <a:pt x="161" y="234"/>
                  </a:lnTo>
                  <a:lnTo>
                    <a:pt x="160" y="243"/>
                  </a:lnTo>
                  <a:lnTo>
                    <a:pt x="138" y="263"/>
                  </a:lnTo>
                  <a:lnTo>
                    <a:pt x="140" y="265"/>
                  </a:lnTo>
                  <a:lnTo>
                    <a:pt x="160" y="257"/>
                  </a:lnTo>
                  <a:lnTo>
                    <a:pt x="187" y="255"/>
                  </a:lnTo>
                  <a:lnTo>
                    <a:pt x="291" y="222"/>
                  </a:lnTo>
                  <a:lnTo>
                    <a:pt x="309" y="220"/>
                  </a:lnTo>
                  <a:lnTo>
                    <a:pt x="309" y="228"/>
                  </a:lnTo>
                  <a:lnTo>
                    <a:pt x="289" y="245"/>
                  </a:lnTo>
                  <a:lnTo>
                    <a:pt x="297" y="249"/>
                  </a:lnTo>
                  <a:lnTo>
                    <a:pt x="341" y="253"/>
                  </a:lnTo>
                  <a:lnTo>
                    <a:pt x="388" y="270"/>
                  </a:lnTo>
                  <a:lnTo>
                    <a:pt x="437" y="292"/>
                  </a:lnTo>
                  <a:lnTo>
                    <a:pt x="447" y="297"/>
                  </a:lnTo>
                  <a:lnTo>
                    <a:pt x="445" y="282"/>
                  </a:lnTo>
                  <a:lnTo>
                    <a:pt x="456" y="274"/>
                  </a:lnTo>
                  <a:lnTo>
                    <a:pt x="464" y="285"/>
                  </a:lnTo>
                  <a:lnTo>
                    <a:pt x="491" y="295"/>
                  </a:lnTo>
                  <a:lnTo>
                    <a:pt x="499" y="298"/>
                  </a:lnTo>
                  <a:lnTo>
                    <a:pt x="499" y="304"/>
                  </a:lnTo>
                  <a:lnTo>
                    <a:pt x="491" y="308"/>
                  </a:lnTo>
                  <a:lnTo>
                    <a:pt x="495" y="317"/>
                  </a:lnTo>
                  <a:lnTo>
                    <a:pt x="552" y="363"/>
                  </a:lnTo>
                  <a:lnTo>
                    <a:pt x="557" y="379"/>
                  </a:lnTo>
                  <a:lnTo>
                    <a:pt x="556" y="390"/>
                  </a:lnTo>
                  <a:lnTo>
                    <a:pt x="550" y="400"/>
                  </a:lnTo>
                  <a:lnTo>
                    <a:pt x="544" y="394"/>
                  </a:lnTo>
                  <a:lnTo>
                    <a:pt x="538" y="384"/>
                  </a:lnTo>
                  <a:lnTo>
                    <a:pt x="533" y="395"/>
                  </a:lnTo>
                  <a:lnTo>
                    <a:pt x="538" y="405"/>
                  </a:lnTo>
                  <a:lnTo>
                    <a:pt x="550" y="412"/>
                  </a:lnTo>
                  <a:lnTo>
                    <a:pt x="631" y="388"/>
                  </a:lnTo>
                  <a:lnTo>
                    <a:pt x="635" y="379"/>
                  </a:lnTo>
                  <a:lnTo>
                    <a:pt x="664" y="375"/>
                  </a:lnTo>
                  <a:lnTo>
                    <a:pt x="729" y="323"/>
                  </a:lnTo>
                  <a:lnTo>
                    <a:pt x="773" y="322"/>
                  </a:lnTo>
                  <a:lnTo>
                    <a:pt x="773" y="312"/>
                  </a:lnTo>
                  <a:lnTo>
                    <a:pt x="766" y="300"/>
                  </a:lnTo>
                  <a:lnTo>
                    <a:pt x="779" y="272"/>
                  </a:lnTo>
                  <a:lnTo>
                    <a:pt x="851" y="263"/>
                  </a:lnTo>
                  <a:lnTo>
                    <a:pt x="955" y="317"/>
                  </a:lnTo>
                  <a:lnTo>
                    <a:pt x="959" y="331"/>
                  </a:lnTo>
                  <a:lnTo>
                    <a:pt x="986" y="352"/>
                  </a:lnTo>
                  <a:lnTo>
                    <a:pt x="1008" y="388"/>
                  </a:lnTo>
                  <a:lnTo>
                    <a:pt x="1072" y="434"/>
                  </a:lnTo>
                  <a:lnTo>
                    <a:pt x="1083" y="453"/>
                  </a:lnTo>
                  <a:lnTo>
                    <a:pt x="1103" y="473"/>
                  </a:lnTo>
                  <a:lnTo>
                    <a:pt x="1153" y="471"/>
                  </a:lnTo>
                  <a:lnTo>
                    <a:pt x="1190" y="526"/>
                  </a:lnTo>
                  <a:lnTo>
                    <a:pt x="1203" y="537"/>
                  </a:lnTo>
                  <a:lnTo>
                    <a:pt x="1197" y="553"/>
                  </a:lnTo>
                  <a:lnTo>
                    <a:pt x="1214" y="612"/>
                  </a:lnTo>
                  <a:lnTo>
                    <a:pt x="1207" y="676"/>
                  </a:lnTo>
                  <a:lnTo>
                    <a:pt x="1191" y="746"/>
                  </a:lnTo>
                  <a:lnTo>
                    <a:pt x="1192" y="802"/>
                  </a:lnTo>
                  <a:lnTo>
                    <a:pt x="1202" y="821"/>
                  </a:lnTo>
                  <a:lnTo>
                    <a:pt x="1242" y="847"/>
                  </a:lnTo>
                  <a:lnTo>
                    <a:pt x="1255" y="824"/>
                  </a:lnTo>
                  <a:lnTo>
                    <a:pt x="1242" y="814"/>
                  </a:lnTo>
                  <a:lnTo>
                    <a:pt x="1230" y="777"/>
                  </a:lnTo>
                  <a:lnTo>
                    <a:pt x="1234" y="770"/>
                  </a:lnTo>
                  <a:lnTo>
                    <a:pt x="1255" y="765"/>
                  </a:lnTo>
                  <a:lnTo>
                    <a:pt x="1273" y="802"/>
                  </a:lnTo>
                  <a:lnTo>
                    <a:pt x="1281" y="801"/>
                  </a:lnTo>
                  <a:lnTo>
                    <a:pt x="1287" y="783"/>
                  </a:lnTo>
                  <a:lnTo>
                    <a:pt x="1293" y="782"/>
                  </a:lnTo>
                  <a:lnTo>
                    <a:pt x="1304" y="789"/>
                  </a:lnTo>
                  <a:lnTo>
                    <a:pt x="1302" y="803"/>
                  </a:lnTo>
                  <a:lnTo>
                    <a:pt x="1292" y="821"/>
                  </a:lnTo>
                  <a:lnTo>
                    <a:pt x="1280" y="839"/>
                  </a:lnTo>
                  <a:lnTo>
                    <a:pt x="1265" y="883"/>
                  </a:lnTo>
                  <a:lnTo>
                    <a:pt x="1255" y="891"/>
                  </a:lnTo>
                  <a:lnTo>
                    <a:pt x="1253" y="910"/>
                  </a:lnTo>
                  <a:lnTo>
                    <a:pt x="1270" y="927"/>
                  </a:lnTo>
                  <a:lnTo>
                    <a:pt x="1291" y="948"/>
                  </a:lnTo>
                  <a:lnTo>
                    <a:pt x="1328" y="1026"/>
                  </a:lnTo>
                  <a:lnTo>
                    <a:pt x="1381" y="1062"/>
                  </a:lnTo>
                  <a:lnTo>
                    <a:pt x="1387" y="1060"/>
                  </a:lnTo>
                  <a:lnTo>
                    <a:pt x="1390" y="1042"/>
                  </a:lnTo>
                  <a:lnTo>
                    <a:pt x="1409" y="1042"/>
                  </a:lnTo>
                  <a:lnTo>
                    <a:pt x="1421" y="1073"/>
                  </a:lnTo>
                  <a:lnTo>
                    <a:pt x="1422" y="1093"/>
                  </a:lnTo>
                  <a:lnTo>
                    <a:pt x="1440" y="1136"/>
                  </a:lnTo>
                  <a:lnTo>
                    <a:pt x="1464" y="1150"/>
                  </a:lnTo>
                  <a:lnTo>
                    <a:pt x="1487" y="1156"/>
                  </a:lnTo>
                  <a:lnTo>
                    <a:pt x="1531" y="1268"/>
                  </a:lnTo>
                  <a:lnTo>
                    <a:pt x="1541" y="1276"/>
                  </a:lnTo>
                  <a:lnTo>
                    <a:pt x="1597" y="1287"/>
                  </a:lnTo>
                  <a:lnTo>
                    <a:pt x="1620" y="1300"/>
                  </a:lnTo>
                  <a:lnTo>
                    <a:pt x="1683" y="1378"/>
                  </a:lnTo>
                  <a:lnTo>
                    <a:pt x="1708" y="1397"/>
                  </a:lnTo>
                  <a:lnTo>
                    <a:pt x="1721" y="1398"/>
                  </a:lnTo>
                  <a:lnTo>
                    <a:pt x="1736" y="1407"/>
                  </a:lnTo>
                  <a:lnTo>
                    <a:pt x="1742" y="1423"/>
                  </a:lnTo>
                  <a:lnTo>
                    <a:pt x="1729" y="1426"/>
                  </a:lnTo>
                  <a:lnTo>
                    <a:pt x="1718" y="1422"/>
                  </a:lnTo>
                  <a:lnTo>
                    <a:pt x="1710" y="1422"/>
                  </a:lnTo>
                  <a:lnTo>
                    <a:pt x="1701" y="1426"/>
                  </a:lnTo>
                  <a:lnTo>
                    <a:pt x="1701" y="1435"/>
                  </a:lnTo>
                  <a:lnTo>
                    <a:pt x="1708" y="1447"/>
                  </a:lnTo>
                  <a:lnTo>
                    <a:pt x="1743" y="1454"/>
                  </a:lnTo>
                  <a:lnTo>
                    <a:pt x="1755" y="1443"/>
                  </a:lnTo>
                  <a:lnTo>
                    <a:pt x="1782" y="1441"/>
                  </a:lnTo>
                  <a:lnTo>
                    <a:pt x="1875" y="1404"/>
                  </a:lnTo>
                  <a:lnTo>
                    <a:pt x="1896" y="1369"/>
                  </a:lnTo>
                  <a:lnTo>
                    <a:pt x="1897" y="1360"/>
                  </a:lnTo>
                  <a:lnTo>
                    <a:pt x="1884" y="1312"/>
                  </a:lnTo>
                  <a:lnTo>
                    <a:pt x="1885" y="1285"/>
                  </a:lnTo>
                  <a:lnTo>
                    <a:pt x="1901" y="1240"/>
                  </a:lnTo>
                  <a:lnTo>
                    <a:pt x="1923" y="1245"/>
                  </a:lnTo>
                  <a:lnTo>
                    <a:pt x="1901" y="1154"/>
                  </a:lnTo>
                  <a:lnTo>
                    <a:pt x="1907" y="1108"/>
                  </a:lnTo>
                  <a:lnTo>
                    <a:pt x="1901" y="1022"/>
                  </a:lnTo>
                  <a:lnTo>
                    <a:pt x="1884" y="953"/>
                  </a:lnTo>
                  <a:lnTo>
                    <a:pt x="1870" y="929"/>
                  </a:lnTo>
                  <a:lnTo>
                    <a:pt x="1809" y="846"/>
                  </a:lnTo>
                  <a:lnTo>
                    <a:pt x="1768" y="751"/>
                  </a:lnTo>
                  <a:lnTo>
                    <a:pt x="1718" y="685"/>
                  </a:lnTo>
                  <a:lnTo>
                    <a:pt x="1719" y="676"/>
                  </a:lnTo>
                  <a:lnTo>
                    <a:pt x="1717" y="662"/>
                  </a:lnTo>
                  <a:lnTo>
                    <a:pt x="1699" y="625"/>
                  </a:lnTo>
                  <a:lnTo>
                    <a:pt x="1697" y="607"/>
                  </a:lnTo>
                  <a:lnTo>
                    <a:pt x="1714" y="584"/>
                  </a:lnTo>
                  <a:lnTo>
                    <a:pt x="1714" y="575"/>
                  </a:lnTo>
                  <a:lnTo>
                    <a:pt x="1650" y="487"/>
                  </a:lnTo>
                  <a:lnTo>
                    <a:pt x="1615" y="449"/>
                  </a:lnTo>
                  <a:lnTo>
                    <a:pt x="1589" y="434"/>
                  </a:lnTo>
                  <a:lnTo>
                    <a:pt x="1584" y="424"/>
                  </a:lnTo>
                  <a:lnTo>
                    <a:pt x="1540" y="367"/>
                  </a:lnTo>
                  <a:lnTo>
                    <a:pt x="1485" y="269"/>
                  </a:lnTo>
                  <a:lnTo>
                    <a:pt x="1470" y="209"/>
                  </a:lnTo>
                  <a:lnTo>
                    <a:pt x="1434" y="125"/>
                  </a:lnTo>
                  <a:lnTo>
                    <a:pt x="1434" y="115"/>
                  </a:lnTo>
                  <a:lnTo>
                    <a:pt x="1421" y="102"/>
                  </a:lnTo>
                  <a:lnTo>
                    <a:pt x="1412" y="96"/>
                  </a:lnTo>
                  <a:lnTo>
                    <a:pt x="1407" y="36"/>
                  </a:lnTo>
                  <a:lnTo>
                    <a:pt x="1397" y="15"/>
                  </a:lnTo>
                  <a:lnTo>
                    <a:pt x="1379" y="20"/>
                  </a:lnTo>
                  <a:lnTo>
                    <a:pt x="1339" y="19"/>
                  </a:lnTo>
                  <a:lnTo>
                    <a:pt x="1297" y="0"/>
                  </a:lnTo>
                  <a:lnTo>
                    <a:pt x="1277" y="13"/>
                  </a:lnTo>
                  <a:lnTo>
                    <a:pt x="1273" y="22"/>
                  </a:lnTo>
                  <a:lnTo>
                    <a:pt x="1271" y="42"/>
                  </a:lnTo>
                  <a:lnTo>
                    <a:pt x="1287" y="100"/>
                  </a:lnTo>
                  <a:lnTo>
                    <a:pt x="1281" y="130"/>
                  </a:lnTo>
                  <a:lnTo>
                    <a:pt x="1251" y="129"/>
                  </a:lnTo>
                  <a:lnTo>
                    <a:pt x="1242" y="117"/>
                  </a:lnTo>
                  <a:lnTo>
                    <a:pt x="1232" y="85"/>
                  </a:lnTo>
                  <a:lnTo>
                    <a:pt x="626" y="124"/>
                  </a:lnTo>
                  <a:lnTo>
                    <a:pt x="611" y="104"/>
                  </a:lnTo>
                  <a:lnTo>
                    <a:pt x="613" y="86"/>
                  </a:lnTo>
                  <a:lnTo>
                    <a:pt x="593" y="66"/>
                  </a:lnTo>
                  <a:lnTo>
                    <a:pt x="590" y="52"/>
                  </a:lnTo>
                  <a:close/>
                </a:path>
              </a:pathLst>
            </a:custGeom>
            <a:solidFill>
              <a:srgbClr val="ffff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238800" y="4205160"/>
              <a:ext cx="1355760" cy="997200"/>
            </a:xfrm>
            <a:custGeom>
              <a:avLst/>
              <a:gdLst/>
              <a:ahLst/>
              <a:rect l="l" t="t" r="r" b="b"/>
              <a:pathLst>
                <a:path w="1923" h="1454">
                  <a:moveTo>
                    <a:pt x="590" y="52"/>
                  </a:moveTo>
                  <a:lnTo>
                    <a:pt x="5" y="109"/>
                  </a:lnTo>
                  <a:lnTo>
                    <a:pt x="5" y="123"/>
                  </a:lnTo>
                  <a:lnTo>
                    <a:pt x="5" y="127"/>
                  </a:lnTo>
                  <a:lnTo>
                    <a:pt x="0" y="133"/>
                  </a:lnTo>
                  <a:lnTo>
                    <a:pt x="1" y="153"/>
                  </a:lnTo>
                  <a:lnTo>
                    <a:pt x="20" y="177"/>
                  </a:lnTo>
                  <a:lnTo>
                    <a:pt x="30" y="188"/>
                  </a:lnTo>
                  <a:lnTo>
                    <a:pt x="36" y="188"/>
                  </a:lnTo>
                  <a:lnTo>
                    <a:pt x="54" y="202"/>
                  </a:lnTo>
                  <a:lnTo>
                    <a:pt x="58" y="213"/>
                  </a:lnTo>
                  <a:lnTo>
                    <a:pt x="47" y="235"/>
                  </a:lnTo>
                  <a:lnTo>
                    <a:pt x="47" y="243"/>
                  </a:lnTo>
                  <a:lnTo>
                    <a:pt x="60" y="249"/>
                  </a:lnTo>
                  <a:lnTo>
                    <a:pt x="64" y="256"/>
                  </a:lnTo>
                  <a:lnTo>
                    <a:pt x="64" y="260"/>
                  </a:lnTo>
                  <a:lnTo>
                    <a:pt x="50" y="272"/>
                  </a:lnTo>
                  <a:lnTo>
                    <a:pt x="51" y="289"/>
                  </a:lnTo>
                  <a:lnTo>
                    <a:pt x="57" y="291"/>
                  </a:lnTo>
                  <a:lnTo>
                    <a:pt x="91" y="282"/>
                  </a:lnTo>
                  <a:lnTo>
                    <a:pt x="103" y="274"/>
                  </a:lnTo>
                  <a:lnTo>
                    <a:pt x="113" y="241"/>
                  </a:lnTo>
                  <a:lnTo>
                    <a:pt x="121" y="231"/>
                  </a:lnTo>
                  <a:lnTo>
                    <a:pt x="133" y="237"/>
                  </a:lnTo>
                  <a:lnTo>
                    <a:pt x="145" y="237"/>
                  </a:lnTo>
                  <a:lnTo>
                    <a:pt x="150" y="231"/>
                  </a:lnTo>
                  <a:lnTo>
                    <a:pt x="161" y="234"/>
                  </a:lnTo>
                  <a:lnTo>
                    <a:pt x="160" y="243"/>
                  </a:lnTo>
                  <a:lnTo>
                    <a:pt x="138" y="263"/>
                  </a:lnTo>
                  <a:lnTo>
                    <a:pt x="140" y="265"/>
                  </a:lnTo>
                  <a:lnTo>
                    <a:pt x="160" y="257"/>
                  </a:lnTo>
                  <a:lnTo>
                    <a:pt x="187" y="255"/>
                  </a:lnTo>
                  <a:lnTo>
                    <a:pt x="291" y="222"/>
                  </a:lnTo>
                  <a:lnTo>
                    <a:pt x="309" y="220"/>
                  </a:lnTo>
                  <a:lnTo>
                    <a:pt x="309" y="228"/>
                  </a:lnTo>
                  <a:lnTo>
                    <a:pt x="289" y="245"/>
                  </a:lnTo>
                  <a:lnTo>
                    <a:pt x="297" y="249"/>
                  </a:lnTo>
                  <a:lnTo>
                    <a:pt x="341" y="253"/>
                  </a:lnTo>
                  <a:lnTo>
                    <a:pt x="388" y="270"/>
                  </a:lnTo>
                  <a:lnTo>
                    <a:pt x="437" y="292"/>
                  </a:lnTo>
                  <a:lnTo>
                    <a:pt x="447" y="297"/>
                  </a:lnTo>
                  <a:lnTo>
                    <a:pt x="445" y="282"/>
                  </a:lnTo>
                  <a:lnTo>
                    <a:pt x="456" y="274"/>
                  </a:lnTo>
                  <a:lnTo>
                    <a:pt x="464" y="285"/>
                  </a:lnTo>
                  <a:lnTo>
                    <a:pt x="491" y="295"/>
                  </a:lnTo>
                  <a:lnTo>
                    <a:pt x="499" y="298"/>
                  </a:lnTo>
                  <a:lnTo>
                    <a:pt x="499" y="304"/>
                  </a:lnTo>
                  <a:lnTo>
                    <a:pt x="491" y="308"/>
                  </a:lnTo>
                  <a:lnTo>
                    <a:pt x="495" y="317"/>
                  </a:lnTo>
                  <a:lnTo>
                    <a:pt x="552" y="363"/>
                  </a:lnTo>
                  <a:lnTo>
                    <a:pt x="557" y="379"/>
                  </a:lnTo>
                  <a:lnTo>
                    <a:pt x="556" y="390"/>
                  </a:lnTo>
                  <a:lnTo>
                    <a:pt x="550" y="400"/>
                  </a:lnTo>
                  <a:lnTo>
                    <a:pt x="544" y="394"/>
                  </a:lnTo>
                  <a:lnTo>
                    <a:pt x="538" y="384"/>
                  </a:lnTo>
                  <a:lnTo>
                    <a:pt x="533" y="395"/>
                  </a:lnTo>
                  <a:lnTo>
                    <a:pt x="538" y="405"/>
                  </a:lnTo>
                  <a:lnTo>
                    <a:pt x="550" y="412"/>
                  </a:lnTo>
                  <a:lnTo>
                    <a:pt x="631" y="388"/>
                  </a:lnTo>
                  <a:lnTo>
                    <a:pt x="635" y="379"/>
                  </a:lnTo>
                  <a:lnTo>
                    <a:pt x="664" y="375"/>
                  </a:lnTo>
                  <a:lnTo>
                    <a:pt x="729" y="323"/>
                  </a:lnTo>
                  <a:lnTo>
                    <a:pt x="773" y="322"/>
                  </a:lnTo>
                  <a:lnTo>
                    <a:pt x="773" y="312"/>
                  </a:lnTo>
                  <a:lnTo>
                    <a:pt x="766" y="300"/>
                  </a:lnTo>
                  <a:lnTo>
                    <a:pt x="779" y="272"/>
                  </a:lnTo>
                  <a:lnTo>
                    <a:pt x="851" y="263"/>
                  </a:lnTo>
                  <a:lnTo>
                    <a:pt x="955" y="317"/>
                  </a:lnTo>
                  <a:lnTo>
                    <a:pt x="959" y="331"/>
                  </a:lnTo>
                  <a:lnTo>
                    <a:pt x="986" y="352"/>
                  </a:lnTo>
                  <a:lnTo>
                    <a:pt x="1008" y="388"/>
                  </a:lnTo>
                  <a:lnTo>
                    <a:pt x="1072" y="434"/>
                  </a:lnTo>
                  <a:lnTo>
                    <a:pt x="1083" y="453"/>
                  </a:lnTo>
                  <a:lnTo>
                    <a:pt x="1103" y="473"/>
                  </a:lnTo>
                  <a:lnTo>
                    <a:pt x="1153" y="471"/>
                  </a:lnTo>
                  <a:lnTo>
                    <a:pt x="1190" y="526"/>
                  </a:lnTo>
                  <a:lnTo>
                    <a:pt x="1203" y="537"/>
                  </a:lnTo>
                  <a:lnTo>
                    <a:pt x="1197" y="553"/>
                  </a:lnTo>
                  <a:lnTo>
                    <a:pt x="1214" y="612"/>
                  </a:lnTo>
                  <a:lnTo>
                    <a:pt x="1207" y="676"/>
                  </a:lnTo>
                  <a:lnTo>
                    <a:pt x="1191" y="746"/>
                  </a:lnTo>
                  <a:lnTo>
                    <a:pt x="1192" y="802"/>
                  </a:lnTo>
                  <a:lnTo>
                    <a:pt x="1202" y="821"/>
                  </a:lnTo>
                  <a:lnTo>
                    <a:pt x="1242" y="847"/>
                  </a:lnTo>
                  <a:lnTo>
                    <a:pt x="1255" y="824"/>
                  </a:lnTo>
                  <a:lnTo>
                    <a:pt x="1242" y="814"/>
                  </a:lnTo>
                  <a:lnTo>
                    <a:pt x="1230" y="777"/>
                  </a:lnTo>
                  <a:lnTo>
                    <a:pt x="1234" y="770"/>
                  </a:lnTo>
                  <a:lnTo>
                    <a:pt x="1255" y="765"/>
                  </a:lnTo>
                  <a:lnTo>
                    <a:pt x="1273" y="802"/>
                  </a:lnTo>
                  <a:lnTo>
                    <a:pt x="1281" y="801"/>
                  </a:lnTo>
                  <a:lnTo>
                    <a:pt x="1287" y="783"/>
                  </a:lnTo>
                  <a:lnTo>
                    <a:pt x="1293" y="782"/>
                  </a:lnTo>
                  <a:lnTo>
                    <a:pt x="1304" y="789"/>
                  </a:lnTo>
                  <a:lnTo>
                    <a:pt x="1302" y="803"/>
                  </a:lnTo>
                  <a:lnTo>
                    <a:pt x="1292" y="821"/>
                  </a:lnTo>
                  <a:lnTo>
                    <a:pt x="1280" y="839"/>
                  </a:lnTo>
                  <a:lnTo>
                    <a:pt x="1265" y="883"/>
                  </a:lnTo>
                  <a:lnTo>
                    <a:pt x="1255" y="891"/>
                  </a:lnTo>
                  <a:lnTo>
                    <a:pt x="1253" y="910"/>
                  </a:lnTo>
                  <a:lnTo>
                    <a:pt x="1270" y="927"/>
                  </a:lnTo>
                  <a:lnTo>
                    <a:pt x="1291" y="948"/>
                  </a:lnTo>
                  <a:lnTo>
                    <a:pt x="1328" y="1026"/>
                  </a:lnTo>
                  <a:lnTo>
                    <a:pt x="1381" y="1062"/>
                  </a:lnTo>
                  <a:lnTo>
                    <a:pt x="1387" y="1060"/>
                  </a:lnTo>
                  <a:lnTo>
                    <a:pt x="1390" y="1042"/>
                  </a:lnTo>
                  <a:lnTo>
                    <a:pt x="1409" y="1042"/>
                  </a:lnTo>
                  <a:lnTo>
                    <a:pt x="1421" y="1073"/>
                  </a:lnTo>
                  <a:lnTo>
                    <a:pt x="1422" y="1093"/>
                  </a:lnTo>
                  <a:lnTo>
                    <a:pt x="1440" y="1136"/>
                  </a:lnTo>
                  <a:lnTo>
                    <a:pt x="1464" y="1150"/>
                  </a:lnTo>
                  <a:lnTo>
                    <a:pt x="1487" y="1156"/>
                  </a:lnTo>
                  <a:lnTo>
                    <a:pt x="1531" y="1268"/>
                  </a:lnTo>
                  <a:lnTo>
                    <a:pt x="1541" y="1276"/>
                  </a:lnTo>
                  <a:lnTo>
                    <a:pt x="1597" y="1287"/>
                  </a:lnTo>
                  <a:lnTo>
                    <a:pt x="1620" y="1300"/>
                  </a:lnTo>
                  <a:lnTo>
                    <a:pt x="1683" y="1378"/>
                  </a:lnTo>
                  <a:lnTo>
                    <a:pt x="1708" y="1397"/>
                  </a:lnTo>
                  <a:lnTo>
                    <a:pt x="1721" y="1398"/>
                  </a:lnTo>
                  <a:lnTo>
                    <a:pt x="1736" y="1407"/>
                  </a:lnTo>
                  <a:lnTo>
                    <a:pt x="1742" y="1423"/>
                  </a:lnTo>
                  <a:lnTo>
                    <a:pt x="1729" y="1426"/>
                  </a:lnTo>
                  <a:lnTo>
                    <a:pt x="1718" y="1422"/>
                  </a:lnTo>
                  <a:lnTo>
                    <a:pt x="1710" y="1422"/>
                  </a:lnTo>
                  <a:lnTo>
                    <a:pt x="1701" y="1426"/>
                  </a:lnTo>
                  <a:lnTo>
                    <a:pt x="1701" y="1435"/>
                  </a:lnTo>
                  <a:lnTo>
                    <a:pt x="1708" y="1447"/>
                  </a:lnTo>
                  <a:lnTo>
                    <a:pt x="1743" y="1454"/>
                  </a:lnTo>
                  <a:lnTo>
                    <a:pt x="1755" y="1443"/>
                  </a:lnTo>
                  <a:lnTo>
                    <a:pt x="1782" y="1441"/>
                  </a:lnTo>
                  <a:lnTo>
                    <a:pt x="1875" y="1404"/>
                  </a:lnTo>
                  <a:lnTo>
                    <a:pt x="1896" y="1369"/>
                  </a:lnTo>
                  <a:lnTo>
                    <a:pt x="1897" y="1360"/>
                  </a:lnTo>
                  <a:lnTo>
                    <a:pt x="1884" y="1312"/>
                  </a:lnTo>
                  <a:lnTo>
                    <a:pt x="1885" y="1285"/>
                  </a:lnTo>
                  <a:lnTo>
                    <a:pt x="1901" y="1240"/>
                  </a:lnTo>
                  <a:lnTo>
                    <a:pt x="1923" y="1245"/>
                  </a:lnTo>
                  <a:lnTo>
                    <a:pt x="1901" y="1154"/>
                  </a:lnTo>
                  <a:lnTo>
                    <a:pt x="1907" y="1108"/>
                  </a:lnTo>
                  <a:lnTo>
                    <a:pt x="1901" y="1022"/>
                  </a:lnTo>
                  <a:lnTo>
                    <a:pt x="1884" y="953"/>
                  </a:lnTo>
                  <a:lnTo>
                    <a:pt x="1870" y="929"/>
                  </a:lnTo>
                  <a:lnTo>
                    <a:pt x="1809" y="846"/>
                  </a:lnTo>
                  <a:lnTo>
                    <a:pt x="1768" y="751"/>
                  </a:lnTo>
                  <a:lnTo>
                    <a:pt x="1718" y="685"/>
                  </a:lnTo>
                  <a:lnTo>
                    <a:pt x="1719" y="676"/>
                  </a:lnTo>
                  <a:lnTo>
                    <a:pt x="1717" y="662"/>
                  </a:lnTo>
                  <a:lnTo>
                    <a:pt x="1699" y="625"/>
                  </a:lnTo>
                  <a:lnTo>
                    <a:pt x="1697" y="607"/>
                  </a:lnTo>
                  <a:lnTo>
                    <a:pt x="1714" y="584"/>
                  </a:lnTo>
                  <a:lnTo>
                    <a:pt x="1714" y="575"/>
                  </a:lnTo>
                  <a:lnTo>
                    <a:pt x="1650" y="487"/>
                  </a:lnTo>
                  <a:lnTo>
                    <a:pt x="1615" y="449"/>
                  </a:lnTo>
                  <a:lnTo>
                    <a:pt x="1589" y="434"/>
                  </a:lnTo>
                  <a:lnTo>
                    <a:pt x="1584" y="424"/>
                  </a:lnTo>
                  <a:lnTo>
                    <a:pt x="1540" y="367"/>
                  </a:lnTo>
                  <a:lnTo>
                    <a:pt x="1485" y="269"/>
                  </a:lnTo>
                  <a:lnTo>
                    <a:pt x="1470" y="209"/>
                  </a:lnTo>
                  <a:lnTo>
                    <a:pt x="1434" y="125"/>
                  </a:lnTo>
                  <a:lnTo>
                    <a:pt x="1434" y="115"/>
                  </a:lnTo>
                  <a:lnTo>
                    <a:pt x="1421" y="102"/>
                  </a:lnTo>
                  <a:lnTo>
                    <a:pt x="1412" y="96"/>
                  </a:lnTo>
                  <a:lnTo>
                    <a:pt x="1407" y="36"/>
                  </a:lnTo>
                  <a:lnTo>
                    <a:pt x="1397" y="15"/>
                  </a:lnTo>
                  <a:lnTo>
                    <a:pt x="1379" y="20"/>
                  </a:lnTo>
                  <a:lnTo>
                    <a:pt x="1339" y="19"/>
                  </a:lnTo>
                  <a:lnTo>
                    <a:pt x="1297" y="0"/>
                  </a:lnTo>
                  <a:lnTo>
                    <a:pt x="1277" y="13"/>
                  </a:lnTo>
                  <a:lnTo>
                    <a:pt x="1273" y="22"/>
                  </a:lnTo>
                  <a:lnTo>
                    <a:pt x="1271" y="42"/>
                  </a:lnTo>
                  <a:lnTo>
                    <a:pt x="1287" y="100"/>
                  </a:lnTo>
                  <a:lnTo>
                    <a:pt x="1281" y="130"/>
                  </a:lnTo>
                  <a:lnTo>
                    <a:pt x="1251" y="129"/>
                  </a:lnTo>
                  <a:lnTo>
                    <a:pt x="1242" y="117"/>
                  </a:lnTo>
                  <a:lnTo>
                    <a:pt x="1232" y="85"/>
                  </a:lnTo>
                  <a:lnTo>
                    <a:pt x="626" y="124"/>
                  </a:lnTo>
                  <a:lnTo>
                    <a:pt x="611" y="104"/>
                  </a:lnTo>
                  <a:lnTo>
                    <a:pt x="613" y="86"/>
                  </a:lnTo>
                  <a:lnTo>
                    <a:pt x="593" y="66"/>
                  </a:lnTo>
                  <a:lnTo>
                    <a:pt x="590" y="52"/>
                  </a:lnTo>
                  <a:lnTo>
                    <a:pt x="590" y="52"/>
                  </a:lnTo>
                </a:path>
              </a:pathLst>
            </a:custGeom>
            <a:solidFill>
              <a:srgbClr val="00547e"/>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7243920" y="2446200"/>
              <a:ext cx="684000" cy="317520"/>
            </a:xfrm>
            <a:custGeom>
              <a:avLst/>
              <a:gdLst/>
              <a:ahLst/>
              <a:rect l="l" t="t" r="r" b="b"/>
              <a:pathLst>
                <a:path w="969" h="464">
                  <a:moveTo>
                    <a:pt x="733" y="0"/>
                  </a:moveTo>
                  <a:lnTo>
                    <a:pt x="558" y="33"/>
                  </a:lnTo>
                  <a:lnTo>
                    <a:pt x="0" y="141"/>
                  </a:lnTo>
                  <a:lnTo>
                    <a:pt x="31" y="277"/>
                  </a:lnTo>
                  <a:lnTo>
                    <a:pt x="41" y="258"/>
                  </a:lnTo>
                  <a:lnTo>
                    <a:pt x="55" y="252"/>
                  </a:lnTo>
                  <a:lnTo>
                    <a:pt x="94" y="204"/>
                  </a:lnTo>
                  <a:lnTo>
                    <a:pt x="113" y="200"/>
                  </a:lnTo>
                  <a:lnTo>
                    <a:pt x="128" y="176"/>
                  </a:lnTo>
                  <a:lnTo>
                    <a:pt x="143" y="168"/>
                  </a:lnTo>
                  <a:lnTo>
                    <a:pt x="154" y="143"/>
                  </a:lnTo>
                  <a:lnTo>
                    <a:pt x="167" y="155"/>
                  </a:lnTo>
                  <a:lnTo>
                    <a:pt x="192" y="161"/>
                  </a:lnTo>
                  <a:lnTo>
                    <a:pt x="217" y="152"/>
                  </a:lnTo>
                  <a:lnTo>
                    <a:pt x="223" y="135"/>
                  </a:lnTo>
                  <a:lnTo>
                    <a:pt x="291" y="111"/>
                  </a:lnTo>
                  <a:lnTo>
                    <a:pt x="306" y="119"/>
                  </a:lnTo>
                  <a:lnTo>
                    <a:pt x="321" y="121"/>
                  </a:lnTo>
                  <a:lnTo>
                    <a:pt x="341" y="115"/>
                  </a:lnTo>
                  <a:lnTo>
                    <a:pt x="349" y="137"/>
                  </a:lnTo>
                  <a:lnTo>
                    <a:pt x="357" y="141"/>
                  </a:lnTo>
                  <a:lnTo>
                    <a:pt x="380" y="187"/>
                  </a:lnTo>
                  <a:lnTo>
                    <a:pt x="396" y="184"/>
                  </a:lnTo>
                  <a:lnTo>
                    <a:pt x="415" y="192"/>
                  </a:lnTo>
                  <a:lnTo>
                    <a:pt x="435" y="198"/>
                  </a:lnTo>
                  <a:lnTo>
                    <a:pt x="424" y="221"/>
                  </a:lnTo>
                  <a:lnTo>
                    <a:pt x="444" y="245"/>
                  </a:lnTo>
                  <a:lnTo>
                    <a:pt x="483" y="245"/>
                  </a:lnTo>
                  <a:lnTo>
                    <a:pt x="503" y="263"/>
                  </a:lnTo>
                  <a:lnTo>
                    <a:pt x="526" y="273"/>
                  </a:lnTo>
                  <a:lnTo>
                    <a:pt x="545" y="297"/>
                  </a:lnTo>
                  <a:lnTo>
                    <a:pt x="543" y="307"/>
                  </a:lnTo>
                  <a:lnTo>
                    <a:pt x="518" y="355"/>
                  </a:lnTo>
                  <a:lnTo>
                    <a:pt x="501" y="398"/>
                  </a:lnTo>
                  <a:lnTo>
                    <a:pt x="506" y="425"/>
                  </a:lnTo>
                  <a:lnTo>
                    <a:pt x="535" y="426"/>
                  </a:lnTo>
                  <a:lnTo>
                    <a:pt x="563" y="410"/>
                  </a:lnTo>
                  <a:lnTo>
                    <a:pt x="583" y="433"/>
                  </a:lnTo>
                  <a:lnTo>
                    <a:pt x="598" y="441"/>
                  </a:lnTo>
                  <a:lnTo>
                    <a:pt x="596" y="433"/>
                  </a:lnTo>
                  <a:lnTo>
                    <a:pt x="624" y="429"/>
                  </a:lnTo>
                  <a:lnTo>
                    <a:pt x="657" y="431"/>
                  </a:lnTo>
                  <a:lnTo>
                    <a:pt x="699" y="444"/>
                  </a:lnTo>
                  <a:lnTo>
                    <a:pt x="720" y="455"/>
                  </a:lnTo>
                  <a:lnTo>
                    <a:pt x="728" y="454"/>
                  </a:lnTo>
                  <a:lnTo>
                    <a:pt x="728" y="444"/>
                  </a:lnTo>
                  <a:lnTo>
                    <a:pt x="720" y="433"/>
                  </a:lnTo>
                  <a:lnTo>
                    <a:pt x="701" y="404"/>
                  </a:lnTo>
                  <a:lnTo>
                    <a:pt x="683" y="400"/>
                  </a:lnTo>
                  <a:lnTo>
                    <a:pt x="680" y="394"/>
                  </a:lnTo>
                  <a:lnTo>
                    <a:pt x="683" y="384"/>
                  </a:lnTo>
                  <a:lnTo>
                    <a:pt x="691" y="384"/>
                  </a:lnTo>
                  <a:lnTo>
                    <a:pt x="696" y="375"/>
                  </a:lnTo>
                  <a:lnTo>
                    <a:pt x="675" y="365"/>
                  </a:lnTo>
                  <a:lnTo>
                    <a:pt x="659" y="339"/>
                  </a:lnTo>
                  <a:lnTo>
                    <a:pt x="642" y="292"/>
                  </a:lnTo>
                  <a:lnTo>
                    <a:pt x="638" y="277"/>
                  </a:lnTo>
                  <a:lnTo>
                    <a:pt x="634" y="249"/>
                  </a:lnTo>
                  <a:lnTo>
                    <a:pt x="642" y="202"/>
                  </a:lnTo>
                  <a:lnTo>
                    <a:pt x="639" y="189"/>
                  </a:lnTo>
                  <a:lnTo>
                    <a:pt x="632" y="180"/>
                  </a:lnTo>
                  <a:lnTo>
                    <a:pt x="632" y="167"/>
                  </a:lnTo>
                  <a:lnTo>
                    <a:pt x="633" y="157"/>
                  </a:lnTo>
                  <a:lnTo>
                    <a:pt x="640" y="146"/>
                  </a:lnTo>
                  <a:lnTo>
                    <a:pt x="645" y="129"/>
                  </a:lnTo>
                  <a:lnTo>
                    <a:pt x="683" y="102"/>
                  </a:lnTo>
                  <a:lnTo>
                    <a:pt x="691" y="95"/>
                  </a:lnTo>
                  <a:lnTo>
                    <a:pt x="699" y="58"/>
                  </a:lnTo>
                  <a:lnTo>
                    <a:pt x="720" y="60"/>
                  </a:lnTo>
                  <a:lnTo>
                    <a:pt x="732" y="74"/>
                  </a:lnTo>
                  <a:lnTo>
                    <a:pt x="712" y="104"/>
                  </a:lnTo>
                  <a:lnTo>
                    <a:pt x="701" y="123"/>
                  </a:lnTo>
                  <a:lnTo>
                    <a:pt x="685" y="141"/>
                  </a:lnTo>
                  <a:lnTo>
                    <a:pt x="678" y="162"/>
                  </a:lnTo>
                  <a:lnTo>
                    <a:pt x="687" y="187"/>
                  </a:lnTo>
                  <a:lnTo>
                    <a:pt x="705" y="192"/>
                  </a:lnTo>
                  <a:lnTo>
                    <a:pt x="716" y="243"/>
                  </a:lnTo>
                  <a:lnTo>
                    <a:pt x="714" y="249"/>
                  </a:lnTo>
                  <a:lnTo>
                    <a:pt x="685" y="266"/>
                  </a:lnTo>
                  <a:lnTo>
                    <a:pt x="691" y="278"/>
                  </a:lnTo>
                  <a:lnTo>
                    <a:pt x="714" y="287"/>
                  </a:lnTo>
                  <a:lnTo>
                    <a:pt x="720" y="297"/>
                  </a:lnTo>
                  <a:lnTo>
                    <a:pt x="714" y="318"/>
                  </a:lnTo>
                  <a:lnTo>
                    <a:pt x="720" y="331"/>
                  </a:lnTo>
                  <a:lnTo>
                    <a:pt x="718" y="345"/>
                  </a:lnTo>
                  <a:lnTo>
                    <a:pt x="728" y="374"/>
                  </a:lnTo>
                  <a:lnTo>
                    <a:pt x="759" y="397"/>
                  </a:lnTo>
                  <a:lnTo>
                    <a:pt x="774" y="397"/>
                  </a:lnTo>
                  <a:lnTo>
                    <a:pt x="784" y="384"/>
                  </a:lnTo>
                  <a:lnTo>
                    <a:pt x="800" y="385"/>
                  </a:lnTo>
                  <a:lnTo>
                    <a:pt x="809" y="392"/>
                  </a:lnTo>
                  <a:lnTo>
                    <a:pt x="805" y="406"/>
                  </a:lnTo>
                  <a:lnTo>
                    <a:pt x="821" y="433"/>
                  </a:lnTo>
                  <a:lnTo>
                    <a:pt x="822" y="445"/>
                  </a:lnTo>
                  <a:lnTo>
                    <a:pt x="832" y="463"/>
                  </a:lnTo>
                  <a:lnTo>
                    <a:pt x="856" y="463"/>
                  </a:lnTo>
                  <a:lnTo>
                    <a:pt x="859" y="464"/>
                  </a:lnTo>
                  <a:lnTo>
                    <a:pt x="876" y="444"/>
                  </a:lnTo>
                  <a:lnTo>
                    <a:pt x="944" y="422"/>
                  </a:lnTo>
                  <a:lnTo>
                    <a:pt x="944" y="412"/>
                  </a:lnTo>
                  <a:lnTo>
                    <a:pt x="951" y="395"/>
                  </a:lnTo>
                  <a:lnTo>
                    <a:pt x="969" y="305"/>
                  </a:lnTo>
                  <a:lnTo>
                    <a:pt x="966" y="298"/>
                  </a:lnTo>
                  <a:lnTo>
                    <a:pt x="832" y="326"/>
                  </a:lnTo>
                  <a:lnTo>
                    <a:pt x="733" y="0"/>
                  </a:lnTo>
                  <a:close/>
                </a:path>
              </a:pathLst>
            </a:custGeom>
            <a:solidFill>
              <a:srgbClr val="8dc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7243920" y="2446200"/>
              <a:ext cx="684000" cy="317520"/>
            </a:xfrm>
            <a:custGeom>
              <a:avLst/>
              <a:gdLst/>
              <a:ahLst/>
              <a:rect l="l" t="t" r="r" b="b"/>
              <a:pathLst>
                <a:path w="969" h="464">
                  <a:moveTo>
                    <a:pt x="733" y="0"/>
                  </a:moveTo>
                  <a:lnTo>
                    <a:pt x="558" y="33"/>
                  </a:lnTo>
                  <a:lnTo>
                    <a:pt x="0" y="141"/>
                  </a:lnTo>
                  <a:lnTo>
                    <a:pt x="31" y="277"/>
                  </a:lnTo>
                  <a:lnTo>
                    <a:pt x="41" y="258"/>
                  </a:lnTo>
                  <a:lnTo>
                    <a:pt x="55" y="252"/>
                  </a:lnTo>
                  <a:lnTo>
                    <a:pt x="94" y="204"/>
                  </a:lnTo>
                  <a:lnTo>
                    <a:pt x="113" y="200"/>
                  </a:lnTo>
                  <a:lnTo>
                    <a:pt x="128" y="176"/>
                  </a:lnTo>
                  <a:lnTo>
                    <a:pt x="143" y="168"/>
                  </a:lnTo>
                  <a:lnTo>
                    <a:pt x="154" y="143"/>
                  </a:lnTo>
                  <a:lnTo>
                    <a:pt x="167" y="155"/>
                  </a:lnTo>
                  <a:lnTo>
                    <a:pt x="192" y="161"/>
                  </a:lnTo>
                  <a:lnTo>
                    <a:pt x="217" y="152"/>
                  </a:lnTo>
                  <a:lnTo>
                    <a:pt x="223" y="135"/>
                  </a:lnTo>
                  <a:lnTo>
                    <a:pt x="291" y="111"/>
                  </a:lnTo>
                  <a:lnTo>
                    <a:pt x="306" y="119"/>
                  </a:lnTo>
                  <a:lnTo>
                    <a:pt x="321" y="121"/>
                  </a:lnTo>
                  <a:lnTo>
                    <a:pt x="341" y="115"/>
                  </a:lnTo>
                  <a:lnTo>
                    <a:pt x="349" y="137"/>
                  </a:lnTo>
                  <a:lnTo>
                    <a:pt x="357" y="141"/>
                  </a:lnTo>
                  <a:lnTo>
                    <a:pt x="380" y="187"/>
                  </a:lnTo>
                  <a:lnTo>
                    <a:pt x="396" y="184"/>
                  </a:lnTo>
                  <a:lnTo>
                    <a:pt x="415" y="192"/>
                  </a:lnTo>
                  <a:lnTo>
                    <a:pt x="435" y="198"/>
                  </a:lnTo>
                  <a:lnTo>
                    <a:pt x="424" y="221"/>
                  </a:lnTo>
                  <a:lnTo>
                    <a:pt x="444" y="245"/>
                  </a:lnTo>
                  <a:lnTo>
                    <a:pt x="483" y="245"/>
                  </a:lnTo>
                  <a:lnTo>
                    <a:pt x="503" y="263"/>
                  </a:lnTo>
                  <a:lnTo>
                    <a:pt x="526" y="273"/>
                  </a:lnTo>
                  <a:lnTo>
                    <a:pt x="545" y="297"/>
                  </a:lnTo>
                  <a:lnTo>
                    <a:pt x="543" y="307"/>
                  </a:lnTo>
                  <a:lnTo>
                    <a:pt x="518" y="355"/>
                  </a:lnTo>
                  <a:lnTo>
                    <a:pt x="501" y="398"/>
                  </a:lnTo>
                  <a:lnTo>
                    <a:pt x="506" y="425"/>
                  </a:lnTo>
                  <a:lnTo>
                    <a:pt x="535" y="426"/>
                  </a:lnTo>
                  <a:lnTo>
                    <a:pt x="563" y="410"/>
                  </a:lnTo>
                  <a:lnTo>
                    <a:pt x="583" y="433"/>
                  </a:lnTo>
                  <a:lnTo>
                    <a:pt x="598" y="441"/>
                  </a:lnTo>
                  <a:lnTo>
                    <a:pt x="596" y="433"/>
                  </a:lnTo>
                  <a:lnTo>
                    <a:pt x="624" y="429"/>
                  </a:lnTo>
                  <a:lnTo>
                    <a:pt x="657" y="431"/>
                  </a:lnTo>
                  <a:lnTo>
                    <a:pt x="699" y="444"/>
                  </a:lnTo>
                  <a:lnTo>
                    <a:pt x="720" y="455"/>
                  </a:lnTo>
                  <a:lnTo>
                    <a:pt x="728" y="454"/>
                  </a:lnTo>
                  <a:lnTo>
                    <a:pt x="728" y="444"/>
                  </a:lnTo>
                  <a:lnTo>
                    <a:pt x="720" y="433"/>
                  </a:lnTo>
                  <a:lnTo>
                    <a:pt x="701" y="404"/>
                  </a:lnTo>
                  <a:lnTo>
                    <a:pt x="683" y="400"/>
                  </a:lnTo>
                  <a:lnTo>
                    <a:pt x="680" y="394"/>
                  </a:lnTo>
                  <a:lnTo>
                    <a:pt x="683" y="384"/>
                  </a:lnTo>
                  <a:lnTo>
                    <a:pt x="691" y="384"/>
                  </a:lnTo>
                  <a:lnTo>
                    <a:pt x="696" y="375"/>
                  </a:lnTo>
                  <a:lnTo>
                    <a:pt x="675" y="365"/>
                  </a:lnTo>
                  <a:lnTo>
                    <a:pt x="659" y="339"/>
                  </a:lnTo>
                  <a:lnTo>
                    <a:pt x="642" y="292"/>
                  </a:lnTo>
                  <a:lnTo>
                    <a:pt x="638" y="277"/>
                  </a:lnTo>
                  <a:lnTo>
                    <a:pt x="634" y="249"/>
                  </a:lnTo>
                  <a:lnTo>
                    <a:pt x="642" y="202"/>
                  </a:lnTo>
                  <a:lnTo>
                    <a:pt x="639" y="189"/>
                  </a:lnTo>
                  <a:lnTo>
                    <a:pt x="632" y="180"/>
                  </a:lnTo>
                  <a:lnTo>
                    <a:pt x="632" y="167"/>
                  </a:lnTo>
                  <a:lnTo>
                    <a:pt x="633" y="157"/>
                  </a:lnTo>
                  <a:lnTo>
                    <a:pt x="640" y="146"/>
                  </a:lnTo>
                  <a:lnTo>
                    <a:pt x="645" y="129"/>
                  </a:lnTo>
                  <a:lnTo>
                    <a:pt x="683" y="102"/>
                  </a:lnTo>
                  <a:lnTo>
                    <a:pt x="691" y="95"/>
                  </a:lnTo>
                  <a:lnTo>
                    <a:pt x="699" y="58"/>
                  </a:lnTo>
                  <a:lnTo>
                    <a:pt x="720" y="60"/>
                  </a:lnTo>
                  <a:lnTo>
                    <a:pt x="732" y="74"/>
                  </a:lnTo>
                  <a:lnTo>
                    <a:pt x="712" y="104"/>
                  </a:lnTo>
                  <a:lnTo>
                    <a:pt x="701" y="123"/>
                  </a:lnTo>
                  <a:lnTo>
                    <a:pt x="685" y="141"/>
                  </a:lnTo>
                  <a:lnTo>
                    <a:pt x="678" y="162"/>
                  </a:lnTo>
                  <a:lnTo>
                    <a:pt x="687" y="187"/>
                  </a:lnTo>
                  <a:lnTo>
                    <a:pt x="705" y="192"/>
                  </a:lnTo>
                  <a:lnTo>
                    <a:pt x="716" y="243"/>
                  </a:lnTo>
                  <a:lnTo>
                    <a:pt x="714" y="249"/>
                  </a:lnTo>
                  <a:lnTo>
                    <a:pt x="685" y="266"/>
                  </a:lnTo>
                  <a:lnTo>
                    <a:pt x="691" y="278"/>
                  </a:lnTo>
                  <a:lnTo>
                    <a:pt x="714" y="287"/>
                  </a:lnTo>
                  <a:lnTo>
                    <a:pt x="720" y="297"/>
                  </a:lnTo>
                  <a:lnTo>
                    <a:pt x="714" y="318"/>
                  </a:lnTo>
                  <a:lnTo>
                    <a:pt x="720" y="331"/>
                  </a:lnTo>
                  <a:lnTo>
                    <a:pt x="718" y="345"/>
                  </a:lnTo>
                  <a:lnTo>
                    <a:pt x="728" y="374"/>
                  </a:lnTo>
                  <a:lnTo>
                    <a:pt x="759" y="397"/>
                  </a:lnTo>
                  <a:lnTo>
                    <a:pt x="774" y="397"/>
                  </a:lnTo>
                  <a:lnTo>
                    <a:pt x="784" y="384"/>
                  </a:lnTo>
                  <a:lnTo>
                    <a:pt x="800" y="385"/>
                  </a:lnTo>
                  <a:lnTo>
                    <a:pt x="809" y="392"/>
                  </a:lnTo>
                  <a:lnTo>
                    <a:pt x="805" y="406"/>
                  </a:lnTo>
                  <a:lnTo>
                    <a:pt x="821" y="433"/>
                  </a:lnTo>
                  <a:lnTo>
                    <a:pt x="822" y="445"/>
                  </a:lnTo>
                  <a:lnTo>
                    <a:pt x="832" y="463"/>
                  </a:lnTo>
                  <a:lnTo>
                    <a:pt x="856" y="463"/>
                  </a:lnTo>
                  <a:lnTo>
                    <a:pt x="859" y="464"/>
                  </a:lnTo>
                  <a:lnTo>
                    <a:pt x="876" y="444"/>
                  </a:lnTo>
                  <a:lnTo>
                    <a:pt x="944" y="422"/>
                  </a:lnTo>
                  <a:lnTo>
                    <a:pt x="944" y="412"/>
                  </a:lnTo>
                  <a:lnTo>
                    <a:pt x="951" y="395"/>
                  </a:lnTo>
                  <a:lnTo>
                    <a:pt x="969" y="305"/>
                  </a:lnTo>
                  <a:lnTo>
                    <a:pt x="966" y="298"/>
                  </a:lnTo>
                  <a:lnTo>
                    <a:pt x="832" y="326"/>
                  </a:lnTo>
                  <a:lnTo>
                    <a:pt x="733" y="0"/>
                  </a:lnTo>
                  <a:lnTo>
                    <a:pt x="733" y="0"/>
                  </a:lnTo>
                </a:path>
              </a:pathLst>
            </a:custGeom>
            <a:solidFill>
              <a:srgbClr val="ccffff"/>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759800" y="2416320"/>
              <a:ext cx="164880" cy="252360"/>
            </a:xfrm>
            <a:custGeom>
              <a:avLst/>
              <a:gdLst/>
              <a:ahLst/>
              <a:rect l="l" t="t" r="r" b="b"/>
              <a:pathLst>
                <a:path w="233" h="370">
                  <a:moveTo>
                    <a:pt x="233" y="342"/>
                  </a:moveTo>
                  <a:lnTo>
                    <a:pt x="228" y="317"/>
                  </a:lnTo>
                  <a:lnTo>
                    <a:pt x="213" y="279"/>
                  </a:lnTo>
                  <a:lnTo>
                    <a:pt x="187" y="254"/>
                  </a:lnTo>
                  <a:lnTo>
                    <a:pt x="152" y="229"/>
                  </a:lnTo>
                  <a:lnTo>
                    <a:pt x="137" y="213"/>
                  </a:lnTo>
                  <a:lnTo>
                    <a:pt x="129" y="196"/>
                  </a:lnTo>
                  <a:lnTo>
                    <a:pt x="101" y="147"/>
                  </a:lnTo>
                  <a:lnTo>
                    <a:pt x="91" y="127"/>
                  </a:lnTo>
                  <a:lnTo>
                    <a:pt x="66" y="98"/>
                  </a:lnTo>
                  <a:lnTo>
                    <a:pt x="57" y="82"/>
                  </a:lnTo>
                  <a:lnTo>
                    <a:pt x="54" y="65"/>
                  </a:lnTo>
                  <a:lnTo>
                    <a:pt x="56" y="61"/>
                  </a:lnTo>
                  <a:lnTo>
                    <a:pt x="56" y="51"/>
                  </a:lnTo>
                  <a:lnTo>
                    <a:pt x="70" y="4"/>
                  </a:lnTo>
                  <a:lnTo>
                    <a:pt x="54" y="0"/>
                  </a:lnTo>
                  <a:lnTo>
                    <a:pt x="32" y="4"/>
                  </a:lnTo>
                  <a:lnTo>
                    <a:pt x="11" y="21"/>
                  </a:lnTo>
                  <a:lnTo>
                    <a:pt x="9" y="38"/>
                  </a:lnTo>
                  <a:lnTo>
                    <a:pt x="2" y="41"/>
                  </a:lnTo>
                  <a:lnTo>
                    <a:pt x="0" y="44"/>
                  </a:lnTo>
                  <a:lnTo>
                    <a:pt x="99" y="370"/>
                  </a:lnTo>
                  <a:lnTo>
                    <a:pt x="233" y="3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7772400" y="2438280"/>
              <a:ext cx="165240" cy="252360"/>
            </a:xfrm>
            <a:custGeom>
              <a:avLst/>
              <a:gdLst/>
              <a:ahLst/>
              <a:rect l="l" t="t" r="r" b="b"/>
              <a:pathLst>
                <a:path w="233" h="370">
                  <a:moveTo>
                    <a:pt x="233" y="342"/>
                  </a:moveTo>
                  <a:lnTo>
                    <a:pt x="228" y="317"/>
                  </a:lnTo>
                  <a:lnTo>
                    <a:pt x="213" y="279"/>
                  </a:lnTo>
                  <a:lnTo>
                    <a:pt x="187" y="254"/>
                  </a:lnTo>
                  <a:lnTo>
                    <a:pt x="152" y="229"/>
                  </a:lnTo>
                  <a:lnTo>
                    <a:pt x="137" y="213"/>
                  </a:lnTo>
                  <a:lnTo>
                    <a:pt x="129" y="196"/>
                  </a:lnTo>
                  <a:lnTo>
                    <a:pt x="101" y="147"/>
                  </a:lnTo>
                  <a:lnTo>
                    <a:pt x="91" y="127"/>
                  </a:lnTo>
                  <a:lnTo>
                    <a:pt x="66" y="98"/>
                  </a:lnTo>
                  <a:lnTo>
                    <a:pt x="57" y="82"/>
                  </a:lnTo>
                  <a:lnTo>
                    <a:pt x="54" y="65"/>
                  </a:lnTo>
                  <a:lnTo>
                    <a:pt x="56" y="61"/>
                  </a:lnTo>
                  <a:lnTo>
                    <a:pt x="56" y="51"/>
                  </a:lnTo>
                  <a:lnTo>
                    <a:pt x="70" y="4"/>
                  </a:lnTo>
                  <a:lnTo>
                    <a:pt x="54" y="0"/>
                  </a:lnTo>
                  <a:lnTo>
                    <a:pt x="32" y="4"/>
                  </a:lnTo>
                  <a:lnTo>
                    <a:pt x="11" y="21"/>
                  </a:lnTo>
                  <a:lnTo>
                    <a:pt x="9" y="38"/>
                  </a:lnTo>
                  <a:lnTo>
                    <a:pt x="2" y="41"/>
                  </a:lnTo>
                  <a:lnTo>
                    <a:pt x="0" y="44"/>
                  </a:lnTo>
                  <a:lnTo>
                    <a:pt x="99" y="370"/>
                  </a:lnTo>
                  <a:lnTo>
                    <a:pt x="233" y="342"/>
                  </a:lnTo>
                  <a:lnTo>
                    <a:pt x="233" y="342"/>
                  </a:lnTo>
                </a:path>
              </a:pathLst>
            </a:custGeom>
            <a:solidFill>
              <a:srgbClr val="00547e"/>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7800840" y="2122560"/>
              <a:ext cx="204840" cy="441360"/>
            </a:xfrm>
            <a:custGeom>
              <a:avLst/>
              <a:gdLst/>
              <a:ahLst/>
              <a:rect l="l" t="t" r="r" b="b"/>
              <a:pathLst>
                <a:path w="291" h="646">
                  <a:moveTo>
                    <a:pt x="13" y="434"/>
                  </a:moveTo>
                  <a:lnTo>
                    <a:pt x="0" y="481"/>
                  </a:lnTo>
                  <a:lnTo>
                    <a:pt x="0" y="491"/>
                  </a:lnTo>
                  <a:lnTo>
                    <a:pt x="9" y="488"/>
                  </a:lnTo>
                  <a:lnTo>
                    <a:pt x="22" y="512"/>
                  </a:lnTo>
                  <a:lnTo>
                    <a:pt x="39" y="529"/>
                  </a:lnTo>
                  <a:lnTo>
                    <a:pt x="53" y="548"/>
                  </a:lnTo>
                  <a:lnTo>
                    <a:pt x="101" y="571"/>
                  </a:lnTo>
                  <a:lnTo>
                    <a:pt x="114" y="577"/>
                  </a:lnTo>
                  <a:lnTo>
                    <a:pt x="152" y="582"/>
                  </a:lnTo>
                  <a:lnTo>
                    <a:pt x="162" y="585"/>
                  </a:lnTo>
                  <a:lnTo>
                    <a:pt x="162" y="617"/>
                  </a:lnTo>
                  <a:lnTo>
                    <a:pt x="162" y="636"/>
                  </a:lnTo>
                  <a:lnTo>
                    <a:pt x="173" y="646"/>
                  </a:lnTo>
                  <a:lnTo>
                    <a:pt x="186" y="632"/>
                  </a:lnTo>
                  <a:lnTo>
                    <a:pt x="200" y="601"/>
                  </a:lnTo>
                  <a:lnTo>
                    <a:pt x="202" y="573"/>
                  </a:lnTo>
                  <a:lnTo>
                    <a:pt x="224" y="534"/>
                  </a:lnTo>
                  <a:lnTo>
                    <a:pt x="236" y="506"/>
                  </a:lnTo>
                  <a:lnTo>
                    <a:pt x="267" y="463"/>
                  </a:lnTo>
                  <a:lnTo>
                    <a:pt x="279" y="430"/>
                  </a:lnTo>
                  <a:lnTo>
                    <a:pt x="291" y="400"/>
                  </a:lnTo>
                  <a:lnTo>
                    <a:pt x="289" y="381"/>
                  </a:lnTo>
                  <a:lnTo>
                    <a:pt x="284" y="292"/>
                  </a:lnTo>
                  <a:lnTo>
                    <a:pt x="276" y="223"/>
                  </a:lnTo>
                  <a:lnTo>
                    <a:pt x="261" y="202"/>
                  </a:lnTo>
                  <a:lnTo>
                    <a:pt x="232" y="210"/>
                  </a:lnTo>
                  <a:lnTo>
                    <a:pt x="221" y="217"/>
                  </a:lnTo>
                  <a:lnTo>
                    <a:pt x="212" y="214"/>
                  </a:lnTo>
                  <a:lnTo>
                    <a:pt x="207" y="208"/>
                  </a:lnTo>
                  <a:lnTo>
                    <a:pt x="200" y="213"/>
                  </a:lnTo>
                  <a:lnTo>
                    <a:pt x="195" y="211"/>
                  </a:lnTo>
                  <a:lnTo>
                    <a:pt x="195" y="201"/>
                  </a:lnTo>
                  <a:lnTo>
                    <a:pt x="209" y="166"/>
                  </a:lnTo>
                  <a:lnTo>
                    <a:pt x="219" y="158"/>
                  </a:lnTo>
                  <a:lnTo>
                    <a:pt x="228" y="157"/>
                  </a:lnTo>
                  <a:lnTo>
                    <a:pt x="226" y="131"/>
                  </a:lnTo>
                  <a:lnTo>
                    <a:pt x="232" y="113"/>
                  </a:lnTo>
                  <a:lnTo>
                    <a:pt x="240" y="100"/>
                  </a:lnTo>
                  <a:lnTo>
                    <a:pt x="253" y="90"/>
                  </a:lnTo>
                  <a:lnTo>
                    <a:pt x="242" y="60"/>
                  </a:lnTo>
                  <a:lnTo>
                    <a:pt x="67" y="0"/>
                  </a:lnTo>
                  <a:lnTo>
                    <a:pt x="57" y="5"/>
                  </a:lnTo>
                  <a:lnTo>
                    <a:pt x="45" y="28"/>
                  </a:lnTo>
                  <a:lnTo>
                    <a:pt x="45" y="40"/>
                  </a:lnTo>
                  <a:lnTo>
                    <a:pt x="38" y="80"/>
                  </a:lnTo>
                  <a:lnTo>
                    <a:pt x="10" y="103"/>
                  </a:lnTo>
                  <a:lnTo>
                    <a:pt x="4" y="112"/>
                  </a:lnTo>
                  <a:lnTo>
                    <a:pt x="4" y="120"/>
                  </a:lnTo>
                  <a:lnTo>
                    <a:pt x="23" y="135"/>
                  </a:lnTo>
                  <a:lnTo>
                    <a:pt x="26" y="164"/>
                  </a:lnTo>
                  <a:lnTo>
                    <a:pt x="12" y="171"/>
                  </a:lnTo>
                  <a:lnTo>
                    <a:pt x="16" y="219"/>
                  </a:lnTo>
                  <a:lnTo>
                    <a:pt x="20" y="221"/>
                  </a:lnTo>
                  <a:lnTo>
                    <a:pt x="45" y="226"/>
                  </a:lnTo>
                  <a:lnTo>
                    <a:pt x="54" y="258"/>
                  </a:lnTo>
                  <a:lnTo>
                    <a:pt x="76" y="264"/>
                  </a:lnTo>
                  <a:lnTo>
                    <a:pt x="85" y="273"/>
                  </a:lnTo>
                  <a:lnTo>
                    <a:pt x="99" y="278"/>
                  </a:lnTo>
                  <a:lnTo>
                    <a:pt x="110" y="290"/>
                  </a:lnTo>
                  <a:lnTo>
                    <a:pt x="139" y="312"/>
                  </a:lnTo>
                  <a:lnTo>
                    <a:pt x="136" y="320"/>
                  </a:lnTo>
                  <a:lnTo>
                    <a:pt x="105" y="339"/>
                  </a:lnTo>
                  <a:lnTo>
                    <a:pt x="72" y="371"/>
                  </a:lnTo>
                  <a:lnTo>
                    <a:pt x="66" y="398"/>
                  </a:lnTo>
                  <a:lnTo>
                    <a:pt x="13" y="434"/>
                  </a:lnTo>
                  <a:close/>
                </a:path>
              </a:pathLst>
            </a:custGeom>
            <a:solidFill>
              <a:srgbClr val="8dc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7800840" y="2122560"/>
              <a:ext cx="204840" cy="441360"/>
            </a:xfrm>
            <a:custGeom>
              <a:avLst/>
              <a:gdLst/>
              <a:ahLst/>
              <a:rect l="l" t="t" r="r" b="b"/>
              <a:pathLst>
                <a:path w="291" h="646">
                  <a:moveTo>
                    <a:pt x="13" y="434"/>
                  </a:moveTo>
                  <a:lnTo>
                    <a:pt x="0" y="481"/>
                  </a:lnTo>
                  <a:lnTo>
                    <a:pt x="0" y="491"/>
                  </a:lnTo>
                  <a:lnTo>
                    <a:pt x="9" y="488"/>
                  </a:lnTo>
                  <a:lnTo>
                    <a:pt x="22" y="512"/>
                  </a:lnTo>
                  <a:lnTo>
                    <a:pt x="39" y="529"/>
                  </a:lnTo>
                  <a:lnTo>
                    <a:pt x="53" y="548"/>
                  </a:lnTo>
                  <a:lnTo>
                    <a:pt x="101" y="571"/>
                  </a:lnTo>
                  <a:lnTo>
                    <a:pt x="114" y="577"/>
                  </a:lnTo>
                  <a:lnTo>
                    <a:pt x="152" y="582"/>
                  </a:lnTo>
                  <a:lnTo>
                    <a:pt x="162" y="585"/>
                  </a:lnTo>
                  <a:lnTo>
                    <a:pt x="162" y="617"/>
                  </a:lnTo>
                  <a:lnTo>
                    <a:pt x="162" y="636"/>
                  </a:lnTo>
                  <a:lnTo>
                    <a:pt x="173" y="646"/>
                  </a:lnTo>
                  <a:lnTo>
                    <a:pt x="186" y="632"/>
                  </a:lnTo>
                  <a:lnTo>
                    <a:pt x="200" y="601"/>
                  </a:lnTo>
                  <a:lnTo>
                    <a:pt x="202" y="573"/>
                  </a:lnTo>
                  <a:lnTo>
                    <a:pt x="224" y="534"/>
                  </a:lnTo>
                  <a:lnTo>
                    <a:pt x="236" y="506"/>
                  </a:lnTo>
                  <a:lnTo>
                    <a:pt x="267" y="463"/>
                  </a:lnTo>
                  <a:lnTo>
                    <a:pt x="279" y="430"/>
                  </a:lnTo>
                  <a:lnTo>
                    <a:pt x="291" y="400"/>
                  </a:lnTo>
                  <a:lnTo>
                    <a:pt x="289" y="381"/>
                  </a:lnTo>
                  <a:lnTo>
                    <a:pt x="284" y="292"/>
                  </a:lnTo>
                  <a:lnTo>
                    <a:pt x="276" y="223"/>
                  </a:lnTo>
                  <a:lnTo>
                    <a:pt x="261" y="202"/>
                  </a:lnTo>
                  <a:lnTo>
                    <a:pt x="232" y="210"/>
                  </a:lnTo>
                  <a:lnTo>
                    <a:pt x="221" y="217"/>
                  </a:lnTo>
                  <a:lnTo>
                    <a:pt x="212" y="214"/>
                  </a:lnTo>
                  <a:lnTo>
                    <a:pt x="207" y="208"/>
                  </a:lnTo>
                  <a:lnTo>
                    <a:pt x="200" y="213"/>
                  </a:lnTo>
                  <a:lnTo>
                    <a:pt x="195" y="211"/>
                  </a:lnTo>
                  <a:lnTo>
                    <a:pt x="195" y="201"/>
                  </a:lnTo>
                  <a:lnTo>
                    <a:pt x="209" y="166"/>
                  </a:lnTo>
                  <a:lnTo>
                    <a:pt x="219" y="158"/>
                  </a:lnTo>
                  <a:lnTo>
                    <a:pt x="228" y="157"/>
                  </a:lnTo>
                  <a:lnTo>
                    <a:pt x="226" y="131"/>
                  </a:lnTo>
                  <a:lnTo>
                    <a:pt x="232" y="113"/>
                  </a:lnTo>
                  <a:lnTo>
                    <a:pt x="240" y="100"/>
                  </a:lnTo>
                  <a:lnTo>
                    <a:pt x="253" y="90"/>
                  </a:lnTo>
                  <a:lnTo>
                    <a:pt x="242" y="60"/>
                  </a:lnTo>
                  <a:lnTo>
                    <a:pt x="67" y="0"/>
                  </a:lnTo>
                  <a:lnTo>
                    <a:pt x="57" y="5"/>
                  </a:lnTo>
                  <a:lnTo>
                    <a:pt x="45" y="28"/>
                  </a:lnTo>
                  <a:lnTo>
                    <a:pt x="45" y="40"/>
                  </a:lnTo>
                  <a:lnTo>
                    <a:pt x="38" y="80"/>
                  </a:lnTo>
                  <a:lnTo>
                    <a:pt x="10" y="103"/>
                  </a:lnTo>
                  <a:lnTo>
                    <a:pt x="4" y="112"/>
                  </a:lnTo>
                  <a:lnTo>
                    <a:pt x="4" y="120"/>
                  </a:lnTo>
                  <a:lnTo>
                    <a:pt x="23" y="135"/>
                  </a:lnTo>
                  <a:lnTo>
                    <a:pt x="26" y="164"/>
                  </a:lnTo>
                  <a:lnTo>
                    <a:pt x="12" y="171"/>
                  </a:lnTo>
                  <a:lnTo>
                    <a:pt x="16" y="219"/>
                  </a:lnTo>
                  <a:lnTo>
                    <a:pt x="20" y="221"/>
                  </a:lnTo>
                  <a:lnTo>
                    <a:pt x="45" y="226"/>
                  </a:lnTo>
                  <a:lnTo>
                    <a:pt x="54" y="258"/>
                  </a:lnTo>
                  <a:lnTo>
                    <a:pt x="76" y="264"/>
                  </a:lnTo>
                  <a:lnTo>
                    <a:pt x="85" y="273"/>
                  </a:lnTo>
                  <a:lnTo>
                    <a:pt x="99" y="278"/>
                  </a:lnTo>
                  <a:lnTo>
                    <a:pt x="110" y="290"/>
                  </a:lnTo>
                  <a:lnTo>
                    <a:pt x="139" y="312"/>
                  </a:lnTo>
                  <a:lnTo>
                    <a:pt x="136" y="320"/>
                  </a:lnTo>
                  <a:lnTo>
                    <a:pt x="105" y="339"/>
                  </a:lnTo>
                  <a:lnTo>
                    <a:pt x="72" y="371"/>
                  </a:lnTo>
                  <a:lnTo>
                    <a:pt x="66" y="398"/>
                  </a:lnTo>
                  <a:lnTo>
                    <a:pt x="13" y="434"/>
                  </a:lnTo>
                  <a:lnTo>
                    <a:pt x="13" y="434"/>
                  </a:lnTo>
                </a:path>
              </a:pathLst>
            </a:custGeom>
            <a:solidFill>
              <a:srgbClr val="ccffff"/>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988400" y="1908000"/>
              <a:ext cx="253800" cy="244800"/>
            </a:xfrm>
            <a:custGeom>
              <a:avLst/>
              <a:gdLst/>
              <a:ahLst/>
              <a:rect l="l" t="t" r="r" b="b"/>
              <a:pathLst>
                <a:path w="361" h="358">
                  <a:moveTo>
                    <a:pt x="0" y="77"/>
                  </a:moveTo>
                  <a:lnTo>
                    <a:pt x="121" y="46"/>
                  </a:lnTo>
                  <a:lnTo>
                    <a:pt x="134" y="59"/>
                  </a:lnTo>
                  <a:lnTo>
                    <a:pt x="137" y="57"/>
                  </a:lnTo>
                  <a:lnTo>
                    <a:pt x="140" y="47"/>
                  </a:lnTo>
                  <a:lnTo>
                    <a:pt x="318" y="0"/>
                  </a:lnTo>
                  <a:lnTo>
                    <a:pt x="361" y="149"/>
                  </a:lnTo>
                  <a:lnTo>
                    <a:pt x="355" y="162"/>
                  </a:lnTo>
                  <a:lnTo>
                    <a:pt x="353" y="171"/>
                  </a:lnTo>
                  <a:lnTo>
                    <a:pt x="355" y="177"/>
                  </a:lnTo>
                  <a:lnTo>
                    <a:pt x="355" y="185"/>
                  </a:lnTo>
                  <a:lnTo>
                    <a:pt x="334" y="188"/>
                  </a:lnTo>
                  <a:lnTo>
                    <a:pt x="271" y="213"/>
                  </a:lnTo>
                  <a:lnTo>
                    <a:pt x="255" y="210"/>
                  </a:lnTo>
                  <a:lnTo>
                    <a:pt x="250" y="217"/>
                  </a:lnTo>
                  <a:lnTo>
                    <a:pt x="250" y="227"/>
                  </a:lnTo>
                  <a:lnTo>
                    <a:pt x="245" y="232"/>
                  </a:lnTo>
                  <a:lnTo>
                    <a:pt x="210" y="238"/>
                  </a:lnTo>
                  <a:lnTo>
                    <a:pt x="159" y="259"/>
                  </a:lnTo>
                  <a:lnTo>
                    <a:pt x="152" y="253"/>
                  </a:lnTo>
                  <a:lnTo>
                    <a:pt x="123" y="284"/>
                  </a:lnTo>
                  <a:lnTo>
                    <a:pt x="54" y="342"/>
                  </a:lnTo>
                  <a:lnTo>
                    <a:pt x="29" y="358"/>
                  </a:lnTo>
                  <a:lnTo>
                    <a:pt x="6" y="335"/>
                  </a:lnTo>
                  <a:lnTo>
                    <a:pt x="36" y="302"/>
                  </a:lnTo>
                  <a:lnTo>
                    <a:pt x="41" y="290"/>
                  </a:lnTo>
                  <a:lnTo>
                    <a:pt x="26" y="273"/>
                  </a:lnTo>
                  <a:lnTo>
                    <a:pt x="0" y="77"/>
                  </a:lnTo>
                  <a:close/>
                </a:path>
              </a:pathLst>
            </a:custGeom>
            <a:solidFill>
              <a:srgbClr val="8dc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7988400" y="1908000"/>
              <a:ext cx="253800" cy="244800"/>
            </a:xfrm>
            <a:custGeom>
              <a:avLst/>
              <a:gdLst/>
              <a:ahLst/>
              <a:rect l="l" t="t" r="r" b="b"/>
              <a:pathLst>
                <a:path w="361" h="358">
                  <a:moveTo>
                    <a:pt x="0" y="77"/>
                  </a:moveTo>
                  <a:lnTo>
                    <a:pt x="121" y="46"/>
                  </a:lnTo>
                  <a:lnTo>
                    <a:pt x="134" y="59"/>
                  </a:lnTo>
                  <a:lnTo>
                    <a:pt x="137" y="57"/>
                  </a:lnTo>
                  <a:lnTo>
                    <a:pt x="140" y="47"/>
                  </a:lnTo>
                  <a:lnTo>
                    <a:pt x="318" y="0"/>
                  </a:lnTo>
                  <a:lnTo>
                    <a:pt x="361" y="149"/>
                  </a:lnTo>
                  <a:lnTo>
                    <a:pt x="355" y="162"/>
                  </a:lnTo>
                  <a:lnTo>
                    <a:pt x="353" y="171"/>
                  </a:lnTo>
                  <a:lnTo>
                    <a:pt x="355" y="177"/>
                  </a:lnTo>
                  <a:lnTo>
                    <a:pt x="355" y="185"/>
                  </a:lnTo>
                  <a:lnTo>
                    <a:pt x="334" y="188"/>
                  </a:lnTo>
                  <a:lnTo>
                    <a:pt x="271" y="213"/>
                  </a:lnTo>
                  <a:lnTo>
                    <a:pt x="255" y="210"/>
                  </a:lnTo>
                  <a:lnTo>
                    <a:pt x="250" y="217"/>
                  </a:lnTo>
                  <a:lnTo>
                    <a:pt x="250" y="227"/>
                  </a:lnTo>
                  <a:lnTo>
                    <a:pt x="245" y="232"/>
                  </a:lnTo>
                  <a:lnTo>
                    <a:pt x="210" y="238"/>
                  </a:lnTo>
                  <a:lnTo>
                    <a:pt x="159" y="259"/>
                  </a:lnTo>
                  <a:lnTo>
                    <a:pt x="152" y="253"/>
                  </a:lnTo>
                  <a:lnTo>
                    <a:pt x="123" y="284"/>
                  </a:lnTo>
                  <a:lnTo>
                    <a:pt x="54" y="342"/>
                  </a:lnTo>
                  <a:lnTo>
                    <a:pt x="29" y="358"/>
                  </a:lnTo>
                  <a:lnTo>
                    <a:pt x="6" y="335"/>
                  </a:lnTo>
                  <a:lnTo>
                    <a:pt x="36" y="302"/>
                  </a:lnTo>
                  <a:lnTo>
                    <a:pt x="41" y="290"/>
                  </a:lnTo>
                  <a:lnTo>
                    <a:pt x="26" y="273"/>
                  </a:lnTo>
                  <a:lnTo>
                    <a:pt x="0" y="77"/>
                  </a:lnTo>
                  <a:lnTo>
                    <a:pt x="0" y="77"/>
                  </a:lnTo>
                </a:path>
              </a:pathLst>
            </a:custGeom>
            <a:solidFill>
              <a:srgbClr val="ccffff"/>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981920" y="1727280"/>
              <a:ext cx="493920" cy="249120"/>
            </a:xfrm>
            <a:custGeom>
              <a:avLst/>
              <a:gdLst/>
              <a:ahLst/>
              <a:rect l="l" t="t" r="r" b="b"/>
              <a:pathLst>
                <a:path w="701" h="362">
                  <a:moveTo>
                    <a:pt x="2" y="151"/>
                  </a:moveTo>
                  <a:lnTo>
                    <a:pt x="145" y="118"/>
                  </a:lnTo>
                  <a:lnTo>
                    <a:pt x="371" y="68"/>
                  </a:lnTo>
                  <a:lnTo>
                    <a:pt x="373" y="60"/>
                  </a:lnTo>
                  <a:lnTo>
                    <a:pt x="380" y="54"/>
                  </a:lnTo>
                  <a:lnTo>
                    <a:pt x="386" y="60"/>
                  </a:lnTo>
                  <a:lnTo>
                    <a:pt x="390" y="54"/>
                  </a:lnTo>
                  <a:lnTo>
                    <a:pt x="386" y="37"/>
                  </a:lnTo>
                  <a:lnTo>
                    <a:pt x="406" y="31"/>
                  </a:lnTo>
                  <a:lnTo>
                    <a:pt x="421" y="3"/>
                  </a:lnTo>
                  <a:lnTo>
                    <a:pt x="436" y="0"/>
                  </a:lnTo>
                  <a:lnTo>
                    <a:pt x="449" y="6"/>
                  </a:lnTo>
                  <a:lnTo>
                    <a:pt x="457" y="38"/>
                  </a:lnTo>
                  <a:lnTo>
                    <a:pt x="484" y="58"/>
                  </a:lnTo>
                  <a:lnTo>
                    <a:pt x="491" y="69"/>
                  </a:lnTo>
                  <a:lnTo>
                    <a:pt x="487" y="79"/>
                  </a:lnTo>
                  <a:lnTo>
                    <a:pt x="475" y="86"/>
                  </a:lnTo>
                  <a:lnTo>
                    <a:pt x="463" y="109"/>
                  </a:lnTo>
                  <a:lnTo>
                    <a:pt x="453" y="141"/>
                  </a:lnTo>
                  <a:lnTo>
                    <a:pt x="455" y="154"/>
                  </a:lnTo>
                  <a:lnTo>
                    <a:pt x="484" y="154"/>
                  </a:lnTo>
                  <a:lnTo>
                    <a:pt x="509" y="167"/>
                  </a:lnTo>
                  <a:lnTo>
                    <a:pt x="550" y="208"/>
                  </a:lnTo>
                  <a:lnTo>
                    <a:pt x="563" y="235"/>
                  </a:lnTo>
                  <a:lnTo>
                    <a:pt x="581" y="257"/>
                  </a:lnTo>
                  <a:lnTo>
                    <a:pt x="629" y="262"/>
                  </a:lnTo>
                  <a:lnTo>
                    <a:pt x="658" y="251"/>
                  </a:lnTo>
                  <a:lnTo>
                    <a:pt x="674" y="215"/>
                  </a:lnTo>
                  <a:lnTo>
                    <a:pt x="664" y="211"/>
                  </a:lnTo>
                  <a:lnTo>
                    <a:pt x="645" y="194"/>
                  </a:lnTo>
                  <a:lnTo>
                    <a:pt x="623" y="182"/>
                  </a:lnTo>
                  <a:lnTo>
                    <a:pt x="624" y="168"/>
                  </a:lnTo>
                  <a:lnTo>
                    <a:pt x="642" y="170"/>
                  </a:lnTo>
                  <a:lnTo>
                    <a:pt x="650" y="172"/>
                  </a:lnTo>
                  <a:lnTo>
                    <a:pt x="682" y="215"/>
                  </a:lnTo>
                  <a:lnTo>
                    <a:pt x="701" y="262"/>
                  </a:lnTo>
                  <a:lnTo>
                    <a:pt x="699" y="282"/>
                  </a:lnTo>
                  <a:lnTo>
                    <a:pt x="680" y="268"/>
                  </a:lnTo>
                  <a:lnTo>
                    <a:pt x="658" y="286"/>
                  </a:lnTo>
                  <a:lnTo>
                    <a:pt x="626" y="301"/>
                  </a:lnTo>
                  <a:lnTo>
                    <a:pt x="590" y="329"/>
                  </a:lnTo>
                  <a:lnTo>
                    <a:pt x="577" y="329"/>
                  </a:lnTo>
                  <a:lnTo>
                    <a:pt x="573" y="325"/>
                  </a:lnTo>
                  <a:lnTo>
                    <a:pt x="573" y="314"/>
                  </a:lnTo>
                  <a:lnTo>
                    <a:pt x="569" y="290"/>
                  </a:lnTo>
                  <a:lnTo>
                    <a:pt x="562" y="290"/>
                  </a:lnTo>
                  <a:lnTo>
                    <a:pt x="542" y="322"/>
                  </a:lnTo>
                  <a:lnTo>
                    <a:pt x="520" y="355"/>
                  </a:lnTo>
                  <a:lnTo>
                    <a:pt x="512" y="362"/>
                  </a:lnTo>
                  <a:lnTo>
                    <a:pt x="497" y="343"/>
                  </a:lnTo>
                  <a:lnTo>
                    <a:pt x="494" y="337"/>
                  </a:lnTo>
                  <a:lnTo>
                    <a:pt x="487" y="335"/>
                  </a:lnTo>
                  <a:lnTo>
                    <a:pt x="482" y="329"/>
                  </a:lnTo>
                  <a:lnTo>
                    <a:pt x="469" y="321"/>
                  </a:lnTo>
                  <a:lnTo>
                    <a:pt x="469" y="312"/>
                  </a:lnTo>
                  <a:lnTo>
                    <a:pt x="431" y="303"/>
                  </a:lnTo>
                  <a:lnTo>
                    <a:pt x="421" y="276"/>
                  </a:lnTo>
                  <a:lnTo>
                    <a:pt x="411" y="271"/>
                  </a:lnTo>
                  <a:lnTo>
                    <a:pt x="401" y="249"/>
                  </a:lnTo>
                  <a:lnTo>
                    <a:pt x="326" y="265"/>
                  </a:lnTo>
                  <a:lnTo>
                    <a:pt x="148" y="312"/>
                  </a:lnTo>
                  <a:lnTo>
                    <a:pt x="145" y="322"/>
                  </a:lnTo>
                  <a:lnTo>
                    <a:pt x="142" y="324"/>
                  </a:lnTo>
                  <a:lnTo>
                    <a:pt x="129" y="310"/>
                  </a:lnTo>
                  <a:lnTo>
                    <a:pt x="8" y="341"/>
                  </a:lnTo>
                  <a:lnTo>
                    <a:pt x="0" y="333"/>
                  </a:lnTo>
                  <a:lnTo>
                    <a:pt x="2" y="151"/>
                  </a:lnTo>
                  <a:close/>
                </a:path>
              </a:pathLst>
            </a:custGeom>
            <a:solidFill>
              <a:srgbClr val="8dc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7981920" y="1727280"/>
              <a:ext cx="493920" cy="249120"/>
            </a:xfrm>
            <a:custGeom>
              <a:avLst/>
              <a:gdLst/>
              <a:ahLst/>
              <a:rect l="l" t="t" r="r" b="b"/>
              <a:pathLst>
                <a:path w="701" h="362">
                  <a:moveTo>
                    <a:pt x="2" y="151"/>
                  </a:moveTo>
                  <a:lnTo>
                    <a:pt x="145" y="118"/>
                  </a:lnTo>
                  <a:lnTo>
                    <a:pt x="371" y="68"/>
                  </a:lnTo>
                  <a:lnTo>
                    <a:pt x="373" y="60"/>
                  </a:lnTo>
                  <a:lnTo>
                    <a:pt x="380" y="54"/>
                  </a:lnTo>
                  <a:lnTo>
                    <a:pt x="386" y="60"/>
                  </a:lnTo>
                  <a:lnTo>
                    <a:pt x="390" y="54"/>
                  </a:lnTo>
                  <a:lnTo>
                    <a:pt x="386" y="37"/>
                  </a:lnTo>
                  <a:lnTo>
                    <a:pt x="406" y="31"/>
                  </a:lnTo>
                  <a:lnTo>
                    <a:pt x="421" y="3"/>
                  </a:lnTo>
                  <a:lnTo>
                    <a:pt x="436" y="0"/>
                  </a:lnTo>
                  <a:lnTo>
                    <a:pt x="449" y="6"/>
                  </a:lnTo>
                  <a:lnTo>
                    <a:pt x="457" y="38"/>
                  </a:lnTo>
                  <a:lnTo>
                    <a:pt x="484" y="58"/>
                  </a:lnTo>
                  <a:lnTo>
                    <a:pt x="491" y="69"/>
                  </a:lnTo>
                  <a:lnTo>
                    <a:pt x="487" y="79"/>
                  </a:lnTo>
                  <a:lnTo>
                    <a:pt x="475" y="86"/>
                  </a:lnTo>
                  <a:lnTo>
                    <a:pt x="463" y="109"/>
                  </a:lnTo>
                  <a:lnTo>
                    <a:pt x="453" y="141"/>
                  </a:lnTo>
                  <a:lnTo>
                    <a:pt x="455" y="154"/>
                  </a:lnTo>
                  <a:lnTo>
                    <a:pt x="484" y="154"/>
                  </a:lnTo>
                  <a:lnTo>
                    <a:pt x="509" y="167"/>
                  </a:lnTo>
                  <a:lnTo>
                    <a:pt x="550" y="208"/>
                  </a:lnTo>
                  <a:lnTo>
                    <a:pt x="563" y="235"/>
                  </a:lnTo>
                  <a:lnTo>
                    <a:pt x="581" y="257"/>
                  </a:lnTo>
                  <a:lnTo>
                    <a:pt x="629" y="262"/>
                  </a:lnTo>
                  <a:lnTo>
                    <a:pt x="658" y="251"/>
                  </a:lnTo>
                  <a:lnTo>
                    <a:pt x="674" y="215"/>
                  </a:lnTo>
                  <a:lnTo>
                    <a:pt x="664" y="211"/>
                  </a:lnTo>
                  <a:lnTo>
                    <a:pt x="645" y="194"/>
                  </a:lnTo>
                  <a:lnTo>
                    <a:pt x="623" y="182"/>
                  </a:lnTo>
                  <a:lnTo>
                    <a:pt x="624" y="168"/>
                  </a:lnTo>
                  <a:lnTo>
                    <a:pt x="642" y="170"/>
                  </a:lnTo>
                  <a:lnTo>
                    <a:pt x="650" y="172"/>
                  </a:lnTo>
                  <a:lnTo>
                    <a:pt x="682" y="215"/>
                  </a:lnTo>
                  <a:lnTo>
                    <a:pt x="701" y="262"/>
                  </a:lnTo>
                  <a:lnTo>
                    <a:pt x="699" y="282"/>
                  </a:lnTo>
                  <a:lnTo>
                    <a:pt x="680" y="268"/>
                  </a:lnTo>
                  <a:lnTo>
                    <a:pt x="658" y="286"/>
                  </a:lnTo>
                  <a:lnTo>
                    <a:pt x="626" y="301"/>
                  </a:lnTo>
                  <a:lnTo>
                    <a:pt x="590" y="329"/>
                  </a:lnTo>
                  <a:lnTo>
                    <a:pt x="577" y="329"/>
                  </a:lnTo>
                  <a:lnTo>
                    <a:pt x="573" y="325"/>
                  </a:lnTo>
                  <a:lnTo>
                    <a:pt x="573" y="314"/>
                  </a:lnTo>
                  <a:lnTo>
                    <a:pt x="569" y="290"/>
                  </a:lnTo>
                  <a:lnTo>
                    <a:pt x="562" y="290"/>
                  </a:lnTo>
                  <a:lnTo>
                    <a:pt x="542" y="322"/>
                  </a:lnTo>
                  <a:lnTo>
                    <a:pt x="520" y="355"/>
                  </a:lnTo>
                  <a:lnTo>
                    <a:pt x="512" y="362"/>
                  </a:lnTo>
                  <a:lnTo>
                    <a:pt x="497" y="343"/>
                  </a:lnTo>
                  <a:lnTo>
                    <a:pt x="494" y="337"/>
                  </a:lnTo>
                  <a:lnTo>
                    <a:pt x="487" y="335"/>
                  </a:lnTo>
                  <a:lnTo>
                    <a:pt x="482" y="329"/>
                  </a:lnTo>
                  <a:lnTo>
                    <a:pt x="469" y="321"/>
                  </a:lnTo>
                  <a:lnTo>
                    <a:pt x="469" y="312"/>
                  </a:lnTo>
                  <a:lnTo>
                    <a:pt x="431" y="303"/>
                  </a:lnTo>
                  <a:lnTo>
                    <a:pt x="421" y="276"/>
                  </a:lnTo>
                  <a:lnTo>
                    <a:pt x="411" y="271"/>
                  </a:lnTo>
                  <a:lnTo>
                    <a:pt x="401" y="249"/>
                  </a:lnTo>
                  <a:lnTo>
                    <a:pt x="326" y="265"/>
                  </a:lnTo>
                  <a:lnTo>
                    <a:pt x="148" y="312"/>
                  </a:lnTo>
                  <a:lnTo>
                    <a:pt x="145" y="322"/>
                  </a:lnTo>
                  <a:lnTo>
                    <a:pt x="142" y="324"/>
                  </a:lnTo>
                  <a:lnTo>
                    <a:pt x="129" y="310"/>
                  </a:lnTo>
                  <a:lnTo>
                    <a:pt x="8" y="341"/>
                  </a:lnTo>
                  <a:lnTo>
                    <a:pt x="0" y="333"/>
                  </a:lnTo>
                  <a:lnTo>
                    <a:pt x="2" y="151"/>
                  </a:lnTo>
                  <a:lnTo>
                    <a:pt x="2" y="151"/>
                  </a:lnTo>
                </a:path>
              </a:pathLst>
            </a:custGeom>
            <a:solidFill>
              <a:srgbClr val="ccffff"/>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8210520" y="1898640"/>
              <a:ext cx="131760" cy="136440"/>
            </a:xfrm>
            <a:custGeom>
              <a:avLst/>
              <a:gdLst/>
              <a:ahLst/>
              <a:rect l="l" t="t" r="r" b="b"/>
              <a:pathLst>
                <a:path w="186" h="203">
                  <a:moveTo>
                    <a:pt x="0" y="16"/>
                  </a:moveTo>
                  <a:lnTo>
                    <a:pt x="43" y="165"/>
                  </a:lnTo>
                  <a:lnTo>
                    <a:pt x="38" y="178"/>
                  </a:lnTo>
                  <a:lnTo>
                    <a:pt x="35" y="187"/>
                  </a:lnTo>
                  <a:lnTo>
                    <a:pt x="38" y="193"/>
                  </a:lnTo>
                  <a:lnTo>
                    <a:pt x="38" y="201"/>
                  </a:lnTo>
                  <a:lnTo>
                    <a:pt x="47" y="203"/>
                  </a:lnTo>
                  <a:lnTo>
                    <a:pt x="86" y="175"/>
                  </a:lnTo>
                  <a:lnTo>
                    <a:pt x="108" y="157"/>
                  </a:lnTo>
                  <a:lnTo>
                    <a:pt x="108" y="141"/>
                  </a:lnTo>
                  <a:lnTo>
                    <a:pt x="101" y="128"/>
                  </a:lnTo>
                  <a:lnTo>
                    <a:pt x="101" y="104"/>
                  </a:lnTo>
                  <a:lnTo>
                    <a:pt x="118" y="88"/>
                  </a:lnTo>
                  <a:lnTo>
                    <a:pt x="127" y="94"/>
                  </a:lnTo>
                  <a:lnTo>
                    <a:pt x="126" y="109"/>
                  </a:lnTo>
                  <a:lnTo>
                    <a:pt x="127" y="141"/>
                  </a:lnTo>
                  <a:lnTo>
                    <a:pt x="131" y="150"/>
                  </a:lnTo>
                  <a:lnTo>
                    <a:pt x="144" y="148"/>
                  </a:lnTo>
                  <a:lnTo>
                    <a:pt x="144" y="130"/>
                  </a:lnTo>
                  <a:lnTo>
                    <a:pt x="153" y="130"/>
                  </a:lnTo>
                  <a:lnTo>
                    <a:pt x="163" y="116"/>
                  </a:lnTo>
                  <a:lnTo>
                    <a:pt x="183" y="114"/>
                  </a:lnTo>
                  <a:lnTo>
                    <a:pt x="186" y="114"/>
                  </a:lnTo>
                  <a:lnTo>
                    <a:pt x="171" y="94"/>
                  </a:lnTo>
                  <a:lnTo>
                    <a:pt x="168" y="88"/>
                  </a:lnTo>
                  <a:lnTo>
                    <a:pt x="161" y="87"/>
                  </a:lnTo>
                  <a:lnTo>
                    <a:pt x="156" y="81"/>
                  </a:lnTo>
                  <a:lnTo>
                    <a:pt x="143" y="73"/>
                  </a:lnTo>
                  <a:lnTo>
                    <a:pt x="143" y="63"/>
                  </a:lnTo>
                  <a:lnTo>
                    <a:pt x="105" y="55"/>
                  </a:lnTo>
                  <a:lnTo>
                    <a:pt x="95" y="27"/>
                  </a:lnTo>
                  <a:lnTo>
                    <a:pt x="85" y="22"/>
                  </a:lnTo>
                  <a:lnTo>
                    <a:pt x="75" y="0"/>
                  </a:lnTo>
                  <a:lnTo>
                    <a:pt x="0" y="16"/>
                  </a:lnTo>
                  <a:close/>
                </a:path>
              </a:pathLst>
            </a:custGeom>
            <a:solidFill>
              <a:srgbClr val="8dc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210520" y="1898640"/>
              <a:ext cx="131760" cy="136440"/>
            </a:xfrm>
            <a:custGeom>
              <a:avLst/>
              <a:gdLst/>
              <a:ahLst/>
              <a:rect l="l" t="t" r="r" b="b"/>
              <a:pathLst>
                <a:path w="186" h="203">
                  <a:moveTo>
                    <a:pt x="0" y="16"/>
                  </a:moveTo>
                  <a:lnTo>
                    <a:pt x="43" y="165"/>
                  </a:lnTo>
                  <a:lnTo>
                    <a:pt x="38" y="178"/>
                  </a:lnTo>
                  <a:lnTo>
                    <a:pt x="35" y="187"/>
                  </a:lnTo>
                  <a:lnTo>
                    <a:pt x="38" y="193"/>
                  </a:lnTo>
                  <a:lnTo>
                    <a:pt x="38" y="201"/>
                  </a:lnTo>
                  <a:lnTo>
                    <a:pt x="47" y="203"/>
                  </a:lnTo>
                  <a:lnTo>
                    <a:pt x="86" y="175"/>
                  </a:lnTo>
                  <a:lnTo>
                    <a:pt x="108" y="157"/>
                  </a:lnTo>
                  <a:lnTo>
                    <a:pt x="108" y="141"/>
                  </a:lnTo>
                  <a:lnTo>
                    <a:pt x="101" y="128"/>
                  </a:lnTo>
                  <a:lnTo>
                    <a:pt x="101" y="104"/>
                  </a:lnTo>
                  <a:lnTo>
                    <a:pt x="118" y="88"/>
                  </a:lnTo>
                  <a:lnTo>
                    <a:pt x="127" y="94"/>
                  </a:lnTo>
                  <a:lnTo>
                    <a:pt x="126" y="109"/>
                  </a:lnTo>
                  <a:lnTo>
                    <a:pt x="127" y="141"/>
                  </a:lnTo>
                  <a:lnTo>
                    <a:pt x="131" y="150"/>
                  </a:lnTo>
                  <a:lnTo>
                    <a:pt x="144" y="148"/>
                  </a:lnTo>
                  <a:lnTo>
                    <a:pt x="144" y="130"/>
                  </a:lnTo>
                  <a:lnTo>
                    <a:pt x="153" y="130"/>
                  </a:lnTo>
                  <a:lnTo>
                    <a:pt x="163" y="116"/>
                  </a:lnTo>
                  <a:lnTo>
                    <a:pt x="183" y="114"/>
                  </a:lnTo>
                  <a:lnTo>
                    <a:pt x="186" y="114"/>
                  </a:lnTo>
                  <a:lnTo>
                    <a:pt x="171" y="94"/>
                  </a:lnTo>
                  <a:lnTo>
                    <a:pt x="168" y="88"/>
                  </a:lnTo>
                  <a:lnTo>
                    <a:pt x="161" y="87"/>
                  </a:lnTo>
                  <a:lnTo>
                    <a:pt x="156" y="81"/>
                  </a:lnTo>
                  <a:lnTo>
                    <a:pt x="143" y="73"/>
                  </a:lnTo>
                  <a:lnTo>
                    <a:pt x="143" y="63"/>
                  </a:lnTo>
                  <a:lnTo>
                    <a:pt x="105" y="55"/>
                  </a:lnTo>
                  <a:lnTo>
                    <a:pt x="95" y="27"/>
                  </a:lnTo>
                  <a:lnTo>
                    <a:pt x="85" y="22"/>
                  </a:lnTo>
                  <a:lnTo>
                    <a:pt x="75" y="0"/>
                  </a:lnTo>
                  <a:lnTo>
                    <a:pt x="0" y="16"/>
                  </a:lnTo>
                  <a:lnTo>
                    <a:pt x="0" y="16"/>
                  </a:lnTo>
                </a:path>
              </a:pathLst>
            </a:custGeom>
            <a:solidFill>
              <a:srgbClr val="00547e"/>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7866000" y="1371600"/>
              <a:ext cx="258840" cy="458640"/>
            </a:xfrm>
            <a:custGeom>
              <a:avLst/>
              <a:gdLst/>
              <a:ahLst/>
              <a:rect l="l" t="t" r="r" b="b"/>
              <a:pathLst>
                <a:path w="366" h="667">
                  <a:moveTo>
                    <a:pt x="0" y="86"/>
                  </a:moveTo>
                  <a:lnTo>
                    <a:pt x="12" y="112"/>
                  </a:lnTo>
                  <a:lnTo>
                    <a:pt x="8" y="126"/>
                  </a:lnTo>
                  <a:lnTo>
                    <a:pt x="17" y="137"/>
                  </a:lnTo>
                  <a:lnTo>
                    <a:pt x="18" y="147"/>
                  </a:lnTo>
                  <a:lnTo>
                    <a:pt x="48" y="223"/>
                  </a:lnTo>
                  <a:lnTo>
                    <a:pt x="60" y="278"/>
                  </a:lnTo>
                  <a:lnTo>
                    <a:pt x="44" y="305"/>
                  </a:lnTo>
                  <a:lnTo>
                    <a:pt x="48" y="335"/>
                  </a:lnTo>
                  <a:lnTo>
                    <a:pt x="81" y="409"/>
                  </a:lnTo>
                  <a:lnTo>
                    <a:pt x="76" y="445"/>
                  </a:lnTo>
                  <a:lnTo>
                    <a:pt x="84" y="457"/>
                  </a:lnTo>
                  <a:lnTo>
                    <a:pt x="88" y="455"/>
                  </a:lnTo>
                  <a:lnTo>
                    <a:pt x="87" y="447"/>
                  </a:lnTo>
                  <a:lnTo>
                    <a:pt x="99" y="445"/>
                  </a:lnTo>
                  <a:lnTo>
                    <a:pt x="119" y="476"/>
                  </a:lnTo>
                  <a:lnTo>
                    <a:pt x="131" y="543"/>
                  </a:lnTo>
                  <a:lnTo>
                    <a:pt x="131" y="581"/>
                  </a:lnTo>
                  <a:lnTo>
                    <a:pt x="145" y="623"/>
                  </a:lnTo>
                  <a:lnTo>
                    <a:pt x="166" y="667"/>
                  </a:lnTo>
                  <a:lnTo>
                    <a:pt x="310" y="634"/>
                  </a:lnTo>
                  <a:lnTo>
                    <a:pt x="306" y="622"/>
                  </a:lnTo>
                  <a:lnTo>
                    <a:pt x="288" y="606"/>
                  </a:lnTo>
                  <a:lnTo>
                    <a:pt x="290" y="577"/>
                  </a:lnTo>
                  <a:lnTo>
                    <a:pt x="297" y="568"/>
                  </a:lnTo>
                  <a:lnTo>
                    <a:pt x="289" y="545"/>
                  </a:lnTo>
                  <a:lnTo>
                    <a:pt x="278" y="436"/>
                  </a:lnTo>
                  <a:lnTo>
                    <a:pt x="278" y="402"/>
                  </a:lnTo>
                  <a:lnTo>
                    <a:pt x="292" y="341"/>
                  </a:lnTo>
                  <a:lnTo>
                    <a:pt x="301" y="300"/>
                  </a:lnTo>
                  <a:lnTo>
                    <a:pt x="304" y="267"/>
                  </a:lnTo>
                  <a:lnTo>
                    <a:pt x="292" y="244"/>
                  </a:lnTo>
                  <a:lnTo>
                    <a:pt x="292" y="221"/>
                  </a:lnTo>
                  <a:lnTo>
                    <a:pt x="301" y="206"/>
                  </a:lnTo>
                  <a:lnTo>
                    <a:pt x="343" y="172"/>
                  </a:lnTo>
                  <a:lnTo>
                    <a:pt x="366" y="112"/>
                  </a:lnTo>
                  <a:lnTo>
                    <a:pt x="343" y="80"/>
                  </a:lnTo>
                  <a:lnTo>
                    <a:pt x="341" y="61"/>
                  </a:lnTo>
                  <a:lnTo>
                    <a:pt x="347" y="50"/>
                  </a:lnTo>
                  <a:lnTo>
                    <a:pt x="347" y="40"/>
                  </a:lnTo>
                  <a:lnTo>
                    <a:pt x="335" y="0"/>
                  </a:lnTo>
                  <a:lnTo>
                    <a:pt x="0" y="86"/>
                  </a:lnTo>
                  <a:close/>
                </a:path>
              </a:pathLst>
            </a:custGeom>
            <a:solidFill>
              <a:srgbClr val="8dc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7848720" y="1371600"/>
              <a:ext cx="258480" cy="458640"/>
            </a:xfrm>
            <a:custGeom>
              <a:avLst/>
              <a:gdLst/>
              <a:ahLst/>
              <a:rect l="l" t="t" r="r" b="b"/>
              <a:pathLst>
                <a:path w="366" h="667">
                  <a:moveTo>
                    <a:pt x="0" y="86"/>
                  </a:moveTo>
                  <a:lnTo>
                    <a:pt x="12" y="112"/>
                  </a:lnTo>
                  <a:lnTo>
                    <a:pt x="8" y="126"/>
                  </a:lnTo>
                  <a:lnTo>
                    <a:pt x="17" y="137"/>
                  </a:lnTo>
                  <a:lnTo>
                    <a:pt x="18" y="147"/>
                  </a:lnTo>
                  <a:lnTo>
                    <a:pt x="48" y="223"/>
                  </a:lnTo>
                  <a:lnTo>
                    <a:pt x="60" y="278"/>
                  </a:lnTo>
                  <a:lnTo>
                    <a:pt x="44" y="305"/>
                  </a:lnTo>
                  <a:lnTo>
                    <a:pt x="48" y="335"/>
                  </a:lnTo>
                  <a:lnTo>
                    <a:pt x="81" y="409"/>
                  </a:lnTo>
                  <a:lnTo>
                    <a:pt x="76" y="445"/>
                  </a:lnTo>
                  <a:lnTo>
                    <a:pt x="84" y="457"/>
                  </a:lnTo>
                  <a:lnTo>
                    <a:pt x="88" y="455"/>
                  </a:lnTo>
                  <a:lnTo>
                    <a:pt x="87" y="447"/>
                  </a:lnTo>
                  <a:lnTo>
                    <a:pt x="99" y="445"/>
                  </a:lnTo>
                  <a:lnTo>
                    <a:pt x="119" y="476"/>
                  </a:lnTo>
                  <a:lnTo>
                    <a:pt x="131" y="543"/>
                  </a:lnTo>
                  <a:lnTo>
                    <a:pt x="131" y="581"/>
                  </a:lnTo>
                  <a:lnTo>
                    <a:pt x="145" y="623"/>
                  </a:lnTo>
                  <a:lnTo>
                    <a:pt x="166" y="667"/>
                  </a:lnTo>
                  <a:lnTo>
                    <a:pt x="310" y="634"/>
                  </a:lnTo>
                  <a:lnTo>
                    <a:pt x="306" y="622"/>
                  </a:lnTo>
                  <a:lnTo>
                    <a:pt x="288" y="606"/>
                  </a:lnTo>
                  <a:lnTo>
                    <a:pt x="290" y="577"/>
                  </a:lnTo>
                  <a:lnTo>
                    <a:pt x="297" y="568"/>
                  </a:lnTo>
                  <a:lnTo>
                    <a:pt x="289" y="545"/>
                  </a:lnTo>
                  <a:lnTo>
                    <a:pt x="278" y="436"/>
                  </a:lnTo>
                  <a:lnTo>
                    <a:pt x="278" y="402"/>
                  </a:lnTo>
                  <a:lnTo>
                    <a:pt x="292" y="341"/>
                  </a:lnTo>
                  <a:lnTo>
                    <a:pt x="301" y="300"/>
                  </a:lnTo>
                  <a:lnTo>
                    <a:pt x="304" y="267"/>
                  </a:lnTo>
                  <a:lnTo>
                    <a:pt x="292" y="244"/>
                  </a:lnTo>
                  <a:lnTo>
                    <a:pt x="292" y="221"/>
                  </a:lnTo>
                  <a:lnTo>
                    <a:pt x="301" y="206"/>
                  </a:lnTo>
                  <a:lnTo>
                    <a:pt x="343" y="172"/>
                  </a:lnTo>
                  <a:lnTo>
                    <a:pt x="366" y="112"/>
                  </a:lnTo>
                  <a:lnTo>
                    <a:pt x="343" y="80"/>
                  </a:lnTo>
                  <a:lnTo>
                    <a:pt x="341" y="61"/>
                  </a:lnTo>
                  <a:lnTo>
                    <a:pt x="347" y="50"/>
                  </a:lnTo>
                  <a:lnTo>
                    <a:pt x="347" y="40"/>
                  </a:lnTo>
                  <a:lnTo>
                    <a:pt x="335" y="0"/>
                  </a:lnTo>
                  <a:lnTo>
                    <a:pt x="0" y="86"/>
                  </a:lnTo>
                  <a:lnTo>
                    <a:pt x="0" y="86"/>
                  </a:lnTo>
                </a:path>
              </a:pathLst>
            </a:custGeom>
            <a:solidFill>
              <a:srgbClr val="0099cc"/>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8062920" y="1306440"/>
              <a:ext cx="237960" cy="501840"/>
            </a:xfrm>
            <a:custGeom>
              <a:avLst/>
              <a:gdLst/>
              <a:ahLst/>
              <a:rect l="l" t="t" r="r" b="b"/>
              <a:pathLst>
                <a:path w="339" h="732">
                  <a:moveTo>
                    <a:pt x="335" y="619"/>
                  </a:moveTo>
                  <a:lnTo>
                    <a:pt x="322" y="614"/>
                  </a:lnTo>
                  <a:lnTo>
                    <a:pt x="307" y="617"/>
                  </a:lnTo>
                  <a:lnTo>
                    <a:pt x="293" y="644"/>
                  </a:lnTo>
                  <a:lnTo>
                    <a:pt x="272" y="650"/>
                  </a:lnTo>
                  <a:lnTo>
                    <a:pt x="276" y="668"/>
                  </a:lnTo>
                  <a:lnTo>
                    <a:pt x="272" y="674"/>
                  </a:lnTo>
                  <a:lnTo>
                    <a:pt x="266" y="668"/>
                  </a:lnTo>
                  <a:lnTo>
                    <a:pt x="259" y="674"/>
                  </a:lnTo>
                  <a:lnTo>
                    <a:pt x="257" y="681"/>
                  </a:lnTo>
                  <a:lnTo>
                    <a:pt x="32" y="732"/>
                  </a:lnTo>
                  <a:lnTo>
                    <a:pt x="28" y="719"/>
                  </a:lnTo>
                  <a:lnTo>
                    <a:pt x="10" y="703"/>
                  </a:lnTo>
                  <a:lnTo>
                    <a:pt x="12" y="675"/>
                  </a:lnTo>
                  <a:lnTo>
                    <a:pt x="19" y="665"/>
                  </a:lnTo>
                  <a:lnTo>
                    <a:pt x="11" y="642"/>
                  </a:lnTo>
                  <a:lnTo>
                    <a:pt x="0" y="534"/>
                  </a:lnTo>
                  <a:lnTo>
                    <a:pt x="0" y="499"/>
                  </a:lnTo>
                  <a:lnTo>
                    <a:pt x="14" y="438"/>
                  </a:lnTo>
                  <a:lnTo>
                    <a:pt x="23" y="397"/>
                  </a:lnTo>
                  <a:lnTo>
                    <a:pt x="27" y="364"/>
                  </a:lnTo>
                  <a:lnTo>
                    <a:pt x="14" y="342"/>
                  </a:lnTo>
                  <a:lnTo>
                    <a:pt x="14" y="318"/>
                  </a:lnTo>
                  <a:lnTo>
                    <a:pt x="23" y="303"/>
                  </a:lnTo>
                  <a:lnTo>
                    <a:pt x="65" y="269"/>
                  </a:lnTo>
                  <a:lnTo>
                    <a:pt x="88" y="210"/>
                  </a:lnTo>
                  <a:lnTo>
                    <a:pt x="65" y="177"/>
                  </a:lnTo>
                  <a:lnTo>
                    <a:pt x="63" y="159"/>
                  </a:lnTo>
                  <a:lnTo>
                    <a:pt x="69" y="148"/>
                  </a:lnTo>
                  <a:lnTo>
                    <a:pt x="68" y="138"/>
                  </a:lnTo>
                  <a:lnTo>
                    <a:pt x="57" y="97"/>
                  </a:lnTo>
                  <a:lnTo>
                    <a:pt x="65" y="50"/>
                  </a:lnTo>
                  <a:lnTo>
                    <a:pt x="53" y="34"/>
                  </a:lnTo>
                  <a:lnTo>
                    <a:pt x="58" y="27"/>
                  </a:lnTo>
                  <a:lnTo>
                    <a:pt x="73" y="27"/>
                  </a:lnTo>
                  <a:lnTo>
                    <a:pt x="80" y="9"/>
                  </a:lnTo>
                  <a:lnTo>
                    <a:pt x="93" y="15"/>
                  </a:lnTo>
                  <a:lnTo>
                    <a:pt x="106" y="12"/>
                  </a:lnTo>
                  <a:lnTo>
                    <a:pt x="116" y="0"/>
                  </a:lnTo>
                  <a:lnTo>
                    <a:pt x="266" y="450"/>
                  </a:lnTo>
                  <a:lnTo>
                    <a:pt x="267" y="459"/>
                  </a:lnTo>
                  <a:lnTo>
                    <a:pt x="266" y="478"/>
                  </a:lnTo>
                  <a:lnTo>
                    <a:pt x="269" y="486"/>
                  </a:lnTo>
                  <a:lnTo>
                    <a:pt x="305" y="514"/>
                  </a:lnTo>
                  <a:lnTo>
                    <a:pt x="314" y="517"/>
                  </a:lnTo>
                  <a:lnTo>
                    <a:pt x="318" y="532"/>
                  </a:lnTo>
                  <a:lnTo>
                    <a:pt x="317" y="542"/>
                  </a:lnTo>
                  <a:lnTo>
                    <a:pt x="339" y="579"/>
                  </a:lnTo>
                  <a:lnTo>
                    <a:pt x="336" y="586"/>
                  </a:lnTo>
                  <a:lnTo>
                    <a:pt x="334" y="605"/>
                  </a:lnTo>
                  <a:lnTo>
                    <a:pt x="335" y="619"/>
                  </a:lnTo>
                  <a:close/>
                </a:path>
              </a:pathLst>
            </a:custGeom>
            <a:solidFill>
              <a:srgbClr val="8dc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8062920" y="1306440"/>
              <a:ext cx="237960" cy="501840"/>
            </a:xfrm>
            <a:custGeom>
              <a:avLst/>
              <a:gdLst/>
              <a:ahLst/>
              <a:rect l="l" t="t" r="r" b="b"/>
              <a:pathLst>
                <a:path w="339" h="732">
                  <a:moveTo>
                    <a:pt x="335" y="619"/>
                  </a:moveTo>
                  <a:lnTo>
                    <a:pt x="322" y="614"/>
                  </a:lnTo>
                  <a:lnTo>
                    <a:pt x="307" y="617"/>
                  </a:lnTo>
                  <a:lnTo>
                    <a:pt x="293" y="644"/>
                  </a:lnTo>
                  <a:lnTo>
                    <a:pt x="272" y="650"/>
                  </a:lnTo>
                  <a:lnTo>
                    <a:pt x="276" y="668"/>
                  </a:lnTo>
                  <a:lnTo>
                    <a:pt x="272" y="674"/>
                  </a:lnTo>
                  <a:lnTo>
                    <a:pt x="266" y="668"/>
                  </a:lnTo>
                  <a:lnTo>
                    <a:pt x="259" y="674"/>
                  </a:lnTo>
                  <a:lnTo>
                    <a:pt x="257" y="681"/>
                  </a:lnTo>
                  <a:lnTo>
                    <a:pt x="32" y="732"/>
                  </a:lnTo>
                  <a:lnTo>
                    <a:pt x="28" y="719"/>
                  </a:lnTo>
                  <a:lnTo>
                    <a:pt x="10" y="703"/>
                  </a:lnTo>
                  <a:lnTo>
                    <a:pt x="12" y="675"/>
                  </a:lnTo>
                  <a:lnTo>
                    <a:pt x="19" y="665"/>
                  </a:lnTo>
                  <a:lnTo>
                    <a:pt x="11" y="642"/>
                  </a:lnTo>
                  <a:lnTo>
                    <a:pt x="0" y="534"/>
                  </a:lnTo>
                  <a:lnTo>
                    <a:pt x="0" y="499"/>
                  </a:lnTo>
                  <a:lnTo>
                    <a:pt x="14" y="438"/>
                  </a:lnTo>
                  <a:lnTo>
                    <a:pt x="23" y="397"/>
                  </a:lnTo>
                  <a:lnTo>
                    <a:pt x="27" y="364"/>
                  </a:lnTo>
                  <a:lnTo>
                    <a:pt x="14" y="342"/>
                  </a:lnTo>
                  <a:lnTo>
                    <a:pt x="14" y="318"/>
                  </a:lnTo>
                  <a:lnTo>
                    <a:pt x="23" y="303"/>
                  </a:lnTo>
                  <a:lnTo>
                    <a:pt x="65" y="269"/>
                  </a:lnTo>
                  <a:lnTo>
                    <a:pt x="88" y="210"/>
                  </a:lnTo>
                  <a:lnTo>
                    <a:pt x="65" y="177"/>
                  </a:lnTo>
                  <a:lnTo>
                    <a:pt x="63" y="159"/>
                  </a:lnTo>
                  <a:lnTo>
                    <a:pt x="69" y="148"/>
                  </a:lnTo>
                  <a:lnTo>
                    <a:pt x="68" y="138"/>
                  </a:lnTo>
                  <a:lnTo>
                    <a:pt x="57" y="97"/>
                  </a:lnTo>
                  <a:lnTo>
                    <a:pt x="65" y="50"/>
                  </a:lnTo>
                  <a:lnTo>
                    <a:pt x="53" y="34"/>
                  </a:lnTo>
                  <a:lnTo>
                    <a:pt x="58" y="27"/>
                  </a:lnTo>
                  <a:lnTo>
                    <a:pt x="73" y="27"/>
                  </a:lnTo>
                  <a:lnTo>
                    <a:pt x="80" y="9"/>
                  </a:lnTo>
                  <a:lnTo>
                    <a:pt x="93" y="15"/>
                  </a:lnTo>
                  <a:lnTo>
                    <a:pt x="106" y="12"/>
                  </a:lnTo>
                  <a:lnTo>
                    <a:pt x="116" y="0"/>
                  </a:lnTo>
                  <a:lnTo>
                    <a:pt x="266" y="450"/>
                  </a:lnTo>
                  <a:lnTo>
                    <a:pt x="267" y="459"/>
                  </a:lnTo>
                  <a:lnTo>
                    <a:pt x="266" y="478"/>
                  </a:lnTo>
                  <a:lnTo>
                    <a:pt x="269" y="486"/>
                  </a:lnTo>
                  <a:lnTo>
                    <a:pt x="305" y="514"/>
                  </a:lnTo>
                  <a:lnTo>
                    <a:pt x="314" y="517"/>
                  </a:lnTo>
                  <a:lnTo>
                    <a:pt x="318" y="532"/>
                  </a:lnTo>
                  <a:lnTo>
                    <a:pt x="317" y="542"/>
                  </a:lnTo>
                  <a:lnTo>
                    <a:pt x="339" y="579"/>
                  </a:lnTo>
                  <a:lnTo>
                    <a:pt x="336" y="586"/>
                  </a:lnTo>
                  <a:lnTo>
                    <a:pt x="334" y="605"/>
                  </a:lnTo>
                  <a:lnTo>
                    <a:pt x="335" y="619"/>
                  </a:lnTo>
                  <a:lnTo>
                    <a:pt x="335" y="619"/>
                  </a:lnTo>
                </a:path>
              </a:pathLst>
            </a:custGeom>
            <a:solidFill>
              <a:srgbClr val="00547e"/>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8143920" y="849240"/>
              <a:ext cx="542880" cy="854280"/>
            </a:xfrm>
            <a:custGeom>
              <a:avLst/>
              <a:gdLst/>
              <a:ahLst/>
              <a:rect l="l" t="t" r="r" b="b"/>
              <a:pathLst>
                <a:path w="771" h="1246">
                  <a:moveTo>
                    <a:pt x="0" y="667"/>
                  </a:moveTo>
                  <a:lnTo>
                    <a:pt x="150" y="1116"/>
                  </a:lnTo>
                  <a:lnTo>
                    <a:pt x="151" y="1126"/>
                  </a:lnTo>
                  <a:lnTo>
                    <a:pt x="150" y="1145"/>
                  </a:lnTo>
                  <a:lnTo>
                    <a:pt x="153" y="1153"/>
                  </a:lnTo>
                  <a:lnTo>
                    <a:pt x="189" y="1181"/>
                  </a:lnTo>
                  <a:lnTo>
                    <a:pt x="198" y="1183"/>
                  </a:lnTo>
                  <a:lnTo>
                    <a:pt x="202" y="1199"/>
                  </a:lnTo>
                  <a:lnTo>
                    <a:pt x="200" y="1209"/>
                  </a:lnTo>
                  <a:lnTo>
                    <a:pt x="223" y="1246"/>
                  </a:lnTo>
                  <a:lnTo>
                    <a:pt x="227" y="1235"/>
                  </a:lnTo>
                  <a:lnTo>
                    <a:pt x="232" y="1209"/>
                  </a:lnTo>
                  <a:lnTo>
                    <a:pt x="237" y="1175"/>
                  </a:lnTo>
                  <a:lnTo>
                    <a:pt x="252" y="1141"/>
                  </a:lnTo>
                  <a:lnTo>
                    <a:pt x="264" y="1091"/>
                  </a:lnTo>
                  <a:lnTo>
                    <a:pt x="283" y="1071"/>
                  </a:lnTo>
                  <a:lnTo>
                    <a:pt x="284" y="1063"/>
                  </a:lnTo>
                  <a:lnTo>
                    <a:pt x="274" y="1056"/>
                  </a:lnTo>
                  <a:lnTo>
                    <a:pt x="265" y="1028"/>
                  </a:lnTo>
                  <a:lnTo>
                    <a:pt x="315" y="983"/>
                  </a:lnTo>
                  <a:lnTo>
                    <a:pt x="322" y="987"/>
                  </a:lnTo>
                  <a:lnTo>
                    <a:pt x="331" y="1011"/>
                  </a:lnTo>
                  <a:lnTo>
                    <a:pt x="339" y="1016"/>
                  </a:lnTo>
                  <a:lnTo>
                    <a:pt x="343" y="1005"/>
                  </a:lnTo>
                  <a:lnTo>
                    <a:pt x="343" y="985"/>
                  </a:lnTo>
                  <a:lnTo>
                    <a:pt x="346" y="973"/>
                  </a:lnTo>
                  <a:lnTo>
                    <a:pt x="385" y="967"/>
                  </a:lnTo>
                  <a:lnTo>
                    <a:pt x="398" y="951"/>
                  </a:lnTo>
                  <a:lnTo>
                    <a:pt x="400" y="935"/>
                  </a:lnTo>
                  <a:lnTo>
                    <a:pt x="406" y="924"/>
                  </a:lnTo>
                  <a:lnTo>
                    <a:pt x="426" y="926"/>
                  </a:lnTo>
                  <a:lnTo>
                    <a:pt x="442" y="916"/>
                  </a:lnTo>
                  <a:lnTo>
                    <a:pt x="447" y="910"/>
                  </a:lnTo>
                  <a:lnTo>
                    <a:pt x="455" y="876"/>
                  </a:lnTo>
                  <a:lnTo>
                    <a:pt x="451" y="853"/>
                  </a:lnTo>
                  <a:lnTo>
                    <a:pt x="476" y="822"/>
                  </a:lnTo>
                  <a:lnTo>
                    <a:pt x="476" y="808"/>
                  </a:lnTo>
                  <a:lnTo>
                    <a:pt x="487" y="808"/>
                  </a:lnTo>
                  <a:lnTo>
                    <a:pt x="513" y="812"/>
                  </a:lnTo>
                  <a:lnTo>
                    <a:pt x="528" y="806"/>
                  </a:lnTo>
                  <a:lnTo>
                    <a:pt x="535" y="791"/>
                  </a:lnTo>
                  <a:lnTo>
                    <a:pt x="545" y="765"/>
                  </a:lnTo>
                  <a:lnTo>
                    <a:pt x="556" y="762"/>
                  </a:lnTo>
                  <a:lnTo>
                    <a:pt x="573" y="734"/>
                  </a:lnTo>
                  <a:lnTo>
                    <a:pt x="602" y="739"/>
                  </a:lnTo>
                  <a:lnTo>
                    <a:pt x="621" y="757"/>
                  </a:lnTo>
                  <a:lnTo>
                    <a:pt x="653" y="706"/>
                  </a:lnTo>
                  <a:lnTo>
                    <a:pt x="674" y="693"/>
                  </a:lnTo>
                  <a:lnTo>
                    <a:pt x="715" y="657"/>
                  </a:lnTo>
                  <a:lnTo>
                    <a:pt x="726" y="642"/>
                  </a:lnTo>
                  <a:lnTo>
                    <a:pt x="731" y="633"/>
                  </a:lnTo>
                  <a:lnTo>
                    <a:pt x="744" y="635"/>
                  </a:lnTo>
                  <a:lnTo>
                    <a:pt x="762" y="625"/>
                  </a:lnTo>
                  <a:lnTo>
                    <a:pt x="771" y="602"/>
                  </a:lnTo>
                  <a:lnTo>
                    <a:pt x="768" y="585"/>
                  </a:lnTo>
                  <a:lnTo>
                    <a:pt x="753" y="576"/>
                  </a:lnTo>
                  <a:lnTo>
                    <a:pt x="750" y="580"/>
                  </a:lnTo>
                  <a:lnTo>
                    <a:pt x="739" y="573"/>
                  </a:lnTo>
                  <a:lnTo>
                    <a:pt x="747" y="555"/>
                  </a:lnTo>
                  <a:lnTo>
                    <a:pt x="753" y="553"/>
                  </a:lnTo>
                  <a:lnTo>
                    <a:pt x="750" y="539"/>
                  </a:lnTo>
                  <a:lnTo>
                    <a:pt x="734" y="503"/>
                  </a:lnTo>
                  <a:lnTo>
                    <a:pt x="714" y="495"/>
                  </a:lnTo>
                  <a:lnTo>
                    <a:pt x="702" y="497"/>
                  </a:lnTo>
                  <a:lnTo>
                    <a:pt x="695" y="504"/>
                  </a:lnTo>
                  <a:lnTo>
                    <a:pt x="677" y="506"/>
                  </a:lnTo>
                  <a:lnTo>
                    <a:pt x="659" y="500"/>
                  </a:lnTo>
                  <a:lnTo>
                    <a:pt x="642" y="434"/>
                  </a:lnTo>
                  <a:lnTo>
                    <a:pt x="649" y="425"/>
                  </a:lnTo>
                  <a:lnTo>
                    <a:pt x="648" y="413"/>
                  </a:lnTo>
                  <a:lnTo>
                    <a:pt x="640" y="406"/>
                  </a:lnTo>
                  <a:lnTo>
                    <a:pt x="627" y="406"/>
                  </a:lnTo>
                  <a:lnTo>
                    <a:pt x="621" y="412"/>
                  </a:lnTo>
                  <a:lnTo>
                    <a:pt x="592" y="403"/>
                  </a:lnTo>
                  <a:lnTo>
                    <a:pt x="575" y="403"/>
                  </a:lnTo>
                  <a:lnTo>
                    <a:pt x="567" y="396"/>
                  </a:lnTo>
                  <a:lnTo>
                    <a:pt x="554" y="356"/>
                  </a:lnTo>
                  <a:lnTo>
                    <a:pt x="554" y="346"/>
                  </a:lnTo>
                  <a:lnTo>
                    <a:pt x="459" y="54"/>
                  </a:lnTo>
                  <a:lnTo>
                    <a:pt x="379" y="5"/>
                  </a:lnTo>
                  <a:lnTo>
                    <a:pt x="359" y="0"/>
                  </a:lnTo>
                  <a:lnTo>
                    <a:pt x="339" y="3"/>
                  </a:lnTo>
                  <a:lnTo>
                    <a:pt x="331" y="16"/>
                  </a:lnTo>
                  <a:lnTo>
                    <a:pt x="325" y="29"/>
                  </a:lnTo>
                  <a:lnTo>
                    <a:pt x="315" y="29"/>
                  </a:lnTo>
                  <a:lnTo>
                    <a:pt x="286" y="42"/>
                  </a:lnTo>
                  <a:lnTo>
                    <a:pt x="245" y="79"/>
                  </a:lnTo>
                  <a:lnTo>
                    <a:pt x="232" y="82"/>
                  </a:lnTo>
                  <a:lnTo>
                    <a:pt x="215" y="60"/>
                  </a:lnTo>
                  <a:lnTo>
                    <a:pt x="217" y="31"/>
                  </a:lnTo>
                  <a:lnTo>
                    <a:pt x="210" y="21"/>
                  </a:lnTo>
                  <a:lnTo>
                    <a:pt x="198" y="21"/>
                  </a:lnTo>
                  <a:lnTo>
                    <a:pt x="169" y="31"/>
                  </a:lnTo>
                  <a:lnTo>
                    <a:pt x="99" y="258"/>
                  </a:lnTo>
                  <a:lnTo>
                    <a:pt x="95" y="292"/>
                  </a:lnTo>
                  <a:lnTo>
                    <a:pt x="110" y="308"/>
                  </a:lnTo>
                  <a:lnTo>
                    <a:pt x="110" y="334"/>
                  </a:lnTo>
                  <a:lnTo>
                    <a:pt x="101" y="350"/>
                  </a:lnTo>
                  <a:lnTo>
                    <a:pt x="91" y="360"/>
                  </a:lnTo>
                  <a:lnTo>
                    <a:pt x="82" y="380"/>
                  </a:lnTo>
                  <a:lnTo>
                    <a:pt x="107" y="473"/>
                  </a:lnTo>
                  <a:lnTo>
                    <a:pt x="95" y="503"/>
                  </a:lnTo>
                  <a:lnTo>
                    <a:pt x="95" y="527"/>
                  </a:lnTo>
                  <a:lnTo>
                    <a:pt x="63" y="572"/>
                  </a:lnTo>
                  <a:lnTo>
                    <a:pt x="55" y="589"/>
                  </a:lnTo>
                  <a:lnTo>
                    <a:pt x="69" y="617"/>
                  </a:lnTo>
                  <a:lnTo>
                    <a:pt x="68" y="621"/>
                  </a:lnTo>
                  <a:lnTo>
                    <a:pt x="49" y="621"/>
                  </a:lnTo>
                  <a:lnTo>
                    <a:pt x="49" y="647"/>
                  </a:lnTo>
                  <a:lnTo>
                    <a:pt x="45" y="659"/>
                  </a:lnTo>
                  <a:lnTo>
                    <a:pt x="33" y="657"/>
                  </a:lnTo>
                  <a:lnTo>
                    <a:pt x="19" y="653"/>
                  </a:lnTo>
                  <a:lnTo>
                    <a:pt x="0" y="667"/>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8143920" y="849240"/>
              <a:ext cx="542880" cy="854280"/>
            </a:xfrm>
            <a:custGeom>
              <a:avLst/>
              <a:gdLst/>
              <a:ahLst/>
              <a:rect l="l" t="t" r="r" b="b"/>
              <a:pathLst>
                <a:path w="771" h="1246">
                  <a:moveTo>
                    <a:pt x="0" y="667"/>
                  </a:moveTo>
                  <a:lnTo>
                    <a:pt x="150" y="1116"/>
                  </a:lnTo>
                  <a:lnTo>
                    <a:pt x="151" y="1126"/>
                  </a:lnTo>
                  <a:lnTo>
                    <a:pt x="150" y="1145"/>
                  </a:lnTo>
                  <a:lnTo>
                    <a:pt x="153" y="1153"/>
                  </a:lnTo>
                  <a:lnTo>
                    <a:pt x="189" y="1181"/>
                  </a:lnTo>
                  <a:lnTo>
                    <a:pt x="198" y="1183"/>
                  </a:lnTo>
                  <a:lnTo>
                    <a:pt x="202" y="1199"/>
                  </a:lnTo>
                  <a:lnTo>
                    <a:pt x="200" y="1209"/>
                  </a:lnTo>
                  <a:lnTo>
                    <a:pt x="223" y="1246"/>
                  </a:lnTo>
                  <a:lnTo>
                    <a:pt x="227" y="1235"/>
                  </a:lnTo>
                  <a:lnTo>
                    <a:pt x="232" y="1209"/>
                  </a:lnTo>
                  <a:lnTo>
                    <a:pt x="237" y="1175"/>
                  </a:lnTo>
                  <a:lnTo>
                    <a:pt x="252" y="1141"/>
                  </a:lnTo>
                  <a:lnTo>
                    <a:pt x="264" y="1091"/>
                  </a:lnTo>
                  <a:lnTo>
                    <a:pt x="283" y="1071"/>
                  </a:lnTo>
                  <a:lnTo>
                    <a:pt x="284" y="1063"/>
                  </a:lnTo>
                  <a:lnTo>
                    <a:pt x="274" y="1056"/>
                  </a:lnTo>
                  <a:lnTo>
                    <a:pt x="265" y="1028"/>
                  </a:lnTo>
                  <a:lnTo>
                    <a:pt x="315" y="983"/>
                  </a:lnTo>
                  <a:lnTo>
                    <a:pt x="322" y="987"/>
                  </a:lnTo>
                  <a:lnTo>
                    <a:pt x="331" y="1011"/>
                  </a:lnTo>
                  <a:lnTo>
                    <a:pt x="339" y="1016"/>
                  </a:lnTo>
                  <a:lnTo>
                    <a:pt x="343" y="1005"/>
                  </a:lnTo>
                  <a:lnTo>
                    <a:pt x="343" y="985"/>
                  </a:lnTo>
                  <a:lnTo>
                    <a:pt x="346" y="973"/>
                  </a:lnTo>
                  <a:lnTo>
                    <a:pt x="385" y="967"/>
                  </a:lnTo>
                  <a:lnTo>
                    <a:pt x="398" y="951"/>
                  </a:lnTo>
                  <a:lnTo>
                    <a:pt x="400" y="935"/>
                  </a:lnTo>
                  <a:lnTo>
                    <a:pt x="406" y="924"/>
                  </a:lnTo>
                  <a:lnTo>
                    <a:pt x="426" y="926"/>
                  </a:lnTo>
                  <a:lnTo>
                    <a:pt x="442" y="916"/>
                  </a:lnTo>
                  <a:lnTo>
                    <a:pt x="447" y="910"/>
                  </a:lnTo>
                  <a:lnTo>
                    <a:pt x="455" y="876"/>
                  </a:lnTo>
                  <a:lnTo>
                    <a:pt x="451" y="853"/>
                  </a:lnTo>
                  <a:lnTo>
                    <a:pt x="476" y="822"/>
                  </a:lnTo>
                  <a:lnTo>
                    <a:pt x="476" y="808"/>
                  </a:lnTo>
                  <a:lnTo>
                    <a:pt x="487" y="808"/>
                  </a:lnTo>
                  <a:lnTo>
                    <a:pt x="513" y="812"/>
                  </a:lnTo>
                  <a:lnTo>
                    <a:pt x="528" y="806"/>
                  </a:lnTo>
                  <a:lnTo>
                    <a:pt x="535" y="791"/>
                  </a:lnTo>
                  <a:lnTo>
                    <a:pt x="545" y="765"/>
                  </a:lnTo>
                  <a:lnTo>
                    <a:pt x="556" y="762"/>
                  </a:lnTo>
                  <a:lnTo>
                    <a:pt x="573" y="734"/>
                  </a:lnTo>
                  <a:lnTo>
                    <a:pt x="602" y="739"/>
                  </a:lnTo>
                  <a:lnTo>
                    <a:pt x="621" y="757"/>
                  </a:lnTo>
                  <a:lnTo>
                    <a:pt x="653" y="706"/>
                  </a:lnTo>
                  <a:lnTo>
                    <a:pt x="674" y="693"/>
                  </a:lnTo>
                  <a:lnTo>
                    <a:pt x="715" y="657"/>
                  </a:lnTo>
                  <a:lnTo>
                    <a:pt x="726" y="642"/>
                  </a:lnTo>
                  <a:lnTo>
                    <a:pt x="731" y="633"/>
                  </a:lnTo>
                  <a:lnTo>
                    <a:pt x="744" y="635"/>
                  </a:lnTo>
                  <a:lnTo>
                    <a:pt x="762" y="625"/>
                  </a:lnTo>
                  <a:lnTo>
                    <a:pt x="771" y="602"/>
                  </a:lnTo>
                  <a:lnTo>
                    <a:pt x="768" y="585"/>
                  </a:lnTo>
                  <a:lnTo>
                    <a:pt x="753" y="576"/>
                  </a:lnTo>
                  <a:lnTo>
                    <a:pt x="750" y="580"/>
                  </a:lnTo>
                  <a:lnTo>
                    <a:pt x="739" y="573"/>
                  </a:lnTo>
                  <a:lnTo>
                    <a:pt x="747" y="555"/>
                  </a:lnTo>
                  <a:lnTo>
                    <a:pt x="753" y="553"/>
                  </a:lnTo>
                  <a:lnTo>
                    <a:pt x="750" y="539"/>
                  </a:lnTo>
                  <a:lnTo>
                    <a:pt x="734" y="503"/>
                  </a:lnTo>
                  <a:lnTo>
                    <a:pt x="714" y="495"/>
                  </a:lnTo>
                  <a:lnTo>
                    <a:pt x="702" y="497"/>
                  </a:lnTo>
                  <a:lnTo>
                    <a:pt x="695" y="504"/>
                  </a:lnTo>
                  <a:lnTo>
                    <a:pt x="677" y="506"/>
                  </a:lnTo>
                  <a:lnTo>
                    <a:pt x="659" y="500"/>
                  </a:lnTo>
                  <a:lnTo>
                    <a:pt x="642" y="434"/>
                  </a:lnTo>
                  <a:lnTo>
                    <a:pt x="649" y="425"/>
                  </a:lnTo>
                  <a:lnTo>
                    <a:pt x="648" y="413"/>
                  </a:lnTo>
                  <a:lnTo>
                    <a:pt x="640" y="406"/>
                  </a:lnTo>
                  <a:lnTo>
                    <a:pt x="627" y="406"/>
                  </a:lnTo>
                  <a:lnTo>
                    <a:pt x="621" y="412"/>
                  </a:lnTo>
                  <a:lnTo>
                    <a:pt x="592" y="403"/>
                  </a:lnTo>
                  <a:lnTo>
                    <a:pt x="575" y="403"/>
                  </a:lnTo>
                  <a:lnTo>
                    <a:pt x="567" y="396"/>
                  </a:lnTo>
                  <a:lnTo>
                    <a:pt x="554" y="356"/>
                  </a:lnTo>
                  <a:lnTo>
                    <a:pt x="554" y="346"/>
                  </a:lnTo>
                  <a:lnTo>
                    <a:pt x="459" y="54"/>
                  </a:lnTo>
                  <a:lnTo>
                    <a:pt x="379" y="5"/>
                  </a:lnTo>
                  <a:lnTo>
                    <a:pt x="359" y="0"/>
                  </a:lnTo>
                  <a:lnTo>
                    <a:pt x="339" y="3"/>
                  </a:lnTo>
                  <a:lnTo>
                    <a:pt x="331" y="16"/>
                  </a:lnTo>
                  <a:lnTo>
                    <a:pt x="325" y="29"/>
                  </a:lnTo>
                  <a:lnTo>
                    <a:pt x="315" y="29"/>
                  </a:lnTo>
                  <a:lnTo>
                    <a:pt x="286" y="42"/>
                  </a:lnTo>
                  <a:lnTo>
                    <a:pt x="245" y="79"/>
                  </a:lnTo>
                  <a:lnTo>
                    <a:pt x="232" y="82"/>
                  </a:lnTo>
                  <a:lnTo>
                    <a:pt x="215" y="60"/>
                  </a:lnTo>
                  <a:lnTo>
                    <a:pt x="217" y="31"/>
                  </a:lnTo>
                  <a:lnTo>
                    <a:pt x="210" y="21"/>
                  </a:lnTo>
                  <a:lnTo>
                    <a:pt x="198" y="21"/>
                  </a:lnTo>
                  <a:lnTo>
                    <a:pt x="169" y="31"/>
                  </a:lnTo>
                  <a:lnTo>
                    <a:pt x="99" y="258"/>
                  </a:lnTo>
                  <a:lnTo>
                    <a:pt x="95" y="292"/>
                  </a:lnTo>
                  <a:lnTo>
                    <a:pt x="110" y="308"/>
                  </a:lnTo>
                  <a:lnTo>
                    <a:pt x="110" y="334"/>
                  </a:lnTo>
                  <a:lnTo>
                    <a:pt x="101" y="350"/>
                  </a:lnTo>
                  <a:lnTo>
                    <a:pt x="91" y="360"/>
                  </a:lnTo>
                  <a:lnTo>
                    <a:pt x="82" y="380"/>
                  </a:lnTo>
                  <a:lnTo>
                    <a:pt x="107" y="473"/>
                  </a:lnTo>
                  <a:lnTo>
                    <a:pt x="95" y="503"/>
                  </a:lnTo>
                  <a:lnTo>
                    <a:pt x="95" y="527"/>
                  </a:lnTo>
                  <a:lnTo>
                    <a:pt x="63" y="572"/>
                  </a:lnTo>
                  <a:lnTo>
                    <a:pt x="55" y="589"/>
                  </a:lnTo>
                  <a:lnTo>
                    <a:pt x="69" y="617"/>
                  </a:lnTo>
                  <a:lnTo>
                    <a:pt x="68" y="621"/>
                  </a:lnTo>
                  <a:lnTo>
                    <a:pt x="49" y="621"/>
                  </a:lnTo>
                  <a:lnTo>
                    <a:pt x="49" y="647"/>
                  </a:lnTo>
                  <a:lnTo>
                    <a:pt x="45" y="659"/>
                  </a:lnTo>
                  <a:lnTo>
                    <a:pt x="33" y="657"/>
                  </a:lnTo>
                  <a:lnTo>
                    <a:pt x="19" y="653"/>
                  </a:lnTo>
                  <a:lnTo>
                    <a:pt x="0" y="667"/>
                  </a:lnTo>
                  <a:lnTo>
                    <a:pt x="0" y="667"/>
                  </a:lnTo>
                </a:path>
              </a:pathLst>
            </a:custGeom>
            <a:solidFill>
              <a:srgbClr val="00547e"/>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6846840" y="2405160"/>
              <a:ext cx="665280" cy="641160"/>
            </a:xfrm>
            <a:custGeom>
              <a:avLst/>
              <a:gdLst/>
              <a:ahLst/>
              <a:rect l="l" t="t" r="r" b="b"/>
              <a:pathLst>
                <a:path w="945" h="937">
                  <a:moveTo>
                    <a:pt x="318" y="4"/>
                  </a:moveTo>
                  <a:lnTo>
                    <a:pt x="314" y="0"/>
                  </a:lnTo>
                  <a:lnTo>
                    <a:pt x="300" y="13"/>
                  </a:lnTo>
                  <a:lnTo>
                    <a:pt x="309" y="40"/>
                  </a:lnTo>
                  <a:lnTo>
                    <a:pt x="281" y="65"/>
                  </a:lnTo>
                  <a:lnTo>
                    <a:pt x="318" y="86"/>
                  </a:lnTo>
                  <a:lnTo>
                    <a:pt x="304" y="179"/>
                  </a:lnTo>
                  <a:lnTo>
                    <a:pt x="296" y="205"/>
                  </a:lnTo>
                  <a:lnTo>
                    <a:pt x="296" y="224"/>
                  </a:lnTo>
                  <a:lnTo>
                    <a:pt x="302" y="238"/>
                  </a:lnTo>
                  <a:lnTo>
                    <a:pt x="303" y="269"/>
                  </a:lnTo>
                  <a:lnTo>
                    <a:pt x="281" y="291"/>
                  </a:lnTo>
                  <a:lnTo>
                    <a:pt x="268" y="295"/>
                  </a:lnTo>
                  <a:lnTo>
                    <a:pt x="231" y="341"/>
                  </a:lnTo>
                  <a:lnTo>
                    <a:pt x="229" y="350"/>
                  </a:lnTo>
                  <a:lnTo>
                    <a:pt x="205" y="357"/>
                  </a:lnTo>
                  <a:lnTo>
                    <a:pt x="188" y="352"/>
                  </a:lnTo>
                  <a:lnTo>
                    <a:pt x="171" y="370"/>
                  </a:lnTo>
                  <a:lnTo>
                    <a:pt x="168" y="382"/>
                  </a:lnTo>
                  <a:lnTo>
                    <a:pt x="153" y="399"/>
                  </a:lnTo>
                  <a:lnTo>
                    <a:pt x="131" y="445"/>
                  </a:lnTo>
                  <a:lnTo>
                    <a:pt x="138" y="476"/>
                  </a:lnTo>
                  <a:lnTo>
                    <a:pt x="114" y="503"/>
                  </a:lnTo>
                  <a:lnTo>
                    <a:pt x="96" y="472"/>
                  </a:lnTo>
                  <a:lnTo>
                    <a:pt x="79" y="472"/>
                  </a:lnTo>
                  <a:lnTo>
                    <a:pt x="58" y="535"/>
                  </a:lnTo>
                  <a:lnTo>
                    <a:pt x="62" y="566"/>
                  </a:lnTo>
                  <a:lnTo>
                    <a:pt x="58" y="596"/>
                  </a:lnTo>
                  <a:lnTo>
                    <a:pt x="47" y="606"/>
                  </a:lnTo>
                  <a:lnTo>
                    <a:pt x="26" y="643"/>
                  </a:lnTo>
                  <a:lnTo>
                    <a:pt x="0" y="645"/>
                  </a:lnTo>
                  <a:lnTo>
                    <a:pt x="3" y="678"/>
                  </a:lnTo>
                  <a:lnTo>
                    <a:pt x="3" y="701"/>
                  </a:lnTo>
                  <a:lnTo>
                    <a:pt x="0" y="718"/>
                  </a:lnTo>
                  <a:lnTo>
                    <a:pt x="5" y="733"/>
                  </a:lnTo>
                  <a:lnTo>
                    <a:pt x="51" y="789"/>
                  </a:lnTo>
                  <a:lnTo>
                    <a:pt x="76" y="831"/>
                  </a:lnTo>
                  <a:lnTo>
                    <a:pt x="84" y="836"/>
                  </a:lnTo>
                  <a:lnTo>
                    <a:pt x="94" y="832"/>
                  </a:lnTo>
                  <a:lnTo>
                    <a:pt x="114" y="843"/>
                  </a:lnTo>
                  <a:lnTo>
                    <a:pt x="121" y="851"/>
                  </a:lnTo>
                  <a:lnTo>
                    <a:pt x="126" y="853"/>
                  </a:lnTo>
                  <a:lnTo>
                    <a:pt x="141" y="862"/>
                  </a:lnTo>
                  <a:lnTo>
                    <a:pt x="157" y="862"/>
                  </a:lnTo>
                  <a:lnTo>
                    <a:pt x="164" y="867"/>
                  </a:lnTo>
                  <a:lnTo>
                    <a:pt x="157" y="889"/>
                  </a:lnTo>
                  <a:lnTo>
                    <a:pt x="188" y="921"/>
                  </a:lnTo>
                  <a:lnTo>
                    <a:pt x="235" y="935"/>
                  </a:lnTo>
                  <a:lnTo>
                    <a:pt x="255" y="937"/>
                  </a:lnTo>
                  <a:lnTo>
                    <a:pt x="281" y="920"/>
                  </a:lnTo>
                  <a:lnTo>
                    <a:pt x="283" y="906"/>
                  </a:lnTo>
                  <a:lnTo>
                    <a:pt x="300" y="896"/>
                  </a:lnTo>
                  <a:lnTo>
                    <a:pt x="315" y="910"/>
                  </a:lnTo>
                  <a:lnTo>
                    <a:pt x="325" y="915"/>
                  </a:lnTo>
                  <a:lnTo>
                    <a:pt x="342" y="912"/>
                  </a:lnTo>
                  <a:lnTo>
                    <a:pt x="394" y="891"/>
                  </a:lnTo>
                  <a:lnTo>
                    <a:pt x="402" y="857"/>
                  </a:lnTo>
                  <a:lnTo>
                    <a:pt x="410" y="857"/>
                  </a:lnTo>
                  <a:lnTo>
                    <a:pt x="420" y="870"/>
                  </a:lnTo>
                  <a:lnTo>
                    <a:pt x="463" y="831"/>
                  </a:lnTo>
                  <a:lnTo>
                    <a:pt x="477" y="839"/>
                  </a:lnTo>
                  <a:lnTo>
                    <a:pt x="513" y="792"/>
                  </a:lnTo>
                  <a:lnTo>
                    <a:pt x="504" y="775"/>
                  </a:lnTo>
                  <a:lnTo>
                    <a:pt x="508" y="743"/>
                  </a:lnTo>
                  <a:lnTo>
                    <a:pt x="543" y="678"/>
                  </a:lnTo>
                  <a:lnTo>
                    <a:pt x="588" y="503"/>
                  </a:lnTo>
                  <a:lnTo>
                    <a:pt x="596" y="502"/>
                  </a:lnTo>
                  <a:lnTo>
                    <a:pt x="622" y="518"/>
                  </a:lnTo>
                  <a:lnTo>
                    <a:pt x="624" y="529"/>
                  </a:lnTo>
                  <a:lnTo>
                    <a:pt x="637" y="543"/>
                  </a:lnTo>
                  <a:lnTo>
                    <a:pt x="666" y="537"/>
                  </a:lnTo>
                  <a:lnTo>
                    <a:pt x="683" y="507"/>
                  </a:lnTo>
                  <a:lnTo>
                    <a:pt x="700" y="440"/>
                  </a:lnTo>
                  <a:lnTo>
                    <a:pt x="715" y="415"/>
                  </a:lnTo>
                  <a:lnTo>
                    <a:pt x="740" y="427"/>
                  </a:lnTo>
                  <a:lnTo>
                    <a:pt x="757" y="389"/>
                  </a:lnTo>
                  <a:lnTo>
                    <a:pt x="773" y="382"/>
                  </a:lnTo>
                  <a:lnTo>
                    <a:pt x="786" y="362"/>
                  </a:lnTo>
                  <a:lnTo>
                    <a:pt x="799" y="327"/>
                  </a:lnTo>
                  <a:lnTo>
                    <a:pt x="810" y="319"/>
                  </a:lnTo>
                  <a:lnTo>
                    <a:pt x="813" y="309"/>
                  </a:lnTo>
                  <a:lnTo>
                    <a:pt x="804" y="303"/>
                  </a:lnTo>
                  <a:lnTo>
                    <a:pt x="809" y="250"/>
                  </a:lnTo>
                  <a:lnTo>
                    <a:pt x="813" y="242"/>
                  </a:lnTo>
                  <a:lnTo>
                    <a:pt x="822" y="236"/>
                  </a:lnTo>
                  <a:lnTo>
                    <a:pt x="916" y="295"/>
                  </a:lnTo>
                  <a:lnTo>
                    <a:pt x="932" y="301"/>
                  </a:lnTo>
                  <a:lnTo>
                    <a:pt x="936" y="297"/>
                  </a:lnTo>
                  <a:lnTo>
                    <a:pt x="945" y="246"/>
                  </a:lnTo>
                  <a:lnTo>
                    <a:pt x="923" y="199"/>
                  </a:lnTo>
                  <a:lnTo>
                    <a:pt x="914" y="196"/>
                  </a:lnTo>
                  <a:lnTo>
                    <a:pt x="906" y="173"/>
                  </a:lnTo>
                  <a:lnTo>
                    <a:pt x="887" y="179"/>
                  </a:lnTo>
                  <a:lnTo>
                    <a:pt x="871" y="177"/>
                  </a:lnTo>
                  <a:lnTo>
                    <a:pt x="856" y="169"/>
                  </a:lnTo>
                  <a:lnTo>
                    <a:pt x="788" y="193"/>
                  </a:lnTo>
                  <a:lnTo>
                    <a:pt x="782" y="211"/>
                  </a:lnTo>
                  <a:lnTo>
                    <a:pt x="757" y="219"/>
                  </a:lnTo>
                  <a:lnTo>
                    <a:pt x="732" y="213"/>
                  </a:lnTo>
                  <a:lnTo>
                    <a:pt x="720" y="201"/>
                  </a:lnTo>
                  <a:lnTo>
                    <a:pt x="708" y="227"/>
                  </a:lnTo>
                  <a:lnTo>
                    <a:pt x="693" y="234"/>
                  </a:lnTo>
                  <a:lnTo>
                    <a:pt x="679" y="257"/>
                  </a:lnTo>
                  <a:lnTo>
                    <a:pt x="659" y="263"/>
                  </a:lnTo>
                  <a:lnTo>
                    <a:pt x="620" y="310"/>
                  </a:lnTo>
                  <a:lnTo>
                    <a:pt x="606" y="316"/>
                  </a:lnTo>
                  <a:lnTo>
                    <a:pt x="596" y="335"/>
                  </a:lnTo>
                  <a:lnTo>
                    <a:pt x="565" y="200"/>
                  </a:lnTo>
                  <a:lnTo>
                    <a:pt x="361" y="238"/>
                  </a:lnTo>
                  <a:lnTo>
                    <a:pt x="318" y="4"/>
                  </a:lnTo>
                  <a:close/>
                </a:path>
              </a:pathLst>
            </a:custGeom>
            <a:solidFill>
              <a:srgbClr val="00152a"/>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6846840" y="2405160"/>
              <a:ext cx="665280" cy="641160"/>
            </a:xfrm>
            <a:custGeom>
              <a:avLst/>
              <a:gdLst/>
              <a:ahLst/>
              <a:rect l="l" t="t" r="r" b="b"/>
              <a:pathLst>
                <a:path w="945" h="937">
                  <a:moveTo>
                    <a:pt x="318" y="4"/>
                  </a:moveTo>
                  <a:lnTo>
                    <a:pt x="314" y="0"/>
                  </a:lnTo>
                  <a:lnTo>
                    <a:pt x="300" y="13"/>
                  </a:lnTo>
                  <a:lnTo>
                    <a:pt x="309" y="40"/>
                  </a:lnTo>
                  <a:lnTo>
                    <a:pt x="281" y="65"/>
                  </a:lnTo>
                  <a:lnTo>
                    <a:pt x="318" y="86"/>
                  </a:lnTo>
                  <a:lnTo>
                    <a:pt x="304" y="179"/>
                  </a:lnTo>
                  <a:lnTo>
                    <a:pt x="296" y="205"/>
                  </a:lnTo>
                  <a:lnTo>
                    <a:pt x="296" y="224"/>
                  </a:lnTo>
                  <a:lnTo>
                    <a:pt x="302" y="238"/>
                  </a:lnTo>
                  <a:lnTo>
                    <a:pt x="303" y="269"/>
                  </a:lnTo>
                  <a:lnTo>
                    <a:pt x="281" y="291"/>
                  </a:lnTo>
                  <a:lnTo>
                    <a:pt x="268" y="295"/>
                  </a:lnTo>
                  <a:lnTo>
                    <a:pt x="231" y="341"/>
                  </a:lnTo>
                  <a:lnTo>
                    <a:pt x="229" y="350"/>
                  </a:lnTo>
                  <a:lnTo>
                    <a:pt x="205" y="357"/>
                  </a:lnTo>
                  <a:lnTo>
                    <a:pt x="188" y="352"/>
                  </a:lnTo>
                  <a:lnTo>
                    <a:pt x="171" y="370"/>
                  </a:lnTo>
                  <a:lnTo>
                    <a:pt x="168" y="382"/>
                  </a:lnTo>
                  <a:lnTo>
                    <a:pt x="153" y="399"/>
                  </a:lnTo>
                  <a:lnTo>
                    <a:pt x="131" y="445"/>
                  </a:lnTo>
                  <a:lnTo>
                    <a:pt x="138" y="476"/>
                  </a:lnTo>
                  <a:lnTo>
                    <a:pt x="114" y="503"/>
                  </a:lnTo>
                  <a:lnTo>
                    <a:pt x="96" y="472"/>
                  </a:lnTo>
                  <a:lnTo>
                    <a:pt x="79" y="472"/>
                  </a:lnTo>
                  <a:lnTo>
                    <a:pt x="58" y="535"/>
                  </a:lnTo>
                  <a:lnTo>
                    <a:pt x="62" y="566"/>
                  </a:lnTo>
                  <a:lnTo>
                    <a:pt x="58" y="596"/>
                  </a:lnTo>
                  <a:lnTo>
                    <a:pt x="47" y="606"/>
                  </a:lnTo>
                  <a:lnTo>
                    <a:pt x="26" y="643"/>
                  </a:lnTo>
                  <a:lnTo>
                    <a:pt x="0" y="645"/>
                  </a:lnTo>
                  <a:lnTo>
                    <a:pt x="3" y="678"/>
                  </a:lnTo>
                  <a:lnTo>
                    <a:pt x="3" y="701"/>
                  </a:lnTo>
                  <a:lnTo>
                    <a:pt x="0" y="718"/>
                  </a:lnTo>
                  <a:lnTo>
                    <a:pt x="5" y="733"/>
                  </a:lnTo>
                  <a:lnTo>
                    <a:pt x="51" y="789"/>
                  </a:lnTo>
                  <a:lnTo>
                    <a:pt x="76" y="831"/>
                  </a:lnTo>
                  <a:lnTo>
                    <a:pt x="84" y="836"/>
                  </a:lnTo>
                  <a:lnTo>
                    <a:pt x="94" y="832"/>
                  </a:lnTo>
                  <a:lnTo>
                    <a:pt x="114" y="843"/>
                  </a:lnTo>
                  <a:lnTo>
                    <a:pt x="121" y="851"/>
                  </a:lnTo>
                  <a:lnTo>
                    <a:pt x="126" y="853"/>
                  </a:lnTo>
                  <a:lnTo>
                    <a:pt x="141" y="862"/>
                  </a:lnTo>
                  <a:lnTo>
                    <a:pt x="157" y="862"/>
                  </a:lnTo>
                  <a:lnTo>
                    <a:pt x="164" y="867"/>
                  </a:lnTo>
                  <a:lnTo>
                    <a:pt x="157" y="889"/>
                  </a:lnTo>
                  <a:lnTo>
                    <a:pt x="188" y="921"/>
                  </a:lnTo>
                  <a:lnTo>
                    <a:pt x="235" y="935"/>
                  </a:lnTo>
                  <a:lnTo>
                    <a:pt x="255" y="937"/>
                  </a:lnTo>
                  <a:lnTo>
                    <a:pt x="281" y="920"/>
                  </a:lnTo>
                  <a:lnTo>
                    <a:pt x="283" y="906"/>
                  </a:lnTo>
                  <a:lnTo>
                    <a:pt x="300" y="896"/>
                  </a:lnTo>
                  <a:lnTo>
                    <a:pt x="315" y="910"/>
                  </a:lnTo>
                  <a:lnTo>
                    <a:pt x="325" y="915"/>
                  </a:lnTo>
                  <a:lnTo>
                    <a:pt x="342" y="912"/>
                  </a:lnTo>
                  <a:lnTo>
                    <a:pt x="394" y="891"/>
                  </a:lnTo>
                  <a:lnTo>
                    <a:pt x="402" y="857"/>
                  </a:lnTo>
                  <a:lnTo>
                    <a:pt x="410" y="857"/>
                  </a:lnTo>
                  <a:lnTo>
                    <a:pt x="420" y="870"/>
                  </a:lnTo>
                  <a:lnTo>
                    <a:pt x="463" y="831"/>
                  </a:lnTo>
                  <a:lnTo>
                    <a:pt x="477" y="839"/>
                  </a:lnTo>
                  <a:lnTo>
                    <a:pt x="513" y="792"/>
                  </a:lnTo>
                  <a:lnTo>
                    <a:pt x="504" y="775"/>
                  </a:lnTo>
                  <a:lnTo>
                    <a:pt x="508" y="743"/>
                  </a:lnTo>
                  <a:lnTo>
                    <a:pt x="543" y="678"/>
                  </a:lnTo>
                  <a:lnTo>
                    <a:pt x="588" y="503"/>
                  </a:lnTo>
                  <a:lnTo>
                    <a:pt x="596" y="502"/>
                  </a:lnTo>
                  <a:lnTo>
                    <a:pt x="622" y="518"/>
                  </a:lnTo>
                  <a:lnTo>
                    <a:pt x="624" y="529"/>
                  </a:lnTo>
                  <a:lnTo>
                    <a:pt x="637" y="543"/>
                  </a:lnTo>
                  <a:lnTo>
                    <a:pt x="666" y="537"/>
                  </a:lnTo>
                  <a:lnTo>
                    <a:pt x="683" y="507"/>
                  </a:lnTo>
                  <a:lnTo>
                    <a:pt x="700" y="440"/>
                  </a:lnTo>
                  <a:lnTo>
                    <a:pt x="715" y="415"/>
                  </a:lnTo>
                  <a:lnTo>
                    <a:pt x="740" y="427"/>
                  </a:lnTo>
                  <a:lnTo>
                    <a:pt x="757" y="389"/>
                  </a:lnTo>
                  <a:lnTo>
                    <a:pt x="773" y="382"/>
                  </a:lnTo>
                  <a:lnTo>
                    <a:pt x="786" y="362"/>
                  </a:lnTo>
                  <a:lnTo>
                    <a:pt x="799" y="327"/>
                  </a:lnTo>
                  <a:lnTo>
                    <a:pt x="810" y="319"/>
                  </a:lnTo>
                  <a:lnTo>
                    <a:pt x="813" y="309"/>
                  </a:lnTo>
                  <a:lnTo>
                    <a:pt x="804" y="303"/>
                  </a:lnTo>
                  <a:lnTo>
                    <a:pt x="809" y="250"/>
                  </a:lnTo>
                  <a:lnTo>
                    <a:pt x="813" y="242"/>
                  </a:lnTo>
                  <a:lnTo>
                    <a:pt x="822" y="236"/>
                  </a:lnTo>
                  <a:lnTo>
                    <a:pt x="916" y="295"/>
                  </a:lnTo>
                  <a:lnTo>
                    <a:pt x="932" y="301"/>
                  </a:lnTo>
                  <a:lnTo>
                    <a:pt x="936" y="297"/>
                  </a:lnTo>
                  <a:lnTo>
                    <a:pt x="945" y="246"/>
                  </a:lnTo>
                  <a:lnTo>
                    <a:pt x="923" y="199"/>
                  </a:lnTo>
                  <a:lnTo>
                    <a:pt x="914" y="196"/>
                  </a:lnTo>
                  <a:lnTo>
                    <a:pt x="906" y="173"/>
                  </a:lnTo>
                  <a:lnTo>
                    <a:pt x="887" y="179"/>
                  </a:lnTo>
                  <a:lnTo>
                    <a:pt x="871" y="177"/>
                  </a:lnTo>
                  <a:lnTo>
                    <a:pt x="856" y="169"/>
                  </a:lnTo>
                  <a:lnTo>
                    <a:pt x="788" y="193"/>
                  </a:lnTo>
                  <a:lnTo>
                    <a:pt x="782" y="211"/>
                  </a:lnTo>
                  <a:lnTo>
                    <a:pt x="757" y="219"/>
                  </a:lnTo>
                  <a:lnTo>
                    <a:pt x="732" y="213"/>
                  </a:lnTo>
                  <a:lnTo>
                    <a:pt x="720" y="201"/>
                  </a:lnTo>
                  <a:lnTo>
                    <a:pt x="708" y="227"/>
                  </a:lnTo>
                  <a:lnTo>
                    <a:pt x="693" y="234"/>
                  </a:lnTo>
                  <a:lnTo>
                    <a:pt x="679" y="257"/>
                  </a:lnTo>
                  <a:lnTo>
                    <a:pt x="659" y="263"/>
                  </a:lnTo>
                  <a:lnTo>
                    <a:pt x="620" y="310"/>
                  </a:lnTo>
                  <a:lnTo>
                    <a:pt x="606" y="316"/>
                  </a:lnTo>
                  <a:lnTo>
                    <a:pt x="596" y="335"/>
                  </a:lnTo>
                  <a:lnTo>
                    <a:pt x="565" y="200"/>
                  </a:lnTo>
                  <a:lnTo>
                    <a:pt x="361" y="238"/>
                  </a:lnTo>
                  <a:lnTo>
                    <a:pt x="318" y="4"/>
                  </a:lnTo>
                  <a:lnTo>
                    <a:pt x="318" y="4"/>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2220840" y="2103480"/>
              <a:ext cx="838440" cy="1012680"/>
            </a:xfrm>
            <a:custGeom>
              <a:avLst/>
              <a:gdLst/>
              <a:ahLst/>
              <a:rect l="l" t="t" r="r" b="b"/>
              <a:pathLst>
                <a:path w="1189" h="1480">
                  <a:moveTo>
                    <a:pt x="1044" y="1480"/>
                  </a:moveTo>
                  <a:lnTo>
                    <a:pt x="1189" y="423"/>
                  </a:lnTo>
                  <a:lnTo>
                    <a:pt x="797" y="362"/>
                  </a:lnTo>
                  <a:lnTo>
                    <a:pt x="838" y="105"/>
                  </a:lnTo>
                  <a:lnTo>
                    <a:pt x="253" y="0"/>
                  </a:lnTo>
                  <a:lnTo>
                    <a:pt x="0" y="1316"/>
                  </a:lnTo>
                  <a:lnTo>
                    <a:pt x="1044" y="1480"/>
                  </a:lnTo>
                  <a:close/>
                </a:path>
              </a:pathLst>
            </a:custGeom>
            <a:solidFill>
              <a:srgbClr val="dd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220840" y="2103480"/>
              <a:ext cx="838440" cy="1012680"/>
            </a:xfrm>
            <a:custGeom>
              <a:avLst/>
              <a:gdLst/>
              <a:ahLst/>
              <a:rect l="l" t="t" r="r" b="b"/>
              <a:pathLst>
                <a:path w="1189" h="1480">
                  <a:moveTo>
                    <a:pt x="1044" y="1480"/>
                  </a:moveTo>
                  <a:lnTo>
                    <a:pt x="1189" y="423"/>
                  </a:lnTo>
                  <a:lnTo>
                    <a:pt x="797" y="362"/>
                  </a:lnTo>
                  <a:lnTo>
                    <a:pt x="838" y="105"/>
                  </a:lnTo>
                  <a:lnTo>
                    <a:pt x="253" y="0"/>
                  </a:lnTo>
                  <a:lnTo>
                    <a:pt x="0" y="1316"/>
                  </a:lnTo>
                  <a:lnTo>
                    <a:pt x="1044" y="1480"/>
                  </a:lnTo>
                  <a:lnTo>
                    <a:pt x="1044" y="148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513160" y="2157480"/>
              <a:ext cx="118800" cy="182520"/>
            </a:xfrm>
            <a:custGeom>
              <a:avLst/>
              <a:gdLst/>
              <a:ahLst/>
              <a:rect l="l" t="t" r="r" b="b"/>
              <a:pathLst>
                <a:path w="168" h="267">
                  <a:moveTo>
                    <a:pt x="30" y="6"/>
                  </a:moveTo>
                  <a:lnTo>
                    <a:pt x="26" y="11"/>
                  </a:lnTo>
                  <a:lnTo>
                    <a:pt x="23" y="16"/>
                  </a:lnTo>
                  <a:lnTo>
                    <a:pt x="22" y="21"/>
                  </a:lnTo>
                  <a:lnTo>
                    <a:pt x="19" y="26"/>
                  </a:lnTo>
                  <a:lnTo>
                    <a:pt x="17" y="31"/>
                  </a:lnTo>
                  <a:lnTo>
                    <a:pt x="12" y="33"/>
                  </a:lnTo>
                  <a:lnTo>
                    <a:pt x="9" y="36"/>
                  </a:lnTo>
                  <a:lnTo>
                    <a:pt x="6" y="41"/>
                  </a:lnTo>
                  <a:lnTo>
                    <a:pt x="6" y="48"/>
                  </a:lnTo>
                  <a:lnTo>
                    <a:pt x="7" y="57"/>
                  </a:lnTo>
                  <a:lnTo>
                    <a:pt x="7" y="63"/>
                  </a:lnTo>
                  <a:lnTo>
                    <a:pt x="6" y="69"/>
                  </a:lnTo>
                  <a:lnTo>
                    <a:pt x="6" y="73"/>
                  </a:lnTo>
                  <a:lnTo>
                    <a:pt x="3" y="75"/>
                  </a:lnTo>
                  <a:lnTo>
                    <a:pt x="2" y="78"/>
                  </a:lnTo>
                  <a:lnTo>
                    <a:pt x="0" y="81"/>
                  </a:lnTo>
                  <a:lnTo>
                    <a:pt x="2" y="84"/>
                  </a:lnTo>
                  <a:lnTo>
                    <a:pt x="3" y="88"/>
                  </a:lnTo>
                  <a:lnTo>
                    <a:pt x="4" y="94"/>
                  </a:lnTo>
                  <a:lnTo>
                    <a:pt x="6" y="98"/>
                  </a:lnTo>
                  <a:lnTo>
                    <a:pt x="12" y="92"/>
                  </a:lnTo>
                  <a:lnTo>
                    <a:pt x="17" y="90"/>
                  </a:lnTo>
                  <a:lnTo>
                    <a:pt x="17" y="94"/>
                  </a:lnTo>
                  <a:lnTo>
                    <a:pt x="17" y="100"/>
                  </a:lnTo>
                  <a:lnTo>
                    <a:pt x="17" y="104"/>
                  </a:lnTo>
                  <a:lnTo>
                    <a:pt x="17" y="106"/>
                  </a:lnTo>
                  <a:lnTo>
                    <a:pt x="19" y="114"/>
                  </a:lnTo>
                  <a:lnTo>
                    <a:pt x="19" y="120"/>
                  </a:lnTo>
                  <a:lnTo>
                    <a:pt x="19" y="130"/>
                  </a:lnTo>
                  <a:lnTo>
                    <a:pt x="19" y="137"/>
                  </a:lnTo>
                  <a:lnTo>
                    <a:pt x="17" y="146"/>
                  </a:lnTo>
                  <a:lnTo>
                    <a:pt x="12" y="153"/>
                  </a:lnTo>
                  <a:lnTo>
                    <a:pt x="13" y="153"/>
                  </a:lnTo>
                  <a:lnTo>
                    <a:pt x="15" y="151"/>
                  </a:lnTo>
                  <a:lnTo>
                    <a:pt x="17" y="149"/>
                  </a:lnTo>
                  <a:lnTo>
                    <a:pt x="17" y="149"/>
                  </a:lnTo>
                  <a:lnTo>
                    <a:pt x="15" y="151"/>
                  </a:lnTo>
                  <a:lnTo>
                    <a:pt x="12" y="153"/>
                  </a:lnTo>
                  <a:lnTo>
                    <a:pt x="10" y="156"/>
                  </a:lnTo>
                  <a:lnTo>
                    <a:pt x="9" y="159"/>
                  </a:lnTo>
                  <a:lnTo>
                    <a:pt x="9" y="166"/>
                  </a:lnTo>
                  <a:lnTo>
                    <a:pt x="9" y="176"/>
                  </a:lnTo>
                  <a:lnTo>
                    <a:pt x="7" y="183"/>
                  </a:lnTo>
                  <a:lnTo>
                    <a:pt x="7" y="193"/>
                  </a:lnTo>
                  <a:lnTo>
                    <a:pt x="6" y="202"/>
                  </a:lnTo>
                  <a:lnTo>
                    <a:pt x="6" y="210"/>
                  </a:lnTo>
                  <a:lnTo>
                    <a:pt x="6" y="220"/>
                  </a:lnTo>
                  <a:lnTo>
                    <a:pt x="6" y="228"/>
                  </a:lnTo>
                  <a:lnTo>
                    <a:pt x="7" y="229"/>
                  </a:lnTo>
                  <a:lnTo>
                    <a:pt x="9" y="229"/>
                  </a:lnTo>
                  <a:lnTo>
                    <a:pt x="12" y="228"/>
                  </a:lnTo>
                  <a:lnTo>
                    <a:pt x="15" y="222"/>
                  </a:lnTo>
                  <a:lnTo>
                    <a:pt x="15" y="220"/>
                  </a:lnTo>
                  <a:lnTo>
                    <a:pt x="15" y="218"/>
                  </a:lnTo>
                  <a:lnTo>
                    <a:pt x="15" y="214"/>
                  </a:lnTo>
                  <a:lnTo>
                    <a:pt x="15" y="212"/>
                  </a:lnTo>
                  <a:lnTo>
                    <a:pt x="17" y="208"/>
                  </a:lnTo>
                  <a:lnTo>
                    <a:pt x="22" y="206"/>
                  </a:lnTo>
                  <a:lnTo>
                    <a:pt x="23" y="203"/>
                  </a:lnTo>
                  <a:lnTo>
                    <a:pt x="26" y="198"/>
                  </a:lnTo>
                  <a:lnTo>
                    <a:pt x="27" y="206"/>
                  </a:lnTo>
                  <a:lnTo>
                    <a:pt x="29" y="213"/>
                  </a:lnTo>
                  <a:lnTo>
                    <a:pt x="30" y="220"/>
                  </a:lnTo>
                  <a:lnTo>
                    <a:pt x="33" y="228"/>
                  </a:lnTo>
                  <a:lnTo>
                    <a:pt x="33" y="235"/>
                  </a:lnTo>
                  <a:lnTo>
                    <a:pt x="35" y="244"/>
                  </a:lnTo>
                  <a:lnTo>
                    <a:pt x="33" y="253"/>
                  </a:lnTo>
                  <a:lnTo>
                    <a:pt x="32" y="261"/>
                  </a:lnTo>
                  <a:lnTo>
                    <a:pt x="33" y="263"/>
                  </a:lnTo>
                  <a:lnTo>
                    <a:pt x="36" y="263"/>
                  </a:lnTo>
                  <a:lnTo>
                    <a:pt x="41" y="263"/>
                  </a:lnTo>
                  <a:lnTo>
                    <a:pt x="46" y="263"/>
                  </a:lnTo>
                  <a:lnTo>
                    <a:pt x="55" y="265"/>
                  </a:lnTo>
                  <a:lnTo>
                    <a:pt x="61" y="266"/>
                  </a:lnTo>
                  <a:lnTo>
                    <a:pt x="69" y="267"/>
                  </a:lnTo>
                  <a:lnTo>
                    <a:pt x="76" y="261"/>
                  </a:lnTo>
                  <a:lnTo>
                    <a:pt x="86" y="257"/>
                  </a:lnTo>
                  <a:lnTo>
                    <a:pt x="94" y="253"/>
                  </a:lnTo>
                  <a:lnTo>
                    <a:pt x="105" y="251"/>
                  </a:lnTo>
                  <a:lnTo>
                    <a:pt x="115" y="250"/>
                  </a:lnTo>
                  <a:lnTo>
                    <a:pt x="125" y="248"/>
                  </a:lnTo>
                  <a:lnTo>
                    <a:pt x="131" y="246"/>
                  </a:lnTo>
                  <a:lnTo>
                    <a:pt x="135" y="244"/>
                  </a:lnTo>
                  <a:lnTo>
                    <a:pt x="139" y="241"/>
                  </a:lnTo>
                  <a:lnTo>
                    <a:pt x="137" y="241"/>
                  </a:lnTo>
                  <a:lnTo>
                    <a:pt x="139" y="239"/>
                  </a:lnTo>
                  <a:lnTo>
                    <a:pt x="142" y="235"/>
                  </a:lnTo>
                  <a:lnTo>
                    <a:pt x="146" y="229"/>
                  </a:lnTo>
                  <a:lnTo>
                    <a:pt x="148" y="224"/>
                  </a:lnTo>
                  <a:lnTo>
                    <a:pt x="148" y="216"/>
                  </a:lnTo>
                  <a:lnTo>
                    <a:pt x="146" y="210"/>
                  </a:lnTo>
                  <a:lnTo>
                    <a:pt x="142" y="204"/>
                  </a:lnTo>
                  <a:lnTo>
                    <a:pt x="136" y="202"/>
                  </a:lnTo>
                  <a:lnTo>
                    <a:pt x="130" y="197"/>
                  </a:lnTo>
                  <a:lnTo>
                    <a:pt x="124" y="193"/>
                  </a:lnTo>
                  <a:lnTo>
                    <a:pt x="119" y="188"/>
                  </a:lnTo>
                  <a:lnTo>
                    <a:pt x="116" y="180"/>
                  </a:lnTo>
                  <a:lnTo>
                    <a:pt x="113" y="174"/>
                  </a:lnTo>
                  <a:lnTo>
                    <a:pt x="111" y="166"/>
                  </a:lnTo>
                  <a:lnTo>
                    <a:pt x="111" y="161"/>
                  </a:lnTo>
                  <a:lnTo>
                    <a:pt x="113" y="159"/>
                  </a:lnTo>
                  <a:lnTo>
                    <a:pt x="115" y="159"/>
                  </a:lnTo>
                  <a:lnTo>
                    <a:pt x="116" y="157"/>
                  </a:lnTo>
                  <a:lnTo>
                    <a:pt x="117" y="151"/>
                  </a:lnTo>
                  <a:lnTo>
                    <a:pt x="120" y="145"/>
                  </a:lnTo>
                  <a:lnTo>
                    <a:pt x="124" y="139"/>
                  </a:lnTo>
                  <a:lnTo>
                    <a:pt x="130" y="134"/>
                  </a:lnTo>
                  <a:lnTo>
                    <a:pt x="139" y="130"/>
                  </a:lnTo>
                  <a:lnTo>
                    <a:pt x="148" y="128"/>
                  </a:lnTo>
                  <a:lnTo>
                    <a:pt x="157" y="125"/>
                  </a:lnTo>
                  <a:lnTo>
                    <a:pt x="162" y="120"/>
                  </a:lnTo>
                  <a:lnTo>
                    <a:pt x="165" y="114"/>
                  </a:lnTo>
                  <a:lnTo>
                    <a:pt x="166" y="108"/>
                  </a:lnTo>
                  <a:lnTo>
                    <a:pt x="168" y="104"/>
                  </a:lnTo>
                  <a:lnTo>
                    <a:pt x="166" y="98"/>
                  </a:lnTo>
                  <a:lnTo>
                    <a:pt x="165" y="94"/>
                  </a:lnTo>
                  <a:lnTo>
                    <a:pt x="163" y="90"/>
                  </a:lnTo>
                  <a:lnTo>
                    <a:pt x="160" y="88"/>
                  </a:lnTo>
                  <a:lnTo>
                    <a:pt x="156" y="86"/>
                  </a:lnTo>
                  <a:lnTo>
                    <a:pt x="150" y="81"/>
                  </a:lnTo>
                  <a:lnTo>
                    <a:pt x="143" y="80"/>
                  </a:lnTo>
                  <a:lnTo>
                    <a:pt x="137" y="77"/>
                  </a:lnTo>
                  <a:lnTo>
                    <a:pt x="130" y="74"/>
                  </a:lnTo>
                  <a:lnTo>
                    <a:pt x="127" y="73"/>
                  </a:lnTo>
                  <a:lnTo>
                    <a:pt x="122" y="73"/>
                  </a:lnTo>
                  <a:lnTo>
                    <a:pt x="119" y="73"/>
                  </a:lnTo>
                  <a:lnTo>
                    <a:pt x="116" y="74"/>
                  </a:lnTo>
                  <a:lnTo>
                    <a:pt x="107" y="80"/>
                  </a:lnTo>
                  <a:lnTo>
                    <a:pt x="101" y="88"/>
                  </a:lnTo>
                  <a:lnTo>
                    <a:pt x="94" y="99"/>
                  </a:lnTo>
                  <a:lnTo>
                    <a:pt x="86" y="106"/>
                  </a:lnTo>
                  <a:lnTo>
                    <a:pt x="83" y="106"/>
                  </a:lnTo>
                  <a:lnTo>
                    <a:pt x="82" y="106"/>
                  </a:lnTo>
                  <a:lnTo>
                    <a:pt x="81" y="106"/>
                  </a:lnTo>
                  <a:lnTo>
                    <a:pt x="80" y="106"/>
                  </a:lnTo>
                  <a:lnTo>
                    <a:pt x="76" y="98"/>
                  </a:lnTo>
                  <a:lnTo>
                    <a:pt x="78" y="88"/>
                  </a:lnTo>
                  <a:lnTo>
                    <a:pt x="80" y="77"/>
                  </a:lnTo>
                  <a:lnTo>
                    <a:pt x="80" y="67"/>
                  </a:lnTo>
                  <a:lnTo>
                    <a:pt x="78" y="65"/>
                  </a:lnTo>
                  <a:lnTo>
                    <a:pt x="76" y="65"/>
                  </a:lnTo>
                  <a:lnTo>
                    <a:pt x="75" y="65"/>
                  </a:lnTo>
                  <a:lnTo>
                    <a:pt x="74" y="65"/>
                  </a:lnTo>
                  <a:lnTo>
                    <a:pt x="69" y="59"/>
                  </a:lnTo>
                  <a:lnTo>
                    <a:pt x="68" y="52"/>
                  </a:lnTo>
                  <a:lnTo>
                    <a:pt x="66" y="45"/>
                  </a:lnTo>
                  <a:lnTo>
                    <a:pt x="66" y="39"/>
                  </a:lnTo>
                  <a:lnTo>
                    <a:pt x="68" y="37"/>
                  </a:lnTo>
                  <a:lnTo>
                    <a:pt x="68" y="36"/>
                  </a:lnTo>
                  <a:lnTo>
                    <a:pt x="68" y="35"/>
                  </a:lnTo>
                  <a:lnTo>
                    <a:pt x="69" y="27"/>
                  </a:lnTo>
                  <a:lnTo>
                    <a:pt x="71" y="20"/>
                  </a:lnTo>
                  <a:lnTo>
                    <a:pt x="71" y="12"/>
                  </a:lnTo>
                  <a:lnTo>
                    <a:pt x="68" y="6"/>
                  </a:lnTo>
                  <a:lnTo>
                    <a:pt x="61" y="0"/>
                  </a:lnTo>
                  <a:lnTo>
                    <a:pt x="50" y="0"/>
                  </a:lnTo>
                  <a:lnTo>
                    <a:pt x="39" y="2"/>
                  </a:lnTo>
                  <a:lnTo>
                    <a:pt x="30" y="6"/>
                  </a:lnTo>
                  <a:close/>
                </a:path>
              </a:pathLst>
            </a:custGeom>
            <a:solidFill>
              <a:srgbClr val="3e2a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685880" y="2187720"/>
              <a:ext cx="119160" cy="182520"/>
            </a:xfrm>
            <a:custGeom>
              <a:avLst/>
              <a:gdLst/>
              <a:ahLst/>
              <a:rect l="l" t="t" r="r" b="b"/>
              <a:pathLst>
                <a:path w="168" h="267">
                  <a:moveTo>
                    <a:pt x="30" y="6"/>
                  </a:moveTo>
                  <a:lnTo>
                    <a:pt x="26" y="11"/>
                  </a:lnTo>
                  <a:lnTo>
                    <a:pt x="23" y="16"/>
                  </a:lnTo>
                  <a:lnTo>
                    <a:pt x="22" y="21"/>
                  </a:lnTo>
                  <a:lnTo>
                    <a:pt x="19" y="26"/>
                  </a:lnTo>
                  <a:lnTo>
                    <a:pt x="17" y="31"/>
                  </a:lnTo>
                  <a:lnTo>
                    <a:pt x="12" y="33"/>
                  </a:lnTo>
                  <a:lnTo>
                    <a:pt x="9" y="36"/>
                  </a:lnTo>
                  <a:lnTo>
                    <a:pt x="6" y="41"/>
                  </a:lnTo>
                  <a:lnTo>
                    <a:pt x="6" y="48"/>
                  </a:lnTo>
                  <a:lnTo>
                    <a:pt x="7" y="57"/>
                  </a:lnTo>
                  <a:lnTo>
                    <a:pt x="7" y="63"/>
                  </a:lnTo>
                  <a:lnTo>
                    <a:pt x="6" y="69"/>
                  </a:lnTo>
                  <a:lnTo>
                    <a:pt x="6" y="73"/>
                  </a:lnTo>
                  <a:lnTo>
                    <a:pt x="3" y="75"/>
                  </a:lnTo>
                  <a:lnTo>
                    <a:pt x="2" y="78"/>
                  </a:lnTo>
                  <a:lnTo>
                    <a:pt x="0" y="81"/>
                  </a:lnTo>
                  <a:lnTo>
                    <a:pt x="2" y="84"/>
                  </a:lnTo>
                  <a:lnTo>
                    <a:pt x="3" y="88"/>
                  </a:lnTo>
                  <a:lnTo>
                    <a:pt x="4" y="94"/>
                  </a:lnTo>
                  <a:lnTo>
                    <a:pt x="6" y="98"/>
                  </a:lnTo>
                  <a:lnTo>
                    <a:pt x="12" y="92"/>
                  </a:lnTo>
                  <a:lnTo>
                    <a:pt x="17" y="90"/>
                  </a:lnTo>
                  <a:lnTo>
                    <a:pt x="17" y="94"/>
                  </a:lnTo>
                  <a:lnTo>
                    <a:pt x="17" y="100"/>
                  </a:lnTo>
                  <a:lnTo>
                    <a:pt x="17" y="104"/>
                  </a:lnTo>
                  <a:lnTo>
                    <a:pt x="17" y="106"/>
                  </a:lnTo>
                  <a:lnTo>
                    <a:pt x="19" y="114"/>
                  </a:lnTo>
                  <a:lnTo>
                    <a:pt x="19" y="120"/>
                  </a:lnTo>
                  <a:lnTo>
                    <a:pt x="19" y="130"/>
                  </a:lnTo>
                  <a:lnTo>
                    <a:pt x="19" y="137"/>
                  </a:lnTo>
                  <a:lnTo>
                    <a:pt x="17" y="146"/>
                  </a:lnTo>
                  <a:lnTo>
                    <a:pt x="12" y="153"/>
                  </a:lnTo>
                  <a:lnTo>
                    <a:pt x="13" y="153"/>
                  </a:lnTo>
                  <a:lnTo>
                    <a:pt x="15" y="151"/>
                  </a:lnTo>
                  <a:lnTo>
                    <a:pt x="17" y="149"/>
                  </a:lnTo>
                  <a:lnTo>
                    <a:pt x="17" y="149"/>
                  </a:lnTo>
                  <a:lnTo>
                    <a:pt x="15" y="151"/>
                  </a:lnTo>
                  <a:lnTo>
                    <a:pt x="12" y="153"/>
                  </a:lnTo>
                  <a:lnTo>
                    <a:pt x="10" y="156"/>
                  </a:lnTo>
                  <a:lnTo>
                    <a:pt x="9" y="159"/>
                  </a:lnTo>
                  <a:lnTo>
                    <a:pt x="9" y="166"/>
                  </a:lnTo>
                  <a:lnTo>
                    <a:pt x="9" y="176"/>
                  </a:lnTo>
                  <a:lnTo>
                    <a:pt x="7" y="183"/>
                  </a:lnTo>
                  <a:lnTo>
                    <a:pt x="7" y="193"/>
                  </a:lnTo>
                  <a:lnTo>
                    <a:pt x="6" y="202"/>
                  </a:lnTo>
                  <a:lnTo>
                    <a:pt x="6" y="210"/>
                  </a:lnTo>
                  <a:lnTo>
                    <a:pt x="6" y="220"/>
                  </a:lnTo>
                  <a:lnTo>
                    <a:pt x="6" y="228"/>
                  </a:lnTo>
                  <a:lnTo>
                    <a:pt x="7" y="229"/>
                  </a:lnTo>
                  <a:lnTo>
                    <a:pt x="9" y="229"/>
                  </a:lnTo>
                  <a:lnTo>
                    <a:pt x="12" y="228"/>
                  </a:lnTo>
                  <a:lnTo>
                    <a:pt x="15" y="222"/>
                  </a:lnTo>
                  <a:lnTo>
                    <a:pt x="15" y="220"/>
                  </a:lnTo>
                  <a:lnTo>
                    <a:pt x="15" y="218"/>
                  </a:lnTo>
                  <a:lnTo>
                    <a:pt x="15" y="214"/>
                  </a:lnTo>
                  <a:lnTo>
                    <a:pt x="15" y="212"/>
                  </a:lnTo>
                  <a:lnTo>
                    <a:pt x="17" y="208"/>
                  </a:lnTo>
                  <a:lnTo>
                    <a:pt x="22" y="206"/>
                  </a:lnTo>
                  <a:lnTo>
                    <a:pt x="23" y="203"/>
                  </a:lnTo>
                  <a:lnTo>
                    <a:pt x="26" y="198"/>
                  </a:lnTo>
                  <a:lnTo>
                    <a:pt x="27" y="206"/>
                  </a:lnTo>
                  <a:lnTo>
                    <a:pt x="29" y="213"/>
                  </a:lnTo>
                  <a:lnTo>
                    <a:pt x="30" y="220"/>
                  </a:lnTo>
                  <a:lnTo>
                    <a:pt x="33" y="228"/>
                  </a:lnTo>
                  <a:lnTo>
                    <a:pt x="33" y="235"/>
                  </a:lnTo>
                  <a:lnTo>
                    <a:pt x="35" y="244"/>
                  </a:lnTo>
                  <a:lnTo>
                    <a:pt x="33" y="253"/>
                  </a:lnTo>
                  <a:lnTo>
                    <a:pt x="32" y="261"/>
                  </a:lnTo>
                  <a:lnTo>
                    <a:pt x="33" y="263"/>
                  </a:lnTo>
                  <a:lnTo>
                    <a:pt x="36" y="263"/>
                  </a:lnTo>
                  <a:lnTo>
                    <a:pt x="41" y="263"/>
                  </a:lnTo>
                  <a:lnTo>
                    <a:pt x="46" y="263"/>
                  </a:lnTo>
                  <a:lnTo>
                    <a:pt x="55" y="265"/>
                  </a:lnTo>
                  <a:lnTo>
                    <a:pt x="61" y="266"/>
                  </a:lnTo>
                  <a:lnTo>
                    <a:pt x="69" y="267"/>
                  </a:lnTo>
                  <a:lnTo>
                    <a:pt x="76" y="261"/>
                  </a:lnTo>
                  <a:lnTo>
                    <a:pt x="86" y="257"/>
                  </a:lnTo>
                  <a:lnTo>
                    <a:pt x="94" y="253"/>
                  </a:lnTo>
                  <a:lnTo>
                    <a:pt x="105" y="251"/>
                  </a:lnTo>
                  <a:lnTo>
                    <a:pt x="115" y="250"/>
                  </a:lnTo>
                  <a:lnTo>
                    <a:pt x="125" y="248"/>
                  </a:lnTo>
                  <a:lnTo>
                    <a:pt x="131" y="246"/>
                  </a:lnTo>
                  <a:lnTo>
                    <a:pt x="135" y="244"/>
                  </a:lnTo>
                  <a:lnTo>
                    <a:pt x="139" y="241"/>
                  </a:lnTo>
                  <a:lnTo>
                    <a:pt x="137" y="241"/>
                  </a:lnTo>
                  <a:lnTo>
                    <a:pt x="139" y="239"/>
                  </a:lnTo>
                  <a:lnTo>
                    <a:pt x="142" y="235"/>
                  </a:lnTo>
                  <a:lnTo>
                    <a:pt x="146" y="229"/>
                  </a:lnTo>
                  <a:lnTo>
                    <a:pt x="148" y="224"/>
                  </a:lnTo>
                  <a:lnTo>
                    <a:pt x="148" y="216"/>
                  </a:lnTo>
                  <a:lnTo>
                    <a:pt x="146" y="210"/>
                  </a:lnTo>
                  <a:lnTo>
                    <a:pt x="142" y="204"/>
                  </a:lnTo>
                  <a:lnTo>
                    <a:pt x="136" y="202"/>
                  </a:lnTo>
                  <a:lnTo>
                    <a:pt x="130" y="197"/>
                  </a:lnTo>
                  <a:lnTo>
                    <a:pt x="124" y="193"/>
                  </a:lnTo>
                  <a:lnTo>
                    <a:pt x="119" y="188"/>
                  </a:lnTo>
                  <a:lnTo>
                    <a:pt x="116" y="180"/>
                  </a:lnTo>
                  <a:lnTo>
                    <a:pt x="113" y="174"/>
                  </a:lnTo>
                  <a:lnTo>
                    <a:pt x="111" y="166"/>
                  </a:lnTo>
                  <a:lnTo>
                    <a:pt x="111" y="161"/>
                  </a:lnTo>
                  <a:lnTo>
                    <a:pt x="113" y="159"/>
                  </a:lnTo>
                  <a:lnTo>
                    <a:pt x="115" y="159"/>
                  </a:lnTo>
                  <a:lnTo>
                    <a:pt x="116" y="157"/>
                  </a:lnTo>
                  <a:lnTo>
                    <a:pt x="117" y="151"/>
                  </a:lnTo>
                  <a:lnTo>
                    <a:pt x="120" y="145"/>
                  </a:lnTo>
                  <a:lnTo>
                    <a:pt x="124" y="139"/>
                  </a:lnTo>
                  <a:lnTo>
                    <a:pt x="130" y="134"/>
                  </a:lnTo>
                  <a:lnTo>
                    <a:pt x="139" y="130"/>
                  </a:lnTo>
                  <a:lnTo>
                    <a:pt x="148" y="128"/>
                  </a:lnTo>
                  <a:lnTo>
                    <a:pt x="157" y="125"/>
                  </a:lnTo>
                  <a:lnTo>
                    <a:pt x="162" y="120"/>
                  </a:lnTo>
                  <a:lnTo>
                    <a:pt x="165" y="114"/>
                  </a:lnTo>
                  <a:lnTo>
                    <a:pt x="166" y="108"/>
                  </a:lnTo>
                  <a:lnTo>
                    <a:pt x="168" y="104"/>
                  </a:lnTo>
                  <a:lnTo>
                    <a:pt x="166" y="98"/>
                  </a:lnTo>
                  <a:lnTo>
                    <a:pt x="165" y="94"/>
                  </a:lnTo>
                  <a:lnTo>
                    <a:pt x="163" y="90"/>
                  </a:lnTo>
                  <a:lnTo>
                    <a:pt x="160" y="88"/>
                  </a:lnTo>
                  <a:lnTo>
                    <a:pt x="156" y="86"/>
                  </a:lnTo>
                  <a:lnTo>
                    <a:pt x="150" y="81"/>
                  </a:lnTo>
                  <a:lnTo>
                    <a:pt x="143" y="80"/>
                  </a:lnTo>
                  <a:lnTo>
                    <a:pt x="137" y="77"/>
                  </a:lnTo>
                  <a:lnTo>
                    <a:pt x="130" y="74"/>
                  </a:lnTo>
                  <a:lnTo>
                    <a:pt x="127" y="73"/>
                  </a:lnTo>
                  <a:lnTo>
                    <a:pt x="122" y="73"/>
                  </a:lnTo>
                  <a:lnTo>
                    <a:pt x="119" y="73"/>
                  </a:lnTo>
                  <a:lnTo>
                    <a:pt x="116" y="74"/>
                  </a:lnTo>
                  <a:lnTo>
                    <a:pt x="107" y="80"/>
                  </a:lnTo>
                  <a:lnTo>
                    <a:pt x="101" y="88"/>
                  </a:lnTo>
                  <a:lnTo>
                    <a:pt x="94" y="99"/>
                  </a:lnTo>
                  <a:lnTo>
                    <a:pt x="86" y="106"/>
                  </a:lnTo>
                  <a:lnTo>
                    <a:pt x="83" y="106"/>
                  </a:lnTo>
                  <a:lnTo>
                    <a:pt x="82" y="106"/>
                  </a:lnTo>
                  <a:lnTo>
                    <a:pt x="81" y="106"/>
                  </a:lnTo>
                  <a:lnTo>
                    <a:pt x="80" y="106"/>
                  </a:lnTo>
                  <a:lnTo>
                    <a:pt x="76" y="98"/>
                  </a:lnTo>
                  <a:lnTo>
                    <a:pt x="78" y="88"/>
                  </a:lnTo>
                  <a:lnTo>
                    <a:pt x="80" y="77"/>
                  </a:lnTo>
                  <a:lnTo>
                    <a:pt x="80" y="67"/>
                  </a:lnTo>
                  <a:lnTo>
                    <a:pt x="78" y="65"/>
                  </a:lnTo>
                  <a:lnTo>
                    <a:pt x="76" y="65"/>
                  </a:lnTo>
                  <a:lnTo>
                    <a:pt x="75" y="65"/>
                  </a:lnTo>
                  <a:lnTo>
                    <a:pt x="74" y="65"/>
                  </a:lnTo>
                  <a:lnTo>
                    <a:pt x="69" y="59"/>
                  </a:lnTo>
                  <a:lnTo>
                    <a:pt x="68" y="52"/>
                  </a:lnTo>
                  <a:lnTo>
                    <a:pt x="66" y="45"/>
                  </a:lnTo>
                  <a:lnTo>
                    <a:pt x="66" y="39"/>
                  </a:lnTo>
                  <a:lnTo>
                    <a:pt x="68" y="37"/>
                  </a:lnTo>
                  <a:lnTo>
                    <a:pt x="68" y="36"/>
                  </a:lnTo>
                  <a:lnTo>
                    <a:pt x="68" y="35"/>
                  </a:lnTo>
                  <a:lnTo>
                    <a:pt x="69" y="27"/>
                  </a:lnTo>
                  <a:lnTo>
                    <a:pt x="71" y="20"/>
                  </a:lnTo>
                  <a:lnTo>
                    <a:pt x="71" y="12"/>
                  </a:lnTo>
                  <a:lnTo>
                    <a:pt x="68" y="6"/>
                  </a:lnTo>
                  <a:lnTo>
                    <a:pt x="61" y="0"/>
                  </a:lnTo>
                  <a:lnTo>
                    <a:pt x="50" y="0"/>
                  </a:lnTo>
                  <a:lnTo>
                    <a:pt x="39" y="2"/>
                  </a:lnTo>
                  <a:lnTo>
                    <a:pt x="30" y="6"/>
                  </a:lnTo>
                  <a:lnTo>
                    <a:pt x="30"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954000" y="5432400"/>
              <a:ext cx="114480" cy="36360"/>
            </a:xfrm>
            <a:custGeom>
              <a:avLst/>
              <a:gdLst/>
              <a:ahLst/>
              <a:rect l="l" t="t" r="r" b="b"/>
              <a:pathLst>
                <a:path w="163" h="55">
                  <a:moveTo>
                    <a:pt x="159" y="37"/>
                  </a:moveTo>
                  <a:lnTo>
                    <a:pt x="151" y="33"/>
                  </a:lnTo>
                  <a:lnTo>
                    <a:pt x="143" y="27"/>
                  </a:lnTo>
                  <a:lnTo>
                    <a:pt x="134" y="21"/>
                  </a:lnTo>
                  <a:lnTo>
                    <a:pt x="128" y="15"/>
                  </a:lnTo>
                  <a:lnTo>
                    <a:pt x="118" y="9"/>
                  </a:lnTo>
                  <a:lnTo>
                    <a:pt x="109" y="4"/>
                  </a:lnTo>
                  <a:lnTo>
                    <a:pt x="101" y="1"/>
                  </a:lnTo>
                  <a:lnTo>
                    <a:pt x="91" y="0"/>
                  </a:lnTo>
                  <a:lnTo>
                    <a:pt x="83" y="2"/>
                  </a:lnTo>
                  <a:lnTo>
                    <a:pt x="75" y="7"/>
                  </a:lnTo>
                  <a:lnTo>
                    <a:pt x="72" y="14"/>
                  </a:lnTo>
                  <a:lnTo>
                    <a:pt x="71" y="22"/>
                  </a:lnTo>
                  <a:lnTo>
                    <a:pt x="63" y="16"/>
                  </a:lnTo>
                  <a:lnTo>
                    <a:pt x="55" y="12"/>
                  </a:lnTo>
                  <a:lnTo>
                    <a:pt x="46" y="13"/>
                  </a:lnTo>
                  <a:lnTo>
                    <a:pt x="37" y="14"/>
                  </a:lnTo>
                  <a:lnTo>
                    <a:pt x="33" y="17"/>
                  </a:lnTo>
                  <a:lnTo>
                    <a:pt x="29" y="21"/>
                  </a:lnTo>
                  <a:lnTo>
                    <a:pt x="26" y="25"/>
                  </a:lnTo>
                  <a:lnTo>
                    <a:pt x="22" y="30"/>
                  </a:lnTo>
                  <a:lnTo>
                    <a:pt x="17" y="33"/>
                  </a:lnTo>
                  <a:lnTo>
                    <a:pt x="11" y="33"/>
                  </a:lnTo>
                  <a:lnTo>
                    <a:pt x="6" y="33"/>
                  </a:lnTo>
                  <a:lnTo>
                    <a:pt x="0" y="38"/>
                  </a:lnTo>
                  <a:lnTo>
                    <a:pt x="1" y="39"/>
                  </a:lnTo>
                  <a:lnTo>
                    <a:pt x="0" y="41"/>
                  </a:lnTo>
                  <a:lnTo>
                    <a:pt x="2" y="42"/>
                  </a:lnTo>
                  <a:lnTo>
                    <a:pt x="4" y="44"/>
                  </a:lnTo>
                  <a:lnTo>
                    <a:pt x="5" y="44"/>
                  </a:lnTo>
                  <a:lnTo>
                    <a:pt x="3" y="45"/>
                  </a:lnTo>
                  <a:lnTo>
                    <a:pt x="1" y="46"/>
                  </a:lnTo>
                  <a:lnTo>
                    <a:pt x="6" y="49"/>
                  </a:lnTo>
                  <a:lnTo>
                    <a:pt x="11" y="52"/>
                  </a:lnTo>
                  <a:lnTo>
                    <a:pt x="17" y="54"/>
                  </a:lnTo>
                  <a:lnTo>
                    <a:pt x="22" y="54"/>
                  </a:lnTo>
                  <a:lnTo>
                    <a:pt x="30" y="54"/>
                  </a:lnTo>
                  <a:lnTo>
                    <a:pt x="40" y="53"/>
                  </a:lnTo>
                  <a:lnTo>
                    <a:pt x="46" y="53"/>
                  </a:lnTo>
                  <a:lnTo>
                    <a:pt x="55" y="53"/>
                  </a:lnTo>
                  <a:lnTo>
                    <a:pt x="63" y="54"/>
                  </a:lnTo>
                  <a:lnTo>
                    <a:pt x="70" y="54"/>
                  </a:lnTo>
                  <a:lnTo>
                    <a:pt x="77" y="55"/>
                  </a:lnTo>
                  <a:lnTo>
                    <a:pt x="85" y="55"/>
                  </a:lnTo>
                  <a:lnTo>
                    <a:pt x="95" y="54"/>
                  </a:lnTo>
                  <a:lnTo>
                    <a:pt x="103" y="52"/>
                  </a:lnTo>
                  <a:lnTo>
                    <a:pt x="112" y="51"/>
                  </a:lnTo>
                  <a:lnTo>
                    <a:pt x="121" y="51"/>
                  </a:lnTo>
                  <a:lnTo>
                    <a:pt x="127" y="51"/>
                  </a:lnTo>
                  <a:lnTo>
                    <a:pt x="134" y="53"/>
                  </a:lnTo>
                  <a:lnTo>
                    <a:pt x="138" y="54"/>
                  </a:lnTo>
                  <a:lnTo>
                    <a:pt x="145" y="54"/>
                  </a:lnTo>
                  <a:lnTo>
                    <a:pt x="150" y="54"/>
                  </a:lnTo>
                  <a:lnTo>
                    <a:pt x="156" y="55"/>
                  </a:lnTo>
                  <a:lnTo>
                    <a:pt x="160" y="50"/>
                  </a:lnTo>
                  <a:lnTo>
                    <a:pt x="163" y="45"/>
                  </a:lnTo>
                  <a:lnTo>
                    <a:pt x="162" y="43"/>
                  </a:lnTo>
                  <a:lnTo>
                    <a:pt x="162" y="40"/>
                  </a:lnTo>
                  <a:lnTo>
                    <a:pt x="162" y="36"/>
                  </a:lnTo>
                  <a:lnTo>
                    <a:pt x="158" y="33"/>
                  </a:lnTo>
                  <a:lnTo>
                    <a:pt x="159" y="34"/>
                  </a:lnTo>
                  <a:lnTo>
                    <a:pt x="158" y="36"/>
                  </a:lnTo>
                  <a:lnTo>
                    <a:pt x="159" y="37"/>
                  </a:lnTo>
                  <a:close/>
                </a:path>
              </a:pathLst>
            </a:custGeom>
            <a:solidFill>
              <a:srgbClr val="00547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8" name=""/>
            <p:cNvSpPr/>
            <p:nvPr/>
          </p:nvSpPr>
          <p:spPr>
            <a:xfrm>
              <a:off x="954000" y="5432400"/>
              <a:ext cx="114480" cy="36360"/>
            </a:xfrm>
            <a:custGeom>
              <a:avLst/>
              <a:gdLst/>
              <a:ahLst/>
              <a:rect l="l" t="t" r="r" b="b"/>
              <a:pathLst>
                <a:path w="163" h="55">
                  <a:moveTo>
                    <a:pt x="159" y="37"/>
                  </a:moveTo>
                  <a:lnTo>
                    <a:pt x="151" y="33"/>
                  </a:lnTo>
                  <a:lnTo>
                    <a:pt x="143" y="27"/>
                  </a:lnTo>
                  <a:lnTo>
                    <a:pt x="134" y="21"/>
                  </a:lnTo>
                  <a:lnTo>
                    <a:pt x="128" y="15"/>
                  </a:lnTo>
                  <a:lnTo>
                    <a:pt x="118" y="9"/>
                  </a:lnTo>
                  <a:lnTo>
                    <a:pt x="109" y="4"/>
                  </a:lnTo>
                  <a:lnTo>
                    <a:pt x="101" y="1"/>
                  </a:lnTo>
                  <a:lnTo>
                    <a:pt x="91" y="0"/>
                  </a:lnTo>
                  <a:lnTo>
                    <a:pt x="83" y="2"/>
                  </a:lnTo>
                  <a:lnTo>
                    <a:pt x="75" y="7"/>
                  </a:lnTo>
                  <a:lnTo>
                    <a:pt x="72" y="14"/>
                  </a:lnTo>
                  <a:lnTo>
                    <a:pt x="71" y="22"/>
                  </a:lnTo>
                  <a:lnTo>
                    <a:pt x="63" y="16"/>
                  </a:lnTo>
                  <a:lnTo>
                    <a:pt x="55" y="12"/>
                  </a:lnTo>
                  <a:lnTo>
                    <a:pt x="46" y="13"/>
                  </a:lnTo>
                  <a:lnTo>
                    <a:pt x="37" y="14"/>
                  </a:lnTo>
                  <a:lnTo>
                    <a:pt x="33" y="17"/>
                  </a:lnTo>
                  <a:lnTo>
                    <a:pt x="29" y="21"/>
                  </a:lnTo>
                  <a:lnTo>
                    <a:pt x="26" y="25"/>
                  </a:lnTo>
                  <a:lnTo>
                    <a:pt x="22" y="30"/>
                  </a:lnTo>
                  <a:lnTo>
                    <a:pt x="17" y="33"/>
                  </a:lnTo>
                  <a:lnTo>
                    <a:pt x="11" y="33"/>
                  </a:lnTo>
                  <a:lnTo>
                    <a:pt x="6" y="33"/>
                  </a:lnTo>
                  <a:lnTo>
                    <a:pt x="0" y="38"/>
                  </a:lnTo>
                  <a:lnTo>
                    <a:pt x="1" y="39"/>
                  </a:lnTo>
                  <a:lnTo>
                    <a:pt x="0" y="41"/>
                  </a:lnTo>
                  <a:lnTo>
                    <a:pt x="2" y="42"/>
                  </a:lnTo>
                  <a:lnTo>
                    <a:pt x="4" y="44"/>
                  </a:lnTo>
                  <a:lnTo>
                    <a:pt x="5" y="44"/>
                  </a:lnTo>
                  <a:lnTo>
                    <a:pt x="3" y="45"/>
                  </a:lnTo>
                  <a:lnTo>
                    <a:pt x="1" y="46"/>
                  </a:lnTo>
                  <a:lnTo>
                    <a:pt x="6" y="49"/>
                  </a:lnTo>
                  <a:lnTo>
                    <a:pt x="11" y="52"/>
                  </a:lnTo>
                  <a:lnTo>
                    <a:pt x="17" y="54"/>
                  </a:lnTo>
                  <a:lnTo>
                    <a:pt x="22" y="54"/>
                  </a:lnTo>
                  <a:lnTo>
                    <a:pt x="30" y="54"/>
                  </a:lnTo>
                  <a:lnTo>
                    <a:pt x="40" y="53"/>
                  </a:lnTo>
                  <a:lnTo>
                    <a:pt x="46" y="53"/>
                  </a:lnTo>
                  <a:lnTo>
                    <a:pt x="55" y="53"/>
                  </a:lnTo>
                  <a:lnTo>
                    <a:pt x="63" y="54"/>
                  </a:lnTo>
                  <a:lnTo>
                    <a:pt x="70" y="54"/>
                  </a:lnTo>
                  <a:lnTo>
                    <a:pt x="77" y="55"/>
                  </a:lnTo>
                  <a:lnTo>
                    <a:pt x="85" y="55"/>
                  </a:lnTo>
                  <a:lnTo>
                    <a:pt x="95" y="54"/>
                  </a:lnTo>
                  <a:lnTo>
                    <a:pt x="103" y="52"/>
                  </a:lnTo>
                  <a:lnTo>
                    <a:pt x="112" y="51"/>
                  </a:lnTo>
                  <a:lnTo>
                    <a:pt x="121" y="51"/>
                  </a:lnTo>
                  <a:lnTo>
                    <a:pt x="127" y="51"/>
                  </a:lnTo>
                  <a:lnTo>
                    <a:pt x="134" y="53"/>
                  </a:lnTo>
                  <a:lnTo>
                    <a:pt x="138" y="54"/>
                  </a:lnTo>
                  <a:lnTo>
                    <a:pt x="145" y="54"/>
                  </a:lnTo>
                  <a:lnTo>
                    <a:pt x="150" y="54"/>
                  </a:lnTo>
                  <a:lnTo>
                    <a:pt x="156" y="55"/>
                  </a:lnTo>
                  <a:lnTo>
                    <a:pt x="160" y="50"/>
                  </a:lnTo>
                  <a:lnTo>
                    <a:pt x="163" y="45"/>
                  </a:lnTo>
                  <a:lnTo>
                    <a:pt x="162" y="43"/>
                  </a:lnTo>
                  <a:lnTo>
                    <a:pt x="162" y="40"/>
                  </a:lnTo>
                  <a:lnTo>
                    <a:pt x="162" y="36"/>
                  </a:lnTo>
                  <a:lnTo>
                    <a:pt x="158" y="33"/>
                  </a:lnTo>
                  <a:lnTo>
                    <a:pt x="159" y="34"/>
                  </a:lnTo>
                  <a:lnTo>
                    <a:pt x="158" y="36"/>
                  </a:lnTo>
                  <a:lnTo>
                    <a:pt x="159" y="37"/>
                  </a:lnTo>
                  <a:lnTo>
                    <a:pt x="159" y="37"/>
                  </a:lnTo>
                </a:path>
              </a:pathLst>
            </a:custGeom>
            <a:solidFill>
              <a:srgbClr val="00547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9" name=""/>
            <p:cNvSpPr/>
            <p:nvPr/>
          </p:nvSpPr>
          <p:spPr>
            <a:xfrm>
              <a:off x="855720" y="5423040"/>
              <a:ext cx="108000" cy="28440"/>
            </a:xfrm>
            <a:custGeom>
              <a:avLst/>
              <a:gdLst/>
              <a:ahLst/>
              <a:rect l="l" t="t" r="r" b="b"/>
              <a:pathLst>
                <a:path w="153" h="43">
                  <a:moveTo>
                    <a:pt x="127" y="40"/>
                  </a:moveTo>
                  <a:lnTo>
                    <a:pt x="137" y="35"/>
                  </a:lnTo>
                  <a:lnTo>
                    <a:pt x="149" y="30"/>
                  </a:lnTo>
                  <a:lnTo>
                    <a:pt x="153" y="23"/>
                  </a:lnTo>
                  <a:lnTo>
                    <a:pt x="153" y="15"/>
                  </a:lnTo>
                  <a:lnTo>
                    <a:pt x="148" y="8"/>
                  </a:lnTo>
                  <a:lnTo>
                    <a:pt x="141" y="3"/>
                  </a:lnTo>
                  <a:lnTo>
                    <a:pt x="133" y="0"/>
                  </a:lnTo>
                  <a:lnTo>
                    <a:pt x="126" y="1"/>
                  </a:lnTo>
                  <a:lnTo>
                    <a:pt x="115" y="2"/>
                  </a:lnTo>
                  <a:lnTo>
                    <a:pt x="107" y="4"/>
                  </a:lnTo>
                  <a:lnTo>
                    <a:pt x="100" y="7"/>
                  </a:lnTo>
                  <a:lnTo>
                    <a:pt x="92" y="9"/>
                  </a:lnTo>
                  <a:lnTo>
                    <a:pt x="88" y="12"/>
                  </a:lnTo>
                  <a:lnTo>
                    <a:pt x="86" y="15"/>
                  </a:lnTo>
                  <a:lnTo>
                    <a:pt x="81" y="18"/>
                  </a:lnTo>
                  <a:lnTo>
                    <a:pt x="77" y="23"/>
                  </a:lnTo>
                  <a:lnTo>
                    <a:pt x="74" y="25"/>
                  </a:lnTo>
                  <a:lnTo>
                    <a:pt x="69" y="25"/>
                  </a:lnTo>
                  <a:lnTo>
                    <a:pt x="65" y="27"/>
                  </a:lnTo>
                  <a:lnTo>
                    <a:pt x="59" y="27"/>
                  </a:lnTo>
                  <a:lnTo>
                    <a:pt x="55" y="25"/>
                  </a:lnTo>
                  <a:lnTo>
                    <a:pt x="51" y="23"/>
                  </a:lnTo>
                  <a:lnTo>
                    <a:pt x="46" y="22"/>
                  </a:lnTo>
                  <a:lnTo>
                    <a:pt x="42" y="21"/>
                  </a:lnTo>
                  <a:lnTo>
                    <a:pt x="37" y="21"/>
                  </a:lnTo>
                  <a:lnTo>
                    <a:pt x="30" y="20"/>
                  </a:lnTo>
                  <a:lnTo>
                    <a:pt x="23" y="23"/>
                  </a:lnTo>
                  <a:lnTo>
                    <a:pt x="15" y="23"/>
                  </a:lnTo>
                  <a:lnTo>
                    <a:pt x="12" y="24"/>
                  </a:lnTo>
                  <a:lnTo>
                    <a:pt x="7" y="23"/>
                  </a:lnTo>
                  <a:lnTo>
                    <a:pt x="1" y="24"/>
                  </a:lnTo>
                  <a:lnTo>
                    <a:pt x="0" y="28"/>
                  </a:lnTo>
                  <a:lnTo>
                    <a:pt x="2" y="33"/>
                  </a:lnTo>
                  <a:lnTo>
                    <a:pt x="8" y="36"/>
                  </a:lnTo>
                  <a:lnTo>
                    <a:pt x="14" y="38"/>
                  </a:lnTo>
                  <a:lnTo>
                    <a:pt x="20" y="39"/>
                  </a:lnTo>
                  <a:lnTo>
                    <a:pt x="28" y="38"/>
                  </a:lnTo>
                  <a:lnTo>
                    <a:pt x="36" y="36"/>
                  </a:lnTo>
                  <a:lnTo>
                    <a:pt x="44" y="36"/>
                  </a:lnTo>
                  <a:lnTo>
                    <a:pt x="52" y="36"/>
                  </a:lnTo>
                  <a:lnTo>
                    <a:pt x="63" y="38"/>
                  </a:lnTo>
                  <a:lnTo>
                    <a:pt x="74" y="40"/>
                  </a:lnTo>
                  <a:lnTo>
                    <a:pt x="85" y="42"/>
                  </a:lnTo>
                  <a:lnTo>
                    <a:pt x="97" y="43"/>
                  </a:lnTo>
                  <a:lnTo>
                    <a:pt x="105" y="42"/>
                  </a:lnTo>
                  <a:lnTo>
                    <a:pt x="113" y="40"/>
                  </a:lnTo>
                  <a:lnTo>
                    <a:pt x="122" y="41"/>
                  </a:lnTo>
                  <a:lnTo>
                    <a:pt x="130" y="42"/>
                  </a:lnTo>
                  <a:lnTo>
                    <a:pt x="129" y="41"/>
                  </a:lnTo>
                  <a:lnTo>
                    <a:pt x="127" y="40"/>
                  </a:lnTo>
                  <a:close/>
                </a:path>
              </a:pathLst>
            </a:custGeom>
            <a:solidFill>
              <a:srgbClr val="00547e"/>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0" name=""/>
            <p:cNvSpPr/>
            <p:nvPr/>
          </p:nvSpPr>
          <p:spPr>
            <a:xfrm>
              <a:off x="855720" y="5423040"/>
              <a:ext cx="108000" cy="28440"/>
            </a:xfrm>
            <a:custGeom>
              <a:avLst/>
              <a:gdLst/>
              <a:ahLst/>
              <a:rect l="l" t="t" r="r" b="b"/>
              <a:pathLst>
                <a:path w="153" h="43">
                  <a:moveTo>
                    <a:pt x="127" y="40"/>
                  </a:moveTo>
                  <a:lnTo>
                    <a:pt x="137" y="35"/>
                  </a:lnTo>
                  <a:lnTo>
                    <a:pt x="149" y="30"/>
                  </a:lnTo>
                  <a:lnTo>
                    <a:pt x="153" y="23"/>
                  </a:lnTo>
                  <a:lnTo>
                    <a:pt x="153" y="15"/>
                  </a:lnTo>
                  <a:lnTo>
                    <a:pt x="148" y="8"/>
                  </a:lnTo>
                  <a:lnTo>
                    <a:pt x="141" y="3"/>
                  </a:lnTo>
                  <a:lnTo>
                    <a:pt x="133" y="0"/>
                  </a:lnTo>
                  <a:lnTo>
                    <a:pt x="126" y="1"/>
                  </a:lnTo>
                  <a:lnTo>
                    <a:pt x="115" y="2"/>
                  </a:lnTo>
                  <a:lnTo>
                    <a:pt x="107" y="4"/>
                  </a:lnTo>
                  <a:lnTo>
                    <a:pt x="100" y="7"/>
                  </a:lnTo>
                  <a:lnTo>
                    <a:pt x="92" y="9"/>
                  </a:lnTo>
                  <a:lnTo>
                    <a:pt x="88" y="12"/>
                  </a:lnTo>
                  <a:lnTo>
                    <a:pt x="86" y="15"/>
                  </a:lnTo>
                  <a:lnTo>
                    <a:pt x="81" y="18"/>
                  </a:lnTo>
                  <a:lnTo>
                    <a:pt x="77" y="23"/>
                  </a:lnTo>
                  <a:lnTo>
                    <a:pt x="74" y="25"/>
                  </a:lnTo>
                  <a:lnTo>
                    <a:pt x="69" y="25"/>
                  </a:lnTo>
                  <a:lnTo>
                    <a:pt x="65" y="27"/>
                  </a:lnTo>
                  <a:lnTo>
                    <a:pt x="59" y="27"/>
                  </a:lnTo>
                  <a:lnTo>
                    <a:pt x="55" y="25"/>
                  </a:lnTo>
                  <a:lnTo>
                    <a:pt x="51" y="23"/>
                  </a:lnTo>
                  <a:lnTo>
                    <a:pt x="46" y="22"/>
                  </a:lnTo>
                  <a:lnTo>
                    <a:pt x="42" y="21"/>
                  </a:lnTo>
                  <a:lnTo>
                    <a:pt x="37" y="21"/>
                  </a:lnTo>
                  <a:lnTo>
                    <a:pt x="30" y="20"/>
                  </a:lnTo>
                  <a:lnTo>
                    <a:pt x="23" y="23"/>
                  </a:lnTo>
                  <a:lnTo>
                    <a:pt x="15" y="23"/>
                  </a:lnTo>
                  <a:lnTo>
                    <a:pt x="12" y="24"/>
                  </a:lnTo>
                  <a:lnTo>
                    <a:pt x="7" y="23"/>
                  </a:lnTo>
                  <a:lnTo>
                    <a:pt x="1" y="24"/>
                  </a:lnTo>
                  <a:lnTo>
                    <a:pt x="0" y="28"/>
                  </a:lnTo>
                  <a:lnTo>
                    <a:pt x="2" y="33"/>
                  </a:lnTo>
                  <a:lnTo>
                    <a:pt x="8" y="36"/>
                  </a:lnTo>
                  <a:lnTo>
                    <a:pt x="14" y="38"/>
                  </a:lnTo>
                  <a:lnTo>
                    <a:pt x="20" y="39"/>
                  </a:lnTo>
                  <a:lnTo>
                    <a:pt x="28" y="38"/>
                  </a:lnTo>
                  <a:lnTo>
                    <a:pt x="36" y="36"/>
                  </a:lnTo>
                  <a:lnTo>
                    <a:pt x="44" y="36"/>
                  </a:lnTo>
                  <a:lnTo>
                    <a:pt x="52" y="36"/>
                  </a:lnTo>
                  <a:lnTo>
                    <a:pt x="63" y="38"/>
                  </a:lnTo>
                  <a:lnTo>
                    <a:pt x="74" y="40"/>
                  </a:lnTo>
                  <a:lnTo>
                    <a:pt x="85" y="42"/>
                  </a:lnTo>
                  <a:lnTo>
                    <a:pt x="97" y="43"/>
                  </a:lnTo>
                  <a:lnTo>
                    <a:pt x="105" y="42"/>
                  </a:lnTo>
                  <a:lnTo>
                    <a:pt x="113" y="40"/>
                  </a:lnTo>
                  <a:lnTo>
                    <a:pt x="122" y="41"/>
                  </a:lnTo>
                  <a:lnTo>
                    <a:pt x="130" y="42"/>
                  </a:lnTo>
                  <a:lnTo>
                    <a:pt x="129" y="41"/>
                  </a:lnTo>
                  <a:lnTo>
                    <a:pt x="127" y="40"/>
                  </a:lnTo>
                  <a:lnTo>
                    <a:pt x="127" y="40"/>
                  </a:lnTo>
                </a:path>
              </a:pathLst>
            </a:custGeom>
            <a:solidFill>
              <a:srgbClr val="00547e"/>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1" name=""/>
            <p:cNvSpPr/>
            <p:nvPr/>
          </p:nvSpPr>
          <p:spPr>
            <a:xfrm>
              <a:off x="812880" y="5432400"/>
              <a:ext cx="20520" cy="11160"/>
            </a:xfrm>
            <a:custGeom>
              <a:avLst/>
              <a:gdLst/>
              <a:ahLst/>
              <a:rect l="l" t="t" r="r" b="b"/>
              <a:pathLst>
                <a:path w="32" h="15">
                  <a:moveTo>
                    <a:pt x="26" y="8"/>
                  </a:moveTo>
                  <a:lnTo>
                    <a:pt x="19" y="5"/>
                  </a:lnTo>
                  <a:lnTo>
                    <a:pt x="13" y="1"/>
                  </a:lnTo>
                  <a:lnTo>
                    <a:pt x="6" y="0"/>
                  </a:lnTo>
                  <a:lnTo>
                    <a:pt x="0" y="3"/>
                  </a:lnTo>
                  <a:lnTo>
                    <a:pt x="7" y="8"/>
                  </a:lnTo>
                  <a:lnTo>
                    <a:pt x="15" y="13"/>
                  </a:lnTo>
                  <a:lnTo>
                    <a:pt x="23" y="15"/>
                  </a:lnTo>
                  <a:lnTo>
                    <a:pt x="31" y="14"/>
                  </a:lnTo>
                  <a:lnTo>
                    <a:pt x="32" y="12"/>
                  </a:lnTo>
                  <a:lnTo>
                    <a:pt x="32" y="10"/>
                  </a:lnTo>
                  <a:lnTo>
                    <a:pt x="29" y="8"/>
                  </a:lnTo>
                  <a:lnTo>
                    <a:pt x="30" y="6"/>
                  </a:lnTo>
                  <a:lnTo>
                    <a:pt x="28" y="7"/>
                  </a:lnTo>
                  <a:lnTo>
                    <a:pt x="27" y="9"/>
                  </a:lnTo>
                  <a:lnTo>
                    <a:pt x="26" y="8"/>
                  </a:lnTo>
                  <a:close/>
                </a:path>
              </a:pathLst>
            </a:custGeom>
            <a:solidFill>
              <a:srgbClr val="00547e"/>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2" name=""/>
            <p:cNvSpPr/>
            <p:nvPr/>
          </p:nvSpPr>
          <p:spPr>
            <a:xfrm>
              <a:off x="782640" y="5433840"/>
              <a:ext cx="12600" cy="9720"/>
            </a:xfrm>
            <a:custGeom>
              <a:avLst/>
              <a:gdLst/>
              <a:ahLst/>
              <a:rect l="l" t="t" r="r" b="b"/>
              <a:pathLst>
                <a:path w="19" h="11">
                  <a:moveTo>
                    <a:pt x="19" y="6"/>
                  </a:moveTo>
                  <a:lnTo>
                    <a:pt x="17" y="2"/>
                  </a:lnTo>
                  <a:lnTo>
                    <a:pt x="14" y="0"/>
                  </a:lnTo>
                  <a:lnTo>
                    <a:pt x="8" y="0"/>
                  </a:lnTo>
                  <a:lnTo>
                    <a:pt x="4" y="1"/>
                  </a:lnTo>
                  <a:lnTo>
                    <a:pt x="2" y="2"/>
                  </a:lnTo>
                  <a:lnTo>
                    <a:pt x="1" y="3"/>
                  </a:lnTo>
                  <a:lnTo>
                    <a:pt x="0" y="6"/>
                  </a:lnTo>
                  <a:lnTo>
                    <a:pt x="2" y="7"/>
                  </a:lnTo>
                  <a:lnTo>
                    <a:pt x="7" y="10"/>
                  </a:lnTo>
                  <a:lnTo>
                    <a:pt x="13" y="11"/>
                  </a:lnTo>
                  <a:lnTo>
                    <a:pt x="18" y="10"/>
                  </a:lnTo>
                  <a:lnTo>
                    <a:pt x="19" y="6"/>
                  </a:lnTo>
                  <a:close/>
                </a:path>
              </a:pathLst>
            </a:custGeom>
            <a:solidFill>
              <a:srgbClr val="00547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3" name=""/>
            <p:cNvSpPr/>
            <p:nvPr/>
          </p:nvSpPr>
          <p:spPr>
            <a:xfrm>
              <a:off x="760320" y="5433840"/>
              <a:ext cx="3240" cy="5040"/>
            </a:xfrm>
            <a:custGeom>
              <a:avLst/>
              <a:gdLst/>
              <a:ahLst/>
              <a:rect l="l" t="t" r="r" b="b"/>
              <a:pathLst>
                <a:path w="6" h="6">
                  <a:moveTo>
                    <a:pt x="5" y="3"/>
                  </a:moveTo>
                  <a:lnTo>
                    <a:pt x="6" y="2"/>
                  </a:lnTo>
                  <a:lnTo>
                    <a:pt x="5" y="1"/>
                  </a:lnTo>
                  <a:lnTo>
                    <a:pt x="3" y="0"/>
                  </a:lnTo>
                  <a:lnTo>
                    <a:pt x="2" y="2"/>
                  </a:lnTo>
                  <a:lnTo>
                    <a:pt x="1" y="1"/>
                  </a:lnTo>
                  <a:lnTo>
                    <a:pt x="0" y="1"/>
                  </a:lnTo>
                  <a:lnTo>
                    <a:pt x="1" y="4"/>
                  </a:lnTo>
                  <a:lnTo>
                    <a:pt x="2" y="5"/>
                  </a:lnTo>
                  <a:lnTo>
                    <a:pt x="3" y="6"/>
                  </a:lnTo>
                  <a:lnTo>
                    <a:pt x="5" y="4"/>
                  </a:lnTo>
                  <a:lnTo>
                    <a:pt x="5" y="3"/>
                  </a:lnTo>
                  <a:close/>
                </a:path>
              </a:pathLst>
            </a:custGeom>
            <a:solidFill>
              <a:srgbClr val="00547e"/>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04" name=""/>
            <p:cNvSpPr/>
            <p:nvPr/>
          </p:nvSpPr>
          <p:spPr>
            <a:xfrm>
              <a:off x="743040" y="5430960"/>
              <a:ext cx="6120" cy="7920"/>
            </a:xfrm>
            <a:custGeom>
              <a:avLst/>
              <a:gdLst/>
              <a:ahLst/>
              <a:rect l="l" t="t" r="r" b="b"/>
              <a:pathLst>
                <a:path w="9" h="10">
                  <a:moveTo>
                    <a:pt x="8" y="4"/>
                  </a:moveTo>
                  <a:lnTo>
                    <a:pt x="7" y="3"/>
                  </a:lnTo>
                  <a:lnTo>
                    <a:pt x="6" y="2"/>
                  </a:lnTo>
                  <a:lnTo>
                    <a:pt x="5" y="1"/>
                  </a:lnTo>
                  <a:lnTo>
                    <a:pt x="3" y="0"/>
                  </a:lnTo>
                  <a:lnTo>
                    <a:pt x="2" y="2"/>
                  </a:lnTo>
                  <a:lnTo>
                    <a:pt x="1" y="3"/>
                  </a:lnTo>
                  <a:lnTo>
                    <a:pt x="0" y="5"/>
                  </a:lnTo>
                  <a:lnTo>
                    <a:pt x="3" y="7"/>
                  </a:lnTo>
                  <a:lnTo>
                    <a:pt x="4" y="8"/>
                  </a:lnTo>
                  <a:lnTo>
                    <a:pt x="6" y="9"/>
                  </a:lnTo>
                  <a:lnTo>
                    <a:pt x="8" y="10"/>
                  </a:lnTo>
                  <a:lnTo>
                    <a:pt x="9" y="9"/>
                  </a:lnTo>
                  <a:lnTo>
                    <a:pt x="8" y="6"/>
                  </a:lnTo>
                  <a:lnTo>
                    <a:pt x="9" y="5"/>
                  </a:lnTo>
                  <a:lnTo>
                    <a:pt x="8" y="4"/>
                  </a:lnTo>
                  <a:close/>
                </a:path>
              </a:pathLst>
            </a:custGeom>
            <a:solidFill>
              <a:srgbClr val="00547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5" name=""/>
            <p:cNvSpPr/>
            <p:nvPr/>
          </p:nvSpPr>
          <p:spPr>
            <a:xfrm>
              <a:off x="711360" y="5418000"/>
              <a:ext cx="18720" cy="14400"/>
            </a:xfrm>
            <a:custGeom>
              <a:avLst/>
              <a:gdLst/>
              <a:ahLst/>
              <a:rect l="l" t="t" r="r" b="b"/>
              <a:pathLst>
                <a:path w="28" h="21">
                  <a:moveTo>
                    <a:pt x="15" y="4"/>
                  </a:moveTo>
                  <a:lnTo>
                    <a:pt x="12" y="2"/>
                  </a:lnTo>
                  <a:lnTo>
                    <a:pt x="9" y="2"/>
                  </a:lnTo>
                  <a:lnTo>
                    <a:pt x="6" y="1"/>
                  </a:lnTo>
                  <a:lnTo>
                    <a:pt x="3" y="0"/>
                  </a:lnTo>
                  <a:lnTo>
                    <a:pt x="2" y="0"/>
                  </a:lnTo>
                  <a:lnTo>
                    <a:pt x="1" y="2"/>
                  </a:lnTo>
                  <a:lnTo>
                    <a:pt x="0" y="3"/>
                  </a:lnTo>
                  <a:lnTo>
                    <a:pt x="6" y="8"/>
                  </a:lnTo>
                  <a:lnTo>
                    <a:pt x="12" y="12"/>
                  </a:lnTo>
                  <a:lnTo>
                    <a:pt x="20" y="16"/>
                  </a:lnTo>
                  <a:lnTo>
                    <a:pt x="26" y="21"/>
                  </a:lnTo>
                  <a:lnTo>
                    <a:pt x="27" y="20"/>
                  </a:lnTo>
                  <a:lnTo>
                    <a:pt x="28" y="17"/>
                  </a:lnTo>
                  <a:lnTo>
                    <a:pt x="28" y="17"/>
                  </a:lnTo>
                  <a:lnTo>
                    <a:pt x="24" y="14"/>
                  </a:lnTo>
                  <a:lnTo>
                    <a:pt x="22" y="10"/>
                  </a:lnTo>
                  <a:lnTo>
                    <a:pt x="19" y="6"/>
                  </a:lnTo>
                  <a:lnTo>
                    <a:pt x="15" y="4"/>
                  </a:lnTo>
                  <a:close/>
                </a:path>
              </a:pathLst>
            </a:custGeom>
            <a:solidFill>
              <a:srgbClr val="00547e"/>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6" name=""/>
            <p:cNvSpPr/>
            <p:nvPr/>
          </p:nvSpPr>
          <p:spPr>
            <a:xfrm>
              <a:off x="711360" y="5418000"/>
              <a:ext cx="18720" cy="14400"/>
            </a:xfrm>
            <a:custGeom>
              <a:avLst/>
              <a:gdLst/>
              <a:ahLst/>
              <a:rect l="l" t="t" r="r" b="b"/>
              <a:pathLst>
                <a:path w="28" h="21">
                  <a:moveTo>
                    <a:pt x="15" y="4"/>
                  </a:moveTo>
                  <a:lnTo>
                    <a:pt x="12" y="2"/>
                  </a:lnTo>
                  <a:lnTo>
                    <a:pt x="9" y="2"/>
                  </a:lnTo>
                  <a:lnTo>
                    <a:pt x="6" y="1"/>
                  </a:lnTo>
                  <a:lnTo>
                    <a:pt x="3" y="0"/>
                  </a:lnTo>
                  <a:lnTo>
                    <a:pt x="2" y="0"/>
                  </a:lnTo>
                  <a:lnTo>
                    <a:pt x="1" y="2"/>
                  </a:lnTo>
                  <a:lnTo>
                    <a:pt x="0" y="3"/>
                  </a:lnTo>
                  <a:lnTo>
                    <a:pt x="6" y="8"/>
                  </a:lnTo>
                  <a:lnTo>
                    <a:pt x="12" y="12"/>
                  </a:lnTo>
                  <a:lnTo>
                    <a:pt x="20" y="16"/>
                  </a:lnTo>
                  <a:lnTo>
                    <a:pt x="26" y="21"/>
                  </a:lnTo>
                  <a:lnTo>
                    <a:pt x="27" y="20"/>
                  </a:lnTo>
                  <a:lnTo>
                    <a:pt x="28" y="17"/>
                  </a:lnTo>
                  <a:lnTo>
                    <a:pt x="28" y="17"/>
                  </a:lnTo>
                  <a:lnTo>
                    <a:pt x="24" y="14"/>
                  </a:lnTo>
                  <a:lnTo>
                    <a:pt x="22" y="10"/>
                  </a:lnTo>
                  <a:lnTo>
                    <a:pt x="19" y="6"/>
                  </a:lnTo>
                  <a:lnTo>
                    <a:pt x="15" y="4"/>
                  </a:lnTo>
                  <a:lnTo>
                    <a:pt x="15" y="4"/>
                  </a:lnTo>
                </a:path>
              </a:pathLst>
            </a:custGeom>
            <a:solidFill>
              <a:srgbClr val="00547e"/>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7" name=""/>
            <p:cNvSpPr/>
            <p:nvPr/>
          </p:nvSpPr>
          <p:spPr>
            <a:xfrm>
              <a:off x="677880" y="5402160"/>
              <a:ext cx="39600" cy="14400"/>
            </a:xfrm>
            <a:custGeom>
              <a:avLst/>
              <a:gdLst/>
              <a:ahLst/>
              <a:rect l="l" t="t" r="r" b="b"/>
              <a:pathLst>
                <a:path w="57" h="22">
                  <a:moveTo>
                    <a:pt x="39" y="0"/>
                  </a:moveTo>
                  <a:lnTo>
                    <a:pt x="49" y="0"/>
                  </a:lnTo>
                  <a:lnTo>
                    <a:pt x="55" y="3"/>
                  </a:lnTo>
                  <a:lnTo>
                    <a:pt x="57" y="8"/>
                  </a:lnTo>
                  <a:lnTo>
                    <a:pt x="53" y="17"/>
                  </a:lnTo>
                  <a:lnTo>
                    <a:pt x="51" y="17"/>
                  </a:lnTo>
                  <a:lnTo>
                    <a:pt x="47" y="17"/>
                  </a:lnTo>
                  <a:lnTo>
                    <a:pt x="45" y="15"/>
                  </a:lnTo>
                  <a:lnTo>
                    <a:pt x="42" y="13"/>
                  </a:lnTo>
                  <a:lnTo>
                    <a:pt x="43" y="16"/>
                  </a:lnTo>
                  <a:lnTo>
                    <a:pt x="45" y="18"/>
                  </a:lnTo>
                  <a:lnTo>
                    <a:pt x="45" y="20"/>
                  </a:lnTo>
                  <a:lnTo>
                    <a:pt x="48" y="21"/>
                  </a:lnTo>
                  <a:lnTo>
                    <a:pt x="44" y="22"/>
                  </a:lnTo>
                  <a:lnTo>
                    <a:pt x="40" y="22"/>
                  </a:lnTo>
                  <a:lnTo>
                    <a:pt x="36" y="21"/>
                  </a:lnTo>
                  <a:lnTo>
                    <a:pt x="31" y="20"/>
                  </a:lnTo>
                  <a:lnTo>
                    <a:pt x="29" y="19"/>
                  </a:lnTo>
                  <a:lnTo>
                    <a:pt x="26" y="19"/>
                  </a:lnTo>
                  <a:lnTo>
                    <a:pt x="22" y="22"/>
                  </a:lnTo>
                  <a:lnTo>
                    <a:pt x="20" y="21"/>
                  </a:lnTo>
                  <a:lnTo>
                    <a:pt x="15" y="19"/>
                  </a:lnTo>
                  <a:lnTo>
                    <a:pt x="10" y="19"/>
                  </a:lnTo>
                  <a:lnTo>
                    <a:pt x="6" y="15"/>
                  </a:lnTo>
                  <a:lnTo>
                    <a:pt x="0" y="12"/>
                  </a:lnTo>
                  <a:lnTo>
                    <a:pt x="8" y="9"/>
                  </a:lnTo>
                  <a:lnTo>
                    <a:pt x="16" y="7"/>
                  </a:lnTo>
                  <a:lnTo>
                    <a:pt x="24" y="6"/>
                  </a:lnTo>
                  <a:lnTo>
                    <a:pt x="32" y="4"/>
                  </a:lnTo>
                  <a:lnTo>
                    <a:pt x="34" y="4"/>
                  </a:lnTo>
                  <a:lnTo>
                    <a:pt x="38" y="5"/>
                  </a:lnTo>
                  <a:lnTo>
                    <a:pt x="41" y="2"/>
                  </a:lnTo>
                  <a:lnTo>
                    <a:pt x="39" y="0"/>
                  </a:lnTo>
                  <a:close/>
                </a:path>
              </a:pathLst>
            </a:custGeom>
            <a:solidFill>
              <a:srgbClr val="00547e"/>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8" name=""/>
            <p:cNvSpPr/>
            <p:nvPr/>
          </p:nvSpPr>
          <p:spPr>
            <a:xfrm>
              <a:off x="639720" y="5376960"/>
              <a:ext cx="22320" cy="31680"/>
            </a:xfrm>
            <a:custGeom>
              <a:avLst/>
              <a:gdLst/>
              <a:ahLst/>
              <a:rect l="l" t="t" r="r" b="b"/>
              <a:pathLst>
                <a:path w="32" h="46">
                  <a:moveTo>
                    <a:pt x="30" y="27"/>
                  </a:moveTo>
                  <a:lnTo>
                    <a:pt x="29" y="23"/>
                  </a:lnTo>
                  <a:lnTo>
                    <a:pt x="30" y="19"/>
                  </a:lnTo>
                  <a:lnTo>
                    <a:pt x="30" y="16"/>
                  </a:lnTo>
                  <a:lnTo>
                    <a:pt x="31" y="11"/>
                  </a:lnTo>
                  <a:lnTo>
                    <a:pt x="29" y="7"/>
                  </a:lnTo>
                  <a:lnTo>
                    <a:pt x="27" y="3"/>
                  </a:lnTo>
                  <a:lnTo>
                    <a:pt x="21" y="1"/>
                  </a:lnTo>
                  <a:lnTo>
                    <a:pt x="18" y="0"/>
                  </a:lnTo>
                  <a:lnTo>
                    <a:pt x="14" y="0"/>
                  </a:lnTo>
                  <a:lnTo>
                    <a:pt x="12" y="3"/>
                  </a:lnTo>
                  <a:lnTo>
                    <a:pt x="11" y="5"/>
                  </a:lnTo>
                  <a:lnTo>
                    <a:pt x="9" y="8"/>
                  </a:lnTo>
                  <a:lnTo>
                    <a:pt x="12" y="14"/>
                  </a:lnTo>
                  <a:lnTo>
                    <a:pt x="16" y="22"/>
                  </a:lnTo>
                  <a:lnTo>
                    <a:pt x="18" y="26"/>
                  </a:lnTo>
                  <a:lnTo>
                    <a:pt x="15" y="31"/>
                  </a:lnTo>
                  <a:lnTo>
                    <a:pt x="11" y="31"/>
                  </a:lnTo>
                  <a:lnTo>
                    <a:pt x="7" y="31"/>
                  </a:lnTo>
                  <a:lnTo>
                    <a:pt x="4" y="31"/>
                  </a:lnTo>
                  <a:lnTo>
                    <a:pt x="1" y="32"/>
                  </a:lnTo>
                  <a:lnTo>
                    <a:pt x="0" y="36"/>
                  </a:lnTo>
                  <a:lnTo>
                    <a:pt x="3" y="41"/>
                  </a:lnTo>
                  <a:lnTo>
                    <a:pt x="3" y="44"/>
                  </a:lnTo>
                  <a:lnTo>
                    <a:pt x="8" y="45"/>
                  </a:lnTo>
                  <a:lnTo>
                    <a:pt x="11" y="46"/>
                  </a:lnTo>
                  <a:lnTo>
                    <a:pt x="14" y="46"/>
                  </a:lnTo>
                  <a:lnTo>
                    <a:pt x="18" y="46"/>
                  </a:lnTo>
                  <a:lnTo>
                    <a:pt x="21" y="46"/>
                  </a:lnTo>
                  <a:lnTo>
                    <a:pt x="28" y="45"/>
                  </a:lnTo>
                  <a:lnTo>
                    <a:pt x="31" y="40"/>
                  </a:lnTo>
                  <a:lnTo>
                    <a:pt x="32" y="33"/>
                  </a:lnTo>
                  <a:lnTo>
                    <a:pt x="30" y="27"/>
                  </a:lnTo>
                  <a:close/>
                </a:path>
              </a:pathLst>
            </a:custGeom>
            <a:solidFill>
              <a:srgbClr val="00547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9" name=""/>
            <p:cNvSpPr/>
            <p:nvPr/>
          </p:nvSpPr>
          <p:spPr>
            <a:xfrm>
              <a:off x="639720" y="5376960"/>
              <a:ext cx="22320" cy="31680"/>
            </a:xfrm>
            <a:custGeom>
              <a:avLst/>
              <a:gdLst/>
              <a:ahLst/>
              <a:rect l="l" t="t" r="r" b="b"/>
              <a:pathLst>
                <a:path w="32" h="46">
                  <a:moveTo>
                    <a:pt x="30" y="27"/>
                  </a:moveTo>
                  <a:lnTo>
                    <a:pt x="29" y="23"/>
                  </a:lnTo>
                  <a:lnTo>
                    <a:pt x="30" y="19"/>
                  </a:lnTo>
                  <a:lnTo>
                    <a:pt x="30" y="16"/>
                  </a:lnTo>
                  <a:lnTo>
                    <a:pt x="31" y="11"/>
                  </a:lnTo>
                  <a:lnTo>
                    <a:pt x="29" y="7"/>
                  </a:lnTo>
                  <a:lnTo>
                    <a:pt x="27" y="3"/>
                  </a:lnTo>
                  <a:lnTo>
                    <a:pt x="21" y="1"/>
                  </a:lnTo>
                  <a:lnTo>
                    <a:pt x="18" y="0"/>
                  </a:lnTo>
                  <a:lnTo>
                    <a:pt x="14" y="0"/>
                  </a:lnTo>
                  <a:lnTo>
                    <a:pt x="12" y="3"/>
                  </a:lnTo>
                  <a:lnTo>
                    <a:pt x="11" y="5"/>
                  </a:lnTo>
                  <a:lnTo>
                    <a:pt x="9" y="8"/>
                  </a:lnTo>
                  <a:lnTo>
                    <a:pt x="12" y="14"/>
                  </a:lnTo>
                  <a:lnTo>
                    <a:pt x="16" y="22"/>
                  </a:lnTo>
                  <a:lnTo>
                    <a:pt x="18" y="26"/>
                  </a:lnTo>
                  <a:lnTo>
                    <a:pt x="15" y="31"/>
                  </a:lnTo>
                  <a:lnTo>
                    <a:pt x="11" y="31"/>
                  </a:lnTo>
                  <a:lnTo>
                    <a:pt x="7" y="31"/>
                  </a:lnTo>
                  <a:lnTo>
                    <a:pt x="4" y="31"/>
                  </a:lnTo>
                  <a:lnTo>
                    <a:pt x="1" y="32"/>
                  </a:lnTo>
                  <a:lnTo>
                    <a:pt x="0" y="36"/>
                  </a:lnTo>
                  <a:lnTo>
                    <a:pt x="3" y="41"/>
                  </a:lnTo>
                  <a:lnTo>
                    <a:pt x="3" y="44"/>
                  </a:lnTo>
                  <a:lnTo>
                    <a:pt x="8" y="45"/>
                  </a:lnTo>
                  <a:lnTo>
                    <a:pt x="11" y="46"/>
                  </a:lnTo>
                  <a:lnTo>
                    <a:pt x="14" y="46"/>
                  </a:lnTo>
                  <a:lnTo>
                    <a:pt x="18" y="46"/>
                  </a:lnTo>
                  <a:lnTo>
                    <a:pt x="21" y="46"/>
                  </a:lnTo>
                  <a:lnTo>
                    <a:pt x="28" y="45"/>
                  </a:lnTo>
                  <a:lnTo>
                    <a:pt x="31" y="40"/>
                  </a:lnTo>
                  <a:lnTo>
                    <a:pt x="32" y="33"/>
                  </a:lnTo>
                  <a:lnTo>
                    <a:pt x="30" y="27"/>
                  </a:lnTo>
                  <a:lnTo>
                    <a:pt x="30" y="27"/>
                  </a:lnTo>
                </a:path>
              </a:pathLst>
            </a:custGeom>
            <a:solidFill>
              <a:srgbClr val="00547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0" name=""/>
            <p:cNvSpPr/>
            <p:nvPr/>
          </p:nvSpPr>
          <p:spPr>
            <a:xfrm>
              <a:off x="592200" y="5367240"/>
              <a:ext cx="44280" cy="17640"/>
            </a:xfrm>
            <a:custGeom>
              <a:avLst/>
              <a:gdLst/>
              <a:ahLst/>
              <a:rect l="l" t="t" r="r" b="b"/>
              <a:pathLst>
                <a:path w="62" h="27">
                  <a:moveTo>
                    <a:pt x="45" y="14"/>
                  </a:moveTo>
                  <a:lnTo>
                    <a:pt x="47" y="11"/>
                  </a:lnTo>
                  <a:lnTo>
                    <a:pt x="47" y="8"/>
                  </a:lnTo>
                  <a:lnTo>
                    <a:pt x="49" y="3"/>
                  </a:lnTo>
                  <a:lnTo>
                    <a:pt x="51" y="0"/>
                  </a:lnTo>
                  <a:lnTo>
                    <a:pt x="56" y="2"/>
                  </a:lnTo>
                  <a:lnTo>
                    <a:pt x="61" y="4"/>
                  </a:lnTo>
                  <a:lnTo>
                    <a:pt x="62" y="7"/>
                  </a:lnTo>
                  <a:lnTo>
                    <a:pt x="61" y="10"/>
                  </a:lnTo>
                  <a:lnTo>
                    <a:pt x="61" y="17"/>
                  </a:lnTo>
                  <a:lnTo>
                    <a:pt x="59" y="23"/>
                  </a:lnTo>
                  <a:lnTo>
                    <a:pt x="55" y="27"/>
                  </a:lnTo>
                  <a:lnTo>
                    <a:pt x="51" y="27"/>
                  </a:lnTo>
                  <a:lnTo>
                    <a:pt x="44" y="26"/>
                  </a:lnTo>
                  <a:lnTo>
                    <a:pt x="38" y="25"/>
                  </a:lnTo>
                  <a:lnTo>
                    <a:pt x="32" y="24"/>
                  </a:lnTo>
                  <a:lnTo>
                    <a:pt x="26" y="22"/>
                  </a:lnTo>
                  <a:lnTo>
                    <a:pt x="19" y="19"/>
                  </a:lnTo>
                  <a:lnTo>
                    <a:pt x="13" y="18"/>
                  </a:lnTo>
                  <a:lnTo>
                    <a:pt x="6" y="14"/>
                  </a:lnTo>
                  <a:lnTo>
                    <a:pt x="0" y="12"/>
                  </a:lnTo>
                  <a:lnTo>
                    <a:pt x="3" y="6"/>
                  </a:lnTo>
                  <a:lnTo>
                    <a:pt x="7" y="5"/>
                  </a:lnTo>
                  <a:lnTo>
                    <a:pt x="13" y="5"/>
                  </a:lnTo>
                  <a:lnTo>
                    <a:pt x="20" y="8"/>
                  </a:lnTo>
                  <a:lnTo>
                    <a:pt x="27" y="10"/>
                  </a:lnTo>
                  <a:lnTo>
                    <a:pt x="33" y="14"/>
                  </a:lnTo>
                  <a:lnTo>
                    <a:pt x="40" y="14"/>
                  </a:lnTo>
                  <a:lnTo>
                    <a:pt x="45" y="14"/>
                  </a:lnTo>
                  <a:close/>
                </a:path>
              </a:pathLst>
            </a:custGeom>
            <a:solidFill>
              <a:srgbClr val="00547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1" name=""/>
            <p:cNvSpPr/>
            <p:nvPr/>
          </p:nvSpPr>
          <p:spPr>
            <a:xfrm>
              <a:off x="569880" y="5334120"/>
              <a:ext cx="31680" cy="34920"/>
            </a:xfrm>
            <a:custGeom>
              <a:avLst/>
              <a:gdLst/>
              <a:ahLst/>
              <a:rect l="l" t="t" r="r" b="b"/>
              <a:pathLst>
                <a:path w="47" h="53">
                  <a:moveTo>
                    <a:pt x="32" y="22"/>
                  </a:moveTo>
                  <a:lnTo>
                    <a:pt x="36" y="14"/>
                  </a:lnTo>
                  <a:lnTo>
                    <a:pt x="35" y="7"/>
                  </a:lnTo>
                  <a:lnTo>
                    <a:pt x="32" y="4"/>
                  </a:lnTo>
                  <a:lnTo>
                    <a:pt x="28" y="0"/>
                  </a:lnTo>
                  <a:lnTo>
                    <a:pt x="24" y="1"/>
                  </a:lnTo>
                  <a:lnTo>
                    <a:pt x="22" y="1"/>
                  </a:lnTo>
                  <a:lnTo>
                    <a:pt x="20" y="3"/>
                  </a:lnTo>
                  <a:lnTo>
                    <a:pt x="18" y="5"/>
                  </a:lnTo>
                  <a:lnTo>
                    <a:pt x="19" y="11"/>
                  </a:lnTo>
                  <a:lnTo>
                    <a:pt x="21" y="17"/>
                  </a:lnTo>
                  <a:lnTo>
                    <a:pt x="19" y="22"/>
                  </a:lnTo>
                  <a:lnTo>
                    <a:pt x="17" y="26"/>
                  </a:lnTo>
                  <a:lnTo>
                    <a:pt x="13" y="25"/>
                  </a:lnTo>
                  <a:lnTo>
                    <a:pt x="9" y="24"/>
                  </a:lnTo>
                  <a:lnTo>
                    <a:pt x="6" y="24"/>
                  </a:lnTo>
                  <a:lnTo>
                    <a:pt x="1" y="22"/>
                  </a:lnTo>
                  <a:lnTo>
                    <a:pt x="0" y="24"/>
                  </a:lnTo>
                  <a:lnTo>
                    <a:pt x="0" y="26"/>
                  </a:lnTo>
                  <a:lnTo>
                    <a:pt x="1" y="30"/>
                  </a:lnTo>
                  <a:lnTo>
                    <a:pt x="2" y="33"/>
                  </a:lnTo>
                  <a:lnTo>
                    <a:pt x="3" y="36"/>
                  </a:lnTo>
                  <a:lnTo>
                    <a:pt x="2" y="37"/>
                  </a:lnTo>
                  <a:lnTo>
                    <a:pt x="3" y="39"/>
                  </a:lnTo>
                  <a:lnTo>
                    <a:pt x="5" y="43"/>
                  </a:lnTo>
                  <a:lnTo>
                    <a:pt x="7" y="45"/>
                  </a:lnTo>
                  <a:lnTo>
                    <a:pt x="11" y="44"/>
                  </a:lnTo>
                  <a:lnTo>
                    <a:pt x="10" y="46"/>
                  </a:lnTo>
                  <a:lnTo>
                    <a:pt x="9" y="48"/>
                  </a:lnTo>
                  <a:lnTo>
                    <a:pt x="7" y="50"/>
                  </a:lnTo>
                  <a:lnTo>
                    <a:pt x="5" y="50"/>
                  </a:lnTo>
                  <a:lnTo>
                    <a:pt x="7" y="52"/>
                  </a:lnTo>
                  <a:lnTo>
                    <a:pt x="10" y="52"/>
                  </a:lnTo>
                  <a:lnTo>
                    <a:pt x="12" y="53"/>
                  </a:lnTo>
                  <a:lnTo>
                    <a:pt x="14" y="53"/>
                  </a:lnTo>
                  <a:lnTo>
                    <a:pt x="20" y="48"/>
                  </a:lnTo>
                  <a:lnTo>
                    <a:pt x="23" y="42"/>
                  </a:lnTo>
                  <a:lnTo>
                    <a:pt x="28" y="34"/>
                  </a:lnTo>
                  <a:lnTo>
                    <a:pt x="31" y="29"/>
                  </a:lnTo>
                  <a:lnTo>
                    <a:pt x="35" y="28"/>
                  </a:lnTo>
                  <a:lnTo>
                    <a:pt x="38" y="26"/>
                  </a:lnTo>
                  <a:lnTo>
                    <a:pt x="44" y="26"/>
                  </a:lnTo>
                  <a:lnTo>
                    <a:pt x="46" y="22"/>
                  </a:lnTo>
                  <a:lnTo>
                    <a:pt x="47" y="20"/>
                  </a:lnTo>
                  <a:lnTo>
                    <a:pt x="45" y="18"/>
                  </a:lnTo>
                  <a:lnTo>
                    <a:pt x="41" y="16"/>
                  </a:lnTo>
                  <a:lnTo>
                    <a:pt x="36" y="14"/>
                  </a:lnTo>
                  <a:lnTo>
                    <a:pt x="34" y="18"/>
                  </a:lnTo>
                  <a:lnTo>
                    <a:pt x="34" y="19"/>
                  </a:lnTo>
                  <a:lnTo>
                    <a:pt x="32" y="22"/>
                  </a:lnTo>
                  <a:close/>
                </a:path>
              </a:pathLst>
            </a:custGeom>
            <a:solidFill>
              <a:srgbClr val="00547e"/>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2" name=""/>
            <p:cNvSpPr/>
            <p:nvPr/>
          </p:nvSpPr>
          <p:spPr>
            <a:xfrm>
              <a:off x="569880" y="5334120"/>
              <a:ext cx="31680" cy="34920"/>
            </a:xfrm>
            <a:custGeom>
              <a:avLst/>
              <a:gdLst/>
              <a:ahLst/>
              <a:rect l="l" t="t" r="r" b="b"/>
              <a:pathLst>
                <a:path w="47" h="53">
                  <a:moveTo>
                    <a:pt x="32" y="22"/>
                  </a:moveTo>
                  <a:lnTo>
                    <a:pt x="36" y="14"/>
                  </a:lnTo>
                  <a:lnTo>
                    <a:pt x="35" y="7"/>
                  </a:lnTo>
                  <a:lnTo>
                    <a:pt x="32" y="4"/>
                  </a:lnTo>
                  <a:lnTo>
                    <a:pt x="28" y="0"/>
                  </a:lnTo>
                  <a:lnTo>
                    <a:pt x="24" y="1"/>
                  </a:lnTo>
                  <a:lnTo>
                    <a:pt x="22" y="1"/>
                  </a:lnTo>
                  <a:lnTo>
                    <a:pt x="20" y="3"/>
                  </a:lnTo>
                  <a:lnTo>
                    <a:pt x="18" y="5"/>
                  </a:lnTo>
                  <a:lnTo>
                    <a:pt x="19" y="11"/>
                  </a:lnTo>
                  <a:lnTo>
                    <a:pt x="21" y="17"/>
                  </a:lnTo>
                  <a:lnTo>
                    <a:pt x="19" y="22"/>
                  </a:lnTo>
                  <a:lnTo>
                    <a:pt x="17" y="26"/>
                  </a:lnTo>
                  <a:lnTo>
                    <a:pt x="13" y="25"/>
                  </a:lnTo>
                  <a:lnTo>
                    <a:pt x="9" y="24"/>
                  </a:lnTo>
                  <a:lnTo>
                    <a:pt x="6" y="24"/>
                  </a:lnTo>
                  <a:lnTo>
                    <a:pt x="1" y="22"/>
                  </a:lnTo>
                  <a:lnTo>
                    <a:pt x="0" y="24"/>
                  </a:lnTo>
                  <a:lnTo>
                    <a:pt x="0" y="26"/>
                  </a:lnTo>
                  <a:lnTo>
                    <a:pt x="1" y="30"/>
                  </a:lnTo>
                  <a:lnTo>
                    <a:pt x="2" y="33"/>
                  </a:lnTo>
                  <a:lnTo>
                    <a:pt x="3" y="36"/>
                  </a:lnTo>
                  <a:lnTo>
                    <a:pt x="2" y="37"/>
                  </a:lnTo>
                  <a:lnTo>
                    <a:pt x="3" y="39"/>
                  </a:lnTo>
                  <a:lnTo>
                    <a:pt x="5" y="43"/>
                  </a:lnTo>
                  <a:lnTo>
                    <a:pt x="7" y="45"/>
                  </a:lnTo>
                  <a:lnTo>
                    <a:pt x="11" y="44"/>
                  </a:lnTo>
                  <a:lnTo>
                    <a:pt x="10" y="46"/>
                  </a:lnTo>
                  <a:lnTo>
                    <a:pt x="9" y="48"/>
                  </a:lnTo>
                  <a:lnTo>
                    <a:pt x="7" y="50"/>
                  </a:lnTo>
                  <a:lnTo>
                    <a:pt x="5" y="50"/>
                  </a:lnTo>
                  <a:lnTo>
                    <a:pt x="7" y="52"/>
                  </a:lnTo>
                  <a:lnTo>
                    <a:pt x="10" y="52"/>
                  </a:lnTo>
                  <a:lnTo>
                    <a:pt x="12" y="53"/>
                  </a:lnTo>
                  <a:lnTo>
                    <a:pt x="14" y="53"/>
                  </a:lnTo>
                  <a:lnTo>
                    <a:pt x="20" y="48"/>
                  </a:lnTo>
                  <a:lnTo>
                    <a:pt x="23" y="42"/>
                  </a:lnTo>
                  <a:lnTo>
                    <a:pt x="28" y="34"/>
                  </a:lnTo>
                  <a:lnTo>
                    <a:pt x="31" y="29"/>
                  </a:lnTo>
                  <a:lnTo>
                    <a:pt x="35" y="28"/>
                  </a:lnTo>
                  <a:lnTo>
                    <a:pt x="38" y="26"/>
                  </a:lnTo>
                  <a:lnTo>
                    <a:pt x="44" y="26"/>
                  </a:lnTo>
                  <a:lnTo>
                    <a:pt x="46" y="22"/>
                  </a:lnTo>
                  <a:lnTo>
                    <a:pt x="47" y="20"/>
                  </a:lnTo>
                  <a:lnTo>
                    <a:pt x="45" y="18"/>
                  </a:lnTo>
                  <a:lnTo>
                    <a:pt x="41" y="16"/>
                  </a:lnTo>
                  <a:lnTo>
                    <a:pt x="36" y="14"/>
                  </a:lnTo>
                  <a:lnTo>
                    <a:pt x="34" y="18"/>
                  </a:lnTo>
                  <a:lnTo>
                    <a:pt x="34" y="19"/>
                  </a:lnTo>
                  <a:lnTo>
                    <a:pt x="32" y="22"/>
                  </a:lnTo>
                  <a:lnTo>
                    <a:pt x="32" y="22"/>
                  </a:lnTo>
                </a:path>
              </a:pathLst>
            </a:custGeom>
            <a:solidFill>
              <a:srgbClr val="00547e"/>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3" name=""/>
            <p:cNvSpPr/>
            <p:nvPr/>
          </p:nvSpPr>
          <p:spPr>
            <a:xfrm>
              <a:off x="563400" y="5334120"/>
              <a:ext cx="3240" cy="4680"/>
            </a:xfrm>
            <a:custGeom>
              <a:avLst/>
              <a:gdLst/>
              <a:ahLst/>
              <a:rect l="l" t="t" r="r" b="b"/>
              <a:pathLst>
                <a:path w="6" h="6">
                  <a:moveTo>
                    <a:pt x="6" y="2"/>
                  </a:moveTo>
                  <a:lnTo>
                    <a:pt x="4" y="1"/>
                  </a:lnTo>
                  <a:lnTo>
                    <a:pt x="3" y="0"/>
                  </a:lnTo>
                  <a:lnTo>
                    <a:pt x="1" y="1"/>
                  </a:lnTo>
                  <a:lnTo>
                    <a:pt x="0" y="3"/>
                  </a:lnTo>
                  <a:lnTo>
                    <a:pt x="1" y="3"/>
                  </a:lnTo>
                  <a:lnTo>
                    <a:pt x="0" y="5"/>
                  </a:lnTo>
                  <a:lnTo>
                    <a:pt x="1" y="6"/>
                  </a:lnTo>
                  <a:lnTo>
                    <a:pt x="4" y="5"/>
                  </a:lnTo>
                  <a:lnTo>
                    <a:pt x="5" y="4"/>
                  </a:lnTo>
                  <a:lnTo>
                    <a:pt x="6" y="2"/>
                  </a:lnTo>
                  <a:close/>
                </a:path>
              </a:pathLst>
            </a:custGeom>
            <a:solidFill>
              <a:srgbClr val="00547e"/>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4" name=""/>
            <p:cNvSpPr/>
            <p:nvPr/>
          </p:nvSpPr>
          <p:spPr>
            <a:xfrm>
              <a:off x="541440" y="5318280"/>
              <a:ext cx="15840" cy="6120"/>
            </a:xfrm>
            <a:custGeom>
              <a:avLst/>
              <a:gdLst/>
              <a:ahLst/>
              <a:rect l="l" t="t" r="r" b="b"/>
              <a:pathLst>
                <a:path w="21" h="11">
                  <a:moveTo>
                    <a:pt x="21" y="6"/>
                  </a:moveTo>
                  <a:lnTo>
                    <a:pt x="19" y="2"/>
                  </a:lnTo>
                  <a:lnTo>
                    <a:pt x="15" y="1"/>
                  </a:lnTo>
                  <a:lnTo>
                    <a:pt x="10" y="0"/>
                  </a:lnTo>
                  <a:lnTo>
                    <a:pt x="5" y="2"/>
                  </a:lnTo>
                  <a:lnTo>
                    <a:pt x="2" y="3"/>
                  </a:lnTo>
                  <a:lnTo>
                    <a:pt x="0" y="4"/>
                  </a:lnTo>
                  <a:lnTo>
                    <a:pt x="2" y="6"/>
                  </a:lnTo>
                  <a:lnTo>
                    <a:pt x="4" y="7"/>
                  </a:lnTo>
                  <a:lnTo>
                    <a:pt x="8" y="10"/>
                  </a:lnTo>
                  <a:lnTo>
                    <a:pt x="15" y="11"/>
                  </a:lnTo>
                  <a:lnTo>
                    <a:pt x="20" y="10"/>
                  </a:lnTo>
                  <a:lnTo>
                    <a:pt x="21" y="6"/>
                  </a:lnTo>
                  <a:close/>
                </a:path>
              </a:pathLst>
            </a:custGeom>
            <a:solidFill>
              <a:srgbClr val="00547e"/>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15" name=""/>
            <p:cNvSpPr/>
            <p:nvPr/>
          </p:nvSpPr>
          <p:spPr>
            <a:xfrm>
              <a:off x="512640" y="5286240"/>
              <a:ext cx="15840" cy="55800"/>
            </a:xfrm>
            <a:custGeom>
              <a:avLst/>
              <a:gdLst/>
              <a:ahLst/>
              <a:rect l="l" t="t" r="r" b="b"/>
              <a:pathLst>
                <a:path w="22" h="81">
                  <a:moveTo>
                    <a:pt x="17" y="79"/>
                  </a:moveTo>
                  <a:lnTo>
                    <a:pt x="19" y="79"/>
                  </a:lnTo>
                  <a:lnTo>
                    <a:pt x="21" y="81"/>
                  </a:lnTo>
                  <a:lnTo>
                    <a:pt x="22" y="79"/>
                  </a:lnTo>
                  <a:lnTo>
                    <a:pt x="20" y="66"/>
                  </a:lnTo>
                  <a:lnTo>
                    <a:pt x="19" y="51"/>
                  </a:lnTo>
                  <a:lnTo>
                    <a:pt x="17" y="37"/>
                  </a:lnTo>
                  <a:lnTo>
                    <a:pt x="18" y="25"/>
                  </a:lnTo>
                  <a:lnTo>
                    <a:pt x="18" y="31"/>
                  </a:lnTo>
                  <a:lnTo>
                    <a:pt x="18" y="30"/>
                  </a:lnTo>
                  <a:lnTo>
                    <a:pt x="19" y="24"/>
                  </a:lnTo>
                  <a:lnTo>
                    <a:pt x="18" y="14"/>
                  </a:lnTo>
                  <a:lnTo>
                    <a:pt x="14" y="6"/>
                  </a:lnTo>
                  <a:lnTo>
                    <a:pt x="11" y="0"/>
                  </a:lnTo>
                  <a:lnTo>
                    <a:pt x="6" y="1"/>
                  </a:lnTo>
                  <a:lnTo>
                    <a:pt x="0" y="8"/>
                  </a:lnTo>
                  <a:lnTo>
                    <a:pt x="1" y="12"/>
                  </a:lnTo>
                  <a:lnTo>
                    <a:pt x="4" y="22"/>
                  </a:lnTo>
                  <a:lnTo>
                    <a:pt x="6" y="29"/>
                  </a:lnTo>
                  <a:lnTo>
                    <a:pt x="7" y="35"/>
                  </a:lnTo>
                  <a:lnTo>
                    <a:pt x="7" y="43"/>
                  </a:lnTo>
                  <a:lnTo>
                    <a:pt x="7" y="48"/>
                  </a:lnTo>
                  <a:lnTo>
                    <a:pt x="6" y="54"/>
                  </a:lnTo>
                  <a:lnTo>
                    <a:pt x="7" y="61"/>
                  </a:lnTo>
                  <a:lnTo>
                    <a:pt x="11" y="67"/>
                  </a:lnTo>
                  <a:lnTo>
                    <a:pt x="14" y="74"/>
                  </a:lnTo>
                  <a:lnTo>
                    <a:pt x="17" y="78"/>
                  </a:lnTo>
                  <a:lnTo>
                    <a:pt x="17" y="79"/>
                  </a:lnTo>
                  <a:close/>
                </a:path>
              </a:pathLst>
            </a:custGeom>
            <a:solidFill>
              <a:srgbClr val="00547e"/>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16" name=""/>
            <p:cNvSpPr/>
            <p:nvPr/>
          </p:nvSpPr>
          <p:spPr>
            <a:xfrm>
              <a:off x="496800" y="5278320"/>
              <a:ext cx="4680" cy="5040"/>
            </a:xfrm>
            <a:custGeom>
              <a:avLst/>
              <a:gdLst/>
              <a:ahLst/>
              <a:rect l="l" t="t" r="r" b="b"/>
              <a:pathLst>
                <a:path w="7" h="5">
                  <a:moveTo>
                    <a:pt x="6" y="2"/>
                  </a:moveTo>
                  <a:lnTo>
                    <a:pt x="7" y="1"/>
                  </a:lnTo>
                  <a:lnTo>
                    <a:pt x="6" y="0"/>
                  </a:lnTo>
                  <a:lnTo>
                    <a:pt x="3" y="0"/>
                  </a:lnTo>
                  <a:lnTo>
                    <a:pt x="2" y="2"/>
                  </a:lnTo>
                  <a:lnTo>
                    <a:pt x="0" y="3"/>
                  </a:lnTo>
                  <a:lnTo>
                    <a:pt x="2" y="4"/>
                  </a:lnTo>
                  <a:lnTo>
                    <a:pt x="4" y="5"/>
                  </a:lnTo>
                  <a:lnTo>
                    <a:pt x="6" y="4"/>
                  </a:lnTo>
                  <a:lnTo>
                    <a:pt x="7" y="3"/>
                  </a:lnTo>
                  <a:lnTo>
                    <a:pt x="6" y="2"/>
                  </a:lnTo>
                  <a:close/>
                </a:path>
              </a:pathLst>
            </a:custGeom>
            <a:solidFill>
              <a:srgbClr val="00547e"/>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7" name=""/>
            <p:cNvSpPr/>
            <p:nvPr/>
          </p:nvSpPr>
          <p:spPr>
            <a:xfrm>
              <a:off x="465120" y="5248440"/>
              <a:ext cx="38160" cy="17280"/>
            </a:xfrm>
            <a:custGeom>
              <a:avLst/>
              <a:gdLst/>
              <a:ahLst/>
              <a:rect l="l" t="t" r="r" b="b"/>
              <a:pathLst>
                <a:path w="52" h="25">
                  <a:moveTo>
                    <a:pt x="19" y="6"/>
                  </a:moveTo>
                  <a:lnTo>
                    <a:pt x="27" y="4"/>
                  </a:lnTo>
                  <a:lnTo>
                    <a:pt x="35" y="1"/>
                  </a:lnTo>
                  <a:lnTo>
                    <a:pt x="43" y="1"/>
                  </a:lnTo>
                  <a:lnTo>
                    <a:pt x="52" y="0"/>
                  </a:lnTo>
                  <a:lnTo>
                    <a:pt x="48" y="8"/>
                  </a:lnTo>
                  <a:lnTo>
                    <a:pt x="40" y="10"/>
                  </a:lnTo>
                  <a:lnTo>
                    <a:pt x="31" y="12"/>
                  </a:lnTo>
                  <a:lnTo>
                    <a:pt x="24" y="16"/>
                  </a:lnTo>
                  <a:lnTo>
                    <a:pt x="23" y="17"/>
                  </a:lnTo>
                  <a:lnTo>
                    <a:pt x="22" y="21"/>
                  </a:lnTo>
                  <a:lnTo>
                    <a:pt x="23" y="23"/>
                  </a:lnTo>
                  <a:lnTo>
                    <a:pt x="22" y="24"/>
                  </a:lnTo>
                  <a:lnTo>
                    <a:pt x="17" y="25"/>
                  </a:lnTo>
                  <a:lnTo>
                    <a:pt x="12" y="25"/>
                  </a:lnTo>
                  <a:lnTo>
                    <a:pt x="7" y="24"/>
                  </a:lnTo>
                  <a:lnTo>
                    <a:pt x="3" y="23"/>
                  </a:lnTo>
                  <a:lnTo>
                    <a:pt x="2" y="20"/>
                  </a:lnTo>
                  <a:lnTo>
                    <a:pt x="0" y="17"/>
                  </a:lnTo>
                  <a:lnTo>
                    <a:pt x="0" y="14"/>
                  </a:lnTo>
                  <a:lnTo>
                    <a:pt x="2" y="9"/>
                  </a:lnTo>
                  <a:lnTo>
                    <a:pt x="6" y="10"/>
                  </a:lnTo>
                  <a:lnTo>
                    <a:pt x="11" y="8"/>
                  </a:lnTo>
                  <a:lnTo>
                    <a:pt x="15" y="5"/>
                  </a:lnTo>
                  <a:lnTo>
                    <a:pt x="20" y="4"/>
                  </a:lnTo>
                  <a:lnTo>
                    <a:pt x="19" y="6"/>
                  </a:lnTo>
                  <a:close/>
                </a:path>
              </a:pathLst>
            </a:custGeom>
            <a:solidFill>
              <a:srgbClr val="00547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8" name=""/>
            <p:cNvSpPr/>
            <p:nvPr/>
          </p:nvSpPr>
          <p:spPr>
            <a:xfrm>
              <a:off x="457200" y="5165640"/>
              <a:ext cx="4680" cy="3240"/>
            </a:xfrm>
            <a:custGeom>
              <a:avLst/>
              <a:gdLst/>
              <a:ahLst/>
              <a:rect l="l" t="t" r="r" b="b"/>
              <a:pathLst>
                <a:path w="5" h="6">
                  <a:moveTo>
                    <a:pt x="5" y="3"/>
                  </a:moveTo>
                  <a:lnTo>
                    <a:pt x="5" y="1"/>
                  </a:lnTo>
                  <a:lnTo>
                    <a:pt x="4" y="0"/>
                  </a:lnTo>
                  <a:lnTo>
                    <a:pt x="3" y="1"/>
                  </a:lnTo>
                  <a:lnTo>
                    <a:pt x="1" y="0"/>
                  </a:lnTo>
                  <a:lnTo>
                    <a:pt x="0" y="2"/>
                  </a:lnTo>
                  <a:lnTo>
                    <a:pt x="0" y="4"/>
                  </a:lnTo>
                  <a:lnTo>
                    <a:pt x="2" y="5"/>
                  </a:lnTo>
                  <a:lnTo>
                    <a:pt x="2" y="6"/>
                  </a:lnTo>
                  <a:lnTo>
                    <a:pt x="4" y="4"/>
                  </a:lnTo>
                  <a:lnTo>
                    <a:pt x="5" y="3"/>
                  </a:lnTo>
                  <a:close/>
                </a:path>
              </a:pathLst>
            </a:custGeom>
            <a:solidFill>
              <a:srgbClr val="00547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9" name=""/>
            <p:cNvSpPr/>
            <p:nvPr/>
          </p:nvSpPr>
          <p:spPr>
            <a:xfrm>
              <a:off x="1111320" y="4073400"/>
              <a:ext cx="2054160" cy="1895760"/>
            </a:xfrm>
            <a:custGeom>
              <a:avLst/>
              <a:gdLst/>
              <a:ahLst/>
              <a:rect l="l" t="t" r="r" b="b"/>
              <a:pathLst>
                <a:path w="2911" h="2766">
                  <a:moveTo>
                    <a:pt x="970" y="159"/>
                  </a:moveTo>
                  <a:lnTo>
                    <a:pt x="1011" y="254"/>
                  </a:lnTo>
                  <a:lnTo>
                    <a:pt x="1027" y="399"/>
                  </a:lnTo>
                  <a:lnTo>
                    <a:pt x="1108" y="461"/>
                  </a:lnTo>
                  <a:lnTo>
                    <a:pt x="1047" y="600"/>
                  </a:lnTo>
                  <a:lnTo>
                    <a:pt x="935" y="550"/>
                  </a:lnTo>
                  <a:lnTo>
                    <a:pt x="974" y="459"/>
                  </a:lnTo>
                  <a:lnTo>
                    <a:pt x="951" y="449"/>
                  </a:lnTo>
                  <a:lnTo>
                    <a:pt x="684" y="440"/>
                  </a:lnTo>
                  <a:lnTo>
                    <a:pt x="722" y="538"/>
                  </a:lnTo>
                  <a:lnTo>
                    <a:pt x="683" y="628"/>
                  </a:lnTo>
                  <a:lnTo>
                    <a:pt x="753" y="714"/>
                  </a:lnTo>
                  <a:lnTo>
                    <a:pt x="881" y="799"/>
                  </a:lnTo>
                  <a:lnTo>
                    <a:pt x="1002" y="769"/>
                  </a:lnTo>
                  <a:lnTo>
                    <a:pt x="952" y="939"/>
                  </a:lnTo>
                  <a:lnTo>
                    <a:pt x="852" y="922"/>
                  </a:lnTo>
                  <a:lnTo>
                    <a:pt x="811" y="957"/>
                  </a:lnTo>
                  <a:lnTo>
                    <a:pt x="754" y="959"/>
                  </a:lnTo>
                  <a:lnTo>
                    <a:pt x="705" y="885"/>
                  </a:lnTo>
                  <a:lnTo>
                    <a:pt x="619" y="955"/>
                  </a:lnTo>
                  <a:lnTo>
                    <a:pt x="454" y="1018"/>
                  </a:lnTo>
                  <a:lnTo>
                    <a:pt x="474" y="1164"/>
                  </a:lnTo>
                  <a:lnTo>
                    <a:pt x="431" y="1198"/>
                  </a:lnTo>
                  <a:lnTo>
                    <a:pt x="483" y="1328"/>
                  </a:lnTo>
                  <a:lnTo>
                    <a:pt x="595" y="1379"/>
                  </a:lnTo>
                  <a:lnTo>
                    <a:pt x="612" y="1469"/>
                  </a:lnTo>
                  <a:lnTo>
                    <a:pt x="570" y="1505"/>
                  </a:lnTo>
                  <a:lnTo>
                    <a:pt x="561" y="1582"/>
                  </a:lnTo>
                  <a:lnTo>
                    <a:pt x="672" y="1576"/>
                  </a:lnTo>
                  <a:lnTo>
                    <a:pt x="721" y="1709"/>
                  </a:lnTo>
                  <a:lnTo>
                    <a:pt x="889" y="1699"/>
                  </a:lnTo>
                  <a:lnTo>
                    <a:pt x="804" y="1772"/>
                  </a:lnTo>
                  <a:lnTo>
                    <a:pt x="763" y="1864"/>
                  </a:lnTo>
                  <a:lnTo>
                    <a:pt x="520" y="1920"/>
                  </a:lnTo>
                  <a:lnTo>
                    <a:pt x="414" y="1982"/>
                  </a:lnTo>
                  <a:lnTo>
                    <a:pt x="343" y="1950"/>
                  </a:lnTo>
                  <a:lnTo>
                    <a:pt x="190" y="1991"/>
                  </a:lnTo>
                  <a:lnTo>
                    <a:pt x="66" y="1963"/>
                  </a:lnTo>
                  <a:lnTo>
                    <a:pt x="0" y="1990"/>
                  </a:lnTo>
                  <a:lnTo>
                    <a:pt x="36" y="2031"/>
                  </a:lnTo>
                  <a:lnTo>
                    <a:pt x="304" y="2040"/>
                  </a:lnTo>
                  <a:lnTo>
                    <a:pt x="470" y="2033"/>
                  </a:lnTo>
                  <a:lnTo>
                    <a:pt x="823" y="1971"/>
                  </a:lnTo>
                  <a:lnTo>
                    <a:pt x="1132" y="1834"/>
                  </a:lnTo>
                  <a:lnTo>
                    <a:pt x="1173" y="1798"/>
                  </a:lnTo>
                  <a:lnTo>
                    <a:pt x="1106" y="1768"/>
                  </a:lnTo>
                  <a:lnTo>
                    <a:pt x="1441" y="1562"/>
                  </a:lnTo>
                  <a:lnTo>
                    <a:pt x="1498" y="1560"/>
                  </a:lnTo>
                  <a:lnTo>
                    <a:pt x="1477" y="1606"/>
                  </a:lnTo>
                  <a:lnTo>
                    <a:pt x="1389" y="1621"/>
                  </a:lnTo>
                  <a:lnTo>
                    <a:pt x="1307" y="1748"/>
                  </a:lnTo>
                  <a:lnTo>
                    <a:pt x="1359" y="1745"/>
                  </a:lnTo>
                  <a:lnTo>
                    <a:pt x="1296" y="1771"/>
                  </a:lnTo>
                  <a:lnTo>
                    <a:pt x="1308" y="1804"/>
                  </a:lnTo>
                  <a:lnTo>
                    <a:pt x="1485" y="1771"/>
                  </a:lnTo>
                  <a:lnTo>
                    <a:pt x="1563" y="1779"/>
                  </a:lnTo>
                  <a:lnTo>
                    <a:pt x="1616" y="1721"/>
                  </a:lnTo>
                  <a:lnTo>
                    <a:pt x="1612" y="1666"/>
                  </a:lnTo>
                  <a:lnTo>
                    <a:pt x="1760" y="1703"/>
                  </a:lnTo>
                  <a:lnTo>
                    <a:pt x="1879" y="1867"/>
                  </a:lnTo>
                  <a:lnTo>
                    <a:pt x="2037" y="1880"/>
                  </a:lnTo>
                  <a:lnTo>
                    <a:pt x="2094" y="1932"/>
                  </a:lnTo>
                  <a:lnTo>
                    <a:pt x="2186" y="1972"/>
                  </a:lnTo>
                  <a:lnTo>
                    <a:pt x="2385" y="2198"/>
                  </a:lnTo>
                  <a:lnTo>
                    <a:pt x="2413" y="2263"/>
                  </a:lnTo>
                  <a:lnTo>
                    <a:pt x="2441" y="2384"/>
                  </a:lnTo>
                  <a:lnTo>
                    <a:pt x="2536" y="2536"/>
                  </a:lnTo>
                  <a:lnTo>
                    <a:pt x="2563" y="2601"/>
                  </a:lnTo>
                  <a:lnTo>
                    <a:pt x="2683" y="2762"/>
                  </a:lnTo>
                  <a:lnTo>
                    <a:pt x="2870" y="2766"/>
                  </a:lnTo>
                  <a:lnTo>
                    <a:pt x="2911" y="2674"/>
                  </a:lnTo>
                  <a:lnTo>
                    <a:pt x="2908" y="2563"/>
                  </a:lnTo>
                  <a:lnTo>
                    <a:pt x="2850" y="2510"/>
                  </a:lnTo>
                  <a:lnTo>
                    <a:pt x="2780" y="2479"/>
                  </a:lnTo>
                  <a:lnTo>
                    <a:pt x="2719" y="2371"/>
                  </a:lnTo>
                  <a:lnTo>
                    <a:pt x="2657" y="2262"/>
                  </a:lnTo>
                  <a:lnTo>
                    <a:pt x="2554" y="2000"/>
                  </a:lnTo>
                  <a:lnTo>
                    <a:pt x="2501" y="2003"/>
                  </a:lnTo>
                  <a:lnTo>
                    <a:pt x="2424" y="2052"/>
                  </a:lnTo>
                  <a:lnTo>
                    <a:pt x="2357" y="2077"/>
                  </a:lnTo>
                  <a:lnTo>
                    <a:pt x="2240" y="1914"/>
                  </a:lnTo>
                  <a:lnTo>
                    <a:pt x="2259" y="1870"/>
                  </a:lnTo>
                  <a:lnTo>
                    <a:pt x="2104" y="1855"/>
                  </a:lnTo>
                  <a:lnTo>
                    <a:pt x="2158" y="1605"/>
                  </a:lnTo>
                  <a:lnTo>
                    <a:pt x="2266" y="1055"/>
                  </a:lnTo>
                  <a:lnTo>
                    <a:pt x="2322" y="672"/>
                  </a:lnTo>
                  <a:lnTo>
                    <a:pt x="2349" y="493"/>
                  </a:lnTo>
                  <a:lnTo>
                    <a:pt x="2242" y="364"/>
                  </a:lnTo>
                  <a:lnTo>
                    <a:pt x="2153" y="378"/>
                  </a:lnTo>
                  <a:lnTo>
                    <a:pt x="1944" y="233"/>
                  </a:lnTo>
                  <a:lnTo>
                    <a:pt x="1866" y="226"/>
                  </a:lnTo>
                  <a:lnTo>
                    <a:pt x="1809" y="173"/>
                  </a:lnTo>
                  <a:lnTo>
                    <a:pt x="1820" y="151"/>
                  </a:lnTo>
                  <a:lnTo>
                    <a:pt x="1633" y="12"/>
                  </a:lnTo>
                  <a:lnTo>
                    <a:pt x="1592" y="51"/>
                  </a:lnTo>
                  <a:lnTo>
                    <a:pt x="1475" y="0"/>
                  </a:lnTo>
                  <a:lnTo>
                    <a:pt x="1354" y="27"/>
                  </a:lnTo>
                  <a:lnTo>
                    <a:pt x="1258" y="65"/>
                  </a:lnTo>
                  <a:lnTo>
                    <a:pt x="1204" y="124"/>
                  </a:lnTo>
                  <a:lnTo>
                    <a:pt x="1138" y="148"/>
                  </a:lnTo>
                  <a:lnTo>
                    <a:pt x="1047" y="109"/>
                  </a:lnTo>
                  <a:lnTo>
                    <a:pt x="970" y="159"/>
                  </a:lnTo>
                  <a:close/>
                </a:path>
              </a:pathLst>
            </a:custGeom>
            <a:solidFill>
              <a:srgbClr val="00547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5099040" y="3308400"/>
              <a:ext cx="739800" cy="660240"/>
            </a:xfrm>
            <a:custGeom>
              <a:avLst/>
              <a:gdLst/>
              <a:ahLst/>
              <a:rect l="l" t="t" r="r" b="b"/>
              <a:pathLst>
                <a:path w="1051" h="966">
                  <a:moveTo>
                    <a:pt x="0" y="41"/>
                  </a:moveTo>
                  <a:lnTo>
                    <a:pt x="946" y="0"/>
                  </a:lnTo>
                  <a:lnTo>
                    <a:pt x="942" y="11"/>
                  </a:lnTo>
                  <a:lnTo>
                    <a:pt x="961" y="27"/>
                  </a:lnTo>
                  <a:lnTo>
                    <a:pt x="971" y="48"/>
                  </a:lnTo>
                  <a:lnTo>
                    <a:pt x="966" y="68"/>
                  </a:lnTo>
                  <a:lnTo>
                    <a:pt x="937" y="90"/>
                  </a:lnTo>
                  <a:lnTo>
                    <a:pt x="912" y="123"/>
                  </a:lnTo>
                  <a:lnTo>
                    <a:pt x="911" y="137"/>
                  </a:lnTo>
                  <a:lnTo>
                    <a:pt x="1051" y="130"/>
                  </a:lnTo>
                  <a:lnTo>
                    <a:pt x="1045" y="143"/>
                  </a:lnTo>
                  <a:lnTo>
                    <a:pt x="1050" y="156"/>
                  </a:lnTo>
                  <a:lnTo>
                    <a:pt x="1039" y="178"/>
                  </a:lnTo>
                  <a:lnTo>
                    <a:pt x="1013" y="206"/>
                  </a:lnTo>
                  <a:lnTo>
                    <a:pt x="1003" y="262"/>
                  </a:lnTo>
                  <a:lnTo>
                    <a:pt x="976" y="297"/>
                  </a:lnTo>
                  <a:lnTo>
                    <a:pt x="982" y="334"/>
                  </a:lnTo>
                  <a:lnTo>
                    <a:pt x="978" y="381"/>
                  </a:lnTo>
                  <a:lnTo>
                    <a:pt x="971" y="384"/>
                  </a:lnTo>
                  <a:lnTo>
                    <a:pt x="948" y="405"/>
                  </a:lnTo>
                  <a:lnTo>
                    <a:pt x="945" y="420"/>
                  </a:lnTo>
                  <a:lnTo>
                    <a:pt x="905" y="456"/>
                  </a:lnTo>
                  <a:lnTo>
                    <a:pt x="889" y="498"/>
                  </a:lnTo>
                  <a:lnTo>
                    <a:pt x="893" y="540"/>
                  </a:lnTo>
                  <a:lnTo>
                    <a:pt x="886" y="561"/>
                  </a:lnTo>
                  <a:lnTo>
                    <a:pt x="849" y="587"/>
                  </a:lnTo>
                  <a:lnTo>
                    <a:pt x="822" y="626"/>
                  </a:lnTo>
                  <a:lnTo>
                    <a:pt x="810" y="638"/>
                  </a:lnTo>
                  <a:lnTo>
                    <a:pt x="810" y="672"/>
                  </a:lnTo>
                  <a:lnTo>
                    <a:pt x="791" y="695"/>
                  </a:lnTo>
                  <a:lnTo>
                    <a:pt x="791" y="721"/>
                  </a:lnTo>
                  <a:lnTo>
                    <a:pt x="778" y="757"/>
                  </a:lnTo>
                  <a:lnTo>
                    <a:pt x="756" y="795"/>
                  </a:lnTo>
                  <a:lnTo>
                    <a:pt x="765" y="835"/>
                  </a:lnTo>
                  <a:lnTo>
                    <a:pt x="785" y="856"/>
                  </a:lnTo>
                  <a:lnTo>
                    <a:pt x="788" y="881"/>
                  </a:lnTo>
                  <a:lnTo>
                    <a:pt x="795" y="889"/>
                  </a:lnTo>
                  <a:lnTo>
                    <a:pt x="795" y="903"/>
                  </a:lnTo>
                  <a:lnTo>
                    <a:pt x="782" y="910"/>
                  </a:lnTo>
                  <a:lnTo>
                    <a:pt x="778" y="934"/>
                  </a:lnTo>
                  <a:lnTo>
                    <a:pt x="780" y="948"/>
                  </a:lnTo>
                  <a:lnTo>
                    <a:pt x="138" y="966"/>
                  </a:lnTo>
                  <a:lnTo>
                    <a:pt x="138" y="823"/>
                  </a:lnTo>
                  <a:lnTo>
                    <a:pt x="104" y="815"/>
                  </a:lnTo>
                  <a:lnTo>
                    <a:pt x="75" y="829"/>
                  </a:lnTo>
                  <a:lnTo>
                    <a:pt x="66" y="826"/>
                  </a:lnTo>
                  <a:lnTo>
                    <a:pt x="33" y="803"/>
                  </a:lnTo>
                  <a:lnTo>
                    <a:pt x="39" y="334"/>
                  </a:lnTo>
                  <a:lnTo>
                    <a:pt x="0" y="41"/>
                  </a:lnTo>
                  <a:close/>
                </a:path>
              </a:pathLst>
            </a:custGeom>
            <a:solidFill>
              <a:srgbClr val="00152a"/>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1680840" y="304920"/>
              <a:ext cx="602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 Cigarette Smoking Among Adults: 2001</a:t>
              </a:r>
              <a:endParaRPr b="0" lang="en-US" sz="2000" spc="-1" strike="noStrike">
                <a:solidFill>
                  <a:srgbClr val="000000"/>
                </a:solidFill>
                <a:latin typeface="Times New Roman"/>
              </a:endParaRPr>
            </a:p>
          </p:txBody>
        </p:sp>
        <p:sp>
          <p:nvSpPr>
            <p:cNvPr id="722"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23" name=""/>
            <p:cNvGraphicFramePr/>
            <p:nvPr/>
          </p:nvGraphicFramePr>
          <p:xfrm>
            <a:off x="8534520" y="6324480"/>
            <a:ext cx="609480" cy="533520"/>
          </p:xfrm>
          <a:graphic>
            <a:graphicData uri="http://schemas.openxmlformats.org/presentationml/2006/ole">
              <p:oleObj r:id="rId1" spid="">
                <p:embed/>
                <p:pic>
                  <p:nvPicPr>
                    <p:cNvPr id="724" name="" descr=""/>
                    <p:cNvPicPr/>
                    <p:nvPr/>
                  </p:nvPicPr>
                  <p:blipFill>
                    <a:blip r:embed="rId2"/>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152280" y="76320"/>
            <a:ext cx="952488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7-2a. Tobacco Use in Past month*:</a:t>
            </a:r>
            <a:br>
              <a:rPr sz="3200"/>
            </a:br>
            <a:r>
              <a:rPr b="1" lang="en-US" sz="3200" spc="-1" strike="noStrike">
                <a:solidFill>
                  <a:srgbClr val="000000"/>
                </a:solidFill>
                <a:latin typeface="Arial"/>
              </a:rPr>
              <a:t>Students (grades 9-12)</a:t>
            </a:r>
            <a:endParaRPr b="0" lang="en-US" sz="3200" spc="-1" strike="noStrike">
              <a:solidFill>
                <a:srgbClr val="000000"/>
              </a:solidFill>
              <a:latin typeface="Times New Roman"/>
            </a:endParaRPr>
          </a:p>
        </p:txBody>
      </p:sp>
      <p:graphicFrame>
        <p:nvGraphicFramePr>
          <p:cNvPr id="726" name=""/>
          <p:cNvGraphicFramePr/>
          <p:nvPr/>
        </p:nvGraphicFramePr>
        <p:xfrm>
          <a:off x="0" y="1600200"/>
          <a:ext cx="8759880" cy="4191120"/>
        </p:xfrm>
        <a:graphic>
          <a:graphicData uri="http://schemas.openxmlformats.org/presentationml/2006/ole">
            <p:oleObj r:id="rId1" spid="">
              <p:embed/>
              <p:pic>
                <p:nvPicPr>
                  <p:cNvPr id="727" name="" descr=""/>
                  <p:cNvPicPr/>
                  <p:nvPr/>
                </p:nvPicPr>
                <p:blipFill>
                  <a:blip r:embed="rId2"/>
                  <a:stretch/>
                </p:blipFill>
                <p:spPr>
                  <a:xfrm>
                    <a:off x="0" y="1600200"/>
                    <a:ext cx="8759880" cy="4191120"/>
                  </a:xfrm>
                  <a:prstGeom prst="rect">
                    <a:avLst/>
                  </a:prstGeom>
                  <a:ln w="0">
                    <a:noFill/>
                  </a:ln>
                </p:spPr>
              </p:pic>
            </p:oleObj>
          </a:graphicData>
        </a:graphic>
      </p:graphicFrame>
      <p:sp>
        <p:nvSpPr>
          <p:cNvPr id="728" name=""/>
          <p:cNvSpPr/>
          <p:nvPr/>
        </p:nvSpPr>
        <p:spPr>
          <a:xfrm>
            <a:off x="7696080" y="541008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les</a:t>
            </a:r>
            <a:endParaRPr b="0" lang="en-US" sz="1600" spc="-1" strike="noStrike">
              <a:solidFill>
                <a:srgbClr val="000000"/>
              </a:solidFill>
              <a:latin typeface="Times New Roman"/>
            </a:endParaRPr>
          </a:p>
        </p:txBody>
      </p:sp>
      <p:sp>
        <p:nvSpPr>
          <p:cNvPr id="729" name=""/>
          <p:cNvSpPr/>
          <p:nvPr/>
        </p:nvSpPr>
        <p:spPr>
          <a:xfrm>
            <a:off x="2230560" y="5486400"/>
            <a:ext cx="127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spanic </a:t>
            </a:r>
            <a:endParaRPr b="0" lang="en-US" sz="1600" spc="-1" strike="noStrike">
              <a:solidFill>
                <a:srgbClr val="000000"/>
              </a:solidFill>
              <a:latin typeface="Times New Roman"/>
            </a:endParaRPr>
          </a:p>
        </p:txBody>
      </p:sp>
      <p:sp>
        <p:nvSpPr>
          <p:cNvPr id="730" name=""/>
          <p:cNvSpPr/>
          <p:nvPr/>
        </p:nvSpPr>
        <p:spPr>
          <a:xfrm>
            <a:off x="3421080" y="5410080"/>
            <a:ext cx="1531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ack, not Hispanic</a:t>
            </a:r>
            <a:endParaRPr b="0" lang="en-US" sz="1600" spc="-1" strike="noStrike">
              <a:solidFill>
                <a:srgbClr val="000000"/>
              </a:solidFill>
              <a:latin typeface="Times New Roman"/>
            </a:endParaRPr>
          </a:p>
        </p:txBody>
      </p:sp>
      <p:sp>
        <p:nvSpPr>
          <p:cNvPr id="731" name=""/>
          <p:cNvSpPr/>
          <p:nvPr/>
        </p:nvSpPr>
        <p:spPr>
          <a:xfrm>
            <a:off x="4648320" y="5410080"/>
            <a:ext cx="1676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te, not Hispanic</a:t>
            </a:r>
            <a:endParaRPr b="0" lang="en-US" sz="1600" spc="-1" strike="noStrike">
              <a:solidFill>
                <a:srgbClr val="000000"/>
              </a:solidFill>
              <a:latin typeface="Times New Roman"/>
            </a:endParaRPr>
          </a:p>
        </p:txBody>
      </p:sp>
      <p:sp>
        <p:nvSpPr>
          <p:cNvPr id="732" name=""/>
          <p:cNvSpPr/>
          <p:nvPr/>
        </p:nvSpPr>
        <p:spPr>
          <a:xfrm>
            <a:off x="6248520" y="1371600"/>
            <a:ext cx="1768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733" name=""/>
          <p:cNvSpPr/>
          <p:nvPr/>
        </p:nvSpPr>
        <p:spPr>
          <a:xfrm>
            <a:off x="571680" y="3911760"/>
            <a:ext cx="7953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4419720" y="1371600"/>
            <a:ext cx="304560" cy="304920"/>
          </a:xfrm>
          <a:prstGeom prst="rect">
            <a:avLst/>
          </a:prstGeom>
          <a:solidFill>
            <a:srgbClr val="cdd5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2209680" y="1371600"/>
            <a:ext cx="304920" cy="30492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514600" y="1371600"/>
            <a:ext cx="200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9 Baseline</a:t>
            </a:r>
            <a:endParaRPr b="0" lang="en-US" sz="1400" spc="-1" strike="noStrike">
              <a:solidFill>
                <a:srgbClr val="000000"/>
              </a:solidFill>
              <a:latin typeface="Times New Roman"/>
            </a:endParaRPr>
          </a:p>
        </p:txBody>
      </p:sp>
      <p:sp>
        <p:nvSpPr>
          <p:cNvPr id="737" name=""/>
          <p:cNvSpPr/>
          <p:nvPr/>
        </p:nvSpPr>
        <p:spPr>
          <a:xfrm>
            <a:off x="4724280" y="1371600"/>
            <a:ext cx="335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1</a:t>
            </a:r>
            <a:endParaRPr b="0" lang="en-US" sz="1400" spc="-1" strike="noStrike">
              <a:solidFill>
                <a:srgbClr val="000000"/>
              </a:solidFill>
              <a:latin typeface="Times New Roman"/>
            </a:endParaRPr>
          </a:p>
        </p:txBody>
      </p:sp>
      <p:sp>
        <p:nvSpPr>
          <p:cNvPr id="738" name=""/>
          <p:cNvSpPr/>
          <p:nvPr/>
        </p:nvSpPr>
        <p:spPr>
          <a:xfrm>
            <a:off x="0" y="6019920"/>
            <a:ext cx="8458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moked cigarettes or cigars or used chewing tobacco, snuff, or dip on one or more of the 30 days preceding the surve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ata for American Indians, Alaska Natives, and Pacific Islanders are unreliable. </a:t>
            </a:r>
            <a:endParaRPr b="0" lang="en-US" sz="1000" spc="-1" strike="noStrike">
              <a:solidFill>
                <a:srgbClr val="000000"/>
              </a:solidFill>
              <a:latin typeface="Times New Roman"/>
            </a:endParaRPr>
          </a:p>
        </p:txBody>
      </p:sp>
      <p:sp>
        <p:nvSpPr>
          <p:cNvPr id="739" name=""/>
          <p:cNvSpPr/>
          <p:nvPr/>
        </p:nvSpPr>
        <p:spPr>
          <a:xfrm>
            <a:off x="231840" y="15238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740" name=""/>
          <p:cNvSpPr/>
          <p:nvPr/>
        </p:nvSpPr>
        <p:spPr>
          <a:xfrm>
            <a:off x="0" y="-152280"/>
            <a:ext cx="9144000" cy="30456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a:off x="5943600" y="15238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380880" y="5410080"/>
            <a:ext cx="127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Times New Roman"/>
            </a:endParaRPr>
          </a:p>
        </p:txBody>
      </p:sp>
      <p:sp>
        <p:nvSpPr>
          <p:cNvPr id="744" name=""/>
          <p:cNvSpPr/>
          <p:nvPr/>
        </p:nvSpPr>
        <p:spPr>
          <a:xfrm>
            <a:off x="6400800" y="54100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males</a:t>
            </a:r>
            <a:endParaRPr b="0" lang="en-US" sz="1600" spc="-1" strike="noStrike">
              <a:solidFill>
                <a:srgbClr val="000000"/>
              </a:solidFill>
              <a:latin typeface="Times New Roman"/>
            </a:endParaRPr>
          </a:p>
        </p:txBody>
      </p:sp>
      <p:sp>
        <p:nvSpPr>
          <p:cNvPr id="745" name=""/>
          <p:cNvSpPr/>
          <p:nvPr/>
        </p:nvSpPr>
        <p:spPr>
          <a:xfrm>
            <a:off x="5400" y="6578640"/>
            <a:ext cx="46324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Youth Risk Behavior Surveillance System (YRBSS),  NCCDPHP, CD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aphicFrame>
        <p:nvGraphicFramePr>
          <p:cNvPr id="746" name=""/>
          <p:cNvGraphicFramePr/>
          <p:nvPr/>
        </p:nvGraphicFramePr>
        <p:xfrm>
          <a:off x="8534520" y="6324480"/>
          <a:ext cx="609480" cy="533520"/>
        </p:xfrm>
        <a:graphic>
          <a:graphicData uri="http://schemas.openxmlformats.org/presentationml/2006/ole">
            <p:oleObj r:id="rId3" spid="">
              <p:embed/>
              <p:pic>
                <p:nvPicPr>
                  <p:cNvPr id="747"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748" name=""/>
          <p:cNvSpPr/>
          <p:nvPr/>
        </p:nvSpPr>
        <p:spPr>
          <a:xfrm>
            <a:off x="4154400" y="384192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graphicFrame>
        <p:nvGraphicFramePr>
          <p:cNvPr id="749" name=""/>
          <p:cNvGraphicFramePr/>
          <p:nvPr/>
        </p:nvGraphicFramePr>
        <p:xfrm>
          <a:off x="533520" y="1600200"/>
          <a:ext cx="8610480" cy="4925880"/>
        </p:xfrm>
        <a:graphic>
          <a:graphicData uri="http://schemas.openxmlformats.org/presentationml/2006/ole">
            <p:oleObj r:id="rId1" spid="">
              <p:embed/>
              <p:pic>
                <p:nvPicPr>
                  <p:cNvPr id="750" name="" descr=""/>
                  <p:cNvPicPr/>
                  <p:nvPr/>
                </p:nvPicPr>
                <p:blipFill>
                  <a:blip r:embed="rId2"/>
                  <a:stretch/>
                </p:blipFill>
                <p:spPr>
                  <a:xfrm>
                    <a:off x="533520" y="1600200"/>
                    <a:ext cx="8610480" cy="4925880"/>
                  </a:xfrm>
                  <a:prstGeom prst="rect">
                    <a:avLst/>
                  </a:prstGeom>
                  <a:ln w="0">
                    <a:noFill/>
                  </a:ln>
                </p:spPr>
              </p:pic>
            </p:oleObj>
          </a:graphicData>
        </a:graphic>
      </p:graphicFrame>
      <p:sp>
        <p:nvSpPr>
          <p:cNvPr id="751" name=""/>
          <p:cNvSpPr/>
          <p:nvPr/>
        </p:nvSpPr>
        <p:spPr>
          <a:xfrm>
            <a:off x="0" y="0"/>
            <a:ext cx="9144000" cy="106668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bacco Use in the Past Month:</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tudents (Grades 9-12)</a:t>
            </a:r>
            <a:endParaRPr b="0" lang="en-US" sz="2800" spc="-1" strike="noStrike">
              <a:solidFill>
                <a:srgbClr val="000000"/>
              </a:solidFill>
              <a:latin typeface="Times New Roman"/>
            </a:endParaRPr>
          </a:p>
        </p:txBody>
      </p:sp>
      <p:sp>
        <p:nvSpPr>
          <p:cNvPr id="752"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1676520" y="1905120"/>
            <a:ext cx="0" cy="13716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3809880" y="2514600"/>
            <a:ext cx="0" cy="1295280"/>
          </a:xfrm>
          <a:prstGeom prst="line">
            <a:avLst/>
          </a:prstGeom>
          <a:ln w="38160">
            <a:solidFill>
              <a:srgbClr val="0d347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5867280" y="4648320"/>
            <a:ext cx="0" cy="6858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7924680" y="3886200"/>
            <a:ext cx="0" cy="74304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1143000" y="1143000"/>
            <a:ext cx="0" cy="3808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1295280" y="1143000"/>
            <a:ext cx="2516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ion of change desired</a:t>
            </a:r>
            <a:endParaRPr b="0" lang="en-US" sz="1400" spc="-1" strike="noStrike">
              <a:solidFill>
                <a:srgbClr val="000000"/>
              </a:solidFill>
              <a:latin typeface="Times New Roman"/>
            </a:endParaRPr>
          </a:p>
        </p:txBody>
      </p:sp>
      <p:sp>
        <p:nvSpPr>
          <p:cNvPr id="759" name=""/>
          <p:cNvSpPr/>
          <p:nvPr/>
        </p:nvSpPr>
        <p:spPr>
          <a:xfrm>
            <a:off x="6094440" y="1219320"/>
            <a:ext cx="1171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760" name=""/>
          <p:cNvSpPr/>
          <p:nvPr/>
        </p:nvSpPr>
        <p:spPr>
          <a:xfrm>
            <a:off x="4680360" y="121932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1</a:t>
            </a:r>
            <a:endParaRPr b="0" lang="en-US" sz="1400" spc="-1" strike="noStrike">
              <a:solidFill>
                <a:srgbClr val="000000"/>
              </a:solidFill>
              <a:latin typeface="Times New Roman"/>
            </a:endParaRPr>
          </a:p>
        </p:txBody>
      </p:sp>
      <p:sp>
        <p:nvSpPr>
          <p:cNvPr id="761" name=""/>
          <p:cNvSpPr/>
          <p:nvPr/>
        </p:nvSpPr>
        <p:spPr>
          <a:xfrm>
            <a:off x="5638680" y="1143000"/>
            <a:ext cx="381240" cy="380880"/>
          </a:xfrm>
          <a:prstGeom prst="rect">
            <a:avLst/>
          </a:prstGeom>
          <a:solidFill>
            <a:srgbClr val="00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4191120" y="1143000"/>
            <a:ext cx="380880" cy="380880"/>
          </a:xfrm>
          <a:prstGeom prst="rect">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1371600" y="32004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a:t>
            </a:r>
            <a:endParaRPr b="0" lang="en-US" sz="1800" spc="-1" strike="noStrike">
              <a:solidFill>
                <a:srgbClr val="000000"/>
              </a:solidFill>
              <a:latin typeface="Times New Roman"/>
            </a:endParaRPr>
          </a:p>
        </p:txBody>
      </p:sp>
      <p:sp>
        <p:nvSpPr>
          <p:cNvPr id="764" name=""/>
          <p:cNvSpPr/>
          <p:nvPr/>
        </p:nvSpPr>
        <p:spPr>
          <a:xfrm>
            <a:off x="7620120" y="4648320"/>
            <a:ext cx="761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a:t>
            </a:r>
            <a:endParaRPr b="0" lang="en-US" sz="2000" spc="-1" strike="noStrike">
              <a:solidFill>
                <a:srgbClr val="000000"/>
              </a:solidFill>
              <a:latin typeface="Times New Roman"/>
            </a:endParaRPr>
          </a:p>
        </p:txBody>
      </p:sp>
      <p:sp>
        <p:nvSpPr>
          <p:cNvPr id="765" name=""/>
          <p:cNvSpPr/>
          <p:nvPr/>
        </p:nvSpPr>
        <p:spPr>
          <a:xfrm>
            <a:off x="6400800" y="510552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a:t>
            </a:r>
            <a:endParaRPr b="0" lang="en-US" sz="1800" spc="-1" strike="noStrike">
              <a:solidFill>
                <a:srgbClr val="000000"/>
              </a:solidFill>
              <a:latin typeface="Times New Roman"/>
            </a:endParaRPr>
          </a:p>
        </p:txBody>
      </p:sp>
      <p:sp>
        <p:nvSpPr>
          <p:cNvPr id="766" name=""/>
          <p:cNvSpPr/>
          <p:nvPr/>
        </p:nvSpPr>
        <p:spPr>
          <a:xfrm>
            <a:off x="3429000" y="380988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000000"/>
              </a:solidFill>
              <a:latin typeface="Times New Roman"/>
            </a:endParaRPr>
          </a:p>
        </p:txBody>
      </p:sp>
      <p:sp>
        <p:nvSpPr>
          <p:cNvPr id="767" name=""/>
          <p:cNvSpPr/>
          <p:nvPr/>
        </p:nvSpPr>
        <p:spPr>
          <a:xfrm flipH="1">
            <a:off x="6324120" y="5334120"/>
            <a:ext cx="304920" cy="75960"/>
          </a:xfrm>
          <a:prstGeom prst="line">
            <a:avLst/>
          </a:prstGeom>
          <a:ln w="19080">
            <a:solidFill>
              <a:srgbClr val="003366"/>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68" name=""/>
          <p:cNvSpPr/>
          <p:nvPr/>
        </p:nvSpPr>
        <p:spPr>
          <a:xfrm>
            <a:off x="1418400" y="1614600"/>
            <a:ext cx="63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a:t>
            </a:r>
            <a:endParaRPr b="0" lang="en-US" sz="1800" spc="-1" strike="noStrike">
              <a:solidFill>
                <a:srgbClr val="000000"/>
              </a:solidFill>
              <a:latin typeface="Times New Roman"/>
            </a:endParaRPr>
          </a:p>
        </p:txBody>
      </p:sp>
      <p:sp>
        <p:nvSpPr>
          <p:cNvPr id="769" name=""/>
          <p:cNvSpPr/>
          <p:nvPr/>
        </p:nvSpPr>
        <p:spPr>
          <a:xfrm>
            <a:off x="3507480" y="2209680"/>
            <a:ext cx="63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a:t>
            </a:r>
            <a:endParaRPr b="0" lang="en-US" sz="1800" spc="-1" strike="noStrike">
              <a:solidFill>
                <a:srgbClr val="000000"/>
              </a:solidFill>
              <a:latin typeface="Times New Roman"/>
            </a:endParaRPr>
          </a:p>
        </p:txBody>
      </p:sp>
      <p:sp>
        <p:nvSpPr>
          <p:cNvPr id="770" name=""/>
          <p:cNvSpPr/>
          <p:nvPr/>
        </p:nvSpPr>
        <p:spPr>
          <a:xfrm>
            <a:off x="5640840" y="4267080"/>
            <a:ext cx="50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771" name=""/>
          <p:cNvSpPr/>
          <p:nvPr/>
        </p:nvSpPr>
        <p:spPr>
          <a:xfrm>
            <a:off x="7622280" y="3595680"/>
            <a:ext cx="63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Times New Roman"/>
            </a:endParaRPr>
          </a:p>
        </p:txBody>
      </p:sp>
      <p:sp>
        <p:nvSpPr>
          <p:cNvPr id="772" name=""/>
          <p:cNvSpPr/>
          <p:nvPr/>
        </p:nvSpPr>
        <p:spPr>
          <a:xfrm>
            <a:off x="-70560" y="6578640"/>
            <a:ext cx="459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Youth Risk Behavior Surveillance System (YRBSS), NCCDPHP, CDC.</a:t>
            </a:r>
            <a:endParaRPr b="0" lang="en-US" sz="1000" spc="-1" strike="noStrike">
              <a:solidFill>
                <a:srgbClr val="000000"/>
              </a:solidFill>
              <a:latin typeface="Times New Roman"/>
            </a:endParaRPr>
          </a:p>
        </p:txBody>
      </p:sp>
      <p:sp>
        <p:nvSpPr>
          <p:cNvPr id="773" name=""/>
          <p:cNvSpPr/>
          <p:nvPr/>
        </p:nvSpPr>
        <p:spPr>
          <a:xfrm>
            <a:off x="1279440" y="6248520"/>
            <a:ext cx="85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7-2a.)</a:t>
            </a:r>
            <a:endParaRPr b="0" lang="en-US" sz="1400" spc="-1" strike="noStrike">
              <a:solidFill>
                <a:srgbClr val="000000"/>
              </a:solidFill>
              <a:latin typeface="Times New Roman"/>
            </a:endParaRPr>
          </a:p>
        </p:txBody>
      </p:sp>
      <p:sp>
        <p:nvSpPr>
          <p:cNvPr id="774" name=""/>
          <p:cNvSpPr/>
          <p:nvPr/>
        </p:nvSpPr>
        <p:spPr>
          <a:xfrm>
            <a:off x="5580720" y="6172200"/>
            <a:ext cx="805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2c.)</a:t>
            </a:r>
            <a:endParaRPr b="0" lang="en-US" sz="1400" spc="-1" strike="noStrike">
              <a:solidFill>
                <a:srgbClr val="000000"/>
              </a:solidFill>
              <a:latin typeface="Times New Roman"/>
            </a:endParaRPr>
          </a:p>
        </p:txBody>
      </p:sp>
      <p:sp>
        <p:nvSpPr>
          <p:cNvPr id="775" name=""/>
          <p:cNvSpPr/>
          <p:nvPr/>
        </p:nvSpPr>
        <p:spPr>
          <a:xfrm>
            <a:off x="7557120" y="609588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2d.)</a:t>
            </a:r>
            <a:endParaRPr b="0" lang="en-US" sz="1400" spc="-1" strike="noStrike">
              <a:solidFill>
                <a:srgbClr val="000000"/>
              </a:solidFill>
              <a:latin typeface="Times New Roman"/>
            </a:endParaRPr>
          </a:p>
        </p:txBody>
      </p:sp>
      <p:sp>
        <p:nvSpPr>
          <p:cNvPr id="776" name=""/>
          <p:cNvSpPr/>
          <p:nvPr/>
        </p:nvSpPr>
        <p:spPr>
          <a:xfrm>
            <a:off x="3366360" y="617220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2b.)</a:t>
            </a:r>
            <a:endParaRPr b="0" lang="en-US" sz="1400" spc="-1" strike="noStrike">
              <a:solidFill>
                <a:srgbClr val="000000"/>
              </a:solidFill>
              <a:latin typeface="Times New Roman"/>
            </a:endParaRPr>
          </a:p>
        </p:txBody>
      </p:sp>
      <p:graphicFrame>
        <p:nvGraphicFramePr>
          <p:cNvPr id="777" name=""/>
          <p:cNvGraphicFramePr/>
          <p:nvPr/>
        </p:nvGraphicFramePr>
        <p:xfrm>
          <a:off x="8648640" y="6324480"/>
          <a:ext cx="495360" cy="533520"/>
        </p:xfrm>
        <a:graphic>
          <a:graphicData uri="http://schemas.openxmlformats.org/presentationml/2006/ole">
            <p:oleObj r:id="rId3" spid="">
              <p:embed/>
              <p:pic>
                <p:nvPicPr>
                  <p:cNvPr id="778" name="" descr=""/>
                  <p:cNvPicPr/>
                  <p:nvPr/>
                </p:nvPicPr>
                <p:blipFill>
                  <a:blip r:embed="rId4"/>
                  <a:stretch/>
                </p:blipFill>
                <p:spPr>
                  <a:xfrm>
                    <a:off x="8648640" y="6324480"/>
                    <a:ext cx="495360" cy="5335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7-3a,b. Persons Who First Used Any Cigarettes During 1965 to 2000</a:t>
            </a:r>
            <a:endParaRPr b="0" lang="en-US" sz="2800" spc="-1" strike="noStrike">
              <a:solidFill>
                <a:srgbClr val="000000"/>
              </a:solidFill>
              <a:latin typeface="Times New Roman"/>
            </a:endParaRPr>
          </a:p>
        </p:txBody>
      </p:sp>
      <p:graphicFrame>
        <p:nvGraphicFramePr>
          <p:cNvPr id="780" name=""/>
          <p:cNvGraphicFramePr/>
          <p:nvPr/>
        </p:nvGraphicFramePr>
        <p:xfrm>
          <a:off x="0" y="1295280"/>
          <a:ext cx="9925200" cy="5562720"/>
        </p:xfrm>
        <a:graphic>
          <a:graphicData uri="http://schemas.openxmlformats.org/presentationml/2006/ole">
            <p:oleObj r:id="rId1" spid="">
              <p:embed/>
              <p:pic>
                <p:nvPicPr>
                  <p:cNvPr id="781" name="" descr=""/>
                  <p:cNvPicPr/>
                  <p:nvPr/>
                </p:nvPicPr>
                <p:blipFill>
                  <a:blip r:embed="rId2"/>
                  <a:stretch/>
                </p:blipFill>
                <p:spPr>
                  <a:xfrm>
                    <a:off x="0" y="1295280"/>
                    <a:ext cx="9925200" cy="5562720"/>
                  </a:xfrm>
                  <a:prstGeom prst="rect">
                    <a:avLst/>
                  </a:prstGeom>
                  <a:ln w="0">
                    <a:noFill/>
                  </a:ln>
                </p:spPr>
              </p:pic>
            </p:oleObj>
          </a:graphicData>
        </a:graphic>
      </p:graphicFrame>
      <p:sp>
        <p:nvSpPr>
          <p:cNvPr id="782"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0" y="6324480"/>
            <a:ext cx="9144000" cy="53352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
          <p:cNvSpPr/>
          <p:nvPr/>
        </p:nvSpPr>
        <p:spPr>
          <a:xfrm>
            <a:off x="304920" y="1828800"/>
            <a:ext cx="3187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ge-specific rate per 1,000 person-years exposure</a:t>
            </a:r>
            <a:endParaRPr b="0" lang="en-US" sz="1200" spc="-1" strike="noStrike">
              <a:solidFill>
                <a:srgbClr val="000000"/>
              </a:solidFill>
              <a:latin typeface="Times New Roman"/>
            </a:endParaRPr>
          </a:p>
        </p:txBody>
      </p:sp>
      <p:sp>
        <p:nvSpPr>
          <p:cNvPr id="785" name=""/>
          <p:cNvSpPr/>
          <p:nvPr/>
        </p:nvSpPr>
        <p:spPr>
          <a:xfrm>
            <a:off x="-76320" y="6095880"/>
            <a:ext cx="914400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rgets: to be determined.</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SAMHSA, Office of Applied Studies, National Household Survey on Drug Abuse, 1999-2001.</a:t>
            </a:r>
            <a:endParaRPr b="0" lang="en-US" sz="1000" spc="-1" strike="noStrike">
              <a:solidFill>
                <a:srgbClr val="000000"/>
              </a:solidFill>
              <a:latin typeface="Times New Roman"/>
            </a:endParaRPr>
          </a:p>
        </p:txBody>
      </p:sp>
      <p:graphicFrame>
        <p:nvGraphicFramePr>
          <p:cNvPr id="786" name=""/>
          <p:cNvGraphicFramePr/>
          <p:nvPr/>
        </p:nvGraphicFramePr>
        <p:xfrm>
          <a:off x="8567640" y="6353280"/>
          <a:ext cx="576360" cy="504720"/>
        </p:xfrm>
        <a:graphic>
          <a:graphicData uri="http://schemas.openxmlformats.org/presentationml/2006/ole">
            <p:oleObj r:id="rId3" spid="">
              <p:embed/>
              <p:pic>
                <p:nvPicPr>
                  <p:cNvPr id="787" name="" descr=""/>
                  <p:cNvPicPr/>
                  <p:nvPr/>
                </p:nvPicPr>
                <p:blipFill>
                  <a:blip r:embed="rId4"/>
                  <a:stretch/>
                </p:blipFill>
                <p:spPr>
                  <a:xfrm>
                    <a:off x="8567640" y="6353280"/>
                    <a:ext cx="576360" cy="5047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75960"/>
            <a:ext cx="96775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cent of Mothers Who Reported Smoking During Pregnancy*, 2001</a:t>
            </a:r>
            <a:endParaRPr b="0" lang="en-US" sz="2800" spc="-1" strike="noStrike">
              <a:solidFill>
                <a:srgbClr val="000000"/>
              </a:solidFill>
              <a:latin typeface="Times New Roman"/>
            </a:endParaRPr>
          </a:p>
        </p:txBody>
      </p:sp>
      <p:graphicFrame>
        <p:nvGraphicFramePr>
          <p:cNvPr id="789" name=""/>
          <p:cNvGraphicFramePr/>
          <p:nvPr/>
        </p:nvGraphicFramePr>
        <p:xfrm>
          <a:off x="152280" y="1600200"/>
          <a:ext cx="8759880" cy="4191120"/>
        </p:xfrm>
        <a:graphic>
          <a:graphicData uri="http://schemas.openxmlformats.org/presentationml/2006/ole">
            <p:oleObj r:id="rId1" spid="">
              <p:embed/>
              <p:pic>
                <p:nvPicPr>
                  <p:cNvPr id="790" name="" descr=""/>
                  <p:cNvPicPr/>
                  <p:nvPr/>
                </p:nvPicPr>
                <p:blipFill>
                  <a:blip r:embed="rId2"/>
                  <a:stretch/>
                </p:blipFill>
                <p:spPr>
                  <a:xfrm>
                    <a:off x="152280" y="1600200"/>
                    <a:ext cx="8759880" cy="4191120"/>
                  </a:xfrm>
                  <a:prstGeom prst="rect">
                    <a:avLst/>
                  </a:prstGeom>
                  <a:ln w="0">
                    <a:noFill/>
                  </a:ln>
                </p:spPr>
              </p:pic>
            </p:oleObj>
          </a:graphicData>
        </a:graphic>
      </p:graphicFrame>
      <p:sp>
        <p:nvSpPr>
          <p:cNvPr id="791" name=""/>
          <p:cNvSpPr/>
          <p:nvPr/>
        </p:nvSpPr>
        <p:spPr>
          <a:xfrm>
            <a:off x="2133720" y="537840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5-17 years</a:t>
            </a:r>
            <a:endParaRPr b="0" lang="en-US" sz="1400" spc="-1" strike="noStrike">
              <a:solidFill>
                <a:srgbClr val="000000"/>
              </a:solidFill>
              <a:latin typeface="Times New Roman"/>
            </a:endParaRPr>
          </a:p>
        </p:txBody>
      </p:sp>
      <p:sp>
        <p:nvSpPr>
          <p:cNvPr id="792" name=""/>
          <p:cNvSpPr/>
          <p:nvPr/>
        </p:nvSpPr>
        <p:spPr>
          <a:xfrm>
            <a:off x="3733920" y="537840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24 years</a:t>
            </a:r>
            <a:endParaRPr b="0" lang="en-US" sz="1400" spc="-1" strike="noStrike">
              <a:solidFill>
                <a:srgbClr val="000000"/>
              </a:solidFill>
              <a:latin typeface="Times New Roman"/>
            </a:endParaRPr>
          </a:p>
        </p:txBody>
      </p:sp>
      <p:sp>
        <p:nvSpPr>
          <p:cNvPr id="793" name=""/>
          <p:cNvSpPr/>
          <p:nvPr/>
        </p:nvSpPr>
        <p:spPr>
          <a:xfrm>
            <a:off x="0" y="6172200"/>
            <a:ext cx="8458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 *</a:t>
            </a:r>
            <a:r>
              <a:rPr b="0" lang="en-US" sz="1000" spc="-1" strike="noStrike">
                <a:solidFill>
                  <a:srgbClr val="000000"/>
                </a:solidFill>
                <a:latin typeface="Arial"/>
              </a:rPr>
              <a:t>Total of 49 reporting States and D.C., e</a:t>
            </a:r>
            <a:r>
              <a:rPr b="0" lang="en-US" sz="1000" spc="-1" strike="noStrike">
                <a:solidFill>
                  <a:srgbClr val="000000"/>
                </a:solidFill>
                <a:latin typeface="Arial"/>
              </a:rPr>
              <a:t>xcludes data for California, which did not require reporting of tobacco use during pregnancy on birth certificates.   **14% quit during their first trimester (age adjusted to the 2000 standard population - objective 27-6).</a:t>
            </a:r>
            <a:endParaRPr b="0" lang="en-US" sz="1000" spc="-1" strike="noStrike">
              <a:solidFill>
                <a:srgbClr val="000000"/>
              </a:solidFill>
              <a:latin typeface="Times New Roman"/>
            </a:endParaRPr>
          </a:p>
        </p:txBody>
      </p:sp>
      <p:sp>
        <p:nvSpPr>
          <p:cNvPr id="794"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3124080" y="537840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8-19 years</a:t>
            </a:r>
            <a:endParaRPr b="0" lang="en-US" sz="1400" spc="-1" strike="noStrike">
              <a:solidFill>
                <a:srgbClr val="000000"/>
              </a:solidFill>
              <a:latin typeface="Times New Roman"/>
            </a:endParaRPr>
          </a:p>
        </p:txBody>
      </p:sp>
      <p:sp>
        <p:nvSpPr>
          <p:cNvPr id="797" name=""/>
          <p:cNvSpPr/>
          <p:nvPr/>
        </p:nvSpPr>
        <p:spPr>
          <a:xfrm>
            <a:off x="4724280" y="537840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5-29 years</a:t>
            </a:r>
            <a:endParaRPr b="0" lang="en-US" sz="1400" spc="-1" strike="noStrike">
              <a:solidFill>
                <a:srgbClr val="000000"/>
              </a:solidFill>
              <a:latin typeface="Times New Roman"/>
            </a:endParaRPr>
          </a:p>
        </p:txBody>
      </p:sp>
      <p:sp>
        <p:nvSpPr>
          <p:cNvPr id="798" name=""/>
          <p:cNvSpPr/>
          <p:nvPr/>
        </p:nvSpPr>
        <p:spPr>
          <a:xfrm>
            <a:off x="7710480" y="538164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40-54 years</a:t>
            </a:r>
            <a:endParaRPr b="0" lang="en-US" sz="1400" spc="-1" strike="noStrike">
              <a:solidFill>
                <a:srgbClr val="000000"/>
              </a:solidFill>
              <a:latin typeface="Times New Roman"/>
            </a:endParaRPr>
          </a:p>
        </p:txBody>
      </p:sp>
      <p:sp>
        <p:nvSpPr>
          <p:cNvPr id="799" name=""/>
          <p:cNvSpPr/>
          <p:nvPr/>
        </p:nvSpPr>
        <p:spPr>
          <a:xfrm>
            <a:off x="5715000" y="537840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30-34 years</a:t>
            </a:r>
            <a:endParaRPr b="0" lang="en-US" sz="1400" spc="-1" strike="noStrike">
              <a:solidFill>
                <a:srgbClr val="000000"/>
              </a:solidFill>
              <a:latin typeface="Times New Roman"/>
            </a:endParaRPr>
          </a:p>
        </p:txBody>
      </p:sp>
      <p:sp>
        <p:nvSpPr>
          <p:cNvPr id="800" name=""/>
          <p:cNvSpPr/>
          <p:nvPr/>
        </p:nvSpPr>
        <p:spPr>
          <a:xfrm>
            <a:off x="6705720" y="538164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35-39 years</a:t>
            </a:r>
            <a:endParaRPr b="0" lang="en-US" sz="1400" spc="-1" strike="noStrike">
              <a:solidFill>
                <a:srgbClr val="000000"/>
              </a:solidFill>
              <a:latin typeface="Times New Roman"/>
            </a:endParaRPr>
          </a:p>
        </p:txBody>
      </p:sp>
      <p:sp>
        <p:nvSpPr>
          <p:cNvPr id="801" name=""/>
          <p:cNvSpPr/>
          <p:nvPr/>
        </p:nvSpPr>
        <p:spPr>
          <a:xfrm>
            <a:off x="3442680" y="5791320"/>
            <a:ext cx="1892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 of Mother</a:t>
            </a:r>
            <a:endParaRPr b="0" lang="en-US" sz="2000" spc="-1" strike="noStrike">
              <a:solidFill>
                <a:srgbClr val="000000"/>
              </a:solidFill>
              <a:latin typeface="Times New Roman"/>
            </a:endParaRPr>
          </a:p>
        </p:txBody>
      </p:sp>
      <p:sp>
        <p:nvSpPr>
          <p:cNvPr id="802" name=""/>
          <p:cNvSpPr/>
          <p:nvPr/>
        </p:nvSpPr>
        <p:spPr>
          <a:xfrm>
            <a:off x="685800" y="5791320"/>
            <a:ext cx="8077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4800600" y="1384200"/>
            <a:ext cx="44956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1998,  20% of mothers 18-49 yea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ho smoked quit smokin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their pregnancy**</a:t>
            </a:r>
            <a:endParaRPr b="0" lang="en-US" sz="1600" spc="-1" strike="noStrike">
              <a:solidFill>
                <a:srgbClr val="000000"/>
              </a:solidFill>
              <a:latin typeface="Times New Roman"/>
            </a:endParaRPr>
          </a:p>
        </p:txBody>
      </p:sp>
      <p:sp>
        <p:nvSpPr>
          <p:cNvPr id="804" name=""/>
          <p:cNvSpPr/>
          <p:nvPr/>
        </p:nvSpPr>
        <p:spPr>
          <a:xfrm>
            <a:off x="5029200" y="1143000"/>
            <a:ext cx="3962520" cy="1143000"/>
          </a:xfrm>
          <a:prstGeom prst="ellipse">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155880" y="1447920"/>
            <a:ext cx="834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806" name=""/>
          <p:cNvSpPr/>
          <p:nvPr/>
        </p:nvSpPr>
        <p:spPr>
          <a:xfrm>
            <a:off x="-72360" y="6553080"/>
            <a:ext cx="7073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s: *National Vital Statistics System-Natality (NVSS-N), and **National Health Interview Survey (NHIS), NCHS, CDC.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07" name=""/>
          <p:cNvSpPr/>
          <p:nvPr/>
        </p:nvSpPr>
        <p:spPr>
          <a:xfrm>
            <a:off x="638280" y="536724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0-54 years</a:t>
            </a:r>
            <a:endParaRPr b="0" lang="en-US" sz="1400" spc="-1" strike="noStrike">
              <a:solidFill>
                <a:srgbClr val="000000"/>
              </a:solidFill>
              <a:latin typeface="Times New Roman"/>
            </a:endParaRPr>
          </a:p>
        </p:txBody>
      </p:sp>
      <p:graphicFrame>
        <p:nvGraphicFramePr>
          <p:cNvPr id="808" name=""/>
          <p:cNvGraphicFramePr/>
          <p:nvPr/>
        </p:nvGraphicFramePr>
        <p:xfrm>
          <a:off x="8534520" y="6324480"/>
          <a:ext cx="609480" cy="533520"/>
        </p:xfrm>
        <a:graphic>
          <a:graphicData uri="http://schemas.openxmlformats.org/presentationml/2006/ole">
            <p:oleObj r:id="rId3" spid="">
              <p:embed/>
              <p:pic>
                <p:nvPicPr>
                  <p:cNvPr id="809"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14040" y="210600"/>
            <a:ext cx="921996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cent of Mothers Who Reported Smoking During Pregnancy by Race/Ethnicity, 2001</a:t>
            </a:r>
            <a:endParaRPr b="0" lang="en-US" sz="2800" spc="-1" strike="noStrike">
              <a:solidFill>
                <a:srgbClr val="000000"/>
              </a:solidFill>
              <a:latin typeface="Times New Roman"/>
            </a:endParaRPr>
          </a:p>
        </p:txBody>
      </p:sp>
      <p:graphicFrame>
        <p:nvGraphicFramePr>
          <p:cNvPr id="811" name=""/>
          <p:cNvGraphicFramePr/>
          <p:nvPr/>
        </p:nvGraphicFramePr>
        <p:xfrm>
          <a:off x="42840" y="914400"/>
          <a:ext cx="4757760" cy="5067360"/>
        </p:xfrm>
        <a:graphic>
          <a:graphicData uri="http://schemas.openxmlformats.org/presentationml/2006/ole">
            <p:oleObj r:id="rId1" spid="">
              <p:embed/>
              <p:pic>
                <p:nvPicPr>
                  <p:cNvPr id="812" name="" descr=""/>
                  <p:cNvPicPr/>
                  <p:nvPr/>
                </p:nvPicPr>
                <p:blipFill>
                  <a:blip r:embed="rId2"/>
                  <a:stretch/>
                </p:blipFill>
                <p:spPr>
                  <a:xfrm>
                    <a:off x="42840" y="914400"/>
                    <a:ext cx="4757760" cy="5067360"/>
                  </a:xfrm>
                  <a:prstGeom prst="rect">
                    <a:avLst/>
                  </a:prstGeom>
                  <a:ln w="0">
                    <a:noFill/>
                  </a:ln>
                </p:spPr>
              </p:pic>
            </p:oleObj>
          </a:graphicData>
        </a:graphic>
      </p:graphicFrame>
      <p:sp>
        <p:nvSpPr>
          <p:cNvPr id="813" name=""/>
          <p:cNvSpPr/>
          <p:nvPr/>
        </p:nvSpPr>
        <p:spPr>
          <a:xfrm>
            <a:off x="4876920" y="541008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otal*</a:t>
            </a:r>
            <a:endParaRPr b="0" lang="en-US" sz="1600" spc="-1" strike="noStrike">
              <a:solidFill>
                <a:srgbClr val="000000"/>
              </a:solidFill>
              <a:latin typeface="Times New Roman"/>
            </a:endParaRPr>
          </a:p>
        </p:txBody>
      </p:sp>
      <p:sp>
        <p:nvSpPr>
          <p:cNvPr id="814" name=""/>
          <p:cNvSpPr/>
          <p:nvPr/>
        </p:nvSpPr>
        <p:spPr>
          <a:xfrm>
            <a:off x="0" y="6232680"/>
            <a:ext cx="8763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 Persons of Hispanic origin may be of any ra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of 49 reporting States and D.C., e</a:t>
            </a:r>
            <a:r>
              <a:rPr b="0" lang="en-US" sz="1000" spc="-1" strike="noStrike">
                <a:solidFill>
                  <a:srgbClr val="000000"/>
                </a:solidFill>
                <a:latin typeface="Arial"/>
              </a:rPr>
              <a:t>xcludes data for California, which did not require reporting of tobacco use during pregnancy on birth certificates. </a:t>
            </a:r>
            <a:endParaRPr b="0" lang="en-US" sz="1000" spc="-1" strike="noStrike">
              <a:solidFill>
                <a:srgbClr val="000000"/>
              </a:solidFill>
              <a:latin typeface="Times New Roman"/>
            </a:endParaRPr>
          </a:p>
        </p:txBody>
      </p:sp>
      <p:sp>
        <p:nvSpPr>
          <p:cNvPr id="815"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
          <p:cNvSpPr/>
          <p:nvPr/>
        </p:nvSpPr>
        <p:spPr>
          <a:xfrm>
            <a:off x="0" y="662940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
          <p:cNvSpPr/>
          <p:nvPr/>
        </p:nvSpPr>
        <p:spPr>
          <a:xfrm>
            <a:off x="5867280" y="5410080"/>
            <a:ext cx="12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Hispanic</a:t>
            </a:r>
            <a:endParaRPr b="0" lang="en-US" sz="1600" spc="-1" strike="noStrike">
              <a:solidFill>
                <a:srgbClr val="000000"/>
              </a:solidFill>
              <a:latin typeface="Times New Roman"/>
            </a:endParaRPr>
          </a:p>
        </p:txBody>
      </p:sp>
      <p:sp>
        <p:nvSpPr>
          <p:cNvPr id="818" name=""/>
          <p:cNvSpPr/>
          <p:nvPr/>
        </p:nvSpPr>
        <p:spPr>
          <a:xfrm>
            <a:off x="8229600" y="5410080"/>
            <a:ext cx="1295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lack, no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Hispanic</a:t>
            </a:r>
            <a:endParaRPr b="0" lang="en-US" sz="1600" spc="-1" strike="noStrike">
              <a:solidFill>
                <a:srgbClr val="000000"/>
              </a:solidFill>
              <a:latin typeface="Times New Roman"/>
            </a:endParaRPr>
          </a:p>
        </p:txBody>
      </p:sp>
      <p:sp>
        <p:nvSpPr>
          <p:cNvPr id="819" name=""/>
          <p:cNvSpPr/>
          <p:nvPr/>
        </p:nvSpPr>
        <p:spPr>
          <a:xfrm>
            <a:off x="7086600" y="5410080"/>
            <a:ext cx="1295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White, no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Hispanic</a:t>
            </a:r>
            <a:endParaRPr b="0" lang="en-US" sz="1600" spc="-1" strike="noStrike">
              <a:solidFill>
                <a:srgbClr val="000000"/>
              </a:solidFill>
              <a:latin typeface="Times New Roman"/>
            </a:endParaRPr>
          </a:p>
        </p:txBody>
      </p:sp>
      <p:graphicFrame>
        <p:nvGraphicFramePr>
          <p:cNvPr id="820" name=""/>
          <p:cNvGraphicFramePr/>
          <p:nvPr/>
        </p:nvGraphicFramePr>
        <p:xfrm>
          <a:off x="4648320" y="1042920"/>
          <a:ext cx="4481280" cy="4792680"/>
        </p:xfrm>
        <a:graphic>
          <a:graphicData uri="http://schemas.openxmlformats.org/presentationml/2006/ole">
            <p:oleObj r:id="rId3" spid="">
              <p:embed/>
              <p:pic>
                <p:nvPicPr>
                  <p:cNvPr id="821" name="" descr=""/>
                  <p:cNvPicPr/>
                  <p:nvPr/>
                </p:nvPicPr>
                <p:blipFill>
                  <a:blip r:embed="rId4"/>
                  <a:stretch/>
                </p:blipFill>
                <p:spPr>
                  <a:xfrm>
                    <a:off x="4648320" y="1042920"/>
                    <a:ext cx="4481280" cy="4792680"/>
                  </a:xfrm>
                  <a:prstGeom prst="rect">
                    <a:avLst/>
                  </a:prstGeom>
                  <a:ln w="0">
                    <a:noFill/>
                  </a:ln>
                </p:spPr>
              </p:pic>
            </p:oleObj>
          </a:graphicData>
        </a:graphic>
      </p:graphicFrame>
      <p:sp>
        <p:nvSpPr>
          <p:cNvPr id="822" name=""/>
          <p:cNvSpPr/>
          <p:nvPr/>
        </p:nvSpPr>
        <p:spPr>
          <a:xfrm>
            <a:off x="959760" y="1066680"/>
            <a:ext cx="2725920" cy="398880"/>
          </a:xfrm>
          <a:prstGeom prst="rect">
            <a:avLst/>
          </a:prstGeom>
          <a:solidFill>
            <a:srgbClr val="cdd5f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ther’s Age  15-19 </a:t>
            </a:r>
            <a:endParaRPr b="0" lang="en-US" sz="2000" spc="-1" strike="noStrike">
              <a:solidFill>
                <a:srgbClr val="000000"/>
              </a:solidFill>
              <a:latin typeface="Times New Roman"/>
            </a:endParaRPr>
          </a:p>
        </p:txBody>
      </p:sp>
      <p:sp>
        <p:nvSpPr>
          <p:cNvPr id="823" name=""/>
          <p:cNvSpPr/>
          <p:nvPr/>
        </p:nvSpPr>
        <p:spPr>
          <a:xfrm>
            <a:off x="380880" y="537840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otal*</a:t>
            </a:r>
            <a:endParaRPr b="0" lang="en-US" sz="1600" spc="-1" strike="noStrike">
              <a:solidFill>
                <a:srgbClr val="000000"/>
              </a:solidFill>
              <a:latin typeface="Times New Roman"/>
            </a:endParaRPr>
          </a:p>
        </p:txBody>
      </p:sp>
      <p:sp>
        <p:nvSpPr>
          <p:cNvPr id="824" name=""/>
          <p:cNvSpPr/>
          <p:nvPr/>
        </p:nvSpPr>
        <p:spPr>
          <a:xfrm>
            <a:off x="1523880" y="5378400"/>
            <a:ext cx="12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Hispanic</a:t>
            </a:r>
            <a:endParaRPr b="0" lang="en-US" sz="1600" spc="-1" strike="noStrike">
              <a:solidFill>
                <a:srgbClr val="000000"/>
              </a:solidFill>
              <a:latin typeface="Times New Roman"/>
            </a:endParaRPr>
          </a:p>
        </p:txBody>
      </p:sp>
      <p:sp>
        <p:nvSpPr>
          <p:cNvPr id="825" name=""/>
          <p:cNvSpPr/>
          <p:nvPr/>
        </p:nvSpPr>
        <p:spPr>
          <a:xfrm>
            <a:off x="2666880" y="5378400"/>
            <a:ext cx="129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White, not Hispanic</a:t>
            </a:r>
            <a:endParaRPr b="0" lang="en-US" sz="1600" spc="-1" strike="noStrike">
              <a:solidFill>
                <a:srgbClr val="000000"/>
              </a:solidFill>
              <a:latin typeface="Times New Roman"/>
            </a:endParaRPr>
          </a:p>
        </p:txBody>
      </p:sp>
      <p:sp>
        <p:nvSpPr>
          <p:cNvPr id="826" name=""/>
          <p:cNvSpPr/>
          <p:nvPr/>
        </p:nvSpPr>
        <p:spPr>
          <a:xfrm>
            <a:off x="3886200" y="5378400"/>
            <a:ext cx="1295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lack, not </a:t>
            </a:r>
            <a:br>
              <a:rPr sz="1600"/>
            </a:br>
            <a:r>
              <a:rPr b="1" lang="en-US" sz="1600" spc="-1" strike="noStrike">
                <a:solidFill>
                  <a:srgbClr val="000000"/>
                </a:solidFill>
                <a:latin typeface="Arial Narrow"/>
              </a:rPr>
              <a:t>Hispanic</a:t>
            </a:r>
            <a:endParaRPr b="0" lang="en-US" sz="1600" spc="-1" strike="noStrike">
              <a:solidFill>
                <a:srgbClr val="000000"/>
              </a:solidFill>
              <a:latin typeface="Times New Roman"/>
            </a:endParaRPr>
          </a:p>
        </p:txBody>
      </p:sp>
      <p:sp>
        <p:nvSpPr>
          <p:cNvPr id="827" name=""/>
          <p:cNvSpPr/>
          <p:nvPr/>
        </p:nvSpPr>
        <p:spPr>
          <a:xfrm>
            <a:off x="4858200" y="378288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3</a:t>
            </a:r>
            <a:endParaRPr b="0" lang="en-US" sz="1600" spc="-1" strike="noStrike">
              <a:solidFill>
                <a:srgbClr val="000000"/>
              </a:solidFill>
              <a:latin typeface="Times New Roman"/>
            </a:endParaRPr>
          </a:p>
        </p:txBody>
      </p:sp>
      <p:sp>
        <p:nvSpPr>
          <p:cNvPr id="828" name=""/>
          <p:cNvSpPr/>
          <p:nvPr/>
        </p:nvSpPr>
        <p:spPr>
          <a:xfrm>
            <a:off x="6080400" y="477360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1</a:t>
            </a:r>
            <a:endParaRPr b="0" lang="en-US" sz="1600" spc="-1" strike="noStrike">
              <a:solidFill>
                <a:srgbClr val="000000"/>
              </a:solidFill>
              <a:latin typeface="Times New Roman"/>
            </a:endParaRPr>
          </a:p>
        </p:txBody>
      </p:sp>
      <p:sp>
        <p:nvSpPr>
          <p:cNvPr id="829" name=""/>
          <p:cNvSpPr/>
          <p:nvPr/>
        </p:nvSpPr>
        <p:spPr>
          <a:xfrm>
            <a:off x="7164720" y="343044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2</a:t>
            </a:r>
            <a:endParaRPr b="0" lang="en-US" sz="1600" spc="-1" strike="noStrike">
              <a:solidFill>
                <a:srgbClr val="000000"/>
              </a:solidFill>
              <a:latin typeface="Times New Roman"/>
            </a:endParaRPr>
          </a:p>
        </p:txBody>
      </p:sp>
      <p:sp>
        <p:nvSpPr>
          <p:cNvPr id="830" name=""/>
          <p:cNvSpPr/>
          <p:nvPr/>
        </p:nvSpPr>
        <p:spPr>
          <a:xfrm>
            <a:off x="8398080" y="395280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6</a:t>
            </a:r>
            <a:endParaRPr b="0" lang="en-US" sz="1600" spc="-1" strike="noStrike">
              <a:solidFill>
                <a:srgbClr val="000000"/>
              </a:solidFill>
              <a:latin typeface="Times New Roman"/>
            </a:endParaRPr>
          </a:p>
        </p:txBody>
      </p:sp>
      <p:sp>
        <p:nvSpPr>
          <p:cNvPr id="831" name=""/>
          <p:cNvSpPr/>
          <p:nvPr/>
        </p:nvSpPr>
        <p:spPr>
          <a:xfrm>
            <a:off x="438480" y="302112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5</a:t>
            </a:r>
            <a:endParaRPr b="0" lang="en-US" sz="1600" spc="-1" strike="noStrike">
              <a:solidFill>
                <a:srgbClr val="000000"/>
              </a:solidFill>
              <a:latin typeface="Times New Roman"/>
            </a:endParaRPr>
          </a:p>
        </p:txBody>
      </p:sp>
      <p:sp>
        <p:nvSpPr>
          <p:cNvPr id="832" name=""/>
          <p:cNvSpPr/>
          <p:nvPr/>
        </p:nvSpPr>
        <p:spPr>
          <a:xfrm>
            <a:off x="1688040" y="462132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833" name=""/>
          <p:cNvSpPr/>
          <p:nvPr/>
        </p:nvSpPr>
        <p:spPr>
          <a:xfrm>
            <a:off x="2796120" y="149220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5</a:t>
            </a:r>
            <a:endParaRPr b="0" lang="en-US" sz="1600" spc="-1" strike="noStrike">
              <a:solidFill>
                <a:srgbClr val="000000"/>
              </a:solidFill>
              <a:latin typeface="Times New Roman"/>
            </a:endParaRPr>
          </a:p>
        </p:txBody>
      </p:sp>
      <p:sp>
        <p:nvSpPr>
          <p:cNvPr id="834" name=""/>
          <p:cNvSpPr/>
          <p:nvPr/>
        </p:nvSpPr>
        <p:spPr>
          <a:xfrm>
            <a:off x="4050000" y="424008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2</a:t>
            </a:r>
            <a:endParaRPr b="0" lang="en-US" sz="1600" spc="-1" strike="noStrike">
              <a:solidFill>
                <a:srgbClr val="000000"/>
              </a:solidFill>
              <a:latin typeface="Times New Roman"/>
            </a:endParaRPr>
          </a:p>
        </p:txBody>
      </p:sp>
      <p:sp>
        <p:nvSpPr>
          <p:cNvPr id="835" name=""/>
          <p:cNvSpPr/>
          <p:nvPr/>
        </p:nvSpPr>
        <p:spPr>
          <a:xfrm>
            <a:off x="360" y="838080"/>
            <a:ext cx="834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836" name=""/>
          <p:cNvSpPr/>
          <p:nvPr/>
        </p:nvSpPr>
        <p:spPr>
          <a:xfrm>
            <a:off x="5454720" y="1066680"/>
            <a:ext cx="2546280" cy="39888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ther’s Age 20-54 </a:t>
            </a:r>
            <a:endParaRPr b="0" lang="en-US" sz="2000" spc="-1" strike="noStrike">
              <a:solidFill>
                <a:srgbClr val="000000"/>
              </a:solidFill>
              <a:latin typeface="Times New Roman"/>
            </a:endParaRPr>
          </a:p>
        </p:txBody>
      </p:sp>
      <p:sp>
        <p:nvSpPr>
          <p:cNvPr id="837" name=""/>
          <p:cNvSpPr/>
          <p:nvPr/>
        </p:nvSpPr>
        <p:spPr>
          <a:xfrm>
            <a:off x="0" y="6629400"/>
            <a:ext cx="586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Vital Statistics System-Natality (NVSS-N), NCHS, CDC. </a:t>
            </a:r>
            <a:endParaRPr b="0" lang="en-US" sz="1000" spc="-1" strike="noStrike">
              <a:solidFill>
                <a:srgbClr val="000000"/>
              </a:solidFill>
              <a:latin typeface="Times New Roman"/>
            </a:endParaRPr>
          </a:p>
        </p:txBody>
      </p:sp>
      <p:graphicFrame>
        <p:nvGraphicFramePr>
          <p:cNvPr id="838" name=""/>
          <p:cNvGraphicFramePr/>
          <p:nvPr/>
        </p:nvGraphicFramePr>
        <p:xfrm>
          <a:off x="8534520" y="6400800"/>
          <a:ext cx="609480" cy="533520"/>
        </p:xfrm>
        <a:graphic>
          <a:graphicData uri="http://schemas.openxmlformats.org/presentationml/2006/ole">
            <p:oleObj r:id="rId5" spid="">
              <p:embed/>
              <p:pic>
                <p:nvPicPr>
                  <p:cNvPr id="839" name="" descr=""/>
                  <p:cNvPicPr/>
                  <p:nvPr/>
                </p:nvPicPr>
                <p:blipFill>
                  <a:blip r:embed="rId6"/>
                  <a:stretch/>
                </p:blipFill>
                <p:spPr>
                  <a:xfrm>
                    <a:off x="8534520" y="6400800"/>
                    <a:ext cx="609480" cy="533520"/>
                  </a:xfrm>
                  <a:prstGeom prst="rect">
                    <a:avLst/>
                  </a:prstGeom>
                  <a:ln w="0">
                    <a:noFill/>
                  </a:ln>
                  <a:effectLst>
                    <a:outerShdw dist="17819" dir="2700000" blurRad="0" rotWithShape="0">
                      <a:srgbClr val="ffffff"/>
                    </a:outerShdw>
                  </a:effectLst>
                </p:spPr>
              </p:pic>
            </p:oleObj>
          </a:graphicData>
        </a:graphic>
      </p:graphicFrame>
      <p:sp>
        <p:nvSpPr>
          <p:cNvPr id="840" name=""/>
          <p:cNvSpPr/>
          <p:nvPr/>
        </p:nvSpPr>
        <p:spPr>
          <a:xfrm>
            <a:off x="1800" y="6080040"/>
            <a:ext cx="1976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s include origin not sta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380880" y="228600"/>
            <a:ext cx="990576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7-9. Reported Exposure to Tobacco Smoke at Home:</a:t>
            </a:r>
            <a:br>
              <a:rPr sz="2800"/>
            </a:br>
            <a:r>
              <a:rPr b="1" lang="en-US" sz="2800" spc="-1" strike="noStrike">
                <a:solidFill>
                  <a:srgbClr val="000000"/>
                </a:solidFill>
                <a:latin typeface="Arial"/>
              </a:rPr>
              <a:t>Children ages 6 and under, 1998 </a:t>
            </a:r>
            <a:endParaRPr b="0" lang="en-US" sz="2800" spc="-1" strike="noStrike">
              <a:solidFill>
                <a:srgbClr val="000000"/>
              </a:solidFill>
              <a:latin typeface="Times New Roman"/>
            </a:endParaRPr>
          </a:p>
        </p:txBody>
      </p:sp>
      <p:graphicFrame>
        <p:nvGraphicFramePr>
          <p:cNvPr id="842" name=""/>
          <p:cNvGraphicFramePr/>
          <p:nvPr/>
        </p:nvGraphicFramePr>
        <p:xfrm>
          <a:off x="-174600" y="1600200"/>
          <a:ext cx="9318600" cy="4191120"/>
        </p:xfrm>
        <a:graphic>
          <a:graphicData uri="http://schemas.openxmlformats.org/presentationml/2006/ole">
            <p:oleObj r:id="rId1" spid="">
              <p:embed/>
              <p:pic>
                <p:nvPicPr>
                  <p:cNvPr id="843" name="" descr=""/>
                  <p:cNvPicPr/>
                  <p:nvPr/>
                </p:nvPicPr>
                <p:blipFill>
                  <a:blip r:embed="rId2"/>
                  <a:stretch/>
                </p:blipFill>
                <p:spPr>
                  <a:xfrm>
                    <a:off x="-174600" y="1600200"/>
                    <a:ext cx="9318600" cy="4191120"/>
                  </a:xfrm>
                  <a:prstGeom prst="rect">
                    <a:avLst/>
                  </a:prstGeom>
                  <a:ln w="0">
                    <a:noFill/>
                  </a:ln>
                </p:spPr>
              </p:pic>
            </p:oleObj>
          </a:graphicData>
        </a:graphic>
      </p:graphicFrame>
      <p:sp>
        <p:nvSpPr>
          <p:cNvPr id="844" name=""/>
          <p:cNvSpPr/>
          <p:nvPr/>
        </p:nvSpPr>
        <p:spPr>
          <a:xfrm>
            <a:off x="2971800" y="5440320"/>
            <a:ext cx="1274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Hispanic</a:t>
            </a:r>
            <a:endParaRPr b="0" lang="en-US" sz="1200" spc="-1" strike="noStrike">
              <a:solidFill>
                <a:srgbClr val="000000"/>
              </a:solidFill>
              <a:latin typeface="Times New Roman"/>
            </a:endParaRPr>
          </a:p>
        </p:txBody>
      </p:sp>
      <p:sp>
        <p:nvSpPr>
          <p:cNvPr id="845" name=""/>
          <p:cNvSpPr/>
          <p:nvPr/>
        </p:nvSpPr>
        <p:spPr>
          <a:xfrm>
            <a:off x="3801960" y="5410080"/>
            <a:ext cx="15321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lac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not Hispanic</a:t>
            </a:r>
            <a:endParaRPr b="0" lang="en-US" sz="1200" spc="-1" strike="noStrike">
              <a:solidFill>
                <a:srgbClr val="000000"/>
              </a:solidFill>
              <a:latin typeface="Times New Roman"/>
            </a:endParaRPr>
          </a:p>
        </p:txBody>
      </p:sp>
      <p:sp>
        <p:nvSpPr>
          <p:cNvPr id="846" name=""/>
          <p:cNvSpPr/>
          <p:nvPr/>
        </p:nvSpPr>
        <p:spPr>
          <a:xfrm>
            <a:off x="4724280" y="541008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hi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not Hispanic</a:t>
            </a:r>
            <a:endParaRPr b="0" lang="en-US" sz="1200" spc="-1" strike="noStrike">
              <a:solidFill>
                <a:srgbClr val="000000"/>
              </a:solidFill>
              <a:latin typeface="Times New Roman"/>
            </a:endParaRPr>
          </a:p>
        </p:txBody>
      </p:sp>
      <p:sp>
        <p:nvSpPr>
          <p:cNvPr id="847" name=""/>
          <p:cNvSpPr/>
          <p:nvPr/>
        </p:nvSpPr>
        <p:spPr>
          <a:xfrm>
            <a:off x="7162920" y="1600200"/>
            <a:ext cx="1768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848" name=""/>
          <p:cNvSpPr/>
          <p:nvPr/>
        </p:nvSpPr>
        <p:spPr>
          <a:xfrm>
            <a:off x="533520" y="4724280"/>
            <a:ext cx="8305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76320" y="6019920"/>
            <a:ext cx="8915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 </a:t>
            </a:r>
            <a:r>
              <a:rPr b="1" lang="en-US" sz="1000" spc="-1" strike="noStrike">
                <a:solidFill>
                  <a:srgbClr val="000000"/>
                </a:solidFill>
                <a:latin typeface="Arial"/>
              </a:rPr>
              <a:t> ##</a:t>
            </a:r>
            <a:r>
              <a:rPr b="0" lang="en-US" sz="1000" spc="-1" strike="noStrike">
                <a:solidFill>
                  <a:srgbClr val="000000"/>
                </a:solidFill>
                <a:latin typeface="Arial"/>
              </a:rPr>
              <a:t>Unreliable estimate, relative standard error &gt;3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 Exposure is defined as anyone smoking inside the home at least 4 days a week.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spanics may be of any race. American Indians, Alaska Natives, Asians, and Pacific Islanders may be of Hispanic origin.</a:t>
            </a:r>
            <a:endParaRPr b="0" lang="en-US" sz="1000" spc="-1" strike="noStrike">
              <a:solidFill>
                <a:srgbClr val="000000"/>
              </a:solidFill>
              <a:latin typeface="Times New Roman"/>
            </a:endParaRPr>
          </a:p>
        </p:txBody>
      </p:sp>
      <p:sp>
        <p:nvSpPr>
          <p:cNvPr id="850" name=""/>
          <p:cNvSpPr/>
          <p:nvPr/>
        </p:nvSpPr>
        <p:spPr>
          <a:xfrm>
            <a:off x="79560" y="15238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851"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7010280" y="17524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96840" y="5334120"/>
            <a:ext cx="127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otal</a:t>
            </a:r>
            <a:endParaRPr b="0" lang="en-US" sz="1600" spc="-1" strike="noStrike">
              <a:solidFill>
                <a:srgbClr val="000000"/>
              </a:solidFill>
              <a:latin typeface="Times New Roman"/>
            </a:endParaRPr>
          </a:p>
        </p:txBody>
      </p:sp>
      <p:sp>
        <p:nvSpPr>
          <p:cNvPr id="855" name=""/>
          <p:cNvSpPr/>
          <p:nvPr/>
        </p:nvSpPr>
        <p:spPr>
          <a:xfrm>
            <a:off x="5943600" y="5410080"/>
            <a:ext cx="1676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oor</a:t>
            </a:r>
            <a:endParaRPr b="0" lang="en-US" sz="1200" spc="-1" strike="noStrike">
              <a:solidFill>
                <a:srgbClr val="000000"/>
              </a:solidFill>
              <a:latin typeface="Times New Roman"/>
            </a:endParaRPr>
          </a:p>
        </p:txBody>
      </p:sp>
      <p:sp>
        <p:nvSpPr>
          <p:cNvPr id="856" name=""/>
          <p:cNvSpPr/>
          <p:nvPr/>
        </p:nvSpPr>
        <p:spPr>
          <a:xfrm>
            <a:off x="7848720" y="5410080"/>
            <a:ext cx="16761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idd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High</a:t>
            </a:r>
            <a:endParaRPr b="0" lang="en-US" sz="1200" spc="-1" strike="noStrike">
              <a:solidFill>
                <a:srgbClr val="000000"/>
              </a:solidFill>
              <a:latin typeface="Times New Roman"/>
            </a:endParaRPr>
          </a:p>
        </p:txBody>
      </p:sp>
      <p:sp>
        <p:nvSpPr>
          <p:cNvPr id="857" name=""/>
          <p:cNvSpPr/>
          <p:nvPr/>
        </p:nvSpPr>
        <p:spPr>
          <a:xfrm>
            <a:off x="-71640" y="6578640"/>
            <a:ext cx="3713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Interview Survey (NHIS), NCHS, CD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8" name=""/>
          <p:cNvSpPr/>
          <p:nvPr/>
        </p:nvSpPr>
        <p:spPr>
          <a:xfrm>
            <a:off x="6858000" y="541008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ea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poor</a:t>
            </a:r>
            <a:endParaRPr b="0" lang="en-US" sz="1200" spc="-1" strike="noStrike">
              <a:solidFill>
                <a:srgbClr val="000000"/>
              </a:solidFill>
              <a:latin typeface="Times New Roman"/>
            </a:endParaRPr>
          </a:p>
        </p:txBody>
      </p:sp>
      <p:graphicFrame>
        <p:nvGraphicFramePr>
          <p:cNvPr id="859" name=""/>
          <p:cNvGraphicFramePr/>
          <p:nvPr/>
        </p:nvGraphicFramePr>
        <p:xfrm>
          <a:off x="8686800" y="6477120"/>
          <a:ext cx="490680" cy="380880"/>
        </p:xfrm>
        <a:graphic>
          <a:graphicData uri="http://schemas.openxmlformats.org/presentationml/2006/ole">
            <p:oleObj r:id="rId3" spid="">
              <p:embed/>
              <p:pic>
                <p:nvPicPr>
                  <p:cNvPr id="860" name="" descr=""/>
                  <p:cNvPicPr/>
                  <p:nvPr/>
                </p:nvPicPr>
                <p:blipFill>
                  <a:blip r:embed="rId4"/>
                  <a:stretch/>
                </p:blipFill>
                <p:spPr>
                  <a:xfrm>
                    <a:off x="8686800" y="6477120"/>
                    <a:ext cx="490680" cy="380880"/>
                  </a:xfrm>
                  <a:prstGeom prst="rect">
                    <a:avLst/>
                  </a:prstGeom>
                  <a:ln w="0">
                    <a:noFill/>
                  </a:ln>
                  <a:effectLst>
                    <a:outerShdw dist="17819" dir="2700000" blurRad="0" rotWithShape="0">
                      <a:srgbClr val="ffffff"/>
                    </a:outerShdw>
                  </a:effectLst>
                </p:spPr>
              </p:pic>
            </p:oleObj>
          </a:graphicData>
        </a:graphic>
      </p:graphicFrame>
      <p:sp>
        <p:nvSpPr>
          <p:cNvPr id="861" name=""/>
          <p:cNvSpPr/>
          <p:nvPr/>
        </p:nvSpPr>
        <p:spPr>
          <a:xfrm>
            <a:off x="1066680" y="5334120"/>
            <a:ext cx="1600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merican India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laska Native</a:t>
            </a:r>
            <a:endParaRPr b="0" lang="en-US" sz="1200" spc="-1" strike="noStrike">
              <a:solidFill>
                <a:srgbClr val="000000"/>
              </a:solidFill>
              <a:latin typeface="Times New Roman"/>
            </a:endParaRPr>
          </a:p>
        </p:txBody>
      </p:sp>
      <p:sp>
        <p:nvSpPr>
          <p:cNvPr id="862" name=""/>
          <p:cNvSpPr/>
          <p:nvPr/>
        </p:nvSpPr>
        <p:spPr>
          <a:xfrm>
            <a:off x="2133720" y="5410080"/>
            <a:ext cx="1274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sian/Pacif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Islander</a:t>
            </a:r>
            <a:endParaRPr b="0" lang="en-US" sz="1200" spc="-1" strike="noStrike">
              <a:solidFill>
                <a:srgbClr val="000000"/>
              </a:solidFill>
              <a:latin typeface="Times New Roman"/>
            </a:endParaRPr>
          </a:p>
        </p:txBody>
      </p:sp>
      <p:sp>
        <p:nvSpPr>
          <p:cNvPr id="863" name=""/>
          <p:cNvSpPr/>
          <p:nvPr/>
        </p:nvSpPr>
        <p:spPr>
          <a:xfrm>
            <a:off x="1449360" y="25750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864" name=""/>
          <p:cNvSpPr/>
          <p:nvPr/>
        </p:nvSpPr>
        <p:spPr>
          <a:xfrm>
            <a:off x="2439360" y="49528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65" name=""/>
          <p:cNvSpPr/>
          <p:nvPr/>
        </p:nvSpPr>
        <p:spPr>
          <a:xfrm>
            <a:off x="2478240" y="4738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866" name=""/>
          <p:cNvSpPr/>
          <p:nvPr/>
        </p:nvSpPr>
        <p:spPr>
          <a:xfrm>
            <a:off x="6858360" y="5791320"/>
            <a:ext cx="167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mily Income Level</a:t>
            </a:r>
            <a:endParaRPr b="0" lang="en-US" sz="1200" spc="-1" strike="noStrike">
              <a:solidFill>
                <a:srgbClr val="000000"/>
              </a:solidFill>
              <a:latin typeface="Times New Roman"/>
            </a:endParaRPr>
          </a:p>
        </p:txBody>
      </p:sp>
      <p:sp>
        <p:nvSpPr>
          <p:cNvPr id="867" name=""/>
          <p:cNvSpPr/>
          <p:nvPr/>
        </p:nvSpPr>
        <p:spPr>
          <a:xfrm>
            <a:off x="6629400" y="5835600"/>
            <a:ext cx="2209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868" name="PlaceHolder 1"/>
          <p:cNvSpPr>
            <a:spLocks noGrp="1"/>
          </p:cNvSpPr>
          <p:nvPr>
            <p:ph/>
          </p:nvPr>
        </p:nvSpPr>
        <p:spPr>
          <a:xfrm>
            <a:off x="-76680" y="1142640"/>
            <a:ext cx="9372600" cy="4267080"/>
          </a:xfrm>
          <a:prstGeom prst="rect">
            <a:avLst/>
          </a:prstGeom>
          <a:noFill/>
          <a:ln w="0">
            <a:noFill/>
          </a:ln>
        </p:spPr>
        <p:txBody>
          <a:bodyPr lIns="90000" rIns="90000" tIns="46800" bIns="46800" anchor="t">
            <a:normAutofit fontScale="75000"/>
          </a:bodyPr>
          <a:p>
            <a:pPr marL="257040" indent="-257040">
              <a:lnSpc>
                <a:spcPct val="90000"/>
              </a:lnSpc>
              <a:spcBef>
                <a:spcPts val="700"/>
              </a:spcBef>
              <a:buClr>
                <a:srgbClr val="0054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Narrow"/>
              </a:rPr>
              <a:t>Rode in Car with Someone Who Was Smoking on at Least </a:t>
            </a: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Narrow"/>
              </a:rPr>
              <a:t>	</a:t>
            </a:r>
            <a:r>
              <a:rPr b="1" i="1" lang="en-US" sz="2800" spc="-1" strike="noStrike">
                <a:solidFill>
                  <a:srgbClr val="000000"/>
                </a:solidFill>
                <a:latin typeface="Arial Narrow"/>
              </a:rPr>
              <a:t>One of the Preceding Seven  Days:</a:t>
            </a:r>
            <a:endParaRPr b="0" lang="en-US" sz="2800" spc="-1" strike="noStrike">
              <a:solidFill>
                <a:srgbClr val="000000"/>
              </a:solidFill>
              <a:latin typeface="Times New Roman"/>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400" spc="-1" strike="noStrike">
                <a:solidFill>
                  <a:srgbClr val="000000"/>
                </a:solidFill>
                <a:latin typeface="Arial"/>
              </a:rPr>
              <a:t>Middle School Students: 34.3%**</a:t>
            </a:r>
            <a:endParaRPr b="0" lang="en-US" sz="2400" spc="-1" strike="noStrike">
              <a:solidFill>
                <a:srgbClr val="000000"/>
              </a:solidFill>
              <a:latin typeface="Times New Roman"/>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1400" spc="-1" strike="noStrike">
                <a:solidFill>
                  <a:srgbClr val="000000"/>
                </a:solidFill>
                <a:latin typeface="Arial"/>
              </a:rPr>
              <a:t>(range of 26 States: 21.7% in DC, to 45.5% in WV)</a:t>
            </a:r>
            <a:endParaRPr b="0" lang="en-US" sz="1400" spc="-1" strike="noStrike">
              <a:solidFill>
                <a:srgbClr val="000000"/>
              </a:solidFill>
              <a:latin typeface="Times New Roman"/>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2400" spc="-1" strike="noStrike">
                <a:solidFill>
                  <a:srgbClr val="000000"/>
                </a:solidFill>
                <a:latin typeface="Arial"/>
              </a:rPr>
              <a:t>High School Students: 29.2%**</a:t>
            </a:r>
            <a:endParaRPr b="0" lang="en-US" sz="2400" spc="-1" strike="noStrike">
              <a:solidFill>
                <a:srgbClr val="000000"/>
              </a:solidFill>
              <a:latin typeface="Times New Roman"/>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1400" spc="-1" strike="noStrike">
                <a:solidFill>
                  <a:srgbClr val="000000"/>
                </a:solidFill>
                <a:latin typeface="Arial"/>
              </a:rPr>
              <a:t>(range of 24 States: 19.9% in CO, to 43.3% in KY)</a:t>
            </a:r>
            <a:endParaRPr b="0" lang="en-US" sz="1400" spc="-1" strike="noStrike">
              <a:solidFill>
                <a:srgbClr val="000000"/>
              </a:solidFill>
              <a:latin typeface="Times New Roman"/>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57040" indent="-257040">
              <a:lnSpc>
                <a:spcPct val="90000"/>
              </a:lnSpc>
              <a:spcBef>
                <a:spcPts val="700"/>
              </a:spcBef>
              <a:buClr>
                <a:srgbClr val="0054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Narrow"/>
              </a:rPr>
              <a:t>Were in Same Room with Someone Who Was Smoking on at Least One of the Preceding Seven Days:</a:t>
            </a:r>
            <a:endParaRPr b="0" lang="en-US" sz="2800" spc="-1" strike="noStrike">
              <a:solidFill>
                <a:srgbClr val="000000"/>
              </a:solidFill>
              <a:latin typeface="Times New Roman"/>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Middle School Students: 49.1%** </a:t>
            </a:r>
            <a:endParaRPr b="0" lang="en-US" sz="2400" spc="-1" strike="noStrike">
              <a:solidFill>
                <a:srgbClr val="000000"/>
              </a:solidFill>
              <a:latin typeface="Times New Roman"/>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1400" spc="-1" strike="noStrike">
                <a:solidFill>
                  <a:srgbClr val="000000"/>
                </a:solidFill>
                <a:latin typeface="Arial"/>
              </a:rPr>
              <a:t>(range of 26 States: 36.4% in CA, to 63.7% in WV)</a:t>
            </a:r>
            <a:endParaRPr b="0" lang="en-US" sz="1400" spc="-1" strike="noStrike">
              <a:solidFill>
                <a:srgbClr val="000000"/>
              </a:solidFill>
              <a:latin typeface="Times New Roman"/>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2400" spc="-1" strike="noStrike">
                <a:solidFill>
                  <a:srgbClr val="000000"/>
                </a:solidFill>
                <a:latin typeface="Arial"/>
              </a:rPr>
              <a:t>High School Students: 56.5%**</a:t>
            </a:r>
            <a:endParaRPr b="0" lang="en-US" sz="2400" spc="-1" strike="noStrike">
              <a:solidFill>
                <a:srgbClr val="000000"/>
              </a:solidFill>
              <a:latin typeface="Times New Roman"/>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1400" spc="-1" strike="noStrike">
                <a:solidFill>
                  <a:srgbClr val="000000"/>
                </a:solidFill>
                <a:latin typeface="Arial"/>
              </a:rPr>
              <a:t>(range of 24 States: 39.7% in DC, to 71.5% in KY)</a:t>
            </a:r>
            <a:endParaRPr b="0" lang="en-US" sz="1400" spc="-1" strike="noStrike">
              <a:solidFill>
                <a:srgbClr val="000000"/>
              </a:solidFill>
              <a:latin typeface="Times New Roman"/>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57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257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57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557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557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9" name=""/>
          <p:cNvSpPr/>
          <p:nvPr/>
        </p:nvSpPr>
        <p:spPr>
          <a:xfrm>
            <a:off x="0" y="0"/>
            <a:ext cx="9144000" cy="114300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
          <p:cNvSpPr/>
          <p:nvPr/>
        </p:nvSpPr>
        <p:spPr>
          <a:xfrm>
            <a:off x="470160" y="0"/>
            <a:ext cx="84164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ported Environmental Tobacco</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moke Exposure in Nonsmokers*, 2000</a:t>
            </a:r>
            <a:endParaRPr b="0" lang="en-US" sz="3600" spc="-1" strike="noStrike">
              <a:solidFill>
                <a:srgbClr val="000000"/>
              </a:solidFill>
              <a:latin typeface="Times New Roman"/>
            </a:endParaRPr>
          </a:p>
        </p:txBody>
      </p:sp>
      <p:sp>
        <p:nvSpPr>
          <p:cNvPr id="872" name=""/>
          <p:cNvSpPr/>
          <p:nvPr/>
        </p:nvSpPr>
        <p:spPr>
          <a:xfrm>
            <a:off x="-74160" y="6553080"/>
            <a:ext cx="622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Youth Tobacco Survey (NYTS), OSH, NCCDPHP, CDC and American Legacy Foundation.</a:t>
            </a:r>
            <a:endParaRPr b="0" lang="en-US" sz="1000" spc="-1" strike="noStrike">
              <a:solidFill>
                <a:srgbClr val="000000"/>
              </a:solidFill>
              <a:latin typeface="Times New Roman"/>
            </a:endParaRPr>
          </a:p>
        </p:txBody>
      </p:sp>
      <p:sp>
        <p:nvSpPr>
          <p:cNvPr id="873" name=""/>
          <p:cNvSpPr/>
          <p:nvPr/>
        </p:nvSpPr>
        <p:spPr>
          <a:xfrm>
            <a:off x="1523880" y="3048120"/>
            <a:ext cx="5410440" cy="380880"/>
          </a:xfrm>
          <a:prstGeom prst="rect">
            <a:avLst/>
          </a:pr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523880" y="2057400"/>
            <a:ext cx="5410440" cy="380880"/>
          </a:xfrm>
          <a:prstGeom prst="rect">
            <a:avLst/>
          </a:pr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1523880" y="4876920"/>
            <a:ext cx="5410440" cy="380880"/>
          </a:xfrm>
          <a:prstGeom prst="rect">
            <a:avLst/>
          </a:pr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1523880" y="5638680"/>
            <a:ext cx="5410440" cy="381240"/>
          </a:xfrm>
          <a:prstGeom prst="rect">
            <a:avLst/>
          </a:pr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7" name=""/>
          <p:cNvGraphicFramePr/>
          <p:nvPr/>
        </p:nvGraphicFramePr>
        <p:xfrm>
          <a:off x="8534520" y="6324480"/>
          <a:ext cx="609480" cy="533520"/>
        </p:xfrm>
        <a:graphic>
          <a:graphicData uri="http://schemas.openxmlformats.org/presentationml/2006/ole">
            <p:oleObj r:id="rId1" spid="">
              <p:embed/>
              <p:pic>
                <p:nvPicPr>
                  <p:cNvPr id="878" name="" descr=""/>
                  <p:cNvPicPr/>
                  <p:nvPr/>
                </p:nvPicPr>
                <p:blipFill>
                  <a:blip r:embed="rId2"/>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879" name=""/>
          <p:cNvSpPr/>
          <p:nvPr/>
        </p:nvSpPr>
        <p:spPr>
          <a:xfrm>
            <a:off x="-83160" y="6324480"/>
            <a:ext cx="368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er cigarette smokers.  ** Median of State rat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152280" y="304920"/>
            <a:ext cx="952488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7-10. Exposure to Environmental Tobacco Smoke (ETS):</a:t>
            </a:r>
            <a:br>
              <a:rPr sz="2400"/>
            </a:br>
            <a:r>
              <a:rPr b="1" lang="en-US" sz="2400" spc="-1" strike="noStrike">
                <a:solidFill>
                  <a:srgbClr val="000000"/>
                </a:solidFill>
                <a:latin typeface="Arial"/>
              </a:rPr>
              <a:t>Nonsmokers* with Detectable Serum Cotinine Levels** </a:t>
            </a:r>
            <a:br>
              <a:rPr sz="2400"/>
            </a:br>
            <a:endParaRPr b="0" lang="en-US" sz="2400" spc="-1" strike="noStrike">
              <a:solidFill>
                <a:srgbClr val="000000"/>
              </a:solidFill>
              <a:latin typeface="Times New Roman"/>
            </a:endParaRPr>
          </a:p>
        </p:txBody>
      </p:sp>
      <p:graphicFrame>
        <p:nvGraphicFramePr>
          <p:cNvPr id="881" name=""/>
          <p:cNvGraphicFramePr/>
          <p:nvPr/>
        </p:nvGraphicFramePr>
        <p:xfrm>
          <a:off x="0" y="1371600"/>
          <a:ext cx="9144000" cy="4375080"/>
        </p:xfrm>
        <a:graphic>
          <a:graphicData uri="http://schemas.openxmlformats.org/presentationml/2006/ole">
            <p:oleObj r:id="rId1" spid="">
              <p:embed/>
              <p:pic>
                <p:nvPicPr>
                  <p:cNvPr id="882" name="" descr=""/>
                  <p:cNvPicPr/>
                  <p:nvPr/>
                </p:nvPicPr>
                <p:blipFill>
                  <a:blip r:embed="rId2"/>
                  <a:stretch/>
                </p:blipFill>
                <p:spPr>
                  <a:xfrm>
                    <a:off x="0" y="1371600"/>
                    <a:ext cx="9144000" cy="4375080"/>
                  </a:xfrm>
                  <a:prstGeom prst="rect">
                    <a:avLst/>
                  </a:prstGeom>
                  <a:ln w="0">
                    <a:noFill/>
                  </a:ln>
                </p:spPr>
              </p:pic>
            </p:oleObj>
          </a:graphicData>
        </a:graphic>
      </p:graphicFrame>
      <p:sp>
        <p:nvSpPr>
          <p:cNvPr id="883" name=""/>
          <p:cNvSpPr/>
          <p:nvPr/>
        </p:nvSpPr>
        <p:spPr>
          <a:xfrm>
            <a:off x="2270160" y="3429000"/>
            <a:ext cx="1768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sp>
        <p:nvSpPr>
          <p:cNvPr id="884" name=""/>
          <p:cNvSpPr/>
          <p:nvPr/>
        </p:nvSpPr>
        <p:spPr>
          <a:xfrm>
            <a:off x="5943600" y="1219320"/>
            <a:ext cx="304920" cy="304560"/>
          </a:xfrm>
          <a:prstGeom prst="rect">
            <a:avLst/>
          </a:prstGeom>
          <a:solidFill>
            <a:srgbClr val="cdd5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011480" y="1219320"/>
            <a:ext cx="200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8-94 Baseline</a:t>
            </a:r>
            <a:endParaRPr b="0" lang="en-US" sz="1400" spc="-1" strike="noStrike">
              <a:solidFill>
                <a:srgbClr val="000000"/>
              </a:solidFill>
              <a:latin typeface="Times New Roman"/>
            </a:endParaRPr>
          </a:p>
        </p:txBody>
      </p:sp>
      <p:sp>
        <p:nvSpPr>
          <p:cNvPr id="886" name=""/>
          <p:cNvSpPr/>
          <p:nvPr/>
        </p:nvSpPr>
        <p:spPr>
          <a:xfrm>
            <a:off x="-55440" y="5927760"/>
            <a:ext cx="8513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onsmokers defined by serum cotinine levels &lt; 11 ng/m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ctable serum cotinine levels: </a:t>
            </a:r>
            <a:r>
              <a:rPr b="0" lang="en-US" sz="1000" spc="-1" strike="noStrike" u="sng">
                <a:solidFill>
                  <a:srgbClr val="000000"/>
                </a:solidFill>
                <a:uFillTx/>
                <a:latin typeface="Arial"/>
              </a:rPr>
              <a:t>&gt;</a:t>
            </a:r>
            <a:r>
              <a:rPr b="0" lang="en-US" sz="1000" spc="-1" strike="noStrike">
                <a:solidFill>
                  <a:srgbClr val="000000"/>
                </a:solidFill>
                <a:latin typeface="Arial"/>
              </a:rPr>
              <a:t> .05 ng/mL and </a:t>
            </a:r>
            <a:r>
              <a:rPr b="0" lang="en-US" sz="1000" spc="-1" strike="noStrike" u="sng">
                <a:solidFill>
                  <a:srgbClr val="000000"/>
                </a:solidFill>
                <a:uFillTx/>
                <a:latin typeface="Arial"/>
              </a:rPr>
              <a:t>&lt;</a:t>
            </a:r>
            <a:r>
              <a:rPr b="0" lang="en-US" sz="1000" spc="-1" strike="noStrike">
                <a:solidFill>
                  <a:srgbClr val="000000"/>
                </a:solidFill>
                <a:latin typeface="Arial"/>
              </a:rPr>
              <a:t> 10 ng/m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 adjusted to the 2000 standard popula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and Nutrition Examination Survey (NHANES), CDC, NCHS.</a:t>
            </a:r>
            <a:endParaRPr b="0" lang="en-US" sz="1000" spc="-1" strike="noStrike">
              <a:solidFill>
                <a:srgbClr val="000000"/>
              </a:solidFill>
              <a:latin typeface="Times New Roman"/>
            </a:endParaRPr>
          </a:p>
        </p:txBody>
      </p:sp>
      <p:sp>
        <p:nvSpPr>
          <p:cNvPr id="887" name=""/>
          <p:cNvSpPr/>
          <p:nvPr/>
        </p:nvSpPr>
        <p:spPr>
          <a:xfrm>
            <a:off x="-24120" y="1219320"/>
            <a:ext cx="3059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ercent with detectable serum cotinine</a:t>
            </a:r>
            <a:endParaRPr b="0" lang="en-US" sz="1200" spc="-1" strike="noStrike">
              <a:solidFill>
                <a:srgbClr val="000000"/>
              </a:solidFill>
              <a:latin typeface="Times New Roman"/>
            </a:endParaRPr>
          </a:p>
        </p:txBody>
      </p:sp>
      <p:sp>
        <p:nvSpPr>
          <p:cNvPr id="888" name=""/>
          <p:cNvSpPr/>
          <p:nvPr/>
        </p:nvSpPr>
        <p:spPr>
          <a:xfrm>
            <a:off x="3733920" y="1219320"/>
            <a:ext cx="304560" cy="30456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324480" y="121932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9-2000</a:t>
            </a:r>
            <a:endParaRPr b="0" lang="en-US" sz="1400" spc="-1" strike="noStrike">
              <a:solidFill>
                <a:srgbClr val="000000"/>
              </a:solidFill>
              <a:latin typeface="Times New Roman"/>
            </a:endParaRPr>
          </a:p>
        </p:txBody>
      </p:sp>
      <p:sp>
        <p:nvSpPr>
          <p:cNvPr id="890" name=""/>
          <p:cNvSpPr/>
          <p:nvPr/>
        </p:nvSpPr>
        <p:spPr>
          <a:xfrm>
            <a:off x="4289040" y="5334120"/>
            <a:ext cx="1194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s 4-17 </a:t>
            </a:r>
            <a:endParaRPr b="0" lang="en-US" sz="1600" spc="-1" strike="noStrike">
              <a:solidFill>
                <a:srgbClr val="000000"/>
              </a:solidFill>
              <a:latin typeface="Times New Roman"/>
            </a:endParaRPr>
          </a:p>
        </p:txBody>
      </p:sp>
      <p:sp>
        <p:nvSpPr>
          <p:cNvPr id="891" name=""/>
          <p:cNvSpPr/>
          <p:nvPr/>
        </p:nvSpPr>
        <p:spPr>
          <a:xfrm>
            <a:off x="0" y="6597720"/>
            <a:ext cx="9144000" cy="26028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
          <p:cNvSpPr/>
          <p:nvPr/>
        </p:nvSpPr>
        <p:spPr>
          <a:xfrm>
            <a:off x="427680" y="5334120"/>
            <a:ext cx="223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ges 4 and older*** </a:t>
            </a:r>
            <a:endParaRPr b="0" lang="en-US" sz="1600" spc="-1" strike="noStrike">
              <a:solidFill>
                <a:srgbClr val="000000"/>
              </a:solidFill>
              <a:latin typeface="Times New Roman"/>
            </a:endParaRPr>
          </a:p>
        </p:txBody>
      </p:sp>
      <p:sp>
        <p:nvSpPr>
          <p:cNvPr id="894" name=""/>
          <p:cNvSpPr/>
          <p:nvPr/>
        </p:nvSpPr>
        <p:spPr>
          <a:xfrm>
            <a:off x="685800" y="3705120"/>
            <a:ext cx="815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6783840" y="5334120"/>
            <a:ext cx="1314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s 18+***</a:t>
            </a:r>
            <a:endParaRPr b="0" lang="en-US" sz="1600" spc="-1" strike="noStrike">
              <a:solidFill>
                <a:srgbClr val="000000"/>
              </a:solidFill>
              <a:latin typeface="Times New Roman"/>
            </a:endParaRPr>
          </a:p>
        </p:txBody>
      </p:sp>
      <p:sp>
        <p:nvSpPr>
          <p:cNvPr id="896" name=""/>
          <p:cNvSpPr/>
          <p:nvPr/>
        </p:nvSpPr>
        <p:spPr>
          <a:xfrm>
            <a:off x="-69840" y="6613560"/>
            <a:ext cx="4874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and Nutrition Examination Survey (NHANES), NCHS, CDC.</a:t>
            </a:r>
            <a:endParaRPr b="0" lang="en-US" sz="1000" spc="-1" strike="noStrike">
              <a:solidFill>
                <a:srgbClr val="000000"/>
              </a:solidFill>
              <a:latin typeface="Times New Roman"/>
            </a:endParaRPr>
          </a:p>
        </p:txBody>
      </p:sp>
      <p:graphicFrame>
        <p:nvGraphicFramePr>
          <p:cNvPr id="897" name=""/>
          <p:cNvGraphicFramePr/>
          <p:nvPr/>
        </p:nvGraphicFramePr>
        <p:xfrm>
          <a:off x="8534520" y="6324480"/>
          <a:ext cx="609480" cy="533520"/>
        </p:xfrm>
        <a:graphic>
          <a:graphicData uri="http://schemas.openxmlformats.org/presentationml/2006/ole">
            <p:oleObj r:id="rId3" spid="">
              <p:embed/>
              <p:pic>
                <p:nvPicPr>
                  <p:cNvPr id="898"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899" name=""/>
          <p:cNvSpPr/>
          <p:nvPr/>
        </p:nvSpPr>
        <p:spPr>
          <a:xfrm>
            <a:off x="4079880" y="5773680"/>
            <a:ext cx="5064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nually, ETS causes about 3,000 lung cancer deaths and 35,000 deaths from ischemic heart diseas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adult nonsmokers</a:t>
            </a:r>
            <a:endParaRPr b="0" lang="en-US" sz="1400" spc="-1" strike="noStrike">
              <a:solidFill>
                <a:srgbClr val="000000"/>
              </a:solidFill>
              <a:latin typeface="Times New Roman"/>
            </a:endParaRPr>
          </a:p>
        </p:txBody>
      </p:sp>
      <p:sp>
        <p:nvSpPr>
          <p:cNvPr id="900" name=""/>
          <p:cNvSpPr/>
          <p:nvPr/>
        </p:nvSpPr>
        <p:spPr>
          <a:xfrm>
            <a:off x="4129200" y="5608800"/>
            <a:ext cx="4952880" cy="847440"/>
          </a:xfrm>
          <a:prstGeom prst="ellipse">
            <a:avLst/>
          </a:prstGeom>
          <a:noFill/>
          <a:ln w="507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151920"/>
            <a:ext cx="10211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moking-Attributable Mortality, 1995-1999</a:t>
            </a:r>
            <a:endParaRPr b="0" lang="en-US" sz="3200" spc="-1" strike="noStrike">
              <a:solidFill>
                <a:srgbClr val="000000"/>
              </a:solidFill>
              <a:latin typeface="Times New Roman"/>
            </a:endParaRPr>
          </a:p>
        </p:txBody>
      </p:sp>
      <p:pic>
        <p:nvPicPr>
          <p:cNvPr id="152" name="" descr=""/>
          <p:cNvPicPr/>
          <p:nvPr/>
        </p:nvPicPr>
        <p:blipFill>
          <a:blip r:embed="rId1"/>
          <a:stretch/>
        </p:blipFill>
        <p:spPr>
          <a:xfrm>
            <a:off x="-76320" y="1143000"/>
            <a:ext cx="9448920" cy="4548240"/>
          </a:xfrm>
          <a:prstGeom prst="rect">
            <a:avLst/>
          </a:prstGeom>
          <a:ln w="0">
            <a:noFill/>
          </a:ln>
        </p:spPr>
      </p:pic>
      <p:sp>
        <p:nvSpPr>
          <p:cNvPr id="153" name=""/>
          <p:cNvSpPr/>
          <p:nvPr/>
        </p:nvSpPr>
        <p:spPr>
          <a:xfrm>
            <a:off x="76320" y="990720"/>
            <a:ext cx="739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average annual deaths </a:t>
            </a:r>
            <a:endParaRPr b="0" lang="en-US" sz="1400" spc="-1" strike="noStrike">
              <a:solidFill>
                <a:srgbClr val="000000"/>
              </a:solidFill>
              <a:latin typeface="Times New Roman"/>
            </a:endParaRPr>
          </a:p>
        </p:txBody>
      </p:sp>
      <p:sp>
        <p:nvSpPr>
          <p:cNvPr id="154" name=""/>
          <p:cNvSpPr/>
          <p:nvPr/>
        </p:nvSpPr>
        <p:spPr>
          <a:xfrm>
            <a:off x="0" y="6173640"/>
            <a:ext cx="83059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s: CDC. Annual Smoking –Attributable Mortality, Years of Potential Life Lost, and Economic Costs—United States, 1995-1999.  MMWR 2002 51;300-3.  Burn deaths from: Hall JR.  The U.S. smoking-material fire problem.  Quincy, Massachusetts: National Fire Protection Association, Fire Analysis and Research Division, 2001.  Environmental tobacco smoke deaths from: National Cancer Institute. Health effects of exposure to environmental tobacco smoke: the report of the California Environmental Protection Agency. Smoking and tobacco control monograph 10. Bethesda, Maryland: U.S. Department of Health and Human Services, National Institutes of Health, National Cancer Institute, 1999.</a:t>
            </a:r>
            <a:r>
              <a:rPr b="0" lang="en-US" sz="800" spc="-1" strike="noStrike">
                <a:solidFill>
                  <a:srgbClr val="ffffff"/>
                </a:solidFill>
                <a:latin typeface="Arial"/>
              </a:rPr>
              <a:t>. </a:t>
            </a:r>
            <a:r>
              <a:rPr b="0" lang="en-US" sz="800" spc="-1" strike="noStrike">
                <a:solidFill>
                  <a:srgbClr val="000000"/>
                </a:solidFill>
                <a:latin typeface="Arial"/>
              </a:rPr>
              <a:t> Total does not equal sum due to rounding.</a:t>
            </a:r>
            <a:endParaRPr b="0" lang="en-US" sz="800" spc="-1" strike="noStrike">
              <a:solidFill>
                <a:srgbClr val="000000"/>
              </a:solidFill>
              <a:latin typeface="Times New Roman"/>
            </a:endParaRPr>
          </a:p>
        </p:txBody>
      </p:sp>
      <p:sp>
        <p:nvSpPr>
          <p:cNvPr id="155" name=""/>
          <p:cNvSpPr/>
          <p:nvPr/>
        </p:nvSpPr>
        <p:spPr>
          <a:xfrm>
            <a:off x="2286000" y="54990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eoplasms</a:t>
            </a:r>
            <a:endParaRPr b="0" lang="en-US" sz="1400" spc="-1" strike="noStrike">
              <a:solidFill>
                <a:srgbClr val="000000"/>
              </a:solidFill>
              <a:latin typeface="Times New Roman"/>
            </a:endParaRPr>
          </a:p>
        </p:txBody>
      </p:sp>
      <p:sp>
        <p:nvSpPr>
          <p:cNvPr id="156" name=""/>
          <p:cNvSpPr/>
          <p:nvPr/>
        </p:nvSpPr>
        <p:spPr>
          <a:xfrm>
            <a:off x="3048120" y="5477040"/>
            <a:ext cx="160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ardiovascular diseases</a:t>
            </a:r>
            <a:endParaRPr b="0" lang="en-US" sz="1400" spc="-1" strike="noStrike">
              <a:solidFill>
                <a:srgbClr val="000000"/>
              </a:solidFill>
              <a:latin typeface="Times New Roman"/>
            </a:endParaRPr>
          </a:p>
        </p:txBody>
      </p:sp>
      <p:sp>
        <p:nvSpPr>
          <p:cNvPr id="157" name=""/>
          <p:cNvSpPr/>
          <p:nvPr/>
        </p:nvSpPr>
        <p:spPr>
          <a:xfrm>
            <a:off x="4267080" y="5451480"/>
            <a:ext cx="127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Respiratory disease </a:t>
            </a:r>
            <a:endParaRPr b="0" lang="en-US" sz="1400" spc="-1" strike="noStrike">
              <a:solidFill>
                <a:srgbClr val="000000"/>
              </a:solidFill>
              <a:latin typeface="Times New Roman"/>
            </a:endParaRPr>
          </a:p>
        </p:txBody>
      </p:sp>
      <p:sp>
        <p:nvSpPr>
          <p:cNvPr id="158" name=""/>
          <p:cNvSpPr/>
          <p:nvPr/>
        </p:nvSpPr>
        <p:spPr>
          <a:xfrm>
            <a:off x="533520" y="548640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otal</a:t>
            </a:r>
            <a:endParaRPr b="0" lang="en-US" sz="1800" spc="-1" strike="noStrike">
              <a:solidFill>
                <a:srgbClr val="000000"/>
              </a:solidFill>
              <a:latin typeface="Times New Roman"/>
            </a:endParaRPr>
          </a:p>
        </p:txBody>
      </p:sp>
      <p:sp>
        <p:nvSpPr>
          <p:cNvPr id="159" name=""/>
          <p:cNvSpPr/>
          <p:nvPr/>
        </p:nvSpPr>
        <p:spPr>
          <a:xfrm>
            <a:off x="0" y="0"/>
            <a:ext cx="9144000" cy="27468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0" name=""/>
          <p:cNvGraphicFramePr/>
          <p:nvPr/>
        </p:nvGraphicFramePr>
        <p:xfrm>
          <a:off x="8610480" y="6410160"/>
          <a:ext cx="533520" cy="447840"/>
        </p:xfrm>
        <a:graphic>
          <a:graphicData uri="http://schemas.openxmlformats.org/presentationml/2006/ole">
            <p:oleObj r:id="rId2" spid="">
              <p:embed/>
              <p:pic>
                <p:nvPicPr>
                  <p:cNvPr id="161" name="" descr=""/>
                  <p:cNvPicPr/>
                  <p:nvPr/>
                </p:nvPicPr>
                <p:blipFill>
                  <a:blip r:embed="rId3"/>
                  <a:stretch/>
                </p:blipFill>
                <p:spPr>
                  <a:xfrm>
                    <a:off x="8610480" y="6410160"/>
                    <a:ext cx="533520" cy="447840"/>
                  </a:xfrm>
                  <a:prstGeom prst="rect">
                    <a:avLst/>
                  </a:prstGeom>
                  <a:ln w="0">
                    <a:noFill/>
                  </a:ln>
                  <a:effectLst>
                    <a:outerShdw dist="17819" dir="2700000" blurRad="0" rotWithShape="0">
                      <a:srgbClr val="ffffff"/>
                    </a:outerShdw>
                  </a:effectLst>
                </p:spPr>
              </p:pic>
            </p:oleObj>
          </a:graphicData>
        </a:graphic>
      </p:graphicFrame>
      <p:sp>
        <p:nvSpPr>
          <p:cNvPr id="162" name=""/>
          <p:cNvSpPr/>
          <p:nvPr/>
        </p:nvSpPr>
        <p:spPr>
          <a:xfrm>
            <a:off x="5181480" y="5477040"/>
            <a:ext cx="127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erinatal conditions</a:t>
            </a:r>
            <a:endParaRPr b="0" lang="en-US" sz="1400" spc="-1" strike="noStrike">
              <a:solidFill>
                <a:srgbClr val="000000"/>
              </a:solidFill>
              <a:latin typeface="Times New Roman"/>
            </a:endParaRPr>
          </a:p>
        </p:txBody>
      </p:sp>
      <p:sp>
        <p:nvSpPr>
          <p:cNvPr id="163" name=""/>
          <p:cNvSpPr/>
          <p:nvPr/>
        </p:nvSpPr>
        <p:spPr>
          <a:xfrm>
            <a:off x="6075360" y="5475240"/>
            <a:ext cx="127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ur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deaths </a:t>
            </a:r>
            <a:endParaRPr b="0" lang="en-US" sz="1400" spc="-1" strike="noStrike">
              <a:solidFill>
                <a:srgbClr val="000000"/>
              </a:solidFill>
              <a:latin typeface="Times New Roman"/>
            </a:endParaRPr>
          </a:p>
        </p:txBody>
      </p:sp>
      <p:sp>
        <p:nvSpPr>
          <p:cNvPr id="164" name=""/>
          <p:cNvSpPr/>
          <p:nvPr/>
        </p:nvSpPr>
        <p:spPr>
          <a:xfrm>
            <a:off x="7392240" y="5495760"/>
            <a:ext cx="531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otal</a:t>
            </a:r>
            <a:endParaRPr b="0" lang="en-US" sz="1400" spc="-1" strike="noStrike">
              <a:solidFill>
                <a:srgbClr val="000000"/>
              </a:solidFill>
              <a:latin typeface="Times New Roman"/>
            </a:endParaRPr>
          </a:p>
        </p:txBody>
      </p:sp>
      <p:sp>
        <p:nvSpPr>
          <p:cNvPr id="165" name=""/>
          <p:cNvSpPr/>
          <p:nvPr/>
        </p:nvSpPr>
        <p:spPr>
          <a:xfrm>
            <a:off x="7850880" y="5535720"/>
            <a:ext cx="5158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Lu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ancer</a:t>
            </a:r>
            <a:endParaRPr b="0" lang="en-US" sz="1000" spc="-1" strike="noStrike">
              <a:solidFill>
                <a:srgbClr val="000000"/>
              </a:solidFill>
              <a:latin typeface="Times New Roman"/>
            </a:endParaRPr>
          </a:p>
        </p:txBody>
      </p:sp>
      <p:sp>
        <p:nvSpPr>
          <p:cNvPr id="166" name=""/>
          <p:cNvSpPr/>
          <p:nvPr/>
        </p:nvSpPr>
        <p:spPr>
          <a:xfrm>
            <a:off x="8269920" y="5535720"/>
            <a:ext cx="8755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chemi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heart disease</a:t>
            </a:r>
            <a:endParaRPr b="0" lang="en-US" sz="1000" spc="-1" strike="noStrike">
              <a:solidFill>
                <a:srgbClr val="000000"/>
              </a:solidFill>
              <a:latin typeface="Times New Roman"/>
            </a:endParaRPr>
          </a:p>
        </p:txBody>
      </p:sp>
      <p:sp>
        <p:nvSpPr>
          <p:cNvPr id="167" name=""/>
          <p:cNvSpPr/>
          <p:nvPr/>
        </p:nvSpPr>
        <p:spPr>
          <a:xfrm>
            <a:off x="7391520" y="5943600"/>
            <a:ext cx="1689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162920" y="5943600"/>
            <a:ext cx="251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Environmental Tobacc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Smoke</a:t>
            </a:r>
            <a:endParaRPr b="0" lang="en-US" sz="1400" spc="-1" strike="noStrike">
              <a:solidFill>
                <a:srgbClr val="000000"/>
              </a:solidFill>
              <a:latin typeface="Times New Roman"/>
            </a:endParaRPr>
          </a:p>
        </p:txBody>
      </p:sp>
      <p:sp>
        <p:nvSpPr>
          <p:cNvPr id="169" name=""/>
          <p:cNvSpPr/>
          <p:nvPr/>
        </p:nvSpPr>
        <p:spPr>
          <a:xfrm>
            <a:off x="5499000" y="5511960"/>
            <a:ext cx="457200" cy="0"/>
          </a:xfrm>
          <a:prstGeom prst="line">
            <a:avLst/>
          </a:prstGeom>
          <a:ln w="3168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518160" y="5516640"/>
            <a:ext cx="457200" cy="0"/>
          </a:xfrm>
          <a:prstGeom prst="line">
            <a:avLst/>
          </a:prstGeom>
          <a:ln w="316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76680" y="151920"/>
            <a:ext cx="952524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7-10. Exposure to Environmental Tobacco Smoke: Nonsmokers* with Detectable Cotinine Levels**, </a:t>
            </a:r>
            <a:br>
              <a:rPr sz="2800"/>
            </a:br>
            <a:r>
              <a:rPr b="1" lang="en-US" sz="2800" spc="-1" strike="noStrike">
                <a:solidFill>
                  <a:srgbClr val="000000"/>
                </a:solidFill>
                <a:latin typeface="Arial"/>
              </a:rPr>
              <a:t>Ages 4 to 17</a:t>
            </a:r>
            <a:endParaRPr b="0" lang="en-US" sz="2800" spc="-1" strike="noStrike">
              <a:solidFill>
                <a:srgbClr val="000000"/>
              </a:solidFill>
              <a:latin typeface="Times New Roman"/>
            </a:endParaRPr>
          </a:p>
        </p:txBody>
      </p:sp>
      <p:graphicFrame>
        <p:nvGraphicFramePr>
          <p:cNvPr id="902" name=""/>
          <p:cNvGraphicFramePr/>
          <p:nvPr/>
        </p:nvGraphicFramePr>
        <p:xfrm>
          <a:off x="0" y="1600200"/>
          <a:ext cx="9144000" cy="4375080"/>
        </p:xfrm>
        <a:graphic>
          <a:graphicData uri="http://schemas.openxmlformats.org/presentationml/2006/ole">
            <p:oleObj r:id="rId1" spid="">
              <p:embed/>
              <p:pic>
                <p:nvPicPr>
                  <p:cNvPr id="903" name="" descr=""/>
                  <p:cNvPicPr/>
                  <p:nvPr/>
                </p:nvPicPr>
                <p:blipFill>
                  <a:blip r:embed="rId2"/>
                  <a:stretch/>
                </p:blipFill>
                <p:spPr>
                  <a:xfrm>
                    <a:off x="0" y="1600200"/>
                    <a:ext cx="9144000" cy="4375080"/>
                  </a:xfrm>
                  <a:prstGeom prst="rect">
                    <a:avLst/>
                  </a:prstGeom>
                  <a:ln w="0">
                    <a:noFill/>
                  </a:ln>
                </p:spPr>
              </p:pic>
            </p:oleObj>
          </a:graphicData>
        </a:graphic>
      </p:graphicFrame>
      <p:sp>
        <p:nvSpPr>
          <p:cNvPr id="904" name=""/>
          <p:cNvSpPr/>
          <p:nvPr/>
        </p:nvSpPr>
        <p:spPr>
          <a:xfrm>
            <a:off x="1981080" y="3657600"/>
            <a:ext cx="1768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sp>
        <p:nvSpPr>
          <p:cNvPr id="905" name=""/>
          <p:cNvSpPr/>
          <p:nvPr/>
        </p:nvSpPr>
        <p:spPr>
          <a:xfrm>
            <a:off x="6400800" y="1523880"/>
            <a:ext cx="304920" cy="304920"/>
          </a:xfrm>
          <a:prstGeom prst="rect">
            <a:avLst/>
          </a:prstGeom>
          <a:solidFill>
            <a:srgbClr val="cdd5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392720" y="1523880"/>
            <a:ext cx="200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8-94 Baseline</a:t>
            </a:r>
            <a:endParaRPr b="0" lang="en-US" sz="1400" spc="-1" strike="noStrike">
              <a:solidFill>
                <a:srgbClr val="000000"/>
              </a:solidFill>
              <a:latin typeface="Times New Roman"/>
            </a:endParaRPr>
          </a:p>
        </p:txBody>
      </p:sp>
      <p:sp>
        <p:nvSpPr>
          <p:cNvPr id="907" name=""/>
          <p:cNvSpPr/>
          <p:nvPr/>
        </p:nvSpPr>
        <p:spPr>
          <a:xfrm>
            <a:off x="-86400" y="1525680"/>
            <a:ext cx="354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ercent with detectable serum cotinine</a:t>
            </a:r>
            <a:endParaRPr b="0" lang="en-US" sz="1400" spc="-1" strike="noStrike">
              <a:solidFill>
                <a:srgbClr val="000000"/>
              </a:solidFill>
              <a:latin typeface="Times New Roman"/>
            </a:endParaRPr>
          </a:p>
        </p:txBody>
      </p:sp>
      <p:sp>
        <p:nvSpPr>
          <p:cNvPr id="908" name=""/>
          <p:cNvSpPr/>
          <p:nvPr/>
        </p:nvSpPr>
        <p:spPr>
          <a:xfrm>
            <a:off x="4114800" y="1523880"/>
            <a:ext cx="304920" cy="30492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6705720" y="15238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9-2000</a:t>
            </a:r>
            <a:endParaRPr b="0" lang="en-US" sz="1400" spc="-1" strike="noStrike">
              <a:solidFill>
                <a:srgbClr val="000000"/>
              </a:solidFill>
              <a:latin typeface="Times New Roman"/>
            </a:endParaRPr>
          </a:p>
        </p:txBody>
      </p:sp>
      <p:sp>
        <p:nvSpPr>
          <p:cNvPr id="910" name=""/>
          <p:cNvSpPr/>
          <p:nvPr/>
        </p:nvSpPr>
        <p:spPr>
          <a:xfrm>
            <a:off x="3325320" y="5562720"/>
            <a:ext cx="1780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Mexican American </a:t>
            </a:r>
            <a:endParaRPr b="0" lang="en-US" sz="1600" spc="-1" strike="noStrike">
              <a:solidFill>
                <a:srgbClr val="000000"/>
              </a:solidFill>
              <a:latin typeface="Times New Roman"/>
            </a:endParaRPr>
          </a:p>
        </p:txBody>
      </p:sp>
      <p:sp>
        <p:nvSpPr>
          <p:cNvPr id="911" name=""/>
          <p:cNvSpPr/>
          <p:nvPr/>
        </p:nvSpPr>
        <p:spPr>
          <a:xfrm>
            <a:off x="0" y="6629400"/>
            <a:ext cx="9144000" cy="30492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991800" y="554040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a:t>
            </a:r>
            <a:endParaRPr b="0" lang="en-US" sz="1800" spc="-1" strike="noStrike">
              <a:solidFill>
                <a:srgbClr val="000000"/>
              </a:solidFill>
              <a:latin typeface="Times New Roman"/>
            </a:endParaRPr>
          </a:p>
        </p:txBody>
      </p:sp>
      <p:sp>
        <p:nvSpPr>
          <p:cNvPr id="914" name=""/>
          <p:cNvSpPr/>
          <p:nvPr/>
        </p:nvSpPr>
        <p:spPr>
          <a:xfrm>
            <a:off x="685800" y="3933720"/>
            <a:ext cx="815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7174800" y="5560920"/>
            <a:ext cx="181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White, not Hispanic </a:t>
            </a:r>
            <a:endParaRPr b="0" lang="en-US" sz="1600" spc="-1" strike="noStrike">
              <a:solidFill>
                <a:srgbClr val="000000"/>
              </a:solidFill>
              <a:latin typeface="Times New Roman"/>
            </a:endParaRPr>
          </a:p>
        </p:txBody>
      </p:sp>
      <p:sp>
        <p:nvSpPr>
          <p:cNvPr id="916" name=""/>
          <p:cNvSpPr/>
          <p:nvPr/>
        </p:nvSpPr>
        <p:spPr>
          <a:xfrm>
            <a:off x="5354640" y="5560920"/>
            <a:ext cx="180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Black, not Hispanic </a:t>
            </a:r>
            <a:endParaRPr b="0" lang="en-US" sz="1600" spc="-1" strike="noStrike">
              <a:solidFill>
                <a:srgbClr val="000000"/>
              </a:solidFill>
              <a:latin typeface="Times New Roman"/>
            </a:endParaRPr>
          </a:p>
        </p:txBody>
      </p:sp>
      <p:sp>
        <p:nvSpPr>
          <p:cNvPr id="917" name=""/>
          <p:cNvSpPr/>
          <p:nvPr/>
        </p:nvSpPr>
        <p:spPr>
          <a:xfrm>
            <a:off x="-69840" y="6608880"/>
            <a:ext cx="4874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and Nutrition Examination Survey (NHANES), NCHS, CDC.</a:t>
            </a:r>
            <a:endParaRPr b="0" lang="en-US" sz="1000" spc="-1" strike="noStrike">
              <a:solidFill>
                <a:srgbClr val="000000"/>
              </a:solidFill>
              <a:latin typeface="Times New Roman"/>
            </a:endParaRPr>
          </a:p>
        </p:txBody>
      </p:sp>
      <p:sp>
        <p:nvSpPr>
          <p:cNvPr id="918" name=""/>
          <p:cNvSpPr/>
          <p:nvPr/>
        </p:nvSpPr>
        <p:spPr>
          <a:xfrm>
            <a:off x="-55440" y="5927760"/>
            <a:ext cx="8513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onsmokers defined by serum cotinine levels &lt; 11 ng/mL.</a:t>
            </a: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ctable serum cotinine levels: </a:t>
            </a:r>
            <a:r>
              <a:rPr b="0" lang="en-US" sz="1000" spc="-1" strike="noStrike" u="sng">
                <a:solidFill>
                  <a:srgbClr val="000000"/>
                </a:solidFill>
                <a:uFillTx/>
                <a:latin typeface="Arial"/>
              </a:rPr>
              <a:t>&gt;</a:t>
            </a:r>
            <a:r>
              <a:rPr b="0" lang="en-US" sz="1000" spc="-1" strike="noStrike">
                <a:solidFill>
                  <a:srgbClr val="000000"/>
                </a:solidFill>
                <a:latin typeface="Arial"/>
              </a:rPr>
              <a:t> .05 ng/mL and </a:t>
            </a:r>
            <a:r>
              <a:rPr b="0" lang="en-US" sz="1000" spc="-1" strike="noStrike" u="sng">
                <a:solidFill>
                  <a:srgbClr val="000000"/>
                </a:solidFill>
                <a:uFillTx/>
                <a:latin typeface="Arial"/>
              </a:rPr>
              <a:t>&lt;</a:t>
            </a:r>
            <a:r>
              <a:rPr b="0" lang="en-US" sz="1000" spc="-1" strike="noStrike">
                <a:solidFill>
                  <a:srgbClr val="000000"/>
                </a:solidFill>
                <a:latin typeface="Arial"/>
              </a:rPr>
              <a:t> 10 ng/mL. </a:t>
            </a:r>
            <a:r>
              <a:rPr b="0" lang="en-US" sz="1000" spc="-1" strike="noStrike">
                <a:solidFill>
                  <a:srgbClr val="ffffff"/>
                </a:solidFill>
                <a:latin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000000"/>
                </a:solidFill>
                <a:latin typeface="Arial"/>
              </a:rPr>
              <a:t>Note: Data for other Hispanics, American Indians, Alaska Natives, Asians and Pacific Islanders are unreliabl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aphicFrame>
        <p:nvGraphicFramePr>
          <p:cNvPr id="919" name=""/>
          <p:cNvGraphicFramePr/>
          <p:nvPr/>
        </p:nvGraphicFramePr>
        <p:xfrm>
          <a:off x="8534520" y="6324480"/>
          <a:ext cx="609480" cy="533520"/>
        </p:xfrm>
        <a:graphic>
          <a:graphicData uri="http://schemas.openxmlformats.org/presentationml/2006/ole">
            <p:oleObj r:id="rId3" spid="">
              <p:embed/>
              <p:pic>
                <p:nvPicPr>
                  <p:cNvPr id="920"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228600" y="151920"/>
            <a:ext cx="952488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7-10. Exposure to Environmental Tobacco Smoke:  Nonsmokers* with Detectable Cotinine Levels**, </a:t>
            </a:r>
            <a:br>
              <a:rPr sz="2400"/>
            </a:br>
            <a:r>
              <a:rPr b="1" lang="en-US" sz="2400" spc="-1" strike="noStrike">
                <a:solidFill>
                  <a:srgbClr val="000000"/>
                </a:solidFill>
                <a:latin typeface="Arial"/>
              </a:rPr>
              <a:t>Ages 18 and older</a:t>
            </a:r>
            <a:endParaRPr b="0" lang="en-US" sz="2400" spc="-1" strike="noStrike">
              <a:solidFill>
                <a:srgbClr val="000000"/>
              </a:solidFill>
              <a:latin typeface="Times New Roman"/>
            </a:endParaRPr>
          </a:p>
        </p:txBody>
      </p:sp>
      <p:graphicFrame>
        <p:nvGraphicFramePr>
          <p:cNvPr id="922" name=""/>
          <p:cNvGraphicFramePr/>
          <p:nvPr/>
        </p:nvGraphicFramePr>
        <p:xfrm>
          <a:off x="0" y="1600200"/>
          <a:ext cx="9144000" cy="4375080"/>
        </p:xfrm>
        <a:graphic>
          <a:graphicData uri="http://schemas.openxmlformats.org/presentationml/2006/ole">
            <p:oleObj r:id="rId1" spid="">
              <p:embed/>
              <p:pic>
                <p:nvPicPr>
                  <p:cNvPr id="923" name="" descr=""/>
                  <p:cNvPicPr/>
                  <p:nvPr/>
                </p:nvPicPr>
                <p:blipFill>
                  <a:blip r:embed="rId2"/>
                  <a:stretch/>
                </p:blipFill>
                <p:spPr>
                  <a:xfrm>
                    <a:off x="0" y="1600200"/>
                    <a:ext cx="9144000" cy="4375080"/>
                  </a:xfrm>
                  <a:prstGeom prst="rect">
                    <a:avLst/>
                  </a:prstGeom>
                  <a:ln w="0">
                    <a:noFill/>
                  </a:ln>
                </p:spPr>
              </p:pic>
            </p:oleObj>
          </a:graphicData>
        </a:graphic>
      </p:graphicFrame>
      <p:sp>
        <p:nvSpPr>
          <p:cNvPr id="924" name=""/>
          <p:cNvSpPr/>
          <p:nvPr/>
        </p:nvSpPr>
        <p:spPr>
          <a:xfrm>
            <a:off x="1981080" y="3657600"/>
            <a:ext cx="1768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sp>
        <p:nvSpPr>
          <p:cNvPr id="925" name=""/>
          <p:cNvSpPr/>
          <p:nvPr/>
        </p:nvSpPr>
        <p:spPr>
          <a:xfrm>
            <a:off x="6324480" y="1523880"/>
            <a:ext cx="304920" cy="304920"/>
          </a:xfrm>
          <a:prstGeom prst="rect">
            <a:avLst/>
          </a:prstGeom>
          <a:solidFill>
            <a:srgbClr val="cdd5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343400" y="1523880"/>
            <a:ext cx="200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8-94 Baseline</a:t>
            </a:r>
            <a:endParaRPr b="0" lang="en-US" sz="1400" spc="-1" strike="noStrike">
              <a:solidFill>
                <a:srgbClr val="000000"/>
              </a:solidFill>
              <a:latin typeface="Times New Roman"/>
            </a:endParaRPr>
          </a:p>
        </p:txBody>
      </p:sp>
      <p:sp>
        <p:nvSpPr>
          <p:cNvPr id="927" name=""/>
          <p:cNvSpPr/>
          <p:nvPr/>
        </p:nvSpPr>
        <p:spPr>
          <a:xfrm>
            <a:off x="-61920" y="6262560"/>
            <a:ext cx="9144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ge adjusted to the 2000 standard population.   Data for other Hispanics, American Indians, Alaska Natives, Asians and Pacific Islanders are unreliabl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928" name=""/>
          <p:cNvSpPr/>
          <p:nvPr/>
        </p:nvSpPr>
        <p:spPr>
          <a:xfrm>
            <a:off x="-86400" y="1525680"/>
            <a:ext cx="354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ercent with detectable serum cotinine</a:t>
            </a:r>
            <a:endParaRPr b="0" lang="en-US" sz="1400" spc="-1" strike="noStrike">
              <a:solidFill>
                <a:srgbClr val="000000"/>
              </a:solidFill>
              <a:latin typeface="Times New Roman"/>
            </a:endParaRPr>
          </a:p>
        </p:txBody>
      </p:sp>
      <p:sp>
        <p:nvSpPr>
          <p:cNvPr id="929" name=""/>
          <p:cNvSpPr/>
          <p:nvPr/>
        </p:nvSpPr>
        <p:spPr>
          <a:xfrm>
            <a:off x="3886200" y="1523880"/>
            <a:ext cx="304920" cy="30492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6705720" y="15238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9-2000</a:t>
            </a:r>
            <a:endParaRPr b="0" lang="en-US" sz="1400" spc="-1" strike="noStrike">
              <a:solidFill>
                <a:srgbClr val="000000"/>
              </a:solidFill>
              <a:latin typeface="Times New Roman"/>
            </a:endParaRPr>
          </a:p>
        </p:txBody>
      </p:sp>
      <p:sp>
        <p:nvSpPr>
          <p:cNvPr id="931" name=""/>
          <p:cNvSpPr/>
          <p:nvPr/>
        </p:nvSpPr>
        <p:spPr>
          <a:xfrm>
            <a:off x="3325320" y="5562720"/>
            <a:ext cx="1780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Mexican American </a:t>
            </a:r>
            <a:endParaRPr b="0" lang="en-US" sz="1600" spc="-1" strike="noStrike">
              <a:solidFill>
                <a:srgbClr val="000000"/>
              </a:solidFill>
              <a:latin typeface="Times New Roman"/>
            </a:endParaRPr>
          </a:p>
        </p:txBody>
      </p:sp>
      <p:sp>
        <p:nvSpPr>
          <p:cNvPr id="932" name=""/>
          <p:cNvSpPr/>
          <p:nvPr/>
        </p:nvSpPr>
        <p:spPr>
          <a:xfrm>
            <a:off x="0" y="6629400"/>
            <a:ext cx="9144000" cy="30492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
          <p:cNvSpPr/>
          <p:nvPr/>
        </p:nvSpPr>
        <p:spPr>
          <a:xfrm>
            <a:off x="991800" y="554040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a:t>
            </a:r>
            <a:endParaRPr b="0" lang="en-US" sz="1800" spc="-1" strike="noStrike">
              <a:solidFill>
                <a:srgbClr val="000000"/>
              </a:solidFill>
              <a:latin typeface="Times New Roman"/>
            </a:endParaRPr>
          </a:p>
        </p:txBody>
      </p:sp>
      <p:sp>
        <p:nvSpPr>
          <p:cNvPr id="935" name=""/>
          <p:cNvSpPr/>
          <p:nvPr/>
        </p:nvSpPr>
        <p:spPr>
          <a:xfrm>
            <a:off x="685800" y="3933720"/>
            <a:ext cx="815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7174800" y="5560920"/>
            <a:ext cx="181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White, not Hispanic </a:t>
            </a:r>
            <a:endParaRPr b="0" lang="en-US" sz="1600" spc="-1" strike="noStrike">
              <a:solidFill>
                <a:srgbClr val="000000"/>
              </a:solidFill>
              <a:latin typeface="Times New Roman"/>
            </a:endParaRPr>
          </a:p>
        </p:txBody>
      </p:sp>
      <p:sp>
        <p:nvSpPr>
          <p:cNvPr id="937" name=""/>
          <p:cNvSpPr/>
          <p:nvPr/>
        </p:nvSpPr>
        <p:spPr>
          <a:xfrm>
            <a:off x="5354640" y="5560920"/>
            <a:ext cx="180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Black, not Hispanic </a:t>
            </a:r>
            <a:endParaRPr b="0" lang="en-US" sz="1600" spc="-1" strike="noStrike">
              <a:solidFill>
                <a:srgbClr val="000000"/>
              </a:solidFill>
              <a:latin typeface="Times New Roman"/>
            </a:endParaRPr>
          </a:p>
        </p:txBody>
      </p:sp>
      <p:sp>
        <p:nvSpPr>
          <p:cNvPr id="938" name=""/>
          <p:cNvSpPr/>
          <p:nvPr/>
        </p:nvSpPr>
        <p:spPr>
          <a:xfrm>
            <a:off x="-69840" y="6624720"/>
            <a:ext cx="4874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and Nutrition Examination Survey (NHANES), NCHS, CD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39" name=""/>
          <p:cNvSpPr/>
          <p:nvPr/>
        </p:nvSpPr>
        <p:spPr>
          <a:xfrm>
            <a:off x="-76320" y="5791320"/>
            <a:ext cx="851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smokers defined by serum cotinine levels &lt; 11 ng/m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tectable serum cotinine levels: </a:t>
            </a:r>
            <a:r>
              <a:rPr b="0" lang="en-US" sz="1000" spc="-1" strike="noStrike" u="sng">
                <a:solidFill>
                  <a:srgbClr val="000000"/>
                </a:solidFill>
                <a:uFillTx/>
                <a:latin typeface="Arial"/>
              </a:rPr>
              <a:t>&gt;</a:t>
            </a:r>
            <a:r>
              <a:rPr b="0" lang="en-US" sz="1000" spc="-1" strike="noStrike">
                <a:solidFill>
                  <a:srgbClr val="000000"/>
                </a:solidFill>
                <a:latin typeface="Arial"/>
              </a:rPr>
              <a:t> .05 ng/mL and </a:t>
            </a:r>
            <a:r>
              <a:rPr b="0" lang="en-US" sz="1000" spc="-1" strike="noStrike" u="sng">
                <a:solidFill>
                  <a:srgbClr val="000000"/>
                </a:solidFill>
                <a:uFillTx/>
                <a:latin typeface="Arial"/>
              </a:rPr>
              <a:t>&lt;</a:t>
            </a:r>
            <a:r>
              <a:rPr b="0" lang="en-US" sz="1000" spc="-1" strike="noStrike">
                <a:solidFill>
                  <a:srgbClr val="000000"/>
                </a:solidFill>
                <a:latin typeface="Arial"/>
              </a:rPr>
              <a:t> 10 ng/mL. </a:t>
            </a:r>
            <a:endParaRPr b="0" lang="en-US" sz="1000" spc="-1" strike="noStrike">
              <a:solidFill>
                <a:srgbClr val="000000"/>
              </a:solidFill>
              <a:latin typeface="Times New Roman"/>
            </a:endParaRPr>
          </a:p>
        </p:txBody>
      </p:sp>
      <p:graphicFrame>
        <p:nvGraphicFramePr>
          <p:cNvPr id="940" name=""/>
          <p:cNvGraphicFramePr/>
          <p:nvPr/>
        </p:nvGraphicFramePr>
        <p:xfrm>
          <a:off x="8686800" y="6458040"/>
          <a:ext cx="457200" cy="399960"/>
        </p:xfrm>
        <a:graphic>
          <a:graphicData uri="http://schemas.openxmlformats.org/presentationml/2006/ole">
            <p:oleObj r:id="rId3" spid="">
              <p:embed/>
              <p:pic>
                <p:nvPicPr>
                  <p:cNvPr id="941" name="" descr=""/>
                  <p:cNvPicPr/>
                  <p:nvPr/>
                </p:nvPicPr>
                <p:blipFill>
                  <a:blip r:embed="rId4"/>
                  <a:stretch/>
                </p:blipFill>
                <p:spPr>
                  <a:xfrm>
                    <a:off x="8686800" y="6458040"/>
                    <a:ext cx="457200" cy="39996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152280" y="228600"/>
            <a:ext cx="952488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7-10. Exposure to Environmental Tobacco Smoke: Nonsmokers* with Detectable Cotinine Levels**</a:t>
            </a:r>
            <a:endParaRPr b="0" lang="en-US" sz="2800" spc="-1" strike="noStrike">
              <a:solidFill>
                <a:srgbClr val="000000"/>
              </a:solidFill>
              <a:latin typeface="Times New Roman"/>
            </a:endParaRPr>
          </a:p>
        </p:txBody>
      </p:sp>
      <p:graphicFrame>
        <p:nvGraphicFramePr>
          <p:cNvPr id="943" name=""/>
          <p:cNvGraphicFramePr/>
          <p:nvPr/>
        </p:nvGraphicFramePr>
        <p:xfrm>
          <a:off x="0" y="1492200"/>
          <a:ext cx="9144000" cy="4375080"/>
        </p:xfrm>
        <a:graphic>
          <a:graphicData uri="http://schemas.openxmlformats.org/presentationml/2006/ole">
            <p:oleObj r:id="rId1" spid="">
              <p:embed/>
              <p:pic>
                <p:nvPicPr>
                  <p:cNvPr id="944" name="" descr=""/>
                  <p:cNvPicPr/>
                  <p:nvPr/>
                </p:nvPicPr>
                <p:blipFill>
                  <a:blip r:embed="rId2"/>
                  <a:stretch/>
                </p:blipFill>
                <p:spPr>
                  <a:xfrm>
                    <a:off x="0" y="1492200"/>
                    <a:ext cx="9144000" cy="4375080"/>
                  </a:xfrm>
                  <a:prstGeom prst="rect">
                    <a:avLst/>
                  </a:prstGeom>
                  <a:ln w="0">
                    <a:noFill/>
                  </a:ln>
                </p:spPr>
              </p:pic>
            </p:oleObj>
          </a:graphicData>
        </a:graphic>
      </p:graphicFrame>
      <p:sp>
        <p:nvSpPr>
          <p:cNvPr id="945" name=""/>
          <p:cNvSpPr/>
          <p:nvPr/>
        </p:nvSpPr>
        <p:spPr>
          <a:xfrm>
            <a:off x="1584360" y="3490920"/>
            <a:ext cx="1768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010 Target</a:t>
            </a:r>
            <a:endParaRPr b="0" lang="en-US" sz="1600" spc="-1" strike="noStrike">
              <a:solidFill>
                <a:srgbClr val="000000"/>
              </a:solidFill>
              <a:latin typeface="Times New Roman"/>
            </a:endParaRPr>
          </a:p>
        </p:txBody>
      </p:sp>
      <p:sp>
        <p:nvSpPr>
          <p:cNvPr id="946" name=""/>
          <p:cNvSpPr/>
          <p:nvPr/>
        </p:nvSpPr>
        <p:spPr>
          <a:xfrm>
            <a:off x="7315200" y="1447920"/>
            <a:ext cx="304920" cy="304560"/>
          </a:xfrm>
          <a:prstGeom prst="rect">
            <a:avLst/>
          </a:prstGeom>
          <a:solidFill>
            <a:srgbClr val="cdd5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5611680" y="1447920"/>
            <a:ext cx="200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8-94 Baseline</a:t>
            </a:r>
            <a:endParaRPr b="0" lang="en-US" sz="1400" spc="-1" strike="noStrike">
              <a:solidFill>
                <a:srgbClr val="000000"/>
              </a:solidFill>
              <a:latin typeface="Times New Roman"/>
            </a:endParaRPr>
          </a:p>
        </p:txBody>
      </p:sp>
      <p:sp>
        <p:nvSpPr>
          <p:cNvPr id="948" name=""/>
          <p:cNvSpPr/>
          <p:nvPr/>
        </p:nvSpPr>
        <p:spPr>
          <a:xfrm>
            <a:off x="-86400" y="1398600"/>
            <a:ext cx="354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ercent with detectable serum cotinine</a:t>
            </a:r>
            <a:endParaRPr b="0" lang="en-US" sz="1400" spc="-1" strike="noStrike">
              <a:solidFill>
                <a:srgbClr val="000000"/>
              </a:solidFill>
              <a:latin typeface="Times New Roman"/>
            </a:endParaRPr>
          </a:p>
        </p:txBody>
      </p:sp>
      <p:sp>
        <p:nvSpPr>
          <p:cNvPr id="949" name=""/>
          <p:cNvSpPr/>
          <p:nvPr/>
        </p:nvSpPr>
        <p:spPr>
          <a:xfrm>
            <a:off x="5257800" y="1447920"/>
            <a:ext cx="304920" cy="30456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7620120" y="144792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9-2000</a:t>
            </a:r>
            <a:endParaRPr b="0" lang="en-US" sz="1400" spc="-1" strike="noStrike">
              <a:solidFill>
                <a:srgbClr val="000000"/>
              </a:solidFill>
              <a:latin typeface="Times New Roman"/>
            </a:endParaRPr>
          </a:p>
        </p:txBody>
      </p:sp>
      <p:sp>
        <p:nvSpPr>
          <p:cNvPr id="951" name=""/>
          <p:cNvSpPr/>
          <p:nvPr/>
        </p:nvSpPr>
        <p:spPr>
          <a:xfrm>
            <a:off x="2995920" y="548640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8-24 </a:t>
            </a:r>
            <a:endParaRPr b="0" lang="en-US" sz="1800" spc="-1" strike="noStrike">
              <a:solidFill>
                <a:srgbClr val="000000"/>
              </a:solidFill>
              <a:latin typeface="Times New Roman"/>
            </a:endParaRPr>
          </a:p>
        </p:txBody>
      </p:sp>
      <p:sp>
        <p:nvSpPr>
          <p:cNvPr id="952" name=""/>
          <p:cNvSpPr/>
          <p:nvPr/>
        </p:nvSpPr>
        <p:spPr>
          <a:xfrm>
            <a:off x="4650480" y="5486400"/>
            <a:ext cx="826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44 </a:t>
            </a:r>
            <a:endParaRPr b="0" lang="en-US" sz="1800" spc="-1" strike="noStrike">
              <a:solidFill>
                <a:srgbClr val="000000"/>
              </a:solidFill>
              <a:latin typeface="Times New Roman"/>
            </a:endParaRPr>
          </a:p>
        </p:txBody>
      </p:sp>
      <p:sp>
        <p:nvSpPr>
          <p:cNvPr id="953" name=""/>
          <p:cNvSpPr/>
          <p:nvPr/>
        </p:nvSpPr>
        <p:spPr>
          <a:xfrm>
            <a:off x="6095880" y="5486400"/>
            <a:ext cx="11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64 </a:t>
            </a:r>
            <a:endParaRPr b="0" lang="en-US" sz="1800" spc="-1" strike="noStrike">
              <a:solidFill>
                <a:srgbClr val="000000"/>
              </a:solidFill>
              <a:latin typeface="Times New Roman"/>
            </a:endParaRPr>
          </a:p>
        </p:txBody>
      </p:sp>
      <p:sp>
        <p:nvSpPr>
          <p:cNvPr id="954" name=""/>
          <p:cNvSpPr/>
          <p:nvPr/>
        </p:nvSpPr>
        <p:spPr>
          <a:xfrm>
            <a:off x="0" y="6640560"/>
            <a:ext cx="9144000" cy="21744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
          <p:cNvSpPr/>
          <p:nvPr/>
        </p:nvSpPr>
        <p:spPr>
          <a:xfrm>
            <a:off x="308880" y="5410080"/>
            <a:ext cx="2163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ul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s 18 and old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57" name=""/>
          <p:cNvSpPr/>
          <p:nvPr/>
        </p:nvSpPr>
        <p:spPr>
          <a:xfrm>
            <a:off x="685800" y="3809880"/>
            <a:ext cx="815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981560" y="5486400"/>
            <a:ext cx="695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65+ </a:t>
            </a:r>
            <a:endParaRPr b="0" lang="en-US" sz="1800" spc="-1" strike="noStrike">
              <a:solidFill>
                <a:srgbClr val="000000"/>
              </a:solidFill>
              <a:latin typeface="Times New Roman"/>
            </a:endParaRPr>
          </a:p>
        </p:txBody>
      </p:sp>
      <p:sp>
        <p:nvSpPr>
          <p:cNvPr id="959" name=""/>
          <p:cNvSpPr/>
          <p:nvPr/>
        </p:nvSpPr>
        <p:spPr>
          <a:xfrm>
            <a:off x="8335800" y="3765600"/>
            <a:ext cx="579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7</a:t>
            </a:r>
            <a:endParaRPr b="0" lang="en-US" sz="1400" spc="-1" strike="noStrike">
              <a:solidFill>
                <a:srgbClr val="000000"/>
              </a:solidFill>
              <a:latin typeface="Times New Roman"/>
            </a:endParaRPr>
          </a:p>
        </p:txBody>
      </p:sp>
      <p:sp>
        <p:nvSpPr>
          <p:cNvPr id="960" name=""/>
          <p:cNvSpPr/>
          <p:nvPr/>
        </p:nvSpPr>
        <p:spPr>
          <a:xfrm>
            <a:off x="-69840" y="6624720"/>
            <a:ext cx="4874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and Nutrition Examination Survey (NHANES), NCHS, CD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61" name=""/>
          <p:cNvSpPr/>
          <p:nvPr/>
        </p:nvSpPr>
        <p:spPr>
          <a:xfrm>
            <a:off x="0" y="6004080"/>
            <a:ext cx="85136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onsmokers defined by serum cotinine levels &lt; 11 ng/m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ctable serum cotinine levels: </a:t>
            </a:r>
            <a:r>
              <a:rPr b="0" lang="en-US" sz="1000" spc="-1" strike="noStrike" u="sng">
                <a:solidFill>
                  <a:srgbClr val="000000"/>
                </a:solidFill>
                <a:uFillTx/>
                <a:latin typeface="Arial"/>
              </a:rPr>
              <a:t>&gt;</a:t>
            </a:r>
            <a:r>
              <a:rPr b="0" lang="en-US" sz="1000" spc="-1" strike="noStrike">
                <a:solidFill>
                  <a:srgbClr val="000000"/>
                </a:solidFill>
                <a:latin typeface="Arial"/>
              </a:rPr>
              <a:t> .05 ng/mL and </a:t>
            </a:r>
            <a:r>
              <a:rPr b="0" lang="en-US" sz="1000" spc="-1" strike="noStrike" u="sng">
                <a:solidFill>
                  <a:srgbClr val="000000"/>
                </a:solidFill>
                <a:uFillTx/>
                <a:latin typeface="Arial"/>
              </a:rPr>
              <a:t>&lt;</a:t>
            </a:r>
            <a:r>
              <a:rPr b="0" lang="en-US" sz="1000" spc="-1" strike="noStrike">
                <a:solidFill>
                  <a:srgbClr val="000000"/>
                </a:solidFill>
                <a:latin typeface="Arial"/>
              </a:rPr>
              <a:t> 10 ng/m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ge adjusted to the 2000 standard population.  </a:t>
            </a:r>
            <a:r>
              <a:rPr b="0" lang="en-US" sz="1000" spc="-1" strike="noStrike">
                <a:solidFill>
                  <a:srgbClr val="ffffff"/>
                </a:solidFill>
                <a:latin typeface="Arial"/>
              </a:rPr>
              <a:t>), CDC, NCHS.</a:t>
            </a:r>
            <a:endParaRPr b="0" lang="en-US" sz="1000" spc="-1" strike="noStrike">
              <a:solidFill>
                <a:srgbClr val="000000"/>
              </a:solidFill>
              <a:latin typeface="Times New Roman"/>
            </a:endParaRPr>
          </a:p>
        </p:txBody>
      </p:sp>
      <p:graphicFrame>
        <p:nvGraphicFramePr>
          <p:cNvPr id="962" name=""/>
          <p:cNvGraphicFramePr/>
          <p:nvPr/>
        </p:nvGraphicFramePr>
        <p:xfrm>
          <a:off x="8534520" y="6324480"/>
          <a:ext cx="609480" cy="533520"/>
        </p:xfrm>
        <a:graphic>
          <a:graphicData uri="http://schemas.openxmlformats.org/presentationml/2006/ole">
            <p:oleObj r:id="rId3" spid="">
              <p:embed/>
              <p:pic>
                <p:nvPicPr>
                  <p:cNvPr id="963"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0" y="0"/>
            <a:ext cx="91440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7-13.  Smoke-Free Indoor Air Laws*: 2002  </a:t>
            </a:r>
            <a:endParaRPr b="0" lang="en-US" sz="3200" spc="-1" strike="noStrike">
              <a:solidFill>
                <a:srgbClr val="000000"/>
              </a:solidFill>
              <a:latin typeface="Times New Roman"/>
            </a:endParaRPr>
          </a:p>
        </p:txBody>
      </p:sp>
      <p:graphicFrame>
        <p:nvGraphicFramePr>
          <p:cNvPr id="965" name=""/>
          <p:cNvGraphicFramePr/>
          <p:nvPr/>
        </p:nvGraphicFramePr>
        <p:xfrm>
          <a:off x="0" y="1600200"/>
          <a:ext cx="8915400" cy="4191120"/>
        </p:xfrm>
        <a:graphic>
          <a:graphicData uri="http://schemas.openxmlformats.org/presentationml/2006/ole">
            <p:oleObj r:id="rId1" spid="">
              <p:embed/>
              <p:pic>
                <p:nvPicPr>
                  <p:cNvPr id="966" name="" descr=""/>
                  <p:cNvPicPr/>
                  <p:nvPr/>
                </p:nvPicPr>
                <p:blipFill>
                  <a:blip r:embed="rId2"/>
                  <a:stretch/>
                </p:blipFill>
                <p:spPr>
                  <a:xfrm>
                    <a:off x="0" y="1600200"/>
                    <a:ext cx="8915400" cy="4191120"/>
                  </a:xfrm>
                  <a:prstGeom prst="rect">
                    <a:avLst/>
                  </a:prstGeom>
                  <a:ln w="0">
                    <a:noFill/>
                  </a:ln>
                </p:spPr>
              </p:pic>
            </p:oleObj>
          </a:graphicData>
        </a:graphic>
      </p:graphicFrame>
      <p:sp>
        <p:nvSpPr>
          <p:cNvPr id="967" name=""/>
          <p:cNvSpPr/>
          <p:nvPr/>
        </p:nvSpPr>
        <p:spPr>
          <a:xfrm>
            <a:off x="6858000" y="1447920"/>
            <a:ext cx="1768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968" name=""/>
          <p:cNvSpPr/>
          <p:nvPr/>
        </p:nvSpPr>
        <p:spPr>
          <a:xfrm>
            <a:off x="533520" y="190512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10080" y="1430280"/>
            <a:ext cx="386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States with laws (including D.C.)</a:t>
            </a:r>
            <a:endParaRPr b="0" lang="en-US" sz="1400" spc="-1" strike="noStrike">
              <a:solidFill>
                <a:srgbClr val="000000"/>
              </a:solidFill>
              <a:latin typeface="Times New Roman"/>
            </a:endParaRPr>
          </a:p>
        </p:txBody>
      </p:sp>
      <p:sp>
        <p:nvSpPr>
          <p:cNvPr id="970"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a:off x="6629400" y="16002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1150200" y="5740560"/>
            <a:ext cx="159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place    </a:t>
            </a:r>
            <a:endParaRPr b="0" lang="en-US" sz="1800" spc="-1" strike="noStrike">
              <a:solidFill>
                <a:srgbClr val="000000"/>
              </a:solidFill>
              <a:latin typeface="Times New Roman"/>
            </a:endParaRPr>
          </a:p>
        </p:txBody>
      </p:sp>
      <p:sp>
        <p:nvSpPr>
          <p:cNvPr id="974" name=""/>
          <p:cNvSpPr/>
          <p:nvPr/>
        </p:nvSpPr>
        <p:spPr>
          <a:xfrm>
            <a:off x="685800" y="5715000"/>
            <a:ext cx="2286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4608000" y="5607000"/>
            <a:ext cx="1608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ation</a:t>
            </a:r>
            <a:endParaRPr b="0" lang="en-US" sz="1600" spc="-1" strike="noStrike">
              <a:solidFill>
                <a:srgbClr val="000000"/>
              </a:solidFill>
              <a:latin typeface="Times New Roman"/>
            </a:endParaRPr>
          </a:p>
        </p:txBody>
      </p:sp>
      <p:sp>
        <p:nvSpPr>
          <p:cNvPr id="976" name=""/>
          <p:cNvSpPr/>
          <p:nvPr/>
        </p:nvSpPr>
        <p:spPr>
          <a:xfrm>
            <a:off x="-23400" y="6578640"/>
            <a:ext cx="62506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State Tobacco Activities Tracking and Evaluation System (STATE System), OSH, NCCDPHP, CD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7" name=""/>
          <p:cNvSpPr/>
          <p:nvPr/>
        </p:nvSpPr>
        <p:spPr>
          <a:xfrm>
            <a:off x="-42120" y="6311880"/>
            <a:ext cx="5008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oor air laws: smoking bans or limited to separately ventilated areas.</a:t>
            </a:r>
            <a:endParaRPr b="0" lang="en-US" sz="1200" spc="-1" strike="noStrike">
              <a:solidFill>
                <a:srgbClr val="000000"/>
              </a:solidFill>
              <a:latin typeface="Times New Roman"/>
            </a:endParaRPr>
          </a:p>
        </p:txBody>
      </p:sp>
      <p:graphicFrame>
        <p:nvGraphicFramePr>
          <p:cNvPr id="978" name=""/>
          <p:cNvGraphicFramePr/>
          <p:nvPr/>
        </p:nvGraphicFramePr>
        <p:xfrm>
          <a:off x="8534520" y="6324480"/>
          <a:ext cx="609480" cy="533520"/>
        </p:xfrm>
        <a:graphic>
          <a:graphicData uri="http://schemas.openxmlformats.org/presentationml/2006/ole">
            <p:oleObj r:id="rId3" spid="">
              <p:embed/>
              <p:pic>
                <p:nvPicPr>
                  <p:cNvPr id="979"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762480" y="-360"/>
            <a:ext cx="102870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4-2a,b,c. Hospitalizations for Asthma: </a:t>
            </a:r>
            <a:br>
              <a:rPr sz="2800"/>
            </a:br>
            <a:r>
              <a:rPr b="1" lang="en-US" sz="2800" spc="-1" strike="noStrike">
                <a:solidFill>
                  <a:srgbClr val="000000"/>
                </a:solidFill>
                <a:latin typeface="Arial"/>
              </a:rPr>
              <a:t>1998, 1999, and 2000</a:t>
            </a:r>
            <a:endParaRPr b="0" lang="en-US" sz="2800" spc="-1" strike="noStrike">
              <a:solidFill>
                <a:srgbClr val="000000"/>
              </a:solidFill>
              <a:latin typeface="Times New Roman"/>
            </a:endParaRPr>
          </a:p>
        </p:txBody>
      </p:sp>
      <p:graphicFrame>
        <p:nvGraphicFramePr>
          <p:cNvPr id="981" name=""/>
          <p:cNvGraphicFramePr/>
          <p:nvPr/>
        </p:nvGraphicFramePr>
        <p:xfrm>
          <a:off x="0" y="1600200"/>
          <a:ext cx="9144000" cy="4375080"/>
        </p:xfrm>
        <a:graphic>
          <a:graphicData uri="http://schemas.openxmlformats.org/presentationml/2006/ole">
            <p:oleObj r:id="rId1" spid="">
              <p:embed/>
              <p:pic>
                <p:nvPicPr>
                  <p:cNvPr id="982" name="" descr=""/>
                  <p:cNvPicPr/>
                  <p:nvPr/>
                </p:nvPicPr>
                <p:blipFill>
                  <a:blip r:embed="rId2"/>
                  <a:stretch/>
                </p:blipFill>
                <p:spPr>
                  <a:xfrm>
                    <a:off x="0" y="1600200"/>
                    <a:ext cx="9144000" cy="4375080"/>
                  </a:xfrm>
                  <a:prstGeom prst="rect">
                    <a:avLst/>
                  </a:prstGeom>
                  <a:ln w="0">
                    <a:noFill/>
                  </a:ln>
                </p:spPr>
              </p:pic>
            </p:oleObj>
          </a:graphicData>
        </a:graphic>
      </p:graphicFrame>
      <p:sp>
        <p:nvSpPr>
          <p:cNvPr id="983" name=""/>
          <p:cNvSpPr/>
          <p:nvPr/>
        </p:nvSpPr>
        <p:spPr>
          <a:xfrm>
            <a:off x="7527960" y="1600200"/>
            <a:ext cx="1768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984" name=""/>
          <p:cNvSpPr/>
          <p:nvPr/>
        </p:nvSpPr>
        <p:spPr>
          <a:xfrm>
            <a:off x="3505320" y="1600200"/>
            <a:ext cx="304560" cy="30492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809880" y="1600200"/>
            <a:ext cx="200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 Baseline</a:t>
            </a:r>
            <a:endParaRPr b="0" lang="en-US" sz="1400" spc="-1" strike="noStrike">
              <a:solidFill>
                <a:srgbClr val="000000"/>
              </a:solidFill>
              <a:latin typeface="Times New Roman"/>
            </a:endParaRPr>
          </a:p>
        </p:txBody>
      </p:sp>
      <p:sp>
        <p:nvSpPr>
          <p:cNvPr id="986" name=""/>
          <p:cNvSpPr/>
          <p:nvPr/>
        </p:nvSpPr>
        <p:spPr>
          <a:xfrm>
            <a:off x="-55440" y="6232680"/>
            <a:ext cx="9199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ata are age adjusted to the 2000 standard population.  </a:t>
            </a:r>
            <a:endParaRPr b="0" lang="en-US" sz="1000" spc="-1" strike="noStrike">
              <a:solidFill>
                <a:srgbClr val="000000"/>
              </a:solidFill>
              <a:latin typeface="Times New Roman"/>
            </a:endParaRPr>
          </a:p>
        </p:txBody>
      </p:sp>
      <p:sp>
        <p:nvSpPr>
          <p:cNvPr id="987" name=""/>
          <p:cNvSpPr/>
          <p:nvPr/>
        </p:nvSpPr>
        <p:spPr>
          <a:xfrm>
            <a:off x="-9720" y="1523880"/>
            <a:ext cx="342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spitalizations per 10,000 population</a:t>
            </a:r>
            <a:endParaRPr b="0" lang="en-US" sz="1400" spc="-1" strike="noStrike">
              <a:solidFill>
                <a:srgbClr val="000000"/>
              </a:solidFill>
              <a:latin typeface="Times New Roman"/>
            </a:endParaRPr>
          </a:p>
        </p:txBody>
      </p:sp>
      <p:sp>
        <p:nvSpPr>
          <p:cNvPr id="988"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
          <p:cNvSpPr/>
          <p:nvPr/>
        </p:nvSpPr>
        <p:spPr>
          <a:xfrm>
            <a:off x="0" y="6581880"/>
            <a:ext cx="9144000" cy="30456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
          <p:cNvSpPr/>
          <p:nvPr/>
        </p:nvSpPr>
        <p:spPr>
          <a:xfrm>
            <a:off x="7315200" y="17524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181480" y="1600200"/>
            <a:ext cx="304920" cy="304920"/>
          </a:xfrm>
          <a:prstGeom prst="rect">
            <a:avLst/>
          </a:prstGeom>
          <a:solidFill>
            <a:srgbClr val="cdd5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486400" y="160020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9</a:t>
            </a:r>
            <a:endParaRPr b="0" lang="en-US" sz="1400" spc="-1" strike="noStrike">
              <a:solidFill>
                <a:srgbClr val="000000"/>
              </a:solidFill>
              <a:latin typeface="Times New Roman"/>
            </a:endParaRPr>
          </a:p>
        </p:txBody>
      </p:sp>
      <p:sp>
        <p:nvSpPr>
          <p:cNvPr id="993" name=""/>
          <p:cNvSpPr/>
          <p:nvPr/>
        </p:nvSpPr>
        <p:spPr>
          <a:xfrm>
            <a:off x="666720" y="5840280"/>
            <a:ext cx="2376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ildren under 5 years</a:t>
            </a:r>
            <a:endParaRPr b="0" lang="en-US" sz="1600" spc="-1" strike="noStrike">
              <a:solidFill>
                <a:srgbClr val="000000"/>
              </a:solidFill>
              <a:latin typeface="Times New Roman"/>
            </a:endParaRPr>
          </a:p>
        </p:txBody>
      </p:sp>
      <p:sp>
        <p:nvSpPr>
          <p:cNvPr id="994" name=""/>
          <p:cNvSpPr/>
          <p:nvPr/>
        </p:nvSpPr>
        <p:spPr>
          <a:xfrm>
            <a:off x="3730320" y="5835600"/>
            <a:ext cx="2401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s 5 to 64 years* </a:t>
            </a:r>
            <a:endParaRPr b="0" lang="en-US" sz="1600" spc="-1" strike="noStrike">
              <a:solidFill>
                <a:srgbClr val="000000"/>
              </a:solidFill>
              <a:latin typeface="Times New Roman"/>
            </a:endParaRPr>
          </a:p>
        </p:txBody>
      </p:sp>
      <p:sp>
        <p:nvSpPr>
          <p:cNvPr id="995" name=""/>
          <p:cNvSpPr/>
          <p:nvPr/>
        </p:nvSpPr>
        <p:spPr>
          <a:xfrm>
            <a:off x="6649200" y="5835600"/>
            <a:ext cx="219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ults 65 and older* </a:t>
            </a:r>
            <a:endParaRPr b="0" lang="en-US" sz="1600" spc="-1" strike="noStrike">
              <a:solidFill>
                <a:srgbClr val="000000"/>
              </a:solidFill>
              <a:latin typeface="Times New Roman"/>
            </a:endParaRPr>
          </a:p>
        </p:txBody>
      </p:sp>
      <p:sp>
        <p:nvSpPr>
          <p:cNvPr id="996" name=""/>
          <p:cNvSpPr/>
          <p:nvPr/>
        </p:nvSpPr>
        <p:spPr>
          <a:xfrm>
            <a:off x="685800" y="5867280"/>
            <a:ext cx="2438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3657600" y="5867280"/>
            <a:ext cx="2438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477120" y="5867280"/>
            <a:ext cx="2438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685800" y="495288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397480"/>
            <a:ext cx="281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6283440" y="5318280"/>
            <a:ext cx="2819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507600" y="5535720"/>
            <a:ext cx="66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Times New Roman"/>
            </a:endParaRPr>
          </a:p>
        </p:txBody>
      </p:sp>
      <p:sp>
        <p:nvSpPr>
          <p:cNvPr id="1003" name=""/>
          <p:cNvSpPr/>
          <p:nvPr/>
        </p:nvSpPr>
        <p:spPr>
          <a:xfrm>
            <a:off x="1447200" y="553572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male</a:t>
            </a:r>
            <a:endParaRPr b="0" lang="en-US" sz="1600" spc="-1" strike="noStrike">
              <a:solidFill>
                <a:srgbClr val="000000"/>
              </a:solidFill>
              <a:latin typeface="Times New Roman"/>
            </a:endParaRPr>
          </a:p>
        </p:txBody>
      </p:sp>
      <p:sp>
        <p:nvSpPr>
          <p:cNvPr id="1004" name=""/>
          <p:cNvSpPr/>
          <p:nvPr/>
        </p:nvSpPr>
        <p:spPr>
          <a:xfrm>
            <a:off x="2502720" y="553572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le</a:t>
            </a:r>
            <a:endParaRPr b="0" lang="en-US" sz="1600" spc="-1" strike="noStrike">
              <a:solidFill>
                <a:srgbClr val="000000"/>
              </a:solidFill>
              <a:latin typeface="Times New Roman"/>
            </a:endParaRPr>
          </a:p>
        </p:txBody>
      </p:sp>
      <p:sp>
        <p:nvSpPr>
          <p:cNvPr id="1005" name=""/>
          <p:cNvSpPr/>
          <p:nvPr/>
        </p:nvSpPr>
        <p:spPr>
          <a:xfrm>
            <a:off x="3628800" y="5535720"/>
            <a:ext cx="66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Times New Roman"/>
            </a:endParaRPr>
          </a:p>
        </p:txBody>
      </p:sp>
      <p:sp>
        <p:nvSpPr>
          <p:cNvPr id="1006" name=""/>
          <p:cNvSpPr/>
          <p:nvPr/>
        </p:nvSpPr>
        <p:spPr>
          <a:xfrm>
            <a:off x="4385520" y="553572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male</a:t>
            </a:r>
            <a:endParaRPr b="0" lang="en-US" sz="1600" spc="-1" strike="noStrike">
              <a:solidFill>
                <a:srgbClr val="000000"/>
              </a:solidFill>
              <a:latin typeface="Times New Roman"/>
            </a:endParaRPr>
          </a:p>
        </p:txBody>
      </p:sp>
      <p:sp>
        <p:nvSpPr>
          <p:cNvPr id="1007" name=""/>
          <p:cNvSpPr/>
          <p:nvPr/>
        </p:nvSpPr>
        <p:spPr>
          <a:xfrm>
            <a:off x="5371200" y="553572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le</a:t>
            </a:r>
            <a:endParaRPr b="0" lang="en-US" sz="1600" spc="-1" strike="noStrike">
              <a:solidFill>
                <a:srgbClr val="000000"/>
              </a:solidFill>
              <a:latin typeface="Times New Roman"/>
            </a:endParaRPr>
          </a:p>
        </p:txBody>
      </p:sp>
      <p:sp>
        <p:nvSpPr>
          <p:cNvPr id="1008" name=""/>
          <p:cNvSpPr/>
          <p:nvPr/>
        </p:nvSpPr>
        <p:spPr>
          <a:xfrm>
            <a:off x="8343000" y="553572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le</a:t>
            </a:r>
            <a:endParaRPr b="0" lang="en-US" sz="1600" spc="-1" strike="noStrike">
              <a:solidFill>
                <a:srgbClr val="000000"/>
              </a:solidFill>
              <a:latin typeface="Times New Roman"/>
            </a:endParaRPr>
          </a:p>
        </p:txBody>
      </p:sp>
      <p:sp>
        <p:nvSpPr>
          <p:cNvPr id="1009" name=""/>
          <p:cNvSpPr/>
          <p:nvPr/>
        </p:nvSpPr>
        <p:spPr>
          <a:xfrm>
            <a:off x="7233840" y="553572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male</a:t>
            </a:r>
            <a:endParaRPr b="0" lang="en-US" sz="1600" spc="-1" strike="noStrike">
              <a:solidFill>
                <a:srgbClr val="000000"/>
              </a:solidFill>
              <a:latin typeface="Times New Roman"/>
            </a:endParaRPr>
          </a:p>
        </p:txBody>
      </p:sp>
      <p:sp>
        <p:nvSpPr>
          <p:cNvPr id="1010" name=""/>
          <p:cNvSpPr/>
          <p:nvPr/>
        </p:nvSpPr>
        <p:spPr>
          <a:xfrm>
            <a:off x="6524280" y="5535720"/>
            <a:ext cx="66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Times New Roman"/>
            </a:endParaRPr>
          </a:p>
        </p:txBody>
      </p:sp>
      <p:sp>
        <p:nvSpPr>
          <p:cNvPr id="1011" name=""/>
          <p:cNvSpPr/>
          <p:nvPr/>
        </p:nvSpPr>
        <p:spPr>
          <a:xfrm>
            <a:off x="-71280" y="6608880"/>
            <a:ext cx="39250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ospital Discharge Survey (NHDS), NCHS, CDC.</a:t>
            </a:r>
            <a:endParaRPr b="0" lang="en-US" sz="1000" spc="-1" strike="noStrike">
              <a:solidFill>
                <a:srgbClr val="000000"/>
              </a:solidFill>
              <a:latin typeface="Times New Roman"/>
            </a:endParaRPr>
          </a:p>
        </p:txBody>
      </p:sp>
      <p:graphicFrame>
        <p:nvGraphicFramePr>
          <p:cNvPr id="1012" name=""/>
          <p:cNvGraphicFramePr/>
          <p:nvPr/>
        </p:nvGraphicFramePr>
        <p:xfrm>
          <a:off x="8534520" y="6324480"/>
          <a:ext cx="609480" cy="533520"/>
        </p:xfrm>
        <a:graphic>
          <a:graphicData uri="http://schemas.openxmlformats.org/presentationml/2006/ole">
            <p:oleObj r:id="rId3" spid="">
              <p:embed/>
              <p:pic>
                <p:nvPicPr>
                  <p:cNvPr id="1013"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1014" name=""/>
          <p:cNvSpPr/>
          <p:nvPr/>
        </p:nvSpPr>
        <p:spPr>
          <a:xfrm>
            <a:off x="3645360" y="4896000"/>
            <a:ext cx="383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13.6</a:t>
            </a:r>
            <a:endParaRPr b="0" lang="en-US" sz="1000" spc="-1" strike="noStrike">
              <a:solidFill>
                <a:srgbClr val="000000"/>
              </a:solidFill>
              <a:latin typeface="Times New Roman"/>
            </a:endParaRPr>
          </a:p>
        </p:txBody>
      </p:sp>
      <p:sp>
        <p:nvSpPr>
          <p:cNvPr id="1015" name=""/>
          <p:cNvSpPr/>
          <p:nvPr/>
        </p:nvSpPr>
        <p:spPr>
          <a:xfrm>
            <a:off x="6172200" y="1600200"/>
            <a:ext cx="304920" cy="30492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553080" y="160020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Times New Roman"/>
            </a:endParaRPr>
          </a:p>
        </p:txBody>
      </p:sp>
      <p:sp>
        <p:nvSpPr>
          <p:cNvPr id="1017" name=""/>
          <p:cNvSpPr/>
          <p:nvPr/>
        </p:nvSpPr>
        <p:spPr>
          <a:xfrm>
            <a:off x="4530960" y="4822920"/>
            <a:ext cx="383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17.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762480" y="-360"/>
            <a:ext cx="102870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4-2a,b,c. Hospitalizations for Asthma: </a:t>
            </a:r>
            <a:br>
              <a:rPr sz="2800"/>
            </a:br>
            <a:r>
              <a:rPr b="1" lang="en-US" sz="2800" spc="-1" strike="noStrike">
                <a:solidFill>
                  <a:srgbClr val="000000"/>
                </a:solidFill>
                <a:latin typeface="Arial"/>
              </a:rPr>
              <a:t>1998, 1999, and 2000</a:t>
            </a:r>
            <a:endParaRPr b="0" lang="en-US" sz="2800" spc="-1" strike="noStrike">
              <a:solidFill>
                <a:srgbClr val="000000"/>
              </a:solidFill>
              <a:latin typeface="Times New Roman"/>
            </a:endParaRPr>
          </a:p>
        </p:txBody>
      </p:sp>
      <p:graphicFrame>
        <p:nvGraphicFramePr>
          <p:cNvPr id="1019" name=""/>
          <p:cNvGraphicFramePr/>
          <p:nvPr/>
        </p:nvGraphicFramePr>
        <p:xfrm>
          <a:off x="0" y="1600200"/>
          <a:ext cx="9144000" cy="4375080"/>
        </p:xfrm>
        <a:graphic>
          <a:graphicData uri="http://schemas.openxmlformats.org/presentationml/2006/ole">
            <p:oleObj r:id="rId1" spid="">
              <p:embed/>
              <p:pic>
                <p:nvPicPr>
                  <p:cNvPr id="1020" name="" descr=""/>
                  <p:cNvPicPr/>
                  <p:nvPr/>
                </p:nvPicPr>
                <p:blipFill>
                  <a:blip r:embed="rId2"/>
                  <a:stretch/>
                </p:blipFill>
                <p:spPr>
                  <a:xfrm>
                    <a:off x="0" y="1600200"/>
                    <a:ext cx="9144000" cy="4375080"/>
                  </a:xfrm>
                  <a:prstGeom prst="rect">
                    <a:avLst/>
                  </a:prstGeom>
                  <a:ln w="0">
                    <a:noFill/>
                  </a:ln>
                </p:spPr>
              </p:pic>
            </p:oleObj>
          </a:graphicData>
        </a:graphic>
      </p:graphicFrame>
      <p:sp>
        <p:nvSpPr>
          <p:cNvPr id="1021" name=""/>
          <p:cNvSpPr/>
          <p:nvPr/>
        </p:nvSpPr>
        <p:spPr>
          <a:xfrm>
            <a:off x="7527960" y="1600200"/>
            <a:ext cx="1768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1022" name=""/>
          <p:cNvSpPr/>
          <p:nvPr/>
        </p:nvSpPr>
        <p:spPr>
          <a:xfrm>
            <a:off x="3429000" y="1600200"/>
            <a:ext cx="304920" cy="30492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3706920" y="1600200"/>
            <a:ext cx="200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 Baseline</a:t>
            </a:r>
            <a:endParaRPr b="0" lang="en-US" sz="1400" spc="-1" strike="noStrike">
              <a:solidFill>
                <a:srgbClr val="000000"/>
              </a:solidFill>
              <a:latin typeface="Times New Roman"/>
            </a:endParaRPr>
          </a:p>
        </p:txBody>
      </p:sp>
      <p:sp>
        <p:nvSpPr>
          <p:cNvPr id="1024" name=""/>
          <p:cNvSpPr/>
          <p:nvPr/>
        </p:nvSpPr>
        <p:spPr>
          <a:xfrm>
            <a:off x="0" y="6080040"/>
            <a:ext cx="9199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  *Data are age adjusted to the 2000 standard population.  Data for Hispanics, American Indians, Alaska Natives, Asian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Pacific Islanders are unreliable.</a:t>
            </a:r>
            <a:endParaRPr b="0" lang="en-US" sz="1000" spc="-1" strike="noStrike">
              <a:solidFill>
                <a:srgbClr val="000000"/>
              </a:solidFill>
              <a:latin typeface="Times New Roman"/>
            </a:endParaRPr>
          </a:p>
        </p:txBody>
      </p:sp>
      <p:sp>
        <p:nvSpPr>
          <p:cNvPr id="1025" name=""/>
          <p:cNvSpPr/>
          <p:nvPr/>
        </p:nvSpPr>
        <p:spPr>
          <a:xfrm>
            <a:off x="-9720" y="1523880"/>
            <a:ext cx="342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spitalizations per 10,000 population</a:t>
            </a:r>
            <a:endParaRPr b="0" lang="en-US" sz="1400" spc="-1" strike="noStrike">
              <a:solidFill>
                <a:srgbClr val="000000"/>
              </a:solidFill>
              <a:latin typeface="Times New Roman"/>
            </a:endParaRPr>
          </a:p>
        </p:txBody>
      </p:sp>
      <p:sp>
        <p:nvSpPr>
          <p:cNvPr id="1026"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
          <p:cNvSpPr/>
          <p:nvPr/>
        </p:nvSpPr>
        <p:spPr>
          <a:xfrm>
            <a:off x="0" y="65959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
          <p:cNvSpPr/>
          <p:nvPr/>
        </p:nvSpPr>
        <p:spPr>
          <a:xfrm>
            <a:off x="7391520" y="17524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5181480" y="1600200"/>
            <a:ext cx="304920" cy="304920"/>
          </a:xfrm>
          <a:prstGeom prst="rect">
            <a:avLst/>
          </a:prstGeom>
          <a:solidFill>
            <a:srgbClr val="cdd5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5562720" y="160020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9</a:t>
            </a:r>
            <a:endParaRPr b="0" lang="en-US" sz="1400" spc="-1" strike="noStrike">
              <a:solidFill>
                <a:srgbClr val="000000"/>
              </a:solidFill>
              <a:latin typeface="Times New Roman"/>
            </a:endParaRPr>
          </a:p>
        </p:txBody>
      </p:sp>
      <p:sp>
        <p:nvSpPr>
          <p:cNvPr id="1031" name=""/>
          <p:cNvSpPr/>
          <p:nvPr/>
        </p:nvSpPr>
        <p:spPr>
          <a:xfrm>
            <a:off x="666720" y="5840280"/>
            <a:ext cx="2376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ildren under 5 years</a:t>
            </a:r>
            <a:endParaRPr b="0" lang="en-US" sz="1600" spc="-1" strike="noStrike">
              <a:solidFill>
                <a:srgbClr val="000000"/>
              </a:solidFill>
              <a:latin typeface="Times New Roman"/>
            </a:endParaRPr>
          </a:p>
        </p:txBody>
      </p:sp>
      <p:sp>
        <p:nvSpPr>
          <p:cNvPr id="1032" name=""/>
          <p:cNvSpPr/>
          <p:nvPr/>
        </p:nvSpPr>
        <p:spPr>
          <a:xfrm>
            <a:off x="3730320" y="5835600"/>
            <a:ext cx="2401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s 5 to 64 years* </a:t>
            </a:r>
            <a:endParaRPr b="0" lang="en-US" sz="1600" spc="-1" strike="noStrike">
              <a:solidFill>
                <a:srgbClr val="000000"/>
              </a:solidFill>
              <a:latin typeface="Times New Roman"/>
            </a:endParaRPr>
          </a:p>
        </p:txBody>
      </p:sp>
      <p:sp>
        <p:nvSpPr>
          <p:cNvPr id="1033" name=""/>
          <p:cNvSpPr/>
          <p:nvPr/>
        </p:nvSpPr>
        <p:spPr>
          <a:xfrm>
            <a:off x="6649200" y="5835600"/>
            <a:ext cx="219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ults 65 and older* </a:t>
            </a:r>
            <a:endParaRPr b="0" lang="en-US" sz="1600" spc="-1" strike="noStrike">
              <a:solidFill>
                <a:srgbClr val="000000"/>
              </a:solidFill>
              <a:latin typeface="Times New Roman"/>
            </a:endParaRPr>
          </a:p>
        </p:txBody>
      </p:sp>
      <p:sp>
        <p:nvSpPr>
          <p:cNvPr id="1034" name=""/>
          <p:cNvSpPr/>
          <p:nvPr/>
        </p:nvSpPr>
        <p:spPr>
          <a:xfrm>
            <a:off x="685800" y="5867280"/>
            <a:ext cx="2438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3657600" y="5867280"/>
            <a:ext cx="2438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6477120" y="5867280"/>
            <a:ext cx="2438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685800" y="504828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3467160" y="5397480"/>
            <a:ext cx="28195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507600" y="5535720"/>
            <a:ext cx="66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Times New Roman"/>
            </a:endParaRPr>
          </a:p>
        </p:txBody>
      </p:sp>
      <p:sp>
        <p:nvSpPr>
          <p:cNvPr id="1040" name=""/>
          <p:cNvSpPr/>
          <p:nvPr/>
        </p:nvSpPr>
        <p:spPr>
          <a:xfrm>
            <a:off x="1525680" y="5535720"/>
            <a:ext cx="72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ack</a:t>
            </a:r>
            <a:endParaRPr b="0" lang="en-US" sz="1600" spc="-1" strike="noStrike">
              <a:solidFill>
                <a:srgbClr val="000000"/>
              </a:solidFill>
              <a:latin typeface="Times New Roman"/>
            </a:endParaRPr>
          </a:p>
        </p:txBody>
      </p:sp>
      <p:sp>
        <p:nvSpPr>
          <p:cNvPr id="1041" name=""/>
          <p:cNvSpPr/>
          <p:nvPr/>
        </p:nvSpPr>
        <p:spPr>
          <a:xfrm>
            <a:off x="2452320" y="5535720"/>
            <a:ext cx="73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1042" name=""/>
          <p:cNvSpPr/>
          <p:nvPr/>
        </p:nvSpPr>
        <p:spPr>
          <a:xfrm>
            <a:off x="3628800" y="5535720"/>
            <a:ext cx="66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Times New Roman"/>
            </a:endParaRPr>
          </a:p>
        </p:txBody>
      </p:sp>
      <p:sp>
        <p:nvSpPr>
          <p:cNvPr id="1043" name=""/>
          <p:cNvSpPr/>
          <p:nvPr/>
        </p:nvSpPr>
        <p:spPr>
          <a:xfrm>
            <a:off x="4464360" y="5535720"/>
            <a:ext cx="72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ack</a:t>
            </a:r>
            <a:endParaRPr b="0" lang="en-US" sz="1600" spc="-1" strike="noStrike">
              <a:solidFill>
                <a:srgbClr val="000000"/>
              </a:solidFill>
              <a:latin typeface="Times New Roman"/>
            </a:endParaRPr>
          </a:p>
        </p:txBody>
      </p:sp>
      <p:sp>
        <p:nvSpPr>
          <p:cNvPr id="1044" name=""/>
          <p:cNvSpPr/>
          <p:nvPr/>
        </p:nvSpPr>
        <p:spPr>
          <a:xfrm>
            <a:off x="5321160" y="5535720"/>
            <a:ext cx="73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1045" name=""/>
          <p:cNvSpPr/>
          <p:nvPr/>
        </p:nvSpPr>
        <p:spPr>
          <a:xfrm>
            <a:off x="8292960" y="5535720"/>
            <a:ext cx="73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1046" name=""/>
          <p:cNvSpPr/>
          <p:nvPr/>
        </p:nvSpPr>
        <p:spPr>
          <a:xfrm>
            <a:off x="7312320" y="5535720"/>
            <a:ext cx="72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ack</a:t>
            </a:r>
            <a:endParaRPr b="0" lang="en-US" sz="1600" spc="-1" strike="noStrike">
              <a:solidFill>
                <a:srgbClr val="000000"/>
              </a:solidFill>
              <a:latin typeface="Times New Roman"/>
            </a:endParaRPr>
          </a:p>
        </p:txBody>
      </p:sp>
      <p:sp>
        <p:nvSpPr>
          <p:cNvPr id="1047" name=""/>
          <p:cNvSpPr/>
          <p:nvPr/>
        </p:nvSpPr>
        <p:spPr>
          <a:xfrm>
            <a:off x="6524280" y="5535720"/>
            <a:ext cx="66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Times New Roman"/>
            </a:endParaRPr>
          </a:p>
        </p:txBody>
      </p:sp>
      <p:graphicFrame>
        <p:nvGraphicFramePr>
          <p:cNvPr id="1048" name=""/>
          <p:cNvGraphicFramePr/>
          <p:nvPr/>
        </p:nvGraphicFramePr>
        <p:xfrm>
          <a:off x="8550360" y="6338880"/>
          <a:ext cx="593640" cy="519120"/>
        </p:xfrm>
        <a:graphic>
          <a:graphicData uri="http://schemas.openxmlformats.org/presentationml/2006/ole">
            <p:oleObj r:id="rId3" spid="">
              <p:embed/>
              <p:pic>
                <p:nvPicPr>
                  <p:cNvPr id="1049" name="" descr=""/>
                  <p:cNvPicPr/>
                  <p:nvPr/>
                </p:nvPicPr>
                <p:blipFill>
                  <a:blip r:embed="rId4"/>
                  <a:stretch/>
                </p:blipFill>
                <p:spPr>
                  <a:xfrm>
                    <a:off x="8550360" y="6338880"/>
                    <a:ext cx="593640" cy="519120"/>
                  </a:xfrm>
                  <a:prstGeom prst="rect">
                    <a:avLst/>
                  </a:prstGeom>
                  <a:ln w="0">
                    <a:noFill/>
                  </a:ln>
                  <a:effectLst>
                    <a:outerShdw dist="17819" dir="2700000" blurRad="0" rotWithShape="0">
                      <a:srgbClr val="ffffff"/>
                    </a:outerShdw>
                  </a:effectLst>
                </p:spPr>
              </p:pic>
            </p:oleObj>
          </a:graphicData>
        </a:graphic>
      </p:graphicFrame>
      <p:sp>
        <p:nvSpPr>
          <p:cNvPr id="1050" name=""/>
          <p:cNvSpPr/>
          <p:nvPr/>
        </p:nvSpPr>
        <p:spPr>
          <a:xfrm>
            <a:off x="1692360" y="3200400"/>
            <a:ext cx="441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103.0</a:t>
            </a:r>
            <a:endParaRPr b="0" lang="en-US" sz="1000" spc="-1" strike="noStrike">
              <a:solidFill>
                <a:srgbClr val="000000"/>
              </a:solidFill>
              <a:latin typeface="Times New Roman"/>
            </a:endParaRPr>
          </a:p>
        </p:txBody>
      </p:sp>
      <p:sp>
        <p:nvSpPr>
          <p:cNvPr id="1051" name=""/>
          <p:cNvSpPr/>
          <p:nvPr/>
        </p:nvSpPr>
        <p:spPr>
          <a:xfrm>
            <a:off x="3731040" y="4952880"/>
            <a:ext cx="383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13.6</a:t>
            </a:r>
            <a:endParaRPr b="0" lang="en-US" sz="1000" spc="-1" strike="noStrike">
              <a:solidFill>
                <a:srgbClr val="000000"/>
              </a:solidFill>
              <a:latin typeface="Times New Roman"/>
            </a:endParaRPr>
          </a:p>
        </p:txBody>
      </p:sp>
      <p:sp>
        <p:nvSpPr>
          <p:cNvPr id="1052" name=""/>
          <p:cNvSpPr/>
          <p:nvPr/>
        </p:nvSpPr>
        <p:spPr>
          <a:xfrm>
            <a:off x="4645440" y="4648320"/>
            <a:ext cx="383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27.9</a:t>
            </a:r>
            <a:endParaRPr b="0" lang="en-US" sz="1000" spc="-1" strike="noStrike">
              <a:solidFill>
                <a:srgbClr val="000000"/>
              </a:solidFill>
              <a:latin typeface="Times New Roman"/>
            </a:endParaRPr>
          </a:p>
        </p:txBody>
      </p:sp>
      <p:sp>
        <p:nvSpPr>
          <p:cNvPr id="1053" name=""/>
          <p:cNvSpPr/>
          <p:nvPr/>
        </p:nvSpPr>
        <p:spPr>
          <a:xfrm>
            <a:off x="6626520" y="4800600"/>
            <a:ext cx="383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21.2</a:t>
            </a:r>
            <a:endParaRPr b="0" lang="en-US" sz="1000" spc="-1" strike="noStrike">
              <a:solidFill>
                <a:srgbClr val="000000"/>
              </a:solidFill>
              <a:latin typeface="Times New Roman"/>
            </a:endParaRPr>
          </a:p>
        </p:txBody>
      </p:sp>
      <p:sp>
        <p:nvSpPr>
          <p:cNvPr id="1054" name=""/>
          <p:cNvSpPr/>
          <p:nvPr/>
        </p:nvSpPr>
        <p:spPr>
          <a:xfrm>
            <a:off x="6400800" y="5334120"/>
            <a:ext cx="25909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6324480" y="1600200"/>
            <a:ext cx="304920" cy="30492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705720" y="160020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Times New Roman"/>
            </a:endParaRPr>
          </a:p>
        </p:txBody>
      </p:sp>
      <p:sp>
        <p:nvSpPr>
          <p:cNvPr id="1057" name=""/>
          <p:cNvSpPr/>
          <p:nvPr/>
        </p:nvSpPr>
        <p:spPr>
          <a:xfrm>
            <a:off x="5040" y="6608880"/>
            <a:ext cx="39250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ospital Discharge Survey (NHDS), NCHS, CDC.</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0" y="22860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3-2. Lung Cancer Death Rates</a:t>
            </a:r>
            <a:endParaRPr b="0" lang="en-US" sz="3600" spc="-1" strike="noStrike">
              <a:solidFill>
                <a:srgbClr val="000000"/>
              </a:solidFill>
              <a:latin typeface="Times New Roman"/>
            </a:endParaRPr>
          </a:p>
        </p:txBody>
      </p:sp>
      <p:graphicFrame>
        <p:nvGraphicFramePr>
          <p:cNvPr id="1059" name=""/>
          <p:cNvGraphicFramePr/>
          <p:nvPr/>
        </p:nvGraphicFramePr>
        <p:xfrm>
          <a:off x="0" y="1219320"/>
          <a:ext cx="9191520" cy="4873680"/>
        </p:xfrm>
        <a:graphic>
          <a:graphicData uri="http://schemas.openxmlformats.org/presentationml/2006/ole">
            <p:oleObj r:id="rId1" spid="">
              <p:embed/>
              <p:pic>
                <p:nvPicPr>
                  <p:cNvPr id="1060" name="" descr=""/>
                  <p:cNvPicPr/>
                  <p:nvPr/>
                </p:nvPicPr>
                <p:blipFill>
                  <a:blip r:embed="rId2"/>
                  <a:stretch/>
                </p:blipFill>
                <p:spPr>
                  <a:xfrm>
                    <a:off x="0" y="1219320"/>
                    <a:ext cx="9191520" cy="4873680"/>
                  </a:xfrm>
                  <a:prstGeom prst="rect">
                    <a:avLst/>
                  </a:prstGeom>
                  <a:ln w="0">
                    <a:noFill/>
                  </a:ln>
                </p:spPr>
              </p:pic>
            </p:oleObj>
          </a:graphicData>
        </a:graphic>
      </p:graphicFrame>
      <p:sp>
        <p:nvSpPr>
          <p:cNvPr id="1061" name=""/>
          <p:cNvSpPr/>
          <p:nvPr/>
        </p:nvSpPr>
        <p:spPr>
          <a:xfrm>
            <a:off x="163800" y="1066680"/>
            <a:ext cx="564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adjusted death rate per 100,000 standard population</a:t>
            </a:r>
            <a:endParaRPr b="0" lang="en-US" sz="1600" spc="-1" strike="noStrike">
              <a:solidFill>
                <a:srgbClr val="000000"/>
              </a:solidFill>
              <a:latin typeface="Times New Roman"/>
            </a:endParaRPr>
          </a:p>
        </p:txBody>
      </p:sp>
      <p:sp>
        <p:nvSpPr>
          <p:cNvPr id="1062" name=""/>
          <p:cNvSpPr/>
          <p:nvPr/>
        </p:nvSpPr>
        <p:spPr>
          <a:xfrm>
            <a:off x="5943600" y="335268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sp>
        <p:nvSpPr>
          <p:cNvPr id="1063" name=""/>
          <p:cNvSpPr/>
          <p:nvPr/>
        </p:nvSpPr>
        <p:spPr>
          <a:xfrm>
            <a:off x="7543800" y="388620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male</a:t>
            </a:r>
            <a:endParaRPr b="0" lang="en-US" sz="1800" spc="-1" strike="noStrike">
              <a:solidFill>
                <a:srgbClr val="000000"/>
              </a:solidFill>
              <a:latin typeface="Times New Roman"/>
            </a:endParaRPr>
          </a:p>
        </p:txBody>
      </p:sp>
      <p:sp>
        <p:nvSpPr>
          <p:cNvPr id="1064" name=""/>
          <p:cNvSpPr/>
          <p:nvPr/>
        </p:nvSpPr>
        <p:spPr>
          <a:xfrm>
            <a:off x="7621920" y="213372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le</a:t>
            </a:r>
            <a:endParaRPr b="0" lang="en-US" sz="1800" spc="-1" strike="noStrike">
              <a:solidFill>
                <a:srgbClr val="000000"/>
              </a:solidFill>
              <a:latin typeface="Times New Roman"/>
            </a:endParaRPr>
          </a:p>
        </p:txBody>
      </p:sp>
      <p:sp>
        <p:nvSpPr>
          <p:cNvPr id="1065" name=""/>
          <p:cNvSpPr/>
          <p:nvPr/>
        </p:nvSpPr>
        <p:spPr>
          <a:xfrm>
            <a:off x="7543800" y="3048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a:t>
            </a:r>
            <a:endParaRPr b="0" lang="en-US" sz="1800" spc="-1" strike="noStrike">
              <a:solidFill>
                <a:srgbClr val="000000"/>
              </a:solidFill>
              <a:latin typeface="Times New Roman"/>
            </a:endParaRPr>
          </a:p>
        </p:txBody>
      </p:sp>
      <p:sp>
        <p:nvSpPr>
          <p:cNvPr id="1066" name=""/>
          <p:cNvSpPr/>
          <p:nvPr/>
        </p:nvSpPr>
        <p:spPr>
          <a:xfrm>
            <a:off x="0" y="6278400"/>
            <a:ext cx="5791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Data are age adjusted to the 2000 standard population.</a:t>
            </a:r>
            <a:endParaRPr b="0" lang="en-US" sz="1200" spc="-1" strike="noStrike">
              <a:solidFill>
                <a:srgbClr val="000000"/>
              </a:solidFill>
              <a:latin typeface="Times New Roman"/>
            </a:endParaRPr>
          </a:p>
        </p:txBody>
      </p:sp>
      <p:sp>
        <p:nvSpPr>
          <p:cNvPr id="1067"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
          <p:cNvSpPr/>
          <p:nvPr/>
        </p:nvSpPr>
        <p:spPr>
          <a:xfrm>
            <a:off x="0" y="6553080"/>
            <a:ext cx="9144000" cy="459000"/>
          </a:xfrm>
          <a:prstGeom prst="rect">
            <a:avLst/>
          </a:prstGeom>
          <a:solidFill>
            <a:srgbClr val="0033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National Vital Statistics System-Mortality (NVSS-M), NCHS, CD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069" name=""/>
          <p:cNvGraphicFramePr/>
          <p:nvPr/>
        </p:nvGraphicFramePr>
        <p:xfrm>
          <a:off x="8534520" y="6324480"/>
          <a:ext cx="609480" cy="533520"/>
        </p:xfrm>
        <a:graphic>
          <a:graphicData uri="http://schemas.openxmlformats.org/presentationml/2006/ole">
            <p:oleObj r:id="rId3" spid="">
              <p:embed/>
              <p:pic>
                <p:nvPicPr>
                  <p:cNvPr id="1070"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15228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2. Lung Cancer Death Rates</a:t>
            </a:r>
            <a:endParaRPr b="0" lang="en-US" sz="3200" spc="-1" strike="noStrike">
              <a:solidFill>
                <a:srgbClr val="000000"/>
              </a:solidFill>
              <a:latin typeface="Times New Roman"/>
            </a:endParaRPr>
          </a:p>
        </p:txBody>
      </p:sp>
      <p:graphicFrame>
        <p:nvGraphicFramePr>
          <p:cNvPr id="1072" name=""/>
          <p:cNvGraphicFramePr/>
          <p:nvPr/>
        </p:nvGraphicFramePr>
        <p:xfrm>
          <a:off x="0" y="1066680"/>
          <a:ext cx="9372600" cy="5421600"/>
        </p:xfrm>
        <a:graphic>
          <a:graphicData uri="http://schemas.openxmlformats.org/presentationml/2006/ole">
            <p:oleObj r:id="rId1" spid="">
              <p:embed/>
              <p:pic>
                <p:nvPicPr>
                  <p:cNvPr id="1073" name="" descr=""/>
                  <p:cNvPicPr/>
                  <p:nvPr/>
                </p:nvPicPr>
                <p:blipFill>
                  <a:blip r:embed="rId2"/>
                  <a:stretch/>
                </p:blipFill>
                <p:spPr>
                  <a:xfrm>
                    <a:off x="0" y="1066680"/>
                    <a:ext cx="9372600" cy="5421600"/>
                  </a:xfrm>
                  <a:prstGeom prst="rect">
                    <a:avLst/>
                  </a:prstGeom>
                  <a:ln w="0">
                    <a:noFill/>
                  </a:ln>
                </p:spPr>
              </p:pic>
            </p:oleObj>
          </a:graphicData>
        </a:graphic>
      </p:graphicFrame>
      <p:sp>
        <p:nvSpPr>
          <p:cNvPr id="1074" name=""/>
          <p:cNvSpPr/>
          <p:nvPr/>
        </p:nvSpPr>
        <p:spPr>
          <a:xfrm>
            <a:off x="62280" y="914400"/>
            <a:ext cx="499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adjusted death rate per 100,000 standard population</a:t>
            </a:r>
            <a:endParaRPr b="0" lang="en-US" sz="1400" spc="-1" strike="noStrike">
              <a:solidFill>
                <a:srgbClr val="000000"/>
              </a:solidFill>
              <a:latin typeface="Times New Roman"/>
            </a:endParaRPr>
          </a:p>
        </p:txBody>
      </p:sp>
      <p:sp>
        <p:nvSpPr>
          <p:cNvPr id="1075" name=""/>
          <p:cNvSpPr/>
          <p:nvPr/>
        </p:nvSpPr>
        <p:spPr>
          <a:xfrm>
            <a:off x="7924680" y="2133720"/>
            <a:ext cx="105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lack male</a:t>
            </a:r>
            <a:endParaRPr b="0" lang="en-US" sz="1600" spc="-1" strike="noStrike">
              <a:solidFill>
                <a:srgbClr val="000000"/>
              </a:solidFill>
              <a:latin typeface="Times New Roman"/>
            </a:endParaRPr>
          </a:p>
        </p:txBody>
      </p:sp>
      <p:sp>
        <p:nvSpPr>
          <p:cNvPr id="1076" name=""/>
          <p:cNvSpPr/>
          <p:nvPr/>
        </p:nvSpPr>
        <p:spPr>
          <a:xfrm>
            <a:off x="7543800" y="362592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otal population</a:t>
            </a:r>
            <a:endParaRPr b="0" lang="en-US" sz="1600" spc="-1" strike="noStrike">
              <a:solidFill>
                <a:srgbClr val="000000"/>
              </a:solidFill>
              <a:latin typeface="Times New Roman"/>
            </a:endParaRPr>
          </a:p>
        </p:txBody>
      </p:sp>
      <p:sp>
        <p:nvSpPr>
          <p:cNvPr id="1077"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
          <p:cNvSpPr/>
          <p:nvPr/>
        </p:nvSpPr>
        <p:spPr>
          <a:xfrm>
            <a:off x="7855920" y="3048120"/>
            <a:ext cx="105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White male</a:t>
            </a:r>
            <a:endParaRPr b="0" lang="en-US" sz="1600" spc="-1" strike="noStrike">
              <a:solidFill>
                <a:srgbClr val="000000"/>
              </a:solidFill>
              <a:latin typeface="Times New Roman"/>
            </a:endParaRPr>
          </a:p>
        </p:txBody>
      </p:sp>
      <p:sp>
        <p:nvSpPr>
          <p:cNvPr id="1079" name=""/>
          <p:cNvSpPr/>
          <p:nvPr/>
        </p:nvSpPr>
        <p:spPr>
          <a:xfrm>
            <a:off x="7863840" y="4164120"/>
            <a:ext cx="1252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White female </a:t>
            </a:r>
            <a:endParaRPr b="0" lang="en-US" sz="1600" spc="-1" strike="noStrike">
              <a:solidFill>
                <a:srgbClr val="000000"/>
              </a:solidFill>
              <a:latin typeface="Times New Roman"/>
            </a:endParaRPr>
          </a:p>
        </p:txBody>
      </p:sp>
      <p:sp>
        <p:nvSpPr>
          <p:cNvPr id="1080" name=""/>
          <p:cNvSpPr/>
          <p:nvPr/>
        </p:nvSpPr>
        <p:spPr>
          <a:xfrm>
            <a:off x="7862760" y="4392720"/>
            <a:ext cx="1244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lack female </a:t>
            </a:r>
            <a:endParaRPr b="0" lang="en-US" sz="1600" spc="-1" strike="noStrike">
              <a:solidFill>
                <a:srgbClr val="000000"/>
              </a:solidFill>
              <a:latin typeface="Times New Roman"/>
            </a:endParaRPr>
          </a:p>
        </p:txBody>
      </p:sp>
      <p:sp>
        <p:nvSpPr>
          <p:cNvPr id="1081" name=""/>
          <p:cNvSpPr/>
          <p:nvPr/>
        </p:nvSpPr>
        <p:spPr>
          <a:xfrm>
            <a:off x="0" y="6400800"/>
            <a:ext cx="9144000" cy="45720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0" y="6461280"/>
            <a:ext cx="12096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tes: Data are age adjusted to the 2000 standard population. The race groups white and black may be of Hispanic or non-Hispanic orig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ource: National Vital Statistics System-Mortality (NVSS-M), NCHS, CD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83" name=""/>
          <p:cNvSpPr/>
          <p:nvPr/>
        </p:nvSpPr>
        <p:spPr>
          <a:xfrm>
            <a:off x="1828800" y="4362480"/>
            <a:ext cx="6019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3657600" y="408312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graphicFrame>
        <p:nvGraphicFramePr>
          <p:cNvPr id="1085" name=""/>
          <p:cNvGraphicFramePr/>
          <p:nvPr/>
        </p:nvGraphicFramePr>
        <p:xfrm>
          <a:off x="8534520" y="6324480"/>
          <a:ext cx="609480" cy="533520"/>
        </p:xfrm>
        <a:graphic>
          <a:graphicData uri="http://schemas.openxmlformats.org/presentationml/2006/ole">
            <p:oleObj r:id="rId3" spid="">
              <p:embed/>
              <p:pic>
                <p:nvPicPr>
                  <p:cNvPr id="1086"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533520" y="228240"/>
            <a:ext cx="10211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2. Lung Cancer Death Rates, 2000</a:t>
            </a:r>
            <a:endParaRPr b="0" lang="en-US" sz="3600" spc="-1" strike="noStrike">
              <a:solidFill>
                <a:srgbClr val="000000"/>
              </a:solidFill>
              <a:latin typeface="Times New Roman"/>
            </a:endParaRPr>
          </a:p>
        </p:txBody>
      </p:sp>
      <p:graphicFrame>
        <p:nvGraphicFramePr>
          <p:cNvPr id="1088" name=""/>
          <p:cNvGraphicFramePr/>
          <p:nvPr/>
        </p:nvGraphicFramePr>
        <p:xfrm>
          <a:off x="0" y="1600200"/>
          <a:ext cx="9144000" cy="4091040"/>
        </p:xfrm>
        <a:graphic>
          <a:graphicData uri="http://schemas.openxmlformats.org/presentationml/2006/ole">
            <p:oleObj r:id="rId1" spid="">
              <p:embed/>
              <p:pic>
                <p:nvPicPr>
                  <p:cNvPr id="1089" name="" descr=""/>
                  <p:cNvPicPr/>
                  <p:nvPr/>
                </p:nvPicPr>
                <p:blipFill>
                  <a:blip r:embed="rId2"/>
                  <a:stretch/>
                </p:blipFill>
                <p:spPr>
                  <a:xfrm>
                    <a:off x="0" y="1600200"/>
                    <a:ext cx="9144000" cy="4091040"/>
                  </a:xfrm>
                  <a:prstGeom prst="rect">
                    <a:avLst/>
                  </a:prstGeom>
                  <a:ln w="0">
                    <a:noFill/>
                  </a:ln>
                </p:spPr>
              </p:pic>
            </p:oleObj>
          </a:graphicData>
        </a:graphic>
      </p:graphicFrame>
      <p:sp>
        <p:nvSpPr>
          <p:cNvPr id="1090" name=""/>
          <p:cNvSpPr/>
          <p:nvPr/>
        </p:nvSpPr>
        <p:spPr>
          <a:xfrm>
            <a:off x="106200" y="144288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adjusted death rate per 100,000 standard population</a:t>
            </a:r>
            <a:endParaRPr b="0" lang="en-US" sz="1400" spc="-1" strike="noStrike">
              <a:solidFill>
                <a:srgbClr val="000000"/>
              </a:solidFill>
              <a:latin typeface="Times New Roman"/>
            </a:endParaRPr>
          </a:p>
        </p:txBody>
      </p:sp>
      <p:sp>
        <p:nvSpPr>
          <p:cNvPr id="1091" name=""/>
          <p:cNvSpPr/>
          <p:nvPr/>
        </p:nvSpPr>
        <p:spPr>
          <a:xfrm>
            <a:off x="0" y="617220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 American Indians/Alaska Natives or Asians/Pacific Islanders may be of Hispanic origin.  Hispanics may be of any rac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lignant neoplasms of trachea, bronchus and lung: ICD-10 codes C33-C34.  Data are age adjusted to the 2000 standard popul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Vital Statistics System-Mortality (NVSS-M), NCHS, CDC.</a:t>
            </a:r>
            <a:endParaRPr b="0" lang="en-US" sz="1000" spc="-1" strike="noStrike">
              <a:solidFill>
                <a:srgbClr val="000000"/>
              </a:solidFill>
              <a:latin typeface="Times New Roman"/>
            </a:endParaRPr>
          </a:p>
        </p:txBody>
      </p:sp>
      <p:sp>
        <p:nvSpPr>
          <p:cNvPr id="1092" name=""/>
          <p:cNvSpPr/>
          <p:nvPr/>
        </p:nvSpPr>
        <p:spPr>
          <a:xfrm>
            <a:off x="635040" y="3174840"/>
            <a:ext cx="8156520" cy="74880"/>
          </a:xfrm>
          <a:custGeom>
            <a:avLst/>
            <a:gdLst/>
            <a:ahLst/>
            <a:rect l="l" t="t" r="r" b="b"/>
            <a:pathLst>
              <a:path w="5218" h="1">
                <a:moveTo>
                  <a:pt x="0" y="0"/>
                </a:moveTo>
                <a:lnTo>
                  <a:pt x="5218" y="0"/>
                </a:lnTo>
                <a:lnTo>
                  <a:pt x="5218" y="0"/>
                </a:lnTo>
              </a:path>
            </a:pathLst>
          </a:custGeom>
          <a:noFill/>
          <a:ln w="38160">
            <a:solidFill>
              <a:srgbClr val="000000"/>
            </a:solidFill>
            <a:miter/>
          </a:ln>
        </p:spPr>
        <p:style>
          <a:lnRef idx="0"/>
          <a:fillRef idx="0"/>
          <a:effectRef idx="0"/>
          <a:fontRef idx="minor"/>
        </p:style>
        <p:txBody>
          <a:bodyPr wrap="none" tIns="29160" bIns="29160" anchor="t">
            <a:noAutofit/>
          </a:bodyPr>
          <a:p>
            <a:endParaRPr b="0" lang="en-US" sz="2400" spc="-1" strike="noStrike">
              <a:solidFill>
                <a:srgbClr val="000000"/>
              </a:solidFill>
              <a:latin typeface="Times New Roman"/>
            </a:endParaRPr>
          </a:p>
        </p:txBody>
      </p:sp>
      <p:sp>
        <p:nvSpPr>
          <p:cNvPr id="1093" name=""/>
          <p:cNvSpPr/>
          <p:nvPr/>
        </p:nvSpPr>
        <p:spPr>
          <a:xfrm>
            <a:off x="3505320" y="2867040"/>
            <a:ext cx="2149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1094" name=""/>
          <p:cNvSpPr/>
          <p:nvPr/>
        </p:nvSpPr>
        <p:spPr>
          <a:xfrm>
            <a:off x="1828800" y="54100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merican Indi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laska Native</a:t>
            </a:r>
            <a:endParaRPr b="0" lang="en-US" sz="1600" spc="-1" strike="noStrike">
              <a:solidFill>
                <a:srgbClr val="000000"/>
              </a:solidFill>
              <a:latin typeface="Times New Roman"/>
            </a:endParaRPr>
          </a:p>
        </p:txBody>
      </p:sp>
      <p:sp>
        <p:nvSpPr>
          <p:cNvPr id="1095" name=""/>
          <p:cNvSpPr/>
          <p:nvPr/>
        </p:nvSpPr>
        <p:spPr>
          <a:xfrm>
            <a:off x="3200400" y="543888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ian/ Pacific Islander</a:t>
            </a:r>
            <a:endParaRPr b="0" lang="en-US" sz="1600" spc="-1" strike="noStrike">
              <a:solidFill>
                <a:srgbClr val="000000"/>
              </a:solidFill>
              <a:latin typeface="Times New Roman"/>
            </a:endParaRPr>
          </a:p>
        </p:txBody>
      </p:sp>
      <p:sp>
        <p:nvSpPr>
          <p:cNvPr id="1096" name=""/>
          <p:cNvSpPr/>
          <p:nvPr/>
        </p:nvSpPr>
        <p:spPr>
          <a:xfrm>
            <a:off x="4572000" y="5454720"/>
            <a:ext cx="127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Hispanic </a:t>
            </a:r>
            <a:endParaRPr b="0" lang="en-US" sz="1600" spc="-1" strike="noStrike">
              <a:solidFill>
                <a:srgbClr val="000000"/>
              </a:solidFill>
              <a:latin typeface="Times New Roman"/>
            </a:endParaRPr>
          </a:p>
        </p:txBody>
      </p:sp>
      <p:sp>
        <p:nvSpPr>
          <p:cNvPr id="1097" name=""/>
          <p:cNvSpPr/>
          <p:nvPr/>
        </p:nvSpPr>
        <p:spPr>
          <a:xfrm>
            <a:off x="5638680" y="5438880"/>
            <a:ext cx="1532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lack,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ot Hispanic</a:t>
            </a:r>
            <a:endParaRPr b="0" lang="en-US" sz="1600" spc="-1" strike="noStrike">
              <a:solidFill>
                <a:srgbClr val="000000"/>
              </a:solidFill>
              <a:latin typeface="Times New Roman"/>
            </a:endParaRPr>
          </a:p>
        </p:txBody>
      </p:sp>
      <p:sp>
        <p:nvSpPr>
          <p:cNvPr id="1098" name=""/>
          <p:cNvSpPr/>
          <p:nvPr/>
        </p:nvSpPr>
        <p:spPr>
          <a:xfrm>
            <a:off x="6858000" y="5438880"/>
            <a:ext cx="1752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Whit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ot Hispanic</a:t>
            </a:r>
            <a:endParaRPr b="0" lang="en-US" sz="1600" spc="-1" strike="noStrike">
              <a:solidFill>
                <a:srgbClr val="000000"/>
              </a:solidFill>
              <a:latin typeface="Times New Roman"/>
            </a:endParaRPr>
          </a:p>
        </p:txBody>
      </p:sp>
      <p:sp>
        <p:nvSpPr>
          <p:cNvPr id="1099" name=""/>
          <p:cNvSpPr/>
          <p:nvPr/>
        </p:nvSpPr>
        <p:spPr>
          <a:xfrm>
            <a:off x="609480" y="542448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otal</a:t>
            </a:r>
            <a:endParaRPr b="0" lang="en-US" sz="1800" spc="-1" strike="noStrike">
              <a:solidFill>
                <a:srgbClr val="000000"/>
              </a:solidFill>
              <a:latin typeface="Times New Roman"/>
            </a:endParaRPr>
          </a:p>
        </p:txBody>
      </p:sp>
      <p:sp>
        <p:nvSpPr>
          <p:cNvPr id="1100"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
          <p:cNvSpPr/>
          <p:nvPr/>
        </p:nvSpPr>
        <p:spPr>
          <a:xfrm>
            <a:off x="0" y="6553080"/>
            <a:ext cx="9144000" cy="398520"/>
          </a:xfrm>
          <a:prstGeom prst="rect">
            <a:avLst/>
          </a:prstGeom>
          <a:solidFill>
            <a:srgbClr val="0033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Vital Statistics System-Mortality (NVSS-M), NCHS, CD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aphicFrame>
        <p:nvGraphicFramePr>
          <p:cNvPr id="1102" name=""/>
          <p:cNvGraphicFramePr/>
          <p:nvPr/>
        </p:nvGraphicFramePr>
        <p:xfrm>
          <a:off x="8534520" y="6324480"/>
          <a:ext cx="609480" cy="533520"/>
        </p:xfrm>
        <a:graphic>
          <a:graphicData uri="http://schemas.openxmlformats.org/presentationml/2006/ole">
            <p:oleObj r:id="rId3" spid="">
              <p:embed/>
              <p:pic>
                <p:nvPicPr>
                  <p:cNvPr id="1103"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graphicFrame>
        <p:nvGraphicFramePr>
          <p:cNvPr id="1104" name=""/>
          <p:cNvGraphicFramePr/>
          <p:nvPr/>
        </p:nvGraphicFramePr>
        <p:xfrm>
          <a:off x="228600" y="598320"/>
          <a:ext cx="8915400" cy="5116680"/>
        </p:xfrm>
        <a:graphic>
          <a:graphicData uri="http://schemas.openxmlformats.org/drawingml/2006/table">
            <a:tbl>
              <a:tblPr/>
              <a:tblGrid>
                <a:gridCol w="3720960"/>
                <a:gridCol w="1395720"/>
                <a:gridCol w="1207800"/>
                <a:gridCol w="2590920"/>
              </a:tblGrid>
              <a:tr h="1063080">
                <a:tc>
                  <a: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a:t>
                      </a: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0</a:t>
                      </a:r>
                      <a:endParaRPr b="0" lang="en-US" sz="20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9</a:t>
                      </a:r>
                      <a:endParaRPr b="0" lang="en-US" sz="20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imated Annual</a:t>
                      </a:r>
                      <a:endParaRPr b="0" lang="en-US" sz="1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ercent Change</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0-99</a:t>
                      </a:r>
                      <a:endParaRPr b="0" lang="en-US" sz="2000" spc="-1" strike="noStrike">
                        <a:solidFill>
                          <a:srgbClr val="000000"/>
                        </a:solidFill>
                        <a:latin typeface="Times New Roman"/>
                      </a:endParaRPr>
                    </a:p>
                  </a:txBody>
                  <a:tcPr anchor="t">
                    <a:lnL>
                      <a:noFill/>
                    </a:lnL>
                    <a:lnR>
                      <a:noFill/>
                    </a:lnR>
                    <a:lnT>
                      <a:noFill/>
                    </a:lnT>
                    <a:lnB>
                      <a:noFill/>
                    </a:lnB>
                    <a:noFill/>
                  </a:tcPr>
                </a:tc>
              </a:tr>
              <a:tr h="407880">
                <a:tc>
                  <a: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le</a:t>
                      </a:r>
                      <a:endParaRPr b="0" lang="en-US" sz="20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4</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6.3</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Times New Roman"/>
                      </a:endParaRPr>
                    </a:p>
                  </a:txBody>
                  <a:tcPr anchor="t">
                    <a:lnL>
                      <a:noFill/>
                    </a:lnL>
                    <a:lnR>
                      <a:noFill/>
                    </a:lnR>
                    <a:lnT>
                      <a:noFill/>
                    </a:lnT>
                    <a:lnB>
                      <a:noFill/>
                    </a:lnB>
                    <a:noFill/>
                  </a:tcPr>
                </a:tc>
              </a:tr>
              <a:tr h="28260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White</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4.7</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4.4</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Times New Roman"/>
                      </a:endParaRPr>
                    </a:p>
                  </a:txBody>
                  <a:tcPr anchor="t">
                    <a:lnL>
                      <a:noFill/>
                    </a:lnL>
                    <a:lnR>
                      <a:noFill/>
                    </a:lnR>
                    <a:lnT>
                      <a:noFill/>
                    </a:lnT>
                    <a:lnB>
                      <a:noFill/>
                    </a:lnB>
                    <a:noFill/>
                  </a:tcPr>
                </a:tc>
              </a:tr>
              <a:tr h="46944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Black / African American</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4.6</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9.8</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Times New Roman"/>
                      </a:endParaRPr>
                    </a:p>
                  </a:txBody>
                  <a:tcPr anchor="t">
                    <a:lnL>
                      <a:noFill/>
                    </a:lnL>
                    <a:lnR>
                      <a:noFill/>
                    </a:lnR>
                    <a:lnT>
                      <a:noFill/>
                    </a:lnT>
                    <a:lnB>
                      <a:noFill/>
                    </a:lnB>
                    <a:noFill/>
                  </a:tcPr>
                </a:tc>
              </a:tr>
              <a:tr h="41580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Asian or  Pacific Islander</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4.4</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2.7</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a:t>
                      </a:r>
                      <a:endParaRPr b="0" lang="en-US" sz="1800" spc="-1" strike="noStrike">
                        <a:solidFill>
                          <a:srgbClr val="000000"/>
                        </a:solidFill>
                        <a:latin typeface="Times New Roman"/>
                      </a:endParaRPr>
                    </a:p>
                  </a:txBody>
                  <a:tcPr anchor="t">
                    <a:lnL>
                      <a:noFill/>
                    </a:lnL>
                    <a:lnR>
                      <a:noFill/>
                    </a:lnR>
                    <a:lnT>
                      <a:noFill/>
                    </a:lnT>
                    <a:lnB>
                      <a:noFill/>
                    </a:lnB>
                    <a:noFill/>
                  </a:tcPr>
                </a:tc>
              </a:tr>
              <a:tr h="41436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Hispanic or Latino</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8.2</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5.9</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a:t>
                      </a:r>
                      <a:endParaRPr b="0" lang="en-US" sz="1800" spc="-1" strike="noStrike">
                        <a:solidFill>
                          <a:srgbClr val="000000"/>
                        </a:solidFill>
                        <a:latin typeface="Times New Roman"/>
                      </a:endParaRPr>
                    </a:p>
                  </a:txBody>
                  <a:tcPr anchor="t">
                    <a:lnL>
                      <a:noFill/>
                    </a:lnL>
                    <a:lnR>
                      <a:noFill/>
                    </a:lnR>
                    <a:lnT>
                      <a:noFill/>
                    </a:lnT>
                    <a:lnB>
                      <a:noFill/>
                    </a:lnB>
                    <a:noFill/>
                  </a:tcPr>
                </a:tc>
              </a:tr>
              <a:tr h="673560">
                <a:tc>
                  <a: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emale</a:t>
                      </a:r>
                      <a:endParaRPr b="0" lang="en-US" sz="20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7.4</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8.2</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a:t>
                      </a:r>
                      <a:endParaRPr b="0" lang="en-US" sz="1800" spc="-1" strike="noStrike">
                        <a:solidFill>
                          <a:srgbClr val="000000"/>
                        </a:solidFill>
                        <a:latin typeface="Times New Roman"/>
                      </a:endParaRPr>
                    </a:p>
                  </a:txBody>
                  <a:tcPr anchor="t">
                    <a:lnL>
                      <a:noFill/>
                    </a:lnL>
                    <a:lnR>
                      <a:noFill/>
                    </a:lnR>
                    <a:lnT>
                      <a:noFill/>
                    </a:lnT>
                    <a:lnB>
                      <a:noFill/>
                    </a:lnB>
                    <a:noFill/>
                  </a:tcPr>
                </a:tc>
              </a:tr>
              <a:tr h="28260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White</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8.7</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9.9</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a:t>
                      </a:r>
                      <a:endParaRPr b="0" lang="en-US" sz="1800" spc="-1" strike="noStrike">
                        <a:solidFill>
                          <a:srgbClr val="000000"/>
                        </a:solidFill>
                        <a:latin typeface="Times New Roman"/>
                      </a:endParaRPr>
                    </a:p>
                  </a:txBody>
                  <a:tcPr anchor="t">
                    <a:lnL>
                      <a:noFill/>
                    </a:lnL>
                    <a:lnR>
                      <a:noFill/>
                    </a:lnR>
                    <a:lnT>
                      <a:noFill/>
                    </a:lnT>
                    <a:lnB>
                      <a:noFill/>
                    </a:lnB>
                    <a:noFill/>
                  </a:tcPr>
                </a:tc>
              </a:tr>
              <a:tr h="41436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Black / African American</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3.2</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5.7</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0" lang="en-US" sz="1800" spc="-1" strike="noStrike">
                        <a:solidFill>
                          <a:srgbClr val="000000"/>
                        </a:solidFill>
                        <a:latin typeface="Times New Roman"/>
                      </a:endParaRPr>
                    </a:p>
                  </a:txBody>
                  <a:tcPr anchor="t">
                    <a:lnL>
                      <a:noFill/>
                    </a:lnL>
                    <a:lnR>
                      <a:noFill/>
                    </a:lnR>
                    <a:lnT>
                      <a:noFill/>
                    </a:lnT>
                    <a:lnB>
                      <a:noFill/>
                    </a:lnB>
                    <a:noFill/>
                  </a:tcPr>
                </a:tc>
              </a:tr>
              <a:tr h="41292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Asian or Pacific Islander</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2</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6</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a:t>
                      </a:r>
                      <a:endParaRPr b="0" lang="en-US" sz="1800" spc="-1" strike="noStrike">
                        <a:solidFill>
                          <a:srgbClr val="000000"/>
                        </a:solidFill>
                        <a:latin typeface="Times New Roman"/>
                      </a:endParaRPr>
                    </a:p>
                  </a:txBody>
                  <a:tcPr anchor="t">
                    <a:lnL>
                      <a:noFill/>
                    </a:lnL>
                    <a:lnR>
                      <a:noFill/>
                    </a:lnR>
                    <a:lnT>
                      <a:noFill/>
                    </a:lnT>
                    <a:lnB>
                      <a:noFill/>
                    </a:lnB>
                    <a:noFill/>
                  </a:tcPr>
                </a:tc>
              </a:tr>
              <a:tr h="28008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Hispanic or Latino</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6</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6</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a:t>
                      </a:r>
                      <a:endParaRPr b="0" lang="en-US" sz="1800" spc="-1" strike="noStrike">
                        <a:solidFill>
                          <a:srgbClr val="000000"/>
                        </a:solidFill>
                        <a:latin typeface="Times New Roman"/>
                      </a:endParaRPr>
                    </a:p>
                  </a:txBody>
                  <a:tcPr anchor="t">
                    <a:lnL>
                      <a:noFill/>
                    </a:lnL>
                    <a:lnR>
                      <a:noFill/>
                    </a:lnR>
                    <a:lnT>
                      <a:noFill/>
                    </a:lnT>
                    <a:lnB>
                      <a:noFill/>
                    </a:lnB>
                    <a:noFill/>
                  </a:tcPr>
                </a:tc>
              </a:tr>
            </a:tbl>
          </a:graphicData>
        </a:graphic>
      </p:graphicFrame>
      <p:sp>
        <p:nvSpPr>
          <p:cNvPr id="1105" name=""/>
          <p:cNvSpPr/>
          <p:nvPr/>
        </p:nvSpPr>
        <p:spPr>
          <a:xfrm>
            <a:off x="0" y="0"/>
            <a:ext cx="9144000" cy="49068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ge-Adjusted Lung </a:t>
            </a:r>
            <a:r>
              <a:rPr b="1" lang="en-US" sz="2800" spc="-1" strike="noStrike">
                <a:solidFill>
                  <a:srgbClr val="ffffff"/>
                </a:solidFill>
                <a:latin typeface="Arial"/>
              </a:rPr>
              <a:t>Cancer</a:t>
            </a:r>
            <a:r>
              <a:rPr b="1" lang="en-US" sz="2800" spc="-1" strike="noStrike">
                <a:solidFill>
                  <a:srgbClr val="ffffff"/>
                </a:solidFill>
                <a:latin typeface="Arial Narrow"/>
              </a:rPr>
              <a:t> Incidence Rates</a:t>
            </a:r>
            <a:endParaRPr b="0" lang="en-US" sz="2800" spc="-1" strike="noStrike">
              <a:solidFill>
                <a:srgbClr val="000000"/>
              </a:solidFill>
              <a:latin typeface="Times New Roman"/>
            </a:endParaRPr>
          </a:p>
        </p:txBody>
      </p:sp>
      <p:sp>
        <p:nvSpPr>
          <p:cNvPr id="1106" name=""/>
          <p:cNvSpPr/>
          <p:nvPr/>
        </p:nvSpPr>
        <p:spPr>
          <a:xfrm>
            <a:off x="3581280" y="533520"/>
            <a:ext cx="3124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w Cases per 100,000 popul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7" name=""/>
          <p:cNvSpPr/>
          <p:nvPr/>
        </p:nvSpPr>
        <p:spPr>
          <a:xfrm>
            <a:off x="609480" y="1600200"/>
            <a:ext cx="845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0" y="6019920"/>
            <a:ext cx="9144000" cy="838080"/>
          </a:xfrm>
          <a:prstGeom prst="rect">
            <a:avLst/>
          </a:prstGeom>
          <a:solidFill>
            <a:srgbClr val="0033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Estimated annual percent change (EAPC) is significantly different from 0 (p&lt;0.05).  EAPC has been calculated by fitting a linear regression model to the natural logarithm of the yearly rates from 1990-99.   Notes:  Estimates for American Indians or Alaska Natives are not shown because of the small number of cases.  The race groups, white, black and Asian or Pacific Islander include persons of Hispanic and non-Hispanic origin.  ICD-9-CM codes: 162.2-162.9.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Source: National Institutes of Health, National Cancer Institute, Surveillance, Epidemiology, and End Results (SEER) Progra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109" name=""/>
          <p:cNvGraphicFramePr/>
          <p:nvPr/>
        </p:nvGraphicFramePr>
        <p:xfrm>
          <a:off x="8686800" y="6458040"/>
          <a:ext cx="457200" cy="399960"/>
        </p:xfrm>
        <a:graphic>
          <a:graphicData uri="http://schemas.openxmlformats.org/presentationml/2006/ole">
            <p:oleObj r:id="rId1" spid="">
              <p:embed/>
              <p:pic>
                <p:nvPicPr>
                  <p:cNvPr id="1110" name="" descr=""/>
                  <p:cNvPicPr/>
                  <p:nvPr/>
                </p:nvPicPr>
                <p:blipFill>
                  <a:blip r:embed="rId2"/>
                  <a:stretch/>
                </p:blipFill>
                <p:spPr>
                  <a:xfrm>
                    <a:off x="8686800" y="6458040"/>
                    <a:ext cx="457200" cy="39996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2. Lung Cancer Death Rates</a:t>
            </a:r>
            <a:endParaRPr b="0" lang="en-US" sz="3200" spc="-1" strike="noStrike">
              <a:solidFill>
                <a:srgbClr val="000000"/>
              </a:solidFill>
              <a:latin typeface="Times New Roman"/>
            </a:endParaRPr>
          </a:p>
        </p:txBody>
      </p:sp>
      <p:graphicFrame>
        <p:nvGraphicFramePr>
          <p:cNvPr id="172" name=""/>
          <p:cNvGraphicFramePr/>
          <p:nvPr/>
        </p:nvGraphicFramePr>
        <p:xfrm>
          <a:off x="0" y="1066680"/>
          <a:ext cx="9309240" cy="5281560"/>
        </p:xfrm>
        <a:graphic>
          <a:graphicData uri="http://schemas.openxmlformats.org/presentationml/2006/ole">
            <p:oleObj r:id="rId1" spid="">
              <p:embed/>
              <p:pic>
                <p:nvPicPr>
                  <p:cNvPr id="173" name="" descr=""/>
                  <p:cNvPicPr/>
                  <p:nvPr/>
                </p:nvPicPr>
                <p:blipFill>
                  <a:blip r:embed="rId2"/>
                  <a:stretch/>
                </p:blipFill>
                <p:spPr>
                  <a:xfrm>
                    <a:off x="0" y="1066680"/>
                    <a:ext cx="9309240" cy="5281560"/>
                  </a:xfrm>
                  <a:prstGeom prst="rect">
                    <a:avLst/>
                  </a:prstGeom>
                  <a:ln w="0">
                    <a:noFill/>
                  </a:ln>
                </p:spPr>
              </p:pic>
            </p:oleObj>
          </a:graphicData>
        </a:graphic>
      </p:graphicFrame>
      <p:sp>
        <p:nvSpPr>
          <p:cNvPr id="174" name=""/>
          <p:cNvSpPr/>
          <p:nvPr/>
        </p:nvSpPr>
        <p:spPr>
          <a:xfrm>
            <a:off x="62280" y="914400"/>
            <a:ext cx="499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adjusted death rate per 100,000 standard population</a:t>
            </a:r>
            <a:endParaRPr b="0" lang="en-US" sz="1400" spc="-1" strike="noStrike">
              <a:solidFill>
                <a:srgbClr val="000000"/>
              </a:solidFill>
              <a:latin typeface="Times New Roman"/>
            </a:endParaRPr>
          </a:p>
        </p:txBody>
      </p:sp>
      <p:sp>
        <p:nvSpPr>
          <p:cNvPr id="175" name=""/>
          <p:cNvSpPr/>
          <p:nvPr/>
        </p:nvSpPr>
        <p:spPr>
          <a:xfrm>
            <a:off x="7924680" y="2133720"/>
            <a:ext cx="105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lack male</a:t>
            </a:r>
            <a:endParaRPr b="0" lang="en-US" sz="1600" spc="-1" strike="noStrike">
              <a:solidFill>
                <a:srgbClr val="000000"/>
              </a:solidFill>
              <a:latin typeface="Times New Roman"/>
            </a:endParaRPr>
          </a:p>
        </p:txBody>
      </p:sp>
      <p:sp>
        <p:nvSpPr>
          <p:cNvPr id="176" name=""/>
          <p:cNvSpPr/>
          <p:nvPr/>
        </p:nvSpPr>
        <p:spPr>
          <a:xfrm>
            <a:off x="7543800" y="362592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otal population</a:t>
            </a:r>
            <a:endParaRPr b="0" lang="en-US" sz="1600" spc="-1" strike="noStrike">
              <a:solidFill>
                <a:srgbClr val="000000"/>
              </a:solidFill>
              <a:latin typeface="Times New Roman"/>
            </a:endParaRPr>
          </a:p>
        </p:txBody>
      </p:sp>
      <p:sp>
        <p:nvSpPr>
          <p:cNvPr id="177"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7855920" y="3048120"/>
            <a:ext cx="105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White male</a:t>
            </a:r>
            <a:endParaRPr b="0" lang="en-US" sz="1600" spc="-1" strike="noStrike">
              <a:solidFill>
                <a:srgbClr val="000000"/>
              </a:solidFill>
              <a:latin typeface="Times New Roman"/>
            </a:endParaRPr>
          </a:p>
        </p:txBody>
      </p:sp>
      <p:sp>
        <p:nvSpPr>
          <p:cNvPr id="179" name=""/>
          <p:cNvSpPr/>
          <p:nvPr/>
        </p:nvSpPr>
        <p:spPr>
          <a:xfrm>
            <a:off x="7863840" y="4164120"/>
            <a:ext cx="1252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White female </a:t>
            </a:r>
            <a:endParaRPr b="0" lang="en-US" sz="1600" spc="-1" strike="noStrike">
              <a:solidFill>
                <a:srgbClr val="000000"/>
              </a:solidFill>
              <a:latin typeface="Times New Roman"/>
            </a:endParaRPr>
          </a:p>
        </p:txBody>
      </p:sp>
      <p:sp>
        <p:nvSpPr>
          <p:cNvPr id="180" name=""/>
          <p:cNvSpPr/>
          <p:nvPr/>
        </p:nvSpPr>
        <p:spPr>
          <a:xfrm>
            <a:off x="7862760" y="4572000"/>
            <a:ext cx="1244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lack female </a:t>
            </a:r>
            <a:endParaRPr b="0" lang="en-US" sz="1600" spc="-1" strike="noStrike">
              <a:solidFill>
                <a:srgbClr val="000000"/>
              </a:solidFill>
              <a:latin typeface="Times New Roman"/>
            </a:endParaRPr>
          </a:p>
        </p:txBody>
      </p:sp>
      <p:sp>
        <p:nvSpPr>
          <p:cNvPr id="181" name=""/>
          <p:cNvSpPr/>
          <p:nvPr/>
        </p:nvSpPr>
        <p:spPr>
          <a:xfrm>
            <a:off x="0" y="6400800"/>
            <a:ext cx="9144000" cy="45720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6461280"/>
            <a:ext cx="12096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tes: Data are age adjusted to the 2000 standard population. The race groups white and black may be of Hispanic or non-Hispanic orig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ource: National Vital Statistics System-Mortality (NVSS-M), NCHS, CD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 name=""/>
          <p:cNvSpPr/>
          <p:nvPr/>
        </p:nvSpPr>
        <p:spPr>
          <a:xfrm>
            <a:off x="1828800" y="4292640"/>
            <a:ext cx="6019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41600" y="401328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graphicFrame>
        <p:nvGraphicFramePr>
          <p:cNvPr id="185" name=""/>
          <p:cNvGraphicFramePr/>
          <p:nvPr/>
        </p:nvGraphicFramePr>
        <p:xfrm>
          <a:off x="8534520" y="6324480"/>
          <a:ext cx="609480" cy="533520"/>
        </p:xfrm>
        <a:graphic>
          <a:graphicData uri="http://schemas.openxmlformats.org/presentationml/2006/ole">
            <p:oleObj r:id="rId3" spid="">
              <p:embed/>
              <p:pic>
                <p:nvPicPr>
                  <p:cNvPr id="186"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187" name=""/>
          <p:cNvSpPr/>
          <p:nvPr/>
        </p:nvSpPr>
        <p:spPr>
          <a:xfrm>
            <a:off x="7238880" y="2514600"/>
            <a:ext cx="10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otal male</a:t>
            </a:r>
            <a:endParaRPr b="0" lang="en-US" sz="1600" spc="-1" strike="noStrike">
              <a:solidFill>
                <a:srgbClr val="000000"/>
              </a:solidFill>
              <a:latin typeface="Times New Roman"/>
            </a:endParaRPr>
          </a:p>
        </p:txBody>
      </p:sp>
      <p:sp>
        <p:nvSpPr>
          <p:cNvPr id="188" name=""/>
          <p:cNvSpPr/>
          <p:nvPr/>
        </p:nvSpPr>
        <p:spPr>
          <a:xfrm flipH="1">
            <a:off x="7391520" y="2743200"/>
            <a:ext cx="380880" cy="228600"/>
          </a:xfrm>
          <a:prstGeom prst="line">
            <a:avLst/>
          </a:prstGeom>
          <a:ln w="1908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848720" y="4343400"/>
            <a:ext cx="129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otal female</a:t>
            </a:r>
            <a:endParaRPr b="0" lang="en-US" sz="1600" spc="-1" strike="noStrike">
              <a:solidFill>
                <a:srgbClr val="000000"/>
              </a:solidFill>
              <a:latin typeface="Times New Roman"/>
            </a:endParaRPr>
          </a:p>
        </p:txBody>
      </p:sp>
      <p:sp>
        <p:nvSpPr>
          <p:cNvPr id="190" name=""/>
          <p:cNvSpPr/>
          <p:nvPr/>
        </p:nvSpPr>
        <p:spPr>
          <a:xfrm flipH="1" flipV="1">
            <a:off x="7522200" y="4421520"/>
            <a:ext cx="480600" cy="83880"/>
          </a:xfrm>
          <a:prstGeom prst="line">
            <a:avLst/>
          </a:prstGeom>
          <a:ln w="25560">
            <a:solidFill>
              <a:srgbClr val="3333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1" name=""/>
          <p:cNvSpPr/>
          <p:nvPr/>
        </p:nvSpPr>
        <p:spPr>
          <a:xfrm flipH="1" flipV="1">
            <a:off x="7314840" y="4495320"/>
            <a:ext cx="609480" cy="228600"/>
          </a:xfrm>
          <a:prstGeom prst="line">
            <a:avLst/>
          </a:prstGeom>
          <a:ln w="28440">
            <a:solidFill>
              <a:srgbClr val="a1cc6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228600" y="304920"/>
            <a:ext cx="96012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7-21a. Average Federal and State Tax on Cigarettes:</a:t>
            </a:r>
            <a:br>
              <a:rPr sz="2800"/>
            </a:br>
            <a:r>
              <a:rPr b="1" lang="en-US" sz="2800" spc="-1" strike="noStrike">
                <a:solidFill>
                  <a:srgbClr val="000000"/>
                </a:solidFill>
                <a:latin typeface="Arial"/>
              </a:rPr>
              <a:t>Mean Excise Tax on a Pack of Cigarettes</a:t>
            </a:r>
            <a:br>
              <a:rPr sz="2800"/>
            </a:br>
            <a:endParaRPr b="0" lang="en-US" sz="2800" spc="-1" strike="noStrike">
              <a:solidFill>
                <a:srgbClr val="000000"/>
              </a:solidFill>
              <a:latin typeface="Times New Roman"/>
            </a:endParaRPr>
          </a:p>
        </p:txBody>
      </p:sp>
      <p:graphicFrame>
        <p:nvGraphicFramePr>
          <p:cNvPr id="1112" name=""/>
          <p:cNvGraphicFramePr/>
          <p:nvPr/>
        </p:nvGraphicFramePr>
        <p:xfrm>
          <a:off x="152280" y="990720"/>
          <a:ext cx="8745480" cy="5306760"/>
        </p:xfrm>
        <a:graphic>
          <a:graphicData uri="http://schemas.openxmlformats.org/presentationml/2006/ole">
            <p:oleObj r:id="rId1" spid="">
              <p:embed/>
              <p:pic>
                <p:nvPicPr>
                  <p:cNvPr id="1113" name="" descr=""/>
                  <p:cNvPicPr/>
                  <p:nvPr/>
                </p:nvPicPr>
                <p:blipFill>
                  <a:blip r:embed="rId2"/>
                  <a:stretch/>
                </p:blipFill>
                <p:spPr>
                  <a:xfrm>
                    <a:off x="152280" y="990720"/>
                    <a:ext cx="8745480" cy="5306760"/>
                  </a:xfrm>
                  <a:prstGeom prst="rect">
                    <a:avLst/>
                  </a:prstGeom>
                  <a:ln w="0">
                    <a:noFill/>
                  </a:ln>
                </p:spPr>
              </p:pic>
            </p:oleObj>
          </a:graphicData>
        </a:graphic>
      </p:graphicFrame>
      <p:sp>
        <p:nvSpPr>
          <p:cNvPr id="1114"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
          <p:cNvSpPr/>
          <p:nvPr/>
        </p:nvSpPr>
        <p:spPr>
          <a:xfrm>
            <a:off x="0" y="6324480"/>
            <a:ext cx="9144000" cy="53352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
          <p:cNvSpPr/>
          <p:nvPr/>
        </p:nvSpPr>
        <p:spPr>
          <a:xfrm>
            <a:off x="252360" y="1371600"/>
            <a:ext cx="785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llars</a:t>
            </a:r>
            <a:endParaRPr b="0" lang="en-US" sz="1400" spc="-1" strike="noStrike">
              <a:solidFill>
                <a:srgbClr val="000000"/>
              </a:solidFill>
              <a:latin typeface="Times New Roman"/>
            </a:endParaRPr>
          </a:p>
        </p:txBody>
      </p:sp>
      <p:sp>
        <p:nvSpPr>
          <p:cNvPr id="1117" name=""/>
          <p:cNvSpPr/>
          <p:nvPr/>
        </p:nvSpPr>
        <p:spPr>
          <a:xfrm>
            <a:off x="0" y="6156360"/>
            <a:ext cx="91440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ource: The Tax Burden on Tobacco, The Tobacco Institute.  </a:t>
            </a:r>
            <a:endParaRPr b="0" lang="en-US" sz="1200" spc="-1" strike="noStrike">
              <a:solidFill>
                <a:srgbClr val="000000"/>
              </a:solidFill>
              <a:latin typeface="Times New Roman"/>
            </a:endParaRPr>
          </a:p>
        </p:txBody>
      </p:sp>
      <p:graphicFrame>
        <p:nvGraphicFramePr>
          <p:cNvPr id="1118" name=""/>
          <p:cNvGraphicFramePr/>
          <p:nvPr/>
        </p:nvGraphicFramePr>
        <p:xfrm>
          <a:off x="8567640" y="6353280"/>
          <a:ext cx="576360" cy="504720"/>
        </p:xfrm>
        <a:graphic>
          <a:graphicData uri="http://schemas.openxmlformats.org/presentationml/2006/ole">
            <p:oleObj r:id="rId3" spid="">
              <p:embed/>
              <p:pic>
                <p:nvPicPr>
                  <p:cNvPr id="1119" name="" descr=""/>
                  <p:cNvPicPr/>
                  <p:nvPr/>
                </p:nvPicPr>
                <p:blipFill>
                  <a:blip r:embed="rId4"/>
                  <a:stretch/>
                </p:blipFill>
                <p:spPr>
                  <a:xfrm>
                    <a:off x="8567640" y="6353280"/>
                    <a:ext cx="576360" cy="5047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1120" name=""/>
          <p:cNvSpPr/>
          <p:nvPr/>
        </p:nvSpPr>
        <p:spPr>
          <a:xfrm>
            <a:off x="-76320" y="6672240"/>
            <a:ext cx="9144000" cy="2620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1" name=""/>
          <p:cNvSpPr/>
          <p:nvPr/>
        </p:nvSpPr>
        <p:spPr>
          <a:xfrm>
            <a:off x="0" y="0"/>
            <a:ext cx="9144000" cy="380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22" name=""/>
          <p:cNvGraphicFramePr/>
          <p:nvPr/>
        </p:nvGraphicFramePr>
        <p:xfrm>
          <a:off x="-609480" y="1066680"/>
          <a:ext cx="9753480" cy="4854600"/>
        </p:xfrm>
        <a:graphic>
          <a:graphicData uri="http://schemas.openxmlformats.org/presentationml/2006/ole">
            <p:oleObj r:id="rId1" spid="">
              <p:embed/>
              <p:pic>
                <p:nvPicPr>
                  <p:cNvPr id="1123" name="" descr=""/>
                  <p:cNvPicPr/>
                  <p:nvPr/>
                </p:nvPicPr>
                <p:blipFill>
                  <a:blip r:embed="rId2"/>
                  <a:stretch/>
                </p:blipFill>
                <p:spPr>
                  <a:xfrm>
                    <a:off x="-609480" y="1066680"/>
                    <a:ext cx="9753480" cy="4854600"/>
                  </a:xfrm>
                  <a:prstGeom prst="rect">
                    <a:avLst/>
                  </a:prstGeom>
                  <a:ln w="0">
                    <a:noFill/>
                  </a:ln>
                </p:spPr>
              </p:pic>
            </p:oleObj>
          </a:graphicData>
        </a:graphic>
      </p:graphicFrame>
      <p:sp>
        <p:nvSpPr>
          <p:cNvPr id="1124" name=""/>
          <p:cNvSpPr/>
          <p:nvPr/>
        </p:nvSpPr>
        <p:spPr>
          <a:xfrm>
            <a:off x="1677240" y="5769000"/>
            <a:ext cx="531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Total</a:t>
            </a:r>
            <a:endParaRPr b="0" lang="en-US" sz="1400" spc="-1" strike="noStrike">
              <a:solidFill>
                <a:srgbClr val="000000"/>
              </a:solidFill>
              <a:latin typeface="Times New Roman"/>
            </a:endParaRPr>
          </a:p>
        </p:txBody>
      </p:sp>
      <p:sp>
        <p:nvSpPr>
          <p:cNvPr id="1125" name="PlaceHolder 1"/>
          <p:cNvSpPr>
            <a:spLocks noGrp="1"/>
          </p:cNvSpPr>
          <p:nvPr>
            <p:ph type="title"/>
          </p:nvPr>
        </p:nvSpPr>
        <p:spPr>
          <a:xfrm>
            <a:off x="380520" y="304920"/>
            <a:ext cx="98298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1. Coronary Heart Disease Death Rates, 2000</a:t>
            </a:r>
            <a:endParaRPr b="0" lang="en-US" sz="2800" spc="-1" strike="noStrike">
              <a:solidFill>
                <a:srgbClr val="000000"/>
              </a:solidFill>
              <a:latin typeface="Times New Roman"/>
            </a:endParaRPr>
          </a:p>
        </p:txBody>
      </p:sp>
      <p:sp>
        <p:nvSpPr>
          <p:cNvPr id="1126" name=""/>
          <p:cNvSpPr/>
          <p:nvPr/>
        </p:nvSpPr>
        <p:spPr>
          <a:xfrm rot="18900000">
            <a:off x="4609440" y="5637960"/>
            <a:ext cx="79956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lack, Not</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spanic</a:t>
            </a:r>
            <a:endParaRPr b="0" lang="en-US" sz="1000" spc="-1" strike="noStrike">
              <a:solidFill>
                <a:srgbClr val="000000"/>
              </a:solidFill>
              <a:latin typeface="Times New Roman"/>
            </a:endParaRPr>
          </a:p>
        </p:txBody>
      </p:sp>
      <p:sp>
        <p:nvSpPr>
          <p:cNvPr id="1127" name=""/>
          <p:cNvSpPr/>
          <p:nvPr/>
        </p:nvSpPr>
        <p:spPr>
          <a:xfrm rot="18900000">
            <a:off x="3939120" y="5638320"/>
            <a:ext cx="7081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spanic</a:t>
            </a:r>
            <a:endParaRPr b="0" lang="en-US" sz="1000" spc="-1" strike="noStrike">
              <a:solidFill>
                <a:srgbClr val="000000"/>
              </a:solidFill>
              <a:latin typeface="Times New Roman"/>
            </a:endParaRPr>
          </a:p>
        </p:txBody>
      </p:sp>
      <p:sp>
        <p:nvSpPr>
          <p:cNvPr id="1128" name=""/>
          <p:cNvSpPr/>
          <p:nvPr/>
        </p:nvSpPr>
        <p:spPr>
          <a:xfrm rot="18900000">
            <a:off x="2668320" y="5715000"/>
            <a:ext cx="114228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ian or</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Pacific Islander</a:t>
            </a:r>
            <a:endParaRPr b="0" lang="en-US" sz="1000" spc="-1" strike="noStrike">
              <a:solidFill>
                <a:srgbClr val="000000"/>
              </a:solidFill>
              <a:latin typeface="Times New Roman"/>
            </a:endParaRPr>
          </a:p>
        </p:txBody>
      </p:sp>
      <p:sp>
        <p:nvSpPr>
          <p:cNvPr id="1129" name=""/>
          <p:cNvSpPr/>
          <p:nvPr/>
        </p:nvSpPr>
        <p:spPr>
          <a:xfrm rot="18900000">
            <a:off x="1830960" y="5714640"/>
            <a:ext cx="116532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erican Indian</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 Alaska Native</a:t>
            </a:r>
            <a:endParaRPr b="0" lang="en-US" sz="1000" spc="-1" strike="noStrike">
              <a:solidFill>
                <a:srgbClr val="000000"/>
              </a:solidFill>
              <a:latin typeface="Times New Roman"/>
            </a:endParaRPr>
          </a:p>
        </p:txBody>
      </p:sp>
      <p:sp>
        <p:nvSpPr>
          <p:cNvPr id="1130" name=""/>
          <p:cNvSpPr/>
          <p:nvPr/>
        </p:nvSpPr>
        <p:spPr>
          <a:xfrm rot="18900000">
            <a:off x="5362920" y="5638320"/>
            <a:ext cx="80712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ite, Not</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spanic</a:t>
            </a:r>
            <a:endParaRPr b="0" lang="en-US" sz="1000" spc="-1" strike="noStrike">
              <a:solidFill>
                <a:srgbClr val="000000"/>
              </a:solidFill>
              <a:latin typeface="Times New Roman"/>
            </a:endParaRPr>
          </a:p>
        </p:txBody>
      </p:sp>
      <p:sp>
        <p:nvSpPr>
          <p:cNvPr id="1131" name=""/>
          <p:cNvSpPr/>
          <p:nvPr/>
        </p:nvSpPr>
        <p:spPr>
          <a:xfrm rot="18900000">
            <a:off x="7919280" y="5637960"/>
            <a:ext cx="461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le</a:t>
            </a:r>
            <a:endParaRPr b="0" lang="en-US" sz="1000" spc="-1" strike="noStrike">
              <a:solidFill>
                <a:srgbClr val="000000"/>
              </a:solidFill>
              <a:latin typeface="Times New Roman"/>
            </a:endParaRPr>
          </a:p>
        </p:txBody>
      </p:sp>
      <p:sp>
        <p:nvSpPr>
          <p:cNvPr id="1132" name=""/>
          <p:cNvSpPr/>
          <p:nvPr/>
        </p:nvSpPr>
        <p:spPr>
          <a:xfrm rot="18900000">
            <a:off x="7078680" y="5638320"/>
            <a:ext cx="6166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male</a:t>
            </a:r>
            <a:endParaRPr b="0" lang="en-US" sz="1000" spc="-1" strike="noStrike">
              <a:solidFill>
                <a:srgbClr val="000000"/>
              </a:solidFill>
              <a:latin typeface="Times New Roman"/>
            </a:endParaRPr>
          </a:p>
        </p:txBody>
      </p:sp>
      <p:sp>
        <p:nvSpPr>
          <p:cNvPr id="1133" name=""/>
          <p:cNvSpPr/>
          <p:nvPr/>
        </p:nvSpPr>
        <p:spPr>
          <a:xfrm>
            <a:off x="-41400" y="6630840"/>
            <a:ext cx="6267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Vital Statistics System – Mortality (NVSS-M), NCHS, CDC.</a:t>
            </a:r>
            <a:endParaRPr b="0" lang="en-US" sz="1000" spc="-1" strike="noStrike">
              <a:solidFill>
                <a:srgbClr val="000000"/>
              </a:solidFill>
              <a:latin typeface="Times New Roman"/>
            </a:endParaRPr>
          </a:p>
        </p:txBody>
      </p:sp>
      <p:sp>
        <p:nvSpPr>
          <p:cNvPr id="1134" name=""/>
          <p:cNvSpPr/>
          <p:nvPr/>
        </p:nvSpPr>
        <p:spPr>
          <a:xfrm>
            <a:off x="838080" y="2971800"/>
            <a:ext cx="78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0" y="6308640"/>
            <a:ext cx="851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Coronary heart disease: ICD-10 codes I11, I20-I25.  American Indian or Alaska Natives, Asian or Pacific Islanders may be of Hispanic origi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spanics may be of any race.</a:t>
            </a:r>
            <a:endParaRPr b="0" lang="en-US" sz="1000" spc="-1" strike="noStrike">
              <a:solidFill>
                <a:srgbClr val="000000"/>
              </a:solidFill>
              <a:latin typeface="Times New Roman"/>
            </a:endParaRPr>
          </a:p>
        </p:txBody>
      </p:sp>
      <p:grpSp>
        <p:nvGrpSpPr>
          <p:cNvPr id="1136" name=""/>
          <p:cNvGrpSpPr/>
          <p:nvPr/>
        </p:nvGrpSpPr>
        <p:grpSpPr>
          <a:xfrm>
            <a:off x="6019920" y="1339920"/>
            <a:ext cx="1672560" cy="337320"/>
            <a:chOff x="6019920" y="1339920"/>
            <a:chExt cx="1672560" cy="337320"/>
          </a:xfrm>
        </p:grpSpPr>
        <p:sp>
          <p:nvSpPr>
            <p:cNvPr id="1137" name=""/>
            <p:cNvSpPr/>
            <p:nvPr/>
          </p:nvSpPr>
          <p:spPr>
            <a:xfrm>
              <a:off x="6441840" y="1339920"/>
              <a:ext cx="125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sp>
          <p:nvSpPr>
            <p:cNvPr id="1138" name=""/>
            <p:cNvSpPr/>
            <p:nvPr/>
          </p:nvSpPr>
          <p:spPr>
            <a:xfrm>
              <a:off x="6019920" y="1508400"/>
              <a:ext cx="380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
          <p:cNvSpPr/>
          <p:nvPr/>
        </p:nvSpPr>
        <p:spPr>
          <a:xfrm>
            <a:off x="917640" y="5649840"/>
            <a:ext cx="605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endParaRPr b="0" lang="en-US" sz="1400" spc="-1" strike="noStrike">
              <a:solidFill>
                <a:srgbClr val="000000"/>
              </a:solidFill>
              <a:latin typeface="Times New Roman"/>
            </a:endParaRPr>
          </a:p>
        </p:txBody>
      </p:sp>
      <p:sp>
        <p:nvSpPr>
          <p:cNvPr id="1140" name=""/>
          <p:cNvSpPr/>
          <p:nvPr/>
        </p:nvSpPr>
        <p:spPr>
          <a:xfrm>
            <a:off x="7201080" y="2921040"/>
            <a:ext cx="660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6</a:t>
            </a:r>
            <a:endParaRPr b="0" lang="en-US" sz="1600" spc="-1" strike="noStrike">
              <a:solidFill>
                <a:srgbClr val="000000"/>
              </a:solidFill>
              <a:latin typeface="Times New Roman"/>
            </a:endParaRPr>
          </a:p>
        </p:txBody>
      </p:sp>
      <p:sp>
        <p:nvSpPr>
          <p:cNvPr id="1141" name=""/>
          <p:cNvSpPr/>
          <p:nvPr/>
        </p:nvSpPr>
        <p:spPr>
          <a:xfrm>
            <a:off x="-25200" y="1295280"/>
            <a:ext cx="4992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adjusted death rate per 100,000 standard population</a:t>
            </a:r>
            <a:endParaRPr b="0" lang="en-US" sz="1400" spc="-1" strike="noStrike">
              <a:solidFill>
                <a:srgbClr val="000000"/>
              </a:solidFill>
              <a:latin typeface="Times New Roman"/>
            </a:endParaRPr>
          </a:p>
        </p:txBody>
      </p:sp>
      <p:graphicFrame>
        <p:nvGraphicFramePr>
          <p:cNvPr id="1142" name=""/>
          <p:cNvGraphicFramePr/>
          <p:nvPr/>
        </p:nvGraphicFramePr>
        <p:xfrm>
          <a:off x="8534520" y="6324480"/>
          <a:ext cx="609480" cy="533520"/>
        </p:xfrm>
        <a:graphic>
          <a:graphicData uri="http://schemas.openxmlformats.org/presentationml/2006/ole">
            <p:oleObj r:id="rId3" spid="">
              <p:embed/>
              <p:pic>
                <p:nvPicPr>
                  <p:cNvPr id="1143"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320" y="15228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7-1a. Current Cigarette Smoking: </a:t>
            </a:r>
            <a:br>
              <a:rPr sz="3200"/>
            </a:br>
            <a:r>
              <a:rPr b="1" lang="en-US" sz="3200" spc="-1" strike="noStrike">
                <a:solidFill>
                  <a:srgbClr val="000000"/>
                </a:solidFill>
                <a:latin typeface="Arial"/>
              </a:rPr>
              <a:t>Adults 18 Years and Older</a:t>
            </a:r>
            <a:endParaRPr b="0" lang="en-US" sz="3200" spc="-1" strike="noStrike">
              <a:solidFill>
                <a:srgbClr val="000000"/>
              </a:solidFill>
              <a:latin typeface="Times New Roman"/>
            </a:endParaRPr>
          </a:p>
        </p:txBody>
      </p:sp>
      <p:graphicFrame>
        <p:nvGraphicFramePr>
          <p:cNvPr id="193" name=""/>
          <p:cNvGraphicFramePr/>
          <p:nvPr/>
        </p:nvGraphicFramePr>
        <p:xfrm>
          <a:off x="0" y="990720"/>
          <a:ext cx="8305920" cy="5673600"/>
        </p:xfrm>
        <a:graphic>
          <a:graphicData uri="http://schemas.openxmlformats.org/presentationml/2006/ole">
            <p:oleObj r:id="rId1" spid="">
              <p:embed/>
              <p:pic>
                <p:nvPicPr>
                  <p:cNvPr id="194" name="" descr=""/>
                  <p:cNvPicPr/>
                  <p:nvPr/>
                </p:nvPicPr>
                <p:blipFill>
                  <a:blip r:embed="rId2"/>
                  <a:stretch/>
                </p:blipFill>
                <p:spPr>
                  <a:xfrm>
                    <a:off x="0" y="990720"/>
                    <a:ext cx="8305920" cy="5673600"/>
                  </a:xfrm>
                  <a:prstGeom prst="rect">
                    <a:avLst/>
                  </a:prstGeom>
                  <a:ln w="0">
                    <a:noFill/>
                  </a:ln>
                </p:spPr>
              </p:pic>
            </p:oleObj>
          </a:graphicData>
        </a:graphic>
      </p:graphicFrame>
      <p:sp>
        <p:nvSpPr>
          <p:cNvPr id="195" name=""/>
          <p:cNvSpPr/>
          <p:nvPr/>
        </p:nvSpPr>
        <p:spPr>
          <a:xfrm>
            <a:off x="77400" y="10206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ge-adjusted percent</a:t>
            </a:r>
            <a:endParaRPr b="0" lang="en-US" sz="1200" spc="-1" strike="noStrike">
              <a:solidFill>
                <a:srgbClr val="000000"/>
              </a:solidFill>
              <a:latin typeface="Times New Roman"/>
            </a:endParaRPr>
          </a:p>
        </p:txBody>
      </p:sp>
      <p:sp>
        <p:nvSpPr>
          <p:cNvPr id="196" name=""/>
          <p:cNvSpPr/>
          <p:nvPr/>
        </p:nvSpPr>
        <p:spPr>
          <a:xfrm>
            <a:off x="3657600" y="492120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graphicFrame>
        <p:nvGraphicFramePr>
          <p:cNvPr id="197" name=""/>
          <p:cNvGraphicFramePr/>
          <p:nvPr/>
        </p:nvGraphicFramePr>
        <p:xfrm>
          <a:off x="8534520" y="6010200"/>
          <a:ext cx="533160" cy="466920"/>
        </p:xfrm>
        <a:graphic>
          <a:graphicData uri="http://schemas.openxmlformats.org/presentationml/2006/ole">
            <p:oleObj r:id="rId3" spid="">
              <p:embed/>
              <p:pic>
                <p:nvPicPr>
                  <p:cNvPr id="198" name="" descr=""/>
                  <p:cNvPicPr/>
                  <p:nvPr/>
                </p:nvPicPr>
                <p:blipFill>
                  <a:blip r:embed="rId4"/>
                  <a:stretch/>
                </p:blipFill>
                <p:spPr>
                  <a:xfrm>
                    <a:off x="8534520" y="6010200"/>
                    <a:ext cx="533160" cy="466920"/>
                  </a:xfrm>
                  <a:prstGeom prst="rect">
                    <a:avLst/>
                  </a:prstGeom>
                  <a:ln w="0">
                    <a:noFill/>
                  </a:ln>
                  <a:effectLst>
                    <a:outerShdw dist="17819" dir="2700000" blurRad="0" rotWithShape="0">
                      <a:srgbClr val="ffffff"/>
                    </a:outerShdw>
                  </a:effectLst>
                </p:spPr>
              </p:pic>
            </p:oleObj>
          </a:graphicData>
        </a:graphic>
      </p:graphicFrame>
      <p:sp>
        <p:nvSpPr>
          <p:cNvPr id="199" name=""/>
          <p:cNvSpPr/>
          <p:nvPr/>
        </p:nvSpPr>
        <p:spPr>
          <a:xfrm>
            <a:off x="8003520" y="3733920"/>
            <a:ext cx="942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lack male</a:t>
            </a:r>
            <a:endParaRPr b="0" lang="en-US" sz="1400" spc="-1" strike="noStrike">
              <a:solidFill>
                <a:srgbClr val="000000"/>
              </a:solidFill>
              <a:latin typeface="Times New Roman"/>
            </a:endParaRPr>
          </a:p>
        </p:txBody>
      </p:sp>
      <p:sp>
        <p:nvSpPr>
          <p:cNvPr id="200" name=""/>
          <p:cNvSpPr/>
          <p:nvPr/>
        </p:nvSpPr>
        <p:spPr>
          <a:xfrm>
            <a:off x="0" y="-152280"/>
            <a:ext cx="9144000" cy="36504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1981080" y="5181480"/>
            <a:ext cx="6019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733920" y="5943600"/>
            <a:ext cx="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124080" y="6095880"/>
            <a:ext cx="533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975</a:t>
            </a:r>
            <a:endParaRPr b="0" lang="en-US" sz="1400" spc="-1" strike="noStrike">
              <a:solidFill>
                <a:srgbClr val="000000"/>
              </a:solidFill>
              <a:latin typeface="Times New Roman"/>
            </a:endParaRPr>
          </a:p>
        </p:txBody>
      </p:sp>
      <p:sp>
        <p:nvSpPr>
          <p:cNvPr id="204" name=""/>
          <p:cNvSpPr/>
          <p:nvPr/>
        </p:nvSpPr>
        <p:spPr>
          <a:xfrm>
            <a:off x="1676520" y="6172200"/>
            <a:ext cx="533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965</a:t>
            </a:r>
            <a:endParaRPr b="0" lang="en-US" sz="1400" spc="-1" strike="noStrike">
              <a:solidFill>
                <a:srgbClr val="000000"/>
              </a:solidFill>
              <a:latin typeface="Times New Roman"/>
            </a:endParaRPr>
          </a:p>
        </p:txBody>
      </p:sp>
      <p:sp>
        <p:nvSpPr>
          <p:cNvPr id="205" name=""/>
          <p:cNvSpPr/>
          <p:nvPr/>
        </p:nvSpPr>
        <p:spPr>
          <a:xfrm>
            <a:off x="3149640" y="6172200"/>
            <a:ext cx="914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975</a:t>
            </a:r>
            <a:endParaRPr b="0" lang="en-US" sz="1400" spc="-1" strike="noStrike">
              <a:solidFill>
                <a:srgbClr val="000000"/>
              </a:solidFill>
              <a:latin typeface="Times New Roman"/>
            </a:endParaRPr>
          </a:p>
        </p:txBody>
      </p:sp>
      <p:sp>
        <p:nvSpPr>
          <p:cNvPr id="206" name=""/>
          <p:cNvSpPr/>
          <p:nvPr/>
        </p:nvSpPr>
        <p:spPr>
          <a:xfrm>
            <a:off x="6172200" y="6172200"/>
            <a:ext cx="533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995</a:t>
            </a:r>
            <a:endParaRPr b="0" lang="en-US" sz="1400" spc="-1" strike="noStrike">
              <a:solidFill>
                <a:srgbClr val="000000"/>
              </a:solidFill>
              <a:latin typeface="Times New Roman"/>
            </a:endParaRPr>
          </a:p>
        </p:txBody>
      </p:sp>
      <p:sp>
        <p:nvSpPr>
          <p:cNvPr id="207" name=""/>
          <p:cNvSpPr/>
          <p:nvPr/>
        </p:nvSpPr>
        <p:spPr>
          <a:xfrm>
            <a:off x="7772400" y="6172200"/>
            <a:ext cx="533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01</a:t>
            </a:r>
            <a:endParaRPr b="0" lang="en-US" sz="1400" spc="-1" strike="noStrike">
              <a:solidFill>
                <a:srgbClr val="000000"/>
              </a:solidFill>
              <a:latin typeface="Times New Roman"/>
            </a:endParaRPr>
          </a:p>
        </p:txBody>
      </p:sp>
      <p:sp>
        <p:nvSpPr>
          <p:cNvPr id="208" name=""/>
          <p:cNvSpPr/>
          <p:nvPr/>
        </p:nvSpPr>
        <p:spPr>
          <a:xfrm>
            <a:off x="4724280" y="6172200"/>
            <a:ext cx="533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985</a:t>
            </a:r>
            <a:endParaRPr b="0" lang="en-US" sz="1400" spc="-1" strike="noStrike">
              <a:solidFill>
                <a:srgbClr val="000000"/>
              </a:solidFill>
              <a:latin typeface="Times New Roman"/>
            </a:endParaRPr>
          </a:p>
        </p:txBody>
      </p:sp>
      <p:sp>
        <p:nvSpPr>
          <p:cNvPr id="209" name=""/>
          <p:cNvSpPr/>
          <p:nvPr/>
        </p:nvSpPr>
        <p:spPr>
          <a:xfrm flipH="1">
            <a:off x="7513200" y="6026040"/>
            <a:ext cx="59760" cy="1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7436880" y="6026040"/>
            <a:ext cx="59760" cy="1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998120" y="4038480"/>
            <a:ext cx="953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hite male</a:t>
            </a:r>
            <a:endParaRPr b="0" lang="en-US" sz="1400" spc="-1" strike="noStrike">
              <a:solidFill>
                <a:srgbClr val="000000"/>
              </a:solidFill>
              <a:latin typeface="Times New Roman"/>
            </a:endParaRPr>
          </a:p>
        </p:txBody>
      </p:sp>
      <p:sp>
        <p:nvSpPr>
          <p:cNvPr id="212" name=""/>
          <p:cNvSpPr/>
          <p:nvPr/>
        </p:nvSpPr>
        <p:spPr>
          <a:xfrm>
            <a:off x="8003160" y="4343400"/>
            <a:ext cx="1082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hite female</a:t>
            </a:r>
            <a:endParaRPr b="0" lang="en-US" sz="1400" spc="-1" strike="noStrike">
              <a:solidFill>
                <a:srgbClr val="000000"/>
              </a:solidFill>
              <a:latin typeface="Times New Roman"/>
            </a:endParaRPr>
          </a:p>
        </p:txBody>
      </p:sp>
      <p:sp>
        <p:nvSpPr>
          <p:cNvPr id="213" name=""/>
          <p:cNvSpPr/>
          <p:nvPr/>
        </p:nvSpPr>
        <p:spPr>
          <a:xfrm>
            <a:off x="7988040" y="4572000"/>
            <a:ext cx="1113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lack  female</a:t>
            </a:r>
            <a:endParaRPr b="0" lang="en-US" sz="1400" spc="-1" strike="noStrike">
              <a:solidFill>
                <a:srgbClr val="000000"/>
              </a:solidFill>
              <a:latin typeface="Times New Roman"/>
            </a:endParaRPr>
          </a:p>
        </p:txBody>
      </p:sp>
      <p:sp>
        <p:nvSpPr>
          <p:cNvPr id="214" name=""/>
          <p:cNvSpPr/>
          <p:nvPr/>
        </p:nvSpPr>
        <p:spPr>
          <a:xfrm>
            <a:off x="0" y="6432480"/>
            <a:ext cx="9144000" cy="42552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0" y="6400800"/>
            <a:ext cx="9296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s: Data are age adjusted to the 2000 standard population.  Survey redesigned in 1997 and data for 1998 and subsequent years may not be directly comparable to earlier years.  Source: National Health Interview Survey (NHIS), NCHS, CD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 y="76320"/>
            <a:ext cx="952524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7-1a. Current Cigarette Smoking for Adults </a:t>
            </a:r>
            <a:br>
              <a:rPr sz="2800"/>
            </a:br>
            <a:endParaRPr b="0" lang="en-US" sz="2800" spc="-1" strike="noStrike">
              <a:solidFill>
                <a:srgbClr val="000000"/>
              </a:solidFill>
              <a:latin typeface="Times New Roman"/>
            </a:endParaRPr>
          </a:p>
        </p:txBody>
      </p:sp>
      <p:graphicFrame>
        <p:nvGraphicFramePr>
          <p:cNvPr id="217" name=""/>
          <p:cNvGraphicFramePr/>
          <p:nvPr/>
        </p:nvGraphicFramePr>
        <p:xfrm>
          <a:off x="326880" y="609480"/>
          <a:ext cx="8817120" cy="5059440"/>
        </p:xfrm>
        <a:graphic>
          <a:graphicData uri="http://schemas.openxmlformats.org/presentationml/2006/ole">
            <p:oleObj r:id="rId1" spid="">
              <p:embed/>
              <p:pic>
                <p:nvPicPr>
                  <p:cNvPr id="218" name="" descr=""/>
                  <p:cNvPicPr/>
                  <p:nvPr/>
                </p:nvPicPr>
                <p:blipFill>
                  <a:blip r:embed="rId2"/>
                  <a:stretch/>
                </p:blipFill>
                <p:spPr>
                  <a:xfrm>
                    <a:off x="326880" y="609480"/>
                    <a:ext cx="8817120" cy="5059440"/>
                  </a:xfrm>
                  <a:prstGeom prst="rect">
                    <a:avLst/>
                  </a:prstGeom>
                  <a:ln w="0">
                    <a:noFill/>
                  </a:ln>
                </p:spPr>
              </p:pic>
            </p:oleObj>
          </a:graphicData>
        </a:graphic>
      </p:graphicFrame>
      <p:sp>
        <p:nvSpPr>
          <p:cNvPr id="219" name=""/>
          <p:cNvSpPr/>
          <p:nvPr/>
        </p:nvSpPr>
        <p:spPr>
          <a:xfrm rot="18817800">
            <a:off x="792720" y="5211360"/>
            <a:ext cx="16765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American India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Alaska Native only</a:t>
            </a:r>
            <a:endParaRPr b="0" lang="en-US" sz="1000" spc="-1" strike="noStrike">
              <a:solidFill>
                <a:srgbClr val="000000"/>
              </a:solidFill>
              <a:latin typeface="Times New Roman"/>
            </a:endParaRPr>
          </a:p>
        </p:txBody>
      </p:sp>
      <p:sp>
        <p:nvSpPr>
          <p:cNvPr id="220" name=""/>
          <p:cNvSpPr/>
          <p:nvPr/>
        </p:nvSpPr>
        <p:spPr>
          <a:xfrm rot="18511800">
            <a:off x="1349280" y="538632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sian only</a:t>
            </a:r>
            <a:endParaRPr b="0" lang="en-US" sz="1200" spc="-1" strike="noStrike">
              <a:solidFill>
                <a:srgbClr val="000000"/>
              </a:solidFill>
              <a:latin typeface="Times New Roman"/>
            </a:endParaRPr>
          </a:p>
        </p:txBody>
      </p:sp>
      <p:sp>
        <p:nvSpPr>
          <p:cNvPr id="221" name=""/>
          <p:cNvSpPr/>
          <p:nvPr/>
        </p:nvSpPr>
        <p:spPr>
          <a:xfrm rot="18495600">
            <a:off x="2197800" y="5376240"/>
            <a:ext cx="1274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Hispanic *</a:t>
            </a:r>
            <a:endParaRPr b="0" lang="en-US" sz="1200" spc="-1" strike="noStrike">
              <a:solidFill>
                <a:srgbClr val="000000"/>
              </a:solidFill>
              <a:latin typeface="Times New Roman"/>
            </a:endParaRPr>
          </a:p>
        </p:txBody>
      </p:sp>
      <p:sp>
        <p:nvSpPr>
          <p:cNvPr id="222" name=""/>
          <p:cNvSpPr/>
          <p:nvPr/>
        </p:nvSpPr>
        <p:spPr>
          <a:xfrm rot="18725400">
            <a:off x="2168280" y="5367600"/>
            <a:ext cx="2369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lack, no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Hispanic only*</a:t>
            </a:r>
            <a:endParaRPr b="0" lang="en-US" sz="1200" spc="-1" strike="noStrike">
              <a:solidFill>
                <a:srgbClr val="000000"/>
              </a:solidFill>
              <a:latin typeface="Times New Roman"/>
            </a:endParaRPr>
          </a:p>
        </p:txBody>
      </p:sp>
      <p:sp>
        <p:nvSpPr>
          <p:cNvPr id="223" name=""/>
          <p:cNvSpPr/>
          <p:nvPr/>
        </p:nvSpPr>
        <p:spPr>
          <a:xfrm rot="18914400">
            <a:off x="3201120" y="5409720"/>
            <a:ext cx="1752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hite, no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Hispanic only*</a:t>
            </a:r>
            <a:endParaRPr b="0" lang="en-US" sz="1200" spc="-1" strike="noStrike">
              <a:solidFill>
                <a:srgbClr val="000000"/>
              </a:solidFill>
              <a:latin typeface="Times New Roman"/>
            </a:endParaRPr>
          </a:p>
        </p:txBody>
      </p:sp>
      <p:sp>
        <p:nvSpPr>
          <p:cNvPr id="224" name=""/>
          <p:cNvSpPr/>
          <p:nvPr/>
        </p:nvSpPr>
        <p:spPr>
          <a:xfrm>
            <a:off x="5943600" y="762120"/>
            <a:ext cx="1768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225" name=""/>
          <p:cNvSpPr/>
          <p:nvPr/>
        </p:nvSpPr>
        <p:spPr>
          <a:xfrm>
            <a:off x="3429000" y="762120"/>
            <a:ext cx="304920" cy="304560"/>
          </a:xfrm>
          <a:prstGeom prst="rect">
            <a:avLst/>
          </a:prstGeom>
          <a:solidFill>
            <a:srgbClr val="cdd5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371600" y="762120"/>
            <a:ext cx="200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 Baseline</a:t>
            </a:r>
            <a:endParaRPr b="0" lang="en-US" sz="1400" spc="-1" strike="noStrike">
              <a:solidFill>
                <a:srgbClr val="000000"/>
              </a:solidFill>
              <a:latin typeface="Times New Roman"/>
            </a:endParaRPr>
          </a:p>
        </p:txBody>
      </p:sp>
      <p:sp>
        <p:nvSpPr>
          <p:cNvPr id="227" name=""/>
          <p:cNvSpPr/>
          <p:nvPr/>
        </p:nvSpPr>
        <p:spPr>
          <a:xfrm>
            <a:off x="3962520" y="76212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Level</a:t>
            </a:r>
            <a:endParaRPr b="0" lang="en-US" sz="1400" spc="-1" strike="noStrike">
              <a:solidFill>
                <a:srgbClr val="000000"/>
              </a:solidFill>
              <a:latin typeface="Times New Roman"/>
            </a:endParaRPr>
          </a:p>
        </p:txBody>
      </p:sp>
      <p:sp>
        <p:nvSpPr>
          <p:cNvPr id="228" name=""/>
          <p:cNvSpPr/>
          <p:nvPr/>
        </p:nvSpPr>
        <p:spPr>
          <a:xfrm>
            <a:off x="0" y="6108840"/>
            <a:ext cx="851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liminary data: January-September 2002, current data year for other groups is 2001.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s: Current smokers report smoking everyday/some days and have smoked at least 100 cigarettes.  Data are age adjusted to the 2000 standard population.  American Indians/Alaska Natives or Asians/Pacific Islanders may be of Hispanic origin.  Hispanics may be of any race.  For 1998 and 2002, persons reported only one race or reported more than one race and identified one race as best representing their race.  Adults: 18 years and ol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29"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0" y="668340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rot="18912000">
            <a:off x="228600" y="5333760"/>
            <a:ext cx="127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Times New Roman"/>
            </a:endParaRPr>
          </a:p>
        </p:txBody>
      </p:sp>
      <p:sp>
        <p:nvSpPr>
          <p:cNvPr id="232" name=""/>
          <p:cNvSpPr/>
          <p:nvPr/>
        </p:nvSpPr>
        <p:spPr>
          <a:xfrm>
            <a:off x="-76320" y="6629400"/>
            <a:ext cx="8588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Interview Survey (NHIS), NCHS, CDC.</a:t>
            </a:r>
            <a:endParaRPr b="0" lang="en-US" sz="1000" spc="-1" strike="noStrike">
              <a:solidFill>
                <a:srgbClr val="000000"/>
              </a:solidFill>
              <a:latin typeface="Times New Roman"/>
            </a:endParaRPr>
          </a:p>
        </p:txBody>
      </p:sp>
      <p:graphicFrame>
        <p:nvGraphicFramePr>
          <p:cNvPr id="233" name=""/>
          <p:cNvGraphicFramePr/>
          <p:nvPr/>
        </p:nvGraphicFramePr>
        <p:xfrm>
          <a:off x="8534520" y="6324480"/>
          <a:ext cx="609480" cy="533520"/>
        </p:xfrm>
        <a:graphic>
          <a:graphicData uri="http://schemas.openxmlformats.org/presentationml/2006/ole">
            <p:oleObj r:id="rId3" spid="">
              <p:embed/>
              <p:pic>
                <p:nvPicPr>
                  <p:cNvPr id="234"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235" name=""/>
          <p:cNvSpPr/>
          <p:nvPr/>
        </p:nvSpPr>
        <p:spPr>
          <a:xfrm>
            <a:off x="990720" y="914400"/>
            <a:ext cx="38088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895320" y="2664000"/>
            <a:ext cx="38592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rot="18914400">
            <a:off x="4877280" y="5333400"/>
            <a:ext cx="17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les*</a:t>
            </a:r>
            <a:endParaRPr b="0" lang="en-US" sz="1200" spc="-1" strike="noStrike">
              <a:solidFill>
                <a:srgbClr val="000000"/>
              </a:solidFill>
              <a:latin typeface="Times New Roman"/>
            </a:endParaRPr>
          </a:p>
        </p:txBody>
      </p:sp>
      <p:sp>
        <p:nvSpPr>
          <p:cNvPr id="238" name=""/>
          <p:cNvSpPr/>
          <p:nvPr/>
        </p:nvSpPr>
        <p:spPr>
          <a:xfrm rot="18914400">
            <a:off x="5868000" y="5333400"/>
            <a:ext cx="1752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9-11 yea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
          <p:cNvSpPr/>
          <p:nvPr/>
        </p:nvSpPr>
        <p:spPr>
          <a:xfrm rot="18914400">
            <a:off x="6401520" y="5409720"/>
            <a:ext cx="1752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High schoo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graduate</a:t>
            </a:r>
            <a:endParaRPr b="0" lang="en-US" sz="1200" spc="-1" strike="noStrike">
              <a:solidFill>
                <a:srgbClr val="000000"/>
              </a:solidFill>
              <a:latin typeface="Times New Roman"/>
            </a:endParaRPr>
          </a:p>
        </p:txBody>
      </p:sp>
      <p:sp>
        <p:nvSpPr>
          <p:cNvPr id="240" name=""/>
          <p:cNvSpPr/>
          <p:nvPr/>
        </p:nvSpPr>
        <p:spPr>
          <a:xfrm rot="18914400">
            <a:off x="7010640" y="5409360"/>
            <a:ext cx="1752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3-15 years</a:t>
            </a:r>
            <a:endParaRPr b="0" lang="en-US" sz="1200" spc="-1" strike="noStrike">
              <a:solidFill>
                <a:srgbClr val="000000"/>
              </a:solidFill>
              <a:latin typeface="Times New Roman"/>
            </a:endParaRPr>
          </a:p>
        </p:txBody>
      </p:sp>
      <p:sp>
        <p:nvSpPr>
          <p:cNvPr id="241" name=""/>
          <p:cNvSpPr/>
          <p:nvPr/>
        </p:nvSpPr>
        <p:spPr>
          <a:xfrm rot="18914400">
            <a:off x="7849440" y="5257440"/>
            <a:ext cx="1752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6 year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r more</a:t>
            </a:r>
            <a:endParaRPr b="0" lang="en-US" sz="1200" spc="-1" strike="noStrike">
              <a:solidFill>
                <a:srgbClr val="000000"/>
              </a:solidFill>
              <a:latin typeface="Times New Roman"/>
            </a:endParaRPr>
          </a:p>
        </p:txBody>
      </p:sp>
      <p:sp>
        <p:nvSpPr>
          <p:cNvPr id="242" name=""/>
          <p:cNvSpPr/>
          <p:nvPr/>
        </p:nvSpPr>
        <p:spPr>
          <a:xfrm rot="18914400">
            <a:off x="4191480" y="5363280"/>
            <a:ext cx="17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emales*</a:t>
            </a:r>
            <a:endParaRPr b="0" lang="en-US" sz="1200" spc="-1" strike="noStrike">
              <a:solidFill>
                <a:srgbClr val="000000"/>
              </a:solidFill>
              <a:latin typeface="Times New Roman"/>
            </a:endParaRPr>
          </a:p>
        </p:txBody>
      </p:sp>
      <p:sp>
        <p:nvSpPr>
          <p:cNvPr id="243" name=""/>
          <p:cNvSpPr/>
          <p:nvPr/>
        </p:nvSpPr>
        <p:spPr>
          <a:xfrm rot="16222200">
            <a:off x="-865800" y="3143160"/>
            <a:ext cx="2000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adjusted percent</a:t>
            </a:r>
            <a:endParaRPr b="0" lang="en-US" sz="1400" spc="-1" strike="noStrike">
              <a:solidFill>
                <a:srgbClr val="000000"/>
              </a:solidFill>
              <a:latin typeface="Times New Roman"/>
            </a:endParaRPr>
          </a:p>
        </p:txBody>
      </p:sp>
      <p:sp>
        <p:nvSpPr>
          <p:cNvPr id="244" name=""/>
          <p:cNvSpPr/>
          <p:nvPr/>
        </p:nvSpPr>
        <p:spPr>
          <a:xfrm>
            <a:off x="3448080" y="2590920"/>
            <a:ext cx="40644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102200" y="2581200"/>
            <a:ext cx="38088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084640" y="2879640"/>
            <a:ext cx="38124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705640" y="2476440"/>
            <a:ext cx="40608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686640" y="1209600"/>
            <a:ext cx="45720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166840" y="3828960"/>
            <a:ext cx="38412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19520" y="3200400"/>
            <a:ext cx="38088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400800" y="6053040"/>
            <a:ext cx="2666880" cy="0"/>
          </a:xfrm>
          <a:prstGeom prst="line">
            <a:avLst/>
          </a:prstGeom>
          <a:ln w="19080">
            <a:solidFill>
              <a:srgbClr val="00152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079040" y="6019920"/>
            <a:ext cx="1302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ucation level</a:t>
            </a:r>
            <a:endParaRPr b="0" lang="en-US" sz="1200" spc="-1" strike="noStrike">
              <a:solidFill>
                <a:srgbClr val="000000"/>
              </a:solidFill>
              <a:latin typeface="Times New Roman"/>
            </a:endParaRPr>
          </a:p>
        </p:txBody>
      </p:sp>
      <p:sp>
        <p:nvSpPr>
          <p:cNvPr id="253" name=""/>
          <p:cNvSpPr/>
          <p:nvPr/>
        </p:nvSpPr>
        <p:spPr>
          <a:xfrm>
            <a:off x="660240" y="3976560"/>
            <a:ext cx="8382240" cy="0"/>
          </a:xfrm>
          <a:prstGeom prst="line">
            <a:avLst/>
          </a:prstGeom>
          <a:ln w="57240">
            <a:solidFill>
              <a:srgbClr val="661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562720" y="914400"/>
            <a:ext cx="685800" cy="0"/>
          </a:xfrm>
          <a:prstGeom prst="line">
            <a:avLst/>
          </a:prstGeom>
          <a:ln w="38160">
            <a:solidFill>
              <a:srgbClr val="661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509840" y="1523880"/>
            <a:ext cx="38556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636040" y="4038480"/>
            <a:ext cx="38088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001000" y="2717640"/>
            <a:ext cx="38088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315200" y="2133720"/>
            <a:ext cx="38088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es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640" y="228240"/>
            <a:ext cx="93726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7-5. Percent of Current Adult Smokers Who Attempted to Quit in the Past Year, 2001</a:t>
            </a:r>
            <a:endParaRPr b="0" lang="en-US" sz="2800" spc="-1" strike="noStrike">
              <a:solidFill>
                <a:srgbClr val="000000"/>
              </a:solidFill>
              <a:latin typeface="Times New Roman"/>
            </a:endParaRPr>
          </a:p>
        </p:txBody>
      </p:sp>
      <p:graphicFrame>
        <p:nvGraphicFramePr>
          <p:cNvPr id="260" name=""/>
          <p:cNvGraphicFramePr/>
          <p:nvPr/>
        </p:nvGraphicFramePr>
        <p:xfrm>
          <a:off x="152280" y="1600200"/>
          <a:ext cx="8759880" cy="4191120"/>
        </p:xfrm>
        <a:graphic>
          <a:graphicData uri="http://schemas.openxmlformats.org/presentationml/2006/ole">
            <p:oleObj r:id="rId1" spid="">
              <p:embed/>
              <p:pic>
                <p:nvPicPr>
                  <p:cNvPr id="261" name="" descr=""/>
                  <p:cNvPicPr/>
                  <p:nvPr/>
                </p:nvPicPr>
                <p:blipFill>
                  <a:blip r:embed="rId2"/>
                  <a:stretch/>
                </p:blipFill>
                <p:spPr>
                  <a:xfrm>
                    <a:off x="152280" y="1600200"/>
                    <a:ext cx="8759880" cy="4191120"/>
                  </a:xfrm>
                  <a:prstGeom prst="rect">
                    <a:avLst/>
                  </a:prstGeom>
                  <a:ln w="0">
                    <a:noFill/>
                  </a:ln>
                </p:spPr>
              </p:pic>
            </p:oleObj>
          </a:graphicData>
        </a:graphic>
      </p:graphicFrame>
      <p:sp>
        <p:nvSpPr>
          <p:cNvPr id="262" name=""/>
          <p:cNvSpPr/>
          <p:nvPr/>
        </p:nvSpPr>
        <p:spPr>
          <a:xfrm>
            <a:off x="2209680" y="5362560"/>
            <a:ext cx="1905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merican Indi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laska Native only</a:t>
            </a:r>
            <a:endParaRPr b="0" lang="en-US" sz="1400" spc="-1" strike="noStrike">
              <a:solidFill>
                <a:srgbClr val="000000"/>
              </a:solidFill>
              <a:latin typeface="Times New Roman"/>
            </a:endParaRPr>
          </a:p>
        </p:txBody>
      </p:sp>
      <p:sp>
        <p:nvSpPr>
          <p:cNvPr id="263" name=""/>
          <p:cNvSpPr/>
          <p:nvPr/>
        </p:nvSpPr>
        <p:spPr>
          <a:xfrm>
            <a:off x="3581280" y="537840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sian only </a:t>
            </a:r>
            <a:endParaRPr b="0" lang="en-US" sz="1400" spc="-1" strike="noStrike">
              <a:solidFill>
                <a:srgbClr val="000000"/>
              </a:solidFill>
              <a:latin typeface="Times New Roman"/>
            </a:endParaRPr>
          </a:p>
        </p:txBody>
      </p:sp>
      <p:sp>
        <p:nvSpPr>
          <p:cNvPr id="264" name=""/>
          <p:cNvSpPr/>
          <p:nvPr/>
        </p:nvSpPr>
        <p:spPr>
          <a:xfrm>
            <a:off x="5049720" y="5410080"/>
            <a:ext cx="127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ispanic </a:t>
            </a:r>
            <a:endParaRPr b="0" lang="en-US" sz="1400" spc="-1" strike="noStrike">
              <a:solidFill>
                <a:srgbClr val="000000"/>
              </a:solidFill>
              <a:latin typeface="Times New Roman"/>
            </a:endParaRPr>
          </a:p>
        </p:txBody>
      </p:sp>
      <p:sp>
        <p:nvSpPr>
          <p:cNvPr id="265" name=""/>
          <p:cNvSpPr/>
          <p:nvPr/>
        </p:nvSpPr>
        <p:spPr>
          <a:xfrm>
            <a:off x="6164280" y="5410080"/>
            <a:ext cx="1531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lack, no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ispanic only</a:t>
            </a:r>
            <a:endParaRPr b="0" lang="en-US" sz="1400" spc="-1" strike="noStrike">
              <a:solidFill>
                <a:srgbClr val="000000"/>
              </a:solidFill>
              <a:latin typeface="Times New Roman"/>
            </a:endParaRPr>
          </a:p>
        </p:txBody>
      </p:sp>
      <p:sp>
        <p:nvSpPr>
          <p:cNvPr id="266" name=""/>
          <p:cNvSpPr/>
          <p:nvPr/>
        </p:nvSpPr>
        <p:spPr>
          <a:xfrm>
            <a:off x="7391520" y="5410080"/>
            <a:ext cx="1676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hite, no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ispanic only</a:t>
            </a:r>
            <a:endParaRPr b="0" lang="en-US" sz="1400" spc="-1" strike="noStrike">
              <a:solidFill>
                <a:srgbClr val="000000"/>
              </a:solidFill>
              <a:latin typeface="Times New Roman"/>
            </a:endParaRPr>
          </a:p>
        </p:txBody>
      </p:sp>
      <p:sp>
        <p:nvSpPr>
          <p:cNvPr id="267" name=""/>
          <p:cNvSpPr/>
          <p:nvPr/>
        </p:nvSpPr>
        <p:spPr>
          <a:xfrm>
            <a:off x="6248520" y="1371600"/>
            <a:ext cx="1768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268" name=""/>
          <p:cNvSpPr/>
          <p:nvPr/>
        </p:nvSpPr>
        <p:spPr>
          <a:xfrm>
            <a:off x="762120" y="190512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0" y="5927760"/>
            <a:ext cx="891540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 smokers (everyday/some days and have smoked at least 100 cigarettes) who have quit smoking one day or longer in the year prior to interview</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  American Indians/Alaska Natives or Asians may be of Hispanic origin.  Hispanics may be of any race.  Data are age adjusted to th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 standard population.  Adults:</a:t>
            </a:r>
            <a:r>
              <a:rPr b="0" lang="en-US" sz="1000" spc="-1" strike="noStrike">
                <a:solidFill>
                  <a:srgbClr val="000000"/>
                </a:solidFill>
                <a:latin typeface="Times New Roman"/>
              </a:rPr>
              <a:t> </a:t>
            </a:r>
            <a:r>
              <a:rPr b="0" lang="en-US" sz="1000" spc="-1" strike="noStrike">
                <a:solidFill>
                  <a:srgbClr val="000000"/>
                </a:solidFill>
                <a:latin typeface="Arial"/>
              </a:rPr>
              <a:t>18 years and old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0" name=""/>
          <p:cNvSpPr/>
          <p:nvPr/>
        </p:nvSpPr>
        <p:spPr>
          <a:xfrm>
            <a:off x="-15840" y="1523880"/>
            <a:ext cx="2000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adjusted percent</a:t>
            </a:r>
            <a:endParaRPr b="0" lang="en-US" sz="1400" spc="-1" strike="noStrike">
              <a:solidFill>
                <a:srgbClr val="000000"/>
              </a:solidFill>
              <a:latin typeface="Times New Roman"/>
            </a:endParaRPr>
          </a:p>
        </p:txBody>
      </p:sp>
      <p:sp>
        <p:nvSpPr>
          <p:cNvPr id="271"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0" y="662940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5943600" y="15238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57200" y="5410080"/>
            <a:ext cx="127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Times New Roman"/>
            </a:endParaRPr>
          </a:p>
        </p:txBody>
      </p:sp>
      <p:sp>
        <p:nvSpPr>
          <p:cNvPr id="275" name=""/>
          <p:cNvSpPr/>
          <p:nvPr/>
        </p:nvSpPr>
        <p:spPr>
          <a:xfrm>
            <a:off x="50760" y="6607080"/>
            <a:ext cx="3748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Interview Survey (NHIS),  NCHS, CDC.</a:t>
            </a:r>
            <a:endParaRPr b="0" lang="en-US" sz="1000" spc="-1" strike="noStrike">
              <a:solidFill>
                <a:srgbClr val="000000"/>
              </a:solidFill>
              <a:latin typeface="Times New Roman"/>
            </a:endParaRPr>
          </a:p>
        </p:txBody>
      </p:sp>
      <p:graphicFrame>
        <p:nvGraphicFramePr>
          <p:cNvPr id="276" name=""/>
          <p:cNvGraphicFramePr/>
          <p:nvPr/>
        </p:nvGraphicFramePr>
        <p:xfrm>
          <a:off x="8534520" y="6324480"/>
          <a:ext cx="609480" cy="533520"/>
        </p:xfrm>
        <a:graphic>
          <a:graphicData uri="http://schemas.openxmlformats.org/presentationml/2006/ole">
            <p:oleObj r:id="rId3" spid="">
              <p:embed/>
              <p:pic>
                <p:nvPicPr>
                  <p:cNvPr id="277"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280" y="228600"/>
            <a:ext cx="88394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7-1a, 27-2b. Current Cigarette Smoking  </a:t>
            </a:r>
            <a:r>
              <a:rPr b="0" lang="en-US" sz="3200" spc="-1" strike="noStrike">
                <a:solidFill>
                  <a:srgbClr val="000000"/>
                </a:solidFill>
                <a:latin typeface="Arial"/>
              </a:rPr>
              <a:t> </a:t>
            </a:r>
            <a:endParaRPr b="0" lang="en-US" sz="3200" spc="-1" strike="noStrike">
              <a:solidFill>
                <a:srgbClr val="000000"/>
              </a:solidFill>
              <a:latin typeface="Times New Roman"/>
            </a:endParaRPr>
          </a:p>
        </p:txBody>
      </p:sp>
      <p:graphicFrame>
        <p:nvGraphicFramePr>
          <p:cNvPr id="279" name=""/>
          <p:cNvGraphicFramePr/>
          <p:nvPr/>
        </p:nvGraphicFramePr>
        <p:xfrm>
          <a:off x="320760" y="1601640"/>
          <a:ext cx="8086680" cy="4685040"/>
        </p:xfrm>
        <a:graphic>
          <a:graphicData uri="http://schemas.openxmlformats.org/presentationml/2006/ole">
            <p:oleObj r:id="rId1" spid="">
              <p:embed/>
              <p:pic>
                <p:nvPicPr>
                  <p:cNvPr id="280" name="" descr=""/>
                  <p:cNvPicPr/>
                  <p:nvPr/>
                </p:nvPicPr>
                <p:blipFill>
                  <a:blip r:embed="rId2"/>
                  <a:stretch/>
                </p:blipFill>
                <p:spPr>
                  <a:xfrm>
                    <a:off x="320760" y="1601640"/>
                    <a:ext cx="8086680" cy="4685040"/>
                  </a:xfrm>
                  <a:prstGeom prst="rect">
                    <a:avLst/>
                  </a:prstGeom>
                  <a:ln w="0">
                    <a:noFill/>
                  </a:ln>
                </p:spPr>
              </p:pic>
            </p:oleObj>
          </a:graphicData>
        </a:graphic>
      </p:graphicFrame>
      <p:sp>
        <p:nvSpPr>
          <p:cNvPr id="281" name=""/>
          <p:cNvSpPr/>
          <p:nvPr/>
        </p:nvSpPr>
        <p:spPr>
          <a:xfrm>
            <a:off x="152280" y="1447920"/>
            <a:ext cx="12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282" name=""/>
          <p:cNvSpPr/>
          <p:nvPr/>
        </p:nvSpPr>
        <p:spPr>
          <a:xfrm>
            <a:off x="3581280" y="4343400"/>
            <a:ext cx="260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 Students</a:t>
            </a:r>
            <a:endParaRPr b="0" lang="en-US" sz="1600" spc="-1" strike="noStrike">
              <a:solidFill>
                <a:srgbClr val="000000"/>
              </a:solidFill>
              <a:latin typeface="Times New Roman"/>
            </a:endParaRPr>
          </a:p>
        </p:txBody>
      </p:sp>
      <p:graphicFrame>
        <p:nvGraphicFramePr>
          <p:cNvPr id="283" name=""/>
          <p:cNvGraphicFramePr/>
          <p:nvPr/>
        </p:nvGraphicFramePr>
        <p:xfrm>
          <a:off x="8621640" y="6172200"/>
          <a:ext cx="522360" cy="457200"/>
        </p:xfrm>
        <a:graphic>
          <a:graphicData uri="http://schemas.openxmlformats.org/presentationml/2006/ole">
            <p:oleObj r:id="rId3" spid="">
              <p:embed/>
              <p:pic>
                <p:nvPicPr>
                  <p:cNvPr id="284" name="" descr=""/>
                  <p:cNvPicPr/>
                  <p:nvPr/>
                </p:nvPicPr>
                <p:blipFill>
                  <a:blip r:embed="rId4"/>
                  <a:stretch/>
                </p:blipFill>
                <p:spPr>
                  <a:xfrm>
                    <a:off x="8621640" y="6172200"/>
                    <a:ext cx="522360" cy="457200"/>
                  </a:xfrm>
                  <a:prstGeom prst="rect">
                    <a:avLst/>
                  </a:prstGeom>
                  <a:ln w="0">
                    <a:noFill/>
                  </a:ln>
                  <a:effectLst>
                    <a:outerShdw dist="17819" dir="2700000" blurRad="0" rotWithShape="0">
                      <a:srgbClr val="ffffff"/>
                    </a:outerShdw>
                  </a:effectLst>
                </p:spPr>
              </p:pic>
            </p:oleObj>
          </a:graphicData>
        </a:graphic>
      </p:graphicFrame>
      <p:sp>
        <p:nvSpPr>
          <p:cNvPr id="285" name=""/>
          <p:cNvSpPr/>
          <p:nvPr/>
        </p:nvSpPr>
        <p:spPr>
          <a:xfrm>
            <a:off x="6324480" y="2362320"/>
            <a:ext cx="190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ents (grades 9-12)</a:t>
            </a:r>
            <a:endParaRPr b="0" lang="en-US" sz="2000" spc="-1" strike="noStrike">
              <a:solidFill>
                <a:srgbClr val="000000"/>
              </a:solidFill>
              <a:latin typeface="Times New Roman"/>
            </a:endParaRPr>
          </a:p>
        </p:txBody>
      </p:sp>
      <p:sp>
        <p:nvSpPr>
          <p:cNvPr id="286" name=""/>
          <p:cNvSpPr/>
          <p:nvPr/>
        </p:nvSpPr>
        <p:spPr>
          <a:xfrm>
            <a:off x="2209680" y="24382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ults (18 and older)</a:t>
            </a:r>
            <a:endParaRPr b="0" lang="en-US" sz="2000" spc="-1" strike="noStrike">
              <a:solidFill>
                <a:srgbClr val="000000"/>
              </a:solidFill>
              <a:latin typeface="Times New Roman"/>
            </a:endParaRPr>
          </a:p>
        </p:txBody>
      </p:sp>
      <p:sp>
        <p:nvSpPr>
          <p:cNvPr id="287" name=""/>
          <p:cNvSpPr/>
          <p:nvPr/>
        </p:nvSpPr>
        <p:spPr>
          <a:xfrm>
            <a:off x="3657600" y="4711680"/>
            <a:ext cx="2209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 Adults</a:t>
            </a:r>
            <a:endParaRPr b="0" lang="en-US" sz="1600" spc="-1" strike="noStrike">
              <a:solidFill>
                <a:srgbClr val="000000"/>
              </a:solidFill>
              <a:latin typeface="Times New Roman"/>
            </a:endParaRPr>
          </a:p>
        </p:txBody>
      </p:sp>
      <p:sp>
        <p:nvSpPr>
          <p:cNvPr id="288" name=""/>
          <p:cNvSpPr/>
          <p:nvPr/>
        </p:nvSpPr>
        <p:spPr>
          <a:xfrm flipV="1">
            <a:off x="6553080" y="3137040"/>
            <a:ext cx="381240" cy="3427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V="1">
            <a:off x="6934320" y="3014640"/>
            <a:ext cx="399960" cy="1238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40760" y="2997360"/>
            <a:ext cx="361800" cy="1522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943680" y="3933720"/>
            <a:ext cx="438120" cy="57240"/>
          </a:xfrm>
          <a:prstGeom prst="line">
            <a:avLst/>
          </a:prstGeom>
          <a:ln w="38160">
            <a:solidFill>
              <a:srgbClr val="003366"/>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2" name=""/>
          <p:cNvSpPr/>
          <p:nvPr/>
        </p:nvSpPr>
        <p:spPr>
          <a:xfrm>
            <a:off x="6324480" y="3838680"/>
            <a:ext cx="409680" cy="9504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V="1">
            <a:off x="5952960" y="3833280"/>
            <a:ext cx="395280" cy="954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976640" y="3552840"/>
            <a:ext cx="976320" cy="3762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19520" y="2967120"/>
            <a:ext cx="985680" cy="30456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800520" y="3262320"/>
            <a:ext cx="790560" cy="12852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586400" y="3381480"/>
            <a:ext cx="399960" cy="1620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052640" y="2567160"/>
            <a:ext cx="1766880" cy="39996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752840" y="601992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70</a:t>
            </a:r>
            <a:endParaRPr b="0" lang="en-US" sz="1400" spc="-1" strike="noStrike">
              <a:solidFill>
                <a:srgbClr val="000000"/>
              </a:solidFill>
              <a:latin typeface="Times New Roman"/>
            </a:endParaRPr>
          </a:p>
        </p:txBody>
      </p:sp>
      <p:sp>
        <p:nvSpPr>
          <p:cNvPr id="300" name=""/>
          <p:cNvSpPr/>
          <p:nvPr/>
        </p:nvSpPr>
        <p:spPr>
          <a:xfrm>
            <a:off x="2699280" y="601992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75</a:t>
            </a:r>
            <a:endParaRPr b="0" lang="en-US" sz="1400" spc="-1" strike="noStrike">
              <a:solidFill>
                <a:srgbClr val="000000"/>
              </a:solidFill>
              <a:latin typeface="Times New Roman"/>
            </a:endParaRPr>
          </a:p>
        </p:txBody>
      </p:sp>
      <p:sp>
        <p:nvSpPr>
          <p:cNvPr id="301" name=""/>
          <p:cNvSpPr/>
          <p:nvPr/>
        </p:nvSpPr>
        <p:spPr>
          <a:xfrm>
            <a:off x="3657600" y="6019920"/>
            <a:ext cx="66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0</a:t>
            </a:r>
            <a:endParaRPr b="0" lang="en-US" sz="1400" spc="-1" strike="noStrike">
              <a:solidFill>
                <a:srgbClr val="000000"/>
              </a:solidFill>
              <a:latin typeface="Times New Roman"/>
            </a:endParaRPr>
          </a:p>
        </p:txBody>
      </p:sp>
      <p:sp>
        <p:nvSpPr>
          <p:cNvPr id="302" name=""/>
          <p:cNvSpPr/>
          <p:nvPr/>
        </p:nvSpPr>
        <p:spPr>
          <a:xfrm>
            <a:off x="7543800" y="601992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Times New Roman"/>
            </a:endParaRPr>
          </a:p>
        </p:txBody>
      </p:sp>
      <p:sp>
        <p:nvSpPr>
          <p:cNvPr id="303" name=""/>
          <p:cNvSpPr/>
          <p:nvPr/>
        </p:nvSpPr>
        <p:spPr>
          <a:xfrm>
            <a:off x="701640" y="6019920"/>
            <a:ext cx="577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65</a:t>
            </a:r>
            <a:endParaRPr b="0" lang="en-US" sz="1400" spc="-1" strike="noStrike">
              <a:solidFill>
                <a:srgbClr val="000000"/>
              </a:solidFill>
              <a:latin typeface="Times New Roman"/>
            </a:endParaRPr>
          </a:p>
        </p:txBody>
      </p:sp>
      <p:sp>
        <p:nvSpPr>
          <p:cNvPr id="304" name=""/>
          <p:cNvSpPr/>
          <p:nvPr/>
        </p:nvSpPr>
        <p:spPr>
          <a:xfrm>
            <a:off x="4664160" y="6019920"/>
            <a:ext cx="577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5</a:t>
            </a:r>
            <a:endParaRPr b="0" lang="en-US" sz="1400" spc="-1" strike="noStrike">
              <a:solidFill>
                <a:srgbClr val="000000"/>
              </a:solidFill>
              <a:latin typeface="Times New Roman"/>
            </a:endParaRPr>
          </a:p>
        </p:txBody>
      </p:sp>
      <p:sp>
        <p:nvSpPr>
          <p:cNvPr id="305" name=""/>
          <p:cNvSpPr/>
          <p:nvPr/>
        </p:nvSpPr>
        <p:spPr>
          <a:xfrm>
            <a:off x="5715360" y="601992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000000"/>
              </a:solidFill>
              <a:latin typeface="Times New Roman"/>
            </a:endParaRPr>
          </a:p>
        </p:txBody>
      </p:sp>
      <p:sp>
        <p:nvSpPr>
          <p:cNvPr id="306" name=""/>
          <p:cNvSpPr/>
          <p:nvPr/>
        </p:nvSpPr>
        <p:spPr>
          <a:xfrm>
            <a:off x="6629760" y="601992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000000"/>
              </a:solidFill>
              <a:latin typeface="Times New Roman"/>
            </a:endParaRPr>
          </a:p>
        </p:txBody>
      </p:sp>
      <p:sp>
        <p:nvSpPr>
          <p:cNvPr id="307" name=""/>
          <p:cNvSpPr/>
          <p:nvPr/>
        </p:nvSpPr>
        <p:spPr>
          <a:xfrm>
            <a:off x="-76320" y="6323040"/>
            <a:ext cx="9296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eliminary data, January-September 20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tes: Adults, age adjusted to the 2000 standard population.  Current Smoking: Adults-every/some days (and have smoked at least 100 cigarettes), Students-1+ day/past mon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08" name=""/>
          <p:cNvSpPr/>
          <p:nvPr/>
        </p:nvSpPr>
        <p:spPr>
          <a:xfrm>
            <a:off x="6734160" y="3943440"/>
            <a:ext cx="22860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353360" y="3981600"/>
            <a:ext cx="743040" cy="142560"/>
          </a:xfrm>
          <a:custGeom>
            <a:avLst/>
            <a:gdLst/>
            <a:ahLst/>
            <a:rect l="l" t="t" r="r" b="b"/>
            <a:pathLst>
              <a:path w="468" h="90">
                <a:moveTo>
                  <a:pt x="0" y="0"/>
                </a:moveTo>
                <a:cubicBezTo>
                  <a:pt x="56" y="9"/>
                  <a:pt x="67" y="24"/>
                  <a:pt x="132" y="30"/>
                </a:cubicBezTo>
                <a:cubicBezTo>
                  <a:pt x="176" y="45"/>
                  <a:pt x="156" y="39"/>
                  <a:pt x="192" y="48"/>
                </a:cubicBezTo>
                <a:cubicBezTo>
                  <a:pt x="231" y="74"/>
                  <a:pt x="286" y="70"/>
                  <a:pt x="330" y="72"/>
                </a:cubicBezTo>
                <a:cubicBezTo>
                  <a:pt x="467" y="80"/>
                  <a:pt x="442" y="38"/>
                  <a:pt x="468" y="90"/>
                </a:cubicBezTo>
              </a:path>
            </a:pathLst>
          </a:custGeom>
          <a:noFill/>
          <a:ln w="38160">
            <a:solidFill>
              <a:srgbClr val="0033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0" y="662940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8229600" y="403848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2*</a:t>
            </a:r>
            <a:endParaRPr b="0" lang="en-US" sz="1400" spc="-1" strike="noStrike">
              <a:solidFill>
                <a:srgbClr val="000000"/>
              </a:solidFill>
              <a:latin typeface="Times New Roman"/>
            </a:endParaRPr>
          </a:p>
        </p:txBody>
      </p:sp>
      <p:sp>
        <p:nvSpPr>
          <p:cNvPr id="313" name=""/>
          <p:cNvSpPr/>
          <p:nvPr/>
        </p:nvSpPr>
        <p:spPr>
          <a:xfrm>
            <a:off x="8077320" y="4114800"/>
            <a:ext cx="228600" cy="76320"/>
          </a:xfrm>
          <a:prstGeom prst="line">
            <a:avLst/>
          </a:prstGeom>
          <a:ln w="38160">
            <a:solidFill>
              <a:srgbClr val="003366"/>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4" name=""/>
          <p:cNvSpPr/>
          <p:nvPr/>
        </p:nvSpPr>
        <p:spPr>
          <a:xfrm>
            <a:off x="-68400" y="6629400"/>
            <a:ext cx="8782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s: Adults, National Health Interview Survey (NHIS), NCHS, CDC.  Students, Youth Risk Behavior Surveillance System (YRBSS), NCCDPHP, CDC.</a:t>
            </a:r>
            <a:endParaRPr b="0" lang="en-US" sz="1000" spc="-1" strike="noStrike">
              <a:solidFill>
                <a:srgbClr val="000000"/>
              </a:solidFill>
              <a:latin typeface="Times New Roman"/>
            </a:endParaRPr>
          </a:p>
        </p:txBody>
      </p:sp>
      <p:sp>
        <p:nvSpPr>
          <p:cNvPr id="315" name=""/>
          <p:cNvSpPr/>
          <p:nvPr/>
        </p:nvSpPr>
        <p:spPr>
          <a:xfrm>
            <a:off x="7696080" y="3124080"/>
            <a:ext cx="381240" cy="53352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lthy People 2010 Objectives Past Month* Tobacco Users: </a:t>
            </a:r>
            <a:br>
              <a:rPr sz="2400"/>
            </a:br>
            <a:r>
              <a:rPr b="1" lang="en-US" sz="2400" spc="-1" strike="noStrike">
                <a:solidFill>
                  <a:srgbClr val="000000"/>
                </a:solidFill>
                <a:latin typeface="Arial"/>
              </a:rPr>
              <a:t>Students (Grades 9-12), 2001</a:t>
            </a:r>
            <a:endParaRPr b="0" lang="en-US" sz="2400" spc="-1" strike="noStrike">
              <a:solidFill>
                <a:srgbClr val="000000"/>
              </a:solidFill>
              <a:latin typeface="Times New Roman"/>
            </a:endParaRPr>
          </a:p>
        </p:txBody>
      </p:sp>
      <p:graphicFrame>
        <p:nvGraphicFramePr>
          <p:cNvPr id="317" name=""/>
          <p:cNvGraphicFramePr/>
          <p:nvPr/>
        </p:nvGraphicFramePr>
        <p:xfrm>
          <a:off x="380880" y="1295280"/>
          <a:ext cx="8382240" cy="4492800"/>
        </p:xfrm>
        <a:graphic>
          <a:graphicData uri="http://schemas.openxmlformats.org/drawingml/2006/table">
            <a:tbl>
              <a:tblPr/>
              <a:tblGrid>
                <a:gridCol w="1695600"/>
                <a:gridCol w="1751040"/>
                <a:gridCol w="1751040"/>
                <a:gridCol w="1592280"/>
                <a:gridCol w="1592280"/>
              </a:tblGrid>
              <a:tr h="1343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bacco Produc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9cbf7"/>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bacco</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duc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9cbf7"/>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garettes</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9cbf7"/>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it Tobacc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9cbf7"/>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gars</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9cbf7"/>
                    </a:solidFill>
                  </a:tcPr>
                </a:tc>
              </a:tr>
              <a:tr h="14544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9cbf7"/>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4% </a:t>
                      </a:r>
                      <a:r>
                        <a:rPr b="1" lang="en-US" sz="1800" spc="-1" strike="noStrike">
                          <a:solidFill>
                            <a:srgbClr val="000000"/>
                          </a:solidFill>
                          <a:latin typeface="Times New Roman"/>
                        </a:rPr>
                        <a:t>(total)</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 (female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9% (mal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a:t>
                      </a:r>
                      <a:r>
                        <a:rPr b="1" lang="en-US" sz="2000" spc="-1" strike="noStrike">
                          <a:solidFill>
                            <a:srgbClr val="000000"/>
                          </a:solidFill>
                          <a:latin typeface="Times New Roman"/>
                        </a:rPr>
                        <a:t> </a:t>
                      </a:r>
                      <a:r>
                        <a:rPr b="1" lang="en-US" sz="1800" spc="-1" strike="noStrike">
                          <a:solidFill>
                            <a:srgbClr val="000000"/>
                          </a:solidFill>
                          <a:latin typeface="Times New Roman"/>
                        </a:rPr>
                        <a:t>(total)</a:t>
                      </a:r>
                      <a:endParaRPr b="0" lang="en-US" sz="18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8% (female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9% (mal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000000"/>
                          </a:solidFill>
                          <a:latin typeface="Times New Roman"/>
                        </a:rPr>
                        <a:t>8%</a:t>
                      </a:r>
                      <a:r>
                        <a:rPr b="1" lang="en-US" sz="2000" spc="-1" strike="noStrike">
                          <a:solidFill>
                            <a:srgbClr val="000000"/>
                          </a:solidFill>
                          <a:latin typeface="Times New Roman"/>
                        </a:rPr>
                        <a:t> </a:t>
                      </a:r>
                      <a:r>
                        <a:rPr b="1" lang="en-US" sz="1800" spc="-1" strike="noStrike">
                          <a:solidFill>
                            <a:srgbClr val="000000"/>
                          </a:solidFill>
                          <a:latin typeface="Times New Roman"/>
                        </a:rPr>
                        <a:t>(total)</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female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 (mal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a:t>
                      </a:r>
                      <a:r>
                        <a:rPr b="1" lang="en-US" sz="2000" spc="-1" strike="noStrike">
                          <a:solidFill>
                            <a:srgbClr val="000000"/>
                          </a:solidFill>
                          <a:latin typeface="Times New Roman"/>
                        </a:rPr>
                        <a:t> </a:t>
                      </a:r>
                      <a:r>
                        <a:rPr b="1" lang="en-US" sz="1800" spc="-1" strike="noStrike">
                          <a:solidFill>
                            <a:srgbClr val="000000"/>
                          </a:solidFill>
                          <a:latin typeface="Times New Roman"/>
                        </a:rPr>
                        <a:t>(total)</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 (female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2% (mal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0</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rge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9cbf7"/>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 Numbe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9cbf7"/>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7-2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7-2b.</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7-2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7-2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8"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0" y="609588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use on one or more days in the 30 days preceding the surve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bacco users may have used more than one tobacco product.</a:t>
            </a:r>
            <a:endParaRPr b="0" lang="en-US" sz="1200" spc="-1" strike="noStrike">
              <a:solidFill>
                <a:srgbClr val="000000"/>
              </a:solidFill>
              <a:latin typeface="Times New Roman"/>
            </a:endParaRPr>
          </a:p>
        </p:txBody>
      </p:sp>
      <p:sp>
        <p:nvSpPr>
          <p:cNvPr id="320"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9000" y="6599160"/>
            <a:ext cx="5604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Youth Risk Behavior Surveillance System (YRBSS), NCCDPHP, CD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22" name=""/>
          <p:cNvGraphicFramePr/>
          <p:nvPr/>
        </p:nvGraphicFramePr>
        <p:xfrm>
          <a:off x="8534520" y="6324480"/>
          <a:ext cx="609480" cy="533520"/>
        </p:xfrm>
        <a:graphic>
          <a:graphicData uri="http://schemas.openxmlformats.org/presentationml/2006/ole">
            <p:oleObj r:id="rId1" spid="">
              <p:embed/>
              <p:pic>
                <p:nvPicPr>
                  <p:cNvPr id="323" name="" descr=""/>
                  <p:cNvPicPr/>
                  <p:nvPr/>
                </p:nvPicPr>
                <p:blipFill>
                  <a:blip r:embed="rId2"/>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5:38:33Z</dcterms:created>
  <dc:creator>Manon Boudreault</dc:creator>
  <dc:description/>
  <dc:language>en-US</dc:language>
  <cp:lastModifiedBy>Manon A. Boudreault</cp:lastModifiedBy>
  <dcterms:modified xsi:type="dcterms:W3CDTF">2003-05-13T14:52:15Z</dcterms:modified>
  <cp:revision>1943</cp:revision>
  <dc:subject/>
  <dc:title>Selected cancer death rates, by type  age adjusted per 100,000 standard population </dc:title>
</cp:coreProperties>
</file>