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661B0B-11B8-4AA1-A007-8765740AC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9FE041-8EF8-4D02-AA06-C236A7B7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there was little or no progress in meeting the objectives for fruit, vegetable, and grain consumption compared to the 198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94 baseli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0% consumed 2 servings of fruit, falling short of the 2010 target of 75%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22F007-4C5A-4AB6-A908-0FB24F91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mericans had greater difficulty meeting the recommendation of 1/3 servings from dark green/orange vegetables (9%) than 3+ servings of total vegetables (4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mericans had greater difficulty meeting the recommendation of 3+ servings from whole grains (3%) than 6+ servings of total grains (54%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9D9B89-8BE2-4A58-BAF9-4FCE315F5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ive 19-6 aims to increase the proportion of Americans who consume at least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/3 of their vegetables from dark green or orange vegetab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portion of vegetable servings that are dark green or orang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s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% for children aged 12-19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% for Adults aged 20 years and o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EC713D-170E-40A7-939F-F39FF996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recommends that Americans consume at least half their grains from whole grai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slide shows that intake of whole grains is very low relative to total grain product consumption for both youth and adul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7% for children aged 12-19, 10% for Adults aged 20 years and ove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82CAF5-03E9-4E6E-93D8-713D2AE79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reasing sodium intake may reduce the risk of elevated blood pressur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there was little or no progress in reducing Americans’ daily consumption of sodium to 2400 mg or less; only 13% met this recommendation compared with 15% in 1988-94 base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estimates of total sodium intake include sodium from food, salt added at the table, tap water, and dietary supplements.  As might be expected, food contributed the most sodiu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94.2%)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th other reports noting that processed foods contribute most of that. Salt use at the table contributed a small but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onsequential amoun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5.2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with very little sodium contributed by tap wat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.6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r dietary supplemen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(0%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77B77F-69C2-49F6-B7A3-642FA408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states that another dietary measure to lower blood pressure is to consume a diet rich in potassium.  Consequently, the work group decided to look at Americans’ intake of potassium in relation to recommend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slide indicates that potassium intake decreased in the last two decades, and that in 2003-04---very few Americans had potassium intakes above the Adequate Intake values established by the Institute of Medici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t also shows that very little potassium was contributed by dietary supp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urrent dietary guidance recommends that potassium come from food sources, and identify fruits and vegetabl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- 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cluding leafy green vegetables, fruit from vines, and root vegetabl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as rich in potassium.  It may be noted that the relatively low potassium intakes are consistent with majority of Americans not meeting recommendations for fruit and vegetable consum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EAFC91-65AE-4FA3-AC69-4E2BEF3A5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3320" cy="472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ive 19-11 is to increase the proportion of people 2+ y who meet dietary recommendations for calc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preparing for this progress review, the work group changed the operational definition for “meet dietary recommendations for calcium” from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77%  AI t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100% AI (Refer to Tracking HP updates for more inform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lcium intake increased from 1988-94 to 2003-04, but still the majority of people did not have intakes above Adequate Intake values.  Female adolescents have the lowest calcium intakes compared to recommend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08225-4894-4AF7-9A1F-1C3122499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contribution of dietary supplements to total calcium intake varied by age and gender, with the greatest contribution for women 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and olde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percent of calcium intake by females aged 51+ that is from food (66%), from supplements (32%) and from antacids (2%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percent of calcium intake by males aged 51+ that is from food (83%), from supplements (15%) and from antacids (3%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ubstantial contribution of dietary supplements to total calcium intake for older women illustrates the importance of collecting data on nutrient intake fro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all sources including dietar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upp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these older women and men, only a small amount of calcium came from antaci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61760" y="4416480"/>
            <a:ext cx="5314680" cy="4651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agency work group for this focus area selected 6 objectives to high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3 which aims to reduce the proportion of children and adolescents who are overweight or obe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5, 6, &amp; 7 which aim to increase the proportion of people 2+ years who meet objectives for fruit, vegetable and grain consump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0 which aims to increase the proportion of people 2+ years who consume 2400 mg or less of sodium daily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1 which aims to increase the proportion of people 2+ years wh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 meet dietary recommendations for calc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Overall progre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3  Overweight or obesity in children and adolescents, getting w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5  Fruit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6  Vegetable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7  Grain product consumption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0  Total sodium intake, little or no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-11  Total calcium intake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impr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32E55A-7714-4DE3-B59E-EA5850FD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bstantial increase from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1% i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88-94 to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17% i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-06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ving away from 2010 target of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in overweight f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ll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race/ethnic groups which can be assessed by NHAN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6, 22% of black and Mexican American children and adolescents were overweight compared to 15% of non-Hispanic whit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occurred for both males and fem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81FB6C-3B03-4504-B0C7-8F1406E2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crease in overweight occurred with both higher and lower income level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, more lower income youth were overweight (20%) compared to higher-income (16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2003-04 more youth with disabilities were overweight (28%) compared with those without disabilities (17%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revalence of overweight among children and adolescents remained at or below the 2010 target of 5% until 1976-80, when it began a sharp increas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ps indicate increas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n overweight among adolescents, grade 9-12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2003 to 20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ost states, adolescent overweight appears a significant concern.  In 2005, only 4 of th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39 states with data reported that less than 10 percent of high school students were overwe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2CF293-44F6-42AA-AE86-2970260F5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valence of adult obesity increased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or all 3 race/ethnic groups which can be assessed by NHANE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mong females, 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ck non-Hispanic females had the highest prevalence of 53%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 in 2003-06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compared to 32% of white non-Hispanic fem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Among males, prevalence of obesity in 2003-06 ranged from 29% in Mexican American to 35% in non-Hispanic bla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Similar to a trend observed among children and adolescents, prevalence of obesity among adults showed a sharp increase beginning 1976-80.  Prior to 1976-80, prevalence of obesity among adults remained at or below the 2010 target of 15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8195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12720"/>
            <a:ext cx="250236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01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127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819520"/>
            <a:ext cx="37926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12720"/>
            <a:ext cx="777240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0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76120" y="243000"/>
          <a:ext cx="120816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43000"/>
                    <a:ext cx="12081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807320" y="314280"/>
          <a:ext cx="106668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07320" y="314280"/>
                    <a:ext cx="1066680" cy="1011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c09eb2"/>
                    </a:outerShdw>
                  </a:effectLst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ocus Area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19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utrition and Overweight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5486400"/>
          <a:ext cx="1204920" cy="12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486400"/>
                    <a:ext cx="12049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135800" y="3884760"/>
            <a:ext cx="687240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Edward J. Sondik</a:t>
            </a:r>
            <a:br>
              <a:rPr sz="3600"/>
            </a:b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굴림"/>
              </a:rPr>
              <a:t>National Center for Health Statist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pril 3,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170840" y="5715000"/>
            <a:ext cx="166824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39800" y="2141640"/>
          <a:ext cx="80233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141640"/>
                    <a:ext cx="80233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14280" y="17668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533412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uit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: 2+ servings             Vegetables                           Gr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" y="1373040"/>
            <a:ext cx="4428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9960" y="1677960"/>
            <a:ext cx="320760" cy="231840"/>
          </a:xfrm>
          <a:prstGeom prst="rect">
            <a:avLst/>
          </a:prstGeom>
          <a:solidFill>
            <a:srgbClr val="b8964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9680" y="1677960"/>
            <a:ext cx="3204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32280" y="1677960"/>
            <a:ext cx="320760" cy="231840"/>
          </a:xfrm>
          <a:prstGeom prst="rect">
            <a:avLst/>
          </a:prstGeom>
          <a:solidFill>
            <a:srgbClr val="33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12960" y="1677960"/>
            <a:ext cx="320760" cy="231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3520" y="100080"/>
            <a:ext cx="857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Fruits, Vegetables and Grains Consumption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943600"/>
            <a:ext cx="9144000" cy="938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6248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&amp;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600" y="5950080"/>
            <a:ext cx="6750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ata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One serving has been calculated as two-thirds of a standard serving for all children age 2-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 The categories 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ck and whi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includes persons who reported only one racial group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lude persons of Hispanic origin. Persons of Mexican-American origin may be any r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02400" y="133992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62600" y="1347840"/>
            <a:ext cx="180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63720" y="1646280"/>
            <a:ext cx="321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1523880"/>
            <a:ext cx="1379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 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06800" y="5576760"/>
            <a:ext cx="460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3+ Servings                              6+ Serv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39800" y="2141640"/>
          <a:ext cx="80233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141640"/>
                    <a:ext cx="80233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14280" y="17668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27000" y="2079000"/>
            <a:ext cx="2273400" cy="12708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5334120"/>
            <a:ext cx="80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uit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: 2+ servings   Vegetables: 3+ servings   Grains: 6+ ser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05040" y="3130560"/>
            <a:ext cx="227340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040" y="1812960"/>
            <a:ext cx="231480" cy="7452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6760" y="5105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98640" y="5105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" y="1373040"/>
            <a:ext cx="4428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400800" y="3130560"/>
            <a:ext cx="2273400" cy="123840"/>
          </a:xfrm>
          <a:custGeom>
            <a:avLst/>
            <a:gdLst/>
            <a:ahLst/>
            <a:rect l="l" t="t" r="r" b="b"/>
            <a:pathLst>
              <a:path w="4166" h="1">
                <a:moveTo>
                  <a:pt x="0" y="0"/>
                </a:moveTo>
                <a:lnTo>
                  <a:pt x="4166" y="0"/>
                </a:lnTo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9960" y="1677960"/>
            <a:ext cx="320760" cy="231840"/>
          </a:xfrm>
          <a:prstGeom prst="rect">
            <a:avLst/>
          </a:prstGeom>
          <a:solidFill>
            <a:srgbClr val="b8964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1679400"/>
            <a:ext cx="1770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10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9680" y="1677960"/>
            <a:ext cx="3204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32280" y="1677960"/>
            <a:ext cx="320760" cy="231840"/>
          </a:xfrm>
          <a:prstGeom prst="rect">
            <a:avLst/>
          </a:prstGeom>
          <a:solidFill>
            <a:srgbClr val="33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12960" y="1677960"/>
            <a:ext cx="320760" cy="231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520" y="100080"/>
            <a:ext cx="857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Fruits, Vegetables and Grains Consumption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943600"/>
            <a:ext cx="9144000" cy="938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0280" y="6248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&amp;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600" y="5950080"/>
            <a:ext cx="6750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Data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One serving has been calculated as two-thirds of a standard serving for all children age 2-3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 The categories 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lack and whit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includes persons who reported only one racial group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xclude persons of Hispanic origin. Persons of Mexican-American origin may be any r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02400" y="133992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62600" y="1347840"/>
            <a:ext cx="180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3720" y="1646280"/>
            <a:ext cx="3211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83080" y="1523880"/>
            <a:ext cx="1379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 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9000" y="5576760"/>
            <a:ext cx="58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  <a:ea typeface="굴림"/>
              </a:rPr>
              <a:t>With 1/3 Dark Green/Orange     With 3+ Whole Gra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875120" y="2108160"/>
          <a:ext cx="43452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5120" y="2108160"/>
                    <a:ext cx="43452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-76320" y="2077920"/>
          <a:ext cx="4467240" cy="36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2077920"/>
                    <a:ext cx="44672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6480" y="6377040"/>
            <a:ext cx="9150480" cy="4809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22600" y="647712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12600" y="6377040"/>
            <a:ext cx="48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s: Excludes pregnant or lactating women and breast-fed children. One serving has been calculated as two-thirds of a standard serving for all children age 2-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84880" y="4140360"/>
            <a:ext cx="1316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Tomatoes 2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75520" y="2654280"/>
            <a:ext cx="14968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vegetables 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6560" y="3276720"/>
            <a:ext cx="12351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Legume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444920"/>
            <a:ext cx="13716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Potatoes 2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6520" y="3633840"/>
            <a:ext cx="817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240" y="5638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ren 2-19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43360" y="563868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ults 20 years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565440"/>
            <a:ext cx="1315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Tomatoes 2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49320" y="2637000"/>
            <a:ext cx="1497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vegetables 2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6120" y="2463840"/>
            <a:ext cx="12348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Legume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49320" y="4432320"/>
            <a:ext cx="1143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 Unicode MS"/>
              </a:rPr>
              <a:t>Potatoes 3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6440" y="4505400"/>
            <a:ext cx="1839960" cy="8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Dark green or orange vege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52280"/>
            <a:ext cx="85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oportion of Vegetable Serving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2003-04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27400" y="3643200"/>
            <a:ext cx="817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22480" y="1254240"/>
            <a:ext cx="32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3%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ark gre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r orange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56200">
            <a:off x="6570360" y="201888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6421320" y="2144520"/>
            <a:ext cx="10656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2640" y="556272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ren 2-19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43360" y="55627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ults 20 years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5160" y="1560600"/>
          <a:ext cx="473544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560600"/>
                    <a:ext cx="47354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860560" y="129528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50%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le 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394320"/>
            <a:ext cx="9144000" cy="49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12398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oportion of Grain Serving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2003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08200" y="6521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2600" y="6377040"/>
            <a:ext cx="4832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s: Excludes pregnant or lactating women and breast-fed children. One serving has been calculated as two-thirds of a standard serving for all children age 2-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33684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grains 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38760" y="4237200"/>
            <a:ext cx="1218960" cy="703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Whole g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38600" y="3462480"/>
            <a:ext cx="5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114800" y="1720800"/>
          <a:ext cx="4876920" cy="38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720800"/>
                    <a:ext cx="48769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724800" y="335268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ther grains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43360" y="34624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685800" y="2178000"/>
          <a:ext cx="38098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78000"/>
                    <a:ext cx="3809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297000" y="178740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371600"/>
            <a:ext cx="228600" cy="22860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8200" y="1353960"/>
            <a:ext cx="5821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88-94       2003-04       2010 Target: 6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1368360"/>
            <a:ext cx="2268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2400" y="1795320"/>
            <a:ext cx="4428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99864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276720" y="102708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78080" y="1465200"/>
            <a:ext cx="1875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680" y="152280"/>
            <a:ext cx="861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Sod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054840"/>
            <a:ext cx="9144000" cy="8031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6080" y="6462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s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054840"/>
            <a:ext cx="6504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= 95% confidence interval. Data are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for 2 years and over excluding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djusted to the 2000 standard population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Total sodium intake is from food, supplements, tap water and salt added at table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pondents were asked to select only one race prior to 1999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or 1999 and later years, respondents were asked to select one or more races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5451480"/>
            <a:ext cx="3809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,400mg of Sodium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9200" y="4921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White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968400" y="5439960"/>
            <a:ext cx="35272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138640" y="1676520"/>
          <a:ext cx="423396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8640" y="1676520"/>
                    <a:ext cx="42339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481880" y="2971800"/>
            <a:ext cx="976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From Food 94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2755800"/>
            <a:ext cx="1146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Added at Table 5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7560" y="1913040"/>
            <a:ext cx="1325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Tap Wa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4970520"/>
            <a:ext cx="3429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ources of Sodium Intake Ages 2 and over, 20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733920"/>
            <a:ext cx="1779840" cy="75060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굴림"/>
              </a:rPr>
              <a:t>From Supp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굴림"/>
              </a:rPr>
              <a:t>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11640" y="4844880"/>
            <a:ext cx="1447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7480" y="2579760"/>
            <a:ext cx="32036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85800" y="2022480"/>
          <a:ext cx="3809880" cy="27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2480"/>
                    <a:ext cx="38098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297000" y="16905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2720" y="20098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56200">
            <a:off x="6570360" y="221904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6421320" y="2344320"/>
            <a:ext cx="10620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1627200"/>
            <a:ext cx="228600" cy="22860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0" y="1609560"/>
            <a:ext cx="2806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88-94       2003-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1623960"/>
            <a:ext cx="226800" cy="231840"/>
          </a:xfrm>
          <a:prstGeom prst="rect">
            <a:avLst/>
          </a:prstGeom>
          <a:solidFill>
            <a:srgbClr val="9933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400" y="1676520"/>
            <a:ext cx="44280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828800" y="124776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9986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695920"/>
            <a:ext cx="693432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 Institute of Medicine, National Academies, Food and Nutrition Board, Dietary Reference Intakes for Water, Potassium, Sodium, Chloride, and Sulfate, 2004.  ** Statistically unreli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Data are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for 2 years and over excluding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and a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Total potassium intake is from food and supplements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spondents were asked to select only one race prior to 1999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757760" y="1447920"/>
          <a:ext cx="4233960" cy="333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7760" y="1447920"/>
                    <a:ext cx="42339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162920" y="2679840"/>
            <a:ext cx="1143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ood 99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4840200"/>
            <a:ext cx="3886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Sources of Potassium Intake Ages 2 and over, 2003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89880" y="441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05640" y="441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0360" y="193680"/>
            <a:ext cx="84027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Potass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048120"/>
            <a:ext cx="1770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rom Supplements  0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9200" y="47052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White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1640" y="4640400"/>
            <a:ext cx="1447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760" y="52340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0% of Adequate Intake*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09480" y="5239800"/>
            <a:ext cx="4038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787320" y="2268360"/>
          <a:ext cx="7920000" cy="28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268360"/>
                    <a:ext cx="792000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525680"/>
            <a:ext cx="4888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59000" y="2362320"/>
            <a:ext cx="673560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40"/>
            <a:ext cx="9144000" cy="9874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1554120"/>
            <a:ext cx="152280" cy="231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28760" y="1565280"/>
            <a:ext cx="152640" cy="23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185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84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943600"/>
            <a:ext cx="5227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Institute of Medicine, National Academies, Food and Nutrition Board, Dietary Reference Intakes for Calcium, Phosphorus, Magnesium, Vitamin D, and Fluoride, 199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Data exclud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regnant or lactating women and breast-fed childre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Data for total are for 2 years and over,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justed to the 2000 standard popula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Total calcium intake is from food, supplements and antacid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5480" y="6521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1558800"/>
            <a:ext cx="152640" cy="23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565280"/>
            <a:ext cx="152280" cy="233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1558800"/>
            <a:ext cx="152280" cy="233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61240" y="50626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        Female                              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0360" y="152280"/>
            <a:ext cx="8402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Total Usual Calcium Int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9240" y="149076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92200" y="14907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2-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166356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149076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-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32240" y="149076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40-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73720" y="14907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6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929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153120" y="1251000"/>
            <a:ext cx="1440" cy="23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09000" y="1544760"/>
            <a:ext cx="1707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47080" y="541008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0% of Adequate Intake*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9280" y="5415120"/>
            <a:ext cx="68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-182520" y="1452600"/>
          <a:ext cx="49831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1452600"/>
                    <a:ext cx="49831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392720" y="18097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56200">
            <a:off x="6570360" y="2018880"/>
            <a:ext cx="763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6421320" y="2144520"/>
            <a:ext cx="10656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760" y="556272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emales 51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12320" y="55627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les 51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495680" y="1528920"/>
          <a:ext cx="4448160" cy="38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28920"/>
                    <a:ext cx="444816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521400"/>
            <a:ext cx="9144000" cy="3366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20360" y="652140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12600" y="6613560"/>
            <a:ext cx="48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urce: National Health and Nutrition Examination Survey, N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1523880"/>
            <a:ext cx="22636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Sup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4800600"/>
            <a:ext cx="160200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rom Ant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9160" y="152280"/>
            <a:ext cx="891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Sources of Calcium Intake, 2003-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30510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Food 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3233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11400" y="4419720"/>
            <a:ext cx="10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92840" y="323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62920" y="30510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om Food 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1219320"/>
            <a:ext cx="83822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Weight status objectives for children,  adolescents and adults moved away from their target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Fruit, vegetable and grain objectives, total usual sodium intake showed little or no progres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usual calcium intake moved toward the targe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he weight status and diets of Americans remain an important public health and economic concer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8600" y="1608120"/>
            <a:ext cx="3505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76320" indent="-97632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Moved Towar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11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Total calcium in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8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890640"/>
            <a:ext cx="3505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14400" indent="-91440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Target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No Obj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3640"/>
            <a:ext cx="49528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Moved Away from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althy weigh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in ad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-2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esit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in adul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</a:rPr>
              <a:t>9-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3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</a:rPr>
              <a:t>Overweight or obesity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, 6-19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9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 calories from total f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2b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3-4 ye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2c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non-pregnant females 12-49 yea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3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nemia in low-income pregnant females in 3rd trime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7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Diet and nutrition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7938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76320"/>
            <a:ext cx="9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rogress Toward 2010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2532240"/>
            <a:ext cx="3505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76320" indent="-9763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Little or No Progres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4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owth retarda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among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-incom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childr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5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Fruit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6. 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Vegetable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7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Grain product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8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 calories from saturated f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19-10.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Tahoma"/>
                <a:ea typeface="굴림"/>
              </a:rPr>
              <a:t>Total sodium in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76320" indent="-97632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7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9-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a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, 1–2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4952880"/>
            <a:ext cx="464832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No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4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ron deficiency in pregnant fe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4343400"/>
            <a:ext cx="4648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Baselin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6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orksite couns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5773680"/>
            <a:ext cx="4648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039680" indent="-1039680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굴림"/>
              </a:rPr>
              <a:t>Deleted at Midcourse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9680" indent="-103968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-15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als and snacks at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624720"/>
            <a:ext cx="9144000" cy="303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169920" y="6624720"/>
            <a:ext cx="748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cent of targeted change achieved is between -10% and 10%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, or change not statistically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3680"/>
            <a:ext cx="7848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Nutrition and Over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36240" y="1265400"/>
            <a:ext cx="83502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iet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is associated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m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verweight and obe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0440" indent="-460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iet-related conditions contribut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d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matur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stantial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5920" indent="-619200">
              <a:lnSpc>
                <a:spcPct val="80000"/>
              </a:lnSpc>
              <a:spcBef>
                <a:spcPts val="700"/>
              </a:spcBef>
              <a:buClr>
                <a:srgbClr val="c09e4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st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14400" y="1857240"/>
            <a:ext cx="7238880" cy="45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ancy Crane, F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arah Cusick, NCCDPHP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Kevin Dodd, NCI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Joseph Goldman, ARS/US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Van Hubbard, DNRC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Clifford Johnson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Margaret McDowell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Kathryn McMurry, OD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lanna Moshfegh, ARS/US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Mark Nord, ERS/US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Barbara Schneeman, F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Bettylou Sherry, NCCDPHP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amela Starke-Reed, DNRC/N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Jean Williams, NCHS/C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9144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ahoma"/>
                <a:ea typeface="굴림"/>
              </a:rPr>
              <a:t>Data Contributors and 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Tahoma"/>
                <a:ea typeface="굴림"/>
              </a:rPr>
              <a:t>Federal Interagency Work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76320"/>
            <a:ext cx="72388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67752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9000" y="1859040"/>
            <a:ext cx="883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gress review data and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n be found on the web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5360" y="4191120"/>
            <a:ext cx="8766360" cy="7617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c09e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http://www.cdc.gov/nchs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hphome.ht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523880"/>
            <a:ext cx="784872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3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Overweight or obesit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in children and adolesc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5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ruit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6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Vegetable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9-7. 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rain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 product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19-10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sodium inta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34960" indent="-143496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434960"/>
                <a:tab algn="l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19-11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굴림"/>
              </a:rPr>
              <a:t>Total calcium intak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98960" y="5943600"/>
            <a:ext cx="1537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945040"/>
            <a:ext cx="154080" cy="14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943600"/>
            <a:ext cx="15408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877000"/>
            <a:ext cx="1295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mpro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5867280"/>
            <a:ext cx="1676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tting w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875200"/>
            <a:ext cx="24908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ttle or n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rogres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5867280"/>
            <a:ext cx="6324480" cy="32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4720" y="3944880"/>
            <a:ext cx="1461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02480" y="2803680"/>
            <a:ext cx="14580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67520" y="2236680"/>
            <a:ext cx="1461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3379680"/>
            <a:ext cx="1461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8960" y="5086440"/>
            <a:ext cx="1461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95120"/>
            <a:ext cx="784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Highlighted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4511520"/>
            <a:ext cx="14616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33984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cent of targeted change achieved is between -10% and 10%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굴림"/>
              </a:rPr>
              <a:t>, or change not statistically signific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62120" y="2041560"/>
          <a:ext cx="78991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41560"/>
                    <a:ext cx="78991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49544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494000"/>
            <a:ext cx="304920" cy="23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1441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20120" y="1424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6520" y="142884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1430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1779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96160"/>
            <a:ext cx="9144000" cy="8967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75280"/>
            <a:ext cx="64008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= 95% confidence interval. Overweight is defined for ages 6-19 years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-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pecific 95th percentile from the 2000 CDC Growth Charts for the United St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Respondents were asked to select only one race prior to 1999. 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94440" y="64450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6002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6600" y="5292720"/>
            <a:ext cx="766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White       Black     Mexican         Female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760" y="162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4853160"/>
            <a:ext cx="70484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62120" y="2041560"/>
          <a:ext cx="78991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41560"/>
                    <a:ext cx="78991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149544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494000"/>
            <a:ext cx="304920" cy="23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441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0120" y="14241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6520" y="142884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11430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1779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59600"/>
            <a:ext cx="9144000" cy="7333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141960"/>
            <a:ext cx="6248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 Statistically unreliable.  ** Baseline data are for 1991-94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= 95% confidence interval. Overweight is defined for ages 6-19 years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-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pecific 95th percentile from the 2000 CDC Growth Charts for the United State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 Higher income is defined as &gt; 130 % poverty threshold, and lower as ≤ 130%.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94440" y="64450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3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16002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6600" y="5254560"/>
            <a:ext cx="76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                 Higher        Lower                 With        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Income                              Disabilities**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760" y="162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3360" y="4853160"/>
            <a:ext cx="69962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580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55785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70320" y="4896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2120" y="1981080"/>
          <a:ext cx="800244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244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62120" y="6248520"/>
            <a:ext cx="804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3-67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1971-74  1976-80                   1988-1994                      2003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66-70                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280" y="1614600"/>
            <a:ext cx="15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7440" y="1644480"/>
            <a:ext cx="1777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0120" y="137160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1828800"/>
            <a:ext cx="26064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94480" y="14065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4920" y="6110280"/>
            <a:ext cx="6324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*Data for 1966-70 are for adolescents 12-17 years of 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Overweight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gender-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g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-specific 95th percentile from th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00 CDC Growth Charts for the United Sta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Examination Surveys II (ages 6-11) and III (ages 12-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), Nation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lth and Nutrition Examination Surveys I, II, III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9120" y="652140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3a,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7792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671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657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21196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3852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870200" y="51069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67480" y="510552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270400"/>
            <a:ext cx="804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3-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5       1971-74  1976-80                   1988-1994                      2003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66-70*                   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60640" y="4859280"/>
            <a:ext cx="706896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49120"/>
            <a:ext cx="8686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ild and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9200" y="2009880"/>
            <a:ext cx="166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 12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 6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12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6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42200" y="2203560"/>
            <a:ext cx="2635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40400" y="2479680"/>
            <a:ext cx="265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0400" y="2746440"/>
            <a:ext cx="2653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5080" y="3017880"/>
            <a:ext cx="260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00" y="1434960"/>
            <a:ext cx="4888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Map of the United States"/>
          <p:cNvPicPr/>
          <p:nvPr/>
        </p:nvPicPr>
        <p:blipFill>
          <a:blip r:embed="rId1"/>
          <a:stretch/>
        </p:blipFill>
        <p:spPr>
          <a:xfrm>
            <a:off x="304920" y="1455840"/>
            <a:ext cx="4047840" cy="2795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Map of the United States"/>
          <p:cNvPicPr/>
          <p:nvPr/>
        </p:nvPicPr>
        <p:blipFill>
          <a:blip r:embed="rId2"/>
          <a:stretch/>
        </p:blipFill>
        <p:spPr>
          <a:xfrm>
            <a:off x="4352760" y="2973240"/>
            <a:ext cx="4438800" cy="3065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01720" y="1182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68800" y="2851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920" y="0"/>
            <a:ext cx="9144000" cy="990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Prevalence of Adolescent Over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365880"/>
            <a:ext cx="9144000" cy="4921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96040"/>
            <a:ext cx="624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ote: Data are for high school students in grade 9 – 12.  Overweight is defined as ≥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95th percentile for body mass index, by age and sex, on the basis of reference data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 self-reported weight and heigh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Source: Youth Risk Behavior Survey, NCCDPHP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787320" y="2031840"/>
          <a:ext cx="792000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31840"/>
                    <a:ext cx="792000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8662680" y="29638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149220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92920" y="1219320"/>
            <a:ext cx="216036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40"/>
            <a:ext cx="9144000" cy="100656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27360" y="1533600"/>
            <a:ext cx="304920" cy="23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1531800"/>
            <a:ext cx="304920" cy="233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91320" y="1461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1988-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91520" y="1461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03-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90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1984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167652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83280"/>
            <a:ext cx="9144000" cy="77472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68600" y="6440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289160"/>
            <a:ext cx="48888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226120"/>
            <a:ext cx="235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30800" y="557676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                                               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5621400"/>
            <a:ext cx="33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621400"/>
            <a:ext cx="33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83280"/>
            <a:ext cx="7315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I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95% confidence interval. Data are for ages 20 years and over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adjusted to the 2000 standard population. Obesity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0.0. Respondents were asked to select only one race prior to 1999. For 1999 and later years, respondents were asked to select one or more races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For all years, the categories black and white include persons who reported only one racial group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exclude persons of Hispanic origin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ersons of Mexican-American origin may be any race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and Nutrition Examination Survey, NCHS, CDC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37280" y="125424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99040" y="4384800"/>
            <a:ext cx="31813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06360" y="4384800"/>
            <a:ext cx="31813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440" y="166680"/>
            <a:ext cx="79120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ult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굴림"/>
              </a:rPr>
              <a:t>Obe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76080" y="5108400"/>
            <a:ext cx="127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222880"/>
            <a:ext cx="2351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White        B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2280" y="5105520"/>
            <a:ext cx="127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ex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ends in Adult Obe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828800"/>
          <a:ext cx="761976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1976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38080" y="5219640"/>
            <a:ext cx="7983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-6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 1976-80                 1988-94                     2003-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1971-74                                                        1999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0672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112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80248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364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31376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918560" y="5067360"/>
            <a:ext cx="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219720"/>
            <a:ext cx="9144000" cy="63828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219720"/>
            <a:ext cx="63244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ote: Data are for ages 20 years and over,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ge adjusted to the 2000 standard population. Obesity is defined as BMI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30.0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National Health Examination Survey, Nationa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alth and Nutrition Examination Surveys I, II, III and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National Health and Nutrition Examination Survey, 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S, CD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68600" y="64404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. 19-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1049400"/>
          </a:xfrm>
          <a:prstGeom prst="rect">
            <a:avLst/>
          </a:prstGeom>
          <a:solidFill>
            <a:srgbClr val="ffe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2860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rends in Adult Obe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425840"/>
            <a:ext cx="647712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2120" y="1644480"/>
            <a:ext cx="1710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2010 Target: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97480" y="1371600"/>
            <a:ext cx="2160720" cy="2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crease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1828800"/>
            <a:ext cx="228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2200" y="1406520"/>
            <a:ext cx="0" cy="2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8120" y="198108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444760"/>
            <a:ext cx="228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165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690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289160"/>
            <a:ext cx="4888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35640" y="2705040"/>
            <a:ext cx="2174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20:33:00Z</dcterms:created>
  <dc:creator>Elizabeth Jackson</dc:creator>
  <dc:description/>
  <dc:language>en-US</dc:language>
  <cp:lastModifiedBy>sah4</cp:lastModifiedBy>
  <dcterms:modified xsi:type="dcterms:W3CDTF">2008-04-30T14:34:38Z</dcterms:modified>
  <cp:revision>1477</cp:revision>
  <dc:subject/>
  <dc:title>PowerPoint Presentation</dc:title>
</cp:coreProperties>
</file>