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E37935-FBFA-4398-B2CA-9E71A4773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6C4EA5-A0F2-40B9-B477-55AC2C9B1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 2003-04, there was little or no progress in meeting the objectives for fruit, vegetable, and grain consumption compared to the 1988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994 baselin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.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0% consumed 2 servings of fruit, falling short of the 2010 target of 75%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505446-4992-4140-BDAE-644375F22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mericans had greater difficulty meeting the recommendation of 1/3 servings from dark green/orange vegetables (9%) than 3+ servings of total vegetables (47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mericans had greater difficulty meeting the recommendation of 3+ servings from whole grains (3%) than 6+ servings of total grains (54%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03EA6D-050F-49A5-AA46-27C7F1B9D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ive 19-6 aims to increase the proportion of Americans who consume at least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1/3 of their vegetables from dark green or orange vegetabl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portion of vegetable servings that are dark green or orang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is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% for children aged 12-19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and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% for Adults aged 20 years and ov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63162E-9563-40B2-B0A8-E41D8E4E9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urrent dietary guidance recommends that Americans consume at least half their grains from whole grai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s slide shows that intake of whole grains is very low relative to total grain product consumption for both youth and adult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7% for children aged 12-19, 10% for Adults aged 20 years and over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95F8C1-DACB-4DD0-8A07-20CF06E0D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creasing sodium intake may reduce the risk of elevated blood pressu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 2003-04, there was little or no progress in reducing Americans’ daily consumption of sodium to 2400 mg or less; only 13% met this recommendation compared with 15% in 1988-94 baseli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estimates of total sodium intake include sodium from food, salt added at the table, tap water, and dietary supplements.  As might be expected, food contributed the most sodiu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(94.2%) -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th other reports noting that processed foods contribute most of that. Salt use at the table contributed a small but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consequential amoun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(5.2%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with very little sodium contributed by tap wat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(.6%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or dietary supplement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(0%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A1015F-AC19-44F4-888B-19FDF6A94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urrent dietary guidance states that another dietary measure to lower blood pressure is to consume a diet rich in potassium.  Consequently, the work group decided to look at Americans’ intake of potassium in relation to recommendation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s slide indicates that potassium intake decreased in the last two decades, and that in 2003-04---very few Americans had potassium intakes above the Adequate Intake values established by the Institute of Medicin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t also shows that very little potassium was contributed by dietary suppl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urrent dietary guidance recommends that potassium come from food sources, and identify fruits and vegetable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- i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cluding leafy green vegetables, fruit from vines, and root vegetable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as rich in potassium.  It may be noted that the relatively low potassium intakes are consistent with majority of Americans not meeting recommendations for fruit and vegetable consump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930158-2A92-4C68-BB95-AA5DE63A2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33120" y="4414320"/>
            <a:ext cx="5143320" cy="472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ive 19-11 is to increase the proportion of people 2+ y who meet dietary recommendations for calciu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 preparing for this progress review, the work group changed the operational definition for “meet dietary recommendations for calcium” from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77%  AI to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100% AI (Refer to Tracking HP updates for more informatio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lcium intake increased from 1988-94 to 2003-04, but still the majority of people did not have intakes above Adequate Intake values.  Female adolescents have the lowest calcium intakes compared to recommend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028596-99FA-44FA-9C22-93FAB9559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contribution of dietary supplements to total calcium intake varied by age and gender, with the greatest contribution for women 5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and older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percent of calcium intake by females aged 51+ that is from food (66%), from supplements (32%) and from antacids (2%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percent of calcium intake by males aged 51+ that is from food (83%), from supplements (15%) and from antacids (3%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ubstantial contribution of dietary supplements to total calcium intake for older women illustrates the importance of collecting data on nutrient intake fro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all sources including dietar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uppl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these older women and men, only a small amount of calcium came from antaci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61760" y="4416480"/>
            <a:ext cx="5314680" cy="4651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teragency work group for this focus area selected 6 objectives to high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3 which aims to reduce the proportion of children and adolescents who are overweight or obes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5, 6, &amp; 7 which aim to increase the proportion of people 2+ years who meet objectives for fruit, vegetable and grain consumptio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10 which aims to increase the proportion of people 2+ years who consume 2400 mg or less of sodium daily;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11 which aims to increase the proportion of people 2+ years who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 meet dietary recommendations for calc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Overall progre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3  Overweight or obesity in children and adolescents, getting w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5  Fruit consumption, little or no pro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6  Vegetable consumption, little or no pro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7  Grain product consumption, little or no pro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10  Total sodium intake, little or no pro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11  Total calcium intake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impro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446663-3AFE-4A06-A754-041A0D9CE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bstantial increase from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11% in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988-94 to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17% in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-06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ving away from 2010 target of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crease in overweight f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all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 race/ethnic groups which can be assessed by NHANE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 2003-06, 22% of black and Mexican American children and adolescents were overweight compared to 15% of non-Hispanic whit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crease occurred for both males and fema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5CC1CB-4212-4B94-8E34-AA165F8C6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crease in overweight occurred with both higher and lower income level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 2003-04, more lower income youth were overweight (20%) compared to higher-income (16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 2003-04 more youth with disabilities were overweight (28%) compared with those without disabilities (17%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revalence of overweight among children and adolescents remained at or below the 2010 target of 5% until 1976-80, when it began a sharp increas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ps indicate increas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in overweight among adolescents, grade 9-12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om 2003 to 200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ost states, adolescent overweight appears a significant concern.  In 2005, only 4 of th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39 states with data reported that less than 10 percent of high school students were overwei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36EE53-A7BE-4C0A-88A6-811B059CE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valence of adult obesity increased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or all 3 race/ethnic groups which can be assessed by NHANE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Among females, b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ck non-Hispanic females had the highest prevalence of 53%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in 2003-06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compared to 32% of white non-Hispanic fem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Among males, prevalence of obesity in 2003-06 ranged from 29% in Mexican American to 35% in non-Hispanic blac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Similar to a trend observed among children and adolescents, prevalence of obesity among adults showed a sharp increase beginning 1976-80.  Prior to 1976-80, prevalence of obesity among adults remained at or below the 2010 target of 15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127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201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76120" y="243000"/>
          <a:ext cx="1208160" cy="12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243000"/>
                    <a:ext cx="120816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7807320" y="314280"/>
          <a:ext cx="1066680" cy="101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07320" y="314280"/>
                    <a:ext cx="1066680" cy="1011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c09eb2"/>
                    </a:outerShdw>
                  </a:effectLst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Focus Area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굴림"/>
              </a:rPr>
              <a:t>19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Nutrition and Overweight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rogress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5486400"/>
          <a:ext cx="1204920" cy="12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486400"/>
                    <a:ext cx="120492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135800" y="3884760"/>
            <a:ext cx="6872400" cy="19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Edward J. Sondik</a:t>
            </a:r>
            <a:br>
              <a:rPr sz="3600"/>
            </a:b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굴림"/>
              </a:rPr>
              <a:t>National Center for Health Statistic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pril 3,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7170840" y="5715000"/>
            <a:ext cx="166824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739800" y="2141640"/>
          <a:ext cx="80233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2141640"/>
                    <a:ext cx="80233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314280" y="176688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92720" y="20098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56200">
            <a:off x="6570360" y="2219040"/>
            <a:ext cx="763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6421320" y="2344320"/>
            <a:ext cx="106200" cy="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5334120"/>
            <a:ext cx="80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uit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: 2+ servings             Vegetables                           Gra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400" y="1373040"/>
            <a:ext cx="442800" cy="42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3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69960" y="1677960"/>
            <a:ext cx="320760" cy="231840"/>
          </a:xfrm>
          <a:prstGeom prst="rect">
            <a:avLst/>
          </a:prstGeom>
          <a:solidFill>
            <a:srgbClr val="b8964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89680" y="1677960"/>
            <a:ext cx="320400" cy="231840"/>
          </a:xfrm>
          <a:prstGeom prst="rect">
            <a:avLst/>
          </a:prstGeom>
          <a:solidFill>
            <a:srgbClr val="9933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32280" y="1677960"/>
            <a:ext cx="320760" cy="231840"/>
          </a:xfrm>
          <a:prstGeom prst="rect">
            <a:avLst/>
          </a:prstGeom>
          <a:solidFill>
            <a:srgbClr val="33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12960" y="1677960"/>
            <a:ext cx="320760" cy="231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3520" y="100080"/>
            <a:ext cx="8575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Fruits, Vegetables and Grains Consumption, 2003-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943600"/>
            <a:ext cx="9144000" cy="93816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10280" y="62485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s. 19-5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-6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&amp; 19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600" y="5950080"/>
            <a:ext cx="67500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* Statistically unreliabl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e: I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95% confidence interva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ata a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for 2 years and over exclud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regnant or lactating women and breast-fed childre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, and a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justed to the 2000 standard population. One serving has been calculated as two-thirds of a standard serving for all children age 2-3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  The categories b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ck and whit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includes persons who reported only one racial group 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xclude persons of Hispanic origin. Persons of Mexican-American origin may be any ra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National Health and Nutrition Examination Survey, 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S, C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02400" y="1339920"/>
            <a:ext cx="216072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762600" y="1347840"/>
            <a:ext cx="1800" cy="23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63720" y="1646280"/>
            <a:ext cx="3211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       White       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83080" y="1523880"/>
            <a:ext cx="1379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exican Amer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06800" y="5576760"/>
            <a:ext cx="460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  <a:ea typeface="굴림"/>
              </a:rPr>
              <a:t>3+ Servings                              6+ Servin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739800" y="2141640"/>
          <a:ext cx="80233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2141640"/>
                    <a:ext cx="80233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314280" y="176688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92720" y="20098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927000" y="2079000"/>
            <a:ext cx="2273400" cy="12708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56200">
            <a:off x="6570360" y="2219040"/>
            <a:ext cx="763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6421320" y="2344320"/>
            <a:ext cx="106200" cy="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5334120"/>
            <a:ext cx="80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uit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: 2+ servings   Vegetables: 3+ servings   Grains: 6+ serv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605040" y="3130560"/>
            <a:ext cx="2273400" cy="1238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47040" y="1812960"/>
            <a:ext cx="231480" cy="7452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36760" y="51055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*   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98640" y="51055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6400" y="1373040"/>
            <a:ext cx="442800" cy="42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3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400800" y="3130560"/>
            <a:ext cx="2273400" cy="1238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9960" y="1677960"/>
            <a:ext cx="320760" cy="231840"/>
          </a:xfrm>
          <a:prstGeom prst="rect">
            <a:avLst/>
          </a:prstGeom>
          <a:solidFill>
            <a:srgbClr val="b8964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1679400"/>
            <a:ext cx="1770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10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89680" y="1677960"/>
            <a:ext cx="320400" cy="231840"/>
          </a:xfrm>
          <a:prstGeom prst="rect">
            <a:avLst/>
          </a:prstGeom>
          <a:solidFill>
            <a:srgbClr val="9933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32280" y="1677960"/>
            <a:ext cx="320760" cy="231840"/>
          </a:xfrm>
          <a:prstGeom prst="rect">
            <a:avLst/>
          </a:prstGeom>
          <a:solidFill>
            <a:srgbClr val="33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12960" y="1677960"/>
            <a:ext cx="320760" cy="231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3520" y="100080"/>
            <a:ext cx="8575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Fruits, Vegetables and Grains Consumption, 2003-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5943600"/>
            <a:ext cx="9144000" cy="93816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10280" y="62485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s. 19-5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-6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&amp; 19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600" y="5950080"/>
            <a:ext cx="67500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* Statistically unreliabl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e: I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95% confidence interva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ata a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for 2 years and over exclud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regnant or lactating women and breast-fed childre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, and a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justed to the 2000 standard population. One serving has been calculated as two-thirds of a standard serving for all children age 2-3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  The categories b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ck and whit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includes persons who reported only one racial group 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xclude persons of Hispanic origin. Persons of Mexican-American origin may be any ra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National Health and Nutrition Examination Survey, 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S, C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02400" y="1339920"/>
            <a:ext cx="216072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762600" y="1347840"/>
            <a:ext cx="1800" cy="23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3720" y="1646280"/>
            <a:ext cx="3211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       White       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83080" y="1523880"/>
            <a:ext cx="1379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exican Amer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59000" y="5576760"/>
            <a:ext cx="588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  <a:ea typeface="굴림"/>
              </a:rPr>
              <a:t>With 1/3 Dark Green/Orange     With 3+ Whole Gra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4875120" y="2108160"/>
          <a:ext cx="434520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5120" y="2108160"/>
                    <a:ext cx="43452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4392720" y="18097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-76320" y="2077920"/>
          <a:ext cx="4467240" cy="362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2077920"/>
                    <a:ext cx="446724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6480" y="6377040"/>
            <a:ext cx="9150480" cy="48096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22600" y="647712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. 19-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-12600" y="6377040"/>
            <a:ext cx="4887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Notes: Excludes pregnant or lactating women and breast-fed children. One serving has been calculated as two-thirds of a standard serving for all children age 2-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Source: National Health and Nutrition Examination Survey, 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S, C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84880" y="4140360"/>
            <a:ext cx="13161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 Unicode MS"/>
              </a:rPr>
              <a:t>Tomatoes 2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75520" y="2654280"/>
            <a:ext cx="14968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 Unicode MS"/>
              </a:rPr>
              <a:t>Other vegetables 3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56560" y="3276720"/>
            <a:ext cx="12351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 Unicode MS"/>
              </a:rPr>
              <a:t>Legumes 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4444920"/>
            <a:ext cx="13716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 Unicode MS"/>
              </a:rPr>
              <a:t>Potatoes 2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86520" y="3633840"/>
            <a:ext cx="817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8240" y="563868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ldren 2-19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43360" y="563868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ults 20 years and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3565440"/>
            <a:ext cx="13158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 Unicode MS"/>
              </a:rPr>
              <a:t>Tomatoes 2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49320" y="2637000"/>
            <a:ext cx="14972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 Unicode MS"/>
              </a:rPr>
              <a:t>Other vegetables 2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6120" y="2463840"/>
            <a:ext cx="12348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 Unicode MS"/>
              </a:rPr>
              <a:t>Legumes 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49320" y="4432320"/>
            <a:ext cx="1143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 Unicode MS"/>
              </a:rPr>
              <a:t>Potatoes 3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46440" y="4505400"/>
            <a:ext cx="1839960" cy="8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Dark green or orange vege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52280"/>
            <a:ext cx="8596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oportion of Vegetable Servings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2003-04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27400" y="3643200"/>
            <a:ext cx="817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22480" y="1254240"/>
            <a:ext cx="32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33%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ark gree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or orange vege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392720" y="18097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256200">
            <a:off x="6570360" y="2018880"/>
            <a:ext cx="763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6421320" y="2144520"/>
            <a:ext cx="106560" cy="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2640" y="556272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ldren 2-19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43360" y="55627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ults 20 years and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5160" y="1560600"/>
          <a:ext cx="4735440" cy="42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0" y="1560600"/>
                    <a:ext cx="473544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2860560" y="1295280"/>
            <a:ext cx="33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50%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le g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6394320"/>
            <a:ext cx="9144000" cy="4921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9144000" cy="123984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oportion of Grain Servings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2003-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008200" y="652140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. 19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-12600" y="6377040"/>
            <a:ext cx="4832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Notes: Excludes pregnant or lactating women and breast-fed children. One serving has been calculated as two-thirds of a standard serving for all children age 2-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Source: National Health and Nutrition Examination Survey, 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S, C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3336840"/>
            <a:ext cx="173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Other grains 9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38760" y="4237200"/>
            <a:ext cx="1218960" cy="703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Whole g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38600" y="3462480"/>
            <a:ext cx="5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4114800" y="1720800"/>
          <a:ext cx="4876920" cy="387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720800"/>
                    <a:ext cx="487692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6724800" y="3352680"/>
            <a:ext cx="173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Other grains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43360" y="34624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685800" y="2178000"/>
          <a:ext cx="380988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78000"/>
                    <a:ext cx="38098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297000" y="1787400"/>
            <a:ext cx="13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92720" y="20098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256200">
            <a:off x="6570360" y="2219040"/>
            <a:ext cx="763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6421320" y="2344320"/>
            <a:ext cx="106200" cy="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1371600"/>
            <a:ext cx="228600" cy="228600"/>
          </a:xfrm>
          <a:prstGeom prst="rect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8200" y="1353960"/>
            <a:ext cx="5821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1988-94       2003-04       2010 Target: 6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1368360"/>
            <a:ext cx="226800" cy="231840"/>
          </a:xfrm>
          <a:prstGeom prst="rect">
            <a:avLst/>
          </a:prstGeom>
          <a:solidFill>
            <a:srgbClr val="9933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2400" y="1795320"/>
            <a:ext cx="44280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998640"/>
            <a:ext cx="216072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276720" y="1027080"/>
            <a:ext cx="1440" cy="23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78080" y="1465200"/>
            <a:ext cx="1875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0680" y="152280"/>
            <a:ext cx="8618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Total Usual Sodium Inta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6054840"/>
            <a:ext cx="9144000" cy="80316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6080" y="64627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s. 19-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054840"/>
            <a:ext cx="6504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Note: I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= 95% confidence interval. Data are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for 2 years and over excluding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pregnant or lactating women and breast-fed children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, and ar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ag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djusted to the 2000 standard population.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Total sodium intake is from food, supplements, tap water and salt added at table.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pondents were asked to select only one race prior to 1999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For 1999 and later years, respondents were asked to select one or more races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For all years, the categories black and white include persons who reported only one racial group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and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exclude persons of Hispanic origin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ersons of Mexican-American origin may be any race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ource: National Health and Nutrition Examination Survey, NCHS, CD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2120" y="5451480"/>
            <a:ext cx="3809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,400mg of Sodium or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89200" y="492120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Total      White 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968400" y="5439960"/>
            <a:ext cx="35272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5138640" y="1676520"/>
          <a:ext cx="4233960" cy="333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8640" y="1676520"/>
                    <a:ext cx="423396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7481880" y="2971800"/>
            <a:ext cx="976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From Food 94.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2755800"/>
            <a:ext cx="11462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dded at Table 5.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27560" y="1913040"/>
            <a:ext cx="13255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ap Wa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0.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10080" y="4970520"/>
            <a:ext cx="3429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Sources of Sodium Intake Ages 2 and over, 2003-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733920"/>
            <a:ext cx="1779840" cy="75060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  <a:ea typeface="굴림"/>
              </a:rPr>
              <a:t>From Supp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  <a:ea typeface="굴림"/>
              </a:rPr>
              <a:t>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11640" y="4844880"/>
            <a:ext cx="14475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ex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Amer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87480" y="2579760"/>
            <a:ext cx="32036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685800" y="2022480"/>
          <a:ext cx="3809880" cy="27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2480"/>
                    <a:ext cx="380988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297000" y="1690560"/>
            <a:ext cx="13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92720" y="20098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256200">
            <a:off x="6570360" y="2219040"/>
            <a:ext cx="763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5400000">
            <a:off x="6421320" y="2344320"/>
            <a:ext cx="106200" cy="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1627200"/>
            <a:ext cx="228600" cy="228600"/>
          </a:xfrm>
          <a:prstGeom prst="rect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0" y="1609560"/>
            <a:ext cx="28065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1988-94       2003-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8120" y="1623960"/>
            <a:ext cx="226800" cy="231840"/>
          </a:xfrm>
          <a:prstGeom prst="rect">
            <a:avLst/>
          </a:prstGeom>
          <a:solidFill>
            <a:srgbClr val="9933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2400" y="1676520"/>
            <a:ext cx="44280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4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4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76520" y="1219320"/>
            <a:ext cx="216036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828800" y="1247760"/>
            <a:ext cx="1440" cy="23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99864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5695920"/>
            <a:ext cx="693432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*  Institute of Medicine, National Academies, Food and Nutrition Board, Dietary Reference Intakes for Water, Potassium, Sodium, Chloride, and Sulfate, 2004.  ** Statistically unreliab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e: I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95% confidence interval. Data ar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for 2 years and over exclud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regnant or lactating women and breast-fed childre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, and a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justed to the 2000 standard population.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Total potassium intake is from food and supplements.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pondents were asked to select only one race prior to 1999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or 1999 and later years, respondents were asked to select one or more races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For all years, the categories black and white include persons who reported only one racial group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exclude persons of Hispanic origin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sons of Mexican-American origin may be any race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urce: National Health and Nutrition Examination Survey, NCHS, C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757760" y="1447920"/>
          <a:ext cx="4233960" cy="333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57760" y="1447920"/>
                    <a:ext cx="423396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7162920" y="2679840"/>
            <a:ext cx="11430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Food 99.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05520" y="4840200"/>
            <a:ext cx="3886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Sources of Potassium Intake Ages 2 and over, 2003-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89880" y="4419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05640" y="4419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0360" y="193680"/>
            <a:ext cx="84027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Total Usual Potassium Inta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00600" y="3048120"/>
            <a:ext cx="17701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From Supplements  0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89200" y="470520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Total      White 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11640" y="4640400"/>
            <a:ext cx="14475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ex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Amer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8760" y="523404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00% of Adequate Intake* or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09480" y="5239800"/>
            <a:ext cx="4038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787320" y="2268360"/>
          <a:ext cx="7920000" cy="28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2268360"/>
                    <a:ext cx="792000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8662680" y="2963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525680"/>
            <a:ext cx="488880" cy="38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59000" y="2362320"/>
            <a:ext cx="673560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240"/>
            <a:ext cx="9144000" cy="98748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71600" y="1554120"/>
            <a:ext cx="152280" cy="231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28760" y="1565280"/>
            <a:ext cx="152640" cy="23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1851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91320" y="1984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5943600"/>
            <a:ext cx="5227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* Institute of Medicine, National Academies, Food and Nutrition Board, Dietary Reference Intakes for Calcium, Phosphorus, Magnesium, Vitamin D, and Fluoride, 1997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e: I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95% confidence interval.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Data exclud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regnant or lactating women and breast-fed childre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 Data for total are for 2 years and over, 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justed to the 2000 standard popul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 Total calcium intake is from food, supplements and antacid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urce: National Health and Nutrition Examination Survey, NCHS, CDC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45480" y="6521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. 19-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1558800"/>
            <a:ext cx="152640" cy="23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565280"/>
            <a:ext cx="152280" cy="233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91120" y="1558800"/>
            <a:ext cx="152280" cy="233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61240" y="5062680"/>
            <a:ext cx="55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Total                     Female                                    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0360" y="152280"/>
            <a:ext cx="8402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Total Usual Calcium Inta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9240" y="149076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-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92200" y="149076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12-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19920" y="1663560"/>
            <a:ext cx="2286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52680" y="149076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0-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32240" y="149076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40-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73720" y="149076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6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92920" y="1219320"/>
            <a:ext cx="216036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153120" y="1251000"/>
            <a:ext cx="1440" cy="23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309000" y="1544760"/>
            <a:ext cx="1707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010 Target: 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47080" y="541008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00% of Adequate Intake* or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49280" y="5415120"/>
            <a:ext cx="68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-182520" y="1452600"/>
          <a:ext cx="498312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520" y="1452600"/>
                    <a:ext cx="49831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4392720" y="18097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256200">
            <a:off x="6570360" y="2018880"/>
            <a:ext cx="763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5400000">
            <a:off x="6421320" y="2144520"/>
            <a:ext cx="106560" cy="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2760" y="556272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emales 51 and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12320" y="556272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les 51 and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495680" y="1528920"/>
          <a:ext cx="4448160" cy="38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528920"/>
                    <a:ext cx="444816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6521400"/>
            <a:ext cx="9144000" cy="33660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920360" y="652140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. 19-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-12600" y="6613560"/>
            <a:ext cx="48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urce: National Health and Nutrition Examination Survey, NCHS, C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1523880"/>
            <a:ext cx="226368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rom Supp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9880" y="4800600"/>
            <a:ext cx="1602000" cy="703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rom Ant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9160" y="152280"/>
            <a:ext cx="891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Sources of Calcium Intake, 2003-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30510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rom Food 6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666880" y="3233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3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11400" y="4419720"/>
            <a:ext cx="10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92840" y="323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162920" y="305100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rom Food 8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57800" y="4419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0880" y="1219320"/>
            <a:ext cx="838224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4520" indent="-34452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Weight status objectives for children,  adolescents and adults moved away from their target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Fruit, vegetable and grain objectives, total usual sodium intake showed little or no progres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Total usual calcium intake moved toward the targe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The weight status and diets of Americans remain an important public health and economic concern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28600" y="1608120"/>
            <a:ext cx="350532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976320" indent="-976320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Moved Toward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19-11.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Total calcium int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18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Food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8600" y="890640"/>
            <a:ext cx="35053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914400" indent="-914400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Target 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No Obj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863640"/>
            <a:ext cx="495288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039680" indent="-1039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Moved Away from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1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althy weigh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in adul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9-2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besit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in adult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1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</a:rPr>
              <a:t>9-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3.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</a:rPr>
              <a:t>Overweight or obesity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, 6-19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9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 calories from total f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12b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Iron deficiency, 3-4 yea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12c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Iron deficiency, non-pregnant females 12-49 yea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13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Anemia in low-income pregnant females in 3rd trimes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17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Diet and nutrition couns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9144000" cy="79380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76320"/>
            <a:ext cx="914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Progress Toward 2010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2532240"/>
            <a:ext cx="35053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976320" indent="-9763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Little or No Progres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4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rowth retardatio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among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w-incom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childr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19-5.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Fruit 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19-6. 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Vegetable 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19-7.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Grain product 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8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 calories from saturated f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19-10.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Total sodium int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9-1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a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Iron deficiency, 1–2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4952880"/>
            <a:ext cx="464832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039680" indent="-1039680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No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14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Iron deficiency in pregnant fe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4343400"/>
            <a:ext cx="46483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039680" indent="-1039680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Baseline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16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Worksite couns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5773680"/>
            <a:ext cx="46483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039680" indent="-1039680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Deleted at Midcourse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15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eals and snacks at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6624720"/>
            <a:ext cx="9144000" cy="3031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-169920" y="6624720"/>
            <a:ext cx="748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cent of targeted change achieved is between -10% and 10%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, or change not statistically signific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93680"/>
            <a:ext cx="784872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굴림"/>
              </a:rPr>
              <a:t>Nutrition and Overwe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36240" y="1265400"/>
            <a:ext cx="83502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0440" indent="-460440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Diet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 is associated w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ome can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ype 2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verweight and obe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teopo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Diet-related conditions contribute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uced qualit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mature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stantial med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st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914400" y="1857240"/>
            <a:ext cx="7238880" cy="45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Nancy Crane, FD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Sarah Cusick, NCCDPHP/C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Kevin Dodd, NCI/NI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Joseph Goldman, ARS/USD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Van Hubbard, DNRC/NI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Clifford Johnson, NCHS/C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Margaret McDowell, NCHS/C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Kathryn McMurry, ODPH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Alanna Moshfegh, ARS/US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Mark Nord, ERS/US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Barbara Schneeman, FD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Bettylou Sherry, NCCDPHP/C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Pamela Starke-Reed, DNRC/NI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Jean Williams, NCHS/C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91440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ahoma"/>
                <a:ea typeface="굴림"/>
              </a:rPr>
              <a:t>Data Contributors and </a:t>
            </a:r>
            <a:br>
              <a:rPr sz="2800"/>
            </a:br>
            <a:r>
              <a:rPr b="1" lang="en-US" sz="2800" spc="-1" strike="noStrike">
                <a:solidFill>
                  <a:srgbClr val="993300"/>
                </a:solidFill>
                <a:latin typeface="Tahoma"/>
                <a:ea typeface="굴림"/>
              </a:rPr>
              <a:t>Federal Interagency Work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76320"/>
            <a:ext cx="72388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굴림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9677520" y="5334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9000" y="1859040"/>
            <a:ext cx="883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rogress review data and sl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an be found on the web a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5360" y="4191120"/>
            <a:ext cx="8766360" cy="76176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c09e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http://www.cdc.gov/nchs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hphome.ht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1523880"/>
            <a:ext cx="7848720" cy="38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434960" indent="-143496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434960"/>
                <a:tab algn="l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19-3.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Overweight or obesity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 in children and adolesc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43496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434960"/>
                <a:tab algn="l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19-5. 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Fruit consum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43496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434960"/>
                <a:tab algn="l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19-6. 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Vegetable consum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43496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434960"/>
                <a:tab algn="l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19-7. 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Grain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 product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 consum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43496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434960"/>
                <a:tab algn="l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19-10.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Total sodium intak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43496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434960"/>
                <a:tab algn="l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19-11.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Total calcium intak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98960" y="5943600"/>
            <a:ext cx="15372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5945040"/>
            <a:ext cx="154080" cy="144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5943600"/>
            <a:ext cx="15408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5877000"/>
            <a:ext cx="12956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mpro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5867280"/>
            <a:ext cx="16765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etting wo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5875200"/>
            <a:ext cx="24908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ttle or n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rogress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5867280"/>
            <a:ext cx="6324480" cy="32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24720" y="3944880"/>
            <a:ext cx="1461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02480" y="2803680"/>
            <a:ext cx="14580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67520" y="2236680"/>
            <a:ext cx="1461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3379680"/>
            <a:ext cx="1461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68960" y="5086440"/>
            <a:ext cx="14616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95120"/>
            <a:ext cx="784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Highlighted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4511520"/>
            <a:ext cx="1461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553080"/>
            <a:ext cx="9144000" cy="33984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cent of targeted change achieved is between -10% and 10%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, or change not statistically signific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62120" y="2041560"/>
          <a:ext cx="7899120" cy="32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41560"/>
                    <a:ext cx="789912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8662680" y="2963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7920" y="0"/>
            <a:ext cx="9144000" cy="9907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49120"/>
            <a:ext cx="86868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ild and Adolescent Overwe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1495440"/>
            <a:ext cx="304920" cy="23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1494000"/>
            <a:ext cx="304920" cy="233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1441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88-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20120" y="14241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03-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36520" y="1428840"/>
            <a:ext cx="1777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010 Target: 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1143000"/>
            <a:ext cx="216036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1177920"/>
            <a:ext cx="0" cy="2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96160"/>
            <a:ext cx="9144000" cy="89676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75280"/>
            <a:ext cx="64008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e: I= 95% confidence interval. Overweight is defined for ages 6-19 years as BMI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gender- 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age-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pecific 95th percentile from the 2000 CDC Growth Charts for the United Stat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Respondents were asked to select only one race prior to 1999. For 1999 and later years, respondents were asked to select one or more races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For all years, the categories black and white include persons who reported only one racial group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exclude persons of Hispanic origin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sons of Mexican-American origin may be any race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urce: National Health and Nutrition Examination Survey, NCHS, CDC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94440" y="64450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. 19-3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1600200"/>
            <a:ext cx="2286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36600" y="5292720"/>
            <a:ext cx="766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Total             White       Black     Mexican         Female      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America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760" y="1620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9200" y="1434960"/>
            <a:ext cx="48888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40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1160" y="4853160"/>
            <a:ext cx="70484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762120" y="2041560"/>
          <a:ext cx="7899120" cy="32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41560"/>
                    <a:ext cx="789912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8662680" y="2963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7920" y="0"/>
            <a:ext cx="9144000" cy="9907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49120"/>
            <a:ext cx="86868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ild and Adolescent Overwe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1495440"/>
            <a:ext cx="304920" cy="23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1494000"/>
            <a:ext cx="304920" cy="233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441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88-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20120" y="14241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03-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36520" y="1428840"/>
            <a:ext cx="1777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010 Target: 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1143000"/>
            <a:ext cx="216036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177920"/>
            <a:ext cx="0" cy="2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159600"/>
            <a:ext cx="9144000" cy="7333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141960"/>
            <a:ext cx="6248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* Statistically unreliable.  ** Baseline data are for 1991-94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e: I= 95% confidence interval. Overweight is defined for ages 6-19 years as BMI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gender- 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age-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pecific 95th percentile from the 2000 CDC Growth Charts for the United Stat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 Higher income is defined as &gt; 130 % poverty threshold, and lower as ≤ 130%.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urce: National Health and Nutrition Examination Survey, NCHS, CDC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94440" y="64450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. 19-3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1600200"/>
            <a:ext cx="2286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36600" y="5254560"/>
            <a:ext cx="766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Total                 Higher        Lower                 With        With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Income                              Disabilities**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760" y="1620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33360" y="4853160"/>
            <a:ext cx="69962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5580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557856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70320" y="4896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200" y="1434960"/>
            <a:ext cx="48888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40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762120" y="1981080"/>
          <a:ext cx="800244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00244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762120" y="6248520"/>
            <a:ext cx="8045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63-67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    1971-74  1976-80                   1988-1994                      2003-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1966-70                                                                        1999-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4280" y="1614600"/>
            <a:ext cx="15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7440" y="1644480"/>
            <a:ext cx="1777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010 Target: 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50120" y="1371600"/>
            <a:ext cx="216036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45080" y="1828800"/>
            <a:ext cx="26064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94480" y="1406520"/>
            <a:ext cx="0" cy="2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34920" y="6110280"/>
            <a:ext cx="6324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*Data for 1966-70 are for adolescents 12-17 years of ag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e: Overweight is defined as BMI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gender- 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specific 95th percentile from th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00 CDC Growth Charts for the United Stat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urce: National Health Examination Surveys II (ages 6-11) and III (ages 12-1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7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), Nationa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lth and Nutrition Examination Surveys I, II, III 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National Health and Nutrition Examination Survey, 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S, C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9120" y="652140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. 19-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3a,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177920" y="51069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67160" y="51069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65760" y="51069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8211960" y="51069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638520" y="51069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870200" y="51069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467480" y="510552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5270400"/>
            <a:ext cx="8045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63-6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5       1971-74  1976-80                   1988-1994                      2003-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1966-70*                                                                           1999-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60640" y="4859280"/>
            <a:ext cx="706896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80" y="0"/>
            <a:ext cx="9144000" cy="9907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49120"/>
            <a:ext cx="86868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ild and Adolescent Overwe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29200" y="2009880"/>
            <a:ext cx="166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ale 12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ale 6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Female 12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Female 6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42200" y="2203560"/>
            <a:ext cx="2635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40400" y="2479680"/>
            <a:ext cx="265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40400" y="2746440"/>
            <a:ext cx="26532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45080" y="3017880"/>
            <a:ext cx="260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00" y="1434960"/>
            <a:ext cx="48888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40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Map of the United States"/>
          <p:cNvPicPr/>
          <p:nvPr/>
        </p:nvPicPr>
        <p:blipFill>
          <a:blip r:embed="rId1"/>
          <a:stretch/>
        </p:blipFill>
        <p:spPr>
          <a:xfrm>
            <a:off x="304920" y="1455840"/>
            <a:ext cx="4047840" cy="2795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Map of the United States"/>
          <p:cNvPicPr/>
          <p:nvPr/>
        </p:nvPicPr>
        <p:blipFill>
          <a:blip r:embed="rId2"/>
          <a:stretch/>
        </p:blipFill>
        <p:spPr>
          <a:xfrm>
            <a:off x="4352760" y="2973240"/>
            <a:ext cx="4438800" cy="3065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01720" y="1182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68800" y="2851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7920" y="0"/>
            <a:ext cx="9144000" cy="9907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Prevalence of Adolescent Overwe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365880"/>
            <a:ext cx="9144000" cy="4921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296040"/>
            <a:ext cx="624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Note: Data are for high school students in grade 9 – 12.  Overweight is defined as ≥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95th percentile for body mass index, by age and sex, on the basis of reference data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 self-reported weight and heigh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Source: Youth Risk Behavior Survey, NCCDPHP, C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787320" y="2031840"/>
          <a:ext cx="792000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2031840"/>
                    <a:ext cx="792000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8662680" y="2963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37440" y="1492200"/>
            <a:ext cx="1893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010 Target: 1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92920" y="1219320"/>
            <a:ext cx="216036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40"/>
            <a:ext cx="9144000" cy="100656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27360" y="1533600"/>
            <a:ext cx="304920" cy="23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1531800"/>
            <a:ext cx="304920" cy="233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91320" y="14619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88-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91520" y="14619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03-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690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91320" y="1984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1676520"/>
            <a:ext cx="2286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083280"/>
            <a:ext cx="9144000" cy="7747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68600" y="644040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. 19-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289160"/>
            <a:ext cx="48888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226120"/>
            <a:ext cx="235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White       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30800" y="5576760"/>
            <a:ext cx="442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Female                                                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5621400"/>
            <a:ext cx="33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5621400"/>
            <a:ext cx="33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083280"/>
            <a:ext cx="7315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e: I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95% confidence interval. Data are for ages 20 years and over,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ge adjusted to the 2000 standard population. Obesity is defined as BMI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30.0. Respondents were asked to select only one race prior to 1999. For 1999 and later years, respondents were asked to select one or more races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For all years, the categories black and white include persons who reported only one racial group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exclude persons of Hispanic origin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sons of Mexican-American origin may be any race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urce: National Health and Nutrition Examination Survey, NCHS, CDC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37280" y="1254240"/>
            <a:ext cx="0" cy="24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99040" y="4384800"/>
            <a:ext cx="31813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06360" y="4384800"/>
            <a:ext cx="31813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440" y="166680"/>
            <a:ext cx="79120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dult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Obe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76080" y="5108400"/>
            <a:ext cx="1279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ex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Amer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5222880"/>
            <a:ext cx="235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White       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62280" y="5105520"/>
            <a:ext cx="1279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ex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Amer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rends in Adult Obe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62120" y="1828800"/>
          <a:ext cx="7619760" cy="34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619760" cy="34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38080" y="5219640"/>
            <a:ext cx="79837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60-6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                        1976-80                 1988-94                     2003-0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1971-74                                                        1999-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371600" y="50673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006720" y="50673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921120" y="50673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802480" y="50673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3649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313760" y="50673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918560" y="50673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219720"/>
            <a:ext cx="9144000" cy="63828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219720"/>
            <a:ext cx="63244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e: Data are for ages 20 years and over,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ge adjusted to the 2000 standard population. Obesity is defined as BMI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30.0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urce: National Health Examination Survey, Nationa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lth and Nutrition Examination Surveys I, II, III 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National Health and Nutrition Examination Survey, 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S, C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68600" y="644040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. 19-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104940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28600"/>
            <a:ext cx="77724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rends in Adult Obe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425840"/>
            <a:ext cx="647712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12120" y="1644480"/>
            <a:ext cx="1710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010 Target: 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97480" y="1371600"/>
            <a:ext cx="216072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1828800"/>
            <a:ext cx="2286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42200" y="1406520"/>
            <a:ext cx="0" cy="2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8120" y="1981080"/>
            <a:ext cx="10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Fem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444760"/>
            <a:ext cx="2286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21654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1690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289160"/>
            <a:ext cx="48888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35640" y="2705040"/>
            <a:ext cx="2174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20:33:00Z</dcterms:created>
  <dc:creator>Elizabeth Jackson</dc:creator>
  <dc:description/>
  <dc:language>en-US</dc:language>
  <cp:lastModifiedBy>sah4</cp:lastModifiedBy>
  <dcterms:modified xsi:type="dcterms:W3CDTF">2008-04-30T14:34:38Z</dcterms:modified>
  <cp:revision>1477</cp:revision>
  <dc:subject/>
  <dc:title>PowerPoint Presentation</dc:title>
</cp:coreProperties>
</file>