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8F2944-2803-4A4B-AAD6-0345BCF36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60440"/>
            <a:ext cx="9144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7840" y="154080"/>
          <a:ext cx="106668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5408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09eb2"/>
                    </a:outerShdw>
                  </a:effectLst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6000" y="3276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Focus Area 16:</a:t>
            </a:r>
            <a:br>
              <a:rPr sz="4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Maternal, Infant, and Child Health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Progress Review</a:t>
            </a:r>
            <a:r>
              <a:rPr b="1" lang="en-US" sz="3400" spc="-1" strike="noStrike">
                <a:solidFill>
                  <a:srgbClr val="000086"/>
                </a:solidFill>
                <a:latin typeface="Swis721 BT"/>
              </a:rPr>
              <a:t> </a:t>
            </a:r>
            <a:br>
              <a:rPr sz="3400"/>
            </a:br>
            <a:br>
              <a:rPr sz="4000"/>
            </a:br>
            <a:br>
              <a:rPr sz="2000"/>
            </a:b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7400" y="58924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6"/>
                </a:solidFill>
                <a:latin typeface="Swis721 BT"/>
              </a:rPr>
              <a:t>October 22, 200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62760" y="235080"/>
            <a:ext cx="8924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800760" y="5850000"/>
          <a:ext cx="196236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0760" y="5850000"/>
                    <a:ext cx="196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3680" y="5780160"/>
          <a:ext cx="1136520" cy="76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3680" y="5780160"/>
                    <a:ext cx="11365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732040" y="5661000"/>
            <a:ext cx="786960" cy="485640"/>
            <a:chOff x="2732040" y="5661000"/>
            <a:chExt cx="786960" cy="485640"/>
          </a:xfrm>
        </p:grpSpPr>
        <p:sp>
          <p:nvSpPr>
            <p:cNvPr id="187" name=""/>
            <p:cNvSpPr/>
            <p:nvPr/>
          </p:nvSpPr>
          <p:spPr>
            <a:xfrm>
              <a:off x="3347640" y="5945040"/>
              <a:ext cx="171360" cy="201600"/>
            </a:xfrm>
            <a:custGeom>
              <a:avLst/>
              <a:gdLst/>
              <a:ahLst/>
              <a:rect l="l" t="t" r="r" b="b"/>
              <a:pathLst>
                <a:path w="324" h="379">
                  <a:moveTo>
                    <a:pt x="0" y="128"/>
                  </a:moveTo>
                  <a:lnTo>
                    <a:pt x="36" y="255"/>
                  </a:lnTo>
                  <a:lnTo>
                    <a:pt x="38" y="318"/>
                  </a:lnTo>
                  <a:lnTo>
                    <a:pt x="136" y="379"/>
                  </a:lnTo>
                  <a:lnTo>
                    <a:pt x="164" y="314"/>
                  </a:lnTo>
                  <a:lnTo>
                    <a:pt x="324" y="214"/>
                  </a:lnTo>
                  <a:lnTo>
                    <a:pt x="255" y="90"/>
                  </a:lnTo>
                  <a:lnTo>
                    <a:pt x="59" y="0"/>
                  </a:lnTo>
                  <a:lnTo>
                    <a:pt x="62" y="9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58720" y="5830560"/>
              <a:ext cx="101520" cy="66960"/>
            </a:xfrm>
            <a:custGeom>
              <a:avLst/>
              <a:gdLst/>
              <a:ahLst/>
              <a:rect l="l" t="t" r="r" b="b"/>
              <a:pathLst>
                <a:path w="191" h="127">
                  <a:moveTo>
                    <a:pt x="68" y="127"/>
                  </a:moveTo>
                  <a:lnTo>
                    <a:pt x="161" y="124"/>
                  </a:lnTo>
                  <a:lnTo>
                    <a:pt x="191" y="59"/>
                  </a:lnTo>
                  <a:lnTo>
                    <a:pt x="95" y="29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33" y="95"/>
                  </a:lnTo>
                  <a:lnTo>
                    <a:pt x="68" y="127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8720" y="5830560"/>
              <a:ext cx="101520" cy="66960"/>
            </a:xfrm>
            <a:custGeom>
              <a:avLst/>
              <a:gdLst/>
              <a:ahLst/>
              <a:rect l="l" t="t" r="r" b="b"/>
              <a:pathLst>
                <a:path w="191" h="127">
                  <a:moveTo>
                    <a:pt x="68" y="127"/>
                  </a:moveTo>
                  <a:lnTo>
                    <a:pt x="161" y="124"/>
                  </a:lnTo>
                  <a:lnTo>
                    <a:pt x="191" y="59"/>
                  </a:lnTo>
                  <a:lnTo>
                    <a:pt x="95" y="29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33" y="95"/>
                  </a:lnTo>
                  <a:lnTo>
                    <a:pt x="68" y="127"/>
                  </a:lnTo>
                  <a:lnTo>
                    <a:pt x="68" y="127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2880" y="5898960"/>
              <a:ext cx="33120" cy="176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2"/>
                  </a:moveTo>
                  <a:lnTo>
                    <a:pt x="61" y="0"/>
                  </a:lnTo>
                  <a:lnTo>
                    <a:pt x="62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2880" y="5898960"/>
              <a:ext cx="33120" cy="176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2"/>
                  </a:moveTo>
                  <a:lnTo>
                    <a:pt x="61" y="0"/>
                  </a:lnTo>
                  <a:lnTo>
                    <a:pt x="62" y="30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11200" y="585288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42" y="1"/>
                  </a:lnTo>
                  <a:lnTo>
                    <a:pt x="52" y="8"/>
                  </a:lnTo>
                  <a:lnTo>
                    <a:pt x="60" y="18"/>
                  </a:lnTo>
                  <a:lnTo>
                    <a:pt x="63" y="29"/>
                  </a:lnTo>
                  <a:lnTo>
                    <a:pt x="61" y="42"/>
                  </a:lnTo>
                  <a:lnTo>
                    <a:pt x="54" y="52"/>
                  </a:lnTo>
                  <a:lnTo>
                    <a:pt x="44" y="57"/>
                  </a:lnTo>
                  <a:lnTo>
                    <a:pt x="33" y="61"/>
                  </a:lnTo>
                  <a:lnTo>
                    <a:pt x="19" y="59"/>
                  </a:lnTo>
                  <a:lnTo>
                    <a:pt x="11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1" y="20"/>
                  </a:lnTo>
                  <a:lnTo>
                    <a:pt x="9" y="10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11200" y="585288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42" y="1"/>
                  </a:lnTo>
                  <a:lnTo>
                    <a:pt x="52" y="8"/>
                  </a:lnTo>
                  <a:lnTo>
                    <a:pt x="60" y="18"/>
                  </a:lnTo>
                  <a:lnTo>
                    <a:pt x="63" y="29"/>
                  </a:lnTo>
                  <a:lnTo>
                    <a:pt x="61" y="42"/>
                  </a:lnTo>
                  <a:lnTo>
                    <a:pt x="54" y="52"/>
                  </a:lnTo>
                  <a:lnTo>
                    <a:pt x="44" y="57"/>
                  </a:lnTo>
                  <a:lnTo>
                    <a:pt x="33" y="61"/>
                  </a:lnTo>
                  <a:lnTo>
                    <a:pt x="19" y="59"/>
                  </a:lnTo>
                  <a:lnTo>
                    <a:pt x="11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1" y="20"/>
                  </a:lnTo>
                  <a:lnTo>
                    <a:pt x="9" y="10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5760" y="5798880"/>
              <a:ext cx="82080" cy="3492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0" y="67"/>
                  </a:moveTo>
                  <a:lnTo>
                    <a:pt x="127" y="63"/>
                  </a:lnTo>
                  <a:lnTo>
                    <a:pt x="156" y="0"/>
                  </a:lnTo>
                  <a:lnTo>
                    <a:pt x="31" y="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5760" y="5798880"/>
              <a:ext cx="82080" cy="3492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0" y="67"/>
                  </a:moveTo>
                  <a:lnTo>
                    <a:pt x="127" y="63"/>
                  </a:lnTo>
                  <a:lnTo>
                    <a:pt x="156" y="0"/>
                  </a:lnTo>
                  <a:lnTo>
                    <a:pt x="31" y="4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98640" y="5661000"/>
              <a:ext cx="82080" cy="5076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65"/>
                  </a:moveTo>
                  <a:lnTo>
                    <a:pt x="64" y="97"/>
                  </a:lnTo>
                  <a:lnTo>
                    <a:pt x="126" y="96"/>
                  </a:lnTo>
                  <a:lnTo>
                    <a:pt x="157" y="30"/>
                  </a:lnTo>
                  <a:lnTo>
                    <a:pt x="92" y="0"/>
                  </a:lnTo>
                  <a:lnTo>
                    <a:pt x="30" y="3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98640" y="5661000"/>
              <a:ext cx="82080" cy="5076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65"/>
                  </a:moveTo>
                  <a:lnTo>
                    <a:pt x="64" y="97"/>
                  </a:lnTo>
                  <a:lnTo>
                    <a:pt x="126" y="96"/>
                  </a:lnTo>
                  <a:lnTo>
                    <a:pt x="157" y="30"/>
                  </a:lnTo>
                  <a:lnTo>
                    <a:pt x="92" y="0"/>
                  </a:lnTo>
                  <a:lnTo>
                    <a:pt x="30" y="34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32040" y="5662440"/>
              <a:ext cx="33120" cy="5256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1" y="99"/>
                  </a:moveTo>
                  <a:lnTo>
                    <a:pt x="64" y="33"/>
                  </a:lnTo>
                  <a:lnTo>
                    <a:pt x="62" y="0"/>
                  </a:lnTo>
                  <a:lnTo>
                    <a:pt x="0" y="65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32040" y="5662440"/>
              <a:ext cx="33120" cy="5256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1" y="99"/>
                  </a:moveTo>
                  <a:lnTo>
                    <a:pt x="64" y="33"/>
                  </a:lnTo>
                  <a:lnTo>
                    <a:pt x="62" y="0"/>
                  </a:lnTo>
                  <a:lnTo>
                    <a:pt x="0" y="65"/>
                  </a:lnTo>
                  <a:lnTo>
                    <a:pt x="1" y="99"/>
                  </a:lnTo>
                  <a:lnTo>
                    <a:pt x="1" y="99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0760" y="5736960"/>
              <a:ext cx="85320" cy="6696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68" y="128"/>
                  </a:moveTo>
                  <a:lnTo>
                    <a:pt x="163" y="126"/>
                  </a:lnTo>
                  <a:lnTo>
                    <a:pt x="161" y="63"/>
                  </a:lnTo>
                  <a:lnTo>
                    <a:pt x="94" y="0"/>
                  </a:lnTo>
                  <a:lnTo>
                    <a:pt x="0" y="34"/>
                  </a:lnTo>
                  <a:lnTo>
                    <a:pt x="68" y="128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0760" y="5736960"/>
              <a:ext cx="85320" cy="6696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68" y="128"/>
                  </a:moveTo>
                  <a:lnTo>
                    <a:pt x="163" y="126"/>
                  </a:lnTo>
                  <a:lnTo>
                    <a:pt x="161" y="63"/>
                  </a:lnTo>
                  <a:lnTo>
                    <a:pt x="94" y="0"/>
                  </a:lnTo>
                  <a:lnTo>
                    <a:pt x="0" y="34"/>
                  </a:lnTo>
                  <a:lnTo>
                    <a:pt x="68" y="128"/>
                  </a:lnTo>
                  <a:lnTo>
                    <a:pt x="68" y="128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59000" y="2260440"/>
            <a:ext cx="744480" cy="543240"/>
          </a:xfrm>
          <a:custGeom>
            <a:avLst/>
            <a:gdLst/>
            <a:ahLst/>
            <a:rect l="l" t="t" r="r" b="b"/>
            <a:pathLst>
              <a:path w="1406" h="1026">
                <a:moveTo>
                  <a:pt x="54" y="648"/>
                </a:moveTo>
                <a:lnTo>
                  <a:pt x="19" y="623"/>
                </a:lnTo>
                <a:lnTo>
                  <a:pt x="7" y="623"/>
                </a:lnTo>
                <a:lnTo>
                  <a:pt x="0" y="619"/>
                </a:lnTo>
                <a:lnTo>
                  <a:pt x="0" y="609"/>
                </a:lnTo>
                <a:lnTo>
                  <a:pt x="10" y="578"/>
                </a:lnTo>
                <a:lnTo>
                  <a:pt x="15" y="563"/>
                </a:lnTo>
                <a:lnTo>
                  <a:pt x="15" y="549"/>
                </a:lnTo>
                <a:lnTo>
                  <a:pt x="15" y="541"/>
                </a:lnTo>
                <a:lnTo>
                  <a:pt x="23" y="539"/>
                </a:lnTo>
                <a:lnTo>
                  <a:pt x="27" y="541"/>
                </a:lnTo>
                <a:lnTo>
                  <a:pt x="28" y="560"/>
                </a:lnTo>
                <a:lnTo>
                  <a:pt x="27" y="571"/>
                </a:lnTo>
                <a:lnTo>
                  <a:pt x="25" y="578"/>
                </a:lnTo>
                <a:lnTo>
                  <a:pt x="27" y="585"/>
                </a:lnTo>
                <a:lnTo>
                  <a:pt x="51" y="563"/>
                </a:lnTo>
                <a:lnTo>
                  <a:pt x="49" y="554"/>
                </a:lnTo>
                <a:lnTo>
                  <a:pt x="49" y="541"/>
                </a:lnTo>
                <a:lnTo>
                  <a:pt x="59" y="528"/>
                </a:lnTo>
                <a:lnTo>
                  <a:pt x="51" y="514"/>
                </a:lnTo>
                <a:lnTo>
                  <a:pt x="36" y="509"/>
                </a:lnTo>
                <a:lnTo>
                  <a:pt x="34" y="468"/>
                </a:lnTo>
                <a:lnTo>
                  <a:pt x="41" y="465"/>
                </a:lnTo>
                <a:lnTo>
                  <a:pt x="55" y="468"/>
                </a:lnTo>
                <a:lnTo>
                  <a:pt x="61" y="463"/>
                </a:lnTo>
                <a:lnTo>
                  <a:pt x="86" y="457"/>
                </a:lnTo>
                <a:lnTo>
                  <a:pt x="67" y="440"/>
                </a:lnTo>
                <a:lnTo>
                  <a:pt x="67" y="434"/>
                </a:lnTo>
                <a:lnTo>
                  <a:pt x="61" y="432"/>
                </a:lnTo>
                <a:lnTo>
                  <a:pt x="41" y="442"/>
                </a:lnTo>
                <a:lnTo>
                  <a:pt x="42" y="414"/>
                </a:lnTo>
                <a:lnTo>
                  <a:pt x="42" y="395"/>
                </a:lnTo>
                <a:lnTo>
                  <a:pt x="49" y="365"/>
                </a:lnTo>
                <a:lnTo>
                  <a:pt x="45" y="339"/>
                </a:lnTo>
                <a:lnTo>
                  <a:pt x="44" y="318"/>
                </a:lnTo>
                <a:lnTo>
                  <a:pt x="49" y="260"/>
                </a:lnTo>
                <a:lnTo>
                  <a:pt x="54" y="240"/>
                </a:lnTo>
                <a:lnTo>
                  <a:pt x="28" y="166"/>
                </a:lnTo>
                <a:lnTo>
                  <a:pt x="31" y="116"/>
                </a:lnTo>
                <a:lnTo>
                  <a:pt x="39" y="89"/>
                </a:lnTo>
                <a:lnTo>
                  <a:pt x="47" y="52"/>
                </a:lnTo>
                <a:lnTo>
                  <a:pt x="180" y="143"/>
                </a:lnTo>
                <a:lnTo>
                  <a:pt x="247" y="179"/>
                </a:lnTo>
                <a:lnTo>
                  <a:pt x="300" y="196"/>
                </a:lnTo>
                <a:lnTo>
                  <a:pt x="331" y="216"/>
                </a:lnTo>
                <a:lnTo>
                  <a:pt x="359" y="216"/>
                </a:lnTo>
                <a:lnTo>
                  <a:pt x="371" y="223"/>
                </a:lnTo>
                <a:lnTo>
                  <a:pt x="379" y="238"/>
                </a:lnTo>
                <a:lnTo>
                  <a:pt x="385" y="304"/>
                </a:lnTo>
                <a:lnTo>
                  <a:pt x="381" y="318"/>
                </a:lnTo>
                <a:lnTo>
                  <a:pt x="359" y="332"/>
                </a:lnTo>
                <a:lnTo>
                  <a:pt x="349" y="360"/>
                </a:lnTo>
                <a:lnTo>
                  <a:pt x="349" y="383"/>
                </a:lnTo>
                <a:lnTo>
                  <a:pt x="351" y="395"/>
                </a:lnTo>
                <a:lnTo>
                  <a:pt x="351" y="408"/>
                </a:lnTo>
                <a:lnTo>
                  <a:pt x="343" y="420"/>
                </a:lnTo>
                <a:lnTo>
                  <a:pt x="343" y="432"/>
                </a:lnTo>
                <a:lnTo>
                  <a:pt x="357" y="440"/>
                </a:lnTo>
                <a:lnTo>
                  <a:pt x="383" y="428"/>
                </a:lnTo>
                <a:lnTo>
                  <a:pt x="397" y="370"/>
                </a:lnTo>
                <a:lnTo>
                  <a:pt x="410" y="357"/>
                </a:lnTo>
                <a:lnTo>
                  <a:pt x="420" y="329"/>
                </a:lnTo>
                <a:lnTo>
                  <a:pt x="454" y="292"/>
                </a:lnTo>
                <a:lnTo>
                  <a:pt x="455" y="281"/>
                </a:lnTo>
                <a:lnTo>
                  <a:pt x="442" y="227"/>
                </a:lnTo>
                <a:lnTo>
                  <a:pt x="413" y="155"/>
                </a:lnTo>
                <a:lnTo>
                  <a:pt x="412" y="143"/>
                </a:lnTo>
                <a:lnTo>
                  <a:pt x="422" y="139"/>
                </a:lnTo>
                <a:lnTo>
                  <a:pt x="436" y="143"/>
                </a:lnTo>
                <a:lnTo>
                  <a:pt x="451" y="109"/>
                </a:lnTo>
                <a:lnTo>
                  <a:pt x="448" y="73"/>
                </a:lnTo>
                <a:lnTo>
                  <a:pt x="430" y="70"/>
                </a:lnTo>
                <a:lnTo>
                  <a:pt x="425" y="46"/>
                </a:lnTo>
                <a:lnTo>
                  <a:pt x="423" y="0"/>
                </a:lnTo>
                <a:lnTo>
                  <a:pt x="703" y="76"/>
                </a:lnTo>
                <a:lnTo>
                  <a:pt x="968" y="143"/>
                </a:lnTo>
                <a:lnTo>
                  <a:pt x="1404" y="245"/>
                </a:lnTo>
                <a:lnTo>
                  <a:pt x="1406" y="245"/>
                </a:lnTo>
                <a:lnTo>
                  <a:pt x="1258" y="912"/>
                </a:lnTo>
                <a:lnTo>
                  <a:pt x="1257" y="916"/>
                </a:lnTo>
                <a:lnTo>
                  <a:pt x="1251" y="922"/>
                </a:lnTo>
                <a:lnTo>
                  <a:pt x="1247" y="935"/>
                </a:lnTo>
                <a:lnTo>
                  <a:pt x="1251" y="947"/>
                </a:lnTo>
                <a:lnTo>
                  <a:pt x="1255" y="956"/>
                </a:lnTo>
                <a:lnTo>
                  <a:pt x="1263" y="966"/>
                </a:lnTo>
                <a:lnTo>
                  <a:pt x="1261" y="977"/>
                </a:lnTo>
                <a:lnTo>
                  <a:pt x="1258" y="981"/>
                </a:lnTo>
                <a:lnTo>
                  <a:pt x="1248" y="994"/>
                </a:lnTo>
                <a:lnTo>
                  <a:pt x="1248" y="1011"/>
                </a:lnTo>
                <a:lnTo>
                  <a:pt x="1253" y="1026"/>
                </a:lnTo>
                <a:lnTo>
                  <a:pt x="882" y="941"/>
                </a:lnTo>
                <a:lnTo>
                  <a:pt x="854" y="952"/>
                </a:lnTo>
                <a:lnTo>
                  <a:pt x="835" y="952"/>
                </a:lnTo>
                <a:lnTo>
                  <a:pt x="815" y="946"/>
                </a:lnTo>
                <a:lnTo>
                  <a:pt x="791" y="944"/>
                </a:lnTo>
                <a:lnTo>
                  <a:pt x="778" y="937"/>
                </a:lnTo>
                <a:lnTo>
                  <a:pt x="758" y="937"/>
                </a:lnTo>
                <a:lnTo>
                  <a:pt x="736" y="944"/>
                </a:lnTo>
                <a:lnTo>
                  <a:pt x="709" y="937"/>
                </a:lnTo>
                <a:lnTo>
                  <a:pt x="687" y="937"/>
                </a:lnTo>
                <a:lnTo>
                  <a:pt x="659" y="952"/>
                </a:lnTo>
                <a:lnTo>
                  <a:pt x="640" y="954"/>
                </a:lnTo>
                <a:lnTo>
                  <a:pt x="594" y="948"/>
                </a:lnTo>
                <a:lnTo>
                  <a:pt x="581" y="941"/>
                </a:lnTo>
                <a:lnTo>
                  <a:pt x="552" y="927"/>
                </a:lnTo>
                <a:lnTo>
                  <a:pt x="469" y="939"/>
                </a:lnTo>
                <a:lnTo>
                  <a:pt x="451" y="916"/>
                </a:lnTo>
                <a:lnTo>
                  <a:pt x="383" y="896"/>
                </a:lnTo>
                <a:lnTo>
                  <a:pt x="347" y="891"/>
                </a:lnTo>
                <a:lnTo>
                  <a:pt x="305" y="896"/>
                </a:lnTo>
                <a:lnTo>
                  <a:pt x="240" y="891"/>
                </a:lnTo>
                <a:lnTo>
                  <a:pt x="188" y="864"/>
                </a:lnTo>
                <a:lnTo>
                  <a:pt x="177" y="842"/>
                </a:lnTo>
                <a:lnTo>
                  <a:pt x="182" y="776"/>
                </a:lnTo>
                <a:lnTo>
                  <a:pt x="185" y="761"/>
                </a:lnTo>
                <a:lnTo>
                  <a:pt x="179" y="724"/>
                </a:lnTo>
                <a:lnTo>
                  <a:pt x="138" y="692"/>
                </a:lnTo>
                <a:lnTo>
                  <a:pt x="108" y="691"/>
                </a:lnTo>
                <a:lnTo>
                  <a:pt x="106" y="679"/>
                </a:lnTo>
                <a:lnTo>
                  <a:pt x="86" y="661"/>
                </a:lnTo>
                <a:lnTo>
                  <a:pt x="54" y="648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7400" y="2602080"/>
            <a:ext cx="898560" cy="749160"/>
          </a:xfrm>
          <a:custGeom>
            <a:avLst/>
            <a:gdLst/>
            <a:ahLst/>
            <a:rect l="l" t="t" r="r" b="b"/>
            <a:pathLst>
              <a:path w="1696" h="1414">
                <a:moveTo>
                  <a:pt x="25" y="1064"/>
                </a:moveTo>
                <a:lnTo>
                  <a:pt x="13" y="1051"/>
                </a:lnTo>
                <a:lnTo>
                  <a:pt x="0" y="997"/>
                </a:lnTo>
                <a:lnTo>
                  <a:pt x="10" y="970"/>
                </a:lnTo>
                <a:lnTo>
                  <a:pt x="10" y="945"/>
                </a:lnTo>
                <a:lnTo>
                  <a:pt x="28" y="905"/>
                </a:lnTo>
                <a:lnTo>
                  <a:pt x="19" y="823"/>
                </a:lnTo>
                <a:lnTo>
                  <a:pt x="33" y="804"/>
                </a:lnTo>
                <a:lnTo>
                  <a:pt x="49" y="794"/>
                </a:lnTo>
                <a:lnTo>
                  <a:pt x="60" y="779"/>
                </a:lnTo>
                <a:lnTo>
                  <a:pt x="70" y="754"/>
                </a:lnTo>
                <a:lnTo>
                  <a:pt x="79" y="743"/>
                </a:lnTo>
                <a:lnTo>
                  <a:pt x="85" y="705"/>
                </a:lnTo>
                <a:lnTo>
                  <a:pt x="92" y="703"/>
                </a:lnTo>
                <a:lnTo>
                  <a:pt x="142" y="644"/>
                </a:lnTo>
                <a:lnTo>
                  <a:pt x="168" y="587"/>
                </a:lnTo>
                <a:lnTo>
                  <a:pt x="211" y="507"/>
                </a:lnTo>
                <a:lnTo>
                  <a:pt x="259" y="360"/>
                </a:lnTo>
                <a:lnTo>
                  <a:pt x="294" y="297"/>
                </a:lnTo>
                <a:lnTo>
                  <a:pt x="325" y="203"/>
                </a:lnTo>
                <a:lnTo>
                  <a:pt x="361" y="90"/>
                </a:lnTo>
                <a:lnTo>
                  <a:pt x="378" y="51"/>
                </a:lnTo>
                <a:lnTo>
                  <a:pt x="385" y="16"/>
                </a:lnTo>
                <a:lnTo>
                  <a:pt x="384" y="4"/>
                </a:lnTo>
                <a:lnTo>
                  <a:pt x="401" y="0"/>
                </a:lnTo>
                <a:lnTo>
                  <a:pt x="424" y="4"/>
                </a:lnTo>
                <a:lnTo>
                  <a:pt x="435" y="1"/>
                </a:lnTo>
                <a:lnTo>
                  <a:pt x="467" y="14"/>
                </a:lnTo>
                <a:lnTo>
                  <a:pt x="486" y="32"/>
                </a:lnTo>
                <a:lnTo>
                  <a:pt x="489" y="43"/>
                </a:lnTo>
                <a:lnTo>
                  <a:pt x="518" y="44"/>
                </a:lnTo>
                <a:lnTo>
                  <a:pt x="559" y="76"/>
                </a:lnTo>
                <a:lnTo>
                  <a:pt x="565" y="114"/>
                </a:lnTo>
                <a:lnTo>
                  <a:pt x="563" y="128"/>
                </a:lnTo>
                <a:lnTo>
                  <a:pt x="558" y="194"/>
                </a:lnTo>
                <a:lnTo>
                  <a:pt x="569" y="216"/>
                </a:lnTo>
                <a:lnTo>
                  <a:pt x="621" y="244"/>
                </a:lnTo>
                <a:lnTo>
                  <a:pt x="685" y="248"/>
                </a:lnTo>
                <a:lnTo>
                  <a:pt x="728" y="244"/>
                </a:lnTo>
                <a:lnTo>
                  <a:pt x="763" y="248"/>
                </a:lnTo>
                <a:lnTo>
                  <a:pt x="832" y="269"/>
                </a:lnTo>
                <a:lnTo>
                  <a:pt x="850" y="292"/>
                </a:lnTo>
                <a:lnTo>
                  <a:pt x="933" y="279"/>
                </a:lnTo>
                <a:lnTo>
                  <a:pt x="962" y="293"/>
                </a:lnTo>
                <a:lnTo>
                  <a:pt x="975" y="301"/>
                </a:lnTo>
                <a:lnTo>
                  <a:pt x="1021" y="307"/>
                </a:lnTo>
                <a:lnTo>
                  <a:pt x="1040" y="304"/>
                </a:lnTo>
                <a:lnTo>
                  <a:pt x="1068" y="289"/>
                </a:lnTo>
                <a:lnTo>
                  <a:pt x="1089" y="289"/>
                </a:lnTo>
                <a:lnTo>
                  <a:pt x="1116" y="297"/>
                </a:lnTo>
                <a:lnTo>
                  <a:pt x="1138" y="289"/>
                </a:lnTo>
                <a:lnTo>
                  <a:pt x="1158" y="289"/>
                </a:lnTo>
                <a:lnTo>
                  <a:pt x="1172" y="297"/>
                </a:lnTo>
                <a:lnTo>
                  <a:pt x="1195" y="298"/>
                </a:lnTo>
                <a:lnTo>
                  <a:pt x="1215" y="304"/>
                </a:lnTo>
                <a:lnTo>
                  <a:pt x="1235" y="304"/>
                </a:lnTo>
                <a:lnTo>
                  <a:pt x="1262" y="293"/>
                </a:lnTo>
                <a:lnTo>
                  <a:pt x="1633" y="379"/>
                </a:lnTo>
                <a:lnTo>
                  <a:pt x="1636" y="402"/>
                </a:lnTo>
                <a:lnTo>
                  <a:pt x="1653" y="427"/>
                </a:lnTo>
                <a:lnTo>
                  <a:pt x="1672" y="433"/>
                </a:lnTo>
                <a:lnTo>
                  <a:pt x="1691" y="449"/>
                </a:lnTo>
                <a:lnTo>
                  <a:pt x="1696" y="486"/>
                </a:lnTo>
                <a:lnTo>
                  <a:pt x="1605" y="627"/>
                </a:lnTo>
                <a:lnTo>
                  <a:pt x="1590" y="641"/>
                </a:lnTo>
                <a:lnTo>
                  <a:pt x="1586" y="661"/>
                </a:lnTo>
                <a:lnTo>
                  <a:pt x="1567" y="682"/>
                </a:lnTo>
                <a:lnTo>
                  <a:pt x="1539" y="695"/>
                </a:lnTo>
                <a:lnTo>
                  <a:pt x="1491" y="768"/>
                </a:lnTo>
                <a:lnTo>
                  <a:pt x="1482" y="800"/>
                </a:lnTo>
                <a:lnTo>
                  <a:pt x="1490" y="817"/>
                </a:lnTo>
                <a:lnTo>
                  <a:pt x="1519" y="830"/>
                </a:lnTo>
                <a:lnTo>
                  <a:pt x="1532" y="850"/>
                </a:lnTo>
                <a:lnTo>
                  <a:pt x="1525" y="866"/>
                </a:lnTo>
                <a:lnTo>
                  <a:pt x="1522" y="875"/>
                </a:lnTo>
                <a:lnTo>
                  <a:pt x="1514" y="878"/>
                </a:lnTo>
                <a:lnTo>
                  <a:pt x="1514" y="909"/>
                </a:lnTo>
                <a:lnTo>
                  <a:pt x="1487" y="943"/>
                </a:lnTo>
                <a:lnTo>
                  <a:pt x="1384" y="1414"/>
                </a:lnTo>
                <a:lnTo>
                  <a:pt x="814" y="1280"/>
                </a:lnTo>
                <a:lnTo>
                  <a:pt x="25" y="1064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4320" y="3165480"/>
            <a:ext cx="890640" cy="1523880"/>
          </a:xfrm>
          <a:custGeom>
            <a:avLst/>
            <a:gdLst/>
            <a:ahLst/>
            <a:rect l="l" t="t" r="r" b="b"/>
            <a:pathLst>
              <a:path w="1684" h="2879">
                <a:moveTo>
                  <a:pt x="1469" y="2869"/>
                </a:moveTo>
                <a:lnTo>
                  <a:pt x="956" y="2819"/>
                </a:lnTo>
                <a:lnTo>
                  <a:pt x="952" y="2810"/>
                </a:lnTo>
                <a:lnTo>
                  <a:pt x="948" y="2784"/>
                </a:lnTo>
                <a:lnTo>
                  <a:pt x="952" y="2774"/>
                </a:lnTo>
                <a:lnTo>
                  <a:pt x="956" y="2768"/>
                </a:lnTo>
                <a:lnTo>
                  <a:pt x="950" y="2762"/>
                </a:lnTo>
                <a:lnTo>
                  <a:pt x="944" y="2760"/>
                </a:lnTo>
                <a:lnTo>
                  <a:pt x="939" y="2739"/>
                </a:lnTo>
                <a:lnTo>
                  <a:pt x="940" y="2728"/>
                </a:lnTo>
                <a:lnTo>
                  <a:pt x="936" y="2644"/>
                </a:lnTo>
                <a:lnTo>
                  <a:pt x="893" y="2550"/>
                </a:lnTo>
                <a:lnTo>
                  <a:pt x="866" y="2525"/>
                </a:lnTo>
                <a:lnTo>
                  <a:pt x="847" y="2487"/>
                </a:lnTo>
                <a:lnTo>
                  <a:pt x="796" y="2441"/>
                </a:lnTo>
                <a:lnTo>
                  <a:pt x="763" y="2444"/>
                </a:lnTo>
                <a:lnTo>
                  <a:pt x="746" y="2424"/>
                </a:lnTo>
                <a:lnTo>
                  <a:pt x="756" y="2399"/>
                </a:lnTo>
                <a:lnTo>
                  <a:pt x="750" y="2384"/>
                </a:lnTo>
                <a:lnTo>
                  <a:pt x="750" y="2365"/>
                </a:lnTo>
                <a:lnTo>
                  <a:pt x="731" y="2348"/>
                </a:lnTo>
                <a:lnTo>
                  <a:pt x="677" y="2340"/>
                </a:lnTo>
                <a:lnTo>
                  <a:pt x="649" y="2328"/>
                </a:lnTo>
                <a:lnTo>
                  <a:pt x="610" y="2295"/>
                </a:lnTo>
                <a:lnTo>
                  <a:pt x="589" y="2238"/>
                </a:lnTo>
                <a:lnTo>
                  <a:pt x="555" y="2212"/>
                </a:lnTo>
                <a:lnTo>
                  <a:pt x="520" y="2202"/>
                </a:lnTo>
                <a:lnTo>
                  <a:pt x="426" y="2159"/>
                </a:lnTo>
                <a:lnTo>
                  <a:pt x="392" y="2159"/>
                </a:lnTo>
                <a:lnTo>
                  <a:pt x="353" y="2135"/>
                </a:lnTo>
                <a:lnTo>
                  <a:pt x="329" y="2109"/>
                </a:lnTo>
                <a:lnTo>
                  <a:pt x="331" y="2088"/>
                </a:lnTo>
                <a:lnTo>
                  <a:pt x="344" y="2072"/>
                </a:lnTo>
                <a:lnTo>
                  <a:pt x="352" y="2025"/>
                </a:lnTo>
                <a:lnTo>
                  <a:pt x="359" y="1998"/>
                </a:lnTo>
                <a:lnTo>
                  <a:pt x="366" y="1983"/>
                </a:lnTo>
                <a:lnTo>
                  <a:pt x="356" y="1949"/>
                </a:lnTo>
                <a:lnTo>
                  <a:pt x="333" y="1939"/>
                </a:lnTo>
                <a:lnTo>
                  <a:pt x="329" y="1908"/>
                </a:lnTo>
                <a:lnTo>
                  <a:pt x="335" y="1900"/>
                </a:lnTo>
                <a:lnTo>
                  <a:pt x="341" y="1898"/>
                </a:lnTo>
                <a:lnTo>
                  <a:pt x="344" y="1874"/>
                </a:lnTo>
                <a:lnTo>
                  <a:pt x="319" y="1851"/>
                </a:lnTo>
                <a:lnTo>
                  <a:pt x="255" y="1739"/>
                </a:lnTo>
                <a:lnTo>
                  <a:pt x="251" y="1707"/>
                </a:lnTo>
                <a:lnTo>
                  <a:pt x="239" y="1682"/>
                </a:lnTo>
                <a:lnTo>
                  <a:pt x="235" y="1656"/>
                </a:lnTo>
                <a:lnTo>
                  <a:pt x="188" y="1591"/>
                </a:lnTo>
                <a:lnTo>
                  <a:pt x="193" y="1525"/>
                </a:lnTo>
                <a:lnTo>
                  <a:pt x="204" y="1509"/>
                </a:lnTo>
                <a:lnTo>
                  <a:pt x="219" y="1509"/>
                </a:lnTo>
                <a:lnTo>
                  <a:pt x="241" y="1481"/>
                </a:lnTo>
                <a:lnTo>
                  <a:pt x="245" y="1438"/>
                </a:lnTo>
                <a:lnTo>
                  <a:pt x="230" y="1423"/>
                </a:lnTo>
                <a:lnTo>
                  <a:pt x="196" y="1407"/>
                </a:lnTo>
                <a:lnTo>
                  <a:pt x="162" y="1378"/>
                </a:lnTo>
                <a:lnTo>
                  <a:pt x="149" y="1346"/>
                </a:lnTo>
                <a:lnTo>
                  <a:pt x="151" y="1258"/>
                </a:lnTo>
                <a:lnTo>
                  <a:pt x="158" y="1246"/>
                </a:lnTo>
                <a:lnTo>
                  <a:pt x="154" y="1223"/>
                </a:lnTo>
                <a:lnTo>
                  <a:pt x="164" y="1218"/>
                </a:lnTo>
                <a:lnTo>
                  <a:pt x="171" y="1176"/>
                </a:lnTo>
                <a:lnTo>
                  <a:pt x="180" y="1173"/>
                </a:lnTo>
                <a:lnTo>
                  <a:pt x="188" y="1187"/>
                </a:lnTo>
                <a:lnTo>
                  <a:pt x="188" y="1220"/>
                </a:lnTo>
                <a:lnTo>
                  <a:pt x="193" y="1233"/>
                </a:lnTo>
                <a:lnTo>
                  <a:pt x="224" y="1255"/>
                </a:lnTo>
                <a:lnTo>
                  <a:pt x="231" y="1246"/>
                </a:lnTo>
                <a:lnTo>
                  <a:pt x="234" y="1223"/>
                </a:lnTo>
                <a:lnTo>
                  <a:pt x="219" y="1176"/>
                </a:lnTo>
                <a:lnTo>
                  <a:pt x="213" y="1145"/>
                </a:lnTo>
                <a:lnTo>
                  <a:pt x="219" y="1110"/>
                </a:lnTo>
                <a:lnTo>
                  <a:pt x="211" y="1107"/>
                </a:lnTo>
                <a:lnTo>
                  <a:pt x="188" y="1129"/>
                </a:lnTo>
                <a:lnTo>
                  <a:pt x="186" y="1142"/>
                </a:lnTo>
                <a:lnTo>
                  <a:pt x="180" y="1157"/>
                </a:lnTo>
                <a:lnTo>
                  <a:pt x="149" y="1145"/>
                </a:lnTo>
                <a:lnTo>
                  <a:pt x="121" y="1102"/>
                </a:lnTo>
                <a:lnTo>
                  <a:pt x="89" y="1088"/>
                </a:lnTo>
                <a:lnTo>
                  <a:pt x="103" y="1060"/>
                </a:lnTo>
                <a:lnTo>
                  <a:pt x="103" y="962"/>
                </a:lnTo>
                <a:lnTo>
                  <a:pt x="64" y="920"/>
                </a:lnTo>
                <a:lnTo>
                  <a:pt x="47" y="883"/>
                </a:lnTo>
                <a:lnTo>
                  <a:pt x="16" y="804"/>
                </a:lnTo>
                <a:lnTo>
                  <a:pt x="31" y="774"/>
                </a:lnTo>
                <a:lnTo>
                  <a:pt x="25" y="749"/>
                </a:lnTo>
                <a:lnTo>
                  <a:pt x="23" y="728"/>
                </a:lnTo>
                <a:lnTo>
                  <a:pt x="38" y="670"/>
                </a:lnTo>
                <a:lnTo>
                  <a:pt x="58" y="643"/>
                </a:lnTo>
                <a:lnTo>
                  <a:pt x="63" y="628"/>
                </a:lnTo>
                <a:lnTo>
                  <a:pt x="57" y="571"/>
                </a:lnTo>
                <a:lnTo>
                  <a:pt x="32" y="517"/>
                </a:lnTo>
                <a:lnTo>
                  <a:pt x="29" y="501"/>
                </a:lnTo>
                <a:lnTo>
                  <a:pt x="23" y="488"/>
                </a:lnTo>
                <a:lnTo>
                  <a:pt x="11" y="472"/>
                </a:lnTo>
                <a:lnTo>
                  <a:pt x="3" y="448"/>
                </a:lnTo>
                <a:lnTo>
                  <a:pt x="0" y="413"/>
                </a:lnTo>
                <a:lnTo>
                  <a:pt x="4" y="404"/>
                </a:lnTo>
                <a:lnTo>
                  <a:pt x="3" y="379"/>
                </a:lnTo>
                <a:lnTo>
                  <a:pt x="28" y="334"/>
                </a:lnTo>
                <a:lnTo>
                  <a:pt x="104" y="250"/>
                </a:lnTo>
                <a:lnTo>
                  <a:pt x="106" y="234"/>
                </a:lnTo>
                <a:lnTo>
                  <a:pt x="111" y="202"/>
                </a:lnTo>
                <a:lnTo>
                  <a:pt x="129" y="187"/>
                </a:lnTo>
                <a:lnTo>
                  <a:pt x="145" y="154"/>
                </a:lnTo>
                <a:lnTo>
                  <a:pt x="152" y="82"/>
                </a:lnTo>
                <a:lnTo>
                  <a:pt x="136" y="50"/>
                </a:lnTo>
                <a:lnTo>
                  <a:pt x="152" y="14"/>
                </a:lnTo>
                <a:lnTo>
                  <a:pt x="164" y="0"/>
                </a:lnTo>
                <a:lnTo>
                  <a:pt x="954" y="216"/>
                </a:lnTo>
                <a:lnTo>
                  <a:pt x="754" y="1003"/>
                </a:lnTo>
                <a:lnTo>
                  <a:pt x="1625" y="2283"/>
                </a:lnTo>
                <a:lnTo>
                  <a:pt x="1623" y="2321"/>
                </a:lnTo>
                <a:lnTo>
                  <a:pt x="1626" y="2334"/>
                </a:lnTo>
                <a:lnTo>
                  <a:pt x="1623" y="2345"/>
                </a:lnTo>
                <a:lnTo>
                  <a:pt x="1638" y="2377"/>
                </a:lnTo>
                <a:lnTo>
                  <a:pt x="1638" y="2405"/>
                </a:lnTo>
                <a:lnTo>
                  <a:pt x="1649" y="2422"/>
                </a:lnTo>
                <a:lnTo>
                  <a:pt x="1657" y="2454"/>
                </a:lnTo>
                <a:lnTo>
                  <a:pt x="1668" y="2462"/>
                </a:lnTo>
                <a:lnTo>
                  <a:pt x="1682" y="2478"/>
                </a:lnTo>
                <a:lnTo>
                  <a:pt x="1684" y="2505"/>
                </a:lnTo>
                <a:lnTo>
                  <a:pt x="1682" y="2513"/>
                </a:lnTo>
                <a:lnTo>
                  <a:pt x="1673" y="2505"/>
                </a:lnTo>
                <a:lnTo>
                  <a:pt x="1647" y="2526"/>
                </a:lnTo>
                <a:lnTo>
                  <a:pt x="1616" y="2538"/>
                </a:lnTo>
                <a:lnTo>
                  <a:pt x="1590" y="2572"/>
                </a:lnTo>
                <a:lnTo>
                  <a:pt x="1576" y="2642"/>
                </a:lnTo>
                <a:lnTo>
                  <a:pt x="1535" y="2696"/>
                </a:lnTo>
                <a:lnTo>
                  <a:pt x="1511" y="2696"/>
                </a:lnTo>
                <a:lnTo>
                  <a:pt x="1509" y="2711"/>
                </a:lnTo>
                <a:lnTo>
                  <a:pt x="1516" y="2728"/>
                </a:lnTo>
                <a:lnTo>
                  <a:pt x="1512" y="2745"/>
                </a:lnTo>
                <a:lnTo>
                  <a:pt x="1503" y="2780"/>
                </a:lnTo>
                <a:lnTo>
                  <a:pt x="1509" y="2793"/>
                </a:lnTo>
                <a:lnTo>
                  <a:pt x="1539" y="2819"/>
                </a:lnTo>
                <a:lnTo>
                  <a:pt x="1544" y="2831"/>
                </a:lnTo>
                <a:lnTo>
                  <a:pt x="1537" y="2841"/>
                </a:lnTo>
                <a:lnTo>
                  <a:pt x="1533" y="2859"/>
                </a:lnTo>
                <a:lnTo>
                  <a:pt x="1514" y="2879"/>
                </a:lnTo>
                <a:lnTo>
                  <a:pt x="1503" y="2876"/>
                </a:lnTo>
                <a:lnTo>
                  <a:pt x="1469" y="2869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7840" y="4937040"/>
            <a:ext cx="2031480" cy="1463760"/>
            <a:chOff x="177840" y="4937040"/>
            <a:chExt cx="2031480" cy="1463760"/>
          </a:xfrm>
        </p:grpSpPr>
        <p:sp>
          <p:nvSpPr>
            <p:cNvPr id="206" name=""/>
            <p:cNvSpPr/>
            <p:nvPr/>
          </p:nvSpPr>
          <p:spPr>
            <a:xfrm>
              <a:off x="550800" y="5986440"/>
              <a:ext cx="85320" cy="2844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159" y="37"/>
                  </a:moveTo>
                  <a:lnTo>
                    <a:pt x="151" y="33"/>
                  </a:lnTo>
                  <a:lnTo>
                    <a:pt x="143" y="27"/>
                  </a:lnTo>
                  <a:lnTo>
                    <a:pt x="134" y="21"/>
                  </a:lnTo>
                  <a:lnTo>
                    <a:pt x="128" y="15"/>
                  </a:lnTo>
                  <a:lnTo>
                    <a:pt x="118" y="9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3" y="2"/>
                  </a:lnTo>
                  <a:lnTo>
                    <a:pt x="75" y="7"/>
                  </a:lnTo>
                  <a:lnTo>
                    <a:pt x="72" y="14"/>
                  </a:lnTo>
                  <a:lnTo>
                    <a:pt x="71" y="22"/>
                  </a:lnTo>
                  <a:lnTo>
                    <a:pt x="63" y="16"/>
                  </a:lnTo>
                  <a:lnTo>
                    <a:pt x="55" y="12"/>
                  </a:lnTo>
                  <a:lnTo>
                    <a:pt x="46" y="13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2" y="30"/>
                  </a:lnTo>
                  <a:lnTo>
                    <a:pt x="17" y="33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2" y="54"/>
                  </a:lnTo>
                  <a:lnTo>
                    <a:pt x="30" y="54"/>
                  </a:lnTo>
                  <a:lnTo>
                    <a:pt x="40" y="53"/>
                  </a:lnTo>
                  <a:lnTo>
                    <a:pt x="46" y="53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5" y="54"/>
                  </a:lnTo>
                  <a:lnTo>
                    <a:pt x="103" y="52"/>
                  </a:lnTo>
                  <a:lnTo>
                    <a:pt x="112" y="51"/>
                  </a:lnTo>
                  <a:lnTo>
                    <a:pt x="121" y="51"/>
                  </a:lnTo>
                  <a:lnTo>
                    <a:pt x="127" y="51"/>
                  </a:lnTo>
                  <a:lnTo>
                    <a:pt x="134" y="53"/>
                  </a:lnTo>
                  <a:lnTo>
                    <a:pt x="138" y="54"/>
                  </a:lnTo>
                  <a:lnTo>
                    <a:pt x="145" y="54"/>
                  </a:lnTo>
                  <a:lnTo>
                    <a:pt x="150" y="54"/>
                  </a:lnTo>
                  <a:lnTo>
                    <a:pt x="156" y="55"/>
                  </a:lnTo>
                  <a:lnTo>
                    <a:pt x="160" y="50"/>
                  </a:lnTo>
                  <a:lnTo>
                    <a:pt x="163" y="45"/>
                  </a:lnTo>
                  <a:lnTo>
                    <a:pt x="162" y="43"/>
                  </a:lnTo>
                  <a:lnTo>
                    <a:pt x="162" y="40"/>
                  </a:lnTo>
                  <a:lnTo>
                    <a:pt x="162" y="36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58" y="36"/>
                  </a:lnTo>
                  <a:lnTo>
                    <a:pt x="159" y="37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800" y="5986440"/>
              <a:ext cx="85320" cy="2844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159" y="37"/>
                  </a:moveTo>
                  <a:lnTo>
                    <a:pt x="151" y="33"/>
                  </a:lnTo>
                  <a:lnTo>
                    <a:pt x="143" y="27"/>
                  </a:lnTo>
                  <a:lnTo>
                    <a:pt x="134" y="21"/>
                  </a:lnTo>
                  <a:lnTo>
                    <a:pt x="128" y="15"/>
                  </a:lnTo>
                  <a:lnTo>
                    <a:pt x="118" y="9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3" y="2"/>
                  </a:lnTo>
                  <a:lnTo>
                    <a:pt x="75" y="7"/>
                  </a:lnTo>
                  <a:lnTo>
                    <a:pt x="72" y="14"/>
                  </a:lnTo>
                  <a:lnTo>
                    <a:pt x="71" y="22"/>
                  </a:lnTo>
                  <a:lnTo>
                    <a:pt x="63" y="16"/>
                  </a:lnTo>
                  <a:lnTo>
                    <a:pt x="55" y="12"/>
                  </a:lnTo>
                  <a:lnTo>
                    <a:pt x="46" y="13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2" y="30"/>
                  </a:lnTo>
                  <a:lnTo>
                    <a:pt x="17" y="33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2" y="54"/>
                  </a:lnTo>
                  <a:lnTo>
                    <a:pt x="30" y="54"/>
                  </a:lnTo>
                  <a:lnTo>
                    <a:pt x="40" y="53"/>
                  </a:lnTo>
                  <a:lnTo>
                    <a:pt x="46" y="53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5" y="54"/>
                  </a:lnTo>
                  <a:lnTo>
                    <a:pt x="103" y="52"/>
                  </a:lnTo>
                  <a:lnTo>
                    <a:pt x="112" y="51"/>
                  </a:lnTo>
                  <a:lnTo>
                    <a:pt x="121" y="51"/>
                  </a:lnTo>
                  <a:lnTo>
                    <a:pt x="127" y="51"/>
                  </a:lnTo>
                  <a:lnTo>
                    <a:pt x="134" y="53"/>
                  </a:lnTo>
                  <a:lnTo>
                    <a:pt x="138" y="54"/>
                  </a:lnTo>
                  <a:lnTo>
                    <a:pt x="145" y="54"/>
                  </a:lnTo>
                  <a:lnTo>
                    <a:pt x="150" y="54"/>
                  </a:lnTo>
                  <a:lnTo>
                    <a:pt x="156" y="55"/>
                  </a:lnTo>
                  <a:lnTo>
                    <a:pt x="160" y="50"/>
                  </a:lnTo>
                  <a:lnTo>
                    <a:pt x="163" y="45"/>
                  </a:lnTo>
                  <a:lnTo>
                    <a:pt x="162" y="43"/>
                  </a:lnTo>
                  <a:lnTo>
                    <a:pt x="162" y="40"/>
                  </a:lnTo>
                  <a:lnTo>
                    <a:pt x="162" y="36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58" y="36"/>
                  </a:lnTo>
                  <a:lnTo>
                    <a:pt x="159" y="37"/>
                  </a:lnTo>
                  <a:lnTo>
                    <a:pt x="159" y="37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5920" y="5978520"/>
              <a:ext cx="80640" cy="21960"/>
            </a:xfrm>
            <a:custGeom>
              <a:avLst/>
              <a:gdLst/>
              <a:ahLst/>
              <a:rect l="l" t="t" r="r" b="b"/>
              <a:pathLst>
                <a:path w="153" h="43">
                  <a:moveTo>
                    <a:pt x="127" y="40"/>
                  </a:moveTo>
                  <a:lnTo>
                    <a:pt x="137" y="35"/>
                  </a:lnTo>
                  <a:lnTo>
                    <a:pt x="149" y="30"/>
                  </a:lnTo>
                  <a:lnTo>
                    <a:pt x="153" y="23"/>
                  </a:lnTo>
                  <a:lnTo>
                    <a:pt x="153" y="15"/>
                  </a:lnTo>
                  <a:lnTo>
                    <a:pt x="148" y="8"/>
                  </a:lnTo>
                  <a:lnTo>
                    <a:pt x="141" y="3"/>
                  </a:lnTo>
                  <a:lnTo>
                    <a:pt x="133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100" y="7"/>
                  </a:lnTo>
                  <a:lnTo>
                    <a:pt x="92" y="9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1" y="18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69" y="25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5" y="25"/>
                  </a:lnTo>
                  <a:lnTo>
                    <a:pt x="51" y="23"/>
                  </a:lnTo>
                  <a:lnTo>
                    <a:pt x="46" y="22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0" y="20"/>
                  </a:lnTo>
                  <a:lnTo>
                    <a:pt x="23" y="23"/>
                  </a:lnTo>
                  <a:lnTo>
                    <a:pt x="15" y="23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44" y="36"/>
                  </a:lnTo>
                  <a:lnTo>
                    <a:pt x="52" y="36"/>
                  </a:lnTo>
                  <a:lnTo>
                    <a:pt x="63" y="38"/>
                  </a:lnTo>
                  <a:lnTo>
                    <a:pt x="74" y="40"/>
                  </a:lnTo>
                  <a:lnTo>
                    <a:pt x="85" y="42"/>
                  </a:lnTo>
                  <a:lnTo>
                    <a:pt x="97" y="43"/>
                  </a:lnTo>
                  <a:lnTo>
                    <a:pt x="105" y="42"/>
                  </a:lnTo>
                  <a:lnTo>
                    <a:pt x="113" y="40"/>
                  </a:lnTo>
                  <a:lnTo>
                    <a:pt x="122" y="41"/>
                  </a:lnTo>
                  <a:lnTo>
                    <a:pt x="130" y="42"/>
                  </a:lnTo>
                  <a:lnTo>
                    <a:pt x="129" y="41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5920" y="5978520"/>
              <a:ext cx="80640" cy="21960"/>
            </a:xfrm>
            <a:custGeom>
              <a:avLst/>
              <a:gdLst/>
              <a:ahLst/>
              <a:rect l="l" t="t" r="r" b="b"/>
              <a:pathLst>
                <a:path w="153" h="43">
                  <a:moveTo>
                    <a:pt x="127" y="40"/>
                  </a:moveTo>
                  <a:lnTo>
                    <a:pt x="137" y="35"/>
                  </a:lnTo>
                  <a:lnTo>
                    <a:pt x="149" y="30"/>
                  </a:lnTo>
                  <a:lnTo>
                    <a:pt x="153" y="23"/>
                  </a:lnTo>
                  <a:lnTo>
                    <a:pt x="153" y="15"/>
                  </a:lnTo>
                  <a:lnTo>
                    <a:pt x="148" y="8"/>
                  </a:lnTo>
                  <a:lnTo>
                    <a:pt x="141" y="3"/>
                  </a:lnTo>
                  <a:lnTo>
                    <a:pt x="133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100" y="7"/>
                  </a:lnTo>
                  <a:lnTo>
                    <a:pt x="92" y="9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1" y="18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69" y="25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5" y="25"/>
                  </a:lnTo>
                  <a:lnTo>
                    <a:pt x="51" y="23"/>
                  </a:lnTo>
                  <a:lnTo>
                    <a:pt x="46" y="22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0" y="20"/>
                  </a:lnTo>
                  <a:lnTo>
                    <a:pt x="23" y="23"/>
                  </a:lnTo>
                  <a:lnTo>
                    <a:pt x="15" y="23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44" y="36"/>
                  </a:lnTo>
                  <a:lnTo>
                    <a:pt x="52" y="36"/>
                  </a:lnTo>
                  <a:lnTo>
                    <a:pt x="63" y="38"/>
                  </a:lnTo>
                  <a:lnTo>
                    <a:pt x="74" y="40"/>
                  </a:lnTo>
                  <a:lnTo>
                    <a:pt x="85" y="42"/>
                  </a:lnTo>
                  <a:lnTo>
                    <a:pt x="97" y="43"/>
                  </a:lnTo>
                  <a:lnTo>
                    <a:pt x="105" y="42"/>
                  </a:lnTo>
                  <a:lnTo>
                    <a:pt x="113" y="40"/>
                  </a:lnTo>
                  <a:lnTo>
                    <a:pt x="122" y="41"/>
                  </a:lnTo>
                  <a:lnTo>
                    <a:pt x="130" y="42"/>
                  </a:lnTo>
                  <a:lnTo>
                    <a:pt x="129" y="41"/>
                  </a:lnTo>
                  <a:lnTo>
                    <a:pt x="127" y="40"/>
                  </a:lnTo>
                  <a:lnTo>
                    <a:pt x="127" y="40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4240" y="5986440"/>
              <a:ext cx="15480" cy="79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26" y="8"/>
                  </a:moveTo>
                  <a:lnTo>
                    <a:pt x="19" y="5"/>
                  </a:lnTo>
                  <a:lnTo>
                    <a:pt x="13" y="1"/>
                  </a:lnTo>
                  <a:lnTo>
                    <a:pt x="6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15" y="13"/>
                  </a:lnTo>
                  <a:lnTo>
                    <a:pt x="23" y="15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920" y="5987880"/>
              <a:ext cx="9360" cy="64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6"/>
                  </a:moveTo>
                  <a:lnTo>
                    <a:pt x="17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7"/>
                  </a:lnTo>
                  <a:lnTo>
                    <a:pt x="7" y="10"/>
                  </a:lnTo>
                  <a:lnTo>
                    <a:pt x="13" y="11"/>
                  </a:lnTo>
                  <a:lnTo>
                    <a:pt x="18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4640" y="598788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040" y="5984640"/>
              <a:ext cx="4320" cy="6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4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9"/>
                  </a:lnTo>
                  <a:lnTo>
                    <a:pt x="8" y="6"/>
                  </a:lnTo>
                  <a:lnTo>
                    <a:pt x="9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7920" y="597528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5" y="4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7920" y="597528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5" y="4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5" y="4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720" y="5962320"/>
              <a:ext cx="29880" cy="11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39" y="0"/>
                  </a:moveTo>
                  <a:lnTo>
                    <a:pt x="49" y="0"/>
                  </a:lnTo>
                  <a:lnTo>
                    <a:pt x="55" y="3"/>
                  </a:lnTo>
                  <a:lnTo>
                    <a:pt x="57" y="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47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43" y="16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8" y="21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6" y="15"/>
                  </a:lnTo>
                  <a:lnTo>
                    <a:pt x="0" y="12"/>
                  </a:lnTo>
                  <a:lnTo>
                    <a:pt x="8" y="9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280" y="5943600"/>
              <a:ext cx="1692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0" y="27"/>
                  </a:moveTo>
                  <a:lnTo>
                    <a:pt x="29" y="23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7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8" y="45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8" y="45"/>
                  </a:lnTo>
                  <a:lnTo>
                    <a:pt x="31" y="40"/>
                  </a:lnTo>
                  <a:lnTo>
                    <a:pt x="32" y="33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280" y="5943600"/>
              <a:ext cx="1692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0" y="27"/>
                  </a:moveTo>
                  <a:lnTo>
                    <a:pt x="29" y="23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7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8" y="45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8" y="45"/>
                  </a:lnTo>
                  <a:lnTo>
                    <a:pt x="31" y="40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30" y="27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360" y="5935680"/>
              <a:ext cx="32760" cy="1404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45" y="14"/>
                  </a:moveTo>
                  <a:lnTo>
                    <a:pt x="47" y="11"/>
                  </a:lnTo>
                  <a:lnTo>
                    <a:pt x="47" y="8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7"/>
                  </a:lnTo>
                  <a:lnTo>
                    <a:pt x="61" y="10"/>
                  </a:lnTo>
                  <a:lnTo>
                    <a:pt x="61" y="17"/>
                  </a:lnTo>
                  <a:lnTo>
                    <a:pt x="59" y="23"/>
                  </a:lnTo>
                  <a:lnTo>
                    <a:pt x="55" y="27"/>
                  </a:lnTo>
                  <a:lnTo>
                    <a:pt x="51" y="27"/>
                  </a:lnTo>
                  <a:lnTo>
                    <a:pt x="44" y="26"/>
                  </a:lnTo>
                  <a:lnTo>
                    <a:pt x="38" y="25"/>
                  </a:lnTo>
                  <a:lnTo>
                    <a:pt x="32" y="24"/>
                  </a:lnTo>
                  <a:lnTo>
                    <a:pt x="26" y="22"/>
                  </a:lnTo>
                  <a:lnTo>
                    <a:pt x="19" y="19"/>
                  </a:lnTo>
                  <a:lnTo>
                    <a:pt x="13" y="18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3" y="6"/>
                  </a:lnTo>
                  <a:lnTo>
                    <a:pt x="7" y="5"/>
                  </a:lnTo>
                  <a:lnTo>
                    <a:pt x="13" y="5"/>
                  </a:lnTo>
                  <a:lnTo>
                    <a:pt x="20" y="8"/>
                  </a:lnTo>
                  <a:lnTo>
                    <a:pt x="27" y="10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20" y="5910120"/>
              <a:ext cx="23400" cy="2700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2" y="22"/>
                  </a:moveTo>
                  <a:lnTo>
                    <a:pt x="36" y="14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5"/>
                  </a:lnTo>
                  <a:lnTo>
                    <a:pt x="19" y="11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9" y="24"/>
                  </a:lnTo>
                  <a:lnTo>
                    <a:pt x="6" y="24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11" y="44"/>
                  </a:lnTo>
                  <a:lnTo>
                    <a:pt x="10" y="46"/>
                  </a:lnTo>
                  <a:lnTo>
                    <a:pt x="9" y="48"/>
                  </a:lnTo>
                  <a:lnTo>
                    <a:pt x="7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8" y="34"/>
                  </a:lnTo>
                  <a:lnTo>
                    <a:pt x="31" y="29"/>
                  </a:lnTo>
                  <a:lnTo>
                    <a:pt x="35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1" y="16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1720" y="5910120"/>
              <a:ext cx="23400" cy="2700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2" y="22"/>
                  </a:moveTo>
                  <a:lnTo>
                    <a:pt x="36" y="14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5"/>
                  </a:lnTo>
                  <a:lnTo>
                    <a:pt x="19" y="11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9" y="24"/>
                  </a:lnTo>
                  <a:lnTo>
                    <a:pt x="6" y="24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11" y="44"/>
                  </a:lnTo>
                  <a:lnTo>
                    <a:pt x="10" y="46"/>
                  </a:lnTo>
                  <a:lnTo>
                    <a:pt x="9" y="48"/>
                  </a:lnTo>
                  <a:lnTo>
                    <a:pt x="7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8" y="34"/>
                  </a:lnTo>
                  <a:lnTo>
                    <a:pt x="31" y="29"/>
                  </a:lnTo>
                  <a:lnTo>
                    <a:pt x="35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1" y="16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2" y="22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040" y="591012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1200" y="5897520"/>
              <a:ext cx="10800" cy="46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6"/>
                  </a:moveTo>
                  <a:lnTo>
                    <a:pt x="19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8" y="10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8880" y="5873760"/>
              <a:ext cx="12240" cy="42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7" y="79"/>
                  </a:moveTo>
                  <a:lnTo>
                    <a:pt x="19" y="79"/>
                  </a:lnTo>
                  <a:lnTo>
                    <a:pt x="21" y="81"/>
                  </a:lnTo>
                  <a:lnTo>
                    <a:pt x="22" y="79"/>
                  </a:lnTo>
                  <a:lnTo>
                    <a:pt x="20" y="66"/>
                  </a:lnTo>
                  <a:lnTo>
                    <a:pt x="19" y="51"/>
                  </a:lnTo>
                  <a:lnTo>
                    <a:pt x="17" y="37"/>
                  </a:lnTo>
                  <a:lnTo>
                    <a:pt x="18" y="25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9" y="24"/>
                  </a:lnTo>
                  <a:lnTo>
                    <a:pt x="18" y="14"/>
                  </a:lnTo>
                  <a:lnTo>
                    <a:pt x="14" y="6"/>
                  </a:lnTo>
                  <a:lnTo>
                    <a:pt x="11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2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7" y="35"/>
                  </a:lnTo>
                  <a:lnTo>
                    <a:pt x="7" y="43"/>
                  </a:lnTo>
                  <a:lnTo>
                    <a:pt x="7" y="48"/>
                  </a:lnTo>
                  <a:lnTo>
                    <a:pt x="6" y="54"/>
                  </a:lnTo>
                  <a:lnTo>
                    <a:pt x="7" y="61"/>
                  </a:lnTo>
                  <a:lnTo>
                    <a:pt x="11" y="67"/>
                  </a:lnTo>
                  <a:lnTo>
                    <a:pt x="14" y="74"/>
                  </a:lnTo>
                  <a:lnTo>
                    <a:pt x="17" y="78"/>
                  </a:lnTo>
                  <a:lnTo>
                    <a:pt x="17" y="79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720" y="5867280"/>
              <a:ext cx="2880" cy="3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2"/>
                  </a:move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960" y="5843520"/>
              <a:ext cx="28080" cy="1404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19" y="6"/>
                  </a:moveTo>
                  <a:lnTo>
                    <a:pt x="27" y="4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48" y="8"/>
                  </a:lnTo>
                  <a:lnTo>
                    <a:pt x="40" y="10"/>
                  </a:lnTo>
                  <a:lnTo>
                    <a:pt x="31" y="12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17" y="25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10"/>
                  </a:lnTo>
                  <a:lnTo>
                    <a:pt x="11" y="8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7840" y="5779800"/>
              <a:ext cx="288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8160" y="4937040"/>
              <a:ext cx="1541160" cy="1463760"/>
            </a:xfrm>
            <a:custGeom>
              <a:avLst/>
              <a:gdLst/>
              <a:ahLst/>
              <a:rect l="l" t="t" r="r" b="b"/>
              <a:pathLst>
                <a:path w="2911" h="2766">
                  <a:moveTo>
                    <a:pt x="970" y="159"/>
                  </a:moveTo>
                  <a:lnTo>
                    <a:pt x="1011" y="254"/>
                  </a:lnTo>
                  <a:lnTo>
                    <a:pt x="1027" y="399"/>
                  </a:lnTo>
                  <a:lnTo>
                    <a:pt x="1108" y="461"/>
                  </a:lnTo>
                  <a:lnTo>
                    <a:pt x="1047" y="600"/>
                  </a:lnTo>
                  <a:lnTo>
                    <a:pt x="935" y="550"/>
                  </a:lnTo>
                  <a:lnTo>
                    <a:pt x="974" y="459"/>
                  </a:lnTo>
                  <a:lnTo>
                    <a:pt x="951" y="449"/>
                  </a:lnTo>
                  <a:lnTo>
                    <a:pt x="684" y="440"/>
                  </a:lnTo>
                  <a:lnTo>
                    <a:pt x="722" y="538"/>
                  </a:lnTo>
                  <a:lnTo>
                    <a:pt x="683" y="628"/>
                  </a:lnTo>
                  <a:lnTo>
                    <a:pt x="753" y="714"/>
                  </a:lnTo>
                  <a:lnTo>
                    <a:pt x="881" y="799"/>
                  </a:lnTo>
                  <a:lnTo>
                    <a:pt x="1002" y="769"/>
                  </a:lnTo>
                  <a:lnTo>
                    <a:pt x="952" y="939"/>
                  </a:lnTo>
                  <a:lnTo>
                    <a:pt x="852" y="922"/>
                  </a:lnTo>
                  <a:lnTo>
                    <a:pt x="811" y="957"/>
                  </a:lnTo>
                  <a:lnTo>
                    <a:pt x="754" y="959"/>
                  </a:lnTo>
                  <a:lnTo>
                    <a:pt x="705" y="885"/>
                  </a:lnTo>
                  <a:lnTo>
                    <a:pt x="619" y="955"/>
                  </a:lnTo>
                  <a:lnTo>
                    <a:pt x="454" y="1018"/>
                  </a:lnTo>
                  <a:lnTo>
                    <a:pt x="474" y="1164"/>
                  </a:lnTo>
                  <a:lnTo>
                    <a:pt x="431" y="1198"/>
                  </a:lnTo>
                  <a:lnTo>
                    <a:pt x="483" y="1328"/>
                  </a:lnTo>
                  <a:lnTo>
                    <a:pt x="595" y="1379"/>
                  </a:lnTo>
                  <a:lnTo>
                    <a:pt x="612" y="1469"/>
                  </a:lnTo>
                  <a:lnTo>
                    <a:pt x="570" y="1505"/>
                  </a:lnTo>
                  <a:lnTo>
                    <a:pt x="561" y="1582"/>
                  </a:lnTo>
                  <a:lnTo>
                    <a:pt x="672" y="1576"/>
                  </a:lnTo>
                  <a:lnTo>
                    <a:pt x="721" y="1709"/>
                  </a:lnTo>
                  <a:lnTo>
                    <a:pt x="889" y="1699"/>
                  </a:lnTo>
                  <a:lnTo>
                    <a:pt x="804" y="1772"/>
                  </a:lnTo>
                  <a:lnTo>
                    <a:pt x="763" y="1864"/>
                  </a:lnTo>
                  <a:lnTo>
                    <a:pt x="520" y="1920"/>
                  </a:lnTo>
                  <a:lnTo>
                    <a:pt x="414" y="1982"/>
                  </a:lnTo>
                  <a:lnTo>
                    <a:pt x="343" y="1950"/>
                  </a:lnTo>
                  <a:lnTo>
                    <a:pt x="190" y="1991"/>
                  </a:lnTo>
                  <a:lnTo>
                    <a:pt x="66" y="1963"/>
                  </a:lnTo>
                  <a:lnTo>
                    <a:pt x="0" y="1990"/>
                  </a:lnTo>
                  <a:lnTo>
                    <a:pt x="36" y="2031"/>
                  </a:lnTo>
                  <a:lnTo>
                    <a:pt x="304" y="2040"/>
                  </a:lnTo>
                  <a:lnTo>
                    <a:pt x="470" y="2033"/>
                  </a:lnTo>
                  <a:lnTo>
                    <a:pt x="823" y="1971"/>
                  </a:lnTo>
                  <a:lnTo>
                    <a:pt x="1132" y="1834"/>
                  </a:lnTo>
                  <a:lnTo>
                    <a:pt x="1173" y="1798"/>
                  </a:lnTo>
                  <a:lnTo>
                    <a:pt x="1106" y="1768"/>
                  </a:lnTo>
                  <a:lnTo>
                    <a:pt x="1441" y="1562"/>
                  </a:lnTo>
                  <a:lnTo>
                    <a:pt x="1498" y="1560"/>
                  </a:lnTo>
                  <a:lnTo>
                    <a:pt x="1477" y="1606"/>
                  </a:lnTo>
                  <a:lnTo>
                    <a:pt x="1389" y="1621"/>
                  </a:lnTo>
                  <a:lnTo>
                    <a:pt x="1307" y="1748"/>
                  </a:lnTo>
                  <a:lnTo>
                    <a:pt x="1359" y="1745"/>
                  </a:lnTo>
                  <a:lnTo>
                    <a:pt x="1296" y="1771"/>
                  </a:lnTo>
                  <a:lnTo>
                    <a:pt x="1308" y="1804"/>
                  </a:lnTo>
                  <a:lnTo>
                    <a:pt x="1485" y="1771"/>
                  </a:lnTo>
                  <a:lnTo>
                    <a:pt x="1563" y="1779"/>
                  </a:lnTo>
                  <a:lnTo>
                    <a:pt x="1616" y="1721"/>
                  </a:lnTo>
                  <a:lnTo>
                    <a:pt x="1612" y="1666"/>
                  </a:lnTo>
                  <a:lnTo>
                    <a:pt x="1760" y="1703"/>
                  </a:lnTo>
                  <a:lnTo>
                    <a:pt x="1879" y="1867"/>
                  </a:lnTo>
                  <a:lnTo>
                    <a:pt x="2037" y="1880"/>
                  </a:lnTo>
                  <a:lnTo>
                    <a:pt x="2094" y="1932"/>
                  </a:lnTo>
                  <a:lnTo>
                    <a:pt x="2186" y="1972"/>
                  </a:lnTo>
                  <a:lnTo>
                    <a:pt x="2385" y="2198"/>
                  </a:lnTo>
                  <a:lnTo>
                    <a:pt x="2413" y="2263"/>
                  </a:lnTo>
                  <a:lnTo>
                    <a:pt x="2441" y="2384"/>
                  </a:lnTo>
                  <a:lnTo>
                    <a:pt x="2536" y="2536"/>
                  </a:lnTo>
                  <a:lnTo>
                    <a:pt x="2563" y="2601"/>
                  </a:lnTo>
                  <a:lnTo>
                    <a:pt x="2683" y="2762"/>
                  </a:lnTo>
                  <a:lnTo>
                    <a:pt x="2870" y="2766"/>
                  </a:lnTo>
                  <a:lnTo>
                    <a:pt x="2911" y="2674"/>
                  </a:lnTo>
                  <a:lnTo>
                    <a:pt x="2908" y="2563"/>
                  </a:lnTo>
                  <a:lnTo>
                    <a:pt x="2850" y="2510"/>
                  </a:lnTo>
                  <a:lnTo>
                    <a:pt x="2780" y="2479"/>
                  </a:lnTo>
                  <a:lnTo>
                    <a:pt x="2719" y="2371"/>
                  </a:lnTo>
                  <a:lnTo>
                    <a:pt x="2657" y="2262"/>
                  </a:lnTo>
                  <a:lnTo>
                    <a:pt x="2554" y="2000"/>
                  </a:lnTo>
                  <a:lnTo>
                    <a:pt x="2501" y="2003"/>
                  </a:lnTo>
                  <a:lnTo>
                    <a:pt x="2424" y="2052"/>
                  </a:lnTo>
                  <a:lnTo>
                    <a:pt x="2357" y="2077"/>
                  </a:lnTo>
                  <a:lnTo>
                    <a:pt x="2240" y="1914"/>
                  </a:lnTo>
                  <a:lnTo>
                    <a:pt x="2259" y="1870"/>
                  </a:lnTo>
                  <a:lnTo>
                    <a:pt x="2104" y="1855"/>
                  </a:lnTo>
                  <a:lnTo>
                    <a:pt x="2158" y="1605"/>
                  </a:lnTo>
                  <a:lnTo>
                    <a:pt x="2266" y="1055"/>
                  </a:lnTo>
                  <a:lnTo>
                    <a:pt x="2322" y="672"/>
                  </a:lnTo>
                  <a:lnTo>
                    <a:pt x="2349" y="493"/>
                  </a:lnTo>
                  <a:lnTo>
                    <a:pt x="2242" y="364"/>
                  </a:lnTo>
                  <a:lnTo>
                    <a:pt x="2153" y="378"/>
                  </a:lnTo>
                  <a:lnTo>
                    <a:pt x="1944" y="233"/>
                  </a:lnTo>
                  <a:lnTo>
                    <a:pt x="1866" y="226"/>
                  </a:lnTo>
                  <a:lnTo>
                    <a:pt x="1809" y="173"/>
                  </a:lnTo>
                  <a:lnTo>
                    <a:pt x="1820" y="151"/>
                  </a:lnTo>
                  <a:lnTo>
                    <a:pt x="1633" y="12"/>
                  </a:lnTo>
                  <a:lnTo>
                    <a:pt x="1592" y="51"/>
                  </a:lnTo>
                  <a:lnTo>
                    <a:pt x="1475" y="0"/>
                  </a:lnTo>
                  <a:lnTo>
                    <a:pt x="1354" y="27"/>
                  </a:lnTo>
                  <a:lnTo>
                    <a:pt x="1258" y="65"/>
                  </a:lnTo>
                  <a:lnTo>
                    <a:pt x="1204" y="124"/>
                  </a:lnTo>
                  <a:lnTo>
                    <a:pt x="1138" y="148"/>
                  </a:lnTo>
                  <a:lnTo>
                    <a:pt x="1047" y="109"/>
                  </a:lnTo>
                  <a:lnTo>
                    <a:pt x="970" y="159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60640" y="3414600"/>
            <a:ext cx="628560" cy="782640"/>
          </a:xfrm>
          <a:custGeom>
            <a:avLst/>
            <a:gdLst/>
            <a:ahLst/>
            <a:rect l="l" t="t" r="r" b="b"/>
            <a:pathLst>
              <a:path w="1189" h="1480">
                <a:moveTo>
                  <a:pt x="1044" y="1480"/>
                </a:moveTo>
                <a:lnTo>
                  <a:pt x="1189" y="423"/>
                </a:lnTo>
                <a:lnTo>
                  <a:pt x="797" y="362"/>
                </a:lnTo>
                <a:lnTo>
                  <a:pt x="838" y="105"/>
                </a:lnTo>
                <a:lnTo>
                  <a:pt x="253" y="0"/>
                </a:lnTo>
                <a:lnTo>
                  <a:pt x="0" y="1316"/>
                </a:lnTo>
                <a:lnTo>
                  <a:pt x="1044" y="1480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90720" y="2390760"/>
            <a:ext cx="665280" cy="1079640"/>
          </a:xfrm>
          <a:custGeom>
            <a:avLst/>
            <a:gdLst/>
            <a:ahLst/>
            <a:rect l="l" t="t" r="r" b="b"/>
            <a:pathLst>
              <a:path w="1258" h="2040">
                <a:moveTo>
                  <a:pt x="0" y="1816"/>
                </a:moveTo>
                <a:lnTo>
                  <a:pt x="103" y="1345"/>
                </a:lnTo>
                <a:lnTo>
                  <a:pt x="130" y="1311"/>
                </a:lnTo>
                <a:lnTo>
                  <a:pt x="130" y="1280"/>
                </a:lnTo>
                <a:lnTo>
                  <a:pt x="137" y="1277"/>
                </a:lnTo>
                <a:lnTo>
                  <a:pt x="141" y="1268"/>
                </a:lnTo>
                <a:lnTo>
                  <a:pt x="148" y="1252"/>
                </a:lnTo>
                <a:lnTo>
                  <a:pt x="135" y="1232"/>
                </a:lnTo>
                <a:lnTo>
                  <a:pt x="105" y="1219"/>
                </a:lnTo>
                <a:lnTo>
                  <a:pt x="98" y="1202"/>
                </a:lnTo>
                <a:lnTo>
                  <a:pt x="107" y="1170"/>
                </a:lnTo>
                <a:lnTo>
                  <a:pt x="155" y="1097"/>
                </a:lnTo>
                <a:lnTo>
                  <a:pt x="183" y="1084"/>
                </a:lnTo>
                <a:lnTo>
                  <a:pt x="202" y="1063"/>
                </a:lnTo>
                <a:lnTo>
                  <a:pt x="205" y="1043"/>
                </a:lnTo>
                <a:lnTo>
                  <a:pt x="221" y="1028"/>
                </a:lnTo>
                <a:lnTo>
                  <a:pt x="312" y="887"/>
                </a:lnTo>
                <a:lnTo>
                  <a:pt x="307" y="851"/>
                </a:lnTo>
                <a:lnTo>
                  <a:pt x="287" y="835"/>
                </a:lnTo>
                <a:lnTo>
                  <a:pt x="269" y="829"/>
                </a:lnTo>
                <a:lnTo>
                  <a:pt x="251" y="804"/>
                </a:lnTo>
                <a:lnTo>
                  <a:pt x="249" y="781"/>
                </a:lnTo>
                <a:lnTo>
                  <a:pt x="246" y="748"/>
                </a:lnTo>
                <a:lnTo>
                  <a:pt x="255" y="735"/>
                </a:lnTo>
                <a:lnTo>
                  <a:pt x="259" y="720"/>
                </a:lnTo>
                <a:lnTo>
                  <a:pt x="247" y="701"/>
                </a:lnTo>
                <a:lnTo>
                  <a:pt x="247" y="677"/>
                </a:lnTo>
                <a:lnTo>
                  <a:pt x="255" y="667"/>
                </a:lnTo>
                <a:lnTo>
                  <a:pt x="402" y="0"/>
                </a:lnTo>
                <a:lnTo>
                  <a:pt x="400" y="0"/>
                </a:lnTo>
                <a:lnTo>
                  <a:pt x="568" y="40"/>
                </a:lnTo>
                <a:lnTo>
                  <a:pt x="522" y="296"/>
                </a:lnTo>
                <a:lnTo>
                  <a:pt x="551" y="365"/>
                </a:lnTo>
                <a:lnTo>
                  <a:pt x="561" y="410"/>
                </a:lnTo>
                <a:lnTo>
                  <a:pt x="551" y="438"/>
                </a:lnTo>
                <a:lnTo>
                  <a:pt x="541" y="448"/>
                </a:lnTo>
                <a:lnTo>
                  <a:pt x="555" y="463"/>
                </a:lnTo>
                <a:lnTo>
                  <a:pt x="575" y="492"/>
                </a:lnTo>
                <a:lnTo>
                  <a:pt x="621" y="536"/>
                </a:lnTo>
                <a:lnTo>
                  <a:pt x="653" y="605"/>
                </a:lnTo>
                <a:lnTo>
                  <a:pt x="659" y="640"/>
                </a:lnTo>
                <a:lnTo>
                  <a:pt x="674" y="673"/>
                </a:lnTo>
                <a:lnTo>
                  <a:pt x="701" y="674"/>
                </a:lnTo>
                <a:lnTo>
                  <a:pt x="704" y="697"/>
                </a:lnTo>
                <a:lnTo>
                  <a:pt x="744" y="703"/>
                </a:lnTo>
                <a:lnTo>
                  <a:pt x="757" y="718"/>
                </a:lnTo>
                <a:lnTo>
                  <a:pt x="715" y="801"/>
                </a:lnTo>
                <a:lnTo>
                  <a:pt x="718" y="815"/>
                </a:lnTo>
                <a:lnTo>
                  <a:pt x="703" y="829"/>
                </a:lnTo>
                <a:lnTo>
                  <a:pt x="700" y="869"/>
                </a:lnTo>
                <a:lnTo>
                  <a:pt x="704" y="876"/>
                </a:lnTo>
                <a:lnTo>
                  <a:pt x="701" y="897"/>
                </a:lnTo>
                <a:lnTo>
                  <a:pt x="673" y="917"/>
                </a:lnTo>
                <a:lnTo>
                  <a:pt x="673" y="943"/>
                </a:lnTo>
                <a:lnTo>
                  <a:pt x="674" y="956"/>
                </a:lnTo>
                <a:lnTo>
                  <a:pt x="663" y="977"/>
                </a:lnTo>
                <a:lnTo>
                  <a:pt x="700" y="1017"/>
                </a:lnTo>
                <a:lnTo>
                  <a:pt x="713" y="1012"/>
                </a:lnTo>
                <a:lnTo>
                  <a:pt x="769" y="966"/>
                </a:lnTo>
                <a:lnTo>
                  <a:pt x="777" y="964"/>
                </a:lnTo>
                <a:lnTo>
                  <a:pt x="783" y="966"/>
                </a:lnTo>
                <a:lnTo>
                  <a:pt x="791" y="986"/>
                </a:lnTo>
                <a:lnTo>
                  <a:pt x="798" y="991"/>
                </a:lnTo>
                <a:lnTo>
                  <a:pt x="808" y="1002"/>
                </a:lnTo>
                <a:lnTo>
                  <a:pt x="802" y="1031"/>
                </a:lnTo>
                <a:lnTo>
                  <a:pt x="803" y="1086"/>
                </a:lnTo>
                <a:lnTo>
                  <a:pt x="813" y="1122"/>
                </a:lnTo>
                <a:lnTo>
                  <a:pt x="838" y="1151"/>
                </a:lnTo>
                <a:lnTo>
                  <a:pt x="836" y="1168"/>
                </a:lnTo>
                <a:lnTo>
                  <a:pt x="823" y="1192"/>
                </a:lnTo>
                <a:lnTo>
                  <a:pt x="844" y="1226"/>
                </a:lnTo>
                <a:lnTo>
                  <a:pt x="865" y="1226"/>
                </a:lnTo>
                <a:lnTo>
                  <a:pt x="886" y="1251"/>
                </a:lnTo>
                <a:lnTo>
                  <a:pt x="891" y="1267"/>
                </a:lnTo>
                <a:lnTo>
                  <a:pt x="882" y="1302"/>
                </a:lnTo>
                <a:lnTo>
                  <a:pt x="882" y="1311"/>
                </a:lnTo>
                <a:lnTo>
                  <a:pt x="897" y="1339"/>
                </a:lnTo>
                <a:lnTo>
                  <a:pt x="922" y="1355"/>
                </a:lnTo>
                <a:lnTo>
                  <a:pt x="934" y="1330"/>
                </a:lnTo>
                <a:lnTo>
                  <a:pt x="949" y="1322"/>
                </a:lnTo>
                <a:lnTo>
                  <a:pt x="989" y="1337"/>
                </a:lnTo>
                <a:lnTo>
                  <a:pt x="1005" y="1340"/>
                </a:lnTo>
                <a:lnTo>
                  <a:pt x="1022" y="1325"/>
                </a:lnTo>
                <a:lnTo>
                  <a:pt x="1037" y="1322"/>
                </a:lnTo>
                <a:lnTo>
                  <a:pt x="1049" y="1333"/>
                </a:lnTo>
                <a:lnTo>
                  <a:pt x="1099" y="1334"/>
                </a:lnTo>
                <a:lnTo>
                  <a:pt x="1121" y="1346"/>
                </a:lnTo>
                <a:lnTo>
                  <a:pt x="1130" y="1341"/>
                </a:lnTo>
                <a:lnTo>
                  <a:pt x="1183" y="1343"/>
                </a:lnTo>
                <a:lnTo>
                  <a:pt x="1181" y="1322"/>
                </a:lnTo>
                <a:lnTo>
                  <a:pt x="1205" y="1304"/>
                </a:lnTo>
                <a:lnTo>
                  <a:pt x="1230" y="1331"/>
                </a:lnTo>
                <a:lnTo>
                  <a:pt x="1239" y="1362"/>
                </a:lnTo>
                <a:lnTo>
                  <a:pt x="1258" y="1381"/>
                </a:lnTo>
                <a:lnTo>
                  <a:pt x="1162" y="2040"/>
                </a:lnTo>
                <a:lnTo>
                  <a:pt x="1160" y="2040"/>
                </a:lnTo>
                <a:lnTo>
                  <a:pt x="575" y="1935"/>
                </a:lnTo>
                <a:lnTo>
                  <a:pt x="0" y="1816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66840" y="2411280"/>
            <a:ext cx="1141560" cy="725760"/>
          </a:xfrm>
          <a:custGeom>
            <a:avLst/>
            <a:gdLst/>
            <a:ahLst/>
            <a:rect l="l" t="t" r="r" b="b"/>
            <a:pathLst>
              <a:path w="2157" h="1370">
                <a:moveTo>
                  <a:pt x="2068" y="1370"/>
                </a:moveTo>
                <a:lnTo>
                  <a:pt x="753" y="1205"/>
                </a:lnTo>
                <a:lnTo>
                  <a:pt x="736" y="1341"/>
                </a:lnTo>
                <a:lnTo>
                  <a:pt x="716" y="1323"/>
                </a:lnTo>
                <a:lnTo>
                  <a:pt x="708" y="1292"/>
                </a:lnTo>
                <a:lnTo>
                  <a:pt x="683" y="1264"/>
                </a:lnTo>
                <a:lnTo>
                  <a:pt x="658" y="1282"/>
                </a:lnTo>
                <a:lnTo>
                  <a:pt x="661" y="1303"/>
                </a:lnTo>
                <a:lnTo>
                  <a:pt x="607" y="1302"/>
                </a:lnTo>
                <a:lnTo>
                  <a:pt x="598" y="1307"/>
                </a:lnTo>
                <a:lnTo>
                  <a:pt x="576" y="1294"/>
                </a:lnTo>
                <a:lnTo>
                  <a:pt x="527" y="1293"/>
                </a:lnTo>
                <a:lnTo>
                  <a:pt x="514" y="1282"/>
                </a:lnTo>
                <a:lnTo>
                  <a:pt x="500" y="1286"/>
                </a:lnTo>
                <a:lnTo>
                  <a:pt x="482" y="1300"/>
                </a:lnTo>
                <a:lnTo>
                  <a:pt x="466" y="1298"/>
                </a:lnTo>
                <a:lnTo>
                  <a:pt x="425" y="1282"/>
                </a:lnTo>
                <a:lnTo>
                  <a:pt x="412" y="1290"/>
                </a:lnTo>
                <a:lnTo>
                  <a:pt x="399" y="1315"/>
                </a:lnTo>
                <a:lnTo>
                  <a:pt x="374" y="1299"/>
                </a:lnTo>
                <a:lnTo>
                  <a:pt x="360" y="1271"/>
                </a:lnTo>
                <a:lnTo>
                  <a:pt x="360" y="1262"/>
                </a:lnTo>
                <a:lnTo>
                  <a:pt x="368" y="1227"/>
                </a:lnTo>
                <a:lnTo>
                  <a:pt x="363" y="1211"/>
                </a:lnTo>
                <a:lnTo>
                  <a:pt x="343" y="1186"/>
                </a:lnTo>
                <a:lnTo>
                  <a:pt x="321" y="1186"/>
                </a:lnTo>
                <a:lnTo>
                  <a:pt x="300" y="1152"/>
                </a:lnTo>
                <a:lnTo>
                  <a:pt x="314" y="1129"/>
                </a:lnTo>
                <a:lnTo>
                  <a:pt x="315" y="1111"/>
                </a:lnTo>
                <a:lnTo>
                  <a:pt x="291" y="1083"/>
                </a:lnTo>
                <a:lnTo>
                  <a:pt x="280" y="1047"/>
                </a:lnTo>
                <a:lnTo>
                  <a:pt x="279" y="991"/>
                </a:lnTo>
                <a:lnTo>
                  <a:pt x="285" y="962"/>
                </a:lnTo>
                <a:lnTo>
                  <a:pt x="276" y="951"/>
                </a:lnTo>
                <a:lnTo>
                  <a:pt x="268" y="946"/>
                </a:lnTo>
                <a:lnTo>
                  <a:pt x="261" y="927"/>
                </a:lnTo>
                <a:lnTo>
                  <a:pt x="254" y="924"/>
                </a:lnTo>
                <a:lnTo>
                  <a:pt x="247" y="927"/>
                </a:lnTo>
                <a:lnTo>
                  <a:pt x="190" y="972"/>
                </a:lnTo>
                <a:lnTo>
                  <a:pt x="178" y="977"/>
                </a:lnTo>
                <a:lnTo>
                  <a:pt x="141" y="938"/>
                </a:lnTo>
                <a:lnTo>
                  <a:pt x="152" y="917"/>
                </a:lnTo>
                <a:lnTo>
                  <a:pt x="150" y="903"/>
                </a:lnTo>
                <a:lnTo>
                  <a:pt x="150" y="877"/>
                </a:lnTo>
                <a:lnTo>
                  <a:pt x="179" y="858"/>
                </a:lnTo>
                <a:lnTo>
                  <a:pt x="182" y="836"/>
                </a:lnTo>
                <a:lnTo>
                  <a:pt x="178" y="829"/>
                </a:lnTo>
                <a:lnTo>
                  <a:pt x="180" y="789"/>
                </a:lnTo>
                <a:lnTo>
                  <a:pt x="195" y="776"/>
                </a:lnTo>
                <a:lnTo>
                  <a:pt x="192" y="761"/>
                </a:lnTo>
                <a:lnTo>
                  <a:pt x="235" y="678"/>
                </a:lnTo>
                <a:lnTo>
                  <a:pt x="221" y="663"/>
                </a:lnTo>
                <a:lnTo>
                  <a:pt x="182" y="657"/>
                </a:lnTo>
                <a:lnTo>
                  <a:pt x="179" y="635"/>
                </a:lnTo>
                <a:lnTo>
                  <a:pt x="152" y="633"/>
                </a:lnTo>
                <a:lnTo>
                  <a:pt x="137" y="600"/>
                </a:lnTo>
                <a:lnTo>
                  <a:pt x="131" y="565"/>
                </a:lnTo>
                <a:lnTo>
                  <a:pt x="99" y="496"/>
                </a:lnTo>
                <a:lnTo>
                  <a:pt x="53" y="453"/>
                </a:lnTo>
                <a:lnTo>
                  <a:pt x="33" y="423"/>
                </a:lnTo>
                <a:lnTo>
                  <a:pt x="18" y="408"/>
                </a:lnTo>
                <a:lnTo>
                  <a:pt x="28" y="398"/>
                </a:lnTo>
                <a:lnTo>
                  <a:pt x="38" y="370"/>
                </a:lnTo>
                <a:lnTo>
                  <a:pt x="28" y="325"/>
                </a:lnTo>
                <a:lnTo>
                  <a:pt x="0" y="256"/>
                </a:lnTo>
                <a:lnTo>
                  <a:pt x="45" y="0"/>
                </a:lnTo>
                <a:lnTo>
                  <a:pt x="243" y="36"/>
                </a:lnTo>
                <a:lnTo>
                  <a:pt x="771" y="126"/>
                </a:lnTo>
                <a:lnTo>
                  <a:pt x="1312" y="217"/>
                </a:lnTo>
                <a:lnTo>
                  <a:pt x="2157" y="305"/>
                </a:lnTo>
                <a:lnTo>
                  <a:pt x="2091" y="1110"/>
                </a:lnTo>
                <a:lnTo>
                  <a:pt x="2068" y="137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2920" y="3048120"/>
            <a:ext cx="777960" cy="645840"/>
          </a:xfrm>
          <a:custGeom>
            <a:avLst/>
            <a:gdLst/>
            <a:ahLst/>
            <a:rect l="l" t="t" r="r" b="b"/>
            <a:pathLst>
              <a:path w="1472" h="1222">
                <a:moveTo>
                  <a:pt x="1382" y="1222"/>
                </a:moveTo>
                <a:lnTo>
                  <a:pt x="1426" y="689"/>
                </a:lnTo>
                <a:lnTo>
                  <a:pt x="1472" y="165"/>
                </a:lnTo>
                <a:lnTo>
                  <a:pt x="157" y="0"/>
                </a:lnTo>
                <a:lnTo>
                  <a:pt x="139" y="136"/>
                </a:lnTo>
                <a:lnTo>
                  <a:pt x="43" y="796"/>
                </a:lnTo>
                <a:lnTo>
                  <a:pt x="41" y="796"/>
                </a:lnTo>
                <a:lnTo>
                  <a:pt x="0" y="1052"/>
                </a:lnTo>
                <a:lnTo>
                  <a:pt x="392" y="1114"/>
                </a:lnTo>
                <a:lnTo>
                  <a:pt x="1383" y="1222"/>
                </a:lnTo>
                <a:lnTo>
                  <a:pt x="1382" y="122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2840" y="3279600"/>
            <a:ext cx="711000" cy="1094040"/>
          </a:xfrm>
          <a:custGeom>
            <a:avLst/>
            <a:gdLst/>
            <a:ahLst/>
            <a:rect l="l" t="t" r="r" b="b"/>
            <a:pathLst>
              <a:path w="1345" h="2068">
                <a:moveTo>
                  <a:pt x="200" y="0"/>
                </a:moveTo>
                <a:lnTo>
                  <a:pt x="0" y="787"/>
                </a:lnTo>
                <a:lnTo>
                  <a:pt x="871" y="2068"/>
                </a:lnTo>
                <a:lnTo>
                  <a:pt x="869" y="2053"/>
                </a:lnTo>
                <a:lnTo>
                  <a:pt x="879" y="2036"/>
                </a:lnTo>
                <a:lnTo>
                  <a:pt x="895" y="1981"/>
                </a:lnTo>
                <a:lnTo>
                  <a:pt x="884" y="1959"/>
                </a:lnTo>
                <a:lnTo>
                  <a:pt x="899" y="1835"/>
                </a:lnTo>
                <a:lnTo>
                  <a:pt x="889" y="1785"/>
                </a:lnTo>
                <a:lnTo>
                  <a:pt x="899" y="1772"/>
                </a:lnTo>
                <a:lnTo>
                  <a:pt x="930" y="1766"/>
                </a:lnTo>
                <a:lnTo>
                  <a:pt x="973" y="1777"/>
                </a:lnTo>
                <a:lnTo>
                  <a:pt x="987" y="1795"/>
                </a:lnTo>
                <a:lnTo>
                  <a:pt x="987" y="1803"/>
                </a:lnTo>
                <a:lnTo>
                  <a:pt x="1001" y="1819"/>
                </a:lnTo>
                <a:lnTo>
                  <a:pt x="1026" y="1819"/>
                </a:lnTo>
                <a:lnTo>
                  <a:pt x="1064" y="1708"/>
                </a:lnTo>
                <a:lnTo>
                  <a:pt x="1092" y="1570"/>
                </a:lnTo>
                <a:lnTo>
                  <a:pt x="1345" y="254"/>
                </a:lnTo>
                <a:lnTo>
                  <a:pt x="769" y="134"/>
                </a:lnTo>
                <a:lnTo>
                  <a:pt x="200" y="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111560"/>
            <a:ext cx="760320" cy="881280"/>
          </a:xfrm>
          <a:custGeom>
            <a:avLst/>
            <a:gdLst/>
            <a:ahLst/>
            <a:rect l="l" t="t" r="r" b="b"/>
            <a:pathLst>
              <a:path w="1436" h="1666">
                <a:moveTo>
                  <a:pt x="1226" y="1664"/>
                </a:moveTo>
                <a:lnTo>
                  <a:pt x="1436" y="163"/>
                </a:lnTo>
                <a:lnTo>
                  <a:pt x="392" y="0"/>
                </a:lnTo>
                <a:lnTo>
                  <a:pt x="365" y="137"/>
                </a:lnTo>
                <a:lnTo>
                  <a:pt x="327" y="249"/>
                </a:lnTo>
                <a:lnTo>
                  <a:pt x="302" y="249"/>
                </a:lnTo>
                <a:lnTo>
                  <a:pt x="288" y="232"/>
                </a:lnTo>
                <a:lnTo>
                  <a:pt x="288" y="225"/>
                </a:lnTo>
                <a:lnTo>
                  <a:pt x="274" y="207"/>
                </a:lnTo>
                <a:lnTo>
                  <a:pt x="231" y="196"/>
                </a:lnTo>
                <a:lnTo>
                  <a:pt x="200" y="203"/>
                </a:lnTo>
                <a:lnTo>
                  <a:pt x="190" y="215"/>
                </a:lnTo>
                <a:lnTo>
                  <a:pt x="200" y="266"/>
                </a:lnTo>
                <a:lnTo>
                  <a:pt x="185" y="389"/>
                </a:lnTo>
                <a:lnTo>
                  <a:pt x="196" y="411"/>
                </a:lnTo>
                <a:lnTo>
                  <a:pt x="180" y="465"/>
                </a:lnTo>
                <a:lnTo>
                  <a:pt x="170" y="483"/>
                </a:lnTo>
                <a:lnTo>
                  <a:pt x="172" y="497"/>
                </a:lnTo>
                <a:lnTo>
                  <a:pt x="170" y="535"/>
                </a:lnTo>
                <a:lnTo>
                  <a:pt x="173" y="548"/>
                </a:lnTo>
                <a:lnTo>
                  <a:pt x="170" y="559"/>
                </a:lnTo>
                <a:lnTo>
                  <a:pt x="185" y="591"/>
                </a:lnTo>
                <a:lnTo>
                  <a:pt x="185" y="619"/>
                </a:lnTo>
                <a:lnTo>
                  <a:pt x="196" y="637"/>
                </a:lnTo>
                <a:lnTo>
                  <a:pt x="204" y="668"/>
                </a:lnTo>
                <a:lnTo>
                  <a:pt x="215" y="676"/>
                </a:lnTo>
                <a:lnTo>
                  <a:pt x="229" y="693"/>
                </a:lnTo>
                <a:lnTo>
                  <a:pt x="231" y="719"/>
                </a:lnTo>
                <a:lnTo>
                  <a:pt x="229" y="727"/>
                </a:lnTo>
                <a:lnTo>
                  <a:pt x="220" y="720"/>
                </a:lnTo>
                <a:lnTo>
                  <a:pt x="194" y="741"/>
                </a:lnTo>
                <a:lnTo>
                  <a:pt x="163" y="752"/>
                </a:lnTo>
                <a:lnTo>
                  <a:pt x="137" y="786"/>
                </a:lnTo>
                <a:lnTo>
                  <a:pt x="123" y="856"/>
                </a:lnTo>
                <a:lnTo>
                  <a:pt x="82" y="910"/>
                </a:lnTo>
                <a:lnTo>
                  <a:pt x="58" y="910"/>
                </a:lnTo>
                <a:lnTo>
                  <a:pt x="56" y="925"/>
                </a:lnTo>
                <a:lnTo>
                  <a:pt x="63" y="943"/>
                </a:lnTo>
                <a:lnTo>
                  <a:pt x="59" y="960"/>
                </a:lnTo>
                <a:lnTo>
                  <a:pt x="50" y="994"/>
                </a:lnTo>
                <a:lnTo>
                  <a:pt x="56" y="1007"/>
                </a:lnTo>
                <a:lnTo>
                  <a:pt x="86" y="1033"/>
                </a:lnTo>
                <a:lnTo>
                  <a:pt x="91" y="1045"/>
                </a:lnTo>
                <a:lnTo>
                  <a:pt x="84" y="1055"/>
                </a:lnTo>
                <a:lnTo>
                  <a:pt x="80" y="1073"/>
                </a:lnTo>
                <a:lnTo>
                  <a:pt x="61" y="1093"/>
                </a:lnTo>
                <a:lnTo>
                  <a:pt x="50" y="1091"/>
                </a:lnTo>
                <a:lnTo>
                  <a:pt x="16" y="1085"/>
                </a:lnTo>
                <a:lnTo>
                  <a:pt x="0" y="1148"/>
                </a:lnTo>
                <a:lnTo>
                  <a:pt x="772" y="1594"/>
                </a:lnTo>
                <a:lnTo>
                  <a:pt x="1226" y="1666"/>
                </a:lnTo>
                <a:lnTo>
                  <a:pt x="1226" y="166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2880" y="3637080"/>
            <a:ext cx="811440" cy="641160"/>
          </a:xfrm>
          <a:custGeom>
            <a:avLst/>
            <a:gdLst/>
            <a:ahLst/>
            <a:rect l="l" t="t" r="r" b="b"/>
            <a:pathLst>
              <a:path w="1532" h="1212">
                <a:moveTo>
                  <a:pt x="0" y="1057"/>
                </a:moveTo>
                <a:lnTo>
                  <a:pt x="145" y="0"/>
                </a:lnTo>
                <a:lnTo>
                  <a:pt x="1136" y="108"/>
                </a:lnTo>
                <a:lnTo>
                  <a:pt x="1532" y="141"/>
                </a:lnTo>
                <a:lnTo>
                  <a:pt x="1517" y="409"/>
                </a:lnTo>
                <a:lnTo>
                  <a:pt x="1471" y="1212"/>
                </a:lnTo>
                <a:lnTo>
                  <a:pt x="1265" y="1200"/>
                </a:lnTo>
                <a:lnTo>
                  <a:pt x="0" y="1057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2000" y="4197240"/>
            <a:ext cx="780840" cy="806400"/>
          </a:xfrm>
          <a:custGeom>
            <a:avLst/>
            <a:gdLst/>
            <a:ahLst/>
            <a:rect l="l" t="t" r="r" b="b"/>
            <a:pathLst>
              <a:path w="1475" h="1525">
                <a:moveTo>
                  <a:pt x="210" y="0"/>
                </a:moveTo>
                <a:lnTo>
                  <a:pt x="0" y="1501"/>
                </a:lnTo>
                <a:lnTo>
                  <a:pt x="0" y="1503"/>
                </a:lnTo>
                <a:lnTo>
                  <a:pt x="192" y="1525"/>
                </a:lnTo>
                <a:lnTo>
                  <a:pt x="207" y="1406"/>
                </a:lnTo>
                <a:lnTo>
                  <a:pt x="573" y="1453"/>
                </a:lnTo>
                <a:lnTo>
                  <a:pt x="570" y="1450"/>
                </a:lnTo>
                <a:lnTo>
                  <a:pt x="560" y="1428"/>
                </a:lnTo>
                <a:lnTo>
                  <a:pt x="570" y="1412"/>
                </a:lnTo>
                <a:lnTo>
                  <a:pt x="568" y="1405"/>
                </a:lnTo>
                <a:lnTo>
                  <a:pt x="560" y="1399"/>
                </a:lnTo>
                <a:lnTo>
                  <a:pt x="567" y="1395"/>
                </a:lnTo>
                <a:lnTo>
                  <a:pt x="1360" y="1471"/>
                </a:lnTo>
                <a:lnTo>
                  <a:pt x="1455" y="271"/>
                </a:lnTo>
                <a:lnTo>
                  <a:pt x="1468" y="271"/>
                </a:lnTo>
                <a:lnTo>
                  <a:pt x="1475" y="143"/>
                </a:lnTo>
                <a:lnTo>
                  <a:pt x="210" y="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571840"/>
            <a:ext cx="733320" cy="458640"/>
          </a:xfrm>
          <a:custGeom>
            <a:avLst/>
            <a:gdLst/>
            <a:ahLst/>
            <a:rect l="l" t="t" r="r" b="b"/>
            <a:pathLst>
              <a:path w="1385" h="867">
                <a:moveTo>
                  <a:pt x="0" y="806"/>
                </a:moveTo>
                <a:lnTo>
                  <a:pt x="66" y="0"/>
                </a:lnTo>
                <a:lnTo>
                  <a:pt x="675" y="45"/>
                </a:lnTo>
                <a:lnTo>
                  <a:pt x="1273" y="60"/>
                </a:lnTo>
                <a:lnTo>
                  <a:pt x="1275" y="79"/>
                </a:lnTo>
                <a:lnTo>
                  <a:pt x="1296" y="143"/>
                </a:lnTo>
                <a:lnTo>
                  <a:pt x="1289" y="160"/>
                </a:lnTo>
                <a:lnTo>
                  <a:pt x="1282" y="208"/>
                </a:lnTo>
                <a:lnTo>
                  <a:pt x="1284" y="282"/>
                </a:lnTo>
                <a:lnTo>
                  <a:pt x="1301" y="368"/>
                </a:lnTo>
                <a:lnTo>
                  <a:pt x="1323" y="391"/>
                </a:lnTo>
                <a:lnTo>
                  <a:pt x="1338" y="468"/>
                </a:lnTo>
                <a:lnTo>
                  <a:pt x="1345" y="602"/>
                </a:lnTo>
                <a:lnTo>
                  <a:pt x="1351" y="627"/>
                </a:lnTo>
                <a:lnTo>
                  <a:pt x="1351" y="676"/>
                </a:lnTo>
                <a:lnTo>
                  <a:pt x="1352" y="694"/>
                </a:lnTo>
                <a:lnTo>
                  <a:pt x="1385" y="792"/>
                </a:lnTo>
                <a:lnTo>
                  <a:pt x="1380" y="827"/>
                </a:lnTo>
                <a:lnTo>
                  <a:pt x="1382" y="867"/>
                </a:lnTo>
                <a:lnTo>
                  <a:pt x="0" y="806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36760" y="2998800"/>
            <a:ext cx="781200" cy="527040"/>
          </a:xfrm>
          <a:custGeom>
            <a:avLst/>
            <a:gdLst/>
            <a:ahLst/>
            <a:rect l="l" t="t" r="r" b="b"/>
            <a:pathLst>
              <a:path w="1475" h="996">
                <a:moveTo>
                  <a:pt x="0" y="784"/>
                </a:moveTo>
                <a:lnTo>
                  <a:pt x="46" y="260"/>
                </a:lnTo>
                <a:lnTo>
                  <a:pt x="69" y="0"/>
                </a:lnTo>
                <a:lnTo>
                  <a:pt x="1450" y="62"/>
                </a:lnTo>
                <a:lnTo>
                  <a:pt x="1452" y="83"/>
                </a:lnTo>
                <a:lnTo>
                  <a:pt x="1440" y="110"/>
                </a:lnTo>
                <a:lnTo>
                  <a:pt x="1405" y="144"/>
                </a:lnTo>
                <a:lnTo>
                  <a:pt x="1408" y="172"/>
                </a:lnTo>
                <a:lnTo>
                  <a:pt x="1474" y="231"/>
                </a:lnTo>
                <a:lnTo>
                  <a:pt x="1475" y="716"/>
                </a:lnTo>
                <a:lnTo>
                  <a:pt x="1465" y="715"/>
                </a:lnTo>
                <a:lnTo>
                  <a:pt x="1447" y="718"/>
                </a:lnTo>
                <a:lnTo>
                  <a:pt x="1456" y="735"/>
                </a:lnTo>
                <a:lnTo>
                  <a:pt x="1464" y="750"/>
                </a:lnTo>
                <a:lnTo>
                  <a:pt x="1454" y="775"/>
                </a:lnTo>
                <a:lnTo>
                  <a:pt x="1466" y="790"/>
                </a:lnTo>
                <a:lnTo>
                  <a:pt x="1474" y="829"/>
                </a:lnTo>
                <a:lnTo>
                  <a:pt x="1459" y="843"/>
                </a:lnTo>
                <a:lnTo>
                  <a:pt x="1465" y="867"/>
                </a:lnTo>
                <a:lnTo>
                  <a:pt x="1446" y="912"/>
                </a:lnTo>
                <a:lnTo>
                  <a:pt x="1465" y="964"/>
                </a:lnTo>
                <a:lnTo>
                  <a:pt x="1471" y="989"/>
                </a:lnTo>
                <a:lnTo>
                  <a:pt x="1468" y="996"/>
                </a:lnTo>
                <a:lnTo>
                  <a:pt x="1427" y="967"/>
                </a:lnTo>
                <a:lnTo>
                  <a:pt x="1342" y="912"/>
                </a:lnTo>
                <a:lnTo>
                  <a:pt x="1321" y="904"/>
                </a:lnTo>
                <a:lnTo>
                  <a:pt x="1286" y="904"/>
                </a:lnTo>
                <a:lnTo>
                  <a:pt x="1258" y="926"/>
                </a:lnTo>
                <a:lnTo>
                  <a:pt x="1231" y="933"/>
                </a:lnTo>
                <a:lnTo>
                  <a:pt x="1203" y="926"/>
                </a:lnTo>
                <a:lnTo>
                  <a:pt x="1188" y="891"/>
                </a:lnTo>
                <a:lnTo>
                  <a:pt x="1166" y="876"/>
                </a:lnTo>
                <a:lnTo>
                  <a:pt x="1138" y="883"/>
                </a:lnTo>
                <a:lnTo>
                  <a:pt x="1103" y="883"/>
                </a:lnTo>
                <a:lnTo>
                  <a:pt x="1074" y="841"/>
                </a:lnTo>
                <a:lnTo>
                  <a:pt x="0" y="78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13000" y="3413160"/>
            <a:ext cx="920880" cy="457200"/>
          </a:xfrm>
          <a:custGeom>
            <a:avLst/>
            <a:gdLst/>
            <a:ahLst/>
            <a:rect l="l" t="t" r="r" b="b"/>
            <a:pathLst>
              <a:path w="1740" h="864">
                <a:moveTo>
                  <a:pt x="0" y="533"/>
                </a:moveTo>
                <a:lnTo>
                  <a:pt x="44" y="0"/>
                </a:lnTo>
                <a:lnTo>
                  <a:pt x="1117" y="57"/>
                </a:lnTo>
                <a:lnTo>
                  <a:pt x="1147" y="99"/>
                </a:lnTo>
                <a:lnTo>
                  <a:pt x="1182" y="99"/>
                </a:lnTo>
                <a:lnTo>
                  <a:pt x="1210" y="91"/>
                </a:lnTo>
                <a:lnTo>
                  <a:pt x="1231" y="106"/>
                </a:lnTo>
                <a:lnTo>
                  <a:pt x="1247" y="142"/>
                </a:lnTo>
                <a:lnTo>
                  <a:pt x="1274" y="148"/>
                </a:lnTo>
                <a:lnTo>
                  <a:pt x="1302" y="142"/>
                </a:lnTo>
                <a:lnTo>
                  <a:pt x="1330" y="120"/>
                </a:lnTo>
                <a:lnTo>
                  <a:pt x="1365" y="120"/>
                </a:lnTo>
                <a:lnTo>
                  <a:pt x="1386" y="127"/>
                </a:lnTo>
                <a:lnTo>
                  <a:pt x="1471" y="183"/>
                </a:lnTo>
                <a:lnTo>
                  <a:pt x="1512" y="211"/>
                </a:lnTo>
                <a:lnTo>
                  <a:pt x="1515" y="240"/>
                </a:lnTo>
                <a:lnTo>
                  <a:pt x="1542" y="253"/>
                </a:lnTo>
                <a:lnTo>
                  <a:pt x="1542" y="275"/>
                </a:lnTo>
                <a:lnTo>
                  <a:pt x="1529" y="310"/>
                </a:lnTo>
                <a:lnTo>
                  <a:pt x="1549" y="332"/>
                </a:lnTo>
                <a:lnTo>
                  <a:pt x="1565" y="375"/>
                </a:lnTo>
                <a:lnTo>
                  <a:pt x="1585" y="395"/>
                </a:lnTo>
                <a:lnTo>
                  <a:pt x="1576" y="417"/>
                </a:lnTo>
                <a:lnTo>
                  <a:pt x="1585" y="438"/>
                </a:lnTo>
                <a:lnTo>
                  <a:pt x="1614" y="459"/>
                </a:lnTo>
                <a:lnTo>
                  <a:pt x="1620" y="482"/>
                </a:lnTo>
                <a:lnTo>
                  <a:pt x="1614" y="502"/>
                </a:lnTo>
                <a:lnTo>
                  <a:pt x="1607" y="543"/>
                </a:lnTo>
                <a:lnTo>
                  <a:pt x="1633" y="558"/>
                </a:lnTo>
                <a:lnTo>
                  <a:pt x="1641" y="579"/>
                </a:lnTo>
                <a:lnTo>
                  <a:pt x="1627" y="600"/>
                </a:lnTo>
                <a:lnTo>
                  <a:pt x="1633" y="622"/>
                </a:lnTo>
                <a:lnTo>
                  <a:pt x="1649" y="644"/>
                </a:lnTo>
                <a:lnTo>
                  <a:pt x="1641" y="664"/>
                </a:lnTo>
                <a:lnTo>
                  <a:pt x="1649" y="691"/>
                </a:lnTo>
                <a:lnTo>
                  <a:pt x="1658" y="704"/>
                </a:lnTo>
                <a:lnTo>
                  <a:pt x="1671" y="727"/>
                </a:lnTo>
                <a:lnTo>
                  <a:pt x="1690" y="750"/>
                </a:lnTo>
                <a:lnTo>
                  <a:pt x="1698" y="784"/>
                </a:lnTo>
                <a:lnTo>
                  <a:pt x="1726" y="819"/>
                </a:lnTo>
                <a:lnTo>
                  <a:pt x="1740" y="825"/>
                </a:lnTo>
                <a:lnTo>
                  <a:pt x="1732" y="857"/>
                </a:lnTo>
                <a:lnTo>
                  <a:pt x="1737" y="864"/>
                </a:lnTo>
                <a:lnTo>
                  <a:pt x="382" y="833"/>
                </a:lnTo>
                <a:lnTo>
                  <a:pt x="397" y="565"/>
                </a:lnTo>
                <a:lnTo>
                  <a:pt x="1" y="533"/>
                </a:lnTo>
                <a:lnTo>
                  <a:pt x="0" y="533"/>
                </a:lnTo>
                <a:lnTo>
                  <a:pt x="0" y="533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3852720"/>
            <a:ext cx="827280" cy="443160"/>
          </a:xfrm>
          <a:custGeom>
            <a:avLst/>
            <a:gdLst/>
            <a:ahLst/>
            <a:rect l="l" t="t" r="r" b="b"/>
            <a:pathLst>
              <a:path w="1561" h="837">
                <a:moveTo>
                  <a:pt x="46" y="0"/>
                </a:moveTo>
                <a:lnTo>
                  <a:pt x="1402" y="31"/>
                </a:lnTo>
                <a:lnTo>
                  <a:pt x="1490" y="97"/>
                </a:lnTo>
                <a:lnTo>
                  <a:pt x="1463" y="129"/>
                </a:lnTo>
                <a:lnTo>
                  <a:pt x="1457" y="161"/>
                </a:lnTo>
                <a:lnTo>
                  <a:pt x="1471" y="181"/>
                </a:lnTo>
                <a:lnTo>
                  <a:pt x="1492" y="190"/>
                </a:lnTo>
                <a:lnTo>
                  <a:pt x="1505" y="234"/>
                </a:lnTo>
                <a:lnTo>
                  <a:pt x="1528" y="250"/>
                </a:lnTo>
                <a:lnTo>
                  <a:pt x="1547" y="256"/>
                </a:lnTo>
                <a:lnTo>
                  <a:pt x="1555" y="260"/>
                </a:lnTo>
                <a:lnTo>
                  <a:pt x="1561" y="837"/>
                </a:lnTo>
                <a:lnTo>
                  <a:pt x="0" y="803"/>
                </a:lnTo>
                <a:lnTo>
                  <a:pt x="46" y="0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8160" y="4272120"/>
            <a:ext cx="960480" cy="496800"/>
          </a:xfrm>
          <a:custGeom>
            <a:avLst/>
            <a:gdLst/>
            <a:ahLst/>
            <a:rect l="l" t="t" r="r" b="b"/>
            <a:pathLst>
              <a:path w="1816" h="939">
                <a:moveTo>
                  <a:pt x="1775" y="45"/>
                </a:moveTo>
                <a:lnTo>
                  <a:pt x="213" y="12"/>
                </a:lnTo>
                <a:lnTo>
                  <a:pt x="8" y="0"/>
                </a:lnTo>
                <a:lnTo>
                  <a:pt x="0" y="128"/>
                </a:lnTo>
                <a:lnTo>
                  <a:pt x="635" y="166"/>
                </a:lnTo>
                <a:lnTo>
                  <a:pt x="618" y="681"/>
                </a:lnTo>
                <a:lnTo>
                  <a:pt x="640" y="684"/>
                </a:lnTo>
                <a:lnTo>
                  <a:pt x="652" y="692"/>
                </a:lnTo>
                <a:lnTo>
                  <a:pt x="682" y="735"/>
                </a:lnTo>
                <a:lnTo>
                  <a:pt x="697" y="741"/>
                </a:lnTo>
                <a:lnTo>
                  <a:pt x="742" y="738"/>
                </a:lnTo>
                <a:lnTo>
                  <a:pt x="755" y="723"/>
                </a:lnTo>
                <a:lnTo>
                  <a:pt x="780" y="738"/>
                </a:lnTo>
                <a:lnTo>
                  <a:pt x="789" y="749"/>
                </a:lnTo>
                <a:lnTo>
                  <a:pt x="787" y="760"/>
                </a:lnTo>
                <a:lnTo>
                  <a:pt x="798" y="781"/>
                </a:lnTo>
                <a:lnTo>
                  <a:pt x="804" y="785"/>
                </a:lnTo>
                <a:lnTo>
                  <a:pt x="862" y="795"/>
                </a:lnTo>
                <a:lnTo>
                  <a:pt x="883" y="806"/>
                </a:lnTo>
                <a:lnTo>
                  <a:pt x="895" y="806"/>
                </a:lnTo>
                <a:lnTo>
                  <a:pt x="901" y="801"/>
                </a:lnTo>
                <a:lnTo>
                  <a:pt x="918" y="796"/>
                </a:lnTo>
                <a:lnTo>
                  <a:pt x="930" y="817"/>
                </a:lnTo>
                <a:lnTo>
                  <a:pt x="954" y="829"/>
                </a:lnTo>
                <a:lnTo>
                  <a:pt x="969" y="810"/>
                </a:lnTo>
                <a:lnTo>
                  <a:pt x="1025" y="817"/>
                </a:lnTo>
                <a:lnTo>
                  <a:pt x="1026" y="827"/>
                </a:lnTo>
                <a:lnTo>
                  <a:pt x="1048" y="849"/>
                </a:lnTo>
                <a:lnTo>
                  <a:pt x="1057" y="852"/>
                </a:lnTo>
                <a:lnTo>
                  <a:pt x="1057" y="880"/>
                </a:lnTo>
                <a:lnTo>
                  <a:pt x="1099" y="889"/>
                </a:lnTo>
                <a:lnTo>
                  <a:pt x="1107" y="861"/>
                </a:lnTo>
                <a:lnTo>
                  <a:pt x="1124" y="857"/>
                </a:lnTo>
                <a:lnTo>
                  <a:pt x="1177" y="894"/>
                </a:lnTo>
                <a:lnTo>
                  <a:pt x="1186" y="894"/>
                </a:lnTo>
                <a:lnTo>
                  <a:pt x="1209" y="879"/>
                </a:lnTo>
                <a:lnTo>
                  <a:pt x="1227" y="879"/>
                </a:lnTo>
                <a:lnTo>
                  <a:pt x="1229" y="889"/>
                </a:lnTo>
                <a:lnTo>
                  <a:pt x="1223" y="910"/>
                </a:lnTo>
                <a:lnTo>
                  <a:pt x="1233" y="926"/>
                </a:lnTo>
                <a:lnTo>
                  <a:pt x="1246" y="916"/>
                </a:lnTo>
                <a:lnTo>
                  <a:pt x="1244" y="902"/>
                </a:lnTo>
                <a:lnTo>
                  <a:pt x="1261" y="880"/>
                </a:lnTo>
                <a:lnTo>
                  <a:pt x="1284" y="868"/>
                </a:lnTo>
                <a:lnTo>
                  <a:pt x="1290" y="868"/>
                </a:lnTo>
                <a:lnTo>
                  <a:pt x="1293" y="886"/>
                </a:lnTo>
                <a:lnTo>
                  <a:pt x="1318" y="894"/>
                </a:lnTo>
                <a:lnTo>
                  <a:pt x="1328" y="894"/>
                </a:lnTo>
                <a:lnTo>
                  <a:pt x="1338" y="883"/>
                </a:lnTo>
                <a:lnTo>
                  <a:pt x="1353" y="884"/>
                </a:lnTo>
                <a:lnTo>
                  <a:pt x="1357" y="889"/>
                </a:lnTo>
                <a:lnTo>
                  <a:pt x="1356" y="894"/>
                </a:lnTo>
                <a:lnTo>
                  <a:pt x="1379" y="904"/>
                </a:lnTo>
                <a:lnTo>
                  <a:pt x="1413" y="930"/>
                </a:lnTo>
                <a:lnTo>
                  <a:pt x="1445" y="899"/>
                </a:lnTo>
                <a:lnTo>
                  <a:pt x="1460" y="894"/>
                </a:lnTo>
                <a:lnTo>
                  <a:pt x="1508" y="890"/>
                </a:lnTo>
                <a:lnTo>
                  <a:pt x="1547" y="875"/>
                </a:lnTo>
                <a:lnTo>
                  <a:pt x="1561" y="873"/>
                </a:lnTo>
                <a:lnTo>
                  <a:pt x="1580" y="873"/>
                </a:lnTo>
                <a:lnTo>
                  <a:pt x="1627" y="880"/>
                </a:lnTo>
                <a:lnTo>
                  <a:pt x="1659" y="871"/>
                </a:lnTo>
                <a:lnTo>
                  <a:pt x="1666" y="863"/>
                </a:lnTo>
                <a:lnTo>
                  <a:pt x="1770" y="921"/>
                </a:lnTo>
                <a:lnTo>
                  <a:pt x="1791" y="926"/>
                </a:lnTo>
                <a:lnTo>
                  <a:pt x="1800" y="936"/>
                </a:lnTo>
                <a:lnTo>
                  <a:pt x="1810" y="939"/>
                </a:lnTo>
                <a:lnTo>
                  <a:pt x="1816" y="470"/>
                </a:lnTo>
                <a:lnTo>
                  <a:pt x="1776" y="177"/>
                </a:lnTo>
                <a:lnTo>
                  <a:pt x="1775" y="45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8640" y="4340160"/>
            <a:ext cx="1560600" cy="1524240"/>
          </a:xfrm>
          <a:custGeom>
            <a:avLst/>
            <a:gdLst/>
            <a:ahLst/>
            <a:rect l="l" t="t" r="r" b="b"/>
            <a:pathLst>
              <a:path w="2950" h="2880">
                <a:moveTo>
                  <a:pt x="2717" y="811"/>
                </a:moveTo>
                <a:lnTo>
                  <a:pt x="2707" y="807"/>
                </a:lnTo>
                <a:lnTo>
                  <a:pt x="2698" y="797"/>
                </a:lnTo>
                <a:lnTo>
                  <a:pt x="2678" y="792"/>
                </a:lnTo>
                <a:lnTo>
                  <a:pt x="2574" y="735"/>
                </a:lnTo>
                <a:lnTo>
                  <a:pt x="2566" y="743"/>
                </a:lnTo>
                <a:lnTo>
                  <a:pt x="2535" y="752"/>
                </a:lnTo>
                <a:lnTo>
                  <a:pt x="2488" y="744"/>
                </a:lnTo>
                <a:lnTo>
                  <a:pt x="2468" y="744"/>
                </a:lnTo>
                <a:lnTo>
                  <a:pt x="2455" y="747"/>
                </a:lnTo>
                <a:lnTo>
                  <a:pt x="2415" y="762"/>
                </a:lnTo>
                <a:lnTo>
                  <a:pt x="2368" y="765"/>
                </a:lnTo>
                <a:lnTo>
                  <a:pt x="2352" y="771"/>
                </a:lnTo>
                <a:lnTo>
                  <a:pt x="2321" y="802"/>
                </a:lnTo>
                <a:lnTo>
                  <a:pt x="2287" y="775"/>
                </a:lnTo>
                <a:lnTo>
                  <a:pt x="2264" y="765"/>
                </a:lnTo>
                <a:lnTo>
                  <a:pt x="2264" y="760"/>
                </a:lnTo>
                <a:lnTo>
                  <a:pt x="2260" y="756"/>
                </a:lnTo>
                <a:lnTo>
                  <a:pt x="2245" y="755"/>
                </a:lnTo>
                <a:lnTo>
                  <a:pt x="2236" y="765"/>
                </a:lnTo>
                <a:lnTo>
                  <a:pt x="2226" y="766"/>
                </a:lnTo>
                <a:lnTo>
                  <a:pt x="2201" y="758"/>
                </a:lnTo>
                <a:lnTo>
                  <a:pt x="2197" y="740"/>
                </a:lnTo>
                <a:lnTo>
                  <a:pt x="2191" y="740"/>
                </a:lnTo>
                <a:lnTo>
                  <a:pt x="2169" y="752"/>
                </a:lnTo>
                <a:lnTo>
                  <a:pt x="2152" y="774"/>
                </a:lnTo>
                <a:lnTo>
                  <a:pt x="2154" y="788"/>
                </a:lnTo>
                <a:lnTo>
                  <a:pt x="2140" y="798"/>
                </a:lnTo>
                <a:lnTo>
                  <a:pt x="2131" y="782"/>
                </a:lnTo>
                <a:lnTo>
                  <a:pt x="2137" y="760"/>
                </a:lnTo>
                <a:lnTo>
                  <a:pt x="2134" y="750"/>
                </a:lnTo>
                <a:lnTo>
                  <a:pt x="2117" y="750"/>
                </a:lnTo>
                <a:lnTo>
                  <a:pt x="2093" y="765"/>
                </a:lnTo>
                <a:lnTo>
                  <a:pt x="2085" y="765"/>
                </a:lnTo>
                <a:lnTo>
                  <a:pt x="2032" y="729"/>
                </a:lnTo>
                <a:lnTo>
                  <a:pt x="2014" y="733"/>
                </a:lnTo>
                <a:lnTo>
                  <a:pt x="2007" y="760"/>
                </a:lnTo>
                <a:lnTo>
                  <a:pt x="1965" y="752"/>
                </a:lnTo>
                <a:lnTo>
                  <a:pt x="1965" y="724"/>
                </a:lnTo>
                <a:lnTo>
                  <a:pt x="1956" y="721"/>
                </a:lnTo>
                <a:lnTo>
                  <a:pt x="1934" y="699"/>
                </a:lnTo>
                <a:lnTo>
                  <a:pt x="1932" y="689"/>
                </a:lnTo>
                <a:lnTo>
                  <a:pt x="1877" y="682"/>
                </a:lnTo>
                <a:lnTo>
                  <a:pt x="1862" y="701"/>
                </a:lnTo>
                <a:lnTo>
                  <a:pt x="1837" y="689"/>
                </a:lnTo>
                <a:lnTo>
                  <a:pt x="1826" y="668"/>
                </a:lnTo>
                <a:lnTo>
                  <a:pt x="1809" y="672"/>
                </a:lnTo>
                <a:lnTo>
                  <a:pt x="1803" y="677"/>
                </a:lnTo>
                <a:lnTo>
                  <a:pt x="1790" y="677"/>
                </a:lnTo>
                <a:lnTo>
                  <a:pt x="1769" y="666"/>
                </a:lnTo>
                <a:lnTo>
                  <a:pt x="1711" y="656"/>
                </a:lnTo>
                <a:lnTo>
                  <a:pt x="1706" y="653"/>
                </a:lnTo>
                <a:lnTo>
                  <a:pt x="1695" y="632"/>
                </a:lnTo>
                <a:lnTo>
                  <a:pt x="1696" y="621"/>
                </a:lnTo>
                <a:lnTo>
                  <a:pt x="1687" y="609"/>
                </a:lnTo>
                <a:lnTo>
                  <a:pt x="1663" y="595"/>
                </a:lnTo>
                <a:lnTo>
                  <a:pt x="1649" y="609"/>
                </a:lnTo>
                <a:lnTo>
                  <a:pt x="1605" y="613"/>
                </a:lnTo>
                <a:lnTo>
                  <a:pt x="1590" y="607"/>
                </a:lnTo>
                <a:lnTo>
                  <a:pt x="1560" y="564"/>
                </a:lnTo>
                <a:lnTo>
                  <a:pt x="1548" y="556"/>
                </a:lnTo>
                <a:lnTo>
                  <a:pt x="1525" y="552"/>
                </a:lnTo>
                <a:lnTo>
                  <a:pt x="1542" y="38"/>
                </a:lnTo>
                <a:lnTo>
                  <a:pt x="908" y="0"/>
                </a:lnTo>
                <a:lnTo>
                  <a:pt x="895" y="0"/>
                </a:lnTo>
                <a:lnTo>
                  <a:pt x="800" y="1200"/>
                </a:lnTo>
                <a:lnTo>
                  <a:pt x="7" y="1124"/>
                </a:lnTo>
                <a:lnTo>
                  <a:pt x="0" y="1128"/>
                </a:lnTo>
                <a:lnTo>
                  <a:pt x="8" y="1134"/>
                </a:lnTo>
                <a:lnTo>
                  <a:pt x="10" y="1141"/>
                </a:lnTo>
                <a:lnTo>
                  <a:pt x="0" y="1157"/>
                </a:lnTo>
                <a:lnTo>
                  <a:pt x="10" y="1179"/>
                </a:lnTo>
                <a:lnTo>
                  <a:pt x="13" y="1182"/>
                </a:lnTo>
                <a:lnTo>
                  <a:pt x="54" y="1209"/>
                </a:lnTo>
                <a:lnTo>
                  <a:pt x="66" y="1236"/>
                </a:lnTo>
                <a:lnTo>
                  <a:pt x="81" y="1273"/>
                </a:lnTo>
                <a:lnTo>
                  <a:pt x="122" y="1301"/>
                </a:lnTo>
                <a:lnTo>
                  <a:pt x="245" y="1448"/>
                </a:lnTo>
                <a:lnTo>
                  <a:pt x="350" y="1531"/>
                </a:lnTo>
                <a:lnTo>
                  <a:pt x="357" y="1547"/>
                </a:lnTo>
                <a:lnTo>
                  <a:pt x="363" y="1563"/>
                </a:lnTo>
                <a:lnTo>
                  <a:pt x="363" y="1588"/>
                </a:lnTo>
                <a:lnTo>
                  <a:pt x="371" y="1601"/>
                </a:lnTo>
                <a:lnTo>
                  <a:pt x="394" y="1638"/>
                </a:lnTo>
                <a:lnTo>
                  <a:pt x="391" y="1720"/>
                </a:lnTo>
                <a:lnTo>
                  <a:pt x="397" y="1750"/>
                </a:lnTo>
                <a:lnTo>
                  <a:pt x="435" y="1809"/>
                </a:lnTo>
                <a:lnTo>
                  <a:pt x="589" y="1922"/>
                </a:lnTo>
                <a:lnTo>
                  <a:pt x="696" y="1988"/>
                </a:lnTo>
                <a:lnTo>
                  <a:pt x="728" y="1994"/>
                </a:lnTo>
                <a:lnTo>
                  <a:pt x="746" y="1982"/>
                </a:lnTo>
                <a:lnTo>
                  <a:pt x="770" y="1954"/>
                </a:lnTo>
                <a:lnTo>
                  <a:pt x="788" y="1939"/>
                </a:lnTo>
                <a:lnTo>
                  <a:pt x="835" y="1834"/>
                </a:lnTo>
                <a:lnTo>
                  <a:pt x="854" y="1803"/>
                </a:lnTo>
                <a:lnTo>
                  <a:pt x="872" y="1793"/>
                </a:lnTo>
                <a:lnTo>
                  <a:pt x="908" y="1805"/>
                </a:lnTo>
                <a:lnTo>
                  <a:pt x="917" y="1802"/>
                </a:lnTo>
                <a:lnTo>
                  <a:pt x="925" y="1787"/>
                </a:lnTo>
                <a:lnTo>
                  <a:pt x="935" y="1773"/>
                </a:lnTo>
                <a:lnTo>
                  <a:pt x="954" y="1780"/>
                </a:lnTo>
                <a:lnTo>
                  <a:pt x="972" y="1793"/>
                </a:lnTo>
                <a:lnTo>
                  <a:pt x="1034" y="1802"/>
                </a:lnTo>
                <a:lnTo>
                  <a:pt x="1050" y="1809"/>
                </a:lnTo>
                <a:lnTo>
                  <a:pt x="1091" y="1821"/>
                </a:lnTo>
                <a:lnTo>
                  <a:pt x="1109" y="1812"/>
                </a:lnTo>
                <a:lnTo>
                  <a:pt x="1157" y="1840"/>
                </a:lnTo>
                <a:lnTo>
                  <a:pt x="1165" y="1866"/>
                </a:lnTo>
                <a:lnTo>
                  <a:pt x="1175" y="1869"/>
                </a:lnTo>
                <a:lnTo>
                  <a:pt x="1180" y="1881"/>
                </a:lnTo>
                <a:lnTo>
                  <a:pt x="1186" y="1884"/>
                </a:lnTo>
                <a:lnTo>
                  <a:pt x="1209" y="1896"/>
                </a:lnTo>
                <a:lnTo>
                  <a:pt x="1237" y="1933"/>
                </a:lnTo>
                <a:lnTo>
                  <a:pt x="1279" y="1972"/>
                </a:lnTo>
                <a:lnTo>
                  <a:pt x="1305" y="2008"/>
                </a:lnTo>
                <a:lnTo>
                  <a:pt x="1306" y="2023"/>
                </a:lnTo>
                <a:lnTo>
                  <a:pt x="1374" y="2190"/>
                </a:lnTo>
                <a:lnTo>
                  <a:pt x="1386" y="2221"/>
                </a:lnTo>
                <a:lnTo>
                  <a:pt x="1461" y="2308"/>
                </a:lnTo>
                <a:lnTo>
                  <a:pt x="1468" y="2329"/>
                </a:lnTo>
                <a:lnTo>
                  <a:pt x="1519" y="2383"/>
                </a:lnTo>
                <a:lnTo>
                  <a:pt x="1533" y="2392"/>
                </a:lnTo>
                <a:lnTo>
                  <a:pt x="1554" y="2418"/>
                </a:lnTo>
                <a:lnTo>
                  <a:pt x="1560" y="2433"/>
                </a:lnTo>
                <a:lnTo>
                  <a:pt x="1555" y="2487"/>
                </a:lnTo>
                <a:lnTo>
                  <a:pt x="1572" y="2509"/>
                </a:lnTo>
                <a:lnTo>
                  <a:pt x="1578" y="2573"/>
                </a:lnTo>
                <a:lnTo>
                  <a:pt x="1594" y="2591"/>
                </a:lnTo>
                <a:lnTo>
                  <a:pt x="1649" y="2693"/>
                </a:lnTo>
                <a:lnTo>
                  <a:pt x="1654" y="2726"/>
                </a:lnTo>
                <a:lnTo>
                  <a:pt x="1689" y="2728"/>
                </a:lnTo>
                <a:lnTo>
                  <a:pt x="1732" y="2756"/>
                </a:lnTo>
                <a:lnTo>
                  <a:pt x="1781" y="2771"/>
                </a:lnTo>
                <a:lnTo>
                  <a:pt x="1855" y="2819"/>
                </a:lnTo>
                <a:lnTo>
                  <a:pt x="1959" y="2827"/>
                </a:lnTo>
                <a:lnTo>
                  <a:pt x="1978" y="2832"/>
                </a:lnTo>
                <a:lnTo>
                  <a:pt x="2032" y="2868"/>
                </a:lnTo>
                <a:lnTo>
                  <a:pt x="2060" y="2880"/>
                </a:lnTo>
                <a:lnTo>
                  <a:pt x="2085" y="2849"/>
                </a:lnTo>
                <a:lnTo>
                  <a:pt x="2107" y="2852"/>
                </a:lnTo>
                <a:lnTo>
                  <a:pt x="2112" y="2846"/>
                </a:lnTo>
                <a:lnTo>
                  <a:pt x="2112" y="2832"/>
                </a:lnTo>
                <a:lnTo>
                  <a:pt x="2093" y="2823"/>
                </a:lnTo>
                <a:lnTo>
                  <a:pt x="2093" y="2815"/>
                </a:lnTo>
                <a:lnTo>
                  <a:pt x="2073" y="2787"/>
                </a:lnTo>
                <a:lnTo>
                  <a:pt x="2039" y="2662"/>
                </a:lnTo>
                <a:lnTo>
                  <a:pt x="2023" y="2613"/>
                </a:lnTo>
                <a:lnTo>
                  <a:pt x="2047" y="2537"/>
                </a:lnTo>
                <a:lnTo>
                  <a:pt x="2045" y="2514"/>
                </a:lnTo>
                <a:lnTo>
                  <a:pt x="2038" y="2509"/>
                </a:lnTo>
                <a:lnTo>
                  <a:pt x="2032" y="2508"/>
                </a:lnTo>
                <a:lnTo>
                  <a:pt x="2028" y="2502"/>
                </a:lnTo>
                <a:lnTo>
                  <a:pt x="2028" y="2497"/>
                </a:lnTo>
                <a:lnTo>
                  <a:pt x="2034" y="2493"/>
                </a:lnTo>
                <a:lnTo>
                  <a:pt x="2066" y="2471"/>
                </a:lnTo>
                <a:lnTo>
                  <a:pt x="2087" y="2401"/>
                </a:lnTo>
                <a:lnTo>
                  <a:pt x="2070" y="2396"/>
                </a:lnTo>
                <a:lnTo>
                  <a:pt x="2062" y="2363"/>
                </a:lnTo>
                <a:lnTo>
                  <a:pt x="2080" y="2343"/>
                </a:lnTo>
                <a:lnTo>
                  <a:pt x="2101" y="2360"/>
                </a:lnTo>
                <a:lnTo>
                  <a:pt x="2140" y="2332"/>
                </a:lnTo>
                <a:lnTo>
                  <a:pt x="2149" y="2295"/>
                </a:lnTo>
                <a:lnTo>
                  <a:pt x="2131" y="2282"/>
                </a:lnTo>
                <a:lnTo>
                  <a:pt x="2140" y="2266"/>
                </a:lnTo>
                <a:lnTo>
                  <a:pt x="2149" y="2269"/>
                </a:lnTo>
                <a:lnTo>
                  <a:pt x="2159" y="2271"/>
                </a:lnTo>
                <a:lnTo>
                  <a:pt x="2167" y="2262"/>
                </a:lnTo>
                <a:lnTo>
                  <a:pt x="2180" y="2269"/>
                </a:lnTo>
                <a:lnTo>
                  <a:pt x="2194" y="2269"/>
                </a:lnTo>
                <a:lnTo>
                  <a:pt x="2201" y="2263"/>
                </a:lnTo>
                <a:lnTo>
                  <a:pt x="2203" y="2256"/>
                </a:lnTo>
                <a:lnTo>
                  <a:pt x="2203" y="2226"/>
                </a:lnTo>
                <a:lnTo>
                  <a:pt x="2209" y="2217"/>
                </a:lnTo>
                <a:lnTo>
                  <a:pt x="2218" y="2217"/>
                </a:lnTo>
                <a:lnTo>
                  <a:pt x="2224" y="2219"/>
                </a:lnTo>
                <a:lnTo>
                  <a:pt x="2234" y="2223"/>
                </a:lnTo>
                <a:lnTo>
                  <a:pt x="2289" y="2209"/>
                </a:lnTo>
                <a:lnTo>
                  <a:pt x="2295" y="2203"/>
                </a:lnTo>
                <a:lnTo>
                  <a:pt x="2297" y="2196"/>
                </a:lnTo>
                <a:lnTo>
                  <a:pt x="2295" y="2190"/>
                </a:lnTo>
                <a:lnTo>
                  <a:pt x="2264" y="2173"/>
                </a:lnTo>
                <a:lnTo>
                  <a:pt x="2264" y="2160"/>
                </a:lnTo>
                <a:lnTo>
                  <a:pt x="2316" y="2145"/>
                </a:lnTo>
                <a:lnTo>
                  <a:pt x="2325" y="2136"/>
                </a:lnTo>
                <a:lnTo>
                  <a:pt x="2342" y="2129"/>
                </a:lnTo>
                <a:lnTo>
                  <a:pt x="2344" y="2136"/>
                </a:lnTo>
                <a:lnTo>
                  <a:pt x="2338" y="2141"/>
                </a:lnTo>
                <a:lnTo>
                  <a:pt x="2346" y="2155"/>
                </a:lnTo>
                <a:lnTo>
                  <a:pt x="2352" y="2155"/>
                </a:lnTo>
                <a:lnTo>
                  <a:pt x="2363" y="2147"/>
                </a:lnTo>
                <a:lnTo>
                  <a:pt x="2445" y="2123"/>
                </a:lnTo>
                <a:lnTo>
                  <a:pt x="2580" y="2033"/>
                </a:lnTo>
                <a:lnTo>
                  <a:pt x="2586" y="2001"/>
                </a:lnTo>
                <a:lnTo>
                  <a:pt x="2650" y="1948"/>
                </a:lnTo>
                <a:lnTo>
                  <a:pt x="2651" y="1939"/>
                </a:lnTo>
                <a:lnTo>
                  <a:pt x="2624" y="1901"/>
                </a:lnTo>
                <a:lnTo>
                  <a:pt x="2631" y="1872"/>
                </a:lnTo>
                <a:lnTo>
                  <a:pt x="2670" y="1855"/>
                </a:lnTo>
                <a:lnTo>
                  <a:pt x="2680" y="1856"/>
                </a:lnTo>
                <a:lnTo>
                  <a:pt x="2674" y="1887"/>
                </a:lnTo>
                <a:lnTo>
                  <a:pt x="2678" y="1901"/>
                </a:lnTo>
                <a:lnTo>
                  <a:pt x="2727" y="1894"/>
                </a:lnTo>
                <a:lnTo>
                  <a:pt x="2733" y="1905"/>
                </a:lnTo>
                <a:lnTo>
                  <a:pt x="2832" y="1863"/>
                </a:lnTo>
                <a:lnTo>
                  <a:pt x="2887" y="1860"/>
                </a:lnTo>
                <a:lnTo>
                  <a:pt x="2890" y="1857"/>
                </a:lnTo>
                <a:lnTo>
                  <a:pt x="2886" y="1851"/>
                </a:lnTo>
                <a:lnTo>
                  <a:pt x="2876" y="1840"/>
                </a:lnTo>
                <a:lnTo>
                  <a:pt x="2872" y="1823"/>
                </a:lnTo>
                <a:lnTo>
                  <a:pt x="2878" y="1813"/>
                </a:lnTo>
                <a:lnTo>
                  <a:pt x="2884" y="1800"/>
                </a:lnTo>
                <a:lnTo>
                  <a:pt x="2900" y="1779"/>
                </a:lnTo>
                <a:lnTo>
                  <a:pt x="2921" y="1720"/>
                </a:lnTo>
                <a:lnTo>
                  <a:pt x="2906" y="1699"/>
                </a:lnTo>
                <a:lnTo>
                  <a:pt x="2906" y="1679"/>
                </a:lnTo>
                <a:lnTo>
                  <a:pt x="2910" y="1667"/>
                </a:lnTo>
                <a:lnTo>
                  <a:pt x="2908" y="1651"/>
                </a:lnTo>
                <a:lnTo>
                  <a:pt x="2915" y="1617"/>
                </a:lnTo>
                <a:lnTo>
                  <a:pt x="2931" y="1604"/>
                </a:lnTo>
                <a:lnTo>
                  <a:pt x="2941" y="1578"/>
                </a:lnTo>
                <a:lnTo>
                  <a:pt x="2950" y="1530"/>
                </a:lnTo>
                <a:lnTo>
                  <a:pt x="2950" y="1501"/>
                </a:lnTo>
                <a:lnTo>
                  <a:pt x="2941" y="1459"/>
                </a:lnTo>
                <a:lnTo>
                  <a:pt x="2924" y="1432"/>
                </a:lnTo>
                <a:lnTo>
                  <a:pt x="2917" y="1426"/>
                </a:lnTo>
                <a:lnTo>
                  <a:pt x="2920" y="1409"/>
                </a:lnTo>
                <a:lnTo>
                  <a:pt x="2910" y="1398"/>
                </a:lnTo>
                <a:lnTo>
                  <a:pt x="2900" y="1375"/>
                </a:lnTo>
                <a:lnTo>
                  <a:pt x="2884" y="1362"/>
                </a:lnTo>
                <a:lnTo>
                  <a:pt x="2878" y="1354"/>
                </a:lnTo>
                <a:lnTo>
                  <a:pt x="2890" y="1326"/>
                </a:lnTo>
                <a:lnTo>
                  <a:pt x="2870" y="1287"/>
                </a:lnTo>
                <a:lnTo>
                  <a:pt x="2837" y="1257"/>
                </a:lnTo>
                <a:lnTo>
                  <a:pt x="2827" y="1241"/>
                </a:lnTo>
                <a:lnTo>
                  <a:pt x="2822" y="974"/>
                </a:lnTo>
                <a:lnTo>
                  <a:pt x="2822" y="831"/>
                </a:lnTo>
                <a:lnTo>
                  <a:pt x="2788" y="823"/>
                </a:lnTo>
                <a:lnTo>
                  <a:pt x="2759" y="837"/>
                </a:lnTo>
                <a:lnTo>
                  <a:pt x="2750" y="834"/>
                </a:lnTo>
                <a:lnTo>
                  <a:pt x="2717" y="811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46680" y="2552760"/>
            <a:ext cx="734760" cy="823680"/>
          </a:xfrm>
          <a:custGeom>
            <a:avLst/>
            <a:gdLst/>
            <a:ahLst/>
            <a:rect l="l" t="t" r="r" b="b"/>
            <a:pathLst>
              <a:path w="1387" h="1559">
                <a:moveTo>
                  <a:pt x="133" y="1559"/>
                </a:moveTo>
                <a:lnTo>
                  <a:pt x="132" y="1074"/>
                </a:lnTo>
                <a:lnTo>
                  <a:pt x="66" y="1015"/>
                </a:lnTo>
                <a:lnTo>
                  <a:pt x="63" y="987"/>
                </a:lnTo>
                <a:lnTo>
                  <a:pt x="98" y="953"/>
                </a:lnTo>
                <a:lnTo>
                  <a:pt x="110" y="926"/>
                </a:lnTo>
                <a:lnTo>
                  <a:pt x="108" y="905"/>
                </a:lnTo>
                <a:lnTo>
                  <a:pt x="107" y="865"/>
                </a:lnTo>
                <a:lnTo>
                  <a:pt x="112" y="830"/>
                </a:lnTo>
                <a:lnTo>
                  <a:pt x="79" y="732"/>
                </a:lnTo>
                <a:lnTo>
                  <a:pt x="77" y="714"/>
                </a:lnTo>
                <a:lnTo>
                  <a:pt x="77" y="665"/>
                </a:lnTo>
                <a:lnTo>
                  <a:pt x="71" y="640"/>
                </a:lnTo>
                <a:lnTo>
                  <a:pt x="65" y="506"/>
                </a:lnTo>
                <a:lnTo>
                  <a:pt x="50" y="429"/>
                </a:lnTo>
                <a:lnTo>
                  <a:pt x="28" y="406"/>
                </a:lnTo>
                <a:lnTo>
                  <a:pt x="11" y="320"/>
                </a:lnTo>
                <a:lnTo>
                  <a:pt x="9" y="246"/>
                </a:lnTo>
                <a:lnTo>
                  <a:pt x="16" y="198"/>
                </a:lnTo>
                <a:lnTo>
                  <a:pt x="23" y="182"/>
                </a:lnTo>
                <a:lnTo>
                  <a:pt x="2" y="117"/>
                </a:lnTo>
                <a:lnTo>
                  <a:pt x="0" y="98"/>
                </a:lnTo>
                <a:lnTo>
                  <a:pt x="360" y="98"/>
                </a:lnTo>
                <a:lnTo>
                  <a:pt x="362" y="38"/>
                </a:lnTo>
                <a:lnTo>
                  <a:pt x="366" y="0"/>
                </a:lnTo>
                <a:lnTo>
                  <a:pt x="394" y="0"/>
                </a:lnTo>
                <a:lnTo>
                  <a:pt x="430" y="16"/>
                </a:lnTo>
                <a:lnTo>
                  <a:pt x="434" y="74"/>
                </a:lnTo>
                <a:lnTo>
                  <a:pt x="445" y="113"/>
                </a:lnTo>
                <a:lnTo>
                  <a:pt x="442" y="149"/>
                </a:lnTo>
                <a:lnTo>
                  <a:pt x="482" y="177"/>
                </a:lnTo>
                <a:lnTo>
                  <a:pt x="497" y="172"/>
                </a:lnTo>
                <a:lnTo>
                  <a:pt x="524" y="178"/>
                </a:lnTo>
                <a:lnTo>
                  <a:pt x="539" y="193"/>
                </a:lnTo>
                <a:lnTo>
                  <a:pt x="567" y="190"/>
                </a:lnTo>
                <a:lnTo>
                  <a:pt x="600" y="193"/>
                </a:lnTo>
                <a:lnTo>
                  <a:pt x="607" y="206"/>
                </a:lnTo>
                <a:lnTo>
                  <a:pt x="607" y="216"/>
                </a:lnTo>
                <a:lnTo>
                  <a:pt x="662" y="214"/>
                </a:lnTo>
                <a:lnTo>
                  <a:pt x="678" y="194"/>
                </a:lnTo>
                <a:lnTo>
                  <a:pt x="754" y="191"/>
                </a:lnTo>
                <a:lnTo>
                  <a:pt x="804" y="204"/>
                </a:lnTo>
                <a:lnTo>
                  <a:pt x="816" y="204"/>
                </a:lnTo>
                <a:lnTo>
                  <a:pt x="810" y="219"/>
                </a:lnTo>
                <a:lnTo>
                  <a:pt x="825" y="233"/>
                </a:lnTo>
                <a:lnTo>
                  <a:pt x="832" y="229"/>
                </a:lnTo>
                <a:lnTo>
                  <a:pt x="842" y="240"/>
                </a:lnTo>
                <a:lnTo>
                  <a:pt x="851" y="273"/>
                </a:lnTo>
                <a:lnTo>
                  <a:pt x="870" y="284"/>
                </a:lnTo>
                <a:lnTo>
                  <a:pt x="891" y="259"/>
                </a:lnTo>
                <a:lnTo>
                  <a:pt x="904" y="250"/>
                </a:lnTo>
                <a:lnTo>
                  <a:pt x="921" y="259"/>
                </a:lnTo>
                <a:lnTo>
                  <a:pt x="935" y="282"/>
                </a:lnTo>
                <a:lnTo>
                  <a:pt x="975" y="294"/>
                </a:lnTo>
                <a:lnTo>
                  <a:pt x="987" y="309"/>
                </a:lnTo>
                <a:lnTo>
                  <a:pt x="1006" y="324"/>
                </a:lnTo>
                <a:lnTo>
                  <a:pt x="1032" y="326"/>
                </a:lnTo>
                <a:lnTo>
                  <a:pt x="1061" y="318"/>
                </a:lnTo>
                <a:lnTo>
                  <a:pt x="1129" y="272"/>
                </a:lnTo>
                <a:lnTo>
                  <a:pt x="1139" y="279"/>
                </a:lnTo>
                <a:lnTo>
                  <a:pt x="1159" y="298"/>
                </a:lnTo>
                <a:lnTo>
                  <a:pt x="1261" y="298"/>
                </a:lnTo>
                <a:lnTo>
                  <a:pt x="1278" y="300"/>
                </a:lnTo>
                <a:lnTo>
                  <a:pt x="1293" y="309"/>
                </a:lnTo>
                <a:lnTo>
                  <a:pt x="1318" y="330"/>
                </a:lnTo>
                <a:lnTo>
                  <a:pt x="1339" y="318"/>
                </a:lnTo>
                <a:lnTo>
                  <a:pt x="1387" y="318"/>
                </a:lnTo>
                <a:lnTo>
                  <a:pt x="1361" y="341"/>
                </a:lnTo>
                <a:lnTo>
                  <a:pt x="1299" y="375"/>
                </a:lnTo>
                <a:lnTo>
                  <a:pt x="1267" y="386"/>
                </a:lnTo>
                <a:lnTo>
                  <a:pt x="1242" y="396"/>
                </a:lnTo>
                <a:lnTo>
                  <a:pt x="1215" y="422"/>
                </a:lnTo>
                <a:lnTo>
                  <a:pt x="1163" y="448"/>
                </a:lnTo>
                <a:lnTo>
                  <a:pt x="1139" y="464"/>
                </a:lnTo>
                <a:lnTo>
                  <a:pt x="1051" y="559"/>
                </a:lnTo>
                <a:lnTo>
                  <a:pt x="924" y="675"/>
                </a:lnTo>
                <a:lnTo>
                  <a:pt x="911" y="695"/>
                </a:lnTo>
                <a:lnTo>
                  <a:pt x="898" y="705"/>
                </a:lnTo>
                <a:lnTo>
                  <a:pt x="905" y="849"/>
                </a:lnTo>
                <a:lnTo>
                  <a:pt x="889" y="865"/>
                </a:lnTo>
                <a:lnTo>
                  <a:pt x="872" y="871"/>
                </a:lnTo>
                <a:lnTo>
                  <a:pt x="816" y="917"/>
                </a:lnTo>
                <a:lnTo>
                  <a:pt x="816" y="940"/>
                </a:lnTo>
                <a:lnTo>
                  <a:pt x="809" y="947"/>
                </a:lnTo>
                <a:lnTo>
                  <a:pt x="795" y="985"/>
                </a:lnTo>
                <a:lnTo>
                  <a:pt x="823" y="1001"/>
                </a:lnTo>
                <a:lnTo>
                  <a:pt x="842" y="1035"/>
                </a:lnTo>
                <a:lnTo>
                  <a:pt x="825" y="1065"/>
                </a:lnTo>
                <a:lnTo>
                  <a:pt x="829" y="1090"/>
                </a:lnTo>
                <a:lnTo>
                  <a:pt x="823" y="1136"/>
                </a:lnTo>
                <a:lnTo>
                  <a:pt x="823" y="1206"/>
                </a:lnTo>
                <a:lnTo>
                  <a:pt x="834" y="1223"/>
                </a:lnTo>
                <a:lnTo>
                  <a:pt x="855" y="1236"/>
                </a:lnTo>
                <a:lnTo>
                  <a:pt x="860" y="1248"/>
                </a:lnTo>
                <a:lnTo>
                  <a:pt x="910" y="1255"/>
                </a:lnTo>
                <a:lnTo>
                  <a:pt x="917" y="1262"/>
                </a:lnTo>
                <a:lnTo>
                  <a:pt x="920" y="1277"/>
                </a:lnTo>
                <a:lnTo>
                  <a:pt x="931" y="1282"/>
                </a:lnTo>
                <a:lnTo>
                  <a:pt x="988" y="1309"/>
                </a:lnTo>
                <a:lnTo>
                  <a:pt x="1009" y="1349"/>
                </a:lnTo>
                <a:lnTo>
                  <a:pt x="1062" y="1391"/>
                </a:lnTo>
                <a:lnTo>
                  <a:pt x="1120" y="1431"/>
                </a:lnTo>
                <a:lnTo>
                  <a:pt x="1128" y="1444"/>
                </a:lnTo>
                <a:lnTo>
                  <a:pt x="1128" y="1479"/>
                </a:lnTo>
                <a:lnTo>
                  <a:pt x="1133" y="1528"/>
                </a:lnTo>
                <a:lnTo>
                  <a:pt x="133" y="1559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02120" y="3360600"/>
            <a:ext cx="669960" cy="444600"/>
          </a:xfrm>
          <a:custGeom>
            <a:avLst/>
            <a:gdLst/>
            <a:ahLst/>
            <a:rect l="l" t="t" r="r" b="b"/>
            <a:pathLst>
              <a:path w="1266" h="839">
                <a:moveTo>
                  <a:pt x="29" y="31"/>
                </a:moveTo>
                <a:lnTo>
                  <a:pt x="1028" y="0"/>
                </a:lnTo>
                <a:lnTo>
                  <a:pt x="1041" y="31"/>
                </a:lnTo>
                <a:lnTo>
                  <a:pt x="1063" y="53"/>
                </a:lnTo>
                <a:lnTo>
                  <a:pt x="1063" y="71"/>
                </a:lnTo>
                <a:lnTo>
                  <a:pt x="1046" y="93"/>
                </a:lnTo>
                <a:lnTo>
                  <a:pt x="1057" y="127"/>
                </a:lnTo>
                <a:lnTo>
                  <a:pt x="1074" y="200"/>
                </a:lnTo>
                <a:lnTo>
                  <a:pt x="1135" y="222"/>
                </a:lnTo>
                <a:lnTo>
                  <a:pt x="1154" y="240"/>
                </a:lnTo>
                <a:lnTo>
                  <a:pt x="1162" y="263"/>
                </a:lnTo>
                <a:lnTo>
                  <a:pt x="1170" y="279"/>
                </a:lnTo>
                <a:lnTo>
                  <a:pt x="1209" y="307"/>
                </a:lnTo>
                <a:lnTo>
                  <a:pt x="1215" y="330"/>
                </a:lnTo>
                <a:lnTo>
                  <a:pt x="1251" y="353"/>
                </a:lnTo>
                <a:lnTo>
                  <a:pt x="1266" y="398"/>
                </a:lnTo>
                <a:lnTo>
                  <a:pt x="1265" y="420"/>
                </a:lnTo>
                <a:lnTo>
                  <a:pt x="1251" y="448"/>
                </a:lnTo>
                <a:lnTo>
                  <a:pt x="1236" y="461"/>
                </a:lnTo>
                <a:lnTo>
                  <a:pt x="1236" y="486"/>
                </a:lnTo>
                <a:lnTo>
                  <a:pt x="1202" y="524"/>
                </a:lnTo>
                <a:lnTo>
                  <a:pt x="1170" y="536"/>
                </a:lnTo>
                <a:lnTo>
                  <a:pt x="1160" y="543"/>
                </a:lnTo>
                <a:lnTo>
                  <a:pt x="1117" y="546"/>
                </a:lnTo>
                <a:lnTo>
                  <a:pt x="1099" y="558"/>
                </a:lnTo>
                <a:lnTo>
                  <a:pt x="1085" y="585"/>
                </a:lnTo>
                <a:lnTo>
                  <a:pt x="1089" y="609"/>
                </a:lnTo>
                <a:lnTo>
                  <a:pt x="1114" y="634"/>
                </a:lnTo>
                <a:lnTo>
                  <a:pt x="1121" y="648"/>
                </a:lnTo>
                <a:lnTo>
                  <a:pt x="1114" y="691"/>
                </a:lnTo>
                <a:lnTo>
                  <a:pt x="1084" y="756"/>
                </a:lnTo>
                <a:lnTo>
                  <a:pt x="1053" y="774"/>
                </a:lnTo>
                <a:lnTo>
                  <a:pt x="1042" y="797"/>
                </a:lnTo>
                <a:lnTo>
                  <a:pt x="1046" y="818"/>
                </a:lnTo>
                <a:lnTo>
                  <a:pt x="1031" y="839"/>
                </a:lnTo>
                <a:lnTo>
                  <a:pt x="968" y="779"/>
                </a:lnTo>
                <a:lnTo>
                  <a:pt x="167" y="803"/>
                </a:lnTo>
                <a:lnTo>
                  <a:pt x="159" y="791"/>
                </a:lnTo>
                <a:lnTo>
                  <a:pt x="151" y="764"/>
                </a:lnTo>
                <a:lnTo>
                  <a:pt x="159" y="743"/>
                </a:lnTo>
                <a:lnTo>
                  <a:pt x="143" y="722"/>
                </a:lnTo>
                <a:lnTo>
                  <a:pt x="137" y="699"/>
                </a:lnTo>
                <a:lnTo>
                  <a:pt x="151" y="678"/>
                </a:lnTo>
                <a:lnTo>
                  <a:pt x="143" y="657"/>
                </a:lnTo>
                <a:lnTo>
                  <a:pt x="116" y="642"/>
                </a:lnTo>
                <a:lnTo>
                  <a:pt x="124" y="602"/>
                </a:lnTo>
                <a:lnTo>
                  <a:pt x="130" y="581"/>
                </a:lnTo>
                <a:lnTo>
                  <a:pt x="124" y="558"/>
                </a:lnTo>
                <a:lnTo>
                  <a:pt x="93" y="537"/>
                </a:lnTo>
                <a:lnTo>
                  <a:pt x="86" y="516"/>
                </a:lnTo>
                <a:lnTo>
                  <a:pt x="93" y="495"/>
                </a:lnTo>
                <a:lnTo>
                  <a:pt x="74" y="474"/>
                </a:lnTo>
                <a:lnTo>
                  <a:pt x="59" y="432"/>
                </a:lnTo>
                <a:lnTo>
                  <a:pt x="39" y="410"/>
                </a:lnTo>
                <a:lnTo>
                  <a:pt x="52" y="375"/>
                </a:lnTo>
                <a:lnTo>
                  <a:pt x="52" y="353"/>
                </a:lnTo>
                <a:lnTo>
                  <a:pt x="25" y="339"/>
                </a:lnTo>
                <a:lnTo>
                  <a:pt x="21" y="311"/>
                </a:lnTo>
                <a:lnTo>
                  <a:pt x="25" y="304"/>
                </a:lnTo>
                <a:lnTo>
                  <a:pt x="19" y="279"/>
                </a:lnTo>
                <a:lnTo>
                  <a:pt x="0" y="227"/>
                </a:lnTo>
                <a:lnTo>
                  <a:pt x="19" y="183"/>
                </a:lnTo>
                <a:lnTo>
                  <a:pt x="13" y="158"/>
                </a:lnTo>
                <a:lnTo>
                  <a:pt x="27" y="145"/>
                </a:lnTo>
                <a:lnTo>
                  <a:pt x="20" y="105"/>
                </a:lnTo>
                <a:lnTo>
                  <a:pt x="7" y="90"/>
                </a:lnTo>
                <a:lnTo>
                  <a:pt x="17" y="65"/>
                </a:lnTo>
                <a:lnTo>
                  <a:pt x="10" y="51"/>
                </a:lnTo>
                <a:lnTo>
                  <a:pt x="0" y="33"/>
                </a:lnTo>
                <a:lnTo>
                  <a:pt x="19" y="31"/>
                </a:lnTo>
                <a:lnTo>
                  <a:pt x="29" y="31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91040" y="3773520"/>
            <a:ext cx="747720" cy="644400"/>
          </a:xfrm>
          <a:custGeom>
            <a:avLst/>
            <a:gdLst/>
            <a:ahLst/>
            <a:rect l="l" t="t" r="r" b="b"/>
            <a:pathLst>
              <a:path w="1412" h="1218">
                <a:moveTo>
                  <a:pt x="241" y="1122"/>
                </a:moveTo>
                <a:lnTo>
                  <a:pt x="1187" y="1080"/>
                </a:lnTo>
                <a:lnTo>
                  <a:pt x="1183" y="1092"/>
                </a:lnTo>
                <a:lnTo>
                  <a:pt x="1203" y="1108"/>
                </a:lnTo>
                <a:lnTo>
                  <a:pt x="1212" y="1128"/>
                </a:lnTo>
                <a:lnTo>
                  <a:pt x="1208" y="1149"/>
                </a:lnTo>
                <a:lnTo>
                  <a:pt x="1178" y="1171"/>
                </a:lnTo>
                <a:lnTo>
                  <a:pt x="1153" y="1204"/>
                </a:lnTo>
                <a:lnTo>
                  <a:pt x="1152" y="1218"/>
                </a:lnTo>
                <a:lnTo>
                  <a:pt x="1292" y="1210"/>
                </a:lnTo>
                <a:lnTo>
                  <a:pt x="1306" y="1171"/>
                </a:lnTo>
                <a:lnTo>
                  <a:pt x="1300" y="1158"/>
                </a:lnTo>
                <a:lnTo>
                  <a:pt x="1313" y="1112"/>
                </a:lnTo>
                <a:lnTo>
                  <a:pt x="1325" y="1075"/>
                </a:lnTo>
                <a:lnTo>
                  <a:pt x="1339" y="1054"/>
                </a:lnTo>
                <a:lnTo>
                  <a:pt x="1368" y="1044"/>
                </a:lnTo>
                <a:lnTo>
                  <a:pt x="1378" y="1048"/>
                </a:lnTo>
                <a:lnTo>
                  <a:pt x="1390" y="1042"/>
                </a:lnTo>
                <a:lnTo>
                  <a:pt x="1412" y="973"/>
                </a:lnTo>
                <a:lnTo>
                  <a:pt x="1406" y="947"/>
                </a:lnTo>
                <a:lnTo>
                  <a:pt x="1391" y="940"/>
                </a:lnTo>
                <a:lnTo>
                  <a:pt x="1385" y="937"/>
                </a:lnTo>
                <a:lnTo>
                  <a:pt x="1382" y="931"/>
                </a:lnTo>
                <a:lnTo>
                  <a:pt x="1378" y="925"/>
                </a:lnTo>
                <a:lnTo>
                  <a:pt x="1365" y="925"/>
                </a:lnTo>
                <a:lnTo>
                  <a:pt x="1362" y="937"/>
                </a:lnTo>
                <a:lnTo>
                  <a:pt x="1355" y="940"/>
                </a:lnTo>
                <a:lnTo>
                  <a:pt x="1311" y="868"/>
                </a:lnTo>
                <a:lnTo>
                  <a:pt x="1313" y="857"/>
                </a:lnTo>
                <a:lnTo>
                  <a:pt x="1325" y="840"/>
                </a:lnTo>
                <a:lnTo>
                  <a:pt x="1328" y="830"/>
                </a:lnTo>
                <a:lnTo>
                  <a:pt x="1311" y="805"/>
                </a:lnTo>
                <a:lnTo>
                  <a:pt x="1299" y="761"/>
                </a:lnTo>
                <a:lnTo>
                  <a:pt x="1239" y="709"/>
                </a:lnTo>
                <a:lnTo>
                  <a:pt x="1209" y="697"/>
                </a:lnTo>
                <a:lnTo>
                  <a:pt x="1152" y="663"/>
                </a:lnTo>
                <a:lnTo>
                  <a:pt x="1115" y="628"/>
                </a:lnTo>
                <a:lnTo>
                  <a:pt x="1103" y="596"/>
                </a:lnTo>
                <a:lnTo>
                  <a:pt x="1109" y="581"/>
                </a:lnTo>
                <a:lnTo>
                  <a:pt x="1147" y="539"/>
                </a:lnTo>
                <a:lnTo>
                  <a:pt x="1140" y="499"/>
                </a:lnTo>
                <a:lnTo>
                  <a:pt x="1153" y="466"/>
                </a:lnTo>
                <a:lnTo>
                  <a:pt x="1146" y="450"/>
                </a:lnTo>
                <a:lnTo>
                  <a:pt x="1095" y="424"/>
                </a:lnTo>
                <a:lnTo>
                  <a:pt x="1080" y="434"/>
                </a:lnTo>
                <a:lnTo>
                  <a:pt x="1058" y="452"/>
                </a:lnTo>
                <a:lnTo>
                  <a:pt x="1050" y="442"/>
                </a:lnTo>
                <a:lnTo>
                  <a:pt x="1013" y="346"/>
                </a:lnTo>
                <a:lnTo>
                  <a:pt x="997" y="330"/>
                </a:lnTo>
                <a:lnTo>
                  <a:pt x="937" y="283"/>
                </a:lnTo>
                <a:lnTo>
                  <a:pt x="875" y="213"/>
                </a:lnTo>
                <a:lnTo>
                  <a:pt x="874" y="193"/>
                </a:lnTo>
                <a:lnTo>
                  <a:pt x="856" y="147"/>
                </a:lnTo>
                <a:lnTo>
                  <a:pt x="854" y="99"/>
                </a:lnTo>
                <a:lnTo>
                  <a:pt x="864" y="71"/>
                </a:lnTo>
                <a:lnTo>
                  <a:pt x="864" y="59"/>
                </a:lnTo>
                <a:lnTo>
                  <a:pt x="801" y="0"/>
                </a:lnTo>
                <a:lnTo>
                  <a:pt x="0" y="24"/>
                </a:lnTo>
                <a:lnTo>
                  <a:pt x="14" y="48"/>
                </a:lnTo>
                <a:lnTo>
                  <a:pt x="33" y="70"/>
                </a:lnTo>
                <a:lnTo>
                  <a:pt x="41" y="105"/>
                </a:lnTo>
                <a:lnTo>
                  <a:pt x="68" y="139"/>
                </a:lnTo>
                <a:lnTo>
                  <a:pt x="83" y="146"/>
                </a:lnTo>
                <a:lnTo>
                  <a:pt x="75" y="177"/>
                </a:lnTo>
                <a:lnTo>
                  <a:pt x="80" y="184"/>
                </a:lnTo>
                <a:lnTo>
                  <a:pt x="168" y="250"/>
                </a:lnTo>
                <a:lnTo>
                  <a:pt x="141" y="282"/>
                </a:lnTo>
                <a:lnTo>
                  <a:pt x="135" y="314"/>
                </a:lnTo>
                <a:lnTo>
                  <a:pt x="149" y="334"/>
                </a:lnTo>
                <a:lnTo>
                  <a:pt x="171" y="343"/>
                </a:lnTo>
                <a:lnTo>
                  <a:pt x="183" y="387"/>
                </a:lnTo>
                <a:lnTo>
                  <a:pt x="206" y="403"/>
                </a:lnTo>
                <a:lnTo>
                  <a:pt x="225" y="409"/>
                </a:lnTo>
                <a:lnTo>
                  <a:pt x="234" y="414"/>
                </a:lnTo>
                <a:lnTo>
                  <a:pt x="239" y="990"/>
                </a:lnTo>
                <a:lnTo>
                  <a:pt x="241" y="112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90840" y="4846680"/>
            <a:ext cx="632160" cy="549360"/>
          </a:xfrm>
          <a:custGeom>
            <a:avLst/>
            <a:gdLst/>
            <a:ahLst/>
            <a:rect l="l" t="t" r="r" b="b"/>
            <a:pathLst>
              <a:path w="1194" h="1040">
                <a:moveTo>
                  <a:pt x="0" y="18"/>
                </a:moveTo>
                <a:lnTo>
                  <a:pt x="642" y="0"/>
                </a:lnTo>
                <a:lnTo>
                  <a:pt x="639" y="22"/>
                </a:lnTo>
                <a:lnTo>
                  <a:pt x="668" y="75"/>
                </a:lnTo>
                <a:lnTo>
                  <a:pt x="672" y="124"/>
                </a:lnTo>
                <a:lnTo>
                  <a:pt x="684" y="154"/>
                </a:lnTo>
                <a:lnTo>
                  <a:pt x="699" y="168"/>
                </a:lnTo>
                <a:lnTo>
                  <a:pt x="702" y="190"/>
                </a:lnTo>
                <a:lnTo>
                  <a:pt x="672" y="209"/>
                </a:lnTo>
                <a:lnTo>
                  <a:pt x="664" y="219"/>
                </a:lnTo>
                <a:lnTo>
                  <a:pt x="651" y="274"/>
                </a:lnTo>
                <a:lnTo>
                  <a:pt x="610" y="339"/>
                </a:lnTo>
                <a:lnTo>
                  <a:pt x="573" y="450"/>
                </a:lnTo>
                <a:lnTo>
                  <a:pt x="569" y="533"/>
                </a:lnTo>
                <a:lnTo>
                  <a:pt x="986" y="514"/>
                </a:lnTo>
                <a:lnTo>
                  <a:pt x="994" y="528"/>
                </a:lnTo>
                <a:lnTo>
                  <a:pt x="985" y="568"/>
                </a:lnTo>
                <a:lnTo>
                  <a:pt x="986" y="627"/>
                </a:lnTo>
                <a:lnTo>
                  <a:pt x="1030" y="670"/>
                </a:lnTo>
                <a:lnTo>
                  <a:pt x="1039" y="723"/>
                </a:lnTo>
                <a:lnTo>
                  <a:pt x="979" y="710"/>
                </a:lnTo>
                <a:lnTo>
                  <a:pt x="926" y="684"/>
                </a:lnTo>
                <a:lnTo>
                  <a:pt x="912" y="682"/>
                </a:lnTo>
                <a:lnTo>
                  <a:pt x="895" y="689"/>
                </a:lnTo>
                <a:lnTo>
                  <a:pt x="857" y="727"/>
                </a:lnTo>
                <a:lnTo>
                  <a:pt x="855" y="745"/>
                </a:lnTo>
                <a:lnTo>
                  <a:pt x="872" y="764"/>
                </a:lnTo>
                <a:lnTo>
                  <a:pt x="891" y="769"/>
                </a:lnTo>
                <a:lnTo>
                  <a:pt x="937" y="768"/>
                </a:lnTo>
                <a:lnTo>
                  <a:pt x="963" y="749"/>
                </a:lnTo>
                <a:lnTo>
                  <a:pt x="979" y="741"/>
                </a:lnTo>
                <a:lnTo>
                  <a:pt x="1006" y="743"/>
                </a:lnTo>
                <a:lnTo>
                  <a:pt x="1019" y="741"/>
                </a:lnTo>
                <a:lnTo>
                  <a:pt x="1021" y="748"/>
                </a:lnTo>
                <a:lnTo>
                  <a:pt x="1014" y="760"/>
                </a:lnTo>
                <a:lnTo>
                  <a:pt x="996" y="775"/>
                </a:lnTo>
                <a:lnTo>
                  <a:pt x="1001" y="790"/>
                </a:lnTo>
                <a:lnTo>
                  <a:pt x="1017" y="800"/>
                </a:lnTo>
                <a:lnTo>
                  <a:pt x="1033" y="802"/>
                </a:lnTo>
                <a:lnTo>
                  <a:pt x="1042" y="796"/>
                </a:lnTo>
                <a:lnTo>
                  <a:pt x="1059" y="761"/>
                </a:lnTo>
                <a:lnTo>
                  <a:pt x="1105" y="743"/>
                </a:lnTo>
                <a:lnTo>
                  <a:pt x="1121" y="735"/>
                </a:lnTo>
                <a:lnTo>
                  <a:pt x="1134" y="735"/>
                </a:lnTo>
                <a:lnTo>
                  <a:pt x="1143" y="748"/>
                </a:lnTo>
                <a:lnTo>
                  <a:pt x="1136" y="768"/>
                </a:lnTo>
                <a:lnTo>
                  <a:pt x="1143" y="777"/>
                </a:lnTo>
                <a:lnTo>
                  <a:pt x="1141" y="794"/>
                </a:lnTo>
                <a:lnTo>
                  <a:pt x="1120" y="805"/>
                </a:lnTo>
                <a:lnTo>
                  <a:pt x="1089" y="851"/>
                </a:lnTo>
                <a:lnTo>
                  <a:pt x="1052" y="875"/>
                </a:lnTo>
                <a:lnTo>
                  <a:pt x="1051" y="900"/>
                </a:lnTo>
                <a:lnTo>
                  <a:pt x="1061" y="918"/>
                </a:lnTo>
                <a:lnTo>
                  <a:pt x="1108" y="945"/>
                </a:lnTo>
                <a:lnTo>
                  <a:pt x="1187" y="977"/>
                </a:lnTo>
                <a:lnTo>
                  <a:pt x="1194" y="992"/>
                </a:lnTo>
                <a:lnTo>
                  <a:pt x="1188" y="1010"/>
                </a:lnTo>
                <a:lnTo>
                  <a:pt x="1175" y="1013"/>
                </a:lnTo>
                <a:lnTo>
                  <a:pt x="1112" y="1040"/>
                </a:lnTo>
                <a:lnTo>
                  <a:pt x="1105" y="991"/>
                </a:lnTo>
                <a:lnTo>
                  <a:pt x="1070" y="976"/>
                </a:lnTo>
                <a:lnTo>
                  <a:pt x="1002" y="949"/>
                </a:lnTo>
                <a:lnTo>
                  <a:pt x="992" y="926"/>
                </a:lnTo>
                <a:lnTo>
                  <a:pt x="980" y="918"/>
                </a:lnTo>
                <a:lnTo>
                  <a:pt x="963" y="926"/>
                </a:lnTo>
                <a:lnTo>
                  <a:pt x="951" y="975"/>
                </a:lnTo>
                <a:lnTo>
                  <a:pt x="959" y="981"/>
                </a:lnTo>
                <a:lnTo>
                  <a:pt x="959" y="992"/>
                </a:lnTo>
                <a:lnTo>
                  <a:pt x="926" y="1014"/>
                </a:lnTo>
                <a:lnTo>
                  <a:pt x="912" y="1012"/>
                </a:lnTo>
                <a:lnTo>
                  <a:pt x="891" y="985"/>
                </a:lnTo>
                <a:lnTo>
                  <a:pt x="881" y="983"/>
                </a:lnTo>
                <a:lnTo>
                  <a:pt x="859" y="992"/>
                </a:lnTo>
                <a:lnTo>
                  <a:pt x="847" y="981"/>
                </a:lnTo>
                <a:lnTo>
                  <a:pt x="838" y="983"/>
                </a:lnTo>
                <a:lnTo>
                  <a:pt x="806" y="1016"/>
                </a:lnTo>
                <a:lnTo>
                  <a:pt x="772" y="1018"/>
                </a:lnTo>
                <a:lnTo>
                  <a:pt x="758" y="1008"/>
                </a:lnTo>
                <a:lnTo>
                  <a:pt x="721" y="1002"/>
                </a:lnTo>
                <a:lnTo>
                  <a:pt x="667" y="932"/>
                </a:lnTo>
                <a:lnTo>
                  <a:pt x="633" y="926"/>
                </a:lnTo>
                <a:lnTo>
                  <a:pt x="602" y="912"/>
                </a:lnTo>
                <a:lnTo>
                  <a:pt x="590" y="894"/>
                </a:lnTo>
                <a:lnTo>
                  <a:pt x="583" y="890"/>
                </a:lnTo>
                <a:lnTo>
                  <a:pt x="579" y="888"/>
                </a:lnTo>
                <a:lnTo>
                  <a:pt x="576" y="882"/>
                </a:lnTo>
                <a:lnTo>
                  <a:pt x="579" y="871"/>
                </a:lnTo>
                <a:lnTo>
                  <a:pt x="564" y="866"/>
                </a:lnTo>
                <a:lnTo>
                  <a:pt x="556" y="871"/>
                </a:lnTo>
                <a:lnTo>
                  <a:pt x="531" y="866"/>
                </a:lnTo>
                <a:lnTo>
                  <a:pt x="527" y="862"/>
                </a:lnTo>
                <a:lnTo>
                  <a:pt x="522" y="846"/>
                </a:lnTo>
                <a:lnTo>
                  <a:pt x="506" y="847"/>
                </a:lnTo>
                <a:lnTo>
                  <a:pt x="463" y="886"/>
                </a:lnTo>
                <a:lnTo>
                  <a:pt x="484" y="910"/>
                </a:lnTo>
                <a:lnTo>
                  <a:pt x="476" y="914"/>
                </a:lnTo>
                <a:lnTo>
                  <a:pt x="407" y="919"/>
                </a:lnTo>
                <a:lnTo>
                  <a:pt x="287" y="898"/>
                </a:lnTo>
                <a:lnTo>
                  <a:pt x="220" y="869"/>
                </a:lnTo>
                <a:lnTo>
                  <a:pt x="63" y="895"/>
                </a:lnTo>
                <a:lnTo>
                  <a:pt x="53" y="884"/>
                </a:lnTo>
                <a:lnTo>
                  <a:pt x="49" y="866"/>
                </a:lnTo>
                <a:lnTo>
                  <a:pt x="55" y="857"/>
                </a:lnTo>
                <a:lnTo>
                  <a:pt x="62" y="844"/>
                </a:lnTo>
                <a:lnTo>
                  <a:pt x="78" y="823"/>
                </a:lnTo>
                <a:lnTo>
                  <a:pt x="99" y="764"/>
                </a:lnTo>
                <a:lnTo>
                  <a:pt x="84" y="743"/>
                </a:lnTo>
                <a:lnTo>
                  <a:pt x="84" y="723"/>
                </a:lnTo>
                <a:lnTo>
                  <a:pt x="87" y="710"/>
                </a:lnTo>
                <a:lnTo>
                  <a:pt x="85" y="695"/>
                </a:lnTo>
                <a:lnTo>
                  <a:pt x="93" y="661"/>
                </a:lnTo>
                <a:lnTo>
                  <a:pt x="109" y="648"/>
                </a:lnTo>
                <a:lnTo>
                  <a:pt x="118" y="621"/>
                </a:lnTo>
                <a:lnTo>
                  <a:pt x="127" y="574"/>
                </a:lnTo>
                <a:lnTo>
                  <a:pt x="127" y="545"/>
                </a:lnTo>
                <a:lnTo>
                  <a:pt x="118" y="503"/>
                </a:lnTo>
                <a:lnTo>
                  <a:pt x="101" y="476"/>
                </a:lnTo>
                <a:lnTo>
                  <a:pt x="94" y="470"/>
                </a:lnTo>
                <a:lnTo>
                  <a:pt x="97" y="453"/>
                </a:lnTo>
                <a:lnTo>
                  <a:pt x="88" y="442"/>
                </a:lnTo>
                <a:lnTo>
                  <a:pt x="78" y="418"/>
                </a:lnTo>
                <a:lnTo>
                  <a:pt x="62" y="406"/>
                </a:lnTo>
                <a:lnTo>
                  <a:pt x="56" y="397"/>
                </a:lnTo>
                <a:lnTo>
                  <a:pt x="68" y="370"/>
                </a:lnTo>
                <a:lnTo>
                  <a:pt x="47" y="331"/>
                </a:lnTo>
                <a:lnTo>
                  <a:pt x="15" y="301"/>
                </a:lnTo>
                <a:lnTo>
                  <a:pt x="5" y="285"/>
                </a:lnTo>
                <a:lnTo>
                  <a:pt x="0" y="18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9560" y="4344840"/>
            <a:ext cx="555480" cy="511200"/>
          </a:xfrm>
          <a:custGeom>
            <a:avLst/>
            <a:gdLst/>
            <a:ahLst/>
            <a:rect l="l" t="t" r="r" b="b"/>
            <a:pathLst>
              <a:path w="1051" h="966">
                <a:moveTo>
                  <a:pt x="0" y="41"/>
                </a:moveTo>
                <a:lnTo>
                  <a:pt x="946" y="0"/>
                </a:lnTo>
                <a:lnTo>
                  <a:pt x="942" y="11"/>
                </a:lnTo>
                <a:lnTo>
                  <a:pt x="961" y="27"/>
                </a:lnTo>
                <a:lnTo>
                  <a:pt x="971" y="48"/>
                </a:lnTo>
                <a:lnTo>
                  <a:pt x="966" y="68"/>
                </a:lnTo>
                <a:lnTo>
                  <a:pt x="937" y="90"/>
                </a:lnTo>
                <a:lnTo>
                  <a:pt x="912" y="123"/>
                </a:lnTo>
                <a:lnTo>
                  <a:pt x="911" y="137"/>
                </a:lnTo>
                <a:lnTo>
                  <a:pt x="1051" y="130"/>
                </a:lnTo>
                <a:lnTo>
                  <a:pt x="1045" y="143"/>
                </a:lnTo>
                <a:lnTo>
                  <a:pt x="1050" y="156"/>
                </a:lnTo>
                <a:lnTo>
                  <a:pt x="1039" y="178"/>
                </a:lnTo>
                <a:lnTo>
                  <a:pt x="1013" y="206"/>
                </a:lnTo>
                <a:lnTo>
                  <a:pt x="1003" y="262"/>
                </a:lnTo>
                <a:lnTo>
                  <a:pt x="976" y="297"/>
                </a:lnTo>
                <a:lnTo>
                  <a:pt x="982" y="334"/>
                </a:lnTo>
                <a:lnTo>
                  <a:pt x="978" y="381"/>
                </a:lnTo>
                <a:lnTo>
                  <a:pt x="971" y="384"/>
                </a:lnTo>
                <a:lnTo>
                  <a:pt x="948" y="405"/>
                </a:lnTo>
                <a:lnTo>
                  <a:pt x="945" y="420"/>
                </a:lnTo>
                <a:lnTo>
                  <a:pt x="905" y="456"/>
                </a:lnTo>
                <a:lnTo>
                  <a:pt x="889" y="498"/>
                </a:lnTo>
                <a:lnTo>
                  <a:pt x="893" y="540"/>
                </a:lnTo>
                <a:lnTo>
                  <a:pt x="886" y="561"/>
                </a:lnTo>
                <a:lnTo>
                  <a:pt x="849" y="587"/>
                </a:lnTo>
                <a:lnTo>
                  <a:pt x="822" y="626"/>
                </a:lnTo>
                <a:lnTo>
                  <a:pt x="810" y="638"/>
                </a:lnTo>
                <a:lnTo>
                  <a:pt x="810" y="672"/>
                </a:lnTo>
                <a:lnTo>
                  <a:pt x="791" y="695"/>
                </a:lnTo>
                <a:lnTo>
                  <a:pt x="791" y="721"/>
                </a:lnTo>
                <a:lnTo>
                  <a:pt x="778" y="757"/>
                </a:lnTo>
                <a:lnTo>
                  <a:pt x="756" y="795"/>
                </a:lnTo>
                <a:lnTo>
                  <a:pt x="765" y="835"/>
                </a:lnTo>
                <a:lnTo>
                  <a:pt x="785" y="856"/>
                </a:lnTo>
                <a:lnTo>
                  <a:pt x="788" y="881"/>
                </a:lnTo>
                <a:lnTo>
                  <a:pt x="795" y="889"/>
                </a:lnTo>
                <a:lnTo>
                  <a:pt x="795" y="903"/>
                </a:lnTo>
                <a:lnTo>
                  <a:pt x="782" y="910"/>
                </a:lnTo>
                <a:lnTo>
                  <a:pt x="778" y="934"/>
                </a:lnTo>
                <a:lnTo>
                  <a:pt x="780" y="948"/>
                </a:lnTo>
                <a:lnTo>
                  <a:pt x="138" y="966"/>
                </a:lnTo>
                <a:lnTo>
                  <a:pt x="138" y="823"/>
                </a:lnTo>
                <a:lnTo>
                  <a:pt x="104" y="815"/>
                </a:lnTo>
                <a:lnTo>
                  <a:pt x="75" y="829"/>
                </a:lnTo>
                <a:lnTo>
                  <a:pt x="66" y="826"/>
                </a:lnTo>
                <a:lnTo>
                  <a:pt x="33" y="803"/>
                </a:lnTo>
                <a:lnTo>
                  <a:pt x="39" y="334"/>
                </a:lnTo>
                <a:lnTo>
                  <a:pt x="0" y="4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41760" y="3481560"/>
            <a:ext cx="444600" cy="788760"/>
          </a:xfrm>
          <a:custGeom>
            <a:avLst/>
            <a:gdLst/>
            <a:ahLst/>
            <a:rect l="l" t="t" r="r" b="b"/>
            <a:pathLst>
              <a:path w="839" h="1492">
                <a:moveTo>
                  <a:pt x="692" y="0"/>
                </a:moveTo>
                <a:lnTo>
                  <a:pt x="141" y="36"/>
                </a:lnTo>
                <a:lnTo>
                  <a:pt x="150" y="52"/>
                </a:lnTo>
                <a:lnTo>
                  <a:pt x="189" y="80"/>
                </a:lnTo>
                <a:lnTo>
                  <a:pt x="195" y="103"/>
                </a:lnTo>
                <a:lnTo>
                  <a:pt x="231" y="126"/>
                </a:lnTo>
                <a:lnTo>
                  <a:pt x="246" y="171"/>
                </a:lnTo>
                <a:lnTo>
                  <a:pt x="245" y="193"/>
                </a:lnTo>
                <a:lnTo>
                  <a:pt x="231" y="221"/>
                </a:lnTo>
                <a:lnTo>
                  <a:pt x="216" y="234"/>
                </a:lnTo>
                <a:lnTo>
                  <a:pt x="216" y="259"/>
                </a:lnTo>
                <a:lnTo>
                  <a:pt x="182" y="297"/>
                </a:lnTo>
                <a:lnTo>
                  <a:pt x="150" y="309"/>
                </a:lnTo>
                <a:lnTo>
                  <a:pt x="140" y="316"/>
                </a:lnTo>
                <a:lnTo>
                  <a:pt x="97" y="319"/>
                </a:lnTo>
                <a:lnTo>
                  <a:pt x="79" y="332"/>
                </a:lnTo>
                <a:lnTo>
                  <a:pt x="65" y="358"/>
                </a:lnTo>
                <a:lnTo>
                  <a:pt x="69" y="382"/>
                </a:lnTo>
                <a:lnTo>
                  <a:pt x="94" y="407"/>
                </a:lnTo>
                <a:lnTo>
                  <a:pt x="101" y="421"/>
                </a:lnTo>
                <a:lnTo>
                  <a:pt x="94" y="464"/>
                </a:lnTo>
                <a:lnTo>
                  <a:pt x="63" y="530"/>
                </a:lnTo>
                <a:lnTo>
                  <a:pt x="34" y="547"/>
                </a:lnTo>
                <a:lnTo>
                  <a:pt x="22" y="570"/>
                </a:lnTo>
                <a:lnTo>
                  <a:pt x="26" y="591"/>
                </a:lnTo>
                <a:lnTo>
                  <a:pt x="10" y="612"/>
                </a:lnTo>
                <a:lnTo>
                  <a:pt x="10" y="623"/>
                </a:lnTo>
                <a:lnTo>
                  <a:pt x="0" y="651"/>
                </a:lnTo>
                <a:lnTo>
                  <a:pt x="3" y="701"/>
                </a:lnTo>
                <a:lnTo>
                  <a:pt x="21" y="745"/>
                </a:lnTo>
                <a:lnTo>
                  <a:pt x="22" y="765"/>
                </a:lnTo>
                <a:lnTo>
                  <a:pt x="84" y="836"/>
                </a:lnTo>
                <a:lnTo>
                  <a:pt x="144" y="883"/>
                </a:lnTo>
                <a:lnTo>
                  <a:pt x="160" y="899"/>
                </a:lnTo>
                <a:lnTo>
                  <a:pt x="197" y="994"/>
                </a:lnTo>
                <a:lnTo>
                  <a:pt x="205" y="1004"/>
                </a:lnTo>
                <a:lnTo>
                  <a:pt x="227" y="987"/>
                </a:lnTo>
                <a:lnTo>
                  <a:pt x="242" y="977"/>
                </a:lnTo>
                <a:lnTo>
                  <a:pt x="293" y="1002"/>
                </a:lnTo>
                <a:lnTo>
                  <a:pt x="300" y="1019"/>
                </a:lnTo>
                <a:lnTo>
                  <a:pt x="287" y="1051"/>
                </a:lnTo>
                <a:lnTo>
                  <a:pt x="294" y="1091"/>
                </a:lnTo>
                <a:lnTo>
                  <a:pt x="256" y="1134"/>
                </a:lnTo>
                <a:lnTo>
                  <a:pt x="250" y="1149"/>
                </a:lnTo>
                <a:lnTo>
                  <a:pt x="262" y="1181"/>
                </a:lnTo>
                <a:lnTo>
                  <a:pt x="299" y="1215"/>
                </a:lnTo>
                <a:lnTo>
                  <a:pt x="356" y="1249"/>
                </a:lnTo>
                <a:lnTo>
                  <a:pt x="386" y="1261"/>
                </a:lnTo>
                <a:lnTo>
                  <a:pt x="446" y="1313"/>
                </a:lnTo>
                <a:lnTo>
                  <a:pt x="458" y="1358"/>
                </a:lnTo>
                <a:lnTo>
                  <a:pt x="475" y="1383"/>
                </a:lnTo>
                <a:lnTo>
                  <a:pt x="472" y="1394"/>
                </a:lnTo>
                <a:lnTo>
                  <a:pt x="460" y="1410"/>
                </a:lnTo>
                <a:lnTo>
                  <a:pt x="458" y="1421"/>
                </a:lnTo>
                <a:lnTo>
                  <a:pt x="501" y="1492"/>
                </a:lnTo>
                <a:lnTo>
                  <a:pt x="509" y="1489"/>
                </a:lnTo>
                <a:lnTo>
                  <a:pt x="511" y="1478"/>
                </a:lnTo>
                <a:lnTo>
                  <a:pt x="525" y="1478"/>
                </a:lnTo>
                <a:lnTo>
                  <a:pt x="529" y="1484"/>
                </a:lnTo>
                <a:lnTo>
                  <a:pt x="541" y="1438"/>
                </a:lnTo>
                <a:lnTo>
                  <a:pt x="567" y="1425"/>
                </a:lnTo>
                <a:lnTo>
                  <a:pt x="603" y="1431"/>
                </a:lnTo>
                <a:lnTo>
                  <a:pt x="627" y="1446"/>
                </a:lnTo>
                <a:lnTo>
                  <a:pt x="654" y="1463"/>
                </a:lnTo>
                <a:lnTo>
                  <a:pt x="683" y="1450"/>
                </a:lnTo>
                <a:lnTo>
                  <a:pt x="670" y="1396"/>
                </a:lnTo>
                <a:lnTo>
                  <a:pt x="668" y="1366"/>
                </a:lnTo>
                <a:lnTo>
                  <a:pt x="686" y="1358"/>
                </a:lnTo>
                <a:lnTo>
                  <a:pt x="751" y="1339"/>
                </a:lnTo>
                <a:lnTo>
                  <a:pt x="755" y="1333"/>
                </a:lnTo>
                <a:lnTo>
                  <a:pt x="734" y="1306"/>
                </a:lnTo>
                <a:lnTo>
                  <a:pt x="731" y="1299"/>
                </a:lnTo>
                <a:lnTo>
                  <a:pt x="740" y="1293"/>
                </a:lnTo>
                <a:lnTo>
                  <a:pt x="744" y="1272"/>
                </a:lnTo>
                <a:lnTo>
                  <a:pt x="753" y="1259"/>
                </a:lnTo>
                <a:lnTo>
                  <a:pt x="749" y="1254"/>
                </a:lnTo>
                <a:lnTo>
                  <a:pt x="747" y="1244"/>
                </a:lnTo>
                <a:lnTo>
                  <a:pt x="747" y="1233"/>
                </a:lnTo>
                <a:lnTo>
                  <a:pt x="759" y="1186"/>
                </a:lnTo>
                <a:lnTo>
                  <a:pt x="759" y="1145"/>
                </a:lnTo>
                <a:lnTo>
                  <a:pt x="790" y="1116"/>
                </a:lnTo>
                <a:lnTo>
                  <a:pt x="810" y="1072"/>
                </a:lnTo>
                <a:lnTo>
                  <a:pt x="812" y="1056"/>
                </a:lnTo>
                <a:lnTo>
                  <a:pt x="839" y="1003"/>
                </a:lnTo>
                <a:lnTo>
                  <a:pt x="831" y="946"/>
                </a:lnTo>
                <a:lnTo>
                  <a:pt x="808" y="899"/>
                </a:lnTo>
                <a:lnTo>
                  <a:pt x="816" y="865"/>
                </a:lnTo>
                <a:lnTo>
                  <a:pt x="812" y="842"/>
                </a:lnTo>
                <a:lnTo>
                  <a:pt x="820" y="833"/>
                </a:lnTo>
                <a:lnTo>
                  <a:pt x="768" y="202"/>
                </a:lnTo>
                <a:lnTo>
                  <a:pt x="756" y="193"/>
                </a:lnTo>
                <a:lnTo>
                  <a:pt x="749" y="179"/>
                </a:lnTo>
                <a:lnTo>
                  <a:pt x="736" y="120"/>
                </a:lnTo>
                <a:lnTo>
                  <a:pt x="727" y="103"/>
                </a:lnTo>
                <a:lnTo>
                  <a:pt x="709" y="86"/>
                </a:lnTo>
                <a:lnTo>
                  <a:pt x="692" y="48"/>
                </a:lnTo>
                <a:lnTo>
                  <a:pt x="692" y="0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3360" y="2984400"/>
            <a:ext cx="433440" cy="594000"/>
          </a:xfrm>
          <a:custGeom>
            <a:avLst/>
            <a:gdLst/>
            <a:ahLst/>
            <a:rect l="l" t="t" r="r" b="b"/>
            <a:pathLst>
              <a:path w="819" h="1121">
                <a:moveTo>
                  <a:pt x="0" y="1121"/>
                </a:moveTo>
                <a:lnTo>
                  <a:pt x="408" y="1073"/>
                </a:lnTo>
                <a:lnTo>
                  <a:pt x="410" y="1086"/>
                </a:lnTo>
                <a:lnTo>
                  <a:pt x="669" y="1048"/>
                </a:lnTo>
                <a:lnTo>
                  <a:pt x="670" y="1037"/>
                </a:lnTo>
                <a:lnTo>
                  <a:pt x="704" y="975"/>
                </a:lnTo>
                <a:lnTo>
                  <a:pt x="714" y="957"/>
                </a:lnTo>
                <a:lnTo>
                  <a:pt x="713" y="917"/>
                </a:lnTo>
                <a:lnTo>
                  <a:pt x="724" y="882"/>
                </a:lnTo>
                <a:lnTo>
                  <a:pt x="759" y="856"/>
                </a:lnTo>
                <a:lnTo>
                  <a:pt x="759" y="824"/>
                </a:lnTo>
                <a:lnTo>
                  <a:pt x="764" y="813"/>
                </a:lnTo>
                <a:lnTo>
                  <a:pt x="766" y="796"/>
                </a:lnTo>
                <a:lnTo>
                  <a:pt x="783" y="780"/>
                </a:lnTo>
                <a:lnTo>
                  <a:pt x="792" y="796"/>
                </a:lnTo>
                <a:lnTo>
                  <a:pt x="799" y="799"/>
                </a:lnTo>
                <a:lnTo>
                  <a:pt x="810" y="793"/>
                </a:lnTo>
                <a:lnTo>
                  <a:pt x="818" y="782"/>
                </a:lnTo>
                <a:lnTo>
                  <a:pt x="819" y="765"/>
                </a:lnTo>
                <a:lnTo>
                  <a:pt x="813" y="730"/>
                </a:lnTo>
                <a:lnTo>
                  <a:pt x="819" y="682"/>
                </a:lnTo>
                <a:lnTo>
                  <a:pt x="805" y="655"/>
                </a:lnTo>
                <a:lnTo>
                  <a:pt x="797" y="589"/>
                </a:lnTo>
                <a:lnTo>
                  <a:pt x="738" y="438"/>
                </a:lnTo>
                <a:lnTo>
                  <a:pt x="682" y="420"/>
                </a:lnTo>
                <a:lnTo>
                  <a:pt x="658" y="436"/>
                </a:lnTo>
                <a:lnTo>
                  <a:pt x="632" y="462"/>
                </a:lnTo>
                <a:lnTo>
                  <a:pt x="563" y="563"/>
                </a:lnTo>
                <a:lnTo>
                  <a:pt x="556" y="563"/>
                </a:lnTo>
                <a:lnTo>
                  <a:pt x="550" y="559"/>
                </a:lnTo>
                <a:lnTo>
                  <a:pt x="522" y="548"/>
                </a:lnTo>
                <a:lnTo>
                  <a:pt x="513" y="540"/>
                </a:lnTo>
                <a:lnTo>
                  <a:pt x="505" y="519"/>
                </a:lnTo>
                <a:lnTo>
                  <a:pt x="511" y="474"/>
                </a:lnTo>
                <a:lnTo>
                  <a:pt x="525" y="458"/>
                </a:lnTo>
                <a:lnTo>
                  <a:pt x="558" y="436"/>
                </a:lnTo>
                <a:lnTo>
                  <a:pt x="568" y="418"/>
                </a:lnTo>
                <a:lnTo>
                  <a:pt x="568" y="405"/>
                </a:lnTo>
                <a:lnTo>
                  <a:pt x="574" y="386"/>
                </a:lnTo>
                <a:lnTo>
                  <a:pt x="588" y="375"/>
                </a:lnTo>
                <a:lnTo>
                  <a:pt x="604" y="344"/>
                </a:lnTo>
                <a:lnTo>
                  <a:pt x="604" y="277"/>
                </a:lnTo>
                <a:lnTo>
                  <a:pt x="594" y="244"/>
                </a:lnTo>
                <a:lnTo>
                  <a:pt x="584" y="224"/>
                </a:lnTo>
                <a:lnTo>
                  <a:pt x="563" y="199"/>
                </a:lnTo>
                <a:lnTo>
                  <a:pt x="557" y="187"/>
                </a:lnTo>
                <a:lnTo>
                  <a:pt x="560" y="169"/>
                </a:lnTo>
                <a:lnTo>
                  <a:pt x="584" y="163"/>
                </a:lnTo>
                <a:lnTo>
                  <a:pt x="587" y="157"/>
                </a:lnTo>
                <a:lnTo>
                  <a:pt x="560" y="106"/>
                </a:lnTo>
                <a:lnTo>
                  <a:pt x="537" y="96"/>
                </a:lnTo>
                <a:lnTo>
                  <a:pt x="468" y="69"/>
                </a:lnTo>
                <a:lnTo>
                  <a:pt x="418" y="58"/>
                </a:lnTo>
                <a:lnTo>
                  <a:pt x="402" y="40"/>
                </a:lnTo>
                <a:lnTo>
                  <a:pt x="362" y="30"/>
                </a:lnTo>
                <a:lnTo>
                  <a:pt x="326" y="20"/>
                </a:lnTo>
                <a:lnTo>
                  <a:pt x="299" y="0"/>
                </a:lnTo>
                <a:lnTo>
                  <a:pt x="282" y="15"/>
                </a:lnTo>
                <a:lnTo>
                  <a:pt x="260" y="22"/>
                </a:lnTo>
                <a:lnTo>
                  <a:pt x="240" y="58"/>
                </a:lnTo>
                <a:lnTo>
                  <a:pt x="240" y="90"/>
                </a:lnTo>
                <a:lnTo>
                  <a:pt x="244" y="100"/>
                </a:lnTo>
                <a:lnTo>
                  <a:pt x="252" y="103"/>
                </a:lnTo>
                <a:lnTo>
                  <a:pt x="256" y="114"/>
                </a:lnTo>
                <a:lnTo>
                  <a:pt x="246" y="118"/>
                </a:lnTo>
                <a:lnTo>
                  <a:pt x="232" y="124"/>
                </a:lnTo>
                <a:lnTo>
                  <a:pt x="219" y="134"/>
                </a:lnTo>
                <a:lnTo>
                  <a:pt x="203" y="154"/>
                </a:lnTo>
                <a:lnTo>
                  <a:pt x="193" y="179"/>
                </a:lnTo>
                <a:lnTo>
                  <a:pt x="194" y="210"/>
                </a:lnTo>
                <a:lnTo>
                  <a:pt x="200" y="236"/>
                </a:lnTo>
                <a:lnTo>
                  <a:pt x="183" y="268"/>
                </a:lnTo>
                <a:lnTo>
                  <a:pt x="159" y="279"/>
                </a:lnTo>
                <a:lnTo>
                  <a:pt x="153" y="258"/>
                </a:lnTo>
                <a:lnTo>
                  <a:pt x="165" y="230"/>
                </a:lnTo>
                <a:lnTo>
                  <a:pt x="155" y="204"/>
                </a:lnTo>
                <a:lnTo>
                  <a:pt x="159" y="191"/>
                </a:lnTo>
                <a:lnTo>
                  <a:pt x="155" y="182"/>
                </a:lnTo>
                <a:lnTo>
                  <a:pt x="146" y="188"/>
                </a:lnTo>
                <a:lnTo>
                  <a:pt x="134" y="209"/>
                </a:lnTo>
                <a:lnTo>
                  <a:pt x="130" y="235"/>
                </a:lnTo>
                <a:lnTo>
                  <a:pt x="120" y="250"/>
                </a:lnTo>
                <a:lnTo>
                  <a:pt x="107" y="249"/>
                </a:lnTo>
                <a:lnTo>
                  <a:pt x="83" y="270"/>
                </a:lnTo>
                <a:lnTo>
                  <a:pt x="73" y="289"/>
                </a:lnTo>
                <a:lnTo>
                  <a:pt x="71" y="304"/>
                </a:lnTo>
                <a:lnTo>
                  <a:pt x="49" y="329"/>
                </a:lnTo>
                <a:lnTo>
                  <a:pt x="46" y="370"/>
                </a:lnTo>
                <a:lnTo>
                  <a:pt x="44" y="418"/>
                </a:lnTo>
                <a:lnTo>
                  <a:pt x="40" y="446"/>
                </a:lnTo>
                <a:lnTo>
                  <a:pt x="26" y="480"/>
                </a:lnTo>
                <a:lnTo>
                  <a:pt x="11" y="502"/>
                </a:lnTo>
                <a:lnTo>
                  <a:pt x="12" y="522"/>
                </a:lnTo>
                <a:lnTo>
                  <a:pt x="31" y="582"/>
                </a:lnTo>
                <a:lnTo>
                  <a:pt x="21" y="619"/>
                </a:lnTo>
                <a:lnTo>
                  <a:pt x="36" y="648"/>
                </a:lnTo>
                <a:lnTo>
                  <a:pt x="74" y="729"/>
                </a:lnTo>
                <a:lnTo>
                  <a:pt x="99" y="792"/>
                </a:lnTo>
                <a:lnTo>
                  <a:pt x="100" y="845"/>
                </a:lnTo>
                <a:lnTo>
                  <a:pt x="113" y="857"/>
                </a:lnTo>
                <a:lnTo>
                  <a:pt x="113" y="866"/>
                </a:lnTo>
                <a:lnTo>
                  <a:pt x="106" y="876"/>
                </a:lnTo>
                <a:lnTo>
                  <a:pt x="98" y="931"/>
                </a:lnTo>
                <a:lnTo>
                  <a:pt x="89" y="971"/>
                </a:lnTo>
                <a:lnTo>
                  <a:pt x="73" y="1011"/>
                </a:lnTo>
                <a:lnTo>
                  <a:pt x="37" y="1087"/>
                </a:lnTo>
                <a:lnTo>
                  <a:pt x="11" y="1112"/>
                </a:lnTo>
                <a:lnTo>
                  <a:pt x="0" y="112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0800" y="3463920"/>
            <a:ext cx="466560" cy="525600"/>
          </a:xfrm>
          <a:custGeom>
            <a:avLst/>
            <a:gdLst/>
            <a:ahLst/>
            <a:rect l="l" t="t" r="r" b="b"/>
            <a:pathLst>
              <a:path w="882" h="993">
                <a:moveTo>
                  <a:pt x="0" y="179"/>
                </a:moveTo>
                <a:lnTo>
                  <a:pt x="80" y="865"/>
                </a:lnTo>
                <a:lnTo>
                  <a:pt x="97" y="864"/>
                </a:lnTo>
                <a:lnTo>
                  <a:pt x="116" y="877"/>
                </a:lnTo>
                <a:lnTo>
                  <a:pt x="130" y="877"/>
                </a:lnTo>
                <a:lnTo>
                  <a:pt x="152" y="864"/>
                </a:lnTo>
                <a:lnTo>
                  <a:pt x="194" y="894"/>
                </a:lnTo>
                <a:lnTo>
                  <a:pt x="209" y="931"/>
                </a:lnTo>
                <a:lnTo>
                  <a:pt x="241" y="946"/>
                </a:lnTo>
                <a:lnTo>
                  <a:pt x="283" y="942"/>
                </a:lnTo>
                <a:lnTo>
                  <a:pt x="326" y="971"/>
                </a:lnTo>
                <a:lnTo>
                  <a:pt x="343" y="952"/>
                </a:lnTo>
                <a:lnTo>
                  <a:pt x="356" y="946"/>
                </a:lnTo>
                <a:lnTo>
                  <a:pt x="395" y="962"/>
                </a:lnTo>
                <a:lnTo>
                  <a:pt x="425" y="959"/>
                </a:lnTo>
                <a:lnTo>
                  <a:pt x="430" y="952"/>
                </a:lnTo>
                <a:lnTo>
                  <a:pt x="446" y="945"/>
                </a:lnTo>
                <a:lnTo>
                  <a:pt x="450" y="931"/>
                </a:lnTo>
                <a:lnTo>
                  <a:pt x="476" y="914"/>
                </a:lnTo>
                <a:lnTo>
                  <a:pt x="489" y="930"/>
                </a:lnTo>
                <a:lnTo>
                  <a:pt x="507" y="961"/>
                </a:lnTo>
                <a:lnTo>
                  <a:pt x="533" y="965"/>
                </a:lnTo>
                <a:lnTo>
                  <a:pt x="554" y="982"/>
                </a:lnTo>
                <a:lnTo>
                  <a:pt x="564" y="993"/>
                </a:lnTo>
                <a:lnTo>
                  <a:pt x="590" y="990"/>
                </a:lnTo>
                <a:lnTo>
                  <a:pt x="611" y="953"/>
                </a:lnTo>
                <a:lnTo>
                  <a:pt x="623" y="943"/>
                </a:lnTo>
                <a:lnTo>
                  <a:pt x="626" y="914"/>
                </a:lnTo>
                <a:lnTo>
                  <a:pt x="623" y="883"/>
                </a:lnTo>
                <a:lnTo>
                  <a:pt x="644" y="820"/>
                </a:lnTo>
                <a:lnTo>
                  <a:pt x="661" y="820"/>
                </a:lnTo>
                <a:lnTo>
                  <a:pt x="678" y="851"/>
                </a:lnTo>
                <a:lnTo>
                  <a:pt x="703" y="823"/>
                </a:lnTo>
                <a:lnTo>
                  <a:pt x="695" y="793"/>
                </a:lnTo>
                <a:lnTo>
                  <a:pt x="716" y="747"/>
                </a:lnTo>
                <a:lnTo>
                  <a:pt x="733" y="729"/>
                </a:lnTo>
                <a:lnTo>
                  <a:pt x="736" y="717"/>
                </a:lnTo>
                <a:lnTo>
                  <a:pt x="752" y="700"/>
                </a:lnTo>
                <a:lnTo>
                  <a:pt x="770" y="704"/>
                </a:lnTo>
                <a:lnTo>
                  <a:pt x="793" y="697"/>
                </a:lnTo>
                <a:lnTo>
                  <a:pt x="796" y="688"/>
                </a:lnTo>
                <a:lnTo>
                  <a:pt x="833" y="643"/>
                </a:lnTo>
                <a:lnTo>
                  <a:pt x="844" y="639"/>
                </a:lnTo>
                <a:lnTo>
                  <a:pt x="868" y="616"/>
                </a:lnTo>
                <a:lnTo>
                  <a:pt x="866" y="586"/>
                </a:lnTo>
                <a:lnTo>
                  <a:pt x="861" y="571"/>
                </a:lnTo>
                <a:lnTo>
                  <a:pt x="861" y="552"/>
                </a:lnTo>
                <a:lnTo>
                  <a:pt x="869" y="527"/>
                </a:lnTo>
                <a:lnTo>
                  <a:pt x="882" y="433"/>
                </a:lnTo>
                <a:lnTo>
                  <a:pt x="844" y="413"/>
                </a:lnTo>
                <a:lnTo>
                  <a:pt x="874" y="388"/>
                </a:lnTo>
                <a:lnTo>
                  <a:pt x="865" y="360"/>
                </a:lnTo>
                <a:lnTo>
                  <a:pt x="878" y="347"/>
                </a:lnTo>
                <a:lnTo>
                  <a:pt x="882" y="352"/>
                </a:lnTo>
                <a:lnTo>
                  <a:pt x="823" y="0"/>
                </a:lnTo>
                <a:lnTo>
                  <a:pt x="723" y="50"/>
                </a:lnTo>
                <a:lnTo>
                  <a:pt x="678" y="79"/>
                </a:lnTo>
                <a:lnTo>
                  <a:pt x="661" y="92"/>
                </a:lnTo>
                <a:lnTo>
                  <a:pt x="604" y="155"/>
                </a:lnTo>
                <a:lnTo>
                  <a:pt x="584" y="164"/>
                </a:lnTo>
                <a:lnTo>
                  <a:pt x="569" y="163"/>
                </a:lnTo>
                <a:lnTo>
                  <a:pt x="537" y="163"/>
                </a:lnTo>
                <a:lnTo>
                  <a:pt x="516" y="170"/>
                </a:lnTo>
                <a:lnTo>
                  <a:pt x="470" y="208"/>
                </a:lnTo>
                <a:lnTo>
                  <a:pt x="452" y="205"/>
                </a:lnTo>
                <a:lnTo>
                  <a:pt x="413" y="191"/>
                </a:lnTo>
                <a:lnTo>
                  <a:pt x="403" y="197"/>
                </a:lnTo>
                <a:lnTo>
                  <a:pt x="389" y="195"/>
                </a:lnTo>
                <a:lnTo>
                  <a:pt x="400" y="179"/>
                </a:lnTo>
                <a:lnTo>
                  <a:pt x="391" y="176"/>
                </a:lnTo>
                <a:lnTo>
                  <a:pt x="361" y="172"/>
                </a:lnTo>
                <a:lnTo>
                  <a:pt x="301" y="151"/>
                </a:lnTo>
                <a:lnTo>
                  <a:pt x="288" y="145"/>
                </a:lnTo>
                <a:lnTo>
                  <a:pt x="259" y="154"/>
                </a:lnTo>
                <a:lnTo>
                  <a:pt x="259" y="140"/>
                </a:lnTo>
                <a:lnTo>
                  <a:pt x="0" y="179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68960" y="2874960"/>
            <a:ext cx="587160" cy="625320"/>
          </a:xfrm>
          <a:custGeom>
            <a:avLst/>
            <a:gdLst/>
            <a:ahLst/>
            <a:rect l="l" t="t" r="r" b="b"/>
            <a:pathLst>
              <a:path w="1110" h="1183">
                <a:moveTo>
                  <a:pt x="470" y="1183"/>
                </a:moveTo>
                <a:lnTo>
                  <a:pt x="463" y="1159"/>
                </a:lnTo>
                <a:lnTo>
                  <a:pt x="443" y="1141"/>
                </a:lnTo>
                <a:lnTo>
                  <a:pt x="383" y="1120"/>
                </a:lnTo>
                <a:lnTo>
                  <a:pt x="365" y="1047"/>
                </a:lnTo>
                <a:lnTo>
                  <a:pt x="354" y="1013"/>
                </a:lnTo>
                <a:lnTo>
                  <a:pt x="371" y="990"/>
                </a:lnTo>
                <a:lnTo>
                  <a:pt x="371" y="973"/>
                </a:lnTo>
                <a:lnTo>
                  <a:pt x="349" y="951"/>
                </a:lnTo>
                <a:lnTo>
                  <a:pt x="337" y="920"/>
                </a:lnTo>
                <a:lnTo>
                  <a:pt x="332" y="870"/>
                </a:lnTo>
                <a:lnTo>
                  <a:pt x="332" y="836"/>
                </a:lnTo>
                <a:lnTo>
                  <a:pt x="324" y="823"/>
                </a:lnTo>
                <a:lnTo>
                  <a:pt x="266" y="782"/>
                </a:lnTo>
                <a:lnTo>
                  <a:pt x="213" y="740"/>
                </a:lnTo>
                <a:lnTo>
                  <a:pt x="193" y="701"/>
                </a:lnTo>
                <a:lnTo>
                  <a:pt x="135" y="674"/>
                </a:lnTo>
                <a:lnTo>
                  <a:pt x="124" y="668"/>
                </a:lnTo>
                <a:lnTo>
                  <a:pt x="121" y="654"/>
                </a:lnTo>
                <a:lnTo>
                  <a:pt x="114" y="646"/>
                </a:lnTo>
                <a:lnTo>
                  <a:pt x="64" y="640"/>
                </a:lnTo>
                <a:lnTo>
                  <a:pt x="59" y="628"/>
                </a:lnTo>
                <a:lnTo>
                  <a:pt x="38" y="615"/>
                </a:lnTo>
                <a:lnTo>
                  <a:pt x="27" y="598"/>
                </a:lnTo>
                <a:lnTo>
                  <a:pt x="27" y="527"/>
                </a:lnTo>
                <a:lnTo>
                  <a:pt x="33" y="482"/>
                </a:lnTo>
                <a:lnTo>
                  <a:pt x="29" y="457"/>
                </a:lnTo>
                <a:lnTo>
                  <a:pt x="46" y="427"/>
                </a:lnTo>
                <a:lnTo>
                  <a:pt x="27" y="393"/>
                </a:lnTo>
                <a:lnTo>
                  <a:pt x="0" y="377"/>
                </a:lnTo>
                <a:lnTo>
                  <a:pt x="13" y="339"/>
                </a:lnTo>
                <a:lnTo>
                  <a:pt x="20" y="332"/>
                </a:lnTo>
                <a:lnTo>
                  <a:pt x="20" y="308"/>
                </a:lnTo>
                <a:lnTo>
                  <a:pt x="76" y="263"/>
                </a:lnTo>
                <a:lnTo>
                  <a:pt x="93" y="257"/>
                </a:lnTo>
                <a:lnTo>
                  <a:pt x="109" y="241"/>
                </a:lnTo>
                <a:lnTo>
                  <a:pt x="102" y="97"/>
                </a:lnTo>
                <a:lnTo>
                  <a:pt x="115" y="87"/>
                </a:lnTo>
                <a:lnTo>
                  <a:pt x="128" y="67"/>
                </a:lnTo>
                <a:lnTo>
                  <a:pt x="149" y="77"/>
                </a:lnTo>
                <a:lnTo>
                  <a:pt x="173" y="82"/>
                </a:lnTo>
                <a:lnTo>
                  <a:pt x="206" y="78"/>
                </a:lnTo>
                <a:lnTo>
                  <a:pt x="257" y="49"/>
                </a:lnTo>
                <a:lnTo>
                  <a:pt x="348" y="2"/>
                </a:lnTo>
                <a:lnTo>
                  <a:pt x="365" y="0"/>
                </a:lnTo>
                <a:lnTo>
                  <a:pt x="373" y="6"/>
                </a:lnTo>
                <a:lnTo>
                  <a:pt x="373" y="30"/>
                </a:lnTo>
                <a:lnTo>
                  <a:pt x="365" y="45"/>
                </a:lnTo>
                <a:lnTo>
                  <a:pt x="363" y="55"/>
                </a:lnTo>
                <a:lnTo>
                  <a:pt x="351" y="93"/>
                </a:lnTo>
                <a:lnTo>
                  <a:pt x="388" y="74"/>
                </a:lnTo>
                <a:lnTo>
                  <a:pt x="406" y="76"/>
                </a:lnTo>
                <a:lnTo>
                  <a:pt x="428" y="97"/>
                </a:lnTo>
                <a:lnTo>
                  <a:pt x="449" y="94"/>
                </a:lnTo>
                <a:lnTo>
                  <a:pt x="459" y="108"/>
                </a:lnTo>
                <a:lnTo>
                  <a:pt x="484" y="112"/>
                </a:lnTo>
                <a:lnTo>
                  <a:pt x="500" y="122"/>
                </a:lnTo>
                <a:lnTo>
                  <a:pt x="508" y="154"/>
                </a:lnTo>
                <a:lnTo>
                  <a:pt x="521" y="160"/>
                </a:lnTo>
                <a:lnTo>
                  <a:pt x="693" y="196"/>
                </a:lnTo>
                <a:lnTo>
                  <a:pt x="716" y="196"/>
                </a:lnTo>
                <a:lnTo>
                  <a:pt x="754" y="226"/>
                </a:lnTo>
                <a:lnTo>
                  <a:pt x="779" y="224"/>
                </a:lnTo>
                <a:lnTo>
                  <a:pt x="786" y="235"/>
                </a:lnTo>
                <a:lnTo>
                  <a:pt x="793" y="228"/>
                </a:lnTo>
                <a:lnTo>
                  <a:pt x="807" y="226"/>
                </a:lnTo>
                <a:lnTo>
                  <a:pt x="849" y="234"/>
                </a:lnTo>
                <a:lnTo>
                  <a:pt x="878" y="244"/>
                </a:lnTo>
                <a:lnTo>
                  <a:pt x="890" y="253"/>
                </a:lnTo>
                <a:lnTo>
                  <a:pt x="884" y="260"/>
                </a:lnTo>
                <a:lnTo>
                  <a:pt x="883" y="269"/>
                </a:lnTo>
                <a:lnTo>
                  <a:pt x="911" y="277"/>
                </a:lnTo>
                <a:lnTo>
                  <a:pt x="946" y="293"/>
                </a:lnTo>
                <a:lnTo>
                  <a:pt x="948" y="318"/>
                </a:lnTo>
                <a:lnTo>
                  <a:pt x="940" y="383"/>
                </a:lnTo>
                <a:lnTo>
                  <a:pt x="947" y="386"/>
                </a:lnTo>
                <a:lnTo>
                  <a:pt x="977" y="380"/>
                </a:lnTo>
                <a:lnTo>
                  <a:pt x="983" y="383"/>
                </a:lnTo>
                <a:lnTo>
                  <a:pt x="979" y="399"/>
                </a:lnTo>
                <a:lnTo>
                  <a:pt x="968" y="412"/>
                </a:lnTo>
                <a:lnTo>
                  <a:pt x="977" y="438"/>
                </a:lnTo>
                <a:lnTo>
                  <a:pt x="1006" y="457"/>
                </a:lnTo>
                <a:lnTo>
                  <a:pt x="999" y="462"/>
                </a:lnTo>
                <a:lnTo>
                  <a:pt x="960" y="501"/>
                </a:lnTo>
                <a:lnTo>
                  <a:pt x="937" y="553"/>
                </a:lnTo>
                <a:lnTo>
                  <a:pt x="927" y="585"/>
                </a:lnTo>
                <a:lnTo>
                  <a:pt x="924" y="603"/>
                </a:lnTo>
                <a:lnTo>
                  <a:pt x="932" y="610"/>
                </a:lnTo>
                <a:lnTo>
                  <a:pt x="960" y="594"/>
                </a:lnTo>
                <a:lnTo>
                  <a:pt x="991" y="537"/>
                </a:lnTo>
                <a:lnTo>
                  <a:pt x="1025" y="509"/>
                </a:lnTo>
                <a:lnTo>
                  <a:pt x="1042" y="501"/>
                </a:lnTo>
                <a:lnTo>
                  <a:pt x="1048" y="487"/>
                </a:lnTo>
                <a:lnTo>
                  <a:pt x="1062" y="472"/>
                </a:lnTo>
                <a:lnTo>
                  <a:pt x="1068" y="457"/>
                </a:lnTo>
                <a:lnTo>
                  <a:pt x="1066" y="438"/>
                </a:lnTo>
                <a:lnTo>
                  <a:pt x="1072" y="422"/>
                </a:lnTo>
                <a:lnTo>
                  <a:pt x="1079" y="417"/>
                </a:lnTo>
                <a:lnTo>
                  <a:pt x="1086" y="401"/>
                </a:lnTo>
                <a:lnTo>
                  <a:pt x="1095" y="392"/>
                </a:lnTo>
                <a:lnTo>
                  <a:pt x="1104" y="391"/>
                </a:lnTo>
                <a:lnTo>
                  <a:pt x="1110" y="403"/>
                </a:lnTo>
                <a:lnTo>
                  <a:pt x="1107" y="433"/>
                </a:lnTo>
                <a:lnTo>
                  <a:pt x="1080" y="501"/>
                </a:lnTo>
                <a:lnTo>
                  <a:pt x="1066" y="520"/>
                </a:lnTo>
                <a:lnTo>
                  <a:pt x="1059" y="541"/>
                </a:lnTo>
                <a:lnTo>
                  <a:pt x="1060" y="556"/>
                </a:lnTo>
                <a:lnTo>
                  <a:pt x="1036" y="611"/>
                </a:lnTo>
                <a:lnTo>
                  <a:pt x="1036" y="660"/>
                </a:lnTo>
                <a:lnTo>
                  <a:pt x="1034" y="693"/>
                </a:lnTo>
                <a:lnTo>
                  <a:pt x="1010" y="720"/>
                </a:lnTo>
                <a:lnTo>
                  <a:pt x="1002" y="735"/>
                </a:lnTo>
                <a:lnTo>
                  <a:pt x="1010" y="771"/>
                </a:lnTo>
                <a:lnTo>
                  <a:pt x="1013" y="834"/>
                </a:lnTo>
                <a:lnTo>
                  <a:pt x="1002" y="850"/>
                </a:lnTo>
                <a:lnTo>
                  <a:pt x="983" y="918"/>
                </a:lnTo>
                <a:lnTo>
                  <a:pt x="996" y="1015"/>
                </a:lnTo>
                <a:lnTo>
                  <a:pt x="1023" y="1080"/>
                </a:lnTo>
                <a:lnTo>
                  <a:pt x="1016" y="1093"/>
                </a:lnTo>
                <a:lnTo>
                  <a:pt x="1021" y="1105"/>
                </a:lnTo>
                <a:lnTo>
                  <a:pt x="1017" y="1118"/>
                </a:lnTo>
                <a:lnTo>
                  <a:pt x="1021" y="1146"/>
                </a:lnTo>
                <a:lnTo>
                  <a:pt x="470" y="1183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05480" y="2781360"/>
            <a:ext cx="679320" cy="334800"/>
          </a:xfrm>
          <a:custGeom>
            <a:avLst/>
            <a:gdLst/>
            <a:ahLst/>
            <a:rect l="l" t="t" r="r" b="b"/>
            <a:pathLst>
              <a:path w="1283" h="631">
                <a:moveTo>
                  <a:pt x="0" y="269"/>
                </a:moveTo>
                <a:lnTo>
                  <a:pt x="37" y="256"/>
                </a:lnTo>
                <a:lnTo>
                  <a:pt x="57" y="243"/>
                </a:lnTo>
                <a:lnTo>
                  <a:pt x="96" y="220"/>
                </a:lnTo>
                <a:lnTo>
                  <a:pt x="104" y="201"/>
                </a:lnTo>
                <a:lnTo>
                  <a:pt x="123" y="199"/>
                </a:lnTo>
                <a:lnTo>
                  <a:pt x="192" y="172"/>
                </a:lnTo>
                <a:lnTo>
                  <a:pt x="242" y="146"/>
                </a:lnTo>
                <a:lnTo>
                  <a:pt x="300" y="86"/>
                </a:lnTo>
                <a:lnTo>
                  <a:pt x="319" y="80"/>
                </a:lnTo>
                <a:lnTo>
                  <a:pt x="369" y="26"/>
                </a:lnTo>
                <a:lnTo>
                  <a:pt x="400" y="10"/>
                </a:lnTo>
                <a:lnTo>
                  <a:pt x="457" y="0"/>
                </a:lnTo>
                <a:lnTo>
                  <a:pt x="471" y="4"/>
                </a:lnTo>
                <a:lnTo>
                  <a:pt x="473" y="11"/>
                </a:lnTo>
                <a:lnTo>
                  <a:pt x="444" y="30"/>
                </a:lnTo>
                <a:lnTo>
                  <a:pt x="435" y="33"/>
                </a:lnTo>
                <a:lnTo>
                  <a:pt x="422" y="57"/>
                </a:lnTo>
                <a:lnTo>
                  <a:pt x="383" y="102"/>
                </a:lnTo>
                <a:lnTo>
                  <a:pt x="366" y="118"/>
                </a:lnTo>
                <a:lnTo>
                  <a:pt x="355" y="130"/>
                </a:lnTo>
                <a:lnTo>
                  <a:pt x="344" y="171"/>
                </a:lnTo>
                <a:lnTo>
                  <a:pt x="351" y="194"/>
                </a:lnTo>
                <a:lnTo>
                  <a:pt x="359" y="180"/>
                </a:lnTo>
                <a:lnTo>
                  <a:pt x="394" y="155"/>
                </a:lnTo>
                <a:lnTo>
                  <a:pt x="416" y="157"/>
                </a:lnTo>
                <a:lnTo>
                  <a:pt x="432" y="149"/>
                </a:lnTo>
                <a:lnTo>
                  <a:pt x="505" y="181"/>
                </a:lnTo>
                <a:lnTo>
                  <a:pt x="561" y="245"/>
                </a:lnTo>
                <a:lnTo>
                  <a:pt x="607" y="239"/>
                </a:lnTo>
                <a:lnTo>
                  <a:pt x="631" y="241"/>
                </a:lnTo>
                <a:lnTo>
                  <a:pt x="649" y="249"/>
                </a:lnTo>
                <a:lnTo>
                  <a:pt x="661" y="251"/>
                </a:lnTo>
                <a:lnTo>
                  <a:pt x="668" y="249"/>
                </a:lnTo>
                <a:lnTo>
                  <a:pt x="684" y="255"/>
                </a:lnTo>
                <a:lnTo>
                  <a:pt x="686" y="264"/>
                </a:lnTo>
                <a:lnTo>
                  <a:pt x="696" y="256"/>
                </a:lnTo>
                <a:lnTo>
                  <a:pt x="706" y="237"/>
                </a:lnTo>
                <a:lnTo>
                  <a:pt x="757" y="203"/>
                </a:lnTo>
                <a:lnTo>
                  <a:pt x="921" y="159"/>
                </a:lnTo>
                <a:lnTo>
                  <a:pt x="966" y="134"/>
                </a:lnTo>
                <a:lnTo>
                  <a:pt x="986" y="127"/>
                </a:lnTo>
                <a:lnTo>
                  <a:pt x="995" y="138"/>
                </a:lnTo>
                <a:lnTo>
                  <a:pt x="982" y="162"/>
                </a:lnTo>
                <a:lnTo>
                  <a:pt x="982" y="177"/>
                </a:lnTo>
                <a:lnTo>
                  <a:pt x="1002" y="216"/>
                </a:lnTo>
                <a:lnTo>
                  <a:pt x="1017" y="220"/>
                </a:lnTo>
                <a:lnTo>
                  <a:pt x="1024" y="214"/>
                </a:lnTo>
                <a:lnTo>
                  <a:pt x="1050" y="216"/>
                </a:lnTo>
                <a:lnTo>
                  <a:pt x="1065" y="210"/>
                </a:lnTo>
                <a:lnTo>
                  <a:pt x="1117" y="204"/>
                </a:lnTo>
                <a:lnTo>
                  <a:pt x="1139" y="219"/>
                </a:lnTo>
                <a:lnTo>
                  <a:pt x="1160" y="261"/>
                </a:lnTo>
                <a:lnTo>
                  <a:pt x="1176" y="277"/>
                </a:lnTo>
                <a:lnTo>
                  <a:pt x="1219" y="296"/>
                </a:lnTo>
                <a:lnTo>
                  <a:pt x="1261" y="283"/>
                </a:lnTo>
                <a:lnTo>
                  <a:pt x="1274" y="285"/>
                </a:lnTo>
                <a:lnTo>
                  <a:pt x="1282" y="294"/>
                </a:lnTo>
                <a:lnTo>
                  <a:pt x="1283" y="310"/>
                </a:lnTo>
                <a:lnTo>
                  <a:pt x="1269" y="328"/>
                </a:lnTo>
                <a:lnTo>
                  <a:pt x="1239" y="330"/>
                </a:lnTo>
                <a:lnTo>
                  <a:pt x="1226" y="326"/>
                </a:lnTo>
                <a:lnTo>
                  <a:pt x="1222" y="318"/>
                </a:lnTo>
                <a:lnTo>
                  <a:pt x="1214" y="318"/>
                </a:lnTo>
                <a:lnTo>
                  <a:pt x="1185" y="332"/>
                </a:lnTo>
                <a:lnTo>
                  <a:pt x="1168" y="326"/>
                </a:lnTo>
                <a:lnTo>
                  <a:pt x="1151" y="324"/>
                </a:lnTo>
                <a:lnTo>
                  <a:pt x="1106" y="334"/>
                </a:lnTo>
                <a:lnTo>
                  <a:pt x="1078" y="326"/>
                </a:lnTo>
                <a:lnTo>
                  <a:pt x="1068" y="334"/>
                </a:lnTo>
                <a:lnTo>
                  <a:pt x="1074" y="359"/>
                </a:lnTo>
                <a:lnTo>
                  <a:pt x="1068" y="367"/>
                </a:lnTo>
                <a:lnTo>
                  <a:pt x="1056" y="365"/>
                </a:lnTo>
                <a:lnTo>
                  <a:pt x="1027" y="339"/>
                </a:lnTo>
                <a:lnTo>
                  <a:pt x="958" y="332"/>
                </a:lnTo>
                <a:lnTo>
                  <a:pt x="945" y="334"/>
                </a:lnTo>
                <a:lnTo>
                  <a:pt x="926" y="329"/>
                </a:lnTo>
                <a:lnTo>
                  <a:pt x="880" y="361"/>
                </a:lnTo>
                <a:lnTo>
                  <a:pt x="869" y="361"/>
                </a:lnTo>
                <a:lnTo>
                  <a:pt x="852" y="370"/>
                </a:lnTo>
                <a:lnTo>
                  <a:pt x="844" y="380"/>
                </a:lnTo>
                <a:lnTo>
                  <a:pt x="835" y="385"/>
                </a:lnTo>
                <a:lnTo>
                  <a:pt x="809" y="378"/>
                </a:lnTo>
                <a:lnTo>
                  <a:pt x="779" y="385"/>
                </a:lnTo>
                <a:lnTo>
                  <a:pt x="776" y="407"/>
                </a:lnTo>
                <a:lnTo>
                  <a:pt x="769" y="420"/>
                </a:lnTo>
                <a:lnTo>
                  <a:pt x="711" y="473"/>
                </a:lnTo>
                <a:lnTo>
                  <a:pt x="703" y="468"/>
                </a:lnTo>
                <a:lnTo>
                  <a:pt x="697" y="460"/>
                </a:lnTo>
                <a:lnTo>
                  <a:pt x="722" y="427"/>
                </a:lnTo>
                <a:lnTo>
                  <a:pt x="719" y="411"/>
                </a:lnTo>
                <a:lnTo>
                  <a:pt x="690" y="411"/>
                </a:lnTo>
                <a:lnTo>
                  <a:pt x="674" y="441"/>
                </a:lnTo>
                <a:lnTo>
                  <a:pt x="662" y="456"/>
                </a:lnTo>
                <a:lnTo>
                  <a:pt x="650" y="438"/>
                </a:lnTo>
                <a:lnTo>
                  <a:pt x="644" y="412"/>
                </a:lnTo>
                <a:lnTo>
                  <a:pt x="640" y="416"/>
                </a:lnTo>
                <a:lnTo>
                  <a:pt x="634" y="454"/>
                </a:lnTo>
                <a:lnTo>
                  <a:pt x="611" y="489"/>
                </a:lnTo>
                <a:lnTo>
                  <a:pt x="601" y="528"/>
                </a:lnTo>
                <a:lnTo>
                  <a:pt x="587" y="552"/>
                </a:lnTo>
                <a:lnTo>
                  <a:pt x="560" y="593"/>
                </a:lnTo>
                <a:lnTo>
                  <a:pt x="560" y="620"/>
                </a:lnTo>
                <a:lnTo>
                  <a:pt x="556" y="631"/>
                </a:lnTo>
                <a:lnTo>
                  <a:pt x="528" y="613"/>
                </a:lnTo>
                <a:lnTo>
                  <a:pt x="518" y="587"/>
                </a:lnTo>
                <a:lnTo>
                  <a:pt x="530" y="574"/>
                </a:lnTo>
                <a:lnTo>
                  <a:pt x="534" y="557"/>
                </a:lnTo>
                <a:lnTo>
                  <a:pt x="528" y="555"/>
                </a:lnTo>
                <a:lnTo>
                  <a:pt x="498" y="561"/>
                </a:lnTo>
                <a:lnTo>
                  <a:pt x="490" y="557"/>
                </a:lnTo>
                <a:lnTo>
                  <a:pt x="499" y="492"/>
                </a:lnTo>
                <a:lnTo>
                  <a:pt x="497" y="468"/>
                </a:lnTo>
                <a:lnTo>
                  <a:pt x="461" y="452"/>
                </a:lnTo>
                <a:lnTo>
                  <a:pt x="434" y="443"/>
                </a:lnTo>
                <a:lnTo>
                  <a:pt x="435" y="435"/>
                </a:lnTo>
                <a:lnTo>
                  <a:pt x="441" y="427"/>
                </a:lnTo>
                <a:lnTo>
                  <a:pt x="429" y="418"/>
                </a:lnTo>
                <a:lnTo>
                  <a:pt x="400" y="408"/>
                </a:lnTo>
                <a:lnTo>
                  <a:pt x="357" y="401"/>
                </a:lnTo>
                <a:lnTo>
                  <a:pt x="344" y="402"/>
                </a:lnTo>
                <a:lnTo>
                  <a:pt x="337" y="410"/>
                </a:lnTo>
                <a:lnTo>
                  <a:pt x="330" y="399"/>
                </a:lnTo>
                <a:lnTo>
                  <a:pt x="305" y="401"/>
                </a:lnTo>
                <a:lnTo>
                  <a:pt x="267" y="370"/>
                </a:lnTo>
                <a:lnTo>
                  <a:pt x="244" y="370"/>
                </a:lnTo>
                <a:lnTo>
                  <a:pt x="71" y="334"/>
                </a:lnTo>
                <a:lnTo>
                  <a:pt x="59" y="329"/>
                </a:lnTo>
                <a:lnTo>
                  <a:pt x="51" y="297"/>
                </a:lnTo>
                <a:lnTo>
                  <a:pt x="35" y="287"/>
                </a:lnTo>
                <a:lnTo>
                  <a:pt x="10" y="282"/>
                </a:lnTo>
                <a:lnTo>
                  <a:pt x="0" y="269"/>
                </a:lnTo>
                <a:lnTo>
                  <a:pt x="0" y="269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7040" y="3552840"/>
            <a:ext cx="338400" cy="592200"/>
          </a:xfrm>
          <a:custGeom>
            <a:avLst/>
            <a:gdLst/>
            <a:ahLst/>
            <a:rect l="l" t="t" r="r" b="b"/>
            <a:pathLst>
              <a:path w="639" h="1121">
                <a:moveTo>
                  <a:pt x="21" y="67"/>
                </a:moveTo>
                <a:lnTo>
                  <a:pt x="73" y="698"/>
                </a:lnTo>
                <a:lnTo>
                  <a:pt x="65" y="707"/>
                </a:lnTo>
                <a:lnTo>
                  <a:pt x="69" y="730"/>
                </a:lnTo>
                <a:lnTo>
                  <a:pt x="61" y="764"/>
                </a:lnTo>
                <a:lnTo>
                  <a:pt x="84" y="811"/>
                </a:lnTo>
                <a:lnTo>
                  <a:pt x="92" y="868"/>
                </a:lnTo>
                <a:lnTo>
                  <a:pt x="65" y="921"/>
                </a:lnTo>
                <a:lnTo>
                  <a:pt x="63" y="938"/>
                </a:lnTo>
                <a:lnTo>
                  <a:pt x="43" y="981"/>
                </a:lnTo>
                <a:lnTo>
                  <a:pt x="12" y="1010"/>
                </a:lnTo>
                <a:lnTo>
                  <a:pt x="12" y="1052"/>
                </a:lnTo>
                <a:lnTo>
                  <a:pt x="0" y="1098"/>
                </a:lnTo>
                <a:lnTo>
                  <a:pt x="0" y="1110"/>
                </a:lnTo>
                <a:lnTo>
                  <a:pt x="2" y="1119"/>
                </a:lnTo>
                <a:lnTo>
                  <a:pt x="4" y="1119"/>
                </a:lnTo>
                <a:lnTo>
                  <a:pt x="19" y="1121"/>
                </a:lnTo>
                <a:lnTo>
                  <a:pt x="34" y="1115"/>
                </a:lnTo>
                <a:lnTo>
                  <a:pt x="33" y="1110"/>
                </a:lnTo>
                <a:lnTo>
                  <a:pt x="40" y="1090"/>
                </a:lnTo>
                <a:lnTo>
                  <a:pt x="79" y="1092"/>
                </a:lnTo>
                <a:lnTo>
                  <a:pt x="130" y="1073"/>
                </a:lnTo>
                <a:lnTo>
                  <a:pt x="191" y="1103"/>
                </a:lnTo>
                <a:lnTo>
                  <a:pt x="198" y="1110"/>
                </a:lnTo>
                <a:lnTo>
                  <a:pt x="210" y="1104"/>
                </a:lnTo>
                <a:lnTo>
                  <a:pt x="223" y="1062"/>
                </a:lnTo>
                <a:lnTo>
                  <a:pt x="258" y="1048"/>
                </a:lnTo>
                <a:lnTo>
                  <a:pt x="271" y="1070"/>
                </a:lnTo>
                <a:lnTo>
                  <a:pt x="292" y="1084"/>
                </a:lnTo>
                <a:lnTo>
                  <a:pt x="310" y="1068"/>
                </a:lnTo>
                <a:lnTo>
                  <a:pt x="326" y="1014"/>
                </a:lnTo>
                <a:lnTo>
                  <a:pt x="339" y="997"/>
                </a:lnTo>
                <a:lnTo>
                  <a:pt x="353" y="1000"/>
                </a:lnTo>
                <a:lnTo>
                  <a:pt x="379" y="1027"/>
                </a:lnTo>
                <a:lnTo>
                  <a:pt x="430" y="1025"/>
                </a:lnTo>
                <a:lnTo>
                  <a:pt x="444" y="978"/>
                </a:lnTo>
                <a:lnTo>
                  <a:pt x="526" y="868"/>
                </a:lnTo>
                <a:lnTo>
                  <a:pt x="526" y="829"/>
                </a:lnTo>
                <a:lnTo>
                  <a:pt x="544" y="819"/>
                </a:lnTo>
                <a:lnTo>
                  <a:pt x="579" y="824"/>
                </a:lnTo>
                <a:lnTo>
                  <a:pt x="606" y="801"/>
                </a:lnTo>
                <a:lnTo>
                  <a:pt x="629" y="798"/>
                </a:lnTo>
                <a:lnTo>
                  <a:pt x="639" y="780"/>
                </a:lnTo>
                <a:lnTo>
                  <a:pt x="624" y="734"/>
                </a:lnTo>
                <a:lnTo>
                  <a:pt x="628" y="720"/>
                </a:lnTo>
                <a:lnTo>
                  <a:pt x="634" y="699"/>
                </a:lnTo>
                <a:lnTo>
                  <a:pt x="555" y="13"/>
                </a:lnTo>
                <a:lnTo>
                  <a:pt x="553" y="0"/>
                </a:lnTo>
                <a:lnTo>
                  <a:pt x="145" y="48"/>
                </a:lnTo>
                <a:lnTo>
                  <a:pt x="134" y="58"/>
                </a:lnTo>
                <a:lnTo>
                  <a:pt x="102" y="73"/>
                </a:lnTo>
                <a:lnTo>
                  <a:pt x="84" y="80"/>
                </a:lnTo>
                <a:lnTo>
                  <a:pt x="47" y="88"/>
                </a:lnTo>
                <a:lnTo>
                  <a:pt x="21" y="67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92520" y="4541760"/>
            <a:ext cx="393840" cy="687600"/>
          </a:xfrm>
          <a:custGeom>
            <a:avLst/>
            <a:gdLst/>
            <a:ahLst/>
            <a:rect l="l" t="t" r="r" b="b"/>
            <a:pathLst>
              <a:path w="743" h="1299">
                <a:moveTo>
                  <a:pt x="686" y="0"/>
                </a:moveTo>
                <a:lnTo>
                  <a:pt x="240" y="33"/>
                </a:lnTo>
                <a:lnTo>
                  <a:pt x="237" y="48"/>
                </a:lnTo>
                <a:lnTo>
                  <a:pt x="197" y="85"/>
                </a:lnTo>
                <a:lnTo>
                  <a:pt x="181" y="126"/>
                </a:lnTo>
                <a:lnTo>
                  <a:pt x="185" y="168"/>
                </a:lnTo>
                <a:lnTo>
                  <a:pt x="178" y="189"/>
                </a:lnTo>
                <a:lnTo>
                  <a:pt x="141" y="215"/>
                </a:lnTo>
                <a:lnTo>
                  <a:pt x="114" y="255"/>
                </a:lnTo>
                <a:lnTo>
                  <a:pt x="103" y="266"/>
                </a:lnTo>
                <a:lnTo>
                  <a:pt x="103" y="300"/>
                </a:lnTo>
                <a:lnTo>
                  <a:pt x="83" y="323"/>
                </a:lnTo>
                <a:lnTo>
                  <a:pt x="83" y="350"/>
                </a:lnTo>
                <a:lnTo>
                  <a:pt x="70" y="386"/>
                </a:lnTo>
                <a:lnTo>
                  <a:pt x="48" y="423"/>
                </a:lnTo>
                <a:lnTo>
                  <a:pt x="57" y="463"/>
                </a:lnTo>
                <a:lnTo>
                  <a:pt x="77" y="485"/>
                </a:lnTo>
                <a:lnTo>
                  <a:pt x="80" y="510"/>
                </a:lnTo>
                <a:lnTo>
                  <a:pt x="87" y="517"/>
                </a:lnTo>
                <a:lnTo>
                  <a:pt x="87" y="532"/>
                </a:lnTo>
                <a:lnTo>
                  <a:pt x="74" y="538"/>
                </a:lnTo>
                <a:lnTo>
                  <a:pt x="70" y="563"/>
                </a:lnTo>
                <a:lnTo>
                  <a:pt x="72" y="576"/>
                </a:lnTo>
                <a:lnTo>
                  <a:pt x="70" y="599"/>
                </a:lnTo>
                <a:lnTo>
                  <a:pt x="99" y="652"/>
                </a:lnTo>
                <a:lnTo>
                  <a:pt x="103" y="700"/>
                </a:lnTo>
                <a:lnTo>
                  <a:pt x="115" y="730"/>
                </a:lnTo>
                <a:lnTo>
                  <a:pt x="130" y="744"/>
                </a:lnTo>
                <a:lnTo>
                  <a:pt x="133" y="766"/>
                </a:lnTo>
                <a:lnTo>
                  <a:pt x="103" y="785"/>
                </a:lnTo>
                <a:lnTo>
                  <a:pt x="95" y="795"/>
                </a:lnTo>
                <a:lnTo>
                  <a:pt x="82" y="850"/>
                </a:lnTo>
                <a:lnTo>
                  <a:pt x="40" y="915"/>
                </a:lnTo>
                <a:lnTo>
                  <a:pt x="4" y="1028"/>
                </a:lnTo>
                <a:lnTo>
                  <a:pt x="0" y="1110"/>
                </a:lnTo>
                <a:lnTo>
                  <a:pt x="417" y="1090"/>
                </a:lnTo>
                <a:lnTo>
                  <a:pt x="425" y="1104"/>
                </a:lnTo>
                <a:lnTo>
                  <a:pt x="416" y="1144"/>
                </a:lnTo>
                <a:lnTo>
                  <a:pt x="417" y="1204"/>
                </a:lnTo>
                <a:lnTo>
                  <a:pt x="461" y="1246"/>
                </a:lnTo>
                <a:lnTo>
                  <a:pt x="470" y="1299"/>
                </a:lnTo>
                <a:lnTo>
                  <a:pt x="499" y="1299"/>
                </a:lnTo>
                <a:lnTo>
                  <a:pt x="543" y="1262"/>
                </a:lnTo>
                <a:lnTo>
                  <a:pt x="647" y="1231"/>
                </a:lnTo>
                <a:lnTo>
                  <a:pt x="669" y="1239"/>
                </a:lnTo>
                <a:lnTo>
                  <a:pt x="706" y="1227"/>
                </a:lnTo>
                <a:lnTo>
                  <a:pt x="714" y="1237"/>
                </a:lnTo>
                <a:lnTo>
                  <a:pt x="733" y="1245"/>
                </a:lnTo>
                <a:lnTo>
                  <a:pt x="743" y="1239"/>
                </a:lnTo>
                <a:lnTo>
                  <a:pt x="696" y="843"/>
                </a:lnTo>
                <a:lnTo>
                  <a:pt x="691" y="807"/>
                </a:lnTo>
                <a:lnTo>
                  <a:pt x="706" y="26"/>
                </a:lnTo>
                <a:lnTo>
                  <a:pt x="686" y="0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5280" y="5038560"/>
            <a:ext cx="1017720" cy="770040"/>
          </a:xfrm>
          <a:custGeom>
            <a:avLst/>
            <a:gdLst/>
            <a:ahLst/>
            <a:rect l="l" t="t" r="r" b="b"/>
            <a:pathLst>
              <a:path w="1923" h="1454">
                <a:moveTo>
                  <a:pt x="590" y="52"/>
                </a:moveTo>
                <a:lnTo>
                  <a:pt x="5" y="109"/>
                </a:lnTo>
                <a:lnTo>
                  <a:pt x="5" y="123"/>
                </a:lnTo>
                <a:lnTo>
                  <a:pt x="5" y="127"/>
                </a:lnTo>
                <a:lnTo>
                  <a:pt x="0" y="133"/>
                </a:lnTo>
                <a:lnTo>
                  <a:pt x="1" y="153"/>
                </a:lnTo>
                <a:lnTo>
                  <a:pt x="20" y="177"/>
                </a:lnTo>
                <a:lnTo>
                  <a:pt x="30" y="188"/>
                </a:lnTo>
                <a:lnTo>
                  <a:pt x="36" y="188"/>
                </a:lnTo>
                <a:lnTo>
                  <a:pt x="54" y="202"/>
                </a:lnTo>
                <a:lnTo>
                  <a:pt x="58" y="213"/>
                </a:lnTo>
                <a:lnTo>
                  <a:pt x="47" y="235"/>
                </a:lnTo>
                <a:lnTo>
                  <a:pt x="47" y="243"/>
                </a:lnTo>
                <a:lnTo>
                  <a:pt x="60" y="249"/>
                </a:lnTo>
                <a:lnTo>
                  <a:pt x="64" y="256"/>
                </a:lnTo>
                <a:lnTo>
                  <a:pt x="64" y="260"/>
                </a:lnTo>
                <a:lnTo>
                  <a:pt x="50" y="272"/>
                </a:lnTo>
                <a:lnTo>
                  <a:pt x="51" y="289"/>
                </a:lnTo>
                <a:lnTo>
                  <a:pt x="57" y="291"/>
                </a:lnTo>
                <a:lnTo>
                  <a:pt x="91" y="282"/>
                </a:lnTo>
                <a:lnTo>
                  <a:pt x="103" y="274"/>
                </a:lnTo>
                <a:lnTo>
                  <a:pt x="113" y="241"/>
                </a:lnTo>
                <a:lnTo>
                  <a:pt x="121" y="231"/>
                </a:lnTo>
                <a:lnTo>
                  <a:pt x="133" y="237"/>
                </a:lnTo>
                <a:lnTo>
                  <a:pt x="145" y="237"/>
                </a:lnTo>
                <a:lnTo>
                  <a:pt x="150" y="231"/>
                </a:lnTo>
                <a:lnTo>
                  <a:pt x="161" y="234"/>
                </a:lnTo>
                <a:lnTo>
                  <a:pt x="160" y="243"/>
                </a:lnTo>
                <a:lnTo>
                  <a:pt x="138" y="263"/>
                </a:lnTo>
                <a:lnTo>
                  <a:pt x="140" y="265"/>
                </a:lnTo>
                <a:lnTo>
                  <a:pt x="160" y="257"/>
                </a:lnTo>
                <a:lnTo>
                  <a:pt x="187" y="255"/>
                </a:lnTo>
                <a:lnTo>
                  <a:pt x="291" y="222"/>
                </a:lnTo>
                <a:lnTo>
                  <a:pt x="309" y="220"/>
                </a:lnTo>
                <a:lnTo>
                  <a:pt x="309" y="228"/>
                </a:lnTo>
                <a:lnTo>
                  <a:pt x="289" y="245"/>
                </a:lnTo>
                <a:lnTo>
                  <a:pt x="297" y="249"/>
                </a:lnTo>
                <a:lnTo>
                  <a:pt x="341" y="253"/>
                </a:lnTo>
                <a:lnTo>
                  <a:pt x="388" y="270"/>
                </a:lnTo>
                <a:lnTo>
                  <a:pt x="437" y="292"/>
                </a:lnTo>
                <a:lnTo>
                  <a:pt x="447" y="297"/>
                </a:lnTo>
                <a:lnTo>
                  <a:pt x="445" y="282"/>
                </a:lnTo>
                <a:lnTo>
                  <a:pt x="456" y="274"/>
                </a:lnTo>
                <a:lnTo>
                  <a:pt x="464" y="285"/>
                </a:lnTo>
                <a:lnTo>
                  <a:pt x="491" y="295"/>
                </a:lnTo>
                <a:lnTo>
                  <a:pt x="499" y="298"/>
                </a:lnTo>
                <a:lnTo>
                  <a:pt x="499" y="304"/>
                </a:lnTo>
                <a:lnTo>
                  <a:pt x="491" y="308"/>
                </a:lnTo>
                <a:lnTo>
                  <a:pt x="495" y="317"/>
                </a:lnTo>
                <a:lnTo>
                  <a:pt x="552" y="363"/>
                </a:lnTo>
                <a:lnTo>
                  <a:pt x="557" y="379"/>
                </a:lnTo>
                <a:lnTo>
                  <a:pt x="556" y="390"/>
                </a:lnTo>
                <a:lnTo>
                  <a:pt x="550" y="400"/>
                </a:lnTo>
                <a:lnTo>
                  <a:pt x="544" y="394"/>
                </a:lnTo>
                <a:lnTo>
                  <a:pt x="538" y="384"/>
                </a:lnTo>
                <a:lnTo>
                  <a:pt x="533" y="395"/>
                </a:lnTo>
                <a:lnTo>
                  <a:pt x="538" y="405"/>
                </a:lnTo>
                <a:lnTo>
                  <a:pt x="550" y="412"/>
                </a:lnTo>
                <a:lnTo>
                  <a:pt x="631" y="388"/>
                </a:lnTo>
                <a:lnTo>
                  <a:pt x="635" y="379"/>
                </a:lnTo>
                <a:lnTo>
                  <a:pt x="664" y="375"/>
                </a:lnTo>
                <a:lnTo>
                  <a:pt x="729" y="323"/>
                </a:lnTo>
                <a:lnTo>
                  <a:pt x="773" y="322"/>
                </a:lnTo>
                <a:lnTo>
                  <a:pt x="773" y="312"/>
                </a:lnTo>
                <a:lnTo>
                  <a:pt x="766" y="300"/>
                </a:lnTo>
                <a:lnTo>
                  <a:pt x="779" y="272"/>
                </a:lnTo>
                <a:lnTo>
                  <a:pt x="851" y="263"/>
                </a:lnTo>
                <a:lnTo>
                  <a:pt x="955" y="317"/>
                </a:lnTo>
                <a:lnTo>
                  <a:pt x="959" y="331"/>
                </a:lnTo>
                <a:lnTo>
                  <a:pt x="986" y="352"/>
                </a:lnTo>
                <a:lnTo>
                  <a:pt x="1008" y="388"/>
                </a:lnTo>
                <a:lnTo>
                  <a:pt x="1072" y="434"/>
                </a:lnTo>
                <a:lnTo>
                  <a:pt x="1083" y="453"/>
                </a:lnTo>
                <a:lnTo>
                  <a:pt x="1103" y="473"/>
                </a:lnTo>
                <a:lnTo>
                  <a:pt x="1153" y="471"/>
                </a:lnTo>
                <a:lnTo>
                  <a:pt x="1190" y="526"/>
                </a:lnTo>
                <a:lnTo>
                  <a:pt x="1203" y="537"/>
                </a:lnTo>
                <a:lnTo>
                  <a:pt x="1197" y="553"/>
                </a:lnTo>
                <a:lnTo>
                  <a:pt x="1214" y="612"/>
                </a:lnTo>
                <a:lnTo>
                  <a:pt x="1207" y="676"/>
                </a:lnTo>
                <a:lnTo>
                  <a:pt x="1191" y="746"/>
                </a:lnTo>
                <a:lnTo>
                  <a:pt x="1192" y="802"/>
                </a:lnTo>
                <a:lnTo>
                  <a:pt x="1202" y="821"/>
                </a:lnTo>
                <a:lnTo>
                  <a:pt x="1242" y="847"/>
                </a:lnTo>
                <a:lnTo>
                  <a:pt x="1255" y="824"/>
                </a:lnTo>
                <a:lnTo>
                  <a:pt x="1242" y="814"/>
                </a:lnTo>
                <a:lnTo>
                  <a:pt x="1230" y="777"/>
                </a:lnTo>
                <a:lnTo>
                  <a:pt x="1234" y="770"/>
                </a:lnTo>
                <a:lnTo>
                  <a:pt x="1255" y="765"/>
                </a:lnTo>
                <a:lnTo>
                  <a:pt x="1273" y="802"/>
                </a:lnTo>
                <a:lnTo>
                  <a:pt x="1281" y="801"/>
                </a:lnTo>
                <a:lnTo>
                  <a:pt x="1287" y="783"/>
                </a:lnTo>
                <a:lnTo>
                  <a:pt x="1293" y="782"/>
                </a:lnTo>
                <a:lnTo>
                  <a:pt x="1304" y="789"/>
                </a:lnTo>
                <a:lnTo>
                  <a:pt x="1302" y="803"/>
                </a:lnTo>
                <a:lnTo>
                  <a:pt x="1292" y="821"/>
                </a:lnTo>
                <a:lnTo>
                  <a:pt x="1280" y="839"/>
                </a:lnTo>
                <a:lnTo>
                  <a:pt x="1265" y="883"/>
                </a:lnTo>
                <a:lnTo>
                  <a:pt x="1255" y="891"/>
                </a:lnTo>
                <a:lnTo>
                  <a:pt x="1253" y="910"/>
                </a:lnTo>
                <a:lnTo>
                  <a:pt x="1270" y="927"/>
                </a:lnTo>
                <a:lnTo>
                  <a:pt x="1291" y="948"/>
                </a:lnTo>
                <a:lnTo>
                  <a:pt x="1328" y="1026"/>
                </a:lnTo>
                <a:lnTo>
                  <a:pt x="1381" y="1062"/>
                </a:lnTo>
                <a:lnTo>
                  <a:pt x="1387" y="1060"/>
                </a:lnTo>
                <a:lnTo>
                  <a:pt x="1390" y="1042"/>
                </a:lnTo>
                <a:lnTo>
                  <a:pt x="1409" y="1042"/>
                </a:lnTo>
                <a:lnTo>
                  <a:pt x="1421" y="1073"/>
                </a:lnTo>
                <a:lnTo>
                  <a:pt x="1422" y="1093"/>
                </a:lnTo>
                <a:lnTo>
                  <a:pt x="1440" y="1136"/>
                </a:lnTo>
                <a:lnTo>
                  <a:pt x="1464" y="1150"/>
                </a:lnTo>
                <a:lnTo>
                  <a:pt x="1487" y="1156"/>
                </a:lnTo>
                <a:lnTo>
                  <a:pt x="1531" y="1268"/>
                </a:lnTo>
                <a:lnTo>
                  <a:pt x="1541" y="1276"/>
                </a:lnTo>
                <a:lnTo>
                  <a:pt x="1597" y="1287"/>
                </a:lnTo>
                <a:lnTo>
                  <a:pt x="1620" y="1300"/>
                </a:lnTo>
                <a:lnTo>
                  <a:pt x="1683" y="1378"/>
                </a:lnTo>
                <a:lnTo>
                  <a:pt x="1708" y="1397"/>
                </a:lnTo>
                <a:lnTo>
                  <a:pt x="1721" y="1398"/>
                </a:lnTo>
                <a:lnTo>
                  <a:pt x="1736" y="1407"/>
                </a:lnTo>
                <a:lnTo>
                  <a:pt x="1742" y="1423"/>
                </a:lnTo>
                <a:lnTo>
                  <a:pt x="1729" y="1426"/>
                </a:lnTo>
                <a:lnTo>
                  <a:pt x="1718" y="1422"/>
                </a:lnTo>
                <a:lnTo>
                  <a:pt x="1710" y="1422"/>
                </a:lnTo>
                <a:lnTo>
                  <a:pt x="1701" y="1426"/>
                </a:lnTo>
                <a:lnTo>
                  <a:pt x="1701" y="1435"/>
                </a:lnTo>
                <a:lnTo>
                  <a:pt x="1708" y="1447"/>
                </a:lnTo>
                <a:lnTo>
                  <a:pt x="1743" y="1454"/>
                </a:lnTo>
                <a:lnTo>
                  <a:pt x="1755" y="1443"/>
                </a:lnTo>
                <a:lnTo>
                  <a:pt x="1782" y="1441"/>
                </a:lnTo>
                <a:lnTo>
                  <a:pt x="1875" y="1404"/>
                </a:lnTo>
                <a:lnTo>
                  <a:pt x="1896" y="1369"/>
                </a:lnTo>
                <a:lnTo>
                  <a:pt x="1897" y="1360"/>
                </a:lnTo>
                <a:lnTo>
                  <a:pt x="1884" y="1312"/>
                </a:lnTo>
                <a:lnTo>
                  <a:pt x="1885" y="1285"/>
                </a:lnTo>
                <a:lnTo>
                  <a:pt x="1901" y="1240"/>
                </a:lnTo>
                <a:lnTo>
                  <a:pt x="1923" y="1245"/>
                </a:lnTo>
                <a:lnTo>
                  <a:pt x="1901" y="1154"/>
                </a:lnTo>
                <a:lnTo>
                  <a:pt x="1907" y="1108"/>
                </a:lnTo>
                <a:lnTo>
                  <a:pt x="1901" y="1022"/>
                </a:lnTo>
                <a:lnTo>
                  <a:pt x="1884" y="953"/>
                </a:lnTo>
                <a:lnTo>
                  <a:pt x="1870" y="929"/>
                </a:lnTo>
                <a:lnTo>
                  <a:pt x="1809" y="846"/>
                </a:lnTo>
                <a:lnTo>
                  <a:pt x="1768" y="751"/>
                </a:lnTo>
                <a:lnTo>
                  <a:pt x="1718" y="685"/>
                </a:lnTo>
                <a:lnTo>
                  <a:pt x="1719" y="676"/>
                </a:lnTo>
                <a:lnTo>
                  <a:pt x="1717" y="662"/>
                </a:lnTo>
                <a:lnTo>
                  <a:pt x="1699" y="625"/>
                </a:lnTo>
                <a:lnTo>
                  <a:pt x="1697" y="607"/>
                </a:lnTo>
                <a:lnTo>
                  <a:pt x="1714" y="584"/>
                </a:lnTo>
                <a:lnTo>
                  <a:pt x="1714" y="575"/>
                </a:lnTo>
                <a:lnTo>
                  <a:pt x="1650" y="487"/>
                </a:lnTo>
                <a:lnTo>
                  <a:pt x="1615" y="449"/>
                </a:lnTo>
                <a:lnTo>
                  <a:pt x="1589" y="434"/>
                </a:lnTo>
                <a:lnTo>
                  <a:pt x="1584" y="424"/>
                </a:lnTo>
                <a:lnTo>
                  <a:pt x="1540" y="367"/>
                </a:lnTo>
                <a:lnTo>
                  <a:pt x="1485" y="269"/>
                </a:lnTo>
                <a:lnTo>
                  <a:pt x="1470" y="209"/>
                </a:lnTo>
                <a:lnTo>
                  <a:pt x="1434" y="125"/>
                </a:lnTo>
                <a:lnTo>
                  <a:pt x="1434" y="115"/>
                </a:lnTo>
                <a:lnTo>
                  <a:pt x="1421" y="102"/>
                </a:lnTo>
                <a:lnTo>
                  <a:pt x="1412" y="96"/>
                </a:lnTo>
                <a:lnTo>
                  <a:pt x="1407" y="36"/>
                </a:lnTo>
                <a:lnTo>
                  <a:pt x="1397" y="15"/>
                </a:lnTo>
                <a:lnTo>
                  <a:pt x="1379" y="20"/>
                </a:lnTo>
                <a:lnTo>
                  <a:pt x="1339" y="19"/>
                </a:lnTo>
                <a:lnTo>
                  <a:pt x="1297" y="0"/>
                </a:lnTo>
                <a:lnTo>
                  <a:pt x="1277" y="13"/>
                </a:lnTo>
                <a:lnTo>
                  <a:pt x="1273" y="22"/>
                </a:lnTo>
                <a:lnTo>
                  <a:pt x="1271" y="42"/>
                </a:lnTo>
                <a:lnTo>
                  <a:pt x="1287" y="100"/>
                </a:lnTo>
                <a:lnTo>
                  <a:pt x="1281" y="130"/>
                </a:lnTo>
                <a:lnTo>
                  <a:pt x="1251" y="129"/>
                </a:lnTo>
                <a:lnTo>
                  <a:pt x="1242" y="117"/>
                </a:lnTo>
                <a:lnTo>
                  <a:pt x="1232" y="85"/>
                </a:lnTo>
                <a:lnTo>
                  <a:pt x="626" y="124"/>
                </a:lnTo>
                <a:lnTo>
                  <a:pt x="611" y="104"/>
                </a:lnTo>
                <a:lnTo>
                  <a:pt x="613" y="86"/>
                </a:lnTo>
                <a:lnTo>
                  <a:pt x="593" y="66"/>
                </a:lnTo>
                <a:lnTo>
                  <a:pt x="590" y="52"/>
                </a:lnTo>
                <a:lnTo>
                  <a:pt x="590" y="52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92680" y="3921120"/>
            <a:ext cx="820800" cy="420840"/>
          </a:xfrm>
          <a:custGeom>
            <a:avLst/>
            <a:gdLst/>
            <a:ahLst/>
            <a:rect l="l" t="t" r="r" b="b"/>
            <a:pathLst>
              <a:path w="1551" h="795">
                <a:moveTo>
                  <a:pt x="0" y="795"/>
                </a:moveTo>
                <a:lnTo>
                  <a:pt x="310" y="770"/>
                </a:lnTo>
                <a:lnTo>
                  <a:pt x="309" y="743"/>
                </a:lnTo>
                <a:lnTo>
                  <a:pt x="304" y="728"/>
                </a:lnTo>
                <a:lnTo>
                  <a:pt x="338" y="726"/>
                </a:lnTo>
                <a:lnTo>
                  <a:pt x="351" y="733"/>
                </a:lnTo>
                <a:lnTo>
                  <a:pt x="1227" y="654"/>
                </a:lnTo>
                <a:lnTo>
                  <a:pt x="1243" y="640"/>
                </a:lnTo>
                <a:lnTo>
                  <a:pt x="1258" y="628"/>
                </a:lnTo>
                <a:lnTo>
                  <a:pt x="1333" y="591"/>
                </a:lnTo>
                <a:lnTo>
                  <a:pt x="1342" y="573"/>
                </a:lnTo>
                <a:lnTo>
                  <a:pt x="1384" y="543"/>
                </a:lnTo>
                <a:lnTo>
                  <a:pt x="1388" y="524"/>
                </a:lnTo>
                <a:lnTo>
                  <a:pt x="1392" y="514"/>
                </a:lnTo>
                <a:lnTo>
                  <a:pt x="1413" y="504"/>
                </a:lnTo>
                <a:lnTo>
                  <a:pt x="1413" y="478"/>
                </a:lnTo>
                <a:lnTo>
                  <a:pt x="1435" y="459"/>
                </a:lnTo>
                <a:lnTo>
                  <a:pt x="1543" y="364"/>
                </a:lnTo>
                <a:lnTo>
                  <a:pt x="1551" y="347"/>
                </a:lnTo>
                <a:lnTo>
                  <a:pt x="1535" y="347"/>
                </a:lnTo>
                <a:lnTo>
                  <a:pt x="1521" y="337"/>
                </a:lnTo>
                <a:lnTo>
                  <a:pt x="1515" y="335"/>
                </a:lnTo>
                <a:lnTo>
                  <a:pt x="1508" y="327"/>
                </a:lnTo>
                <a:lnTo>
                  <a:pt x="1488" y="317"/>
                </a:lnTo>
                <a:lnTo>
                  <a:pt x="1478" y="320"/>
                </a:lnTo>
                <a:lnTo>
                  <a:pt x="1471" y="316"/>
                </a:lnTo>
                <a:lnTo>
                  <a:pt x="1445" y="273"/>
                </a:lnTo>
                <a:lnTo>
                  <a:pt x="1399" y="217"/>
                </a:lnTo>
                <a:lnTo>
                  <a:pt x="1394" y="202"/>
                </a:lnTo>
                <a:lnTo>
                  <a:pt x="1398" y="185"/>
                </a:lnTo>
                <a:lnTo>
                  <a:pt x="1398" y="162"/>
                </a:lnTo>
                <a:lnTo>
                  <a:pt x="1394" y="129"/>
                </a:lnTo>
                <a:lnTo>
                  <a:pt x="1384" y="118"/>
                </a:lnTo>
                <a:lnTo>
                  <a:pt x="1362" y="102"/>
                </a:lnTo>
                <a:lnTo>
                  <a:pt x="1337" y="97"/>
                </a:lnTo>
                <a:lnTo>
                  <a:pt x="1319" y="66"/>
                </a:lnTo>
                <a:lnTo>
                  <a:pt x="1306" y="50"/>
                </a:lnTo>
                <a:lnTo>
                  <a:pt x="1280" y="68"/>
                </a:lnTo>
                <a:lnTo>
                  <a:pt x="1276" y="82"/>
                </a:lnTo>
                <a:lnTo>
                  <a:pt x="1260" y="88"/>
                </a:lnTo>
                <a:lnTo>
                  <a:pt x="1255" y="96"/>
                </a:lnTo>
                <a:lnTo>
                  <a:pt x="1225" y="99"/>
                </a:lnTo>
                <a:lnTo>
                  <a:pt x="1186" y="82"/>
                </a:lnTo>
                <a:lnTo>
                  <a:pt x="1173" y="88"/>
                </a:lnTo>
                <a:lnTo>
                  <a:pt x="1156" y="107"/>
                </a:lnTo>
                <a:lnTo>
                  <a:pt x="1113" y="78"/>
                </a:lnTo>
                <a:lnTo>
                  <a:pt x="1071" y="82"/>
                </a:lnTo>
                <a:lnTo>
                  <a:pt x="1039" y="68"/>
                </a:lnTo>
                <a:lnTo>
                  <a:pt x="1024" y="31"/>
                </a:lnTo>
                <a:lnTo>
                  <a:pt x="982" y="0"/>
                </a:lnTo>
                <a:lnTo>
                  <a:pt x="960" y="14"/>
                </a:lnTo>
                <a:lnTo>
                  <a:pt x="946" y="14"/>
                </a:lnTo>
                <a:lnTo>
                  <a:pt x="927" y="0"/>
                </a:lnTo>
                <a:lnTo>
                  <a:pt x="909" y="2"/>
                </a:lnTo>
                <a:lnTo>
                  <a:pt x="903" y="23"/>
                </a:lnTo>
                <a:lnTo>
                  <a:pt x="899" y="36"/>
                </a:lnTo>
                <a:lnTo>
                  <a:pt x="914" y="82"/>
                </a:lnTo>
                <a:lnTo>
                  <a:pt x="904" y="101"/>
                </a:lnTo>
                <a:lnTo>
                  <a:pt x="881" y="103"/>
                </a:lnTo>
                <a:lnTo>
                  <a:pt x="854" y="127"/>
                </a:lnTo>
                <a:lnTo>
                  <a:pt x="819" y="122"/>
                </a:lnTo>
                <a:lnTo>
                  <a:pt x="801" y="131"/>
                </a:lnTo>
                <a:lnTo>
                  <a:pt x="801" y="170"/>
                </a:lnTo>
                <a:lnTo>
                  <a:pt x="719" y="280"/>
                </a:lnTo>
                <a:lnTo>
                  <a:pt x="705" y="327"/>
                </a:lnTo>
                <a:lnTo>
                  <a:pt x="654" y="330"/>
                </a:lnTo>
                <a:lnTo>
                  <a:pt x="628" y="303"/>
                </a:lnTo>
                <a:lnTo>
                  <a:pt x="614" y="300"/>
                </a:lnTo>
                <a:lnTo>
                  <a:pt x="601" y="317"/>
                </a:lnTo>
                <a:lnTo>
                  <a:pt x="585" y="370"/>
                </a:lnTo>
                <a:lnTo>
                  <a:pt x="567" y="386"/>
                </a:lnTo>
                <a:lnTo>
                  <a:pt x="546" y="373"/>
                </a:lnTo>
                <a:lnTo>
                  <a:pt x="533" y="351"/>
                </a:lnTo>
                <a:lnTo>
                  <a:pt x="498" y="364"/>
                </a:lnTo>
                <a:lnTo>
                  <a:pt x="485" y="406"/>
                </a:lnTo>
                <a:lnTo>
                  <a:pt x="473" y="412"/>
                </a:lnTo>
                <a:lnTo>
                  <a:pt x="466" y="405"/>
                </a:lnTo>
                <a:lnTo>
                  <a:pt x="405" y="375"/>
                </a:lnTo>
                <a:lnTo>
                  <a:pt x="354" y="394"/>
                </a:lnTo>
                <a:lnTo>
                  <a:pt x="315" y="392"/>
                </a:lnTo>
                <a:lnTo>
                  <a:pt x="308" y="412"/>
                </a:lnTo>
                <a:lnTo>
                  <a:pt x="309" y="417"/>
                </a:lnTo>
                <a:lnTo>
                  <a:pt x="294" y="424"/>
                </a:lnTo>
                <a:lnTo>
                  <a:pt x="278" y="421"/>
                </a:lnTo>
                <a:lnTo>
                  <a:pt x="277" y="421"/>
                </a:lnTo>
                <a:lnTo>
                  <a:pt x="281" y="427"/>
                </a:lnTo>
                <a:lnTo>
                  <a:pt x="272" y="440"/>
                </a:lnTo>
                <a:lnTo>
                  <a:pt x="268" y="461"/>
                </a:lnTo>
                <a:lnTo>
                  <a:pt x="259" y="467"/>
                </a:lnTo>
                <a:lnTo>
                  <a:pt x="262" y="474"/>
                </a:lnTo>
                <a:lnTo>
                  <a:pt x="283" y="501"/>
                </a:lnTo>
                <a:lnTo>
                  <a:pt x="278" y="507"/>
                </a:lnTo>
                <a:lnTo>
                  <a:pt x="214" y="525"/>
                </a:lnTo>
                <a:lnTo>
                  <a:pt x="196" y="534"/>
                </a:lnTo>
                <a:lnTo>
                  <a:pt x="198" y="564"/>
                </a:lnTo>
                <a:lnTo>
                  <a:pt x="211" y="618"/>
                </a:lnTo>
                <a:lnTo>
                  <a:pt x="182" y="630"/>
                </a:lnTo>
                <a:lnTo>
                  <a:pt x="155" y="613"/>
                </a:lnTo>
                <a:lnTo>
                  <a:pt x="131" y="598"/>
                </a:lnTo>
                <a:lnTo>
                  <a:pt x="95" y="592"/>
                </a:lnTo>
                <a:lnTo>
                  <a:pt x="69" y="606"/>
                </a:lnTo>
                <a:lnTo>
                  <a:pt x="57" y="651"/>
                </a:lnTo>
                <a:lnTo>
                  <a:pt x="60" y="657"/>
                </a:lnTo>
                <a:lnTo>
                  <a:pt x="66" y="660"/>
                </a:lnTo>
                <a:lnTo>
                  <a:pt x="80" y="667"/>
                </a:lnTo>
                <a:lnTo>
                  <a:pt x="86" y="693"/>
                </a:lnTo>
                <a:lnTo>
                  <a:pt x="64" y="762"/>
                </a:lnTo>
                <a:lnTo>
                  <a:pt x="53" y="768"/>
                </a:lnTo>
                <a:lnTo>
                  <a:pt x="43" y="764"/>
                </a:lnTo>
                <a:lnTo>
                  <a:pt x="14" y="774"/>
                </a:lnTo>
                <a:lnTo>
                  <a:pt x="0" y="795"/>
                </a:lnTo>
                <a:lnTo>
                  <a:pt x="0" y="795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9600" y="4237200"/>
            <a:ext cx="917640" cy="322200"/>
          </a:xfrm>
          <a:custGeom>
            <a:avLst/>
            <a:gdLst/>
            <a:ahLst/>
            <a:rect l="l" t="t" r="r" b="b"/>
            <a:pathLst>
              <a:path w="1732" h="608">
                <a:moveTo>
                  <a:pt x="1732" y="0"/>
                </a:moveTo>
                <a:lnTo>
                  <a:pt x="1379" y="42"/>
                </a:lnTo>
                <a:lnTo>
                  <a:pt x="1364" y="56"/>
                </a:lnTo>
                <a:lnTo>
                  <a:pt x="488" y="135"/>
                </a:lnTo>
                <a:lnTo>
                  <a:pt x="474" y="128"/>
                </a:lnTo>
                <a:lnTo>
                  <a:pt x="440" y="130"/>
                </a:lnTo>
                <a:lnTo>
                  <a:pt x="446" y="145"/>
                </a:lnTo>
                <a:lnTo>
                  <a:pt x="446" y="171"/>
                </a:lnTo>
                <a:lnTo>
                  <a:pt x="136" y="197"/>
                </a:lnTo>
                <a:lnTo>
                  <a:pt x="124" y="234"/>
                </a:lnTo>
                <a:lnTo>
                  <a:pt x="111" y="280"/>
                </a:lnTo>
                <a:lnTo>
                  <a:pt x="117" y="293"/>
                </a:lnTo>
                <a:lnTo>
                  <a:pt x="103" y="332"/>
                </a:lnTo>
                <a:lnTo>
                  <a:pt x="97" y="346"/>
                </a:lnTo>
                <a:lnTo>
                  <a:pt x="103" y="359"/>
                </a:lnTo>
                <a:lnTo>
                  <a:pt x="92" y="381"/>
                </a:lnTo>
                <a:lnTo>
                  <a:pt x="66" y="409"/>
                </a:lnTo>
                <a:lnTo>
                  <a:pt x="55" y="465"/>
                </a:lnTo>
                <a:lnTo>
                  <a:pt x="28" y="499"/>
                </a:lnTo>
                <a:lnTo>
                  <a:pt x="34" y="536"/>
                </a:lnTo>
                <a:lnTo>
                  <a:pt x="30" y="583"/>
                </a:lnTo>
                <a:lnTo>
                  <a:pt x="23" y="587"/>
                </a:lnTo>
                <a:lnTo>
                  <a:pt x="0" y="608"/>
                </a:lnTo>
                <a:lnTo>
                  <a:pt x="446" y="574"/>
                </a:lnTo>
                <a:lnTo>
                  <a:pt x="1004" y="526"/>
                </a:lnTo>
                <a:lnTo>
                  <a:pt x="1219" y="499"/>
                </a:lnTo>
                <a:lnTo>
                  <a:pt x="1225" y="440"/>
                </a:lnTo>
                <a:lnTo>
                  <a:pt x="1245" y="440"/>
                </a:lnTo>
                <a:lnTo>
                  <a:pt x="1254" y="437"/>
                </a:lnTo>
                <a:lnTo>
                  <a:pt x="1270" y="422"/>
                </a:lnTo>
                <a:lnTo>
                  <a:pt x="1271" y="406"/>
                </a:lnTo>
                <a:lnTo>
                  <a:pt x="1270" y="391"/>
                </a:lnTo>
                <a:lnTo>
                  <a:pt x="1276" y="377"/>
                </a:lnTo>
                <a:lnTo>
                  <a:pt x="1292" y="358"/>
                </a:lnTo>
                <a:lnTo>
                  <a:pt x="1337" y="339"/>
                </a:lnTo>
                <a:lnTo>
                  <a:pt x="1387" y="326"/>
                </a:lnTo>
                <a:lnTo>
                  <a:pt x="1437" y="283"/>
                </a:lnTo>
                <a:lnTo>
                  <a:pt x="1456" y="275"/>
                </a:lnTo>
                <a:lnTo>
                  <a:pt x="1487" y="246"/>
                </a:lnTo>
                <a:lnTo>
                  <a:pt x="1494" y="221"/>
                </a:lnTo>
                <a:lnTo>
                  <a:pt x="1499" y="218"/>
                </a:lnTo>
                <a:lnTo>
                  <a:pt x="1512" y="219"/>
                </a:lnTo>
                <a:lnTo>
                  <a:pt x="1522" y="208"/>
                </a:lnTo>
                <a:lnTo>
                  <a:pt x="1524" y="201"/>
                </a:lnTo>
                <a:lnTo>
                  <a:pt x="1541" y="183"/>
                </a:lnTo>
                <a:lnTo>
                  <a:pt x="1547" y="185"/>
                </a:lnTo>
                <a:lnTo>
                  <a:pt x="1562" y="197"/>
                </a:lnTo>
                <a:lnTo>
                  <a:pt x="1577" y="187"/>
                </a:lnTo>
                <a:lnTo>
                  <a:pt x="1582" y="177"/>
                </a:lnTo>
                <a:lnTo>
                  <a:pt x="1606" y="156"/>
                </a:lnTo>
                <a:lnTo>
                  <a:pt x="1624" y="150"/>
                </a:lnTo>
                <a:lnTo>
                  <a:pt x="1658" y="147"/>
                </a:lnTo>
                <a:lnTo>
                  <a:pt x="1695" y="88"/>
                </a:lnTo>
                <a:lnTo>
                  <a:pt x="1724" y="69"/>
                </a:lnTo>
                <a:lnTo>
                  <a:pt x="1726" y="53"/>
                </a:lnTo>
                <a:lnTo>
                  <a:pt x="1732" y="36"/>
                </a:lnTo>
                <a:lnTo>
                  <a:pt x="1726" y="16"/>
                </a:lnTo>
                <a:lnTo>
                  <a:pt x="1732" y="0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120" y="4516560"/>
            <a:ext cx="430200" cy="684000"/>
          </a:xfrm>
          <a:custGeom>
            <a:avLst/>
            <a:gdLst/>
            <a:ahLst/>
            <a:rect l="l" t="t" r="r" b="b"/>
            <a:pathLst>
              <a:path w="814" h="1293">
                <a:moveTo>
                  <a:pt x="0" y="48"/>
                </a:moveTo>
                <a:lnTo>
                  <a:pt x="21" y="74"/>
                </a:lnTo>
                <a:lnTo>
                  <a:pt x="6" y="855"/>
                </a:lnTo>
                <a:lnTo>
                  <a:pt x="10" y="891"/>
                </a:lnTo>
                <a:lnTo>
                  <a:pt x="57" y="1287"/>
                </a:lnTo>
                <a:lnTo>
                  <a:pt x="67" y="1280"/>
                </a:lnTo>
                <a:lnTo>
                  <a:pt x="80" y="1271"/>
                </a:lnTo>
                <a:lnTo>
                  <a:pt x="115" y="1283"/>
                </a:lnTo>
                <a:lnTo>
                  <a:pt x="122" y="1268"/>
                </a:lnTo>
                <a:lnTo>
                  <a:pt x="130" y="1211"/>
                </a:lnTo>
                <a:lnTo>
                  <a:pt x="145" y="1170"/>
                </a:lnTo>
                <a:lnTo>
                  <a:pt x="166" y="1211"/>
                </a:lnTo>
                <a:lnTo>
                  <a:pt x="164" y="1224"/>
                </a:lnTo>
                <a:lnTo>
                  <a:pt x="175" y="1255"/>
                </a:lnTo>
                <a:lnTo>
                  <a:pt x="200" y="1293"/>
                </a:lnTo>
                <a:lnTo>
                  <a:pt x="223" y="1293"/>
                </a:lnTo>
                <a:lnTo>
                  <a:pt x="242" y="1293"/>
                </a:lnTo>
                <a:lnTo>
                  <a:pt x="269" y="1264"/>
                </a:lnTo>
                <a:lnTo>
                  <a:pt x="273" y="1261"/>
                </a:lnTo>
                <a:lnTo>
                  <a:pt x="288" y="1249"/>
                </a:lnTo>
                <a:lnTo>
                  <a:pt x="288" y="1245"/>
                </a:lnTo>
                <a:lnTo>
                  <a:pt x="284" y="1238"/>
                </a:lnTo>
                <a:lnTo>
                  <a:pt x="271" y="1232"/>
                </a:lnTo>
                <a:lnTo>
                  <a:pt x="271" y="1224"/>
                </a:lnTo>
                <a:lnTo>
                  <a:pt x="282" y="1202"/>
                </a:lnTo>
                <a:lnTo>
                  <a:pt x="278" y="1191"/>
                </a:lnTo>
                <a:lnTo>
                  <a:pt x="260" y="1177"/>
                </a:lnTo>
                <a:lnTo>
                  <a:pt x="253" y="1177"/>
                </a:lnTo>
                <a:lnTo>
                  <a:pt x="244" y="1165"/>
                </a:lnTo>
                <a:lnTo>
                  <a:pt x="225" y="1142"/>
                </a:lnTo>
                <a:lnTo>
                  <a:pt x="223" y="1122"/>
                </a:lnTo>
                <a:lnTo>
                  <a:pt x="229" y="1116"/>
                </a:lnTo>
                <a:lnTo>
                  <a:pt x="228" y="1112"/>
                </a:lnTo>
                <a:lnTo>
                  <a:pt x="228" y="1098"/>
                </a:lnTo>
                <a:lnTo>
                  <a:pt x="814" y="1041"/>
                </a:lnTo>
                <a:lnTo>
                  <a:pt x="811" y="1024"/>
                </a:lnTo>
                <a:lnTo>
                  <a:pt x="784" y="983"/>
                </a:lnTo>
                <a:lnTo>
                  <a:pt x="786" y="914"/>
                </a:lnTo>
                <a:lnTo>
                  <a:pt x="762" y="855"/>
                </a:lnTo>
                <a:lnTo>
                  <a:pt x="757" y="808"/>
                </a:lnTo>
                <a:lnTo>
                  <a:pt x="772" y="777"/>
                </a:lnTo>
                <a:lnTo>
                  <a:pt x="772" y="741"/>
                </a:lnTo>
                <a:lnTo>
                  <a:pt x="792" y="713"/>
                </a:lnTo>
                <a:lnTo>
                  <a:pt x="795" y="706"/>
                </a:lnTo>
                <a:lnTo>
                  <a:pt x="774" y="682"/>
                </a:lnTo>
                <a:lnTo>
                  <a:pt x="780" y="659"/>
                </a:lnTo>
                <a:lnTo>
                  <a:pt x="768" y="644"/>
                </a:lnTo>
                <a:lnTo>
                  <a:pt x="748" y="631"/>
                </a:lnTo>
                <a:lnTo>
                  <a:pt x="741" y="613"/>
                </a:lnTo>
                <a:lnTo>
                  <a:pt x="727" y="574"/>
                </a:lnTo>
                <a:lnTo>
                  <a:pt x="715" y="560"/>
                </a:lnTo>
                <a:lnTo>
                  <a:pt x="558" y="0"/>
                </a:lnTo>
                <a:lnTo>
                  <a:pt x="0" y="48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50040" y="3772080"/>
            <a:ext cx="849240" cy="487080"/>
          </a:xfrm>
          <a:custGeom>
            <a:avLst/>
            <a:gdLst/>
            <a:ahLst/>
            <a:rect l="l" t="t" r="r" b="b"/>
            <a:pathLst>
              <a:path w="1606" h="921">
                <a:moveTo>
                  <a:pt x="1585" y="672"/>
                </a:moveTo>
                <a:lnTo>
                  <a:pt x="1055" y="772"/>
                </a:lnTo>
                <a:lnTo>
                  <a:pt x="500" y="864"/>
                </a:lnTo>
                <a:lnTo>
                  <a:pt x="487" y="859"/>
                </a:lnTo>
                <a:lnTo>
                  <a:pt x="465" y="865"/>
                </a:lnTo>
                <a:lnTo>
                  <a:pt x="408" y="871"/>
                </a:lnTo>
                <a:lnTo>
                  <a:pt x="411" y="861"/>
                </a:lnTo>
                <a:lnTo>
                  <a:pt x="352" y="871"/>
                </a:lnTo>
                <a:lnTo>
                  <a:pt x="352" y="879"/>
                </a:lnTo>
                <a:lnTo>
                  <a:pt x="0" y="921"/>
                </a:lnTo>
                <a:lnTo>
                  <a:pt x="15" y="908"/>
                </a:lnTo>
                <a:lnTo>
                  <a:pt x="90" y="871"/>
                </a:lnTo>
                <a:lnTo>
                  <a:pt x="99" y="854"/>
                </a:lnTo>
                <a:lnTo>
                  <a:pt x="141" y="823"/>
                </a:lnTo>
                <a:lnTo>
                  <a:pt x="144" y="804"/>
                </a:lnTo>
                <a:lnTo>
                  <a:pt x="148" y="795"/>
                </a:lnTo>
                <a:lnTo>
                  <a:pt x="169" y="785"/>
                </a:lnTo>
                <a:lnTo>
                  <a:pt x="170" y="759"/>
                </a:lnTo>
                <a:lnTo>
                  <a:pt x="192" y="739"/>
                </a:lnTo>
                <a:lnTo>
                  <a:pt x="299" y="645"/>
                </a:lnTo>
                <a:lnTo>
                  <a:pt x="308" y="627"/>
                </a:lnTo>
                <a:lnTo>
                  <a:pt x="315" y="631"/>
                </a:lnTo>
                <a:lnTo>
                  <a:pt x="308" y="652"/>
                </a:lnTo>
                <a:lnTo>
                  <a:pt x="339" y="686"/>
                </a:lnTo>
                <a:lnTo>
                  <a:pt x="386" y="700"/>
                </a:lnTo>
                <a:lnTo>
                  <a:pt x="406" y="702"/>
                </a:lnTo>
                <a:lnTo>
                  <a:pt x="432" y="684"/>
                </a:lnTo>
                <a:lnTo>
                  <a:pt x="434" y="671"/>
                </a:lnTo>
                <a:lnTo>
                  <a:pt x="451" y="661"/>
                </a:lnTo>
                <a:lnTo>
                  <a:pt x="466" y="675"/>
                </a:lnTo>
                <a:lnTo>
                  <a:pt x="476" y="679"/>
                </a:lnTo>
                <a:lnTo>
                  <a:pt x="493" y="677"/>
                </a:lnTo>
                <a:lnTo>
                  <a:pt x="545" y="656"/>
                </a:lnTo>
                <a:lnTo>
                  <a:pt x="553" y="622"/>
                </a:lnTo>
                <a:lnTo>
                  <a:pt x="561" y="622"/>
                </a:lnTo>
                <a:lnTo>
                  <a:pt x="571" y="635"/>
                </a:lnTo>
                <a:lnTo>
                  <a:pt x="614" y="596"/>
                </a:lnTo>
                <a:lnTo>
                  <a:pt x="628" y="604"/>
                </a:lnTo>
                <a:lnTo>
                  <a:pt x="664" y="557"/>
                </a:lnTo>
                <a:lnTo>
                  <a:pt x="655" y="540"/>
                </a:lnTo>
                <a:lnTo>
                  <a:pt x="659" y="508"/>
                </a:lnTo>
                <a:lnTo>
                  <a:pt x="695" y="442"/>
                </a:lnTo>
                <a:lnTo>
                  <a:pt x="739" y="268"/>
                </a:lnTo>
                <a:lnTo>
                  <a:pt x="747" y="267"/>
                </a:lnTo>
                <a:lnTo>
                  <a:pt x="774" y="282"/>
                </a:lnTo>
                <a:lnTo>
                  <a:pt x="775" y="294"/>
                </a:lnTo>
                <a:lnTo>
                  <a:pt x="789" y="307"/>
                </a:lnTo>
                <a:lnTo>
                  <a:pt x="817" y="302"/>
                </a:lnTo>
                <a:lnTo>
                  <a:pt x="834" y="271"/>
                </a:lnTo>
                <a:lnTo>
                  <a:pt x="852" y="205"/>
                </a:lnTo>
                <a:lnTo>
                  <a:pt x="867" y="180"/>
                </a:lnTo>
                <a:lnTo>
                  <a:pt x="891" y="192"/>
                </a:lnTo>
                <a:lnTo>
                  <a:pt x="909" y="154"/>
                </a:lnTo>
                <a:lnTo>
                  <a:pt x="925" y="146"/>
                </a:lnTo>
                <a:lnTo>
                  <a:pt x="937" y="126"/>
                </a:lnTo>
                <a:lnTo>
                  <a:pt x="951" y="92"/>
                </a:lnTo>
                <a:lnTo>
                  <a:pt x="961" y="83"/>
                </a:lnTo>
                <a:lnTo>
                  <a:pt x="964" y="73"/>
                </a:lnTo>
                <a:lnTo>
                  <a:pt x="956" y="67"/>
                </a:lnTo>
                <a:lnTo>
                  <a:pt x="960" y="14"/>
                </a:lnTo>
                <a:lnTo>
                  <a:pt x="964" y="6"/>
                </a:lnTo>
                <a:lnTo>
                  <a:pt x="973" y="0"/>
                </a:lnTo>
                <a:lnTo>
                  <a:pt x="1067" y="60"/>
                </a:lnTo>
                <a:lnTo>
                  <a:pt x="1083" y="66"/>
                </a:lnTo>
                <a:lnTo>
                  <a:pt x="1087" y="62"/>
                </a:lnTo>
                <a:lnTo>
                  <a:pt x="1097" y="10"/>
                </a:lnTo>
                <a:lnTo>
                  <a:pt x="1112" y="7"/>
                </a:lnTo>
                <a:lnTo>
                  <a:pt x="1132" y="14"/>
                </a:lnTo>
                <a:lnTo>
                  <a:pt x="1152" y="20"/>
                </a:lnTo>
                <a:lnTo>
                  <a:pt x="1140" y="44"/>
                </a:lnTo>
                <a:lnTo>
                  <a:pt x="1160" y="67"/>
                </a:lnTo>
                <a:lnTo>
                  <a:pt x="1200" y="67"/>
                </a:lnTo>
                <a:lnTo>
                  <a:pt x="1219" y="85"/>
                </a:lnTo>
                <a:lnTo>
                  <a:pt x="1242" y="96"/>
                </a:lnTo>
                <a:lnTo>
                  <a:pt x="1262" y="120"/>
                </a:lnTo>
                <a:lnTo>
                  <a:pt x="1259" y="130"/>
                </a:lnTo>
                <a:lnTo>
                  <a:pt x="1234" y="178"/>
                </a:lnTo>
                <a:lnTo>
                  <a:pt x="1217" y="221"/>
                </a:lnTo>
                <a:lnTo>
                  <a:pt x="1222" y="248"/>
                </a:lnTo>
                <a:lnTo>
                  <a:pt x="1252" y="249"/>
                </a:lnTo>
                <a:lnTo>
                  <a:pt x="1279" y="233"/>
                </a:lnTo>
                <a:lnTo>
                  <a:pt x="1300" y="256"/>
                </a:lnTo>
                <a:lnTo>
                  <a:pt x="1315" y="264"/>
                </a:lnTo>
                <a:lnTo>
                  <a:pt x="1324" y="268"/>
                </a:lnTo>
                <a:lnTo>
                  <a:pt x="1341" y="281"/>
                </a:lnTo>
                <a:lnTo>
                  <a:pt x="1348" y="282"/>
                </a:lnTo>
                <a:lnTo>
                  <a:pt x="1362" y="276"/>
                </a:lnTo>
                <a:lnTo>
                  <a:pt x="1370" y="278"/>
                </a:lnTo>
                <a:lnTo>
                  <a:pt x="1419" y="303"/>
                </a:lnTo>
                <a:lnTo>
                  <a:pt x="1451" y="312"/>
                </a:lnTo>
                <a:lnTo>
                  <a:pt x="1471" y="334"/>
                </a:lnTo>
                <a:lnTo>
                  <a:pt x="1468" y="344"/>
                </a:lnTo>
                <a:lnTo>
                  <a:pt x="1457" y="354"/>
                </a:lnTo>
                <a:lnTo>
                  <a:pt x="1462" y="387"/>
                </a:lnTo>
                <a:lnTo>
                  <a:pt x="1457" y="394"/>
                </a:lnTo>
                <a:lnTo>
                  <a:pt x="1446" y="402"/>
                </a:lnTo>
                <a:lnTo>
                  <a:pt x="1446" y="404"/>
                </a:lnTo>
                <a:lnTo>
                  <a:pt x="1483" y="422"/>
                </a:lnTo>
                <a:lnTo>
                  <a:pt x="1495" y="447"/>
                </a:lnTo>
                <a:lnTo>
                  <a:pt x="1495" y="456"/>
                </a:lnTo>
                <a:lnTo>
                  <a:pt x="1487" y="467"/>
                </a:lnTo>
                <a:lnTo>
                  <a:pt x="1458" y="460"/>
                </a:lnTo>
                <a:lnTo>
                  <a:pt x="1454" y="473"/>
                </a:lnTo>
                <a:lnTo>
                  <a:pt x="1465" y="484"/>
                </a:lnTo>
                <a:lnTo>
                  <a:pt x="1470" y="484"/>
                </a:lnTo>
                <a:lnTo>
                  <a:pt x="1470" y="494"/>
                </a:lnTo>
                <a:lnTo>
                  <a:pt x="1452" y="499"/>
                </a:lnTo>
                <a:lnTo>
                  <a:pt x="1446" y="498"/>
                </a:lnTo>
                <a:lnTo>
                  <a:pt x="1444" y="505"/>
                </a:lnTo>
                <a:lnTo>
                  <a:pt x="1454" y="513"/>
                </a:lnTo>
                <a:lnTo>
                  <a:pt x="1477" y="517"/>
                </a:lnTo>
                <a:lnTo>
                  <a:pt x="1502" y="526"/>
                </a:lnTo>
                <a:lnTo>
                  <a:pt x="1508" y="539"/>
                </a:lnTo>
                <a:lnTo>
                  <a:pt x="1483" y="564"/>
                </a:lnTo>
                <a:lnTo>
                  <a:pt x="1470" y="564"/>
                </a:lnTo>
                <a:lnTo>
                  <a:pt x="1440" y="551"/>
                </a:lnTo>
                <a:lnTo>
                  <a:pt x="1440" y="564"/>
                </a:lnTo>
                <a:lnTo>
                  <a:pt x="1459" y="576"/>
                </a:lnTo>
                <a:lnTo>
                  <a:pt x="1482" y="593"/>
                </a:lnTo>
                <a:lnTo>
                  <a:pt x="1503" y="584"/>
                </a:lnTo>
                <a:lnTo>
                  <a:pt x="1525" y="564"/>
                </a:lnTo>
                <a:lnTo>
                  <a:pt x="1549" y="567"/>
                </a:lnTo>
                <a:lnTo>
                  <a:pt x="1577" y="564"/>
                </a:lnTo>
                <a:lnTo>
                  <a:pt x="1581" y="570"/>
                </a:lnTo>
                <a:lnTo>
                  <a:pt x="1606" y="645"/>
                </a:lnTo>
                <a:lnTo>
                  <a:pt x="1590" y="661"/>
                </a:lnTo>
                <a:lnTo>
                  <a:pt x="1584" y="661"/>
                </a:lnTo>
                <a:lnTo>
                  <a:pt x="1585" y="67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4129200"/>
            <a:ext cx="984240" cy="422280"/>
          </a:xfrm>
          <a:custGeom>
            <a:avLst/>
            <a:gdLst/>
            <a:ahLst/>
            <a:rect l="l" t="t" r="r" b="b"/>
            <a:pathLst>
              <a:path w="1858" h="800">
                <a:moveTo>
                  <a:pt x="0" y="705"/>
                </a:moveTo>
                <a:lnTo>
                  <a:pt x="6" y="646"/>
                </a:lnTo>
                <a:lnTo>
                  <a:pt x="26" y="646"/>
                </a:lnTo>
                <a:lnTo>
                  <a:pt x="35" y="642"/>
                </a:lnTo>
                <a:lnTo>
                  <a:pt x="51" y="628"/>
                </a:lnTo>
                <a:lnTo>
                  <a:pt x="52" y="611"/>
                </a:lnTo>
                <a:lnTo>
                  <a:pt x="51" y="597"/>
                </a:lnTo>
                <a:lnTo>
                  <a:pt x="57" y="583"/>
                </a:lnTo>
                <a:lnTo>
                  <a:pt x="73" y="564"/>
                </a:lnTo>
                <a:lnTo>
                  <a:pt x="118" y="545"/>
                </a:lnTo>
                <a:lnTo>
                  <a:pt x="168" y="532"/>
                </a:lnTo>
                <a:lnTo>
                  <a:pt x="218" y="489"/>
                </a:lnTo>
                <a:lnTo>
                  <a:pt x="237" y="480"/>
                </a:lnTo>
                <a:lnTo>
                  <a:pt x="268" y="452"/>
                </a:lnTo>
                <a:lnTo>
                  <a:pt x="275" y="427"/>
                </a:lnTo>
                <a:lnTo>
                  <a:pt x="280" y="424"/>
                </a:lnTo>
                <a:lnTo>
                  <a:pt x="293" y="425"/>
                </a:lnTo>
                <a:lnTo>
                  <a:pt x="303" y="414"/>
                </a:lnTo>
                <a:lnTo>
                  <a:pt x="305" y="407"/>
                </a:lnTo>
                <a:lnTo>
                  <a:pt x="322" y="389"/>
                </a:lnTo>
                <a:lnTo>
                  <a:pt x="328" y="391"/>
                </a:lnTo>
                <a:lnTo>
                  <a:pt x="343" y="402"/>
                </a:lnTo>
                <a:lnTo>
                  <a:pt x="358" y="392"/>
                </a:lnTo>
                <a:lnTo>
                  <a:pt x="363" y="383"/>
                </a:lnTo>
                <a:lnTo>
                  <a:pt x="387" y="362"/>
                </a:lnTo>
                <a:lnTo>
                  <a:pt x="406" y="355"/>
                </a:lnTo>
                <a:lnTo>
                  <a:pt x="439" y="353"/>
                </a:lnTo>
                <a:lnTo>
                  <a:pt x="476" y="294"/>
                </a:lnTo>
                <a:lnTo>
                  <a:pt x="505" y="275"/>
                </a:lnTo>
                <a:lnTo>
                  <a:pt x="507" y="259"/>
                </a:lnTo>
                <a:lnTo>
                  <a:pt x="513" y="241"/>
                </a:lnTo>
                <a:lnTo>
                  <a:pt x="507" y="222"/>
                </a:lnTo>
                <a:lnTo>
                  <a:pt x="513" y="206"/>
                </a:lnTo>
                <a:lnTo>
                  <a:pt x="513" y="199"/>
                </a:lnTo>
                <a:lnTo>
                  <a:pt x="572" y="188"/>
                </a:lnTo>
                <a:lnTo>
                  <a:pt x="568" y="199"/>
                </a:lnTo>
                <a:lnTo>
                  <a:pt x="625" y="193"/>
                </a:lnTo>
                <a:lnTo>
                  <a:pt x="647" y="187"/>
                </a:lnTo>
                <a:lnTo>
                  <a:pt x="661" y="191"/>
                </a:lnTo>
                <a:lnTo>
                  <a:pt x="1216" y="99"/>
                </a:lnTo>
                <a:lnTo>
                  <a:pt x="1745" y="0"/>
                </a:lnTo>
                <a:lnTo>
                  <a:pt x="1755" y="6"/>
                </a:lnTo>
                <a:lnTo>
                  <a:pt x="1759" y="16"/>
                </a:lnTo>
                <a:lnTo>
                  <a:pt x="1772" y="25"/>
                </a:lnTo>
                <a:lnTo>
                  <a:pt x="1783" y="27"/>
                </a:lnTo>
                <a:lnTo>
                  <a:pt x="1791" y="39"/>
                </a:lnTo>
                <a:lnTo>
                  <a:pt x="1799" y="49"/>
                </a:lnTo>
                <a:lnTo>
                  <a:pt x="1812" y="76"/>
                </a:lnTo>
                <a:lnTo>
                  <a:pt x="1806" y="82"/>
                </a:lnTo>
                <a:lnTo>
                  <a:pt x="1810" y="84"/>
                </a:lnTo>
                <a:lnTo>
                  <a:pt x="1801" y="84"/>
                </a:lnTo>
                <a:lnTo>
                  <a:pt x="1797" y="77"/>
                </a:lnTo>
                <a:lnTo>
                  <a:pt x="1783" y="80"/>
                </a:lnTo>
                <a:lnTo>
                  <a:pt x="1770" y="80"/>
                </a:lnTo>
                <a:lnTo>
                  <a:pt x="1760" y="76"/>
                </a:lnTo>
                <a:lnTo>
                  <a:pt x="1753" y="79"/>
                </a:lnTo>
                <a:lnTo>
                  <a:pt x="1759" y="88"/>
                </a:lnTo>
                <a:lnTo>
                  <a:pt x="1759" y="95"/>
                </a:lnTo>
                <a:lnTo>
                  <a:pt x="1708" y="118"/>
                </a:lnTo>
                <a:lnTo>
                  <a:pt x="1698" y="128"/>
                </a:lnTo>
                <a:lnTo>
                  <a:pt x="1676" y="147"/>
                </a:lnTo>
                <a:lnTo>
                  <a:pt x="1646" y="152"/>
                </a:lnTo>
                <a:lnTo>
                  <a:pt x="1639" y="173"/>
                </a:lnTo>
                <a:lnTo>
                  <a:pt x="1639" y="181"/>
                </a:lnTo>
                <a:lnTo>
                  <a:pt x="1645" y="181"/>
                </a:lnTo>
                <a:lnTo>
                  <a:pt x="1658" y="179"/>
                </a:lnTo>
                <a:lnTo>
                  <a:pt x="1688" y="162"/>
                </a:lnTo>
                <a:lnTo>
                  <a:pt x="1723" y="153"/>
                </a:lnTo>
                <a:lnTo>
                  <a:pt x="1742" y="140"/>
                </a:lnTo>
                <a:lnTo>
                  <a:pt x="1772" y="140"/>
                </a:lnTo>
                <a:lnTo>
                  <a:pt x="1776" y="147"/>
                </a:lnTo>
                <a:lnTo>
                  <a:pt x="1772" y="167"/>
                </a:lnTo>
                <a:lnTo>
                  <a:pt x="1776" y="175"/>
                </a:lnTo>
                <a:lnTo>
                  <a:pt x="1786" y="181"/>
                </a:lnTo>
                <a:lnTo>
                  <a:pt x="1797" y="177"/>
                </a:lnTo>
                <a:lnTo>
                  <a:pt x="1801" y="167"/>
                </a:lnTo>
                <a:lnTo>
                  <a:pt x="1821" y="141"/>
                </a:lnTo>
                <a:lnTo>
                  <a:pt x="1837" y="141"/>
                </a:lnTo>
                <a:lnTo>
                  <a:pt x="1848" y="167"/>
                </a:lnTo>
                <a:lnTo>
                  <a:pt x="1852" y="210"/>
                </a:lnTo>
                <a:lnTo>
                  <a:pt x="1858" y="222"/>
                </a:lnTo>
                <a:lnTo>
                  <a:pt x="1856" y="229"/>
                </a:lnTo>
                <a:lnTo>
                  <a:pt x="1829" y="251"/>
                </a:lnTo>
                <a:lnTo>
                  <a:pt x="1821" y="269"/>
                </a:lnTo>
                <a:lnTo>
                  <a:pt x="1819" y="279"/>
                </a:lnTo>
                <a:lnTo>
                  <a:pt x="1797" y="294"/>
                </a:lnTo>
                <a:lnTo>
                  <a:pt x="1783" y="303"/>
                </a:lnTo>
                <a:lnTo>
                  <a:pt x="1766" y="313"/>
                </a:lnTo>
                <a:lnTo>
                  <a:pt x="1730" y="308"/>
                </a:lnTo>
                <a:lnTo>
                  <a:pt x="1718" y="305"/>
                </a:lnTo>
                <a:lnTo>
                  <a:pt x="1717" y="310"/>
                </a:lnTo>
                <a:lnTo>
                  <a:pt x="1711" y="310"/>
                </a:lnTo>
                <a:lnTo>
                  <a:pt x="1705" y="292"/>
                </a:lnTo>
                <a:lnTo>
                  <a:pt x="1705" y="285"/>
                </a:lnTo>
                <a:lnTo>
                  <a:pt x="1699" y="279"/>
                </a:lnTo>
                <a:lnTo>
                  <a:pt x="1690" y="276"/>
                </a:lnTo>
                <a:lnTo>
                  <a:pt x="1684" y="282"/>
                </a:lnTo>
                <a:lnTo>
                  <a:pt x="1688" y="316"/>
                </a:lnTo>
                <a:lnTo>
                  <a:pt x="1684" y="324"/>
                </a:lnTo>
                <a:lnTo>
                  <a:pt x="1679" y="320"/>
                </a:lnTo>
                <a:lnTo>
                  <a:pt x="1690" y="336"/>
                </a:lnTo>
                <a:lnTo>
                  <a:pt x="1705" y="336"/>
                </a:lnTo>
                <a:lnTo>
                  <a:pt x="1718" y="353"/>
                </a:lnTo>
                <a:lnTo>
                  <a:pt x="1709" y="371"/>
                </a:lnTo>
                <a:lnTo>
                  <a:pt x="1717" y="381"/>
                </a:lnTo>
                <a:lnTo>
                  <a:pt x="1675" y="432"/>
                </a:lnTo>
                <a:lnTo>
                  <a:pt x="1664" y="434"/>
                </a:lnTo>
                <a:lnTo>
                  <a:pt x="1640" y="428"/>
                </a:lnTo>
                <a:lnTo>
                  <a:pt x="1625" y="428"/>
                </a:lnTo>
                <a:lnTo>
                  <a:pt x="1621" y="434"/>
                </a:lnTo>
                <a:lnTo>
                  <a:pt x="1636" y="444"/>
                </a:lnTo>
                <a:lnTo>
                  <a:pt x="1679" y="442"/>
                </a:lnTo>
                <a:lnTo>
                  <a:pt x="1708" y="436"/>
                </a:lnTo>
                <a:lnTo>
                  <a:pt x="1745" y="414"/>
                </a:lnTo>
                <a:lnTo>
                  <a:pt x="1752" y="401"/>
                </a:lnTo>
                <a:lnTo>
                  <a:pt x="1760" y="404"/>
                </a:lnTo>
                <a:lnTo>
                  <a:pt x="1775" y="417"/>
                </a:lnTo>
                <a:lnTo>
                  <a:pt x="1762" y="449"/>
                </a:lnTo>
                <a:lnTo>
                  <a:pt x="1728" y="487"/>
                </a:lnTo>
                <a:lnTo>
                  <a:pt x="1693" y="493"/>
                </a:lnTo>
                <a:lnTo>
                  <a:pt x="1676" y="501"/>
                </a:lnTo>
                <a:lnTo>
                  <a:pt x="1635" y="506"/>
                </a:lnTo>
                <a:lnTo>
                  <a:pt x="1598" y="566"/>
                </a:lnTo>
                <a:lnTo>
                  <a:pt x="1582" y="571"/>
                </a:lnTo>
                <a:lnTo>
                  <a:pt x="1582" y="578"/>
                </a:lnTo>
                <a:lnTo>
                  <a:pt x="1585" y="579"/>
                </a:lnTo>
                <a:lnTo>
                  <a:pt x="1542" y="605"/>
                </a:lnTo>
                <a:lnTo>
                  <a:pt x="1519" y="636"/>
                </a:lnTo>
                <a:lnTo>
                  <a:pt x="1497" y="688"/>
                </a:lnTo>
                <a:lnTo>
                  <a:pt x="1484" y="752"/>
                </a:lnTo>
                <a:lnTo>
                  <a:pt x="1475" y="766"/>
                </a:lnTo>
                <a:lnTo>
                  <a:pt x="1453" y="776"/>
                </a:lnTo>
                <a:lnTo>
                  <a:pt x="1366" y="792"/>
                </a:lnTo>
                <a:lnTo>
                  <a:pt x="1355" y="800"/>
                </a:lnTo>
                <a:lnTo>
                  <a:pt x="1072" y="603"/>
                </a:lnTo>
                <a:lnTo>
                  <a:pt x="832" y="634"/>
                </a:lnTo>
                <a:lnTo>
                  <a:pt x="826" y="600"/>
                </a:lnTo>
                <a:lnTo>
                  <a:pt x="780" y="566"/>
                </a:lnTo>
                <a:lnTo>
                  <a:pt x="762" y="578"/>
                </a:lnTo>
                <a:lnTo>
                  <a:pt x="754" y="569"/>
                </a:lnTo>
                <a:lnTo>
                  <a:pt x="757" y="558"/>
                </a:lnTo>
                <a:lnTo>
                  <a:pt x="755" y="552"/>
                </a:lnTo>
                <a:lnTo>
                  <a:pt x="476" y="585"/>
                </a:lnTo>
                <a:lnTo>
                  <a:pt x="467" y="583"/>
                </a:lnTo>
                <a:lnTo>
                  <a:pt x="462" y="591"/>
                </a:lnTo>
                <a:lnTo>
                  <a:pt x="406" y="619"/>
                </a:lnTo>
                <a:lnTo>
                  <a:pt x="404" y="631"/>
                </a:lnTo>
                <a:lnTo>
                  <a:pt x="384" y="631"/>
                </a:lnTo>
                <a:lnTo>
                  <a:pt x="321" y="662"/>
                </a:lnTo>
                <a:lnTo>
                  <a:pt x="0" y="705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11960" y="4421160"/>
            <a:ext cx="569880" cy="432000"/>
          </a:xfrm>
          <a:custGeom>
            <a:avLst/>
            <a:gdLst/>
            <a:ahLst/>
            <a:rect l="l" t="t" r="r" b="b"/>
            <a:pathLst>
              <a:path w="1078" h="818">
                <a:moveTo>
                  <a:pt x="648" y="816"/>
                </a:moveTo>
                <a:lnTo>
                  <a:pt x="637" y="818"/>
                </a:lnTo>
                <a:lnTo>
                  <a:pt x="605" y="813"/>
                </a:lnTo>
                <a:lnTo>
                  <a:pt x="597" y="806"/>
                </a:lnTo>
                <a:lnTo>
                  <a:pt x="591" y="794"/>
                </a:lnTo>
                <a:lnTo>
                  <a:pt x="578" y="740"/>
                </a:lnTo>
                <a:lnTo>
                  <a:pt x="550" y="703"/>
                </a:lnTo>
                <a:lnTo>
                  <a:pt x="517" y="687"/>
                </a:lnTo>
                <a:lnTo>
                  <a:pt x="500" y="633"/>
                </a:lnTo>
                <a:lnTo>
                  <a:pt x="478" y="609"/>
                </a:lnTo>
                <a:lnTo>
                  <a:pt x="469" y="578"/>
                </a:lnTo>
                <a:lnTo>
                  <a:pt x="450" y="571"/>
                </a:lnTo>
                <a:lnTo>
                  <a:pt x="412" y="558"/>
                </a:lnTo>
                <a:lnTo>
                  <a:pt x="390" y="526"/>
                </a:lnTo>
                <a:lnTo>
                  <a:pt x="364" y="511"/>
                </a:lnTo>
                <a:lnTo>
                  <a:pt x="363" y="495"/>
                </a:lnTo>
                <a:lnTo>
                  <a:pt x="349" y="470"/>
                </a:lnTo>
                <a:lnTo>
                  <a:pt x="342" y="462"/>
                </a:lnTo>
                <a:lnTo>
                  <a:pt x="304" y="448"/>
                </a:lnTo>
                <a:lnTo>
                  <a:pt x="237" y="385"/>
                </a:lnTo>
                <a:lnTo>
                  <a:pt x="205" y="375"/>
                </a:lnTo>
                <a:lnTo>
                  <a:pt x="197" y="353"/>
                </a:lnTo>
                <a:lnTo>
                  <a:pt x="167" y="330"/>
                </a:lnTo>
                <a:lnTo>
                  <a:pt x="148" y="285"/>
                </a:lnTo>
                <a:lnTo>
                  <a:pt x="128" y="264"/>
                </a:lnTo>
                <a:lnTo>
                  <a:pt x="119" y="250"/>
                </a:lnTo>
                <a:lnTo>
                  <a:pt x="75" y="242"/>
                </a:lnTo>
                <a:lnTo>
                  <a:pt x="16" y="211"/>
                </a:lnTo>
                <a:lnTo>
                  <a:pt x="0" y="197"/>
                </a:lnTo>
                <a:lnTo>
                  <a:pt x="20" y="151"/>
                </a:lnTo>
                <a:lnTo>
                  <a:pt x="34" y="140"/>
                </a:lnTo>
                <a:lnTo>
                  <a:pt x="45" y="123"/>
                </a:lnTo>
                <a:lnTo>
                  <a:pt x="46" y="113"/>
                </a:lnTo>
                <a:lnTo>
                  <a:pt x="43" y="110"/>
                </a:lnTo>
                <a:lnTo>
                  <a:pt x="106" y="79"/>
                </a:lnTo>
                <a:lnTo>
                  <a:pt x="126" y="79"/>
                </a:lnTo>
                <a:lnTo>
                  <a:pt x="128" y="67"/>
                </a:lnTo>
                <a:lnTo>
                  <a:pt x="184" y="40"/>
                </a:lnTo>
                <a:lnTo>
                  <a:pt x="189" y="31"/>
                </a:lnTo>
                <a:lnTo>
                  <a:pt x="198" y="34"/>
                </a:lnTo>
                <a:lnTo>
                  <a:pt x="478" y="0"/>
                </a:lnTo>
                <a:lnTo>
                  <a:pt x="479" y="7"/>
                </a:lnTo>
                <a:lnTo>
                  <a:pt x="477" y="18"/>
                </a:lnTo>
                <a:lnTo>
                  <a:pt x="484" y="26"/>
                </a:lnTo>
                <a:lnTo>
                  <a:pt x="503" y="15"/>
                </a:lnTo>
                <a:lnTo>
                  <a:pt x="548" y="49"/>
                </a:lnTo>
                <a:lnTo>
                  <a:pt x="554" y="82"/>
                </a:lnTo>
                <a:lnTo>
                  <a:pt x="795" y="51"/>
                </a:lnTo>
                <a:lnTo>
                  <a:pt x="1078" y="249"/>
                </a:lnTo>
                <a:lnTo>
                  <a:pt x="1070" y="255"/>
                </a:lnTo>
                <a:lnTo>
                  <a:pt x="1045" y="270"/>
                </a:lnTo>
                <a:lnTo>
                  <a:pt x="1026" y="296"/>
                </a:lnTo>
                <a:lnTo>
                  <a:pt x="991" y="350"/>
                </a:lnTo>
                <a:lnTo>
                  <a:pt x="982" y="371"/>
                </a:lnTo>
                <a:lnTo>
                  <a:pt x="970" y="403"/>
                </a:lnTo>
                <a:lnTo>
                  <a:pt x="972" y="430"/>
                </a:lnTo>
                <a:lnTo>
                  <a:pt x="970" y="454"/>
                </a:lnTo>
                <a:lnTo>
                  <a:pt x="964" y="463"/>
                </a:lnTo>
                <a:lnTo>
                  <a:pt x="957" y="476"/>
                </a:lnTo>
                <a:lnTo>
                  <a:pt x="940" y="476"/>
                </a:lnTo>
                <a:lnTo>
                  <a:pt x="928" y="491"/>
                </a:lnTo>
                <a:lnTo>
                  <a:pt x="916" y="505"/>
                </a:lnTo>
                <a:lnTo>
                  <a:pt x="900" y="529"/>
                </a:lnTo>
                <a:lnTo>
                  <a:pt x="889" y="550"/>
                </a:lnTo>
                <a:lnTo>
                  <a:pt x="854" y="574"/>
                </a:lnTo>
                <a:lnTo>
                  <a:pt x="834" y="605"/>
                </a:lnTo>
                <a:lnTo>
                  <a:pt x="814" y="620"/>
                </a:lnTo>
                <a:lnTo>
                  <a:pt x="789" y="640"/>
                </a:lnTo>
                <a:lnTo>
                  <a:pt x="774" y="655"/>
                </a:lnTo>
                <a:lnTo>
                  <a:pt x="760" y="666"/>
                </a:lnTo>
                <a:lnTo>
                  <a:pt x="740" y="678"/>
                </a:lnTo>
                <a:lnTo>
                  <a:pt x="725" y="680"/>
                </a:lnTo>
                <a:lnTo>
                  <a:pt x="719" y="692"/>
                </a:lnTo>
                <a:lnTo>
                  <a:pt x="719" y="698"/>
                </a:lnTo>
                <a:lnTo>
                  <a:pt x="719" y="703"/>
                </a:lnTo>
                <a:lnTo>
                  <a:pt x="709" y="721"/>
                </a:lnTo>
                <a:lnTo>
                  <a:pt x="692" y="739"/>
                </a:lnTo>
                <a:lnTo>
                  <a:pt x="675" y="740"/>
                </a:lnTo>
                <a:lnTo>
                  <a:pt x="670" y="744"/>
                </a:lnTo>
                <a:lnTo>
                  <a:pt x="667" y="748"/>
                </a:lnTo>
                <a:lnTo>
                  <a:pt x="672" y="755"/>
                </a:lnTo>
                <a:lnTo>
                  <a:pt x="679" y="759"/>
                </a:lnTo>
                <a:lnTo>
                  <a:pt x="685" y="760"/>
                </a:lnTo>
                <a:lnTo>
                  <a:pt x="682" y="772"/>
                </a:lnTo>
                <a:lnTo>
                  <a:pt x="672" y="776"/>
                </a:lnTo>
                <a:lnTo>
                  <a:pt x="654" y="796"/>
                </a:lnTo>
                <a:lnTo>
                  <a:pt x="646" y="811"/>
                </a:lnTo>
                <a:lnTo>
                  <a:pt x="648" y="816"/>
                </a:lnTo>
                <a:lnTo>
                  <a:pt x="648" y="816"/>
                </a:lnTo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1320" y="4479840"/>
            <a:ext cx="611280" cy="628560"/>
          </a:xfrm>
          <a:custGeom>
            <a:avLst/>
            <a:gdLst/>
            <a:ahLst/>
            <a:rect l="l" t="t" r="r" b="b"/>
            <a:pathLst>
              <a:path w="1154" h="1189">
                <a:moveTo>
                  <a:pt x="0" y="71"/>
                </a:moveTo>
                <a:lnTo>
                  <a:pt x="157" y="630"/>
                </a:lnTo>
                <a:lnTo>
                  <a:pt x="169" y="645"/>
                </a:lnTo>
                <a:lnTo>
                  <a:pt x="183" y="684"/>
                </a:lnTo>
                <a:lnTo>
                  <a:pt x="190" y="701"/>
                </a:lnTo>
                <a:lnTo>
                  <a:pt x="210" y="714"/>
                </a:lnTo>
                <a:lnTo>
                  <a:pt x="222" y="729"/>
                </a:lnTo>
                <a:lnTo>
                  <a:pt x="215" y="753"/>
                </a:lnTo>
                <a:lnTo>
                  <a:pt x="236" y="776"/>
                </a:lnTo>
                <a:lnTo>
                  <a:pt x="234" y="784"/>
                </a:lnTo>
                <a:lnTo>
                  <a:pt x="214" y="811"/>
                </a:lnTo>
                <a:lnTo>
                  <a:pt x="214" y="848"/>
                </a:lnTo>
                <a:lnTo>
                  <a:pt x="199" y="879"/>
                </a:lnTo>
                <a:lnTo>
                  <a:pt x="204" y="926"/>
                </a:lnTo>
                <a:lnTo>
                  <a:pt x="228" y="984"/>
                </a:lnTo>
                <a:lnTo>
                  <a:pt x="225" y="1053"/>
                </a:lnTo>
                <a:lnTo>
                  <a:pt x="253" y="1094"/>
                </a:lnTo>
                <a:lnTo>
                  <a:pt x="256" y="1112"/>
                </a:lnTo>
                <a:lnTo>
                  <a:pt x="259" y="1125"/>
                </a:lnTo>
                <a:lnTo>
                  <a:pt x="278" y="1146"/>
                </a:lnTo>
                <a:lnTo>
                  <a:pt x="277" y="1163"/>
                </a:lnTo>
                <a:lnTo>
                  <a:pt x="292" y="1183"/>
                </a:lnTo>
                <a:lnTo>
                  <a:pt x="897" y="1145"/>
                </a:lnTo>
                <a:lnTo>
                  <a:pt x="908" y="1176"/>
                </a:lnTo>
                <a:lnTo>
                  <a:pt x="917" y="1188"/>
                </a:lnTo>
                <a:lnTo>
                  <a:pt x="947" y="1189"/>
                </a:lnTo>
                <a:lnTo>
                  <a:pt x="953" y="1160"/>
                </a:lnTo>
                <a:lnTo>
                  <a:pt x="937" y="1101"/>
                </a:lnTo>
                <a:lnTo>
                  <a:pt x="939" y="1083"/>
                </a:lnTo>
                <a:lnTo>
                  <a:pt x="943" y="1072"/>
                </a:lnTo>
                <a:lnTo>
                  <a:pt x="962" y="1059"/>
                </a:lnTo>
                <a:lnTo>
                  <a:pt x="1004" y="1078"/>
                </a:lnTo>
                <a:lnTo>
                  <a:pt x="1044" y="1080"/>
                </a:lnTo>
                <a:lnTo>
                  <a:pt x="1063" y="1075"/>
                </a:lnTo>
                <a:lnTo>
                  <a:pt x="1056" y="1031"/>
                </a:lnTo>
                <a:lnTo>
                  <a:pt x="1048" y="1008"/>
                </a:lnTo>
                <a:lnTo>
                  <a:pt x="1048" y="978"/>
                </a:lnTo>
                <a:lnTo>
                  <a:pt x="1052" y="959"/>
                </a:lnTo>
                <a:lnTo>
                  <a:pt x="1085" y="866"/>
                </a:lnTo>
                <a:lnTo>
                  <a:pt x="1092" y="825"/>
                </a:lnTo>
                <a:lnTo>
                  <a:pt x="1104" y="790"/>
                </a:lnTo>
                <a:lnTo>
                  <a:pt x="1123" y="752"/>
                </a:lnTo>
                <a:lnTo>
                  <a:pt x="1143" y="731"/>
                </a:lnTo>
                <a:lnTo>
                  <a:pt x="1151" y="727"/>
                </a:lnTo>
                <a:lnTo>
                  <a:pt x="1154" y="716"/>
                </a:lnTo>
                <a:lnTo>
                  <a:pt x="1142" y="712"/>
                </a:lnTo>
                <a:lnTo>
                  <a:pt x="1141" y="706"/>
                </a:lnTo>
                <a:lnTo>
                  <a:pt x="1130" y="707"/>
                </a:lnTo>
                <a:lnTo>
                  <a:pt x="1098" y="704"/>
                </a:lnTo>
                <a:lnTo>
                  <a:pt x="1090" y="696"/>
                </a:lnTo>
                <a:lnTo>
                  <a:pt x="1084" y="684"/>
                </a:lnTo>
                <a:lnTo>
                  <a:pt x="1070" y="630"/>
                </a:lnTo>
                <a:lnTo>
                  <a:pt x="1043" y="593"/>
                </a:lnTo>
                <a:lnTo>
                  <a:pt x="1010" y="578"/>
                </a:lnTo>
                <a:lnTo>
                  <a:pt x="993" y="523"/>
                </a:lnTo>
                <a:lnTo>
                  <a:pt x="970" y="499"/>
                </a:lnTo>
                <a:lnTo>
                  <a:pt x="962" y="468"/>
                </a:lnTo>
                <a:lnTo>
                  <a:pt x="943" y="461"/>
                </a:lnTo>
                <a:lnTo>
                  <a:pt x="905" y="448"/>
                </a:lnTo>
                <a:lnTo>
                  <a:pt x="882" y="416"/>
                </a:lnTo>
                <a:lnTo>
                  <a:pt x="856" y="401"/>
                </a:lnTo>
                <a:lnTo>
                  <a:pt x="855" y="385"/>
                </a:lnTo>
                <a:lnTo>
                  <a:pt x="842" y="360"/>
                </a:lnTo>
                <a:lnTo>
                  <a:pt x="835" y="352"/>
                </a:lnTo>
                <a:lnTo>
                  <a:pt x="797" y="338"/>
                </a:lnTo>
                <a:lnTo>
                  <a:pt x="730" y="275"/>
                </a:lnTo>
                <a:lnTo>
                  <a:pt x="698" y="264"/>
                </a:lnTo>
                <a:lnTo>
                  <a:pt x="689" y="243"/>
                </a:lnTo>
                <a:lnTo>
                  <a:pt x="660" y="220"/>
                </a:lnTo>
                <a:lnTo>
                  <a:pt x="641" y="175"/>
                </a:lnTo>
                <a:lnTo>
                  <a:pt x="621" y="154"/>
                </a:lnTo>
                <a:lnTo>
                  <a:pt x="612" y="140"/>
                </a:lnTo>
                <a:lnTo>
                  <a:pt x="568" y="132"/>
                </a:lnTo>
                <a:lnTo>
                  <a:pt x="509" y="101"/>
                </a:lnTo>
                <a:lnTo>
                  <a:pt x="493" y="87"/>
                </a:lnTo>
                <a:lnTo>
                  <a:pt x="512" y="41"/>
                </a:lnTo>
                <a:lnTo>
                  <a:pt x="527" y="30"/>
                </a:lnTo>
                <a:lnTo>
                  <a:pt x="538" y="13"/>
                </a:lnTo>
                <a:lnTo>
                  <a:pt x="539" y="3"/>
                </a:lnTo>
                <a:lnTo>
                  <a:pt x="536" y="0"/>
                </a:lnTo>
                <a:lnTo>
                  <a:pt x="215" y="44"/>
                </a:lnTo>
                <a:lnTo>
                  <a:pt x="0" y="7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30680" y="3648240"/>
            <a:ext cx="500400" cy="495000"/>
          </a:xfrm>
          <a:custGeom>
            <a:avLst/>
            <a:gdLst/>
            <a:ahLst/>
            <a:rect l="l" t="t" r="r" b="b"/>
            <a:pathLst>
              <a:path w="945" h="937">
                <a:moveTo>
                  <a:pt x="318" y="4"/>
                </a:moveTo>
                <a:lnTo>
                  <a:pt x="314" y="0"/>
                </a:lnTo>
                <a:lnTo>
                  <a:pt x="300" y="13"/>
                </a:lnTo>
                <a:lnTo>
                  <a:pt x="309" y="40"/>
                </a:lnTo>
                <a:lnTo>
                  <a:pt x="281" y="65"/>
                </a:lnTo>
                <a:lnTo>
                  <a:pt x="318" y="86"/>
                </a:lnTo>
                <a:lnTo>
                  <a:pt x="304" y="179"/>
                </a:lnTo>
                <a:lnTo>
                  <a:pt x="296" y="205"/>
                </a:lnTo>
                <a:lnTo>
                  <a:pt x="296" y="224"/>
                </a:lnTo>
                <a:lnTo>
                  <a:pt x="302" y="238"/>
                </a:lnTo>
                <a:lnTo>
                  <a:pt x="303" y="269"/>
                </a:lnTo>
                <a:lnTo>
                  <a:pt x="281" y="291"/>
                </a:lnTo>
                <a:lnTo>
                  <a:pt x="268" y="295"/>
                </a:lnTo>
                <a:lnTo>
                  <a:pt x="231" y="341"/>
                </a:lnTo>
                <a:lnTo>
                  <a:pt x="229" y="350"/>
                </a:lnTo>
                <a:lnTo>
                  <a:pt x="205" y="357"/>
                </a:lnTo>
                <a:lnTo>
                  <a:pt x="188" y="352"/>
                </a:lnTo>
                <a:lnTo>
                  <a:pt x="171" y="370"/>
                </a:lnTo>
                <a:lnTo>
                  <a:pt x="168" y="382"/>
                </a:lnTo>
                <a:lnTo>
                  <a:pt x="153" y="399"/>
                </a:lnTo>
                <a:lnTo>
                  <a:pt x="131" y="445"/>
                </a:lnTo>
                <a:lnTo>
                  <a:pt x="138" y="476"/>
                </a:lnTo>
                <a:lnTo>
                  <a:pt x="114" y="503"/>
                </a:lnTo>
                <a:lnTo>
                  <a:pt x="96" y="472"/>
                </a:lnTo>
                <a:lnTo>
                  <a:pt x="79" y="472"/>
                </a:lnTo>
                <a:lnTo>
                  <a:pt x="58" y="535"/>
                </a:lnTo>
                <a:lnTo>
                  <a:pt x="62" y="566"/>
                </a:lnTo>
                <a:lnTo>
                  <a:pt x="58" y="596"/>
                </a:lnTo>
                <a:lnTo>
                  <a:pt x="47" y="606"/>
                </a:lnTo>
                <a:lnTo>
                  <a:pt x="26" y="643"/>
                </a:lnTo>
                <a:lnTo>
                  <a:pt x="0" y="645"/>
                </a:lnTo>
                <a:lnTo>
                  <a:pt x="3" y="678"/>
                </a:lnTo>
                <a:lnTo>
                  <a:pt x="3" y="701"/>
                </a:lnTo>
                <a:lnTo>
                  <a:pt x="0" y="718"/>
                </a:lnTo>
                <a:lnTo>
                  <a:pt x="5" y="733"/>
                </a:lnTo>
                <a:lnTo>
                  <a:pt x="51" y="789"/>
                </a:lnTo>
                <a:lnTo>
                  <a:pt x="76" y="831"/>
                </a:lnTo>
                <a:lnTo>
                  <a:pt x="84" y="836"/>
                </a:lnTo>
                <a:lnTo>
                  <a:pt x="94" y="832"/>
                </a:lnTo>
                <a:lnTo>
                  <a:pt x="114" y="843"/>
                </a:lnTo>
                <a:lnTo>
                  <a:pt x="121" y="851"/>
                </a:lnTo>
                <a:lnTo>
                  <a:pt x="126" y="853"/>
                </a:lnTo>
                <a:lnTo>
                  <a:pt x="141" y="862"/>
                </a:lnTo>
                <a:lnTo>
                  <a:pt x="157" y="862"/>
                </a:lnTo>
                <a:lnTo>
                  <a:pt x="164" y="867"/>
                </a:lnTo>
                <a:lnTo>
                  <a:pt x="157" y="889"/>
                </a:lnTo>
                <a:lnTo>
                  <a:pt x="188" y="921"/>
                </a:lnTo>
                <a:lnTo>
                  <a:pt x="235" y="935"/>
                </a:lnTo>
                <a:lnTo>
                  <a:pt x="255" y="937"/>
                </a:lnTo>
                <a:lnTo>
                  <a:pt x="281" y="920"/>
                </a:lnTo>
                <a:lnTo>
                  <a:pt x="283" y="906"/>
                </a:lnTo>
                <a:lnTo>
                  <a:pt x="300" y="896"/>
                </a:lnTo>
                <a:lnTo>
                  <a:pt x="315" y="910"/>
                </a:lnTo>
                <a:lnTo>
                  <a:pt x="325" y="915"/>
                </a:lnTo>
                <a:lnTo>
                  <a:pt x="342" y="912"/>
                </a:lnTo>
                <a:lnTo>
                  <a:pt x="394" y="891"/>
                </a:lnTo>
                <a:lnTo>
                  <a:pt x="402" y="857"/>
                </a:lnTo>
                <a:lnTo>
                  <a:pt x="410" y="857"/>
                </a:lnTo>
                <a:lnTo>
                  <a:pt x="420" y="870"/>
                </a:lnTo>
                <a:lnTo>
                  <a:pt x="463" y="831"/>
                </a:lnTo>
                <a:lnTo>
                  <a:pt x="477" y="839"/>
                </a:lnTo>
                <a:lnTo>
                  <a:pt x="513" y="792"/>
                </a:lnTo>
                <a:lnTo>
                  <a:pt x="504" y="775"/>
                </a:lnTo>
                <a:lnTo>
                  <a:pt x="508" y="743"/>
                </a:lnTo>
                <a:lnTo>
                  <a:pt x="543" y="678"/>
                </a:lnTo>
                <a:lnTo>
                  <a:pt x="588" y="503"/>
                </a:lnTo>
                <a:lnTo>
                  <a:pt x="596" y="502"/>
                </a:lnTo>
                <a:lnTo>
                  <a:pt x="622" y="518"/>
                </a:lnTo>
                <a:lnTo>
                  <a:pt x="624" y="529"/>
                </a:lnTo>
                <a:lnTo>
                  <a:pt x="637" y="543"/>
                </a:lnTo>
                <a:lnTo>
                  <a:pt x="666" y="537"/>
                </a:lnTo>
                <a:lnTo>
                  <a:pt x="683" y="507"/>
                </a:lnTo>
                <a:lnTo>
                  <a:pt x="700" y="440"/>
                </a:lnTo>
                <a:lnTo>
                  <a:pt x="715" y="415"/>
                </a:lnTo>
                <a:lnTo>
                  <a:pt x="740" y="427"/>
                </a:lnTo>
                <a:lnTo>
                  <a:pt x="757" y="389"/>
                </a:lnTo>
                <a:lnTo>
                  <a:pt x="773" y="382"/>
                </a:lnTo>
                <a:lnTo>
                  <a:pt x="786" y="362"/>
                </a:lnTo>
                <a:lnTo>
                  <a:pt x="799" y="327"/>
                </a:lnTo>
                <a:lnTo>
                  <a:pt x="810" y="319"/>
                </a:lnTo>
                <a:lnTo>
                  <a:pt x="813" y="309"/>
                </a:lnTo>
                <a:lnTo>
                  <a:pt x="804" y="303"/>
                </a:lnTo>
                <a:lnTo>
                  <a:pt x="809" y="250"/>
                </a:lnTo>
                <a:lnTo>
                  <a:pt x="813" y="242"/>
                </a:lnTo>
                <a:lnTo>
                  <a:pt x="822" y="236"/>
                </a:lnTo>
                <a:lnTo>
                  <a:pt x="916" y="295"/>
                </a:lnTo>
                <a:lnTo>
                  <a:pt x="932" y="301"/>
                </a:lnTo>
                <a:lnTo>
                  <a:pt x="936" y="297"/>
                </a:lnTo>
                <a:lnTo>
                  <a:pt x="945" y="246"/>
                </a:lnTo>
                <a:lnTo>
                  <a:pt x="923" y="199"/>
                </a:lnTo>
                <a:lnTo>
                  <a:pt x="914" y="196"/>
                </a:lnTo>
                <a:lnTo>
                  <a:pt x="906" y="173"/>
                </a:lnTo>
                <a:lnTo>
                  <a:pt x="887" y="179"/>
                </a:lnTo>
                <a:lnTo>
                  <a:pt x="871" y="177"/>
                </a:lnTo>
                <a:lnTo>
                  <a:pt x="856" y="169"/>
                </a:lnTo>
                <a:lnTo>
                  <a:pt x="788" y="193"/>
                </a:lnTo>
                <a:lnTo>
                  <a:pt x="782" y="211"/>
                </a:lnTo>
                <a:lnTo>
                  <a:pt x="757" y="219"/>
                </a:lnTo>
                <a:lnTo>
                  <a:pt x="732" y="213"/>
                </a:lnTo>
                <a:lnTo>
                  <a:pt x="720" y="201"/>
                </a:lnTo>
                <a:lnTo>
                  <a:pt x="708" y="227"/>
                </a:lnTo>
                <a:lnTo>
                  <a:pt x="693" y="234"/>
                </a:lnTo>
                <a:lnTo>
                  <a:pt x="679" y="257"/>
                </a:lnTo>
                <a:lnTo>
                  <a:pt x="659" y="263"/>
                </a:lnTo>
                <a:lnTo>
                  <a:pt x="620" y="310"/>
                </a:lnTo>
                <a:lnTo>
                  <a:pt x="606" y="316"/>
                </a:lnTo>
                <a:lnTo>
                  <a:pt x="596" y="335"/>
                </a:lnTo>
                <a:lnTo>
                  <a:pt x="565" y="200"/>
                </a:lnTo>
                <a:lnTo>
                  <a:pt x="361" y="238"/>
                </a:lnTo>
                <a:lnTo>
                  <a:pt x="318" y="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65680" y="3352680"/>
            <a:ext cx="654120" cy="420840"/>
          </a:xfrm>
          <a:custGeom>
            <a:avLst/>
            <a:gdLst/>
            <a:ahLst/>
            <a:rect l="l" t="t" r="r" b="b"/>
            <a:pathLst>
              <a:path w="1235" h="796">
                <a:moveTo>
                  <a:pt x="308" y="758"/>
                </a:moveTo>
                <a:lnTo>
                  <a:pt x="866" y="650"/>
                </a:lnTo>
                <a:lnTo>
                  <a:pt x="1041" y="617"/>
                </a:lnTo>
                <a:lnTo>
                  <a:pt x="1042" y="614"/>
                </a:lnTo>
                <a:lnTo>
                  <a:pt x="1049" y="611"/>
                </a:lnTo>
                <a:lnTo>
                  <a:pt x="1052" y="594"/>
                </a:lnTo>
                <a:lnTo>
                  <a:pt x="1073" y="577"/>
                </a:lnTo>
                <a:lnTo>
                  <a:pt x="1094" y="573"/>
                </a:lnTo>
                <a:lnTo>
                  <a:pt x="1111" y="577"/>
                </a:lnTo>
                <a:lnTo>
                  <a:pt x="1162" y="541"/>
                </a:lnTo>
                <a:lnTo>
                  <a:pt x="1168" y="514"/>
                </a:lnTo>
                <a:lnTo>
                  <a:pt x="1201" y="482"/>
                </a:lnTo>
                <a:lnTo>
                  <a:pt x="1232" y="463"/>
                </a:lnTo>
                <a:lnTo>
                  <a:pt x="1235" y="455"/>
                </a:lnTo>
                <a:lnTo>
                  <a:pt x="1206" y="433"/>
                </a:lnTo>
                <a:lnTo>
                  <a:pt x="1195" y="421"/>
                </a:lnTo>
                <a:lnTo>
                  <a:pt x="1181" y="416"/>
                </a:lnTo>
                <a:lnTo>
                  <a:pt x="1172" y="407"/>
                </a:lnTo>
                <a:lnTo>
                  <a:pt x="1150" y="401"/>
                </a:lnTo>
                <a:lnTo>
                  <a:pt x="1141" y="369"/>
                </a:lnTo>
                <a:lnTo>
                  <a:pt x="1116" y="364"/>
                </a:lnTo>
                <a:lnTo>
                  <a:pt x="1112" y="362"/>
                </a:lnTo>
                <a:lnTo>
                  <a:pt x="1108" y="314"/>
                </a:lnTo>
                <a:lnTo>
                  <a:pt x="1122" y="306"/>
                </a:lnTo>
                <a:lnTo>
                  <a:pt x="1119" y="278"/>
                </a:lnTo>
                <a:lnTo>
                  <a:pt x="1100" y="263"/>
                </a:lnTo>
                <a:lnTo>
                  <a:pt x="1100" y="255"/>
                </a:lnTo>
                <a:lnTo>
                  <a:pt x="1106" y="246"/>
                </a:lnTo>
                <a:lnTo>
                  <a:pt x="1134" y="223"/>
                </a:lnTo>
                <a:lnTo>
                  <a:pt x="1141" y="183"/>
                </a:lnTo>
                <a:lnTo>
                  <a:pt x="1141" y="171"/>
                </a:lnTo>
                <a:lnTo>
                  <a:pt x="1153" y="148"/>
                </a:lnTo>
                <a:lnTo>
                  <a:pt x="1163" y="143"/>
                </a:lnTo>
                <a:lnTo>
                  <a:pt x="1147" y="130"/>
                </a:lnTo>
                <a:lnTo>
                  <a:pt x="1096" y="127"/>
                </a:lnTo>
                <a:lnTo>
                  <a:pt x="1094" y="117"/>
                </a:lnTo>
                <a:lnTo>
                  <a:pt x="1086" y="110"/>
                </a:lnTo>
                <a:lnTo>
                  <a:pt x="1081" y="91"/>
                </a:lnTo>
                <a:lnTo>
                  <a:pt x="1055" y="41"/>
                </a:lnTo>
                <a:lnTo>
                  <a:pt x="1041" y="38"/>
                </a:lnTo>
                <a:lnTo>
                  <a:pt x="1033" y="32"/>
                </a:lnTo>
                <a:lnTo>
                  <a:pt x="1027" y="32"/>
                </a:lnTo>
                <a:lnTo>
                  <a:pt x="1020" y="26"/>
                </a:lnTo>
                <a:lnTo>
                  <a:pt x="1014" y="10"/>
                </a:lnTo>
                <a:lnTo>
                  <a:pt x="999" y="0"/>
                </a:lnTo>
                <a:lnTo>
                  <a:pt x="147" y="170"/>
                </a:lnTo>
                <a:lnTo>
                  <a:pt x="132" y="101"/>
                </a:lnTo>
                <a:lnTo>
                  <a:pt x="85" y="146"/>
                </a:lnTo>
                <a:lnTo>
                  <a:pt x="78" y="149"/>
                </a:lnTo>
                <a:lnTo>
                  <a:pt x="71" y="142"/>
                </a:lnTo>
                <a:lnTo>
                  <a:pt x="65" y="142"/>
                </a:lnTo>
                <a:lnTo>
                  <a:pt x="54" y="168"/>
                </a:lnTo>
                <a:lnTo>
                  <a:pt x="15" y="202"/>
                </a:lnTo>
                <a:lnTo>
                  <a:pt x="0" y="211"/>
                </a:lnTo>
                <a:lnTo>
                  <a:pt x="60" y="562"/>
                </a:lnTo>
                <a:lnTo>
                  <a:pt x="103" y="796"/>
                </a:lnTo>
                <a:lnTo>
                  <a:pt x="308" y="758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29480" y="3679920"/>
            <a:ext cx="512640" cy="244440"/>
          </a:xfrm>
          <a:custGeom>
            <a:avLst/>
            <a:gdLst/>
            <a:ahLst/>
            <a:rect l="l" t="t" r="r" b="b"/>
            <a:pathLst>
              <a:path w="969" h="464">
                <a:moveTo>
                  <a:pt x="733" y="0"/>
                </a:moveTo>
                <a:lnTo>
                  <a:pt x="558" y="33"/>
                </a:lnTo>
                <a:lnTo>
                  <a:pt x="0" y="141"/>
                </a:lnTo>
                <a:lnTo>
                  <a:pt x="31" y="277"/>
                </a:lnTo>
                <a:lnTo>
                  <a:pt x="41" y="258"/>
                </a:lnTo>
                <a:lnTo>
                  <a:pt x="55" y="252"/>
                </a:lnTo>
                <a:lnTo>
                  <a:pt x="94" y="204"/>
                </a:lnTo>
                <a:lnTo>
                  <a:pt x="113" y="200"/>
                </a:lnTo>
                <a:lnTo>
                  <a:pt x="128" y="176"/>
                </a:lnTo>
                <a:lnTo>
                  <a:pt x="143" y="168"/>
                </a:lnTo>
                <a:lnTo>
                  <a:pt x="154" y="143"/>
                </a:lnTo>
                <a:lnTo>
                  <a:pt x="167" y="155"/>
                </a:lnTo>
                <a:lnTo>
                  <a:pt x="192" y="161"/>
                </a:lnTo>
                <a:lnTo>
                  <a:pt x="217" y="152"/>
                </a:lnTo>
                <a:lnTo>
                  <a:pt x="223" y="135"/>
                </a:lnTo>
                <a:lnTo>
                  <a:pt x="291" y="111"/>
                </a:lnTo>
                <a:lnTo>
                  <a:pt x="306" y="119"/>
                </a:lnTo>
                <a:lnTo>
                  <a:pt x="321" y="121"/>
                </a:lnTo>
                <a:lnTo>
                  <a:pt x="341" y="115"/>
                </a:lnTo>
                <a:lnTo>
                  <a:pt x="349" y="137"/>
                </a:lnTo>
                <a:lnTo>
                  <a:pt x="357" y="141"/>
                </a:lnTo>
                <a:lnTo>
                  <a:pt x="380" y="187"/>
                </a:lnTo>
                <a:lnTo>
                  <a:pt x="396" y="184"/>
                </a:lnTo>
                <a:lnTo>
                  <a:pt x="415" y="192"/>
                </a:lnTo>
                <a:lnTo>
                  <a:pt x="435" y="198"/>
                </a:lnTo>
                <a:lnTo>
                  <a:pt x="424" y="221"/>
                </a:lnTo>
                <a:lnTo>
                  <a:pt x="444" y="245"/>
                </a:lnTo>
                <a:lnTo>
                  <a:pt x="483" y="245"/>
                </a:lnTo>
                <a:lnTo>
                  <a:pt x="503" y="263"/>
                </a:lnTo>
                <a:lnTo>
                  <a:pt x="526" y="273"/>
                </a:lnTo>
                <a:lnTo>
                  <a:pt x="545" y="297"/>
                </a:lnTo>
                <a:lnTo>
                  <a:pt x="543" y="307"/>
                </a:lnTo>
                <a:lnTo>
                  <a:pt x="518" y="355"/>
                </a:lnTo>
                <a:lnTo>
                  <a:pt x="501" y="398"/>
                </a:lnTo>
                <a:lnTo>
                  <a:pt x="506" y="425"/>
                </a:lnTo>
                <a:lnTo>
                  <a:pt x="535" y="426"/>
                </a:lnTo>
                <a:lnTo>
                  <a:pt x="563" y="410"/>
                </a:lnTo>
                <a:lnTo>
                  <a:pt x="583" y="433"/>
                </a:lnTo>
                <a:lnTo>
                  <a:pt x="598" y="441"/>
                </a:lnTo>
                <a:lnTo>
                  <a:pt x="596" y="433"/>
                </a:lnTo>
                <a:lnTo>
                  <a:pt x="624" y="429"/>
                </a:lnTo>
                <a:lnTo>
                  <a:pt x="657" y="431"/>
                </a:lnTo>
                <a:lnTo>
                  <a:pt x="699" y="444"/>
                </a:lnTo>
                <a:lnTo>
                  <a:pt x="720" y="455"/>
                </a:lnTo>
                <a:lnTo>
                  <a:pt x="728" y="454"/>
                </a:lnTo>
                <a:lnTo>
                  <a:pt x="728" y="444"/>
                </a:lnTo>
                <a:lnTo>
                  <a:pt x="720" y="433"/>
                </a:lnTo>
                <a:lnTo>
                  <a:pt x="701" y="404"/>
                </a:lnTo>
                <a:lnTo>
                  <a:pt x="683" y="400"/>
                </a:lnTo>
                <a:lnTo>
                  <a:pt x="680" y="394"/>
                </a:lnTo>
                <a:lnTo>
                  <a:pt x="683" y="384"/>
                </a:lnTo>
                <a:lnTo>
                  <a:pt x="691" y="384"/>
                </a:lnTo>
                <a:lnTo>
                  <a:pt x="696" y="375"/>
                </a:lnTo>
                <a:lnTo>
                  <a:pt x="675" y="365"/>
                </a:lnTo>
                <a:lnTo>
                  <a:pt x="659" y="339"/>
                </a:lnTo>
                <a:lnTo>
                  <a:pt x="642" y="292"/>
                </a:lnTo>
                <a:lnTo>
                  <a:pt x="638" y="277"/>
                </a:lnTo>
                <a:lnTo>
                  <a:pt x="634" y="249"/>
                </a:lnTo>
                <a:lnTo>
                  <a:pt x="642" y="202"/>
                </a:lnTo>
                <a:lnTo>
                  <a:pt x="639" y="189"/>
                </a:lnTo>
                <a:lnTo>
                  <a:pt x="632" y="180"/>
                </a:lnTo>
                <a:lnTo>
                  <a:pt x="632" y="167"/>
                </a:lnTo>
                <a:lnTo>
                  <a:pt x="633" y="157"/>
                </a:lnTo>
                <a:lnTo>
                  <a:pt x="640" y="146"/>
                </a:lnTo>
                <a:lnTo>
                  <a:pt x="645" y="129"/>
                </a:lnTo>
                <a:lnTo>
                  <a:pt x="683" y="102"/>
                </a:lnTo>
                <a:lnTo>
                  <a:pt x="691" y="95"/>
                </a:lnTo>
                <a:lnTo>
                  <a:pt x="699" y="58"/>
                </a:lnTo>
                <a:lnTo>
                  <a:pt x="720" y="60"/>
                </a:lnTo>
                <a:lnTo>
                  <a:pt x="732" y="74"/>
                </a:lnTo>
                <a:lnTo>
                  <a:pt x="712" y="104"/>
                </a:lnTo>
                <a:lnTo>
                  <a:pt x="701" y="123"/>
                </a:lnTo>
                <a:lnTo>
                  <a:pt x="685" y="141"/>
                </a:lnTo>
                <a:lnTo>
                  <a:pt x="678" y="162"/>
                </a:lnTo>
                <a:lnTo>
                  <a:pt x="687" y="187"/>
                </a:lnTo>
                <a:lnTo>
                  <a:pt x="705" y="192"/>
                </a:lnTo>
                <a:lnTo>
                  <a:pt x="716" y="243"/>
                </a:lnTo>
                <a:lnTo>
                  <a:pt x="714" y="249"/>
                </a:lnTo>
                <a:lnTo>
                  <a:pt x="685" y="266"/>
                </a:lnTo>
                <a:lnTo>
                  <a:pt x="691" y="278"/>
                </a:lnTo>
                <a:lnTo>
                  <a:pt x="714" y="287"/>
                </a:lnTo>
                <a:lnTo>
                  <a:pt x="720" y="297"/>
                </a:lnTo>
                <a:lnTo>
                  <a:pt x="714" y="318"/>
                </a:lnTo>
                <a:lnTo>
                  <a:pt x="720" y="331"/>
                </a:lnTo>
                <a:lnTo>
                  <a:pt x="718" y="345"/>
                </a:lnTo>
                <a:lnTo>
                  <a:pt x="728" y="374"/>
                </a:lnTo>
                <a:lnTo>
                  <a:pt x="759" y="397"/>
                </a:lnTo>
                <a:lnTo>
                  <a:pt x="774" y="397"/>
                </a:lnTo>
                <a:lnTo>
                  <a:pt x="784" y="384"/>
                </a:lnTo>
                <a:lnTo>
                  <a:pt x="800" y="385"/>
                </a:lnTo>
                <a:lnTo>
                  <a:pt x="809" y="392"/>
                </a:lnTo>
                <a:lnTo>
                  <a:pt x="805" y="406"/>
                </a:lnTo>
                <a:lnTo>
                  <a:pt x="821" y="433"/>
                </a:lnTo>
                <a:lnTo>
                  <a:pt x="822" y="445"/>
                </a:lnTo>
                <a:lnTo>
                  <a:pt x="832" y="463"/>
                </a:lnTo>
                <a:lnTo>
                  <a:pt x="856" y="463"/>
                </a:lnTo>
                <a:lnTo>
                  <a:pt x="859" y="464"/>
                </a:lnTo>
                <a:lnTo>
                  <a:pt x="876" y="444"/>
                </a:lnTo>
                <a:lnTo>
                  <a:pt x="944" y="422"/>
                </a:lnTo>
                <a:lnTo>
                  <a:pt x="944" y="412"/>
                </a:lnTo>
                <a:lnTo>
                  <a:pt x="951" y="395"/>
                </a:lnTo>
                <a:lnTo>
                  <a:pt x="969" y="305"/>
                </a:lnTo>
                <a:lnTo>
                  <a:pt x="966" y="298"/>
                </a:lnTo>
                <a:lnTo>
                  <a:pt x="832" y="326"/>
                </a:lnTo>
                <a:lnTo>
                  <a:pt x="733" y="0"/>
                </a:lnTo>
                <a:lnTo>
                  <a:pt x="733" y="0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16480" y="3656160"/>
            <a:ext cx="123840" cy="195120"/>
          </a:xfrm>
          <a:custGeom>
            <a:avLst/>
            <a:gdLst/>
            <a:ahLst/>
            <a:rect l="l" t="t" r="r" b="b"/>
            <a:pathLst>
              <a:path w="233" h="370">
                <a:moveTo>
                  <a:pt x="233" y="342"/>
                </a:moveTo>
                <a:lnTo>
                  <a:pt x="228" y="317"/>
                </a:lnTo>
                <a:lnTo>
                  <a:pt x="213" y="279"/>
                </a:lnTo>
                <a:lnTo>
                  <a:pt x="187" y="254"/>
                </a:lnTo>
                <a:lnTo>
                  <a:pt x="152" y="229"/>
                </a:lnTo>
                <a:lnTo>
                  <a:pt x="137" y="213"/>
                </a:lnTo>
                <a:lnTo>
                  <a:pt x="129" y="196"/>
                </a:lnTo>
                <a:lnTo>
                  <a:pt x="101" y="147"/>
                </a:lnTo>
                <a:lnTo>
                  <a:pt x="91" y="127"/>
                </a:lnTo>
                <a:lnTo>
                  <a:pt x="66" y="98"/>
                </a:lnTo>
                <a:lnTo>
                  <a:pt x="57" y="82"/>
                </a:lnTo>
                <a:lnTo>
                  <a:pt x="54" y="65"/>
                </a:lnTo>
                <a:lnTo>
                  <a:pt x="56" y="61"/>
                </a:lnTo>
                <a:lnTo>
                  <a:pt x="56" y="51"/>
                </a:lnTo>
                <a:lnTo>
                  <a:pt x="70" y="4"/>
                </a:lnTo>
                <a:lnTo>
                  <a:pt x="54" y="0"/>
                </a:lnTo>
                <a:lnTo>
                  <a:pt x="32" y="4"/>
                </a:lnTo>
                <a:lnTo>
                  <a:pt x="11" y="21"/>
                </a:lnTo>
                <a:lnTo>
                  <a:pt x="9" y="38"/>
                </a:lnTo>
                <a:lnTo>
                  <a:pt x="2" y="41"/>
                </a:lnTo>
                <a:lnTo>
                  <a:pt x="0" y="44"/>
                </a:lnTo>
                <a:lnTo>
                  <a:pt x="99" y="370"/>
                </a:lnTo>
                <a:lnTo>
                  <a:pt x="233" y="342"/>
                </a:lnTo>
                <a:lnTo>
                  <a:pt x="233" y="342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7320" y="2895480"/>
            <a:ext cx="841320" cy="646200"/>
          </a:xfrm>
          <a:custGeom>
            <a:avLst/>
            <a:gdLst/>
            <a:ahLst/>
            <a:rect l="l" t="t" r="r" b="b"/>
            <a:pathLst>
              <a:path w="1590" h="1219">
                <a:moveTo>
                  <a:pt x="1031" y="1006"/>
                </a:moveTo>
                <a:lnTo>
                  <a:pt x="1205" y="1066"/>
                </a:lnTo>
                <a:lnTo>
                  <a:pt x="1217" y="1096"/>
                </a:lnTo>
                <a:lnTo>
                  <a:pt x="1204" y="1106"/>
                </a:lnTo>
                <a:lnTo>
                  <a:pt x="1195" y="1119"/>
                </a:lnTo>
                <a:lnTo>
                  <a:pt x="1190" y="1137"/>
                </a:lnTo>
                <a:lnTo>
                  <a:pt x="1192" y="1163"/>
                </a:lnTo>
                <a:lnTo>
                  <a:pt x="1183" y="1164"/>
                </a:lnTo>
                <a:lnTo>
                  <a:pt x="1173" y="1172"/>
                </a:lnTo>
                <a:lnTo>
                  <a:pt x="1158" y="1207"/>
                </a:lnTo>
                <a:lnTo>
                  <a:pt x="1158" y="1217"/>
                </a:lnTo>
                <a:lnTo>
                  <a:pt x="1163" y="1219"/>
                </a:lnTo>
                <a:lnTo>
                  <a:pt x="1171" y="1214"/>
                </a:lnTo>
                <a:lnTo>
                  <a:pt x="1176" y="1207"/>
                </a:lnTo>
                <a:lnTo>
                  <a:pt x="1202" y="1181"/>
                </a:lnTo>
                <a:lnTo>
                  <a:pt x="1219" y="1185"/>
                </a:lnTo>
                <a:lnTo>
                  <a:pt x="1258" y="1183"/>
                </a:lnTo>
                <a:lnTo>
                  <a:pt x="1270" y="1172"/>
                </a:lnTo>
                <a:lnTo>
                  <a:pt x="1304" y="1163"/>
                </a:lnTo>
                <a:lnTo>
                  <a:pt x="1333" y="1151"/>
                </a:lnTo>
                <a:lnTo>
                  <a:pt x="1354" y="1139"/>
                </a:lnTo>
                <a:lnTo>
                  <a:pt x="1378" y="1118"/>
                </a:lnTo>
                <a:lnTo>
                  <a:pt x="1474" y="1053"/>
                </a:lnTo>
                <a:lnTo>
                  <a:pt x="1498" y="1036"/>
                </a:lnTo>
                <a:lnTo>
                  <a:pt x="1519" y="1018"/>
                </a:lnTo>
                <a:lnTo>
                  <a:pt x="1533" y="1012"/>
                </a:lnTo>
                <a:lnTo>
                  <a:pt x="1547" y="1000"/>
                </a:lnTo>
                <a:lnTo>
                  <a:pt x="1567" y="990"/>
                </a:lnTo>
                <a:lnTo>
                  <a:pt x="1580" y="979"/>
                </a:lnTo>
                <a:lnTo>
                  <a:pt x="1588" y="955"/>
                </a:lnTo>
                <a:lnTo>
                  <a:pt x="1590" y="949"/>
                </a:lnTo>
                <a:lnTo>
                  <a:pt x="1588" y="945"/>
                </a:lnTo>
                <a:lnTo>
                  <a:pt x="1567" y="962"/>
                </a:lnTo>
                <a:lnTo>
                  <a:pt x="1544" y="971"/>
                </a:lnTo>
                <a:lnTo>
                  <a:pt x="1520" y="980"/>
                </a:lnTo>
                <a:lnTo>
                  <a:pt x="1506" y="996"/>
                </a:lnTo>
                <a:lnTo>
                  <a:pt x="1498" y="1009"/>
                </a:lnTo>
                <a:lnTo>
                  <a:pt x="1474" y="1023"/>
                </a:lnTo>
                <a:lnTo>
                  <a:pt x="1470" y="1013"/>
                </a:lnTo>
                <a:lnTo>
                  <a:pt x="1479" y="998"/>
                </a:lnTo>
                <a:lnTo>
                  <a:pt x="1495" y="979"/>
                </a:lnTo>
                <a:lnTo>
                  <a:pt x="1514" y="948"/>
                </a:lnTo>
                <a:lnTo>
                  <a:pt x="1506" y="943"/>
                </a:lnTo>
                <a:lnTo>
                  <a:pt x="1491" y="958"/>
                </a:lnTo>
                <a:lnTo>
                  <a:pt x="1480" y="974"/>
                </a:lnTo>
                <a:lnTo>
                  <a:pt x="1466" y="990"/>
                </a:lnTo>
                <a:lnTo>
                  <a:pt x="1412" y="1019"/>
                </a:lnTo>
                <a:lnTo>
                  <a:pt x="1344" y="1053"/>
                </a:lnTo>
                <a:lnTo>
                  <a:pt x="1287" y="1081"/>
                </a:lnTo>
                <a:lnTo>
                  <a:pt x="1266" y="1093"/>
                </a:lnTo>
                <a:lnTo>
                  <a:pt x="1245" y="1122"/>
                </a:lnTo>
                <a:lnTo>
                  <a:pt x="1232" y="1111"/>
                </a:lnTo>
                <a:lnTo>
                  <a:pt x="1229" y="1091"/>
                </a:lnTo>
                <a:lnTo>
                  <a:pt x="1239" y="1066"/>
                </a:lnTo>
                <a:lnTo>
                  <a:pt x="1258" y="1053"/>
                </a:lnTo>
                <a:lnTo>
                  <a:pt x="1235" y="1030"/>
                </a:lnTo>
                <a:lnTo>
                  <a:pt x="1265" y="998"/>
                </a:lnTo>
                <a:lnTo>
                  <a:pt x="1270" y="985"/>
                </a:lnTo>
                <a:lnTo>
                  <a:pt x="1255" y="968"/>
                </a:lnTo>
                <a:lnTo>
                  <a:pt x="1229" y="772"/>
                </a:lnTo>
                <a:lnTo>
                  <a:pt x="1221" y="763"/>
                </a:lnTo>
                <a:lnTo>
                  <a:pt x="1223" y="581"/>
                </a:lnTo>
                <a:lnTo>
                  <a:pt x="1202" y="538"/>
                </a:lnTo>
                <a:lnTo>
                  <a:pt x="1188" y="495"/>
                </a:lnTo>
                <a:lnTo>
                  <a:pt x="1188" y="457"/>
                </a:lnTo>
                <a:lnTo>
                  <a:pt x="1176" y="390"/>
                </a:lnTo>
                <a:lnTo>
                  <a:pt x="1156" y="359"/>
                </a:lnTo>
                <a:lnTo>
                  <a:pt x="1144" y="362"/>
                </a:lnTo>
                <a:lnTo>
                  <a:pt x="1145" y="369"/>
                </a:lnTo>
                <a:lnTo>
                  <a:pt x="1141" y="371"/>
                </a:lnTo>
                <a:lnTo>
                  <a:pt x="1133" y="359"/>
                </a:lnTo>
                <a:lnTo>
                  <a:pt x="1138" y="324"/>
                </a:lnTo>
                <a:lnTo>
                  <a:pt x="1104" y="249"/>
                </a:lnTo>
                <a:lnTo>
                  <a:pt x="1101" y="220"/>
                </a:lnTo>
                <a:lnTo>
                  <a:pt x="1117" y="192"/>
                </a:lnTo>
                <a:lnTo>
                  <a:pt x="1104" y="138"/>
                </a:lnTo>
                <a:lnTo>
                  <a:pt x="1074" y="61"/>
                </a:lnTo>
                <a:lnTo>
                  <a:pt x="1073" y="51"/>
                </a:lnTo>
                <a:lnTo>
                  <a:pt x="1064" y="40"/>
                </a:lnTo>
                <a:lnTo>
                  <a:pt x="1068" y="27"/>
                </a:lnTo>
                <a:lnTo>
                  <a:pt x="1057" y="0"/>
                </a:lnTo>
                <a:lnTo>
                  <a:pt x="805" y="65"/>
                </a:lnTo>
                <a:lnTo>
                  <a:pt x="801" y="57"/>
                </a:lnTo>
                <a:lnTo>
                  <a:pt x="792" y="60"/>
                </a:lnTo>
                <a:lnTo>
                  <a:pt x="770" y="70"/>
                </a:lnTo>
                <a:lnTo>
                  <a:pt x="710" y="133"/>
                </a:lnTo>
                <a:lnTo>
                  <a:pt x="650" y="216"/>
                </a:lnTo>
                <a:lnTo>
                  <a:pt x="641" y="229"/>
                </a:lnTo>
                <a:lnTo>
                  <a:pt x="646" y="244"/>
                </a:lnTo>
                <a:lnTo>
                  <a:pt x="637" y="274"/>
                </a:lnTo>
                <a:lnTo>
                  <a:pt x="624" y="289"/>
                </a:lnTo>
                <a:lnTo>
                  <a:pt x="561" y="351"/>
                </a:lnTo>
                <a:lnTo>
                  <a:pt x="555" y="365"/>
                </a:lnTo>
                <a:lnTo>
                  <a:pt x="563" y="388"/>
                </a:lnTo>
                <a:lnTo>
                  <a:pt x="569" y="393"/>
                </a:lnTo>
                <a:lnTo>
                  <a:pt x="584" y="390"/>
                </a:lnTo>
                <a:lnTo>
                  <a:pt x="599" y="398"/>
                </a:lnTo>
                <a:lnTo>
                  <a:pt x="600" y="412"/>
                </a:lnTo>
                <a:lnTo>
                  <a:pt x="590" y="425"/>
                </a:lnTo>
                <a:lnTo>
                  <a:pt x="595" y="445"/>
                </a:lnTo>
                <a:lnTo>
                  <a:pt x="610" y="471"/>
                </a:lnTo>
                <a:lnTo>
                  <a:pt x="605" y="507"/>
                </a:lnTo>
                <a:lnTo>
                  <a:pt x="567" y="524"/>
                </a:lnTo>
                <a:lnTo>
                  <a:pt x="508" y="586"/>
                </a:lnTo>
                <a:lnTo>
                  <a:pt x="463" y="601"/>
                </a:lnTo>
                <a:lnTo>
                  <a:pt x="365" y="630"/>
                </a:lnTo>
                <a:lnTo>
                  <a:pt x="329" y="617"/>
                </a:lnTo>
                <a:lnTo>
                  <a:pt x="301" y="613"/>
                </a:lnTo>
                <a:lnTo>
                  <a:pt x="247" y="617"/>
                </a:lnTo>
                <a:lnTo>
                  <a:pt x="193" y="628"/>
                </a:lnTo>
                <a:lnTo>
                  <a:pt x="133" y="652"/>
                </a:lnTo>
                <a:lnTo>
                  <a:pt x="108" y="669"/>
                </a:lnTo>
                <a:lnTo>
                  <a:pt x="98" y="701"/>
                </a:lnTo>
                <a:lnTo>
                  <a:pt x="98" y="722"/>
                </a:lnTo>
                <a:lnTo>
                  <a:pt x="143" y="774"/>
                </a:lnTo>
                <a:lnTo>
                  <a:pt x="147" y="793"/>
                </a:lnTo>
                <a:lnTo>
                  <a:pt x="140" y="811"/>
                </a:lnTo>
                <a:lnTo>
                  <a:pt x="127" y="821"/>
                </a:lnTo>
                <a:lnTo>
                  <a:pt x="112" y="860"/>
                </a:lnTo>
                <a:lnTo>
                  <a:pt x="30" y="941"/>
                </a:lnTo>
                <a:lnTo>
                  <a:pt x="0" y="964"/>
                </a:lnTo>
                <a:lnTo>
                  <a:pt x="15" y="1033"/>
                </a:lnTo>
                <a:lnTo>
                  <a:pt x="866" y="863"/>
                </a:lnTo>
                <a:lnTo>
                  <a:pt x="881" y="873"/>
                </a:lnTo>
                <a:lnTo>
                  <a:pt x="887" y="889"/>
                </a:lnTo>
                <a:lnTo>
                  <a:pt x="895" y="895"/>
                </a:lnTo>
                <a:lnTo>
                  <a:pt x="901" y="895"/>
                </a:lnTo>
                <a:lnTo>
                  <a:pt x="908" y="901"/>
                </a:lnTo>
                <a:lnTo>
                  <a:pt x="923" y="904"/>
                </a:lnTo>
                <a:lnTo>
                  <a:pt x="948" y="954"/>
                </a:lnTo>
                <a:lnTo>
                  <a:pt x="953" y="973"/>
                </a:lnTo>
                <a:lnTo>
                  <a:pt x="962" y="980"/>
                </a:lnTo>
                <a:lnTo>
                  <a:pt x="964" y="990"/>
                </a:lnTo>
                <a:lnTo>
                  <a:pt x="1015" y="993"/>
                </a:lnTo>
                <a:lnTo>
                  <a:pt x="1031" y="1006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6720" y="3429000"/>
            <a:ext cx="154080" cy="341280"/>
          </a:xfrm>
          <a:custGeom>
            <a:avLst/>
            <a:gdLst/>
            <a:ahLst/>
            <a:rect l="l" t="t" r="r" b="b"/>
            <a:pathLst>
              <a:path w="291" h="646">
                <a:moveTo>
                  <a:pt x="13" y="434"/>
                </a:moveTo>
                <a:lnTo>
                  <a:pt x="0" y="481"/>
                </a:lnTo>
                <a:lnTo>
                  <a:pt x="0" y="491"/>
                </a:lnTo>
                <a:lnTo>
                  <a:pt x="9" y="488"/>
                </a:lnTo>
                <a:lnTo>
                  <a:pt x="22" y="512"/>
                </a:lnTo>
                <a:lnTo>
                  <a:pt x="39" y="529"/>
                </a:lnTo>
                <a:lnTo>
                  <a:pt x="53" y="548"/>
                </a:lnTo>
                <a:lnTo>
                  <a:pt x="101" y="571"/>
                </a:lnTo>
                <a:lnTo>
                  <a:pt x="114" y="577"/>
                </a:lnTo>
                <a:lnTo>
                  <a:pt x="152" y="582"/>
                </a:lnTo>
                <a:lnTo>
                  <a:pt x="162" y="585"/>
                </a:lnTo>
                <a:lnTo>
                  <a:pt x="162" y="617"/>
                </a:lnTo>
                <a:lnTo>
                  <a:pt x="162" y="636"/>
                </a:lnTo>
                <a:lnTo>
                  <a:pt x="173" y="646"/>
                </a:lnTo>
                <a:lnTo>
                  <a:pt x="186" y="632"/>
                </a:lnTo>
                <a:lnTo>
                  <a:pt x="200" y="601"/>
                </a:lnTo>
                <a:lnTo>
                  <a:pt x="202" y="573"/>
                </a:lnTo>
                <a:lnTo>
                  <a:pt x="224" y="534"/>
                </a:lnTo>
                <a:lnTo>
                  <a:pt x="236" y="506"/>
                </a:lnTo>
                <a:lnTo>
                  <a:pt x="267" y="463"/>
                </a:lnTo>
                <a:lnTo>
                  <a:pt x="279" y="430"/>
                </a:lnTo>
                <a:lnTo>
                  <a:pt x="291" y="400"/>
                </a:lnTo>
                <a:lnTo>
                  <a:pt x="289" y="381"/>
                </a:lnTo>
                <a:lnTo>
                  <a:pt x="284" y="292"/>
                </a:lnTo>
                <a:lnTo>
                  <a:pt x="276" y="223"/>
                </a:lnTo>
                <a:lnTo>
                  <a:pt x="261" y="202"/>
                </a:lnTo>
                <a:lnTo>
                  <a:pt x="232" y="210"/>
                </a:lnTo>
                <a:lnTo>
                  <a:pt x="221" y="217"/>
                </a:lnTo>
                <a:lnTo>
                  <a:pt x="212" y="214"/>
                </a:lnTo>
                <a:lnTo>
                  <a:pt x="207" y="208"/>
                </a:lnTo>
                <a:lnTo>
                  <a:pt x="200" y="213"/>
                </a:lnTo>
                <a:lnTo>
                  <a:pt x="195" y="211"/>
                </a:lnTo>
                <a:lnTo>
                  <a:pt x="195" y="201"/>
                </a:lnTo>
                <a:lnTo>
                  <a:pt x="209" y="166"/>
                </a:lnTo>
                <a:lnTo>
                  <a:pt x="219" y="158"/>
                </a:lnTo>
                <a:lnTo>
                  <a:pt x="228" y="157"/>
                </a:lnTo>
                <a:lnTo>
                  <a:pt x="226" y="131"/>
                </a:lnTo>
                <a:lnTo>
                  <a:pt x="232" y="113"/>
                </a:lnTo>
                <a:lnTo>
                  <a:pt x="240" y="100"/>
                </a:lnTo>
                <a:lnTo>
                  <a:pt x="253" y="90"/>
                </a:lnTo>
                <a:lnTo>
                  <a:pt x="242" y="60"/>
                </a:lnTo>
                <a:lnTo>
                  <a:pt x="67" y="0"/>
                </a:lnTo>
                <a:lnTo>
                  <a:pt x="57" y="5"/>
                </a:lnTo>
                <a:lnTo>
                  <a:pt x="45" y="28"/>
                </a:lnTo>
                <a:lnTo>
                  <a:pt x="45" y="40"/>
                </a:lnTo>
                <a:lnTo>
                  <a:pt x="38" y="80"/>
                </a:lnTo>
                <a:lnTo>
                  <a:pt x="10" y="103"/>
                </a:lnTo>
                <a:lnTo>
                  <a:pt x="4" y="112"/>
                </a:lnTo>
                <a:lnTo>
                  <a:pt x="4" y="120"/>
                </a:lnTo>
                <a:lnTo>
                  <a:pt x="23" y="135"/>
                </a:lnTo>
                <a:lnTo>
                  <a:pt x="26" y="164"/>
                </a:lnTo>
                <a:lnTo>
                  <a:pt x="12" y="171"/>
                </a:lnTo>
                <a:lnTo>
                  <a:pt x="16" y="219"/>
                </a:lnTo>
                <a:lnTo>
                  <a:pt x="20" y="221"/>
                </a:lnTo>
                <a:lnTo>
                  <a:pt x="45" y="226"/>
                </a:lnTo>
                <a:lnTo>
                  <a:pt x="54" y="258"/>
                </a:lnTo>
                <a:lnTo>
                  <a:pt x="76" y="264"/>
                </a:lnTo>
                <a:lnTo>
                  <a:pt x="85" y="273"/>
                </a:lnTo>
                <a:lnTo>
                  <a:pt x="99" y="278"/>
                </a:lnTo>
                <a:lnTo>
                  <a:pt x="110" y="290"/>
                </a:lnTo>
                <a:lnTo>
                  <a:pt x="139" y="312"/>
                </a:lnTo>
                <a:lnTo>
                  <a:pt x="136" y="320"/>
                </a:lnTo>
                <a:lnTo>
                  <a:pt x="105" y="339"/>
                </a:lnTo>
                <a:lnTo>
                  <a:pt x="72" y="371"/>
                </a:lnTo>
                <a:lnTo>
                  <a:pt x="66" y="398"/>
                </a:lnTo>
                <a:lnTo>
                  <a:pt x="13" y="434"/>
                </a:lnTo>
                <a:lnTo>
                  <a:pt x="13" y="434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1640" y="3881520"/>
            <a:ext cx="237960" cy="223920"/>
          </a:xfrm>
          <a:custGeom>
            <a:avLst/>
            <a:gdLst/>
            <a:ahLst/>
            <a:rect l="l" t="t" r="r" b="b"/>
            <a:pathLst>
              <a:path w="449" h="423">
                <a:moveTo>
                  <a:pt x="228" y="0"/>
                </a:moveTo>
                <a:lnTo>
                  <a:pt x="0" y="220"/>
                </a:lnTo>
                <a:lnTo>
                  <a:pt x="136" y="354"/>
                </a:lnTo>
                <a:lnTo>
                  <a:pt x="137" y="354"/>
                </a:lnTo>
                <a:lnTo>
                  <a:pt x="138" y="355"/>
                </a:lnTo>
                <a:lnTo>
                  <a:pt x="141" y="355"/>
                </a:lnTo>
                <a:lnTo>
                  <a:pt x="143" y="355"/>
                </a:lnTo>
                <a:lnTo>
                  <a:pt x="146" y="354"/>
                </a:lnTo>
                <a:lnTo>
                  <a:pt x="148" y="353"/>
                </a:lnTo>
                <a:lnTo>
                  <a:pt x="149" y="350"/>
                </a:lnTo>
                <a:lnTo>
                  <a:pt x="150" y="346"/>
                </a:lnTo>
                <a:lnTo>
                  <a:pt x="150" y="345"/>
                </a:lnTo>
                <a:lnTo>
                  <a:pt x="150" y="343"/>
                </a:lnTo>
                <a:lnTo>
                  <a:pt x="150" y="341"/>
                </a:lnTo>
                <a:lnTo>
                  <a:pt x="150" y="339"/>
                </a:lnTo>
                <a:lnTo>
                  <a:pt x="150" y="337"/>
                </a:lnTo>
                <a:lnTo>
                  <a:pt x="150" y="335"/>
                </a:lnTo>
                <a:lnTo>
                  <a:pt x="151" y="334"/>
                </a:lnTo>
                <a:lnTo>
                  <a:pt x="151" y="332"/>
                </a:lnTo>
                <a:lnTo>
                  <a:pt x="152" y="331"/>
                </a:lnTo>
                <a:lnTo>
                  <a:pt x="153" y="330"/>
                </a:lnTo>
                <a:lnTo>
                  <a:pt x="154" y="330"/>
                </a:lnTo>
                <a:lnTo>
                  <a:pt x="155" y="329"/>
                </a:lnTo>
                <a:lnTo>
                  <a:pt x="157" y="329"/>
                </a:lnTo>
                <a:lnTo>
                  <a:pt x="158" y="328"/>
                </a:lnTo>
                <a:lnTo>
                  <a:pt x="159" y="328"/>
                </a:lnTo>
                <a:lnTo>
                  <a:pt x="160" y="329"/>
                </a:lnTo>
                <a:lnTo>
                  <a:pt x="162" y="330"/>
                </a:lnTo>
                <a:lnTo>
                  <a:pt x="164" y="330"/>
                </a:lnTo>
                <a:lnTo>
                  <a:pt x="166" y="329"/>
                </a:lnTo>
                <a:lnTo>
                  <a:pt x="168" y="329"/>
                </a:lnTo>
                <a:lnTo>
                  <a:pt x="170" y="328"/>
                </a:lnTo>
                <a:lnTo>
                  <a:pt x="172" y="327"/>
                </a:lnTo>
                <a:lnTo>
                  <a:pt x="174" y="327"/>
                </a:lnTo>
                <a:lnTo>
                  <a:pt x="176" y="328"/>
                </a:lnTo>
                <a:lnTo>
                  <a:pt x="177" y="328"/>
                </a:lnTo>
                <a:lnTo>
                  <a:pt x="177" y="329"/>
                </a:lnTo>
                <a:lnTo>
                  <a:pt x="177" y="330"/>
                </a:lnTo>
                <a:lnTo>
                  <a:pt x="177" y="330"/>
                </a:lnTo>
                <a:lnTo>
                  <a:pt x="179" y="330"/>
                </a:lnTo>
                <a:lnTo>
                  <a:pt x="180" y="330"/>
                </a:lnTo>
                <a:lnTo>
                  <a:pt x="181" y="329"/>
                </a:lnTo>
                <a:lnTo>
                  <a:pt x="183" y="328"/>
                </a:lnTo>
                <a:lnTo>
                  <a:pt x="184" y="327"/>
                </a:lnTo>
                <a:lnTo>
                  <a:pt x="185" y="327"/>
                </a:lnTo>
                <a:lnTo>
                  <a:pt x="186" y="327"/>
                </a:lnTo>
                <a:lnTo>
                  <a:pt x="187" y="327"/>
                </a:lnTo>
                <a:lnTo>
                  <a:pt x="189" y="328"/>
                </a:lnTo>
                <a:lnTo>
                  <a:pt x="191" y="329"/>
                </a:lnTo>
                <a:lnTo>
                  <a:pt x="193" y="330"/>
                </a:lnTo>
                <a:lnTo>
                  <a:pt x="195" y="331"/>
                </a:lnTo>
                <a:lnTo>
                  <a:pt x="197" y="332"/>
                </a:lnTo>
                <a:lnTo>
                  <a:pt x="199" y="332"/>
                </a:lnTo>
                <a:lnTo>
                  <a:pt x="201" y="333"/>
                </a:lnTo>
                <a:lnTo>
                  <a:pt x="203" y="333"/>
                </a:lnTo>
                <a:lnTo>
                  <a:pt x="203" y="333"/>
                </a:lnTo>
                <a:lnTo>
                  <a:pt x="202" y="333"/>
                </a:lnTo>
                <a:lnTo>
                  <a:pt x="202" y="333"/>
                </a:lnTo>
                <a:lnTo>
                  <a:pt x="202" y="333"/>
                </a:lnTo>
                <a:lnTo>
                  <a:pt x="203" y="333"/>
                </a:lnTo>
                <a:lnTo>
                  <a:pt x="206" y="333"/>
                </a:lnTo>
                <a:lnTo>
                  <a:pt x="208" y="333"/>
                </a:lnTo>
                <a:lnTo>
                  <a:pt x="209" y="334"/>
                </a:lnTo>
                <a:lnTo>
                  <a:pt x="211" y="335"/>
                </a:lnTo>
                <a:lnTo>
                  <a:pt x="212" y="335"/>
                </a:lnTo>
                <a:lnTo>
                  <a:pt x="213" y="337"/>
                </a:lnTo>
                <a:lnTo>
                  <a:pt x="214" y="338"/>
                </a:lnTo>
                <a:lnTo>
                  <a:pt x="215" y="338"/>
                </a:lnTo>
                <a:lnTo>
                  <a:pt x="216" y="338"/>
                </a:lnTo>
                <a:lnTo>
                  <a:pt x="217" y="338"/>
                </a:lnTo>
                <a:lnTo>
                  <a:pt x="218" y="338"/>
                </a:lnTo>
                <a:lnTo>
                  <a:pt x="218" y="339"/>
                </a:lnTo>
                <a:lnTo>
                  <a:pt x="218" y="341"/>
                </a:lnTo>
                <a:lnTo>
                  <a:pt x="218" y="342"/>
                </a:lnTo>
                <a:lnTo>
                  <a:pt x="218" y="343"/>
                </a:lnTo>
                <a:lnTo>
                  <a:pt x="217" y="344"/>
                </a:lnTo>
                <a:lnTo>
                  <a:pt x="217" y="346"/>
                </a:lnTo>
                <a:lnTo>
                  <a:pt x="217" y="347"/>
                </a:lnTo>
                <a:lnTo>
                  <a:pt x="217" y="348"/>
                </a:lnTo>
                <a:lnTo>
                  <a:pt x="217" y="350"/>
                </a:lnTo>
                <a:lnTo>
                  <a:pt x="219" y="351"/>
                </a:lnTo>
                <a:lnTo>
                  <a:pt x="220" y="352"/>
                </a:lnTo>
                <a:lnTo>
                  <a:pt x="221" y="352"/>
                </a:lnTo>
                <a:lnTo>
                  <a:pt x="223" y="352"/>
                </a:lnTo>
                <a:lnTo>
                  <a:pt x="224" y="352"/>
                </a:lnTo>
                <a:lnTo>
                  <a:pt x="225" y="352"/>
                </a:lnTo>
                <a:lnTo>
                  <a:pt x="226" y="353"/>
                </a:lnTo>
                <a:lnTo>
                  <a:pt x="228" y="355"/>
                </a:lnTo>
                <a:lnTo>
                  <a:pt x="228" y="357"/>
                </a:lnTo>
                <a:lnTo>
                  <a:pt x="229" y="360"/>
                </a:lnTo>
                <a:lnTo>
                  <a:pt x="229" y="362"/>
                </a:lnTo>
                <a:lnTo>
                  <a:pt x="229" y="365"/>
                </a:lnTo>
                <a:lnTo>
                  <a:pt x="228" y="367"/>
                </a:lnTo>
                <a:lnTo>
                  <a:pt x="228" y="370"/>
                </a:lnTo>
                <a:lnTo>
                  <a:pt x="228" y="373"/>
                </a:lnTo>
                <a:lnTo>
                  <a:pt x="227" y="372"/>
                </a:lnTo>
                <a:lnTo>
                  <a:pt x="227" y="373"/>
                </a:lnTo>
                <a:lnTo>
                  <a:pt x="227" y="374"/>
                </a:lnTo>
                <a:lnTo>
                  <a:pt x="226" y="374"/>
                </a:lnTo>
                <a:lnTo>
                  <a:pt x="226" y="377"/>
                </a:lnTo>
                <a:lnTo>
                  <a:pt x="226" y="380"/>
                </a:lnTo>
                <a:lnTo>
                  <a:pt x="226" y="383"/>
                </a:lnTo>
                <a:lnTo>
                  <a:pt x="227" y="387"/>
                </a:lnTo>
                <a:lnTo>
                  <a:pt x="227" y="390"/>
                </a:lnTo>
                <a:lnTo>
                  <a:pt x="227" y="393"/>
                </a:lnTo>
                <a:lnTo>
                  <a:pt x="228" y="396"/>
                </a:lnTo>
                <a:lnTo>
                  <a:pt x="228" y="399"/>
                </a:lnTo>
                <a:lnTo>
                  <a:pt x="228" y="401"/>
                </a:lnTo>
                <a:lnTo>
                  <a:pt x="229" y="404"/>
                </a:lnTo>
                <a:lnTo>
                  <a:pt x="229" y="407"/>
                </a:lnTo>
                <a:lnTo>
                  <a:pt x="229" y="410"/>
                </a:lnTo>
                <a:lnTo>
                  <a:pt x="229" y="413"/>
                </a:lnTo>
                <a:lnTo>
                  <a:pt x="229" y="416"/>
                </a:lnTo>
                <a:lnTo>
                  <a:pt x="229" y="419"/>
                </a:lnTo>
                <a:lnTo>
                  <a:pt x="228" y="422"/>
                </a:lnTo>
                <a:lnTo>
                  <a:pt x="231" y="422"/>
                </a:lnTo>
                <a:lnTo>
                  <a:pt x="233" y="422"/>
                </a:lnTo>
                <a:lnTo>
                  <a:pt x="236" y="423"/>
                </a:lnTo>
                <a:lnTo>
                  <a:pt x="239" y="423"/>
                </a:lnTo>
                <a:lnTo>
                  <a:pt x="241" y="423"/>
                </a:lnTo>
                <a:lnTo>
                  <a:pt x="243" y="423"/>
                </a:lnTo>
                <a:lnTo>
                  <a:pt x="245" y="422"/>
                </a:lnTo>
                <a:lnTo>
                  <a:pt x="246" y="421"/>
                </a:lnTo>
                <a:lnTo>
                  <a:pt x="249" y="419"/>
                </a:lnTo>
                <a:lnTo>
                  <a:pt x="251" y="417"/>
                </a:lnTo>
                <a:lnTo>
                  <a:pt x="254" y="416"/>
                </a:lnTo>
                <a:lnTo>
                  <a:pt x="256" y="415"/>
                </a:lnTo>
                <a:lnTo>
                  <a:pt x="259" y="414"/>
                </a:lnTo>
                <a:lnTo>
                  <a:pt x="262" y="414"/>
                </a:lnTo>
                <a:lnTo>
                  <a:pt x="265" y="413"/>
                </a:lnTo>
                <a:lnTo>
                  <a:pt x="269" y="412"/>
                </a:lnTo>
                <a:lnTo>
                  <a:pt x="270" y="411"/>
                </a:lnTo>
                <a:lnTo>
                  <a:pt x="271" y="410"/>
                </a:lnTo>
                <a:lnTo>
                  <a:pt x="272" y="409"/>
                </a:lnTo>
                <a:lnTo>
                  <a:pt x="272" y="408"/>
                </a:lnTo>
                <a:lnTo>
                  <a:pt x="271" y="407"/>
                </a:lnTo>
                <a:lnTo>
                  <a:pt x="270" y="407"/>
                </a:lnTo>
                <a:lnTo>
                  <a:pt x="269" y="406"/>
                </a:lnTo>
                <a:lnTo>
                  <a:pt x="267" y="405"/>
                </a:lnTo>
                <a:lnTo>
                  <a:pt x="266" y="404"/>
                </a:lnTo>
                <a:lnTo>
                  <a:pt x="265" y="404"/>
                </a:lnTo>
                <a:lnTo>
                  <a:pt x="264" y="403"/>
                </a:lnTo>
                <a:lnTo>
                  <a:pt x="263" y="402"/>
                </a:lnTo>
                <a:lnTo>
                  <a:pt x="449" y="223"/>
                </a:lnTo>
                <a:lnTo>
                  <a:pt x="228" y="0"/>
                </a:lnTo>
                <a:lnTo>
                  <a:pt x="228" y="0"/>
                </a:lnTo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83160" y="3124080"/>
            <a:ext cx="370080" cy="192240"/>
          </a:xfrm>
          <a:custGeom>
            <a:avLst/>
            <a:gdLst/>
            <a:ahLst/>
            <a:rect l="l" t="t" r="r" b="b"/>
            <a:pathLst>
              <a:path w="701" h="362">
                <a:moveTo>
                  <a:pt x="2" y="151"/>
                </a:moveTo>
                <a:lnTo>
                  <a:pt x="145" y="118"/>
                </a:lnTo>
                <a:lnTo>
                  <a:pt x="371" y="68"/>
                </a:lnTo>
                <a:lnTo>
                  <a:pt x="373" y="60"/>
                </a:lnTo>
                <a:lnTo>
                  <a:pt x="380" y="54"/>
                </a:lnTo>
                <a:lnTo>
                  <a:pt x="386" y="60"/>
                </a:lnTo>
                <a:lnTo>
                  <a:pt x="390" y="54"/>
                </a:lnTo>
                <a:lnTo>
                  <a:pt x="386" y="37"/>
                </a:lnTo>
                <a:lnTo>
                  <a:pt x="406" y="31"/>
                </a:lnTo>
                <a:lnTo>
                  <a:pt x="421" y="3"/>
                </a:lnTo>
                <a:lnTo>
                  <a:pt x="436" y="0"/>
                </a:lnTo>
                <a:lnTo>
                  <a:pt x="449" y="6"/>
                </a:lnTo>
                <a:lnTo>
                  <a:pt x="457" y="38"/>
                </a:lnTo>
                <a:lnTo>
                  <a:pt x="484" y="58"/>
                </a:lnTo>
                <a:lnTo>
                  <a:pt x="491" y="69"/>
                </a:lnTo>
                <a:lnTo>
                  <a:pt x="487" y="79"/>
                </a:lnTo>
                <a:lnTo>
                  <a:pt x="475" y="86"/>
                </a:lnTo>
                <a:lnTo>
                  <a:pt x="463" y="109"/>
                </a:lnTo>
                <a:lnTo>
                  <a:pt x="453" y="141"/>
                </a:lnTo>
                <a:lnTo>
                  <a:pt x="455" y="154"/>
                </a:lnTo>
                <a:lnTo>
                  <a:pt x="484" y="154"/>
                </a:lnTo>
                <a:lnTo>
                  <a:pt x="509" y="167"/>
                </a:lnTo>
                <a:lnTo>
                  <a:pt x="550" y="208"/>
                </a:lnTo>
                <a:lnTo>
                  <a:pt x="563" y="235"/>
                </a:lnTo>
                <a:lnTo>
                  <a:pt x="581" y="257"/>
                </a:lnTo>
                <a:lnTo>
                  <a:pt x="629" y="262"/>
                </a:lnTo>
                <a:lnTo>
                  <a:pt x="658" y="251"/>
                </a:lnTo>
                <a:lnTo>
                  <a:pt x="674" y="215"/>
                </a:lnTo>
                <a:lnTo>
                  <a:pt x="664" y="211"/>
                </a:lnTo>
                <a:lnTo>
                  <a:pt x="645" y="194"/>
                </a:lnTo>
                <a:lnTo>
                  <a:pt x="623" y="182"/>
                </a:lnTo>
                <a:lnTo>
                  <a:pt x="624" y="168"/>
                </a:lnTo>
                <a:lnTo>
                  <a:pt x="642" y="170"/>
                </a:lnTo>
                <a:lnTo>
                  <a:pt x="650" y="172"/>
                </a:lnTo>
                <a:lnTo>
                  <a:pt x="682" y="215"/>
                </a:lnTo>
                <a:lnTo>
                  <a:pt x="701" y="262"/>
                </a:lnTo>
                <a:lnTo>
                  <a:pt x="699" y="282"/>
                </a:lnTo>
                <a:lnTo>
                  <a:pt x="680" y="268"/>
                </a:lnTo>
                <a:lnTo>
                  <a:pt x="658" y="286"/>
                </a:lnTo>
                <a:lnTo>
                  <a:pt x="626" y="301"/>
                </a:lnTo>
                <a:lnTo>
                  <a:pt x="590" y="329"/>
                </a:lnTo>
                <a:lnTo>
                  <a:pt x="577" y="329"/>
                </a:lnTo>
                <a:lnTo>
                  <a:pt x="573" y="325"/>
                </a:lnTo>
                <a:lnTo>
                  <a:pt x="573" y="314"/>
                </a:lnTo>
                <a:lnTo>
                  <a:pt x="569" y="290"/>
                </a:lnTo>
                <a:lnTo>
                  <a:pt x="562" y="290"/>
                </a:lnTo>
                <a:lnTo>
                  <a:pt x="542" y="322"/>
                </a:lnTo>
                <a:lnTo>
                  <a:pt x="520" y="355"/>
                </a:lnTo>
                <a:lnTo>
                  <a:pt x="512" y="362"/>
                </a:lnTo>
                <a:lnTo>
                  <a:pt x="497" y="343"/>
                </a:lnTo>
                <a:lnTo>
                  <a:pt x="494" y="337"/>
                </a:lnTo>
                <a:lnTo>
                  <a:pt x="487" y="335"/>
                </a:lnTo>
                <a:lnTo>
                  <a:pt x="482" y="329"/>
                </a:lnTo>
                <a:lnTo>
                  <a:pt x="469" y="321"/>
                </a:lnTo>
                <a:lnTo>
                  <a:pt x="469" y="312"/>
                </a:lnTo>
                <a:lnTo>
                  <a:pt x="431" y="303"/>
                </a:lnTo>
                <a:lnTo>
                  <a:pt x="421" y="276"/>
                </a:lnTo>
                <a:lnTo>
                  <a:pt x="411" y="271"/>
                </a:lnTo>
                <a:lnTo>
                  <a:pt x="401" y="249"/>
                </a:lnTo>
                <a:lnTo>
                  <a:pt x="326" y="265"/>
                </a:lnTo>
                <a:lnTo>
                  <a:pt x="148" y="312"/>
                </a:lnTo>
                <a:lnTo>
                  <a:pt x="145" y="322"/>
                </a:lnTo>
                <a:lnTo>
                  <a:pt x="142" y="324"/>
                </a:lnTo>
                <a:lnTo>
                  <a:pt x="129" y="310"/>
                </a:lnTo>
                <a:lnTo>
                  <a:pt x="8" y="341"/>
                </a:lnTo>
                <a:lnTo>
                  <a:pt x="0" y="333"/>
                </a:lnTo>
                <a:lnTo>
                  <a:pt x="2" y="151"/>
                </a:lnTo>
                <a:lnTo>
                  <a:pt x="2" y="151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880" y="3255840"/>
            <a:ext cx="98280" cy="106560"/>
          </a:xfrm>
          <a:custGeom>
            <a:avLst/>
            <a:gdLst/>
            <a:ahLst/>
            <a:rect l="l" t="t" r="r" b="b"/>
            <a:pathLst>
              <a:path w="186" h="203">
                <a:moveTo>
                  <a:pt x="0" y="16"/>
                </a:moveTo>
                <a:lnTo>
                  <a:pt x="43" y="165"/>
                </a:lnTo>
                <a:lnTo>
                  <a:pt x="38" y="178"/>
                </a:lnTo>
                <a:lnTo>
                  <a:pt x="35" y="187"/>
                </a:lnTo>
                <a:lnTo>
                  <a:pt x="38" y="193"/>
                </a:lnTo>
                <a:lnTo>
                  <a:pt x="38" y="201"/>
                </a:lnTo>
                <a:lnTo>
                  <a:pt x="47" y="203"/>
                </a:lnTo>
                <a:lnTo>
                  <a:pt x="86" y="175"/>
                </a:lnTo>
                <a:lnTo>
                  <a:pt x="108" y="157"/>
                </a:lnTo>
                <a:lnTo>
                  <a:pt x="108" y="141"/>
                </a:lnTo>
                <a:lnTo>
                  <a:pt x="101" y="128"/>
                </a:lnTo>
                <a:lnTo>
                  <a:pt x="101" y="104"/>
                </a:lnTo>
                <a:lnTo>
                  <a:pt x="118" y="88"/>
                </a:lnTo>
                <a:lnTo>
                  <a:pt x="127" y="94"/>
                </a:lnTo>
                <a:lnTo>
                  <a:pt x="126" y="109"/>
                </a:lnTo>
                <a:lnTo>
                  <a:pt x="127" y="141"/>
                </a:lnTo>
                <a:lnTo>
                  <a:pt x="131" y="150"/>
                </a:lnTo>
                <a:lnTo>
                  <a:pt x="144" y="148"/>
                </a:lnTo>
                <a:lnTo>
                  <a:pt x="144" y="130"/>
                </a:lnTo>
                <a:lnTo>
                  <a:pt x="153" y="130"/>
                </a:lnTo>
                <a:lnTo>
                  <a:pt x="163" y="116"/>
                </a:lnTo>
                <a:lnTo>
                  <a:pt x="183" y="114"/>
                </a:lnTo>
                <a:lnTo>
                  <a:pt x="186" y="114"/>
                </a:lnTo>
                <a:lnTo>
                  <a:pt x="171" y="94"/>
                </a:lnTo>
                <a:lnTo>
                  <a:pt x="168" y="88"/>
                </a:lnTo>
                <a:lnTo>
                  <a:pt x="161" y="87"/>
                </a:lnTo>
                <a:lnTo>
                  <a:pt x="156" y="81"/>
                </a:lnTo>
                <a:lnTo>
                  <a:pt x="143" y="73"/>
                </a:lnTo>
                <a:lnTo>
                  <a:pt x="143" y="63"/>
                </a:lnTo>
                <a:lnTo>
                  <a:pt x="105" y="55"/>
                </a:lnTo>
                <a:lnTo>
                  <a:pt x="95" y="27"/>
                </a:lnTo>
                <a:lnTo>
                  <a:pt x="85" y="22"/>
                </a:lnTo>
                <a:lnTo>
                  <a:pt x="75" y="0"/>
                </a:lnTo>
                <a:lnTo>
                  <a:pt x="0" y="16"/>
                </a:lnTo>
                <a:lnTo>
                  <a:pt x="0" y="16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88200" y="3263760"/>
            <a:ext cx="190440" cy="189000"/>
          </a:xfrm>
          <a:custGeom>
            <a:avLst/>
            <a:gdLst/>
            <a:ahLst/>
            <a:rect l="l" t="t" r="r" b="b"/>
            <a:pathLst>
              <a:path w="361" h="358">
                <a:moveTo>
                  <a:pt x="0" y="77"/>
                </a:moveTo>
                <a:lnTo>
                  <a:pt x="121" y="46"/>
                </a:lnTo>
                <a:lnTo>
                  <a:pt x="134" y="59"/>
                </a:lnTo>
                <a:lnTo>
                  <a:pt x="137" y="57"/>
                </a:lnTo>
                <a:lnTo>
                  <a:pt x="140" y="47"/>
                </a:lnTo>
                <a:lnTo>
                  <a:pt x="318" y="0"/>
                </a:lnTo>
                <a:lnTo>
                  <a:pt x="361" y="149"/>
                </a:lnTo>
                <a:lnTo>
                  <a:pt x="355" y="162"/>
                </a:lnTo>
                <a:lnTo>
                  <a:pt x="353" y="171"/>
                </a:lnTo>
                <a:lnTo>
                  <a:pt x="355" y="177"/>
                </a:lnTo>
                <a:lnTo>
                  <a:pt x="355" y="185"/>
                </a:lnTo>
                <a:lnTo>
                  <a:pt x="334" y="188"/>
                </a:lnTo>
                <a:lnTo>
                  <a:pt x="271" y="213"/>
                </a:lnTo>
                <a:lnTo>
                  <a:pt x="255" y="210"/>
                </a:lnTo>
                <a:lnTo>
                  <a:pt x="250" y="217"/>
                </a:lnTo>
                <a:lnTo>
                  <a:pt x="250" y="227"/>
                </a:lnTo>
                <a:lnTo>
                  <a:pt x="245" y="232"/>
                </a:lnTo>
                <a:lnTo>
                  <a:pt x="210" y="238"/>
                </a:lnTo>
                <a:lnTo>
                  <a:pt x="159" y="259"/>
                </a:lnTo>
                <a:lnTo>
                  <a:pt x="152" y="253"/>
                </a:lnTo>
                <a:lnTo>
                  <a:pt x="123" y="284"/>
                </a:lnTo>
                <a:lnTo>
                  <a:pt x="54" y="342"/>
                </a:lnTo>
                <a:lnTo>
                  <a:pt x="29" y="358"/>
                </a:lnTo>
                <a:lnTo>
                  <a:pt x="6" y="335"/>
                </a:lnTo>
                <a:lnTo>
                  <a:pt x="36" y="302"/>
                </a:lnTo>
                <a:lnTo>
                  <a:pt x="41" y="290"/>
                </a:lnTo>
                <a:lnTo>
                  <a:pt x="26" y="273"/>
                </a:lnTo>
                <a:lnTo>
                  <a:pt x="0" y="77"/>
                </a:lnTo>
                <a:lnTo>
                  <a:pt x="0" y="77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96040" y="2849400"/>
            <a:ext cx="193680" cy="3542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0" y="86"/>
                </a:moveTo>
                <a:lnTo>
                  <a:pt x="12" y="112"/>
                </a:lnTo>
                <a:lnTo>
                  <a:pt x="8" y="126"/>
                </a:lnTo>
                <a:lnTo>
                  <a:pt x="17" y="137"/>
                </a:lnTo>
                <a:lnTo>
                  <a:pt x="18" y="147"/>
                </a:lnTo>
                <a:lnTo>
                  <a:pt x="48" y="223"/>
                </a:lnTo>
                <a:lnTo>
                  <a:pt x="60" y="278"/>
                </a:lnTo>
                <a:lnTo>
                  <a:pt x="44" y="305"/>
                </a:lnTo>
                <a:lnTo>
                  <a:pt x="48" y="335"/>
                </a:lnTo>
                <a:lnTo>
                  <a:pt x="81" y="409"/>
                </a:lnTo>
                <a:lnTo>
                  <a:pt x="76" y="445"/>
                </a:lnTo>
                <a:lnTo>
                  <a:pt x="84" y="457"/>
                </a:lnTo>
                <a:lnTo>
                  <a:pt x="88" y="455"/>
                </a:lnTo>
                <a:lnTo>
                  <a:pt x="87" y="447"/>
                </a:lnTo>
                <a:lnTo>
                  <a:pt x="99" y="445"/>
                </a:lnTo>
                <a:lnTo>
                  <a:pt x="119" y="476"/>
                </a:lnTo>
                <a:lnTo>
                  <a:pt x="131" y="543"/>
                </a:lnTo>
                <a:lnTo>
                  <a:pt x="131" y="581"/>
                </a:lnTo>
                <a:lnTo>
                  <a:pt x="145" y="623"/>
                </a:lnTo>
                <a:lnTo>
                  <a:pt x="166" y="667"/>
                </a:lnTo>
                <a:lnTo>
                  <a:pt x="310" y="634"/>
                </a:lnTo>
                <a:lnTo>
                  <a:pt x="306" y="622"/>
                </a:lnTo>
                <a:lnTo>
                  <a:pt x="288" y="606"/>
                </a:lnTo>
                <a:lnTo>
                  <a:pt x="290" y="577"/>
                </a:lnTo>
                <a:lnTo>
                  <a:pt x="297" y="568"/>
                </a:lnTo>
                <a:lnTo>
                  <a:pt x="289" y="545"/>
                </a:lnTo>
                <a:lnTo>
                  <a:pt x="278" y="436"/>
                </a:lnTo>
                <a:lnTo>
                  <a:pt x="278" y="402"/>
                </a:lnTo>
                <a:lnTo>
                  <a:pt x="292" y="341"/>
                </a:lnTo>
                <a:lnTo>
                  <a:pt x="301" y="300"/>
                </a:lnTo>
                <a:lnTo>
                  <a:pt x="304" y="267"/>
                </a:lnTo>
                <a:lnTo>
                  <a:pt x="292" y="244"/>
                </a:lnTo>
                <a:lnTo>
                  <a:pt x="292" y="221"/>
                </a:lnTo>
                <a:lnTo>
                  <a:pt x="301" y="206"/>
                </a:lnTo>
                <a:lnTo>
                  <a:pt x="343" y="172"/>
                </a:lnTo>
                <a:lnTo>
                  <a:pt x="366" y="112"/>
                </a:lnTo>
                <a:lnTo>
                  <a:pt x="343" y="80"/>
                </a:lnTo>
                <a:lnTo>
                  <a:pt x="341" y="61"/>
                </a:lnTo>
                <a:lnTo>
                  <a:pt x="347" y="50"/>
                </a:lnTo>
                <a:lnTo>
                  <a:pt x="347" y="40"/>
                </a:lnTo>
                <a:lnTo>
                  <a:pt x="335" y="0"/>
                </a:lnTo>
                <a:lnTo>
                  <a:pt x="0" y="86"/>
                </a:lnTo>
                <a:lnTo>
                  <a:pt x="0" y="86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04120" y="2446200"/>
            <a:ext cx="407880" cy="658800"/>
          </a:xfrm>
          <a:custGeom>
            <a:avLst/>
            <a:gdLst/>
            <a:ahLst/>
            <a:rect l="l" t="t" r="r" b="b"/>
            <a:pathLst>
              <a:path w="771" h="1246">
                <a:moveTo>
                  <a:pt x="0" y="667"/>
                </a:moveTo>
                <a:lnTo>
                  <a:pt x="150" y="1116"/>
                </a:lnTo>
                <a:lnTo>
                  <a:pt x="151" y="1126"/>
                </a:lnTo>
                <a:lnTo>
                  <a:pt x="150" y="1145"/>
                </a:lnTo>
                <a:lnTo>
                  <a:pt x="153" y="1153"/>
                </a:lnTo>
                <a:lnTo>
                  <a:pt x="189" y="1181"/>
                </a:lnTo>
                <a:lnTo>
                  <a:pt x="198" y="1183"/>
                </a:lnTo>
                <a:lnTo>
                  <a:pt x="202" y="1199"/>
                </a:lnTo>
                <a:lnTo>
                  <a:pt x="200" y="1209"/>
                </a:lnTo>
                <a:lnTo>
                  <a:pt x="223" y="1246"/>
                </a:lnTo>
                <a:lnTo>
                  <a:pt x="227" y="1235"/>
                </a:lnTo>
                <a:lnTo>
                  <a:pt x="232" y="1209"/>
                </a:lnTo>
                <a:lnTo>
                  <a:pt x="237" y="1175"/>
                </a:lnTo>
                <a:lnTo>
                  <a:pt x="252" y="1141"/>
                </a:lnTo>
                <a:lnTo>
                  <a:pt x="264" y="1091"/>
                </a:lnTo>
                <a:lnTo>
                  <a:pt x="283" y="1071"/>
                </a:lnTo>
                <a:lnTo>
                  <a:pt x="284" y="1063"/>
                </a:lnTo>
                <a:lnTo>
                  <a:pt x="274" y="1056"/>
                </a:lnTo>
                <a:lnTo>
                  <a:pt x="265" y="1028"/>
                </a:lnTo>
                <a:lnTo>
                  <a:pt x="315" y="983"/>
                </a:lnTo>
                <a:lnTo>
                  <a:pt x="322" y="987"/>
                </a:lnTo>
                <a:lnTo>
                  <a:pt x="331" y="1011"/>
                </a:lnTo>
                <a:lnTo>
                  <a:pt x="339" y="1016"/>
                </a:lnTo>
                <a:lnTo>
                  <a:pt x="343" y="1005"/>
                </a:lnTo>
                <a:lnTo>
                  <a:pt x="343" y="985"/>
                </a:lnTo>
                <a:lnTo>
                  <a:pt x="346" y="973"/>
                </a:lnTo>
                <a:lnTo>
                  <a:pt x="385" y="967"/>
                </a:lnTo>
                <a:lnTo>
                  <a:pt x="398" y="951"/>
                </a:lnTo>
                <a:lnTo>
                  <a:pt x="400" y="935"/>
                </a:lnTo>
                <a:lnTo>
                  <a:pt x="406" y="924"/>
                </a:lnTo>
                <a:lnTo>
                  <a:pt x="426" y="926"/>
                </a:lnTo>
                <a:lnTo>
                  <a:pt x="442" y="916"/>
                </a:lnTo>
                <a:lnTo>
                  <a:pt x="447" y="910"/>
                </a:lnTo>
                <a:lnTo>
                  <a:pt x="455" y="876"/>
                </a:lnTo>
                <a:lnTo>
                  <a:pt x="451" y="853"/>
                </a:lnTo>
                <a:lnTo>
                  <a:pt x="476" y="822"/>
                </a:lnTo>
                <a:lnTo>
                  <a:pt x="476" y="808"/>
                </a:lnTo>
                <a:lnTo>
                  <a:pt x="487" y="808"/>
                </a:lnTo>
                <a:lnTo>
                  <a:pt x="513" y="812"/>
                </a:lnTo>
                <a:lnTo>
                  <a:pt x="528" y="806"/>
                </a:lnTo>
                <a:lnTo>
                  <a:pt x="535" y="791"/>
                </a:lnTo>
                <a:lnTo>
                  <a:pt x="545" y="765"/>
                </a:lnTo>
                <a:lnTo>
                  <a:pt x="556" y="762"/>
                </a:lnTo>
                <a:lnTo>
                  <a:pt x="573" y="734"/>
                </a:lnTo>
                <a:lnTo>
                  <a:pt x="602" y="739"/>
                </a:lnTo>
                <a:lnTo>
                  <a:pt x="621" y="757"/>
                </a:lnTo>
                <a:lnTo>
                  <a:pt x="653" y="706"/>
                </a:lnTo>
                <a:lnTo>
                  <a:pt x="674" y="693"/>
                </a:lnTo>
                <a:lnTo>
                  <a:pt x="715" y="657"/>
                </a:lnTo>
                <a:lnTo>
                  <a:pt x="726" y="642"/>
                </a:lnTo>
                <a:lnTo>
                  <a:pt x="731" y="633"/>
                </a:lnTo>
                <a:lnTo>
                  <a:pt x="744" y="635"/>
                </a:lnTo>
                <a:lnTo>
                  <a:pt x="762" y="625"/>
                </a:lnTo>
                <a:lnTo>
                  <a:pt x="771" y="602"/>
                </a:lnTo>
                <a:lnTo>
                  <a:pt x="768" y="585"/>
                </a:lnTo>
                <a:lnTo>
                  <a:pt x="753" y="576"/>
                </a:lnTo>
                <a:lnTo>
                  <a:pt x="750" y="580"/>
                </a:lnTo>
                <a:lnTo>
                  <a:pt x="739" y="573"/>
                </a:lnTo>
                <a:lnTo>
                  <a:pt x="747" y="555"/>
                </a:lnTo>
                <a:lnTo>
                  <a:pt x="753" y="553"/>
                </a:lnTo>
                <a:lnTo>
                  <a:pt x="750" y="539"/>
                </a:lnTo>
                <a:lnTo>
                  <a:pt x="734" y="503"/>
                </a:lnTo>
                <a:lnTo>
                  <a:pt x="714" y="495"/>
                </a:lnTo>
                <a:lnTo>
                  <a:pt x="702" y="497"/>
                </a:lnTo>
                <a:lnTo>
                  <a:pt x="695" y="504"/>
                </a:lnTo>
                <a:lnTo>
                  <a:pt x="677" y="506"/>
                </a:lnTo>
                <a:lnTo>
                  <a:pt x="659" y="500"/>
                </a:lnTo>
                <a:lnTo>
                  <a:pt x="642" y="434"/>
                </a:lnTo>
                <a:lnTo>
                  <a:pt x="649" y="425"/>
                </a:lnTo>
                <a:lnTo>
                  <a:pt x="648" y="413"/>
                </a:lnTo>
                <a:lnTo>
                  <a:pt x="640" y="406"/>
                </a:lnTo>
                <a:lnTo>
                  <a:pt x="627" y="406"/>
                </a:lnTo>
                <a:lnTo>
                  <a:pt x="621" y="412"/>
                </a:lnTo>
                <a:lnTo>
                  <a:pt x="592" y="403"/>
                </a:lnTo>
                <a:lnTo>
                  <a:pt x="575" y="403"/>
                </a:lnTo>
                <a:lnTo>
                  <a:pt x="567" y="396"/>
                </a:lnTo>
                <a:lnTo>
                  <a:pt x="554" y="356"/>
                </a:lnTo>
                <a:lnTo>
                  <a:pt x="554" y="346"/>
                </a:lnTo>
                <a:lnTo>
                  <a:pt x="459" y="54"/>
                </a:lnTo>
                <a:lnTo>
                  <a:pt x="379" y="5"/>
                </a:lnTo>
                <a:lnTo>
                  <a:pt x="359" y="0"/>
                </a:lnTo>
                <a:lnTo>
                  <a:pt x="339" y="3"/>
                </a:lnTo>
                <a:lnTo>
                  <a:pt x="331" y="16"/>
                </a:lnTo>
                <a:lnTo>
                  <a:pt x="325" y="29"/>
                </a:lnTo>
                <a:lnTo>
                  <a:pt x="315" y="29"/>
                </a:lnTo>
                <a:lnTo>
                  <a:pt x="286" y="42"/>
                </a:lnTo>
                <a:lnTo>
                  <a:pt x="245" y="79"/>
                </a:lnTo>
                <a:lnTo>
                  <a:pt x="232" y="82"/>
                </a:lnTo>
                <a:lnTo>
                  <a:pt x="215" y="60"/>
                </a:lnTo>
                <a:lnTo>
                  <a:pt x="217" y="31"/>
                </a:lnTo>
                <a:lnTo>
                  <a:pt x="210" y="21"/>
                </a:lnTo>
                <a:lnTo>
                  <a:pt x="198" y="21"/>
                </a:lnTo>
                <a:lnTo>
                  <a:pt x="169" y="31"/>
                </a:lnTo>
                <a:lnTo>
                  <a:pt x="99" y="258"/>
                </a:lnTo>
                <a:lnTo>
                  <a:pt x="95" y="292"/>
                </a:lnTo>
                <a:lnTo>
                  <a:pt x="110" y="308"/>
                </a:lnTo>
                <a:lnTo>
                  <a:pt x="110" y="334"/>
                </a:lnTo>
                <a:lnTo>
                  <a:pt x="101" y="350"/>
                </a:lnTo>
                <a:lnTo>
                  <a:pt x="91" y="360"/>
                </a:lnTo>
                <a:lnTo>
                  <a:pt x="82" y="380"/>
                </a:lnTo>
                <a:lnTo>
                  <a:pt x="107" y="473"/>
                </a:lnTo>
                <a:lnTo>
                  <a:pt x="95" y="503"/>
                </a:lnTo>
                <a:lnTo>
                  <a:pt x="95" y="527"/>
                </a:lnTo>
                <a:lnTo>
                  <a:pt x="63" y="572"/>
                </a:lnTo>
                <a:lnTo>
                  <a:pt x="55" y="589"/>
                </a:lnTo>
                <a:lnTo>
                  <a:pt x="69" y="617"/>
                </a:lnTo>
                <a:lnTo>
                  <a:pt x="68" y="621"/>
                </a:lnTo>
                <a:lnTo>
                  <a:pt x="49" y="621"/>
                </a:lnTo>
                <a:lnTo>
                  <a:pt x="49" y="647"/>
                </a:lnTo>
                <a:lnTo>
                  <a:pt x="45" y="659"/>
                </a:lnTo>
                <a:lnTo>
                  <a:pt x="33" y="657"/>
                </a:lnTo>
                <a:lnTo>
                  <a:pt x="19" y="653"/>
                </a:lnTo>
                <a:lnTo>
                  <a:pt x="0" y="667"/>
                </a:lnTo>
                <a:lnTo>
                  <a:pt x="0" y="667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798640"/>
            <a:ext cx="179280" cy="387360"/>
          </a:xfrm>
          <a:custGeom>
            <a:avLst/>
            <a:gdLst/>
            <a:ahLst/>
            <a:rect l="l" t="t" r="r" b="b"/>
            <a:pathLst>
              <a:path w="339" h="732">
                <a:moveTo>
                  <a:pt x="335" y="619"/>
                </a:moveTo>
                <a:lnTo>
                  <a:pt x="322" y="614"/>
                </a:lnTo>
                <a:lnTo>
                  <a:pt x="307" y="617"/>
                </a:lnTo>
                <a:lnTo>
                  <a:pt x="293" y="644"/>
                </a:lnTo>
                <a:lnTo>
                  <a:pt x="272" y="650"/>
                </a:lnTo>
                <a:lnTo>
                  <a:pt x="276" y="668"/>
                </a:lnTo>
                <a:lnTo>
                  <a:pt x="272" y="674"/>
                </a:lnTo>
                <a:lnTo>
                  <a:pt x="266" y="668"/>
                </a:lnTo>
                <a:lnTo>
                  <a:pt x="259" y="674"/>
                </a:lnTo>
                <a:lnTo>
                  <a:pt x="257" y="681"/>
                </a:lnTo>
                <a:lnTo>
                  <a:pt x="32" y="732"/>
                </a:lnTo>
                <a:lnTo>
                  <a:pt x="28" y="719"/>
                </a:lnTo>
                <a:lnTo>
                  <a:pt x="10" y="703"/>
                </a:lnTo>
                <a:lnTo>
                  <a:pt x="12" y="675"/>
                </a:lnTo>
                <a:lnTo>
                  <a:pt x="19" y="665"/>
                </a:lnTo>
                <a:lnTo>
                  <a:pt x="11" y="642"/>
                </a:lnTo>
                <a:lnTo>
                  <a:pt x="0" y="534"/>
                </a:lnTo>
                <a:lnTo>
                  <a:pt x="0" y="499"/>
                </a:lnTo>
                <a:lnTo>
                  <a:pt x="14" y="438"/>
                </a:lnTo>
                <a:lnTo>
                  <a:pt x="23" y="397"/>
                </a:lnTo>
                <a:lnTo>
                  <a:pt x="27" y="364"/>
                </a:lnTo>
                <a:lnTo>
                  <a:pt x="14" y="342"/>
                </a:lnTo>
                <a:lnTo>
                  <a:pt x="14" y="318"/>
                </a:lnTo>
                <a:lnTo>
                  <a:pt x="23" y="303"/>
                </a:lnTo>
                <a:lnTo>
                  <a:pt x="65" y="269"/>
                </a:lnTo>
                <a:lnTo>
                  <a:pt x="88" y="210"/>
                </a:lnTo>
                <a:lnTo>
                  <a:pt x="65" y="177"/>
                </a:lnTo>
                <a:lnTo>
                  <a:pt x="63" y="159"/>
                </a:lnTo>
                <a:lnTo>
                  <a:pt x="69" y="148"/>
                </a:lnTo>
                <a:lnTo>
                  <a:pt x="68" y="138"/>
                </a:lnTo>
                <a:lnTo>
                  <a:pt x="57" y="97"/>
                </a:lnTo>
                <a:lnTo>
                  <a:pt x="65" y="50"/>
                </a:lnTo>
                <a:lnTo>
                  <a:pt x="53" y="34"/>
                </a:lnTo>
                <a:lnTo>
                  <a:pt x="58" y="27"/>
                </a:lnTo>
                <a:lnTo>
                  <a:pt x="73" y="27"/>
                </a:lnTo>
                <a:lnTo>
                  <a:pt x="80" y="9"/>
                </a:lnTo>
                <a:lnTo>
                  <a:pt x="93" y="15"/>
                </a:lnTo>
                <a:lnTo>
                  <a:pt x="106" y="12"/>
                </a:lnTo>
                <a:lnTo>
                  <a:pt x="116" y="0"/>
                </a:lnTo>
                <a:lnTo>
                  <a:pt x="266" y="450"/>
                </a:lnTo>
                <a:lnTo>
                  <a:pt x="267" y="459"/>
                </a:lnTo>
                <a:lnTo>
                  <a:pt x="266" y="478"/>
                </a:lnTo>
                <a:lnTo>
                  <a:pt x="269" y="486"/>
                </a:lnTo>
                <a:lnTo>
                  <a:pt x="305" y="514"/>
                </a:lnTo>
                <a:lnTo>
                  <a:pt x="314" y="517"/>
                </a:lnTo>
                <a:lnTo>
                  <a:pt x="318" y="532"/>
                </a:lnTo>
                <a:lnTo>
                  <a:pt x="317" y="542"/>
                </a:lnTo>
                <a:lnTo>
                  <a:pt x="339" y="579"/>
                </a:lnTo>
                <a:lnTo>
                  <a:pt x="336" y="586"/>
                </a:lnTo>
                <a:lnTo>
                  <a:pt x="334" y="605"/>
                </a:lnTo>
                <a:lnTo>
                  <a:pt x="335" y="619"/>
                </a:lnTo>
                <a:lnTo>
                  <a:pt x="335" y="619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116400" y="3825360"/>
            <a:ext cx="4950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16800" y="4708440"/>
            <a:ext cx="17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 1,000 live bir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74160" y="46483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05920" y="5229360"/>
            <a:ext cx="60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9) (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46920" y="5245200"/>
            <a:ext cx="1460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.0 or more 8.0 - 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.0 – 7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0 – 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ss than 6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19760" y="5959440"/>
            <a:ext cx="152640" cy="152280"/>
          </a:xfrm>
          <a:prstGeom prst="rect">
            <a:avLst/>
          </a:prstGeom>
          <a:solidFill>
            <a:srgbClr val="fedd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19760" y="5746680"/>
            <a:ext cx="152640" cy="152640"/>
          </a:xfrm>
          <a:prstGeom prst="rect">
            <a:avLst/>
          </a:prstGeom>
          <a:solidFill>
            <a:srgbClr val="ff7b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21560" y="6172200"/>
            <a:ext cx="152280" cy="1522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19760" y="5533920"/>
            <a:ext cx="152640" cy="152640"/>
          </a:xfrm>
          <a:prstGeom prst="rect">
            <a:avLst/>
          </a:prstGeom>
          <a:solidFill>
            <a:srgbClr val="bd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19760" y="5321160"/>
            <a:ext cx="152640" cy="152640"/>
          </a:xfrm>
          <a:prstGeom prst="rect">
            <a:avLst/>
          </a:prstGeom>
          <a:solidFill>
            <a:srgbClr val="662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80" y="130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All Infant Deaths (Within 1 Ye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State: 1998-2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9600" y="3881520"/>
            <a:ext cx="71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D.C</a:t>
            </a:r>
            <a:r>
              <a:rPr b="1" lang="en-US" sz="1200" spc="-1" strike="noStrike">
                <a:solidFill>
                  <a:srgbClr val="000000"/>
                </a:solidFill>
                <a:latin typeface="Swis7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6560" y="1933560"/>
            <a:ext cx="16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10 Target =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4280" y="130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Leading Causes of Infant Deat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(Within 1 Year):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760" y="2563920"/>
            <a:ext cx="10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1919160"/>
            <a:ext cx="56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ant deaths per 100,000 live bi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320" y="1752480"/>
            <a:ext cx="8880480" cy="621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000" y="4008600"/>
            <a:ext cx="114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irth de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5240" y="469440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term &amp; L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6040" y="54100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20" y="591336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er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7240" y="6095880"/>
            <a:ext cx="124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2359080"/>
            <a:ext cx="147312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74640" y="2390760"/>
            <a:ext cx="14400" cy="401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03520" y="33386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45760" y="3338640"/>
            <a:ext cx="33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4560" y="331776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19720" y="40086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97880" y="40086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1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5640" y="40086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2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19720" y="46944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9788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6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1564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10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7520" y="54100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37480" y="54100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4880" y="54100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5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7520" y="6095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37480" y="60958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59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15640" y="60958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35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800" y="2575080"/>
            <a:ext cx="96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 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240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0980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7560" y="2386080"/>
            <a:ext cx="1260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1280" y="2438280"/>
            <a:ext cx="117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80000" y="2438280"/>
            <a:ext cx="1229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89040" y="2365200"/>
            <a:ext cx="740556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89040" y="3059280"/>
            <a:ext cx="7405560" cy="2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5920" y="36417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5920" y="43275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5920" y="50133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5920" y="56991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3320" y="2370240"/>
            <a:ext cx="8881920" cy="40194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8320" y="2386080"/>
            <a:ext cx="1296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61040" y="2386080"/>
            <a:ext cx="1440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768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45080" y="3079800"/>
            <a:ext cx="1296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55360" y="46944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9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335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59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09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96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21960" y="46944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6376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8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797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5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54280" y="2575080"/>
            <a:ext cx="5304600" cy="3830400"/>
            <a:chOff x="3554280" y="2575080"/>
            <a:chExt cx="5304600" cy="3830400"/>
          </a:xfrm>
        </p:grpSpPr>
        <p:sp>
          <p:nvSpPr>
            <p:cNvPr id="343" name=""/>
            <p:cNvSpPr/>
            <p:nvPr/>
          </p:nvSpPr>
          <p:spPr>
            <a:xfrm>
              <a:off x="355428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688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6568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7084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4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5044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7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6820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3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10440" y="4694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6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50440" y="46944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3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68200" y="46944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26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044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7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640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8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600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044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860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20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65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38320" y="2575080"/>
              <a:ext cx="110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ispanic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43520" y="3079800"/>
              <a:ext cx="14040" cy="332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60920" y="3079800"/>
              <a:ext cx="14400" cy="332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880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7960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4840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553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6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27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2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092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9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553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727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3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8872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9316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8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7276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3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5092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08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760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0984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7864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41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3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6376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7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7972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723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2196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5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015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189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196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0156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4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7972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438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65648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73880" y="3079800"/>
            <a:ext cx="1296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78320" y="3062160"/>
            <a:ext cx="370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15920" y="3657240"/>
            <a:ext cx="14698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8800" y="3311640"/>
            <a:ext cx="3484440" cy="211320"/>
            <a:chOff x="5338800" y="3311640"/>
            <a:chExt cx="3484440" cy="211320"/>
          </a:xfrm>
        </p:grpSpPr>
        <p:sp>
          <p:nvSpPr>
            <p:cNvPr id="390" name=""/>
            <p:cNvSpPr/>
            <p:nvPr/>
          </p:nvSpPr>
          <p:spPr>
            <a:xfrm>
              <a:off x="5338800" y="333216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81040" y="333216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49840" y="331164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75520" y="334008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17760" y="334008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6560" y="33195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284800" y="4334040"/>
            <a:ext cx="3699000" cy="690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3505320" y="2019240"/>
            <a:ext cx="2158920" cy="650160"/>
            <a:chOff x="3505320" y="2019240"/>
            <a:chExt cx="2158920" cy="650160"/>
          </a:xfrm>
        </p:grpSpPr>
        <p:sp>
          <p:nvSpPr>
            <p:cNvPr id="398" name=""/>
            <p:cNvSpPr/>
            <p:nvPr/>
          </p:nvSpPr>
          <p:spPr>
            <a:xfrm>
              <a:off x="3505320" y="2095560"/>
              <a:ext cx="152280" cy="152280"/>
            </a:xfrm>
            <a:prstGeom prst="rect">
              <a:avLst/>
            </a:prstGeom>
            <a:solidFill>
              <a:srgbClr val="c09e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88200" y="2019240"/>
              <a:ext cx="19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y 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2438280"/>
              <a:ext cx="15228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89640" y="236232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2155320" y="5486400"/>
            <a:ext cx="217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195800" y="5497560"/>
            <a:ext cx="217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380280" y="5497560"/>
            <a:ext cx="2188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0" y="1981080"/>
          <a:ext cx="8348760" cy="38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3487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7315200" y="2224080"/>
            <a:ext cx="156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18280" y="5745240"/>
            <a:ext cx="21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 Pacific Isl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8320" y="574524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LBW (&lt;5 lbs 8 oz) and VLBW (&lt;3 lbs 4 o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by Race and Ethnicity: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72440" y="389880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72440" y="476424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35760" y="574524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1616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 of liv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85240" y="553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74400" y="5497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63560" y="54975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64040" y="54975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8097480" y="411480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06400" y="434232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03160" y="520740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097480" y="497196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315200" y="1676520"/>
            <a:ext cx="1384200" cy="1143000"/>
            <a:chOff x="7315200" y="1676520"/>
            <a:chExt cx="1384200" cy="1143000"/>
          </a:xfrm>
        </p:grpSpPr>
        <p:graphicFrame>
          <p:nvGraphicFramePr>
            <p:cNvPr id="427" name=""/>
            <p:cNvGraphicFramePr/>
            <p:nvPr/>
          </p:nvGraphicFramePr>
          <p:xfrm>
            <a:off x="7315200" y="1676520"/>
            <a:ext cx="1384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676520"/>
                      <a:ext cx="1384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7456680" y="1969920"/>
              <a:ext cx="1200600" cy="82800"/>
            </a:xfrm>
            <a:custGeom>
              <a:avLst/>
              <a:gdLst/>
              <a:ahLst/>
              <a:rect l="l" t="t" r="r" b="b"/>
              <a:pathLst>
                <a:path w="1119" h="52">
                  <a:moveTo>
                    <a:pt x="0" y="46"/>
                  </a:moveTo>
                  <a:lnTo>
                    <a:pt x="66" y="46"/>
                  </a:lnTo>
                  <a:lnTo>
                    <a:pt x="119" y="46"/>
                  </a:lnTo>
                  <a:lnTo>
                    <a:pt x="173" y="52"/>
                  </a:lnTo>
                  <a:lnTo>
                    <a:pt x="230" y="48"/>
                  </a:lnTo>
                  <a:lnTo>
                    <a:pt x="284" y="48"/>
                  </a:lnTo>
                  <a:lnTo>
                    <a:pt x="339" y="40"/>
                  </a:lnTo>
                  <a:lnTo>
                    <a:pt x="395" y="42"/>
                  </a:lnTo>
                  <a:lnTo>
                    <a:pt x="450" y="37"/>
                  </a:lnTo>
                  <a:lnTo>
                    <a:pt x="504" y="37"/>
                  </a:lnTo>
                  <a:lnTo>
                    <a:pt x="558" y="31"/>
                  </a:lnTo>
                  <a:lnTo>
                    <a:pt x="615" y="31"/>
                  </a:lnTo>
                  <a:lnTo>
                    <a:pt x="669" y="27"/>
                  </a:lnTo>
                  <a:lnTo>
                    <a:pt x="720" y="21"/>
                  </a:lnTo>
                  <a:lnTo>
                    <a:pt x="780" y="21"/>
                  </a:lnTo>
                  <a:lnTo>
                    <a:pt x="831" y="15"/>
                  </a:lnTo>
                  <a:lnTo>
                    <a:pt x="887" y="12"/>
                  </a:lnTo>
                  <a:lnTo>
                    <a:pt x="942" y="4"/>
                  </a:lnTo>
                  <a:lnTo>
                    <a:pt x="996" y="6"/>
                  </a:lnTo>
                  <a:lnTo>
                    <a:pt x="1053" y="6"/>
                  </a:lnTo>
                  <a:lnTo>
                    <a:pt x="1119" y="0"/>
                  </a:ln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59920" y="2481120"/>
              <a:ext cx="1194120" cy="24120"/>
            </a:xfrm>
            <a:custGeom>
              <a:avLst/>
              <a:gdLst/>
              <a:ahLst/>
              <a:rect l="l" t="t" r="r" b="b"/>
              <a:pathLst>
                <a:path w="1113" h="15">
                  <a:moveTo>
                    <a:pt x="0" y="14"/>
                  </a:moveTo>
                  <a:lnTo>
                    <a:pt x="63" y="15"/>
                  </a:lnTo>
                  <a:lnTo>
                    <a:pt x="116" y="14"/>
                  </a:lnTo>
                  <a:lnTo>
                    <a:pt x="171" y="14"/>
                  </a:lnTo>
                  <a:lnTo>
                    <a:pt x="225" y="14"/>
                  </a:lnTo>
                  <a:lnTo>
                    <a:pt x="282" y="14"/>
                  </a:lnTo>
                  <a:lnTo>
                    <a:pt x="336" y="12"/>
                  </a:lnTo>
                  <a:lnTo>
                    <a:pt x="392" y="12"/>
                  </a:lnTo>
                  <a:lnTo>
                    <a:pt x="447" y="9"/>
                  </a:lnTo>
                  <a:lnTo>
                    <a:pt x="500" y="11"/>
                  </a:lnTo>
                  <a:lnTo>
                    <a:pt x="555" y="8"/>
                  </a:lnTo>
                  <a:lnTo>
                    <a:pt x="611" y="9"/>
                  </a:lnTo>
                  <a:lnTo>
                    <a:pt x="666" y="6"/>
                  </a:lnTo>
                  <a:lnTo>
                    <a:pt x="719" y="6"/>
                  </a:lnTo>
                  <a:lnTo>
                    <a:pt x="774" y="3"/>
                  </a:lnTo>
                  <a:lnTo>
                    <a:pt x="828" y="3"/>
                  </a:lnTo>
                  <a:lnTo>
                    <a:pt x="885" y="3"/>
                  </a:lnTo>
                  <a:lnTo>
                    <a:pt x="939" y="2"/>
                  </a:lnTo>
                  <a:lnTo>
                    <a:pt x="993" y="0"/>
                  </a:lnTo>
                  <a:lnTo>
                    <a:pt x="1047" y="3"/>
                  </a:lnTo>
                  <a:lnTo>
                    <a:pt x="1113" y="2"/>
                  </a:lnTo>
                </a:path>
              </a:pathLst>
            </a:custGeom>
            <a:noFill/>
            <a:ln w="38160">
              <a:solidFill>
                <a:srgbClr val="c09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 flipH="1">
            <a:off x="2155320" y="5486400"/>
            <a:ext cx="217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95800" y="5497560"/>
            <a:ext cx="217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380280" y="5497560"/>
            <a:ext cx="2188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1981080"/>
          <a:ext cx="8348760" cy="38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3487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7315200" y="2224080"/>
            <a:ext cx="156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18280" y="5745240"/>
            <a:ext cx="21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 Pacific Isl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8320" y="574524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LBW (&lt;5 lbs 8 oz) and VLBW (&lt;3 lbs 4 o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by Race and Ethnicity: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272440" y="389880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72440" y="476424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35760" y="574524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1616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of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505320" y="2019240"/>
            <a:ext cx="2158920" cy="650160"/>
            <a:chOff x="3505320" y="2019240"/>
            <a:chExt cx="2158920" cy="650160"/>
          </a:xfrm>
        </p:grpSpPr>
        <p:sp>
          <p:nvSpPr>
            <p:cNvPr id="448" name=""/>
            <p:cNvSpPr/>
            <p:nvPr/>
          </p:nvSpPr>
          <p:spPr>
            <a:xfrm>
              <a:off x="3505320" y="2095560"/>
              <a:ext cx="152280" cy="152280"/>
            </a:xfrm>
            <a:prstGeom prst="rect">
              <a:avLst/>
            </a:prstGeom>
            <a:solidFill>
              <a:srgbClr val="c09e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88200" y="2019240"/>
              <a:ext cx="19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y 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2438280"/>
              <a:ext cx="15228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89640" y="236232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85240" y="553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4400" y="5497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63560" y="54975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64040" y="54975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097480" y="411480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806400" y="434232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03160" y="520740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097480" y="497196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315200" y="1676520"/>
            <a:ext cx="1384200" cy="1143000"/>
            <a:chOff x="7315200" y="1676520"/>
            <a:chExt cx="1384200" cy="1143000"/>
          </a:xfrm>
        </p:grpSpPr>
        <p:graphicFrame>
          <p:nvGraphicFramePr>
            <p:cNvPr id="461" name=""/>
            <p:cNvGraphicFramePr/>
            <p:nvPr/>
          </p:nvGraphicFramePr>
          <p:xfrm>
            <a:off x="7315200" y="1676520"/>
            <a:ext cx="1384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676520"/>
                      <a:ext cx="1384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7456680" y="1969920"/>
              <a:ext cx="1200600" cy="82800"/>
            </a:xfrm>
            <a:custGeom>
              <a:avLst/>
              <a:gdLst/>
              <a:ahLst/>
              <a:rect l="l" t="t" r="r" b="b"/>
              <a:pathLst>
                <a:path w="1119" h="52">
                  <a:moveTo>
                    <a:pt x="0" y="46"/>
                  </a:moveTo>
                  <a:lnTo>
                    <a:pt x="66" y="46"/>
                  </a:lnTo>
                  <a:lnTo>
                    <a:pt x="119" y="46"/>
                  </a:lnTo>
                  <a:lnTo>
                    <a:pt x="173" y="52"/>
                  </a:lnTo>
                  <a:lnTo>
                    <a:pt x="230" y="48"/>
                  </a:lnTo>
                  <a:lnTo>
                    <a:pt x="284" y="48"/>
                  </a:lnTo>
                  <a:lnTo>
                    <a:pt x="339" y="40"/>
                  </a:lnTo>
                  <a:lnTo>
                    <a:pt x="395" y="42"/>
                  </a:lnTo>
                  <a:lnTo>
                    <a:pt x="450" y="37"/>
                  </a:lnTo>
                  <a:lnTo>
                    <a:pt x="504" y="37"/>
                  </a:lnTo>
                  <a:lnTo>
                    <a:pt x="558" y="31"/>
                  </a:lnTo>
                  <a:lnTo>
                    <a:pt x="615" y="31"/>
                  </a:lnTo>
                  <a:lnTo>
                    <a:pt x="669" y="27"/>
                  </a:lnTo>
                  <a:lnTo>
                    <a:pt x="720" y="21"/>
                  </a:lnTo>
                  <a:lnTo>
                    <a:pt x="780" y="21"/>
                  </a:lnTo>
                  <a:lnTo>
                    <a:pt x="831" y="15"/>
                  </a:lnTo>
                  <a:lnTo>
                    <a:pt x="887" y="12"/>
                  </a:lnTo>
                  <a:lnTo>
                    <a:pt x="942" y="4"/>
                  </a:lnTo>
                  <a:lnTo>
                    <a:pt x="996" y="6"/>
                  </a:lnTo>
                  <a:lnTo>
                    <a:pt x="1053" y="6"/>
                  </a:lnTo>
                  <a:lnTo>
                    <a:pt x="1119" y="0"/>
                  </a:ln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59920" y="2481120"/>
              <a:ext cx="1194120" cy="24120"/>
            </a:xfrm>
            <a:custGeom>
              <a:avLst/>
              <a:gdLst/>
              <a:ahLst/>
              <a:rect l="l" t="t" r="r" b="b"/>
              <a:pathLst>
                <a:path w="1113" h="15">
                  <a:moveTo>
                    <a:pt x="0" y="14"/>
                  </a:moveTo>
                  <a:lnTo>
                    <a:pt x="63" y="15"/>
                  </a:lnTo>
                  <a:lnTo>
                    <a:pt x="116" y="14"/>
                  </a:lnTo>
                  <a:lnTo>
                    <a:pt x="171" y="14"/>
                  </a:lnTo>
                  <a:lnTo>
                    <a:pt x="225" y="14"/>
                  </a:lnTo>
                  <a:lnTo>
                    <a:pt x="282" y="14"/>
                  </a:lnTo>
                  <a:lnTo>
                    <a:pt x="336" y="12"/>
                  </a:lnTo>
                  <a:lnTo>
                    <a:pt x="392" y="12"/>
                  </a:lnTo>
                  <a:lnTo>
                    <a:pt x="447" y="9"/>
                  </a:lnTo>
                  <a:lnTo>
                    <a:pt x="500" y="11"/>
                  </a:lnTo>
                  <a:lnTo>
                    <a:pt x="555" y="8"/>
                  </a:lnTo>
                  <a:lnTo>
                    <a:pt x="611" y="9"/>
                  </a:lnTo>
                  <a:lnTo>
                    <a:pt x="666" y="6"/>
                  </a:lnTo>
                  <a:lnTo>
                    <a:pt x="719" y="6"/>
                  </a:lnTo>
                  <a:lnTo>
                    <a:pt x="774" y="3"/>
                  </a:lnTo>
                  <a:lnTo>
                    <a:pt x="828" y="3"/>
                  </a:lnTo>
                  <a:lnTo>
                    <a:pt x="885" y="3"/>
                  </a:lnTo>
                  <a:lnTo>
                    <a:pt x="939" y="2"/>
                  </a:lnTo>
                  <a:lnTo>
                    <a:pt x="993" y="0"/>
                  </a:lnTo>
                  <a:lnTo>
                    <a:pt x="1047" y="3"/>
                  </a:lnTo>
                  <a:lnTo>
                    <a:pt x="1113" y="2"/>
                  </a:lnTo>
                </a:path>
              </a:pathLst>
            </a:custGeom>
            <a:noFill/>
            <a:ln w="38160">
              <a:solidFill>
                <a:srgbClr val="c09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5" name=""/>
          <p:cNvGraphicFramePr/>
          <p:nvPr/>
        </p:nvGraphicFramePr>
        <p:xfrm>
          <a:off x="1809720" y="1085760"/>
          <a:ext cx="5524560" cy="4746600"/>
        </p:xfrm>
        <a:graphic>
          <a:graphicData uri="http://schemas.openxmlformats.org/drawingml/2006/table">
            <a:tbl>
              <a:tblPr/>
              <a:tblGrid>
                <a:gridCol w="1625760"/>
                <a:gridCol w="3898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nomic and Social I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lth car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– fold differential in first year medical costs between VLBW infants and all infants born in the U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uc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ldren born LBW are almost 50% more likely to be enrolled in any type of special education than children who were normal weight at birt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servi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ent disaggregated costs are not available.  Costs would include developmental services, day care programs, case management and counseling, respite care and residential ca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 expens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 care for LBW infants directly attributed to an infants illness account for 2 - 4% of a family's inc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1906560" y="1523880"/>
            <a:ext cx="521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2057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Healthy Pregnancies and Healthy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80880" y="3201840"/>
          <a:ext cx="8382240" cy="27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1840"/>
                    <a:ext cx="83822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76320" y="2031840"/>
          <a:ext cx="873108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31840"/>
                    <a:ext cx="87310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Early Prenatal Care (First Trimeste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Ethnicity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81280" y="3840120"/>
            <a:ext cx="5937120" cy="198360"/>
          </a:xfrm>
          <a:custGeom>
            <a:avLst/>
            <a:gdLst/>
            <a:ahLst/>
            <a:rect l="l" t="t" r="r" b="b"/>
            <a:pathLst>
              <a:path w="3740" h="125">
                <a:moveTo>
                  <a:pt x="0" y="125"/>
                </a:moveTo>
                <a:lnTo>
                  <a:pt x="1259" y="59"/>
                </a:lnTo>
                <a:lnTo>
                  <a:pt x="2484" y="0"/>
                </a:lnTo>
                <a:lnTo>
                  <a:pt x="3740" y="0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1724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0840" y="541008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66880" y="4602240"/>
            <a:ext cx="5967360" cy="102960"/>
          </a:xfrm>
          <a:custGeom>
            <a:avLst/>
            <a:gdLst/>
            <a:ahLst/>
            <a:rect l="l" t="t" r="r" b="b"/>
            <a:pathLst>
              <a:path w="3759" h="60">
                <a:moveTo>
                  <a:pt x="0" y="60"/>
                </a:moveTo>
                <a:lnTo>
                  <a:pt x="1262" y="0"/>
                </a:lnTo>
                <a:lnTo>
                  <a:pt x="2489" y="60"/>
                </a:lnTo>
                <a:lnTo>
                  <a:pt x="3759" y="59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84520" y="4067280"/>
            <a:ext cx="5910120" cy="209520"/>
          </a:xfrm>
          <a:custGeom>
            <a:avLst/>
            <a:gdLst/>
            <a:ahLst/>
            <a:rect l="l" t="t" r="r" b="b"/>
            <a:pathLst>
              <a:path w="3723" h="120">
                <a:moveTo>
                  <a:pt x="0" y="120"/>
                </a:moveTo>
                <a:lnTo>
                  <a:pt x="1254" y="60"/>
                </a:lnTo>
                <a:lnTo>
                  <a:pt x="2482" y="60"/>
                </a:lnTo>
                <a:lnTo>
                  <a:pt x="3723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3400" y="4203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0560" y="466236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8160" y="2443320"/>
            <a:ext cx="11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68320" y="2879640"/>
            <a:ext cx="5950080" cy="1800"/>
          </a:xfrm>
          <a:custGeom>
            <a:avLst/>
            <a:gdLst/>
            <a:ahLst/>
            <a:rect l="l" t="t" r="r" b="b"/>
            <a:pathLst>
              <a:path w="3748" h="1">
                <a:moveTo>
                  <a:pt x="0" y="0"/>
                </a:moveTo>
                <a:lnTo>
                  <a:pt x="1268" y="0"/>
                </a:lnTo>
                <a:lnTo>
                  <a:pt x="2492" y="0"/>
                </a:lnTo>
                <a:lnTo>
                  <a:pt x="3748" y="0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7520" y="3198960"/>
            <a:ext cx="5991120" cy="4680"/>
          </a:xfrm>
          <a:custGeom>
            <a:avLst/>
            <a:gdLst/>
            <a:ahLst/>
            <a:rect l="l" t="t" r="r" b="b"/>
            <a:pathLst>
              <a:path w="3774" h="3">
                <a:moveTo>
                  <a:pt x="0" y="2"/>
                </a:moveTo>
                <a:lnTo>
                  <a:pt x="1272" y="0"/>
                </a:lnTo>
                <a:lnTo>
                  <a:pt x="2499" y="3"/>
                </a:lnTo>
                <a:lnTo>
                  <a:pt x="3774" y="3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4520" y="3952800"/>
            <a:ext cx="5938560" cy="225360"/>
          </a:xfrm>
          <a:custGeom>
            <a:avLst/>
            <a:gdLst/>
            <a:ahLst/>
            <a:rect l="l" t="t" r="r" b="b"/>
            <a:pathLst>
              <a:path w="3741" h="129">
                <a:moveTo>
                  <a:pt x="0" y="128"/>
                </a:moveTo>
                <a:lnTo>
                  <a:pt x="1255" y="128"/>
                </a:lnTo>
                <a:lnTo>
                  <a:pt x="2482" y="129"/>
                </a:lnTo>
                <a:lnTo>
                  <a:pt x="3741" y="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0560" y="28018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92240" y="31748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94640" y="37749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3880" y="351936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Other Pacific 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70120" y="2556000"/>
            <a:ext cx="5954760" cy="114120"/>
          </a:xfrm>
          <a:custGeom>
            <a:avLst/>
            <a:gdLst/>
            <a:ahLst/>
            <a:rect l="l" t="t" r="r" b="b"/>
            <a:pathLst>
              <a:path w="3751" h="66">
                <a:moveTo>
                  <a:pt x="0" y="65"/>
                </a:moveTo>
                <a:lnTo>
                  <a:pt x="1261" y="66"/>
                </a:lnTo>
                <a:lnTo>
                  <a:pt x="2491" y="3"/>
                </a:lnTo>
                <a:lnTo>
                  <a:pt x="3751" y="0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49160" y="5129280"/>
            <a:ext cx="241200" cy="174240"/>
            <a:chOff x="749160" y="5129280"/>
            <a:chExt cx="241200" cy="174240"/>
          </a:xfrm>
        </p:grpSpPr>
        <p:sp>
          <p:nvSpPr>
            <p:cNvPr id="491" name=""/>
            <p:cNvSpPr/>
            <p:nvPr/>
          </p:nvSpPr>
          <p:spPr>
            <a:xfrm rot="20562000">
              <a:off x="822240" y="5173200"/>
              <a:ext cx="9828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49160" y="5129280"/>
              <a:ext cx="2412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49160" y="5220000"/>
              <a:ext cx="24120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463760" y="1941480"/>
            <a:ext cx="6613560" cy="469440"/>
            <a:chOff x="1463760" y="1941480"/>
            <a:chExt cx="6613560" cy="469440"/>
          </a:xfrm>
        </p:grpSpPr>
        <p:sp>
          <p:nvSpPr>
            <p:cNvPr id="495" name=""/>
            <p:cNvSpPr/>
            <p:nvPr/>
          </p:nvSpPr>
          <p:spPr>
            <a:xfrm>
              <a:off x="1463760" y="2409120"/>
              <a:ext cx="6613560" cy="1800"/>
            </a:xfrm>
            <a:custGeom>
              <a:avLst/>
              <a:gdLst/>
              <a:ahLst/>
              <a:rect l="l" t="t" r="r" b="b"/>
              <a:pathLst>
                <a:path w="4166" h="1">
                  <a:moveTo>
                    <a:pt x="0" y="0"/>
                  </a:moveTo>
                  <a:lnTo>
                    <a:pt x="4166" y="0"/>
                  </a:lnTo>
                </a:path>
              </a:pathLst>
            </a:custGeom>
            <a:noFill/>
            <a:ln w="69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42720" y="1941480"/>
              <a:ext cx="1443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7660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-44280" y="1981080"/>
          <a:ext cx="873108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280" y="1981080"/>
                    <a:ext cx="87310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Pregnant Women Abstaining from Smoking by Race and Ethnicity: 1998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2320" y="3641760"/>
            <a:ext cx="5774040" cy="142920"/>
          </a:xfrm>
          <a:custGeom>
            <a:avLst/>
            <a:gdLst/>
            <a:ahLst/>
            <a:rect l="l" t="t" r="r" b="b"/>
            <a:pathLst>
              <a:path w="3637" h="90">
                <a:moveTo>
                  <a:pt x="0" y="90"/>
                </a:moveTo>
                <a:lnTo>
                  <a:pt x="1221" y="0"/>
                </a:lnTo>
                <a:lnTo>
                  <a:pt x="2419" y="0"/>
                </a:lnTo>
                <a:lnTo>
                  <a:pt x="3637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5181480"/>
            <a:ext cx="43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09720" y="2690640"/>
            <a:ext cx="5850000" cy="5040"/>
          </a:xfrm>
          <a:custGeom>
            <a:avLst/>
            <a:gdLst/>
            <a:ahLst/>
            <a:rect l="l" t="t" r="r" b="b"/>
            <a:pathLst>
              <a:path w="3685" h="3">
                <a:moveTo>
                  <a:pt x="0" y="3"/>
                </a:moveTo>
                <a:lnTo>
                  <a:pt x="1245" y="0"/>
                </a:lnTo>
                <a:lnTo>
                  <a:pt x="2443" y="0"/>
                </a:lnTo>
                <a:lnTo>
                  <a:pt x="3685" y="0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81280" y="4051440"/>
            <a:ext cx="5852880" cy="142560"/>
          </a:xfrm>
          <a:custGeom>
            <a:avLst/>
            <a:gdLst/>
            <a:ahLst/>
            <a:rect l="l" t="t" r="r" b="b"/>
            <a:pathLst>
              <a:path w="3687" h="90">
                <a:moveTo>
                  <a:pt x="0" y="88"/>
                </a:moveTo>
                <a:lnTo>
                  <a:pt x="1250" y="90"/>
                </a:lnTo>
                <a:lnTo>
                  <a:pt x="2450" y="0"/>
                </a:lnTo>
                <a:lnTo>
                  <a:pt x="3687" y="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09720" y="2828880"/>
            <a:ext cx="5813280" cy="131760"/>
          </a:xfrm>
          <a:custGeom>
            <a:avLst/>
            <a:gdLst/>
            <a:ahLst/>
            <a:rect l="l" t="t" r="r" b="b"/>
            <a:pathLst>
              <a:path w="3662" h="83">
                <a:moveTo>
                  <a:pt x="0" y="83"/>
                </a:moveTo>
                <a:lnTo>
                  <a:pt x="1230" y="83"/>
                </a:lnTo>
                <a:lnTo>
                  <a:pt x="2430" y="0"/>
                </a:lnTo>
                <a:lnTo>
                  <a:pt x="3662" y="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03320" y="25160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38098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89520" y="281952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15080" y="4249800"/>
            <a:ext cx="146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Other Pa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19440" y="4600440"/>
            <a:ext cx="5800680" cy="1800"/>
          </a:xfrm>
          <a:custGeom>
            <a:avLst/>
            <a:gdLst/>
            <a:ahLst/>
            <a:rect l="l" t="t" r="r" b="b"/>
            <a:pathLst>
              <a:path w="3654" h="1">
                <a:moveTo>
                  <a:pt x="0" y="0"/>
                </a:moveTo>
                <a:lnTo>
                  <a:pt x="1226" y="0"/>
                </a:lnTo>
                <a:lnTo>
                  <a:pt x="2424" y="0"/>
                </a:lnTo>
                <a:lnTo>
                  <a:pt x="3654" y="0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1724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3400" y="32860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79480" y="5137200"/>
            <a:ext cx="5862600" cy="1440"/>
          </a:xfrm>
          <a:custGeom>
            <a:avLst/>
            <a:gdLst/>
            <a:ahLst/>
            <a:rect l="l" t="t" r="r" b="b"/>
            <a:pathLst>
              <a:path w="3693" h="1">
                <a:moveTo>
                  <a:pt x="0" y="1"/>
                </a:moveTo>
                <a:lnTo>
                  <a:pt x="1246" y="0"/>
                </a:lnTo>
                <a:lnTo>
                  <a:pt x="2451" y="0"/>
                </a:lnTo>
                <a:lnTo>
                  <a:pt x="3693" y="1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17640" y="4324320"/>
            <a:ext cx="5797440" cy="276120"/>
          </a:xfrm>
          <a:custGeom>
            <a:avLst/>
            <a:gdLst/>
            <a:ahLst/>
            <a:rect l="l" t="t" r="r" b="b"/>
            <a:pathLst>
              <a:path w="3652" h="174">
                <a:moveTo>
                  <a:pt x="0" y="174"/>
                </a:moveTo>
                <a:lnTo>
                  <a:pt x="1227" y="0"/>
                </a:lnTo>
                <a:lnTo>
                  <a:pt x="2425" y="84"/>
                </a:lnTo>
                <a:lnTo>
                  <a:pt x="3652" y="84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6320" y="5562720"/>
            <a:ext cx="658800" cy="852480"/>
            <a:chOff x="76320" y="5562720"/>
            <a:chExt cx="658800" cy="852480"/>
          </a:xfrm>
        </p:grpSpPr>
        <p:sp>
          <p:nvSpPr>
            <p:cNvPr id="521" name=""/>
            <p:cNvSpPr/>
            <p:nvPr/>
          </p:nvSpPr>
          <p:spPr>
            <a:xfrm>
              <a:off x="76320" y="5562720"/>
              <a:ext cx="6588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3040" y="556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62120" y="5327640"/>
            <a:ext cx="241200" cy="158760"/>
            <a:chOff x="762120" y="5327640"/>
            <a:chExt cx="241200" cy="158760"/>
          </a:xfrm>
        </p:grpSpPr>
        <p:sp>
          <p:nvSpPr>
            <p:cNvPr id="524" name=""/>
            <p:cNvSpPr/>
            <p:nvPr/>
          </p:nvSpPr>
          <p:spPr>
            <a:xfrm rot="20562000">
              <a:off x="835200" y="5367240"/>
              <a:ext cx="98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62120" y="5327640"/>
              <a:ext cx="241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62120" y="5410440"/>
              <a:ext cx="241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747880" y="47052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2252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7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24000" y="2475000"/>
            <a:ext cx="6613560" cy="14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43040" y="20700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751120" y="5697360"/>
            <a:ext cx="3962520" cy="141120"/>
            <a:chOff x="2751120" y="5697360"/>
            <a:chExt cx="3962520" cy="141120"/>
          </a:xfrm>
        </p:grpSpPr>
        <p:sp>
          <p:nvSpPr>
            <p:cNvPr id="533" name=""/>
            <p:cNvSpPr/>
            <p:nvPr/>
          </p:nvSpPr>
          <p:spPr>
            <a:xfrm>
              <a:off x="2751120" y="569736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56240" y="569736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61000" y="5697360"/>
              <a:ext cx="1526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55440" y="1967040"/>
          <a:ext cx="8707680" cy="37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67040"/>
                    <a:ext cx="8707680" cy="37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4912560" y="20574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10240" y="5958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i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541008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11400" y="5410080"/>
            <a:ext cx="68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63240" y="6095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ce/Ethn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49200" y="539424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2151000" y="6120"/>
            <a:ext cx="423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in month preceding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Swis721 BT"/>
              </a:rPr>
              <a:t>Pregnant Women Abstaining from Alcohol by Race/Ethnicity and Trimester: 200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79600" y="5410080"/>
            <a:ext cx="607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018920" y="4626360"/>
            <a:ext cx="274680" cy="24508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720 h 2450880"/>
              <a:gd name="textAreaBottom" fmla="*/ 2387160 h 24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39240" y="5410080"/>
            <a:ext cx="1489320" cy="322200"/>
            <a:chOff x="3639240" y="5410080"/>
            <a:chExt cx="1489320" cy="322200"/>
          </a:xfrm>
        </p:grpSpPr>
        <p:sp>
          <p:nvSpPr>
            <p:cNvPr id="550" name=""/>
            <p:cNvSpPr/>
            <p:nvPr/>
          </p:nvSpPr>
          <p:spPr>
            <a:xfrm>
              <a:off x="3639240" y="5410080"/>
              <a:ext cx="698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85520" y="5410080"/>
              <a:ext cx="743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Whi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669400" y="5410080"/>
            <a:ext cx="109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3812400" y="4779000"/>
            <a:ext cx="274680" cy="25081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92252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7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320" y="6338880"/>
            <a:ext cx="5252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SDUH, OAS, SAMH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98520" y="5105520"/>
            <a:ext cx="439200" cy="852480"/>
            <a:chOff x="398520" y="5105520"/>
            <a:chExt cx="439200" cy="852480"/>
          </a:xfrm>
        </p:grpSpPr>
        <p:sp>
          <p:nvSpPr>
            <p:cNvPr id="558" name=""/>
            <p:cNvSpPr/>
            <p:nvPr/>
          </p:nvSpPr>
          <p:spPr>
            <a:xfrm>
              <a:off x="398520" y="5105520"/>
              <a:ext cx="439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520" y="5178600"/>
              <a:ext cx="3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5480" y="5699160"/>
            <a:ext cx="140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14760" y="5703840"/>
            <a:ext cx="1566720" cy="11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179360" y="2376000"/>
            <a:ext cx="7126560" cy="69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-76320" y="2057400"/>
          <a:ext cx="87076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057400"/>
                    <a:ext cx="87076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44280" y="3049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reastfeeding by Race: 200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4000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0432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i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95920" y="5759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9988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Abbott Laborato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1280160" y="62928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of m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9840" y="302580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0680" y="2062080"/>
            <a:ext cx="15228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91240" y="1981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Hos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87280" y="224784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t 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0680" y="25956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92320" y="2514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t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6400" y="3457440"/>
            <a:ext cx="7494480" cy="748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99840" y="366552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6400" y="4092480"/>
            <a:ext cx="7494480" cy="748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899840" y="446868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6400" y="4916520"/>
            <a:ext cx="749448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0680" y="2328840"/>
            <a:ext cx="15228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1447920"/>
          <a:ext cx="449568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49568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793880" y="17208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selin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1774800"/>
            <a:ext cx="228600" cy="228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495680" y="1447920"/>
          <a:ext cx="4496040" cy="45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447920"/>
                    <a:ext cx="449604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729720" y="5715000"/>
            <a:ext cx="358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dian RBC Folat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43640" y="17208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st rec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38360" y="1774800"/>
            <a:ext cx="228600" cy="2286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-549720" y="379152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(ng/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9240" y="5715000"/>
            <a:ext cx="39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pina bifida and other N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4189320" y="37814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12680" y="2924280"/>
            <a:ext cx="300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180200" y="1720800"/>
            <a:ext cx="1655640" cy="337320"/>
            <a:chOff x="7180200" y="1720800"/>
            <a:chExt cx="1655640" cy="337320"/>
          </a:xfrm>
        </p:grpSpPr>
        <p:sp>
          <p:nvSpPr>
            <p:cNvPr id="600" name=""/>
            <p:cNvSpPr/>
            <p:nvPr/>
          </p:nvSpPr>
          <p:spPr>
            <a:xfrm>
              <a:off x="7180200" y="1889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29040" y="172080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0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Red Blood Cell Folate Level an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Neural Tube Def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9760" y="53402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1-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03680" y="5356080"/>
            <a:ext cx="1055520" cy="3070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9-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0920" y="53560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8840" y="5365800"/>
            <a:ext cx="589320" cy="3070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14840" y="4398840"/>
            <a:ext cx="300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78760" y="640080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6b &amp; 16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HANES, NCHS, CDC; NBDPN, NCBDDD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1200" y="606420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nonpregnant women 15 – 44 ye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38320" y="606420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live births &amp; fetal deaths &gt;20 wks. ges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743200"/>
            <a:ext cx="373392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nal complications during labor and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nal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sarean bir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ctopic pregnancie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Maternal Mortality and Morbidity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47712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evelopmental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-173160" y="2016000"/>
          <a:ext cx="8936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3160" y="2016000"/>
                    <a:ext cx="8936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1739880" y="3306600"/>
            <a:ext cx="5118120" cy="1370160"/>
          </a:xfrm>
          <a:custGeom>
            <a:avLst/>
            <a:gdLst/>
            <a:ahLst/>
            <a:rect l="l" t="t" r="r" b="b"/>
            <a:pathLst>
              <a:path w="3224" h="863">
                <a:moveTo>
                  <a:pt x="0" y="863"/>
                </a:moveTo>
                <a:lnTo>
                  <a:pt x="813" y="359"/>
                </a:lnTo>
                <a:lnTo>
                  <a:pt x="1608" y="287"/>
                </a:lnTo>
                <a:lnTo>
                  <a:pt x="2389" y="63"/>
                </a:lnTo>
                <a:lnTo>
                  <a:pt x="3224" y="0"/>
                </a:lnTo>
              </a:path>
            </a:pathLst>
          </a:custGeom>
          <a:noFill/>
          <a:ln w="889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08680" y="609588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28000" y="610560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4696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6628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8560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2364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280" y="12708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Sudden Infant Death Syndrome and Sleep Position: 1996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400000">
            <a:off x="2061360" y="310320"/>
            <a:ext cx="423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IDS de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6821280" y="345960"/>
            <a:ext cx="423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ahoma"/>
              </a:rPr>
              <a:t>Infants put to sleep on their b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2061360" y="585000"/>
            <a:ext cx="423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Per 100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6941880" y="741240"/>
            <a:ext cx="4237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s: NVSS, NCHS, CDC; NISPS, NICHD, NI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87200" y="64008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h &amp; 16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62160" y="5083200"/>
            <a:ext cx="7235640" cy="1000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6440" y="3203640"/>
            <a:ext cx="7199280" cy="1141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52360" y="4626000"/>
            <a:ext cx="10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IDS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27000" y="277020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leep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320" y="647712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evelopmental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Children with Special Health Care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33520" y="3186000"/>
          <a:ext cx="800100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86000"/>
                    <a:ext cx="80010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55440" y="1967040"/>
          <a:ext cx="87076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67040"/>
                    <a:ext cx="87076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7488720" y="6110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10280" y="5653080"/>
            <a:ext cx="100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68800" y="5662440"/>
            <a:ext cx="68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Fem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7880" y="57135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2151000" y="6120"/>
            <a:ext cx="423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Proportion of Children with Special Health Care Needs by Race/Ethnicity, Age and Sex: 20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24400" y="56642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2 to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7649280" y="5332680"/>
            <a:ext cx="274680" cy="1247760"/>
          </a:xfrm>
          <a:custGeom>
            <a:avLst/>
            <a:gdLst>
              <a:gd name="textAreaLeft" fmla="*/ 175680 w 274680"/>
              <a:gd name="textAreaRight" fmla="*/ 275040 w 274680"/>
              <a:gd name="textAreaTop" fmla="*/ 32400 h 1247760"/>
              <a:gd name="textAreaBottom" fmla="*/ 1215360 h 12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8900000">
            <a:off x="3151800" y="580788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8900000">
            <a:off x="3778920" y="581904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8900000">
            <a:off x="2871000" y="58204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80880" y="5396040"/>
            <a:ext cx="354240" cy="852480"/>
            <a:chOff x="380880" y="5396040"/>
            <a:chExt cx="354240" cy="852480"/>
          </a:xfrm>
        </p:grpSpPr>
        <p:sp>
          <p:nvSpPr>
            <p:cNvPr id="651" name=""/>
            <p:cNvSpPr/>
            <p:nvPr/>
          </p:nvSpPr>
          <p:spPr>
            <a:xfrm>
              <a:off x="380880" y="5396040"/>
              <a:ext cx="3542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3040" y="546912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259960" y="61102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in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5860800" y="5139720"/>
            <a:ext cx="274680" cy="1633680"/>
          </a:xfrm>
          <a:custGeom>
            <a:avLst/>
            <a:gdLst>
              <a:gd name="textAreaLeft" fmla="*/ 175680 w 274680"/>
              <a:gd name="textAreaRight" fmla="*/ 275040 w 27468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0040" y="566424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94480" y="566424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6 to 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8900000">
            <a:off x="1381680" y="5898600"/>
            <a:ext cx="13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8900000">
            <a:off x="2592720" y="5682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CSHCN, MCHB, HRSA, and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"/>
          <p:cNvGraphicFramePr/>
          <p:nvPr/>
        </p:nvGraphicFramePr>
        <p:xfrm>
          <a:off x="76320" y="1967040"/>
          <a:ext cx="870732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67040"/>
                    <a:ext cx="87073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6681240" y="60958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75800" y="6095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38960" y="57135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Autism In Children (3 to 10 years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Sex: 199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6942960" y="4807440"/>
            <a:ext cx="274680" cy="245124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720 h 2451240"/>
              <a:gd name="textAreaBottom" fmla="*/ 2387520 h 245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07480" y="5622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23880" y="56228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69760" y="56228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707640" y="4779000"/>
            <a:ext cx="274680" cy="25081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2088720" y="153720"/>
            <a:ext cx="423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,000 in Atlanta,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07880" y="5638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24280" y="56386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0160" y="56386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MADDSP, NCBDDD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8936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4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280" y="25146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n be found on the web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572000"/>
            <a:ext cx="8767800" cy="76212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0b01"/>
                </a:solidFill>
                <a:latin typeface="Arial Narrow"/>
              </a:rPr>
              <a:t>http://www.cdc.gov/nchs/hphome.h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8760" y="2070000"/>
          <a:ext cx="787716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0000"/>
                    <a:ext cx="78771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Complications During Labor and Delivery by Race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724760" y="73404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00 deli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644508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HD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6160" y="2571840"/>
            <a:ext cx="5391360" cy="304560"/>
          </a:xfrm>
          <a:custGeom>
            <a:avLst/>
            <a:gdLst/>
            <a:ahLst/>
            <a:rect l="l" t="t" r="r" b="b"/>
            <a:pathLst>
              <a:path w="3396" h="192">
                <a:moveTo>
                  <a:pt x="0" y="68"/>
                </a:moveTo>
                <a:lnTo>
                  <a:pt x="1144" y="192"/>
                </a:lnTo>
                <a:lnTo>
                  <a:pt x="2252" y="0"/>
                </a:lnTo>
                <a:lnTo>
                  <a:pt x="3396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1440" y="2417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9360" y="3259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2640" y="3263760"/>
            <a:ext cx="5375160" cy="42840"/>
          </a:xfrm>
          <a:custGeom>
            <a:avLst/>
            <a:gdLst/>
            <a:ahLst/>
            <a:rect l="l" t="t" r="r" b="b"/>
            <a:pathLst>
              <a:path w="3386" h="27">
                <a:moveTo>
                  <a:pt x="0" y="16"/>
                </a:moveTo>
                <a:lnTo>
                  <a:pt x="1140" y="0"/>
                </a:lnTo>
                <a:lnTo>
                  <a:pt x="2248" y="4"/>
                </a:lnTo>
                <a:lnTo>
                  <a:pt x="3386" y="27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33920" y="2746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9400" y="3124080"/>
            <a:ext cx="5388120" cy="82800"/>
          </a:xfrm>
          <a:custGeom>
            <a:avLst/>
            <a:gdLst/>
            <a:ahLst/>
            <a:rect l="l" t="t" r="r" b="b"/>
            <a:pathLst>
              <a:path w="3394" h="52">
                <a:moveTo>
                  <a:pt x="0" y="52"/>
                </a:moveTo>
                <a:lnTo>
                  <a:pt x="1144" y="40"/>
                </a:lnTo>
                <a:lnTo>
                  <a:pt x="2252" y="0"/>
                </a:lnTo>
                <a:lnTo>
                  <a:pt x="3394" y="2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6445080"/>
            <a:ext cx="287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Note: Data by race may be under repo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11280" y="3798720"/>
            <a:ext cx="6613560" cy="384840"/>
            <a:chOff x="1511280" y="3798720"/>
            <a:chExt cx="6613560" cy="384840"/>
          </a:xfrm>
        </p:grpSpPr>
        <p:sp>
          <p:nvSpPr>
            <p:cNvPr id="75" name=""/>
            <p:cNvSpPr/>
            <p:nvPr/>
          </p:nvSpPr>
          <p:spPr>
            <a:xfrm>
              <a:off x="1511280" y="3798720"/>
              <a:ext cx="6613560" cy="1440"/>
            </a:xfrm>
            <a:custGeom>
              <a:avLst/>
              <a:gdLst/>
              <a:ahLst/>
              <a:rect l="l" t="t" r="r" b="b"/>
              <a:pathLst>
                <a:path w="4166" h="1">
                  <a:moveTo>
                    <a:pt x="0" y="0"/>
                  </a:moveTo>
                  <a:lnTo>
                    <a:pt x="4166" y="0"/>
                  </a:ln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0240" y="3830400"/>
              <a:ext cx="1443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5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3536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056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3744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60480"/>
            <a:ext cx="84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A condition that adversely affects a woman’s physical health during childbirth beyond what would be expected in a normal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Com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During Labor and Delive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6680" y="3886200"/>
            <a:ext cx="82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tetric complications – 30.7% of live bir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existing medical conditions – 4.1% of live bir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9840"/>
            <a:ext cx="4605480" cy="460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03880" y="2500200"/>
            <a:ext cx="4700520" cy="42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00640" y="2505240"/>
            <a:ext cx="4705200" cy="4276440"/>
            <a:chOff x="4400640" y="2505240"/>
            <a:chExt cx="4705200" cy="42764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400640" y="2505240"/>
              <a:ext cx="4705200" cy="42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72000" y="5791320"/>
              <a:ext cx="2362320" cy="0"/>
            </a:xfrm>
            <a:prstGeom prst="line">
              <a:avLst/>
            </a:prstGeom>
            <a:ln w="41400">
              <a:solidFill>
                <a:srgbClr val="ff7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459108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410160" y="1676520"/>
          <a:ext cx="218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0160" y="1676520"/>
                    <a:ext cx="218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647040" y="2028960"/>
            <a:ext cx="1833480" cy="195120"/>
          </a:xfrm>
          <a:custGeom>
            <a:avLst/>
            <a:gdLst/>
            <a:ahLst/>
            <a:rect l="l" t="t" r="r" b="b"/>
            <a:pathLst>
              <a:path w="1083" h="123">
                <a:moveTo>
                  <a:pt x="0" y="47"/>
                </a:moveTo>
                <a:lnTo>
                  <a:pt x="99" y="53"/>
                </a:lnTo>
                <a:lnTo>
                  <a:pt x="187" y="57"/>
                </a:lnTo>
                <a:lnTo>
                  <a:pt x="276" y="74"/>
                </a:lnTo>
                <a:lnTo>
                  <a:pt x="364" y="87"/>
                </a:lnTo>
                <a:lnTo>
                  <a:pt x="453" y="108"/>
                </a:lnTo>
                <a:lnTo>
                  <a:pt x="543" y="119"/>
                </a:lnTo>
                <a:lnTo>
                  <a:pt x="631" y="123"/>
                </a:lnTo>
                <a:lnTo>
                  <a:pt x="720" y="123"/>
                </a:lnTo>
                <a:lnTo>
                  <a:pt x="807" y="108"/>
                </a:lnTo>
                <a:lnTo>
                  <a:pt x="895" y="75"/>
                </a:lnTo>
                <a:lnTo>
                  <a:pt x="981" y="45"/>
                </a:lnTo>
                <a:lnTo>
                  <a:pt x="1083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320" y="1895400"/>
          <a:ext cx="678168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895400"/>
                    <a:ext cx="67816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031160" y="3041640"/>
            <a:ext cx="237960" cy="18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6200" y="5724360"/>
            <a:ext cx="114624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31160" y="3940200"/>
            <a:ext cx="237960" cy="189000"/>
          </a:xfrm>
          <a:prstGeom prst="rect">
            <a:avLst/>
          </a:prstGeom>
          <a:solidFill>
            <a:srgbClr val="c09e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6200" y="5278320"/>
            <a:ext cx="1407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1160" y="3489480"/>
            <a:ext cx="237960" cy="1904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4834080"/>
            <a:ext cx="9842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31160" y="4387680"/>
            <a:ext cx="237960" cy="185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31160" y="4834080"/>
            <a:ext cx="237960" cy="18576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6200" y="3041640"/>
            <a:ext cx="81288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6200" y="3489480"/>
            <a:ext cx="16254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040" y="18018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1963800"/>
            <a:ext cx="1998720" cy="276480"/>
            <a:chOff x="3276720" y="1963800"/>
            <a:chExt cx="1998720" cy="276480"/>
          </a:xfrm>
        </p:grpSpPr>
        <p:sp>
          <p:nvSpPr>
            <p:cNvPr id="109" name=""/>
            <p:cNvSpPr/>
            <p:nvPr/>
          </p:nvSpPr>
          <p:spPr>
            <a:xfrm>
              <a:off x="3276720" y="207036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92880" y="1963800"/>
              <a:ext cx="158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390920" y="2238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35840" y="5278320"/>
            <a:ext cx="237960" cy="185760"/>
          </a:xfrm>
          <a:prstGeom prst="rect">
            <a:avLst/>
          </a:prstGeom>
          <a:solidFill>
            <a:srgbClr val="c09e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48440" y="5724360"/>
            <a:ext cx="238320" cy="18576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4400" y="3959280"/>
            <a:ext cx="6080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4400" y="4387680"/>
            <a:ext cx="169884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Pacific Isla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324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" y="3049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Cesarean Births by Race: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969160"/>
            <a:ext cx="5580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omen giving birth for the fir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50840" y="3568320"/>
            <a:ext cx="539424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56200">
            <a:off x="6570720" y="244800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553080" y="2438280"/>
            <a:ext cx="748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553080" y="2503440"/>
            <a:ext cx="748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6421320" y="25729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37320" y="2190600"/>
            <a:ext cx="190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24480" y="1752480"/>
            <a:ext cx="229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10160" y="1676520"/>
          <a:ext cx="2048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0160" y="1676520"/>
                    <a:ext cx="2048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987560"/>
          <a:ext cx="7877160" cy="455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87560"/>
                    <a:ext cx="78771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371600" y="5089680"/>
            <a:ext cx="2330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Deaths by Race and Ethnicity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1999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95560" y="2895480"/>
            <a:ext cx="4848120" cy="362160"/>
          </a:xfrm>
          <a:custGeom>
            <a:avLst/>
            <a:gdLst/>
            <a:ahLst/>
            <a:rect l="l" t="t" r="r" b="b"/>
            <a:pathLst>
              <a:path w="3054" h="228">
                <a:moveTo>
                  <a:pt x="0" y="0"/>
                </a:moveTo>
                <a:lnTo>
                  <a:pt x="1530" y="228"/>
                </a:lnTo>
                <a:lnTo>
                  <a:pt x="3054" y="54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4280" y="31194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6280" y="49482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929120"/>
            <a:ext cx="4781520" cy="47520"/>
          </a:xfrm>
          <a:custGeom>
            <a:avLst/>
            <a:gdLst/>
            <a:ahLst/>
            <a:rect l="l" t="t" r="r" b="b"/>
            <a:pathLst>
              <a:path w="3012" h="30">
                <a:moveTo>
                  <a:pt x="0" y="30"/>
                </a:moveTo>
                <a:lnTo>
                  <a:pt x="1503" y="0"/>
                </a:lnTo>
                <a:lnTo>
                  <a:pt x="3012" y="24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5840" y="419112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08000" y="4662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43896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724760" y="73404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00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04920" y="4591080"/>
            <a:ext cx="4816440" cy="9360"/>
          </a:xfrm>
          <a:custGeom>
            <a:avLst/>
            <a:gdLst/>
            <a:ahLst/>
            <a:rect l="l" t="t" r="r" b="b"/>
            <a:pathLst>
              <a:path w="3034" h="6">
                <a:moveTo>
                  <a:pt x="0" y="6"/>
                </a:moveTo>
                <a:lnTo>
                  <a:pt x="1530" y="6"/>
                </a:lnTo>
                <a:lnTo>
                  <a:pt x="3034" y="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4600440"/>
            <a:ext cx="4803840" cy="108000"/>
          </a:xfrm>
          <a:custGeom>
            <a:avLst/>
            <a:gdLst/>
            <a:ahLst/>
            <a:rect l="l" t="t" r="r" b="b"/>
            <a:pathLst>
              <a:path w="3026" h="68">
                <a:moveTo>
                  <a:pt x="0" y="68"/>
                </a:moveTo>
                <a:lnTo>
                  <a:pt x="1522" y="0"/>
                </a:lnTo>
                <a:lnTo>
                  <a:pt x="3026" y="3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5338800"/>
            <a:ext cx="6613560" cy="14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33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6080" y="55483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4640" y="55483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3240" y="6416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9760" y="2505240"/>
            <a:ext cx="144360" cy="91800"/>
          </a:xfrm>
          <a:custGeom>
            <a:avLst/>
            <a:gdLst/>
            <a:ahLst/>
            <a:rect l="l" t="t" r="r" b="b"/>
            <a:pathLst>
              <a:path w="195" h="225">
                <a:moveTo>
                  <a:pt x="0" y="0"/>
                </a:moveTo>
                <a:lnTo>
                  <a:pt x="23" y="15"/>
                </a:lnTo>
                <a:cubicBezTo>
                  <a:pt x="32" y="19"/>
                  <a:pt x="49" y="22"/>
                  <a:pt x="59" y="27"/>
                </a:cubicBezTo>
                <a:cubicBezTo>
                  <a:pt x="65" y="30"/>
                  <a:pt x="89" y="46"/>
                  <a:pt x="96" y="47"/>
                </a:cubicBezTo>
                <a:cubicBezTo>
                  <a:pt x="109" y="53"/>
                  <a:pt x="118" y="62"/>
                  <a:pt x="126" y="65"/>
                </a:cubicBezTo>
                <a:cubicBezTo>
                  <a:pt x="134" y="68"/>
                  <a:pt x="135" y="66"/>
                  <a:pt x="146" y="68"/>
                </a:cubicBezTo>
                <a:cubicBezTo>
                  <a:pt x="161" y="74"/>
                  <a:pt x="182" y="68"/>
                  <a:pt x="195" y="78"/>
                </a:cubicBezTo>
                <a:lnTo>
                  <a:pt x="194" y="225"/>
                </a:lnTo>
                <a:lnTo>
                  <a:pt x="2" y="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7680" y="2506680"/>
            <a:ext cx="1440" cy="88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88280" y="2506680"/>
            <a:ext cx="0" cy="88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3480" y="1922400"/>
            <a:ext cx="1501560" cy="609840"/>
          </a:xfrm>
          <a:custGeom>
            <a:avLst/>
            <a:gdLst/>
            <a:ahLst/>
            <a:rect l="l" t="t" r="r" b="b"/>
            <a:pathLst>
              <a:path w="3637" h="1534">
                <a:moveTo>
                  <a:pt x="0" y="0"/>
                </a:moveTo>
                <a:lnTo>
                  <a:pt x="715" y="943"/>
                </a:lnTo>
                <a:lnTo>
                  <a:pt x="1438" y="1264"/>
                </a:lnTo>
                <a:lnTo>
                  <a:pt x="2161" y="1513"/>
                </a:lnTo>
                <a:lnTo>
                  <a:pt x="2881" y="1534"/>
                </a:lnTo>
                <a:lnTo>
                  <a:pt x="3637" y="1501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2640" y="534672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52560" y="2730600"/>
            <a:ext cx="387684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tal and infant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 and very low birth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term bir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ina bifida and other neural tube de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828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Healthy Pregnancies and Healthy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7200" y="2209680"/>
          <a:ext cx="7696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7696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175360" y="320040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Infant Death Rates (Within 1 Ye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Ethnicity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680120" y="872280"/>
            <a:ext cx="4237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5880" y="3730680"/>
            <a:ext cx="5232240" cy="306360"/>
          </a:xfrm>
          <a:custGeom>
            <a:avLst/>
            <a:gdLst/>
            <a:ahLst/>
            <a:rect l="l" t="t" r="r" b="b"/>
            <a:pathLst>
              <a:path w="3296" h="180">
                <a:moveTo>
                  <a:pt x="0" y="52"/>
                </a:moveTo>
                <a:lnTo>
                  <a:pt x="1160" y="48"/>
                </a:lnTo>
                <a:lnTo>
                  <a:pt x="2188" y="180"/>
                </a:lnTo>
                <a:lnTo>
                  <a:pt x="3296" y="0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62000" y="3670200"/>
            <a:ext cx="5245200" cy="619200"/>
          </a:xfrm>
          <a:custGeom>
            <a:avLst/>
            <a:gdLst/>
            <a:ahLst/>
            <a:rect l="l" t="t" r="r" b="b"/>
            <a:pathLst>
              <a:path w="3304" h="363">
                <a:moveTo>
                  <a:pt x="0" y="0"/>
                </a:moveTo>
                <a:lnTo>
                  <a:pt x="1112" y="363"/>
                </a:lnTo>
                <a:lnTo>
                  <a:pt x="2184" y="223"/>
                </a:lnTo>
                <a:lnTo>
                  <a:pt x="3304" y="295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4040" y="2809800"/>
            <a:ext cx="5194080" cy="130320"/>
          </a:xfrm>
          <a:custGeom>
            <a:avLst/>
            <a:gdLst/>
            <a:ahLst/>
            <a:rect l="l" t="t" r="r" b="b"/>
            <a:pathLst>
              <a:path w="3272" h="76">
                <a:moveTo>
                  <a:pt x="0" y="28"/>
                </a:moveTo>
                <a:lnTo>
                  <a:pt x="1084" y="0"/>
                </a:lnTo>
                <a:lnTo>
                  <a:pt x="2168" y="60"/>
                </a:lnTo>
                <a:lnTo>
                  <a:pt x="3272" y="76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23160" y="25146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8240" y="490680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9400" y="4726080"/>
            <a:ext cx="5251680" cy="191880"/>
          </a:xfrm>
          <a:custGeom>
            <a:avLst/>
            <a:gdLst/>
            <a:ahLst/>
            <a:rect l="l" t="t" r="r" b="b"/>
            <a:pathLst>
              <a:path w="3308" h="112">
                <a:moveTo>
                  <a:pt x="0" y="0"/>
                </a:moveTo>
                <a:lnTo>
                  <a:pt x="1116" y="80"/>
                </a:lnTo>
                <a:lnTo>
                  <a:pt x="2200" y="60"/>
                </a:lnTo>
                <a:lnTo>
                  <a:pt x="3308" y="112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9400" y="4265640"/>
            <a:ext cx="5257800" cy="79200"/>
          </a:xfrm>
          <a:custGeom>
            <a:avLst/>
            <a:gdLst/>
            <a:ahLst/>
            <a:rect l="l" t="t" r="r" b="b"/>
            <a:pathLst>
              <a:path w="3312" h="46">
                <a:moveTo>
                  <a:pt x="0" y="0"/>
                </a:moveTo>
                <a:lnTo>
                  <a:pt x="1120" y="22"/>
                </a:lnTo>
                <a:lnTo>
                  <a:pt x="2196" y="34"/>
                </a:lnTo>
                <a:lnTo>
                  <a:pt x="3312" y="46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6240" y="5005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3862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50054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3048120"/>
            <a:ext cx="29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Other Pacific 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862600" y="4648320"/>
            <a:ext cx="69048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2000" y="4562640"/>
            <a:ext cx="5251680" cy="88560"/>
          </a:xfrm>
          <a:custGeom>
            <a:avLst/>
            <a:gdLst/>
            <a:ahLst/>
            <a:rect l="l" t="t" r="r" b="b"/>
            <a:pathLst>
              <a:path w="3308" h="52">
                <a:moveTo>
                  <a:pt x="0" y="0"/>
                </a:moveTo>
                <a:lnTo>
                  <a:pt x="1104" y="8"/>
                </a:lnTo>
                <a:lnTo>
                  <a:pt x="2188" y="24"/>
                </a:lnTo>
                <a:lnTo>
                  <a:pt x="3308" y="52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90640" y="4752000"/>
            <a:ext cx="578016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7720" y="48132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676520" y="4495680"/>
            <a:ext cx="69048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55880" y="4508640"/>
            <a:ext cx="5251320" cy="74520"/>
          </a:xfrm>
          <a:custGeom>
            <a:avLst/>
            <a:gdLst/>
            <a:ahLst/>
            <a:rect l="l" t="t" r="r" b="b"/>
            <a:pathLst>
              <a:path w="3308" h="44">
                <a:moveTo>
                  <a:pt x="0" y="0"/>
                </a:moveTo>
                <a:lnTo>
                  <a:pt x="1108" y="28"/>
                </a:lnTo>
                <a:lnTo>
                  <a:pt x="2192" y="40"/>
                </a:lnTo>
                <a:lnTo>
                  <a:pt x="3308" y="44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6280" y="564984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3320" y="564984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5560" y="564984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20:33:00Z</dcterms:created>
  <dc:creator>Elizabeth Jackson</dc:creator>
  <dc:description/>
  <dc:language>en-US</dc:language>
  <cp:lastModifiedBy>aaq2</cp:lastModifiedBy>
  <dcterms:modified xsi:type="dcterms:W3CDTF">2004-11-30T15:25:37Z</dcterms:modified>
  <cp:revision>10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1024147</vt:r8>
  </property>
  <property fmtid="{D5CDD505-2E9C-101B-9397-08002B2CF9AE}" pid="3" name="_AuthorEmail">
    <vt:lpwstr>EMW6@CDC.GOV</vt:lpwstr>
  </property>
  <property fmtid="{D5CDD505-2E9C-101B-9397-08002B2CF9AE}" pid="4" name="_AuthorEmailDisplayName">
    <vt:lpwstr>Jackson, Elizabeth M.</vt:lpwstr>
  </property>
  <property fmtid="{D5CDD505-2E9C-101B-9397-08002B2CF9AE}" pid="5" name="_EmailSubject">
    <vt:lpwstr>replacement presentation</vt:lpwstr>
  </property>
  <property fmtid="{D5CDD505-2E9C-101B-9397-08002B2CF9AE}" pid="6" name="_PreviousAdHocReviewCycleID">
    <vt:r8>2000663529</vt:r8>
  </property>
  <property fmtid="{D5CDD505-2E9C-101B-9397-08002B2CF9AE}" pid="7" name="_ReviewingToolsShownOnce">
    <vt:lpwstr/>
  </property>
</Properties>
</file>