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3CD69E-8340-4A2E-960E-F87C4672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04BCE7-4417-4570-BC70-365BDC39F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44C056-0B07-4B36-8D8F-264704D4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02734D-D733-4B9C-87DB-4A2A35B3A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287420-CA7F-4267-860A-77E9B6334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3396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9443CE-65CE-4C62-AE88-7F1F1AC7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2ABE6E-9C07-449F-9146-596D3661A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C144FA-0C42-4E4F-AAC6-F7C793389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B500A4-0810-4B3A-8EDE-71B032BA6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232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232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5756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althy People 201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ocus Area 15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jury and Violence Prevention</a:t>
            </a:r>
            <a:br>
              <a:rPr sz="3600"/>
            </a:br>
            <a:br>
              <a:rPr sz="1500"/>
            </a:br>
            <a:br>
              <a:rPr sz="15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gress Revie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ugust 1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1440" y="257040"/>
            <a:ext cx="1273320" cy="127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42200" y="295200"/>
            <a:ext cx="1523880" cy="9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00360" y="32814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Tahoma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753480" cy="6911640"/>
            <a:chOff x="0" y="0"/>
            <a:chExt cx="9753480" cy="6911640"/>
          </a:xfrm>
        </p:grpSpPr>
        <p:graphicFrame>
          <p:nvGraphicFramePr>
            <p:cNvPr id="204" name=""/>
            <p:cNvGraphicFramePr/>
            <p:nvPr/>
          </p:nvGraphicFramePr>
          <p:xfrm>
            <a:off x="95400" y="1519200"/>
            <a:ext cx="9658080" cy="490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5400" y="1519200"/>
                      <a:ext cx="9658080" cy="490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0" y="5867280"/>
              <a:ext cx="9144000" cy="9907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9151920" cy="10080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Traumatic Brain Injury (TBI) Hospitalizat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5440" y="6243480"/>
              <a:ext cx="1971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7840" y="5965920"/>
              <a:ext cx="78231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* Data for males 15-24 years are not age adjuste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TBI is defined as an injury to the head that is documented in a medical record, with one or more of the following conditions attributed to head injury: observed or self-reported decreased level of consciousness, amnesia, skull fracture, objective neurologic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r neuropsychological abnormality, or diagnoses intracranial lesion.  Data are age adjusted to the 2000 standard population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Hospital Discharge Survey (NHDS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7040" y="1143000"/>
              <a:ext cx="461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-adjusted rate pe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62040" y="4421160"/>
              <a:ext cx="114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00"/>
                  </a:solidFill>
                  <a:latin typeface="Tahoma"/>
                </a:rPr>
                <a:t>Fem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790640" y="1966680"/>
              <a:ext cx="6100920" cy="1447920"/>
              <a:chOff x="1790640" y="1966680"/>
              <a:chExt cx="6100920" cy="14479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1790640" y="1966680"/>
                <a:ext cx="6100920" cy="1447920"/>
                <a:chOff x="1790640" y="1966680"/>
                <a:chExt cx="6100920" cy="1447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90640" y="2809800"/>
                  <a:ext cx="885960" cy="50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660760" y="2805120"/>
                  <a:ext cx="882720" cy="4856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532320" y="3138120"/>
                  <a:ext cx="873000" cy="1522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86240" y="3138480"/>
                  <a:ext cx="885960" cy="27612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5253120" y="1966680"/>
                  <a:ext cx="880920" cy="14475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22880" y="1974960"/>
                  <a:ext cx="878040" cy="6969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991200" y="2666880"/>
                  <a:ext cx="900360" cy="328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2224080" y="2506680"/>
                <a:ext cx="25322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457200" indent="-457200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Tahoma"/>
                  </a:rPr>
                  <a:t>Male 15-24 yrs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770120" y="1184400"/>
              <a:ext cx="7605720" cy="3146040"/>
              <a:chOff x="1770120" y="1184400"/>
              <a:chExt cx="7605720" cy="31460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6756480" y="1184400"/>
                <a:ext cx="2158920" cy="304560"/>
                <a:chOff x="6756480" y="1184400"/>
                <a:chExt cx="2158920" cy="304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969240" y="1230120"/>
                  <a:ext cx="1440" cy="22824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6756480" y="1184400"/>
                  <a:ext cx="2158920" cy="304560"/>
                  <a:chOff x="6756480" y="1184400"/>
                  <a:chExt cx="2158920" cy="3045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6985080" y="124128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756480" y="1184400"/>
                    <a:ext cx="2057400" cy="304560"/>
                  </a:xfrm>
                  <a:prstGeom prst="rect">
                    <a:avLst/>
                  </a:prstGeom>
                  <a:noFill/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" name=""/>
              <p:cNvGrpSpPr/>
              <p:nvPr/>
            </p:nvGrpSpPr>
            <p:grpSpPr>
              <a:xfrm>
                <a:off x="1770120" y="1584360"/>
                <a:ext cx="7605720" cy="2746080"/>
                <a:chOff x="1770120" y="1584360"/>
                <a:chExt cx="7605720" cy="274608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1770120" y="4296960"/>
                  <a:ext cx="6153120" cy="33480"/>
                </a:xfrm>
                <a:prstGeom prst="line">
                  <a:avLst/>
                </a:prstGeom>
                <a:ln w="507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" name=""/>
                <p:cNvGrpSpPr/>
                <p:nvPr/>
              </p:nvGrpSpPr>
              <p:grpSpPr>
                <a:xfrm>
                  <a:off x="6756480" y="1584360"/>
                  <a:ext cx="2619360" cy="243000"/>
                  <a:chOff x="6756480" y="1584360"/>
                  <a:chExt cx="2619360" cy="2430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7093080" y="1584360"/>
                    <a:ext cx="2282760" cy="2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>
                      <a:lnSpc>
                        <a:spcPct val="7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2010 Target: 41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V="1">
                    <a:off x="6756480" y="1687320"/>
                    <a:ext cx="320760" cy="5040"/>
                  </a:xfrm>
                  <a:prstGeom prst="line">
                    <a:avLst/>
                  </a:prstGeom>
                  <a:ln w="507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955040" y="50371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&lt;65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93240" y="244800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75+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07480" y="41180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ahoma"/>
              </a:rPr>
              <a:t>65-74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0"/>
            <a:ext cx="9406800" cy="6943320"/>
            <a:chOff x="0" y="0"/>
            <a:chExt cx="9406800" cy="6943320"/>
          </a:xfrm>
        </p:grpSpPr>
        <p:sp>
          <p:nvSpPr>
            <p:cNvPr id="237" name=""/>
            <p:cNvSpPr/>
            <p:nvPr/>
          </p:nvSpPr>
          <p:spPr>
            <a:xfrm>
              <a:off x="414360" y="1109520"/>
              <a:ext cx="46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6066000"/>
              <a:ext cx="9144000" cy="7920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9" name=""/>
            <p:cNvGraphicFramePr/>
            <p:nvPr/>
          </p:nvGraphicFramePr>
          <p:xfrm>
            <a:off x="331920" y="1349280"/>
            <a:ext cx="8477280" cy="474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20" y="1349280"/>
                      <a:ext cx="8477280" cy="474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TBI Hospitaliz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7840" y="6165720"/>
              <a:ext cx="78231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TBI is defined as an injury to the head that is documented in a medical record, with one or more of the following conditions attributed to head injury: observed or self-reported decreased level of consciousness, amnesia, skull fracture, objective neurologic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r neuropsychological abnormality, or diagnoses intracranial lesion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Hospital Discharge Survey (NHDS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35440" y="6305400"/>
              <a:ext cx="1971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356520" y="1112760"/>
              <a:ext cx="2158920" cy="304920"/>
              <a:chOff x="6356520" y="1112760"/>
              <a:chExt cx="2158920" cy="304920"/>
            </a:xfrm>
          </p:grpSpPr>
          <p:sp>
            <p:nvSpPr>
              <p:cNvPr id="245" name=""/>
              <p:cNvSpPr/>
              <p:nvPr/>
            </p:nvSpPr>
            <p:spPr>
              <a:xfrm>
                <a:off x="6569280" y="1158840"/>
                <a:ext cx="1440" cy="22860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356520" y="1112760"/>
                <a:ext cx="2158920" cy="304920"/>
                <a:chOff x="6356520" y="1112760"/>
                <a:chExt cx="2158920" cy="304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85120" y="1170000"/>
                  <a:ext cx="1930320" cy="22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6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Decrease desire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356520" y="1112760"/>
                  <a:ext cx="2057400" cy="30492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71680" y="5348160"/>
            <a:ext cx="6529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         0.5       1.0      1.5       2.0       2.5       3.0       3.5       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109440" y="1450800"/>
            <a:ext cx="259056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ss than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t least some col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0"/>
            <a:ext cx="9382320" cy="6876720"/>
            <a:chOff x="0" y="0"/>
            <a:chExt cx="9382320" cy="6876720"/>
          </a:xfrm>
        </p:grpSpPr>
        <p:graphicFrame>
          <p:nvGraphicFramePr>
            <p:cNvPr id="252" name=""/>
            <p:cNvGraphicFramePr/>
            <p:nvPr/>
          </p:nvGraphicFramePr>
          <p:xfrm>
            <a:off x="2454120" y="1211400"/>
            <a:ext cx="6031080" cy="41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54120" y="1211400"/>
                      <a:ext cx="6031080" cy="41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"/>
            <p:cNvSpPr/>
            <p:nvPr/>
          </p:nvSpPr>
          <p:spPr>
            <a:xfrm>
              <a:off x="0" y="6008760"/>
              <a:ext cx="9144000" cy="84924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95040" y="633888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7840" y="6114960"/>
              <a:ext cx="728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= 95% confidence interval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Based on ICD-10 codes X00-X09 (location = HOME). Data are age adjusted to the 2000 standard population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ducation estimates are based on persons aged 25-64 years. 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81080" y="6153120"/>
              <a:ext cx="152280" cy="76320"/>
              <a:chOff x="181080" y="6153120"/>
              <a:chExt cx="152280" cy="76320"/>
            </a:xfrm>
          </p:grpSpPr>
          <p:sp>
            <p:nvSpPr>
              <p:cNvPr id="258" name=""/>
              <p:cNvSpPr/>
              <p:nvPr/>
            </p:nvSpPr>
            <p:spPr>
              <a:xfrm>
                <a:off x="181080" y="61531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3360" y="61531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1080" y="6191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Unintentional Residential Fire Deaths, 200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8400" y="5672160"/>
              <a:ext cx="65293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-adjusted 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860200" y="1098720"/>
              <a:ext cx="5986800" cy="2273040"/>
              <a:chOff x="2860200" y="1098720"/>
              <a:chExt cx="5986800" cy="2273040"/>
            </a:xfrm>
          </p:grpSpPr>
          <p:sp>
            <p:nvSpPr>
              <p:cNvPr id="264" name=""/>
              <p:cNvSpPr/>
              <p:nvPr/>
            </p:nvSpPr>
            <p:spPr>
              <a:xfrm>
                <a:off x="6305400" y="1098720"/>
                <a:ext cx="2057400" cy="30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2860200" y="1155600"/>
                <a:ext cx="5986800" cy="2216160"/>
                <a:chOff x="2860200" y="1155600"/>
                <a:chExt cx="5986800" cy="221616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399000" y="1155600"/>
                  <a:ext cx="2186280" cy="324000"/>
                  <a:chOff x="6399000" y="1155600"/>
                  <a:chExt cx="2186280" cy="3240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400800" y="1174680"/>
                    <a:ext cx="205740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654960" y="115560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6399000" y="1244520"/>
                    <a:ext cx="268200" cy="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 flipH="1">
                  <a:off x="2860200" y="1244520"/>
                  <a:ext cx="1800" cy="212724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564240" y="1541520"/>
                  <a:ext cx="228276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>
                    <a:lnSpc>
                      <a:spcPct val="7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2010 Target: 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513480" y="1517040"/>
                  <a:ext cx="4680" cy="261720"/>
                </a:xfrm>
                <a:prstGeom prst="line">
                  <a:avLst/>
                </a:prstGeom>
                <a:ln w="507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5394240" y="2001960"/>
              <a:ext cx="3867120" cy="3074760"/>
              <a:chOff x="5394240" y="2001960"/>
              <a:chExt cx="3867120" cy="3074760"/>
            </a:xfrm>
          </p:grpSpPr>
          <p:graphicFrame>
            <p:nvGraphicFramePr>
              <p:cNvPr id="274" name=""/>
              <p:cNvGraphicFramePr/>
              <p:nvPr/>
            </p:nvGraphicFramePr>
            <p:xfrm>
              <a:off x="5410080" y="2081160"/>
              <a:ext cx="3851280" cy="2995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410080" y="2081160"/>
                        <a:ext cx="3851280" cy="29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6" name=""/>
              <p:cNvSpPr/>
              <p:nvPr/>
            </p:nvSpPr>
            <p:spPr>
              <a:xfrm>
                <a:off x="5394240" y="2001960"/>
                <a:ext cx="295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Age-adjusted rate per 100,000 popul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57840" y="3540240"/>
                <a:ext cx="168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% decrease (1999-200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943280" y="5133960"/>
            <a:ext cx="7143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          0.5        1.0        1.5        2.0         2.5        3.0        3.5        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1074600" y="1179360"/>
            <a:ext cx="31129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erican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 fe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 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51920" cy="914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Unintentional Residential Fire Deaths,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1042920"/>
            <a:ext cx="9382320" cy="5815080"/>
            <a:chOff x="0" y="1042920"/>
            <a:chExt cx="9382320" cy="5815080"/>
          </a:xfrm>
        </p:grpSpPr>
        <p:graphicFrame>
          <p:nvGraphicFramePr>
            <p:cNvPr id="282" name=""/>
            <p:cNvGraphicFramePr/>
            <p:nvPr/>
          </p:nvGraphicFramePr>
          <p:xfrm>
            <a:off x="2019240" y="1042920"/>
            <a:ext cx="6696000" cy="399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9240" y="1042920"/>
                      <a:ext cx="6696000" cy="399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0" y="5789520"/>
              <a:ext cx="9144000" cy="10684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95040" y="622476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7840" y="5857920"/>
              <a:ext cx="75232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= 95% confidence interval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Based on ICD-10 codes X00-X09 (location = HOME). Data are age adjusted to the 2000 standard population.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merican Indian includes Alaska Native.  Asian includes Pacific Islander. Black and white exclude persons of Hispanic origin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ersons of Hispanic origin may be of any race.  One or more races could be recorded.  Data by single race categories are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ersons for whom only one racial group was record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1080" y="5896080"/>
              <a:ext cx="152280" cy="75960"/>
              <a:chOff x="181080" y="5896080"/>
              <a:chExt cx="152280" cy="75960"/>
            </a:xfrm>
          </p:grpSpPr>
          <p:sp>
            <p:nvSpPr>
              <p:cNvPr id="288" name=""/>
              <p:cNvSpPr/>
              <p:nvPr/>
            </p:nvSpPr>
            <p:spPr>
              <a:xfrm>
                <a:off x="181080" y="58960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33360" y="58960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080" y="593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124000" y="5529240"/>
              <a:ext cx="65293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-adjusted 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274840" y="1098720"/>
              <a:ext cx="6886800" cy="3855960"/>
              <a:chOff x="2274840" y="1098720"/>
              <a:chExt cx="6886800" cy="3855960"/>
            </a:xfrm>
          </p:grpSpPr>
          <p:sp>
            <p:nvSpPr>
              <p:cNvPr id="293" name=""/>
              <p:cNvSpPr/>
              <p:nvPr/>
            </p:nvSpPr>
            <p:spPr>
              <a:xfrm flipH="1">
                <a:off x="2274840" y="1114560"/>
                <a:ext cx="15840" cy="384012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6576840" y="1098720"/>
                <a:ext cx="2279880" cy="380880"/>
                <a:chOff x="6576840" y="1098720"/>
                <a:chExt cx="2279880" cy="380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576840" y="1098720"/>
                  <a:ext cx="2057400" cy="30456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6670440" y="1155600"/>
                  <a:ext cx="2186280" cy="324000"/>
                  <a:chOff x="6670440" y="1155600"/>
                  <a:chExt cx="2186280" cy="3240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6672240" y="1174680"/>
                    <a:ext cx="205740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926400" y="115560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>
                    <a:off x="6670440" y="1244520"/>
                    <a:ext cx="268200" cy="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6842160" y="1488960"/>
                <a:ext cx="2319480" cy="266760"/>
                <a:chOff x="6842160" y="1488960"/>
                <a:chExt cx="2319480" cy="2667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878520" y="1512720"/>
                  <a:ext cx="22831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>
                    <a:lnSpc>
                      <a:spcPct val="7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2010 Target: 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842160" y="1488960"/>
                  <a:ext cx="4680" cy="247680"/>
                </a:xfrm>
                <a:prstGeom prst="line">
                  <a:avLst/>
                </a:prstGeom>
                <a:ln w="507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0"/>
            <a:ext cx="9387000" cy="6858000"/>
            <a:chOff x="0" y="0"/>
            <a:chExt cx="9387000" cy="6858000"/>
          </a:xfrm>
        </p:grpSpPr>
        <p:sp>
          <p:nvSpPr>
            <p:cNvPr id="304" name=""/>
            <p:cNvSpPr/>
            <p:nvPr/>
          </p:nvSpPr>
          <p:spPr>
            <a:xfrm>
              <a:off x="457200" y="1152360"/>
              <a:ext cx="46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153120"/>
              <a:ext cx="9144000" cy="7048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6" name=""/>
            <p:cNvGraphicFramePr/>
            <p:nvPr/>
          </p:nvGraphicFramePr>
          <p:xfrm>
            <a:off x="374760" y="1454040"/>
            <a:ext cx="8218440" cy="431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760" y="1454040"/>
                      <a:ext cx="8218440" cy="431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Unintentional Residential Fire Deaths, 200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7840" y="6257880"/>
              <a:ext cx="751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 = 95% confidence interva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456240" y="1136520"/>
              <a:ext cx="1981440" cy="380880"/>
              <a:chOff x="6456240" y="1136520"/>
              <a:chExt cx="1981440" cy="380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662520" y="1224000"/>
                <a:ext cx="17305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f5f5f"/>
                    </a:solidFill>
                    <a:latin typeface="Tahoma"/>
                  </a:rPr>
                  <a:t>Decrease desir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59640" y="1204920"/>
                <a:ext cx="0" cy="26172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56240" y="1136520"/>
                <a:ext cx="1981440" cy="380880"/>
              </a:xfrm>
              <a:prstGeom prst="rect">
                <a:avLst/>
              </a:prstGeom>
              <a:noFill/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77840" y="6408720"/>
              <a:ext cx="782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ased on ICD-10 codes X00-X09 (location = HOME).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99720" y="636264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903320" y="558180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-18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00760" y="55926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5+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9800" y="558972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5-6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07080" y="5586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-4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28000" y="559116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5-7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51920" y="5586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5-8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9800" y="557388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-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0"/>
            <a:ext cx="9296280" cy="6959520"/>
            <a:chOff x="0" y="0"/>
            <a:chExt cx="9296280" cy="6959520"/>
          </a:xfrm>
        </p:grpSpPr>
        <p:sp>
          <p:nvSpPr>
            <p:cNvPr id="324" name=""/>
            <p:cNvSpPr/>
            <p:nvPr/>
          </p:nvSpPr>
          <p:spPr>
            <a:xfrm>
              <a:off x="2259000" y="3067200"/>
              <a:ext cx="811080" cy="641160"/>
            </a:xfrm>
            <a:custGeom>
              <a:avLst/>
              <a:gdLst/>
              <a:ahLst/>
              <a:rect l="l" t="t" r="r" b="b"/>
              <a:pathLst>
                <a:path w="1532" h="1212">
                  <a:moveTo>
                    <a:pt x="0" y="1057"/>
                  </a:moveTo>
                  <a:lnTo>
                    <a:pt x="145" y="0"/>
                  </a:lnTo>
                  <a:lnTo>
                    <a:pt x="1136" y="108"/>
                  </a:lnTo>
                  <a:lnTo>
                    <a:pt x="1532" y="141"/>
                  </a:lnTo>
                  <a:lnTo>
                    <a:pt x="1517" y="409"/>
                  </a:lnTo>
                  <a:lnTo>
                    <a:pt x="1471" y="1212"/>
                  </a:lnTo>
                  <a:lnTo>
                    <a:pt x="1265" y="1200"/>
                  </a:lnTo>
                  <a:lnTo>
                    <a:pt x="0" y="10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6143760"/>
              <a:ext cx="9144000" cy="71424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2378160" y="5091120"/>
              <a:ext cx="786960" cy="485640"/>
              <a:chOff x="2378160" y="5091120"/>
              <a:chExt cx="786960" cy="485640"/>
            </a:xfrm>
          </p:grpSpPr>
          <p:sp>
            <p:nvSpPr>
              <p:cNvPr id="327" name=""/>
              <p:cNvSpPr/>
              <p:nvPr/>
            </p:nvSpPr>
            <p:spPr>
              <a:xfrm>
                <a:off x="2993760" y="5375160"/>
                <a:ext cx="171360" cy="201600"/>
              </a:xfrm>
              <a:custGeom>
                <a:avLst/>
                <a:gdLst/>
                <a:ahLst/>
                <a:rect l="l" t="t" r="r" b="b"/>
                <a:pathLst>
                  <a:path w="324" h="379">
                    <a:moveTo>
                      <a:pt x="0" y="128"/>
                    </a:moveTo>
                    <a:lnTo>
                      <a:pt x="36" y="255"/>
                    </a:lnTo>
                    <a:lnTo>
                      <a:pt x="38" y="318"/>
                    </a:lnTo>
                    <a:lnTo>
                      <a:pt x="136" y="379"/>
                    </a:lnTo>
                    <a:lnTo>
                      <a:pt x="164" y="314"/>
                    </a:lnTo>
                    <a:lnTo>
                      <a:pt x="324" y="214"/>
                    </a:lnTo>
                    <a:lnTo>
                      <a:pt x="255" y="90"/>
                    </a:lnTo>
                    <a:lnTo>
                      <a:pt x="59" y="0"/>
                    </a:lnTo>
                    <a:lnTo>
                      <a:pt x="62" y="96"/>
                    </a:lnTo>
                    <a:lnTo>
                      <a:pt x="0" y="12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04840" y="5260680"/>
                <a:ext cx="101520" cy="66960"/>
              </a:xfrm>
              <a:custGeom>
                <a:avLst/>
                <a:gdLst/>
                <a:ahLst/>
                <a:rect l="l" t="t" r="r" b="b"/>
                <a:pathLst>
                  <a:path w="191" h="127">
                    <a:moveTo>
                      <a:pt x="68" y="127"/>
                    </a:moveTo>
                    <a:lnTo>
                      <a:pt x="161" y="124"/>
                    </a:lnTo>
                    <a:lnTo>
                      <a:pt x="191" y="59"/>
                    </a:lnTo>
                    <a:lnTo>
                      <a:pt x="95" y="29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31"/>
                    </a:lnTo>
                    <a:lnTo>
                      <a:pt x="33" y="95"/>
                    </a:lnTo>
                    <a:lnTo>
                      <a:pt x="68" y="127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04840" y="5260680"/>
                <a:ext cx="101520" cy="66960"/>
              </a:xfrm>
              <a:custGeom>
                <a:avLst/>
                <a:gdLst/>
                <a:ahLst/>
                <a:rect l="l" t="t" r="r" b="b"/>
                <a:pathLst>
                  <a:path w="191" h="127">
                    <a:moveTo>
                      <a:pt x="68" y="127"/>
                    </a:moveTo>
                    <a:lnTo>
                      <a:pt x="161" y="124"/>
                    </a:lnTo>
                    <a:lnTo>
                      <a:pt x="191" y="59"/>
                    </a:lnTo>
                    <a:lnTo>
                      <a:pt x="95" y="29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31"/>
                    </a:lnTo>
                    <a:lnTo>
                      <a:pt x="33" y="95"/>
                    </a:lnTo>
                    <a:lnTo>
                      <a:pt x="68" y="127"/>
                    </a:lnTo>
                    <a:lnTo>
                      <a:pt x="68" y="127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889000" y="5329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32"/>
                    </a:moveTo>
                    <a:lnTo>
                      <a:pt x="61" y="0"/>
                    </a:lnTo>
                    <a:lnTo>
                      <a:pt x="62" y="30"/>
                    </a:lnTo>
                    <a:lnTo>
                      <a:pt x="0" y="3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89000" y="5329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32"/>
                    </a:moveTo>
                    <a:lnTo>
                      <a:pt x="61" y="0"/>
                    </a:lnTo>
                    <a:lnTo>
                      <a:pt x="62" y="30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57320" y="52830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31" y="0"/>
                    </a:moveTo>
                    <a:lnTo>
                      <a:pt x="42" y="1"/>
                    </a:lnTo>
                    <a:lnTo>
                      <a:pt x="52" y="8"/>
                    </a:lnTo>
                    <a:lnTo>
                      <a:pt x="60" y="18"/>
                    </a:lnTo>
                    <a:lnTo>
                      <a:pt x="63" y="29"/>
                    </a:lnTo>
                    <a:lnTo>
                      <a:pt x="61" y="42"/>
                    </a:lnTo>
                    <a:lnTo>
                      <a:pt x="54" y="52"/>
                    </a:lnTo>
                    <a:lnTo>
                      <a:pt x="44" y="57"/>
                    </a:lnTo>
                    <a:lnTo>
                      <a:pt x="33" y="61"/>
                    </a:lnTo>
                    <a:lnTo>
                      <a:pt x="19" y="59"/>
                    </a:lnTo>
                    <a:lnTo>
                      <a:pt x="11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1" y="20"/>
                    </a:lnTo>
                    <a:lnTo>
                      <a:pt x="9" y="10"/>
                    </a:lnTo>
                    <a:lnTo>
                      <a:pt x="18" y="2"/>
                    </a:lnTo>
                    <a:lnTo>
                      <a:pt x="31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7320" y="52830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31" y="0"/>
                    </a:moveTo>
                    <a:lnTo>
                      <a:pt x="42" y="1"/>
                    </a:lnTo>
                    <a:lnTo>
                      <a:pt x="52" y="8"/>
                    </a:lnTo>
                    <a:lnTo>
                      <a:pt x="60" y="18"/>
                    </a:lnTo>
                    <a:lnTo>
                      <a:pt x="63" y="29"/>
                    </a:lnTo>
                    <a:lnTo>
                      <a:pt x="61" y="42"/>
                    </a:lnTo>
                    <a:lnTo>
                      <a:pt x="54" y="52"/>
                    </a:lnTo>
                    <a:lnTo>
                      <a:pt x="44" y="57"/>
                    </a:lnTo>
                    <a:lnTo>
                      <a:pt x="33" y="61"/>
                    </a:lnTo>
                    <a:lnTo>
                      <a:pt x="19" y="59"/>
                    </a:lnTo>
                    <a:lnTo>
                      <a:pt x="11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1" y="20"/>
                    </a:lnTo>
                    <a:lnTo>
                      <a:pt x="9" y="10"/>
                    </a:lnTo>
                    <a:lnTo>
                      <a:pt x="18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01880" y="5229000"/>
                <a:ext cx="82080" cy="3492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67"/>
                    </a:moveTo>
                    <a:lnTo>
                      <a:pt x="127" y="63"/>
                    </a:lnTo>
                    <a:lnTo>
                      <a:pt x="156" y="0"/>
                    </a:lnTo>
                    <a:lnTo>
                      <a:pt x="31" y="4"/>
                    </a:lnTo>
                    <a:lnTo>
                      <a:pt x="0" y="67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801880" y="5229000"/>
                <a:ext cx="82080" cy="3492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67"/>
                    </a:moveTo>
                    <a:lnTo>
                      <a:pt x="127" y="63"/>
                    </a:lnTo>
                    <a:lnTo>
                      <a:pt x="156" y="0"/>
                    </a:lnTo>
                    <a:lnTo>
                      <a:pt x="31" y="4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444760" y="509112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157" h="97">
                    <a:moveTo>
                      <a:pt x="0" y="65"/>
                    </a:moveTo>
                    <a:lnTo>
                      <a:pt x="64" y="97"/>
                    </a:lnTo>
                    <a:lnTo>
                      <a:pt x="126" y="96"/>
                    </a:lnTo>
                    <a:lnTo>
                      <a:pt x="157" y="30"/>
                    </a:lnTo>
                    <a:lnTo>
                      <a:pt x="92" y="0"/>
                    </a:lnTo>
                    <a:lnTo>
                      <a:pt x="30" y="34"/>
                    </a:lnTo>
                    <a:lnTo>
                      <a:pt x="0" y="65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44760" y="509112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157" h="97">
                    <a:moveTo>
                      <a:pt x="0" y="65"/>
                    </a:moveTo>
                    <a:lnTo>
                      <a:pt x="64" y="97"/>
                    </a:lnTo>
                    <a:lnTo>
                      <a:pt x="126" y="96"/>
                    </a:lnTo>
                    <a:lnTo>
                      <a:pt x="157" y="30"/>
                    </a:lnTo>
                    <a:lnTo>
                      <a:pt x="92" y="0"/>
                    </a:lnTo>
                    <a:lnTo>
                      <a:pt x="30" y="34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378160" y="5092560"/>
                <a:ext cx="33120" cy="5256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1" y="99"/>
                    </a:moveTo>
                    <a:lnTo>
                      <a:pt x="64" y="33"/>
                    </a:lnTo>
                    <a:lnTo>
                      <a:pt x="62" y="0"/>
                    </a:lnTo>
                    <a:lnTo>
                      <a:pt x="0" y="65"/>
                    </a:lnTo>
                    <a:lnTo>
                      <a:pt x="1" y="99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78160" y="5092560"/>
                <a:ext cx="33120" cy="5256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1" y="99"/>
                    </a:moveTo>
                    <a:lnTo>
                      <a:pt x="64" y="33"/>
                    </a:lnTo>
                    <a:lnTo>
                      <a:pt x="62" y="0"/>
                    </a:lnTo>
                    <a:lnTo>
                      <a:pt x="0" y="65"/>
                    </a:lnTo>
                    <a:lnTo>
                      <a:pt x="1" y="99"/>
                    </a:lnTo>
                    <a:lnTo>
                      <a:pt x="1" y="99"/>
                    </a:ln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66880" y="5167080"/>
                <a:ext cx="85320" cy="6696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68" y="128"/>
                    </a:moveTo>
                    <a:lnTo>
                      <a:pt x="163" y="126"/>
                    </a:lnTo>
                    <a:lnTo>
                      <a:pt x="161" y="63"/>
                    </a:lnTo>
                    <a:lnTo>
                      <a:pt x="94" y="0"/>
                    </a:lnTo>
                    <a:lnTo>
                      <a:pt x="0" y="34"/>
                    </a:lnTo>
                    <a:lnTo>
                      <a:pt x="68" y="128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66880" y="5167080"/>
                <a:ext cx="85320" cy="6696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68" y="128"/>
                    </a:moveTo>
                    <a:lnTo>
                      <a:pt x="163" y="126"/>
                    </a:lnTo>
                    <a:lnTo>
                      <a:pt x="161" y="63"/>
                    </a:lnTo>
                    <a:lnTo>
                      <a:pt x="94" y="0"/>
                    </a:lnTo>
                    <a:lnTo>
                      <a:pt x="0" y="34"/>
                    </a:lnTo>
                    <a:lnTo>
                      <a:pt x="68" y="128"/>
                    </a:lnTo>
                    <a:lnTo>
                      <a:pt x="68" y="128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1004760" y="1690560"/>
              <a:ext cx="744840" cy="542880"/>
            </a:xfrm>
            <a:custGeom>
              <a:avLst/>
              <a:gdLst/>
              <a:ahLst/>
              <a:rect l="l" t="t" r="r" b="b"/>
              <a:pathLst>
                <a:path w="1406" h="1026">
                  <a:moveTo>
                    <a:pt x="54" y="648"/>
                  </a:moveTo>
                  <a:lnTo>
                    <a:pt x="19" y="623"/>
                  </a:lnTo>
                  <a:lnTo>
                    <a:pt x="7" y="623"/>
                  </a:lnTo>
                  <a:lnTo>
                    <a:pt x="0" y="619"/>
                  </a:lnTo>
                  <a:lnTo>
                    <a:pt x="0" y="609"/>
                  </a:lnTo>
                  <a:lnTo>
                    <a:pt x="10" y="578"/>
                  </a:lnTo>
                  <a:lnTo>
                    <a:pt x="15" y="563"/>
                  </a:lnTo>
                  <a:lnTo>
                    <a:pt x="15" y="549"/>
                  </a:lnTo>
                  <a:lnTo>
                    <a:pt x="15" y="541"/>
                  </a:lnTo>
                  <a:lnTo>
                    <a:pt x="23" y="539"/>
                  </a:lnTo>
                  <a:lnTo>
                    <a:pt x="27" y="541"/>
                  </a:lnTo>
                  <a:lnTo>
                    <a:pt x="28" y="560"/>
                  </a:lnTo>
                  <a:lnTo>
                    <a:pt x="27" y="571"/>
                  </a:lnTo>
                  <a:lnTo>
                    <a:pt x="25" y="578"/>
                  </a:lnTo>
                  <a:lnTo>
                    <a:pt x="27" y="585"/>
                  </a:lnTo>
                  <a:lnTo>
                    <a:pt x="51" y="563"/>
                  </a:lnTo>
                  <a:lnTo>
                    <a:pt x="49" y="554"/>
                  </a:lnTo>
                  <a:lnTo>
                    <a:pt x="49" y="541"/>
                  </a:lnTo>
                  <a:lnTo>
                    <a:pt x="59" y="528"/>
                  </a:lnTo>
                  <a:lnTo>
                    <a:pt x="51" y="514"/>
                  </a:lnTo>
                  <a:lnTo>
                    <a:pt x="36" y="509"/>
                  </a:lnTo>
                  <a:lnTo>
                    <a:pt x="34" y="468"/>
                  </a:lnTo>
                  <a:lnTo>
                    <a:pt x="41" y="465"/>
                  </a:lnTo>
                  <a:lnTo>
                    <a:pt x="55" y="468"/>
                  </a:lnTo>
                  <a:lnTo>
                    <a:pt x="61" y="463"/>
                  </a:lnTo>
                  <a:lnTo>
                    <a:pt x="86" y="457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1" y="432"/>
                  </a:lnTo>
                  <a:lnTo>
                    <a:pt x="41" y="442"/>
                  </a:lnTo>
                  <a:lnTo>
                    <a:pt x="42" y="414"/>
                  </a:lnTo>
                  <a:lnTo>
                    <a:pt x="42" y="395"/>
                  </a:lnTo>
                  <a:lnTo>
                    <a:pt x="49" y="365"/>
                  </a:lnTo>
                  <a:lnTo>
                    <a:pt x="45" y="339"/>
                  </a:lnTo>
                  <a:lnTo>
                    <a:pt x="44" y="318"/>
                  </a:lnTo>
                  <a:lnTo>
                    <a:pt x="49" y="260"/>
                  </a:lnTo>
                  <a:lnTo>
                    <a:pt x="54" y="240"/>
                  </a:lnTo>
                  <a:lnTo>
                    <a:pt x="28" y="166"/>
                  </a:lnTo>
                  <a:lnTo>
                    <a:pt x="31" y="116"/>
                  </a:lnTo>
                  <a:lnTo>
                    <a:pt x="39" y="89"/>
                  </a:lnTo>
                  <a:lnTo>
                    <a:pt x="47" y="52"/>
                  </a:lnTo>
                  <a:lnTo>
                    <a:pt x="180" y="143"/>
                  </a:lnTo>
                  <a:lnTo>
                    <a:pt x="247" y="179"/>
                  </a:lnTo>
                  <a:lnTo>
                    <a:pt x="300" y="196"/>
                  </a:lnTo>
                  <a:lnTo>
                    <a:pt x="331" y="216"/>
                  </a:lnTo>
                  <a:lnTo>
                    <a:pt x="359" y="216"/>
                  </a:lnTo>
                  <a:lnTo>
                    <a:pt x="371" y="223"/>
                  </a:lnTo>
                  <a:lnTo>
                    <a:pt x="379" y="238"/>
                  </a:lnTo>
                  <a:lnTo>
                    <a:pt x="385" y="304"/>
                  </a:lnTo>
                  <a:lnTo>
                    <a:pt x="381" y="318"/>
                  </a:lnTo>
                  <a:lnTo>
                    <a:pt x="359" y="332"/>
                  </a:lnTo>
                  <a:lnTo>
                    <a:pt x="349" y="360"/>
                  </a:lnTo>
                  <a:lnTo>
                    <a:pt x="349" y="383"/>
                  </a:lnTo>
                  <a:lnTo>
                    <a:pt x="351" y="395"/>
                  </a:lnTo>
                  <a:lnTo>
                    <a:pt x="351" y="408"/>
                  </a:lnTo>
                  <a:lnTo>
                    <a:pt x="343" y="420"/>
                  </a:lnTo>
                  <a:lnTo>
                    <a:pt x="343" y="432"/>
                  </a:lnTo>
                  <a:lnTo>
                    <a:pt x="357" y="440"/>
                  </a:lnTo>
                  <a:lnTo>
                    <a:pt x="383" y="428"/>
                  </a:lnTo>
                  <a:lnTo>
                    <a:pt x="397" y="370"/>
                  </a:lnTo>
                  <a:lnTo>
                    <a:pt x="410" y="357"/>
                  </a:lnTo>
                  <a:lnTo>
                    <a:pt x="420" y="329"/>
                  </a:lnTo>
                  <a:lnTo>
                    <a:pt x="454" y="292"/>
                  </a:lnTo>
                  <a:lnTo>
                    <a:pt x="455" y="281"/>
                  </a:lnTo>
                  <a:lnTo>
                    <a:pt x="442" y="227"/>
                  </a:lnTo>
                  <a:lnTo>
                    <a:pt x="413" y="155"/>
                  </a:lnTo>
                  <a:lnTo>
                    <a:pt x="412" y="143"/>
                  </a:lnTo>
                  <a:lnTo>
                    <a:pt x="422" y="139"/>
                  </a:lnTo>
                  <a:lnTo>
                    <a:pt x="436" y="143"/>
                  </a:lnTo>
                  <a:lnTo>
                    <a:pt x="451" y="109"/>
                  </a:lnTo>
                  <a:lnTo>
                    <a:pt x="448" y="73"/>
                  </a:lnTo>
                  <a:lnTo>
                    <a:pt x="430" y="70"/>
                  </a:lnTo>
                  <a:lnTo>
                    <a:pt x="425" y="46"/>
                  </a:lnTo>
                  <a:lnTo>
                    <a:pt x="423" y="0"/>
                  </a:lnTo>
                  <a:lnTo>
                    <a:pt x="703" y="76"/>
                  </a:lnTo>
                  <a:lnTo>
                    <a:pt x="968" y="143"/>
                  </a:lnTo>
                  <a:lnTo>
                    <a:pt x="1404" y="245"/>
                  </a:lnTo>
                  <a:lnTo>
                    <a:pt x="1406" y="245"/>
                  </a:lnTo>
                  <a:lnTo>
                    <a:pt x="1258" y="912"/>
                  </a:lnTo>
                  <a:lnTo>
                    <a:pt x="1257" y="916"/>
                  </a:lnTo>
                  <a:lnTo>
                    <a:pt x="1251" y="922"/>
                  </a:lnTo>
                  <a:lnTo>
                    <a:pt x="1247" y="935"/>
                  </a:lnTo>
                  <a:lnTo>
                    <a:pt x="1251" y="947"/>
                  </a:lnTo>
                  <a:lnTo>
                    <a:pt x="1255" y="956"/>
                  </a:lnTo>
                  <a:lnTo>
                    <a:pt x="1263" y="966"/>
                  </a:lnTo>
                  <a:lnTo>
                    <a:pt x="1261" y="977"/>
                  </a:lnTo>
                  <a:lnTo>
                    <a:pt x="1258" y="981"/>
                  </a:lnTo>
                  <a:lnTo>
                    <a:pt x="1248" y="994"/>
                  </a:lnTo>
                  <a:lnTo>
                    <a:pt x="1248" y="1011"/>
                  </a:lnTo>
                  <a:lnTo>
                    <a:pt x="1253" y="1026"/>
                  </a:lnTo>
                  <a:lnTo>
                    <a:pt x="882" y="941"/>
                  </a:lnTo>
                  <a:lnTo>
                    <a:pt x="854" y="952"/>
                  </a:lnTo>
                  <a:lnTo>
                    <a:pt x="835" y="952"/>
                  </a:lnTo>
                  <a:lnTo>
                    <a:pt x="815" y="946"/>
                  </a:lnTo>
                  <a:lnTo>
                    <a:pt x="791" y="944"/>
                  </a:lnTo>
                  <a:lnTo>
                    <a:pt x="778" y="937"/>
                  </a:lnTo>
                  <a:lnTo>
                    <a:pt x="758" y="937"/>
                  </a:lnTo>
                  <a:lnTo>
                    <a:pt x="736" y="944"/>
                  </a:lnTo>
                  <a:lnTo>
                    <a:pt x="709" y="937"/>
                  </a:lnTo>
                  <a:lnTo>
                    <a:pt x="687" y="937"/>
                  </a:lnTo>
                  <a:lnTo>
                    <a:pt x="659" y="952"/>
                  </a:lnTo>
                  <a:lnTo>
                    <a:pt x="640" y="954"/>
                  </a:lnTo>
                  <a:lnTo>
                    <a:pt x="594" y="948"/>
                  </a:lnTo>
                  <a:lnTo>
                    <a:pt x="581" y="941"/>
                  </a:lnTo>
                  <a:lnTo>
                    <a:pt x="552" y="927"/>
                  </a:lnTo>
                  <a:lnTo>
                    <a:pt x="469" y="939"/>
                  </a:lnTo>
                  <a:lnTo>
                    <a:pt x="451" y="916"/>
                  </a:lnTo>
                  <a:lnTo>
                    <a:pt x="383" y="896"/>
                  </a:lnTo>
                  <a:lnTo>
                    <a:pt x="347" y="891"/>
                  </a:lnTo>
                  <a:lnTo>
                    <a:pt x="305" y="896"/>
                  </a:lnTo>
                  <a:lnTo>
                    <a:pt x="240" y="891"/>
                  </a:lnTo>
                  <a:lnTo>
                    <a:pt x="188" y="864"/>
                  </a:lnTo>
                  <a:lnTo>
                    <a:pt x="177" y="842"/>
                  </a:lnTo>
                  <a:lnTo>
                    <a:pt x="182" y="776"/>
                  </a:lnTo>
                  <a:lnTo>
                    <a:pt x="185" y="761"/>
                  </a:lnTo>
                  <a:lnTo>
                    <a:pt x="179" y="724"/>
                  </a:lnTo>
                  <a:lnTo>
                    <a:pt x="138" y="692"/>
                  </a:lnTo>
                  <a:lnTo>
                    <a:pt x="108" y="691"/>
                  </a:lnTo>
                  <a:lnTo>
                    <a:pt x="106" y="679"/>
                  </a:lnTo>
                  <a:lnTo>
                    <a:pt x="86" y="661"/>
                  </a:lnTo>
                  <a:lnTo>
                    <a:pt x="54" y="648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3160" y="2031840"/>
              <a:ext cx="898560" cy="749520"/>
            </a:xfrm>
            <a:custGeom>
              <a:avLst/>
              <a:gdLst/>
              <a:ahLst/>
              <a:rect l="l" t="t" r="r" b="b"/>
              <a:pathLst>
                <a:path w="1696" h="1414">
                  <a:moveTo>
                    <a:pt x="25" y="1064"/>
                  </a:moveTo>
                  <a:lnTo>
                    <a:pt x="13" y="1051"/>
                  </a:lnTo>
                  <a:lnTo>
                    <a:pt x="0" y="997"/>
                  </a:lnTo>
                  <a:lnTo>
                    <a:pt x="10" y="970"/>
                  </a:lnTo>
                  <a:lnTo>
                    <a:pt x="10" y="945"/>
                  </a:lnTo>
                  <a:lnTo>
                    <a:pt x="28" y="905"/>
                  </a:lnTo>
                  <a:lnTo>
                    <a:pt x="19" y="823"/>
                  </a:lnTo>
                  <a:lnTo>
                    <a:pt x="33" y="804"/>
                  </a:lnTo>
                  <a:lnTo>
                    <a:pt x="49" y="794"/>
                  </a:lnTo>
                  <a:lnTo>
                    <a:pt x="60" y="779"/>
                  </a:lnTo>
                  <a:lnTo>
                    <a:pt x="70" y="754"/>
                  </a:lnTo>
                  <a:lnTo>
                    <a:pt x="79" y="743"/>
                  </a:lnTo>
                  <a:lnTo>
                    <a:pt x="85" y="705"/>
                  </a:lnTo>
                  <a:lnTo>
                    <a:pt x="92" y="703"/>
                  </a:lnTo>
                  <a:lnTo>
                    <a:pt x="142" y="644"/>
                  </a:lnTo>
                  <a:lnTo>
                    <a:pt x="168" y="587"/>
                  </a:lnTo>
                  <a:lnTo>
                    <a:pt x="211" y="507"/>
                  </a:lnTo>
                  <a:lnTo>
                    <a:pt x="259" y="360"/>
                  </a:lnTo>
                  <a:lnTo>
                    <a:pt x="294" y="297"/>
                  </a:lnTo>
                  <a:lnTo>
                    <a:pt x="325" y="203"/>
                  </a:lnTo>
                  <a:lnTo>
                    <a:pt x="361" y="90"/>
                  </a:lnTo>
                  <a:lnTo>
                    <a:pt x="378" y="51"/>
                  </a:lnTo>
                  <a:lnTo>
                    <a:pt x="385" y="16"/>
                  </a:lnTo>
                  <a:lnTo>
                    <a:pt x="384" y="4"/>
                  </a:lnTo>
                  <a:lnTo>
                    <a:pt x="401" y="0"/>
                  </a:lnTo>
                  <a:lnTo>
                    <a:pt x="424" y="4"/>
                  </a:lnTo>
                  <a:lnTo>
                    <a:pt x="435" y="1"/>
                  </a:lnTo>
                  <a:lnTo>
                    <a:pt x="467" y="14"/>
                  </a:lnTo>
                  <a:lnTo>
                    <a:pt x="486" y="32"/>
                  </a:lnTo>
                  <a:lnTo>
                    <a:pt x="489" y="43"/>
                  </a:lnTo>
                  <a:lnTo>
                    <a:pt x="518" y="44"/>
                  </a:lnTo>
                  <a:lnTo>
                    <a:pt x="559" y="76"/>
                  </a:lnTo>
                  <a:lnTo>
                    <a:pt x="565" y="114"/>
                  </a:lnTo>
                  <a:lnTo>
                    <a:pt x="563" y="128"/>
                  </a:lnTo>
                  <a:lnTo>
                    <a:pt x="558" y="194"/>
                  </a:lnTo>
                  <a:lnTo>
                    <a:pt x="569" y="216"/>
                  </a:lnTo>
                  <a:lnTo>
                    <a:pt x="621" y="244"/>
                  </a:lnTo>
                  <a:lnTo>
                    <a:pt x="685" y="248"/>
                  </a:lnTo>
                  <a:lnTo>
                    <a:pt x="728" y="244"/>
                  </a:lnTo>
                  <a:lnTo>
                    <a:pt x="763" y="248"/>
                  </a:lnTo>
                  <a:lnTo>
                    <a:pt x="832" y="269"/>
                  </a:lnTo>
                  <a:lnTo>
                    <a:pt x="850" y="292"/>
                  </a:lnTo>
                  <a:lnTo>
                    <a:pt x="933" y="279"/>
                  </a:lnTo>
                  <a:lnTo>
                    <a:pt x="962" y="293"/>
                  </a:lnTo>
                  <a:lnTo>
                    <a:pt x="975" y="301"/>
                  </a:lnTo>
                  <a:lnTo>
                    <a:pt x="1021" y="307"/>
                  </a:lnTo>
                  <a:lnTo>
                    <a:pt x="1040" y="304"/>
                  </a:lnTo>
                  <a:lnTo>
                    <a:pt x="1068" y="289"/>
                  </a:lnTo>
                  <a:lnTo>
                    <a:pt x="1089" y="289"/>
                  </a:lnTo>
                  <a:lnTo>
                    <a:pt x="1116" y="297"/>
                  </a:lnTo>
                  <a:lnTo>
                    <a:pt x="1138" y="289"/>
                  </a:lnTo>
                  <a:lnTo>
                    <a:pt x="1158" y="289"/>
                  </a:lnTo>
                  <a:lnTo>
                    <a:pt x="1172" y="297"/>
                  </a:lnTo>
                  <a:lnTo>
                    <a:pt x="1195" y="298"/>
                  </a:lnTo>
                  <a:lnTo>
                    <a:pt x="1215" y="304"/>
                  </a:lnTo>
                  <a:lnTo>
                    <a:pt x="1235" y="304"/>
                  </a:lnTo>
                  <a:lnTo>
                    <a:pt x="1262" y="293"/>
                  </a:lnTo>
                  <a:lnTo>
                    <a:pt x="1633" y="379"/>
                  </a:lnTo>
                  <a:lnTo>
                    <a:pt x="1636" y="402"/>
                  </a:lnTo>
                  <a:lnTo>
                    <a:pt x="1653" y="427"/>
                  </a:lnTo>
                  <a:lnTo>
                    <a:pt x="1672" y="433"/>
                  </a:lnTo>
                  <a:lnTo>
                    <a:pt x="1691" y="449"/>
                  </a:lnTo>
                  <a:lnTo>
                    <a:pt x="1696" y="486"/>
                  </a:lnTo>
                  <a:lnTo>
                    <a:pt x="1605" y="627"/>
                  </a:lnTo>
                  <a:lnTo>
                    <a:pt x="1590" y="641"/>
                  </a:lnTo>
                  <a:lnTo>
                    <a:pt x="1586" y="661"/>
                  </a:lnTo>
                  <a:lnTo>
                    <a:pt x="1567" y="682"/>
                  </a:lnTo>
                  <a:lnTo>
                    <a:pt x="1539" y="695"/>
                  </a:lnTo>
                  <a:lnTo>
                    <a:pt x="1491" y="768"/>
                  </a:lnTo>
                  <a:lnTo>
                    <a:pt x="1482" y="800"/>
                  </a:lnTo>
                  <a:lnTo>
                    <a:pt x="1490" y="817"/>
                  </a:lnTo>
                  <a:lnTo>
                    <a:pt x="1519" y="830"/>
                  </a:lnTo>
                  <a:lnTo>
                    <a:pt x="1532" y="850"/>
                  </a:lnTo>
                  <a:lnTo>
                    <a:pt x="1525" y="866"/>
                  </a:lnTo>
                  <a:lnTo>
                    <a:pt x="1522" y="875"/>
                  </a:lnTo>
                  <a:lnTo>
                    <a:pt x="1514" y="878"/>
                  </a:lnTo>
                  <a:lnTo>
                    <a:pt x="1514" y="909"/>
                  </a:lnTo>
                  <a:lnTo>
                    <a:pt x="1487" y="943"/>
                  </a:lnTo>
                  <a:lnTo>
                    <a:pt x="1384" y="1414"/>
                  </a:lnTo>
                  <a:lnTo>
                    <a:pt x="814" y="1280"/>
                  </a:lnTo>
                  <a:lnTo>
                    <a:pt x="25" y="106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0080" y="2595600"/>
              <a:ext cx="890640" cy="1523880"/>
            </a:xfrm>
            <a:custGeom>
              <a:avLst/>
              <a:gdLst/>
              <a:ahLst/>
              <a:rect l="l" t="t" r="r" b="b"/>
              <a:pathLst>
                <a:path w="1684" h="2879">
                  <a:moveTo>
                    <a:pt x="1469" y="2869"/>
                  </a:moveTo>
                  <a:lnTo>
                    <a:pt x="956" y="2819"/>
                  </a:lnTo>
                  <a:lnTo>
                    <a:pt x="952" y="2810"/>
                  </a:lnTo>
                  <a:lnTo>
                    <a:pt x="948" y="2784"/>
                  </a:lnTo>
                  <a:lnTo>
                    <a:pt x="952" y="2774"/>
                  </a:lnTo>
                  <a:lnTo>
                    <a:pt x="956" y="2768"/>
                  </a:lnTo>
                  <a:lnTo>
                    <a:pt x="950" y="2762"/>
                  </a:lnTo>
                  <a:lnTo>
                    <a:pt x="944" y="2760"/>
                  </a:lnTo>
                  <a:lnTo>
                    <a:pt x="939" y="2739"/>
                  </a:lnTo>
                  <a:lnTo>
                    <a:pt x="940" y="2728"/>
                  </a:lnTo>
                  <a:lnTo>
                    <a:pt x="936" y="2644"/>
                  </a:lnTo>
                  <a:lnTo>
                    <a:pt x="893" y="2550"/>
                  </a:lnTo>
                  <a:lnTo>
                    <a:pt x="866" y="2525"/>
                  </a:lnTo>
                  <a:lnTo>
                    <a:pt x="847" y="2487"/>
                  </a:lnTo>
                  <a:lnTo>
                    <a:pt x="796" y="2441"/>
                  </a:lnTo>
                  <a:lnTo>
                    <a:pt x="763" y="2444"/>
                  </a:lnTo>
                  <a:lnTo>
                    <a:pt x="746" y="2424"/>
                  </a:lnTo>
                  <a:lnTo>
                    <a:pt x="756" y="2399"/>
                  </a:lnTo>
                  <a:lnTo>
                    <a:pt x="750" y="2384"/>
                  </a:lnTo>
                  <a:lnTo>
                    <a:pt x="750" y="2365"/>
                  </a:lnTo>
                  <a:lnTo>
                    <a:pt x="731" y="2348"/>
                  </a:lnTo>
                  <a:lnTo>
                    <a:pt x="677" y="2340"/>
                  </a:lnTo>
                  <a:lnTo>
                    <a:pt x="649" y="2328"/>
                  </a:lnTo>
                  <a:lnTo>
                    <a:pt x="610" y="2295"/>
                  </a:lnTo>
                  <a:lnTo>
                    <a:pt x="589" y="2238"/>
                  </a:lnTo>
                  <a:lnTo>
                    <a:pt x="555" y="2212"/>
                  </a:lnTo>
                  <a:lnTo>
                    <a:pt x="520" y="2202"/>
                  </a:lnTo>
                  <a:lnTo>
                    <a:pt x="426" y="2159"/>
                  </a:lnTo>
                  <a:lnTo>
                    <a:pt x="392" y="2159"/>
                  </a:lnTo>
                  <a:lnTo>
                    <a:pt x="353" y="2135"/>
                  </a:lnTo>
                  <a:lnTo>
                    <a:pt x="329" y="2109"/>
                  </a:lnTo>
                  <a:lnTo>
                    <a:pt x="331" y="2088"/>
                  </a:lnTo>
                  <a:lnTo>
                    <a:pt x="344" y="2072"/>
                  </a:lnTo>
                  <a:lnTo>
                    <a:pt x="352" y="2025"/>
                  </a:lnTo>
                  <a:lnTo>
                    <a:pt x="359" y="1998"/>
                  </a:lnTo>
                  <a:lnTo>
                    <a:pt x="366" y="1983"/>
                  </a:lnTo>
                  <a:lnTo>
                    <a:pt x="356" y="1949"/>
                  </a:lnTo>
                  <a:lnTo>
                    <a:pt x="333" y="1939"/>
                  </a:lnTo>
                  <a:lnTo>
                    <a:pt x="329" y="1908"/>
                  </a:lnTo>
                  <a:lnTo>
                    <a:pt x="335" y="1900"/>
                  </a:lnTo>
                  <a:lnTo>
                    <a:pt x="341" y="1898"/>
                  </a:lnTo>
                  <a:lnTo>
                    <a:pt x="344" y="1874"/>
                  </a:lnTo>
                  <a:lnTo>
                    <a:pt x="319" y="1851"/>
                  </a:lnTo>
                  <a:lnTo>
                    <a:pt x="255" y="1739"/>
                  </a:lnTo>
                  <a:lnTo>
                    <a:pt x="251" y="1707"/>
                  </a:lnTo>
                  <a:lnTo>
                    <a:pt x="239" y="1682"/>
                  </a:lnTo>
                  <a:lnTo>
                    <a:pt x="235" y="1656"/>
                  </a:lnTo>
                  <a:lnTo>
                    <a:pt x="188" y="1591"/>
                  </a:lnTo>
                  <a:lnTo>
                    <a:pt x="193" y="1525"/>
                  </a:lnTo>
                  <a:lnTo>
                    <a:pt x="204" y="1509"/>
                  </a:lnTo>
                  <a:lnTo>
                    <a:pt x="219" y="1509"/>
                  </a:lnTo>
                  <a:lnTo>
                    <a:pt x="241" y="1481"/>
                  </a:lnTo>
                  <a:lnTo>
                    <a:pt x="245" y="1438"/>
                  </a:lnTo>
                  <a:lnTo>
                    <a:pt x="230" y="1423"/>
                  </a:lnTo>
                  <a:lnTo>
                    <a:pt x="196" y="1407"/>
                  </a:lnTo>
                  <a:lnTo>
                    <a:pt x="162" y="1378"/>
                  </a:lnTo>
                  <a:lnTo>
                    <a:pt x="149" y="1346"/>
                  </a:lnTo>
                  <a:lnTo>
                    <a:pt x="151" y="1258"/>
                  </a:lnTo>
                  <a:lnTo>
                    <a:pt x="158" y="1246"/>
                  </a:lnTo>
                  <a:lnTo>
                    <a:pt x="154" y="1223"/>
                  </a:lnTo>
                  <a:lnTo>
                    <a:pt x="164" y="1218"/>
                  </a:lnTo>
                  <a:lnTo>
                    <a:pt x="171" y="1176"/>
                  </a:lnTo>
                  <a:lnTo>
                    <a:pt x="180" y="1173"/>
                  </a:lnTo>
                  <a:lnTo>
                    <a:pt x="188" y="1187"/>
                  </a:lnTo>
                  <a:lnTo>
                    <a:pt x="188" y="1220"/>
                  </a:lnTo>
                  <a:lnTo>
                    <a:pt x="193" y="1233"/>
                  </a:lnTo>
                  <a:lnTo>
                    <a:pt x="224" y="1255"/>
                  </a:lnTo>
                  <a:lnTo>
                    <a:pt x="231" y="1246"/>
                  </a:lnTo>
                  <a:lnTo>
                    <a:pt x="234" y="1223"/>
                  </a:lnTo>
                  <a:lnTo>
                    <a:pt x="219" y="1176"/>
                  </a:lnTo>
                  <a:lnTo>
                    <a:pt x="213" y="1145"/>
                  </a:lnTo>
                  <a:lnTo>
                    <a:pt x="219" y="1110"/>
                  </a:lnTo>
                  <a:lnTo>
                    <a:pt x="211" y="1107"/>
                  </a:lnTo>
                  <a:lnTo>
                    <a:pt x="188" y="1129"/>
                  </a:lnTo>
                  <a:lnTo>
                    <a:pt x="186" y="1142"/>
                  </a:lnTo>
                  <a:lnTo>
                    <a:pt x="180" y="1157"/>
                  </a:lnTo>
                  <a:lnTo>
                    <a:pt x="149" y="1145"/>
                  </a:lnTo>
                  <a:lnTo>
                    <a:pt x="121" y="1102"/>
                  </a:lnTo>
                  <a:lnTo>
                    <a:pt x="89" y="1088"/>
                  </a:lnTo>
                  <a:lnTo>
                    <a:pt x="103" y="1060"/>
                  </a:lnTo>
                  <a:lnTo>
                    <a:pt x="103" y="962"/>
                  </a:lnTo>
                  <a:lnTo>
                    <a:pt x="64" y="920"/>
                  </a:lnTo>
                  <a:lnTo>
                    <a:pt x="47" y="883"/>
                  </a:lnTo>
                  <a:lnTo>
                    <a:pt x="16" y="804"/>
                  </a:lnTo>
                  <a:lnTo>
                    <a:pt x="31" y="774"/>
                  </a:lnTo>
                  <a:lnTo>
                    <a:pt x="25" y="749"/>
                  </a:lnTo>
                  <a:lnTo>
                    <a:pt x="23" y="728"/>
                  </a:lnTo>
                  <a:lnTo>
                    <a:pt x="38" y="670"/>
                  </a:lnTo>
                  <a:lnTo>
                    <a:pt x="58" y="643"/>
                  </a:lnTo>
                  <a:lnTo>
                    <a:pt x="63" y="628"/>
                  </a:lnTo>
                  <a:lnTo>
                    <a:pt x="57" y="571"/>
                  </a:lnTo>
                  <a:lnTo>
                    <a:pt x="32" y="517"/>
                  </a:lnTo>
                  <a:lnTo>
                    <a:pt x="29" y="501"/>
                  </a:lnTo>
                  <a:lnTo>
                    <a:pt x="23" y="488"/>
                  </a:lnTo>
                  <a:lnTo>
                    <a:pt x="11" y="472"/>
                  </a:lnTo>
                  <a:lnTo>
                    <a:pt x="3" y="448"/>
                  </a:lnTo>
                  <a:lnTo>
                    <a:pt x="0" y="413"/>
                  </a:lnTo>
                  <a:lnTo>
                    <a:pt x="4" y="404"/>
                  </a:lnTo>
                  <a:lnTo>
                    <a:pt x="3" y="379"/>
                  </a:lnTo>
                  <a:lnTo>
                    <a:pt x="28" y="334"/>
                  </a:lnTo>
                  <a:lnTo>
                    <a:pt x="104" y="250"/>
                  </a:lnTo>
                  <a:lnTo>
                    <a:pt x="106" y="234"/>
                  </a:lnTo>
                  <a:lnTo>
                    <a:pt x="111" y="202"/>
                  </a:lnTo>
                  <a:lnTo>
                    <a:pt x="129" y="187"/>
                  </a:lnTo>
                  <a:lnTo>
                    <a:pt x="145" y="154"/>
                  </a:lnTo>
                  <a:lnTo>
                    <a:pt x="152" y="82"/>
                  </a:lnTo>
                  <a:lnTo>
                    <a:pt x="136" y="50"/>
                  </a:lnTo>
                  <a:lnTo>
                    <a:pt x="152" y="14"/>
                  </a:lnTo>
                  <a:lnTo>
                    <a:pt x="164" y="0"/>
                  </a:lnTo>
                  <a:lnTo>
                    <a:pt x="954" y="216"/>
                  </a:lnTo>
                  <a:lnTo>
                    <a:pt x="754" y="1003"/>
                  </a:lnTo>
                  <a:lnTo>
                    <a:pt x="1625" y="2283"/>
                  </a:lnTo>
                  <a:lnTo>
                    <a:pt x="1623" y="2321"/>
                  </a:lnTo>
                  <a:lnTo>
                    <a:pt x="1626" y="2334"/>
                  </a:lnTo>
                  <a:lnTo>
                    <a:pt x="1623" y="2345"/>
                  </a:lnTo>
                  <a:lnTo>
                    <a:pt x="1638" y="2377"/>
                  </a:lnTo>
                  <a:lnTo>
                    <a:pt x="1638" y="2405"/>
                  </a:lnTo>
                  <a:lnTo>
                    <a:pt x="1649" y="2422"/>
                  </a:lnTo>
                  <a:lnTo>
                    <a:pt x="1657" y="2454"/>
                  </a:lnTo>
                  <a:lnTo>
                    <a:pt x="1668" y="2462"/>
                  </a:lnTo>
                  <a:lnTo>
                    <a:pt x="1682" y="2478"/>
                  </a:lnTo>
                  <a:lnTo>
                    <a:pt x="1684" y="2505"/>
                  </a:lnTo>
                  <a:lnTo>
                    <a:pt x="1682" y="2513"/>
                  </a:lnTo>
                  <a:lnTo>
                    <a:pt x="1673" y="2505"/>
                  </a:lnTo>
                  <a:lnTo>
                    <a:pt x="1647" y="2526"/>
                  </a:lnTo>
                  <a:lnTo>
                    <a:pt x="1616" y="2538"/>
                  </a:lnTo>
                  <a:lnTo>
                    <a:pt x="1590" y="2572"/>
                  </a:lnTo>
                  <a:lnTo>
                    <a:pt x="1576" y="2642"/>
                  </a:lnTo>
                  <a:lnTo>
                    <a:pt x="1535" y="2696"/>
                  </a:lnTo>
                  <a:lnTo>
                    <a:pt x="1511" y="2696"/>
                  </a:lnTo>
                  <a:lnTo>
                    <a:pt x="1509" y="2711"/>
                  </a:lnTo>
                  <a:lnTo>
                    <a:pt x="1516" y="2728"/>
                  </a:lnTo>
                  <a:lnTo>
                    <a:pt x="1512" y="2745"/>
                  </a:lnTo>
                  <a:lnTo>
                    <a:pt x="1503" y="2780"/>
                  </a:lnTo>
                  <a:lnTo>
                    <a:pt x="1509" y="2793"/>
                  </a:lnTo>
                  <a:lnTo>
                    <a:pt x="1539" y="2819"/>
                  </a:lnTo>
                  <a:lnTo>
                    <a:pt x="1544" y="2831"/>
                  </a:lnTo>
                  <a:lnTo>
                    <a:pt x="1537" y="2841"/>
                  </a:lnTo>
                  <a:lnTo>
                    <a:pt x="1533" y="2859"/>
                  </a:lnTo>
                  <a:lnTo>
                    <a:pt x="1514" y="2879"/>
                  </a:lnTo>
                  <a:lnTo>
                    <a:pt x="1503" y="2876"/>
                  </a:lnTo>
                  <a:lnTo>
                    <a:pt x="1469" y="28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82680" y="4367160"/>
              <a:ext cx="2031480" cy="1463760"/>
              <a:chOff x="382680" y="4367160"/>
              <a:chExt cx="2031480" cy="1463760"/>
            </a:xfrm>
          </p:grpSpPr>
          <p:sp>
            <p:nvSpPr>
              <p:cNvPr id="346" name=""/>
              <p:cNvSpPr/>
              <p:nvPr/>
            </p:nvSpPr>
            <p:spPr>
              <a:xfrm>
                <a:off x="755640" y="5416560"/>
                <a:ext cx="85320" cy="28440"/>
              </a:xfrm>
              <a:custGeom>
                <a:avLst/>
                <a:gdLst/>
                <a:ahLst/>
                <a:rect l="l" t="t" r="r" b="b"/>
                <a:pathLst>
                  <a:path w="163" h="55">
                    <a:moveTo>
                      <a:pt x="159" y="37"/>
                    </a:moveTo>
                    <a:lnTo>
                      <a:pt x="151" y="33"/>
                    </a:lnTo>
                    <a:lnTo>
                      <a:pt x="143" y="27"/>
                    </a:lnTo>
                    <a:lnTo>
                      <a:pt x="134" y="21"/>
                    </a:lnTo>
                    <a:lnTo>
                      <a:pt x="128" y="15"/>
                    </a:lnTo>
                    <a:lnTo>
                      <a:pt x="118" y="9"/>
                    </a:lnTo>
                    <a:lnTo>
                      <a:pt x="109" y="4"/>
                    </a:lnTo>
                    <a:lnTo>
                      <a:pt x="101" y="1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75" y="7"/>
                    </a:lnTo>
                    <a:lnTo>
                      <a:pt x="72" y="14"/>
                    </a:lnTo>
                    <a:lnTo>
                      <a:pt x="71" y="22"/>
                    </a:lnTo>
                    <a:lnTo>
                      <a:pt x="63" y="16"/>
                    </a:lnTo>
                    <a:lnTo>
                      <a:pt x="55" y="12"/>
                    </a:lnTo>
                    <a:lnTo>
                      <a:pt x="46" y="13"/>
                    </a:lnTo>
                    <a:lnTo>
                      <a:pt x="37" y="14"/>
                    </a:lnTo>
                    <a:lnTo>
                      <a:pt x="33" y="17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2" y="30"/>
                    </a:lnTo>
                    <a:lnTo>
                      <a:pt x="17" y="33"/>
                    </a:lnTo>
                    <a:lnTo>
                      <a:pt x="11" y="33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6"/>
                    </a:lnTo>
                    <a:lnTo>
                      <a:pt x="6" y="49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30" y="54"/>
                    </a:lnTo>
                    <a:lnTo>
                      <a:pt x="40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3" y="54"/>
                    </a:lnTo>
                    <a:lnTo>
                      <a:pt x="70" y="54"/>
                    </a:lnTo>
                    <a:lnTo>
                      <a:pt x="77" y="55"/>
                    </a:lnTo>
                    <a:lnTo>
                      <a:pt x="85" y="55"/>
                    </a:lnTo>
                    <a:lnTo>
                      <a:pt x="95" y="54"/>
                    </a:lnTo>
                    <a:lnTo>
                      <a:pt x="103" y="52"/>
                    </a:lnTo>
                    <a:lnTo>
                      <a:pt x="112" y="51"/>
                    </a:lnTo>
                    <a:lnTo>
                      <a:pt x="121" y="51"/>
                    </a:lnTo>
                    <a:lnTo>
                      <a:pt x="127" y="51"/>
                    </a:lnTo>
                    <a:lnTo>
                      <a:pt x="134" y="53"/>
                    </a:lnTo>
                    <a:lnTo>
                      <a:pt x="138" y="54"/>
                    </a:lnTo>
                    <a:lnTo>
                      <a:pt x="145" y="54"/>
                    </a:lnTo>
                    <a:lnTo>
                      <a:pt x="150" y="54"/>
                    </a:lnTo>
                    <a:lnTo>
                      <a:pt x="156" y="55"/>
                    </a:lnTo>
                    <a:lnTo>
                      <a:pt x="160" y="50"/>
                    </a:lnTo>
                    <a:lnTo>
                      <a:pt x="163" y="45"/>
                    </a:lnTo>
                    <a:lnTo>
                      <a:pt x="162" y="43"/>
                    </a:lnTo>
                    <a:lnTo>
                      <a:pt x="162" y="40"/>
                    </a:lnTo>
                    <a:lnTo>
                      <a:pt x="162" y="36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58" y="36"/>
                    </a:lnTo>
                    <a:lnTo>
                      <a:pt x="159" y="37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5640" y="5416560"/>
                <a:ext cx="85320" cy="28440"/>
              </a:xfrm>
              <a:custGeom>
                <a:avLst/>
                <a:gdLst/>
                <a:ahLst/>
                <a:rect l="l" t="t" r="r" b="b"/>
                <a:pathLst>
                  <a:path w="163" h="55">
                    <a:moveTo>
                      <a:pt x="159" y="37"/>
                    </a:moveTo>
                    <a:lnTo>
                      <a:pt x="151" y="33"/>
                    </a:lnTo>
                    <a:lnTo>
                      <a:pt x="143" y="27"/>
                    </a:lnTo>
                    <a:lnTo>
                      <a:pt x="134" y="21"/>
                    </a:lnTo>
                    <a:lnTo>
                      <a:pt x="128" y="15"/>
                    </a:lnTo>
                    <a:lnTo>
                      <a:pt x="118" y="9"/>
                    </a:lnTo>
                    <a:lnTo>
                      <a:pt x="109" y="4"/>
                    </a:lnTo>
                    <a:lnTo>
                      <a:pt x="101" y="1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75" y="7"/>
                    </a:lnTo>
                    <a:lnTo>
                      <a:pt x="72" y="14"/>
                    </a:lnTo>
                    <a:lnTo>
                      <a:pt x="71" y="22"/>
                    </a:lnTo>
                    <a:lnTo>
                      <a:pt x="63" y="16"/>
                    </a:lnTo>
                    <a:lnTo>
                      <a:pt x="55" y="12"/>
                    </a:lnTo>
                    <a:lnTo>
                      <a:pt x="46" y="13"/>
                    </a:lnTo>
                    <a:lnTo>
                      <a:pt x="37" y="14"/>
                    </a:lnTo>
                    <a:lnTo>
                      <a:pt x="33" y="17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2" y="30"/>
                    </a:lnTo>
                    <a:lnTo>
                      <a:pt x="17" y="33"/>
                    </a:lnTo>
                    <a:lnTo>
                      <a:pt x="11" y="33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6"/>
                    </a:lnTo>
                    <a:lnTo>
                      <a:pt x="6" y="49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30" y="54"/>
                    </a:lnTo>
                    <a:lnTo>
                      <a:pt x="40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3" y="54"/>
                    </a:lnTo>
                    <a:lnTo>
                      <a:pt x="70" y="54"/>
                    </a:lnTo>
                    <a:lnTo>
                      <a:pt x="77" y="55"/>
                    </a:lnTo>
                    <a:lnTo>
                      <a:pt x="85" y="55"/>
                    </a:lnTo>
                    <a:lnTo>
                      <a:pt x="95" y="54"/>
                    </a:lnTo>
                    <a:lnTo>
                      <a:pt x="103" y="52"/>
                    </a:lnTo>
                    <a:lnTo>
                      <a:pt x="112" y="51"/>
                    </a:lnTo>
                    <a:lnTo>
                      <a:pt x="121" y="51"/>
                    </a:lnTo>
                    <a:lnTo>
                      <a:pt x="127" y="51"/>
                    </a:lnTo>
                    <a:lnTo>
                      <a:pt x="134" y="53"/>
                    </a:lnTo>
                    <a:lnTo>
                      <a:pt x="138" y="54"/>
                    </a:lnTo>
                    <a:lnTo>
                      <a:pt x="145" y="54"/>
                    </a:lnTo>
                    <a:lnTo>
                      <a:pt x="150" y="54"/>
                    </a:lnTo>
                    <a:lnTo>
                      <a:pt x="156" y="55"/>
                    </a:lnTo>
                    <a:lnTo>
                      <a:pt x="160" y="50"/>
                    </a:lnTo>
                    <a:lnTo>
                      <a:pt x="163" y="45"/>
                    </a:lnTo>
                    <a:lnTo>
                      <a:pt x="162" y="43"/>
                    </a:lnTo>
                    <a:lnTo>
                      <a:pt x="162" y="40"/>
                    </a:lnTo>
                    <a:lnTo>
                      <a:pt x="162" y="36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58" y="36"/>
                    </a:lnTo>
                    <a:lnTo>
                      <a:pt x="159" y="37"/>
                    </a:lnTo>
                    <a:lnTo>
                      <a:pt x="159" y="37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0760" y="5408640"/>
                <a:ext cx="80640" cy="21960"/>
              </a:xfrm>
              <a:custGeom>
                <a:avLst/>
                <a:gdLst/>
                <a:ahLst/>
                <a:rect l="l" t="t" r="r" b="b"/>
                <a:pathLst>
                  <a:path w="153" h="43">
                    <a:moveTo>
                      <a:pt x="127" y="40"/>
                    </a:moveTo>
                    <a:lnTo>
                      <a:pt x="137" y="35"/>
                    </a:lnTo>
                    <a:lnTo>
                      <a:pt x="149" y="30"/>
                    </a:lnTo>
                    <a:lnTo>
                      <a:pt x="153" y="23"/>
                    </a:lnTo>
                    <a:lnTo>
                      <a:pt x="153" y="15"/>
                    </a:lnTo>
                    <a:lnTo>
                      <a:pt x="148" y="8"/>
                    </a:lnTo>
                    <a:lnTo>
                      <a:pt x="141" y="3"/>
                    </a:lnTo>
                    <a:lnTo>
                      <a:pt x="133" y="0"/>
                    </a:lnTo>
                    <a:lnTo>
                      <a:pt x="126" y="1"/>
                    </a:lnTo>
                    <a:lnTo>
                      <a:pt x="115" y="2"/>
                    </a:lnTo>
                    <a:lnTo>
                      <a:pt x="107" y="4"/>
                    </a:lnTo>
                    <a:lnTo>
                      <a:pt x="100" y="7"/>
                    </a:lnTo>
                    <a:lnTo>
                      <a:pt x="92" y="9"/>
                    </a:lnTo>
                    <a:lnTo>
                      <a:pt x="88" y="12"/>
                    </a:lnTo>
                    <a:lnTo>
                      <a:pt x="86" y="15"/>
                    </a:lnTo>
                    <a:lnTo>
                      <a:pt x="81" y="18"/>
                    </a:lnTo>
                    <a:lnTo>
                      <a:pt x="77" y="23"/>
                    </a:lnTo>
                    <a:lnTo>
                      <a:pt x="74" y="25"/>
                    </a:lnTo>
                    <a:lnTo>
                      <a:pt x="69" y="25"/>
                    </a:lnTo>
                    <a:lnTo>
                      <a:pt x="65" y="27"/>
                    </a:lnTo>
                    <a:lnTo>
                      <a:pt x="59" y="27"/>
                    </a:lnTo>
                    <a:lnTo>
                      <a:pt x="55" y="25"/>
                    </a:lnTo>
                    <a:lnTo>
                      <a:pt x="51" y="23"/>
                    </a:lnTo>
                    <a:lnTo>
                      <a:pt x="46" y="22"/>
                    </a:lnTo>
                    <a:lnTo>
                      <a:pt x="42" y="21"/>
                    </a:lnTo>
                    <a:lnTo>
                      <a:pt x="37" y="21"/>
                    </a:lnTo>
                    <a:lnTo>
                      <a:pt x="30" y="20"/>
                    </a:lnTo>
                    <a:lnTo>
                      <a:pt x="23" y="23"/>
                    </a:lnTo>
                    <a:lnTo>
                      <a:pt x="15" y="23"/>
                    </a:lnTo>
                    <a:lnTo>
                      <a:pt x="12" y="24"/>
                    </a:lnTo>
                    <a:lnTo>
                      <a:pt x="7" y="23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14" y="38"/>
                    </a:lnTo>
                    <a:lnTo>
                      <a:pt x="20" y="39"/>
                    </a:lnTo>
                    <a:lnTo>
                      <a:pt x="28" y="38"/>
                    </a:lnTo>
                    <a:lnTo>
                      <a:pt x="36" y="36"/>
                    </a:lnTo>
                    <a:lnTo>
                      <a:pt x="44" y="36"/>
                    </a:lnTo>
                    <a:lnTo>
                      <a:pt x="52" y="36"/>
                    </a:lnTo>
                    <a:lnTo>
                      <a:pt x="63" y="38"/>
                    </a:lnTo>
                    <a:lnTo>
                      <a:pt x="74" y="40"/>
                    </a:lnTo>
                    <a:lnTo>
                      <a:pt x="85" y="42"/>
                    </a:lnTo>
                    <a:lnTo>
                      <a:pt x="97" y="43"/>
                    </a:lnTo>
                    <a:lnTo>
                      <a:pt x="105" y="42"/>
                    </a:lnTo>
                    <a:lnTo>
                      <a:pt x="113" y="40"/>
                    </a:lnTo>
                    <a:lnTo>
                      <a:pt x="122" y="41"/>
                    </a:lnTo>
                    <a:lnTo>
                      <a:pt x="130" y="42"/>
                    </a:lnTo>
                    <a:lnTo>
                      <a:pt x="129" y="41"/>
                    </a:lnTo>
                    <a:lnTo>
                      <a:pt x="127" y="4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0760" y="5408640"/>
                <a:ext cx="80640" cy="21960"/>
              </a:xfrm>
              <a:custGeom>
                <a:avLst/>
                <a:gdLst/>
                <a:ahLst/>
                <a:rect l="l" t="t" r="r" b="b"/>
                <a:pathLst>
                  <a:path w="153" h="43">
                    <a:moveTo>
                      <a:pt x="127" y="40"/>
                    </a:moveTo>
                    <a:lnTo>
                      <a:pt x="137" y="35"/>
                    </a:lnTo>
                    <a:lnTo>
                      <a:pt x="149" y="30"/>
                    </a:lnTo>
                    <a:lnTo>
                      <a:pt x="153" y="23"/>
                    </a:lnTo>
                    <a:lnTo>
                      <a:pt x="153" y="15"/>
                    </a:lnTo>
                    <a:lnTo>
                      <a:pt x="148" y="8"/>
                    </a:lnTo>
                    <a:lnTo>
                      <a:pt x="141" y="3"/>
                    </a:lnTo>
                    <a:lnTo>
                      <a:pt x="133" y="0"/>
                    </a:lnTo>
                    <a:lnTo>
                      <a:pt x="126" y="1"/>
                    </a:lnTo>
                    <a:lnTo>
                      <a:pt x="115" y="2"/>
                    </a:lnTo>
                    <a:lnTo>
                      <a:pt x="107" y="4"/>
                    </a:lnTo>
                    <a:lnTo>
                      <a:pt x="100" y="7"/>
                    </a:lnTo>
                    <a:lnTo>
                      <a:pt x="92" y="9"/>
                    </a:lnTo>
                    <a:lnTo>
                      <a:pt x="88" y="12"/>
                    </a:lnTo>
                    <a:lnTo>
                      <a:pt x="86" y="15"/>
                    </a:lnTo>
                    <a:lnTo>
                      <a:pt x="81" y="18"/>
                    </a:lnTo>
                    <a:lnTo>
                      <a:pt x="77" y="23"/>
                    </a:lnTo>
                    <a:lnTo>
                      <a:pt x="74" y="25"/>
                    </a:lnTo>
                    <a:lnTo>
                      <a:pt x="69" y="25"/>
                    </a:lnTo>
                    <a:lnTo>
                      <a:pt x="65" y="27"/>
                    </a:lnTo>
                    <a:lnTo>
                      <a:pt x="59" y="27"/>
                    </a:lnTo>
                    <a:lnTo>
                      <a:pt x="55" y="25"/>
                    </a:lnTo>
                    <a:lnTo>
                      <a:pt x="51" y="23"/>
                    </a:lnTo>
                    <a:lnTo>
                      <a:pt x="46" y="22"/>
                    </a:lnTo>
                    <a:lnTo>
                      <a:pt x="42" y="21"/>
                    </a:lnTo>
                    <a:lnTo>
                      <a:pt x="37" y="21"/>
                    </a:lnTo>
                    <a:lnTo>
                      <a:pt x="30" y="20"/>
                    </a:lnTo>
                    <a:lnTo>
                      <a:pt x="23" y="23"/>
                    </a:lnTo>
                    <a:lnTo>
                      <a:pt x="15" y="23"/>
                    </a:lnTo>
                    <a:lnTo>
                      <a:pt x="12" y="24"/>
                    </a:lnTo>
                    <a:lnTo>
                      <a:pt x="7" y="23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14" y="38"/>
                    </a:lnTo>
                    <a:lnTo>
                      <a:pt x="20" y="39"/>
                    </a:lnTo>
                    <a:lnTo>
                      <a:pt x="28" y="38"/>
                    </a:lnTo>
                    <a:lnTo>
                      <a:pt x="36" y="36"/>
                    </a:lnTo>
                    <a:lnTo>
                      <a:pt x="44" y="36"/>
                    </a:lnTo>
                    <a:lnTo>
                      <a:pt x="52" y="36"/>
                    </a:lnTo>
                    <a:lnTo>
                      <a:pt x="63" y="38"/>
                    </a:lnTo>
                    <a:lnTo>
                      <a:pt x="74" y="40"/>
                    </a:lnTo>
                    <a:lnTo>
                      <a:pt x="85" y="42"/>
                    </a:lnTo>
                    <a:lnTo>
                      <a:pt x="97" y="43"/>
                    </a:lnTo>
                    <a:lnTo>
                      <a:pt x="105" y="42"/>
                    </a:lnTo>
                    <a:lnTo>
                      <a:pt x="113" y="40"/>
                    </a:lnTo>
                    <a:lnTo>
                      <a:pt x="122" y="41"/>
                    </a:lnTo>
                    <a:lnTo>
                      <a:pt x="130" y="42"/>
                    </a:lnTo>
                    <a:lnTo>
                      <a:pt x="129" y="41"/>
                    </a:lnTo>
                    <a:lnTo>
                      <a:pt x="127" y="40"/>
                    </a:lnTo>
                    <a:lnTo>
                      <a:pt x="127" y="40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9080" y="5416560"/>
                <a:ext cx="15480" cy="792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6" y="8"/>
                    </a:moveTo>
                    <a:lnTo>
                      <a:pt x="19" y="5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7" y="8"/>
                    </a:lnTo>
                    <a:lnTo>
                      <a:pt x="15" y="13"/>
                    </a:lnTo>
                    <a:lnTo>
                      <a:pt x="23" y="15"/>
                    </a:lnTo>
                    <a:lnTo>
                      <a:pt x="31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29" y="8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7" y="9"/>
                    </a:lnTo>
                    <a:lnTo>
                      <a:pt x="26" y="8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6760" y="54180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6"/>
                    </a:moveTo>
                    <a:lnTo>
                      <a:pt x="17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7" y="10"/>
                    </a:lnTo>
                    <a:lnTo>
                      <a:pt x="13" y="11"/>
                    </a:lnTo>
                    <a:lnTo>
                      <a:pt x="18" y="1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9480" y="5418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6880" y="5414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4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2760" y="5405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5" y="4"/>
                    </a:move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6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4" y="14"/>
                    </a:lnTo>
                    <a:lnTo>
                      <a:pt x="22" y="10"/>
                    </a:lnTo>
                    <a:lnTo>
                      <a:pt x="19" y="6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2760" y="5405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5" y="4"/>
                    </a:move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6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4" y="14"/>
                    </a:lnTo>
                    <a:lnTo>
                      <a:pt x="22" y="10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7560" y="5392440"/>
                <a:ext cx="29880" cy="1116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39" y="0"/>
                    </a:moveTo>
                    <a:lnTo>
                      <a:pt x="49" y="0"/>
                    </a:lnTo>
                    <a:lnTo>
                      <a:pt x="55" y="3"/>
                    </a:lnTo>
                    <a:lnTo>
                      <a:pt x="57" y="8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5" y="15"/>
                    </a:lnTo>
                    <a:lnTo>
                      <a:pt x="42" y="13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44" y="22"/>
                    </a:lnTo>
                    <a:lnTo>
                      <a:pt x="40" y="22"/>
                    </a:lnTo>
                    <a:lnTo>
                      <a:pt x="36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2" y="22"/>
                    </a:lnTo>
                    <a:lnTo>
                      <a:pt x="20" y="21"/>
                    </a:lnTo>
                    <a:lnTo>
                      <a:pt x="15" y="19"/>
                    </a:lnTo>
                    <a:lnTo>
                      <a:pt x="10" y="19"/>
                    </a:lnTo>
                    <a:lnTo>
                      <a:pt x="6" y="15"/>
                    </a:lnTo>
                    <a:lnTo>
                      <a:pt x="0" y="12"/>
                    </a:lnTo>
                    <a:lnTo>
                      <a:pt x="8" y="9"/>
                    </a:lnTo>
                    <a:lnTo>
                      <a:pt x="16" y="7"/>
                    </a:lnTo>
                    <a:lnTo>
                      <a:pt x="24" y="6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8" y="5"/>
                    </a:lnTo>
                    <a:lnTo>
                      <a:pt x="4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9120" y="53737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0" y="27"/>
                    </a:moveTo>
                    <a:lnTo>
                      <a:pt x="29" y="23"/>
                    </a:lnTo>
                    <a:lnTo>
                      <a:pt x="30" y="19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29" y="7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12" y="14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1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8" y="45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8" y="46"/>
                    </a:lnTo>
                    <a:lnTo>
                      <a:pt x="21" y="46"/>
                    </a:lnTo>
                    <a:lnTo>
                      <a:pt x="28" y="45"/>
                    </a:lnTo>
                    <a:lnTo>
                      <a:pt x="31" y="40"/>
                    </a:lnTo>
                    <a:lnTo>
                      <a:pt x="32" y="33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9120" y="53737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0" y="27"/>
                    </a:moveTo>
                    <a:lnTo>
                      <a:pt x="29" y="23"/>
                    </a:lnTo>
                    <a:lnTo>
                      <a:pt x="30" y="19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29" y="7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12" y="14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1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8" y="45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8" y="46"/>
                    </a:lnTo>
                    <a:lnTo>
                      <a:pt x="21" y="46"/>
                    </a:lnTo>
                    <a:lnTo>
                      <a:pt x="28" y="45"/>
                    </a:lnTo>
                    <a:lnTo>
                      <a:pt x="31" y="40"/>
                    </a:lnTo>
                    <a:lnTo>
                      <a:pt x="32" y="33"/>
                    </a:lnTo>
                    <a:lnTo>
                      <a:pt x="30" y="27"/>
                    </a:lnTo>
                    <a:lnTo>
                      <a:pt x="30" y="27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4200" y="536580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45" y="14"/>
                    </a:moveTo>
                    <a:lnTo>
                      <a:pt x="47" y="11"/>
                    </a:lnTo>
                    <a:lnTo>
                      <a:pt x="47" y="8"/>
                    </a:lnTo>
                    <a:lnTo>
                      <a:pt x="49" y="3"/>
                    </a:lnTo>
                    <a:lnTo>
                      <a:pt x="51" y="0"/>
                    </a:lnTo>
                    <a:lnTo>
                      <a:pt x="56" y="2"/>
                    </a:lnTo>
                    <a:lnTo>
                      <a:pt x="61" y="4"/>
                    </a:lnTo>
                    <a:lnTo>
                      <a:pt x="62" y="7"/>
                    </a:lnTo>
                    <a:lnTo>
                      <a:pt x="61" y="10"/>
                    </a:lnTo>
                    <a:lnTo>
                      <a:pt x="61" y="17"/>
                    </a:lnTo>
                    <a:lnTo>
                      <a:pt x="59" y="23"/>
                    </a:lnTo>
                    <a:lnTo>
                      <a:pt x="55" y="27"/>
                    </a:lnTo>
                    <a:lnTo>
                      <a:pt x="51" y="27"/>
                    </a:lnTo>
                    <a:lnTo>
                      <a:pt x="44" y="26"/>
                    </a:lnTo>
                    <a:lnTo>
                      <a:pt x="38" y="25"/>
                    </a:lnTo>
                    <a:lnTo>
                      <a:pt x="32" y="24"/>
                    </a:lnTo>
                    <a:lnTo>
                      <a:pt x="26" y="22"/>
                    </a:lnTo>
                    <a:lnTo>
                      <a:pt x="19" y="19"/>
                    </a:lnTo>
                    <a:lnTo>
                      <a:pt x="13" y="18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" y="5"/>
                    </a:lnTo>
                    <a:lnTo>
                      <a:pt x="20" y="8"/>
                    </a:lnTo>
                    <a:lnTo>
                      <a:pt x="27" y="10"/>
                    </a:lnTo>
                    <a:lnTo>
                      <a:pt x="33" y="14"/>
                    </a:lnTo>
                    <a:lnTo>
                      <a:pt x="40" y="14"/>
                    </a:lnTo>
                    <a:lnTo>
                      <a:pt x="45" y="14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560" y="534024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32" y="22"/>
                    </a:moveTo>
                    <a:lnTo>
                      <a:pt x="36" y="14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9" y="11"/>
                    </a:lnTo>
                    <a:lnTo>
                      <a:pt x="21" y="17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7" y="45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20" y="48"/>
                    </a:lnTo>
                    <a:lnTo>
                      <a:pt x="23" y="42"/>
                    </a:lnTo>
                    <a:lnTo>
                      <a:pt x="28" y="34"/>
                    </a:lnTo>
                    <a:lnTo>
                      <a:pt x="31" y="29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1" y="16"/>
                    </a:lnTo>
                    <a:lnTo>
                      <a:pt x="36" y="14"/>
                    </a:lnTo>
                    <a:lnTo>
                      <a:pt x="34" y="18"/>
                    </a:lnTo>
                    <a:lnTo>
                      <a:pt x="34" y="19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6560" y="534024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32" y="22"/>
                    </a:moveTo>
                    <a:lnTo>
                      <a:pt x="36" y="14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9" y="11"/>
                    </a:lnTo>
                    <a:lnTo>
                      <a:pt x="21" y="17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7" y="45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20" y="48"/>
                    </a:lnTo>
                    <a:lnTo>
                      <a:pt x="23" y="42"/>
                    </a:lnTo>
                    <a:lnTo>
                      <a:pt x="28" y="34"/>
                    </a:lnTo>
                    <a:lnTo>
                      <a:pt x="31" y="29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1" y="16"/>
                    </a:lnTo>
                    <a:lnTo>
                      <a:pt x="36" y="14"/>
                    </a:lnTo>
                    <a:lnTo>
                      <a:pt x="34" y="18"/>
                    </a:lnTo>
                    <a:lnTo>
                      <a:pt x="34" y="19"/>
                    </a:lnTo>
                    <a:lnTo>
                      <a:pt x="32" y="22"/>
                    </a:lnTo>
                    <a:lnTo>
                      <a:pt x="32" y="22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61880" y="5340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6040" y="53276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6"/>
                    </a:moveTo>
                    <a:lnTo>
                      <a:pt x="19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8" y="10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3720" y="5303880"/>
                <a:ext cx="12240" cy="42840"/>
              </a:xfrm>
              <a:custGeom>
                <a:avLst/>
                <a:gdLst/>
                <a:ahLst/>
                <a:rect l="l" t="t" r="r" b="b"/>
                <a:pathLst>
                  <a:path w="22" h="81">
                    <a:moveTo>
                      <a:pt x="17" y="79"/>
                    </a:moveTo>
                    <a:lnTo>
                      <a:pt x="19" y="79"/>
                    </a:lnTo>
                    <a:lnTo>
                      <a:pt x="21" y="81"/>
                    </a:lnTo>
                    <a:lnTo>
                      <a:pt x="22" y="79"/>
                    </a:lnTo>
                    <a:lnTo>
                      <a:pt x="20" y="66"/>
                    </a:lnTo>
                    <a:lnTo>
                      <a:pt x="19" y="51"/>
                    </a:lnTo>
                    <a:lnTo>
                      <a:pt x="17" y="37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9" y="24"/>
                    </a:lnTo>
                    <a:lnTo>
                      <a:pt x="18" y="14"/>
                    </a:lnTo>
                    <a:lnTo>
                      <a:pt x="14" y="6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4" y="22"/>
                    </a:lnTo>
                    <a:lnTo>
                      <a:pt x="6" y="29"/>
                    </a:lnTo>
                    <a:lnTo>
                      <a:pt x="7" y="35"/>
                    </a:lnTo>
                    <a:lnTo>
                      <a:pt x="7" y="43"/>
                    </a:lnTo>
                    <a:lnTo>
                      <a:pt x="7" y="48"/>
                    </a:lnTo>
                    <a:lnTo>
                      <a:pt x="6" y="54"/>
                    </a:lnTo>
                    <a:lnTo>
                      <a:pt x="7" y="61"/>
                    </a:lnTo>
                    <a:lnTo>
                      <a:pt x="11" y="67"/>
                    </a:lnTo>
                    <a:lnTo>
                      <a:pt x="14" y="74"/>
                    </a:lnTo>
                    <a:lnTo>
                      <a:pt x="17" y="78"/>
                    </a:lnTo>
                    <a:lnTo>
                      <a:pt x="17" y="79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2560" y="5297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2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8800" y="5273640"/>
                <a:ext cx="28080" cy="1404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19" y="6"/>
                    </a:moveTo>
                    <a:lnTo>
                      <a:pt x="27" y="4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0"/>
                    </a:lnTo>
                    <a:lnTo>
                      <a:pt x="48" y="8"/>
                    </a:lnTo>
                    <a:lnTo>
                      <a:pt x="40" y="10"/>
                    </a:lnTo>
                    <a:lnTo>
                      <a:pt x="31" y="12"/>
                    </a:lnTo>
                    <a:lnTo>
                      <a:pt x="24" y="16"/>
                    </a:lnTo>
                    <a:lnTo>
                      <a:pt x="23" y="17"/>
                    </a:lnTo>
                    <a:lnTo>
                      <a:pt x="22" y="21"/>
                    </a:lnTo>
                    <a:lnTo>
                      <a:pt x="23" y="23"/>
                    </a:lnTo>
                    <a:lnTo>
                      <a:pt x="22" y="24"/>
                    </a:lnTo>
                    <a:lnTo>
                      <a:pt x="17" y="25"/>
                    </a:lnTo>
                    <a:lnTo>
                      <a:pt x="12" y="25"/>
                    </a:lnTo>
                    <a:lnTo>
                      <a:pt x="7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10"/>
                    </a:lnTo>
                    <a:lnTo>
                      <a:pt x="11" y="8"/>
                    </a:lnTo>
                    <a:lnTo>
                      <a:pt x="15" y="5"/>
                    </a:lnTo>
                    <a:lnTo>
                      <a:pt x="20" y="4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2680" y="5209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73000" y="4367160"/>
                <a:ext cx="1541160" cy="1463760"/>
              </a:xfrm>
              <a:custGeom>
                <a:avLst/>
                <a:gdLst/>
                <a:ahLst/>
                <a:rect l="l" t="t" r="r" b="b"/>
                <a:pathLst>
                  <a:path w="2911" h="2766">
                    <a:moveTo>
                      <a:pt x="970" y="159"/>
                    </a:moveTo>
                    <a:lnTo>
                      <a:pt x="1011" y="254"/>
                    </a:lnTo>
                    <a:lnTo>
                      <a:pt x="1027" y="399"/>
                    </a:lnTo>
                    <a:lnTo>
                      <a:pt x="1108" y="461"/>
                    </a:lnTo>
                    <a:lnTo>
                      <a:pt x="1047" y="600"/>
                    </a:lnTo>
                    <a:lnTo>
                      <a:pt x="935" y="550"/>
                    </a:lnTo>
                    <a:lnTo>
                      <a:pt x="974" y="459"/>
                    </a:lnTo>
                    <a:lnTo>
                      <a:pt x="951" y="449"/>
                    </a:lnTo>
                    <a:lnTo>
                      <a:pt x="684" y="440"/>
                    </a:lnTo>
                    <a:lnTo>
                      <a:pt x="722" y="538"/>
                    </a:lnTo>
                    <a:lnTo>
                      <a:pt x="683" y="628"/>
                    </a:lnTo>
                    <a:lnTo>
                      <a:pt x="753" y="714"/>
                    </a:lnTo>
                    <a:lnTo>
                      <a:pt x="881" y="799"/>
                    </a:lnTo>
                    <a:lnTo>
                      <a:pt x="1002" y="769"/>
                    </a:lnTo>
                    <a:lnTo>
                      <a:pt x="952" y="939"/>
                    </a:lnTo>
                    <a:lnTo>
                      <a:pt x="852" y="922"/>
                    </a:lnTo>
                    <a:lnTo>
                      <a:pt x="811" y="957"/>
                    </a:lnTo>
                    <a:lnTo>
                      <a:pt x="754" y="959"/>
                    </a:lnTo>
                    <a:lnTo>
                      <a:pt x="705" y="885"/>
                    </a:lnTo>
                    <a:lnTo>
                      <a:pt x="619" y="955"/>
                    </a:lnTo>
                    <a:lnTo>
                      <a:pt x="454" y="1018"/>
                    </a:lnTo>
                    <a:lnTo>
                      <a:pt x="474" y="1164"/>
                    </a:lnTo>
                    <a:lnTo>
                      <a:pt x="431" y="1198"/>
                    </a:lnTo>
                    <a:lnTo>
                      <a:pt x="483" y="1328"/>
                    </a:lnTo>
                    <a:lnTo>
                      <a:pt x="595" y="1379"/>
                    </a:lnTo>
                    <a:lnTo>
                      <a:pt x="612" y="1469"/>
                    </a:lnTo>
                    <a:lnTo>
                      <a:pt x="570" y="1505"/>
                    </a:lnTo>
                    <a:lnTo>
                      <a:pt x="561" y="1582"/>
                    </a:lnTo>
                    <a:lnTo>
                      <a:pt x="672" y="1576"/>
                    </a:lnTo>
                    <a:lnTo>
                      <a:pt x="721" y="1709"/>
                    </a:lnTo>
                    <a:lnTo>
                      <a:pt x="889" y="1699"/>
                    </a:lnTo>
                    <a:lnTo>
                      <a:pt x="804" y="1772"/>
                    </a:lnTo>
                    <a:lnTo>
                      <a:pt x="763" y="1864"/>
                    </a:lnTo>
                    <a:lnTo>
                      <a:pt x="520" y="1920"/>
                    </a:lnTo>
                    <a:lnTo>
                      <a:pt x="414" y="1982"/>
                    </a:lnTo>
                    <a:lnTo>
                      <a:pt x="343" y="1950"/>
                    </a:lnTo>
                    <a:lnTo>
                      <a:pt x="190" y="1991"/>
                    </a:lnTo>
                    <a:lnTo>
                      <a:pt x="66" y="1963"/>
                    </a:lnTo>
                    <a:lnTo>
                      <a:pt x="0" y="1990"/>
                    </a:lnTo>
                    <a:lnTo>
                      <a:pt x="36" y="2031"/>
                    </a:lnTo>
                    <a:lnTo>
                      <a:pt x="304" y="2040"/>
                    </a:lnTo>
                    <a:lnTo>
                      <a:pt x="470" y="2033"/>
                    </a:lnTo>
                    <a:lnTo>
                      <a:pt x="823" y="1971"/>
                    </a:lnTo>
                    <a:lnTo>
                      <a:pt x="1132" y="1834"/>
                    </a:lnTo>
                    <a:lnTo>
                      <a:pt x="1173" y="1798"/>
                    </a:lnTo>
                    <a:lnTo>
                      <a:pt x="1106" y="1768"/>
                    </a:lnTo>
                    <a:lnTo>
                      <a:pt x="1441" y="1562"/>
                    </a:lnTo>
                    <a:lnTo>
                      <a:pt x="1498" y="1560"/>
                    </a:lnTo>
                    <a:lnTo>
                      <a:pt x="1477" y="1606"/>
                    </a:lnTo>
                    <a:lnTo>
                      <a:pt x="1389" y="1621"/>
                    </a:lnTo>
                    <a:lnTo>
                      <a:pt x="1307" y="1748"/>
                    </a:lnTo>
                    <a:lnTo>
                      <a:pt x="1359" y="1745"/>
                    </a:lnTo>
                    <a:lnTo>
                      <a:pt x="1296" y="1771"/>
                    </a:lnTo>
                    <a:lnTo>
                      <a:pt x="1308" y="1804"/>
                    </a:lnTo>
                    <a:lnTo>
                      <a:pt x="1485" y="1771"/>
                    </a:lnTo>
                    <a:lnTo>
                      <a:pt x="1563" y="1779"/>
                    </a:lnTo>
                    <a:lnTo>
                      <a:pt x="1616" y="1721"/>
                    </a:lnTo>
                    <a:lnTo>
                      <a:pt x="1612" y="1666"/>
                    </a:lnTo>
                    <a:lnTo>
                      <a:pt x="1760" y="1703"/>
                    </a:lnTo>
                    <a:lnTo>
                      <a:pt x="1879" y="1867"/>
                    </a:lnTo>
                    <a:lnTo>
                      <a:pt x="2037" y="1880"/>
                    </a:lnTo>
                    <a:lnTo>
                      <a:pt x="2094" y="1932"/>
                    </a:lnTo>
                    <a:lnTo>
                      <a:pt x="2186" y="1972"/>
                    </a:lnTo>
                    <a:lnTo>
                      <a:pt x="2385" y="2198"/>
                    </a:lnTo>
                    <a:lnTo>
                      <a:pt x="2413" y="2263"/>
                    </a:lnTo>
                    <a:lnTo>
                      <a:pt x="2441" y="2384"/>
                    </a:lnTo>
                    <a:lnTo>
                      <a:pt x="2536" y="2536"/>
                    </a:lnTo>
                    <a:lnTo>
                      <a:pt x="2563" y="2601"/>
                    </a:lnTo>
                    <a:lnTo>
                      <a:pt x="2683" y="2762"/>
                    </a:lnTo>
                    <a:lnTo>
                      <a:pt x="2870" y="2766"/>
                    </a:lnTo>
                    <a:lnTo>
                      <a:pt x="2911" y="2674"/>
                    </a:lnTo>
                    <a:lnTo>
                      <a:pt x="2908" y="2563"/>
                    </a:lnTo>
                    <a:lnTo>
                      <a:pt x="2850" y="2510"/>
                    </a:lnTo>
                    <a:lnTo>
                      <a:pt x="2780" y="2479"/>
                    </a:lnTo>
                    <a:lnTo>
                      <a:pt x="2719" y="2371"/>
                    </a:lnTo>
                    <a:lnTo>
                      <a:pt x="2657" y="2262"/>
                    </a:lnTo>
                    <a:lnTo>
                      <a:pt x="2554" y="2000"/>
                    </a:lnTo>
                    <a:lnTo>
                      <a:pt x="2501" y="2003"/>
                    </a:lnTo>
                    <a:lnTo>
                      <a:pt x="2424" y="2052"/>
                    </a:lnTo>
                    <a:lnTo>
                      <a:pt x="2357" y="2077"/>
                    </a:lnTo>
                    <a:lnTo>
                      <a:pt x="2240" y="1914"/>
                    </a:lnTo>
                    <a:lnTo>
                      <a:pt x="2259" y="1870"/>
                    </a:lnTo>
                    <a:lnTo>
                      <a:pt x="2104" y="1855"/>
                    </a:lnTo>
                    <a:lnTo>
                      <a:pt x="2158" y="1605"/>
                    </a:lnTo>
                    <a:lnTo>
                      <a:pt x="2266" y="1055"/>
                    </a:lnTo>
                    <a:lnTo>
                      <a:pt x="2322" y="672"/>
                    </a:lnTo>
                    <a:lnTo>
                      <a:pt x="2349" y="493"/>
                    </a:lnTo>
                    <a:lnTo>
                      <a:pt x="2242" y="364"/>
                    </a:lnTo>
                    <a:lnTo>
                      <a:pt x="2153" y="378"/>
                    </a:lnTo>
                    <a:lnTo>
                      <a:pt x="1944" y="233"/>
                    </a:lnTo>
                    <a:lnTo>
                      <a:pt x="1866" y="226"/>
                    </a:lnTo>
                    <a:lnTo>
                      <a:pt x="1809" y="173"/>
                    </a:lnTo>
                    <a:lnTo>
                      <a:pt x="1820" y="151"/>
                    </a:lnTo>
                    <a:lnTo>
                      <a:pt x="1633" y="12"/>
                    </a:lnTo>
                    <a:lnTo>
                      <a:pt x="1592" y="51"/>
                    </a:lnTo>
                    <a:lnTo>
                      <a:pt x="1475" y="0"/>
                    </a:lnTo>
                    <a:lnTo>
                      <a:pt x="1354" y="27"/>
                    </a:lnTo>
                    <a:lnTo>
                      <a:pt x="1258" y="65"/>
                    </a:lnTo>
                    <a:lnTo>
                      <a:pt x="1204" y="124"/>
                    </a:lnTo>
                    <a:lnTo>
                      <a:pt x="1138" y="148"/>
                    </a:lnTo>
                    <a:lnTo>
                      <a:pt x="1047" y="109"/>
                    </a:lnTo>
                    <a:lnTo>
                      <a:pt x="970" y="159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706400" y="2844720"/>
              <a:ext cx="628920" cy="782640"/>
            </a:xfrm>
            <a:custGeom>
              <a:avLst/>
              <a:gdLst/>
              <a:ahLst/>
              <a:rect l="l" t="t" r="r" b="b"/>
              <a:pathLst>
                <a:path w="1189" h="1480">
                  <a:moveTo>
                    <a:pt x="1044" y="1480"/>
                  </a:moveTo>
                  <a:lnTo>
                    <a:pt x="1189" y="423"/>
                  </a:lnTo>
                  <a:lnTo>
                    <a:pt x="797" y="362"/>
                  </a:lnTo>
                  <a:lnTo>
                    <a:pt x="838" y="105"/>
                  </a:lnTo>
                  <a:lnTo>
                    <a:pt x="253" y="0"/>
                  </a:lnTo>
                  <a:lnTo>
                    <a:pt x="0" y="1316"/>
                  </a:lnTo>
                  <a:lnTo>
                    <a:pt x="1044" y="1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36840" y="1820880"/>
              <a:ext cx="664920" cy="1079640"/>
            </a:xfrm>
            <a:custGeom>
              <a:avLst/>
              <a:gdLst/>
              <a:ahLst/>
              <a:rect l="l" t="t" r="r" b="b"/>
              <a:pathLst>
                <a:path w="1258" h="2040">
                  <a:moveTo>
                    <a:pt x="0" y="1816"/>
                  </a:moveTo>
                  <a:lnTo>
                    <a:pt x="103" y="1345"/>
                  </a:lnTo>
                  <a:lnTo>
                    <a:pt x="130" y="1311"/>
                  </a:lnTo>
                  <a:lnTo>
                    <a:pt x="130" y="1280"/>
                  </a:lnTo>
                  <a:lnTo>
                    <a:pt x="137" y="1277"/>
                  </a:lnTo>
                  <a:lnTo>
                    <a:pt x="141" y="1268"/>
                  </a:lnTo>
                  <a:lnTo>
                    <a:pt x="148" y="1252"/>
                  </a:lnTo>
                  <a:lnTo>
                    <a:pt x="135" y="1232"/>
                  </a:lnTo>
                  <a:lnTo>
                    <a:pt x="105" y="1219"/>
                  </a:lnTo>
                  <a:lnTo>
                    <a:pt x="98" y="1202"/>
                  </a:lnTo>
                  <a:lnTo>
                    <a:pt x="107" y="1170"/>
                  </a:lnTo>
                  <a:lnTo>
                    <a:pt x="155" y="1097"/>
                  </a:lnTo>
                  <a:lnTo>
                    <a:pt x="183" y="1084"/>
                  </a:lnTo>
                  <a:lnTo>
                    <a:pt x="202" y="1063"/>
                  </a:lnTo>
                  <a:lnTo>
                    <a:pt x="205" y="1043"/>
                  </a:lnTo>
                  <a:lnTo>
                    <a:pt x="221" y="1028"/>
                  </a:lnTo>
                  <a:lnTo>
                    <a:pt x="312" y="887"/>
                  </a:lnTo>
                  <a:lnTo>
                    <a:pt x="307" y="851"/>
                  </a:lnTo>
                  <a:lnTo>
                    <a:pt x="287" y="835"/>
                  </a:lnTo>
                  <a:lnTo>
                    <a:pt x="269" y="829"/>
                  </a:lnTo>
                  <a:lnTo>
                    <a:pt x="251" y="804"/>
                  </a:lnTo>
                  <a:lnTo>
                    <a:pt x="249" y="781"/>
                  </a:lnTo>
                  <a:lnTo>
                    <a:pt x="246" y="748"/>
                  </a:lnTo>
                  <a:lnTo>
                    <a:pt x="255" y="735"/>
                  </a:lnTo>
                  <a:lnTo>
                    <a:pt x="259" y="720"/>
                  </a:lnTo>
                  <a:lnTo>
                    <a:pt x="247" y="701"/>
                  </a:lnTo>
                  <a:lnTo>
                    <a:pt x="247" y="677"/>
                  </a:lnTo>
                  <a:lnTo>
                    <a:pt x="255" y="667"/>
                  </a:lnTo>
                  <a:lnTo>
                    <a:pt x="402" y="0"/>
                  </a:lnTo>
                  <a:lnTo>
                    <a:pt x="400" y="0"/>
                  </a:lnTo>
                  <a:lnTo>
                    <a:pt x="568" y="40"/>
                  </a:lnTo>
                  <a:lnTo>
                    <a:pt x="522" y="296"/>
                  </a:lnTo>
                  <a:lnTo>
                    <a:pt x="551" y="365"/>
                  </a:lnTo>
                  <a:lnTo>
                    <a:pt x="561" y="410"/>
                  </a:lnTo>
                  <a:lnTo>
                    <a:pt x="551" y="438"/>
                  </a:lnTo>
                  <a:lnTo>
                    <a:pt x="541" y="448"/>
                  </a:lnTo>
                  <a:lnTo>
                    <a:pt x="555" y="463"/>
                  </a:lnTo>
                  <a:lnTo>
                    <a:pt x="575" y="492"/>
                  </a:lnTo>
                  <a:lnTo>
                    <a:pt x="621" y="536"/>
                  </a:lnTo>
                  <a:lnTo>
                    <a:pt x="653" y="605"/>
                  </a:lnTo>
                  <a:lnTo>
                    <a:pt x="659" y="640"/>
                  </a:lnTo>
                  <a:lnTo>
                    <a:pt x="674" y="673"/>
                  </a:lnTo>
                  <a:lnTo>
                    <a:pt x="701" y="674"/>
                  </a:lnTo>
                  <a:lnTo>
                    <a:pt x="704" y="697"/>
                  </a:lnTo>
                  <a:lnTo>
                    <a:pt x="744" y="703"/>
                  </a:lnTo>
                  <a:lnTo>
                    <a:pt x="757" y="718"/>
                  </a:lnTo>
                  <a:lnTo>
                    <a:pt x="715" y="801"/>
                  </a:lnTo>
                  <a:lnTo>
                    <a:pt x="718" y="815"/>
                  </a:lnTo>
                  <a:lnTo>
                    <a:pt x="703" y="829"/>
                  </a:lnTo>
                  <a:lnTo>
                    <a:pt x="700" y="869"/>
                  </a:lnTo>
                  <a:lnTo>
                    <a:pt x="704" y="876"/>
                  </a:lnTo>
                  <a:lnTo>
                    <a:pt x="701" y="897"/>
                  </a:lnTo>
                  <a:lnTo>
                    <a:pt x="673" y="917"/>
                  </a:lnTo>
                  <a:lnTo>
                    <a:pt x="673" y="943"/>
                  </a:lnTo>
                  <a:lnTo>
                    <a:pt x="674" y="956"/>
                  </a:lnTo>
                  <a:lnTo>
                    <a:pt x="663" y="977"/>
                  </a:lnTo>
                  <a:lnTo>
                    <a:pt x="700" y="1017"/>
                  </a:lnTo>
                  <a:lnTo>
                    <a:pt x="713" y="1012"/>
                  </a:lnTo>
                  <a:lnTo>
                    <a:pt x="769" y="966"/>
                  </a:lnTo>
                  <a:lnTo>
                    <a:pt x="777" y="964"/>
                  </a:lnTo>
                  <a:lnTo>
                    <a:pt x="783" y="966"/>
                  </a:lnTo>
                  <a:lnTo>
                    <a:pt x="791" y="986"/>
                  </a:lnTo>
                  <a:lnTo>
                    <a:pt x="798" y="991"/>
                  </a:lnTo>
                  <a:lnTo>
                    <a:pt x="808" y="1002"/>
                  </a:lnTo>
                  <a:lnTo>
                    <a:pt x="802" y="1031"/>
                  </a:lnTo>
                  <a:lnTo>
                    <a:pt x="803" y="1086"/>
                  </a:lnTo>
                  <a:lnTo>
                    <a:pt x="813" y="1122"/>
                  </a:lnTo>
                  <a:lnTo>
                    <a:pt x="838" y="1151"/>
                  </a:lnTo>
                  <a:lnTo>
                    <a:pt x="836" y="1168"/>
                  </a:lnTo>
                  <a:lnTo>
                    <a:pt x="823" y="1192"/>
                  </a:lnTo>
                  <a:lnTo>
                    <a:pt x="844" y="1226"/>
                  </a:lnTo>
                  <a:lnTo>
                    <a:pt x="865" y="1226"/>
                  </a:lnTo>
                  <a:lnTo>
                    <a:pt x="886" y="1251"/>
                  </a:lnTo>
                  <a:lnTo>
                    <a:pt x="891" y="1267"/>
                  </a:lnTo>
                  <a:lnTo>
                    <a:pt x="882" y="1302"/>
                  </a:lnTo>
                  <a:lnTo>
                    <a:pt x="882" y="1311"/>
                  </a:lnTo>
                  <a:lnTo>
                    <a:pt x="897" y="1339"/>
                  </a:lnTo>
                  <a:lnTo>
                    <a:pt x="922" y="1355"/>
                  </a:lnTo>
                  <a:lnTo>
                    <a:pt x="934" y="1330"/>
                  </a:lnTo>
                  <a:lnTo>
                    <a:pt x="949" y="1322"/>
                  </a:lnTo>
                  <a:lnTo>
                    <a:pt x="989" y="1337"/>
                  </a:lnTo>
                  <a:lnTo>
                    <a:pt x="1005" y="1340"/>
                  </a:lnTo>
                  <a:lnTo>
                    <a:pt x="1022" y="1325"/>
                  </a:lnTo>
                  <a:lnTo>
                    <a:pt x="1037" y="1322"/>
                  </a:lnTo>
                  <a:lnTo>
                    <a:pt x="1049" y="1333"/>
                  </a:lnTo>
                  <a:lnTo>
                    <a:pt x="1099" y="1334"/>
                  </a:lnTo>
                  <a:lnTo>
                    <a:pt x="1121" y="1346"/>
                  </a:lnTo>
                  <a:lnTo>
                    <a:pt x="1130" y="1341"/>
                  </a:lnTo>
                  <a:lnTo>
                    <a:pt x="1183" y="1343"/>
                  </a:lnTo>
                  <a:lnTo>
                    <a:pt x="1181" y="1322"/>
                  </a:lnTo>
                  <a:lnTo>
                    <a:pt x="1205" y="1304"/>
                  </a:lnTo>
                  <a:lnTo>
                    <a:pt x="1230" y="1331"/>
                  </a:lnTo>
                  <a:lnTo>
                    <a:pt x="1239" y="1362"/>
                  </a:lnTo>
                  <a:lnTo>
                    <a:pt x="1258" y="1381"/>
                  </a:lnTo>
                  <a:lnTo>
                    <a:pt x="1162" y="2040"/>
                  </a:lnTo>
                  <a:lnTo>
                    <a:pt x="1160" y="2040"/>
                  </a:lnTo>
                  <a:lnTo>
                    <a:pt x="575" y="1935"/>
                  </a:lnTo>
                  <a:lnTo>
                    <a:pt x="0" y="18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12960" y="1841400"/>
              <a:ext cx="1141200" cy="725760"/>
            </a:xfrm>
            <a:custGeom>
              <a:avLst/>
              <a:gdLst/>
              <a:ahLst/>
              <a:rect l="l" t="t" r="r" b="b"/>
              <a:pathLst>
                <a:path w="2157" h="1370">
                  <a:moveTo>
                    <a:pt x="2068" y="1370"/>
                  </a:moveTo>
                  <a:lnTo>
                    <a:pt x="753" y="1205"/>
                  </a:lnTo>
                  <a:lnTo>
                    <a:pt x="736" y="1341"/>
                  </a:lnTo>
                  <a:lnTo>
                    <a:pt x="716" y="1323"/>
                  </a:lnTo>
                  <a:lnTo>
                    <a:pt x="708" y="1292"/>
                  </a:lnTo>
                  <a:lnTo>
                    <a:pt x="683" y="1264"/>
                  </a:lnTo>
                  <a:lnTo>
                    <a:pt x="658" y="1282"/>
                  </a:lnTo>
                  <a:lnTo>
                    <a:pt x="661" y="1303"/>
                  </a:lnTo>
                  <a:lnTo>
                    <a:pt x="607" y="1302"/>
                  </a:lnTo>
                  <a:lnTo>
                    <a:pt x="598" y="1307"/>
                  </a:lnTo>
                  <a:lnTo>
                    <a:pt x="576" y="1294"/>
                  </a:lnTo>
                  <a:lnTo>
                    <a:pt x="527" y="1293"/>
                  </a:lnTo>
                  <a:lnTo>
                    <a:pt x="514" y="1282"/>
                  </a:lnTo>
                  <a:lnTo>
                    <a:pt x="500" y="1286"/>
                  </a:lnTo>
                  <a:lnTo>
                    <a:pt x="482" y="1300"/>
                  </a:lnTo>
                  <a:lnTo>
                    <a:pt x="466" y="1298"/>
                  </a:lnTo>
                  <a:lnTo>
                    <a:pt x="425" y="1282"/>
                  </a:lnTo>
                  <a:lnTo>
                    <a:pt x="412" y="1290"/>
                  </a:lnTo>
                  <a:lnTo>
                    <a:pt x="399" y="1315"/>
                  </a:lnTo>
                  <a:lnTo>
                    <a:pt x="374" y="1299"/>
                  </a:lnTo>
                  <a:lnTo>
                    <a:pt x="360" y="1271"/>
                  </a:lnTo>
                  <a:lnTo>
                    <a:pt x="360" y="1262"/>
                  </a:lnTo>
                  <a:lnTo>
                    <a:pt x="368" y="1227"/>
                  </a:lnTo>
                  <a:lnTo>
                    <a:pt x="363" y="1211"/>
                  </a:lnTo>
                  <a:lnTo>
                    <a:pt x="343" y="1186"/>
                  </a:lnTo>
                  <a:lnTo>
                    <a:pt x="321" y="1186"/>
                  </a:lnTo>
                  <a:lnTo>
                    <a:pt x="300" y="1152"/>
                  </a:lnTo>
                  <a:lnTo>
                    <a:pt x="314" y="1129"/>
                  </a:lnTo>
                  <a:lnTo>
                    <a:pt x="315" y="1111"/>
                  </a:lnTo>
                  <a:lnTo>
                    <a:pt x="291" y="1083"/>
                  </a:lnTo>
                  <a:lnTo>
                    <a:pt x="280" y="1047"/>
                  </a:lnTo>
                  <a:lnTo>
                    <a:pt x="279" y="991"/>
                  </a:lnTo>
                  <a:lnTo>
                    <a:pt x="285" y="962"/>
                  </a:lnTo>
                  <a:lnTo>
                    <a:pt x="276" y="951"/>
                  </a:lnTo>
                  <a:lnTo>
                    <a:pt x="268" y="946"/>
                  </a:lnTo>
                  <a:lnTo>
                    <a:pt x="261" y="927"/>
                  </a:lnTo>
                  <a:lnTo>
                    <a:pt x="254" y="924"/>
                  </a:lnTo>
                  <a:lnTo>
                    <a:pt x="247" y="927"/>
                  </a:lnTo>
                  <a:lnTo>
                    <a:pt x="190" y="972"/>
                  </a:lnTo>
                  <a:lnTo>
                    <a:pt x="178" y="977"/>
                  </a:lnTo>
                  <a:lnTo>
                    <a:pt x="141" y="938"/>
                  </a:lnTo>
                  <a:lnTo>
                    <a:pt x="152" y="917"/>
                  </a:lnTo>
                  <a:lnTo>
                    <a:pt x="150" y="903"/>
                  </a:lnTo>
                  <a:lnTo>
                    <a:pt x="150" y="877"/>
                  </a:lnTo>
                  <a:lnTo>
                    <a:pt x="179" y="858"/>
                  </a:lnTo>
                  <a:lnTo>
                    <a:pt x="182" y="836"/>
                  </a:lnTo>
                  <a:lnTo>
                    <a:pt x="178" y="829"/>
                  </a:lnTo>
                  <a:lnTo>
                    <a:pt x="180" y="789"/>
                  </a:lnTo>
                  <a:lnTo>
                    <a:pt x="195" y="776"/>
                  </a:lnTo>
                  <a:lnTo>
                    <a:pt x="192" y="761"/>
                  </a:lnTo>
                  <a:lnTo>
                    <a:pt x="235" y="678"/>
                  </a:lnTo>
                  <a:lnTo>
                    <a:pt x="221" y="663"/>
                  </a:lnTo>
                  <a:lnTo>
                    <a:pt x="182" y="657"/>
                  </a:lnTo>
                  <a:lnTo>
                    <a:pt x="179" y="635"/>
                  </a:lnTo>
                  <a:lnTo>
                    <a:pt x="152" y="633"/>
                  </a:lnTo>
                  <a:lnTo>
                    <a:pt x="137" y="600"/>
                  </a:lnTo>
                  <a:lnTo>
                    <a:pt x="131" y="565"/>
                  </a:lnTo>
                  <a:lnTo>
                    <a:pt x="99" y="496"/>
                  </a:lnTo>
                  <a:lnTo>
                    <a:pt x="53" y="453"/>
                  </a:lnTo>
                  <a:lnTo>
                    <a:pt x="33" y="423"/>
                  </a:lnTo>
                  <a:lnTo>
                    <a:pt x="18" y="408"/>
                  </a:lnTo>
                  <a:lnTo>
                    <a:pt x="28" y="398"/>
                  </a:lnTo>
                  <a:lnTo>
                    <a:pt x="38" y="370"/>
                  </a:lnTo>
                  <a:lnTo>
                    <a:pt x="28" y="325"/>
                  </a:lnTo>
                  <a:lnTo>
                    <a:pt x="0" y="256"/>
                  </a:lnTo>
                  <a:lnTo>
                    <a:pt x="45" y="0"/>
                  </a:lnTo>
                  <a:lnTo>
                    <a:pt x="243" y="36"/>
                  </a:lnTo>
                  <a:lnTo>
                    <a:pt x="771" y="126"/>
                  </a:lnTo>
                  <a:lnTo>
                    <a:pt x="1312" y="217"/>
                  </a:lnTo>
                  <a:lnTo>
                    <a:pt x="2157" y="305"/>
                  </a:lnTo>
                  <a:lnTo>
                    <a:pt x="2091" y="1110"/>
                  </a:lnTo>
                  <a:lnTo>
                    <a:pt x="2068" y="137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28680" y="2478240"/>
              <a:ext cx="777960" cy="645840"/>
            </a:xfrm>
            <a:custGeom>
              <a:avLst/>
              <a:gdLst/>
              <a:ahLst/>
              <a:rect l="l" t="t" r="r" b="b"/>
              <a:pathLst>
                <a:path w="1472" h="1222">
                  <a:moveTo>
                    <a:pt x="1382" y="1222"/>
                  </a:moveTo>
                  <a:lnTo>
                    <a:pt x="1426" y="689"/>
                  </a:lnTo>
                  <a:lnTo>
                    <a:pt x="1472" y="165"/>
                  </a:lnTo>
                  <a:lnTo>
                    <a:pt x="157" y="0"/>
                  </a:lnTo>
                  <a:lnTo>
                    <a:pt x="139" y="136"/>
                  </a:lnTo>
                  <a:lnTo>
                    <a:pt x="43" y="796"/>
                  </a:lnTo>
                  <a:lnTo>
                    <a:pt x="41" y="796"/>
                  </a:lnTo>
                  <a:lnTo>
                    <a:pt x="0" y="1052"/>
                  </a:lnTo>
                  <a:lnTo>
                    <a:pt x="392" y="1114"/>
                  </a:lnTo>
                  <a:lnTo>
                    <a:pt x="1383" y="1222"/>
                  </a:lnTo>
                  <a:lnTo>
                    <a:pt x="1382" y="1222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28600" y="2709720"/>
              <a:ext cx="711360" cy="1094040"/>
            </a:xfrm>
            <a:custGeom>
              <a:avLst/>
              <a:gdLst/>
              <a:ahLst/>
              <a:rect l="l" t="t" r="r" b="b"/>
              <a:pathLst>
                <a:path w="1345" h="2068">
                  <a:moveTo>
                    <a:pt x="200" y="0"/>
                  </a:moveTo>
                  <a:lnTo>
                    <a:pt x="0" y="787"/>
                  </a:lnTo>
                  <a:lnTo>
                    <a:pt x="871" y="2068"/>
                  </a:lnTo>
                  <a:lnTo>
                    <a:pt x="869" y="2053"/>
                  </a:lnTo>
                  <a:lnTo>
                    <a:pt x="879" y="2036"/>
                  </a:lnTo>
                  <a:lnTo>
                    <a:pt x="895" y="1981"/>
                  </a:lnTo>
                  <a:lnTo>
                    <a:pt x="884" y="1959"/>
                  </a:lnTo>
                  <a:lnTo>
                    <a:pt x="899" y="1835"/>
                  </a:lnTo>
                  <a:lnTo>
                    <a:pt x="889" y="1785"/>
                  </a:lnTo>
                  <a:lnTo>
                    <a:pt x="899" y="1772"/>
                  </a:lnTo>
                  <a:lnTo>
                    <a:pt x="930" y="1766"/>
                  </a:lnTo>
                  <a:lnTo>
                    <a:pt x="973" y="1777"/>
                  </a:lnTo>
                  <a:lnTo>
                    <a:pt x="987" y="1795"/>
                  </a:lnTo>
                  <a:lnTo>
                    <a:pt x="987" y="1803"/>
                  </a:lnTo>
                  <a:lnTo>
                    <a:pt x="1001" y="1819"/>
                  </a:lnTo>
                  <a:lnTo>
                    <a:pt x="1026" y="1819"/>
                  </a:lnTo>
                  <a:lnTo>
                    <a:pt x="1064" y="1708"/>
                  </a:lnTo>
                  <a:lnTo>
                    <a:pt x="1092" y="1570"/>
                  </a:lnTo>
                  <a:lnTo>
                    <a:pt x="1345" y="254"/>
                  </a:lnTo>
                  <a:lnTo>
                    <a:pt x="769" y="13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98680" y="3541680"/>
              <a:ext cx="760320" cy="880920"/>
            </a:xfrm>
            <a:custGeom>
              <a:avLst/>
              <a:gdLst/>
              <a:ahLst/>
              <a:rect l="l" t="t" r="r" b="b"/>
              <a:pathLst>
                <a:path w="1436" h="1666">
                  <a:moveTo>
                    <a:pt x="1226" y="1664"/>
                  </a:moveTo>
                  <a:lnTo>
                    <a:pt x="1436" y="163"/>
                  </a:lnTo>
                  <a:lnTo>
                    <a:pt x="392" y="0"/>
                  </a:lnTo>
                  <a:lnTo>
                    <a:pt x="365" y="137"/>
                  </a:lnTo>
                  <a:lnTo>
                    <a:pt x="327" y="249"/>
                  </a:lnTo>
                  <a:lnTo>
                    <a:pt x="302" y="249"/>
                  </a:lnTo>
                  <a:lnTo>
                    <a:pt x="288" y="232"/>
                  </a:lnTo>
                  <a:lnTo>
                    <a:pt x="288" y="225"/>
                  </a:lnTo>
                  <a:lnTo>
                    <a:pt x="274" y="207"/>
                  </a:lnTo>
                  <a:lnTo>
                    <a:pt x="231" y="196"/>
                  </a:lnTo>
                  <a:lnTo>
                    <a:pt x="200" y="203"/>
                  </a:lnTo>
                  <a:lnTo>
                    <a:pt x="190" y="215"/>
                  </a:lnTo>
                  <a:lnTo>
                    <a:pt x="200" y="266"/>
                  </a:lnTo>
                  <a:lnTo>
                    <a:pt x="185" y="389"/>
                  </a:lnTo>
                  <a:lnTo>
                    <a:pt x="196" y="411"/>
                  </a:lnTo>
                  <a:lnTo>
                    <a:pt x="180" y="465"/>
                  </a:lnTo>
                  <a:lnTo>
                    <a:pt x="170" y="483"/>
                  </a:lnTo>
                  <a:lnTo>
                    <a:pt x="172" y="497"/>
                  </a:lnTo>
                  <a:lnTo>
                    <a:pt x="170" y="535"/>
                  </a:lnTo>
                  <a:lnTo>
                    <a:pt x="173" y="548"/>
                  </a:lnTo>
                  <a:lnTo>
                    <a:pt x="170" y="559"/>
                  </a:lnTo>
                  <a:lnTo>
                    <a:pt x="185" y="591"/>
                  </a:lnTo>
                  <a:lnTo>
                    <a:pt x="185" y="619"/>
                  </a:lnTo>
                  <a:lnTo>
                    <a:pt x="196" y="637"/>
                  </a:lnTo>
                  <a:lnTo>
                    <a:pt x="204" y="668"/>
                  </a:lnTo>
                  <a:lnTo>
                    <a:pt x="215" y="676"/>
                  </a:lnTo>
                  <a:lnTo>
                    <a:pt x="229" y="693"/>
                  </a:lnTo>
                  <a:lnTo>
                    <a:pt x="231" y="719"/>
                  </a:lnTo>
                  <a:lnTo>
                    <a:pt x="229" y="727"/>
                  </a:lnTo>
                  <a:lnTo>
                    <a:pt x="220" y="720"/>
                  </a:lnTo>
                  <a:lnTo>
                    <a:pt x="194" y="741"/>
                  </a:lnTo>
                  <a:lnTo>
                    <a:pt x="163" y="752"/>
                  </a:lnTo>
                  <a:lnTo>
                    <a:pt x="137" y="786"/>
                  </a:lnTo>
                  <a:lnTo>
                    <a:pt x="123" y="856"/>
                  </a:lnTo>
                  <a:lnTo>
                    <a:pt x="82" y="910"/>
                  </a:lnTo>
                  <a:lnTo>
                    <a:pt x="58" y="910"/>
                  </a:lnTo>
                  <a:lnTo>
                    <a:pt x="56" y="925"/>
                  </a:lnTo>
                  <a:lnTo>
                    <a:pt x="63" y="943"/>
                  </a:lnTo>
                  <a:lnTo>
                    <a:pt x="59" y="960"/>
                  </a:lnTo>
                  <a:lnTo>
                    <a:pt x="50" y="994"/>
                  </a:lnTo>
                  <a:lnTo>
                    <a:pt x="56" y="1007"/>
                  </a:lnTo>
                  <a:lnTo>
                    <a:pt x="86" y="1033"/>
                  </a:lnTo>
                  <a:lnTo>
                    <a:pt x="91" y="1045"/>
                  </a:lnTo>
                  <a:lnTo>
                    <a:pt x="84" y="1055"/>
                  </a:lnTo>
                  <a:lnTo>
                    <a:pt x="80" y="1073"/>
                  </a:lnTo>
                  <a:lnTo>
                    <a:pt x="61" y="1093"/>
                  </a:lnTo>
                  <a:lnTo>
                    <a:pt x="50" y="1091"/>
                  </a:lnTo>
                  <a:lnTo>
                    <a:pt x="16" y="1085"/>
                  </a:lnTo>
                  <a:lnTo>
                    <a:pt x="0" y="1148"/>
                  </a:lnTo>
                  <a:lnTo>
                    <a:pt x="772" y="1594"/>
                  </a:lnTo>
                  <a:lnTo>
                    <a:pt x="1226" y="1666"/>
                  </a:lnTo>
                  <a:lnTo>
                    <a:pt x="1226" y="16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7760" y="3627360"/>
              <a:ext cx="781200" cy="806400"/>
            </a:xfrm>
            <a:custGeom>
              <a:avLst/>
              <a:gdLst/>
              <a:ahLst/>
              <a:rect l="l" t="t" r="r" b="b"/>
              <a:pathLst>
                <a:path w="1475" h="1525">
                  <a:moveTo>
                    <a:pt x="210" y="0"/>
                  </a:moveTo>
                  <a:lnTo>
                    <a:pt x="0" y="1501"/>
                  </a:lnTo>
                  <a:lnTo>
                    <a:pt x="0" y="1503"/>
                  </a:lnTo>
                  <a:lnTo>
                    <a:pt x="192" y="1525"/>
                  </a:lnTo>
                  <a:lnTo>
                    <a:pt x="207" y="1406"/>
                  </a:lnTo>
                  <a:lnTo>
                    <a:pt x="573" y="1453"/>
                  </a:lnTo>
                  <a:lnTo>
                    <a:pt x="570" y="1450"/>
                  </a:lnTo>
                  <a:lnTo>
                    <a:pt x="560" y="1428"/>
                  </a:lnTo>
                  <a:lnTo>
                    <a:pt x="570" y="1412"/>
                  </a:lnTo>
                  <a:lnTo>
                    <a:pt x="568" y="1405"/>
                  </a:lnTo>
                  <a:lnTo>
                    <a:pt x="560" y="1399"/>
                  </a:lnTo>
                  <a:lnTo>
                    <a:pt x="567" y="1395"/>
                  </a:lnTo>
                  <a:lnTo>
                    <a:pt x="1360" y="1471"/>
                  </a:lnTo>
                  <a:lnTo>
                    <a:pt x="1455" y="271"/>
                  </a:lnTo>
                  <a:lnTo>
                    <a:pt x="1468" y="271"/>
                  </a:lnTo>
                  <a:lnTo>
                    <a:pt x="1475" y="143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19240" y="2001960"/>
              <a:ext cx="733680" cy="458640"/>
            </a:xfrm>
            <a:custGeom>
              <a:avLst/>
              <a:gdLst/>
              <a:ahLst/>
              <a:rect l="l" t="t" r="r" b="b"/>
              <a:pathLst>
                <a:path w="1385" h="867">
                  <a:moveTo>
                    <a:pt x="0" y="806"/>
                  </a:moveTo>
                  <a:lnTo>
                    <a:pt x="66" y="0"/>
                  </a:lnTo>
                  <a:lnTo>
                    <a:pt x="675" y="45"/>
                  </a:lnTo>
                  <a:lnTo>
                    <a:pt x="1273" y="60"/>
                  </a:lnTo>
                  <a:lnTo>
                    <a:pt x="1275" y="79"/>
                  </a:lnTo>
                  <a:lnTo>
                    <a:pt x="1296" y="143"/>
                  </a:lnTo>
                  <a:lnTo>
                    <a:pt x="1289" y="160"/>
                  </a:lnTo>
                  <a:lnTo>
                    <a:pt x="1282" y="208"/>
                  </a:lnTo>
                  <a:lnTo>
                    <a:pt x="1284" y="282"/>
                  </a:lnTo>
                  <a:lnTo>
                    <a:pt x="1301" y="368"/>
                  </a:lnTo>
                  <a:lnTo>
                    <a:pt x="1323" y="391"/>
                  </a:lnTo>
                  <a:lnTo>
                    <a:pt x="1338" y="468"/>
                  </a:lnTo>
                  <a:lnTo>
                    <a:pt x="1345" y="602"/>
                  </a:lnTo>
                  <a:lnTo>
                    <a:pt x="1351" y="627"/>
                  </a:lnTo>
                  <a:lnTo>
                    <a:pt x="1351" y="676"/>
                  </a:lnTo>
                  <a:lnTo>
                    <a:pt x="1352" y="694"/>
                  </a:lnTo>
                  <a:lnTo>
                    <a:pt x="1385" y="792"/>
                  </a:lnTo>
                  <a:lnTo>
                    <a:pt x="1380" y="827"/>
                  </a:lnTo>
                  <a:lnTo>
                    <a:pt x="1382" y="867"/>
                  </a:lnTo>
                  <a:lnTo>
                    <a:pt x="0" y="806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82880" y="2428920"/>
              <a:ext cx="781200" cy="527040"/>
            </a:xfrm>
            <a:custGeom>
              <a:avLst/>
              <a:gdLst/>
              <a:ahLst/>
              <a:rect l="l" t="t" r="r" b="b"/>
              <a:pathLst>
                <a:path w="1475" h="996">
                  <a:moveTo>
                    <a:pt x="0" y="784"/>
                  </a:moveTo>
                  <a:lnTo>
                    <a:pt x="46" y="260"/>
                  </a:lnTo>
                  <a:lnTo>
                    <a:pt x="69" y="0"/>
                  </a:lnTo>
                  <a:lnTo>
                    <a:pt x="1450" y="62"/>
                  </a:lnTo>
                  <a:lnTo>
                    <a:pt x="1452" y="83"/>
                  </a:lnTo>
                  <a:lnTo>
                    <a:pt x="1440" y="110"/>
                  </a:lnTo>
                  <a:lnTo>
                    <a:pt x="1405" y="144"/>
                  </a:lnTo>
                  <a:lnTo>
                    <a:pt x="1408" y="172"/>
                  </a:lnTo>
                  <a:lnTo>
                    <a:pt x="1474" y="231"/>
                  </a:lnTo>
                  <a:lnTo>
                    <a:pt x="1475" y="716"/>
                  </a:lnTo>
                  <a:lnTo>
                    <a:pt x="1465" y="715"/>
                  </a:lnTo>
                  <a:lnTo>
                    <a:pt x="1447" y="718"/>
                  </a:lnTo>
                  <a:lnTo>
                    <a:pt x="1456" y="735"/>
                  </a:lnTo>
                  <a:lnTo>
                    <a:pt x="1464" y="750"/>
                  </a:lnTo>
                  <a:lnTo>
                    <a:pt x="1454" y="775"/>
                  </a:lnTo>
                  <a:lnTo>
                    <a:pt x="1466" y="790"/>
                  </a:lnTo>
                  <a:lnTo>
                    <a:pt x="1474" y="829"/>
                  </a:lnTo>
                  <a:lnTo>
                    <a:pt x="1459" y="843"/>
                  </a:lnTo>
                  <a:lnTo>
                    <a:pt x="1465" y="867"/>
                  </a:lnTo>
                  <a:lnTo>
                    <a:pt x="1446" y="912"/>
                  </a:lnTo>
                  <a:lnTo>
                    <a:pt x="1465" y="964"/>
                  </a:lnTo>
                  <a:lnTo>
                    <a:pt x="1471" y="989"/>
                  </a:lnTo>
                  <a:lnTo>
                    <a:pt x="1468" y="996"/>
                  </a:lnTo>
                  <a:lnTo>
                    <a:pt x="1427" y="967"/>
                  </a:lnTo>
                  <a:lnTo>
                    <a:pt x="1342" y="912"/>
                  </a:lnTo>
                  <a:lnTo>
                    <a:pt x="1321" y="904"/>
                  </a:lnTo>
                  <a:lnTo>
                    <a:pt x="1286" y="904"/>
                  </a:lnTo>
                  <a:lnTo>
                    <a:pt x="1258" y="926"/>
                  </a:lnTo>
                  <a:lnTo>
                    <a:pt x="1231" y="933"/>
                  </a:lnTo>
                  <a:lnTo>
                    <a:pt x="1203" y="926"/>
                  </a:lnTo>
                  <a:lnTo>
                    <a:pt x="1188" y="891"/>
                  </a:lnTo>
                  <a:lnTo>
                    <a:pt x="1166" y="876"/>
                  </a:lnTo>
                  <a:lnTo>
                    <a:pt x="1138" y="883"/>
                  </a:lnTo>
                  <a:lnTo>
                    <a:pt x="1103" y="883"/>
                  </a:lnTo>
                  <a:lnTo>
                    <a:pt x="1074" y="841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59120" y="2843280"/>
              <a:ext cx="920880" cy="457200"/>
            </a:xfrm>
            <a:custGeom>
              <a:avLst/>
              <a:gdLst/>
              <a:ahLst/>
              <a:rect l="l" t="t" r="r" b="b"/>
              <a:pathLst>
                <a:path w="1740" h="864">
                  <a:moveTo>
                    <a:pt x="0" y="533"/>
                  </a:moveTo>
                  <a:lnTo>
                    <a:pt x="44" y="0"/>
                  </a:lnTo>
                  <a:lnTo>
                    <a:pt x="1117" y="57"/>
                  </a:lnTo>
                  <a:lnTo>
                    <a:pt x="1147" y="99"/>
                  </a:lnTo>
                  <a:lnTo>
                    <a:pt x="1182" y="99"/>
                  </a:lnTo>
                  <a:lnTo>
                    <a:pt x="1210" y="91"/>
                  </a:lnTo>
                  <a:lnTo>
                    <a:pt x="1231" y="106"/>
                  </a:lnTo>
                  <a:lnTo>
                    <a:pt x="1247" y="142"/>
                  </a:lnTo>
                  <a:lnTo>
                    <a:pt x="1274" y="148"/>
                  </a:lnTo>
                  <a:lnTo>
                    <a:pt x="1302" y="142"/>
                  </a:lnTo>
                  <a:lnTo>
                    <a:pt x="1330" y="120"/>
                  </a:lnTo>
                  <a:lnTo>
                    <a:pt x="1365" y="120"/>
                  </a:lnTo>
                  <a:lnTo>
                    <a:pt x="1386" y="127"/>
                  </a:lnTo>
                  <a:lnTo>
                    <a:pt x="1471" y="183"/>
                  </a:lnTo>
                  <a:lnTo>
                    <a:pt x="1512" y="211"/>
                  </a:lnTo>
                  <a:lnTo>
                    <a:pt x="1515" y="240"/>
                  </a:lnTo>
                  <a:lnTo>
                    <a:pt x="1542" y="253"/>
                  </a:lnTo>
                  <a:lnTo>
                    <a:pt x="1542" y="275"/>
                  </a:lnTo>
                  <a:lnTo>
                    <a:pt x="1529" y="310"/>
                  </a:lnTo>
                  <a:lnTo>
                    <a:pt x="1549" y="332"/>
                  </a:lnTo>
                  <a:lnTo>
                    <a:pt x="1565" y="375"/>
                  </a:lnTo>
                  <a:lnTo>
                    <a:pt x="1585" y="395"/>
                  </a:lnTo>
                  <a:lnTo>
                    <a:pt x="1576" y="417"/>
                  </a:lnTo>
                  <a:lnTo>
                    <a:pt x="1585" y="438"/>
                  </a:lnTo>
                  <a:lnTo>
                    <a:pt x="1614" y="459"/>
                  </a:lnTo>
                  <a:lnTo>
                    <a:pt x="1620" y="482"/>
                  </a:lnTo>
                  <a:lnTo>
                    <a:pt x="1614" y="502"/>
                  </a:lnTo>
                  <a:lnTo>
                    <a:pt x="1607" y="543"/>
                  </a:lnTo>
                  <a:lnTo>
                    <a:pt x="1633" y="558"/>
                  </a:lnTo>
                  <a:lnTo>
                    <a:pt x="1641" y="579"/>
                  </a:lnTo>
                  <a:lnTo>
                    <a:pt x="1627" y="600"/>
                  </a:lnTo>
                  <a:lnTo>
                    <a:pt x="1633" y="622"/>
                  </a:lnTo>
                  <a:lnTo>
                    <a:pt x="1649" y="644"/>
                  </a:lnTo>
                  <a:lnTo>
                    <a:pt x="1641" y="664"/>
                  </a:lnTo>
                  <a:lnTo>
                    <a:pt x="1649" y="691"/>
                  </a:lnTo>
                  <a:lnTo>
                    <a:pt x="1658" y="704"/>
                  </a:lnTo>
                  <a:lnTo>
                    <a:pt x="1671" y="727"/>
                  </a:lnTo>
                  <a:lnTo>
                    <a:pt x="1690" y="750"/>
                  </a:lnTo>
                  <a:lnTo>
                    <a:pt x="1698" y="784"/>
                  </a:lnTo>
                  <a:lnTo>
                    <a:pt x="1726" y="819"/>
                  </a:lnTo>
                  <a:lnTo>
                    <a:pt x="1740" y="825"/>
                  </a:lnTo>
                  <a:lnTo>
                    <a:pt x="1732" y="857"/>
                  </a:lnTo>
                  <a:lnTo>
                    <a:pt x="1737" y="864"/>
                  </a:lnTo>
                  <a:lnTo>
                    <a:pt x="382" y="833"/>
                  </a:lnTo>
                  <a:lnTo>
                    <a:pt x="397" y="565"/>
                  </a:lnTo>
                  <a:lnTo>
                    <a:pt x="1" y="533"/>
                  </a:lnTo>
                  <a:lnTo>
                    <a:pt x="0" y="533"/>
                  </a:lnTo>
                  <a:lnTo>
                    <a:pt x="0" y="533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36960" y="3282840"/>
              <a:ext cx="826920" cy="443160"/>
            </a:xfrm>
            <a:custGeom>
              <a:avLst/>
              <a:gdLst/>
              <a:ahLst/>
              <a:rect l="l" t="t" r="r" b="b"/>
              <a:pathLst>
                <a:path w="1561" h="837">
                  <a:moveTo>
                    <a:pt x="46" y="0"/>
                  </a:moveTo>
                  <a:lnTo>
                    <a:pt x="1402" y="31"/>
                  </a:lnTo>
                  <a:lnTo>
                    <a:pt x="1490" y="97"/>
                  </a:lnTo>
                  <a:lnTo>
                    <a:pt x="1463" y="129"/>
                  </a:lnTo>
                  <a:lnTo>
                    <a:pt x="1457" y="161"/>
                  </a:lnTo>
                  <a:lnTo>
                    <a:pt x="1471" y="181"/>
                  </a:lnTo>
                  <a:lnTo>
                    <a:pt x="1492" y="190"/>
                  </a:lnTo>
                  <a:lnTo>
                    <a:pt x="1505" y="234"/>
                  </a:lnTo>
                  <a:lnTo>
                    <a:pt x="1528" y="250"/>
                  </a:lnTo>
                  <a:lnTo>
                    <a:pt x="1547" y="256"/>
                  </a:lnTo>
                  <a:lnTo>
                    <a:pt x="1555" y="260"/>
                  </a:lnTo>
                  <a:lnTo>
                    <a:pt x="1561" y="837"/>
                  </a:lnTo>
                  <a:lnTo>
                    <a:pt x="0" y="80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24280" y="3701880"/>
              <a:ext cx="960480" cy="497160"/>
            </a:xfrm>
            <a:custGeom>
              <a:avLst/>
              <a:gdLst/>
              <a:ahLst/>
              <a:rect l="l" t="t" r="r" b="b"/>
              <a:pathLst>
                <a:path w="1816" h="939">
                  <a:moveTo>
                    <a:pt x="1775" y="45"/>
                  </a:moveTo>
                  <a:lnTo>
                    <a:pt x="213" y="12"/>
                  </a:lnTo>
                  <a:lnTo>
                    <a:pt x="8" y="0"/>
                  </a:lnTo>
                  <a:lnTo>
                    <a:pt x="0" y="128"/>
                  </a:lnTo>
                  <a:lnTo>
                    <a:pt x="635" y="166"/>
                  </a:lnTo>
                  <a:lnTo>
                    <a:pt x="618" y="681"/>
                  </a:lnTo>
                  <a:lnTo>
                    <a:pt x="640" y="684"/>
                  </a:lnTo>
                  <a:lnTo>
                    <a:pt x="652" y="692"/>
                  </a:lnTo>
                  <a:lnTo>
                    <a:pt x="682" y="735"/>
                  </a:lnTo>
                  <a:lnTo>
                    <a:pt x="697" y="741"/>
                  </a:lnTo>
                  <a:lnTo>
                    <a:pt x="742" y="738"/>
                  </a:lnTo>
                  <a:lnTo>
                    <a:pt x="755" y="723"/>
                  </a:lnTo>
                  <a:lnTo>
                    <a:pt x="780" y="738"/>
                  </a:lnTo>
                  <a:lnTo>
                    <a:pt x="789" y="749"/>
                  </a:lnTo>
                  <a:lnTo>
                    <a:pt x="787" y="760"/>
                  </a:lnTo>
                  <a:lnTo>
                    <a:pt x="798" y="781"/>
                  </a:lnTo>
                  <a:lnTo>
                    <a:pt x="804" y="785"/>
                  </a:lnTo>
                  <a:lnTo>
                    <a:pt x="862" y="795"/>
                  </a:lnTo>
                  <a:lnTo>
                    <a:pt x="883" y="806"/>
                  </a:lnTo>
                  <a:lnTo>
                    <a:pt x="895" y="806"/>
                  </a:lnTo>
                  <a:lnTo>
                    <a:pt x="901" y="801"/>
                  </a:lnTo>
                  <a:lnTo>
                    <a:pt x="918" y="796"/>
                  </a:lnTo>
                  <a:lnTo>
                    <a:pt x="930" y="817"/>
                  </a:lnTo>
                  <a:lnTo>
                    <a:pt x="954" y="829"/>
                  </a:lnTo>
                  <a:lnTo>
                    <a:pt x="969" y="810"/>
                  </a:lnTo>
                  <a:lnTo>
                    <a:pt x="1025" y="817"/>
                  </a:lnTo>
                  <a:lnTo>
                    <a:pt x="1026" y="827"/>
                  </a:lnTo>
                  <a:lnTo>
                    <a:pt x="1048" y="849"/>
                  </a:lnTo>
                  <a:lnTo>
                    <a:pt x="1057" y="852"/>
                  </a:lnTo>
                  <a:lnTo>
                    <a:pt x="1057" y="880"/>
                  </a:lnTo>
                  <a:lnTo>
                    <a:pt x="1099" y="889"/>
                  </a:lnTo>
                  <a:lnTo>
                    <a:pt x="1107" y="861"/>
                  </a:lnTo>
                  <a:lnTo>
                    <a:pt x="1124" y="857"/>
                  </a:lnTo>
                  <a:lnTo>
                    <a:pt x="1177" y="894"/>
                  </a:lnTo>
                  <a:lnTo>
                    <a:pt x="1186" y="894"/>
                  </a:lnTo>
                  <a:lnTo>
                    <a:pt x="1209" y="879"/>
                  </a:lnTo>
                  <a:lnTo>
                    <a:pt x="1227" y="879"/>
                  </a:lnTo>
                  <a:lnTo>
                    <a:pt x="1229" y="889"/>
                  </a:lnTo>
                  <a:lnTo>
                    <a:pt x="1223" y="910"/>
                  </a:lnTo>
                  <a:lnTo>
                    <a:pt x="1233" y="926"/>
                  </a:lnTo>
                  <a:lnTo>
                    <a:pt x="1246" y="916"/>
                  </a:lnTo>
                  <a:lnTo>
                    <a:pt x="1244" y="902"/>
                  </a:lnTo>
                  <a:lnTo>
                    <a:pt x="1261" y="880"/>
                  </a:lnTo>
                  <a:lnTo>
                    <a:pt x="1284" y="868"/>
                  </a:lnTo>
                  <a:lnTo>
                    <a:pt x="1290" y="868"/>
                  </a:lnTo>
                  <a:lnTo>
                    <a:pt x="1293" y="886"/>
                  </a:lnTo>
                  <a:lnTo>
                    <a:pt x="1318" y="894"/>
                  </a:lnTo>
                  <a:lnTo>
                    <a:pt x="1328" y="894"/>
                  </a:lnTo>
                  <a:lnTo>
                    <a:pt x="1338" y="883"/>
                  </a:lnTo>
                  <a:lnTo>
                    <a:pt x="1353" y="884"/>
                  </a:lnTo>
                  <a:lnTo>
                    <a:pt x="1357" y="889"/>
                  </a:lnTo>
                  <a:lnTo>
                    <a:pt x="1356" y="894"/>
                  </a:lnTo>
                  <a:lnTo>
                    <a:pt x="1379" y="904"/>
                  </a:lnTo>
                  <a:lnTo>
                    <a:pt x="1413" y="930"/>
                  </a:lnTo>
                  <a:lnTo>
                    <a:pt x="1445" y="899"/>
                  </a:lnTo>
                  <a:lnTo>
                    <a:pt x="1460" y="894"/>
                  </a:lnTo>
                  <a:lnTo>
                    <a:pt x="1508" y="890"/>
                  </a:lnTo>
                  <a:lnTo>
                    <a:pt x="1547" y="875"/>
                  </a:lnTo>
                  <a:lnTo>
                    <a:pt x="1561" y="873"/>
                  </a:lnTo>
                  <a:lnTo>
                    <a:pt x="1580" y="873"/>
                  </a:lnTo>
                  <a:lnTo>
                    <a:pt x="1627" y="880"/>
                  </a:lnTo>
                  <a:lnTo>
                    <a:pt x="1659" y="871"/>
                  </a:lnTo>
                  <a:lnTo>
                    <a:pt x="1666" y="863"/>
                  </a:lnTo>
                  <a:lnTo>
                    <a:pt x="1770" y="921"/>
                  </a:lnTo>
                  <a:lnTo>
                    <a:pt x="1791" y="926"/>
                  </a:lnTo>
                  <a:lnTo>
                    <a:pt x="1800" y="936"/>
                  </a:lnTo>
                  <a:lnTo>
                    <a:pt x="1810" y="939"/>
                  </a:lnTo>
                  <a:lnTo>
                    <a:pt x="1816" y="470"/>
                  </a:lnTo>
                  <a:lnTo>
                    <a:pt x="1776" y="177"/>
                  </a:lnTo>
                  <a:lnTo>
                    <a:pt x="1775" y="45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44760" y="3770280"/>
              <a:ext cx="1560600" cy="1523880"/>
            </a:xfrm>
            <a:custGeom>
              <a:avLst/>
              <a:gdLst/>
              <a:ahLst/>
              <a:rect l="l" t="t" r="r" b="b"/>
              <a:pathLst>
                <a:path w="2950" h="2880">
                  <a:moveTo>
                    <a:pt x="2717" y="811"/>
                  </a:moveTo>
                  <a:lnTo>
                    <a:pt x="2707" y="807"/>
                  </a:lnTo>
                  <a:lnTo>
                    <a:pt x="2698" y="797"/>
                  </a:lnTo>
                  <a:lnTo>
                    <a:pt x="2678" y="792"/>
                  </a:lnTo>
                  <a:lnTo>
                    <a:pt x="2574" y="735"/>
                  </a:lnTo>
                  <a:lnTo>
                    <a:pt x="2566" y="743"/>
                  </a:lnTo>
                  <a:lnTo>
                    <a:pt x="2535" y="752"/>
                  </a:lnTo>
                  <a:lnTo>
                    <a:pt x="2488" y="744"/>
                  </a:lnTo>
                  <a:lnTo>
                    <a:pt x="2468" y="744"/>
                  </a:lnTo>
                  <a:lnTo>
                    <a:pt x="2455" y="747"/>
                  </a:lnTo>
                  <a:lnTo>
                    <a:pt x="2415" y="762"/>
                  </a:lnTo>
                  <a:lnTo>
                    <a:pt x="2368" y="765"/>
                  </a:lnTo>
                  <a:lnTo>
                    <a:pt x="2352" y="771"/>
                  </a:lnTo>
                  <a:lnTo>
                    <a:pt x="2321" y="802"/>
                  </a:lnTo>
                  <a:lnTo>
                    <a:pt x="2287" y="775"/>
                  </a:lnTo>
                  <a:lnTo>
                    <a:pt x="2264" y="765"/>
                  </a:lnTo>
                  <a:lnTo>
                    <a:pt x="2264" y="760"/>
                  </a:lnTo>
                  <a:lnTo>
                    <a:pt x="2260" y="756"/>
                  </a:lnTo>
                  <a:lnTo>
                    <a:pt x="2245" y="755"/>
                  </a:lnTo>
                  <a:lnTo>
                    <a:pt x="2236" y="765"/>
                  </a:lnTo>
                  <a:lnTo>
                    <a:pt x="2226" y="766"/>
                  </a:lnTo>
                  <a:lnTo>
                    <a:pt x="2201" y="758"/>
                  </a:lnTo>
                  <a:lnTo>
                    <a:pt x="2197" y="740"/>
                  </a:lnTo>
                  <a:lnTo>
                    <a:pt x="2191" y="740"/>
                  </a:lnTo>
                  <a:lnTo>
                    <a:pt x="2169" y="752"/>
                  </a:lnTo>
                  <a:lnTo>
                    <a:pt x="2152" y="774"/>
                  </a:lnTo>
                  <a:lnTo>
                    <a:pt x="2154" y="788"/>
                  </a:lnTo>
                  <a:lnTo>
                    <a:pt x="2140" y="798"/>
                  </a:lnTo>
                  <a:lnTo>
                    <a:pt x="2131" y="782"/>
                  </a:lnTo>
                  <a:lnTo>
                    <a:pt x="2137" y="760"/>
                  </a:lnTo>
                  <a:lnTo>
                    <a:pt x="2134" y="750"/>
                  </a:lnTo>
                  <a:lnTo>
                    <a:pt x="2117" y="750"/>
                  </a:lnTo>
                  <a:lnTo>
                    <a:pt x="2093" y="765"/>
                  </a:lnTo>
                  <a:lnTo>
                    <a:pt x="2085" y="765"/>
                  </a:lnTo>
                  <a:lnTo>
                    <a:pt x="2032" y="729"/>
                  </a:lnTo>
                  <a:lnTo>
                    <a:pt x="2014" y="733"/>
                  </a:lnTo>
                  <a:lnTo>
                    <a:pt x="2007" y="760"/>
                  </a:lnTo>
                  <a:lnTo>
                    <a:pt x="1965" y="752"/>
                  </a:lnTo>
                  <a:lnTo>
                    <a:pt x="1965" y="724"/>
                  </a:lnTo>
                  <a:lnTo>
                    <a:pt x="1956" y="721"/>
                  </a:lnTo>
                  <a:lnTo>
                    <a:pt x="1934" y="699"/>
                  </a:lnTo>
                  <a:lnTo>
                    <a:pt x="1932" y="689"/>
                  </a:lnTo>
                  <a:lnTo>
                    <a:pt x="1877" y="682"/>
                  </a:lnTo>
                  <a:lnTo>
                    <a:pt x="1862" y="701"/>
                  </a:lnTo>
                  <a:lnTo>
                    <a:pt x="1837" y="689"/>
                  </a:lnTo>
                  <a:lnTo>
                    <a:pt x="1826" y="668"/>
                  </a:lnTo>
                  <a:lnTo>
                    <a:pt x="1809" y="672"/>
                  </a:lnTo>
                  <a:lnTo>
                    <a:pt x="1803" y="677"/>
                  </a:lnTo>
                  <a:lnTo>
                    <a:pt x="1790" y="677"/>
                  </a:lnTo>
                  <a:lnTo>
                    <a:pt x="1769" y="666"/>
                  </a:lnTo>
                  <a:lnTo>
                    <a:pt x="1711" y="656"/>
                  </a:lnTo>
                  <a:lnTo>
                    <a:pt x="1706" y="653"/>
                  </a:lnTo>
                  <a:lnTo>
                    <a:pt x="1695" y="632"/>
                  </a:lnTo>
                  <a:lnTo>
                    <a:pt x="1696" y="621"/>
                  </a:lnTo>
                  <a:lnTo>
                    <a:pt x="1687" y="609"/>
                  </a:lnTo>
                  <a:lnTo>
                    <a:pt x="1663" y="595"/>
                  </a:lnTo>
                  <a:lnTo>
                    <a:pt x="1649" y="609"/>
                  </a:lnTo>
                  <a:lnTo>
                    <a:pt x="1605" y="613"/>
                  </a:lnTo>
                  <a:lnTo>
                    <a:pt x="1590" y="607"/>
                  </a:lnTo>
                  <a:lnTo>
                    <a:pt x="1560" y="564"/>
                  </a:lnTo>
                  <a:lnTo>
                    <a:pt x="1548" y="556"/>
                  </a:lnTo>
                  <a:lnTo>
                    <a:pt x="1525" y="552"/>
                  </a:lnTo>
                  <a:lnTo>
                    <a:pt x="1542" y="38"/>
                  </a:lnTo>
                  <a:lnTo>
                    <a:pt x="908" y="0"/>
                  </a:lnTo>
                  <a:lnTo>
                    <a:pt x="895" y="0"/>
                  </a:lnTo>
                  <a:lnTo>
                    <a:pt x="800" y="1200"/>
                  </a:lnTo>
                  <a:lnTo>
                    <a:pt x="7" y="1124"/>
                  </a:lnTo>
                  <a:lnTo>
                    <a:pt x="0" y="1128"/>
                  </a:lnTo>
                  <a:lnTo>
                    <a:pt x="8" y="1134"/>
                  </a:lnTo>
                  <a:lnTo>
                    <a:pt x="10" y="1141"/>
                  </a:lnTo>
                  <a:lnTo>
                    <a:pt x="0" y="1157"/>
                  </a:lnTo>
                  <a:lnTo>
                    <a:pt x="10" y="1179"/>
                  </a:lnTo>
                  <a:lnTo>
                    <a:pt x="13" y="1182"/>
                  </a:lnTo>
                  <a:lnTo>
                    <a:pt x="54" y="1209"/>
                  </a:lnTo>
                  <a:lnTo>
                    <a:pt x="66" y="1236"/>
                  </a:lnTo>
                  <a:lnTo>
                    <a:pt x="81" y="1273"/>
                  </a:lnTo>
                  <a:lnTo>
                    <a:pt x="122" y="1301"/>
                  </a:lnTo>
                  <a:lnTo>
                    <a:pt x="245" y="1448"/>
                  </a:lnTo>
                  <a:lnTo>
                    <a:pt x="350" y="1531"/>
                  </a:lnTo>
                  <a:lnTo>
                    <a:pt x="357" y="1547"/>
                  </a:lnTo>
                  <a:lnTo>
                    <a:pt x="363" y="1563"/>
                  </a:lnTo>
                  <a:lnTo>
                    <a:pt x="363" y="1588"/>
                  </a:lnTo>
                  <a:lnTo>
                    <a:pt x="371" y="1601"/>
                  </a:lnTo>
                  <a:lnTo>
                    <a:pt x="394" y="1638"/>
                  </a:lnTo>
                  <a:lnTo>
                    <a:pt x="391" y="1720"/>
                  </a:lnTo>
                  <a:lnTo>
                    <a:pt x="397" y="1750"/>
                  </a:lnTo>
                  <a:lnTo>
                    <a:pt x="435" y="1809"/>
                  </a:lnTo>
                  <a:lnTo>
                    <a:pt x="589" y="1922"/>
                  </a:lnTo>
                  <a:lnTo>
                    <a:pt x="696" y="1988"/>
                  </a:lnTo>
                  <a:lnTo>
                    <a:pt x="728" y="1994"/>
                  </a:lnTo>
                  <a:lnTo>
                    <a:pt x="746" y="1982"/>
                  </a:lnTo>
                  <a:lnTo>
                    <a:pt x="770" y="1954"/>
                  </a:lnTo>
                  <a:lnTo>
                    <a:pt x="788" y="1939"/>
                  </a:lnTo>
                  <a:lnTo>
                    <a:pt x="835" y="1834"/>
                  </a:lnTo>
                  <a:lnTo>
                    <a:pt x="854" y="1803"/>
                  </a:lnTo>
                  <a:lnTo>
                    <a:pt x="872" y="1793"/>
                  </a:lnTo>
                  <a:lnTo>
                    <a:pt x="908" y="1805"/>
                  </a:lnTo>
                  <a:lnTo>
                    <a:pt x="917" y="1802"/>
                  </a:lnTo>
                  <a:lnTo>
                    <a:pt x="925" y="1787"/>
                  </a:lnTo>
                  <a:lnTo>
                    <a:pt x="935" y="1773"/>
                  </a:lnTo>
                  <a:lnTo>
                    <a:pt x="954" y="1780"/>
                  </a:lnTo>
                  <a:lnTo>
                    <a:pt x="972" y="1793"/>
                  </a:lnTo>
                  <a:lnTo>
                    <a:pt x="1034" y="1802"/>
                  </a:lnTo>
                  <a:lnTo>
                    <a:pt x="1050" y="1809"/>
                  </a:lnTo>
                  <a:lnTo>
                    <a:pt x="1091" y="1821"/>
                  </a:lnTo>
                  <a:lnTo>
                    <a:pt x="1109" y="1812"/>
                  </a:lnTo>
                  <a:lnTo>
                    <a:pt x="1157" y="1840"/>
                  </a:lnTo>
                  <a:lnTo>
                    <a:pt x="1165" y="1866"/>
                  </a:lnTo>
                  <a:lnTo>
                    <a:pt x="1175" y="1869"/>
                  </a:lnTo>
                  <a:lnTo>
                    <a:pt x="1180" y="1881"/>
                  </a:lnTo>
                  <a:lnTo>
                    <a:pt x="1186" y="1884"/>
                  </a:lnTo>
                  <a:lnTo>
                    <a:pt x="1209" y="1896"/>
                  </a:lnTo>
                  <a:lnTo>
                    <a:pt x="1237" y="1933"/>
                  </a:lnTo>
                  <a:lnTo>
                    <a:pt x="1279" y="1972"/>
                  </a:lnTo>
                  <a:lnTo>
                    <a:pt x="1305" y="2008"/>
                  </a:lnTo>
                  <a:lnTo>
                    <a:pt x="1306" y="2023"/>
                  </a:lnTo>
                  <a:lnTo>
                    <a:pt x="1374" y="2190"/>
                  </a:lnTo>
                  <a:lnTo>
                    <a:pt x="1386" y="2221"/>
                  </a:lnTo>
                  <a:lnTo>
                    <a:pt x="1461" y="2308"/>
                  </a:lnTo>
                  <a:lnTo>
                    <a:pt x="1468" y="2329"/>
                  </a:lnTo>
                  <a:lnTo>
                    <a:pt x="1519" y="2383"/>
                  </a:lnTo>
                  <a:lnTo>
                    <a:pt x="1533" y="2392"/>
                  </a:lnTo>
                  <a:lnTo>
                    <a:pt x="1554" y="2418"/>
                  </a:lnTo>
                  <a:lnTo>
                    <a:pt x="1560" y="2433"/>
                  </a:lnTo>
                  <a:lnTo>
                    <a:pt x="1555" y="2487"/>
                  </a:lnTo>
                  <a:lnTo>
                    <a:pt x="1572" y="2509"/>
                  </a:lnTo>
                  <a:lnTo>
                    <a:pt x="1578" y="2573"/>
                  </a:lnTo>
                  <a:lnTo>
                    <a:pt x="1594" y="2591"/>
                  </a:lnTo>
                  <a:lnTo>
                    <a:pt x="1649" y="2693"/>
                  </a:lnTo>
                  <a:lnTo>
                    <a:pt x="1654" y="2726"/>
                  </a:lnTo>
                  <a:lnTo>
                    <a:pt x="1689" y="2728"/>
                  </a:lnTo>
                  <a:lnTo>
                    <a:pt x="1732" y="2756"/>
                  </a:lnTo>
                  <a:lnTo>
                    <a:pt x="1781" y="2771"/>
                  </a:lnTo>
                  <a:lnTo>
                    <a:pt x="1855" y="2819"/>
                  </a:lnTo>
                  <a:lnTo>
                    <a:pt x="1959" y="2827"/>
                  </a:lnTo>
                  <a:lnTo>
                    <a:pt x="1978" y="2832"/>
                  </a:lnTo>
                  <a:lnTo>
                    <a:pt x="2032" y="2868"/>
                  </a:lnTo>
                  <a:lnTo>
                    <a:pt x="2060" y="2880"/>
                  </a:lnTo>
                  <a:lnTo>
                    <a:pt x="2085" y="2849"/>
                  </a:lnTo>
                  <a:lnTo>
                    <a:pt x="2107" y="2852"/>
                  </a:lnTo>
                  <a:lnTo>
                    <a:pt x="2112" y="2846"/>
                  </a:lnTo>
                  <a:lnTo>
                    <a:pt x="2112" y="2832"/>
                  </a:lnTo>
                  <a:lnTo>
                    <a:pt x="2093" y="2823"/>
                  </a:lnTo>
                  <a:lnTo>
                    <a:pt x="2093" y="2815"/>
                  </a:lnTo>
                  <a:lnTo>
                    <a:pt x="2073" y="2787"/>
                  </a:lnTo>
                  <a:lnTo>
                    <a:pt x="2039" y="2662"/>
                  </a:lnTo>
                  <a:lnTo>
                    <a:pt x="2023" y="2613"/>
                  </a:lnTo>
                  <a:lnTo>
                    <a:pt x="2047" y="2537"/>
                  </a:lnTo>
                  <a:lnTo>
                    <a:pt x="2045" y="2514"/>
                  </a:lnTo>
                  <a:lnTo>
                    <a:pt x="2038" y="2509"/>
                  </a:lnTo>
                  <a:lnTo>
                    <a:pt x="2032" y="2508"/>
                  </a:lnTo>
                  <a:lnTo>
                    <a:pt x="2028" y="2502"/>
                  </a:lnTo>
                  <a:lnTo>
                    <a:pt x="2028" y="2497"/>
                  </a:lnTo>
                  <a:lnTo>
                    <a:pt x="2034" y="2493"/>
                  </a:lnTo>
                  <a:lnTo>
                    <a:pt x="2066" y="2471"/>
                  </a:lnTo>
                  <a:lnTo>
                    <a:pt x="2087" y="2401"/>
                  </a:lnTo>
                  <a:lnTo>
                    <a:pt x="2070" y="2396"/>
                  </a:lnTo>
                  <a:lnTo>
                    <a:pt x="2062" y="2363"/>
                  </a:lnTo>
                  <a:lnTo>
                    <a:pt x="2080" y="2343"/>
                  </a:lnTo>
                  <a:lnTo>
                    <a:pt x="2101" y="2360"/>
                  </a:lnTo>
                  <a:lnTo>
                    <a:pt x="2140" y="2332"/>
                  </a:lnTo>
                  <a:lnTo>
                    <a:pt x="2149" y="2295"/>
                  </a:lnTo>
                  <a:lnTo>
                    <a:pt x="2131" y="2282"/>
                  </a:lnTo>
                  <a:lnTo>
                    <a:pt x="2140" y="2266"/>
                  </a:lnTo>
                  <a:lnTo>
                    <a:pt x="2149" y="2269"/>
                  </a:lnTo>
                  <a:lnTo>
                    <a:pt x="2159" y="2271"/>
                  </a:lnTo>
                  <a:lnTo>
                    <a:pt x="2167" y="2262"/>
                  </a:lnTo>
                  <a:lnTo>
                    <a:pt x="2180" y="2269"/>
                  </a:lnTo>
                  <a:lnTo>
                    <a:pt x="2194" y="2269"/>
                  </a:lnTo>
                  <a:lnTo>
                    <a:pt x="2201" y="2263"/>
                  </a:lnTo>
                  <a:lnTo>
                    <a:pt x="2203" y="2256"/>
                  </a:lnTo>
                  <a:lnTo>
                    <a:pt x="2203" y="2226"/>
                  </a:lnTo>
                  <a:lnTo>
                    <a:pt x="2209" y="2217"/>
                  </a:lnTo>
                  <a:lnTo>
                    <a:pt x="2218" y="2217"/>
                  </a:lnTo>
                  <a:lnTo>
                    <a:pt x="2224" y="2219"/>
                  </a:lnTo>
                  <a:lnTo>
                    <a:pt x="2234" y="2223"/>
                  </a:lnTo>
                  <a:lnTo>
                    <a:pt x="2289" y="2209"/>
                  </a:lnTo>
                  <a:lnTo>
                    <a:pt x="2295" y="2203"/>
                  </a:lnTo>
                  <a:lnTo>
                    <a:pt x="2297" y="2196"/>
                  </a:lnTo>
                  <a:lnTo>
                    <a:pt x="2295" y="2190"/>
                  </a:lnTo>
                  <a:lnTo>
                    <a:pt x="2264" y="2173"/>
                  </a:lnTo>
                  <a:lnTo>
                    <a:pt x="2264" y="2160"/>
                  </a:lnTo>
                  <a:lnTo>
                    <a:pt x="2316" y="2145"/>
                  </a:lnTo>
                  <a:lnTo>
                    <a:pt x="2325" y="2136"/>
                  </a:lnTo>
                  <a:lnTo>
                    <a:pt x="2342" y="2129"/>
                  </a:lnTo>
                  <a:lnTo>
                    <a:pt x="2344" y="2136"/>
                  </a:lnTo>
                  <a:lnTo>
                    <a:pt x="2338" y="2141"/>
                  </a:lnTo>
                  <a:lnTo>
                    <a:pt x="2346" y="2155"/>
                  </a:lnTo>
                  <a:lnTo>
                    <a:pt x="2352" y="2155"/>
                  </a:lnTo>
                  <a:lnTo>
                    <a:pt x="2363" y="2147"/>
                  </a:lnTo>
                  <a:lnTo>
                    <a:pt x="2445" y="2123"/>
                  </a:lnTo>
                  <a:lnTo>
                    <a:pt x="2580" y="2033"/>
                  </a:lnTo>
                  <a:lnTo>
                    <a:pt x="2586" y="2001"/>
                  </a:lnTo>
                  <a:lnTo>
                    <a:pt x="2650" y="1948"/>
                  </a:lnTo>
                  <a:lnTo>
                    <a:pt x="2651" y="1939"/>
                  </a:lnTo>
                  <a:lnTo>
                    <a:pt x="2624" y="1901"/>
                  </a:lnTo>
                  <a:lnTo>
                    <a:pt x="2631" y="1872"/>
                  </a:lnTo>
                  <a:lnTo>
                    <a:pt x="2670" y="1855"/>
                  </a:lnTo>
                  <a:lnTo>
                    <a:pt x="2680" y="1856"/>
                  </a:lnTo>
                  <a:lnTo>
                    <a:pt x="2674" y="1887"/>
                  </a:lnTo>
                  <a:lnTo>
                    <a:pt x="2678" y="1901"/>
                  </a:lnTo>
                  <a:lnTo>
                    <a:pt x="2727" y="1894"/>
                  </a:lnTo>
                  <a:lnTo>
                    <a:pt x="2733" y="1905"/>
                  </a:lnTo>
                  <a:lnTo>
                    <a:pt x="2832" y="1863"/>
                  </a:lnTo>
                  <a:lnTo>
                    <a:pt x="2887" y="1860"/>
                  </a:lnTo>
                  <a:lnTo>
                    <a:pt x="2890" y="1857"/>
                  </a:lnTo>
                  <a:lnTo>
                    <a:pt x="2886" y="1851"/>
                  </a:lnTo>
                  <a:lnTo>
                    <a:pt x="2876" y="1840"/>
                  </a:lnTo>
                  <a:lnTo>
                    <a:pt x="2872" y="1823"/>
                  </a:lnTo>
                  <a:lnTo>
                    <a:pt x="2878" y="1813"/>
                  </a:lnTo>
                  <a:lnTo>
                    <a:pt x="2884" y="1800"/>
                  </a:lnTo>
                  <a:lnTo>
                    <a:pt x="2900" y="1779"/>
                  </a:lnTo>
                  <a:lnTo>
                    <a:pt x="2921" y="1720"/>
                  </a:lnTo>
                  <a:lnTo>
                    <a:pt x="2906" y="1699"/>
                  </a:lnTo>
                  <a:lnTo>
                    <a:pt x="2906" y="1679"/>
                  </a:lnTo>
                  <a:lnTo>
                    <a:pt x="2910" y="1667"/>
                  </a:lnTo>
                  <a:lnTo>
                    <a:pt x="2908" y="1651"/>
                  </a:lnTo>
                  <a:lnTo>
                    <a:pt x="2915" y="1617"/>
                  </a:lnTo>
                  <a:lnTo>
                    <a:pt x="2931" y="1604"/>
                  </a:lnTo>
                  <a:lnTo>
                    <a:pt x="2941" y="1578"/>
                  </a:lnTo>
                  <a:lnTo>
                    <a:pt x="2950" y="1530"/>
                  </a:lnTo>
                  <a:lnTo>
                    <a:pt x="2950" y="1501"/>
                  </a:lnTo>
                  <a:lnTo>
                    <a:pt x="2941" y="1459"/>
                  </a:lnTo>
                  <a:lnTo>
                    <a:pt x="2924" y="1432"/>
                  </a:lnTo>
                  <a:lnTo>
                    <a:pt x="2917" y="1426"/>
                  </a:lnTo>
                  <a:lnTo>
                    <a:pt x="2920" y="1409"/>
                  </a:lnTo>
                  <a:lnTo>
                    <a:pt x="2910" y="1398"/>
                  </a:lnTo>
                  <a:lnTo>
                    <a:pt x="2900" y="1375"/>
                  </a:lnTo>
                  <a:lnTo>
                    <a:pt x="2884" y="1362"/>
                  </a:lnTo>
                  <a:lnTo>
                    <a:pt x="2878" y="1354"/>
                  </a:lnTo>
                  <a:lnTo>
                    <a:pt x="2890" y="1326"/>
                  </a:lnTo>
                  <a:lnTo>
                    <a:pt x="2870" y="1287"/>
                  </a:lnTo>
                  <a:lnTo>
                    <a:pt x="2837" y="1257"/>
                  </a:lnTo>
                  <a:lnTo>
                    <a:pt x="2827" y="1241"/>
                  </a:lnTo>
                  <a:lnTo>
                    <a:pt x="2822" y="974"/>
                  </a:lnTo>
                  <a:lnTo>
                    <a:pt x="2822" y="831"/>
                  </a:lnTo>
                  <a:lnTo>
                    <a:pt x="2788" y="823"/>
                  </a:lnTo>
                  <a:lnTo>
                    <a:pt x="2759" y="837"/>
                  </a:lnTo>
                  <a:lnTo>
                    <a:pt x="2750" y="834"/>
                  </a:lnTo>
                  <a:lnTo>
                    <a:pt x="2717" y="81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92440" y="1982880"/>
              <a:ext cx="735120" cy="823680"/>
            </a:xfrm>
            <a:custGeom>
              <a:avLst/>
              <a:gdLst/>
              <a:ahLst/>
              <a:rect l="l" t="t" r="r" b="b"/>
              <a:pathLst>
                <a:path w="1387" h="1559">
                  <a:moveTo>
                    <a:pt x="133" y="1559"/>
                  </a:moveTo>
                  <a:lnTo>
                    <a:pt x="132" y="1074"/>
                  </a:lnTo>
                  <a:lnTo>
                    <a:pt x="66" y="1015"/>
                  </a:lnTo>
                  <a:lnTo>
                    <a:pt x="63" y="987"/>
                  </a:lnTo>
                  <a:lnTo>
                    <a:pt x="98" y="953"/>
                  </a:lnTo>
                  <a:lnTo>
                    <a:pt x="110" y="926"/>
                  </a:lnTo>
                  <a:lnTo>
                    <a:pt x="108" y="905"/>
                  </a:lnTo>
                  <a:lnTo>
                    <a:pt x="107" y="865"/>
                  </a:lnTo>
                  <a:lnTo>
                    <a:pt x="112" y="830"/>
                  </a:lnTo>
                  <a:lnTo>
                    <a:pt x="79" y="732"/>
                  </a:lnTo>
                  <a:lnTo>
                    <a:pt x="77" y="714"/>
                  </a:lnTo>
                  <a:lnTo>
                    <a:pt x="77" y="665"/>
                  </a:lnTo>
                  <a:lnTo>
                    <a:pt x="71" y="640"/>
                  </a:lnTo>
                  <a:lnTo>
                    <a:pt x="65" y="506"/>
                  </a:lnTo>
                  <a:lnTo>
                    <a:pt x="50" y="429"/>
                  </a:lnTo>
                  <a:lnTo>
                    <a:pt x="28" y="406"/>
                  </a:lnTo>
                  <a:lnTo>
                    <a:pt x="11" y="320"/>
                  </a:lnTo>
                  <a:lnTo>
                    <a:pt x="9" y="246"/>
                  </a:lnTo>
                  <a:lnTo>
                    <a:pt x="16" y="198"/>
                  </a:lnTo>
                  <a:lnTo>
                    <a:pt x="23" y="182"/>
                  </a:lnTo>
                  <a:lnTo>
                    <a:pt x="2" y="117"/>
                  </a:lnTo>
                  <a:lnTo>
                    <a:pt x="0" y="98"/>
                  </a:lnTo>
                  <a:lnTo>
                    <a:pt x="360" y="98"/>
                  </a:lnTo>
                  <a:lnTo>
                    <a:pt x="362" y="38"/>
                  </a:lnTo>
                  <a:lnTo>
                    <a:pt x="366" y="0"/>
                  </a:lnTo>
                  <a:lnTo>
                    <a:pt x="394" y="0"/>
                  </a:lnTo>
                  <a:lnTo>
                    <a:pt x="430" y="16"/>
                  </a:lnTo>
                  <a:lnTo>
                    <a:pt x="434" y="74"/>
                  </a:lnTo>
                  <a:lnTo>
                    <a:pt x="445" y="113"/>
                  </a:lnTo>
                  <a:lnTo>
                    <a:pt x="442" y="149"/>
                  </a:lnTo>
                  <a:lnTo>
                    <a:pt x="482" y="177"/>
                  </a:lnTo>
                  <a:lnTo>
                    <a:pt x="497" y="172"/>
                  </a:lnTo>
                  <a:lnTo>
                    <a:pt x="524" y="178"/>
                  </a:lnTo>
                  <a:lnTo>
                    <a:pt x="539" y="193"/>
                  </a:lnTo>
                  <a:lnTo>
                    <a:pt x="567" y="190"/>
                  </a:lnTo>
                  <a:lnTo>
                    <a:pt x="600" y="193"/>
                  </a:lnTo>
                  <a:lnTo>
                    <a:pt x="607" y="206"/>
                  </a:lnTo>
                  <a:lnTo>
                    <a:pt x="607" y="216"/>
                  </a:lnTo>
                  <a:lnTo>
                    <a:pt x="662" y="214"/>
                  </a:lnTo>
                  <a:lnTo>
                    <a:pt x="678" y="194"/>
                  </a:lnTo>
                  <a:lnTo>
                    <a:pt x="754" y="191"/>
                  </a:lnTo>
                  <a:lnTo>
                    <a:pt x="804" y="204"/>
                  </a:lnTo>
                  <a:lnTo>
                    <a:pt x="816" y="204"/>
                  </a:lnTo>
                  <a:lnTo>
                    <a:pt x="810" y="219"/>
                  </a:lnTo>
                  <a:lnTo>
                    <a:pt x="825" y="233"/>
                  </a:lnTo>
                  <a:lnTo>
                    <a:pt x="832" y="229"/>
                  </a:lnTo>
                  <a:lnTo>
                    <a:pt x="842" y="240"/>
                  </a:lnTo>
                  <a:lnTo>
                    <a:pt x="851" y="273"/>
                  </a:lnTo>
                  <a:lnTo>
                    <a:pt x="870" y="284"/>
                  </a:lnTo>
                  <a:lnTo>
                    <a:pt x="891" y="259"/>
                  </a:lnTo>
                  <a:lnTo>
                    <a:pt x="904" y="250"/>
                  </a:lnTo>
                  <a:lnTo>
                    <a:pt x="921" y="259"/>
                  </a:lnTo>
                  <a:lnTo>
                    <a:pt x="935" y="282"/>
                  </a:lnTo>
                  <a:lnTo>
                    <a:pt x="975" y="294"/>
                  </a:lnTo>
                  <a:lnTo>
                    <a:pt x="987" y="309"/>
                  </a:lnTo>
                  <a:lnTo>
                    <a:pt x="1006" y="324"/>
                  </a:lnTo>
                  <a:lnTo>
                    <a:pt x="1032" y="326"/>
                  </a:lnTo>
                  <a:lnTo>
                    <a:pt x="1061" y="318"/>
                  </a:lnTo>
                  <a:lnTo>
                    <a:pt x="1129" y="272"/>
                  </a:lnTo>
                  <a:lnTo>
                    <a:pt x="1139" y="279"/>
                  </a:lnTo>
                  <a:lnTo>
                    <a:pt x="1159" y="298"/>
                  </a:lnTo>
                  <a:lnTo>
                    <a:pt x="1261" y="298"/>
                  </a:lnTo>
                  <a:lnTo>
                    <a:pt x="1278" y="300"/>
                  </a:lnTo>
                  <a:lnTo>
                    <a:pt x="1293" y="309"/>
                  </a:lnTo>
                  <a:lnTo>
                    <a:pt x="1318" y="330"/>
                  </a:lnTo>
                  <a:lnTo>
                    <a:pt x="1339" y="318"/>
                  </a:lnTo>
                  <a:lnTo>
                    <a:pt x="1387" y="318"/>
                  </a:lnTo>
                  <a:lnTo>
                    <a:pt x="1361" y="341"/>
                  </a:lnTo>
                  <a:lnTo>
                    <a:pt x="1299" y="375"/>
                  </a:lnTo>
                  <a:lnTo>
                    <a:pt x="1267" y="386"/>
                  </a:lnTo>
                  <a:lnTo>
                    <a:pt x="1242" y="396"/>
                  </a:lnTo>
                  <a:lnTo>
                    <a:pt x="1215" y="422"/>
                  </a:lnTo>
                  <a:lnTo>
                    <a:pt x="1163" y="448"/>
                  </a:lnTo>
                  <a:lnTo>
                    <a:pt x="1139" y="464"/>
                  </a:lnTo>
                  <a:lnTo>
                    <a:pt x="1051" y="559"/>
                  </a:lnTo>
                  <a:lnTo>
                    <a:pt x="924" y="675"/>
                  </a:lnTo>
                  <a:lnTo>
                    <a:pt x="911" y="695"/>
                  </a:lnTo>
                  <a:lnTo>
                    <a:pt x="898" y="705"/>
                  </a:lnTo>
                  <a:lnTo>
                    <a:pt x="905" y="849"/>
                  </a:lnTo>
                  <a:lnTo>
                    <a:pt x="889" y="865"/>
                  </a:lnTo>
                  <a:lnTo>
                    <a:pt x="872" y="871"/>
                  </a:lnTo>
                  <a:lnTo>
                    <a:pt x="816" y="917"/>
                  </a:lnTo>
                  <a:lnTo>
                    <a:pt x="816" y="940"/>
                  </a:lnTo>
                  <a:lnTo>
                    <a:pt x="809" y="947"/>
                  </a:lnTo>
                  <a:lnTo>
                    <a:pt x="795" y="985"/>
                  </a:lnTo>
                  <a:lnTo>
                    <a:pt x="823" y="1001"/>
                  </a:lnTo>
                  <a:lnTo>
                    <a:pt x="842" y="1035"/>
                  </a:lnTo>
                  <a:lnTo>
                    <a:pt x="825" y="1065"/>
                  </a:lnTo>
                  <a:lnTo>
                    <a:pt x="829" y="1090"/>
                  </a:lnTo>
                  <a:lnTo>
                    <a:pt x="823" y="1136"/>
                  </a:lnTo>
                  <a:lnTo>
                    <a:pt x="823" y="1206"/>
                  </a:lnTo>
                  <a:lnTo>
                    <a:pt x="834" y="1223"/>
                  </a:lnTo>
                  <a:lnTo>
                    <a:pt x="855" y="1236"/>
                  </a:lnTo>
                  <a:lnTo>
                    <a:pt x="860" y="1248"/>
                  </a:lnTo>
                  <a:lnTo>
                    <a:pt x="910" y="1255"/>
                  </a:lnTo>
                  <a:lnTo>
                    <a:pt x="917" y="1262"/>
                  </a:lnTo>
                  <a:lnTo>
                    <a:pt x="920" y="1277"/>
                  </a:lnTo>
                  <a:lnTo>
                    <a:pt x="931" y="1282"/>
                  </a:lnTo>
                  <a:lnTo>
                    <a:pt x="988" y="1309"/>
                  </a:lnTo>
                  <a:lnTo>
                    <a:pt x="1009" y="1349"/>
                  </a:lnTo>
                  <a:lnTo>
                    <a:pt x="1062" y="1391"/>
                  </a:lnTo>
                  <a:lnTo>
                    <a:pt x="1120" y="1431"/>
                  </a:lnTo>
                  <a:lnTo>
                    <a:pt x="1128" y="1444"/>
                  </a:lnTo>
                  <a:lnTo>
                    <a:pt x="1128" y="1479"/>
                  </a:lnTo>
                  <a:lnTo>
                    <a:pt x="1133" y="1528"/>
                  </a:lnTo>
                  <a:lnTo>
                    <a:pt x="133" y="15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48240" y="2790720"/>
              <a:ext cx="669600" cy="444600"/>
            </a:xfrm>
            <a:custGeom>
              <a:avLst/>
              <a:gdLst/>
              <a:ahLst/>
              <a:rect l="l" t="t" r="r" b="b"/>
              <a:pathLst>
                <a:path w="1266" h="839">
                  <a:moveTo>
                    <a:pt x="29" y="31"/>
                  </a:moveTo>
                  <a:lnTo>
                    <a:pt x="1028" y="0"/>
                  </a:lnTo>
                  <a:lnTo>
                    <a:pt x="1041" y="31"/>
                  </a:lnTo>
                  <a:lnTo>
                    <a:pt x="1063" y="53"/>
                  </a:lnTo>
                  <a:lnTo>
                    <a:pt x="1063" y="71"/>
                  </a:lnTo>
                  <a:lnTo>
                    <a:pt x="1046" y="93"/>
                  </a:lnTo>
                  <a:lnTo>
                    <a:pt x="1057" y="127"/>
                  </a:lnTo>
                  <a:lnTo>
                    <a:pt x="1074" y="200"/>
                  </a:lnTo>
                  <a:lnTo>
                    <a:pt x="1135" y="222"/>
                  </a:lnTo>
                  <a:lnTo>
                    <a:pt x="1154" y="240"/>
                  </a:lnTo>
                  <a:lnTo>
                    <a:pt x="1162" y="263"/>
                  </a:lnTo>
                  <a:lnTo>
                    <a:pt x="1170" y="279"/>
                  </a:lnTo>
                  <a:lnTo>
                    <a:pt x="1209" y="307"/>
                  </a:lnTo>
                  <a:lnTo>
                    <a:pt x="1215" y="330"/>
                  </a:lnTo>
                  <a:lnTo>
                    <a:pt x="1251" y="353"/>
                  </a:lnTo>
                  <a:lnTo>
                    <a:pt x="1266" y="398"/>
                  </a:lnTo>
                  <a:lnTo>
                    <a:pt x="1265" y="420"/>
                  </a:lnTo>
                  <a:lnTo>
                    <a:pt x="1251" y="448"/>
                  </a:lnTo>
                  <a:lnTo>
                    <a:pt x="1236" y="461"/>
                  </a:lnTo>
                  <a:lnTo>
                    <a:pt x="1236" y="486"/>
                  </a:lnTo>
                  <a:lnTo>
                    <a:pt x="1202" y="524"/>
                  </a:lnTo>
                  <a:lnTo>
                    <a:pt x="1170" y="536"/>
                  </a:lnTo>
                  <a:lnTo>
                    <a:pt x="1160" y="543"/>
                  </a:lnTo>
                  <a:lnTo>
                    <a:pt x="1117" y="546"/>
                  </a:lnTo>
                  <a:lnTo>
                    <a:pt x="1099" y="558"/>
                  </a:lnTo>
                  <a:lnTo>
                    <a:pt x="1085" y="585"/>
                  </a:lnTo>
                  <a:lnTo>
                    <a:pt x="1089" y="609"/>
                  </a:lnTo>
                  <a:lnTo>
                    <a:pt x="1114" y="634"/>
                  </a:lnTo>
                  <a:lnTo>
                    <a:pt x="1121" y="648"/>
                  </a:lnTo>
                  <a:lnTo>
                    <a:pt x="1114" y="691"/>
                  </a:lnTo>
                  <a:lnTo>
                    <a:pt x="1084" y="756"/>
                  </a:lnTo>
                  <a:lnTo>
                    <a:pt x="1053" y="774"/>
                  </a:lnTo>
                  <a:lnTo>
                    <a:pt x="1042" y="797"/>
                  </a:lnTo>
                  <a:lnTo>
                    <a:pt x="1046" y="818"/>
                  </a:lnTo>
                  <a:lnTo>
                    <a:pt x="1031" y="839"/>
                  </a:lnTo>
                  <a:lnTo>
                    <a:pt x="968" y="779"/>
                  </a:lnTo>
                  <a:lnTo>
                    <a:pt x="167" y="803"/>
                  </a:lnTo>
                  <a:lnTo>
                    <a:pt x="159" y="791"/>
                  </a:lnTo>
                  <a:lnTo>
                    <a:pt x="151" y="764"/>
                  </a:lnTo>
                  <a:lnTo>
                    <a:pt x="159" y="743"/>
                  </a:lnTo>
                  <a:lnTo>
                    <a:pt x="143" y="722"/>
                  </a:lnTo>
                  <a:lnTo>
                    <a:pt x="137" y="699"/>
                  </a:lnTo>
                  <a:lnTo>
                    <a:pt x="151" y="678"/>
                  </a:lnTo>
                  <a:lnTo>
                    <a:pt x="143" y="657"/>
                  </a:lnTo>
                  <a:lnTo>
                    <a:pt x="116" y="642"/>
                  </a:lnTo>
                  <a:lnTo>
                    <a:pt x="124" y="602"/>
                  </a:lnTo>
                  <a:lnTo>
                    <a:pt x="130" y="581"/>
                  </a:lnTo>
                  <a:lnTo>
                    <a:pt x="124" y="558"/>
                  </a:lnTo>
                  <a:lnTo>
                    <a:pt x="93" y="537"/>
                  </a:lnTo>
                  <a:lnTo>
                    <a:pt x="86" y="516"/>
                  </a:lnTo>
                  <a:lnTo>
                    <a:pt x="93" y="495"/>
                  </a:lnTo>
                  <a:lnTo>
                    <a:pt x="74" y="474"/>
                  </a:lnTo>
                  <a:lnTo>
                    <a:pt x="59" y="432"/>
                  </a:lnTo>
                  <a:lnTo>
                    <a:pt x="39" y="410"/>
                  </a:lnTo>
                  <a:lnTo>
                    <a:pt x="52" y="375"/>
                  </a:lnTo>
                  <a:lnTo>
                    <a:pt x="52" y="353"/>
                  </a:lnTo>
                  <a:lnTo>
                    <a:pt x="25" y="339"/>
                  </a:lnTo>
                  <a:lnTo>
                    <a:pt x="21" y="311"/>
                  </a:lnTo>
                  <a:lnTo>
                    <a:pt x="25" y="304"/>
                  </a:lnTo>
                  <a:lnTo>
                    <a:pt x="19" y="279"/>
                  </a:lnTo>
                  <a:lnTo>
                    <a:pt x="0" y="227"/>
                  </a:lnTo>
                  <a:lnTo>
                    <a:pt x="19" y="183"/>
                  </a:lnTo>
                  <a:lnTo>
                    <a:pt x="13" y="158"/>
                  </a:lnTo>
                  <a:lnTo>
                    <a:pt x="27" y="145"/>
                  </a:lnTo>
                  <a:lnTo>
                    <a:pt x="20" y="105"/>
                  </a:lnTo>
                  <a:lnTo>
                    <a:pt x="7" y="90"/>
                  </a:lnTo>
                  <a:lnTo>
                    <a:pt x="17" y="65"/>
                  </a:lnTo>
                  <a:lnTo>
                    <a:pt x="10" y="51"/>
                  </a:lnTo>
                  <a:lnTo>
                    <a:pt x="0" y="33"/>
                  </a:lnTo>
                  <a:lnTo>
                    <a:pt x="19" y="3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36800" y="3203640"/>
              <a:ext cx="747720" cy="644400"/>
            </a:xfrm>
            <a:custGeom>
              <a:avLst/>
              <a:gdLst/>
              <a:ahLst/>
              <a:rect l="l" t="t" r="r" b="b"/>
              <a:pathLst>
                <a:path w="1412" h="1218">
                  <a:moveTo>
                    <a:pt x="241" y="1122"/>
                  </a:moveTo>
                  <a:lnTo>
                    <a:pt x="1187" y="1080"/>
                  </a:lnTo>
                  <a:lnTo>
                    <a:pt x="1183" y="1092"/>
                  </a:lnTo>
                  <a:lnTo>
                    <a:pt x="1203" y="1108"/>
                  </a:lnTo>
                  <a:lnTo>
                    <a:pt x="1212" y="1128"/>
                  </a:lnTo>
                  <a:lnTo>
                    <a:pt x="1208" y="1149"/>
                  </a:lnTo>
                  <a:lnTo>
                    <a:pt x="1178" y="1171"/>
                  </a:lnTo>
                  <a:lnTo>
                    <a:pt x="1153" y="1204"/>
                  </a:lnTo>
                  <a:lnTo>
                    <a:pt x="1152" y="1218"/>
                  </a:lnTo>
                  <a:lnTo>
                    <a:pt x="1292" y="1210"/>
                  </a:lnTo>
                  <a:lnTo>
                    <a:pt x="1306" y="1171"/>
                  </a:lnTo>
                  <a:lnTo>
                    <a:pt x="1300" y="1158"/>
                  </a:lnTo>
                  <a:lnTo>
                    <a:pt x="1313" y="1112"/>
                  </a:lnTo>
                  <a:lnTo>
                    <a:pt x="1325" y="1075"/>
                  </a:lnTo>
                  <a:lnTo>
                    <a:pt x="1339" y="1054"/>
                  </a:lnTo>
                  <a:lnTo>
                    <a:pt x="1368" y="1044"/>
                  </a:lnTo>
                  <a:lnTo>
                    <a:pt x="1378" y="1048"/>
                  </a:lnTo>
                  <a:lnTo>
                    <a:pt x="1390" y="1042"/>
                  </a:lnTo>
                  <a:lnTo>
                    <a:pt x="1412" y="973"/>
                  </a:lnTo>
                  <a:lnTo>
                    <a:pt x="1406" y="947"/>
                  </a:lnTo>
                  <a:lnTo>
                    <a:pt x="1391" y="940"/>
                  </a:lnTo>
                  <a:lnTo>
                    <a:pt x="1385" y="937"/>
                  </a:lnTo>
                  <a:lnTo>
                    <a:pt x="1382" y="931"/>
                  </a:lnTo>
                  <a:lnTo>
                    <a:pt x="1378" y="925"/>
                  </a:lnTo>
                  <a:lnTo>
                    <a:pt x="1365" y="925"/>
                  </a:lnTo>
                  <a:lnTo>
                    <a:pt x="1362" y="937"/>
                  </a:lnTo>
                  <a:lnTo>
                    <a:pt x="1355" y="940"/>
                  </a:lnTo>
                  <a:lnTo>
                    <a:pt x="1311" y="868"/>
                  </a:lnTo>
                  <a:lnTo>
                    <a:pt x="1313" y="857"/>
                  </a:lnTo>
                  <a:lnTo>
                    <a:pt x="1325" y="840"/>
                  </a:lnTo>
                  <a:lnTo>
                    <a:pt x="1328" y="830"/>
                  </a:lnTo>
                  <a:lnTo>
                    <a:pt x="1311" y="805"/>
                  </a:lnTo>
                  <a:lnTo>
                    <a:pt x="1299" y="761"/>
                  </a:lnTo>
                  <a:lnTo>
                    <a:pt x="1239" y="709"/>
                  </a:lnTo>
                  <a:lnTo>
                    <a:pt x="1209" y="697"/>
                  </a:lnTo>
                  <a:lnTo>
                    <a:pt x="1152" y="663"/>
                  </a:lnTo>
                  <a:lnTo>
                    <a:pt x="1115" y="628"/>
                  </a:lnTo>
                  <a:lnTo>
                    <a:pt x="1103" y="596"/>
                  </a:lnTo>
                  <a:lnTo>
                    <a:pt x="1109" y="581"/>
                  </a:lnTo>
                  <a:lnTo>
                    <a:pt x="1147" y="539"/>
                  </a:lnTo>
                  <a:lnTo>
                    <a:pt x="1140" y="499"/>
                  </a:lnTo>
                  <a:lnTo>
                    <a:pt x="1153" y="466"/>
                  </a:lnTo>
                  <a:lnTo>
                    <a:pt x="1146" y="450"/>
                  </a:lnTo>
                  <a:lnTo>
                    <a:pt x="1095" y="424"/>
                  </a:lnTo>
                  <a:lnTo>
                    <a:pt x="1080" y="434"/>
                  </a:lnTo>
                  <a:lnTo>
                    <a:pt x="1058" y="452"/>
                  </a:lnTo>
                  <a:lnTo>
                    <a:pt x="1050" y="442"/>
                  </a:lnTo>
                  <a:lnTo>
                    <a:pt x="1013" y="346"/>
                  </a:lnTo>
                  <a:lnTo>
                    <a:pt x="997" y="330"/>
                  </a:lnTo>
                  <a:lnTo>
                    <a:pt x="937" y="283"/>
                  </a:lnTo>
                  <a:lnTo>
                    <a:pt x="875" y="213"/>
                  </a:lnTo>
                  <a:lnTo>
                    <a:pt x="874" y="193"/>
                  </a:lnTo>
                  <a:lnTo>
                    <a:pt x="856" y="147"/>
                  </a:lnTo>
                  <a:lnTo>
                    <a:pt x="854" y="99"/>
                  </a:lnTo>
                  <a:lnTo>
                    <a:pt x="864" y="71"/>
                  </a:lnTo>
                  <a:lnTo>
                    <a:pt x="864" y="59"/>
                  </a:lnTo>
                  <a:lnTo>
                    <a:pt x="801" y="0"/>
                  </a:lnTo>
                  <a:lnTo>
                    <a:pt x="0" y="24"/>
                  </a:lnTo>
                  <a:lnTo>
                    <a:pt x="14" y="48"/>
                  </a:lnTo>
                  <a:lnTo>
                    <a:pt x="33" y="70"/>
                  </a:lnTo>
                  <a:lnTo>
                    <a:pt x="41" y="105"/>
                  </a:lnTo>
                  <a:lnTo>
                    <a:pt x="68" y="139"/>
                  </a:lnTo>
                  <a:lnTo>
                    <a:pt x="83" y="146"/>
                  </a:lnTo>
                  <a:lnTo>
                    <a:pt x="75" y="177"/>
                  </a:lnTo>
                  <a:lnTo>
                    <a:pt x="80" y="184"/>
                  </a:lnTo>
                  <a:lnTo>
                    <a:pt x="168" y="250"/>
                  </a:lnTo>
                  <a:lnTo>
                    <a:pt x="141" y="282"/>
                  </a:lnTo>
                  <a:lnTo>
                    <a:pt x="135" y="314"/>
                  </a:lnTo>
                  <a:lnTo>
                    <a:pt x="149" y="334"/>
                  </a:lnTo>
                  <a:lnTo>
                    <a:pt x="171" y="343"/>
                  </a:lnTo>
                  <a:lnTo>
                    <a:pt x="183" y="387"/>
                  </a:lnTo>
                  <a:lnTo>
                    <a:pt x="206" y="403"/>
                  </a:lnTo>
                  <a:lnTo>
                    <a:pt x="225" y="409"/>
                  </a:lnTo>
                  <a:lnTo>
                    <a:pt x="234" y="414"/>
                  </a:lnTo>
                  <a:lnTo>
                    <a:pt x="239" y="990"/>
                  </a:lnTo>
                  <a:lnTo>
                    <a:pt x="241" y="1122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36960" y="4276800"/>
              <a:ext cx="631800" cy="549360"/>
            </a:xfrm>
            <a:custGeom>
              <a:avLst/>
              <a:gdLst/>
              <a:ahLst/>
              <a:rect l="l" t="t" r="r" b="b"/>
              <a:pathLst>
                <a:path w="1194" h="1040">
                  <a:moveTo>
                    <a:pt x="0" y="18"/>
                  </a:moveTo>
                  <a:lnTo>
                    <a:pt x="642" y="0"/>
                  </a:lnTo>
                  <a:lnTo>
                    <a:pt x="639" y="22"/>
                  </a:lnTo>
                  <a:lnTo>
                    <a:pt x="668" y="75"/>
                  </a:lnTo>
                  <a:lnTo>
                    <a:pt x="672" y="124"/>
                  </a:lnTo>
                  <a:lnTo>
                    <a:pt x="684" y="154"/>
                  </a:lnTo>
                  <a:lnTo>
                    <a:pt x="699" y="168"/>
                  </a:lnTo>
                  <a:lnTo>
                    <a:pt x="702" y="190"/>
                  </a:lnTo>
                  <a:lnTo>
                    <a:pt x="672" y="209"/>
                  </a:lnTo>
                  <a:lnTo>
                    <a:pt x="664" y="219"/>
                  </a:lnTo>
                  <a:lnTo>
                    <a:pt x="651" y="274"/>
                  </a:lnTo>
                  <a:lnTo>
                    <a:pt x="610" y="339"/>
                  </a:lnTo>
                  <a:lnTo>
                    <a:pt x="573" y="450"/>
                  </a:lnTo>
                  <a:lnTo>
                    <a:pt x="569" y="533"/>
                  </a:lnTo>
                  <a:lnTo>
                    <a:pt x="986" y="514"/>
                  </a:lnTo>
                  <a:lnTo>
                    <a:pt x="994" y="528"/>
                  </a:lnTo>
                  <a:lnTo>
                    <a:pt x="985" y="568"/>
                  </a:lnTo>
                  <a:lnTo>
                    <a:pt x="986" y="627"/>
                  </a:lnTo>
                  <a:lnTo>
                    <a:pt x="1030" y="670"/>
                  </a:lnTo>
                  <a:lnTo>
                    <a:pt x="1039" y="723"/>
                  </a:lnTo>
                  <a:lnTo>
                    <a:pt x="979" y="710"/>
                  </a:lnTo>
                  <a:lnTo>
                    <a:pt x="926" y="684"/>
                  </a:lnTo>
                  <a:lnTo>
                    <a:pt x="912" y="682"/>
                  </a:lnTo>
                  <a:lnTo>
                    <a:pt x="895" y="689"/>
                  </a:lnTo>
                  <a:lnTo>
                    <a:pt x="857" y="727"/>
                  </a:lnTo>
                  <a:lnTo>
                    <a:pt x="855" y="745"/>
                  </a:lnTo>
                  <a:lnTo>
                    <a:pt x="872" y="764"/>
                  </a:lnTo>
                  <a:lnTo>
                    <a:pt x="891" y="769"/>
                  </a:lnTo>
                  <a:lnTo>
                    <a:pt x="937" y="768"/>
                  </a:lnTo>
                  <a:lnTo>
                    <a:pt x="963" y="749"/>
                  </a:lnTo>
                  <a:lnTo>
                    <a:pt x="979" y="741"/>
                  </a:lnTo>
                  <a:lnTo>
                    <a:pt x="1006" y="743"/>
                  </a:lnTo>
                  <a:lnTo>
                    <a:pt x="1019" y="741"/>
                  </a:lnTo>
                  <a:lnTo>
                    <a:pt x="1021" y="748"/>
                  </a:lnTo>
                  <a:lnTo>
                    <a:pt x="1014" y="760"/>
                  </a:lnTo>
                  <a:lnTo>
                    <a:pt x="996" y="775"/>
                  </a:lnTo>
                  <a:lnTo>
                    <a:pt x="1001" y="790"/>
                  </a:lnTo>
                  <a:lnTo>
                    <a:pt x="1017" y="800"/>
                  </a:lnTo>
                  <a:lnTo>
                    <a:pt x="1033" y="802"/>
                  </a:lnTo>
                  <a:lnTo>
                    <a:pt x="1042" y="796"/>
                  </a:lnTo>
                  <a:lnTo>
                    <a:pt x="1059" y="761"/>
                  </a:lnTo>
                  <a:lnTo>
                    <a:pt x="1105" y="743"/>
                  </a:lnTo>
                  <a:lnTo>
                    <a:pt x="1121" y="735"/>
                  </a:lnTo>
                  <a:lnTo>
                    <a:pt x="1134" y="735"/>
                  </a:lnTo>
                  <a:lnTo>
                    <a:pt x="1143" y="748"/>
                  </a:lnTo>
                  <a:lnTo>
                    <a:pt x="1136" y="768"/>
                  </a:lnTo>
                  <a:lnTo>
                    <a:pt x="1143" y="777"/>
                  </a:lnTo>
                  <a:lnTo>
                    <a:pt x="1141" y="794"/>
                  </a:lnTo>
                  <a:lnTo>
                    <a:pt x="1120" y="805"/>
                  </a:lnTo>
                  <a:lnTo>
                    <a:pt x="1089" y="851"/>
                  </a:lnTo>
                  <a:lnTo>
                    <a:pt x="1052" y="875"/>
                  </a:lnTo>
                  <a:lnTo>
                    <a:pt x="1051" y="900"/>
                  </a:lnTo>
                  <a:lnTo>
                    <a:pt x="1061" y="918"/>
                  </a:lnTo>
                  <a:lnTo>
                    <a:pt x="1108" y="945"/>
                  </a:lnTo>
                  <a:lnTo>
                    <a:pt x="1187" y="977"/>
                  </a:lnTo>
                  <a:lnTo>
                    <a:pt x="1194" y="992"/>
                  </a:lnTo>
                  <a:lnTo>
                    <a:pt x="1188" y="1010"/>
                  </a:lnTo>
                  <a:lnTo>
                    <a:pt x="1175" y="1013"/>
                  </a:lnTo>
                  <a:lnTo>
                    <a:pt x="1112" y="1040"/>
                  </a:lnTo>
                  <a:lnTo>
                    <a:pt x="1105" y="991"/>
                  </a:lnTo>
                  <a:lnTo>
                    <a:pt x="1070" y="976"/>
                  </a:lnTo>
                  <a:lnTo>
                    <a:pt x="1002" y="949"/>
                  </a:lnTo>
                  <a:lnTo>
                    <a:pt x="992" y="926"/>
                  </a:lnTo>
                  <a:lnTo>
                    <a:pt x="980" y="918"/>
                  </a:lnTo>
                  <a:lnTo>
                    <a:pt x="963" y="926"/>
                  </a:lnTo>
                  <a:lnTo>
                    <a:pt x="951" y="975"/>
                  </a:lnTo>
                  <a:lnTo>
                    <a:pt x="959" y="981"/>
                  </a:lnTo>
                  <a:lnTo>
                    <a:pt x="959" y="992"/>
                  </a:lnTo>
                  <a:lnTo>
                    <a:pt x="926" y="1014"/>
                  </a:lnTo>
                  <a:lnTo>
                    <a:pt x="912" y="1012"/>
                  </a:lnTo>
                  <a:lnTo>
                    <a:pt x="891" y="985"/>
                  </a:lnTo>
                  <a:lnTo>
                    <a:pt x="881" y="983"/>
                  </a:lnTo>
                  <a:lnTo>
                    <a:pt x="859" y="992"/>
                  </a:lnTo>
                  <a:lnTo>
                    <a:pt x="847" y="981"/>
                  </a:lnTo>
                  <a:lnTo>
                    <a:pt x="838" y="983"/>
                  </a:lnTo>
                  <a:lnTo>
                    <a:pt x="806" y="1016"/>
                  </a:lnTo>
                  <a:lnTo>
                    <a:pt x="772" y="1018"/>
                  </a:lnTo>
                  <a:lnTo>
                    <a:pt x="758" y="1008"/>
                  </a:lnTo>
                  <a:lnTo>
                    <a:pt x="721" y="1002"/>
                  </a:lnTo>
                  <a:lnTo>
                    <a:pt x="667" y="932"/>
                  </a:lnTo>
                  <a:lnTo>
                    <a:pt x="633" y="926"/>
                  </a:lnTo>
                  <a:lnTo>
                    <a:pt x="602" y="912"/>
                  </a:lnTo>
                  <a:lnTo>
                    <a:pt x="590" y="894"/>
                  </a:lnTo>
                  <a:lnTo>
                    <a:pt x="583" y="890"/>
                  </a:lnTo>
                  <a:lnTo>
                    <a:pt x="579" y="888"/>
                  </a:lnTo>
                  <a:lnTo>
                    <a:pt x="576" y="882"/>
                  </a:lnTo>
                  <a:lnTo>
                    <a:pt x="579" y="871"/>
                  </a:lnTo>
                  <a:lnTo>
                    <a:pt x="564" y="866"/>
                  </a:lnTo>
                  <a:lnTo>
                    <a:pt x="556" y="871"/>
                  </a:lnTo>
                  <a:lnTo>
                    <a:pt x="531" y="866"/>
                  </a:lnTo>
                  <a:lnTo>
                    <a:pt x="527" y="862"/>
                  </a:lnTo>
                  <a:lnTo>
                    <a:pt x="522" y="846"/>
                  </a:lnTo>
                  <a:lnTo>
                    <a:pt x="506" y="847"/>
                  </a:lnTo>
                  <a:lnTo>
                    <a:pt x="463" y="886"/>
                  </a:lnTo>
                  <a:lnTo>
                    <a:pt x="484" y="910"/>
                  </a:lnTo>
                  <a:lnTo>
                    <a:pt x="476" y="914"/>
                  </a:lnTo>
                  <a:lnTo>
                    <a:pt x="407" y="919"/>
                  </a:lnTo>
                  <a:lnTo>
                    <a:pt x="287" y="898"/>
                  </a:lnTo>
                  <a:lnTo>
                    <a:pt x="220" y="869"/>
                  </a:lnTo>
                  <a:lnTo>
                    <a:pt x="63" y="895"/>
                  </a:lnTo>
                  <a:lnTo>
                    <a:pt x="53" y="884"/>
                  </a:lnTo>
                  <a:lnTo>
                    <a:pt x="49" y="866"/>
                  </a:lnTo>
                  <a:lnTo>
                    <a:pt x="55" y="857"/>
                  </a:lnTo>
                  <a:lnTo>
                    <a:pt x="62" y="844"/>
                  </a:lnTo>
                  <a:lnTo>
                    <a:pt x="78" y="823"/>
                  </a:lnTo>
                  <a:lnTo>
                    <a:pt x="99" y="764"/>
                  </a:lnTo>
                  <a:lnTo>
                    <a:pt x="84" y="743"/>
                  </a:lnTo>
                  <a:lnTo>
                    <a:pt x="84" y="723"/>
                  </a:lnTo>
                  <a:lnTo>
                    <a:pt x="87" y="710"/>
                  </a:lnTo>
                  <a:lnTo>
                    <a:pt x="85" y="695"/>
                  </a:lnTo>
                  <a:lnTo>
                    <a:pt x="93" y="661"/>
                  </a:lnTo>
                  <a:lnTo>
                    <a:pt x="109" y="648"/>
                  </a:lnTo>
                  <a:lnTo>
                    <a:pt x="118" y="621"/>
                  </a:lnTo>
                  <a:lnTo>
                    <a:pt x="127" y="574"/>
                  </a:lnTo>
                  <a:lnTo>
                    <a:pt x="127" y="545"/>
                  </a:lnTo>
                  <a:lnTo>
                    <a:pt x="118" y="503"/>
                  </a:lnTo>
                  <a:lnTo>
                    <a:pt x="101" y="476"/>
                  </a:lnTo>
                  <a:lnTo>
                    <a:pt x="94" y="470"/>
                  </a:lnTo>
                  <a:lnTo>
                    <a:pt x="97" y="453"/>
                  </a:lnTo>
                  <a:lnTo>
                    <a:pt x="88" y="442"/>
                  </a:lnTo>
                  <a:lnTo>
                    <a:pt x="78" y="418"/>
                  </a:lnTo>
                  <a:lnTo>
                    <a:pt x="62" y="406"/>
                  </a:lnTo>
                  <a:lnTo>
                    <a:pt x="56" y="397"/>
                  </a:lnTo>
                  <a:lnTo>
                    <a:pt x="68" y="370"/>
                  </a:lnTo>
                  <a:lnTo>
                    <a:pt x="47" y="331"/>
                  </a:lnTo>
                  <a:lnTo>
                    <a:pt x="15" y="301"/>
                  </a:lnTo>
                  <a:lnTo>
                    <a:pt x="5" y="28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65680" y="3774960"/>
              <a:ext cx="555480" cy="511200"/>
            </a:xfrm>
            <a:custGeom>
              <a:avLst/>
              <a:gdLst/>
              <a:ahLst/>
              <a:rect l="l" t="t" r="r" b="b"/>
              <a:pathLst>
                <a:path w="1051" h="966">
                  <a:moveTo>
                    <a:pt x="0" y="41"/>
                  </a:moveTo>
                  <a:lnTo>
                    <a:pt x="946" y="0"/>
                  </a:lnTo>
                  <a:lnTo>
                    <a:pt x="942" y="11"/>
                  </a:lnTo>
                  <a:lnTo>
                    <a:pt x="961" y="27"/>
                  </a:lnTo>
                  <a:lnTo>
                    <a:pt x="971" y="48"/>
                  </a:lnTo>
                  <a:lnTo>
                    <a:pt x="966" y="68"/>
                  </a:lnTo>
                  <a:lnTo>
                    <a:pt x="937" y="90"/>
                  </a:lnTo>
                  <a:lnTo>
                    <a:pt x="912" y="123"/>
                  </a:lnTo>
                  <a:lnTo>
                    <a:pt x="911" y="137"/>
                  </a:lnTo>
                  <a:lnTo>
                    <a:pt x="1051" y="130"/>
                  </a:lnTo>
                  <a:lnTo>
                    <a:pt x="1045" y="143"/>
                  </a:lnTo>
                  <a:lnTo>
                    <a:pt x="1050" y="156"/>
                  </a:lnTo>
                  <a:lnTo>
                    <a:pt x="1039" y="178"/>
                  </a:lnTo>
                  <a:lnTo>
                    <a:pt x="1013" y="206"/>
                  </a:lnTo>
                  <a:lnTo>
                    <a:pt x="1003" y="262"/>
                  </a:lnTo>
                  <a:lnTo>
                    <a:pt x="976" y="297"/>
                  </a:lnTo>
                  <a:lnTo>
                    <a:pt x="982" y="334"/>
                  </a:lnTo>
                  <a:lnTo>
                    <a:pt x="978" y="381"/>
                  </a:lnTo>
                  <a:lnTo>
                    <a:pt x="971" y="384"/>
                  </a:lnTo>
                  <a:lnTo>
                    <a:pt x="948" y="405"/>
                  </a:lnTo>
                  <a:lnTo>
                    <a:pt x="945" y="420"/>
                  </a:lnTo>
                  <a:lnTo>
                    <a:pt x="905" y="456"/>
                  </a:lnTo>
                  <a:lnTo>
                    <a:pt x="889" y="498"/>
                  </a:lnTo>
                  <a:lnTo>
                    <a:pt x="893" y="540"/>
                  </a:lnTo>
                  <a:lnTo>
                    <a:pt x="886" y="561"/>
                  </a:lnTo>
                  <a:lnTo>
                    <a:pt x="849" y="587"/>
                  </a:lnTo>
                  <a:lnTo>
                    <a:pt x="822" y="626"/>
                  </a:lnTo>
                  <a:lnTo>
                    <a:pt x="810" y="638"/>
                  </a:lnTo>
                  <a:lnTo>
                    <a:pt x="810" y="672"/>
                  </a:lnTo>
                  <a:lnTo>
                    <a:pt x="791" y="695"/>
                  </a:lnTo>
                  <a:lnTo>
                    <a:pt x="791" y="721"/>
                  </a:lnTo>
                  <a:lnTo>
                    <a:pt x="778" y="757"/>
                  </a:lnTo>
                  <a:lnTo>
                    <a:pt x="756" y="795"/>
                  </a:lnTo>
                  <a:lnTo>
                    <a:pt x="765" y="835"/>
                  </a:lnTo>
                  <a:lnTo>
                    <a:pt x="785" y="856"/>
                  </a:lnTo>
                  <a:lnTo>
                    <a:pt x="788" y="881"/>
                  </a:lnTo>
                  <a:lnTo>
                    <a:pt x="795" y="889"/>
                  </a:lnTo>
                  <a:lnTo>
                    <a:pt x="795" y="903"/>
                  </a:lnTo>
                  <a:lnTo>
                    <a:pt x="782" y="910"/>
                  </a:lnTo>
                  <a:lnTo>
                    <a:pt x="778" y="934"/>
                  </a:lnTo>
                  <a:lnTo>
                    <a:pt x="780" y="948"/>
                  </a:lnTo>
                  <a:lnTo>
                    <a:pt x="138" y="966"/>
                  </a:lnTo>
                  <a:lnTo>
                    <a:pt x="138" y="823"/>
                  </a:lnTo>
                  <a:lnTo>
                    <a:pt x="104" y="815"/>
                  </a:lnTo>
                  <a:lnTo>
                    <a:pt x="75" y="829"/>
                  </a:lnTo>
                  <a:lnTo>
                    <a:pt x="66" y="826"/>
                  </a:lnTo>
                  <a:lnTo>
                    <a:pt x="33" y="803"/>
                  </a:lnTo>
                  <a:lnTo>
                    <a:pt x="39" y="3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87880" y="2911320"/>
              <a:ext cx="444600" cy="789120"/>
            </a:xfrm>
            <a:custGeom>
              <a:avLst/>
              <a:gdLst/>
              <a:ahLst/>
              <a:rect l="l" t="t" r="r" b="b"/>
              <a:pathLst>
                <a:path w="839" h="1492">
                  <a:moveTo>
                    <a:pt x="692" y="0"/>
                  </a:moveTo>
                  <a:lnTo>
                    <a:pt x="141" y="36"/>
                  </a:lnTo>
                  <a:lnTo>
                    <a:pt x="150" y="52"/>
                  </a:lnTo>
                  <a:lnTo>
                    <a:pt x="189" y="80"/>
                  </a:lnTo>
                  <a:lnTo>
                    <a:pt x="195" y="103"/>
                  </a:lnTo>
                  <a:lnTo>
                    <a:pt x="231" y="126"/>
                  </a:lnTo>
                  <a:lnTo>
                    <a:pt x="246" y="171"/>
                  </a:lnTo>
                  <a:lnTo>
                    <a:pt x="245" y="193"/>
                  </a:lnTo>
                  <a:lnTo>
                    <a:pt x="231" y="221"/>
                  </a:lnTo>
                  <a:lnTo>
                    <a:pt x="216" y="234"/>
                  </a:lnTo>
                  <a:lnTo>
                    <a:pt x="216" y="259"/>
                  </a:lnTo>
                  <a:lnTo>
                    <a:pt x="182" y="297"/>
                  </a:lnTo>
                  <a:lnTo>
                    <a:pt x="150" y="309"/>
                  </a:lnTo>
                  <a:lnTo>
                    <a:pt x="140" y="316"/>
                  </a:lnTo>
                  <a:lnTo>
                    <a:pt x="97" y="319"/>
                  </a:lnTo>
                  <a:lnTo>
                    <a:pt x="79" y="332"/>
                  </a:lnTo>
                  <a:lnTo>
                    <a:pt x="65" y="358"/>
                  </a:lnTo>
                  <a:lnTo>
                    <a:pt x="69" y="382"/>
                  </a:lnTo>
                  <a:lnTo>
                    <a:pt x="94" y="407"/>
                  </a:lnTo>
                  <a:lnTo>
                    <a:pt x="101" y="421"/>
                  </a:lnTo>
                  <a:lnTo>
                    <a:pt x="94" y="464"/>
                  </a:lnTo>
                  <a:lnTo>
                    <a:pt x="63" y="530"/>
                  </a:lnTo>
                  <a:lnTo>
                    <a:pt x="34" y="547"/>
                  </a:lnTo>
                  <a:lnTo>
                    <a:pt x="22" y="570"/>
                  </a:lnTo>
                  <a:lnTo>
                    <a:pt x="26" y="591"/>
                  </a:lnTo>
                  <a:lnTo>
                    <a:pt x="10" y="612"/>
                  </a:lnTo>
                  <a:lnTo>
                    <a:pt x="10" y="623"/>
                  </a:lnTo>
                  <a:lnTo>
                    <a:pt x="0" y="651"/>
                  </a:lnTo>
                  <a:lnTo>
                    <a:pt x="3" y="701"/>
                  </a:lnTo>
                  <a:lnTo>
                    <a:pt x="21" y="745"/>
                  </a:lnTo>
                  <a:lnTo>
                    <a:pt x="22" y="765"/>
                  </a:lnTo>
                  <a:lnTo>
                    <a:pt x="84" y="836"/>
                  </a:lnTo>
                  <a:lnTo>
                    <a:pt x="144" y="883"/>
                  </a:lnTo>
                  <a:lnTo>
                    <a:pt x="160" y="899"/>
                  </a:lnTo>
                  <a:lnTo>
                    <a:pt x="197" y="994"/>
                  </a:lnTo>
                  <a:lnTo>
                    <a:pt x="205" y="1004"/>
                  </a:lnTo>
                  <a:lnTo>
                    <a:pt x="227" y="987"/>
                  </a:lnTo>
                  <a:lnTo>
                    <a:pt x="242" y="977"/>
                  </a:lnTo>
                  <a:lnTo>
                    <a:pt x="293" y="1002"/>
                  </a:lnTo>
                  <a:lnTo>
                    <a:pt x="300" y="1019"/>
                  </a:lnTo>
                  <a:lnTo>
                    <a:pt x="287" y="1051"/>
                  </a:lnTo>
                  <a:lnTo>
                    <a:pt x="294" y="1091"/>
                  </a:lnTo>
                  <a:lnTo>
                    <a:pt x="256" y="1134"/>
                  </a:lnTo>
                  <a:lnTo>
                    <a:pt x="250" y="1149"/>
                  </a:lnTo>
                  <a:lnTo>
                    <a:pt x="262" y="1181"/>
                  </a:lnTo>
                  <a:lnTo>
                    <a:pt x="299" y="1215"/>
                  </a:lnTo>
                  <a:lnTo>
                    <a:pt x="356" y="1249"/>
                  </a:lnTo>
                  <a:lnTo>
                    <a:pt x="386" y="1261"/>
                  </a:lnTo>
                  <a:lnTo>
                    <a:pt x="446" y="1313"/>
                  </a:lnTo>
                  <a:lnTo>
                    <a:pt x="458" y="1358"/>
                  </a:lnTo>
                  <a:lnTo>
                    <a:pt x="475" y="1383"/>
                  </a:lnTo>
                  <a:lnTo>
                    <a:pt x="472" y="1394"/>
                  </a:lnTo>
                  <a:lnTo>
                    <a:pt x="460" y="1410"/>
                  </a:lnTo>
                  <a:lnTo>
                    <a:pt x="458" y="1421"/>
                  </a:lnTo>
                  <a:lnTo>
                    <a:pt x="501" y="1492"/>
                  </a:lnTo>
                  <a:lnTo>
                    <a:pt x="509" y="1489"/>
                  </a:lnTo>
                  <a:lnTo>
                    <a:pt x="511" y="1478"/>
                  </a:lnTo>
                  <a:lnTo>
                    <a:pt x="525" y="1478"/>
                  </a:lnTo>
                  <a:lnTo>
                    <a:pt x="529" y="1484"/>
                  </a:lnTo>
                  <a:lnTo>
                    <a:pt x="541" y="1438"/>
                  </a:lnTo>
                  <a:lnTo>
                    <a:pt x="567" y="1425"/>
                  </a:lnTo>
                  <a:lnTo>
                    <a:pt x="603" y="1431"/>
                  </a:lnTo>
                  <a:lnTo>
                    <a:pt x="627" y="1446"/>
                  </a:lnTo>
                  <a:lnTo>
                    <a:pt x="654" y="1463"/>
                  </a:lnTo>
                  <a:lnTo>
                    <a:pt x="683" y="1450"/>
                  </a:lnTo>
                  <a:lnTo>
                    <a:pt x="670" y="1396"/>
                  </a:lnTo>
                  <a:lnTo>
                    <a:pt x="668" y="1366"/>
                  </a:lnTo>
                  <a:lnTo>
                    <a:pt x="686" y="1358"/>
                  </a:lnTo>
                  <a:lnTo>
                    <a:pt x="751" y="1339"/>
                  </a:lnTo>
                  <a:lnTo>
                    <a:pt x="755" y="1333"/>
                  </a:lnTo>
                  <a:lnTo>
                    <a:pt x="734" y="1306"/>
                  </a:lnTo>
                  <a:lnTo>
                    <a:pt x="731" y="1299"/>
                  </a:lnTo>
                  <a:lnTo>
                    <a:pt x="740" y="1293"/>
                  </a:lnTo>
                  <a:lnTo>
                    <a:pt x="744" y="1272"/>
                  </a:lnTo>
                  <a:lnTo>
                    <a:pt x="753" y="1259"/>
                  </a:lnTo>
                  <a:lnTo>
                    <a:pt x="749" y="1254"/>
                  </a:lnTo>
                  <a:lnTo>
                    <a:pt x="747" y="1244"/>
                  </a:lnTo>
                  <a:lnTo>
                    <a:pt x="747" y="1233"/>
                  </a:lnTo>
                  <a:lnTo>
                    <a:pt x="759" y="1186"/>
                  </a:lnTo>
                  <a:lnTo>
                    <a:pt x="759" y="1145"/>
                  </a:lnTo>
                  <a:lnTo>
                    <a:pt x="790" y="1116"/>
                  </a:lnTo>
                  <a:lnTo>
                    <a:pt x="810" y="1072"/>
                  </a:lnTo>
                  <a:lnTo>
                    <a:pt x="812" y="1056"/>
                  </a:lnTo>
                  <a:lnTo>
                    <a:pt x="839" y="1003"/>
                  </a:lnTo>
                  <a:lnTo>
                    <a:pt x="831" y="946"/>
                  </a:lnTo>
                  <a:lnTo>
                    <a:pt x="808" y="899"/>
                  </a:lnTo>
                  <a:lnTo>
                    <a:pt x="816" y="865"/>
                  </a:lnTo>
                  <a:lnTo>
                    <a:pt x="812" y="842"/>
                  </a:lnTo>
                  <a:lnTo>
                    <a:pt x="820" y="833"/>
                  </a:lnTo>
                  <a:lnTo>
                    <a:pt x="768" y="202"/>
                  </a:lnTo>
                  <a:lnTo>
                    <a:pt x="756" y="193"/>
                  </a:lnTo>
                  <a:lnTo>
                    <a:pt x="749" y="179"/>
                  </a:lnTo>
                  <a:lnTo>
                    <a:pt x="736" y="120"/>
                  </a:lnTo>
                  <a:lnTo>
                    <a:pt x="727" y="103"/>
                  </a:lnTo>
                  <a:lnTo>
                    <a:pt x="709" y="86"/>
                  </a:lnTo>
                  <a:lnTo>
                    <a:pt x="692" y="48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59480" y="2414520"/>
              <a:ext cx="433080" cy="593640"/>
            </a:xfrm>
            <a:custGeom>
              <a:avLst/>
              <a:gdLst/>
              <a:ahLst/>
              <a:rect l="l" t="t" r="r" b="b"/>
              <a:pathLst>
                <a:path w="819" h="1121">
                  <a:moveTo>
                    <a:pt x="0" y="1121"/>
                  </a:moveTo>
                  <a:lnTo>
                    <a:pt x="408" y="1073"/>
                  </a:lnTo>
                  <a:lnTo>
                    <a:pt x="410" y="1086"/>
                  </a:lnTo>
                  <a:lnTo>
                    <a:pt x="669" y="1048"/>
                  </a:lnTo>
                  <a:lnTo>
                    <a:pt x="670" y="1037"/>
                  </a:lnTo>
                  <a:lnTo>
                    <a:pt x="704" y="975"/>
                  </a:lnTo>
                  <a:lnTo>
                    <a:pt x="714" y="957"/>
                  </a:lnTo>
                  <a:lnTo>
                    <a:pt x="713" y="917"/>
                  </a:lnTo>
                  <a:lnTo>
                    <a:pt x="724" y="882"/>
                  </a:lnTo>
                  <a:lnTo>
                    <a:pt x="759" y="856"/>
                  </a:lnTo>
                  <a:lnTo>
                    <a:pt x="759" y="824"/>
                  </a:lnTo>
                  <a:lnTo>
                    <a:pt x="764" y="813"/>
                  </a:lnTo>
                  <a:lnTo>
                    <a:pt x="766" y="796"/>
                  </a:lnTo>
                  <a:lnTo>
                    <a:pt x="783" y="780"/>
                  </a:lnTo>
                  <a:lnTo>
                    <a:pt x="792" y="796"/>
                  </a:lnTo>
                  <a:lnTo>
                    <a:pt x="799" y="799"/>
                  </a:lnTo>
                  <a:lnTo>
                    <a:pt x="810" y="793"/>
                  </a:lnTo>
                  <a:lnTo>
                    <a:pt x="818" y="782"/>
                  </a:lnTo>
                  <a:lnTo>
                    <a:pt x="819" y="765"/>
                  </a:lnTo>
                  <a:lnTo>
                    <a:pt x="813" y="730"/>
                  </a:lnTo>
                  <a:lnTo>
                    <a:pt x="819" y="682"/>
                  </a:lnTo>
                  <a:lnTo>
                    <a:pt x="805" y="655"/>
                  </a:lnTo>
                  <a:lnTo>
                    <a:pt x="797" y="589"/>
                  </a:lnTo>
                  <a:lnTo>
                    <a:pt x="738" y="438"/>
                  </a:lnTo>
                  <a:lnTo>
                    <a:pt x="682" y="420"/>
                  </a:lnTo>
                  <a:lnTo>
                    <a:pt x="658" y="436"/>
                  </a:lnTo>
                  <a:lnTo>
                    <a:pt x="632" y="462"/>
                  </a:lnTo>
                  <a:lnTo>
                    <a:pt x="563" y="563"/>
                  </a:lnTo>
                  <a:lnTo>
                    <a:pt x="556" y="563"/>
                  </a:lnTo>
                  <a:lnTo>
                    <a:pt x="550" y="559"/>
                  </a:lnTo>
                  <a:lnTo>
                    <a:pt x="522" y="548"/>
                  </a:lnTo>
                  <a:lnTo>
                    <a:pt x="513" y="540"/>
                  </a:lnTo>
                  <a:lnTo>
                    <a:pt x="505" y="519"/>
                  </a:lnTo>
                  <a:lnTo>
                    <a:pt x="511" y="474"/>
                  </a:lnTo>
                  <a:lnTo>
                    <a:pt x="525" y="458"/>
                  </a:lnTo>
                  <a:lnTo>
                    <a:pt x="558" y="436"/>
                  </a:lnTo>
                  <a:lnTo>
                    <a:pt x="568" y="418"/>
                  </a:lnTo>
                  <a:lnTo>
                    <a:pt x="568" y="405"/>
                  </a:lnTo>
                  <a:lnTo>
                    <a:pt x="574" y="386"/>
                  </a:lnTo>
                  <a:lnTo>
                    <a:pt x="588" y="375"/>
                  </a:lnTo>
                  <a:lnTo>
                    <a:pt x="604" y="344"/>
                  </a:lnTo>
                  <a:lnTo>
                    <a:pt x="604" y="277"/>
                  </a:lnTo>
                  <a:lnTo>
                    <a:pt x="594" y="244"/>
                  </a:lnTo>
                  <a:lnTo>
                    <a:pt x="584" y="224"/>
                  </a:lnTo>
                  <a:lnTo>
                    <a:pt x="563" y="199"/>
                  </a:lnTo>
                  <a:lnTo>
                    <a:pt x="557" y="187"/>
                  </a:lnTo>
                  <a:lnTo>
                    <a:pt x="560" y="169"/>
                  </a:lnTo>
                  <a:lnTo>
                    <a:pt x="584" y="163"/>
                  </a:lnTo>
                  <a:lnTo>
                    <a:pt x="587" y="157"/>
                  </a:lnTo>
                  <a:lnTo>
                    <a:pt x="560" y="106"/>
                  </a:lnTo>
                  <a:lnTo>
                    <a:pt x="537" y="96"/>
                  </a:lnTo>
                  <a:lnTo>
                    <a:pt x="468" y="69"/>
                  </a:lnTo>
                  <a:lnTo>
                    <a:pt x="418" y="58"/>
                  </a:lnTo>
                  <a:lnTo>
                    <a:pt x="402" y="40"/>
                  </a:lnTo>
                  <a:lnTo>
                    <a:pt x="362" y="30"/>
                  </a:lnTo>
                  <a:lnTo>
                    <a:pt x="326" y="20"/>
                  </a:lnTo>
                  <a:lnTo>
                    <a:pt x="299" y="0"/>
                  </a:lnTo>
                  <a:lnTo>
                    <a:pt x="282" y="15"/>
                  </a:lnTo>
                  <a:lnTo>
                    <a:pt x="260" y="22"/>
                  </a:lnTo>
                  <a:lnTo>
                    <a:pt x="240" y="58"/>
                  </a:lnTo>
                  <a:lnTo>
                    <a:pt x="240" y="90"/>
                  </a:lnTo>
                  <a:lnTo>
                    <a:pt x="244" y="100"/>
                  </a:lnTo>
                  <a:lnTo>
                    <a:pt x="252" y="103"/>
                  </a:lnTo>
                  <a:lnTo>
                    <a:pt x="256" y="114"/>
                  </a:lnTo>
                  <a:lnTo>
                    <a:pt x="246" y="118"/>
                  </a:lnTo>
                  <a:lnTo>
                    <a:pt x="232" y="124"/>
                  </a:lnTo>
                  <a:lnTo>
                    <a:pt x="219" y="134"/>
                  </a:lnTo>
                  <a:lnTo>
                    <a:pt x="203" y="154"/>
                  </a:lnTo>
                  <a:lnTo>
                    <a:pt x="193" y="179"/>
                  </a:lnTo>
                  <a:lnTo>
                    <a:pt x="194" y="210"/>
                  </a:lnTo>
                  <a:lnTo>
                    <a:pt x="200" y="236"/>
                  </a:lnTo>
                  <a:lnTo>
                    <a:pt x="183" y="268"/>
                  </a:lnTo>
                  <a:lnTo>
                    <a:pt x="159" y="279"/>
                  </a:lnTo>
                  <a:lnTo>
                    <a:pt x="153" y="258"/>
                  </a:lnTo>
                  <a:lnTo>
                    <a:pt x="165" y="230"/>
                  </a:lnTo>
                  <a:lnTo>
                    <a:pt x="155" y="204"/>
                  </a:lnTo>
                  <a:lnTo>
                    <a:pt x="159" y="191"/>
                  </a:lnTo>
                  <a:lnTo>
                    <a:pt x="155" y="182"/>
                  </a:lnTo>
                  <a:lnTo>
                    <a:pt x="146" y="188"/>
                  </a:lnTo>
                  <a:lnTo>
                    <a:pt x="134" y="209"/>
                  </a:lnTo>
                  <a:lnTo>
                    <a:pt x="130" y="235"/>
                  </a:lnTo>
                  <a:lnTo>
                    <a:pt x="120" y="250"/>
                  </a:lnTo>
                  <a:lnTo>
                    <a:pt x="107" y="249"/>
                  </a:lnTo>
                  <a:lnTo>
                    <a:pt x="83" y="270"/>
                  </a:lnTo>
                  <a:lnTo>
                    <a:pt x="73" y="289"/>
                  </a:lnTo>
                  <a:lnTo>
                    <a:pt x="71" y="304"/>
                  </a:lnTo>
                  <a:lnTo>
                    <a:pt x="49" y="329"/>
                  </a:lnTo>
                  <a:lnTo>
                    <a:pt x="46" y="370"/>
                  </a:lnTo>
                  <a:lnTo>
                    <a:pt x="44" y="418"/>
                  </a:lnTo>
                  <a:lnTo>
                    <a:pt x="40" y="446"/>
                  </a:lnTo>
                  <a:lnTo>
                    <a:pt x="26" y="480"/>
                  </a:lnTo>
                  <a:lnTo>
                    <a:pt x="11" y="502"/>
                  </a:lnTo>
                  <a:lnTo>
                    <a:pt x="12" y="522"/>
                  </a:lnTo>
                  <a:lnTo>
                    <a:pt x="31" y="582"/>
                  </a:lnTo>
                  <a:lnTo>
                    <a:pt x="21" y="619"/>
                  </a:lnTo>
                  <a:lnTo>
                    <a:pt x="36" y="648"/>
                  </a:lnTo>
                  <a:lnTo>
                    <a:pt x="74" y="729"/>
                  </a:lnTo>
                  <a:lnTo>
                    <a:pt x="99" y="792"/>
                  </a:lnTo>
                  <a:lnTo>
                    <a:pt x="100" y="845"/>
                  </a:lnTo>
                  <a:lnTo>
                    <a:pt x="113" y="857"/>
                  </a:lnTo>
                  <a:lnTo>
                    <a:pt x="113" y="866"/>
                  </a:lnTo>
                  <a:lnTo>
                    <a:pt x="106" y="876"/>
                  </a:lnTo>
                  <a:lnTo>
                    <a:pt x="98" y="931"/>
                  </a:lnTo>
                  <a:lnTo>
                    <a:pt x="89" y="971"/>
                  </a:lnTo>
                  <a:lnTo>
                    <a:pt x="73" y="1011"/>
                  </a:lnTo>
                  <a:lnTo>
                    <a:pt x="37" y="1087"/>
                  </a:lnTo>
                  <a:lnTo>
                    <a:pt x="11" y="1112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76920" y="2894040"/>
              <a:ext cx="466560" cy="525600"/>
            </a:xfrm>
            <a:custGeom>
              <a:avLst/>
              <a:gdLst/>
              <a:ahLst/>
              <a:rect l="l" t="t" r="r" b="b"/>
              <a:pathLst>
                <a:path w="882" h="993">
                  <a:moveTo>
                    <a:pt x="0" y="179"/>
                  </a:moveTo>
                  <a:lnTo>
                    <a:pt x="80" y="865"/>
                  </a:lnTo>
                  <a:lnTo>
                    <a:pt x="97" y="864"/>
                  </a:lnTo>
                  <a:lnTo>
                    <a:pt x="116" y="877"/>
                  </a:lnTo>
                  <a:lnTo>
                    <a:pt x="130" y="877"/>
                  </a:lnTo>
                  <a:lnTo>
                    <a:pt x="152" y="864"/>
                  </a:lnTo>
                  <a:lnTo>
                    <a:pt x="194" y="894"/>
                  </a:lnTo>
                  <a:lnTo>
                    <a:pt x="209" y="931"/>
                  </a:lnTo>
                  <a:lnTo>
                    <a:pt x="241" y="946"/>
                  </a:lnTo>
                  <a:lnTo>
                    <a:pt x="283" y="942"/>
                  </a:lnTo>
                  <a:lnTo>
                    <a:pt x="326" y="971"/>
                  </a:lnTo>
                  <a:lnTo>
                    <a:pt x="343" y="952"/>
                  </a:lnTo>
                  <a:lnTo>
                    <a:pt x="356" y="946"/>
                  </a:lnTo>
                  <a:lnTo>
                    <a:pt x="395" y="962"/>
                  </a:lnTo>
                  <a:lnTo>
                    <a:pt x="425" y="959"/>
                  </a:lnTo>
                  <a:lnTo>
                    <a:pt x="430" y="952"/>
                  </a:lnTo>
                  <a:lnTo>
                    <a:pt x="446" y="945"/>
                  </a:lnTo>
                  <a:lnTo>
                    <a:pt x="450" y="931"/>
                  </a:lnTo>
                  <a:lnTo>
                    <a:pt x="476" y="914"/>
                  </a:lnTo>
                  <a:lnTo>
                    <a:pt x="489" y="930"/>
                  </a:lnTo>
                  <a:lnTo>
                    <a:pt x="507" y="961"/>
                  </a:lnTo>
                  <a:lnTo>
                    <a:pt x="533" y="965"/>
                  </a:lnTo>
                  <a:lnTo>
                    <a:pt x="554" y="982"/>
                  </a:lnTo>
                  <a:lnTo>
                    <a:pt x="564" y="993"/>
                  </a:lnTo>
                  <a:lnTo>
                    <a:pt x="590" y="990"/>
                  </a:lnTo>
                  <a:lnTo>
                    <a:pt x="611" y="953"/>
                  </a:lnTo>
                  <a:lnTo>
                    <a:pt x="623" y="943"/>
                  </a:lnTo>
                  <a:lnTo>
                    <a:pt x="626" y="914"/>
                  </a:lnTo>
                  <a:lnTo>
                    <a:pt x="623" y="883"/>
                  </a:lnTo>
                  <a:lnTo>
                    <a:pt x="644" y="820"/>
                  </a:lnTo>
                  <a:lnTo>
                    <a:pt x="661" y="820"/>
                  </a:lnTo>
                  <a:lnTo>
                    <a:pt x="678" y="851"/>
                  </a:lnTo>
                  <a:lnTo>
                    <a:pt x="703" y="823"/>
                  </a:lnTo>
                  <a:lnTo>
                    <a:pt x="695" y="793"/>
                  </a:lnTo>
                  <a:lnTo>
                    <a:pt x="716" y="747"/>
                  </a:lnTo>
                  <a:lnTo>
                    <a:pt x="733" y="729"/>
                  </a:lnTo>
                  <a:lnTo>
                    <a:pt x="736" y="717"/>
                  </a:lnTo>
                  <a:lnTo>
                    <a:pt x="752" y="700"/>
                  </a:lnTo>
                  <a:lnTo>
                    <a:pt x="770" y="704"/>
                  </a:lnTo>
                  <a:lnTo>
                    <a:pt x="793" y="697"/>
                  </a:lnTo>
                  <a:lnTo>
                    <a:pt x="796" y="688"/>
                  </a:lnTo>
                  <a:lnTo>
                    <a:pt x="833" y="643"/>
                  </a:lnTo>
                  <a:lnTo>
                    <a:pt x="844" y="639"/>
                  </a:lnTo>
                  <a:lnTo>
                    <a:pt x="868" y="616"/>
                  </a:lnTo>
                  <a:lnTo>
                    <a:pt x="866" y="586"/>
                  </a:lnTo>
                  <a:lnTo>
                    <a:pt x="861" y="571"/>
                  </a:lnTo>
                  <a:lnTo>
                    <a:pt x="861" y="552"/>
                  </a:lnTo>
                  <a:lnTo>
                    <a:pt x="869" y="527"/>
                  </a:lnTo>
                  <a:lnTo>
                    <a:pt x="882" y="433"/>
                  </a:lnTo>
                  <a:lnTo>
                    <a:pt x="844" y="413"/>
                  </a:lnTo>
                  <a:lnTo>
                    <a:pt x="874" y="388"/>
                  </a:lnTo>
                  <a:lnTo>
                    <a:pt x="865" y="360"/>
                  </a:lnTo>
                  <a:lnTo>
                    <a:pt x="878" y="347"/>
                  </a:lnTo>
                  <a:lnTo>
                    <a:pt x="882" y="352"/>
                  </a:lnTo>
                  <a:lnTo>
                    <a:pt x="823" y="0"/>
                  </a:lnTo>
                  <a:lnTo>
                    <a:pt x="723" y="50"/>
                  </a:lnTo>
                  <a:lnTo>
                    <a:pt x="678" y="79"/>
                  </a:lnTo>
                  <a:lnTo>
                    <a:pt x="661" y="92"/>
                  </a:lnTo>
                  <a:lnTo>
                    <a:pt x="604" y="155"/>
                  </a:lnTo>
                  <a:lnTo>
                    <a:pt x="584" y="164"/>
                  </a:lnTo>
                  <a:lnTo>
                    <a:pt x="569" y="163"/>
                  </a:lnTo>
                  <a:lnTo>
                    <a:pt x="537" y="163"/>
                  </a:lnTo>
                  <a:lnTo>
                    <a:pt x="516" y="170"/>
                  </a:lnTo>
                  <a:lnTo>
                    <a:pt x="470" y="208"/>
                  </a:lnTo>
                  <a:lnTo>
                    <a:pt x="452" y="205"/>
                  </a:lnTo>
                  <a:lnTo>
                    <a:pt x="413" y="191"/>
                  </a:lnTo>
                  <a:lnTo>
                    <a:pt x="403" y="197"/>
                  </a:lnTo>
                  <a:lnTo>
                    <a:pt x="389" y="195"/>
                  </a:lnTo>
                  <a:lnTo>
                    <a:pt x="400" y="179"/>
                  </a:lnTo>
                  <a:lnTo>
                    <a:pt x="391" y="176"/>
                  </a:lnTo>
                  <a:lnTo>
                    <a:pt x="361" y="172"/>
                  </a:lnTo>
                  <a:lnTo>
                    <a:pt x="301" y="151"/>
                  </a:lnTo>
                  <a:lnTo>
                    <a:pt x="288" y="145"/>
                  </a:lnTo>
                  <a:lnTo>
                    <a:pt x="259" y="154"/>
                  </a:lnTo>
                  <a:lnTo>
                    <a:pt x="259" y="14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14720" y="2305080"/>
              <a:ext cx="587520" cy="625320"/>
            </a:xfrm>
            <a:custGeom>
              <a:avLst/>
              <a:gdLst/>
              <a:ahLst/>
              <a:rect l="l" t="t" r="r" b="b"/>
              <a:pathLst>
                <a:path w="1110" h="1183">
                  <a:moveTo>
                    <a:pt x="470" y="1183"/>
                  </a:moveTo>
                  <a:lnTo>
                    <a:pt x="463" y="1159"/>
                  </a:lnTo>
                  <a:lnTo>
                    <a:pt x="443" y="1141"/>
                  </a:lnTo>
                  <a:lnTo>
                    <a:pt x="383" y="1120"/>
                  </a:lnTo>
                  <a:lnTo>
                    <a:pt x="365" y="1047"/>
                  </a:lnTo>
                  <a:lnTo>
                    <a:pt x="354" y="1013"/>
                  </a:lnTo>
                  <a:lnTo>
                    <a:pt x="371" y="990"/>
                  </a:lnTo>
                  <a:lnTo>
                    <a:pt x="371" y="973"/>
                  </a:lnTo>
                  <a:lnTo>
                    <a:pt x="349" y="951"/>
                  </a:lnTo>
                  <a:lnTo>
                    <a:pt x="337" y="920"/>
                  </a:lnTo>
                  <a:lnTo>
                    <a:pt x="332" y="870"/>
                  </a:lnTo>
                  <a:lnTo>
                    <a:pt x="332" y="836"/>
                  </a:lnTo>
                  <a:lnTo>
                    <a:pt x="324" y="823"/>
                  </a:lnTo>
                  <a:lnTo>
                    <a:pt x="266" y="782"/>
                  </a:lnTo>
                  <a:lnTo>
                    <a:pt x="213" y="740"/>
                  </a:lnTo>
                  <a:lnTo>
                    <a:pt x="193" y="701"/>
                  </a:lnTo>
                  <a:lnTo>
                    <a:pt x="135" y="674"/>
                  </a:lnTo>
                  <a:lnTo>
                    <a:pt x="124" y="668"/>
                  </a:lnTo>
                  <a:lnTo>
                    <a:pt x="121" y="654"/>
                  </a:lnTo>
                  <a:lnTo>
                    <a:pt x="114" y="646"/>
                  </a:lnTo>
                  <a:lnTo>
                    <a:pt x="64" y="640"/>
                  </a:lnTo>
                  <a:lnTo>
                    <a:pt x="59" y="628"/>
                  </a:lnTo>
                  <a:lnTo>
                    <a:pt x="38" y="615"/>
                  </a:lnTo>
                  <a:lnTo>
                    <a:pt x="27" y="598"/>
                  </a:lnTo>
                  <a:lnTo>
                    <a:pt x="27" y="527"/>
                  </a:lnTo>
                  <a:lnTo>
                    <a:pt x="33" y="482"/>
                  </a:lnTo>
                  <a:lnTo>
                    <a:pt x="29" y="457"/>
                  </a:lnTo>
                  <a:lnTo>
                    <a:pt x="46" y="427"/>
                  </a:lnTo>
                  <a:lnTo>
                    <a:pt x="27" y="393"/>
                  </a:lnTo>
                  <a:lnTo>
                    <a:pt x="0" y="377"/>
                  </a:lnTo>
                  <a:lnTo>
                    <a:pt x="13" y="339"/>
                  </a:lnTo>
                  <a:lnTo>
                    <a:pt x="20" y="332"/>
                  </a:lnTo>
                  <a:lnTo>
                    <a:pt x="20" y="308"/>
                  </a:lnTo>
                  <a:lnTo>
                    <a:pt x="76" y="263"/>
                  </a:lnTo>
                  <a:lnTo>
                    <a:pt x="93" y="257"/>
                  </a:lnTo>
                  <a:lnTo>
                    <a:pt x="109" y="241"/>
                  </a:lnTo>
                  <a:lnTo>
                    <a:pt x="102" y="97"/>
                  </a:lnTo>
                  <a:lnTo>
                    <a:pt x="115" y="87"/>
                  </a:lnTo>
                  <a:lnTo>
                    <a:pt x="128" y="67"/>
                  </a:lnTo>
                  <a:lnTo>
                    <a:pt x="149" y="77"/>
                  </a:lnTo>
                  <a:lnTo>
                    <a:pt x="173" y="82"/>
                  </a:lnTo>
                  <a:lnTo>
                    <a:pt x="206" y="78"/>
                  </a:lnTo>
                  <a:lnTo>
                    <a:pt x="257" y="49"/>
                  </a:lnTo>
                  <a:lnTo>
                    <a:pt x="348" y="2"/>
                  </a:lnTo>
                  <a:lnTo>
                    <a:pt x="365" y="0"/>
                  </a:lnTo>
                  <a:lnTo>
                    <a:pt x="373" y="6"/>
                  </a:lnTo>
                  <a:lnTo>
                    <a:pt x="373" y="30"/>
                  </a:lnTo>
                  <a:lnTo>
                    <a:pt x="365" y="45"/>
                  </a:lnTo>
                  <a:lnTo>
                    <a:pt x="363" y="55"/>
                  </a:lnTo>
                  <a:lnTo>
                    <a:pt x="351" y="93"/>
                  </a:lnTo>
                  <a:lnTo>
                    <a:pt x="388" y="74"/>
                  </a:lnTo>
                  <a:lnTo>
                    <a:pt x="406" y="76"/>
                  </a:lnTo>
                  <a:lnTo>
                    <a:pt x="428" y="97"/>
                  </a:lnTo>
                  <a:lnTo>
                    <a:pt x="449" y="94"/>
                  </a:lnTo>
                  <a:lnTo>
                    <a:pt x="459" y="108"/>
                  </a:lnTo>
                  <a:lnTo>
                    <a:pt x="484" y="112"/>
                  </a:lnTo>
                  <a:lnTo>
                    <a:pt x="500" y="122"/>
                  </a:lnTo>
                  <a:lnTo>
                    <a:pt x="508" y="154"/>
                  </a:lnTo>
                  <a:lnTo>
                    <a:pt x="521" y="160"/>
                  </a:lnTo>
                  <a:lnTo>
                    <a:pt x="693" y="196"/>
                  </a:lnTo>
                  <a:lnTo>
                    <a:pt x="716" y="196"/>
                  </a:lnTo>
                  <a:lnTo>
                    <a:pt x="754" y="226"/>
                  </a:lnTo>
                  <a:lnTo>
                    <a:pt x="779" y="224"/>
                  </a:lnTo>
                  <a:lnTo>
                    <a:pt x="786" y="235"/>
                  </a:lnTo>
                  <a:lnTo>
                    <a:pt x="793" y="228"/>
                  </a:lnTo>
                  <a:lnTo>
                    <a:pt x="807" y="226"/>
                  </a:lnTo>
                  <a:lnTo>
                    <a:pt x="849" y="234"/>
                  </a:lnTo>
                  <a:lnTo>
                    <a:pt x="878" y="244"/>
                  </a:lnTo>
                  <a:lnTo>
                    <a:pt x="890" y="253"/>
                  </a:lnTo>
                  <a:lnTo>
                    <a:pt x="884" y="260"/>
                  </a:lnTo>
                  <a:lnTo>
                    <a:pt x="883" y="269"/>
                  </a:lnTo>
                  <a:lnTo>
                    <a:pt x="911" y="277"/>
                  </a:lnTo>
                  <a:lnTo>
                    <a:pt x="946" y="293"/>
                  </a:lnTo>
                  <a:lnTo>
                    <a:pt x="948" y="318"/>
                  </a:lnTo>
                  <a:lnTo>
                    <a:pt x="940" y="383"/>
                  </a:lnTo>
                  <a:lnTo>
                    <a:pt x="947" y="386"/>
                  </a:lnTo>
                  <a:lnTo>
                    <a:pt x="977" y="380"/>
                  </a:lnTo>
                  <a:lnTo>
                    <a:pt x="983" y="383"/>
                  </a:lnTo>
                  <a:lnTo>
                    <a:pt x="979" y="399"/>
                  </a:lnTo>
                  <a:lnTo>
                    <a:pt x="968" y="412"/>
                  </a:lnTo>
                  <a:lnTo>
                    <a:pt x="977" y="438"/>
                  </a:lnTo>
                  <a:lnTo>
                    <a:pt x="1006" y="457"/>
                  </a:lnTo>
                  <a:lnTo>
                    <a:pt x="999" y="462"/>
                  </a:lnTo>
                  <a:lnTo>
                    <a:pt x="960" y="501"/>
                  </a:lnTo>
                  <a:lnTo>
                    <a:pt x="937" y="553"/>
                  </a:lnTo>
                  <a:lnTo>
                    <a:pt x="927" y="585"/>
                  </a:lnTo>
                  <a:lnTo>
                    <a:pt x="924" y="603"/>
                  </a:lnTo>
                  <a:lnTo>
                    <a:pt x="932" y="610"/>
                  </a:lnTo>
                  <a:lnTo>
                    <a:pt x="960" y="594"/>
                  </a:lnTo>
                  <a:lnTo>
                    <a:pt x="991" y="537"/>
                  </a:lnTo>
                  <a:lnTo>
                    <a:pt x="1025" y="509"/>
                  </a:lnTo>
                  <a:lnTo>
                    <a:pt x="1042" y="501"/>
                  </a:lnTo>
                  <a:lnTo>
                    <a:pt x="1048" y="487"/>
                  </a:lnTo>
                  <a:lnTo>
                    <a:pt x="1062" y="472"/>
                  </a:lnTo>
                  <a:lnTo>
                    <a:pt x="1068" y="457"/>
                  </a:lnTo>
                  <a:lnTo>
                    <a:pt x="1066" y="438"/>
                  </a:lnTo>
                  <a:lnTo>
                    <a:pt x="1072" y="422"/>
                  </a:lnTo>
                  <a:lnTo>
                    <a:pt x="1079" y="417"/>
                  </a:lnTo>
                  <a:lnTo>
                    <a:pt x="1086" y="401"/>
                  </a:lnTo>
                  <a:lnTo>
                    <a:pt x="1095" y="392"/>
                  </a:lnTo>
                  <a:lnTo>
                    <a:pt x="1104" y="391"/>
                  </a:lnTo>
                  <a:lnTo>
                    <a:pt x="1110" y="403"/>
                  </a:lnTo>
                  <a:lnTo>
                    <a:pt x="1107" y="433"/>
                  </a:lnTo>
                  <a:lnTo>
                    <a:pt x="1080" y="501"/>
                  </a:lnTo>
                  <a:lnTo>
                    <a:pt x="1066" y="520"/>
                  </a:lnTo>
                  <a:lnTo>
                    <a:pt x="1059" y="541"/>
                  </a:lnTo>
                  <a:lnTo>
                    <a:pt x="1060" y="556"/>
                  </a:lnTo>
                  <a:lnTo>
                    <a:pt x="1036" y="611"/>
                  </a:lnTo>
                  <a:lnTo>
                    <a:pt x="1036" y="660"/>
                  </a:lnTo>
                  <a:lnTo>
                    <a:pt x="1034" y="693"/>
                  </a:lnTo>
                  <a:lnTo>
                    <a:pt x="1010" y="720"/>
                  </a:lnTo>
                  <a:lnTo>
                    <a:pt x="1002" y="735"/>
                  </a:lnTo>
                  <a:lnTo>
                    <a:pt x="1010" y="771"/>
                  </a:lnTo>
                  <a:lnTo>
                    <a:pt x="1013" y="834"/>
                  </a:lnTo>
                  <a:lnTo>
                    <a:pt x="1002" y="850"/>
                  </a:lnTo>
                  <a:lnTo>
                    <a:pt x="983" y="918"/>
                  </a:lnTo>
                  <a:lnTo>
                    <a:pt x="996" y="1015"/>
                  </a:lnTo>
                  <a:lnTo>
                    <a:pt x="1023" y="1080"/>
                  </a:lnTo>
                  <a:lnTo>
                    <a:pt x="1016" y="1093"/>
                  </a:lnTo>
                  <a:lnTo>
                    <a:pt x="1021" y="1105"/>
                  </a:lnTo>
                  <a:lnTo>
                    <a:pt x="1017" y="1118"/>
                  </a:lnTo>
                  <a:lnTo>
                    <a:pt x="1021" y="1146"/>
                  </a:lnTo>
                  <a:lnTo>
                    <a:pt x="470" y="11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51240" y="2211480"/>
              <a:ext cx="679680" cy="334800"/>
            </a:xfrm>
            <a:custGeom>
              <a:avLst/>
              <a:gdLst/>
              <a:ahLst/>
              <a:rect l="l" t="t" r="r" b="b"/>
              <a:pathLst>
                <a:path w="1283" h="631">
                  <a:moveTo>
                    <a:pt x="0" y="269"/>
                  </a:moveTo>
                  <a:lnTo>
                    <a:pt x="37" y="256"/>
                  </a:lnTo>
                  <a:lnTo>
                    <a:pt x="57" y="243"/>
                  </a:lnTo>
                  <a:lnTo>
                    <a:pt x="96" y="220"/>
                  </a:lnTo>
                  <a:lnTo>
                    <a:pt x="104" y="201"/>
                  </a:lnTo>
                  <a:lnTo>
                    <a:pt x="123" y="199"/>
                  </a:lnTo>
                  <a:lnTo>
                    <a:pt x="192" y="172"/>
                  </a:lnTo>
                  <a:lnTo>
                    <a:pt x="242" y="146"/>
                  </a:lnTo>
                  <a:lnTo>
                    <a:pt x="300" y="86"/>
                  </a:lnTo>
                  <a:lnTo>
                    <a:pt x="319" y="80"/>
                  </a:lnTo>
                  <a:lnTo>
                    <a:pt x="369" y="26"/>
                  </a:lnTo>
                  <a:lnTo>
                    <a:pt x="400" y="10"/>
                  </a:lnTo>
                  <a:lnTo>
                    <a:pt x="457" y="0"/>
                  </a:lnTo>
                  <a:lnTo>
                    <a:pt x="471" y="4"/>
                  </a:lnTo>
                  <a:lnTo>
                    <a:pt x="473" y="11"/>
                  </a:lnTo>
                  <a:lnTo>
                    <a:pt x="444" y="30"/>
                  </a:lnTo>
                  <a:lnTo>
                    <a:pt x="435" y="33"/>
                  </a:lnTo>
                  <a:lnTo>
                    <a:pt x="422" y="57"/>
                  </a:lnTo>
                  <a:lnTo>
                    <a:pt x="383" y="102"/>
                  </a:lnTo>
                  <a:lnTo>
                    <a:pt x="366" y="118"/>
                  </a:lnTo>
                  <a:lnTo>
                    <a:pt x="355" y="130"/>
                  </a:lnTo>
                  <a:lnTo>
                    <a:pt x="344" y="171"/>
                  </a:lnTo>
                  <a:lnTo>
                    <a:pt x="351" y="194"/>
                  </a:lnTo>
                  <a:lnTo>
                    <a:pt x="359" y="180"/>
                  </a:lnTo>
                  <a:lnTo>
                    <a:pt x="394" y="155"/>
                  </a:lnTo>
                  <a:lnTo>
                    <a:pt x="416" y="157"/>
                  </a:lnTo>
                  <a:lnTo>
                    <a:pt x="432" y="149"/>
                  </a:lnTo>
                  <a:lnTo>
                    <a:pt x="505" y="181"/>
                  </a:lnTo>
                  <a:lnTo>
                    <a:pt x="561" y="245"/>
                  </a:lnTo>
                  <a:lnTo>
                    <a:pt x="607" y="239"/>
                  </a:lnTo>
                  <a:lnTo>
                    <a:pt x="631" y="241"/>
                  </a:lnTo>
                  <a:lnTo>
                    <a:pt x="649" y="249"/>
                  </a:lnTo>
                  <a:lnTo>
                    <a:pt x="661" y="251"/>
                  </a:lnTo>
                  <a:lnTo>
                    <a:pt x="668" y="249"/>
                  </a:lnTo>
                  <a:lnTo>
                    <a:pt x="684" y="255"/>
                  </a:lnTo>
                  <a:lnTo>
                    <a:pt x="686" y="264"/>
                  </a:lnTo>
                  <a:lnTo>
                    <a:pt x="696" y="256"/>
                  </a:lnTo>
                  <a:lnTo>
                    <a:pt x="706" y="237"/>
                  </a:lnTo>
                  <a:lnTo>
                    <a:pt x="757" y="203"/>
                  </a:lnTo>
                  <a:lnTo>
                    <a:pt x="921" y="159"/>
                  </a:lnTo>
                  <a:lnTo>
                    <a:pt x="966" y="134"/>
                  </a:lnTo>
                  <a:lnTo>
                    <a:pt x="986" y="127"/>
                  </a:lnTo>
                  <a:lnTo>
                    <a:pt x="995" y="138"/>
                  </a:lnTo>
                  <a:lnTo>
                    <a:pt x="982" y="162"/>
                  </a:lnTo>
                  <a:lnTo>
                    <a:pt x="982" y="177"/>
                  </a:lnTo>
                  <a:lnTo>
                    <a:pt x="1002" y="216"/>
                  </a:lnTo>
                  <a:lnTo>
                    <a:pt x="1017" y="220"/>
                  </a:lnTo>
                  <a:lnTo>
                    <a:pt x="1024" y="214"/>
                  </a:lnTo>
                  <a:lnTo>
                    <a:pt x="1050" y="216"/>
                  </a:lnTo>
                  <a:lnTo>
                    <a:pt x="1065" y="210"/>
                  </a:lnTo>
                  <a:lnTo>
                    <a:pt x="1117" y="204"/>
                  </a:lnTo>
                  <a:lnTo>
                    <a:pt x="1139" y="219"/>
                  </a:lnTo>
                  <a:lnTo>
                    <a:pt x="1160" y="261"/>
                  </a:lnTo>
                  <a:lnTo>
                    <a:pt x="1176" y="277"/>
                  </a:lnTo>
                  <a:lnTo>
                    <a:pt x="1219" y="296"/>
                  </a:lnTo>
                  <a:lnTo>
                    <a:pt x="1261" y="283"/>
                  </a:lnTo>
                  <a:lnTo>
                    <a:pt x="1274" y="285"/>
                  </a:lnTo>
                  <a:lnTo>
                    <a:pt x="1282" y="294"/>
                  </a:lnTo>
                  <a:lnTo>
                    <a:pt x="1283" y="310"/>
                  </a:lnTo>
                  <a:lnTo>
                    <a:pt x="1269" y="328"/>
                  </a:lnTo>
                  <a:lnTo>
                    <a:pt x="1239" y="330"/>
                  </a:lnTo>
                  <a:lnTo>
                    <a:pt x="1226" y="326"/>
                  </a:lnTo>
                  <a:lnTo>
                    <a:pt x="1222" y="318"/>
                  </a:lnTo>
                  <a:lnTo>
                    <a:pt x="1214" y="318"/>
                  </a:lnTo>
                  <a:lnTo>
                    <a:pt x="1185" y="332"/>
                  </a:lnTo>
                  <a:lnTo>
                    <a:pt x="1168" y="326"/>
                  </a:lnTo>
                  <a:lnTo>
                    <a:pt x="1151" y="324"/>
                  </a:lnTo>
                  <a:lnTo>
                    <a:pt x="1106" y="334"/>
                  </a:lnTo>
                  <a:lnTo>
                    <a:pt x="1078" y="326"/>
                  </a:lnTo>
                  <a:lnTo>
                    <a:pt x="1068" y="334"/>
                  </a:lnTo>
                  <a:lnTo>
                    <a:pt x="1074" y="359"/>
                  </a:lnTo>
                  <a:lnTo>
                    <a:pt x="1068" y="367"/>
                  </a:lnTo>
                  <a:lnTo>
                    <a:pt x="1056" y="365"/>
                  </a:lnTo>
                  <a:lnTo>
                    <a:pt x="1027" y="339"/>
                  </a:lnTo>
                  <a:lnTo>
                    <a:pt x="958" y="332"/>
                  </a:lnTo>
                  <a:lnTo>
                    <a:pt x="945" y="334"/>
                  </a:lnTo>
                  <a:lnTo>
                    <a:pt x="926" y="329"/>
                  </a:lnTo>
                  <a:lnTo>
                    <a:pt x="880" y="361"/>
                  </a:lnTo>
                  <a:lnTo>
                    <a:pt x="869" y="361"/>
                  </a:lnTo>
                  <a:lnTo>
                    <a:pt x="852" y="370"/>
                  </a:lnTo>
                  <a:lnTo>
                    <a:pt x="844" y="380"/>
                  </a:lnTo>
                  <a:lnTo>
                    <a:pt x="835" y="385"/>
                  </a:lnTo>
                  <a:lnTo>
                    <a:pt x="809" y="378"/>
                  </a:lnTo>
                  <a:lnTo>
                    <a:pt x="779" y="385"/>
                  </a:lnTo>
                  <a:lnTo>
                    <a:pt x="776" y="407"/>
                  </a:lnTo>
                  <a:lnTo>
                    <a:pt x="769" y="420"/>
                  </a:lnTo>
                  <a:lnTo>
                    <a:pt x="711" y="473"/>
                  </a:lnTo>
                  <a:lnTo>
                    <a:pt x="703" y="468"/>
                  </a:lnTo>
                  <a:lnTo>
                    <a:pt x="697" y="460"/>
                  </a:lnTo>
                  <a:lnTo>
                    <a:pt x="722" y="427"/>
                  </a:lnTo>
                  <a:lnTo>
                    <a:pt x="719" y="411"/>
                  </a:lnTo>
                  <a:lnTo>
                    <a:pt x="690" y="411"/>
                  </a:lnTo>
                  <a:lnTo>
                    <a:pt x="674" y="441"/>
                  </a:lnTo>
                  <a:lnTo>
                    <a:pt x="662" y="456"/>
                  </a:lnTo>
                  <a:lnTo>
                    <a:pt x="650" y="438"/>
                  </a:lnTo>
                  <a:lnTo>
                    <a:pt x="644" y="412"/>
                  </a:lnTo>
                  <a:lnTo>
                    <a:pt x="640" y="416"/>
                  </a:lnTo>
                  <a:lnTo>
                    <a:pt x="634" y="454"/>
                  </a:lnTo>
                  <a:lnTo>
                    <a:pt x="611" y="489"/>
                  </a:lnTo>
                  <a:lnTo>
                    <a:pt x="601" y="528"/>
                  </a:lnTo>
                  <a:lnTo>
                    <a:pt x="587" y="552"/>
                  </a:lnTo>
                  <a:lnTo>
                    <a:pt x="560" y="593"/>
                  </a:lnTo>
                  <a:lnTo>
                    <a:pt x="560" y="620"/>
                  </a:lnTo>
                  <a:lnTo>
                    <a:pt x="556" y="631"/>
                  </a:lnTo>
                  <a:lnTo>
                    <a:pt x="528" y="613"/>
                  </a:lnTo>
                  <a:lnTo>
                    <a:pt x="518" y="587"/>
                  </a:lnTo>
                  <a:lnTo>
                    <a:pt x="530" y="574"/>
                  </a:lnTo>
                  <a:lnTo>
                    <a:pt x="534" y="557"/>
                  </a:lnTo>
                  <a:lnTo>
                    <a:pt x="528" y="555"/>
                  </a:lnTo>
                  <a:lnTo>
                    <a:pt x="498" y="561"/>
                  </a:lnTo>
                  <a:lnTo>
                    <a:pt x="490" y="557"/>
                  </a:lnTo>
                  <a:lnTo>
                    <a:pt x="499" y="492"/>
                  </a:lnTo>
                  <a:lnTo>
                    <a:pt x="497" y="468"/>
                  </a:lnTo>
                  <a:lnTo>
                    <a:pt x="461" y="452"/>
                  </a:lnTo>
                  <a:lnTo>
                    <a:pt x="434" y="443"/>
                  </a:lnTo>
                  <a:lnTo>
                    <a:pt x="435" y="435"/>
                  </a:lnTo>
                  <a:lnTo>
                    <a:pt x="441" y="427"/>
                  </a:lnTo>
                  <a:lnTo>
                    <a:pt x="429" y="418"/>
                  </a:lnTo>
                  <a:lnTo>
                    <a:pt x="400" y="408"/>
                  </a:lnTo>
                  <a:lnTo>
                    <a:pt x="357" y="401"/>
                  </a:lnTo>
                  <a:lnTo>
                    <a:pt x="344" y="402"/>
                  </a:lnTo>
                  <a:lnTo>
                    <a:pt x="337" y="410"/>
                  </a:lnTo>
                  <a:lnTo>
                    <a:pt x="330" y="399"/>
                  </a:lnTo>
                  <a:lnTo>
                    <a:pt x="305" y="401"/>
                  </a:lnTo>
                  <a:lnTo>
                    <a:pt x="267" y="370"/>
                  </a:lnTo>
                  <a:lnTo>
                    <a:pt x="244" y="370"/>
                  </a:lnTo>
                  <a:lnTo>
                    <a:pt x="71" y="334"/>
                  </a:lnTo>
                  <a:lnTo>
                    <a:pt x="59" y="329"/>
                  </a:lnTo>
                  <a:lnTo>
                    <a:pt x="51" y="297"/>
                  </a:lnTo>
                  <a:lnTo>
                    <a:pt x="35" y="287"/>
                  </a:lnTo>
                  <a:lnTo>
                    <a:pt x="10" y="282"/>
                  </a:lnTo>
                  <a:lnTo>
                    <a:pt x="0" y="269"/>
                  </a:lnTo>
                  <a:lnTo>
                    <a:pt x="0" y="269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83160" y="2982960"/>
              <a:ext cx="338040" cy="592200"/>
            </a:xfrm>
            <a:custGeom>
              <a:avLst/>
              <a:gdLst/>
              <a:ahLst/>
              <a:rect l="l" t="t" r="r" b="b"/>
              <a:pathLst>
                <a:path w="639" h="1121">
                  <a:moveTo>
                    <a:pt x="21" y="67"/>
                  </a:moveTo>
                  <a:lnTo>
                    <a:pt x="73" y="698"/>
                  </a:lnTo>
                  <a:lnTo>
                    <a:pt x="65" y="707"/>
                  </a:lnTo>
                  <a:lnTo>
                    <a:pt x="69" y="730"/>
                  </a:lnTo>
                  <a:lnTo>
                    <a:pt x="61" y="764"/>
                  </a:lnTo>
                  <a:lnTo>
                    <a:pt x="84" y="811"/>
                  </a:lnTo>
                  <a:lnTo>
                    <a:pt x="92" y="868"/>
                  </a:lnTo>
                  <a:lnTo>
                    <a:pt x="65" y="921"/>
                  </a:lnTo>
                  <a:lnTo>
                    <a:pt x="63" y="938"/>
                  </a:lnTo>
                  <a:lnTo>
                    <a:pt x="43" y="981"/>
                  </a:lnTo>
                  <a:lnTo>
                    <a:pt x="12" y="1010"/>
                  </a:lnTo>
                  <a:lnTo>
                    <a:pt x="12" y="1052"/>
                  </a:lnTo>
                  <a:lnTo>
                    <a:pt x="0" y="1098"/>
                  </a:lnTo>
                  <a:lnTo>
                    <a:pt x="0" y="1110"/>
                  </a:lnTo>
                  <a:lnTo>
                    <a:pt x="2" y="1119"/>
                  </a:lnTo>
                  <a:lnTo>
                    <a:pt x="4" y="1119"/>
                  </a:lnTo>
                  <a:lnTo>
                    <a:pt x="19" y="1121"/>
                  </a:lnTo>
                  <a:lnTo>
                    <a:pt x="34" y="1115"/>
                  </a:lnTo>
                  <a:lnTo>
                    <a:pt x="33" y="1110"/>
                  </a:lnTo>
                  <a:lnTo>
                    <a:pt x="40" y="1090"/>
                  </a:lnTo>
                  <a:lnTo>
                    <a:pt x="79" y="1092"/>
                  </a:lnTo>
                  <a:lnTo>
                    <a:pt x="130" y="1073"/>
                  </a:lnTo>
                  <a:lnTo>
                    <a:pt x="191" y="1103"/>
                  </a:lnTo>
                  <a:lnTo>
                    <a:pt x="198" y="1110"/>
                  </a:lnTo>
                  <a:lnTo>
                    <a:pt x="210" y="1104"/>
                  </a:lnTo>
                  <a:lnTo>
                    <a:pt x="223" y="1062"/>
                  </a:lnTo>
                  <a:lnTo>
                    <a:pt x="258" y="1048"/>
                  </a:lnTo>
                  <a:lnTo>
                    <a:pt x="271" y="1070"/>
                  </a:lnTo>
                  <a:lnTo>
                    <a:pt x="292" y="1084"/>
                  </a:lnTo>
                  <a:lnTo>
                    <a:pt x="310" y="1068"/>
                  </a:lnTo>
                  <a:lnTo>
                    <a:pt x="326" y="1014"/>
                  </a:lnTo>
                  <a:lnTo>
                    <a:pt x="339" y="997"/>
                  </a:lnTo>
                  <a:lnTo>
                    <a:pt x="353" y="1000"/>
                  </a:lnTo>
                  <a:lnTo>
                    <a:pt x="379" y="1027"/>
                  </a:lnTo>
                  <a:lnTo>
                    <a:pt x="430" y="1025"/>
                  </a:lnTo>
                  <a:lnTo>
                    <a:pt x="444" y="978"/>
                  </a:lnTo>
                  <a:lnTo>
                    <a:pt x="526" y="868"/>
                  </a:lnTo>
                  <a:lnTo>
                    <a:pt x="526" y="829"/>
                  </a:lnTo>
                  <a:lnTo>
                    <a:pt x="544" y="819"/>
                  </a:lnTo>
                  <a:lnTo>
                    <a:pt x="579" y="824"/>
                  </a:lnTo>
                  <a:lnTo>
                    <a:pt x="606" y="801"/>
                  </a:lnTo>
                  <a:lnTo>
                    <a:pt x="629" y="798"/>
                  </a:lnTo>
                  <a:lnTo>
                    <a:pt x="639" y="780"/>
                  </a:lnTo>
                  <a:lnTo>
                    <a:pt x="624" y="734"/>
                  </a:lnTo>
                  <a:lnTo>
                    <a:pt x="628" y="720"/>
                  </a:lnTo>
                  <a:lnTo>
                    <a:pt x="634" y="699"/>
                  </a:lnTo>
                  <a:lnTo>
                    <a:pt x="555" y="13"/>
                  </a:lnTo>
                  <a:lnTo>
                    <a:pt x="553" y="0"/>
                  </a:lnTo>
                  <a:lnTo>
                    <a:pt x="145" y="48"/>
                  </a:lnTo>
                  <a:lnTo>
                    <a:pt x="134" y="58"/>
                  </a:lnTo>
                  <a:lnTo>
                    <a:pt x="102" y="73"/>
                  </a:lnTo>
                  <a:lnTo>
                    <a:pt x="84" y="80"/>
                  </a:lnTo>
                  <a:lnTo>
                    <a:pt x="47" y="88"/>
                  </a:lnTo>
                  <a:lnTo>
                    <a:pt x="21" y="67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38640" y="3971880"/>
              <a:ext cx="393840" cy="687600"/>
            </a:xfrm>
            <a:custGeom>
              <a:avLst/>
              <a:gdLst/>
              <a:ahLst/>
              <a:rect l="l" t="t" r="r" b="b"/>
              <a:pathLst>
                <a:path w="743" h="1299">
                  <a:moveTo>
                    <a:pt x="686" y="0"/>
                  </a:moveTo>
                  <a:lnTo>
                    <a:pt x="240" y="33"/>
                  </a:lnTo>
                  <a:lnTo>
                    <a:pt x="237" y="48"/>
                  </a:lnTo>
                  <a:lnTo>
                    <a:pt x="197" y="85"/>
                  </a:lnTo>
                  <a:lnTo>
                    <a:pt x="181" y="126"/>
                  </a:lnTo>
                  <a:lnTo>
                    <a:pt x="185" y="168"/>
                  </a:lnTo>
                  <a:lnTo>
                    <a:pt x="178" y="189"/>
                  </a:lnTo>
                  <a:lnTo>
                    <a:pt x="141" y="215"/>
                  </a:lnTo>
                  <a:lnTo>
                    <a:pt x="114" y="255"/>
                  </a:lnTo>
                  <a:lnTo>
                    <a:pt x="103" y="266"/>
                  </a:lnTo>
                  <a:lnTo>
                    <a:pt x="103" y="300"/>
                  </a:lnTo>
                  <a:lnTo>
                    <a:pt x="83" y="323"/>
                  </a:lnTo>
                  <a:lnTo>
                    <a:pt x="83" y="350"/>
                  </a:lnTo>
                  <a:lnTo>
                    <a:pt x="70" y="386"/>
                  </a:lnTo>
                  <a:lnTo>
                    <a:pt x="48" y="423"/>
                  </a:lnTo>
                  <a:lnTo>
                    <a:pt x="57" y="463"/>
                  </a:lnTo>
                  <a:lnTo>
                    <a:pt x="77" y="485"/>
                  </a:lnTo>
                  <a:lnTo>
                    <a:pt x="80" y="510"/>
                  </a:lnTo>
                  <a:lnTo>
                    <a:pt x="87" y="517"/>
                  </a:lnTo>
                  <a:lnTo>
                    <a:pt x="87" y="532"/>
                  </a:lnTo>
                  <a:lnTo>
                    <a:pt x="74" y="538"/>
                  </a:lnTo>
                  <a:lnTo>
                    <a:pt x="70" y="563"/>
                  </a:lnTo>
                  <a:lnTo>
                    <a:pt x="72" y="576"/>
                  </a:lnTo>
                  <a:lnTo>
                    <a:pt x="70" y="599"/>
                  </a:lnTo>
                  <a:lnTo>
                    <a:pt x="99" y="652"/>
                  </a:lnTo>
                  <a:lnTo>
                    <a:pt x="103" y="700"/>
                  </a:lnTo>
                  <a:lnTo>
                    <a:pt x="115" y="730"/>
                  </a:lnTo>
                  <a:lnTo>
                    <a:pt x="130" y="744"/>
                  </a:lnTo>
                  <a:lnTo>
                    <a:pt x="133" y="766"/>
                  </a:lnTo>
                  <a:lnTo>
                    <a:pt x="103" y="785"/>
                  </a:lnTo>
                  <a:lnTo>
                    <a:pt x="95" y="795"/>
                  </a:lnTo>
                  <a:lnTo>
                    <a:pt x="82" y="850"/>
                  </a:lnTo>
                  <a:lnTo>
                    <a:pt x="40" y="915"/>
                  </a:lnTo>
                  <a:lnTo>
                    <a:pt x="4" y="1028"/>
                  </a:lnTo>
                  <a:lnTo>
                    <a:pt x="0" y="1110"/>
                  </a:lnTo>
                  <a:lnTo>
                    <a:pt x="417" y="1090"/>
                  </a:lnTo>
                  <a:lnTo>
                    <a:pt x="425" y="1104"/>
                  </a:lnTo>
                  <a:lnTo>
                    <a:pt x="416" y="1144"/>
                  </a:lnTo>
                  <a:lnTo>
                    <a:pt x="417" y="1204"/>
                  </a:lnTo>
                  <a:lnTo>
                    <a:pt x="461" y="1246"/>
                  </a:lnTo>
                  <a:lnTo>
                    <a:pt x="470" y="1299"/>
                  </a:lnTo>
                  <a:lnTo>
                    <a:pt x="499" y="1299"/>
                  </a:lnTo>
                  <a:lnTo>
                    <a:pt x="543" y="1262"/>
                  </a:lnTo>
                  <a:lnTo>
                    <a:pt x="647" y="1231"/>
                  </a:lnTo>
                  <a:lnTo>
                    <a:pt x="669" y="1239"/>
                  </a:lnTo>
                  <a:lnTo>
                    <a:pt x="706" y="1227"/>
                  </a:lnTo>
                  <a:lnTo>
                    <a:pt x="714" y="1237"/>
                  </a:lnTo>
                  <a:lnTo>
                    <a:pt x="733" y="1245"/>
                  </a:lnTo>
                  <a:lnTo>
                    <a:pt x="743" y="1239"/>
                  </a:lnTo>
                  <a:lnTo>
                    <a:pt x="696" y="843"/>
                  </a:lnTo>
                  <a:lnTo>
                    <a:pt x="691" y="807"/>
                  </a:lnTo>
                  <a:lnTo>
                    <a:pt x="706" y="26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21400" y="4468680"/>
              <a:ext cx="1017360" cy="770040"/>
            </a:xfrm>
            <a:custGeom>
              <a:avLst/>
              <a:gdLst/>
              <a:ahLst/>
              <a:rect l="l" t="t" r="r" b="b"/>
              <a:pathLst>
                <a:path w="1923" h="1454">
                  <a:moveTo>
                    <a:pt x="590" y="52"/>
                  </a:moveTo>
                  <a:lnTo>
                    <a:pt x="5" y="109"/>
                  </a:lnTo>
                  <a:lnTo>
                    <a:pt x="5" y="123"/>
                  </a:lnTo>
                  <a:lnTo>
                    <a:pt x="5" y="127"/>
                  </a:lnTo>
                  <a:lnTo>
                    <a:pt x="0" y="133"/>
                  </a:lnTo>
                  <a:lnTo>
                    <a:pt x="1" y="153"/>
                  </a:lnTo>
                  <a:lnTo>
                    <a:pt x="20" y="177"/>
                  </a:lnTo>
                  <a:lnTo>
                    <a:pt x="30" y="188"/>
                  </a:lnTo>
                  <a:lnTo>
                    <a:pt x="36" y="188"/>
                  </a:lnTo>
                  <a:lnTo>
                    <a:pt x="54" y="202"/>
                  </a:lnTo>
                  <a:lnTo>
                    <a:pt x="58" y="213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60" y="249"/>
                  </a:lnTo>
                  <a:lnTo>
                    <a:pt x="64" y="256"/>
                  </a:lnTo>
                  <a:lnTo>
                    <a:pt x="64" y="260"/>
                  </a:lnTo>
                  <a:lnTo>
                    <a:pt x="50" y="272"/>
                  </a:lnTo>
                  <a:lnTo>
                    <a:pt x="51" y="289"/>
                  </a:lnTo>
                  <a:lnTo>
                    <a:pt x="57" y="291"/>
                  </a:lnTo>
                  <a:lnTo>
                    <a:pt x="91" y="282"/>
                  </a:lnTo>
                  <a:lnTo>
                    <a:pt x="103" y="274"/>
                  </a:lnTo>
                  <a:lnTo>
                    <a:pt x="113" y="241"/>
                  </a:lnTo>
                  <a:lnTo>
                    <a:pt x="121" y="231"/>
                  </a:lnTo>
                  <a:lnTo>
                    <a:pt x="133" y="237"/>
                  </a:lnTo>
                  <a:lnTo>
                    <a:pt x="145" y="237"/>
                  </a:lnTo>
                  <a:lnTo>
                    <a:pt x="150" y="231"/>
                  </a:lnTo>
                  <a:lnTo>
                    <a:pt x="161" y="234"/>
                  </a:lnTo>
                  <a:lnTo>
                    <a:pt x="160" y="243"/>
                  </a:lnTo>
                  <a:lnTo>
                    <a:pt x="138" y="263"/>
                  </a:lnTo>
                  <a:lnTo>
                    <a:pt x="140" y="265"/>
                  </a:lnTo>
                  <a:lnTo>
                    <a:pt x="160" y="257"/>
                  </a:lnTo>
                  <a:lnTo>
                    <a:pt x="187" y="255"/>
                  </a:lnTo>
                  <a:lnTo>
                    <a:pt x="291" y="222"/>
                  </a:lnTo>
                  <a:lnTo>
                    <a:pt x="309" y="220"/>
                  </a:lnTo>
                  <a:lnTo>
                    <a:pt x="309" y="228"/>
                  </a:lnTo>
                  <a:lnTo>
                    <a:pt x="289" y="245"/>
                  </a:lnTo>
                  <a:lnTo>
                    <a:pt x="297" y="249"/>
                  </a:lnTo>
                  <a:lnTo>
                    <a:pt x="341" y="253"/>
                  </a:lnTo>
                  <a:lnTo>
                    <a:pt x="388" y="270"/>
                  </a:lnTo>
                  <a:lnTo>
                    <a:pt x="437" y="292"/>
                  </a:lnTo>
                  <a:lnTo>
                    <a:pt x="447" y="297"/>
                  </a:lnTo>
                  <a:lnTo>
                    <a:pt x="445" y="282"/>
                  </a:lnTo>
                  <a:lnTo>
                    <a:pt x="456" y="274"/>
                  </a:lnTo>
                  <a:lnTo>
                    <a:pt x="464" y="285"/>
                  </a:lnTo>
                  <a:lnTo>
                    <a:pt x="491" y="295"/>
                  </a:lnTo>
                  <a:lnTo>
                    <a:pt x="499" y="298"/>
                  </a:lnTo>
                  <a:lnTo>
                    <a:pt x="499" y="304"/>
                  </a:lnTo>
                  <a:lnTo>
                    <a:pt x="491" y="308"/>
                  </a:lnTo>
                  <a:lnTo>
                    <a:pt x="495" y="317"/>
                  </a:lnTo>
                  <a:lnTo>
                    <a:pt x="552" y="363"/>
                  </a:lnTo>
                  <a:lnTo>
                    <a:pt x="557" y="379"/>
                  </a:lnTo>
                  <a:lnTo>
                    <a:pt x="556" y="390"/>
                  </a:lnTo>
                  <a:lnTo>
                    <a:pt x="550" y="400"/>
                  </a:lnTo>
                  <a:lnTo>
                    <a:pt x="544" y="394"/>
                  </a:lnTo>
                  <a:lnTo>
                    <a:pt x="538" y="384"/>
                  </a:lnTo>
                  <a:lnTo>
                    <a:pt x="533" y="395"/>
                  </a:lnTo>
                  <a:lnTo>
                    <a:pt x="538" y="405"/>
                  </a:lnTo>
                  <a:lnTo>
                    <a:pt x="550" y="412"/>
                  </a:lnTo>
                  <a:lnTo>
                    <a:pt x="631" y="388"/>
                  </a:lnTo>
                  <a:lnTo>
                    <a:pt x="635" y="379"/>
                  </a:lnTo>
                  <a:lnTo>
                    <a:pt x="664" y="375"/>
                  </a:lnTo>
                  <a:lnTo>
                    <a:pt x="729" y="323"/>
                  </a:lnTo>
                  <a:lnTo>
                    <a:pt x="773" y="322"/>
                  </a:lnTo>
                  <a:lnTo>
                    <a:pt x="773" y="312"/>
                  </a:lnTo>
                  <a:lnTo>
                    <a:pt x="766" y="300"/>
                  </a:lnTo>
                  <a:lnTo>
                    <a:pt x="779" y="272"/>
                  </a:lnTo>
                  <a:lnTo>
                    <a:pt x="851" y="263"/>
                  </a:lnTo>
                  <a:lnTo>
                    <a:pt x="955" y="317"/>
                  </a:lnTo>
                  <a:lnTo>
                    <a:pt x="959" y="331"/>
                  </a:lnTo>
                  <a:lnTo>
                    <a:pt x="986" y="352"/>
                  </a:lnTo>
                  <a:lnTo>
                    <a:pt x="1008" y="388"/>
                  </a:lnTo>
                  <a:lnTo>
                    <a:pt x="1072" y="434"/>
                  </a:lnTo>
                  <a:lnTo>
                    <a:pt x="1083" y="453"/>
                  </a:lnTo>
                  <a:lnTo>
                    <a:pt x="1103" y="473"/>
                  </a:lnTo>
                  <a:lnTo>
                    <a:pt x="1153" y="471"/>
                  </a:lnTo>
                  <a:lnTo>
                    <a:pt x="1190" y="526"/>
                  </a:lnTo>
                  <a:lnTo>
                    <a:pt x="1203" y="537"/>
                  </a:lnTo>
                  <a:lnTo>
                    <a:pt x="1197" y="553"/>
                  </a:lnTo>
                  <a:lnTo>
                    <a:pt x="1214" y="612"/>
                  </a:lnTo>
                  <a:lnTo>
                    <a:pt x="1207" y="676"/>
                  </a:lnTo>
                  <a:lnTo>
                    <a:pt x="1191" y="746"/>
                  </a:lnTo>
                  <a:lnTo>
                    <a:pt x="1192" y="802"/>
                  </a:lnTo>
                  <a:lnTo>
                    <a:pt x="1202" y="821"/>
                  </a:lnTo>
                  <a:lnTo>
                    <a:pt x="1242" y="847"/>
                  </a:lnTo>
                  <a:lnTo>
                    <a:pt x="1255" y="824"/>
                  </a:lnTo>
                  <a:lnTo>
                    <a:pt x="1242" y="814"/>
                  </a:lnTo>
                  <a:lnTo>
                    <a:pt x="1230" y="777"/>
                  </a:lnTo>
                  <a:lnTo>
                    <a:pt x="1234" y="770"/>
                  </a:lnTo>
                  <a:lnTo>
                    <a:pt x="1255" y="765"/>
                  </a:lnTo>
                  <a:lnTo>
                    <a:pt x="1273" y="802"/>
                  </a:lnTo>
                  <a:lnTo>
                    <a:pt x="1281" y="801"/>
                  </a:lnTo>
                  <a:lnTo>
                    <a:pt x="1287" y="783"/>
                  </a:lnTo>
                  <a:lnTo>
                    <a:pt x="1293" y="782"/>
                  </a:lnTo>
                  <a:lnTo>
                    <a:pt x="1304" y="789"/>
                  </a:lnTo>
                  <a:lnTo>
                    <a:pt x="1302" y="803"/>
                  </a:lnTo>
                  <a:lnTo>
                    <a:pt x="1292" y="821"/>
                  </a:lnTo>
                  <a:lnTo>
                    <a:pt x="1280" y="839"/>
                  </a:lnTo>
                  <a:lnTo>
                    <a:pt x="1265" y="883"/>
                  </a:lnTo>
                  <a:lnTo>
                    <a:pt x="1255" y="891"/>
                  </a:lnTo>
                  <a:lnTo>
                    <a:pt x="1253" y="910"/>
                  </a:lnTo>
                  <a:lnTo>
                    <a:pt x="1270" y="927"/>
                  </a:lnTo>
                  <a:lnTo>
                    <a:pt x="1291" y="948"/>
                  </a:lnTo>
                  <a:lnTo>
                    <a:pt x="1328" y="1026"/>
                  </a:lnTo>
                  <a:lnTo>
                    <a:pt x="1381" y="1062"/>
                  </a:lnTo>
                  <a:lnTo>
                    <a:pt x="1387" y="1060"/>
                  </a:lnTo>
                  <a:lnTo>
                    <a:pt x="1390" y="1042"/>
                  </a:lnTo>
                  <a:lnTo>
                    <a:pt x="1409" y="1042"/>
                  </a:lnTo>
                  <a:lnTo>
                    <a:pt x="1421" y="1073"/>
                  </a:lnTo>
                  <a:lnTo>
                    <a:pt x="1422" y="1093"/>
                  </a:lnTo>
                  <a:lnTo>
                    <a:pt x="1440" y="1136"/>
                  </a:lnTo>
                  <a:lnTo>
                    <a:pt x="1464" y="1150"/>
                  </a:lnTo>
                  <a:lnTo>
                    <a:pt x="1487" y="1156"/>
                  </a:lnTo>
                  <a:lnTo>
                    <a:pt x="1531" y="1268"/>
                  </a:lnTo>
                  <a:lnTo>
                    <a:pt x="1541" y="1276"/>
                  </a:lnTo>
                  <a:lnTo>
                    <a:pt x="1597" y="1287"/>
                  </a:lnTo>
                  <a:lnTo>
                    <a:pt x="1620" y="1300"/>
                  </a:lnTo>
                  <a:lnTo>
                    <a:pt x="1683" y="1378"/>
                  </a:lnTo>
                  <a:lnTo>
                    <a:pt x="1708" y="1397"/>
                  </a:lnTo>
                  <a:lnTo>
                    <a:pt x="1721" y="1398"/>
                  </a:lnTo>
                  <a:lnTo>
                    <a:pt x="1736" y="1407"/>
                  </a:lnTo>
                  <a:lnTo>
                    <a:pt x="1742" y="1423"/>
                  </a:lnTo>
                  <a:lnTo>
                    <a:pt x="1729" y="1426"/>
                  </a:lnTo>
                  <a:lnTo>
                    <a:pt x="1718" y="1422"/>
                  </a:lnTo>
                  <a:lnTo>
                    <a:pt x="1710" y="1422"/>
                  </a:lnTo>
                  <a:lnTo>
                    <a:pt x="1701" y="1426"/>
                  </a:lnTo>
                  <a:lnTo>
                    <a:pt x="1701" y="1435"/>
                  </a:lnTo>
                  <a:lnTo>
                    <a:pt x="1708" y="1447"/>
                  </a:lnTo>
                  <a:lnTo>
                    <a:pt x="1743" y="1454"/>
                  </a:lnTo>
                  <a:lnTo>
                    <a:pt x="1755" y="1443"/>
                  </a:lnTo>
                  <a:lnTo>
                    <a:pt x="1782" y="1441"/>
                  </a:lnTo>
                  <a:lnTo>
                    <a:pt x="1875" y="1404"/>
                  </a:lnTo>
                  <a:lnTo>
                    <a:pt x="1896" y="1369"/>
                  </a:lnTo>
                  <a:lnTo>
                    <a:pt x="1897" y="1360"/>
                  </a:lnTo>
                  <a:lnTo>
                    <a:pt x="1884" y="1312"/>
                  </a:lnTo>
                  <a:lnTo>
                    <a:pt x="1885" y="1285"/>
                  </a:lnTo>
                  <a:lnTo>
                    <a:pt x="1901" y="1240"/>
                  </a:lnTo>
                  <a:lnTo>
                    <a:pt x="1923" y="1245"/>
                  </a:lnTo>
                  <a:lnTo>
                    <a:pt x="1901" y="1154"/>
                  </a:lnTo>
                  <a:lnTo>
                    <a:pt x="1907" y="1108"/>
                  </a:lnTo>
                  <a:lnTo>
                    <a:pt x="1901" y="1022"/>
                  </a:lnTo>
                  <a:lnTo>
                    <a:pt x="1884" y="953"/>
                  </a:lnTo>
                  <a:lnTo>
                    <a:pt x="1870" y="929"/>
                  </a:lnTo>
                  <a:lnTo>
                    <a:pt x="1809" y="846"/>
                  </a:lnTo>
                  <a:lnTo>
                    <a:pt x="1768" y="751"/>
                  </a:lnTo>
                  <a:lnTo>
                    <a:pt x="1718" y="685"/>
                  </a:lnTo>
                  <a:lnTo>
                    <a:pt x="1719" y="676"/>
                  </a:lnTo>
                  <a:lnTo>
                    <a:pt x="1717" y="662"/>
                  </a:lnTo>
                  <a:lnTo>
                    <a:pt x="1699" y="625"/>
                  </a:lnTo>
                  <a:lnTo>
                    <a:pt x="1697" y="607"/>
                  </a:lnTo>
                  <a:lnTo>
                    <a:pt x="1714" y="584"/>
                  </a:lnTo>
                  <a:lnTo>
                    <a:pt x="1714" y="575"/>
                  </a:lnTo>
                  <a:lnTo>
                    <a:pt x="1650" y="487"/>
                  </a:lnTo>
                  <a:lnTo>
                    <a:pt x="1615" y="449"/>
                  </a:lnTo>
                  <a:lnTo>
                    <a:pt x="1589" y="434"/>
                  </a:lnTo>
                  <a:lnTo>
                    <a:pt x="1584" y="424"/>
                  </a:lnTo>
                  <a:lnTo>
                    <a:pt x="1540" y="367"/>
                  </a:lnTo>
                  <a:lnTo>
                    <a:pt x="1485" y="269"/>
                  </a:lnTo>
                  <a:lnTo>
                    <a:pt x="1470" y="209"/>
                  </a:lnTo>
                  <a:lnTo>
                    <a:pt x="1434" y="125"/>
                  </a:lnTo>
                  <a:lnTo>
                    <a:pt x="1434" y="115"/>
                  </a:lnTo>
                  <a:lnTo>
                    <a:pt x="1421" y="102"/>
                  </a:lnTo>
                  <a:lnTo>
                    <a:pt x="1412" y="96"/>
                  </a:lnTo>
                  <a:lnTo>
                    <a:pt x="1407" y="36"/>
                  </a:lnTo>
                  <a:lnTo>
                    <a:pt x="1397" y="15"/>
                  </a:lnTo>
                  <a:lnTo>
                    <a:pt x="1379" y="20"/>
                  </a:lnTo>
                  <a:lnTo>
                    <a:pt x="1339" y="19"/>
                  </a:lnTo>
                  <a:lnTo>
                    <a:pt x="1297" y="0"/>
                  </a:lnTo>
                  <a:lnTo>
                    <a:pt x="1277" y="13"/>
                  </a:lnTo>
                  <a:lnTo>
                    <a:pt x="1273" y="22"/>
                  </a:lnTo>
                  <a:lnTo>
                    <a:pt x="1271" y="42"/>
                  </a:lnTo>
                  <a:lnTo>
                    <a:pt x="1287" y="100"/>
                  </a:lnTo>
                  <a:lnTo>
                    <a:pt x="1281" y="130"/>
                  </a:lnTo>
                  <a:lnTo>
                    <a:pt x="1251" y="129"/>
                  </a:lnTo>
                  <a:lnTo>
                    <a:pt x="1242" y="117"/>
                  </a:lnTo>
                  <a:lnTo>
                    <a:pt x="1232" y="85"/>
                  </a:lnTo>
                  <a:lnTo>
                    <a:pt x="626" y="124"/>
                  </a:lnTo>
                  <a:lnTo>
                    <a:pt x="611" y="104"/>
                  </a:lnTo>
                  <a:lnTo>
                    <a:pt x="613" y="86"/>
                  </a:lnTo>
                  <a:lnTo>
                    <a:pt x="593" y="66"/>
                  </a:lnTo>
                  <a:lnTo>
                    <a:pt x="590" y="52"/>
                  </a:lnTo>
                  <a:lnTo>
                    <a:pt x="590" y="5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38800" y="3351240"/>
              <a:ext cx="820440" cy="420840"/>
            </a:xfrm>
            <a:custGeom>
              <a:avLst/>
              <a:gdLst/>
              <a:ahLst/>
              <a:rect l="l" t="t" r="r" b="b"/>
              <a:pathLst>
                <a:path w="1551" h="795">
                  <a:moveTo>
                    <a:pt x="0" y="795"/>
                  </a:moveTo>
                  <a:lnTo>
                    <a:pt x="310" y="770"/>
                  </a:lnTo>
                  <a:lnTo>
                    <a:pt x="309" y="743"/>
                  </a:lnTo>
                  <a:lnTo>
                    <a:pt x="304" y="728"/>
                  </a:lnTo>
                  <a:lnTo>
                    <a:pt x="338" y="726"/>
                  </a:lnTo>
                  <a:lnTo>
                    <a:pt x="351" y="733"/>
                  </a:lnTo>
                  <a:lnTo>
                    <a:pt x="1227" y="654"/>
                  </a:lnTo>
                  <a:lnTo>
                    <a:pt x="1243" y="640"/>
                  </a:lnTo>
                  <a:lnTo>
                    <a:pt x="1258" y="628"/>
                  </a:lnTo>
                  <a:lnTo>
                    <a:pt x="1333" y="591"/>
                  </a:lnTo>
                  <a:lnTo>
                    <a:pt x="1342" y="573"/>
                  </a:lnTo>
                  <a:lnTo>
                    <a:pt x="1384" y="543"/>
                  </a:lnTo>
                  <a:lnTo>
                    <a:pt x="1388" y="524"/>
                  </a:lnTo>
                  <a:lnTo>
                    <a:pt x="1392" y="514"/>
                  </a:lnTo>
                  <a:lnTo>
                    <a:pt x="1413" y="504"/>
                  </a:lnTo>
                  <a:lnTo>
                    <a:pt x="1413" y="478"/>
                  </a:lnTo>
                  <a:lnTo>
                    <a:pt x="1435" y="459"/>
                  </a:lnTo>
                  <a:lnTo>
                    <a:pt x="1543" y="364"/>
                  </a:lnTo>
                  <a:lnTo>
                    <a:pt x="1551" y="347"/>
                  </a:lnTo>
                  <a:lnTo>
                    <a:pt x="1535" y="347"/>
                  </a:lnTo>
                  <a:lnTo>
                    <a:pt x="1521" y="337"/>
                  </a:lnTo>
                  <a:lnTo>
                    <a:pt x="1515" y="335"/>
                  </a:lnTo>
                  <a:lnTo>
                    <a:pt x="1508" y="327"/>
                  </a:lnTo>
                  <a:lnTo>
                    <a:pt x="1488" y="317"/>
                  </a:lnTo>
                  <a:lnTo>
                    <a:pt x="1478" y="320"/>
                  </a:lnTo>
                  <a:lnTo>
                    <a:pt x="1471" y="316"/>
                  </a:lnTo>
                  <a:lnTo>
                    <a:pt x="1445" y="273"/>
                  </a:lnTo>
                  <a:lnTo>
                    <a:pt x="1399" y="217"/>
                  </a:lnTo>
                  <a:lnTo>
                    <a:pt x="1394" y="202"/>
                  </a:lnTo>
                  <a:lnTo>
                    <a:pt x="1398" y="185"/>
                  </a:lnTo>
                  <a:lnTo>
                    <a:pt x="1398" y="162"/>
                  </a:lnTo>
                  <a:lnTo>
                    <a:pt x="1394" y="129"/>
                  </a:lnTo>
                  <a:lnTo>
                    <a:pt x="1384" y="118"/>
                  </a:lnTo>
                  <a:lnTo>
                    <a:pt x="1362" y="102"/>
                  </a:lnTo>
                  <a:lnTo>
                    <a:pt x="1337" y="97"/>
                  </a:lnTo>
                  <a:lnTo>
                    <a:pt x="1319" y="66"/>
                  </a:lnTo>
                  <a:lnTo>
                    <a:pt x="1306" y="50"/>
                  </a:lnTo>
                  <a:lnTo>
                    <a:pt x="1280" y="68"/>
                  </a:lnTo>
                  <a:lnTo>
                    <a:pt x="1276" y="82"/>
                  </a:lnTo>
                  <a:lnTo>
                    <a:pt x="1260" y="88"/>
                  </a:lnTo>
                  <a:lnTo>
                    <a:pt x="1255" y="96"/>
                  </a:lnTo>
                  <a:lnTo>
                    <a:pt x="1225" y="99"/>
                  </a:lnTo>
                  <a:lnTo>
                    <a:pt x="1186" y="82"/>
                  </a:lnTo>
                  <a:lnTo>
                    <a:pt x="1173" y="88"/>
                  </a:lnTo>
                  <a:lnTo>
                    <a:pt x="1156" y="107"/>
                  </a:lnTo>
                  <a:lnTo>
                    <a:pt x="1113" y="78"/>
                  </a:lnTo>
                  <a:lnTo>
                    <a:pt x="1071" y="82"/>
                  </a:lnTo>
                  <a:lnTo>
                    <a:pt x="1039" y="68"/>
                  </a:lnTo>
                  <a:lnTo>
                    <a:pt x="1024" y="31"/>
                  </a:lnTo>
                  <a:lnTo>
                    <a:pt x="982" y="0"/>
                  </a:lnTo>
                  <a:lnTo>
                    <a:pt x="960" y="14"/>
                  </a:lnTo>
                  <a:lnTo>
                    <a:pt x="946" y="14"/>
                  </a:lnTo>
                  <a:lnTo>
                    <a:pt x="927" y="0"/>
                  </a:lnTo>
                  <a:lnTo>
                    <a:pt x="909" y="2"/>
                  </a:lnTo>
                  <a:lnTo>
                    <a:pt x="903" y="23"/>
                  </a:lnTo>
                  <a:lnTo>
                    <a:pt x="899" y="36"/>
                  </a:lnTo>
                  <a:lnTo>
                    <a:pt x="914" y="82"/>
                  </a:lnTo>
                  <a:lnTo>
                    <a:pt x="904" y="101"/>
                  </a:lnTo>
                  <a:lnTo>
                    <a:pt x="881" y="103"/>
                  </a:lnTo>
                  <a:lnTo>
                    <a:pt x="854" y="127"/>
                  </a:lnTo>
                  <a:lnTo>
                    <a:pt x="819" y="122"/>
                  </a:lnTo>
                  <a:lnTo>
                    <a:pt x="801" y="131"/>
                  </a:lnTo>
                  <a:lnTo>
                    <a:pt x="801" y="170"/>
                  </a:lnTo>
                  <a:lnTo>
                    <a:pt x="719" y="280"/>
                  </a:lnTo>
                  <a:lnTo>
                    <a:pt x="705" y="327"/>
                  </a:lnTo>
                  <a:lnTo>
                    <a:pt x="654" y="330"/>
                  </a:lnTo>
                  <a:lnTo>
                    <a:pt x="628" y="303"/>
                  </a:lnTo>
                  <a:lnTo>
                    <a:pt x="614" y="300"/>
                  </a:lnTo>
                  <a:lnTo>
                    <a:pt x="601" y="317"/>
                  </a:lnTo>
                  <a:lnTo>
                    <a:pt x="585" y="370"/>
                  </a:lnTo>
                  <a:lnTo>
                    <a:pt x="567" y="386"/>
                  </a:lnTo>
                  <a:lnTo>
                    <a:pt x="546" y="373"/>
                  </a:lnTo>
                  <a:lnTo>
                    <a:pt x="533" y="351"/>
                  </a:lnTo>
                  <a:lnTo>
                    <a:pt x="498" y="364"/>
                  </a:lnTo>
                  <a:lnTo>
                    <a:pt x="485" y="406"/>
                  </a:lnTo>
                  <a:lnTo>
                    <a:pt x="473" y="412"/>
                  </a:lnTo>
                  <a:lnTo>
                    <a:pt x="466" y="405"/>
                  </a:lnTo>
                  <a:lnTo>
                    <a:pt x="405" y="375"/>
                  </a:lnTo>
                  <a:lnTo>
                    <a:pt x="354" y="394"/>
                  </a:lnTo>
                  <a:lnTo>
                    <a:pt x="315" y="392"/>
                  </a:lnTo>
                  <a:lnTo>
                    <a:pt x="308" y="412"/>
                  </a:lnTo>
                  <a:lnTo>
                    <a:pt x="309" y="417"/>
                  </a:lnTo>
                  <a:lnTo>
                    <a:pt x="294" y="424"/>
                  </a:lnTo>
                  <a:lnTo>
                    <a:pt x="278" y="421"/>
                  </a:lnTo>
                  <a:lnTo>
                    <a:pt x="277" y="421"/>
                  </a:lnTo>
                  <a:lnTo>
                    <a:pt x="281" y="427"/>
                  </a:lnTo>
                  <a:lnTo>
                    <a:pt x="272" y="440"/>
                  </a:lnTo>
                  <a:lnTo>
                    <a:pt x="268" y="461"/>
                  </a:lnTo>
                  <a:lnTo>
                    <a:pt x="259" y="467"/>
                  </a:lnTo>
                  <a:lnTo>
                    <a:pt x="262" y="474"/>
                  </a:lnTo>
                  <a:lnTo>
                    <a:pt x="283" y="501"/>
                  </a:lnTo>
                  <a:lnTo>
                    <a:pt x="278" y="507"/>
                  </a:lnTo>
                  <a:lnTo>
                    <a:pt x="214" y="525"/>
                  </a:lnTo>
                  <a:lnTo>
                    <a:pt x="196" y="534"/>
                  </a:lnTo>
                  <a:lnTo>
                    <a:pt x="198" y="564"/>
                  </a:lnTo>
                  <a:lnTo>
                    <a:pt x="211" y="618"/>
                  </a:lnTo>
                  <a:lnTo>
                    <a:pt x="182" y="630"/>
                  </a:lnTo>
                  <a:lnTo>
                    <a:pt x="155" y="613"/>
                  </a:lnTo>
                  <a:lnTo>
                    <a:pt x="131" y="598"/>
                  </a:lnTo>
                  <a:lnTo>
                    <a:pt x="95" y="592"/>
                  </a:lnTo>
                  <a:lnTo>
                    <a:pt x="69" y="606"/>
                  </a:lnTo>
                  <a:lnTo>
                    <a:pt x="57" y="651"/>
                  </a:lnTo>
                  <a:lnTo>
                    <a:pt x="60" y="657"/>
                  </a:lnTo>
                  <a:lnTo>
                    <a:pt x="66" y="660"/>
                  </a:lnTo>
                  <a:lnTo>
                    <a:pt x="80" y="667"/>
                  </a:lnTo>
                  <a:lnTo>
                    <a:pt x="86" y="693"/>
                  </a:lnTo>
                  <a:lnTo>
                    <a:pt x="64" y="762"/>
                  </a:lnTo>
                  <a:lnTo>
                    <a:pt x="53" y="768"/>
                  </a:lnTo>
                  <a:lnTo>
                    <a:pt x="43" y="764"/>
                  </a:lnTo>
                  <a:lnTo>
                    <a:pt x="14" y="774"/>
                  </a:lnTo>
                  <a:lnTo>
                    <a:pt x="0" y="795"/>
                  </a:lnTo>
                  <a:lnTo>
                    <a:pt x="0" y="795"/>
                  </a:lnTo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65720" y="3666960"/>
              <a:ext cx="917640" cy="322560"/>
            </a:xfrm>
            <a:custGeom>
              <a:avLst/>
              <a:gdLst/>
              <a:ahLst/>
              <a:rect l="l" t="t" r="r" b="b"/>
              <a:pathLst>
                <a:path w="1732" h="608">
                  <a:moveTo>
                    <a:pt x="1732" y="0"/>
                  </a:moveTo>
                  <a:lnTo>
                    <a:pt x="1379" y="42"/>
                  </a:lnTo>
                  <a:lnTo>
                    <a:pt x="1364" y="56"/>
                  </a:lnTo>
                  <a:lnTo>
                    <a:pt x="488" y="135"/>
                  </a:lnTo>
                  <a:lnTo>
                    <a:pt x="474" y="128"/>
                  </a:lnTo>
                  <a:lnTo>
                    <a:pt x="440" y="130"/>
                  </a:lnTo>
                  <a:lnTo>
                    <a:pt x="446" y="145"/>
                  </a:lnTo>
                  <a:lnTo>
                    <a:pt x="446" y="171"/>
                  </a:lnTo>
                  <a:lnTo>
                    <a:pt x="136" y="197"/>
                  </a:lnTo>
                  <a:lnTo>
                    <a:pt x="124" y="234"/>
                  </a:lnTo>
                  <a:lnTo>
                    <a:pt x="111" y="280"/>
                  </a:lnTo>
                  <a:lnTo>
                    <a:pt x="117" y="293"/>
                  </a:lnTo>
                  <a:lnTo>
                    <a:pt x="103" y="332"/>
                  </a:lnTo>
                  <a:lnTo>
                    <a:pt x="97" y="346"/>
                  </a:lnTo>
                  <a:lnTo>
                    <a:pt x="103" y="359"/>
                  </a:lnTo>
                  <a:lnTo>
                    <a:pt x="92" y="381"/>
                  </a:lnTo>
                  <a:lnTo>
                    <a:pt x="66" y="409"/>
                  </a:lnTo>
                  <a:lnTo>
                    <a:pt x="55" y="465"/>
                  </a:lnTo>
                  <a:lnTo>
                    <a:pt x="28" y="499"/>
                  </a:lnTo>
                  <a:lnTo>
                    <a:pt x="34" y="536"/>
                  </a:lnTo>
                  <a:lnTo>
                    <a:pt x="30" y="583"/>
                  </a:lnTo>
                  <a:lnTo>
                    <a:pt x="23" y="587"/>
                  </a:lnTo>
                  <a:lnTo>
                    <a:pt x="0" y="608"/>
                  </a:lnTo>
                  <a:lnTo>
                    <a:pt x="446" y="574"/>
                  </a:lnTo>
                  <a:lnTo>
                    <a:pt x="1004" y="526"/>
                  </a:lnTo>
                  <a:lnTo>
                    <a:pt x="1219" y="499"/>
                  </a:lnTo>
                  <a:lnTo>
                    <a:pt x="1225" y="440"/>
                  </a:lnTo>
                  <a:lnTo>
                    <a:pt x="1245" y="440"/>
                  </a:lnTo>
                  <a:lnTo>
                    <a:pt x="1254" y="437"/>
                  </a:lnTo>
                  <a:lnTo>
                    <a:pt x="1270" y="422"/>
                  </a:lnTo>
                  <a:lnTo>
                    <a:pt x="1271" y="406"/>
                  </a:lnTo>
                  <a:lnTo>
                    <a:pt x="1270" y="391"/>
                  </a:lnTo>
                  <a:lnTo>
                    <a:pt x="1276" y="377"/>
                  </a:lnTo>
                  <a:lnTo>
                    <a:pt x="1292" y="358"/>
                  </a:lnTo>
                  <a:lnTo>
                    <a:pt x="1337" y="339"/>
                  </a:lnTo>
                  <a:lnTo>
                    <a:pt x="1387" y="326"/>
                  </a:lnTo>
                  <a:lnTo>
                    <a:pt x="1437" y="283"/>
                  </a:lnTo>
                  <a:lnTo>
                    <a:pt x="1456" y="275"/>
                  </a:lnTo>
                  <a:lnTo>
                    <a:pt x="1487" y="246"/>
                  </a:lnTo>
                  <a:lnTo>
                    <a:pt x="1494" y="221"/>
                  </a:lnTo>
                  <a:lnTo>
                    <a:pt x="1499" y="218"/>
                  </a:lnTo>
                  <a:lnTo>
                    <a:pt x="1512" y="219"/>
                  </a:lnTo>
                  <a:lnTo>
                    <a:pt x="1522" y="208"/>
                  </a:lnTo>
                  <a:lnTo>
                    <a:pt x="1524" y="201"/>
                  </a:lnTo>
                  <a:lnTo>
                    <a:pt x="1541" y="183"/>
                  </a:lnTo>
                  <a:lnTo>
                    <a:pt x="1547" y="185"/>
                  </a:lnTo>
                  <a:lnTo>
                    <a:pt x="1562" y="197"/>
                  </a:lnTo>
                  <a:lnTo>
                    <a:pt x="1577" y="187"/>
                  </a:lnTo>
                  <a:lnTo>
                    <a:pt x="1582" y="177"/>
                  </a:lnTo>
                  <a:lnTo>
                    <a:pt x="1606" y="156"/>
                  </a:lnTo>
                  <a:lnTo>
                    <a:pt x="1624" y="150"/>
                  </a:lnTo>
                  <a:lnTo>
                    <a:pt x="1658" y="147"/>
                  </a:lnTo>
                  <a:lnTo>
                    <a:pt x="1695" y="88"/>
                  </a:lnTo>
                  <a:lnTo>
                    <a:pt x="1724" y="69"/>
                  </a:lnTo>
                  <a:lnTo>
                    <a:pt x="1726" y="53"/>
                  </a:lnTo>
                  <a:lnTo>
                    <a:pt x="1732" y="36"/>
                  </a:lnTo>
                  <a:lnTo>
                    <a:pt x="1726" y="16"/>
                  </a:lnTo>
                  <a:lnTo>
                    <a:pt x="1732" y="0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02240" y="3946680"/>
              <a:ext cx="430200" cy="684000"/>
            </a:xfrm>
            <a:custGeom>
              <a:avLst/>
              <a:gdLst/>
              <a:ahLst/>
              <a:rect l="l" t="t" r="r" b="b"/>
              <a:pathLst>
                <a:path w="814" h="1293">
                  <a:moveTo>
                    <a:pt x="0" y="48"/>
                  </a:moveTo>
                  <a:lnTo>
                    <a:pt x="21" y="74"/>
                  </a:lnTo>
                  <a:lnTo>
                    <a:pt x="6" y="855"/>
                  </a:lnTo>
                  <a:lnTo>
                    <a:pt x="10" y="891"/>
                  </a:lnTo>
                  <a:lnTo>
                    <a:pt x="57" y="1287"/>
                  </a:lnTo>
                  <a:lnTo>
                    <a:pt x="67" y="1280"/>
                  </a:lnTo>
                  <a:lnTo>
                    <a:pt x="80" y="1271"/>
                  </a:lnTo>
                  <a:lnTo>
                    <a:pt x="115" y="1283"/>
                  </a:lnTo>
                  <a:lnTo>
                    <a:pt x="122" y="1268"/>
                  </a:lnTo>
                  <a:lnTo>
                    <a:pt x="130" y="1211"/>
                  </a:lnTo>
                  <a:lnTo>
                    <a:pt x="145" y="1170"/>
                  </a:lnTo>
                  <a:lnTo>
                    <a:pt x="166" y="1211"/>
                  </a:lnTo>
                  <a:lnTo>
                    <a:pt x="164" y="1224"/>
                  </a:lnTo>
                  <a:lnTo>
                    <a:pt x="175" y="1255"/>
                  </a:lnTo>
                  <a:lnTo>
                    <a:pt x="200" y="1293"/>
                  </a:lnTo>
                  <a:lnTo>
                    <a:pt x="223" y="1293"/>
                  </a:lnTo>
                  <a:lnTo>
                    <a:pt x="242" y="1293"/>
                  </a:lnTo>
                  <a:lnTo>
                    <a:pt x="269" y="1264"/>
                  </a:lnTo>
                  <a:lnTo>
                    <a:pt x="273" y="1261"/>
                  </a:lnTo>
                  <a:lnTo>
                    <a:pt x="288" y="1249"/>
                  </a:lnTo>
                  <a:lnTo>
                    <a:pt x="288" y="1245"/>
                  </a:lnTo>
                  <a:lnTo>
                    <a:pt x="284" y="1238"/>
                  </a:lnTo>
                  <a:lnTo>
                    <a:pt x="271" y="1232"/>
                  </a:lnTo>
                  <a:lnTo>
                    <a:pt x="271" y="1224"/>
                  </a:lnTo>
                  <a:lnTo>
                    <a:pt x="282" y="1202"/>
                  </a:lnTo>
                  <a:lnTo>
                    <a:pt x="278" y="1191"/>
                  </a:lnTo>
                  <a:lnTo>
                    <a:pt x="260" y="1177"/>
                  </a:lnTo>
                  <a:lnTo>
                    <a:pt x="253" y="1177"/>
                  </a:lnTo>
                  <a:lnTo>
                    <a:pt x="244" y="1165"/>
                  </a:lnTo>
                  <a:lnTo>
                    <a:pt x="225" y="1142"/>
                  </a:lnTo>
                  <a:lnTo>
                    <a:pt x="223" y="1122"/>
                  </a:lnTo>
                  <a:lnTo>
                    <a:pt x="229" y="1116"/>
                  </a:lnTo>
                  <a:lnTo>
                    <a:pt x="228" y="1112"/>
                  </a:lnTo>
                  <a:lnTo>
                    <a:pt x="228" y="1098"/>
                  </a:lnTo>
                  <a:lnTo>
                    <a:pt x="814" y="1041"/>
                  </a:lnTo>
                  <a:lnTo>
                    <a:pt x="811" y="1024"/>
                  </a:lnTo>
                  <a:lnTo>
                    <a:pt x="784" y="983"/>
                  </a:lnTo>
                  <a:lnTo>
                    <a:pt x="786" y="914"/>
                  </a:lnTo>
                  <a:lnTo>
                    <a:pt x="762" y="855"/>
                  </a:lnTo>
                  <a:lnTo>
                    <a:pt x="757" y="808"/>
                  </a:lnTo>
                  <a:lnTo>
                    <a:pt x="772" y="777"/>
                  </a:lnTo>
                  <a:lnTo>
                    <a:pt x="772" y="741"/>
                  </a:lnTo>
                  <a:lnTo>
                    <a:pt x="792" y="713"/>
                  </a:lnTo>
                  <a:lnTo>
                    <a:pt x="795" y="706"/>
                  </a:lnTo>
                  <a:lnTo>
                    <a:pt x="774" y="682"/>
                  </a:lnTo>
                  <a:lnTo>
                    <a:pt x="780" y="659"/>
                  </a:lnTo>
                  <a:lnTo>
                    <a:pt x="768" y="644"/>
                  </a:lnTo>
                  <a:lnTo>
                    <a:pt x="748" y="631"/>
                  </a:lnTo>
                  <a:lnTo>
                    <a:pt x="741" y="613"/>
                  </a:lnTo>
                  <a:lnTo>
                    <a:pt x="727" y="574"/>
                  </a:lnTo>
                  <a:lnTo>
                    <a:pt x="715" y="560"/>
                  </a:lnTo>
                  <a:lnTo>
                    <a:pt x="55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95800" y="3201840"/>
              <a:ext cx="849240" cy="487440"/>
            </a:xfrm>
            <a:custGeom>
              <a:avLst/>
              <a:gdLst/>
              <a:ahLst/>
              <a:rect l="l" t="t" r="r" b="b"/>
              <a:pathLst>
                <a:path w="1606" h="921">
                  <a:moveTo>
                    <a:pt x="1585" y="672"/>
                  </a:moveTo>
                  <a:lnTo>
                    <a:pt x="1055" y="772"/>
                  </a:lnTo>
                  <a:lnTo>
                    <a:pt x="500" y="864"/>
                  </a:lnTo>
                  <a:lnTo>
                    <a:pt x="487" y="859"/>
                  </a:lnTo>
                  <a:lnTo>
                    <a:pt x="465" y="865"/>
                  </a:lnTo>
                  <a:lnTo>
                    <a:pt x="408" y="871"/>
                  </a:lnTo>
                  <a:lnTo>
                    <a:pt x="411" y="861"/>
                  </a:lnTo>
                  <a:lnTo>
                    <a:pt x="352" y="871"/>
                  </a:lnTo>
                  <a:lnTo>
                    <a:pt x="352" y="879"/>
                  </a:lnTo>
                  <a:lnTo>
                    <a:pt x="0" y="921"/>
                  </a:lnTo>
                  <a:lnTo>
                    <a:pt x="15" y="908"/>
                  </a:lnTo>
                  <a:lnTo>
                    <a:pt x="90" y="871"/>
                  </a:lnTo>
                  <a:lnTo>
                    <a:pt x="99" y="854"/>
                  </a:lnTo>
                  <a:lnTo>
                    <a:pt x="141" y="823"/>
                  </a:lnTo>
                  <a:lnTo>
                    <a:pt x="144" y="804"/>
                  </a:lnTo>
                  <a:lnTo>
                    <a:pt x="148" y="795"/>
                  </a:lnTo>
                  <a:lnTo>
                    <a:pt x="169" y="785"/>
                  </a:lnTo>
                  <a:lnTo>
                    <a:pt x="170" y="759"/>
                  </a:lnTo>
                  <a:lnTo>
                    <a:pt x="192" y="739"/>
                  </a:lnTo>
                  <a:lnTo>
                    <a:pt x="299" y="645"/>
                  </a:lnTo>
                  <a:lnTo>
                    <a:pt x="308" y="627"/>
                  </a:lnTo>
                  <a:lnTo>
                    <a:pt x="315" y="631"/>
                  </a:lnTo>
                  <a:lnTo>
                    <a:pt x="308" y="652"/>
                  </a:lnTo>
                  <a:lnTo>
                    <a:pt x="339" y="686"/>
                  </a:lnTo>
                  <a:lnTo>
                    <a:pt x="386" y="700"/>
                  </a:lnTo>
                  <a:lnTo>
                    <a:pt x="406" y="702"/>
                  </a:lnTo>
                  <a:lnTo>
                    <a:pt x="432" y="684"/>
                  </a:lnTo>
                  <a:lnTo>
                    <a:pt x="434" y="671"/>
                  </a:lnTo>
                  <a:lnTo>
                    <a:pt x="451" y="661"/>
                  </a:lnTo>
                  <a:lnTo>
                    <a:pt x="466" y="675"/>
                  </a:lnTo>
                  <a:lnTo>
                    <a:pt x="476" y="679"/>
                  </a:lnTo>
                  <a:lnTo>
                    <a:pt x="493" y="677"/>
                  </a:lnTo>
                  <a:lnTo>
                    <a:pt x="545" y="656"/>
                  </a:lnTo>
                  <a:lnTo>
                    <a:pt x="553" y="622"/>
                  </a:lnTo>
                  <a:lnTo>
                    <a:pt x="561" y="622"/>
                  </a:lnTo>
                  <a:lnTo>
                    <a:pt x="571" y="635"/>
                  </a:lnTo>
                  <a:lnTo>
                    <a:pt x="614" y="596"/>
                  </a:lnTo>
                  <a:lnTo>
                    <a:pt x="628" y="604"/>
                  </a:lnTo>
                  <a:lnTo>
                    <a:pt x="664" y="557"/>
                  </a:lnTo>
                  <a:lnTo>
                    <a:pt x="655" y="540"/>
                  </a:lnTo>
                  <a:lnTo>
                    <a:pt x="659" y="508"/>
                  </a:lnTo>
                  <a:lnTo>
                    <a:pt x="695" y="442"/>
                  </a:lnTo>
                  <a:lnTo>
                    <a:pt x="739" y="268"/>
                  </a:lnTo>
                  <a:lnTo>
                    <a:pt x="747" y="267"/>
                  </a:lnTo>
                  <a:lnTo>
                    <a:pt x="774" y="282"/>
                  </a:lnTo>
                  <a:lnTo>
                    <a:pt x="775" y="294"/>
                  </a:lnTo>
                  <a:lnTo>
                    <a:pt x="789" y="307"/>
                  </a:lnTo>
                  <a:lnTo>
                    <a:pt x="817" y="302"/>
                  </a:lnTo>
                  <a:lnTo>
                    <a:pt x="834" y="271"/>
                  </a:lnTo>
                  <a:lnTo>
                    <a:pt x="852" y="205"/>
                  </a:lnTo>
                  <a:lnTo>
                    <a:pt x="867" y="180"/>
                  </a:lnTo>
                  <a:lnTo>
                    <a:pt x="891" y="192"/>
                  </a:lnTo>
                  <a:lnTo>
                    <a:pt x="909" y="154"/>
                  </a:lnTo>
                  <a:lnTo>
                    <a:pt x="925" y="146"/>
                  </a:lnTo>
                  <a:lnTo>
                    <a:pt x="937" y="126"/>
                  </a:lnTo>
                  <a:lnTo>
                    <a:pt x="951" y="92"/>
                  </a:lnTo>
                  <a:lnTo>
                    <a:pt x="961" y="83"/>
                  </a:lnTo>
                  <a:lnTo>
                    <a:pt x="964" y="73"/>
                  </a:lnTo>
                  <a:lnTo>
                    <a:pt x="956" y="67"/>
                  </a:lnTo>
                  <a:lnTo>
                    <a:pt x="960" y="14"/>
                  </a:lnTo>
                  <a:lnTo>
                    <a:pt x="964" y="6"/>
                  </a:lnTo>
                  <a:lnTo>
                    <a:pt x="973" y="0"/>
                  </a:lnTo>
                  <a:lnTo>
                    <a:pt x="1067" y="60"/>
                  </a:lnTo>
                  <a:lnTo>
                    <a:pt x="1083" y="66"/>
                  </a:lnTo>
                  <a:lnTo>
                    <a:pt x="1087" y="62"/>
                  </a:lnTo>
                  <a:lnTo>
                    <a:pt x="1097" y="10"/>
                  </a:lnTo>
                  <a:lnTo>
                    <a:pt x="1112" y="7"/>
                  </a:lnTo>
                  <a:lnTo>
                    <a:pt x="1132" y="14"/>
                  </a:lnTo>
                  <a:lnTo>
                    <a:pt x="1152" y="20"/>
                  </a:lnTo>
                  <a:lnTo>
                    <a:pt x="1140" y="44"/>
                  </a:lnTo>
                  <a:lnTo>
                    <a:pt x="1160" y="67"/>
                  </a:lnTo>
                  <a:lnTo>
                    <a:pt x="1200" y="67"/>
                  </a:lnTo>
                  <a:lnTo>
                    <a:pt x="1219" y="85"/>
                  </a:lnTo>
                  <a:lnTo>
                    <a:pt x="1242" y="96"/>
                  </a:lnTo>
                  <a:lnTo>
                    <a:pt x="1262" y="120"/>
                  </a:lnTo>
                  <a:lnTo>
                    <a:pt x="1259" y="130"/>
                  </a:lnTo>
                  <a:lnTo>
                    <a:pt x="1234" y="178"/>
                  </a:lnTo>
                  <a:lnTo>
                    <a:pt x="1217" y="221"/>
                  </a:lnTo>
                  <a:lnTo>
                    <a:pt x="1222" y="248"/>
                  </a:lnTo>
                  <a:lnTo>
                    <a:pt x="1252" y="249"/>
                  </a:lnTo>
                  <a:lnTo>
                    <a:pt x="1279" y="233"/>
                  </a:lnTo>
                  <a:lnTo>
                    <a:pt x="1300" y="256"/>
                  </a:lnTo>
                  <a:lnTo>
                    <a:pt x="1315" y="264"/>
                  </a:lnTo>
                  <a:lnTo>
                    <a:pt x="1324" y="268"/>
                  </a:lnTo>
                  <a:lnTo>
                    <a:pt x="1341" y="281"/>
                  </a:lnTo>
                  <a:lnTo>
                    <a:pt x="1348" y="282"/>
                  </a:lnTo>
                  <a:lnTo>
                    <a:pt x="1362" y="276"/>
                  </a:lnTo>
                  <a:lnTo>
                    <a:pt x="1370" y="278"/>
                  </a:lnTo>
                  <a:lnTo>
                    <a:pt x="1419" y="303"/>
                  </a:lnTo>
                  <a:lnTo>
                    <a:pt x="1451" y="312"/>
                  </a:lnTo>
                  <a:lnTo>
                    <a:pt x="1471" y="334"/>
                  </a:lnTo>
                  <a:lnTo>
                    <a:pt x="1468" y="344"/>
                  </a:lnTo>
                  <a:lnTo>
                    <a:pt x="1457" y="354"/>
                  </a:lnTo>
                  <a:lnTo>
                    <a:pt x="1462" y="387"/>
                  </a:lnTo>
                  <a:lnTo>
                    <a:pt x="1457" y="394"/>
                  </a:lnTo>
                  <a:lnTo>
                    <a:pt x="1446" y="402"/>
                  </a:lnTo>
                  <a:lnTo>
                    <a:pt x="1446" y="404"/>
                  </a:lnTo>
                  <a:lnTo>
                    <a:pt x="1483" y="422"/>
                  </a:lnTo>
                  <a:lnTo>
                    <a:pt x="1495" y="447"/>
                  </a:lnTo>
                  <a:lnTo>
                    <a:pt x="1495" y="456"/>
                  </a:lnTo>
                  <a:lnTo>
                    <a:pt x="1487" y="467"/>
                  </a:lnTo>
                  <a:lnTo>
                    <a:pt x="1458" y="460"/>
                  </a:lnTo>
                  <a:lnTo>
                    <a:pt x="1454" y="473"/>
                  </a:lnTo>
                  <a:lnTo>
                    <a:pt x="1465" y="484"/>
                  </a:lnTo>
                  <a:lnTo>
                    <a:pt x="1470" y="484"/>
                  </a:lnTo>
                  <a:lnTo>
                    <a:pt x="1470" y="494"/>
                  </a:lnTo>
                  <a:lnTo>
                    <a:pt x="1452" y="499"/>
                  </a:lnTo>
                  <a:lnTo>
                    <a:pt x="1446" y="498"/>
                  </a:lnTo>
                  <a:lnTo>
                    <a:pt x="1444" y="505"/>
                  </a:lnTo>
                  <a:lnTo>
                    <a:pt x="1454" y="513"/>
                  </a:lnTo>
                  <a:lnTo>
                    <a:pt x="1477" y="517"/>
                  </a:lnTo>
                  <a:lnTo>
                    <a:pt x="1502" y="526"/>
                  </a:lnTo>
                  <a:lnTo>
                    <a:pt x="1508" y="539"/>
                  </a:lnTo>
                  <a:lnTo>
                    <a:pt x="1483" y="564"/>
                  </a:lnTo>
                  <a:lnTo>
                    <a:pt x="1470" y="564"/>
                  </a:lnTo>
                  <a:lnTo>
                    <a:pt x="1440" y="551"/>
                  </a:lnTo>
                  <a:lnTo>
                    <a:pt x="1440" y="564"/>
                  </a:lnTo>
                  <a:lnTo>
                    <a:pt x="1459" y="576"/>
                  </a:lnTo>
                  <a:lnTo>
                    <a:pt x="1482" y="593"/>
                  </a:lnTo>
                  <a:lnTo>
                    <a:pt x="1503" y="584"/>
                  </a:lnTo>
                  <a:lnTo>
                    <a:pt x="1525" y="564"/>
                  </a:lnTo>
                  <a:lnTo>
                    <a:pt x="1549" y="567"/>
                  </a:lnTo>
                  <a:lnTo>
                    <a:pt x="1577" y="564"/>
                  </a:lnTo>
                  <a:lnTo>
                    <a:pt x="1581" y="570"/>
                  </a:lnTo>
                  <a:lnTo>
                    <a:pt x="1606" y="645"/>
                  </a:lnTo>
                  <a:lnTo>
                    <a:pt x="1590" y="661"/>
                  </a:lnTo>
                  <a:lnTo>
                    <a:pt x="1584" y="661"/>
                  </a:lnTo>
                  <a:lnTo>
                    <a:pt x="1585" y="672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10120" y="3559320"/>
              <a:ext cx="984240" cy="422280"/>
            </a:xfrm>
            <a:custGeom>
              <a:avLst/>
              <a:gdLst/>
              <a:ahLst/>
              <a:rect l="l" t="t" r="r" b="b"/>
              <a:pathLst>
                <a:path w="1858" h="800">
                  <a:moveTo>
                    <a:pt x="0" y="705"/>
                  </a:moveTo>
                  <a:lnTo>
                    <a:pt x="6" y="646"/>
                  </a:lnTo>
                  <a:lnTo>
                    <a:pt x="26" y="646"/>
                  </a:lnTo>
                  <a:lnTo>
                    <a:pt x="35" y="642"/>
                  </a:lnTo>
                  <a:lnTo>
                    <a:pt x="51" y="628"/>
                  </a:lnTo>
                  <a:lnTo>
                    <a:pt x="52" y="611"/>
                  </a:lnTo>
                  <a:lnTo>
                    <a:pt x="51" y="597"/>
                  </a:lnTo>
                  <a:lnTo>
                    <a:pt x="57" y="583"/>
                  </a:lnTo>
                  <a:lnTo>
                    <a:pt x="73" y="564"/>
                  </a:lnTo>
                  <a:lnTo>
                    <a:pt x="118" y="545"/>
                  </a:lnTo>
                  <a:lnTo>
                    <a:pt x="168" y="532"/>
                  </a:lnTo>
                  <a:lnTo>
                    <a:pt x="218" y="489"/>
                  </a:lnTo>
                  <a:lnTo>
                    <a:pt x="237" y="480"/>
                  </a:lnTo>
                  <a:lnTo>
                    <a:pt x="268" y="452"/>
                  </a:lnTo>
                  <a:lnTo>
                    <a:pt x="275" y="427"/>
                  </a:lnTo>
                  <a:lnTo>
                    <a:pt x="280" y="424"/>
                  </a:lnTo>
                  <a:lnTo>
                    <a:pt x="293" y="425"/>
                  </a:lnTo>
                  <a:lnTo>
                    <a:pt x="303" y="414"/>
                  </a:lnTo>
                  <a:lnTo>
                    <a:pt x="305" y="407"/>
                  </a:lnTo>
                  <a:lnTo>
                    <a:pt x="322" y="389"/>
                  </a:lnTo>
                  <a:lnTo>
                    <a:pt x="328" y="391"/>
                  </a:lnTo>
                  <a:lnTo>
                    <a:pt x="343" y="402"/>
                  </a:lnTo>
                  <a:lnTo>
                    <a:pt x="358" y="392"/>
                  </a:lnTo>
                  <a:lnTo>
                    <a:pt x="363" y="383"/>
                  </a:lnTo>
                  <a:lnTo>
                    <a:pt x="387" y="362"/>
                  </a:lnTo>
                  <a:lnTo>
                    <a:pt x="406" y="355"/>
                  </a:lnTo>
                  <a:lnTo>
                    <a:pt x="439" y="353"/>
                  </a:lnTo>
                  <a:lnTo>
                    <a:pt x="476" y="294"/>
                  </a:lnTo>
                  <a:lnTo>
                    <a:pt x="505" y="275"/>
                  </a:lnTo>
                  <a:lnTo>
                    <a:pt x="507" y="259"/>
                  </a:lnTo>
                  <a:lnTo>
                    <a:pt x="513" y="241"/>
                  </a:lnTo>
                  <a:lnTo>
                    <a:pt x="507" y="222"/>
                  </a:lnTo>
                  <a:lnTo>
                    <a:pt x="513" y="206"/>
                  </a:lnTo>
                  <a:lnTo>
                    <a:pt x="513" y="199"/>
                  </a:lnTo>
                  <a:lnTo>
                    <a:pt x="572" y="188"/>
                  </a:lnTo>
                  <a:lnTo>
                    <a:pt x="568" y="199"/>
                  </a:lnTo>
                  <a:lnTo>
                    <a:pt x="625" y="193"/>
                  </a:lnTo>
                  <a:lnTo>
                    <a:pt x="647" y="187"/>
                  </a:lnTo>
                  <a:lnTo>
                    <a:pt x="661" y="191"/>
                  </a:lnTo>
                  <a:lnTo>
                    <a:pt x="1216" y="99"/>
                  </a:lnTo>
                  <a:lnTo>
                    <a:pt x="1745" y="0"/>
                  </a:lnTo>
                  <a:lnTo>
                    <a:pt x="1755" y="6"/>
                  </a:lnTo>
                  <a:lnTo>
                    <a:pt x="1759" y="16"/>
                  </a:lnTo>
                  <a:lnTo>
                    <a:pt x="1772" y="25"/>
                  </a:lnTo>
                  <a:lnTo>
                    <a:pt x="1783" y="27"/>
                  </a:lnTo>
                  <a:lnTo>
                    <a:pt x="1791" y="39"/>
                  </a:lnTo>
                  <a:lnTo>
                    <a:pt x="1799" y="49"/>
                  </a:lnTo>
                  <a:lnTo>
                    <a:pt x="1812" y="76"/>
                  </a:lnTo>
                  <a:lnTo>
                    <a:pt x="1806" y="82"/>
                  </a:lnTo>
                  <a:lnTo>
                    <a:pt x="1810" y="84"/>
                  </a:lnTo>
                  <a:lnTo>
                    <a:pt x="1801" y="84"/>
                  </a:lnTo>
                  <a:lnTo>
                    <a:pt x="1797" y="77"/>
                  </a:lnTo>
                  <a:lnTo>
                    <a:pt x="1783" y="80"/>
                  </a:lnTo>
                  <a:lnTo>
                    <a:pt x="1770" y="80"/>
                  </a:lnTo>
                  <a:lnTo>
                    <a:pt x="1760" y="76"/>
                  </a:lnTo>
                  <a:lnTo>
                    <a:pt x="1753" y="79"/>
                  </a:lnTo>
                  <a:lnTo>
                    <a:pt x="1759" y="88"/>
                  </a:lnTo>
                  <a:lnTo>
                    <a:pt x="1759" y="95"/>
                  </a:lnTo>
                  <a:lnTo>
                    <a:pt x="1708" y="118"/>
                  </a:lnTo>
                  <a:lnTo>
                    <a:pt x="1698" y="128"/>
                  </a:lnTo>
                  <a:lnTo>
                    <a:pt x="1676" y="147"/>
                  </a:lnTo>
                  <a:lnTo>
                    <a:pt x="1646" y="152"/>
                  </a:lnTo>
                  <a:lnTo>
                    <a:pt x="1639" y="173"/>
                  </a:lnTo>
                  <a:lnTo>
                    <a:pt x="1639" y="181"/>
                  </a:lnTo>
                  <a:lnTo>
                    <a:pt x="1645" y="181"/>
                  </a:lnTo>
                  <a:lnTo>
                    <a:pt x="1658" y="179"/>
                  </a:lnTo>
                  <a:lnTo>
                    <a:pt x="1688" y="162"/>
                  </a:lnTo>
                  <a:lnTo>
                    <a:pt x="1723" y="153"/>
                  </a:lnTo>
                  <a:lnTo>
                    <a:pt x="1742" y="140"/>
                  </a:lnTo>
                  <a:lnTo>
                    <a:pt x="1772" y="140"/>
                  </a:lnTo>
                  <a:lnTo>
                    <a:pt x="1776" y="147"/>
                  </a:lnTo>
                  <a:lnTo>
                    <a:pt x="1772" y="167"/>
                  </a:lnTo>
                  <a:lnTo>
                    <a:pt x="1776" y="175"/>
                  </a:lnTo>
                  <a:lnTo>
                    <a:pt x="1786" y="181"/>
                  </a:lnTo>
                  <a:lnTo>
                    <a:pt x="1797" y="177"/>
                  </a:lnTo>
                  <a:lnTo>
                    <a:pt x="1801" y="167"/>
                  </a:lnTo>
                  <a:lnTo>
                    <a:pt x="1821" y="141"/>
                  </a:lnTo>
                  <a:lnTo>
                    <a:pt x="1837" y="141"/>
                  </a:lnTo>
                  <a:lnTo>
                    <a:pt x="1848" y="167"/>
                  </a:lnTo>
                  <a:lnTo>
                    <a:pt x="1852" y="210"/>
                  </a:lnTo>
                  <a:lnTo>
                    <a:pt x="1858" y="222"/>
                  </a:lnTo>
                  <a:lnTo>
                    <a:pt x="1856" y="229"/>
                  </a:lnTo>
                  <a:lnTo>
                    <a:pt x="1829" y="251"/>
                  </a:lnTo>
                  <a:lnTo>
                    <a:pt x="1821" y="269"/>
                  </a:lnTo>
                  <a:lnTo>
                    <a:pt x="1819" y="279"/>
                  </a:lnTo>
                  <a:lnTo>
                    <a:pt x="1797" y="294"/>
                  </a:lnTo>
                  <a:lnTo>
                    <a:pt x="1783" y="303"/>
                  </a:lnTo>
                  <a:lnTo>
                    <a:pt x="1766" y="313"/>
                  </a:lnTo>
                  <a:lnTo>
                    <a:pt x="1730" y="308"/>
                  </a:lnTo>
                  <a:lnTo>
                    <a:pt x="1718" y="305"/>
                  </a:lnTo>
                  <a:lnTo>
                    <a:pt x="1717" y="310"/>
                  </a:lnTo>
                  <a:lnTo>
                    <a:pt x="1711" y="310"/>
                  </a:lnTo>
                  <a:lnTo>
                    <a:pt x="1705" y="292"/>
                  </a:lnTo>
                  <a:lnTo>
                    <a:pt x="1705" y="285"/>
                  </a:lnTo>
                  <a:lnTo>
                    <a:pt x="1699" y="279"/>
                  </a:lnTo>
                  <a:lnTo>
                    <a:pt x="1690" y="276"/>
                  </a:lnTo>
                  <a:lnTo>
                    <a:pt x="1684" y="282"/>
                  </a:lnTo>
                  <a:lnTo>
                    <a:pt x="1688" y="316"/>
                  </a:lnTo>
                  <a:lnTo>
                    <a:pt x="1684" y="324"/>
                  </a:lnTo>
                  <a:lnTo>
                    <a:pt x="1679" y="320"/>
                  </a:lnTo>
                  <a:lnTo>
                    <a:pt x="1690" y="336"/>
                  </a:lnTo>
                  <a:lnTo>
                    <a:pt x="1705" y="336"/>
                  </a:lnTo>
                  <a:lnTo>
                    <a:pt x="1718" y="353"/>
                  </a:lnTo>
                  <a:lnTo>
                    <a:pt x="1709" y="371"/>
                  </a:lnTo>
                  <a:lnTo>
                    <a:pt x="1717" y="381"/>
                  </a:lnTo>
                  <a:lnTo>
                    <a:pt x="1675" y="432"/>
                  </a:lnTo>
                  <a:lnTo>
                    <a:pt x="1664" y="434"/>
                  </a:lnTo>
                  <a:lnTo>
                    <a:pt x="1640" y="428"/>
                  </a:lnTo>
                  <a:lnTo>
                    <a:pt x="1625" y="428"/>
                  </a:lnTo>
                  <a:lnTo>
                    <a:pt x="1621" y="434"/>
                  </a:lnTo>
                  <a:lnTo>
                    <a:pt x="1636" y="444"/>
                  </a:lnTo>
                  <a:lnTo>
                    <a:pt x="1679" y="442"/>
                  </a:lnTo>
                  <a:lnTo>
                    <a:pt x="1708" y="436"/>
                  </a:lnTo>
                  <a:lnTo>
                    <a:pt x="1745" y="414"/>
                  </a:lnTo>
                  <a:lnTo>
                    <a:pt x="1752" y="401"/>
                  </a:lnTo>
                  <a:lnTo>
                    <a:pt x="1760" y="404"/>
                  </a:lnTo>
                  <a:lnTo>
                    <a:pt x="1775" y="417"/>
                  </a:lnTo>
                  <a:lnTo>
                    <a:pt x="1762" y="449"/>
                  </a:lnTo>
                  <a:lnTo>
                    <a:pt x="1728" y="487"/>
                  </a:lnTo>
                  <a:lnTo>
                    <a:pt x="1693" y="493"/>
                  </a:lnTo>
                  <a:lnTo>
                    <a:pt x="1676" y="501"/>
                  </a:lnTo>
                  <a:lnTo>
                    <a:pt x="1635" y="506"/>
                  </a:lnTo>
                  <a:lnTo>
                    <a:pt x="1598" y="566"/>
                  </a:lnTo>
                  <a:lnTo>
                    <a:pt x="1582" y="571"/>
                  </a:lnTo>
                  <a:lnTo>
                    <a:pt x="1582" y="578"/>
                  </a:lnTo>
                  <a:lnTo>
                    <a:pt x="1585" y="579"/>
                  </a:lnTo>
                  <a:lnTo>
                    <a:pt x="1542" y="605"/>
                  </a:lnTo>
                  <a:lnTo>
                    <a:pt x="1519" y="636"/>
                  </a:lnTo>
                  <a:lnTo>
                    <a:pt x="1497" y="688"/>
                  </a:lnTo>
                  <a:lnTo>
                    <a:pt x="1484" y="752"/>
                  </a:lnTo>
                  <a:lnTo>
                    <a:pt x="1475" y="766"/>
                  </a:lnTo>
                  <a:lnTo>
                    <a:pt x="1453" y="776"/>
                  </a:lnTo>
                  <a:lnTo>
                    <a:pt x="1366" y="792"/>
                  </a:lnTo>
                  <a:lnTo>
                    <a:pt x="1355" y="800"/>
                  </a:lnTo>
                  <a:lnTo>
                    <a:pt x="1072" y="603"/>
                  </a:lnTo>
                  <a:lnTo>
                    <a:pt x="832" y="634"/>
                  </a:lnTo>
                  <a:lnTo>
                    <a:pt x="826" y="600"/>
                  </a:lnTo>
                  <a:lnTo>
                    <a:pt x="780" y="566"/>
                  </a:lnTo>
                  <a:lnTo>
                    <a:pt x="762" y="578"/>
                  </a:lnTo>
                  <a:lnTo>
                    <a:pt x="754" y="569"/>
                  </a:lnTo>
                  <a:lnTo>
                    <a:pt x="757" y="558"/>
                  </a:lnTo>
                  <a:lnTo>
                    <a:pt x="755" y="552"/>
                  </a:lnTo>
                  <a:lnTo>
                    <a:pt x="476" y="585"/>
                  </a:lnTo>
                  <a:lnTo>
                    <a:pt x="467" y="583"/>
                  </a:lnTo>
                  <a:lnTo>
                    <a:pt x="462" y="591"/>
                  </a:lnTo>
                  <a:lnTo>
                    <a:pt x="406" y="619"/>
                  </a:lnTo>
                  <a:lnTo>
                    <a:pt x="404" y="631"/>
                  </a:lnTo>
                  <a:lnTo>
                    <a:pt x="384" y="631"/>
                  </a:lnTo>
                  <a:lnTo>
                    <a:pt x="321" y="662"/>
                  </a:lnTo>
                  <a:lnTo>
                    <a:pt x="0" y="705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57720" y="3851280"/>
              <a:ext cx="569880" cy="431640"/>
            </a:xfrm>
            <a:custGeom>
              <a:avLst/>
              <a:gdLst/>
              <a:ahLst/>
              <a:rect l="l" t="t" r="r" b="b"/>
              <a:pathLst>
                <a:path w="1078" h="818">
                  <a:moveTo>
                    <a:pt x="648" y="816"/>
                  </a:moveTo>
                  <a:lnTo>
                    <a:pt x="637" y="818"/>
                  </a:lnTo>
                  <a:lnTo>
                    <a:pt x="605" y="813"/>
                  </a:lnTo>
                  <a:lnTo>
                    <a:pt x="597" y="806"/>
                  </a:lnTo>
                  <a:lnTo>
                    <a:pt x="591" y="794"/>
                  </a:lnTo>
                  <a:lnTo>
                    <a:pt x="578" y="740"/>
                  </a:lnTo>
                  <a:lnTo>
                    <a:pt x="550" y="703"/>
                  </a:lnTo>
                  <a:lnTo>
                    <a:pt x="517" y="687"/>
                  </a:lnTo>
                  <a:lnTo>
                    <a:pt x="500" y="633"/>
                  </a:lnTo>
                  <a:lnTo>
                    <a:pt x="478" y="609"/>
                  </a:lnTo>
                  <a:lnTo>
                    <a:pt x="469" y="578"/>
                  </a:lnTo>
                  <a:lnTo>
                    <a:pt x="450" y="571"/>
                  </a:lnTo>
                  <a:lnTo>
                    <a:pt x="412" y="558"/>
                  </a:lnTo>
                  <a:lnTo>
                    <a:pt x="390" y="526"/>
                  </a:lnTo>
                  <a:lnTo>
                    <a:pt x="364" y="511"/>
                  </a:lnTo>
                  <a:lnTo>
                    <a:pt x="363" y="495"/>
                  </a:lnTo>
                  <a:lnTo>
                    <a:pt x="349" y="470"/>
                  </a:lnTo>
                  <a:lnTo>
                    <a:pt x="342" y="462"/>
                  </a:lnTo>
                  <a:lnTo>
                    <a:pt x="304" y="448"/>
                  </a:lnTo>
                  <a:lnTo>
                    <a:pt x="237" y="385"/>
                  </a:lnTo>
                  <a:lnTo>
                    <a:pt x="205" y="375"/>
                  </a:lnTo>
                  <a:lnTo>
                    <a:pt x="197" y="353"/>
                  </a:lnTo>
                  <a:lnTo>
                    <a:pt x="167" y="330"/>
                  </a:lnTo>
                  <a:lnTo>
                    <a:pt x="148" y="285"/>
                  </a:lnTo>
                  <a:lnTo>
                    <a:pt x="128" y="264"/>
                  </a:lnTo>
                  <a:lnTo>
                    <a:pt x="119" y="250"/>
                  </a:lnTo>
                  <a:lnTo>
                    <a:pt x="75" y="242"/>
                  </a:lnTo>
                  <a:lnTo>
                    <a:pt x="16" y="211"/>
                  </a:lnTo>
                  <a:lnTo>
                    <a:pt x="0" y="197"/>
                  </a:lnTo>
                  <a:lnTo>
                    <a:pt x="20" y="151"/>
                  </a:lnTo>
                  <a:lnTo>
                    <a:pt x="34" y="140"/>
                  </a:lnTo>
                  <a:lnTo>
                    <a:pt x="45" y="123"/>
                  </a:lnTo>
                  <a:lnTo>
                    <a:pt x="46" y="113"/>
                  </a:lnTo>
                  <a:lnTo>
                    <a:pt x="43" y="110"/>
                  </a:lnTo>
                  <a:lnTo>
                    <a:pt x="106" y="79"/>
                  </a:lnTo>
                  <a:lnTo>
                    <a:pt x="126" y="79"/>
                  </a:lnTo>
                  <a:lnTo>
                    <a:pt x="128" y="67"/>
                  </a:lnTo>
                  <a:lnTo>
                    <a:pt x="184" y="40"/>
                  </a:lnTo>
                  <a:lnTo>
                    <a:pt x="189" y="31"/>
                  </a:lnTo>
                  <a:lnTo>
                    <a:pt x="198" y="34"/>
                  </a:lnTo>
                  <a:lnTo>
                    <a:pt x="478" y="0"/>
                  </a:lnTo>
                  <a:lnTo>
                    <a:pt x="479" y="7"/>
                  </a:lnTo>
                  <a:lnTo>
                    <a:pt x="477" y="18"/>
                  </a:lnTo>
                  <a:lnTo>
                    <a:pt x="484" y="26"/>
                  </a:lnTo>
                  <a:lnTo>
                    <a:pt x="503" y="15"/>
                  </a:lnTo>
                  <a:lnTo>
                    <a:pt x="548" y="49"/>
                  </a:lnTo>
                  <a:lnTo>
                    <a:pt x="554" y="82"/>
                  </a:lnTo>
                  <a:lnTo>
                    <a:pt x="795" y="51"/>
                  </a:lnTo>
                  <a:lnTo>
                    <a:pt x="1078" y="249"/>
                  </a:lnTo>
                  <a:lnTo>
                    <a:pt x="1070" y="255"/>
                  </a:lnTo>
                  <a:lnTo>
                    <a:pt x="1045" y="270"/>
                  </a:lnTo>
                  <a:lnTo>
                    <a:pt x="1026" y="296"/>
                  </a:lnTo>
                  <a:lnTo>
                    <a:pt x="991" y="350"/>
                  </a:lnTo>
                  <a:lnTo>
                    <a:pt x="982" y="371"/>
                  </a:lnTo>
                  <a:lnTo>
                    <a:pt x="970" y="403"/>
                  </a:lnTo>
                  <a:lnTo>
                    <a:pt x="972" y="430"/>
                  </a:lnTo>
                  <a:lnTo>
                    <a:pt x="970" y="454"/>
                  </a:lnTo>
                  <a:lnTo>
                    <a:pt x="964" y="463"/>
                  </a:lnTo>
                  <a:lnTo>
                    <a:pt x="957" y="476"/>
                  </a:lnTo>
                  <a:lnTo>
                    <a:pt x="940" y="476"/>
                  </a:lnTo>
                  <a:lnTo>
                    <a:pt x="928" y="491"/>
                  </a:lnTo>
                  <a:lnTo>
                    <a:pt x="916" y="505"/>
                  </a:lnTo>
                  <a:lnTo>
                    <a:pt x="900" y="529"/>
                  </a:lnTo>
                  <a:lnTo>
                    <a:pt x="889" y="550"/>
                  </a:lnTo>
                  <a:lnTo>
                    <a:pt x="854" y="574"/>
                  </a:lnTo>
                  <a:lnTo>
                    <a:pt x="834" y="605"/>
                  </a:lnTo>
                  <a:lnTo>
                    <a:pt x="814" y="620"/>
                  </a:lnTo>
                  <a:lnTo>
                    <a:pt x="789" y="640"/>
                  </a:lnTo>
                  <a:lnTo>
                    <a:pt x="774" y="655"/>
                  </a:lnTo>
                  <a:lnTo>
                    <a:pt x="760" y="666"/>
                  </a:lnTo>
                  <a:lnTo>
                    <a:pt x="740" y="678"/>
                  </a:lnTo>
                  <a:lnTo>
                    <a:pt x="725" y="680"/>
                  </a:lnTo>
                  <a:lnTo>
                    <a:pt x="719" y="692"/>
                  </a:lnTo>
                  <a:lnTo>
                    <a:pt x="719" y="698"/>
                  </a:lnTo>
                  <a:lnTo>
                    <a:pt x="719" y="703"/>
                  </a:lnTo>
                  <a:lnTo>
                    <a:pt x="709" y="721"/>
                  </a:lnTo>
                  <a:lnTo>
                    <a:pt x="692" y="739"/>
                  </a:lnTo>
                  <a:lnTo>
                    <a:pt x="675" y="740"/>
                  </a:lnTo>
                  <a:lnTo>
                    <a:pt x="670" y="744"/>
                  </a:lnTo>
                  <a:lnTo>
                    <a:pt x="667" y="748"/>
                  </a:lnTo>
                  <a:lnTo>
                    <a:pt x="672" y="755"/>
                  </a:lnTo>
                  <a:lnTo>
                    <a:pt x="679" y="759"/>
                  </a:lnTo>
                  <a:lnTo>
                    <a:pt x="685" y="760"/>
                  </a:lnTo>
                  <a:lnTo>
                    <a:pt x="682" y="772"/>
                  </a:lnTo>
                  <a:lnTo>
                    <a:pt x="672" y="776"/>
                  </a:lnTo>
                  <a:lnTo>
                    <a:pt x="654" y="796"/>
                  </a:lnTo>
                  <a:lnTo>
                    <a:pt x="646" y="811"/>
                  </a:lnTo>
                  <a:lnTo>
                    <a:pt x="648" y="816"/>
                  </a:lnTo>
                  <a:lnTo>
                    <a:pt x="648" y="816"/>
                  </a:lnTo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97440" y="3909960"/>
              <a:ext cx="611280" cy="628560"/>
            </a:xfrm>
            <a:custGeom>
              <a:avLst/>
              <a:gdLst/>
              <a:ahLst/>
              <a:rect l="l" t="t" r="r" b="b"/>
              <a:pathLst>
                <a:path w="1154" h="1189">
                  <a:moveTo>
                    <a:pt x="0" y="71"/>
                  </a:moveTo>
                  <a:lnTo>
                    <a:pt x="157" y="630"/>
                  </a:lnTo>
                  <a:lnTo>
                    <a:pt x="169" y="645"/>
                  </a:lnTo>
                  <a:lnTo>
                    <a:pt x="183" y="684"/>
                  </a:lnTo>
                  <a:lnTo>
                    <a:pt x="190" y="701"/>
                  </a:lnTo>
                  <a:lnTo>
                    <a:pt x="210" y="714"/>
                  </a:lnTo>
                  <a:lnTo>
                    <a:pt x="222" y="729"/>
                  </a:lnTo>
                  <a:lnTo>
                    <a:pt x="215" y="753"/>
                  </a:lnTo>
                  <a:lnTo>
                    <a:pt x="236" y="776"/>
                  </a:lnTo>
                  <a:lnTo>
                    <a:pt x="234" y="784"/>
                  </a:lnTo>
                  <a:lnTo>
                    <a:pt x="214" y="811"/>
                  </a:lnTo>
                  <a:lnTo>
                    <a:pt x="214" y="848"/>
                  </a:lnTo>
                  <a:lnTo>
                    <a:pt x="199" y="879"/>
                  </a:lnTo>
                  <a:lnTo>
                    <a:pt x="204" y="926"/>
                  </a:lnTo>
                  <a:lnTo>
                    <a:pt x="228" y="984"/>
                  </a:lnTo>
                  <a:lnTo>
                    <a:pt x="225" y="1053"/>
                  </a:lnTo>
                  <a:lnTo>
                    <a:pt x="253" y="1094"/>
                  </a:lnTo>
                  <a:lnTo>
                    <a:pt x="256" y="1112"/>
                  </a:lnTo>
                  <a:lnTo>
                    <a:pt x="259" y="1125"/>
                  </a:lnTo>
                  <a:lnTo>
                    <a:pt x="278" y="1146"/>
                  </a:lnTo>
                  <a:lnTo>
                    <a:pt x="277" y="1163"/>
                  </a:lnTo>
                  <a:lnTo>
                    <a:pt x="292" y="1183"/>
                  </a:lnTo>
                  <a:lnTo>
                    <a:pt x="897" y="1145"/>
                  </a:lnTo>
                  <a:lnTo>
                    <a:pt x="908" y="1176"/>
                  </a:lnTo>
                  <a:lnTo>
                    <a:pt x="917" y="1188"/>
                  </a:lnTo>
                  <a:lnTo>
                    <a:pt x="947" y="1189"/>
                  </a:lnTo>
                  <a:lnTo>
                    <a:pt x="953" y="1160"/>
                  </a:lnTo>
                  <a:lnTo>
                    <a:pt x="937" y="1101"/>
                  </a:lnTo>
                  <a:lnTo>
                    <a:pt x="939" y="1083"/>
                  </a:lnTo>
                  <a:lnTo>
                    <a:pt x="943" y="1072"/>
                  </a:lnTo>
                  <a:lnTo>
                    <a:pt x="962" y="1059"/>
                  </a:lnTo>
                  <a:lnTo>
                    <a:pt x="1004" y="1078"/>
                  </a:lnTo>
                  <a:lnTo>
                    <a:pt x="1044" y="1080"/>
                  </a:lnTo>
                  <a:lnTo>
                    <a:pt x="1063" y="1075"/>
                  </a:lnTo>
                  <a:lnTo>
                    <a:pt x="1056" y="1031"/>
                  </a:lnTo>
                  <a:lnTo>
                    <a:pt x="1048" y="1008"/>
                  </a:lnTo>
                  <a:lnTo>
                    <a:pt x="1048" y="978"/>
                  </a:lnTo>
                  <a:lnTo>
                    <a:pt x="1052" y="959"/>
                  </a:lnTo>
                  <a:lnTo>
                    <a:pt x="1085" y="866"/>
                  </a:lnTo>
                  <a:lnTo>
                    <a:pt x="1092" y="825"/>
                  </a:lnTo>
                  <a:lnTo>
                    <a:pt x="1104" y="790"/>
                  </a:lnTo>
                  <a:lnTo>
                    <a:pt x="1123" y="752"/>
                  </a:lnTo>
                  <a:lnTo>
                    <a:pt x="1143" y="731"/>
                  </a:lnTo>
                  <a:lnTo>
                    <a:pt x="1151" y="727"/>
                  </a:lnTo>
                  <a:lnTo>
                    <a:pt x="1154" y="716"/>
                  </a:lnTo>
                  <a:lnTo>
                    <a:pt x="1142" y="712"/>
                  </a:lnTo>
                  <a:lnTo>
                    <a:pt x="1141" y="706"/>
                  </a:lnTo>
                  <a:lnTo>
                    <a:pt x="1130" y="707"/>
                  </a:lnTo>
                  <a:lnTo>
                    <a:pt x="1098" y="704"/>
                  </a:lnTo>
                  <a:lnTo>
                    <a:pt x="1090" y="696"/>
                  </a:lnTo>
                  <a:lnTo>
                    <a:pt x="1084" y="684"/>
                  </a:lnTo>
                  <a:lnTo>
                    <a:pt x="1070" y="630"/>
                  </a:lnTo>
                  <a:lnTo>
                    <a:pt x="1043" y="593"/>
                  </a:lnTo>
                  <a:lnTo>
                    <a:pt x="1010" y="578"/>
                  </a:lnTo>
                  <a:lnTo>
                    <a:pt x="993" y="523"/>
                  </a:lnTo>
                  <a:lnTo>
                    <a:pt x="970" y="499"/>
                  </a:lnTo>
                  <a:lnTo>
                    <a:pt x="962" y="468"/>
                  </a:lnTo>
                  <a:lnTo>
                    <a:pt x="943" y="461"/>
                  </a:lnTo>
                  <a:lnTo>
                    <a:pt x="905" y="448"/>
                  </a:lnTo>
                  <a:lnTo>
                    <a:pt x="882" y="416"/>
                  </a:lnTo>
                  <a:lnTo>
                    <a:pt x="856" y="401"/>
                  </a:lnTo>
                  <a:lnTo>
                    <a:pt x="855" y="385"/>
                  </a:lnTo>
                  <a:lnTo>
                    <a:pt x="842" y="360"/>
                  </a:lnTo>
                  <a:lnTo>
                    <a:pt x="835" y="352"/>
                  </a:lnTo>
                  <a:lnTo>
                    <a:pt x="797" y="338"/>
                  </a:lnTo>
                  <a:lnTo>
                    <a:pt x="730" y="275"/>
                  </a:lnTo>
                  <a:lnTo>
                    <a:pt x="698" y="264"/>
                  </a:lnTo>
                  <a:lnTo>
                    <a:pt x="689" y="243"/>
                  </a:lnTo>
                  <a:lnTo>
                    <a:pt x="660" y="220"/>
                  </a:lnTo>
                  <a:lnTo>
                    <a:pt x="641" y="175"/>
                  </a:lnTo>
                  <a:lnTo>
                    <a:pt x="621" y="154"/>
                  </a:lnTo>
                  <a:lnTo>
                    <a:pt x="612" y="140"/>
                  </a:lnTo>
                  <a:lnTo>
                    <a:pt x="568" y="132"/>
                  </a:lnTo>
                  <a:lnTo>
                    <a:pt x="509" y="101"/>
                  </a:lnTo>
                  <a:lnTo>
                    <a:pt x="493" y="87"/>
                  </a:lnTo>
                  <a:lnTo>
                    <a:pt x="512" y="41"/>
                  </a:lnTo>
                  <a:lnTo>
                    <a:pt x="527" y="30"/>
                  </a:lnTo>
                  <a:lnTo>
                    <a:pt x="538" y="13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215" y="4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6800" y="3078000"/>
              <a:ext cx="500040" cy="495360"/>
            </a:xfrm>
            <a:custGeom>
              <a:avLst/>
              <a:gdLst/>
              <a:ahLst/>
              <a:rect l="l" t="t" r="r" b="b"/>
              <a:pathLst>
                <a:path w="945" h="937">
                  <a:moveTo>
                    <a:pt x="318" y="4"/>
                  </a:moveTo>
                  <a:lnTo>
                    <a:pt x="314" y="0"/>
                  </a:lnTo>
                  <a:lnTo>
                    <a:pt x="300" y="13"/>
                  </a:lnTo>
                  <a:lnTo>
                    <a:pt x="309" y="40"/>
                  </a:lnTo>
                  <a:lnTo>
                    <a:pt x="281" y="65"/>
                  </a:lnTo>
                  <a:lnTo>
                    <a:pt x="318" y="86"/>
                  </a:lnTo>
                  <a:lnTo>
                    <a:pt x="304" y="179"/>
                  </a:lnTo>
                  <a:lnTo>
                    <a:pt x="296" y="205"/>
                  </a:lnTo>
                  <a:lnTo>
                    <a:pt x="296" y="224"/>
                  </a:lnTo>
                  <a:lnTo>
                    <a:pt x="302" y="238"/>
                  </a:lnTo>
                  <a:lnTo>
                    <a:pt x="303" y="269"/>
                  </a:lnTo>
                  <a:lnTo>
                    <a:pt x="281" y="291"/>
                  </a:lnTo>
                  <a:lnTo>
                    <a:pt x="268" y="295"/>
                  </a:lnTo>
                  <a:lnTo>
                    <a:pt x="231" y="341"/>
                  </a:lnTo>
                  <a:lnTo>
                    <a:pt x="229" y="350"/>
                  </a:lnTo>
                  <a:lnTo>
                    <a:pt x="205" y="357"/>
                  </a:lnTo>
                  <a:lnTo>
                    <a:pt x="188" y="352"/>
                  </a:lnTo>
                  <a:lnTo>
                    <a:pt x="171" y="370"/>
                  </a:lnTo>
                  <a:lnTo>
                    <a:pt x="168" y="382"/>
                  </a:lnTo>
                  <a:lnTo>
                    <a:pt x="153" y="399"/>
                  </a:lnTo>
                  <a:lnTo>
                    <a:pt x="131" y="445"/>
                  </a:lnTo>
                  <a:lnTo>
                    <a:pt x="138" y="476"/>
                  </a:lnTo>
                  <a:lnTo>
                    <a:pt x="114" y="503"/>
                  </a:lnTo>
                  <a:lnTo>
                    <a:pt x="96" y="472"/>
                  </a:lnTo>
                  <a:lnTo>
                    <a:pt x="79" y="472"/>
                  </a:lnTo>
                  <a:lnTo>
                    <a:pt x="58" y="535"/>
                  </a:lnTo>
                  <a:lnTo>
                    <a:pt x="62" y="566"/>
                  </a:lnTo>
                  <a:lnTo>
                    <a:pt x="58" y="596"/>
                  </a:lnTo>
                  <a:lnTo>
                    <a:pt x="47" y="606"/>
                  </a:lnTo>
                  <a:lnTo>
                    <a:pt x="26" y="643"/>
                  </a:lnTo>
                  <a:lnTo>
                    <a:pt x="0" y="645"/>
                  </a:lnTo>
                  <a:lnTo>
                    <a:pt x="3" y="678"/>
                  </a:lnTo>
                  <a:lnTo>
                    <a:pt x="3" y="701"/>
                  </a:lnTo>
                  <a:lnTo>
                    <a:pt x="0" y="718"/>
                  </a:lnTo>
                  <a:lnTo>
                    <a:pt x="5" y="733"/>
                  </a:lnTo>
                  <a:lnTo>
                    <a:pt x="51" y="789"/>
                  </a:lnTo>
                  <a:lnTo>
                    <a:pt x="76" y="831"/>
                  </a:lnTo>
                  <a:lnTo>
                    <a:pt x="84" y="836"/>
                  </a:lnTo>
                  <a:lnTo>
                    <a:pt x="94" y="832"/>
                  </a:lnTo>
                  <a:lnTo>
                    <a:pt x="114" y="843"/>
                  </a:lnTo>
                  <a:lnTo>
                    <a:pt x="121" y="851"/>
                  </a:lnTo>
                  <a:lnTo>
                    <a:pt x="126" y="853"/>
                  </a:lnTo>
                  <a:lnTo>
                    <a:pt x="141" y="862"/>
                  </a:lnTo>
                  <a:lnTo>
                    <a:pt x="157" y="862"/>
                  </a:lnTo>
                  <a:lnTo>
                    <a:pt x="164" y="867"/>
                  </a:lnTo>
                  <a:lnTo>
                    <a:pt x="157" y="889"/>
                  </a:lnTo>
                  <a:lnTo>
                    <a:pt x="188" y="921"/>
                  </a:lnTo>
                  <a:lnTo>
                    <a:pt x="235" y="935"/>
                  </a:lnTo>
                  <a:lnTo>
                    <a:pt x="255" y="937"/>
                  </a:lnTo>
                  <a:lnTo>
                    <a:pt x="281" y="920"/>
                  </a:lnTo>
                  <a:lnTo>
                    <a:pt x="283" y="906"/>
                  </a:lnTo>
                  <a:lnTo>
                    <a:pt x="300" y="896"/>
                  </a:lnTo>
                  <a:lnTo>
                    <a:pt x="315" y="910"/>
                  </a:lnTo>
                  <a:lnTo>
                    <a:pt x="325" y="915"/>
                  </a:lnTo>
                  <a:lnTo>
                    <a:pt x="342" y="912"/>
                  </a:lnTo>
                  <a:lnTo>
                    <a:pt x="394" y="891"/>
                  </a:lnTo>
                  <a:lnTo>
                    <a:pt x="402" y="857"/>
                  </a:lnTo>
                  <a:lnTo>
                    <a:pt x="410" y="857"/>
                  </a:lnTo>
                  <a:lnTo>
                    <a:pt x="420" y="870"/>
                  </a:lnTo>
                  <a:lnTo>
                    <a:pt x="463" y="831"/>
                  </a:lnTo>
                  <a:lnTo>
                    <a:pt x="477" y="839"/>
                  </a:lnTo>
                  <a:lnTo>
                    <a:pt x="513" y="792"/>
                  </a:lnTo>
                  <a:lnTo>
                    <a:pt x="504" y="775"/>
                  </a:lnTo>
                  <a:lnTo>
                    <a:pt x="508" y="743"/>
                  </a:lnTo>
                  <a:lnTo>
                    <a:pt x="543" y="678"/>
                  </a:lnTo>
                  <a:lnTo>
                    <a:pt x="588" y="503"/>
                  </a:lnTo>
                  <a:lnTo>
                    <a:pt x="596" y="502"/>
                  </a:lnTo>
                  <a:lnTo>
                    <a:pt x="622" y="518"/>
                  </a:lnTo>
                  <a:lnTo>
                    <a:pt x="624" y="529"/>
                  </a:lnTo>
                  <a:lnTo>
                    <a:pt x="637" y="543"/>
                  </a:lnTo>
                  <a:lnTo>
                    <a:pt x="666" y="537"/>
                  </a:lnTo>
                  <a:lnTo>
                    <a:pt x="683" y="507"/>
                  </a:lnTo>
                  <a:lnTo>
                    <a:pt x="700" y="440"/>
                  </a:lnTo>
                  <a:lnTo>
                    <a:pt x="715" y="415"/>
                  </a:lnTo>
                  <a:lnTo>
                    <a:pt x="740" y="427"/>
                  </a:lnTo>
                  <a:lnTo>
                    <a:pt x="757" y="389"/>
                  </a:lnTo>
                  <a:lnTo>
                    <a:pt x="773" y="382"/>
                  </a:lnTo>
                  <a:lnTo>
                    <a:pt x="786" y="362"/>
                  </a:lnTo>
                  <a:lnTo>
                    <a:pt x="799" y="327"/>
                  </a:lnTo>
                  <a:lnTo>
                    <a:pt x="810" y="319"/>
                  </a:lnTo>
                  <a:lnTo>
                    <a:pt x="813" y="309"/>
                  </a:lnTo>
                  <a:lnTo>
                    <a:pt x="804" y="303"/>
                  </a:lnTo>
                  <a:lnTo>
                    <a:pt x="809" y="250"/>
                  </a:lnTo>
                  <a:lnTo>
                    <a:pt x="813" y="242"/>
                  </a:lnTo>
                  <a:lnTo>
                    <a:pt x="822" y="236"/>
                  </a:lnTo>
                  <a:lnTo>
                    <a:pt x="916" y="295"/>
                  </a:lnTo>
                  <a:lnTo>
                    <a:pt x="932" y="301"/>
                  </a:lnTo>
                  <a:lnTo>
                    <a:pt x="936" y="297"/>
                  </a:lnTo>
                  <a:lnTo>
                    <a:pt x="945" y="246"/>
                  </a:lnTo>
                  <a:lnTo>
                    <a:pt x="923" y="199"/>
                  </a:lnTo>
                  <a:lnTo>
                    <a:pt x="914" y="196"/>
                  </a:lnTo>
                  <a:lnTo>
                    <a:pt x="906" y="173"/>
                  </a:lnTo>
                  <a:lnTo>
                    <a:pt x="887" y="179"/>
                  </a:lnTo>
                  <a:lnTo>
                    <a:pt x="871" y="177"/>
                  </a:lnTo>
                  <a:lnTo>
                    <a:pt x="856" y="169"/>
                  </a:lnTo>
                  <a:lnTo>
                    <a:pt x="788" y="193"/>
                  </a:lnTo>
                  <a:lnTo>
                    <a:pt x="782" y="211"/>
                  </a:lnTo>
                  <a:lnTo>
                    <a:pt x="757" y="219"/>
                  </a:lnTo>
                  <a:lnTo>
                    <a:pt x="732" y="213"/>
                  </a:lnTo>
                  <a:lnTo>
                    <a:pt x="720" y="201"/>
                  </a:lnTo>
                  <a:lnTo>
                    <a:pt x="708" y="227"/>
                  </a:lnTo>
                  <a:lnTo>
                    <a:pt x="693" y="234"/>
                  </a:lnTo>
                  <a:lnTo>
                    <a:pt x="679" y="257"/>
                  </a:lnTo>
                  <a:lnTo>
                    <a:pt x="659" y="263"/>
                  </a:lnTo>
                  <a:lnTo>
                    <a:pt x="620" y="310"/>
                  </a:lnTo>
                  <a:lnTo>
                    <a:pt x="606" y="316"/>
                  </a:lnTo>
                  <a:lnTo>
                    <a:pt x="596" y="335"/>
                  </a:lnTo>
                  <a:lnTo>
                    <a:pt x="565" y="200"/>
                  </a:lnTo>
                  <a:lnTo>
                    <a:pt x="361" y="238"/>
                  </a:lnTo>
                  <a:lnTo>
                    <a:pt x="318" y="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11800" y="2782800"/>
              <a:ext cx="654120" cy="420840"/>
            </a:xfrm>
            <a:custGeom>
              <a:avLst/>
              <a:gdLst/>
              <a:ahLst/>
              <a:rect l="l" t="t" r="r" b="b"/>
              <a:pathLst>
                <a:path w="1235" h="796">
                  <a:moveTo>
                    <a:pt x="308" y="758"/>
                  </a:moveTo>
                  <a:lnTo>
                    <a:pt x="866" y="650"/>
                  </a:lnTo>
                  <a:lnTo>
                    <a:pt x="1041" y="617"/>
                  </a:lnTo>
                  <a:lnTo>
                    <a:pt x="1042" y="614"/>
                  </a:lnTo>
                  <a:lnTo>
                    <a:pt x="1049" y="611"/>
                  </a:lnTo>
                  <a:lnTo>
                    <a:pt x="1052" y="594"/>
                  </a:lnTo>
                  <a:lnTo>
                    <a:pt x="1073" y="577"/>
                  </a:lnTo>
                  <a:lnTo>
                    <a:pt x="1094" y="573"/>
                  </a:lnTo>
                  <a:lnTo>
                    <a:pt x="1111" y="577"/>
                  </a:lnTo>
                  <a:lnTo>
                    <a:pt x="1162" y="541"/>
                  </a:lnTo>
                  <a:lnTo>
                    <a:pt x="1168" y="514"/>
                  </a:lnTo>
                  <a:lnTo>
                    <a:pt x="1201" y="482"/>
                  </a:lnTo>
                  <a:lnTo>
                    <a:pt x="1232" y="463"/>
                  </a:lnTo>
                  <a:lnTo>
                    <a:pt x="1235" y="455"/>
                  </a:lnTo>
                  <a:lnTo>
                    <a:pt x="1206" y="433"/>
                  </a:lnTo>
                  <a:lnTo>
                    <a:pt x="1195" y="421"/>
                  </a:lnTo>
                  <a:lnTo>
                    <a:pt x="1181" y="416"/>
                  </a:lnTo>
                  <a:lnTo>
                    <a:pt x="1172" y="407"/>
                  </a:lnTo>
                  <a:lnTo>
                    <a:pt x="1150" y="401"/>
                  </a:lnTo>
                  <a:lnTo>
                    <a:pt x="1141" y="369"/>
                  </a:lnTo>
                  <a:lnTo>
                    <a:pt x="1116" y="364"/>
                  </a:lnTo>
                  <a:lnTo>
                    <a:pt x="1112" y="362"/>
                  </a:lnTo>
                  <a:lnTo>
                    <a:pt x="1108" y="314"/>
                  </a:lnTo>
                  <a:lnTo>
                    <a:pt x="1122" y="306"/>
                  </a:lnTo>
                  <a:lnTo>
                    <a:pt x="1119" y="278"/>
                  </a:lnTo>
                  <a:lnTo>
                    <a:pt x="1100" y="263"/>
                  </a:lnTo>
                  <a:lnTo>
                    <a:pt x="1100" y="255"/>
                  </a:lnTo>
                  <a:lnTo>
                    <a:pt x="1106" y="246"/>
                  </a:lnTo>
                  <a:lnTo>
                    <a:pt x="1134" y="223"/>
                  </a:lnTo>
                  <a:lnTo>
                    <a:pt x="1141" y="183"/>
                  </a:lnTo>
                  <a:lnTo>
                    <a:pt x="1141" y="171"/>
                  </a:lnTo>
                  <a:lnTo>
                    <a:pt x="1153" y="148"/>
                  </a:lnTo>
                  <a:lnTo>
                    <a:pt x="1163" y="143"/>
                  </a:lnTo>
                  <a:lnTo>
                    <a:pt x="1147" y="130"/>
                  </a:lnTo>
                  <a:lnTo>
                    <a:pt x="1096" y="127"/>
                  </a:lnTo>
                  <a:lnTo>
                    <a:pt x="1094" y="117"/>
                  </a:lnTo>
                  <a:lnTo>
                    <a:pt x="1086" y="110"/>
                  </a:lnTo>
                  <a:lnTo>
                    <a:pt x="1081" y="91"/>
                  </a:lnTo>
                  <a:lnTo>
                    <a:pt x="1055" y="41"/>
                  </a:lnTo>
                  <a:lnTo>
                    <a:pt x="1041" y="38"/>
                  </a:lnTo>
                  <a:lnTo>
                    <a:pt x="1033" y="32"/>
                  </a:lnTo>
                  <a:lnTo>
                    <a:pt x="1027" y="32"/>
                  </a:lnTo>
                  <a:lnTo>
                    <a:pt x="1020" y="26"/>
                  </a:lnTo>
                  <a:lnTo>
                    <a:pt x="1014" y="10"/>
                  </a:lnTo>
                  <a:lnTo>
                    <a:pt x="999" y="0"/>
                  </a:lnTo>
                  <a:lnTo>
                    <a:pt x="147" y="170"/>
                  </a:lnTo>
                  <a:lnTo>
                    <a:pt x="132" y="101"/>
                  </a:lnTo>
                  <a:lnTo>
                    <a:pt x="85" y="146"/>
                  </a:lnTo>
                  <a:lnTo>
                    <a:pt x="78" y="149"/>
                  </a:lnTo>
                  <a:lnTo>
                    <a:pt x="71" y="142"/>
                  </a:lnTo>
                  <a:lnTo>
                    <a:pt x="65" y="142"/>
                  </a:lnTo>
                  <a:lnTo>
                    <a:pt x="54" y="168"/>
                  </a:lnTo>
                  <a:lnTo>
                    <a:pt x="15" y="202"/>
                  </a:lnTo>
                  <a:lnTo>
                    <a:pt x="0" y="211"/>
                  </a:lnTo>
                  <a:lnTo>
                    <a:pt x="60" y="562"/>
                  </a:lnTo>
                  <a:lnTo>
                    <a:pt x="103" y="796"/>
                  </a:lnTo>
                  <a:lnTo>
                    <a:pt x="308" y="75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75240" y="3110040"/>
              <a:ext cx="512640" cy="244440"/>
            </a:xfrm>
            <a:custGeom>
              <a:avLst/>
              <a:gdLst/>
              <a:ahLst/>
              <a:rect l="l" t="t" r="r" b="b"/>
              <a:pathLst>
                <a:path w="969" h="464">
                  <a:moveTo>
                    <a:pt x="733" y="0"/>
                  </a:moveTo>
                  <a:lnTo>
                    <a:pt x="558" y="33"/>
                  </a:lnTo>
                  <a:lnTo>
                    <a:pt x="0" y="141"/>
                  </a:lnTo>
                  <a:lnTo>
                    <a:pt x="31" y="277"/>
                  </a:lnTo>
                  <a:lnTo>
                    <a:pt x="41" y="258"/>
                  </a:lnTo>
                  <a:lnTo>
                    <a:pt x="55" y="252"/>
                  </a:lnTo>
                  <a:lnTo>
                    <a:pt x="94" y="204"/>
                  </a:lnTo>
                  <a:lnTo>
                    <a:pt x="113" y="200"/>
                  </a:lnTo>
                  <a:lnTo>
                    <a:pt x="128" y="176"/>
                  </a:lnTo>
                  <a:lnTo>
                    <a:pt x="143" y="168"/>
                  </a:lnTo>
                  <a:lnTo>
                    <a:pt x="154" y="143"/>
                  </a:lnTo>
                  <a:lnTo>
                    <a:pt x="167" y="155"/>
                  </a:lnTo>
                  <a:lnTo>
                    <a:pt x="192" y="161"/>
                  </a:lnTo>
                  <a:lnTo>
                    <a:pt x="217" y="152"/>
                  </a:lnTo>
                  <a:lnTo>
                    <a:pt x="223" y="135"/>
                  </a:lnTo>
                  <a:lnTo>
                    <a:pt x="291" y="111"/>
                  </a:lnTo>
                  <a:lnTo>
                    <a:pt x="306" y="119"/>
                  </a:lnTo>
                  <a:lnTo>
                    <a:pt x="321" y="121"/>
                  </a:lnTo>
                  <a:lnTo>
                    <a:pt x="341" y="115"/>
                  </a:lnTo>
                  <a:lnTo>
                    <a:pt x="349" y="137"/>
                  </a:lnTo>
                  <a:lnTo>
                    <a:pt x="357" y="141"/>
                  </a:lnTo>
                  <a:lnTo>
                    <a:pt x="380" y="187"/>
                  </a:lnTo>
                  <a:lnTo>
                    <a:pt x="396" y="184"/>
                  </a:lnTo>
                  <a:lnTo>
                    <a:pt x="415" y="192"/>
                  </a:lnTo>
                  <a:lnTo>
                    <a:pt x="435" y="198"/>
                  </a:lnTo>
                  <a:lnTo>
                    <a:pt x="424" y="221"/>
                  </a:lnTo>
                  <a:lnTo>
                    <a:pt x="444" y="245"/>
                  </a:lnTo>
                  <a:lnTo>
                    <a:pt x="483" y="245"/>
                  </a:lnTo>
                  <a:lnTo>
                    <a:pt x="503" y="263"/>
                  </a:lnTo>
                  <a:lnTo>
                    <a:pt x="526" y="273"/>
                  </a:lnTo>
                  <a:lnTo>
                    <a:pt x="545" y="297"/>
                  </a:lnTo>
                  <a:lnTo>
                    <a:pt x="543" y="307"/>
                  </a:lnTo>
                  <a:lnTo>
                    <a:pt x="518" y="355"/>
                  </a:lnTo>
                  <a:lnTo>
                    <a:pt x="501" y="398"/>
                  </a:lnTo>
                  <a:lnTo>
                    <a:pt x="506" y="425"/>
                  </a:lnTo>
                  <a:lnTo>
                    <a:pt x="535" y="426"/>
                  </a:lnTo>
                  <a:lnTo>
                    <a:pt x="563" y="410"/>
                  </a:lnTo>
                  <a:lnTo>
                    <a:pt x="583" y="433"/>
                  </a:lnTo>
                  <a:lnTo>
                    <a:pt x="598" y="441"/>
                  </a:lnTo>
                  <a:lnTo>
                    <a:pt x="596" y="433"/>
                  </a:lnTo>
                  <a:lnTo>
                    <a:pt x="624" y="429"/>
                  </a:lnTo>
                  <a:lnTo>
                    <a:pt x="657" y="431"/>
                  </a:lnTo>
                  <a:lnTo>
                    <a:pt x="699" y="444"/>
                  </a:lnTo>
                  <a:lnTo>
                    <a:pt x="720" y="455"/>
                  </a:lnTo>
                  <a:lnTo>
                    <a:pt x="728" y="454"/>
                  </a:lnTo>
                  <a:lnTo>
                    <a:pt x="728" y="444"/>
                  </a:lnTo>
                  <a:lnTo>
                    <a:pt x="720" y="433"/>
                  </a:lnTo>
                  <a:lnTo>
                    <a:pt x="701" y="404"/>
                  </a:lnTo>
                  <a:lnTo>
                    <a:pt x="683" y="400"/>
                  </a:lnTo>
                  <a:lnTo>
                    <a:pt x="680" y="394"/>
                  </a:lnTo>
                  <a:lnTo>
                    <a:pt x="683" y="384"/>
                  </a:lnTo>
                  <a:lnTo>
                    <a:pt x="691" y="384"/>
                  </a:lnTo>
                  <a:lnTo>
                    <a:pt x="696" y="375"/>
                  </a:lnTo>
                  <a:lnTo>
                    <a:pt x="675" y="365"/>
                  </a:lnTo>
                  <a:lnTo>
                    <a:pt x="659" y="339"/>
                  </a:lnTo>
                  <a:lnTo>
                    <a:pt x="642" y="292"/>
                  </a:lnTo>
                  <a:lnTo>
                    <a:pt x="638" y="277"/>
                  </a:lnTo>
                  <a:lnTo>
                    <a:pt x="634" y="249"/>
                  </a:lnTo>
                  <a:lnTo>
                    <a:pt x="642" y="202"/>
                  </a:lnTo>
                  <a:lnTo>
                    <a:pt x="639" y="189"/>
                  </a:lnTo>
                  <a:lnTo>
                    <a:pt x="632" y="180"/>
                  </a:lnTo>
                  <a:lnTo>
                    <a:pt x="632" y="167"/>
                  </a:lnTo>
                  <a:lnTo>
                    <a:pt x="633" y="157"/>
                  </a:lnTo>
                  <a:lnTo>
                    <a:pt x="640" y="146"/>
                  </a:lnTo>
                  <a:lnTo>
                    <a:pt x="645" y="129"/>
                  </a:lnTo>
                  <a:lnTo>
                    <a:pt x="683" y="102"/>
                  </a:lnTo>
                  <a:lnTo>
                    <a:pt x="691" y="95"/>
                  </a:lnTo>
                  <a:lnTo>
                    <a:pt x="699" y="58"/>
                  </a:lnTo>
                  <a:lnTo>
                    <a:pt x="720" y="60"/>
                  </a:lnTo>
                  <a:lnTo>
                    <a:pt x="732" y="74"/>
                  </a:lnTo>
                  <a:lnTo>
                    <a:pt x="712" y="104"/>
                  </a:lnTo>
                  <a:lnTo>
                    <a:pt x="701" y="123"/>
                  </a:lnTo>
                  <a:lnTo>
                    <a:pt x="685" y="141"/>
                  </a:lnTo>
                  <a:lnTo>
                    <a:pt x="678" y="162"/>
                  </a:lnTo>
                  <a:lnTo>
                    <a:pt x="687" y="187"/>
                  </a:lnTo>
                  <a:lnTo>
                    <a:pt x="705" y="192"/>
                  </a:lnTo>
                  <a:lnTo>
                    <a:pt x="716" y="243"/>
                  </a:lnTo>
                  <a:lnTo>
                    <a:pt x="714" y="249"/>
                  </a:lnTo>
                  <a:lnTo>
                    <a:pt x="685" y="266"/>
                  </a:lnTo>
                  <a:lnTo>
                    <a:pt x="691" y="278"/>
                  </a:lnTo>
                  <a:lnTo>
                    <a:pt x="714" y="287"/>
                  </a:lnTo>
                  <a:lnTo>
                    <a:pt x="720" y="297"/>
                  </a:lnTo>
                  <a:lnTo>
                    <a:pt x="714" y="318"/>
                  </a:lnTo>
                  <a:lnTo>
                    <a:pt x="720" y="331"/>
                  </a:lnTo>
                  <a:lnTo>
                    <a:pt x="718" y="345"/>
                  </a:lnTo>
                  <a:lnTo>
                    <a:pt x="728" y="374"/>
                  </a:lnTo>
                  <a:lnTo>
                    <a:pt x="759" y="397"/>
                  </a:lnTo>
                  <a:lnTo>
                    <a:pt x="774" y="397"/>
                  </a:lnTo>
                  <a:lnTo>
                    <a:pt x="784" y="384"/>
                  </a:lnTo>
                  <a:lnTo>
                    <a:pt x="800" y="385"/>
                  </a:lnTo>
                  <a:lnTo>
                    <a:pt x="809" y="392"/>
                  </a:lnTo>
                  <a:lnTo>
                    <a:pt x="805" y="406"/>
                  </a:lnTo>
                  <a:lnTo>
                    <a:pt x="821" y="433"/>
                  </a:lnTo>
                  <a:lnTo>
                    <a:pt x="822" y="445"/>
                  </a:lnTo>
                  <a:lnTo>
                    <a:pt x="832" y="463"/>
                  </a:lnTo>
                  <a:lnTo>
                    <a:pt x="856" y="463"/>
                  </a:lnTo>
                  <a:lnTo>
                    <a:pt x="859" y="464"/>
                  </a:lnTo>
                  <a:lnTo>
                    <a:pt x="876" y="444"/>
                  </a:lnTo>
                  <a:lnTo>
                    <a:pt x="944" y="422"/>
                  </a:lnTo>
                  <a:lnTo>
                    <a:pt x="944" y="412"/>
                  </a:lnTo>
                  <a:lnTo>
                    <a:pt x="951" y="395"/>
                  </a:lnTo>
                  <a:lnTo>
                    <a:pt x="969" y="305"/>
                  </a:lnTo>
                  <a:lnTo>
                    <a:pt x="966" y="298"/>
                  </a:lnTo>
                  <a:lnTo>
                    <a:pt x="832" y="326"/>
                  </a:lnTo>
                  <a:lnTo>
                    <a:pt x="733" y="0"/>
                  </a:lnTo>
                  <a:lnTo>
                    <a:pt x="733" y="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62600" y="3086280"/>
              <a:ext cx="123840" cy="195120"/>
            </a:xfrm>
            <a:custGeom>
              <a:avLst/>
              <a:gdLst/>
              <a:ahLst/>
              <a:rect l="l" t="t" r="r" b="b"/>
              <a:pathLst>
                <a:path w="233" h="370">
                  <a:moveTo>
                    <a:pt x="233" y="342"/>
                  </a:moveTo>
                  <a:lnTo>
                    <a:pt x="228" y="317"/>
                  </a:lnTo>
                  <a:lnTo>
                    <a:pt x="213" y="279"/>
                  </a:lnTo>
                  <a:lnTo>
                    <a:pt x="187" y="254"/>
                  </a:lnTo>
                  <a:lnTo>
                    <a:pt x="152" y="229"/>
                  </a:lnTo>
                  <a:lnTo>
                    <a:pt x="137" y="213"/>
                  </a:lnTo>
                  <a:lnTo>
                    <a:pt x="129" y="196"/>
                  </a:lnTo>
                  <a:lnTo>
                    <a:pt x="101" y="147"/>
                  </a:lnTo>
                  <a:lnTo>
                    <a:pt x="91" y="127"/>
                  </a:lnTo>
                  <a:lnTo>
                    <a:pt x="66" y="98"/>
                  </a:lnTo>
                  <a:lnTo>
                    <a:pt x="57" y="82"/>
                  </a:lnTo>
                  <a:lnTo>
                    <a:pt x="54" y="65"/>
                  </a:lnTo>
                  <a:lnTo>
                    <a:pt x="56" y="61"/>
                  </a:lnTo>
                  <a:lnTo>
                    <a:pt x="56" y="51"/>
                  </a:lnTo>
                  <a:lnTo>
                    <a:pt x="70" y="4"/>
                  </a:lnTo>
                  <a:lnTo>
                    <a:pt x="54" y="0"/>
                  </a:lnTo>
                  <a:lnTo>
                    <a:pt x="32" y="4"/>
                  </a:lnTo>
                  <a:lnTo>
                    <a:pt x="11" y="21"/>
                  </a:lnTo>
                  <a:lnTo>
                    <a:pt x="9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99" y="370"/>
                  </a:lnTo>
                  <a:lnTo>
                    <a:pt x="233" y="342"/>
                  </a:lnTo>
                  <a:lnTo>
                    <a:pt x="233" y="342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83080" y="2325600"/>
              <a:ext cx="841680" cy="646200"/>
            </a:xfrm>
            <a:custGeom>
              <a:avLst/>
              <a:gdLst/>
              <a:ahLst/>
              <a:rect l="l" t="t" r="r" b="b"/>
              <a:pathLst>
                <a:path w="1590" h="1219">
                  <a:moveTo>
                    <a:pt x="1031" y="1006"/>
                  </a:moveTo>
                  <a:lnTo>
                    <a:pt x="1205" y="1066"/>
                  </a:lnTo>
                  <a:lnTo>
                    <a:pt x="1217" y="1096"/>
                  </a:lnTo>
                  <a:lnTo>
                    <a:pt x="1204" y="1106"/>
                  </a:lnTo>
                  <a:lnTo>
                    <a:pt x="1195" y="1119"/>
                  </a:lnTo>
                  <a:lnTo>
                    <a:pt x="1190" y="1137"/>
                  </a:lnTo>
                  <a:lnTo>
                    <a:pt x="1192" y="1163"/>
                  </a:lnTo>
                  <a:lnTo>
                    <a:pt x="1183" y="1164"/>
                  </a:lnTo>
                  <a:lnTo>
                    <a:pt x="1173" y="1172"/>
                  </a:lnTo>
                  <a:lnTo>
                    <a:pt x="1158" y="1207"/>
                  </a:lnTo>
                  <a:lnTo>
                    <a:pt x="1158" y="1217"/>
                  </a:lnTo>
                  <a:lnTo>
                    <a:pt x="1163" y="1219"/>
                  </a:lnTo>
                  <a:lnTo>
                    <a:pt x="1171" y="1214"/>
                  </a:lnTo>
                  <a:lnTo>
                    <a:pt x="1176" y="1207"/>
                  </a:lnTo>
                  <a:lnTo>
                    <a:pt x="1202" y="1181"/>
                  </a:lnTo>
                  <a:lnTo>
                    <a:pt x="1219" y="1185"/>
                  </a:lnTo>
                  <a:lnTo>
                    <a:pt x="1258" y="1183"/>
                  </a:lnTo>
                  <a:lnTo>
                    <a:pt x="1270" y="1172"/>
                  </a:lnTo>
                  <a:lnTo>
                    <a:pt x="1304" y="1163"/>
                  </a:lnTo>
                  <a:lnTo>
                    <a:pt x="1333" y="1151"/>
                  </a:lnTo>
                  <a:lnTo>
                    <a:pt x="1354" y="1139"/>
                  </a:lnTo>
                  <a:lnTo>
                    <a:pt x="1378" y="1118"/>
                  </a:lnTo>
                  <a:lnTo>
                    <a:pt x="1474" y="1053"/>
                  </a:lnTo>
                  <a:lnTo>
                    <a:pt x="1498" y="1036"/>
                  </a:lnTo>
                  <a:lnTo>
                    <a:pt x="1519" y="1018"/>
                  </a:lnTo>
                  <a:lnTo>
                    <a:pt x="1533" y="1012"/>
                  </a:lnTo>
                  <a:lnTo>
                    <a:pt x="1547" y="1000"/>
                  </a:lnTo>
                  <a:lnTo>
                    <a:pt x="1567" y="990"/>
                  </a:lnTo>
                  <a:lnTo>
                    <a:pt x="1580" y="979"/>
                  </a:lnTo>
                  <a:lnTo>
                    <a:pt x="1588" y="955"/>
                  </a:lnTo>
                  <a:lnTo>
                    <a:pt x="1590" y="949"/>
                  </a:lnTo>
                  <a:lnTo>
                    <a:pt x="1588" y="945"/>
                  </a:lnTo>
                  <a:lnTo>
                    <a:pt x="1567" y="962"/>
                  </a:lnTo>
                  <a:lnTo>
                    <a:pt x="1544" y="971"/>
                  </a:lnTo>
                  <a:lnTo>
                    <a:pt x="1520" y="980"/>
                  </a:lnTo>
                  <a:lnTo>
                    <a:pt x="1506" y="996"/>
                  </a:lnTo>
                  <a:lnTo>
                    <a:pt x="1498" y="1009"/>
                  </a:lnTo>
                  <a:lnTo>
                    <a:pt x="1474" y="1023"/>
                  </a:lnTo>
                  <a:lnTo>
                    <a:pt x="1470" y="1013"/>
                  </a:lnTo>
                  <a:lnTo>
                    <a:pt x="1479" y="998"/>
                  </a:lnTo>
                  <a:lnTo>
                    <a:pt x="1495" y="979"/>
                  </a:lnTo>
                  <a:lnTo>
                    <a:pt x="1514" y="948"/>
                  </a:lnTo>
                  <a:lnTo>
                    <a:pt x="1506" y="943"/>
                  </a:lnTo>
                  <a:lnTo>
                    <a:pt x="1491" y="958"/>
                  </a:lnTo>
                  <a:lnTo>
                    <a:pt x="1480" y="974"/>
                  </a:lnTo>
                  <a:lnTo>
                    <a:pt x="1466" y="990"/>
                  </a:lnTo>
                  <a:lnTo>
                    <a:pt x="1412" y="1019"/>
                  </a:lnTo>
                  <a:lnTo>
                    <a:pt x="1344" y="1053"/>
                  </a:lnTo>
                  <a:lnTo>
                    <a:pt x="1287" y="1081"/>
                  </a:lnTo>
                  <a:lnTo>
                    <a:pt x="1266" y="1093"/>
                  </a:lnTo>
                  <a:lnTo>
                    <a:pt x="1245" y="1122"/>
                  </a:lnTo>
                  <a:lnTo>
                    <a:pt x="1232" y="1111"/>
                  </a:lnTo>
                  <a:lnTo>
                    <a:pt x="1229" y="1091"/>
                  </a:lnTo>
                  <a:lnTo>
                    <a:pt x="1239" y="1066"/>
                  </a:lnTo>
                  <a:lnTo>
                    <a:pt x="1258" y="1053"/>
                  </a:lnTo>
                  <a:lnTo>
                    <a:pt x="1235" y="1030"/>
                  </a:lnTo>
                  <a:lnTo>
                    <a:pt x="1265" y="998"/>
                  </a:lnTo>
                  <a:lnTo>
                    <a:pt x="1270" y="985"/>
                  </a:lnTo>
                  <a:lnTo>
                    <a:pt x="1255" y="968"/>
                  </a:lnTo>
                  <a:lnTo>
                    <a:pt x="1229" y="772"/>
                  </a:lnTo>
                  <a:lnTo>
                    <a:pt x="1221" y="763"/>
                  </a:lnTo>
                  <a:lnTo>
                    <a:pt x="1223" y="581"/>
                  </a:lnTo>
                  <a:lnTo>
                    <a:pt x="1202" y="538"/>
                  </a:lnTo>
                  <a:lnTo>
                    <a:pt x="1188" y="495"/>
                  </a:lnTo>
                  <a:lnTo>
                    <a:pt x="1188" y="457"/>
                  </a:lnTo>
                  <a:lnTo>
                    <a:pt x="1176" y="390"/>
                  </a:lnTo>
                  <a:lnTo>
                    <a:pt x="1156" y="359"/>
                  </a:lnTo>
                  <a:lnTo>
                    <a:pt x="1144" y="362"/>
                  </a:lnTo>
                  <a:lnTo>
                    <a:pt x="1145" y="369"/>
                  </a:lnTo>
                  <a:lnTo>
                    <a:pt x="1141" y="371"/>
                  </a:lnTo>
                  <a:lnTo>
                    <a:pt x="1133" y="359"/>
                  </a:lnTo>
                  <a:lnTo>
                    <a:pt x="1138" y="324"/>
                  </a:lnTo>
                  <a:lnTo>
                    <a:pt x="1104" y="249"/>
                  </a:lnTo>
                  <a:lnTo>
                    <a:pt x="1101" y="220"/>
                  </a:lnTo>
                  <a:lnTo>
                    <a:pt x="1117" y="192"/>
                  </a:lnTo>
                  <a:lnTo>
                    <a:pt x="1104" y="138"/>
                  </a:lnTo>
                  <a:lnTo>
                    <a:pt x="1074" y="61"/>
                  </a:lnTo>
                  <a:lnTo>
                    <a:pt x="1073" y="51"/>
                  </a:lnTo>
                  <a:lnTo>
                    <a:pt x="1064" y="40"/>
                  </a:lnTo>
                  <a:lnTo>
                    <a:pt x="1068" y="27"/>
                  </a:lnTo>
                  <a:lnTo>
                    <a:pt x="1057" y="0"/>
                  </a:lnTo>
                  <a:lnTo>
                    <a:pt x="805" y="65"/>
                  </a:lnTo>
                  <a:lnTo>
                    <a:pt x="801" y="57"/>
                  </a:lnTo>
                  <a:lnTo>
                    <a:pt x="792" y="60"/>
                  </a:lnTo>
                  <a:lnTo>
                    <a:pt x="770" y="70"/>
                  </a:lnTo>
                  <a:lnTo>
                    <a:pt x="710" y="133"/>
                  </a:lnTo>
                  <a:lnTo>
                    <a:pt x="650" y="216"/>
                  </a:lnTo>
                  <a:lnTo>
                    <a:pt x="641" y="229"/>
                  </a:lnTo>
                  <a:lnTo>
                    <a:pt x="646" y="244"/>
                  </a:lnTo>
                  <a:lnTo>
                    <a:pt x="637" y="274"/>
                  </a:lnTo>
                  <a:lnTo>
                    <a:pt x="624" y="289"/>
                  </a:lnTo>
                  <a:lnTo>
                    <a:pt x="561" y="351"/>
                  </a:lnTo>
                  <a:lnTo>
                    <a:pt x="555" y="365"/>
                  </a:lnTo>
                  <a:lnTo>
                    <a:pt x="563" y="388"/>
                  </a:lnTo>
                  <a:lnTo>
                    <a:pt x="569" y="393"/>
                  </a:lnTo>
                  <a:lnTo>
                    <a:pt x="584" y="390"/>
                  </a:lnTo>
                  <a:lnTo>
                    <a:pt x="599" y="398"/>
                  </a:lnTo>
                  <a:lnTo>
                    <a:pt x="600" y="412"/>
                  </a:lnTo>
                  <a:lnTo>
                    <a:pt x="590" y="425"/>
                  </a:lnTo>
                  <a:lnTo>
                    <a:pt x="595" y="445"/>
                  </a:lnTo>
                  <a:lnTo>
                    <a:pt x="610" y="471"/>
                  </a:lnTo>
                  <a:lnTo>
                    <a:pt x="605" y="507"/>
                  </a:lnTo>
                  <a:lnTo>
                    <a:pt x="567" y="524"/>
                  </a:lnTo>
                  <a:lnTo>
                    <a:pt x="508" y="586"/>
                  </a:lnTo>
                  <a:lnTo>
                    <a:pt x="463" y="601"/>
                  </a:lnTo>
                  <a:lnTo>
                    <a:pt x="365" y="630"/>
                  </a:lnTo>
                  <a:lnTo>
                    <a:pt x="329" y="617"/>
                  </a:lnTo>
                  <a:lnTo>
                    <a:pt x="301" y="613"/>
                  </a:lnTo>
                  <a:lnTo>
                    <a:pt x="247" y="617"/>
                  </a:lnTo>
                  <a:lnTo>
                    <a:pt x="193" y="628"/>
                  </a:lnTo>
                  <a:lnTo>
                    <a:pt x="133" y="652"/>
                  </a:lnTo>
                  <a:lnTo>
                    <a:pt x="108" y="669"/>
                  </a:lnTo>
                  <a:lnTo>
                    <a:pt x="98" y="701"/>
                  </a:lnTo>
                  <a:lnTo>
                    <a:pt x="98" y="722"/>
                  </a:lnTo>
                  <a:lnTo>
                    <a:pt x="143" y="774"/>
                  </a:lnTo>
                  <a:lnTo>
                    <a:pt x="147" y="793"/>
                  </a:lnTo>
                  <a:lnTo>
                    <a:pt x="140" y="811"/>
                  </a:lnTo>
                  <a:lnTo>
                    <a:pt x="127" y="821"/>
                  </a:lnTo>
                  <a:lnTo>
                    <a:pt x="112" y="860"/>
                  </a:lnTo>
                  <a:lnTo>
                    <a:pt x="30" y="941"/>
                  </a:lnTo>
                  <a:lnTo>
                    <a:pt x="0" y="964"/>
                  </a:lnTo>
                  <a:lnTo>
                    <a:pt x="15" y="1033"/>
                  </a:lnTo>
                  <a:lnTo>
                    <a:pt x="866" y="863"/>
                  </a:lnTo>
                  <a:lnTo>
                    <a:pt x="881" y="873"/>
                  </a:lnTo>
                  <a:lnTo>
                    <a:pt x="887" y="889"/>
                  </a:lnTo>
                  <a:lnTo>
                    <a:pt x="895" y="895"/>
                  </a:lnTo>
                  <a:lnTo>
                    <a:pt x="901" y="895"/>
                  </a:lnTo>
                  <a:lnTo>
                    <a:pt x="908" y="901"/>
                  </a:lnTo>
                  <a:lnTo>
                    <a:pt x="923" y="904"/>
                  </a:lnTo>
                  <a:lnTo>
                    <a:pt x="948" y="954"/>
                  </a:lnTo>
                  <a:lnTo>
                    <a:pt x="953" y="973"/>
                  </a:lnTo>
                  <a:lnTo>
                    <a:pt x="962" y="980"/>
                  </a:lnTo>
                  <a:lnTo>
                    <a:pt x="964" y="990"/>
                  </a:lnTo>
                  <a:lnTo>
                    <a:pt x="1015" y="993"/>
                  </a:lnTo>
                  <a:lnTo>
                    <a:pt x="1031" y="100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92840" y="2859120"/>
              <a:ext cx="154080" cy="341280"/>
            </a:xfrm>
            <a:custGeom>
              <a:avLst/>
              <a:gdLst/>
              <a:ahLst/>
              <a:rect l="l" t="t" r="r" b="b"/>
              <a:pathLst>
                <a:path w="291" h="646">
                  <a:moveTo>
                    <a:pt x="13" y="434"/>
                  </a:moveTo>
                  <a:lnTo>
                    <a:pt x="0" y="481"/>
                  </a:lnTo>
                  <a:lnTo>
                    <a:pt x="0" y="491"/>
                  </a:lnTo>
                  <a:lnTo>
                    <a:pt x="9" y="488"/>
                  </a:lnTo>
                  <a:lnTo>
                    <a:pt x="22" y="512"/>
                  </a:lnTo>
                  <a:lnTo>
                    <a:pt x="39" y="529"/>
                  </a:lnTo>
                  <a:lnTo>
                    <a:pt x="53" y="548"/>
                  </a:lnTo>
                  <a:lnTo>
                    <a:pt x="101" y="571"/>
                  </a:lnTo>
                  <a:lnTo>
                    <a:pt x="114" y="577"/>
                  </a:lnTo>
                  <a:lnTo>
                    <a:pt x="152" y="582"/>
                  </a:lnTo>
                  <a:lnTo>
                    <a:pt x="162" y="585"/>
                  </a:lnTo>
                  <a:lnTo>
                    <a:pt x="162" y="617"/>
                  </a:lnTo>
                  <a:lnTo>
                    <a:pt x="162" y="636"/>
                  </a:lnTo>
                  <a:lnTo>
                    <a:pt x="173" y="646"/>
                  </a:lnTo>
                  <a:lnTo>
                    <a:pt x="186" y="632"/>
                  </a:lnTo>
                  <a:lnTo>
                    <a:pt x="200" y="601"/>
                  </a:lnTo>
                  <a:lnTo>
                    <a:pt x="202" y="573"/>
                  </a:lnTo>
                  <a:lnTo>
                    <a:pt x="224" y="534"/>
                  </a:lnTo>
                  <a:lnTo>
                    <a:pt x="236" y="506"/>
                  </a:lnTo>
                  <a:lnTo>
                    <a:pt x="267" y="463"/>
                  </a:lnTo>
                  <a:lnTo>
                    <a:pt x="279" y="430"/>
                  </a:lnTo>
                  <a:lnTo>
                    <a:pt x="291" y="400"/>
                  </a:lnTo>
                  <a:lnTo>
                    <a:pt x="289" y="381"/>
                  </a:lnTo>
                  <a:lnTo>
                    <a:pt x="284" y="292"/>
                  </a:lnTo>
                  <a:lnTo>
                    <a:pt x="276" y="223"/>
                  </a:lnTo>
                  <a:lnTo>
                    <a:pt x="261" y="202"/>
                  </a:lnTo>
                  <a:lnTo>
                    <a:pt x="232" y="210"/>
                  </a:lnTo>
                  <a:lnTo>
                    <a:pt x="221" y="217"/>
                  </a:lnTo>
                  <a:lnTo>
                    <a:pt x="212" y="214"/>
                  </a:lnTo>
                  <a:lnTo>
                    <a:pt x="207" y="208"/>
                  </a:lnTo>
                  <a:lnTo>
                    <a:pt x="200" y="213"/>
                  </a:lnTo>
                  <a:lnTo>
                    <a:pt x="195" y="211"/>
                  </a:lnTo>
                  <a:lnTo>
                    <a:pt x="195" y="201"/>
                  </a:lnTo>
                  <a:lnTo>
                    <a:pt x="209" y="166"/>
                  </a:lnTo>
                  <a:lnTo>
                    <a:pt x="219" y="158"/>
                  </a:lnTo>
                  <a:lnTo>
                    <a:pt x="228" y="157"/>
                  </a:lnTo>
                  <a:lnTo>
                    <a:pt x="226" y="131"/>
                  </a:lnTo>
                  <a:lnTo>
                    <a:pt x="232" y="113"/>
                  </a:lnTo>
                  <a:lnTo>
                    <a:pt x="240" y="100"/>
                  </a:lnTo>
                  <a:lnTo>
                    <a:pt x="253" y="90"/>
                  </a:lnTo>
                  <a:lnTo>
                    <a:pt x="242" y="60"/>
                  </a:lnTo>
                  <a:lnTo>
                    <a:pt x="67" y="0"/>
                  </a:lnTo>
                  <a:lnTo>
                    <a:pt x="57" y="5"/>
                  </a:lnTo>
                  <a:lnTo>
                    <a:pt x="45" y="28"/>
                  </a:lnTo>
                  <a:lnTo>
                    <a:pt x="45" y="40"/>
                  </a:lnTo>
                  <a:lnTo>
                    <a:pt x="38" y="80"/>
                  </a:lnTo>
                  <a:lnTo>
                    <a:pt x="10" y="103"/>
                  </a:lnTo>
                  <a:lnTo>
                    <a:pt x="4" y="112"/>
                  </a:lnTo>
                  <a:lnTo>
                    <a:pt x="4" y="120"/>
                  </a:lnTo>
                  <a:lnTo>
                    <a:pt x="23" y="135"/>
                  </a:lnTo>
                  <a:lnTo>
                    <a:pt x="26" y="164"/>
                  </a:lnTo>
                  <a:lnTo>
                    <a:pt x="12" y="171"/>
                  </a:lnTo>
                  <a:lnTo>
                    <a:pt x="16" y="219"/>
                  </a:lnTo>
                  <a:lnTo>
                    <a:pt x="20" y="221"/>
                  </a:lnTo>
                  <a:lnTo>
                    <a:pt x="45" y="226"/>
                  </a:lnTo>
                  <a:lnTo>
                    <a:pt x="54" y="258"/>
                  </a:lnTo>
                  <a:lnTo>
                    <a:pt x="76" y="264"/>
                  </a:lnTo>
                  <a:lnTo>
                    <a:pt x="85" y="273"/>
                  </a:lnTo>
                  <a:lnTo>
                    <a:pt x="99" y="278"/>
                  </a:lnTo>
                  <a:lnTo>
                    <a:pt x="110" y="290"/>
                  </a:lnTo>
                  <a:lnTo>
                    <a:pt x="139" y="312"/>
                  </a:lnTo>
                  <a:lnTo>
                    <a:pt x="136" y="320"/>
                  </a:lnTo>
                  <a:lnTo>
                    <a:pt x="105" y="339"/>
                  </a:lnTo>
                  <a:lnTo>
                    <a:pt x="72" y="371"/>
                  </a:lnTo>
                  <a:lnTo>
                    <a:pt x="66" y="398"/>
                  </a:lnTo>
                  <a:lnTo>
                    <a:pt x="13" y="434"/>
                  </a:lnTo>
                  <a:lnTo>
                    <a:pt x="13" y="4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97760" y="3311640"/>
              <a:ext cx="237960" cy="223560"/>
            </a:xfrm>
            <a:custGeom>
              <a:avLst/>
              <a:gdLst/>
              <a:ahLst/>
              <a:rect l="l" t="t" r="r" b="b"/>
              <a:pathLst>
                <a:path w="449" h="423">
                  <a:moveTo>
                    <a:pt x="228" y="0"/>
                  </a:moveTo>
                  <a:lnTo>
                    <a:pt x="0" y="220"/>
                  </a:lnTo>
                  <a:lnTo>
                    <a:pt x="136" y="354"/>
                  </a:lnTo>
                  <a:lnTo>
                    <a:pt x="137" y="354"/>
                  </a:lnTo>
                  <a:lnTo>
                    <a:pt x="138" y="355"/>
                  </a:lnTo>
                  <a:lnTo>
                    <a:pt x="141" y="355"/>
                  </a:lnTo>
                  <a:lnTo>
                    <a:pt x="143" y="355"/>
                  </a:lnTo>
                  <a:lnTo>
                    <a:pt x="146" y="354"/>
                  </a:lnTo>
                  <a:lnTo>
                    <a:pt x="148" y="353"/>
                  </a:lnTo>
                  <a:lnTo>
                    <a:pt x="149" y="350"/>
                  </a:lnTo>
                  <a:lnTo>
                    <a:pt x="150" y="346"/>
                  </a:lnTo>
                  <a:lnTo>
                    <a:pt x="150" y="345"/>
                  </a:lnTo>
                  <a:lnTo>
                    <a:pt x="150" y="343"/>
                  </a:lnTo>
                  <a:lnTo>
                    <a:pt x="150" y="341"/>
                  </a:lnTo>
                  <a:lnTo>
                    <a:pt x="150" y="339"/>
                  </a:lnTo>
                  <a:lnTo>
                    <a:pt x="150" y="337"/>
                  </a:lnTo>
                  <a:lnTo>
                    <a:pt x="150" y="335"/>
                  </a:lnTo>
                  <a:lnTo>
                    <a:pt x="151" y="334"/>
                  </a:lnTo>
                  <a:lnTo>
                    <a:pt x="151" y="332"/>
                  </a:lnTo>
                  <a:lnTo>
                    <a:pt x="152" y="331"/>
                  </a:lnTo>
                  <a:lnTo>
                    <a:pt x="153" y="330"/>
                  </a:lnTo>
                  <a:lnTo>
                    <a:pt x="154" y="330"/>
                  </a:lnTo>
                  <a:lnTo>
                    <a:pt x="155" y="329"/>
                  </a:lnTo>
                  <a:lnTo>
                    <a:pt x="157" y="329"/>
                  </a:lnTo>
                  <a:lnTo>
                    <a:pt x="158" y="328"/>
                  </a:lnTo>
                  <a:lnTo>
                    <a:pt x="159" y="328"/>
                  </a:lnTo>
                  <a:lnTo>
                    <a:pt x="160" y="329"/>
                  </a:lnTo>
                  <a:lnTo>
                    <a:pt x="162" y="330"/>
                  </a:lnTo>
                  <a:lnTo>
                    <a:pt x="164" y="330"/>
                  </a:lnTo>
                  <a:lnTo>
                    <a:pt x="166" y="329"/>
                  </a:lnTo>
                  <a:lnTo>
                    <a:pt x="168" y="329"/>
                  </a:lnTo>
                  <a:lnTo>
                    <a:pt x="170" y="328"/>
                  </a:lnTo>
                  <a:lnTo>
                    <a:pt x="172" y="327"/>
                  </a:lnTo>
                  <a:lnTo>
                    <a:pt x="174" y="327"/>
                  </a:lnTo>
                  <a:lnTo>
                    <a:pt x="176" y="328"/>
                  </a:lnTo>
                  <a:lnTo>
                    <a:pt x="177" y="328"/>
                  </a:lnTo>
                  <a:lnTo>
                    <a:pt x="177" y="329"/>
                  </a:lnTo>
                  <a:lnTo>
                    <a:pt x="177" y="330"/>
                  </a:lnTo>
                  <a:lnTo>
                    <a:pt x="177" y="330"/>
                  </a:lnTo>
                  <a:lnTo>
                    <a:pt x="179" y="330"/>
                  </a:lnTo>
                  <a:lnTo>
                    <a:pt x="180" y="330"/>
                  </a:lnTo>
                  <a:lnTo>
                    <a:pt x="181" y="329"/>
                  </a:lnTo>
                  <a:lnTo>
                    <a:pt x="183" y="328"/>
                  </a:lnTo>
                  <a:lnTo>
                    <a:pt x="184" y="327"/>
                  </a:lnTo>
                  <a:lnTo>
                    <a:pt x="185" y="327"/>
                  </a:lnTo>
                  <a:lnTo>
                    <a:pt x="186" y="327"/>
                  </a:lnTo>
                  <a:lnTo>
                    <a:pt x="187" y="327"/>
                  </a:lnTo>
                  <a:lnTo>
                    <a:pt x="189" y="328"/>
                  </a:lnTo>
                  <a:lnTo>
                    <a:pt x="191" y="329"/>
                  </a:lnTo>
                  <a:lnTo>
                    <a:pt x="193" y="330"/>
                  </a:lnTo>
                  <a:lnTo>
                    <a:pt x="195" y="331"/>
                  </a:lnTo>
                  <a:lnTo>
                    <a:pt x="197" y="332"/>
                  </a:lnTo>
                  <a:lnTo>
                    <a:pt x="199" y="332"/>
                  </a:lnTo>
                  <a:lnTo>
                    <a:pt x="201" y="333"/>
                  </a:lnTo>
                  <a:lnTo>
                    <a:pt x="203" y="333"/>
                  </a:lnTo>
                  <a:lnTo>
                    <a:pt x="203" y="333"/>
                  </a:lnTo>
                  <a:lnTo>
                    <a:pt x="202" y="333"/>
                  </a:lnTo>
                  <a:lnTo>
                    <a:pt x="202" y="333"/>
                  </a:lnTo>
                  <a:lnTo>
                    <a:pt x="202" y="333"/>
                  </a:lnTo>
                  <a:lnTo>
                    <a:pt x="203" y="333"/>
                  </a:lnTo>
                  <a:lnTo>
                    <a:pt x="206" y="333"/>
                  </a:lnTo>
                  <a:lnTo>
                    <a:pt x="208" y="333"/>
                  </a:lnTo>
                  <a:lnTo>
                    <a:pt x="209" y="334"/>
                  </a:lnTo>
                  <a:lnTo>
                    <a:pt x="211" y="335"/>
                  </a:lnTo>
                  <a:lnTo>
                    <a:pt x="212" y="335"/>
                  </a:lnTo>
                  <a:lnTo>
                    <a:pt x="213" y="337"/>
                  </a:lnTo>
                  <a:lnTo>
                    <a:pt x="214" y="338"/>
                  </a:lnTo>
                  <a:lnTo>
                    <a:pt x="215" y="338"/>
                  </a:lnTo>
                  <a:lnTo>
                    <a:pt x="216" y="338"/>
                  </a:lnTo>
                  <a:lnTo>
                    <a:pt x="217" y="338"/>
                  </a:lnTo>
                  <a:lnTo>
                    <a:pt x="218" y="338"/>
                  </a:lnTo>
                  <a:lnTo>
                    <a:pt x="218" y="339"/>
                  </a:lnTo>
                  <a:lnTo>
                    <a:pt x="218" y="341"/>
                  </a:lnTo>
                  <a:lnTo>
                    <a:pt x="218" y="342"/>
                  </a:lnTo>
                  <a:lnTo>
                    <a:pt x="218" y="343"/>
                  </a:lnTo>
                  <a:lnTo>
                    <a:pt x="217" y="344"/>
                  </a:lnTo>
                  <a:lnTo>
                    <a:pt x="217" y="346"/>
                  </a:lnTo>
                  <a:lnTo>
                    <a:pt x="217" y="347"/>
                  </a:lnTo>
                  <a:lnTo>
                    <a:pt x="217" y="348"/>
                  </a:lnTo>
                  <a:lnTo>
                    <a:pt x="217" y="350"/>
                  </a:lnTo>
                  <a:lnTo>
                    <a:pt x="219" y="351"/>
                  </a:lnTo>
                  <a:lnTo>
                    <a:pt x="220" y="352"/>
                  </a:lnTo>
                  <a:lnTo>
                    <a:pt x="221" y="352"/>
                  </a:lnTo>
                  <a:lnTo>
                    <a:pt x="223" y="352"/>
                  </a:lnTo>
                  <a:lnTo>
                    <a:pt x="224" y="352"/>
                  </a:lnTo>
                  <a:lnTo>
                    <a:pt x="225" y="352"/>
                  </a:lnTo>
                  <a:lnTo>
                    <a:pt x="226" y="353"/>
                  </a:lnTo>
                  <a:lnTo>
                    <a:pt x="228" y="355"/>
                  </a:lnTo>
                  <a:lnTo>
                    <a:pt x="228" y="357"/>
                  </a:lnTo>
                  <a:lnTo>
                    <a:pt x="229" y="360"/>
                  </a:lnTo>
                  <a:lnTo>
                    <a:pt x="229" y="362"/>
                  </a:lnTo>
                  <a:lnTo>
                    <a:pt x="229" y="365"/>
                  </a:lnTo>
                  <a:lnTo>
                    <a:pt x="228" y="367"/>
                  </a:lnTo>
                  <a:lnTo>
                    <a:pt x="228" y="370"/>
                  </a:lnTo>
                  <a:lnTo>
                    <a:pt x="228" y="373"/>
                  </a:lnTo>
                  <a:lnTo>
                    <a:pt x="227" y="372"/>
                  </a:lnTo>
                  <a:lnTo>
                    <a:pt x="227" y="373"/>
                  </a:lnTo>
                  <a:lnTo>
                    <a:pt x="227" y="374"/>
                  </a:lnTo>
                  <a:lnTo>
                    <a:pt x="226" y="374"/>
                  </a:lnTo>
                  <a:lnTo>
                    <a:pt x="226" y="377"/>
                  </a:lnTo>
                  <a:lnTo>
                    <a:pt x="226" y="380"/>
                  </a:lnTo>
                  <a:lnTo>
                    <a:pt x="226" y="383"/>
                  </a:lnTo>
                  <a:lnTo>
                    <a:pt x="227" y="387"/>
                  </a:lnTo>
                  <a:lnTo>
                    <a:pt x="227" y="390"/>
                  </a:lnTo>
                  <a:lnTo>
                    <a:pt x="227" y="393"/>
                  </a:lnTo>
                  <a:lnTo>
                    <a:pt x="228" y="396"/>
                  </a:lnTo>
                  <a:lnTo>
                    <a:pt x="228" y="399"/>
                  </a:lnTo>
                  <a:lnTo>
                    <a:pt x="228" y="401"/>
                  </a:lnTo>
                  <a:lnTo>
                    <a:pt x="229" y="404"/>
                  </a:lnTo>
                  <a:lnTo>
                    <a:pt x="229" y="407"/>
                  </a:lnTo>
                  <a:lnTo>
                    <a:pt x="229" y="410"/>
                  </a:lnTo>
                  <a:lnTo>
                    <a:pt x="229" y="413"/>
                  </a:lnTo>
                  <a:lnTo>
                    <a:pt x="229" y="416"/>
                  </a:lnTo>
                  <a:lnTo>
                    <a:pt x="229" y="419"/>
                  </a:lnTo>
                  <a:lnTo>
                    <a:pt x="228" y="422"/>
                  </a:lnTo>
                  <a:lnTo>
                    <a:pt x="231" y="422"/>
                  </a:lnTo>
                  <a:lnTo>
                    <a:pt x="233" y="422"/>
                  </a:lnTo>
                  <a:lnTo>
                    <a:pt x="236" y="423"/>
                  </a:lnTo>
                  <a:lnTo>
                    <a:pt x="239" y="423"/>
                  </a:lnTo>
                  <a:lnTo>
                    <a:pt x="241" y="423"/>
                  </a:lnTo>
                  <a:lnTo>
                    <a:pt x="243" y="423"/>
                  </a:lnTo>
                  <a:lnTo>
                    <a:pt x="245" y="422"/>
                  </a:lnTo>
                  <a:lnTo>
                    <a:pt x="246" y="421"/>
                  </a:lnTo>
                  <a:lnTo>
                    <a:pt x="249" y="419"/>
                  </a:lnTo>
                  <a:lnTo>
                    <a:pt x="251" y="417"/>
                  </a:lnTo>
                  <a:lnTo>
                    <a:pt x="254" y="416"/>
                  </a:lnTo>
                  <a:lnTo>
                    <a:pt x="256" y="415"/>
                  </a:lnTo>
                  <a:lnTo>
                    <a:pt x="259" y="414"/>
                  </a:lnTo>
                  <a:lnTo>
                    <a:pt x="262" y="414"/>
                  </a:lnTo>
                  <a:lnTo>
                    <a:pt x="265" y="413"/>
                  </a:lnTo>
                  <a:lnTo>
                    <a:pt x="269" y="412"/>
                  </a:lnTo>
                  <a:lnTo>
                    <a:pt x="270" y="411"/>
                  </a:lnTo>
                  <a:lnTo>
                    <a:pt x="271" y="410"/>
                  </a:lnTo>
                  <a:lnTo>
                    <a:pt x="272" y="409"/>
                  </a:lnTo>
                  <a:lnTo>
                    <a:pt x="272" y="408"/>
                  </a:lnTo>
                  <a:lnTo>
                    <a:pt x="271" y="407"/>
                  </a:lnTo>
                  <a:lnTo>
                    <a:pt x="270" y="407"/>
                  </a:lnTo>
                  <a:lnTo>
                    <a:pt x="269" y="406"/>
                  </a:lnTo>
                  <a:lnTo>
                    <a:pt x="267" y="405"/>
                  </a:lnTo>
                  <a:lnTo>
                    <a:pt x="266" y="404"/>
                  </a:lnTo>
                  <a:lnTo>
                    <a:pt x="265" y="404"/>
                  </a:lnTo>
                  <a:lnTo>
                    <a:pt x="264" y="403"/>
                  </a:lnTo>
                  <a:lnTo>
                    <a:pt x="263" y="402"/>
                  </a:lnTo>
                  <a:lnTo>
                    <a:pt x="449" y="223"/>
                  </a:lnTo>
                  <a:lnTo>
                    <a:pt x="228" y="0"/>
                  </a:lnTo>
                  <a:lnTo>
                    <a:pt x="228" y="0"/>
                  </a:lnTo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29280" y="2554200"/>
              <a:ext cx="370080" cy="192240"/>
            </a:xfrm>
            <a:custGeom>
              <a:avLst/>
              <a:gdLst/>
              <a:ahLst/>
              <a:rect l="l" t="t" r="r" b="b"/>
              <a:pathLst>
                <a:path w="701" h="362">
                  <a:moveTo>
                    <a:pt x="2" y="151"/>
                  </a:moveTo>
                  <a:lnTo>
                    <a:pt x="145" y="118"/>
                  </a:lnTo>
                  <a:lnTo>
                    <a:pt x="371" y="68"/>
                  </a:lnTo>
                  <a:lnTo>
                    <a:pt x="373" y="60"/>
                  </a:lnTo>
                  <a:lnTo>
                    <a:pt x="380" y="54"/>
                  </a:lnTo>
                  <a:lnTo>
                    <a:pt x="386" y="60"/>
                  </a:lnTo>
                  <a:lnTo>
                    <a:pt x="390" y="54"/>
                  </a:lnTo>
                  <a:lnTo>
                    <a:pt x="386" y="37"/>
                  </a:lnTo>
                  <a:lnTo>
                    <a:pt x="406" y="31"/>
                  </a:lnTo>
                  <a:lnTo>
                    <a:pt x="421" y="3"/>
                  </a:lnTo>
                  <a:lnTo>
                    <a:pt x="436" y="0"/>
                  </a:lnTo>
                  <a:lnTo>
                    <a:pt x="449" y="6"/>
                  </a:lnTo>
                  <a:lnTo>
                    <a:pt x="457" y="38"/>
                  </a:lnTo>
                  <a:lnTo>
                    <a:pt x="484" y="58"/>
                  </a:lnTo>
                  <a:lnTo>
                    <a:pt x="491" y="69"/>
                  </a:lnTo>
                  <a:lnTo>
                    <a:pt x="487" y="79"/>
                  </a:lnTo>
                  <a:lnTo>
                    <a:pt x="475" y="86"/>
                  </a:lnTo>
                  <a:lnTo>
                    <a:pt x="463" y="109"/>
                  </a:lnTo>
                  <a:lnTo>
                    <a:pt x="453" y="141"/>
                  </a:lnTo>
                  <a:lnTo>
                    <a:pt x="455" y="154"/>
                  </a:lnTo>
                  <a:lnTo>
                    <a:pt x="484" y="154"/>
                  </a:lnTo>
                  <a:lnTo>
                    <a:pt x="509" y="167"/>
                  </a:lnTo>
                  <a:lnTo>
                    <a:pt x="550" y="208"/>
                  </a:lnTo>
                  <a:lnTo>
                    <a:pt x="563" y="235"/>
                  </a:lnTo>
                  <a:lnTo>
                    <a:pt x="581" y="257"/>
                  </a:lnTo>
                  <a:lnTo>
                    <a:pt x="629" y="262"/>
                  </a:lnTo>
                  <a:lnTo>
                    <a:pt x="658" y="251"/>
                  </a:lnTo>
                  <a:lnTo>
                    <a:pt x="674" y="215"/>
                  </a:lnTo>
                  <a:lnTo>
                    <a:pt x="664" y="211"/>
                  </a:lnTo>
                  <a:lnTo>
                    <a:pt x="645" y="194"/>
                  </a:lnTo>
                  <a:lnTo>
                    <a:pt x="623" y="182"/>
                  </a:lnTo>
                  <a:lnTo>
                    <a:pt x="624" y="168"/>
                  </a:lnTo>
                  <a:lnTo>
                    <a:pt x="642" y="170"/>
                  </a:lnTo>
                  <a:lnTo>
                    <a:pt x="650" y="172"/>
                  </a:lnTo>
                  <a:lnTo>
                    <a:pt x="682" y="215"/>
                  </a:lnTo>
                  <a:lnTo>
                    <a:pt x="701" y="262"/>
                  </a:lnTo>
                  <a:lnTo>
                    <a:pt x="699" y="282"/>
                  </a:lnTo>
                  <a:lnTo>
                    <a:pt x="680" y="268"/>
                  </a:lnTo>
                  <a:lnTo>
                    <a:pt x="658" y="286"/>
                  </a:lnTo>
                  <a:lnTo>
                    <a:pt x="626" y="301"/>
                  </a:lnTo>
                  <a:lnTo>
                    <a:pt x="590" y="329"/>
                  </a:lnTo>
                  <a:lnTo>
                    <a:pt x="577" y="329"/>
                  </a:lnTo>
                  <a:lnTo>
                    <a:pt x="573" y="325"/>
                  </a:lnTo>
                  <a:lnTo>
                    <a:pt x="573" y="314"/>
                  </a:lnTo>
                  <a:lnTo>
                    <a:pt x="569" y="290"/>
                  </a:lnTo>
                  <a:lnTo>
                    <a:pt x="562" y="290"/>
                  </a:lnTo>
                  <a:lnTo>
                    <a:pt x="542" y="322"/>
                  </a:lnTo>
                  <a:lnTo>
                    <a:pt x="520" y="355"/>
                  </a:lnTo>
                  <a:lnTo>
                    <a:pt x="512" y="362"/>
                  </a:lnTo>
                  <a:lnTo>
                    <a:pt x="497" y="343"/>
                  </a:lnTo>
                  <a:lnTo>
                    <a:pt x="494" y="337"/>
                  </a:lnTo>
                  <a:lnTo>
                    <a:pt x="487" y="335"/>
                  </a:lnTo>
                  <a:lnTo>
                    <a:pt x="482" y="329"/>
                  </a:lnTo>
                  <a:lnTo>
                    <a:pt x="469" y="321"/>
                  </a:lnTo>
                  <a:lnTo>
                    <a:pt x="469" y="312"/>
                  </a:lnTo>
                  <a:lnTo>
                    <a:pt x="431" y="303"/>
                  </a:lnTo>
                  <a:lnTo>
                    <a:pt x="421" y="276"/>
                  </a:lnTo>
                  <a:lnTo>
                    <a:pt x="411" y="271"/>
                  </a:lnTo>
                  <a:lnTo>
                    <a:pt x="401" y="249"/>
                  </a:lnTo>
                  <a:lnTo>
                    <a:pt x="326" y="265"/>
                  </a:lnTo>
                  <a:lnTo>
                    <a:pt x="148" y="312"/>
                  </a:lnTo>
                  <a:lnTo>
                    <a:pt x="145" y="322"/>
                  </a:lnTo>
                  <a:lnTo>
                    <a:pt x="142" y="324"/>
                  </a:lnTo>
                  <a:lnTo>
                    <a:pt x="129" y="310"/>
                  </a:lnTo>
                  <a:lnTo>
                    <a:pt x="8" y="341"/>
                  </a:lnTo>
                  <a:lnTo>
                    <a:pt x="0" y="333"/>
                  </a:lnTo>
                  <a:lnTo>
                    <a:pt x="2" y="151"/>
                  </a:lnTo>
                  <a:lnTo>
                    <a:pt x="2" y="151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00640" y="2685960"/>
              <a:ext cx="98640" cy="106560"/>
            </a:xfrm>
            <a:custGeom>
              <a:avLst/>
              <a:gdLst/>
              <a:ahLst/>
              <a:rect l="l" t="t" r="r" b="b"/>
              <a:pathLst>
                <a:path w="186" h="203">
                  <a:moveTo>
                    <a:pt x="0" y="16"/>
                  </a:moveTo>
                  <a:lnTo>
                    <a:pt x="43" y="165"/>
                  </a:lnTo>
                  <a:lnTo>
                    <a:pt x="38" y="178"/>
                  </a:lnTo>
                  <a:lnTo>
                    <a:pt x="35" y="187"/>
                  </a:lnTo>
                  <a:lnTo>
                    <a:pt x="38" y="193"/>
                  </a:lnTo>
                  <a:lnTo>
                    <a:pt x="38" y="201"/>
                  </a:lnTo>
                  <a:lnTo>
                    <a:pt x="47" y="203"/>
                  </a:lnTo>
                  <a:lnTo>
                    <a:pt x="86" y="175"/>
                  </a:lnTo>
                  <a:lnTo>
                    <a:pt x="108" y="157"/>
                  </a:lnTo>
                  <a:lnTo>
                    <a:pt x="108" y="141"/>
                  </a:lnTo>
                  <a:lnTo>
                    <a:pt x="101" y="128"/>
                  </a:lnTo>
                  <a:lnTo>
                    <a:pt x="101" y="104"/>
                  </a:lnTo>
                  <a:lnTo>
                    <a:pt x="118" y="88"/>
                  </a:lnTo>
                  <a:lnTo>
                    <a:pt x="127" y="94"/>
                  </a:lnTo>
                  <a:lnTo>
                    <a:pt x="126" y="109"/>
                  </a:lnTo>
                  <a:lnTo>
                    <a:pt x="127" y="141"/>
                  </a:lnTo>
                  <a:lnTo>
                    <a:pt x="131" y="150"/>
                  </a:lnTo>
                  <a:lnTo>
                    <a:pt x="144" y="148"/>
                  </a:lnTo>
                  <a:lnTo>
                    <a:pt x="144" y="130"/>
                  </a:lnTo>
                  <a:lnTo>
                    <a:pt x="153" y="130"/>
                  </a:lnTo>
                  <a:lnTo>
                    <a:pt x="163" y="116"/>
                  </a:lnTo>
                  <a:lnTo>
                    <a:pt x="183" y="114"/>
                  </a:lnTo>
                  <a:lnTo>
                    <a:pt x="186" y="114"/>
                  </a:lnTo>
                  <a:lnTo>
                    <a:pt x="171" y="94"/>
                  </a:lnTo>
                  <a:lnTo>
                    <a:pt x="168" y="88"/>
                  </a:lnTo>
                  <a:lnTo>
                    <a:pt x="161" y="87"/>
                  </a:lnTo>
                  <a:lnTo>
                    <a:pt x="156" y="81"/>
                  </a:lnTo>
                  <a:lnTo>
                    <a:pt x="143" y="73"/>
                  </a:lnTo>
                  <a:lnTo>
                    <a:pt x="143" y="63"/>
                  </a:lnTo>
                  <a:lnTo>
                    <a:pt x="105" y="55"/>
                  </a:lnTo>
                  <a:lnTo>
                    <a:pt x="95" y="27"/>
                  </a:lnTo>
                  <a:lnTo>
                    <a:pt x="85" y="22"/>
                  </a:lnTo>
                  <a:lnTo>
                    <a:pt x="75" y="0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33960" y="2693880"/>
              <a:ext cx="190800" cy="189000"/>
            </a:xfrm>
            <a:custGeom>
              <a:avLst/>
              <a:gdLst/>
              <a:ahLst/>
              <a:rect l="l" t="t" r="r" b="b"/>
              <a:pathLst>
                <a:path w="361" h="358">
                  <a:moveTo>
                    <a:pt x="0" y="77"/>
                  </a:moveTo>
                  <a:lnTo>
                    <a:pt x="121" y="46"/>
                  </a:lnTo>
                  <a:lnTo>
                    <a:pt x="134" y="59"/>
                  </a:lnTo>
                  <a:lnTo>
                    <a:pt x="137" y="57"/>
                  </a:lnTo>
                  <a:lnTo>
                    <a:pt x="140" y="47"/>
                  </a:lnTo>
                  <a:lnTo>
                    <a:pt x="318" y="0"/>
                  </a:lnTo>
                  <a:lnTo>
                    <a:pt x="361" y="149"/>
                  </a:lnTo>
                  <a:lnTo>
                    <a:pt x="355" y="162"/>
                  </a:lnTo>
                  <a:lnTo>
                    <a:pt x="353" y="171"/>
                  </a:lnTo>
                  <a:lnTo>
                    <a:pt x="355" y="177"/>
                  </a:lnTo>
                  <a:lnTo>
                    <a:pt x="355" y="185"/>
                  </a:lnTo>
                  <a:lnTo>
                    <a:pt x="334" y="188"/>
                  </a:lnTo>
                  <a:lnTo>
                    <a:pt x="271" y="213"/>
                  </a:lnTo>
                  <a:lnTo>
                    <a:pt x="255" y="210"/>
                  </a:lnTo>
                  <a:lnTo>
                    <a:pt x="250" y="217"/>
                  </a:lnTo>
                  <a:lnTo>
                    <a:pt x="250" y="227"/>
                  </a:lnTo>
                  <a:lnTo>
                    <a:pt x="245" y="232"/>
                  </a:lnTo>
                  <a:lnTo>
                    <a:pt x="210" y="238"/>
                  </a:lnTo>
                  <a:lnTo>
                    <a:pt x="159" y="259"/>
                  </a:lnTo>
                  <a:lnTo>
                    <a:pt x="152" y="253"/>
                  </a:lnTo>
                  <a:lnTo>
                    <a:pt x="123" y="284"/>
                  </a:lnTo>
                  <a:lnTo>
                    <a:pt x="54" y="342"/>
                  </a:lnTo>
                  <a:lnTo>
                    <a:pt x="29" y="358"/>
                  </a:lnTo>
                  <a:lnTo>
                    <a:pt x="6" y="335"/>
                  </a:lnTo>
                  <a:lnTo>
                    <a:pt x="36" y="302"/>
                  </a:lnTo>
                  <a:lnTo>
                    <a:pt x="41" y="290"/>
                  </a:lnTo>
                  <a:lnTo>
                    <a:pt x="26" y="273"/>
                  </a:lnTo>
                  <a:lnTo>
                    <a:pt x="0" y="77"/>
                  </a:lnTo>
                  <a:lnTo>
                    <a:pt x="0" y="7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2160" y="2279520"/>
              <a:ext cx="193680" cy="354240"/>
            </a:xfrm>
            <a:custGeom>
              <a:avLst/>
              <a:gdLst/>
              <a:ahLst/>
              <a:rect l="l" t="t" r="r" b="b"/>
              <a:pathLst>
                <a:path w="366" h="667">
                  <a:moveTo>
                    <a:pt x="0" y="86"/>
                  </a:moveTo>
                  <a:lnTo>
                    <a:pt x="12" y="112"/>
                  </a:lnTo>
                  <a:lnTo>
                    <a:pt x="8" y="126"/>
                  </a:lnTo>
                  <a:lnTo>
                    <a:pt x="17" y="137"/>
                  </a:lnTo>
                  <a:lnTo>
                    <a:pt x="18" y="147"/>
                  </a:lnTo>
                  <a:lnTo>
                    <a:pt x="48" y="223"/>
                  </a:lnTo>
                  <a:lnTo>
                    <a:pt x="60" y="278"/>
                  </a:lnTo>
                  <a:lnTo>
                    <a:pt x="44" y="305"/>
                  </a:lnTo>
                  <a:lnTo>
                    <a:pt x="48" y="335"/>
                  </a:lnTo>
                  <a:lnTo>
                    <a:pt x="81" y="409"/>
                  </a:lnTo>
                  <a:lnTo>
                    <a:pt x="76" y="445"/>
                  </a:lnTo>
                  <a:lnTo>
                    <a:pt x="84" y="457"/>
                  </a:lnTo>
                  <a:lnTo>
                    <a:pt x="88" y="455"/>
                  </a:lnTo>
                  <a:lnTo>
                    <a:pt x="87" y="447"/>
                  </a:lnTo>
                  <a:lnTo>
                    <a:pt x="99" y="445"/>
                  </a:lnTo>
                  <a:lnTo>
                    <a:pt x="119" y="476"/>
                  </a:lnTo>
                  <a:lnTo>
                    <a:pt x="131" y="543"/>
                  </a:lnTo>
                  <a:lnTo>
                    <a:pt x="131" y="581"/>
                  </a:lnTo>
                  <a:lnTo>
                    <a:pt x="145" y="623"/>
                  </a:lnTo>
                  <a:lnTo>
                    <a:pt x="166" y="667"/>
                  </a:lnTo>
                  <a:lnTo>
                    <a:pt x="310" y="634"/>
                  </a:lnTo>
                  <a:lnTo>
                    <a:pt x="306" y="622"/>
                  </a:lnTo>
                  <a:lnTo>
                    <a:pt x="288" y="606"/>
                  </a:lnTo>
                  <a:lnTo>
                    <a:pt x="290" y="577"/>
                  </a:lnTo>
                  <a:lnTo>
                    <a:pt x="297" y="568"/>
                  </a:lnTo>
                  <a:lnTo>
                    <a:pt x="289" y="545"/>
                  </a:lnTo>
                  <a:lnTo>
                    <a:pt x="278" y="436"/>
                  </a:lnTo>
                  <a:lnTo>
                    <a:pt x="278" y="402"/>
                  </a:lnTo>
                  <a:lnTo>
                    <a:pt x="292" y="341"/>
                  </a:lnTo>
                  <a:lnTo>
                    <a:pt x="301" y="300"/>
                  </a:lnTo>
                  <a:lnTo>
                    <a:pt x="304" y="267"/>
                  </a:lnTo>
                  <a:lnTo>
                    <a:pt x="292" y="244"/>
                  </a:lnTo>
                  <a:lnTo>
                    <a:pt x="292" y="221"/>
                  </a:lnTo>
                  <a:lnTo>
                    <a:pt x="301" y="206"/>
                  </a:lnTo>
                  <a:lnTo>
                    <a:pt x="343" y="172"/>
                  </a:lnTo>
                  <a:lnTo>
                    <a:pt x="366" y="112"/>
                  </a:lnTo>
                  <a:lnTo>
                    <a:pt x="343" y="80"/>
                  </a:lnTo>
                  <a:lnTo>
                    <a:pt x="341" y="61"/>
                  </a:lnTo>
                  <a:lnTo>
                    <a:pt x="347" y="50"/>
                  </a:lnTo>
                  <a:lnTo>
                    <a:pt x="347" y="40"/>
                  </a:lnTo>
                  <a:lnTo>
                    <a:pt x="335" y="0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49880" y="1876320"/>
              <a:ext cx="408240" cy="658800"/>
            </a:xfrm>
            <a:custGeom>
              <a:avLst/>
              <a:gdLst/>
              <a:ahLst/>
              <a:rect l="l" t="t" r="r" b="b"/>
              <a:pathLst>
                <a:path w="771" h="1246">
                  <a:moveTo>
                    <a:pt x="0" y="667"/>
                  </a:moveTo>
                  <a:lnTo>
                    <a:pt x="150" y="1116"/>
                  </a:lnTo>
                  <a:lnTo>
                    <a:pt x="151" y="1126"/>
                  </a:lnTo>
                  <a:lnTo>
                    <a:pt x="150" y="1145"/>
                  </a:lnTo>
                  <a:lnTo>
                    <a:pt x="153" y="1153"/>
                  </a:lnTo>
                  <a:lnTo>
                    <a:pt x="189" y="1181"/>
                  </a:lnTo>
                  <a:lnTo>
                    <a:pt x="198" y="1183"/>
                  </a:lnTo>
                  <a:lnTo>
                    <a:pt x="202" y="1199"/>
                  </a:lnTo>
                  <a:lnTo>
                    <a:pt x="200" y="1209"/>
                  </a:lnTo>
                  <a:lnTo>
                    <a:pt x="223" y="1246"/>
                  </a:lnTo>
                  <a:lnTo>
                    <a:pt x="227" y="1235"/>
                  </a:lnTo>
                  <a:lnTo>
                    <a:pt x="232" y="1209"/>
                  </a:lnTo>
                  <a:lnTo>
                    <a:pt x="237" y="1175"/>
                  </a:lnTo>
                  <a:lnTo>
                    <a:pt x="252" y="1141"/>
                  </a:lnTo>
                  <a:lnTo>
                    <a:pt x="264" y="1091"/>
                  </a:lnTo>
                  <a:lnTo>
                    <a:pt x="283" y="1071"/>
                  </a:lnTo>
                  <a:lnTo>
                    <a:pt x="284" y="1063"/>
                  </a:lnTo>
                  <a:lnTo>
                    <a:pt x="274" y="1056"/>
                  </a:lnTo>
                  <a:lnTo>
                    <a:pt x="265" y="1028"/>
                  </a:lnTo>
                  <a:lnTo>
                    <a:pt x="315" y="983"/>
                  </a:lnTo>
                  <a:lnTo>
                    <a:pt x="322" y="987"/>
                  </a:lnTo>
                  <a:lnTo>
                    <a:pt x="331" y="1011"/>
                  </a:lnTo>
                  <a:lnTo>
                    <a:pt x="339" y="1016"/>
                  </a:lnTo>
                  <a:lnTo>
                    <a:pt x="343" y="1005"/>
                  </a:lnTo>
                  <a:lnTo>
                    <a:pt x="343" y="985"/>
                  </a:lnTo>
                  <a:lnTo>
                    <a:pt x="346" y="973"/>
                  </a:lnTo>
                  <a:lnTo>
                    <a:pt x="385" y="967"/>
                  </a:lnTo>
                  <a:lnTo>
                    <a:pt x="398" y="951"/>
                  </a:lnTo>
                  <a:lnTo>
                    <a:pt x="400" y="935"/>
                  </a:lnTo>
                  <a:lnTo>
                    <a:pt x="406" y="924"/>
                  </a:lnTo>
                  <a:lnTo>
                    <a:pt x="426" y="926"/>
                  </a:lnTo>
                  <a:lnTo>
                    <a:pt x="442" y="916"/>
                  </a:lnTo>
                  <a:lnTo>
                    <a:pt x="447" y="910"/>
                  </a:lnTo>
                  <a:lnTo>
                    <a:pt x="455" y="876"/>
                  </a:lnTo>
                  <a:lnTo>
                    <a:pt x="451" y="853"/>
                  </a:lnTo>
                  <a:lnTo>
                    <a:pt x="476" y="822"/>
                  </a:lnTo>
                  <a:lnTo>
                    <a:pt x="476" y="808"/>
                  </a:lnTo>
                  <a:lnTo>
                    <a:pt x="487" y="808"/>
                  </a:lnTo>
                  <a:lnTo>
                    <a:pt x="513" y="812"/>
                  </a:lnTo>
                  <a:lnTo>
                    <a:pt x="528" y="806"/>
                  </a:lnTo>
                  <a:lnTo>
                    <a:pt x="535" y="791"/>
                  </a:lnTo>
                  <a:lnTo>
                    <a:pt x="545" y="765"/>
                  </a:lnTo>
                  <a:lnTo>
                    <a:pt x="556" y="762"/>
                  </a:lnTo>
                  <a:lnTo>
                    <a:pt x="573" y="734"/>
                  </a:lnTo>
                  <a:lnTo>
                    <a:pt x="602" y="739"/>
                  </a:lnTo>
                  <a:lnTo>
                    <a:pt x="621" y="757"/>
                  </a:lnTo>
                  <a:lnTo>
                    <a:pt x="653" y="706"/>
                  </a:lnTo>
                  <a:lnTo>
                    <a:pt x="674" y="693"/>
                  </a:lnTo>
                  <a:lnTo>
                    <a:pt x="715" y="657"/>
                  </a:lnTo>
                  <a:lnTo>
                    <a:pt x="726" y="642"/>
                  </a:lnTo>
                  <a:lnTo>
                    <a:pt x="731" y="633"/>
                  </a:lnTo>
                  <a:lnTo>
                    <a:pt x="744" y="635"/>
                  </a:lnTo>
                  <a:lnTo>
                    <a:pt x="762" y="625"/>
                  </a:lnTo>
                  <a:lnTo>
                    <a:pt x="771" y="602"/>
                  </a:lnTo>
                  <a:lnTo>
                    <a:pt x="768" y="585"/>
                  </a:lnTo>
                  <a:lnTo>
                    <a:pt x="753" y="576"/>
                  </a:lnTo>
                  <a:lnTo>
                    <a:pt x="750" y="580"/>
                  </a:lnTo>
                  <a:lnTo>
                    <a:pt x="739" y="573"/>
                  </a:lnTo>
                  <a:lnTo>
                    <a:pt x="747" y="555"/>
                  </a:lnTo>
                  <a:lnTo>
                    <a:pt x="753" y="553"/>
                  </a:lnTo>
                  <a:lnTo>
                    <a:pt x="750" y="539"/>
                  </a:lnTo>
                  <a:lnTo>
                    <a:pt x="734" y="503"/>
                  </a:lnTo>
                  <a:lnTo>
                    <a:pt x="714" y="495"/>
                  </a:lnTo>
                  <a:lnTo>
                    <a:pt x="702" y="497"/>
                  </a:lnTo>
                  <a:lnTo>
                    <a:pt x="695" y="504"/>
                  </a:lnTo>
                  <a:lnTo>
                    <a:pt x="677" y="506"/>
                  </a:lnTo>
                  <a:lnTo>
                    <a:pt x="659" y="500"/>
                  </a:lnTo>
                  <a:lnTo>
                    <a:pt x="642" y="434"/>
                  </a:lnTo>
                  <a:lnTo>
                    <a:pt x="649" y="425"/>
                  </a:lnTo>
                  <a:lnTo>
                    <a:pt x="648" y="413"/>
                  </a:lnTo>
                  <a:lnTo>
                    <a:pt x="640" y="406"/>
                  </a:lnTo>
                  <a:lnTo>
                    <a:pt x="627" y="406"/>
                  </a:lnTo>
                  <a:lnTo>
                    <a:pt x="621" y="412"/>
                  </a:lnTo>
                  <a:lnTo>
                    <a:pt x="592" y="403"/>
                  </a:lnTo>
                  <a:lnTo>
                    <a:pt x="575" y="403"/>
                  </a:lnTo>
                  <a:lnTo>
                    <a:pt x="567" y="396"/>
                  </a:lnTo>
                  <a:lnTo>
                    <a:pt x="554" y="356"/>
                  </a:lnTo>
                  <a:lnTo>
                    <a:pt x="554" y="346"/>
                  </a:lnTo>
                  <a:lnTo>
                    <a:pt x="459" y="54"/>
                  </a:lnTo>
                  <a:lnTo>
                    <a:pt x="379" y="5"/>
                  </a:lnTo>
                  <a:lnTo>
                    <a:pt x="359" y="0"/>
                  </a:lnTo>
                  <a:lnTo>
                    <a:pt x="339" y="3"/>
                  </a:lnTo>
                  <a:lnTo>
                    <a:pt x="331" y="16"/>
                  </a:lnTo>
                  <a:lnTo>
                    <a:pt x="325" y="29"/>
                  </a:lnTo>
                  <a:lnTo>
                    <a:pt x="315" y="29"/>
                  </a:lnTo>
                  <a:lnTo>
                    <a:pt x="286" y="42"/>
                  </a:lnTo>
                  <a:lnTo>
                    <a:pt x="245" y="79"/>
                  </a:lnTo>
                  <a:lnTo>
                    <a:pt x="232" y="82"/>
                  </a:lnTo>
                  <a:lnTo>
                    <a:pt x="215" y="60"/>
                  </a:lnTo>
                  <a:lnTo>
                    <a:pt x="217" y="31"/>
                  </a:lnTo>
                  <a:lnTo>
                    <a:pt x="210" y="21"/>
                  </a:lnTo>
                  <a:lnTo>
                    <a:pt x="198" y="21"/>
                  </a:lnTo>
                  <a:lnTo>
                    <a:pt x="169" y="31"/>
                  </a:lnTo>
                  <a:lnTo>
                    <a:pt x="99" y="258"/>
                  </a:lnTo>
                  <a:lnTo>
                    <a:pt x="95" y="292"/>
                  </a:lnTo>
                  <a:lnTo>
                    <a:pt x="110" y="308"/>
                  </a:lnTo>
                  <a:lnTo>
                    <a:pt x="110" y="334"/>
                  </a:lnTo>
                  <a:lnTo>
                    <a:pt x="101" y="350"/>
                  </a:lnTo>
                  <a:lnTo>
                    <a:pt x="91" y="360"/>
                  </a:lnTo>
                  <a:lnTo>
                    <a:pt x="82" y="380"/>
                  </a:lnTo>
                  <a:lnTo>
                    <a:pt x="107" y="473"/>
                  </a:lnTo>
                  <a:lnTo>
                    <a:pt x="95" y="503"/>
                  </a:lnTo>
                  <a:lnTo>
                    <a:pt x="95" y="527"/>
                  </a:lnTo>
                  <a:lnTo>
                    <a:pt x="63" y="572"/>
                  </a:lnTo>
                  <a:lnTo>
                    <a:pt x="55" y="589"/>
                  </a:lnTo>
                  <a:lnTo>
                    <a:pt x="69" y="617"/>
                  </a:lnTo>
                  <a:lnTo>
                    <a:pt x="68" y="621"/>
                  </a:lnTo>
                  <a:lnTo>
                    <a:pt x="49" y="621"/>
                  </a:lnTo>
                  <a:lnTo>
                    <a:pt x="49" y="647"/>
                  </a:lnTo>
                  <a:lnTo>
                    <a:pt x="45" y="659"/>
                  </a:lnTo>
                  <a:lnTo>
                    <a:pt x="33" y="657"/>
                  </a:lnTo>
                  <a:lnTo>
                    <a:pt x="19" y="653"/>
                  </a:lnTo>
                  <a:lnTo>
                    <a:pt x="0" y="667"/>
                  </a:lnTo>
                  <a:lnTo>
                    <a:pt x="0" y="66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89760" y="2228760"/>
              <a:ext cx="179280" cy="387360"/>
            </a:xfrm>
            <a:custGeom>
              <a:avLst/>
              <a:gdLst/>
              <a:ahLst/>
              <a:rect l="l" t="t" r="r" b="b"/>
              <a:pathLst>
                <a:path w="339" h="732">
                  <a:moveTo>
                    <a:pt x="335" y="619"/>
                  </a:moveTo>
                  <a:lnTo>
                    <a:pt x="322" y="614"/>
                  </a:lnTo>
                  <a:lnTo>
                    <a:pt x="307" y="617"/>
                  </a:lnTo>
                  <a:lnTo>
                    <a:pt x="293" y="644"/>
                  </a:lnTo>
                  <a:lnTo>
                    <a:pt x="272" y="650"/>
                  </a:lnTo>
                  <a:lnTo>
                    <a:pt x="276" y="668"/>
                  </a:lnTo>
                  <a:lnTo>
                    <a:pt x="272" y="674"/>
                  </a:lnTo>
                  <a:lnTo>
                    <a:pt x="266" y="668"/>
                  </a:lnTo>
                  <a:lnTo>
                    <a:pt x="259" y="674"/>
                  </a:lnTo>
                  <a:lnTo>
                    <a:pt x="257" y="681"/>
                  </a:lnTo>
                  <a:lnTo>
                    <a:pt x="32" y="732"/>
                  </a:lnTo>
                  <a:lnTo>
                    <a:pt x="28" y="719"/>
                  </a:lnTo>
                  <a:lnTo>
                    <a:pt x="10" y="703"/>
                  </a:lnTo>
                  <a:lnTo>
                    <a:pt x="12" y="675"/>
                  </a:lnTo>
                  <a:lnTo>
                    <a:pt x="19" y="665"/>
                  </a:lnTo>
                  <a:lnTo>
                    <a:pt x="11" y="642"/>
                  </a:lnTo>
                  <a:lnTo>
                    <a:pt x="0" y="534"/>
                  </a:lnTo>
                  <a:lnTo>
                    <a:pt x="0" y="499"/>
                  </a:lnTo>
                  <a:lnTo>
                    <a:pt x="14" y="438"/>
                  </a:lnTo>
                  <a:lnTo>
                    <a:pt x="23" y="397"/>
                  </a:lnTo>
                  <a:lnTo>
                    <a:pt x="27" y="364"/>
                  </a:lnTo>
                  <a:lnTo>
                    <a:pt x="14" y="342"/>
                  </a:lnTo>
                  <a:lnTo>
                    <a:pt x="14" y="318"/>
                  </a:lnTo>
                  <a:lnTo>
                    <a:pt x="23" y="303"/>
                  </a:lnTo>
                  <a:lnTo>
                    <a:pt x="65" y="269"/>
                  </a:lnTo>
                  <a:lnTo>
                    <a:pt x="88" y="210"/>
                  </a:lnTo>
                  <a:lnTo>
                    <a:pt x="65" y="177"/>
                  </a:lnTo>
                  <a:lnTo>
                    <a:pt x="63" y="159"/>
                  </a:lnTo>
                  <a:lnTo>
                    <a:pt x="69" y="148"/>
                  </a:lnTo>
                  <a:lnTo>
                    <a:pt x="68" y="138"/>
                  </a:lnTo>
                  <a:lnTo>
                    <a:pt x="57" y="97"/>
                  </a:lnTo>
                  <a:lnTo>
                    <a:pt x="65" y="50"/>
                  </a:lnTo>
                  <a:lnTo>
                    <a:pt x="53" y="34"/>
                  </a:lnTo>
                  <a:lnTo>
                    <a:pt x="58" y="27"/>
                  </a:lnTo>
                  <a:lnTo>
                    <a:pt x="73" y="27"/>
                  </a:lnTo>
                  <a:lnTo>
                    <a:pt x="80" y="9"/>
                  </a:lnTo>
                  <a:lnTo>
                    <a:pt x="93" y="15"/>
                  </a:lnTo>
                  <a:lnTo>
                    <a:pt x="106" y="12"/>
                  </a:lnTo>
                  <a:lnTo>
                    <a:pt x="116" y="0"/>
                  </a:lnTo>
                  <a:lnTo>
                    <a:pt x="266" y="450"/>
                  </a:lnTo>
                  <a:lnTo>
                    <a:pt x="267" y="459"/>
                  </a:lnTo>
                  <a:lnTo>
                    <a:pt x="266" y="478"/>
                  </a:lnTo>
                  <a:lnTo>
                    <a:pt x="269" y="486"/>
                  </a:lnTo>
                  <a:lnTo>
                    <a:pt x="305" y="514"/>
                  </a:lnTo>
                  <a:lnTo>
                    <a:pt x="314" y="517"/>
                  </a:lnTo>
                  <a:lnTo>
                    <a:pt x="318" y="532"/>
                  </a:lnTo>
                  <a:lnTo>
                    <a:pt x="317" y="542"/>
                  </a:lnTo>
                  <a:lnTo>
                    <a:pt x="339" y="579"/>
                  </a:lnTo>
                  <a:lnTo>
                    <a:pt x="336" y="586"/>
                  </a:lnTo>
                  <a:lnTo>
                    <a:pt x="334" y="605"/>
                  </a:lnTo>
                  <a:lnTo>
                    <a:pt x="335" y="619"/>
                  </a:lnTo>
                  <a:lnTo>
                    <a:pt x="335" y="619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435720" y="3281400"/>
              <a:ext cx="12240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51640" y="3078000"/>
              <a:ext cx="11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wis721 BT"/>
                </a:rPr>
                <a:t>D.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0"/>
              <a:ext cx="9151920" cy="122724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Unintentional Residential Fire Deaths, 2000-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78760" y="1490760"/>
              <a:ext cx="1685880" cy="32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 = 2,803/yea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4480" y="6224760"/>
              <a:ext cx="88390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* Rate is based on fewer than 20 death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ot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ased on ICD-10 codes X00-X09 (location = HOME).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Data are age adjusted to the 2000 standard pop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9000" y="642456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7072200" y="3506760"/>
              <a:ext cx="1974960" cy="2481120"/>
              <a:chOff x="7072200" y="3506760"/>
              <a:chExt cx="1974960" cy="2481120"/>
            </a:xfrm>
          </p:grpSpPr>
          <p:sp>
            <p:nvSpPr>
              <p:cNvPr id="422" name=""/>
              <p:cNvSpPr/>
              <p:nvPr/>
            </p:nvSpPr>
            <p:spPr>
              <a:xfrm>
                <a:off x="7586640" y="4524480"/>
                <a:ext cx="1460520" cy="14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1.33-3.05   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.98-1.32    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.77-0.9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.28-0.7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Unreliable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58040" y="5070600"/>
                <a:ext cx="152280" cy="1522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58040" y="4842000"/>
                <a:ext cx="152280" cy="152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72200" y="3506760"/>
                <a:ext cx="191772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Age-adjusted rate per 100,000 </a:t>
                </a:r>
                <a:br>
                  <a:rPr sz="15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(by quartiles)</a:t>
                </a:r>
                <a:r>
                  <a:rPr b="1" lang="en-US" sz="1500" spc="-1" strike="noStrike">
                    <a:solidFill>
                      <a:srgbClr val="fef2d8"/>
                    </a:solidFill>
                    <a:latin typeface="Tahoma"/>
                    <a:ea typeface="Tahoma"/>
                  </a:rPr>
                  <a:t>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58040" y="4613400"/>
                <a:ext cx="15228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58040" y="5283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960" y="4411800"/>
                <a:ext cx="162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53360" y="5764320"/>
                <a:ext cx="152280" cy="15228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401040" cy="6858000"/>
            <a:chOff x="0" y="0"/>
            <a:chExt cx="9401040" cy="6858000"/>
          </a:xfrm>
        </p:grpSpPr>
        <p:sp>
          <p:nvSpPr>
            <p:cNvPr id="431" name=""/>
            <p:cNvSpPr/>
            <p:nvPr/>
          </p:nvSpPr>
          <p:spPr>
            <a:xfrm>
              <a:off x="328680" y="1195560"/>
              <a:ext cx="461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6153120"/>
              <a:ext cx="9144000" cy="7048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3" name=""/>
            <p:cNvGraphicFramePr/>
            <p:nvPr/>
          </p:nvGraphicFramePr>
          <p:xfrm>
            <a:off x="257040" y="1463760"/>
            <a:ext cx="8469360" cy="440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7040" y="1463760"/>
                      <a:ext cx="8469360" cy="440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5" name=""/>
            <p:cNvSpPr/>
            <p:nvPr/>
          </p:nvSpPr>
          <p:spPr>
            <a:xfrm>
              <a:off x="3956040" y="1200240"/>
              <a:ext cx="9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70600" y="1200240"/>
              <a:ext cx="9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Deaths Due to Unintentional Fal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5280" y="1271520"/>
              <a:ext cx="195120" cy="1857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840" y="6257880"/>
              <a:ext cx="751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 = 95% confidence interva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516720" y="1147680"/>
              <a:ext cx="1981080" cy="380880"/>
              <a:chOff x="6516720" y="1147680"/>
              <a:chExt cx="1981080" cy="380880"/>
            </a:xfrm>
          </p:grpSpPr>
          <p:sp>
            <p:nvSpPr>
              <p:cNvPr id="441" name=""/>
              <p:cNvSpPr/>
              <p:nvPr/>
            </p:nvSpPr>
            <p:spPr>
              <a:xfrm>
                <a:off x="6722640" y="1235160"/>
                <a:ext cx="17301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f5f5f"/>
                    </a:solidFill>
                    <a:latin typeface="Tahoma"/>
                  </a:rPr>
                  <a:t>Decrease desir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19760" y="1216080"/>
                <a:ext cx="0" cy="26172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516720" y="1147680"/>
                <a:ext cx="1981080" cy="380880"/>
              </a:xfrm>
              <a:prstGeom prst="rect">
                <a:avLst/>
              </a:prstGeom>
              <a:noFill/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77840" y="6408720"/>
              <a:ext cx="782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ased on ICD-10 codes W00-W19. Trend data shown in insert are adjusted to the 2000 standard population.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13760" y="636264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19840" y="1271520"/>
              <a:ext cx="195120" cy="1857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17720" y="562464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-18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71960" y="563580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85+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30960" y="563256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5-64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92840" y="562932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9-44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2440" y="563400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65-74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80560" y="562932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5-84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309680" y="2028960"/>
              <a:ext cx="4783320" cy="3054240"/>
              <a:chOff x="1309680" y="2028960"/>
              <a:chExt cx="4783320" cy="3054240"/>
            </a:xfrm>
          </p:grpSpPr>
          <p:graphicFrame>
            <p:nvGraphicFramePr>
              <p:cNvPr id="454" name=""/>
              <p:cNvGraphicFramePr/>
              <p:nvPr/>
            </p:nvGraphicFramePr>
            <p:xfrm>
              <a:off x="1309680" y="2101680"/>
              <a:ext cx="4783320" cy="2981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5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09680" y="2101680"/>
                        <a:ext cx="4783320" cy="298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6" name=""/>
              <p:cNvSpPr/>
              <p:nvPr/>
            </p:nvSpPr>
            <p:spPr>
              <a:xfrm>
                <a:off x="1343160" y="2028960"/>
                <a:ext cx="3481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Age-adjusted rate per 100,000 popul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-66600" y="0"/>
            <a:ext cx="9448920" cy="6967080"/>
            <a:chOff x="-66600" y="0"/>
            <a:chExt cx="9448920" cy="6967080"/>
          </a:xfrm>
        </p:grpSpPr>
        <p:graphicFrame>
          <p:nvGraphicFramePr>
            <p:cNvPr id="458" name=""/>
            <p:cNvGraphicFramePr/>
            <p:nvPr/>
          </p:nvGraphicFramePr>
          <p:xfrm>
            <a:off x="2525760" y="1042920"/>
            <a:ext cx="5898960" cy="414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25760" y="1042920"/>
                      <a:ext cx="5898960" cy="414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0" name=""/>
            <p:cNvSpPr/>
            <p:nvPr/>
          </p:nvSpPr>
          <p:spPr>
            <a:xfrm>
              <a:off x="0" y="5862600"/>
              <a:ext cx="9144000" cy="995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95040" y="633888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28920" y="5262480"/>
              <a:ext cx="65293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0                 2                 4                 6                 8                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66600" y="1179360"/>
              <a:ext cx="2590560" cy="43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r">
                <a:lnSpc>
                  <a:spcPct val="8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merican Indi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s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isp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e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Less than high sch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igh sch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t least some colle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7840" y="5900760"/>
              <a:ext cx="75801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= 95% confidence interval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Based on ICD-10 codes W00-W19.  Data are age adjusted to the 2000 standard population.  American Indian include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laska Native.  Asian includes Pacific Islander.  Black and White exclude persons of Hispanic origin.  Persons of Hispani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rigin may be of any race.  One or more races could be recorded.  Data by single race categories are for persons for whom only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ne racial group was recorded.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ducation estimates are based on persons aged 25-64 years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81080" y="5924520"/>
              <a:ext cx="152280" cy="76320"/>
              <a:chOff x="181080" y="5924520"/>
              <a:chExt cx="152280" cy="76320"/>
            </a:xfrm>
          </p:grpSpPr>
          <p:sp>
            <p:nvSpPr>
              <p:cNvPr id="466" name=""/>
              <p:cNvSpPr/>
              <p:nvPr/>
            </p:nvSpPr>
            <p:spPr>
              <a:xfrm>
                <a:off x="181080" y="59245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3360" y="59245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81080" y="5962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Deaths Due to Unintentional Falls, 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09680" y="5586480"/>
              <a:ext cx="65296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-adjusted 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4289400" y="1098720"/>
              <a:ext cx="5086440" cy="2970000"/>
              <a:chOff x="4289400" y="1098720"/>
              <a:chExt cx="5086440" cy="29700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289400" y="1098720"/>
                <a:ext cx="5086440" cy="2970000"/>
                <a:chOff x="4289400" y="1098720"/>
                <a:chExt cx="5086440" cy="29700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289400" y="1114560"/>
                  <a:ext cx="12600" cy="295416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6748560" y="1098720"/>
                  <a:ext cx="2278800" cy="380880"/>
                  <a:chOff x="6748560" y="1098720"/>
                  <a:chExt cx="2278800" cy="38088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6748560" y="1098720"/>
                    <a:ext cx="2057040" cy="304560"/>
                  </a:xfrm>
                  <a:prstGeom prst="rect">
                    <a:avLst/>
                  </a:prstGeom>
                  <a:noFill/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6842160" y="1155600"/>
                    <a:ext cx="2185200" cy="324000"/>
                    <a:chOff x="6842160" y="1155600"/>
                    <a:chExt cx="2185200" cy="32400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6843240" y="1174680"/>
                      <a:ext cx="205704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7097400" y="1155600"/>
                      <a:ext cx="1929960" cy="22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crease des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>
                      <a:off x="6842160" y="1244520"/>
                      <a:ext cx="267840" cy="0"/>
                    </a:xfrm>
                    <a:prstGeom prst="line">
                      <a:avLst/>
                    </a:prstGeom>
                    <a:ln w="28440">
                      <a:solidFill>
                        <a:srgbClr val="5f5f5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0" name=""/>
                <p:cNvSpPr/>
                <p:nvPr/>
              </p:nvSpPr>
              <p:spPr>
                <a:xfrm>
                  <a:off x="7093080" y="1498680"/>
                  <a:ext cx="228276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>
                    <a:lnSpc>
                      <a:spcPct val="7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2010 Target: 3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7010280" y="1488240"/>
                <a:ext cx="6480" cy="233640"/>
              </a:xfrm>
              <a:prstGeom prst="line">
                <a:avLst/>
              </a:prstGeom>
              <a:ln w="507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9296280" cy="6930720"/>
            <a:chOff x="0" y="0"/>
            <a:chExt cx="9296280" cy="6930720"/>
          </a:xfrm>
        </p:grpSpPr>
        <p:sp>
          <p:nvSpPr>
            <p:cNvPr id="483" name=""/>
            <p:cNvSpPr/>
            <p:nvPr/>
          </p:nvSpPr>
          <p:spPr>
            <a:xfrm>
              <a:off x="2259000" y="3067200"/>
              <a:ext cx="811080" cy="641160"/>
            </a:xfrm>
            <a:custGeom>
              <a:avLst/>
              <a:gdLst/>
              <a:ahLst/>
              <a:rect l="l" t="t" r="r" b="b"/>
              <a:pathLst>
                <a:path w="1532" h="1212">
                  <a:moveTo>
                    <a:pt x="0" y="1057"/>
                  </a:moveTo>
                  <a:lnTo>
                    <a:pt x="145" y="0"/>
                  </a:lnTo>
                  <a:lnTo>
                    <a:pt x="1136" y="108"/>
                  </a:lnTo>
                  <a:lnTo>
                    <a:pt x="1532" y="141"/>
                  </a:lnTo>
                  <a:lnTo>
                    <a:pt x="1517" y="409"/>
                  </a:lnTo>
                  <a:lnTo>
                    <a:pt x="1471" y="1212"/>
                  </a:lnTo>
                  <a:lnTo>
                    <a:pt x="1265" y="1200"/>
                  </a:lnTo>
                  <a:lnTo>
                    <a:pt x="0" y="1057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6259680"/>
              <a:ext cx="9144000" cy="5983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2378160" y="5091120"/>
              <a:ext cx="786960" cy="485640"/>
              <a:chOff x="2378160" y="5091120"/>
              <a:chExt cx="786960" cy="485640"/>
            </a:xfrm>
          </p:grpSpPr>
          <p:sp>
            <p:nvSpPr>
              <p:cNvPr id="486" name=""/>
              <p:cNvSpPr/>
              <p:nvPr/>
            </p:nvSpPr>
            <p:spPr>
              <a:xfrm>
                <a:off x="2993760" y="5375160"/>
                <a:ext cx="171360" cy="201600"/>
              </a:xfrm>
              <a:custGeom>
                <a:avLst/>
                <a:gdLst/>
                <a:ahLst/>
                <a:rect l="l" t="t" r="r" b="b"/>
                <a:pathLst>
                  <a:path w="324" h="379">
                    <a:moveTo>
                      <a:pt x="0" y="128"/>
                    </a:moveTo>
                    <a:lnTo>
                      <a:pt x="36" y="255"/>
                    </a:lnTo>
                    <a:lnTo>
                      <a:pt x="38" y="318"/>
                    </a:lnTo>
                    <a:lnTo>
                      <a:pt x="136" y="379"/>
                    </a:lnTo>
                    <a:lnTo>
                      <a:pt x="164" y="314"/>
                    </a:lnTo>
                    <a:lnTo>
                      <a:pt x="324" y="214"/>
                    </a:lnTo>
                    <a:lnTo>
                      <a:pt x="255" y="90"/>
                    </a:lnTo>
                    <a:lnTo>
                      <a:pt x="59" y="0"/>
                    </a:lnTo>
                    <a:lnTo>
                      <a:pt x="62" y="9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04840" y="5260680"/>
                <a:ext cx="101520" cy="66960"/>
              </a:xfrm>
              <a:custGeom>
                <a:avLst/>
                <a:gdLst/>
                <a:ahLst/>
                <a:rect l="l" t="t" r="r" b="b"/>
                <a:pathLst>
                  <a:path w="191" h="127">
                    <a:moveTo>
                      <a:pt x="68" y="127"/>
                    </a:moveTo>
                    <a:lnTo>
                      <a:pt x="161" y="124"/>
                    </a:lnTo>
                    <a:lnTo>
                      <a:pt x="191" y="59"/>
                    </a:lnTo>
                    <a:lnTo>
                      <a:pt x="95" y="29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31"/>
                    </a:lnTo>
                    <a:lnTo>
                      <a:pt x="33" y="95"/>
                    </a:lnTo>
                    <a:lnTo>
                      <a:pt x="68" y="127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04840" y="5260680"/>
                <a:ext cx="101520" cy="66960"/>
              </a:xfrm>
              <a:custGeom>
                <a:avLst/>
                <a:gdLst/>
                <a:ahLst/>
                <a:rect l="l" t="t" r="r" b="b"/>
                <a:pathLst>
                  <a:path w="191" h="127">
                    <a:moveTo>
                      <a:pt x="68" y="127"/>
                    </a:moveTo>
                    <a:lnTo>
                      <a:pt x="161" y="124"/>
                    </a:lnTo>
                    <a:lnTo>
                      <a:pt x="191" y="59"/>
                    </a:lnTo>
                    <a:lnTo>
                      <a:pt x="95" y="29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31"/>
                    </a:lnTo>
                    <a:lnTo>
                      <a:pt x="33" y="95"/>
                    </a:lnTo>
                    <a:lnTo>
                      <a:pt x="68" y="127"/>
                    </a:lnTo>
                    <a:lnTo>
                      <a:pt x="68" y="127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889000" y="5329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32"/>
                    </a:moveTo>
                    <a:lnTo>
                      <a:pt x="61" y="0"/>
                    </a:lnTo>
                    <a:lnTo>
                      <a:pt x="62" y="3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89000" y="5329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32"/>
                    </a:moveTo>
                    <a:lnTo>
                      <a:pt x="61" y="0"/>
                    </a:lnTo>
                    <a:lnTo>
                      <a:pt x="62" y="30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57320" y="52830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31" y="0"/>
                    </a:moveTo>
                    <a:lnTo>
                      <a:pt x="42" y="1"/>
                    </a:lnTo>
                    <a:lnTo>
                      <a:pt x="52" y="8"/>
                    </a:lnTo>
                    <a:lnTo>
                      <a:pt x="60" y="18"/>
                    </a:lnTo>
                    <a:lnTo>
                      <a:pt x="63" y="29"/>
                    </a:lnTo>
                    <a:lnTo>
                      <a:pt x="61" y="42"/>
                    </a:lnTo>
                    <a:lnTo>
                      <a:pt x="54" y="52"/>
                    </a:lnTo>
                    <a:lnTo>
                      <a:pt x="44" y="57"/>
                    </a:lnTo>
                    <a:lnTo>
                      <a:pt x="33" y="61"/>
                    </a:lnTo>
                    <a:lnTo>
                      <a:pt x="19" y="59"/>
                    </a:lnTo>
                    <a:lnTo>
                      <a:pt x="11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1" y="20"/>
                    </a:lnTo>
                    <a:lnTo>
                      <a:pt x="9" y="10"/>
                    </a:lnTo>
                    <a:lnTo>
                      <a:pt x="18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57320" y="52830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31" y="0"/>
                    </a:moveTo>
                    <a:lnTo>
                      <a:pt x="42" y="1"/>
                    </a:lnTo>
                    <a:lnTo>
                      <a:pt x="52" y="8"/>
                    </a:lnTo>
                    <a:lnTo>
                      <a:pt x="60" y="18"/>
                    </a:lnTo>
                    <a:lnTo>
                      <a:pt x="63" y="29"/>
                    </a:lnTo>
                    <a:lnTo>
                      <a:pt x="61" y="42"/>
                    </a:lnTo>
                    <a:lnTo>
                      <a:pt x="54" y="52"/>
                    </a:lnTo>
                    <a:lnTo>
                      <a:pt x="44" y="57"/>
                    </a:lnTo>
                    <a:lnTo>
                      <a:pt x="33" y="61"/>
                    </a:lnTo>
                    <a:lnTo>
                      <a:pt x="19" y="59"/>
                    </a:lnTo>
                    <a:lnTo>
                      <a:pt x="11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1" y="20"/>
                    </a:lnTo>
                    <a:lnTo>
                      <a:pt x="9" y="10"/>
                    </a:lnTo>
                    <a:lnTo>
                      <a:pt x="18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01880" y="5229000"/>
                <a:ext cx="82080" cy="3492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67"/>
                    </a:moveTo>
                    <a:lnTo>
                      <a:pt x="127" y="63"/>
                    </a:lnTo>
                    <a:lnTo>
                      <a:pt x="156" y="0"/>
                    </a:lnTo>
                    <a:lnTo>
                      <a:pt x="31" y="4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01880" y="5229000"/>
                <a:ext cx="82080" cy="3492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67"/>
                    </a:moveTo>
                    <a:lnTo>
                      <a:pt x="127" y="63"/>
                    </a:lnTo>
                    <a:lnTo>
                      <a:pt x="156" y="0"/>
                    </a:lnTo>
                    <a:lnTo>
                      <a:pt x="31" y="4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444760" y="509112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157" h="97">
                    <a:moveTo>
                      <a:pt x="0" y="65"/>
                    </a:moveTo>
                    <a:lnTo>
                      <a:pt x="64" y="97"/>
                    </a:lnTo>
                    <a:lnTo>
                      <a:pt x="126" y="96"/>
                    </a:lnTo>
                    <a:lnTo>
                      <a:pt x="157" y="30"/>
                    </a:lnTo>
                    <a:lnTo>
                      <a:pt x="92" y="0"/>
                    </a:lnTo>
                    <a:lnTo>
                      <a:pt x="30" y="34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44760" y="509112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157" h="97">
                    <a:moveTo>
                      <a:pt x="0" y="65"/>
                    </a:moveTo>
                    <a:lnTo>
                      <a:pt x="64" y="97"/>
                    </a:lnTo>
                    <a:lnTo>
                      <a:pt x="126" y="96"/>
                    </a:lnTo>
                    <a:lnTo>
                      <a:pt x="157" y="30"/>
                    </a:lnTo>
                    <a:lnTo>
                      <a:pt x="92" y="0"/>
                    </a:lnTo>
                    <a:lnTo>
                      <a:pt x="30" y="34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8160" y="5092560"/>
                <a:ext cx="33120" cy="5256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1" y="99"/>
                    </a:moveTo>
                    <a:lnTo>
                      <a:pt x="64" y="33"/>
                    </a:lnTo>
                    <a:lnTo>
                      <a:pt x="62" y="0"/>
                    </a:lnTo>
                    <a:lnTo>
                      <a:pt x="0" y="65"/>
                    </a:lnTo>
                    <a:lnTo>
                      <a:pt x="1" y="99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78160" y="5092560"/>
                <a:ext cx="33120" cy="5256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1" y="99"/>
                    </a:moveTo>
                    <a:lnTo>
                      <a:pt x="64" y="33"/>
                    </a:lnTo>
                    <a:lnTo>
                      <a:pt x="62" y="0"/>
                    </a:lnTo>
                    <a:lnTo>
                      <a:pt x="0" y="65"/>
                    </a:lnTo>
                    <a:lnTo>
                      <a:pt x="1" y="99"/>
                    </a:lnTo>
                    <a:lnTo>
                      <a:pt x="1" y="99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666880" y="5167080"/>
                <a:ext cx="85320" cy="6696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68" y="128"/>
                    </a:moveTo>
                    <a:lnTo>
                      <a:pt x="163" y="126"/>
                    </a:lnTo>
                    <a:lnTo>
                      <a:pt x="161" y="63"/>
                    </a:lnTo>
                    <a:lnTo>
                      <a:pt x="94" y="0"/>
                    </a:lnTo>
                    <a:lnTo>
                      <a:pt x="0" y="34"/>
                    </a:lnTo>
                    <a:lnTo>
                      <a:pt x="68" y="128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66880" y="5167080"/>
                <a:ext cx="85320" cy="6696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68" y="128"/>
                    </a:moveTo>
                    <a:lnTo>
                      <a:pt x="163" y="126"/>
                    </a:lnTo>
                    <a:lnTo>
                      <a:pt x="161" y="63"/>
                    </a:lnTo>
                    <a:lnTo>
                      <a:pt x="94" y="0"/>
                    </a:lnTo>
                    <a:lnTo>
                      <a:pt x="0" y="34"/>
                    </a:lnTo>
                    <a:lnTo>
                      <a:pt x="68" y="128"/>
                    </a:lnTo>
                    <a:lnTo>
                      <a:pt x="68" y="128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004760" y="1690560"/>
              <a:ext cx="744840" cy="542880"/>
            </a:xfrm>
            <a:custGeom>
              <a:avLst/>
              <a:gdLst/>
              <a:ahLst/>
              <a:rect l="l" t="t" r="r" b="b"/>
              <a:pathLst>
                <a:path w="1406" h="1026">
                  <a:moveTo>
                    <a:pt x="54" y="648"/>
                  </a:moveTo>
                  <a:lnTo>
                    <a:pt x="19" y="623"/>
                  </a:lnTo>
                  <a:lnTo>
                    <a:pt x="7" y="623"/>
                  </a:lnTo>
                  <a:lnTo>
                    <a:pt x="0" y="619"/>
                  </a:lnTo>
                  <a:lnTo>
                    <a:pt x="0" y="609"/>
                  </a:lnTo>
                  <a:lnTo>
                    <a:pt x="10" y="578"/>
                  </a:lnTo>
                  <a:lnTo>
                    <a:pt x="15" y="563"/>
                  </a:lnTo>
                  <a:lnTo>
                    <a:pt x="15" y="549"/>
                  </a:lnTo>
                  <a:lnTo>
                    <a:pt x="15" y="541"/>
                  </a:lnTo>
                  <a:lnTo>
                    <a:pt x="23" y="539"/>
                  </a:lnTo>
                  <a:lnTo>
                    <a:pt x="27" y="541"/>
                  </a:lnTo>
                  <a:lnTo>
                    <a:pt x="28" y="560"/>
                  </a:lnTo>
                  <a:lnTo>
                    <a:pt x="27" y="571"/>
                  </a:lnTo>
                  <a:lnTo>
                    <a:pt x="25" y="578"/>
                  </a:lnTo>
                  <a:lnTo>
                    <a:pt x="27" y="585"/>
                  </a:lnTo>
                  <a:lnTo>
                    <a:pt x="51" y="563"/>
                  </a:lnTo>
                  <a:lnTo>
                    <a:pt x="49" y="554"/>
                  </a:lnTo>
                  <a:lnTo>
                    <a:pt x="49" y="541"/>
                  </a:lnTo>
                  <a:lnTo>
                    <a:pt x="59" y="528"/>
                  </a:lnTo>
                  <a:lnTo>
                    <a:pt x="51" y="514"/>
                  </a:lnTo>
                  <a:lnTo>
                    <a:pt x="36" y="509"/>
                  </a:lnTo>
                  <a:lnTo>
                    <a:pt x="34" y="468"/>
                  </a:lnTo>
                  <a:lnTo>
                    <a:pt x="41" y="465"/>
                  </a:lnTo>
                  <a:lnTo>
                    <a:pt x="55" y="468"/>
                  </a:lnTo>
                  <a:lnTo>
                    <a:pt x="61" y="463"/>
                  </a:lnTo>
                  <a:lnTo>
                    <a:pt x="86" y="457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1" y="432"/>
                  </a:lnTo>
                  <a:lnTo>
                    <a:pt x="41" y="442"/>
                  </a:lnTo>
                  <a:lnTo>
                    <a:pt x="42" y="414"/>
                  </a:lnTo>
                  <a:lnTo>
                    <a:pt x="42" y="395"/>
                  </a:lnTo>
                  <a:lnTo>
                    <a:pt x="49" y="365"/>
                  </a:lnTo>
                  <a:lnTo>
                    <a:pt x="45" y="339"/>
                  </a:lnTo>
                  <a:lnTo>
                    <a:pt x="44" y="318"/>
                  </a:lnTo>
                  <a:lnTo>
                    <a:pt x="49" y="260"/>
                  </a:lnTo>
                  <a:lnTo>
                    <a:pt x="54" y="240"/>
                  </a:lnTo>
                  <a:lnTo>
                    <a:pt x="28" y="166"/>
                  </a:lnTo>
                  <a:lnTo>
                    <a:pt x="31" y="116"/>
                  </a:lnTo>
                  <a:lnTo>
                    <a:pt x="39" y="89"/>
                  </a:lnTo>
                  <a:lnTo>
                    <a:pt x="47" y="52"/>
                  </a:lnTo>
                  <a:lnTo>
                    <a:pt x="180" y="143"/>
                  </a:lnTo>
                  <a:lnTo>
                    <a:pt x="247" y="179"/>
                  </a:lnTo>
                  <a:lnTo>
                    <a:pt x="300" y="196"/>
                  </a:lnTo>
                  <a:lnTo>
                    <a:pt x="331" y="216"/>
                  </a:lnTo>
                  <a:lnTo>
                    <a:pt x="359" y="216"/>
                  </a:lnTo>
                  <a:lnTo>
                    <a:pt x="371" y="223"/>
                  </a:lnTo>
                  <a:lnTo>
                    <a:pt x="379" y="238"/>
                  </a:lnTo>
                  <a:lnTo>
                    <a:pt x="385" y="304"/>
                  </a:lnTo>
                  <a:lnTo>
                    <a:pt x="381" y="318"/>
                  </a:lnTo>
                  <a:lnTo>
                    <a:pt x="359" y="332"/>
                  </a:lnTo>
                  <a:lnTo>
                    <a:pt x="349" y="360"/>
                  </a:lnTo>
                  <a:lnTo>
                    <a:pt x="349" y="383"/>
                  </a:lnTo>
                  <a:lnTo>
                    <a:pt x="351" y="395"/>
                  </a:lnTo>
                  <a:lnTo>
                    <a:pt x="351" y="408"/>
                  </a:lnTo>
                  <a:lnTo>
                    <a:pt x="343" y="420"/>
                  </a:lnTo>
                  <a:lnTo>
                    <a:pt x="343" y="432"/>
                  </a:lnTo>
                  <a:lnTo>
                    <a:pt x="357" y="440"/>
                  </a:lnTo>
                  <a:lnTo>
                    <a:pt x="383" y="428"/>
                  </a:lnTo>
                  <a:lnTo>
                    <a:pt x="397" y="370"/>
                  </a:lnTo>
                  <a:lnTo>
                    <a:pt x="410" y="357"/>
                  </a:lnTo>
                  <a:lnTo>
                    <a:pt x="420" y="329"/>
                  </a:lnTo>
                  <a:lnTo>
                    <a:pt x="454" y="292"/>
                  </a:lnTo>
                  <a:lnTo>
                    <a:pt x="455" y="281"/>
                  </a:lnTo>
                  <a:lnTo>
                    <a:pt x="442" y="227"/>
                  </a:lnTo>
                  <a:lnTo>
                    <a:pt x="413" y="155"/>
                  </a:lnTo>
                  <a:lnTo>
                    <a:pt x="412" y="143"/>
                  </a:lnTo>
                  <a:lnTo>
                    <a:pt x="422" y="139"/>
                  </a:lnTo>
                  <a:lnTo>
                    <a:pt x="436" y="143"/>
                  </a:lnTo>
                  <a:lnTo>
                    <a:pt x="451" y="109"/>
                  </a:lnTo>
                  <a:lnTo>
                    <a:pt x="448" y="73"/>
                  </a:lnTo>
                  <a:lnTo>
                    <a:pt x="430" y="70"/>
                  </a:lnTo>
                  <a:lnTo>
                    <a:pt x="425" y="46"/>
                  </a:lnTo>
                  <a:lnTo>
                    <a:pt x="423" y="0"/>
                  </a:lnTo>
                  <a:lnTo>
                    <a:pt x="703" y="76"/>
                  </a:lnTo>
                  <a:lnTo>
                    <a:pt x="968" y="143"/>
                  </a:lnTo>
                  <a:lnTo>
                    <a:pt x="1404" y="245"/>
                  </a:lnTo>
                  <a:lnTo>
                    <a:pt x="1406" y="245"/>
                  </a:lnTo>
                  <a:lnTo>
                    <a:pt x="1258" y="912"/>
                  </a:lnTo>
                  <a:lnTo>
                    <a:pt x="1257" y="916"/>
                  </a:lnTo>
                  <a:lnTo>
                    <a:pt x="1251" y="922"/>
                  </a:lnTo>
                  <a:lnTo>
                    <a:pt x="1247" y="935"/>
                  </a:lnTo>
                  <a:lnTo>
                    <a:pt x="1251" y="947"/>
                  </a:lnTo>
                  <a:lnTo>
                    <a:pt x="1255" y="956"/>
                  </a:lnTo>
                  <a:lnTo>
                    <a:pt x="1263" y="966"/>
                  </a:lnTo>
                  <a:lnTo>
                    <a:pt x="1261" y="977"/>
                  </a:lnTo>
                  <a:lnTo>
                    <a:pt x="1258" y="981"/>
                  </a:lnTo>
                  <a:lnTo>
                    <a:pt x="1248" y="994"/>
                  </a:lnTo>
                  <a:lnTo>
                    <a:pt x="1248" y="1011"/>
                  </a:lnTo>
                  <a:lnTo>
                    <a:pt x="1253" y="1026"/>
                  </a:lnTo>
                  <a:lnTo>
                    <a:pt x="882" y="941"/>
                  </a:lnTo>
                  <a:lnTo>
                    <a:pt x="854" y="952"/>
                  </a:lnTo>
                  <a:lnTo>
                    <a:pt x="835" y="952"/>
                  </a:lnTo>
                  <a:lnTo>
                    <a:pt x="815" y="946"/>
                  </a:lnTo>
                  <a:lnTo>
                    <a:pt x="791" y="944"/>
                  </a:lnTo>
                  <a:lnTo>
                    <a:pt x="778" y="937"/>
                  </a:lnTo>
                  <a:lnTo>
                    <a:pt x="758" y="937"/>
                  </a:lnTo>
                  <a:lnTo>
                    <a:pt x="736" y="944"/>
                  </a:lnTo>
                  <a:lnTo>
                    <a:pt x="709" y="937"/>
                  </a:lnTo>
                  <a:lnTo>
                    <a:pt x="687" y="937"/>
                  </a:lnTo>
                  <a:lnTo>
                    <a:pt x="659" y="952"/>
                  </a:lnTo>
                  <a:lnTo>
                    <a:pt x="640" y="954"/>
                  </a:lnTo>
                  <a:lnTo>
                    <a:pt x="594" y="948"/>
                  </a:lnTo>
                  <a:lnTo>
                    <a:pt x="581" y="941"/>
                  </a:lnTo>
                  <a:lnTo>
                    <a:pt x="552" y="927"/>
                  </a:lnTo>
                  <a:lnTo>
                    <a:pt x="469" y="939"/>
                  </a:lnTo>
                  <a:lnTo>
                    <a:pt x="451" y="916"/>
                  </a:lnTo>
                  <a:lnTo>
                    <a:pt x="383" y="896"/>
                  </a:lnTo>
                  <a:lnTo>
                    <a:pt x="347" y="891"/>
                  </a:lnTo>
                  <a:lnTo>
                    <a:pt x="305" y="896"/>
                  </a:lnTo>
                  <a:lnTo>
                    <a:pt x="240" y="891"/>
                  </a:lnTo>
                  <a:lnTo>
                    <a:pt x="188" y="864"/>
                  </a:lnTo>
                  <a:lnTo>
                    <a:pt x="177" y="842"/>
                  </a:lnTo>
                  <a:lnTo>
                    <a:pt x="182" y="776"/>
                  </a:lnTo>
                  <a:lnTo>
                    <a:pt x="185" y="761"/>
                  </a:lnTo>
                  <a:lnTo>
                    <a:pt x="179" y="724"/>
                  </a:lnTo>
                  <a:lnTo>
                    <a:pt x="138" y="692"/>
                  </a:lnTo>
                  <a:lnTo>
                    <a:pt x="108" y="691"/>
                  </a:lnTo>
                  <a:lnTo>
                    <a:pt x="106" y="679"/>
                  </a:lnTo>
                  <a:lnTo>
                    <a:pt x="86" y="661"/>
                  </a:lnTo>
                  <a:lnTo>
                    <a:pt x="54" y="648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3160" y="2031840"/>
              <a:ext cx="898560" cy="749520"/>
            </a:xfrm>
            <a:custGeom>
              <a:avLst/>
              <a:gdLst/>
              <a:ahLst/>
              <a:rect l="l" t="t" r="r" b="b"/>
              <a:pathLst>
                <a:path w="1696" h="1414">
                  <a:moveTo>
                    <a:pt x="25" y="1064"/>
                  </a:moveTo>
                  <a:lnTo>
                    <a:pt x="13" y="1051"/>
                  </a:lnTo>
                  <a:lnTo>
                    <a:pt x="0" y="997"/>
                  </a:lnTo>
                  <a:lnTo>
                    <a:pt x="10" y="970"/>
                  </a:lnTo>
                  <a:lnTo>
                    <a:pt x="10" y="945"/>
                  </a:lnTo>
                  <a:lnTo>
                    <a:pt x="28" y="905"/>
                  </a:lnTo>
                  <a:lnTo>
                    <a:pt x="19" y="823"/>
                  </a:lnTo>
                  <a:lnTo>
                    <a:pt x="33" y="804"/>
                  </a:lnTo>
                  <a:lnTo>
                    <a:pt x="49" y="794"/>
                  </a:lnTo>
                  <a:lnTo>
                    <a:pt x="60" y="779"/>
                  </a:lnTo>
                  <a:lnTo>
                    <a:pt x="70" y="754"/>
                  </a:lnTo>
                  <a:lnTo>
                    <a:pt x="79" y="743"/>
                  </a:lnTo>
                  <a:lnTo>
                    <a:pt x="85" y="705"/>
                  </a:lnTo>
                  <a:lnTo>
                    <a:pt x="92" y="703"/>
                  </a:lnTo>
                  <a:lnTo>
                    <a:pt x="142" y="644"/>
                  </a:lnTo>
                  <a:lnTo>
                    <a:pt x="168" y="587"/>
                  </a:lnTo>
                  <a:lnTo>
                    <a:pt x="211" y="507"/>
                  </a:lnTo>
                  <a:lnTo>
                    <a:pt x="259" y="360"/>
                  </a:lnTo>
                  <a:lnTo>
                    <a:pt x="294" y="297"/>
                  </a:lnTo>
                  <a:lnTo>
                    <a:pt x="325" y="203"/>
                  </a:lnTo>
                  <a:lnTo>
                    <a:pt x="361" y="90"/>
                  </a:lnTo>
                  <a:lnTo>
                    <a:pt x="378" y="51"/>
                  </a:lnTo>
                  <a:lnTo>
                    <a:pt x="385" y="16"/>
                  </a:lnTo>
                  <a:lnTo>
                    <a:pt x="384" y="4"/>
                  </a:lnTo>
                  <a:lnTo>
                    <a:pt x="401" y="0"/>
                  </a:lnTo>
                  <a:lnTo>
                    <a:pt x="424" y="4"/>
                  </a:lnTo>
                  <a:lnTo>
                    <a:pt x="435" y="1"/>
                  </a:lnTo>
                  <a:lnTo>
                    <a:pt x="467" y="14"/>
                  </a:lnTo>
                  <a:lnTo>
                    <a:pt x="486" y="32"/>
                  </a:lnTo>
                  <a:lnTo>
                    <a:pt x="489" y="43"/>
                  </a:lnTo>
                  <a:lnTo>
                    <a:pt x="518" y="44"/>
                  </a:lnTo>
                  <a:lnTo>
                    <a:pt x="559" y="76"/>
                  </a:lnTo>
                  <a:lnTo>
                    <a:pt x="565" y="114"/>
                  </a:lnTo>
                  <a:lnTo>
                    <a:pt x="563" y="128"/>
                  </a:lnTo>
                  <a:lnTo>
                    <a:pt x="558" y="194"/>
                  </a:lnTo>
                  <a:lnTo>
                    <a:pt x="569" y="216"/>
                  </a:lnTo>
                  <a:lnTo>
                    <a:pt x="621" y="244"/>
                  </a:lnTo>
                  <a:lnTo>
                    <a:pt x="685" y="248"/>
                  </a:lnTo>
                  <a:lnTo>
                    <a:pt x="728" y="244"/>
                  </a:lnTo>
                  <a:lnTo>
                    <a:pt x="763" y="248"/>
                  </a:lnTo>
                  <a:lnTo>
                    <a:pt x="832" y="269"/>
                  </a:lnTo>
                  <a:lnTo>
                    <a:pt x="850" y="292"/>
                  </a:lnTo>
                  <a:lnTo>
                    <a:pt x="933" y="279"/>
                  </a:lnTo>
                  <a:lnTo>
                    <a:pt x="962" y="293"/>
                  </a:lnTo>
                  <a:lnTo>
                    <a:pt x="975" y="301"/>
                  </a:lnTo>
                  <a:lnTo>
                    <a:pt x="1021" y="307"/>
                  </a:lnTo>
                  <a:lnTo>
                    <a:pt x="1040" y="304"/>
                  </a:lnTo>
                  <a:lnTo>
                    <a:pt x="1068" y="289"/>
                  </a:lnTo>
                  <a:lnTo>
                    <a:pt x="1089" y="289"/>
                  </a:lnTo>
                  <a:lnTo>
                    <a:pt x="1116" y="297"/>
                  </a:lnTo>
                  <a:lnTo>
                    <a:pt x="1138" y="289"/>
                  </a:lnTo>
                  <a:lnTo>
                    <a:pt x="1158" y="289"/>
                  </a:lnTo>
                  <a:lnTo>
                    <a:pt x="1172" y="297"/>
                  </a:lnTo>
                  <a:lnTo>
                    <a:pt x="1195" y="298"/>
                  </a:lnTo>
                  <a:lnTo>
                    <a:pt x="1215" y="304"/>
                  </a:lnTo>
                  <a:lnTo>
                    <a:pt x="1235" y="304"/>
                  </a:lnTo>
                  <a:lnTo>
                    <a:pt x="1262" y="293"/>
                  </a:lnTo>
                  <a:lnTo>
                    <a:pt x="1633" y="379"/>
                  </a:lnTo>
                  <a:lnTo>
                    <a:pt x="1636" y="402"/>
                  </a:lnTo>
                  <a:lnTo>
                    <a:pt x="1653" y="427"/>
                  </a:lnTo>
                  <a:lnTo>
                    <a:pt x="1672" y="433"/>
                  </a:lnTo>
                  <a:lnTo>
                    <a:pt x="1691" y="449"/>
                  </a:lnTo>
                  <a:lnTo>
                    <a:pt x="1696" y="486"/>
                  </a:lnTo>
                  <a:lnTo>
                    <a:pt x="1605" y="627"/>
                  </a:lnTo>
                  <a:lnTo>
                    <a:pt x="1590" y="641"/>
                  </a:lnTo>
                  <a:lnTo>
                    <a:pt x="1586" y="661"/>
                  </a:lnTo>
                  <a:lnTo>
                    <a:pt x="1567" y="682"/>
                  </a:lnTo>
                  <a:lnTo>
                    <a:pt x="1539" y="695"/>
                  </a:lnTo>
                  <a:lnTo>
                    <a:pt x="1491" y="768"/>
                  </a:lnTo>
                  <a:lnTo>
                    <a:pt x="1482" y="800"/>
                  </a:lnTo>
                  <a:lnTo>
                    <a:pt x="1490" y="817"/>
                  </a:lnTo>
                  <a:lnTo>
                    <a:pt x="1519" y="830"/>
                  </a:lnTo>
                  <a:lnTo>
                    <a:pt x="1532" y="850"/>
                  </a:lnTo>
                  <a:lnTo>
                    <a:pt x="1525" y="866"/>
                  </a:lnTo>
                  <a:lnTo>
                    <a:pt x="1522" y="875"/>
                  </a:lnTo>
                  <a:lnTo>
                    <a:pt x="1514" y="878"/>
                  </a:lnTo>
                  <a:lnTo>
                    <a:pt x="1514" y="909"/>
                  </a:lnTo>
                  <a:lnTo>
                    <a:pt x="1487" y="943"/>
                  </a:lnTo>
                  <a:lnTo>
                    <a:pt x="1384" y="1414"/>
                  </a:lnTo>
                  <a:lnTo>
                    <a:pt x="814" y="1280"/>
                  </a:lnTo>
                  <a:lnTo>
                    <a:pt x="25" y="1064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0080" y="2595600"/>
              <a:ext cx="890640" cy="1523880"/>
            </a:xfrm>
            <a:custGeom>
              <a:avLst/>
              <a:gdLst/>
              <a:ahLst/>
              <a:rect l="l" t="t" r="r" b="b"/>
              <a:pathLst>
                <a:path w="1684" h="2879">
                  <a:moveTo>
                    <a:pt x="1469" y="2869"/>
                  </a:moveTo>
                  <a:lnTo>
                    <a:pt x="956" y="2819"/>
                  </a:lnTo>
                  <a:lnTo>
                    <a:pt x="952" y="2810"/>
                  </a:lnTo>
                  <a:lnTo>
                    <a:pt x="948" y="2784"/>
                  </a:lnTo>
                  <a:lnTo>
                    <a:pt x="952" y="2774"/>
                  </a:lnTo>
                  <a:lnTo>
                    <a:pt x="956" y="2768"/>
                  </a:lnTo>
                  <a:lnTo>
                    <a:pt x="950" y="2762"/>
                  </a:lnTo>
                  <a:lnTo>
                    <a:pt x="944" y="2760"/>
                  </a:lnTo>
                  <a:lnTo>
                    <a:pt x="939" y="2739"/>
                  </a:lnTo>
                  <a:lnTo>
                    <a:pt x="940" y="2728"/>
                  </a:lnTo>
                  <a:lnTo>
                    <a:pt x="936" y="2644"/>
                  </a:lnTo>
                  <a:lnTo>
                    <a:pt x="893" y="2550"/>
                  </a:lnTo>
                  <a:lnTo>
                    <a:pt x="866" y="2525"/>
                  </a:lnTo>
                  <a:lnTo>
                    <a:pt x="847" y="2487"/>
                  </a:lnTo>
                  <a:lnTo>
                    <a:pt x="796" y="2441"/>
                  </a:lnTo>
                  <a:lnTo>
                    <a:pt x="763" y="2444"/>
                  </a:lnTo>
                  <a:lnTo>
                    <a:pt x="746" y="2424"/>
                  </a:lnTo>
                  <a:lnTo>
                    <a:pt x="756" y="2399"/>
                  </a:lnTo>
                  <a:lnTo>
                    <a:pt x="750" y="2384"/>
                  </a:lnTo>
                  <a:lnTo>
                    <a:pt x="750" y="2365"/>
                  </a:lnTo>
                  <a:lnTo>
                    <a:pt x="731" y="2348"/>
                  </a:lnTo>
                  <a:lnTo>
                    <a:pt x="677" y="2340"/>
                  </a:lnTo>
                  <a:lnTo>
                    <a:pt x="649" y="2328"/>
                  </a:lnTo>
                  <a:lnTo>
                    <a:pt x="610" y="2295"/>
                  </a:lnTo>
                  <a:lnTo>
                    <a:pt x="589" y="2238"/>
                  </a:lnTo>
                  <a:lnTo>
                    <a:pt x="555" y="2212"/>
                  </a:lnTo>
                  <a:lnTo>
                    <a:pt x="520" y="2202"/>
                  </a:lnTo>
                  <a:lnTo>
                    <a:pt x="426" y="2159"/>
                  </a:lnTo>
                  <a:lnTo>
                    <a:pt x="392" y="2159"/>
                  </a:lnTo>
                  <a:lnTo>
                    <a:pt x="353" y="2135"/>
                  </a:lnTo>
                  <a:lnTo>
                    <a:pt x="329" y="2109"/>
                  </a:lnTo>
                  <a:lnTo>
                    <a:pt x="331" y="2088"/>
                  </a:lnTo>
                  <a:lnTo>
                    <a:pt x="344" y="2072"/>
                  </a:lnTo>
                  <a:lnTo>
                    <a:pt x="352" y="2025"/>
                  </a:lnTo>
                  <a:lnTo>
                    <a:pt x="359" y="1998"/>
                  </a:lnTo>
                  <a:lnTo>
                    <a:pt x="366" y="1983"/>
                  </a:lnTo>
                  <a:lnTo>
                    <a:pt x="356" y="1949"/>
                  </a:lnTo>
                  <a:lnTo>
                    <a:pt x="333" y="1939"/>
                  </a:lnTo>
                  <a:lnTo>
                    <a:pt x="329" y="1908"/>
                  </a:lnTo>
                  <a:lnTo>
                    <a:pt x="335" y="1900"/>
                  </a:lnTo>
                  <a:lnTo>
                    <a:pt x="341" y="1898"/>
                  </a:lnTo>
                  <a:lnTo>
                    <a:pt x="344" y="1874"/>
                  </a:lnTo>
                  <a:lnTo>
                    <a:pt x="319" y="1851"/>
                  </a:lnTo>
                  <a:lnTo>
                    <a:pt x="255" y="1739"/>
                  </a:lnTo>
                  <a:lnTo>
                    <a:pt x="251" y="1707"/>
                  </a:lnTo>
                  <a:lnTo>
                    <a:pt x="239" y="1682"/>
                  </a:lnTo>
                  <a:lnTo>
                    <a:pt x="235" y="1656"/>
                  </a:lnTo>
                  <a:lnTo>
                    <a:pt x="188" y="1591"/>
                  </a:lnTo>
                  <a:lnTo>
                    <a:pt x="193" y="1525"/>
                  </a:lnTo>
                  <a:lnTo>
                    <a:pt x="204" y="1509"/>
                  </a:lnTo>
                  <a:lnTo>
                    <a:pt x="219" y="1509"/>
                  </a:lnTo>
                  <a:lnTo>
                    <a:pt x="241" y="1481"/>
                  </a:lnTo>
                  <a:lnTo>
                    <a:pt x="245" y="1438"/>
                  </a:lnTo>
                  <a:lnTo>
                    <a:pt x="230" y="1423"/>
                  </a:lnTo>
                  <a:lnTo>
                    <a:pt x="196" y="1407"/>
                  </a:lnTo>
                  <a:lnTo>
                    <a:pt x="162" y="1378"/>
                  </a:lnTo>
                  <a:lnTo>
                    <a:pt x="149" y="1346"/>
                  </a:lnTo>
                  <a:lnTo>
                    <a:pt x="151" y="1258"/>
                  </a:lnTo>
                  <a:lnTo>
                    <a:pt x="158" y="1246"/>
                  </a:lnTo>
                  <a:lnTo>
                    <a:pt x="154" y="1223"/>
                  </a:lnTo>
                  <a:lnTo>
                    <a:pt x="164" y="1218"/>
                  </a:lnTo>
                  <a:lnTo>
                    <a:pt x="171" y="1176"/>
                  </a:lnTo>
                  <a:lnTo>
                    <a:pt x="180" y="1173"/>
                  </a:lnTo>
                  <a:lnTo>
                    <a:pt x="188" y="1187"/>
                  </a:lnTo>
                  <a:lnTo>
                    <a:pt x="188" y="1220"/>
                  </a:lnTo>
                  <a:lnTo>
                    <a:pt x="193" y="1233"/>
                  </a:lnTo>
                  <a:lnTo>
                    <a:pt x="224" y="1255"/>
                  </a:lnTo>
                  <a:lnTo>
                    <a:pt x="231" y="1246"/>
                  </a:lnTo>
                  <a:lnTo>
                    <a:pt x="234" y="1223"/>
                  </a:lnTo>
                  <a:lnTo>
                    <a:pt x="219" y="1176"/>
                  </a:lnTo>
                  <a:lnTo>
                    <a:pt x="213" y="1145"/>
                  </a:lnTo>
                  <a:lnTo>
                    <a:pt x="219" y="1110"/>
                  </a:lnTo>
                  <a:lnTo>
                    <a:pt x="211" y="1107"/>
                  </a:lnTo>
                  <a:lnTo>
                    <a:pt x="188" y="1129"/>
                  </a:lnTo>
                  <a:lnTo>
                    <a:pt x="186" y="1142"/>
                  </a:lnTo>
                  <a:lnTo>
                    <a:pt x="180" y="1157"/>
                  </a:lnTo>
                  <a:lnTo>
                    <a:pt x="149" y="1145"/>
                  </a:lnTo>
                  <a:lnTo>
                    <a:pt x="121" y="1102"/>
                  </a:lnTo>
                  <a:lnTo>
                    <a:pt x="89" y="1088"/>
                  </a:lnTo>
                  <a:lnTo>
                    <a:pt x="103" y="1060"/>
                  </a:lnTo>
                  <a:lnTo>
                    <a:pt x="103" y="962"/>
                  </a:lnTo>
                  <a:lnTo>
                    <a:pt x="64" y="920"/>
                  </a:lnTo>
                  <a:lnTo>
                    <a:pt x="47" y="883"/>
                  </a:lnTo>
                  <a:lnTo>
                    <a:pt x="16" y="804"/>
                  </a:lnTo>
                  <a:lnTo>
                    <a:pt x="31" y="774"/>
                  </a:lnTo>
                  <a:lnTo>
                    <a:pt x="25" y="749"/>
                  </a:lnTo>
                  <a:lnTo>
                    <a:pt x="23" y="728"/>
                  </a:lnTo>
                  <a:lnTo>
                    <a:pt x="38" y="670"/>
                  </a:lnTo>
                  <a:lnTo>
                    <a:pt x="58" y="643"/>
                  </a:lnTo>
                  <a:lnTo>
                    <a:pt x="63" y="628"/>
                  </a:lnTo>
                  <a:lnTo>
                    <a:pt x="57" y="571"/>
                  </a:lnTo>
                  <a:lnTo>
                    <a:pt x="32" y="517"/>
                  </a:lnTo>
                  <a:lnTo>
                    <a:pt x="29" y="501"/>
                  </a:lnTo>
                  <a:lnTo>
                    <a:pt x="23" y="488"/>
                  </a:lnTo>
                  <a:lnTo>
                    <a:pt x="11" y="472"/>
                  </a:lnTo>
                  <a:lnTo>
                    <a:pt x="3" y="448"/>
                  </a:lnTo>
                  <a:lnTo>
                    <a:pt x="0" y="413"/>
                  </a:lnTo>
                  <a:lnTo>
                    <a:pt x="4" y="404"/>
                  </a:lnTo>
                  <a:lnTo>
                    <a:pt x="3" y="379"/>
                  </a:lnTo>
                  <a:lnTo>
                    <a:pt x="28" y="334"/>
                  </a:lnTo>
                  <a:lnTo>
                    <a:pt x="104" y="250"/>
                  </a:lnTo>
                  <a:lnTo>
                    <a:pt x="106" y="234"/>
                  </a:lnTo>
                  <a:lnTo>
                    <a:pt x="111" y="202"/>
                  </a:lnTo>
                  <a:lnTo>
                    <a:pt x="129" y="187"/>
                  </a:lnTo>
                  <a:lnTo>
                    <a:pt x="145" y="154"/>
                  </a:lnTo>
                  <a:lnTo>
                    <a:pt x="152" y="82"/>
                  </a:lnTo>
                  <a:lnTo>
                    <a:pt x="136" y="50"/>
                  </a:lnTo>
                  <a:lnTo>
                    <a:pt x="152" y="14"/>
                  </a:lnTo>
                  <a:lnTo>
                    <a:pt x="164" y="0"/>
                  </a:lnTo>
                  <a:lnTo>
                    <a:pt x="954" y="216"/>
                  </a:lnTo>
                  <a:lnTo>
                    <a:pt x="754" y="1003"/>
                  </a:lnTo>
                  <a:lnTo>
                    <a:pt x="1625" y="2283"/>
                  </a:lnTo>
                  <a:lnTo>
                    <a:pt x="1623" y="2321"/>
                  </a:lnTo>
                  <a:lnTo>
                    <a:pt x="1626" y="2334"/>
                  </a:lnTo>
                  <a:lnTo>
                    <a:pt x="1623" y="2345"/>
                  </a:lnTo>
                  <a:lnTo>
                    <a:pt x="1638" y="2377"/>
                  </a:lnTo>
                  <a:lnTo>
                    <a:pt x="1638" y="2405"/>
                  </a:lnTo>
                  <a:lnTo>
                    <a:pt x="1649" y="2422"/>
                  </a:lnTo>
                  <a:lnTo>
                    <a:pt x="1657" y="2454"/>
                  </a:lnTo>
                  <a:lnTo>
                    <a:pt x="1668" y="2462"/>
                  </a:lnTo>
                  <a:lnTo>
                    <a:pt x="1682" y="2478"/>
                  </a:lnTo>
                  <a:lnTo>
                    <a:pt x="1684" y="2505"/>
                  </a:lnTo>
                  <a:lnTo>
                    <a:pt x="1682" y="2513"/>
                  </a:lnTo>
                  <a:lnTo>
                    <a:pt x="1673" y="2505"/>
                  </a:lnTo>
                  <a:lnTo>
                    <a:pt x="1647" y="2526"/>
                  </a:lnTo>
                  <a:lnTo>
                    <a:pt x="1616" y="2538"/>
                  </a:lnTo>
                  <a:lnTo>
                    <a:pt x="1590" y="2572"/>
                  </a:lnTo>
                  <a:lnTo>
                    <a:pt x="1576" y="2642"/>
                  </a:lnTo>
                  <a:lnTo>
                    <a:pt x="1535" y="2696"/>
                  </a:lnTo>
                  <a:lnTo>
                    <a:pt x="1511" y="2696"/>
                  </a:lnTo>
                  <a:lnTo>
                    <a:pt x="1509" y="2711"/>
                  </a:lnTo>
                  <a:lnTo>
                    <a:pt x="1516" y="2728"/>
                  </a:lnTo>
                  <a:lnTo>
                    <a:pt x="1512" y="2745"/>
                  </a:lnTo>
                  <a:lnTo>
                    <a:pt x="1503" y="2780"/>
                  </a:lnTo>
                  <a:lnTo>
                    <a:pt x="1509" y="2793"/>
                  </a:lnTo>
                  <a:lnTo>
                    <a:pt x="1539" y="2819"/>
                  </a:lnTo>
                  <a:lnTo>
                    <a:pt x="1544" y="2831"/>
                  </a:lnTo>
                  <a:lnTo>
                    <a:pt x="1537" y="2841"/>
                  </a:lnTo>
                  <a:lnTo>
                    <a:pt x="1533" y="2859"/>
                  </a:lnTo>
                  <a:lnTo>
                    <a:pt x="1514" y="2879"/>
                  </a:lnTo>
                  <a:lnTo>
                    <a:pt x="1503" y="2876"/>
                  </a:lnTo>
                  <a:lnTo>
                    <a:pt x="1469" y="28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82680" y="4367160"/>
              <a:ext cx="2031480" cy="1463760"/>
              <a:chOff x="382680" y="4367160"/>
              <a:chExt cx="2031480" cy="1463760"/>
            </a:xfrm>
          </p:grpSpPr>
          <p:sp>
            <p:nvSpPr>
              <p:cNvPr id="505" name=""/>
              <p:cNvSpPr/>
              <p:nvPr/>
            </p:nvSpPr>
            <p:spPr>
              <a:xfrm>
                <a:off x="755640" y="5416560"/>
                <a:ext cx="85320" cy="28440"/>
              </a:xfrm>
              <a:custGeom>
                <a:avLst/>
                <a:gdLst/>
                <a:ahLst/>
                <a:rect l="l" t="t" r="r" b="b"/>
                <a:pathLst>
                  <a:path w="163" h="55">
                    <a:moveTo>
                      <a:pt x="159" y="37"/>
                    </a:moveTo>
                    <a:lnTo>
                      <a:pt x="151" y="33"/>
                    </a:lnTo>
                    <a:lnTo>
                      <a:pt x="143" y="27"/>
                    </a:lnTo>
                    <a:lnTo>
                      <a:pt x="134" y="21"/>
                    </a:lnTo>
                    <a:lnTo>
                      <a:pt x="128" y="15"/>
                    </a:lnTo>
                    <a:lnTo>
                      <a:pt x="118" y="9"/>
                    </a:lnTo>
                    <a:lnTo>
                      <a:pt x="109" y="4"/>
                    </a:lnTo>
                    <a:lnTo>
                      <a:pt x="101" y="1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75" y="7"/>
                    </a:lnTo>
                    <a:lnTo>
                      <a:pt x="72" y="14"/>
                    </a:lnTo>
                    <a:lnTo>
                      <a:pt x="71" y="22"/>
                    </a:lnTo>
                    <a:lnTo>
                      <a:pt x="63" y="16"/>
                    </a:lnTo>
                    <a:lnTo>
                      <a:pt x="55" y="12"/>
                    </a:lnTo>
                    <a:lnTo>
                      <a:pt x="46" y="13"/>
                    </a:lnTo>
                    <a:lnTo>
                      <a:pt x="37" y="14"/>
                    </a:lnTo>
                    <a:lnTo>
                      <a:pt x="33" y="17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2" y="30"/>
                    </a:lnTo>
                    <a:lnTo>
                      <a:pt x="17" y="33"/>
                    </a:lnTo>
                    <a:lnTo>
                      <a:pt x="11" y="33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6"/>
                    </a:lnTo>
                    <a:lnTo>
                      <a:pt x="6" y="49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30" y="54"/>
                    </a:lnTo>
                    <a:lnTo>
                      <a:pt x="40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3" y="54"/>
                    </a:lnTo>
                    <a:lnTo>
                      <a:pt x="70" y="54"/>
                    </a:lnTo>
                    <a:lnTo>
                      <a:pt x="77" y="55"/>
                    </a:lnTo>
                    <a:lnTo>
                      <a:pt x="85" y="55"/>
                    </a:lnTo>
                    <a:lnTo>
                      <a:pt x="95" y="54"/>
                    </a:lnTo>
                    <a:lnTo>
                      <a:pt x="103" y="52"/>
                    </a:lnTo>
                    <a:lnTo>
                      <a:pt x="112" y="51"/>
                    </a:lnTo>
                    <a:lnTo>
                      <a:pt x="121" y="51"/>
                    </a:lnTo>
                    <a:lnTo>
                      <a:pt x="127" y="51"/>
                    </a:lnTo>
                    <a:lnTo>
                      <a:pt x="134" y="53"/>
                    </a:lnTo>
                    <a:lnTo>
                      <a:pt x="138" y="54"/>
                    </a:lnTo>
                    <a:lnTo>
                      <a:pt x="145" y="54"/>
                    </a:lnTo>
                    <a:lnTo>
                      <a:pt x="150" y="54"/>
                    </a:lnTo>
                    <a:lnTo>
                      <a:pt x="156" y="55"/>
                    </a:lnTo>
                    <a:lnTo>
                      <a:pt x="160" y="50"/>
                    </a:lnTo>
                    <a:lnTo>
                      <a:pt x="163" y="45"/>
                    </a:lnTo>
                    <a:lnTo>
                      <a:pt x="162" y="43"/>
                    </a:lnTo>
                    <a:lnTo>
                      <a:pt x="162" y="40"/>
                    </a:lnTo>
                    <a:lnTo>
                      <a:pt x="162" y="36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58" y="36"/>
                    </a:lnTo>
                    <a:lnTo>
                      <a:pt x="159" y="3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55640" y="5416560"/>
                <a:ext cx="85320" cy="28440"/>
              </a:xfrm>
              <a:custGeom>
                <a:avLst/>
                <a:gdLst/>
                <a:ahLst/>
                <a:rect l="l" t="t" r="r" b="b"/>
                <a:pathLst>
                  <a:path w="163" h="55">
                    <a:moveTo>
                      <a:pt x="159" y="37"/>
                    </a:moveTo>
                    <a:lnTo>
                      <a:pt x="151" y="33"/>
                    </a:lnTo>
                    <a:lnTo>
                      <a:pt x="143" y="27"/>
                    </a:lnTo>
                    <a:lnTo>
                      <a:pt x="134" y="21"/>
                    </a:lnTo>
                    <a:lnTo>
                      <a:pt x="128" y="15"/>
                    </a:lnTo>
                    <a:lnTo>
                      <a:pt x="118" y="9"/>
                    </a:lnTo>
                    <a:lnTo>
                      <a:pt x="109" y="4"/>
                    </a:lnTo>
                    <a:lnTo>
                      <a:pt x="101" y="1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75" y="7"/>
                    </a:lnTo>
                    <a:lnTo>
                      <a:pt x="72" y="14"/>
                    </a:lnTo>
                    <a:lnTo>
                      <a:pt x="71" y="22"/>
                    </a:lnTo>
                    <a:lnTo>
                      <a:pt x="63" y="16"/>
                    </a:lnTo>
                    <a:lnTo>
                      <a:pt x="55" y="12"/>
                    </a:lnTo>
                    <a:lnTo>
                      <a:pt x="46" y="13"/>
                    </a:lnTo>
                    <a:lnTo>
                      <a:pt x="37" y="14"/>
                    </a:lnTo>
                    <a:lnTo>
                      <a:pt x="33" y="17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2" y="30"/>
                    </a:lnTo>
                    <a:lnTo>
                      <a:pt x="17" y="33"/>
                    </a:lnTo>
                    <a:lnTo>
                      <a:pt x="11" y="33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6"/>
                    </a:lnTo>
                    <a:lnTo>
                      <a:pt x="6" y="49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30" y="54"/>
                    </a:lnTo>
                    <a:lnTo>
                      <a:pt x="40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3" y="54"/>
                    </a:lnTo>
                    <a:lnTo>
                      <a:pt x="70" y="54"/>
                    </a:lnTo>
                    <a:lnTo>
                      <a:pt x="77" y="55"/>
                    </a:lnTo>
                    <a:lnTo>
                      <a:pt x="85" y="55"/>
                    </a:lnTo>
                    <a:lnTo>
                      <a:pt x="95" y="54"/>
                    </a:lnTo>
                    <a:lnTo>
                      <a:pt x="103" y="52"/>
                    </a:lnTo>
                    <a:lnTo>
                      <a:pt x="112" y="51"/>
                    </a:lnTo>
                    <a:lnTo>
                      <a:pt x="121" y="51"/>
                    </a:lnTo>
                    <a:lnTo>
                      <a:pt x="127" y="51"/>
                    </a:lnTo>
                    <a:lnTo>
                      <a:pt x="134" y="53"/>
                    </a:lnTo>
                    <a:lnTo>
                      <a:pt x="138" y="54"/>
                    </a:lnTo>
                    <a:lnTo>
                      <a:pt x="145" y="54"/>
                    </a:lnTo>
                    <a:lnTo>
                      <a:pt x="150" y="54"/>
                    </a:lnTo>
                    <a:lnTo>
                      <a:pt x="156" y="55"/>
                    </a:lnTo>
                    <a:lnTo>
                      <a:pt x="160" y="50"/>
                    </a:lnTo>
                    <a:lnTo>
                      <a:pt x="163" y="45"/>
                    </a:lnTo>
                    <a:lnTo>
                      <a:pt x="162" y="43"/>
                    </a:lnTo>
                    <a:lnTo>
                      <a:pt x="162" y="40"/>
                    </a:lnTo>
                    <a:lnTo>
                      <a:pt x="162" y="36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58" y="36"/>
                    </a:lnTo>
                    <a:lnTo>
                      <a:pt x="159" y="37"/>
                    </a:lnTo>
                    <a:lnTo>
                      <a:pt x="159" y="3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0760" y="5408640"/>
                <a:ext cx="80640" cy="21960"/>
              </a:xfrm>
              <a:custGeom>
                <a:avLst/>
                <a:gdLst/>
                <a:ahLst/>
                <a:rect l="l" t="t" r="r" b="b"/>
                <a:pathLst>
                  <a:path w="153" h="43">
                    <a:moveTo>
                      <a:pt x="127" y="40"/>
                    </a:moveTo>
                    <a:lnTo>
                      <a:pt x="137" y="35"/>
                    </a:lnTo>
                    <a:lnTo>
                      <a:pt x="149" y="30"/>
                    </a:lnTo>
                    <a:lnTo>
                      <a:pt x="153" y="23"/>
                    </a:lnTo>
                    <a:lnTo>
                      <a:pt x="153" y="15"/>
                    </a:lnTo>
                    <a:lnTo>
                      <a:pt x="148" y="8"/>
                    </a:lnTo>
                    <a:lnTo>
                      <a:pt x="141" y="3"/>
                    </a:lnTo>
                    <a:lnTo>
                      <a:pt x="133" y="0"/>
                    </a:lnTo>
                    <a:lnTo>
                      <a:pt x="126" y="1"/>
                    </a:lnTo>
                    <a:lnTo>
                      <a:pt x="115" y="2"/>
                    </a:lnTo>
                    <a:lnTo>
                      <a:pt x="107" y="4"/>
                    </a:lnTo>
                    <a:lnTo>
                      <a:pt x="100" y="7"/>
                    </a:lnTo>
                    <a:lnTo>
                      <a:pt x="92" y="9"/>
                    </a:lnTo>
                    <a:lnTo>
                      <a:pt x="88" y="12"/>
                    </a:lnTo>
                    <a:lnTo>
                      <a:pt x="86" y="15"/>
                    </a:lnTo>
                    <a:lnTo>
                      <a:pt x="81" y="18"/>
                    </a:lnTo>
                    <a:lnTo>
                      <a:pt x="77" y="23"/>
                    </a:lnTo>
                    <a:lnTo>
                      <a:pt x="74" y="25"/>
                    </a:lnTo>
                    <a:lnTo>
                      <a:pt x="69" y="25"/>
                    </a:lnTo>
                    <a:lnTo>
                      <a:pt x="65" y="27"/>
                    </a:lnTo>
                    <a:lnTo>
                      <a:pt x="59" y="27"/>
                    </a:lnTo>
                    <a:lnTo>
                      <a:pt x="55" y="25"/>
                    </a:lnTo>
                    <a:lnTo>
                      <a:pt x="51" y="23"/>
                    </a:lnTo>
                    <a:lnTo>
                      <a:pt x="46" y="22"/>
                    </a:lnTo>
                    <a:lnTo>
                      <a:pt x="42" y="21"/>
                    </a:lnTo>
                    <a:lnTo>
                      <a:pt x="37" y="21"/>
                    </a:lnTo>
                    <a:lnTo>
                      <a:pt x="30" y="20"/>
                    </a:lnTo>
                    <a:lnTo>
                      <a:pt x="23" y="23"/>
                    </a:lnTo>
                    <a:lnTo>
                      <a:pt x="15" y="23"/>
                    </a:lnTo>
                    <a:lnTo>
                      <a:pt x="12" y="24"/>
                    </a:lnTo>
                    <a:lnTo>
                      <a:pt x="7" y="23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14" y="38"/>
                    </a:lnTo>
                    <a:lnTo>
                      <a:pt x="20" y="39"/>
                    </a:lnTo>
                    <a:lnTo>
                      <a:pt x="28" y="38"/>
                    </a:lnTo>
                    <a:lnTo>
                      <a:pt x="36" y="36"/>
                    </a:lnTo>
                    <a:lnTo>
                      <a:pt x="44" y="36"/>
                    </a:lnTo>
                    <a:lnTo>
                      <a:pt x="52" y="36"/>
                    </a:lnTo>
                    <a:lnTo>
                      <a:pt x="63" y="38"/>
                    </a:lnTo>
                    <a:lnTo>
                      <a:pt x="74" y="40"/>
                    </a:lnTo>
                    <a:lnTo>
                      <a:pt x="85" y="42"/>
                    </a:lnTo>
                    <a:lnTo>
                      <a:pt x="97" y="43"/>
                    </a:lnTo>
                    <a:lnTo>
                      <a:pt x="105" y="42"/>
                    </a:lnTo>
                    <a:lnTo>
                      <a:pt x="113" y="40"/>
                    </a:lnTo>
                    <a:lnTo>
                      <a:pt x="122" y="41"/>
                    </a:lnTo>
                    <a:lnTo>
                      <a:pt x="130" y="42"/>
                    </a:lnTo>
                    <a:lnTo>
                      <a:pt x="129" y="41"/>
                    </a:lnTo>
                    <a:lnTo>
                      <a:pt x="12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0760" y="5408640"/>
                <a:ext cx="80640" cy="21960"/>
              </a:xfrm>
              <a:custGeom>
                <a:avLst/>
                <a:gdLst/>
                <a:ahLst/>
                <a:rect l="l" t="t" r="r" b="b"/>
                <a:pathLst>
                  <a:path w="153" h="43">
                    <a:moveTo>
                      <a:pt x="127" y="40"/>
                    </a:moveTo>
                    <a:lnTo>
                      <a:pt x="137" y="35"/>
                    </a:lnTo>
                    <a:lnTo>
                      <a:pt x="149" y="30"/>
                    </a:lnTo>
                    <a:lnTo>
                      <a:pt x="153" y="23"/>
                    </a:lnTo>
                    <a:lnTo>
                      <a:pt x="153" y="15"/>
                    </a:lnTo>
                    <a:lnTo>
                      <a:pt x="148" y="8"/>
                    </a:lnTo>
                    <a:lnTo>
                      <a:pt x="141" y="3"/>
                    </a:lnTo>
                    <a:lnTo>
                      <a:pt x="133" y="0"/>
                    </a:lnTo>
                    <a:lnTo>
                      <a:pt x="126" y="1"/>
                    </a:lnTo>
                    <a:lnTo>
                      <a:pt x="115" y="2"/>
                    </a:lnTo>
                    <a:lnTo>
                      <a:pt x="107" y="4"/>
                    </a:lnTo>
                    <a:lnTo>
                      <a:pt x="100" y="7"/>
                    </a:lnTo>
                    <a:lnTo>
                      <a:pt x="92" y="9"/>
                    </a:lnTo>
                    <a:lnTo>
                      <a:pt x="88" y="12"/>
                    </a:lnTo>
                    <a:lnTo>
                      <a:pt x="86" y="15"/>
                    </a:lnTo>
                    <a:lnTo>
                      <a:pt x="81" y="18"/>
                    </a:lnTo>
                    <a:lnTo>
                      <a:pt x="77" y="23"/>
                    </a:lnTo>
                    <a:lnTo>
                      <a:pt x="74" y="25"/>
                    </a:lnTo>
                    <a:lnTo>
                      <a:pt x="69" y="25"/>
                    </a:lnTo>
                    <a:lnTo>
                      <a:pt x="65" y="27"/>
                    </a:lnTo>
                    <a:lnTo>
                      <a:pt x="59" y="27"/>
                    </a:lnTo>
                    <a:lnTo>
                      <a:pt x="55" y="25"/>
                    </a:lnTo>
                    <a:lnTo>
                      <a:pt x="51" y="23"/>
                    </a:lnTo>
                    <a:lnTo>
                      <a:pt x="46" y="22"/>
                    </a:lnTo>
                    <a:lnTo>
                      <a:pt x="42" y="21"/>
                    </a:lnTo>
                    <a:lnTo>
                      <a:pt x="37" y="21"/>
                    </a:lnTo>
                    <a:lnTo>
                      <a:pt x="30" y="20"/>
                    </a:lnTo>
                    <a:lnTo>
                      <a:pt x="23" y="23"/>
                    </a:lnTo>
                    <a:lnTo>
                      <a:pt x="15" y="23"/>
                    </a:lnTo>
                    <a:lnTo>
                      <a:pt x="12" y="24"/>
                    </a:lnTo>
                    <a:lnTo>
                      <a:pt x="7" y="23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14" y="38"/>
                    </a:lnTo>
                    <a:lnTo>
                      <a:pt x="20" y="39"/>
                    </a:lnTo>
                    <a:lnTo>
                      <a:pt x="28" y="38"/>
                    </a:lnTo>
                    <a:lnTo>
                      <a:pt x="36" y="36"/>
                    </a:lnTo>
                    <a:lnTo>
                      <a:pt x="44" y="36"/>
                    </a:lnTo>
                    <a:lnTo>
                      <a:pt x="52" y="36"/>
                    </a:lnTo>
                    <a:lnTo>
                      <a:pt x="63" y="38"/>
                    </a:lnTo>
                    <a:lnTo>
                      <a:pt x="74" y="40"/>
                    </a:lnTo>
                    <a:lnTo>
                      <a:pt x="85" y="42"/>
                    </a:lnTo>
                    <a:lnTo>
                      <a:pt x="97" y="43"/>
                    </a:lnTo>
                    <a:lnTo>
                      <a:pt x="105" y="42"/>
                    </a:lnTo>
                    <a:lnTo>
                      <a:pt x="113" y="40"/>
                    </a:lnTo>
                    <a:lnTo>
                      <a:pt x="122" y="41"/>
                    </a:lnTo>
                    <a:lnTo>
                      <a:pt x="130" y="42"/>
                    </a:lnTo>
                    <a:lnTo>
                      <a:pt x="129" y="41"/>
                    </a:lnTo>
                    <a:lnTo>
                      <a:pt x="127" y="40"/>
                    </a:lnTo>
                    <a:lnTo>
                      <a:pt x="127" y="4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9080" y="5416560"/>
                <a:ext cx="15480" cy="792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6" y="8"/>
                    </a:moveTo>
                    <a:lnTo>
                      <a:pt x="19" y="5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7" y="8"/>
                    </a:lnTo>
                    <a:lnTo>
                      <a:pt x="15" y="13"/>
                    </a:lnTo>
                    <a:lnTo>
                      <a:pt x="23" y="15"/>
                    </a:lnTo>
                    <a:lnTo>
                      <a:pt x="31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29" y="8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7" y="9"/>
                    </a:lnTo>
                    <a:lnTo>
                      <a:pt x="26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6760" y="54180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6"/>
                    </a:moveTo>
                    <a:lnTo>
                      <a:pt x="17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7" y="10"/>
                    </a:lnTo>
                    <a:lnTo>
                      <a:pt x="13" y="11"/>
                    </a:lnTo>
                    <a:lnTo>
                      <a:pt x="18" y="1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9480" y="5418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6880" y="5414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4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2760" y="5405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5" y="4"/>
                    </a:move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6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4" y="14"/>
                    </a:lnTo>
                    <a:lnTo>
                      <a:pt x="22" y="10"/>
                    </a:lnTo>
                    <a:lnTo>
                      <a:pt x="19" y="6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2760" y="5405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5" y="4"/>
                    </a:move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6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4" y="14"/>
                    </a:lnTo>
                    <a:lnTo>
                      <a:pt x="22" y="10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7560" y="5392440"/>
                <a:ext cx="29880" cy="1116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39" y="0"/>
                    </a:moveTo>
                    <a:lnTo>
                      <a:pt x="49" y="0"/>
                    </a:lnTo>
                    <a:lnTo>
                      <a:pt x="55" y="3"/>
                    </a:lnTo>
                    <a:lnTo>
                      <a:pt x="57" y="8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5" y="15"/>
                    </a:lnTo>
                    <a:lnTo>
                      <a:pt x="42" y="13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44" y="22"/>
                    </a:lnTo>
                    <a:lnTo>
                      <a:pt x="40" y="22"/>
                    </a:lnTo>
                    <a:lnTo>
                      <a:pt x="36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2" y="22"/>
                    </a:lnTo>
                    <a:lnTo>
                      <a:pt x="20" y="21"/>
                    </a:lnTo>
                    <a:lnTo>
                      <a:pt x="15" y="19"/>
                    </a:lnTo>
                    <a:lnTo>
                      <a:pt x="10" y="19"/>
                    </a:lnTo>
                    <a:lnTo>
                      <a:pt x="6" y="15"/>
                    </a:lnTo>
                    <a:lnTo>
                      <a:pt x="0" y="12"/>
                    </a:lnTo>
                    <a:lnTo>
                      <a:pt x="8" y="9"/>
                    </a:lnTo>
                    <a:lnTo>
                      <a:pt x="16" y="7"/>
                    </a:lnTo>
                    <a:lnTo>
                      <a:pt x="24" y="6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8" y="5"/>
                    </a:lnTo>
                    <a:lnTo>
                      <a:pt x="4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19120" y="53737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0" y="27"/>
                    </a:moveTo>
                    <a:lnTo>
                      <a:pt x="29" y="23"/>
                    </a:lnTo>
                    <a:lnTo>
                      <a:pt x="30" y="19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29" y="7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12" y="14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1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8" y="45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8" y="46"/>
                    </a:lnTo>
                    <a:lnTo>
                      <a:pt x="21" y="46"/>
                    </a:lnTo>
                    <a:lnTo>
                      <a:pt x="28" y="45"/>
                    </a:lnTo>
                    <a:lnTo>
                      <a:pt x="31" y="40"/>
                    </a:lnTo>
                    <a:lnTo>
                      <a:pt x="32" y="33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19120" y="53737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0" y="27"/>
                    </a:moveTo>
                    <a:lnTo>
                      <a:pt x="29" y="23"/>
                    </a:lnTo>
                    <a:lnTo>
                      <a:pt x="30" y="19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29" y="7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12" y="14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1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8" y="45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8" y="46"/>
                    </a:lnTo>
                    <a:lnTo>
                      <a:pt x="21" y="46"/>
                    </a:lnTo>
                    <a:lnTo>
                      <a:pt x="28" y="45"/>
                    </a:lnTo>
                    <a:lnTo>
                      <a:pt x="31" y="40"/>
                    </a:lnTo>
                    <a:lnTo>
                      <a:pt x="32" y="33"/>
                    </a:lnTo>
                    <a:lnTo>
                      <a:pt x="30" y="27"/>
                    </a:lnTo>
                    <a:lnTo>
                      <a:pt x="30" y="2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4200" y="536580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45" y="14"/>
                    </a:moveTo>
                    <a:lnTo>
                      <a:pt x="47" y="11"/>
                    </a:lnTo>
                    <a:lnTo>
                      <a:pt x="47" y="8"/>
                    </a:lnTo>
                    <a:lnTo>
                      <a:pt x="49" y="3"/>
                    </a:lnTo>
                    <a:lnTo>
                      <a:pt x="51" y="0"/>
                    </a:lnTo>
                    <a:lnTo>
                      <a:pt x="56" y="2"/>
                    </a:lnTo>
                    <a:lnTo>
                      <a:pt x="61" y="4"/>
                    </a:lnTo>
                    <a:lnTo>
                      <a:pt x="62" y="7"/>
                    </a:lnTo>
                    <a:lnTo>
                      <a:pt x="61" y="10"/>
                    </a:lnTo>
                    <a:lnTo>
                      <a:pt x="61" y="17"/>
                    </a:lnTo>
                    <a:lnTo>
                      <a:pt x="59" y="23"/>
                    </a:lnTo>
                    <a:lnTo>
                      <a:pt x="55" y="27"/>
                    </a:lnTo>
                    <a:lnTo>
                      <a:pt x="51" y="27"/>
                    </a:lnTo>
                    <a:lnTo>
                      <a:pt x="44" y="26"/>
                    </a:lnTo>
                    <a:lnTo>
                      <a:pt x="38" y="25"/>
                    </a:lnTo>
                    <a:lnTo>
                      <a:pt x="32" y="24"/>
                    </a:lnTo>
                    <a:lnTo>
                      <a:pt x="26" y="22"/>
                    </a:lnTo>
                    <a:lnTo>
                      <a:pt x="19" y="19"/>
                    </a:lnTo>
                    <a:lnTo>
                      <a:pt x="13" y="18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" y="5"/>
                    </a:lnTo>
                    <a:lnTo>
                      <a:pt x="20" y="8"/>
                    </a:lnTo>
                    <a:lnTo>
                      <a:pt x="27" y="10"/>
                    </a:lnTo>
                    <a:lnTo>
                      <a:pt x="33" y="14"/>
                    </a:lnTo>
                    <a:lnTo>
                      <a:pt x="40" y="14"/>
                    </a:lnTo>
                    <a:lnTo>
                      <a:pt x="45" y="1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6560" y="534024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32" y="22"/>
                    </a:moveTo>
                    <a:lnTo>
                      <a:pt x="36" y="14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9" y="11"/>
                    </a:lnTo>
                    <a:lnTo>
                      <a:pt x="21" y="17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7" y="45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20" y="48"/>
                    </a:lnTo>
                    <a:lnTo>
                      <a:pt x="23" y="42"/>
                    </a:lnTo>
                    <a:lnTo>
                      <a:pt x="28" y="34"/>
                    </a:lnTo>
                    <a:lnTo>
                      <a:pt x="31" y="29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1" y="16"/>
                    </a:lnTo>
                    <a:lnTo>
                      <a:pt x="36" y="14"/>
                    </a:lnTo>
                    <a:lnTo>
                      <a:pt x="34" y="18"/>
                    </a:lnTo>
                    <a:lnTo>
                      <a:pt x="34" y="19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6560" y="534024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32" y="22"/>
                    </a:moveTo>
                    <a:lnTo>
                      <a:pt x="36" y="14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9" y="11"/>
                    </a:lnTo>
                    <a:lnTo>
                      <a:pt x="21" y="17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7" y="45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20" y="48"/>
                    </a:lnTo>
                    <a:lnTo>
                      <a:pt x="23" y="42"/>
                    </a:lnTo>
                    <a:lnTo>
                      <a:pt x="28" y="34"/>
                    </a:lnTo>
                    <a:lnTo>
                      <a:pt x="31" y="29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1" y="16"/>
                    </a:lnTo>
                    <a:lnTo>
                      <a:pt x="36" y="14"/>
                    </a:lnTo>
                    <a:lnTo>
                      <a:pt x="34" y="18"/>
                    </a:lnTo>
                    <a:lnTo>
                      <a:pt x="34" y="19"/>
                    </a:lnTo>
                    <a:lnTo>
                      <a:pt x="32" y="22"/>
                    </a:lnTo>
                    <a:lnTo>
                      <a:pt x="32" y="2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880" y="5340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6040" y="53276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6"/>
                    </a:moveTo>
                    <a:lnTo>
                      <a:pt x="19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8" y="10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3720" y="5303880"/>
                <a:ext cx="12240" cy="42840"/>
              </a:xfrm>
              <a:custGeom>
                <a:avLst/>
                <a:gdLst/>
                <a:ahLst/>
                <a:rect l="l" t="t" r="r" b="b"/>
                <a:pathLst>
                  <a:path w="22" h="81">
                    <a:moveTo>
                      <a:pt x="17" y="79"/>
                    </a:moveTo>
                    <a:lnTo>
                      <a:pt x="19" y="79"/>
                    </a:lnTo>
                    <a:lnTo>
                      <a:pt x="21" y="81"/>
                    </a:lnTo>
                    <a:lnTo>
                      <a:pt x="22" y="79"/>
                    </a:lnTo>
                    <a:lnTo>
                      <a:pt x="20" y="66"/>
                    </a:lnTo>
                    <a:lnTo>
                      <a:pt x="19" y="51"/>
                    </a:lnTo>
                    <a:lnTo>
                      <a:pt x="17" y="37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9" y="24"/>
                    </a:lnTo>
                    <a:lnTo>
                      <a:pt x="18" y="14"/>
                    </a:lnTo>
                    <a:lnTo>
                      <a:pt x="14" y="6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4" y="22"/>
                    </a:lnTo>
                    <a:lnTo>
                      <a:pt x="6" y="29"/>
                    </a:lnTo>
                    <a:lnTo>
                      <a:pt x="7" y="35"/>
                    </a:lnTo>
                    <a:lnTo>
                      <a:pt x="7" y="43"/>
                    </a:lnTo>
                    <a:lnTo>
                      <a:pt x="7" y="48"/>
                    </a:lnTo>
                    <a:lnTo>
                      <a:pt x="6" y="54"/>
                    </a:lnTo>
                    <a:lnTo>
                      <a:pt x="7" y="61"/>
                    </a:lnTo>
                    <a:lnTo>
                      <a:pt x="11" y="67"/>
                    </a:lnTo>
                    <a:lnTo>
                      <a:pt x="14" y="74"/>
                    </a:lnTo>
                    <a:lnTo>
                      <a:pt x="17" y="78"/>
                    </a:lnTo>
                    <a:lnTo>
                      <a:pt x="17" y="7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2560" y="5297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2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88800" y="5273640"/>
                <a:ext cx="28080" cy="1404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19" y="6"/>
                    </a:moveTo>
                    <a:lnTo>
                      <a:pt x="27" y="4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0"/>
                    </a:lnTo>
                    <a:lnTo>
                      <a:pt x="48" y="8"/>
                    </a:lnTo>
                    <a:lnTo>
                      <a:pt x="40" y="10"/>
                    </a:lnTo>
                    <a:lnTo>
                      <a:pt x="31" y="12"/>
                    </a:lnTo>
                    <a:lnTo>
                      <a:pt x="24" y="16"/>
                    </a:lnTo>
                    <a:lnTo>
                      <a:pt x="23" y="17"/>
                    </a:lnTo>
                    <a:lnTo>
                      <a:pt x="22" y="21"/>
                    </a:lnTo>
                    <a:lnTo>
                      <a:pt x="23" y="23"/>
                    </a:lnTo>
                    <a:lnTo>
                      <a:pt x="22" y="24"/>
                    </a:lnTo>
                    <a:lnTo>
                      <a:pt x="17" y="25"/>
                    </a:lnTo>
                    <a:lnTo>
                      <a:pt x="12" y="25"/>
                    </a:lnTo>
                    <a:lnTo>
                      <a:pt x="7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10"/>
                    </a:lnTo>
                    <a:lnTo>
                      <a:pt x="11" y="8"/>
                    </a:lnTo>
                    <a:lnTo>
                      <a:pt x="15" y="5"/>
                    </a:lnTo>
                    <a:lnTo>
                      <a:pt x="20" y="4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82680" y="5209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73000" y="4367160"/>
                <a:ext cx="1541160" cy="1463760"/>
              </a:xfrm>
              <a:custGeom>
                <a:avLst/>
                <a:gdLst/>
                <a:ahLst/>
                <a:rect l="l" t="t" r="r" b="b"/>
                <a:pathLst>
                  <a:path w="2911" h="2766">
                    <a:moveTo>
                      <a:pt x="970" y="159"/>
                    </a:moveTo>
                    <a:lnTo>
                      <a:pt x="1011" y="254"/>
                    </a:lnTo>
                    <a:lnTo>
                      <a:pt x="1027" y="399"/>
                    </a:lnTo>
                    <a:lnTo>
                      <a:pt x="1108" y="461"/>
                    </a:lnTo>
                    <a:lnTo>
                      <a:pt x="1047" y="600"/>
                    </a:lnTo>
                    <a:lnTo>
                      <a:pt x="935" y="550"/>
                    </a:lnTo>
                    <a:lnTo>
                      <a:pt x="974" y="459"/>
                    </a:lnTo>
                    <a:lnTo>
                      <a:pt x="951" y="449"/>
                    </a:lnTo>
                    <a:lnTo>
                      <a:pt x="684" y="440"/>
                    </a:lnTo>
                    <a:lnTo>
                      <a:pt x="722" y="538"/>
                    </a:lnTo>
                    <a:lnTo>
                      <a:pt x="683" y="628"/>
                    </a:lnTo>
                    <a:lnTo>
                      <a:pt x="753" y="714"/>
                    </a:lnTo>
                    <a:lnTo>
                      <a:pt x="881" y="799"/>
                    </a:lnTo>
                    <a:lnTo>
                      <a:pt x="1002" y="769"/>
                    </a:lnTo>
                    <a:lnTo>
                      <a:pt x="952" y="939"/>
                    </a:lnTo>
                    <a:lnTo>
                      <a:pt x="852" y="922"/>
                    </a:lnTo>
                    <a:lnTo>
                      <a:pt x="811" y="957"/>
                    </a:lnTo>
                    <a:lnTo>
                      <a:pt x="754" y="959"/>
                    </a:lnTo>
                    <a:lnTo>
                      <a:pt x="705" y="885"/>
                    </a:lnTo>
                    <a:lnTo>
                      <a:pt x="619" y="955"/>
                    </a:lnTo>
                    <a:lnTo>
                      <a:pt x="454" y="1018"/>
                    </a:lnTo>
                    <a:lnTo>
                      <a:pt x="474" y="1164"/>
                    </a:lnTo>
                    <a:lnTo>
                      <a:pt x="431" y="1198"/>
                    </a:lnTo>
                    <a:lnTo>
                      <a:pt x="483" y="1328"/>
                    </a:lnTo>
                    <a:lnTo>
                      <a:pt x="595" y="1379"/>
                    </a:lnTo>
                    <a:lnTo>
                      <a:pt x="612" y="1469"/>
                    </a:lnTo>
                    <a:lnTo>
                      <a:pt x="570" y="1505"/>
                    </a:lnTo>
                    <a:lnTo>
                      <a:pt x="561" y="1582"/>
                    </a:lnTo>
                    <a:lnTo>
                      <a:pt x="672" y="1576"/>
                    </a:lnTo>
                    <a:lnTo>
                      <a:pt x="721" y="1709"/>
                    </a:lnTo>
                    <a:lnTo>
                      <a:pt x="889" y="1699"/>
                    </a:lnTo>
                    <a:lnTo>
                      <a:pt x="804" y="1772"/>
                    </a:lnTo>
                    <a:lnTo>
                      <a:pt x="763" y="1864"/>
                    </a:lnTo>
                    <a:lnTo>
                      <a:pt x="520" y="1920"/>
                    </a:lnTo>
                    <a:lnTo>
                      <a:pt x="414" y="1982"/>
                    </a:lnTo>
                    <a:lnTo>
                      <a:pt x="343" y="1950"/>
                    </a:lnTo>
                    <a:lnTo>
                      <a:pt x="190" y="1991"/>
                    </a:lnTo>
                    <a:lnTo>
                      <a:pt x="66" y="1963"/>
                    </a:lnTo>
                    <a:lnTo>
                      <a:pt x="0" y="1990"/>
                    </a:lnTo>
                    <a:lnTo>
                      <a:pt x="36" y="2031"/>
                    </a:lnTo>
                    <a:lnTo>
                      <a:pt x="304" y="2040"/>
                    </a:lnTo>
                    <a:lnTo>
                      <a:pt x="470" y="2033"/>
                    </a:lnTo>
                    <a:lnTo>
                      <a:pt x="823" y="1971"/>
                    </a:lnTo>
                    <a:lnTo>
                      <a:pt x="1132" y="1834"/>
                    </a:lnTo>
                    <a:lnTo>
                      <a:pt x="1173" y="1798"/>
                    </a:lnTo>
                    <a:lnTo>
                      <a:pt x="1106" y="1768"/>
                    </a:lnTo>
                    <a:lnTo>
                      <a:pt x="1441" y="1562"/>
                    </a:lnTo>
                    <a:lnTo>
                      <a:pt x="1498" y="1560"/>
                    </a:lnTo>
                    <a:lnTo>
                      <a:pt x="1477" y="1606"/>
                    </a:lnTo>
                    <a:lnTo>
                      <a:pt x="1389" y="1621"/>
                    </a:lnTo>
                    <a:lnTo>
                      <a:pt x="1307" y="1748"/>
                    </a:lnTo>
                    <a:lnTo>
                      <a:pt x="1359" y="1745"/>
                    </a:lnTo>
                    <a:lnTo>
                      <a:pt x="1296" y="1771"/>
                    </a:lnTo>
                    <a:lnTo>
                      <a:pt x="1308" y="1804"/>
                    </a:lnTo>
                    <a:lnTo>
                      <a:pt x="1485" y="1771"/>
                    </a:lnTo>
                    <a:lnTo>
                      <a:pt x="1563" y="1779"/>
                    </a:lnTo>
                    <a:lnTo>
                      <a:pt x="1616" y="1721"/>
                    </a:lnTo>
                    <a:lnTo>
                      <a:pt x="1612" y="1666"/>
                    </a:lnTo>
                    <a:lnTo>
                      <a:pt x="1760" y="1703"/>
                    </a:lnTo>
                    <a:lnTo>
                      <a:pt x="1879" y="1867"/>
                    </a:lnTo>
                    <a:lnTo>
                      <a:pt x="2037" y="1880"/>
                    </a:lnTo>
                    <a:lnTo>
                      <a:pt x="2094" y="1932"/>
                    </a:lnTo>
                    <a:lnTo>
                      <a:pt x="2186" y="1972"/>
                    </a:lnTo>
                    <a:lnTo>
                      <a:pt x="2385" y="2198"/>
                    </a:lnTo>
                    <a:lnTo>
                      <a:pt x="2413" y="2263"/>
                    </a:lnTo>
                    <a:lnTo>
                      <a:pt x="2441" y="2384"/>
                    </a:lnTo>
                    <a:lnTo>
                      <a:pt x="2536" y="2536"/>
                    </a:lnTo>
                    <a:lnTo>
                      <a:pt x="2563" y="2601"/>
                    </a:lnTo>
                    <a:lnTo>
                      <a:pt x="2683" y="2762"/>
                    </a:lnTo>
                    <a:lnTo>
                      <a:pt x="2870" y="2766"/>
                    </a:lnTo>
                    <a:lnTo>
                      <a:pt x="2911" y="2674"/>
                    </a:lnTo>
                    <a:lnTo>
                      <a:pt x="2908" y="2563"/>
                    </a:lnTo>
                    <a:lnTo>
                      <a:pt x="2850" y="2510"/>
                    </a:lnTo>
                    <a:lnTo>
                      <a:pt x="2780" y="2479"/>
                    </a:lnTo>
                    <a:lnTo>
                      <a:pt x="2719" y="2371"/>
                    </a:lnTo>
                    <a:lnTo>
                      <a:pt x="2657" y="2262"/>
                    </a:lnTo>
                    <a:lnTo>
                      <a:pt x="2554" y="2000"/>
                    </a:lnTo>
                    <a:lnTo>
                      <a:pt x="2501" y="2003"/>
                    </a:lnTo>
                    <a:lnTo>
                      <a:pt x="2424" y="2052"/>
                    </a:lnTo>
                    <a:lnTo>
                      <a:pt x="2357" y="2077"/>
                    </a:lnTo>
                    <a:lnTo>
                      <a:pt x="2240" y="1914"/>
                    </a:lnTo>
                    <a:lnTo>
                      <a:pt x="2259" y="1870"/>
                    </a:lnTo>
                    <a:lnTo>
                      <a:pt x="2104" y="1855"/>
                    </a:lnTo>
                    <a:lnTo>
                      <a:pt x="2158" y="1605"/>
                    </a:lnTo>
                    <a:lnTo>
                      <a:pt x="2266" y="1055"/>
                    </a:lnTo>
                    <a:lnTo>
                      <a:pt x="2322" y="672"/>
                    </a:lnTo>
                    <a:lnTo>
                      <a:pt x="2349" y="493"/>
                    </a:lnTo>
                    <a:lnTo>
                      <a:pt x="2242" y="364"/>
                    </a:lnTo>
                    <a:lnTo>
                      <a:pt x="2153" y="378"/>
                    </a:lnTo>
                    <a:lnTo>
                      <a:pt x="1944" y="233"/>
                    </a:lnTo>
                    <a:lnTo>
                      <a:pt x="1866" y="226"/>
                    </a:lnTo>
                    <a:lnTo>
                      <a:pt x="1809" y="173"/>
                    </a:lnTo>
                    <a:lnTo>
                      <a:pt x="1820" y="151"/>
                    </a:lnTo>
                    <a:lnTo>
                      <a:pt x="1633" y="12"/>
                    </a:lnTo>
                    <a:lnTo>
                      <a:pt x="1592" y="51"/>
                    </a:lnTo>
                    <a:lnTo>
                      <a:pt x="1475" y="0"/>
                    </a:lnTo>
                    <a:lnTo>
                      <a:pt x="1354" y="27"/>
                    </a:lnTo>
                    <a:lnTo>
                      <a:pt x="1258" y="65"/>
                    </a:lnTo>
                    <a:lnTo>
                      <a:pt x="1204" y="124"/>
                    </a:lnTo>
                    <a:lnTo>
                      <a:pt x="1138" y="148"/>
                    </a:lnTo>
                    <a:lnTo>
                      <a:pt x="1047" y="109"/>
                    </a:lnTo>
                    <a:lnTo>
                      <a:pt x="97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706400" y="2844720"/>
              <a:ext cx="628920" cy="782640"/>
            </a:xfrm>
            <a:custGeom>
              <a:avLst/>
              <a:gdLst/>
              <a:ahLst/>
              <a:rect l="l" t="t" r="r" b="b"/>
              <a:pathLst>
                <a:path w="1189" h="1480">
                  <a:moveTo>
                    <a:pt x="1044" y="1480"/>
                  </a:moveTo>
                  <a:lnTo>
                    <a:pt x="1189" y="423"/>
                  </a:lnTo>
                  <a:lnTo>
                    <a:pt x="797" y="362"/>
                  </a:lnTo>
                  <a:lnTo>
                    <a:pt x="838" y="105"/>
                  </a:lnTo>
                  <a:lnTo>
                    <a:pt x="253" y="0"/>
                  </a:lnTo>
                  <a:lnTo>
                    <a:pt x="0" y="1316"/>
                  </a:lnTo>
                  <a:lnTo>
                    <a:pt x="1044" y="148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36840" y="1820880"/>
              <a:ext cx="664920" cy="1079640"/>
            </a:xfrm>
            <a:custGeom>
              <a:avLst/>
              <a:gdLst/>
              <a:ahLst/>
              <a:rect l="l" t="t" r="r" b="b"/>
              <a:pathLst>
                <a:path w="1258" h="2040">
                  <a:moveTo>
                    <a:pt x="0" y="1816"/>
                  </a:moveTo>
                  <a:lnTo>
                    <a:pt x="103" y="1345"/>
                  </a:lnTo>
                  <a:lnTo>
                    <a:pt x="130" y="1311"/>
                  </a:lnTo>
                  <a:lnTo>
                    <a:pt x="130" y="1280"/>
                  </a:lnTo>
                  <a:lnTo>
                    <a:pt x="137" y="1277"/>
                  </a:lnTo>
                  <a:lnTo>
                    <a:pt x="141" y="1268"/>
                  </a:lnTo>
                  <a:lnTo>
                    <a:pt x="148" y="1252"/>
                  </a:lnTo>
                  <a:lnTo>
                    <a:pt x="135" y="1232"/>
                  </a:lnTo>
                  <a:lnTo>
                    <a:pt x="105" y="1219"/>
                  </a:lnTo>
                  <a:lnTo>
                    <a:pt x="98" y="1202"/>
                  </a:lnTo>
                  <a:lnTo>
                    <a:pt x="107" y="1170"/>
                  </a:lnTo>
                  <a:lnTo>
                    <a:pt x="155" y="1097"/>
                  </a:lnTo>
                  <a:lnTo>
                    <a:pt x="183" y="1084"/>
                  </a:lnTo>
                  <a:lnTo>
                    <a:pt x="202" y="1063"/>
                  </a:lnTo>
                  <a:lnTo>
                    <a:pt x="205" y="1043"/>
                  </a:lnTo>
                  <a:lnTo>
                    <a:pt x="221" y="1028"/>
                  </a:lnTo>
                  <a:lnTo>
                    <a:pt x="312" y="887"/>
                  </a:lnTo>
                  <a:lnTo>
                    <a:pt x="307" y="851"/>
                  </a:lnTo>
                  <a:lnTo>
                    <a:pt x="287" y="835"/>
                  </a:lnTo>
                  <a:lnTo>
                    <a:pt x="269" y="829"/>
                  </a:lnTo>
                  <a:lnTo>
                    <a:pt x="251" y="804"/>
                  </a:lnTo>
                  <a:lnTo>
                    <a:pt x="249" y="781"/>
                  </a:lnTo>
                  <a:lnTo>
                    <a:pt x="246" y="748"/>
                  </a:lnTo>
                  <a:lnTo>
                    <a:pt x="255" y="735"/>
                  </a:lnTo>
                  <a:lnTo>
                    <a:pt x="259" y="720"/>
                  </a:lnTo>
                  <a:lnTo>
                    <a:pt x="247" y="701"/>
                  </a:lnTo>
                  <a:lnTo>
                    <a:pt x="247" y="677"/>
                  </a:lnTo>
                  <a:lnTo>
                    <a:pt x="255" y="667"/>
                  </a:lnTo>
                  <a:lnTo>
                    <a:pt x="402" y="0"/>
                  </a:lnTo>
                  <a:lnTo>
                    <a:pt x="400" y="0"/>
                  </a:lnTo>
                  <a:lnTo>
                    <a:pt x="568" y="40"/>
                  </a:lnTo>
                  <a:lnTo>
                    <a:pt x="522" y="296"/>
                  </a:lnTo>
                  <a:lnTo>
                    <a:pt x="551" y="365"/>
                  </a:lnTo>
                  <a:lnTo>
                    <a:pt x="561" y="410"/>
                  </a:lnTo>
                  <a:lnTo>
                    <a:pt x="551" y="438"/>
                  </a:lnTo>
                  <a:lnTo>
                    <a:pt x="541" y="448"/>
                  </a:lnTo>
                  <a:lnTo>
                    <a:pt x="555" y="463"/>
                  </a:lnTo>
                  <a:lnTo>
                    <a:pt x="575" y="492"/>
                  </a:lnTo>
                  <a:lnTo>
                    <a:pt x="621" y="536"/>
                  </a:lnTo>
                  <a:lnTo>
                    <a:pt x="653" y="605"/>
                  </a:lnTo>
                  <a:lnTo>
                    <a:pt x="659" y="640"/>
                  </a:lnTo>
                  <a:lnTo>
                    <a:pt x="674" y="673"/>
                  </a:lnTo>
                  <a:lnTo>
                    <a:pt x="701" y="674"/>
                  </a:lnTo>
                  <a:lnTo>
                    <a:pt x="704" y="697"/>
                  </a:lnTo>
                  <a:lnTo>
                    <a:pt x="744" y="703"/>
                  </a:lnTo>
                  <a:lnTo>
                    <a:pt x="757" y="718"/>
                  </a:lnTo>
                  <a:lnTo>
                    <a:pt x="715" y="801"/>
                  </a:lnTo>
                  <a:lnTo>
                    <a:pt x="718" y="815"/>
                  </a:lnTo>
                  <a:lnTo>
                    <a:pt x="703" y="829"/>
                  </a:lnTo>
                  <a:lnTo>
                    <a:pt x="700" y="869"/>
                  </a:lnTo>
                  <a:lnTo>
                    <a:pt x="704" y="876"/>
                  </a:lnTo>
                  <a:lnTo>
                    <a:pt x="701" y="897"/>
                  </a:lnTo>
                  <a:lnTo>
                    <a:pt x="673" y="917"/>
                  </a:lnTo>
                  <a:lnTo>
                    <a:pt x="673" y="943"/>
                  </a:lnTo>
                  <a:lnTo>
                    <a:pt x="674" y="956"/>
                  </a:lnTo>
                  <a:lnTo>
                    <a:pt x="663" y="977"/>
                  </a:lnTo>
                  <a:lnTo>
                    <a:pt x="700" y="1017"/>
                  </a:lnTo>
                  <a:lnTo>
                    <a:pt x="713" y="1012"/>
                  </a:lnTo>
                  <a:lnTo>
                    <a:pt x="769" y="966"/>
                  </a:lnTo>
                  <a:lnTo>
                    <a:pt x="777" y="964"/>
                  </a:lnTo>
                  <a:lnTo>
                    <a:pt x="783" y="966"/>
                  </a:lnTo>
                  <a:lnTo>
                    <a:pt x="791" y="986"/>
                  </a:lnTo>
                  <a:lnTo>
                    <a:pt x="798" y="991"/>
                  </a:lnTo>
                  <a:lnTo>
                    <a:pt x="808" y="1002"/>
                  </a:lnTo>
                  <a:lnTo>
                    <a:pt x="802" y="1031"/>
                  </a:lnTo>
                  <a:lnTo>
                    <a:pt x="803" y="1086"/>
                  </a:lnTo>
                  <a:lnTo>
                    <a:pt x="813" y="1122"/>
                  </a:lnTo>
                  <a:lnTo>
                    <a:pt x="838" y="1151"/>
                  </a:lnTo>
                  <a:lnTo>
                    <a:pt x="836" y="1168"/>
                  </a:lnTo>
                  <a:lnTo>
                    <a:pt x="823" y="1192"/>
                  </a:lnTo>
                  <a:lnTo>
                    <a:pt x="844" y="1226"/>
                  </a:lnTo>
                  <a:lnTo>
                    <a:pt x="865" y="1226"/>
                  </a:lnTo>
                  <a:lnTo>
                    <a:pt x="886" y="1251"/>
                  </a:lnTo>
                  <a:lnTo>
                    <a:pt x="891" y="1267"/>
                  </a:lnTo>
                  <a:lnTo>
                    <a:pt x="882" y="1302"/>
                  </a:lnTo>
                  <a:lnTo>
                    <a:pt x="882" y="1311"/>
                  </a:lnTo>
                  <a:lnTo>
                    <a:pt x="897" y="1339"/>
                  </a:lnTo>
                  <a:lnTo>
                    <a:pt x="922" y="1355"/>
                  </a:lnTo>
                  <a:lnTo>
                    <a:pt x="934" y="1330"/>
                  </a:lnTo>
                  <a:lnTo>
                    <a:pt x="949" y="1322"/>
                  </a:lnTo>
                  <a:lnTo>
                    <a:pt x="989" y="1337"/>
                  </a:lnTo>
                  <a:lnTo>
                    <a:pt x="1005" y="1340"/>
                  </a:lnTo>
                  <a:lnTo>
                    <a:pt x="1022" y="1325"/>
                  </a:lnTo>
                  <a:lnTo>
                    <a:pt x="1037" y="1322"/>
                  </a:lnTo>
                  <a:lnTo>
                    <a:pt x="1049" y="1333"/>
                  </a:lnTo>
                  <a:lnTo>
                    <a:pt x="1099" y="1334"/>
                  </a:lnTo>
                  <a:lnTo>
                    <a:pt x="1121" y="1346"/>
                  </a:lnTo>
                  <a:lnTo>
                    <a:pt x="1130" y="1341"/>
                  </a:lnTo>
                  <a:lnTo>
                    <a:pt x="1183" y="1343"/>
                  </a:lnTo>
                  <a:lnTo>
                    <a:pt x="1181" y="1322"/>
                  </a:lnTo>
                  <a:lnTo>
                    <a:pt x="1205" y="1304"/>
                  </a:lnTo>
                  <a:lnTo>
                    <a:pt x="1230" y="1331"/>
                  </a:lnTo>
                  <a:lnTo>
                    <a:pt x="1239" y="1362"/>
                  </a:lnTo>
                  <a:lnTo>
                    <a:pt x="1258" y="1381"/>
                  </a:lnTo>
                  <a:lnTo>
                    <a:pt x="1162" y="2040"/>
                  </a:lnTo>
                  <a:lnTo>
                    <a:pt x="1160" y="2040"/>
                  </a:lnTo>
                  <a:lnTo>
                    <a:pt x="575" y="1935"/>
                  </a:lnTo>
                  <a:lnTo>
                    <a:pt x="0" y="1816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12960" y="1841400"/>
              <a:ext cx="1141200" cy="725760"/>
            </a:xfrm>
            <a:custGeom>
              <a:avLst/>
              <a:gdLst/>
              <a:ahLst/>
              <a:rect l="l" t="t" r="r" b="b"/>
              <a:pathLst>
                <a:path w="2157" h="1370">
                  <a:moveTo>
                    <a:pt x="2068" y="1370"/>
                  </a:moveTo>
                  <a:lnTo>
                    <a:pt x="753" y="1205"/>
                  </a:lnTo>
                  <a:lnTo>
                    <a:pt x="736" y="1341"/>
                  </a:lnTo>
                  <a:lnTo>
                    <a:pt x="716" y="1323"/>
                  </a:lnTo>
                  <a:lnTo>
                    <a:pt x="708" y="1292"/>
                  </a:lnTo>
                  <a:lnTo>
                    <a:pt x="683" y="1264"/>
                  </a:lnTo>
                  <a:lnTo>
                    <a:pt x="658" y="1282"/>
                  </a:lnTo>
                  <a:lnTo>
                    <a:pt x="661" y="1303"/>
                  </a:lnTo>
                  <a:lnTo>
                    <a:pt x="607" y="1302"/>
                  </a:lnTo>
                  <a:lnTo>
                    <a:pt x="598" y="1307"/>
                  </a:lnTo>
                  <a:lnTo>
                    <a:pt x="576" y="1294"/>
                  </a:lnTo>
                  <a:lnTo>
                    <a:pt x="527" y="1293"/>
                  </a:lnTo>
                  <a:lnTo>
                    <a:pt x="514" y="1282"/>
                  </a:lnTo>
                  <a:lnTo>
                    <a:pt x="500" y="1286"/>
                  </a:lnTo>
                  <a:lnTo>
                    <a:pt x="482" y="1300"/>
                  </a:lnTo>
                  <a:lnTo>
                    <a:pt x="466" y="1298"/>
                  </a:lnTo>
                  <a:lnTo>
                    <a:pt x="425" y="1282"/>
                  </a:lnTo>
                  <a:lnTo>
                    <a:pt x="412" y="1290"/>
                  </a:lnTo>
                  <a:lnTo>
                    <a:pt x="399" y="1315"/>
                  </a:lnTo>
                  <a:lnTo>
                    <a:pt x="374" y="1299"/>
                  </a:lnTo>
                  <a:lnTo>
                    <a:pt x="360" y="1271"/>
                  </a:lnTo>
                  <a:lnTo>
                    <a:pt x="360" y="1262"/>
                  </a:lnTo>
                  <a:lnTo>
                    <a:pt x="368" y="1227"/>
                  </a:lnTo>
                  <a:lnTo>
                    <a:pt x="363" y="1211"/>
                  </a:lnTo>
                  <a:lnTo>
                    <a:pt x="343" y="1186"/>
                  </a:lnTo>
                  <a:lnTo>
                    <a:pt x="321" y="1186"/>
                  </a:lnTo>
                  <a:lnTo>
                    <a:pt x="300" y="1152"/>
                  </a:lnTo>
                  <a:lnTo>
                    <a:pt x="314" y="1129"/>
                  </a:lnTo>
                  <a:lnTo>
                    <a:pt x="315" y="1111"/>
                  </a:lnTo>
                  <a:lnTo>
                    <a:pt x="291" y="1083"/>
                  </a:lnTo>
                  <a:lnTo>
                    <a:pt x="280" y="1047"/>
                  </a:lnTo>
                  <a:lnTo>
                    <a:pt x="279" y="991"/>
                  </a:lnTo>
                  <a:lnTo>
                    <a:pt x="285" y="962"/>
                  </a:lnTo>
                  <a:lnTo>
                    <a:pt x="276" y="951"/>
                  </a:lnTo>
                  <a:lnTo>
                    <a:pt x="268" y="946"/>
                  </a:lnTo>
                  <a:lnTo>
                    <a:pt x="261" y="927"/>
                  </a:lnTo>
                  <a:lnTo>
                    <a:pt x="254" y="924"/>
                  </a:lnTo>
                  <a:lnTo>
                    <a:pt x="247" y="927"/>
                  </a:lnTo>
                  <a:lnTo>
                    <a:pt x="190" y="972"/>
                  </a:lnTo>
                  <a:lnTo>
                    <a:pt x="178" y="977"/>
                  </a:lnTo>
                  <a:lnTo>
                    <a:pt x="141" y="938"/>
                  </a:lnTo>
                  <a:lnTo>
                    <a:pt x="152" y="917"/>
                  </a:lnTo>
                  <a:lnTo>
                    <a:pt x="150" y="903"/>
                  </a:lnTo>
                  <a:lnTo>
                    <a:pt x="150" y="877"/>
                  </a:lnTo>
                  <a:lnTo>
                    <a:pt x="179" y="858"/>
                  </a:lnTo>
                  <a:lnTo>
                    <a:pt x="182" y="836"/>
                  </a:lnTo>
                  <a:lnTo>
                    <a:pt x="178" y="829"/>
                  </a:lnTo>
                  <a:lnTo>
                    <a:pt x="180" y="789"/>
                  </a:lnTo>
                  <a:lnTo>
                    <a:pt x="195" y="776"/>
                  </a:lnTo>
                  <a:lnTo>
                    <a:pt x="192" y="761"/>
                  </a:lnTo>
                  <a:lnTo>
                    <a:pt x="235" y="678"/>
                  </a:lnTo>
                  <a:lnTo>
                    <a:pt x="221" y="663"/>
                  </a:lnTo>
                  <a:lnTo>
                    <a:pt x="182" y="657"/>
                  </a:lnTo>
                  <a:lnTo>
                    <a:pt x="179" y="635"/>
                  </a:lnTo>
                  <a:lnTo>
                    <a:pt x="152" y="633"/>
                  </a:lnTo>
                  <a:lnTo>
                    <a:pt x="137" y="600"/>
                  </a:lnTo>
                  <a:lnTo>
                    <a:pt x="131" y="565"/>
                  </a:lnTo>
                  <a:lnTo>
                    <a:pt x="99" y="496"/>
                  </a:lnTo>
                  <a:lnTo>
                    <a:pt x="53" y="453"/>
                  </a:lnTo>
                  <a:lnTo>
                    <a:pt x="33" y="423"/>
                  </a:lnTo>
                  <a:lnTo>
                    <a:pt x="18" y="408"/>
                  </a:lnTo>
                  <a:lnTo>
                    <a:pt x="28" y="398"/>
                  </a:lnTo>
                  <a:lnTo>
                    <a:pt x="38" y="370"/>
                  </a:lnTo>
                  <a:lnTo>
                    <a:pt x="28" y="325"/>
                  </a:lnTo>
                  <a:lnTo>
                    <a:pt x="0" y="256"/>
                  </a:lnTo>
                  <a:lnTo>
                    <a:pt x="45" y="0"/>
                  </a:lnTo>
                  <a:lnTo>
                    <a:pt x="243" y="36"/>
                  </a:lnTo>
                  <a:lnTo>
                    <a:pt x="771" y="126"/>
                  </a:lnTo>
                  <a:lnTo>
                    <a:pt x="1312" y="217"/>
                  </a:lnTo>
                  <a:lnTo>
                    <a:pt x="2157" y="305"/>
                  </a:lnTo>
                  <a:lnTo>
                    <a:pt x="2091" y="1110"/>
                  </a:lnTo>
                  <a:lnTo>
                    <a:pt x="2068" y="137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28680" y="2478240"/>
              <a:ext cx="777960" cy="645840"/>
            </a:xfrm>
            <a:custGeom>
              <a:avLst/>
              <a:gdLst/>
              <a:ahLst/>
              <a:rect l="l" t="t" r="r" b="b"/>
              <a:pathLst>
                <a:path w="1472" h="1222">
                  <a:moveTo>
                    <a:pt x="1382" y="1222"/>
                  </a:moveTo>
                  <a:lnTo>
                    <a:pt x="1426" y="689"/>
                  </a:lnTo>
                  <a:lnTo>
                    <a:pt x="1472" y="165"/>
                  </a:lnTo>
                  <a:lnTo>
                    <a:pt x="157" y="0"/>
                  </a:lnTo>
                  <a:lnTo>
                    <a:pt x="139" y="136"/>
                  </a:lnTo>
                  <a:lnTo>
                    <a:pt x="43" y="796"/>
                  </a:lnTo>
                  <a:lnTo>
                    <a:pt x="41" y="796"/>
                  </a:lnTo>
                  <a:lnTo>
                    <a:pt x="0" y="1052"/>
                  </a:lnTo>
                  <a:lnTo>
                    <a:pt x="392" y="1114"/>
                  </a:lnTo>
                  <a:lnTo>
                    <a:pt x="1383" y="1222"/>
                  </a:lnTo>
                  <a:lnTo>
                    <a:pt x="1382" y="1222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28600" y="2709720"/>
              <a:ext cx="711360" cy="1094040"/>
            </a:xfrm>
            <a:custGeom>
              <a:avLst/>
              <a:gdLst/>
              <a:ahLst/>
              <a:rect l="l" t="t" r="r" b="b"/>
              <a:pathLst>
                <a:path w="1345" h="2068">
                  <a:moveTo>
                    <a:pt x="200" y="0"/>
                  </a:moveTo>
                  <a:lnTo>
                    <a:pt x="0" y="787"/>
                  </a:lnTo>
                  <a:lnTo>
                    <a:pt x="871" y="2068"/>
                  </a:lnTo>
                  <a:lnTo>
                    <a:pt x="869" y="2053"/>
                  </a:lnTo>
                  <a:lnTo>
                    <a:pt x="879" y="2036"/>
                  </a:lnTo>
                  <a:lnTo>
                    <a:pt x="895" y="1981"/>
                  </a:lnTo>
                  <a:lnTo>
                    <a:pt x="884" y="1959"/>
                  </a:lnTo>
                  <a:lnTo>
                    <a:pt x="899" y="1835"/>
                  </a:lnTo>
                  <a:lnTo>
                    <a:pt x="889" y="1785"/>
                  </a:lnTo>
                  <a:lnTo>
                    <a:pt x="899" y="1772"/>
                  </a:lnTo>
                  <a:lnTo>
                    <a:pt x="930" y="1766"/>
                  </a:lnTo>
                  <a:lnTo>
                    <a:pt x="973" y="1777"/>
                  </a:lnTo>
                  <a:lnTo>
                    <a:pt x="987" y="1795"/>
                  </a:lnTo>
                  <a:lnTo>
                    <a:pt x="987" y="1803"/>
                  </a:lnTo>
                  <a:lnTo>
                    <a:pt x="1001" y="1819"/>
                  </a:lnTo>
                  <a:lnTo>
                    <a:pt x="1026" y="1819"/>
                  </a:lnTo>
                  <a:lnTo>
                    <a:pt x="1064" y="1708"/>
                  </a:lnTo>
                  <a:lnTo>
                    <a:pt x="1092" y="1570"/>
                  </a:lnTo>
                  <a:lnTo>
                    <a:pt x="1345" y="254"/>
                  </a:lnTo>
                  <a:lnTo>
                    <a:pt x="769" y="13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98680" y="3541680"/>
              <a:ext cx="760320" cy="880920"/>
            </a:xfrm>
            <a:custGeom>
              <a:avLst/>
              <a:gdLst/>
              <a:ahLst/>
              <a:rect l="l" t="t" r="r" b="b"/>
              <a:pathLst>
                <a:path w="1436" h="1666">
                  <a:moveTo>
                    <a:pt x="1226" y="1664"/>
                  </a:moveTo>
                  <a:lnTo>
                    <a:pt x="1436" y="163"/>
                  </a:lnTo>
                  <a:lnTo>
                    <a:pt x="392" y="0"/>
                  </a:lnTo>
                  <a:lnTo>
                    <a:pt x="365" y="137"/>
                  </a:lnTo>
                  <a:lnTo>
                    <a:pt x="327" y="249"/>
                  </a:lnTo>
                  <a:lnTo>
                    <a:pt x="302" y="249"/>
                  </a:lnTo>
                  <a:lnTo>
                    <a:pt x="288" y="232"/>
                  </a:lnTo>
                  <a:lnTo>
                    <a:pt x="288" y="225"/>
                  </a:lnTo>
                  <a:lnTo>
                    <a:pt x="274" y="207"/>
                  </a:lnTo>
                  <a:lnTo>
                    <a:pt x="231" y="196"/>
                  </a:lnTo>
                  <a:lnTo>
                    <a:pt x="200" y="203"/>
                  </a:lnTo>
                  <a:lnTo>
                    <a:pt x="190" y="215"/>
                  </a:lnTo>
                  <a:lnTo>
                    <a:pt x="200" y="266"/>
                  </a:lnTo>
                  <a:lnTo>
                    <a:pt x="185" y="389"/>
                  </a:lnTo>
                  <a:lnTo>
                    <a:pt x="196" y="411"/>
                  </a:lnTo>
                  <a:lnTo>
                    <a:pt x="180" y="465"/>
                  </a:lnTo>
                  <a:lnTo>
                    <a:pt x="170" y="483"/>
                  </a:lnTo>
                  <a:lnTo>
                    <a:pt x="172" y="497"/>
                  </a:lnTo>
                  <a:lnTo>
                    <a:pt x="170" y="535"/>
                  </a:lnTo>
                  <a:lnTo>
                    <a:pt x="173" y="548"/>
                  </a:lnTo>
                  <a:lnTo>
                    <a:pt x="170" y="559"/>
                  </a:lnTo>
                  <a:lnTo>
                    <a:pt x="185" y="591"/>
                  </a:lnTo>
                  <a:lnTo>
                    <a:pt x="185" y="619"/>
                  </a:lnTo>
                  <a:lnTo>
                    <a:pt x="196" y="637"/>
                  </a:lnTo>
                  <a:lnTo>
                    <a:pt x="204" y="668"/>
                  </a:lnTo>
                  <a:lnTo>
                    <a:pt x="215" y="676"/>
                  </a:lnTo>
                  <a:lnTo>
                    <a:pt x="229" y="693"/>
                  </a:lnTo>
                  <a:lnTo>
                    <a:pt x="231" y="719"/>
                  </a:lnTo>
                  <a:lnTo>
                    <a:pt x="229" y="727"/>
                  </a:lnTo>
                  <a:lnTo>
                    <a:pt x="220" y="720"/>
                  </a:lnTo>
                  <a:lnTo>
                    <a:pt x="194" y="741"/>
                  </a:lnTo>
                  <a:lnTo>
                    <a:pt x="163" y="752"/>
                  </a:lnTo>
                  <a:lnTo>
                    <a:pt x="137" y="786"/>
                  </a:lnTo>
                  <a:lnTo>
                    <a:pt x="123" y="856"/>
                  </a:lnTo>
                  <a:lnTo>
                    <a:pt x="82" y="910"/>
                  </a:lnTo>
                  <a:lnTo>
                    <a:pt x="58" y="910"/>
                  </a:lnTo>
                  <a:lnTo>
                    <a:pt x="56" y="925"/>
                  </a:lnTo>
                  <a:lnTo>
                    <a:pt x="63" y="943"/>
                  </a:lnTo>
                  <a:lnTo>
                    <a:pt x="59" y="960"/>
                  </a:lnTo>
                  <a:lnTo>
                    <a:pt x="50" y="994"/>
                  </a:lnTo>
                  <a:lnTo>
                    <a:pt x="56" y="1007"/>
                  </a:lnTo>
                  <a:lnTo>
                    <a:pt x="86" y="1033"/>
                  </a:lnTo>
                  <a:lnTo>
                    <a:pt x="91" y="1045"/>
                  </a:lnTo>
                  <a:lnTo>
                    <a:pt x="84" y="1055"/>
                  </a:lnTo>
                  <a:lnTo>
                    <a:pt x="80" y="1073"/>
                  </a:lnTo>
                  <a:lnTo>
                    <a:pt x="61" y="1093"/>
                  </a:lnTo>
                  <a:lnTo>
                    <a:pt x="50" y="1091"/>
                  </a:lnTo>
                  <a:lnTo>
                    <a:pt x="16" y="1085"/>
                  </a:lnTo>
                  <a:lnTo>
                    <a:pt x="0" y="1148"/>
                  </a:lnTo>
                  <a:lnTo>
                    <a:pt x="772" y="1594"/>
                  </a:lnTo>
                  <a:lnTo>
                    <a:pt x="1226" y="1666"/>
                  </a:lnTo>
                  <a:lnTo>
                    <a:pt x="1226" y="1664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47760" y="3627360"/>
              <a:ext cx="781200" cy="806400"/>
            </a:xfrm>
            <a:custGeom>
              <a:avLst/>
              <a:gdLst/>
              <a:ahLst/>
              <a:rect l="l" t="t" r="r" b="b"/>
              <a:pathLst>
                <a:path w="1475" h="1525">
                  <a:moveTo>
                    <a:pt x="210" y="0"/>
                  </a:moveTo>
                  <a:lnTo>
                    <a:pt x="0" y="1501"/>
                  </a:lnTo>
                  <a:lnTo>
                    <a:pt x="0" y="1503"/>
                  </a:lnTo>
                  <a:lnTo>
                    <a:pt x="192" y="1525"/>
                  </a:lnTo>
                  <a:lnTo>
                    <a:pt x="207" y="1406"/>
                  </a:lnTo>
                  <a:lnTo>
                    <a:pt x="573" y="1453"/>
                  </a:lnTo>
                  <a:lnTo>
                    <a:pt x="570" y="1450"/>
                  </a:lnTo>
                  <a:lnTo>
                    <a:pt x="560" y="1428"/>
                  </a:lnTo>
                  <a:lnTo>
                    <a:pt x="570" y="1412"/>
                  </a:lnTo>
                  <a:lnTo>
                    <a:pt x="568" y="1405"/>
                  </a:lnTo>
                  <a:lnTo>
                    <a:pt x="560" y="1399"/>
                  </a:lnTo>
                  <a:lnTo>
                    <a:pt x="567" y="1395"/>
                  </a:lnTo>
                  <a:lnTo>
                    <a:pt x="1360" y="1471"/>
                  </a:lnTo>
                  <a:lnTo>
                    <a:pt x="1455" y="271"/>
                  </a:lnTo>
                  <a:lnTo>
                    <a:pt x="1468" y="271"/>
                  </a:lnTo>
                  <a:lnTo>
                    <a:pt x="1475" y="143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19240" y="2001960"/>
              <a:ext cx="733680" cy="458640"/>
            </a:xfrm>
            <a:custGeom>
              <a:avLst/>
              <a:gdLst/>
              <a:ahLst/>
              <a:rect l="l" t="t" r="r" b="b"/>
              <a:pathLst>
                <a:path w="1385" h="867">
                  <a:moveTo>
                    <a:pt x="0" y="806"/>
                  </a:moveTo>
                  <a:lnTo>
                    <a:pt x="66" y="0"/>
                  </a:lnTo>
                  <a:lnTo>
                    <a:pt x="675" y="45"/>
                  </a:lnTo>
                  <a:lnTo>
                    <a:pt x="1273" y="60"/>
                  </a:lnTo>
                  <a:lnTo>
                    <a:pt x="1275" y="79"/>
                  </a:lnTo>
                  <a:lnTo>
                    <a:pt x="1296" y="143"/>
                  </a:lnTo>
                  <a:lnTo>
                    <a:pt x="1289" y="160"/>
                  </a:lnTo>
                  <a:lnTo>
                    <a:pt x="1282" y="208"/>
                  </a:lnTo>
                  <a:lnTo>
                    <a:pt x="1284" y="282"/>
                  </a:lnTo>
                  <a:lnTo>
                    <a:pt x="1301" y="368"/>
                  </a:lnTo>
                  <a:lnTo>
                    <a:pt x="1323" y="391"/>
                  </a:lnTo>
                  <a:lnTo>
                    <a:pt x="1338" y="468"/>
                  </a:lnTo>
                  <a:lnTo>
                    <a:pt x="1345" y="602"/>
                  </a:lnTo>
                  <a:lnTo>
                    <a:pt x="1351" y="627"/>
                  </a:lnTo>
                  <a:lnTo>
                    <a:pt x="1351" y="676"/>
                  </a:lnTo>
                  <a:lnTo>
                    <a:pt x="1352" y="694"/>
                  </a:lnTo>
                  <a:lnTo>
                    <a:pt x="1385" y="792"/>
                  </a:lnTo>
                  <a:lnTo>
                    <a:pt x="1380" y="827"/>
                  </a:lnTo>
                  <a:lnTo>
                    <a:pt x="1382" y="867"/>
                  </a:lnTo>
                  <a:lnTo>
                    <a:pt x="0" y="806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82880" y="2428920"/>
              <a:ext cx="781200" cy="527040"/>
            </a:xfrm>
            <a:custGeom>
              <a:avLst/>
              <a:gdLst/>
              <a:ahLst/>
              <a:rect l="l" t="t" r="r" b="b"/>
              <a:pathLst>
                <a:path w="1475" h="996">
                  <a:moveTo>
                    <a:pt x="0" y="784"/>
                  </a:moveTo>
                  <a:lnTo>
                    <a:pt x="46" y="260"/>
                  </a:lnTo>
                  <a:lnTo>
                    <a:pt x="69" y="0"/>
                  </a:lnTo>
                  <a:lnTo>
                    <a:pt x="1450" y="62"/>
                  </a:lnTo>
                  <a:lnTo>
                    <a:pt x="1452" y="83"/>
                  </a:lnTo>
                  <a:lnTo>
                    <a:pt x="1440" y="110"/>
                  </a:lnTo>
                  <a:lnTo>
                    <a:pt x="1405" y="144"/>
                  </a:lnTo>
                  <a:lnTo>
                    <a:pt x="1408" y="172"/>
                  </a:lnTo>
                  <a:lnTo>
                    <a:pt x="1474" y="231"/>
                  </a:lnTo>
                  <a:lnTo>
                    <a:pt x="1475" y="716"/>
                  </a:lnTo>
                  <a:lnTo>
                    <a:pt x="1465" y="715"/>
                  </a:lnTo>
                  <a:lnTo>
                    <a:pt x="1447" y="718"/>
                  </a:lnTo>
                  <a:lnTo>
                    <a:pt x="1456" y="735"/>
                  </a:lnTo>
                  <a:lnTo>
                    <a:pt x="1464" y="750"/>
                  </a:lnTo>
                  <a:lnTo>
                    <a:pt x="1454" y="775"/>
                  </a:lnTo>
                  <a:lnTo>
                    <a:pt x="1466" y="790"/>
                  </a:lnTo>
                  <a:lnTo>
                    <a:pt x="1474" y="829"/>
                  </a:lnTo>
                  <a:lnTo>
                    <a:pt x="1459" y="843"/>
                  </a:lnTo>
                  <a:lnTo>
                    <a:pt x="1465" y="867"/>
                  </a:lnTo>
                  <a:lnTo>
                    <a:pt x="1446" y="912"/>
                  </a:lnTo>
                  <a:lnTo>
                    <a:pt x="1465" y="964"/>
                  </a:lnTo>
                  <a:lnTo>
                    <a:pt x="1471" y="989"/>
                  </a:lnTo>
                  <a:lnTo>
                    <a:pt x="1468" y="996"/>
                  </a:lnTo>
                  <a:lnTo>
                    <a:pt x="1427" y="967"/>
                  </a:lnTo>
                  <a:lnTo>
                    <a:pt x="1342" y="912"/>
                  </a:lnTo>
                  <a:lnTo>
                    <a:pt x="1321" y="904"/>
                  </a:lnTo>
                  <a:lnTo>
                    <a:pt x="1286" y="904"/>
                  </a:lnTo>
                  <a:lnTo>
                    <a:pt x="1258" y="926"/>
                  </a:lnTo>
                  <a:lnTo>
                    <a:pt x="1231" y="933"/>
                  </a:lnTo>
                  <a:lnTo>
                    <a:pt x="1203" y="926"/>
                  </a:lnTo>
                  <a:lnTo>
                    <a:pt x="1188" y="891"/>
                  </a:lnTo>
                  <a:lnTo>
                    <a:pt x="1166" y="876"/>
                  </a:lnTo>
                  <a:lnTo>
                    <a:pt x="1138" y="883"/>
                  </a:lnTo>
                  <a:lnTo>
                    <a:pt x="1103" y="883"/>
                  </a:lnTo>
                  <a:lnTo>
                    <a:pt x="1074" y="841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59120" y="2843280"/>
              <a:ext cx="920880" cy="457200"/>
            </a:xfrm>
            <a:custGeom>
              <a:avLst/>
              <a:gdLst/>
              <a:ahLst/>
              <a:rect l="l" t="t" r="r" b="b"/>
              <a:pathLst>
                <a:path w="1740" h="864">
                  <a:moveTo>
                    <a:pt x="0" y="533"/>
                  </a:moveTo>
                  <a:lnTo>
                    <a:pt x="44" y="0"/>
                  </a:lnTo>
                  <a:lnTo>
                    <a:pt x="1117" y="57"/>
                  </a:lnTo>
                  <a:lnTo>
                    <a:pt x="1147" y="99"/>
                  </a:lnTo>
                  <a:lnTo>
                    <a:pt x="1182" y="99"/>
                  </a:lnTo>
                  <a:lnTo>
                    <a:pt x="1210" y="91"/>
                  </a:lnTo>
                  <a:lnTo>
                    <a:pt x="1231" y="106"/>
                  </a:lnTo>
                  <a:lnTo>
                    <a:pt x="1247" y="142"/>
                  </a:lnTo>
                  <a:lnTo>
                    <a:pt x="1274" y="148"/>
                  </a:lnTo>
                  <a:lnTo>
                    <a:pt x="1302" y="142"/>
                  </a:lnTo>
                  <a:lnTo>
                    <a:pt x="1330" y="120"/>
                  </a:lnTo>
                  <a:lnTo>
                    <a:pt x="1365" y="120"/>
                  </a:lnTo>
                  <a:lnTo>
                    <a:pt x="1386" y="127"/>
                  </a:lnTo>
                  <a:lnTo>
                    <a:pt x="1471" y="183"/>
                  </a:lnTo>
                  <a:lnTo>
                    <a:pt x="1512" y="211"/>
                  </a:lnTo>
                  <a:lnTo>
                    <a:pt x="1515" y="240"/>
                  </a:lnTo>
                  <a:lnTo>
                    <a:pt x="1542" y="253"/>
                  </a:lnTo>
                  <a:lnTo>
                    <a:pt x="1542" y="275"/>
                  </a:lnTo>
                  <a:lnTo>
                    <a:pt x="1529" y="310"/>
                  </a:lnTo>
                  <a:lnTo>
                    <a:pt x="1549" y="332"/>
                  </a:lnTo>
                  <a:lnTo>
                    <a:pt x="1565" y="375"/>
                  </a:lnTo>
                  <a:lnTo>
                    <a:pt x="1585" y="395"/>
                  </a:lnTo>
                  <a:lnTo>
                    <a:pt x="1576" y="417"/>
                  </a:lnTo>
                  <a:lnTo>
                    <a:pt x="1585" y="438"/>
                  </a:lnTo>
                  <a:lnTo>
                    <a:pt x="1614" y="459"/>
                  </a:lnTo>
                  <a:lnTo>
                    <a:pt x="1620" y="482"/>
                  </a:lnTo>
                  <a:lnTo>
                    <a:pt x="1614" y="502"/>
                  </a:lnTo>
                  <a:lnTo>
                    <a:pt x="1607" y="543"/>
                  </a:lnTo>
                  <a:lnTo>
                    <a:pt x="1633" y="558"/>
                  </a:lnTo>
                  <a:lnTo>
                    <a:pt x="1641" y="579"/>
                  </a:lnTo>
                  <a:lnTo>
                    <a:pt x="1627" y="600"/>
                  </a:lnTo>
                  <a:lnTo>
                    <a:pt x="1633" y="622"/>
                  </a:lnTo>
                  <a:lnTo>
                    <a:pt x="1649" y="644"/>
                  </a:lnTo>
                  <a:lnTo>
                    <a:pt x="1641" y="664"/>
                  </a:lnTo>
                  <a:lnTo>
                    <a:pt x="1649" y="691"/>
                  </a:lnTo>
                  <a:lnTo>
                    <a:pt x="1658" y="704"/>
                  </a:lnTo>
                  <a:lnTo>
                    <a:pt x="1671" y="727"/>
                  </a:lnTo>
                  <a:lnTo>
                    <a:pt x="1690" y="750"/>
                  </a:lnTo>
                  <a:lnTo>
                    <a:pt x="1698" y="784"/>
                  </a:lnTo>
                  <a:lnTo>
                    <a:pt x="1726" y="819"/>
                  </a:lnTo>
                  <a:lnTo>
                    <a:pt x="1740" y="825"/>
                  </a:lnTo>
                  <a:lnTo>
                    <a:pt x="1732" y="857"/>
                  </a:lnTo>
                  <a:lnTo>
                    <a:pt x="1737" y="864"/>
                  </a:lnTo>
                  <a:lnTo>
                    <a:pt x="382" y="833"/>
                  </a:lnTo>
                  <a:lnTo>
                    <a:pt x="397" y="565"/>
                  </a:lnTo>
                  <a:lnTo>
                    <a:pt x="1" y="533"/>
                  </a:lnTo>
                  <a:lnTo>
                    <a:pt x="0" y="533"/>
                  </a:lnTo>
                  <a:lnTo>
                    <a:pt x="0" y="533"/>
                  </a:lnTo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36960" y="3282840"/>
              <a:ext cx="826920" cy="443160"/>
            </a:xfrm>
            <a:custGeom>
              <a:avLst/>
              <a:gdLst/>
              <a:ahLst/>
              <a:rect l="l" t="t" r="r" b="b"/>
              <a:pathLst>
                <a:path w="1561" h="837">
                  <a:moveTo>
                    <a:pt x="46" y="0"/>
                  </a:moveTo>
                  <a:lnTo>
                    <a:pt x="1402" y="31"/>
                  </a:lnTo>
                  <a:lnTo>
                    <a:pt x="1490" y="97"/>
                  </a:lnTo>
                  <a:lnTo>
                    <a:pt x="1463" y="129"/>
                  </a:lnTo>
                  <a:lnTo>
                    <a:pt x="1457" y="161"/>
                  </a:lnTo>
                  <a:lnTo>
                    <a:pt x="1471" y="181"/>
                  </a:lnTo>
                  <a:lnTo>
                    <a:pt x="1492" y="190"/>
                  </a:lnTo>
                  <a:lnTo>
                    <a:pt x="1505" y="234"/>
                  </a:lnTo>
                  <a:lnTo>
                    <a:pt x="1528" y="250"/>
                  </a:lnTo>
                  <a:lnTo>
                    <a:pt x="1547" y="256"/>
                  </a:lnTo>
                  <a:lnTo>
                    <a:pt x="1555" y="260"/>
                  </a:lnTo>
                  <a:lnTo>
                    <a:pt x="1561" y="837"/>
                  </a:lnTo>
                  <a:lnTo>
                    <a:pt x="0" y="80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24280" y="3701880"/>
              <a:ext cx="960480" cy="497160"/>
            </a:xfrm>
            <a:custGeom>
              <a:avLst/>
              <a:gdLst/>
              <a:ahLst/>
              <a:rect l="l" t="t" r="r" b="b"/>
              <a:pathLst>
                <a:path w="1816" h="939">
                  <a:moveTo>
                    <a:pt x="1775" y="45"/>
                  </a:moveTo>
                  <a:lnTo>
                    <a:pt x="213" y="12"/>
                  </a:lnTo>
                  <a:lnTo>
                    <a:pt x="8" y="0"/>
                  </a:lnTo>
                  <a:lnTo>
                    <a:pt x="0" y="128"/>
                  </a:lnTo>
                  <a:lnTo>
                    <a:pt x="635" y="166"/>
                  </a:lnTo>
                  <a:lnTo>
                    <a:pt x="618" y="681"/>
                  </a:lnTo>
                  <a:lnTo>
                    <a:pt x="640" y="684"/>
                  </a:lnTo>
                  <a:lnTo>
                    <a:pt x="652" y="692"/>
                  </a:lnTo>
                  <a:lnTo>
                    <a:pt x="682" y="735"/>
                  </a:lnTo>
                  <a:lnTo>
                    <a:pt x="697" y="741"/>
                  </a:lnTo>
                  <a:lnTo>
                    <a:pt x="742" y="738"/>
                  </a:lnTo>
                  <a:lnTo>
                    <a:pt x="755" y="723"/>
                  </a:lnTo>
                  <a:lnTo>
                    <a:pt x="780" y="738"/>
                  </a:lnTo>
                  <a:lnTo>
                    <a:pt x="789" y="749"/>
                  </a:lnTo>
                  <a:lnTo>
                    <a:pt x="787" y="760"/>
                  </a:lnTo>
                  <a:lnTo>
                    <a:pt x="798" y="781"/>
                  </a:lnTo>
                  <a:lnTo>
                    <a:pt x="804" y="785"/>
                  </a:lnTo>
                  <a:lnTo>
                    <a:pt x="862" y="795"/>
                  </a:lnTo>
                  <a:lnTo>
                    <a:pt x="883" y="806"/>
                  </a:lnTo>
                  <a:lnTo>
                    <a:pt x="895" y="806"/>
                  </a:lnTo>
                  <a:lnTo>
                    <a:pt x="901" y="801"/>
                  </a:lnTo>
                  <a:lnTo>
                    <a:pt x="918" y="796"/>
                  </a:lnTo>
                  <a:lnTo>
                    <a:pt x="930" y="817"/>
                  </a:lnTo>
                  <a:lnTo>
                    <a:pt x="954" y="829"/>
                  </a:lnTo>
                  <a:lnTo>
                    <a:pt x="969" y="810"/>
                  </a:lnTo>
                  <a:lnTo>
                    <a:pt x="1025" y="817"/>
                  </a:lnTo>
                  <a:lnTo>
                    <a:pt x="1026" y="827"/>
                  </a:lnTo>
                  <a:lnTo>
                    <a:pt x="1048" y="849"/>
                  </a:lnTo>
                  <a:lnTo>
                    <a:pt x="1057" y="852"/>
                  </a:lnTo>
                  <a:lnTo>
                    <a:pt x="1057" y="880"/>
                  </a:lnTo>
                  <a:lnTo>
                    <a:pt x="1099" y="889"/>
                  </a:lnTo>
                  <a:lnTo>
                    <a:pt x="1107" y="861"/>
                  </a:lnTo>
                  <a:lnTo>
                    <a:pt x="1124" y="857"/>
                  </a:lnTo>
                  <a:lnTo>
                    <a:pt x="1177" y="894"/>
                  </a:lnTo>
                  <a:lnTo>
                    <a:pt x="1186" y="894"/>
                  </a:lnTo>
                  <a:lnTo>
                    <a:pt x="1209" y="879"/>
                  </a:lnTo>
                  <a:lnTo>
                    <a:pt x="1227" y="879"/>
                  </a:lnTo>
                  <a:lnTo>
                    <a:pt x="1229" y="889"/>
                  </a:lnTo>
                  <a:lnTo>
                    <a:pt x="1223" y="910"/>
                  </a:lnTo>
                  <a:lnTo>
                    <a:pt x="1233" y="926"/>
                  </a:lnTo>
                  <a:lnTo>
                    <a:pt x="1246" y="916"/>
                  </a:lnTo>
                  <a:lnTo>
                    <a:pt x="1244" y="902"/>
                  </a:lnTo>
                  <a:lnTo>
                    <a:pt x="1261" y="880"/>
                  </a:lnTo>
                  <a:lnTo>
                    <a:pt x="1284" y="868"/>
                  </a:lnTo>
                  <a:lnTo>
                    <a:pt x="1290" y="868"/>
                  </a:lnTo>
                  <a:lnTo>
                    <a:pt x="1293" y="886"/>
                  </a:lnTo>
                  <a:lnTo>
                    <a:pt x="1318" y="894"/>
                  </a:lnTo>
                  <a:lnTo>
                    <a:pt x="1328" y="894"/>
                  </a:lnTo>
                  <a:lnTo>
                    <a:pt x="1338" y="883"/>
                  </a:lnTo>
                  <a:lnTo>
                    <a:pt x="1353" y="884"/>
                  </a:lnTo>
                  <a:lnTo>
                    <a:pt x="1357" y="889"/>
                  </a:lnTo>
                  <a:lnTo>
                    <a:pt x="1356" y="894"/>
                  </a:lnTo>
                  <a:lnTo>
                    <a:pt x="1379" y="904"/>
                  </a:lnTo>
                  <a:lnTo>
                    <a:pt x="1413" y="930"/>
                  </a:lnTo>
                  <a:lnTo>
                    <a:pt x="1445" y="899"/>
                  </a:lnTo>
                  <a:lnTo>
                    <a:pt x="1460" y="894"/>
                  </a:lnTo>
                  <a:lnTo>
                    <a:pt x="1508" y="890"/>
                  </a:lnTo>
                  <a:lnTo>
                    <a:pt x="1547" y="875"/>
                  </a:lnTo>
                  <a:lnTo>
                    <a:pt x="1561" y="873"/>
                  </a:lnTo>
                  <a:lnTo>
                    <a:pt x="1580" y="873"/>
                  </a:lnTo>
                  <a:lnTo>
                    <a:pt x="1627" y="880"/>
                  </a:lnTo>
                  <a:lnTo>
                    <a:pt x="1659" y="871"/>
                  </a:lnTo>
                  <a:lnTo>
                    <a:pt x="1666" y="863"/>
                  </a:lnTo>
                  <a:lnTo>
                    <a:pt x="1770" y="921"/>
                  </a:lnTo>
                  <a:lnTo>
                    <a:pt x="1791" y="926"/>
                  </a:lnTo>
                  <a:lnTo>
                    <a:pt x="1800" y="936"/>
                  </a:lnTo>
                  <a:lnTo>
                    <a:pt x="1810" y="939"/>
                  </a:lnTo>
                  <a:lnTo>
                    <a:pt x="1816" y="470"/>
                  </a:lnTo>
                  <a:lnTo>
                    <a:pt x="1776" y="177"/>
                  </a:lnTo>
                  <a:lnTo>
                    <a:pt x="1775" y="4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44760" y="3770280"/>
              <a:ext cx="1560600" cy="1523880"/>
            </a:xfrm>
            <a:custGeom>
              <a:avLst/>
              <a:gdLst/>
              <a:ahLst/>
              <a:rect l="l" t="t" r="r" b="b"/>
              <a:pathLst>
                <a:path w="2950" h="2880">
                  <a:moveTo>
                    <a:pt x="2717" y="811"/>
                  </a:moveTo>
                  <a:lnTo>
                    <a:pt x="2707" y="807"/>
                  </a:lnTo>
                  <a:lnTo>
                    <a:pt x="2698" y="797"/>
                  </a:lnTo>
                  <a:lnTo>
                    <a:pt x="2678" y="792"/>
                  </a:lnTo>
                  <a:lnTo>
                    <a:pt x="2574" y="735"/>
                  </a:lnTo>
                  <a:lnTo>
                    <a:pt x="2566" y="743"/>
                  </a:lnTo>
                  <a:lnTo>
                    <a:pt x="2535" y="752"/>
                  </a:lnTo>
                  <a:lnTo>
                    <a:pt x="2488" y="744"/>
                  </a:lnTo>
                  <a:lnTo>
                    <a:pt x="2468" y="744"/>
                  </a:lnTo>
                  <a:lnTo>
                    <a:pt x="2455" y="747"/>
                  </a:lnTo>
                  <a:lnTo>
                    <a:pt x="2415" y="762"/>
                  </a:lnTo>
                  <a:lnTo>
                    <a:pt x="2368" y="765"/>
                  </a:lnTo>
                  <a:lnTo>
                    <a:pt x="2352" y="771"/>
                  </a:lnTo>
                  <a:lnTo>
                    <a:pt x="2321" y="802"/>
                  </a:lnTo>
                  <a:lnTo>
                    <a:pt x="2287" y="775"/>
                  </a:lnTo>
                  <a:lnTo>
                    <a:pt x="2264" y="765"/>
                  </a:lnTo>
                  <a:lnTo>
                    <a:pt x="2264" y="760"/>
                  </a:lnTo>
                  <a:lnTo>
                    <a:pt x="2260" y="756"/>
                  </a:lnTo>
                  <a:lnTo>
                    <a:pt x="2245" y="755"/>
                  </a:lnTo>
                  <a:lnTo>
                    <a:pt x="2236" y="765"/>
                  </a:lnTo>
                  <a:lnTo>
                    <a:pt x="2226" y="766"/>
                  </a:lnTo>
                  <a:lnTo>
                    <a:pt x="2201" y="758"/>
                  </a:lnTo>
                  <a:lnTo>
                    <a:pt x="2197" y="740"/>
                  </a:lnTo>
                  <a:lnTo>
                    <a:pt x="2191" y="740"/>
                  </a:lnTo>
                  <a:lnTo>
                    <a:pt x="2169" y="752"/>
                  </a:lnTo>
                  <a:lnTo>
                    <a:pt x="2152" y="774"/>
                  </a:lnTo>
                  <a:lnTo>
                    <a:pt x="2154" y="788"/>
                  </a:lnTo>
                  <a:lnTo>
                    <a:pt x="2140" y="798"/>
                  </a:lnTo>
                  <a:lnTo>
                    <a:pt x="2131" y="782"/>
                  </a:lnTo>
                  <a:lnTo>
                    <a:pt x="2137" y="760"/>
                  </a:lnTo>
                  <a:lnTo>
                    <a:pt x="2134" y="750"/>
                  </a:lnTo>
                  <a:lnTo>
                    <a:pt x="2117" y="750"/>
                  </a:lnTo>
                  <a:lnTo>
                    <a:pt x="2093" y="765"/>
                  </a:lnTo>
                  <a:lnTo>
                    <a:pt x="2085" y="765"/>
                  </a:lnTo>
                  <a:lnTo>
                    <a:pt x="2032" y="729"/>
                  </a:lnTo>
                  <a:lnTo>
                    <a:pt x="2014" y="733"/>
                  </a:lnTo>
                  <a:lnTo>
                    <a:pt x="2007" y="760"/>
                  </a:lnTo>
                  <a:lnTo>
                    <a:pt x="1965" y="752"/>
                  </a:lnTo>
                  <a:lnTo>
                    <a:pt x="1965" y="724"/>
                  </a:lnTo>
                  <a:lnTo>
                    <a:pt x="1956" y="721"/>
                  </a:lnTo>
                  <a:lnTo>
                    <a:pt x="1934" y="699"/>
                  </a:lnTo>
                  <a:lnTo>
                    <a:pt x="1932" y="689"/>
                  </a:lnTo>
                  <a:lnTo>
                    <a:pt x="1877" y="682"/>
                  </a:lnTo>
                  <a:lnTo>
                    <a:pt x="1862" y="701"/>
                  </a:lnTo>
                  <a:lnTo>
                    <a:pt x="1837" y="689"/>
                  </a:lnTo>
                  <a:lnTo>
                    <a:pt x="1826" y="668"/>
                  </a:lnTo>
                  <a:lnTo>
                    <a:pt x="1809" y="672"/>
                  </a:lnTo>
                  <a:lnTo>
                    <a:pt x="1803" y="677"/>
                  </a:lnTo>
                  <a:lnTo>
                    <a:pt x="1790" y="677"/>
                  </a:lnTo>
                  <a:lnTo>
                    <a:pt x="1769" y="666"/>
                  </a:lnTo>
                  <a:lnTo>
                    <a:pt x="1711" y="656"/>
                  </a:lnTo>
                  <a:lnTo>
                    <a:pt x="1706" y="653"/>
                  </a:lnTo>
                  <a:lnTo>
                    <a:pt x="1695" y="632"/>
                  </a:lnTo>
                  <a:lnTo>
                    <a:pt x="1696" y="621"/>
                  </a:lnTo>
                  <a:lnTo>
                    <a:pt x="1687" y="609"/>
                  </a:lnTo>
                  <a:lnTo>
                    <a:pt x="1663" y="595"/>
                  </a:lnTo>
                  <a:lnTo>
                    <a:pt x="1649" y="609"/>
                  </a:lnTo>
                  <a:lnTo>
                    <a:pt x="1605" y="613"/>
                  </a:lnTo>
                  <a:lnTo>
                    <a:pt x="1590" y="607"/>
                  </a:lnTo>
                  <a:lnTo>
                    <a:pt x="1560" y="564"/>
                  </a:lnTo>
                  <a:lnTo>
                    <a:pt x="1548" y="556"/>
                  </a:lnTo>
                  <a:lnTo>
                    <a:pt x="1525" y="552"/>
                  </a:lnTo>
                  <a:lnTo>
                    <a:pt x="1542" y="38"/>
                  </a:lnTo>
                  <a:lnTo>
                    <a:pt x="908" y="0"/>
                  </a:lnTo>
                  <a:lnTo>
                    <a:pt x="895" y="0"/>
                  </a:lnTo>
                  <a:lnTo>
                    <a:pt x="800" y="1200"/>
                  </a:lnTo>
                  <a:lnTo>
                    <a:pt x="7" y="1124"/>
                  </a:lnTo>
                  <a:lnTo>
                    <a:pt x="0" y="1128"/>
                  </a:lnTo>
                  <a:lnTo>
                    <a:pt x="8" y="1134"/>
                  </a:lnTo>
                  <a:lnTo>
                    <a:pt x="10" y="1141"/>
                  </a:lnTo>
                  <a:lnTo>
                    <a:pt x="0" y="1157"/>
                  </a:lnTo>
                  <a:lnTo>
                    <a:pt x="10" y="1179"/>
                  </a:lnTo>
                  <a:lnTo>
                    <a:pt x="13" y="1182"/>
                  </a:lnTo>
                  <a:lnTo>
                    <a:pt x="54" y="1209"/>
                  </a:lnTo>
                  <a:lnTo>
                    <a:pt x="66" y="1236"/>
                  </a:lnTo>
                  <a:lnTo>
                    <a:pt x="81" y="1273"/>
                  </a:lnTo>
                  <a:lnTo>
                    <a:pt x="122" y="1301"/>
                  </a:lnTo>
                  <a:lnTo>
                    <a:pt x="245" y="1448"/>
                  </a:lnTo>
                  <a:lnTo>
                    <a:pt x="350" y="1531"/>
                  </a:lnTo>
                  <a:lnTo>
                    <a:pt x="357" y="1547"/>
                  </a:lnTo>
                  <a:lnTo>
                    <a:pt x="363" y="1563"/>
                  </a:lnTo>
                  <a:lnTo>
                    <a:pt x="363" y="1588"/>
                  </a:lnTo>
                  <a:lnTo>
                    <a:pt x="371" y="1601"/>
                  </a:lnTo>
                  <a:lnTo>
                    <a:pt x="394" y="1638"/>
                  </a:lnTo>
                  <a:lnTo>
                    <a:pt x="391" y="1720"/>
                  </a:lnTo>
                  <a:lnTo>
                    <a:pt x="397" y="1750"/>
                  </a:lnTo>
                  <a:lnTo>
                    <a:pt x="435" y="1809"/>
                  </a:lnTo>
                  <a:lnTo>
                    <a:pt x="589" y="1922"/>
                  </a:lnTo>
                  <a:lnTo>
                    <a:pt x="696" y="1988"/>
                  </a:lnTo>
                  <a:lnTo>
                    <a:pt x="728" y="1994"/>
                  </a:lnTo>
                  <a:lnTo>
                    <a:pt x="746" y="1982"/>
                  </a:lnTo>
                  <a:lnTo>
                    <a:pt x="770" y="1954"/>
                  </a:lnTo>
                  <a:lnTo>
                    <a:pt x="788" y="1939"/>
                  </a:lnTo>
                  <a:lnTo>
                    <a:pt x="835" y="1834"/>
                  </a:lnTo>
                  <a:lnTo>
                    <a:pt x="854" y="1803"/>
                  </a:lnTo>
                  <a:lnTo>
                    <a:pt x="872" y="1793"/>
                  </a:lnTo>
                  <a:lnTo>
                    <a:pt x="908" y="1805"/>
                  </a:lnTo>
                  <a:lnTo>
                    <a:pt x="917" y="1802"/>
                  </a:lnTo>
                  <a:lnTo>
                    <a:pt x="925" y="1787"/>
                  </a:lnTo>
                  <a:lnTo>
                    <a:pt x="935" y="1773"/>
                  </a:lnTo>
                  <a:lnTo>
                    <a:pt x="954" y="1780"/>
                  </a:lnTo>
                  <a:lnTo>
                    <a:pt x="972" y="1793"/>
                  </a:lnTo>
                  <a:lnTo>
                    <a:pt x="1034" y="1802"/>
                  </a:lnTo>
                  <a:lnTo>
                    <a:pt x="1050" y="1809"/>
                  </a:lnTo>
                  <a:lnTo>
                    <a:pt x="1091" y="1821"/>
                  </a:lnTo>
                  <a:lnTo>
                    <a:pt x="1109" y="1812"/>
                  </a:lnTo>
                  <a:lnTo>
                    <a:pt x="1157" y="1840"/>
                  </a:lnTo>
                  <a:lnTo>
                    <a:pt x="1165" y="1866"/>
                  </a:lnTo>
                  <a:lnTo>
                    <a:pt x="1175" y="1869"/>
                  </a:lnTo>
                  <a:lnTo>
                    <a:pt x="1180" y="1881"/>
                  </a:lnTo>
                  <a:lnTo>
                    <a:pt x="1186" y="1884"/>
                  </a:lnTo>
                  <a:lnTo>
                    <a:pt x="1209" y="1896"/>
                  </a:lnTo>
                  <a:lnTo>
                    <a:pt x="1237" y="1933"/>
                  </a:lnTo>
                  <a:lnTo>
                    <a:pt x="1279" y="1972"/>
                  </a:lnTo>
                  <a:lnTo>
                    <a:pt x="1305" y="2008"/>
                  </a:lnTo>
                  <a:lnTo>
                    <a:pt x="1306" y="2023"/>
                  </a:lnTo>
                  <a:lnTo>
                    <a:pt x="1374" y="2190"/>
                  </a:lnTo>
                  <a:lnTo>
                    <a:pt x="1386" y="2221"/>
                  </a:lnTo>
                  <a:lnTo>
                    <a:pt x="1461" y="2308"/>
                  </a:lnTo>
                  <a:lnTo>
                    <a:pt x="1468" y="2329"/>
                  </a:lnTo>
                  <a:lnTo>
                    <a:pt x="1519" y="2383"/>
                  </a:lnTo>
                  <a:lnTo>
                    <a:pt x="1533" y="2392"/>
                  </a:lnTo>
                  <a:lnTo>
                    <a:pt x="1554" y="2418"/>
                  </a:lnTo>
                  <a:lnTo>
                    <a:pt x="1560" y="2433"/>
                  </a:lnTo>
                  <a:lnTo>
                    <a:pt x="1555" y="2487"/>
                  </a:lnTo>
                  <a:lnTo>
                    <a:pt x="1572" y="2509"/>
                  </a:lnTo>
                  <a:lnTo>
                    <a:pt x="1578" y="2573"/>
                  </a:lnTo>
                  <a:lnTo>
                    <a:pt x="1594" y="2591"/>
                  </a:lnTo>
                  <a:lnTo>
                    <a:pt x="1649" y="2693"/>
                  </a:lnTo>
                  <a:lnTo>
                    <a:pt x="1654" y="2726"/>
                  </a:lnTo>
                  <a:lnTo>
                    <a:pt x="1689" y="2728"/>
                  </a:lnTo>
                  <a:lnTo>
                    <a:pt x="1732" y="2756"/>
                  </a:lnTo>
                  <a:lnTo>
                    <a:pt x="1781" y="2771"/>
                  </a:lnTo>
                  <a:lnTo>
                    <a:pt x="1855" y="2819"/>
                  </a:lnTo>
                  <a:lnTo>
                    <a:pt x="1959" y="2827"/>
                  </a:lnTo>
                  <a:lnTo>
                    <a:pt x="1978" y="2832"/>
                  </a:lnTo>
                  <a:lnTo>
                    <a:pt x="2032" y="2868"/>
                  </a:lnTo>
                  <a:lnTo>
                    <a:pt x="2060" y="2880"/>
                  </a:lnTo>
                  <a:lnTo>
                    <a:pt x="2085" y="2849"/>
                  </a:lnTo>
                  <a:lnTo>
                    <a:pt x="2107" y="2852"/>
                  </a:lnTo>
                  <a:lnTo>
                    <a:pt x="2112" y="2846"/>
                  </a:lnTo>
                  <a:lnTo>
                    <a:pt x="2112" y="2832"/>
                  </a:lnTo>
                  <a:lnTo>
                    <a:pt x="2093" y="2823"/>
                  </a:lnTo>
                  <a:lnTo>
                    <a:pt x="2093" y="2815"/>
                  </a:lnTo>
                  <a:lnTo>
                    <a:pt x="2073" y="2787"/>
                  </a:lnTo>
                  <a:lnTo>
                    <a:pt x="2039" y="2662"/>
                  </a:lnTo>
                  <a:lnTo>
                    <a:pt x="2023" y="2613"/>
                  </a:lnTo>
                  <a:lnTo>
                    <a:pt x="2047" y="2537"/>
                  </a:lnTo>
                  <a:lnTo>
                    <a:pt x="2045" y="2514"/>
                  </a:lnTo>
                  <a:lnTo>
                    <a:pt x="2038" y="2509"/>
                  </a:lnTo>
                  <a:lnTo>
                    <a:pt x="2032" y="2508"/>
                  </a:lnTo>
                  <a:lnTo>
                    <a:pt x="2028" y="2502"/>
                  </a:lnTo>
                  <a:lnTo>
                    <a:pt x="2028" y="2497"/>
                  </a:lnTo>
                  <a:lnTo>
                    <a:pt x="2034" y="2493"/>
                  </a:lnTo>
                  <a:lnTo>
                    <a:pt x="2066" y="2471"/>
                  </a:lnTo>
                  <a:lnTo>
                    <a:pt x="2087" y="2401"/>
                  </a:lnTo>
                  <a:lnTo>
                    <a:pt x="2070" y="2396"/>
                  </a:lnTo>
                  <a:lnTo>
                    <a:pt x="2062" y="2363"/>
                  </a:lnTo>
                  <a:lnTo>
                    <a:pt x="2080" y="2343"/>
                  </a:lnTo>
                  <a:lnTo>
                    <a:pt x="2101" y="2360"/>
                  </a:lnTo>
                  <a:lnTo>
                    <a:pt x="2140" y="2332"/>
                  </a:lnTo>
                  <a:lnTo>
                    <a:pt x="2149" y="2295"/>
                  </a:lnTo>
                  <a:lnTo>
                    <a:pt x="2131" y="2282"/>
                  </a:lnTo>
                  <a:lnTo>
                    <a:pt x="2140" y="2266"/>
                  </a:lnTo>
                  <a:lnTo>
                    <a:pt x="2149" y="2269"/>
                  </a:lnTo>
                  <a:lnTo>
                    <a:pt x="2159" y="2271"/>
                  </a:lnTo>
                  <a:lnTo>
                    <a:pt x="2167" y="2262"/>
                  </a:lnTo>
                  <a:lnTo>
                    <a:pt x="2180" y="2269"/>
                  </a:lnTo>
                  <a:lnTo>
                    <a:pt x="2194" y="2269"/>
                  </a:lnTo>
                  <a:lnTo>
                    <a:pt x="2201" y="2263"/>
                  </a:lnTo>
                  <a:lnTo>
                    <a:pt x="2203" y="2256"/>
                  </a:lnTo>
                  <a:lnTo>
                    <a:pt x="2203" y="2226"/>
                  </a:lnTo>
                  <a:lnTo>
                    <a:pt x="2209" y="2217"/>
                  </a:lnTo>
                  <a:lnTo>
                    <a:pt x="2218" y="2217"/>
                  </a:lnTo>
                  <a:lnTo>
                    <a:pt x="2224" y="2219"/>
                  </a:lnTo>
                  <a:lnTo>
                    <a:pt x="2234" y="2223"/>
                  </a:lnTo>
                  <a:lnTo>
                    <a:pt x="2289" y="2209"/>
                  </a:lnTo>
                  <a:lnTo>
                    <a:pt x="2295" y="2203"/>
                  </a:lnTo>
                  <a:lnTo>
                    <a:pt x="2297" y="2196"/>
                  </a:lnTo>
                  <a:lnTo>
                    <a:pt x="2295" y="2190"/>
                  </a:lnTo>
                  <a:lnTo>
                    <a:pt x="2264" y="2173"/>
                  </a:lnTo>
                  <a:lnTo>
                    <a:pt x="2264" y="2160"/>
                  </a:lnTo>
                  <a:lnTo>
                    <a:pt x="2316" y="2145"/>
                  </a:lnTo>
                  <a:lnTo>
                    <a:pt x="2325" y="2136"/>
                  </a:lnTo>
                  <a:lnTo>
                    <a:pt x="2342" y="2129"/>
                  </a:lnTo>
                  <a:lnTo>
                    <a:pt x="2344" y="2136"/>
                  </a:lnTo>
                  <a:lnTo>
                    <a:pt x="2338" y="2141"/>
                  </a:lnTo>
                  <a:lnTo>
                    <a:pt x="2346" y="2155"/>
                  </a:lnTo>
                  <a:lnTo>
                    <a:pt x="2352" y="2155"/>
                  </a:lnTo>
                  <a:lnTo>
                    <a:pt x="2363" y="2147"/>
                  </a:lnTo>
                  <a:lnTo>
                    <a:pt x="2445" y="2123"/>
                  </a:lnTo>
                  <a:lnTo>
                    <a:pt x="2580" y="2033"/>
                  </a:lnTo>
                  <a:lnTo>
                    <a:pt x="2586" y="2001"/>
                  </a:lnTo>
                  <a:lnTo>
                    <a:pt x="2650" y="1948"/>
                  </a:lnTo>
                  <a:lnTo>
                    <a:pt x="2651" y="1939"/>
                  </a:lnTo>
                  <a:lnTo>
                    <a:pt x="2624" y="1901"/>
                  </a:lnTo>
                  <a:lnTo>
                    <a:pt x="2631" y="1872"/>
                  </a:lnTo>
                  <a:lnTo>
                    <a:pt x="2670" y="1855"/>
                  </a:lnTo>
                  <a:lnTo>
                    <a:pt x="2680" y="1856"/>
                  </a:lnTo>
                  <a:lnTo>
                    <a:pt x="2674" y="1887"/>
                  </a:lnTo>
                  <a:lnTo>
                    <a:pt x="2678" y="1901"/>
                  </a:lnTo>
                  <a:lnTo>
                    <a:pt x="2727" y="1894"/>
                  </a:lnTo>
                  <a:lnTo>
                    <a:pt x="2733" y="1905"/>
                  </a:lnTo>
                  <a:lnTo>
                    <a:pt x="2832" y="1863"/>
                  </a:lnTo>
                  <a:lnTo>
                    <a:pt x="2887" y="1860"/>
                  </a:lnTo>
                  <a:lnTo>
                    <a:pt x="2890" y="1857"/>
                  </a:lnTo>
                  <a:lnTo>
                    <a:pt x="2886" y="1851"/>
                  </a:lnTo>
                  <a:lnTo>
                    <a:pt x="2876" y="1840"/>
                  </a:lnTo>
                  <a:lnTo>
                    <a:pt x="2872" y="1823"/>
                  </a:lnTo>
                  <a:lnTo>
                    <a:pt x="2878" y="1813"/>
                  </a:lnTo>
                  <a:lnTo>
                    <a:pt x="2884" y="1800"/>
                  </a:lnTo>
                  <a:lnTo>
                    <a:pt x="2900" y="1779"/>
                  </a:lnTo>
                  <a:lnTo>
                    <a:pt x="2921" y="1720"/>
                  </a:lnTo>
                  <a:lnTo>
                    <a:pt x="2906" y="1699"/>
                  </a:lnTo>
                  <a:lnTo>
                    <a:pt x="2906" y="1679"/>
                  </a:lnTo>
                  <a:lnTo>
                    <a:pt x="2910" y="1667"/>
                  </a:lnTo>
                  <a:lnTo>
                    <a:pt x="2908" y="1651"/>
                  </a:lnTo>
                  <a:lnTo>
                    <a:pt x="2915" y="1617"/>
                  </a:lnTo>
                  <a:lnTo>
                    <a:pt x="2931" y="1604"/>
                  </a:lnTo>
                  <a:lnTo>
                    <a:pt x="2941" y="1578"/>
                  </a:lnTo>
                  <a:lnTo>
                    <a:pt x="2950" y="1530"/>
                  </a:lnTo>
                  <a:lnTo>
                    <a:pt x="2950" y="1501"/>
                  </a:lnTo>
                  <a:lnTo>
                    <a:pt x="2941" y="1459"/>
                  </a:lnTo>
                  <a:lnTo>
                    <a:pt x="2924" y="1432"/>
                  </a:lnTo>
                  <a:lnTo>
                    <a:pt x="2917" y="1426"/>
                  </a:lnTo>
                  <a:lnTo>
                    <a:pt x="2920" y="1409"/>
                  </a:lnTo>
                  <a:lnTo>
                    <a:pt x="2910" y="1398"/>
                  </a:lnTo>
                  <a:lnTo>
                    <a:pt x="2900" y="1375"/>
                  </a:lnTo>
                  <a:lnTo>
                    <a:pt x="2884" y="1362"/>
                  </a:lnTo>
                  <a:lnTo>
                    <a:pt x="2878" y="1354"/>
                  </a:lnTo>
                  <a:lnTo>
                    <a:pt x="2890" y="1326"/>
                  </a:lnTo>
                  <a:lnTo>
                    <a:pt x="2870" y="1287"/>
                  </a:lnTo>
                  <a:lnTo>
                    <a:pt x="2837" y="1257"/>
                  </a:lnTo>
                  <a:lnTo>
                    <a:pt x="2827" y="1241"/>
                  </a:lnTo>
                  <a:lnTo>
                    <a:pt x="2822" y="974"/>
                  </a:lnTo>
                  <a:lnTo>
                    <a:pt x="2822" y="831"/>
                  </a:lnTo>
                  <a:lnTo>
                    <a:pt x="2788" y="823"/>
                  </a:lnTo>
                  <a:lnTo>
                    <a:pt x="2759" y="837"/>
                  </a:lnTo>
                  <a:lnTo>
                    <a:pt x="2750" y="834"/>
                  </a:lnTo>
                  <a:lnTo>
                    <a:pt x="2717" y="81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92440" y="1982880"/>
              <a:ext cx="735120" cy="823680"/>
            </a:xfrm>
            <a:custGeom>
              <a:avLst/>
              <a:gdLst/>
              <a:ahLst/>
              <a:rect l="l" t="t" r="r" b="b"/>
              <a:pathLst>
                <a:path w="1387" h="1559">
                  <a:moveTo>
                    <a:pt x="133" y="1559"/>
                  </a:moveTo>
                  <a:lnTo>
                    <a:pt x="132" y="1074"/>
                  </a:lnTo>
                  <a:lnTo>
                    <a:pt x="66" y="1015"/>
                  </a:lnTo>
                  <a:lnTo>
                    <a:pt x="63" y="987"/>
                  </a:lnTo>
                  <a:lnTo>
                    <a:pt x="98" y="953"/>
                  </a:lnTo>
                  <a:lnTo>
                    <a:pt x="110" y="926"/>
                  </a:lnTo>
                  <a:lnTo>
                    <a:pt x="108" y="905"/>
                  </a:lnTo>
                  <a:lnTo>
                    <a:pt x="107" y="865"/>
                  </a:lnTo>
                  <a:lnTo>
                    <a:pt x="112" y="830"/>
                  </a:lnTo>
                  <a:lnTo>
                    <a:pt x="79" y="732"/>
                  </a:lnTo>
                  <a:lnTo>
                    <a:pt x="77" y="714"/>
                  </a:lnTo>
                  <a:lnTo>
                    <a:pt x="77" y="665"/>
                  </a:lnTo>
                  <a:lnTo>
                    <a:pt x="71" y="640"/>
                  </a:lnTo>
                  <a:lnTo>
                    <a:pt x="65" y="506"/>
                  </a:lnTo>
                  <a:lnTo>
                    <a:pt x="50" y="429"/>
                  </a:lnTo>
                  <a:lnTo>
                    <a:pt x="28" y="406"/>
                  </a:lnTo>
                  <a:lnTo>
                    <a:pt x="11" y="320"/>
                  </a:lnTo>
                  <a:lnTo>
                    <a:pt x="9" y="246"/>
                  </a:lnTo>
                  <a:lnTo>
                    <a:pt x="16" y="198"/>
                  </a:lnTo>
                  <a:lnTo>
                    <a:pt x="23" y="182"/>
                  </a:lnTo>
                  <a:lnTo>
                    <a:pt x="2" y="117"/>
                  </a:lnTo>
                  <a:lnTo>
                    <a:pt x="0" y="98"/>
                  </a:lnTo>
                  <a:lnTo>
                    <a:pt x="360" y="98"/>
                  </a:lnTo>
                  <a:lnTo>
                    <a:pt x="362" y="38"/>
                  </a:lnTo>
                  <a:lnTo>
                    <a:pt x="366" y="0"/>
                  </a:lnTo>
                  <a:lnTo>
                    <a:pt x="394" y="0"/>
                  </a:lnTo>
                  <a:lnTo>
                    <a:pt x="430" y="16"/>
                  </a:lnTo>
                  <a:lnTo>
                    <a:pt x="434" y="74"/>
                  </a:lnTo>
                  <a:lnTo>
                    <a:pt x="445" y="113"/>
                  </a:lnTo>
                  <a:lnTo>
                    <a:pt x="442" y="149"/>
                  </a:lnTo>
                  <a:lnTo>
                    <a:pt x="482" y="177"/>
                  </a:lnTo>
                  <a:lnTo>
                    <a:pt x="497" y="172"/>
                  </a:lnTo>
                  <a:lnTo>
                    <a:pt x="524" y="178"/>
                  </a:lnTo>
                  <a:lnTo>
                    <a:pt x="539" y="193"/>
                  </a:lnTo>
                  <a:lnTo>
                    <a:pt x="567" y="190"/>
                  </a:lnTo>
                  <a:lnTo>
                    <a:pt x="600" y="193"/>
                  </a:lnTo>
                  <a:lnTo>
                    <a:pt x="607" y="206"/>
                  </a:lnTo>
                  <a:lnTo>
                    <a:pt x="607" y="216"/>
                  </a:lnTo>
                  <a:lnTo>
                    <a:pt x="662" y="214"/>
                  </a:lnTo>
                  <a:lnTo>
                    <a:pt x="678" y="194"/>
                  </a:lnTo>
                  <a:lnTo>
                    <a:pt x="754" y="191"/>
                  </a:lnTo>
                  <a:lnTo>
                    <a:pt x="804" y="204"/>
                  </a:lnTo>
                  <a:lnTo>
                    <a:pt x="816" y="204"/>
                  </a:lnTo>
                  <a:lnTo>
                    <a:pt x="810" y="219"/>
                  </a:lnTo>
                  <a:lnTo>
                    <a:pt x="825" y="233"/>
                  </a:lnTo>
                  <a:lnTo>
                    <a:pt x="832" y="229"/>
                  </a:lnTo>
                  <a:lnTo>
                    <a:pt x="842" y="240"/>
                  </a:lnTo>
                  <a:lnTo>
                    <a:pt x="851" y="273"/>
                  </a:lnTo>
                  <a:lnTo>
                    <a:pt x="870" y="284"/>
                  </a:lnTo>
                  <a:lnTo>
                    <a:pt x="891" y="259"/>
                  </a:lnTo>
                  <a:lnTo>
                    <a:pt x="904" y="250"/>
                  </a:lnTo>
                  <a:lnTo>
                    <a:pt x="921" y="259"/>
                  </a:lnTo>
                  <a:lnTo>
                    <a:pt x="935" y="282"/>
                  </a:lnTo>
                  <a:lnTo>
                    <a:pt x="975" y="294"/>
                  </a:lnTo>
                  <a:lnTo>
                    <a:pt x="987" y="309"/>
                  </a:lnTo>
                  <a:lnTo>
                    <a:pt x="1006" y="324"/>
                  </a:lnTo>
                  <a:lnTo>
                    <a:pt x="1032" y="326"/>
                  </a:lnTo>
                  <a:lnTo>
                    <a:pt x="1061" y="318"/>
                  </a:lnTo>
                  <a:lnTo>
                    <a:pt x="1129" y="272"/>
                  </a:lnTo>
                  <a:lnTo>
                    <a:pt x="1139" y="279"/>
                  </a:lnTo>
                  <a:lnTo>
                    <a:pt x="1159" y="298"/>
                  </a:lnTo>
                  <a:lnTo>
                    <a:pt x="1261" y="298"/>
                  </a:lnTo>
                  <a:lnTo>
                    <a:pt x="1278" y="300"/>
                  </a:lnTo>
                  <a:lnTo>
                    <a:pt x="1293" y="309"/>
                  </a:lnTo>
                  <a:lnTo>
                    <a:pt x="1318" y="330"/>
                  </a:lnTo>
                  <a:lnTo>
                    <a:pt x="1339" y="318"/>
                  </a:lnTo>
                  <a:lnTo>
                    <a:pt x="1387" y="318"/>
                  </a:lnTo>
                  <a:lnTo>
                    <a:pt x="1361" y="341"/>
                  </a:lnTo>
                  <a:lnTo>
                    <a:pt x="1299" y="375"/>
                  </a:lnTo>
                  <a:lnTo>
                    <a:pt x="1267" y="386"/>
                  </a:lnTo>
                  <a:lnTo>
                    <a:pt x="1242" y="396"/>
                  </a:lnTo>
                  <a:lnTo>
                    <a:pt x="1215" y="422"/>
                  </a:lnTo>
                  <a:lnTo>
                    <a:pt x="1163" y="448"/>
                  </a:lnTo>
                  <a:lnTo>
                    <a:pt x="1139" y="464"/>
                  </a:lnTo>
                  <a:lnTo>
                    <a:pt x="1051" y="559"/>
                  </a:lnTo>
                  <a:lnTo>
                    <a:pt x="924" y="675"/>
                  </a:lnTo>
                  <a:lnTo>
                    <a:pt x="911" y="695"/>
                  </a:lnTo>
                  <a:lnTo>
                    <a:pt x="898" y="705"/>
                  </a:lnTo>
                  <a:lnTo>
                    <a:pt x="905" y="849"/>
                  </a:lnTo>
                  <a:lnTo>
                    <a:pt x="889" y="865"/>
                  </a:lnTo>
                  <a:lnTo>
                    <a:pt x="872" y="871"/>
                  </a:lnTo>
                  <a:lnTo>
                    <a:pt x="816" y="917"/>
                  </a:lnTo>
                  <a:lnTo>
                    <a:pt x="816" y="940"/>
                  </a:lnTo>
                  <a:lnTo>
                    <a:pt x="809" y="947"/>
                  </a:lnTo>
                  <a:lnTo>
                    <a:pt x="795" y="985"/>
                  </a:lnTo>
                  <a:lnTo>
                    <a:pt x="823" y="1001"/>
                  </a:lnTo>
                  <a:lnTo>
                    <a:pt x="842" y="1035"/>
                  </a:lnTo>
                  <a:lnTo>
                    <a:pt x="825" y="1065"/>
                  </a:lnTo>
                  <a:lnTo>
                    <a:pt x="829" y="1090"/>
                  </a:lnTo>
                  <a:lnTo>
                    <a:pt x="823" y="1136"/>
                  </a:lnTo>
                  <a:lnTo>
                    <a:pt x="823" y="1206"/>
                  </a:lnTo>
                  <a:lnTo>
                    <a:pt x="834" y="1223"/>
                  </a:lnTo>
                  <a:lnTo>
                    <a:pt x="855" y="1236"/>
                  </a:lnTo>
                  <a:lnTo>
                    <a:pt x="860" y="1248"/>
                  </a:lnTo>
                  <a:lnTo>
                    <a:pt x="910" y="1255"/>
                  </a:lnTo>
                  <a:lnTo>
                    <a:pt x="917" y="1262"/>
                  </a:lnTo>
                  <a:lnTo>
                    <a:pt x="920" y="1277"/>
                  </a:lnTo>
                  <a:lnTo>
                    <a:pt x="931" y="1282"/>
                  </a:lnTo>
                  <a:lnTo>
                    <a:pt x="988" y="1309"/>
                  </a:lnTo>
                  <a:lnTo>
                    <a:pt x="1009" y="1349"/>
                  </a:lnTo>
                  <a:lnTo>
                    <a:pt x="1062" y="1391"/>
                  </a:lnTo>
                  <a:lnTo>
                    <a:pt x="1120" y="1431"/>
                  </a:lnTo>
                  <a:lnTo>
                    <a:pt x="1128" y="1444"/>
                  </a:lnTo>
                  <a:lnTo>
                    <a:pt x="1128" y="1479"/>
                  </a:lnTo>
                  <a:lnTo>
                    <a:pt x="1133" y="1528"/>
                  </a:lnTo>
                  <a:lnTo>
                    <a:pt x="133" y="1559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8240" y="2790720"/>
              <a:ext cx="669600" cy="444600"/>
            </a:xfrm>
            <a:custGeom>
              <a:avLst/>
              <a:gdLst/>
              <a:ahLst/>
              <a:rect l="l" t="t" r="r" b="b"/>
              <a:pathLst>
                <a:path w="1266" h="839">
                  <a:moveTo>
                    <a:pt x="29" y="31"/>
                  </a:moveTo>
                  <a:lnTo>
                    <a:pt x="1028" y="0"/>
                  </a:lnTo>
                  <a:lnTo>
                    <a:pt x="1041" y="31"/>
                  </a:lnTo>
                  <a:lnTo>
                    <a:pt x="1063" y="53"/>
                  </a:lnTo>
                  <a:lnTo>
                    <a:pt x="1063" y="71"/>
                  </a:lnTo>
                  <a:lnTo>
                    <a:pt x="1046" y="93"/>
                  </a:lnTo>
                  <a:lnTo>
                    <a:pt x="1057" y="127"/>
                  </a:lnTo>
                  <a:lnTo>
                    <a:pt x="1074" y="200"/>
                  </a:lnTo>
                  <a:lnTo>
                    <a:pt x="1135" y="222"/>
                  </a:lnTo>
                  <a:lnTo>
                    <a:pt x="1154" y="240"/>
                  </a:lnTo>
                  <a:lnTo>
                    <a:pt x="1162" y="263"/>
                  </a:lnTo>
                  <a:lnTo>
                    <a:pt x="1170" y="279"/>
                  </a:lnTo>
                  <a:lnTo>
                    <a:pt x="1209" y="307"/>
                  </a:lnTo>
                  <a:lnTo>
                    <a:pt x="1215" y="330"/>
                  </a:lnTo>
                  <a:lnTo>
                    <a:pt x="1251" y="353"/>
                  </a:lnTo>
                  <a:lnTo>
                    <a:pt x="1266" y="398"/>
                  </a:lnTo>
                  <a:lnTo>
                    <a:pt x="1265" y="420"/>
                  </a:lnTo>
                  <a:lnTo>
                    <a:pt x="1251" y="448"/>
                  </a:lnTo>
                  <a:lnTo>
                    <a:pt x="1236" y="461"/>
                  </a:lnTo>
                  <a:lnTo>
                    <a:pt x="1236" y="486"/>
                  </a:lnTo>
                  <a:lnTo>
                    <a:pt x="1202" y="524"/>
                  </a:lnTo>
                  <a:lnTo>
                    <a:pt x="1170" y="536"/>
                  </a:lnTo>
                  <a:lnTo>
                    <a:pt x="1160" y="543"/>
                  </a:lnTo>
                  <a:lnTo>
                    <a:pt x="1117" y="546"/>
                  </a:lnTo>
                  <a:lnTo>
                    <a:pt x="1099" y="558"/>
                  </a:lnTo>
                  <a:lnTo>
                    <a:pt x="1085" y="585"/>
                  </a:lnTo>
                  <a:lnTo>
                    <a:pt x="1089" y="609"/>
                  </a:lnTo>
                  <a:lnTo>
                    <a:pt x="1114" y="634"/>
                  </a:lnTo>
                  <a:lnTo>
                    <a:pt x="1121" y="648"/>
                  </a:lnTo>
                  <a:lnTo>
                    <a:pt x="1114" y="691"/>
                  </a:lnTo>
                  <a:lnTo>
                    <a:pt x="1084" y="756"/>
                  </a:lnTo>
                  <a:lnTo>
                    <a:pt x="1053" y="774"/>
                  </a:lnTo>
                  <a:lnTo>
                    <a:pt x="1042" y="797"/>
                  </a:lnTo>
                  <a:lnTo>
                    <a:pt x="1046" y="818"/>
                  </a:lnTo>
                  <a:lnTo>
                    <a:pt x="1031" y="839"/>
                  </a:lnTo>
                  <a:lnTo>
                    <a:pt x="968" y="779"/>
                  </a:lnTo>
                  <a:lnTo>
                    <a:pt x="167" y="803"/>
                  </a:lnTo>
                  <a:lnTo>
                    <a:pt x="159" y="791"/>
                  </a:lnTo>
                  <a:lnTo>
                    <a:pt x="151" y="764"/>
                  </a:lnTo>
                  <a:lnTo>
                    <a:pt x="159" y="743"/>
                  </a:lnTo>
                  <a:lnTo>
                    <a:pt x="143" y="722"/>
                  </a:lnTo>
                  <a:lnTo>
                    <a:pt x="137" y="699"/>
                  </a:lnTo>
                  <a:lnTo>
                    <a:pt x="151" y="678"/>
                  </a:lnTo>
                  <a:lnTo>
                    <a:pt x="143" y="657"/>
                  </a:lnTo>
                  <a:lnTo>
                    <a:pt x="116" y="642"/>
                  </a:lnTo>
                  <a:lnTo>
                    <a:pt x="124" y="602"/>
                  </a:lnTo>
                  <a:lnTo>
                    <a:pt x="130" y="581"/>
                  </a:lnTo>
                  <a:lnTo>
                    <a:pt x="124" y="558"/>
                  </a:lnTo>
                  <a:lnTo>
                    <a:pt x="93" y="537"/>
                  </a:lnTo>
                  <a:lnTo>
                    <a:pt x="86" y="516"/>
                  </a:lnTo>
                  <a:lnTo>
                    <a:pt x="93" y="495"/>
                  </a:lnTo>
                  <a:lnTo>
                    <a:pt x="74" y="474"/>
                  </a:lnTo>
                  <a:lnTo>
                    <a:pt x="59" y="432"/>
                  </a:lnTo>
                  <a:lnTo>
                    <a:pt x="39" y="410"/>
                  </a:lnTo>
                  <a:lnTo>
                    <a:pt x="52" y="375"/>
                  </a:lnTo>
                  <a:lnTo>
                    <a:pt x="52" y="353"/>
                  </a:lnTo>
                  <a:lnTo>
                    <a:pt x="25" y="339"/>
                  </a:lnTo>
                  <a:lnTo>
                    <a:pt x="21" y="311"/>
                  </a:lnTo>
                  <a:lnTo>
                    <a:pt x="25" y="304"/>
                  </a:lnTo>
                  <a:lnTo>
                    <a:pt x="19" y="279"/>
                  </a:lnTo>
                  <a:lnTo>
                    <a:pt x="0" y="227"/>
                  </a:lnTo>
                  <a:lnTo>
                    <a:pt x="19" y="183"/>
                  </a:lnTo>
                  <a:lnTo>
                    <a:pt x="13" y="158"/>
                  </a:lnTo>
                  <a:lnTo>
                    <a:pt x="27" y="145"/>
                  </a:lnTo>
                  <a:lnTo>
                    <a:pt x="20" y="105"/>
                  </a:lnTo>
                  <a:lnTo>
                    <a:pt x="7" y="90"/>
                  </a:lnTo>
                  <a:lnTo>
                    <a:pt x="17" y="65"/>
                  </a:lnTo>
                  <a:lnTo>
                    <a:pt x="10" y="51"/>
                  </a:lnTo>
                  <a:lnTo>
                    <a:pt x="0" y="33"/>
                  </a:lnTo>
                  <a:lnTo>
                    <a:pt x="19" y="3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36800" y="3203640"/>
              <a:ext cx="747720" cy="644400"/>
            </a:xfrm>
            <a:custGeom>
              <a:avLst/>
              <a:gdLst/>
              <a:ahLst/>
              <a:rect l="l" t="t" r="r" b="b"/>
              <a:pathLst>
                <a:path w="1412" h="1218">
                  <a:moveTo>
                    <a:pt x="241" y="1122"/>
                  </a:moveTo>
                  <a:lnTo>
                    <a:pt x="1187" y="1080"/>
                  </a:lnTo>
                  <a:lnTo>
                    <a:pt x="1183" y="1092"/>
                  </a:lnTo>
                  <a:lnTo>
                    <a:pt x="1203" y="1108"/>
                  </a:lnTo>
                  <a:lnTo>
                    <a:pt x="1212" y="1128"/>
                  </a:lnTo>
                  <a:lnTo>
                    <a:pt x="1208" y="1149"/>
                  </a:lnTo>
                  <a:lnTo>
                    <a:pt x="1178" y="1171"/>
                  </a:lnTo>
                  <a:lnTo>
                    <a:pt x="1153" y="1204"/>
                  </a:lnTo>
                  <a:lnTo>
                    <a:pt x="1152" y="1218"/>
                  </a:lnTo>
                  <a:lnTo>
                    <a:pt x="1292" y="1210"/>
                  </a:lnTo>
                  <a:lnTo>
                    <a:pt x="1306" y="1171"/>
                  </a:lnTo>
                  <a:lnTo>
                    <a:pt x="1300" y="1158"/>
                  </a:lnTo>
                  <a:lnTo>
                    <a:pt x="1313" y="1112"/>
                  </a:lnTo>
                  <a:lnTo>
                    <a:pt x="1325" y="1075"/>
                  </a:lnTo>
                  <a:lnTo>
                    <a:pt x="1339" y="1054"/>
                  </a:lnTo>
                  <a:lnTo>
                    <a:pt x="1368" y="1044"/>
                  </a:lnTo>
                  <a:lnTo>
                    <a:pt x="1378" y="1048"/>
                  </a:lnTo>
                  <a:lnTo>
                    <a:pt x="1390" y="1042"/>
                  </a:lnTo>
                  <a:lnTo>
                    <a:pt x="1412" y="973"/>
                  </a:lnTo>
                  <a:lnTo>
                    <a:pt x="1406" y="947"/>
                  </a:lnTo>
                  <a:lnTo>
                    <a:pt x="1391" y="940"/>
                  </a:lnTo>
                  <a:lnTo>
                    <a:pt x="1385" y="937"/>
                  </a:lnTo>
                  <a:lnTo>
                    <a:pt x="1382" y="931"/>
                  </a:lnTo>
                  <a:lnTo>
                    <a:pt x="1378" y="925"/>
                  </a:lnTo>
                  <a:lnTo>
                    <a:pt x="1365" y="925"/>
                  </a:lnTo>
                  <a:lnTo>
                    <a:pt x="1362" y="937"/>
                  </a:lnTo>
                  <a:lnTo>
                    <a:pt x="1355" y="940"/>
                  </a:lnTo>
                  <a:lnTo>
                    <a:pt x="1311" y="868"/>
                  </a:lnTo>
                  <a:lnTo>
                    <a:pt x="1313" y="857"/>
                  </a:lnTo>
                  <a:lnTo>
                    <a:pt x="1325" y="840"/>
                  </a:lnTo>
                  <a:lnTo>
                    <a:pt x="1328" y="830"/>
                  </a:lnTo>
                  <a:lnTo>
                    <a:pt x="1311" y="805"/>
                  </a:lnTo>
                  <a:lnTo>
                    <a:pt x="1299" y="761"/>
                  </a:lnTo>
                  <a:lnTo>
                    <a:pt x="1239" y="709"/>
                  </a:lnTo>
                  <a:lnTo>
                    <a:pt x="1209" y="697"/>
                  </a:lnTo>
                  <a:lnTo>
                    <a:pt x="1152" y="663"/>
                  </a:lnTo>
                  <a:lnTo>
                    <a:pt x="1115" y="628"/>
                  </a:lnTo>
                  <a:lnTo>
                    <a:pt x="1103" y="596"/>
                  </a:lnTo>
                  <a:lnTo>
                    <a:pt x="1109" y="581"/>
                  </a:lnTo>
                  <a:lnTo>
                    <a:pt x="1147" y="539"/>
                  </a:lnTo>
                  <a:lnTo>
                    <a:pt x="1140" y="499"/>
                  </a:lnTo>
                  <a:lnTo>
                    <a:pt x="1153" y="466"/>
                  </a:lnTo>
                  <a:lnTo>
                    <a:pt x="1146" y="450"/>
                  </a:lnTo>
                  <a:lnTo>
                    <a:pt x="1095" y="424"/>
                  </a:lnTo>
                  <a:lnTo>
                    <a:pt x="1080" y="434"/>
                  </a:lnTo>
                  <a:lnTo>
                    <a:pt x="1058" y="452"/>
                  </a:lnTo>
                  <a:lnTo>
                    <a:pt x="1050" y="442"/>
                  </a:lnTo>
                  <a:lnTo>
                    <a:pt x="1013" y="346"/>
                  </a:lnTo>
                  <a:lnTo>
                    <a:pt x="997" y="330"/>
                  </a:lnTo>
                  <a:lnTo>
                    <a:pt x="937" y="283"/>
                  </a:lnTo>
                  <a:lnTo>
                    <a:pt x="875" y="213"/>
                  </a:lnTo>
                  <a:lnTo>
                    <a:pt x="874" y="193"/>
                  </a:lnTo>
                  <a:lnTo>
                    <a:pt x="856" y="147"/>
                  </a:lnTo>
                  <a:lnTo>
                    <a:pt x="854" y="99"/>
                  </a:lnTo>
                  <a:lnTo>
                    <a:pt x="864" y="71"/>
                  </a:lnTo>
                  <a:lnTo>
                    <a:pt x="864" y="59"/>
                  </a:lnTo>
                  <a:lnTo>
                    <a:pt x="801" y="0"/>
                  </a:lnTo>
                  <a:lnTo>
                    <a:pt x="0" y="24"/>
                  </a:lnTo>
                  <a:lnTo>
                    <a:pt x="14" y="48"/>
                  </a:lnTo>
                  <a:lnTo>
                    <a:pt x="33" y="70"/>
                  </a:lnTo>
                  <a:lnTo>
                    <a:pt x="41" y="105"/>
                  </a:lnTo>
                  <a:lnTo>
                    <a:pt x="68" y="139"/>
                  </a:lnTo>
                  <a:lnTo>
                    <a:pt x="83" y="146"/>
                  </a:lnTo>
                  <a:lnTo>
                    <a:pt x="75" y="177"/>
                  </a:lnTo>
                  <a:lnTo>
                    <a:pt x="80" y="184"/>
                  </a:lnTo>
                  <a:lnTo>
                    <a:pt x="168" y="250"/>
                  </a:lnTo>
                  <a:lnTo>
                    <a:pt x="141" y="282"/>
                  </a:lnTo>
                  <a:lnTo>
                    <a:pt x="135" y="314"/>
                  </a:lnTo>
                  <a:lnTo>
                    <a:pt x="149" y="334"/>
                  </a:lnTo>
                  <a:lnTo>
                    <a:pt x="171" y="343"/>
                  </a:lnTo>
                  <a:lnTo>
                    <a:pt x="183" y="387"/>
                  </a:lnTo>
                  <a:lnTo>
                    <a:pt x="206" y="403"/>
                  </a:lnTo>
                  <a:lnTo>
                    <a:pt x="225" y="409"/>
                  </a:lnTo>
                  <a:lnTo>
                    <a:pt x="234" y="414"/>
                  </a:lnTo>
                  <a:lnTo>
                    <a:pt x="239" y="990"/>
                  </a:lnTo>
                  <a:lnTo>
                    <a:pt x="241" y="1122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6960" y="4276800"/>
              <a:ext cx="631800" cy="549360"/>
            </a:xfrm>
            <a:custGeom>
              <a:avLst/>
              <a:gdLst/>
              <a:ahLst/>
              <a:rect l="l" t="t" r="r" b="b"/>
              <a:pathLst>
                <a:path w="1194" h="1040">
                  <a:moveTo>
                    <a:pt x="0" y="18"/>
                  </a:moveTo>
                  <a:lnTo>
                    <a:pt x="642" y="0"/>
                  </a:lnTo>
                  <a:lnTo>
                    <a:pt x="639" y="22"/>
                  </a:lnTo>
                  <a:lnTo>
                    <a:pt x="668" y="75"/>
                  </a:lnTo>
                  <a:lnTo>
                    <a:pt x="672" y="124"/>
                  </a:lnTo>
                  <a:lnTo>
                    <a:pt x="684" y="154"/>
                  </a:lnTo>
                  <a:lnTo>
                    <a:pt x="699" y="168"/>
                  </a:lnTo>
                  <a:lnTo>
                    <a:pt x="702" y="190"/>
                  </a:lnTo>
                  <a:lnTo>
                    <a:pt x="672" y="209"/>
                  </a:lnTo>
                  <a:lnTo>
                    <a:pt x="664" y="219"/>
                  </a:lnTo>
                  <a:lnTo>
                    <a:pt x="651" y="274"/>
                  </a:lnTo>
                  <a:lnTo>
                    <a:pt x="610" y="339"/>
                  </a:lnTo>
                  <a:lnTo>
                    <a:pt x="573" y="450"/>
                  </a:lnTo>
                  <a:lnTo>
                    <a:pt x="569" y="533"/>
                  </a:lnTo>
                  <a:lnTo>
                    <a:pt x="986" y="514"/>
                  </a:lnTo>
                  <a:lnTo>
                    <a:pt x="994" y="528"/>
                  </a:lnTo>
                  <a:lnTo>
                    <a:pt x="985" y="568"/>
                  </a:lnTo>
                  <a:lnTo>
                    <a:pt x="986" y="627"/>
                  </a:lnTo>
                  <a:lnTo>
                    <a:pt x="1030" y="670"/>
                  </a:lnTo>
                  <a:lnTo>
                    <a:pt x="1039" y="723"/>
                  </a:lnTo>
                  <a:lnTo>
                    <a:pt x="979" y="710"/>
                  </a:lnTo>
                  <a:lnTo>
                    <a:pt x="926" y="684"/>
                  </a:lnTo>
                  <a:lnTo>
                    <a:pt x="912" y="682"/>
                  </a:lnTo>
                  <a:lnTo>
                    <a:pt x="895" y="689"/>
                  </a:lnTo>
                  <a:lnTo>
                    <a:pt x="857" y="727"/>
                  </a:lnTo>
                  <a:lnTo>
                    <a:pt x="855" y="745"/>
                  </a:lnTo>
                  <a:lnTo>
                    <a:pt x="872" y="764"/>
                  </a:lnTo>
                  <a:lnTo>
                    <a:pt x="891" y="769"/>
                  </a:lnTo>
                  <a:lnTo>
                    <a:pt x="937" y="768"/>
                  </a:lnTo>
                  <a:lnTo>
                    <a:pt x="963" y="749"/>
                  </a:lnTo>
                  <a:lnTo>
                    <a:pt x="979" y="741"/>
                  </a:lnTo>
                  <a:lnTo>
                    <a:pt x="1006" y="743"/>
                  </a:lnTo>
                  <a:lnTo>
                    <a:pt x="1019" y="741"/>
                  </a:lnTo>
                  <a:lnTo>
                    <a:pt x="1021" y="748"/>
                  </a:lnTo>
                  <a:lnTo>
                    <a:pt x="1014" y="760"/>
                  </a:lnTo>
                  <a:lnTo>
                    <a:pt x="996" y="775"/>
                  </a:lnTo>
                  <a:lnTo>
                    <a:pt x="1001" y="790"/>
                  </a:lnTo>
                  <a:lnTo>
                    <a:pt x="1017" y="800"/>
                  </a:lnTo>
                  <a:lnTo>
                    <a:pt x="1033" y="802"/>
                  </a:lnTo>
                  <a:lnTo>
                    <a:pt x="1042" y="796"/>
                  </a:lnTo>
                  <a:lnTo>
                    <a:pt x="1059" y="761"/>
                  </a:lnTo>
                  <a:lnTo>
                    <a:pt x="1105" y="743"/>
                  </a:lnTo>
                  <a:lnTo>
                    <a:pt x="1121" y="735"/>
                  </a:lnTo>
                  <a:lnTo>
                    <a:pt x="1134" y="735"/>
                  </a:lnTo>
                  <a:lnTo>
                    <a:pt x="1143" y="748"/>
                  </a:lnTo>
                  <a:lnTo>
                    <a:pt x="1136" y="768"/>
                  </a:lnTo>
                  <a:lnTo>
                    <a:pt x="1143" y="777"/>
                  </a:lnTo>
                  <a:lnTo>
                    <a:pt x="1141" y="794"/>
                  </a:lnTo>
                  <a:lnTo>
                    <a:pt x="1120" y="805"/>
                  </a:lnTo>
                  <a:lnTo>
                    <a:pt x="1089" y="851"/>
                  </a:lnTo>
                  <a:lnTo>
                    <a:pt x="1052" y="875"/>
                  </a:lnTo>
                  <a:lnTo>
                    <a:pt x="1051" y="900"/>
                  </a:lnTo>
                  <a:lnTo>
                    <a:pt x="1061" y="918"/>
                  </a:lnTo>
                  <a:lnTo>
                    <a:pt x="1108" y="945"/>
                  </a:lnTo>
                  <a:lnTo>
                    <a:pt x="1187" y="977"/>
                  </a:lnTo>
                  <a:lnTo>
                    <a:pt x="1194" y="992"/>
                  </a:lnTo>
                  <a:lnTo>
                    <a:pt x="1188" y="1010"/>
                  </a:lnTo>
                  <a:lnTo>
                    <a:pt x="1175" y="1013"/>
                  </a:lnTo>
                  <a:lnTo>
                    <a:pt x="1112" y="1040"/>
                  </a:lnTo>
                  <a:lnTo>
                    <a:pt x="1105" y="991"/>
                  </a:lnTo>
                  <a:lnTo>
                    <a:pt x="1070" y="976"/>
                  </a:lnTo>
                  <a:lnTo>
                    <a:pt x="1002" y="949"/>
                  </a:lnTo>
                  <a:lnTo>
                    <a:pt x="992" y="926"/>
                  </a:lnTo>
                  <a:lnTo>
                    <a:pt x="980" y="918"/>
                  </a:lnTo>
                  <a:lnTo>
                    <a:pt x="963" y="926"/>
                  </a:lnTo>
                  <a:lnTo>
                    <a:pt x="951" y="975"/>
                  </a:lnTo>
                  <a:lnTo>
                    <a:pt x="959" y="981"/>
                  </a:lnTo>
                  <a:lnTo>
                    <a:pt x="959" y="992"/>
                  </a:lnTo>
                  <a:lnTo>
                    <a:pt x="926" y="1014"/>
                  </a:lnTo>
                  <a:lnTo>
                    <a:pt x="912" y="1012"/>
                  </a:lnTo>
                  <a:lnTo>
                    <a:pt x="891" y="985"/>
                  </a:lnTo>
                  <a:lnTo>
                    <a:pt x="881" y="983"/>
                  </a:lnTo>
                  <a:lnTo>
                    <a:pt x="859" y="992"/>
                  </a:lnTo>
                  <a:lnTo>
                    <a:pt x="847" y="981"/>
                  </a:lnTo>
                  <a:lnTo>
                    <a:pt x="838" y="983"/>
                  </a:lnTo>
                  <a:lnTo>
                    <a:pt x="806" y="1016"/>
                  </a:lnTo>
                  <a:lnTo>
                    <a:pt x="772" y="1018"/>
                  </a:lnTo>
                  <a:lnTo>
                    <a:pt x="758" y="1008"/>
                  </a:lnTo>
                  <a:lnTo>
                    <a:pt x="721" y="1002"/>
                  </a:lnTo>
                  <a:lnTo>
                    <a:pt x="667" y="932"/>
                  </a:lnTo>
                  <a:lnTo>
                    <a:pt x="633" y="926"/>
                  </a:lnTo>
                  <a:lnTo>
                    <a:pt x="602" y="912"/>
                  </a:lnTo>
                  <a:lnTo>
                    <a:pt x="590" y="894"/>
                  </a:lnTo>
                  <a:lnTo>
                    <a:pt x="583" y="890"/>
                  </a:lnTo>
                  <a:lnTo>
                    <a:pt x="579" y="888"/>
                  </a:lnTo>
                  <a:lnTo>
                    <a:pt x="576" y="882"/>
                  </a:lnTo>
                  <a:lnTo>
                    <a:pt x="579" y="871"/>
                  </a:lnTo>
                  <a:lnTo>
                    <a:pt x="564" y="866"/>
                  </a:lnTo>
                  <a:lnTo>
                    <a:pt x="556" y="871"/>
                  </a:lnTo>
                  <a:lnTo>
                    <a:pt x="531" y="866"/>
                  </a:lnTo>
                  <a:lnTo>
                    <a:pt x="527" y="862"/>
                  </a:lnTo>
                  <a:lnTo>
                    <a:pt x="522" y="846"/>
                  </a:lnTo>
                  <a:lnTo>
                    <a:pt x="506" y="847"/>
                  </a:lnTo>
                  <a:lnTo>
                    <a:pt x="463" y="886"/>
                  </a:lnTo>
                  <a:lnTo>
                    <a:pt x="484" y="910"/>
                  </a:lnTo>
                  <a:lnTo>
                    <a:pt x="476" y="914"/>
                  </a:lnTo>
                  <a:lnTo>
                    <a:pt x="407" y="919"/>
                  </a:lnTo>
                  <a:lnTo>
                    <a:pt x="287" y="898"/>
                  </a:lnTo>
                  <a:lnTo>
                    <a:pt x="220" y="869"/>
                  </a:lnTo>
                  <a:lnTo>
                    <a:pt x="63" y="895"/>
                  </a:lnTo>
                  <a:lnTo>
                    <a:pt x="53" y="884"/>
                  </a:lnTo>
                  <a:lnTo>
                    <a:pt x="49" y="866"/>
                  </a:lnTo>
                  <a:lnTo>
                    <a:pt x="55" y="857"/>
                  </a:lnTo>
                  <a:lnTo>
                    <a:pt x="62" y="844"/>
                  </a:lnTo>
                  <a:lnTo>
                    <a:pt x="78" y="823"/>
                  </a:lnTo>
                  <a:lnTo>
                    <a:pt x="99" y="764"/>
                  </a:lnTo>
                  <a:lnTo>
                    <a:pt x="84" y="743"/>
                  </a:lnTo>
                  <a:lnTo>
                    <a:pt x="84" y="723"/>
                  </a:lnTo>
                  <a:lnTo>
                    <a:pt x="87" y="710"/>
                  </a:lnTo>
                  <a:lnTo>
                    <a:pt x="85" y="695"/>
                  </a:lnTo>
                  <a:lnTo>
                    <a:pt x="93" y="661"/>
                  </a:lnTo>
                  <a:lnTo>
                    <a:pt x="109" y="648"/>
                  </a:lnTo>
                  <a:lnTo>
                    <a:pt x="118" y="621"/>
                  </a:lnTo>
                  <a:lnTo>
                    <a:pt x="127" y="574"/>
                  </a:lnTo>
                  <a:lnTo>
                    <a:pt x="127" y="545"/>
                  </a:lnTo>
                  <a:lnTo>
                    <a:pt x="118" y="503"/>
                  </a:lnTo>
                  <a:lnTo>
                    <a:pt x="101" y="476"/>
                  </a:lnTo>
                  <a:lnTo>
                    <a:pt x="94" y="470"/>
                  </a:lnTo>
                  <a:lnTo>
                    <a:pt x="97" y="453"/>
                  </a:lnTo>
                  <a:lnTo>
                    <a:pt x="88" y="442"/>
                  </a:lnTo>
                  <a:lnTo>
                    <a:pt x="78" y="418"/>
                  </a:lnTo>
                  <a:lnTo>
                    <a:pt x="62" y="406"/>
                  </a:lnTo>
                  <a:lnTo>
                    <a:pt x="56" y="397"/>
                  </a:lnTo>
                  <a:lnTo>
                    <a:pt x="68" y="370"/>
                  </a:lnTo>
                  <a:lnTo>
                    <a:pt x="47" y="331"/>
                  </a:lnTo>
                  <a:lnTo>
                    <a:pt x="15" y="301"/>
                  </a:lnTo>
                  <a:lnTo>
                    <a:pt x="5" y="28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65680" y="3774960"/>
              <a:ext cx="555480" cy="511200"/>
            </a:xfrm>
            <a:custGeom>
              <a:avLst/>
              <a:gdLst/>
              <a:ahLst/>
              <a:rect l="l" t="t" r="r" b="b"/>
              <a:pathLst>
                <a:path w="1051" h="966">
                  <a:moveTo>
                    <a:pt x="0" y="41"/>
                  </a:moveTo>
                  <a:lnTo>
                    <a:pt x="946" y="0"/>
                  </a:lnTo>
                  <a:lnTo>
                    <a:pt x="942" y="11"/>
                  </a:lnTo>
                  <a:lnTo>
                    <a:pt x="961" y="27"/>
                  </a:lnTo>
                  <a:lnTo>
                    <a:pt x="971" y="48"/>
                  </a:lnTo>
                  <a:lnTo>
                    <a:pt x="966" y="68"/>
                  </a:lnTo>
                  <a:lnTo>
                    <a:pt x="937" y="90"/>
                  </a:lnTo>
                  <a:lnTo>
                    <a:pt x="912" y="123"/>
                  </a:lnTo>
                  <a:lnTo>
                    <a:pt x="911" y="137"/>
                  </a:lnTo>
                  <a:lnTo>
                    <a:pt x="1051" y="130"/>
                  </a:lnTo>
                  <a:lnTo>
                    <a:pt x="1045" y="143"/>
                  </a:lnTo>
                  <a:lnTo>
                    <a:pt x="1050" y="156"/>
                  </a:lnTo>
                  <a:lnTo>
                    <a:pt x="1039" y="178"/>
                  </a:lnTo>
                  <a:lnTo>
                    <a:pt x="1013" y="206"/>
                  </a:lnTo>
                  <a:lnTo>
                    <a:pt x="1003" y="262"/>
                  </a:lnTo>
                  <a:lnTo>
                    <a:pt x="976" y="297"/>
                  </a:lnTo>
                  <a:lnTo>
                    <a:pt x="982" y="334"/>
                  </a:lnTo>
                  <a:lnTo>
                    <a:pt x="978" y="381"/>
                  </a:lnTo>
                  <a:lnTo>
                    <a:pt x="971" y="384"/>
                  </a:lnTo>
                  <a:lnTo>
                    <a:pt x="948" y="405"/>
                  </a:lnTo>
                  <a:lnTo>
                    <a:pt x="945" y="420"/>
                  </a:lnTo>
                  <a:lnTo>
                    <a:pt x="905" y="456"/>
                  </a:lnTo>
                  <a:lnTo>
                    <a:pt x="889" y="498"/>
                  </a:lnTo>
                  <a:lnTo>
                    <a:pt x="893" y="540"/>
                  </a:lnTo>
                  <a:lnTo>
                    <a:pt x="886" y="561"/>
                  </a:lnTo>
                  <a:lnTo>
                    <a:pt x="849" y="587"/>
                  </a:lnTo>
                  <a:lnTo>
                    <a:pt x="822" y="626"/>
                  </a:lnTo>
                  <a:lnTo>
                    <a:pt x="810" y="638"/>
                  </a:lnTo>
                  <a:lnTo>
                    <a:pt x="810" y="672"/>
                  </a:lnTo>
                  <a:lnTo>
                    <a:pt x="791" y="695"/>
                  </a:lnTo>
                  <a:lnTo>
                    <a:pt x="791" y="721"/>
                  </a:lnTo>
                  <a:lnTo>
                    <a:pt x="778" y="757"/>
                  </a:lnTo>
                  <a:lnTo>
                    <a:pt x="756" y="795"/>
                  </a:lnTo>
                  <a:lnTo>
                    <a:pt x="765" y="835"/>
                  </a:lnTo>
                  <a:lnTo>
                    <a:pt x="785" y="856"/>
                  </a:lnTo>
                  <a:lnTo>
                    <a:pt x="788" y="881"/>
                  </a:lnTo>
                  <a:lnTo>
                    <a:pt x="795" y="889"/>
                  </a:lnTo>
                  <a:lnTo>
                    <a:pt x="795" y="903"/>
                  </a:lnTo>
                  <a:lnTo>
                    <a:pt x="782" y="910"/>
                  </a:lnTo>
                  <a:lnTo>
                    <a:pt x="778" y="934"/>
                  </a:lnTo>
                  <a:lnTo>
                    <a:pt x="780" y="948"/>
                  </a:lnTo>
                  <a:lnTo>
                    <a:pt x="138" y="966"/>
                  </a:lnTo>
                  <a:lnTo>
                    <a:pt x="138" y="823"/>
                  </a:lnTo>
                  <a:lnTo>
                    <a:pt x="104" y="815"/>
                  </a:lnTo>
                  <a:lnTo>
                    <a:pt x="75" y="829"/>
                  </a:lnTo>
                  <a:lnTo>
                    <a:pt x="66" y="826"/>
                  </a:lnTo>
                  <a:lnTo>
                    <a:pt x="33" y="803"/>
                  </a:lnTo>
                  <a:lnTo>
                    <a:pt x="39" y="3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87880" y="2911320"/>
              <a:ext cx="444600" cy="789120"/>
            </a:xfrm>
            <a:custGeom>
              <a:avLst/>
              <a:gdLst/>
              <a:ahLst/>
              <a:rect l="l" t="t" r="r" b="b"/>
              <a:pathLst>
                <a:path w="839" h="1492">
                  <a:moveTo>
                    <a:pt x="692" y="0"/>
                  </a:moveTo>
                  <a:lnTo>
                    <a:pt x="141" y="36"/>
                  </a:lnTo>
                  <a:lnTo>
                    <a:pt x="150" y="52"/>
                  </a:lnTo>
                  <a:lnTo>
                    <a:pt x="189" y="80"/>
                  </a:lnTo>
                  <a:lnTo>
                    <a:pt x="195" y="103"/>
                  </a:lnTo>
                  <a:lnTo>
                    <a:pt x="231" y="126"/>
                  </a:lnTo>
                  <a:lnTo>
                    <a:pt x="246" y="171"/>
                  </a:lnTo>
                  <a:lnTo>
                    <a:pt x="245" y="193"/>
                  </a:lnTo>
                  <a:lnTo>
                    <a:pt x="231" y="221"/>
                  </a:lnTo>
                  <a:lnTo>
                    <a:pt x="216" y="234"/>
                  </a:lnTo>
                  <a:lnTo>
                    <a:pt x="216" y="259"/>
                  </a:lnTo>
                  <a:lnTo>
                    <a:pt x="182" y="297"/>
                  </a:lnTo>
                  <a:lnTo>
                    <a:pt x="150" y="309"/>
                  </a:lnTo>
                  <a:lnTo>
                    <a:pt x="140" y="316"/>
                  </a:lnTo>
                  <a:lnTo>
                    <a:pt x="97" y="319"/>
                  </a:lnTo>
                  <a:lnTo>
                    <a:pt x="79" y="332"/>
                  </a:lnTo>
                  <a:lnTo>
                    <a:pt x="65" y="358"/>
                  </a:lnTo>
                  <a:lnTo>
                    <a:pt x="69" y="382"/>
                  </a:lnTo>
                  <a:lnTo>
                    <a:pt x="94" y="407"/>
                  </a:lnTo>
                  <a:lnTo>
                    <a:pt x="101" y="421"/>
                  </a:lnTo>
                  <a:lnTo>
                    <a:pt x="94" y="464"/>
                  </a:lnTo>
                  <a:lnTo>
                    <a:pt x="63" y="530"/>
                  </a:lnTo>
                  <a:lnTo>
                    <a:pt x="34" y="547"/>
                  </a:lnTo>
                  <a:lnTo>
                    <a:pt x="22" y="570"/>
                  </a:lnTo>
                  <a:lnTo>
                    <a:pt x="26" y="591"/>
                  </a:lnTo>
                  <a:lnTo>
                    <a:pt x="10" y="612"/>
                  </a:lnTo>
                  <a:lnTo>
                    <a:pt x="10" y="623"/>
                  </a:lnTo>
                  <a:lnTo>
                    <a:pt x="0" y="651"/>
                  </a:lnTo>
                  <a:lnTo>
                    <a:pt x="3" y="701"/>
                  </a:lnTo>
                  <a:lnTo>
                    <a:pt x="21" y="745"/>
                  </a:lnTo>
                  <a:lnTo>
                    <a:pt x="22" y="765"/>
                  </a:lnTo>
                  <a:lnTo>
                    <a:pt x="84" y="836"/>
                  </a:lnTo>
                  <a:lnTo>
                    <a:pt x="144" y="883"/>
                  </a:lnTo>
                  <a:lnTo>
                    <a:pt x="160" y="899"/>
                  </a:lnTo>
                  <a:lnTo>
                    <a:pt x="197" y="994"/>
                  </a:lnTo>
                  <a:lnTo>
                    <a:pt x="205" y="1004"/>
                  </a:lnTo>
                  <a:lnTo>
                    <a:pt x="227" y="987"/>
                  </a:lnTo>
                  <a:lnTo>
                    <a:pt x="242" y="977"/>
                  </a:lnTo>
                  <a:lnTo>
                    <a:pt x="293" y="1002"/>
                  </a:lnTo>
                  <a:lnTo>
                    <a:pt x="300" y="1019"/>
                  </a:lnTo>
                  <a:lnTo>
                    <a:pt x="287" y="1051"/>
                  </a:lnTo>
                  <a:lnTo>
                    <a:pt x="294" y="1091"/>
                  </a:lnTo>
                  <a:lnTo>
                    <a:pt x="256" y="1134"/>
                  </a:lnTo>
                  <a:lnTo>
                    <a:pt x="250" y="1149"/>
                  </a:lnTo>
                  <a:lnTo>
                    <a:pt x="262" y="1181"/>
                  </a:lnTo>
                  <a:lnTo>
                    <a:pt x="299" y="1215"/>
                  </a:lnTo>
                  <a:lnTo>
                    <a:pt x="356" y="1249"/>
                  </a:lnTo>
                  <a:lnTo>
                    <a:pt x="386" y="1261"/>
                  </a:lnTo>
                  <a:lnTo>
                    <a:pt x="446" y="1313"/>
                  </a:lnTo>
                  <a:lnTo>
                    <a:pt x="458" y="1358"/>
                  </a:lnTo>
                  <a:lnTo>
                    <a:pt x="475" y="1383"/>
                  </a:lnTo>
                  <a:lnTo>
                    <a:pt x="472" y="1394"/>
                  </a:lnTo>
                  <a:lnTo>
                    <a:pt x="460" y="1410"/>
                  </a:lnTo>
                  <a:lnTo>
                    <a:pt x="458" y="1421"/>
                  </a:lnTo>
                  <a:lnTo>
                    <a:pt x="501" y="1492"/>
                  </a:lnTo>
                  <a:lnTo>
                    <a:pt x="509" y="1489"/>
                  </a:lnTo>
                  <a:lnTo>
                    <a:pt x="511" y="1478"/>
                  </a:lnTo>
                  <a:lnTo>
                    <a:pt x="525" y="1478"/>
                  </a:lnTo>
                  <a:lnTo>
                    <a:pt x="529" y="1484"/>
                  </a:lnTo>
                  <a:lnTo>
                    <a:pt x="541" y="1438"/>
                  </a:lnTo>
                  <a:lnTo>
                    <a:pt x="567" y="1425"/>
                  </a:lnTo>
                  <a:lnTo>
                    <a:pt x="603" y="1431"/>
                  </a:lnTo>
                  <a:lnTo>
                    <a:pt x="627" y="1446"/>
                  </a:lnTo>
                  <a:lnTo>
                    <a:pt x="654" y="1463"/>
                  </a:lnTo>
                  <a:lnTo>
                    <a:pt x="683" y="1450"/>
                  </a:lnTo>
                  <a:lnTo>
                    <a:pt x="670" y="1396"/>
                  </a:lnTo>
                  <a:lnTo>
                    <a:pt x="668" y="1366"/>
                  </a:lnTo>
                  <a:lnTo>
                    <a:pt x="686" y="1358"/>
                  </a:lnTo>
                  <a:lnTo>
                    <a:pt x="751" y="1339"/>
                  </a:lnTo>
                  <a:lnTo>
                    <a:pt x="755" y="1333"/>
                  </a:lnTo>
                  <a:lnTo>
                    <a:pt x="734" y="1306"/>
                  </a:lnTo>
                  <a:lnTo>
                    <a:pt x="731" y="1299"/>
                  </a:lnTo>
                  <a:lnTo>
                    <a:pt x="740" y="1293"/>
                  </a:lnTo>
                  <a:lnTo>
                    <a:pt x="744" y="1272"/>
                  </a:lnTo>
                  <a:lnTo>
                    <a:pt x="753" y="1259"/>
                  </a:lnTo>
                  <a:lnTo>
                    <a:pt x="749" y="1254"/>
                  </a:lnTo>
                  <a:lnTo>
                    <a:pt x="747" y="1244"/>
                  </a:lnTo>
                  <a:lnTo>
                    <a:pt x="747" y="1233"/>
                  </a:lnTo>
                  <a:lnTo>
                    <a:pt x="759" y="1186"/>
                  </a:lnTo>
                  <a:lnTo>
                    <a:pt x="759" y="1145"/>
                  </a:lnTo>
                  <a:lnTo>
                    <a:pt x="790" y="1116"/>
                  </a:lnTo>
                  <a:lnTo>
                    <a:pt x="810" y="1072"/>
                  </a:lnTo>
                  <a:lnTo>
                    <a:pt x="812" y="1056"/>
                  </a:lnTo>
                  <a:lnTo>
                    <a:pt x="839" y="1003"/>
                  </a:lnTo>
                  <a:lnTo>
                    <a:pt x="831" y="946"/>
                  </a:lnTo>
                  <a:lnTo>
                    <a:pt x="808" y="899"/>
                  </a:lnTo>
                  <a:lnTo>
                    <a:pt x="816" y="865"/>
                  </a:lnTo>
                  <a:lnTo>
                    <a:pt x="812" y="842"/>
                  </a:lnTo>
                  <a:lnTo>
                    <a:pt x="820" y="833"/>
                  </a:lnTo>
                  <a:lnTo>
                    <a:pt x="768" y="202"/>
                  </a:lnTo>
                  <a:lnTo>
                    <a:pt x="756" y="193"/>
                  </a:lnTo>
                  <a:lnTo>
                    <a:pt x="749" y="179"/>
                  </a:lnTo>
                  <a:lnTo>
                    <a:pt x="736" y="120"/>
                  </a:lnTo>
                  <a:lnTo>
                    <a:pt x="727" y="103"/>
                  </a:lnTo>
                  <a:lnTo>
                    <a:pt x="709" y="86"/>
                  </a:lnTo>
                  <a:lnTo>
                    <a:pt x="692" y="48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59480" y="2414520"/>
              <a:ext cx="433080" cy="593640"/>
            </a:xfrm>
            <a:custGeom>
              <a:avLst/>
              <a:gdLst/>
              <a:ahLst/>
              <a:rect l="l" t="t" r="r" b="b"/>
              <a:pathLst>
                <a:path w="819" h="1121">
                  <a:moveTo>
                    <a:pt x="0" y="1121"/>
                  </a:moveTo>
                  <a:lnTo>
                    <a:pt x="408" y="1073"/>
                  </a:lnTo>
                  <a:lnTo>
                    <a:pt x="410" y="1086"/>
                  </a:lnTo>
                  <a:lnTo>
                    <a:pt x="669" y="1048"/>
                  </a:lnTo>
                  <a:lnTo>
                    <a:pt x="670" y="1037"/>
                  </a:lnTo>
                  <a:lnTo>
                    <a:pt x="704" y="975"/>
                  </a:lnTo>
                  <a:lnTo>
                    <a:pt x="714" y="957"/>
                  </a:lnTo>
                  <a:lnTo>
                    <a:pt x="713" y="917"/>
                  </a:lnTo>
                  <a:lnTo>
                    <a:pt x="724" y="882"/>
                  </a:lnTo>
                  <a:lnTo>
                    <a:pt x="759" y="856"/>
                  </a:lnTo>
                  <a:lnTo>
                    <a:pt x="759" y="824"/>
                  </a:lnTo>
                  <a:lnTo>
                    <a:pt x="764" y="813"/>
                  </a:lnTo>
                  <a:lnTo>
                    <a:pt x="766" y="796"/>
                  </a:lnTo>
                  <a:lnTo>
                    <a:pt x="783" y="780"/>
                  </a:lnTo>
                  <a:lnTo>
                    <a:pt x="792" y="796"/>
                  </a:lnTo>
                  <a:lnTo>
                    <a:pt x="799" y="799"/>
                  </a:lnTo>
                  <a:lnTo>
                    <a:pt x="810" y="793"/>
                  </a:lnTo>
                  <a:lnTo>
                    <a:pt x="818" y="782"/>
                  </a:lnTo>
                  <a:lnTo>
                    <a:pt x="819" y="765"/>
                  </a:lnTo>
                  <a:lnTo>
                    <a:pt x="813" y="730"/>
                  </a:lnTo>
                  <a:lnTo>
                    <a:pt x="819" y="682"/>
                  </a:lnTo>
                  <a:lnTo>
                    <a:pt x="805" y="655"/>
                  </a:lnTo>
                  <a:lnTo>
                    <a:pt x="797" y="589"/>
                  </a:lnTo>
                  <a:lnTo>
                    <a:pt x="738" y="438"/>
                  </a:lnTo>
                  <a:lnTo>
                    <a:pt x="682" y="420"/>
                  </a:lnTo>
                  <a:lnTo>
                    <a:pt x="658" y="436"/>
                  </a:lnTo>
                  <a:lnTo>
                    <a:pt x="632" y="462"/>
                  </a:lnTo>
                  <a:lnTo>
                    <a:pt x="563" y="563"/>
                  </a:lnTo>
                  <a:lnTo>
                    <a:pt x="556" y="563"/>
                  </a:lnTo>
                  <a:lnTo>
                    <a:pt x="550" y="559"/>
                  </a:lnTo>
                  <a:lnTo>
                    <a:pt x="522" y="548"/>
                  </a:lnTo>
                  <a:lnTo>
                    <a:pt x="513" y="540"/>
                  </a:lnTo>
                  <a:lnTo>
                    <a:pt x="505" y="519"/>
                  </a:lnTo>
                  <a:lnTo>
                    <a:pt x="511" y="474"/>
                  </a:lnTo>
                  <a:lnTo>
                    <a:pt x="525" y="458"/>
                  </a:lnTo>
                  <a:lnTo>
                    <a:pt x="558" y="436"/>
                  </a:lnTo>
                  <a:lnTo>
                    <a:pt x="568" y="418"/>
                  </a:lnTo>
                  <a:lnTo>
                    <a:pt x="568" y="405"/>
                  </a:lnTo>
                  <a:lnTo>
                    <a:pt x="574" y="386"/>
                  </a:lnTo>
                  <a:lnTo>
                    <a:pt x="588" y="375"/>
                  </a:lnTo>
                  <a:lnTo>
                    <a:pt x="604" y="344"/>
                  </a:lnTo>
                  <a:lnTo>
                    <a:pt x="604" y="277"/>
                  </a:lnTo>
                  <a:lnTo>
                    <a:pt x="594" y="244"/>
                  </a:lnTo>
                  <a:lnTo>
                    <a:pt x="584" y="224"/>
                  </a:lnTo>
                  <a:lnTo>
                    <a:pt x="563" y="199"/>
                  </a:lnTo>
                  <a:lnTo>
                    <a:pt x="557" y="187"/>
                  </a:lnTo>
                  <a:lnTo>
                    <a:pt x="560" y="169"/>
                  </a:lnTo>
                  <a:lnTo>
                    <a:pt x="584" y="163"/>
                  </a:lnTo>
                  <a:lnTo>
                    <a:pt x="587" y="157"/>
                  </a:lnTo>
                  <a:lnTo>
                    <a:pt x="560" y="106"/>
                  </a:lnTo>
                  <a:lnTo>
                    <a:pt x="537" y="96"/>
                  </a:lnTo>
                  <a:lnTo>
                    <a:pt x="468" y="69"/>
                  </a:lnTo>
                  <a:lnTo>
                    <a:pt x="418" y="58"/>
                  </a:lnTo>
                  <a:lnTo>
                    <a:pt x="402" y="40"/>
                  </a:lnTo>
                  <a:lnTo>
                    <a:pt x="362" y="30"/>
                  </a:lnTo>
                  <a:lnTo>
                    <a:pt x="326" y="20"/>
                  </a:lnTo>
                  <a:lnTo>
                    <a:pt x="299" y="0"/>
                  </a:lnTo>
                  <a:lnTo>
                    <a:pt x="282" y="15"/>
                  </a:lnTo>
                  <a:lnTo>
                    <a:pt x="260" y="22"/>
                  </a:lnTo>
                  <a:lnTo>
                    <a:pt x="240" y="58"/>
                  </a:lnTo>
                  <a:lnTo>
                    <a:pt x="240" y="90"/>
                  </a:lnTo>
                  <a:lnTo>
                    <a:pt x="244" y="100"/>
                  </a:lnTo>
                  <a:lnTo>
                    <a:pt x="252" y="103"/>
                  </a:lnTo>
                  <a:lnTo>
                    <a:pt x="256" y="114"/>
                  </a:lnTo>
                  <a:lnTo>
                    <a:pt x="246" y="118"/>
                  </a:lnTo>
                  <a:lnTo>
                    <a:pt x="232" y="124"/>
                  </a:lnTo>
                  <a:lnTo>
                    <a:pt x="219" y="134"/>
                  </a:lnTo>
                  <a:lnTo>
                    <a:pt x="203" y="154"/>
                  </a:lnTo>
                  <a:lnTo>
                    <a:pt x="193" y="179"/>
                  </a:lnTo>
                  <a:lnTo>
                    <a:pt x="194" y="210"/>
                  </a:lnTo>
                  <a:lnTo>
                    <a:pt x="200" y="236"/>
                  </a:lnTo>
                  <a:lnTo>
                    <a:pt x="183" y="268"/>
                  </a:lnTo>
                  <a:lnTo>
                    <a:pt x="159" y="279"/>
                  </a:lnTo>
                  <a:lnTo>
                    <a:pt x="153" y="258"/>
                  </a:lnTo>
                  <a:lnTo>
                    <a:pt x="165" y="230"/>
                  </a:lnTo>
                  <a:lnTo>
                    <a:pt x="155" y="204"/>
                  </a:lnTo>
                  <a:lnTo>
                    <a:pt x="159" y="191"/>
                  </a:lnTo>
                  <a:lnTo>
                    <a:pt x="155" y="182"/>
                  </a:lnTo>
                  <a:lnTo>
                    <a:pt x="146" y="188"/>
                  </a:lnTo>
                  <a:lnTo>
                    <a:pt x="134" y="209"/>
                  </a:lnTo>
                  <a:lnTo>
                    <a:pt x="130" y="235"/>
                  </a:lnTo>
                  <a:lnTo>
                    <a:pt x="120" y="250"/>
                  </a:lnTo>
                  <a:lnTo>
                    <a:pt x="107" y="249"/>
                  </a:lnTo>
                  <a:lnTo>
                    <a:pt x="83" y="270"/>
                  </a:lnTo>
                  <a:lnTo>
                    <a:pt x="73" y="289"/>
                  </a:lnTo>
                  <a:lnTo>
                    <a:pt x="71" y="304"/>
                  </a:lnTo>
                  <a:lnTo>
                    <a:pt x="49" y="329"/>
                  </a:lnTo>
                  <a:lnTo>
                    <a:pt x="46" y="370"/>
                  </a:lnTo>
                  <a:lnTo>
                    <a:pt x="44" y="418"/>
                  </a:lnTo>
                  <a:lnTo>
                    <a:pt x="40" y="446"/>
                  </a:lnTo>
                  <a:lnTo>
                    <a:pt x="26" y="480"/>
                  </a:lnTo>
                  <a:lnTo>
                    <a:pt x="11" y="502"/>
                  </a:lnTo>
                  <a:lnTo>
                    <a:pt x="12" y="522"/>
                  </a:lnTo>
                  <a:lnTo>
                    <a:pt x="31" y="582"/>
                  </a:lnTo>
                  <a:lnTo>
                    <a:pt x="21" y="619"/>
                  </a:lnTo>
                  <a:lnTo>
                    <a:pt x="36" y="648"/>
                  </a:lnTo>
                  <a:lnTo>
                    <a:pt x="74" y="729"/>
                  </a:lnTo>
                  <a:lnTo>
                    <a:pt x="99" y="792"/>
                  </a:lnTo>
                  <a:lnTo>
                    <a:pt x="100" y="845"/>
                  </a:lnTo>
                  <a:lnTo>
                    <a:pt x="113" y="857"/>
                  </a:lnTo>
                  <a:lnTo>
                    <a:pt x="113" y="866"/>
                  </a:lnTo>
                  <a:lnTo>
                    <a:pt x="106" y="876"/>
                  </a:lnTo>
                  <a:lnTo>
                    <a:pt x="98" y="931"/>
                  </a:lnTo>
                  <a:lnTo>
                    <a:pt x="89" y="971"/>
                  </a:lnTo>
                  <a:lnTo>
                    <a:pt x="73" y="1011"/>
                  </a:lnTo>
                  <a:lnTo>
                    <a:pt x="37" y="1087"/>
                  </a:lnTo>
                  <a:lnTo>
                    <a:pt x="11" y="1112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76920" y="2894040"/>
              <a:ext cx="466560" cy="525600"/>
            </a:xfrm>
            <a:custGeom>
              <a:avLst/>
              <a:gdLst/>
              <a:ahLst/>
              <a:rect l="l" t="t" r="r" b="b"/>
              <a:pathLst>
                <a:path w="882" h="993">
                  <a:moveTo>
                    <a:pt x="0" y="179"/>
                  </a:moveTo>
                  <a:lnTo>
                    <a:pt x="80" y="865"/>
                  </a:lnTo>
                  <a:lnTo>
                    <a:pt x="97" y="864"/>
                  </a:lnTo>
                  <a:lnTo>
                    <a:pt x="116" y="877"/>
                  </a:lnTo>
                  <a:lnTo>
                    <a:pt x="130" y="877"/>
                  </a:lnTo>
                  <a:lnTo>
                    <a:pt x="152" y="864"/>
                  </a:lnTo>
                  <a:lnTo>
                    <a:pt x="194" y="894"/>
                  </a:lnTo>
                  <a:lnTo>
                    <a:pt x="209" y="931"/>
                  </a:lnTo>
                  <a:lnTo>
                    <a:pt x="241" y="946"/>
                  </a:lnTo>
                  <a:lnTo>
                    <a:pt x="283" y="942"/>
                  </a:lnTo>
                  <a:lnTo>
                    <a:pt x="326" y="971"/>
                  </a:lnTo>
                  <a:lnTo>
                    <a:pt x="343" y="952"/>
                  </a:lnTo>
                  <a:lnTo>
                    <a:pt x="356" y="946"/>
                  </a:lnTo>
                  <a:lnTo>
                    <a:pt x="395" y="962"/>
                  </a:lnTo>
                  <a:lnTo>
                    <a:pt x="425" y="959"/>
                  </a:lnTo>
                  <a:lnTo>
                    <a:pt x="430" y="952"/>
                  </a:lnTo>
                  <a:lnTo>
                    <a:pt x="446" y="945"/>
                  </a:lnTo>
                  <a:lnTo>
                    <a:pt x="450" y="931"/>
                  </a:lnTo>
                  <a:lnTo>
                    <a:pt x="476" y="914"/>
                  </a:lnTo>
                  <a:lnTo>
                    <a:pt x="489" y="930"/>
                  </a:lnTo>
                  <a:lnTo>
                    <a:pt x="507" y="961"/>
                  </a:lnTo>
                  <a:lnTo>
                    <a:pt x="533" y="965"/>
                  </a:lnTo>
                  <a:lnTo>
                    <a:pt x="554" y="982"/>
                  </a:lnTo>
                  <a:lnTo>
                    <a:pt x="564" y="993"/>
                  </a:lnTo>
                  <a:lnTo>
                    <a:pt x="590" y="990"/>
                  </a:lnTo>
                  <a:lnTo>
                    <a:pt x="611" y="953"/>
                  </a:lnTo>
                  <a:lnTo>
                    <a:pt x="623" y="943"/>
                  </a:lnTo>
                  <a:lnTo>
                    <a:pt x="626" y="914"/>
                  </a:lnTo>
                  <a:lnTo>
                    <a:pt x="623" y="883"/>
                  </a:lnTo>
                  <a:lnTo>
                    <a:pt x="644" y="820"/>
                  </a:lnTo>
                  <a:lnTo>
                    <a:pt x="661" y="820"/>
                  </a:lnTo>
                  <a:lnTo>
                    <a:pt x="678" y="851"/>
                  </a:lnTo>
                  <a:lnTo>
                    <a:pt x="703" y="823"/>
                  </a:lnTo>
                  <a:lnTo>
                    <a:pt x="695" y="793"/>
                  </a:lnTo>
                  <a:lnTo>
                    <a:pt x="716" y="747"/>
                  </a:lnTo>
                  <a:lnTo>
                    <a:pt x="733" y="729"/>
                  </a:lnTo>
                  <a:lnTo>
                    <a:pt x="736" y="717"/>
                  </a:lnTo>
                  <a:lnTo>
                    <a:pt x="752" y="700"/>
                  </a:lnTo>
                  <a:lnTo>
                    <a:pt x="770" y="704"/>
                  </a:lnTo>
                  <a:lnTo>
                    <a:pt x="793" y="697"/>
                  </a:lnTo>
                  <a:lnTo>
                    <a:pt x="796" y="688"/>
                  </a:lnTo>
                  <a:lnTo>
                    <a:pt x="833" y="643"/>
                  </a:lnTo>
                  <a:lnTo>
                    <a:pt x="844" y="639"/>
                  </a:lnTo>
                  <a:lnTo>
                    <a:pt x="868" y="616"/>
                  </a:lnTo>
                  <a:lnTo>
                    <a:pt x="866" y="586"/>
                  </a:lnTo>
                  <a:lnTo>
                    <a:pt x="861" y="571"/>
                  </a:lnTo>
                  <a:lnTo>
                    <a:pt x="861" y="552"/>
                  </a:lnTo>
                  <a:lnTo>
                    <a:pt x="869" y="527"/>
                  </a:lnTo>
                  <a:lnTo>
                    <a:pt x="882" y="433"/>
                  </a:lnTo>
                  <a:lnTo>
                    <a:pt x="844" y="413"/>
                  </a:lnTo>
                  <a:lnTo>
                    <a:pt x="874" y="388"/>
                  </a:lnTo>
                  <a:lnTo>
                    <a:pt x="865" y="360"/>
                  </a:lnTo>
                  <a:lnTo>
                    <a:pt x="878" y="347"/>
                  </a:lnTo>
                  <a:lnTo>
                    <a:pt x="882" y="352"/>
                  </a:lnTo>
                  <a:lnTo>
                    <a:pt x="823" y="0"/>
                  </a:lnTo>
                  <a:lnTo>
                    <a:pt x="723" y="50"/>
                  </a:lnTo>
                  <a:lnTo>
                    <a:pt x="678" y="79"/>
                  </a:lnTo>
                  <a:lnTo>
                    <a:pt x="661" y="92"/>
                  </a:lnTo>
                  <a:lnTo>
                    <a:pt x="604" y="155"/>
                  </a:lnTo>
                  <a:lnTo>
                    <a:pt x="584" y="164"/>
                  </a:lnTo>
                  <a:lnTo>
                    <a:pt x="569" y="163"/>
                  </a:lnTo>
                  <a:lnTo>
                    <a:pt x="537" y="163"/>
                  </a:lnTo>
                  <a:lnTo>
                    <a:pt x="516" y="170"/>
                  </a:lnTo>
                  <a:lnTo>
                    <a:pt x="470" y="208"/>
                  </a:lnTo>
                  <a:lnTo>
                    <a:pt x="452" y="205"/>
                  </a:lnTo>
                  <a:lnTo>
                    <a:pt x="413" y="191"/>
                  </a:lnTo>
                  <a:lnTo>
                    <a:pt x="403" y="197"/>
                  </a:lnTo>
                  <a:lnTo>
                    <a:pt x="389" y="195"/>
                  </a:lnTo>
                  <a:lnTo>
                    <a:pt x="400" y="179"/>
                  </a:lnTo>
                  <a:lnTo>
                    <a:pt x="391" y="176"/>
                  </a:lnTo>
                  <a:lnTo>
                    <a:pt x="361" y="172"/>
                  </a:lnTo>
                  <a:lnTo>
                    <a:pt x="301" y="151"/>
                  </a:lnTo>
                  <a:lnTo>
                    <a:pt x="288" y="145"/>
                  </a:lnTo>
                  <a:lnTo>
                    <a:pt x="259" y="154"/>
                  </a:lnTo>
                  <a:lnTo>
                    <a:pt x="259" y="14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14720" y="2305080"/>
              <a:ext cx="587520" cy="625320"/>
            </a:xfrm>
            <a:custGeom>
              <a:avLst/>
              <a:gdLst/>
              <a:ahLst/>
              <a:rect l="l" t="t" r="r" b="b"/>
              <a:pathLst>
                <a:path w="1110" h="1183">
                  <a:moveTo>
                    <a:pt x="470" y="1183"/>
                  </a:moveTo>
                  <a:lnTo>
                    <a:pt x="463" y="1159"/>
                  </a:lnTo>
                  <a:lnTo>
                    <a:pt x="443" y="1141"/>
                  </a:lnTo>
                  <a:lnTo>
                    <a:pt x="383" y="1120"/>
                  </a:lnTo>
                  <a:lnTo>
                    <a:pt x="365" y="1047"/>
                  </a:lnTo>
                  <a:lnTo>
                    <a:pt x="354" y="1013"/>
                  </a:lnTo>
                  <a:lnTo>
                    <a:pt x="371" y="990"/>
                  </a:lnTo>
                  <a:lnTo>
                    <a:pt x="371" y="973"/>
                  </a:lnTo>
                  <a:lnTo>
                    <a:pt x="349" y="951"/>
                  </a:lnTo>
                  <a:lnTo>
                    <a:pt x="337" y="920"/>
                  </a:lnTo>
                  <a:lnTo>
                    <a:pt x="332" y="870"/>
                  </a:lnTo>
                  <a:lnTo>
                    <a:pt x="332" y="836"/>
                  </a:lnTo>
                  <a:lnTo>
                    <a:pt x="324" y="823"/>
                  </a:lnTo>
                  <a:lnTo>
                    <a:pt x="266" y="782"/>
                  </a:lnTo>
                  <a:lnTo>
                    <a:pt x="213" y="740"/>
                  </a:lnTo>
                  <a:lnTo>
                    <a:pt x="193" y="701"/>
                  </a:lnTo>
                  <a:lnTo>
                    <a:pt x="135" y="674"/>
                  </a:lnTo>
                  <a:lnTo>
                    <a:pt x="124" y="668"/>
                  </a:lnTo>
                  <a:lnTo>
                    <a:pt x="121" y="654"/>
                  </a:lnTo>
                  <a:lnTo>
                    <a:pt x="114" y="646"/>
                  </a:lnTo>
                  <a:lnTo>
                    <a:pt x="64" y="640"/>
                  </a:lnTo>
                  <a:lnTo>
                    <a:pt x="59" y="628"/>
                  </a:lnTo>
                  <a:lnTo>
                    <a:pt x="38" y="615"/>
                  </a:lnTo>
                  <a:lnTo>
                    <a:pt x="27" y="598"/>
                  </a:lnTo>
                  <a:lnTo>
                    <a:pt x="27" y="527"/>
                  </a:lnTo>
                  <a:lnTo>
                    <a:pt x="33" y="482"/>
                  </a:lnTo>
                  <a:lnTo>
                    <a:pt x="29" y="457"/>
                  </a:lnTo>
                  <a:lnTo>
                    <a:pt x="46" y="427"/>
                  </a:lnTo>
                  <a:lnTo>
                    <a:pt x="27" y="393"/>
                  </a:lnTo>
                  <a:lnTo>
                    <a:pt x="0" y="377"/>
                  </a:lnTo>
                  <a:lnTo>
                    <a:pt x="13" y="339"/>
                  </a:lnTo>
                  <a:lnTo>
                    <a:pt x="20" y="332"/>
                  </a:lnTo>
                  <a:lnTo>
                    <a:pt x="20" y="308"/>
                  </a:lnTo>
                  <a:lnTo>
                    <a:pt x="76" y="263"/>
                  </a:lnTo>
                  <a:lnTo>
                    <a:pt x="93" y="257"/>
                  </a:lnTo>
                  <a:lnTo>
                    <a:pt x="109" y="241"/>
                  </a:lnTo>
                  <a:lnTo>
                    <a:pt x="102" y="97"/>
                  </a:lnTo>
                  <a:lnTo>
                    <a:pt x="115" y="87"/>
                  </a:lnTo>
                  <a:lnTo>
                    <a:pt x="128" y="67"/>
                  </a:lnTo>
                  <a:lnTo>
                    <a:pt x="149" y="77"/>
                  </a:lnTo>
                  <a:lnTo>
                    <a:pt x="173" y="82"/>
                  </a:lnTo>
                  <a:lnTo>
                    <a:pt x="206" y="78"/>
                  </a:lnTo>
                  <a:lnTo>
                    <a:pt x="257" y="49"/>
                  </a:lnTo>
                  <a:lnTo>
                    <a:pt x="348" y="2"/>
                  </a:lnTo>
                  <a:lnTo>
                    <a:pt x="365" y="0"/>
                  </a:lnTo>
                  <a:lnTo>
                    <a:pt x="373" y="6"/>
                  </a:lnTo>
                  <a:lnTo>
                    <a:pt x="373" y="30"/>
                  </a:lnTo>
                  <a:lnTo>
                    <a:pt x="365" y="45"/>
                  </a:lnTo>
                  <a:lnTo>
                    <a:pt x="363" y="55"/>
                  </a:lnTo>
                  <a:lnTo>
                    <a:pt x="351" y="93"/>
                  </a:lnTo>
                  <a:lnTo>
                    <a:pt x="388" y="74"/>
                  </a:lnTo>
                  <a:lnTo>
                    <a:pt x="406" y="76"/>
                  </a:lnTo>
                  <a:lnTo>
                    <a:pt x="428" y="97"/>
                  </a:lnTo>
                  <a:lnTo>
                    <a:pt x="449" y="94"/>
                  </a:lnTo>
                  <a:lnTo>
                    <a:pt x="459" y="108"/>
                  </a:lnTo>
                  <a:lnTo>
                    <a:pt x="484" y="112"/>
                  </a:lnTo>
                  <a:lnTo>
                    <a:pt x="500" y="122"/>
                  </a:lnTo>
                  <a:lnTo>
                    <a:pt x="508" y="154"/>
                  </a:lnTo>
                  <a:lnTo>
                    <a:pt x="521" y="160"/>
                  </a:lnTo>
                  <a:lnTo>
                    <a:pt x="693" y="196"/>
                  </a:lnTo>
                  <a:lnTo>
                    <a:pt x="716" y="196"/>
                  </a:lnTo>
                  <a:lnTo>
                    <a:pt x="754" y="226"/>
                  </a:lnTo>
                  <a:lnTo>
                    <a:pt x="779" y="224"/>
                  </a:lnTo>
                  <a:lnTo>
                    <a:pt x="786" y="235"/>
                  </a:lnTo>
                  <a:lnTo>
                    <a:pt x="793" y="228"/>
                  </a:lnTo>
                  <a:lnTo>
                    <a:pt x="807" y="226"/>
                  </a:lnTo>
                  <a:lnTo>
                    <a:pt x="849" y="234"/>
                  </a:lnTo>
                  <a:lnTo>
                    <a:pt x="878" y="244"/>
                  </a:lnTo>
                  <a:lnTo>
                    <a:pt x="890" y="253"/>
                  </a:lnTo>
                  <a:lnTo>
                    <a:pt x="884" y="260"/>
                  </a:lnTo>
                  <a:lnTo>
                    <a:pt x="883" y="269"/>
                  </a:lnTo>
                  <a:lnTo>
                    <a:pt x="911" y="277"/>
                  </a:lnTo>
                  <a:lnTo>
                    <a:pt x="946" y="293"/>
                  </a:lnTo>
                  <a:lnTo>
                    <a:pt x="948" y="318"/>
                  </a:lnTo>
                  <a:lnTo>
                    <a:pt x="940" y="383"/>
                  </a:lnTo>
                  <a:lnTo>
                    <a:pt x="947" y="386"/>
                  </a:lnTo>
                  <a:lnTo>
                    <a:pt x="977" y="380"/>
                  </a:lnTo>
                  <a:lnTo>
                    <a:pt x="983" y="383"/>
                  </a:lnTo>
                  <a:lnTo>
                    <a:pt x="979" y="399"/>
                  </a:lnTo>
                  <a:lnTo>
                    <a:pt x="968" y="412"/>
                  </a:lnTo>
                  <a:lnTo>
                    <a:pt x="977" y="438"/>
                  </a:lnTo>
                  <a:lnTo>
                    <a:pt x="1006" y="457"/>
                  </a:lnTo>
                  <a:lnTo>
                    <a:pt x="999" y="462"/>
                  </a:lnTo>
                  <a:lnTo>
                    <a:pt x="960" y="501"/>
                  </a:lnTo>
                  <a:lnTo>
                    <a:pt x="937" y="553"/>
                  </a:lnTo>
                  <a:lnTo>
                    <a:pt x="927" y="585"/>
                  </a:lnTo>
                  <a:lnTo>
                    <a:pt x="924" y="603"/>
                  </a:lnTo>
                  <a:lnTo>
                    <a:pt x="932" y="610"/>
                  </a:lnTo>
                  <a:lnTo>
                    <a:pt x="960" y="594"/>
                  </a:lnTo>
                  <a:lnTo>
                    <a:pt x="991" y="537"/>
                  </a:lnTo>
                  <a:lnTo>
                    <a:pt x="1025" y="509"/>
                  </a:lnTo>
                  <a:lnTo>
                    <a:pt x="1042" y="501"/>
                  </a:lnTo>
                  <a:lnTo>
                    <a:pt x="1048" y="487"/>
                  </a:lnTo>
                  <a:lnTo>
                    <a:pt x="1062" y="472"/>
                  </a:lnTo>
                  <a:lnTo>
                    <a:pt x="1068" y="457"/>
                  </a:lnTo>
                  <a:lnTo>
                    <a:pt x="1066" y="438"/>
                  </a:lnTo>
                  <a:lnTo>
                    <a:pt x="1072" y="422"/>
                  </a:lnTo>
                  <a:lnTo>
                    <a:pt x="1079" y="417"/>
                  </a:lnTo>
                  <a:lnTo>
                    <a:pt x="1086" y="401"/>
                  </a:lnTo>
                  <a:lnTo>
                    <a:pt x="1095" y="392"/>
                  </a:lnTo>
                  <a:lnTo>
                    <a:pt x="1104" y="391"/>
                  </a:lnTo>
                  <a:lnTo>
                    <a:pt x="1110" y="403"/>
                  </a:lnTo>
                  <a:lnTo>
                    <a:pt x="1107" y="433"/>
                  </a:lnTo>
                  <a:lnTo>
                    <a:pt x="1080" y="501"/>
                  </a:lnTo>
                  <a:lnTo>
                    <a:pt x="1066" y="520"/>
                  </a:lnTo>
                  <a:lnTo>
                    <a:pt x="1059" y="541"/>
                  </a:lnTo>
                  <a:lnTo>
                    <a:pt x="1060" y="556"/>
                  </a:lnTo>
                  <a:lnTo>
                    <a:pt x="1036" y="611"/>
                  </a:lnTo>
                  <a:lnTo>
                    <a:pt x="1036" y="660"/>
                  </a:lnTo>
                  <a:lnTo>
                    <a:pt x="1034" y="693"/>
                  </a:lnTo>
                  <a:lnTo>
                    <a:pt x="1010" y="720"/>
                  </a:lnTo>
                  <a:lnTo>
                    <a:pt x="1002" y="735"/>
                  </a:lnTo>
                  <a:lnTo>
                    <a:pt x="1010" y="771"/>
                  </a:lnTo>
                  <a:lnTo>
                    <a:pt x="1013" y="834"/>
                  </a:lnTo>
                  <a:lnTo>
                    <a:pt x="1002" y="850"/>
                  </a:lnTo>
                  <a:lnTo>
                    <a:pt x="983" y="918"/>
                  </a:lnTo>
                  <a:lnTo>
                    <a:pt x="996" y="1015"/>
                  </a:lnTo>
                  <a:lnTo>
                    <a:pt x="1023" y="1080"/>
                  </a:lnTo>
                  <a:lnTo>
                    <a:pt x="1016" y="1093"/>
                  </a:lnTo>
                  <a:lnTo>
                    <a:pt x="1021" y="1105"/>
                  </a:lnTo>
                  <a:lnTo>
                    <a:pt x="1017" y="1118"/>
                  </a:lnTo>
                  <a:lnTo>
                    <a:pt x="1021" y="1146"/>
                  </a:lnTo>
                  <a:lnTo>
                    <a:pt x="470" y="1183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51240" y="2211480"/>
              <a:ext cx="679680" cy="334800"/>
            </a:xfrm>
            <a:custGeom>
              <a:avLst/>
              <a:gdLst/>
              <a:ahLst/>
              <a:rect l="l" t="t" r="r" b="b"/>
              <a:pathLst>
                <a:path w="1283" h="631">
                  <a:moveTo>
                    <a:pt x="0" y="269"/>
                  </a:moveTo>
                  <a:lnTo>
                    <a:pt x="37" y="256"/>
                  </a:lnTo>
                  <a:lnTo>
                    <a:pt x="57" y="243"/>
                  </a:lnTo>
                  <a:lnTo>
                    <a:pt x="96" y="220"/>
                  </a:lnTo>
                  <a:lnTo>
                    <a:pt x="104" y="201"/>
                  </a:lnTo>
                  <a:lnTo>
                    <a:pt x="123" y="199"/>
                  </a:lnTo>
                  <a:lnTo>
                    <a:pt x="192" y="172"/>
                  </a:lnTo>
                  <a:lnTo>
                    <a:pt x="242" y="146"/>
                  </a:lnTo>
                  <a:lnTo>
                    <a:pt x="300" y="86"/>
                  </a:lnTo>
                  <a:lnTo>
                    <a:pt x="319" y="80"/>
                  </a:lnTo>
                  <a:lnTo>
                    <a:pt x="369" y="26"/>
                  </a:lnTo>
                  <a:lnTo>
                    <a:pt x="400" y="10"/>
                  </a:lnTo>
                  <a:lnTo>
                    <a:pt x="457" y="0"/>
                  </a:lnTo>
                  <a:lnTo>
                    <a:pt x="471" y="4"/>
                  </a:lnTo>
                  <a:lnTo>
                    <a:pt x="473" y="11"/>
                  </a:lnTo>
                  <a:lnTo>
                    <a:pt x="444" y="30"/>
                  </a:lnTo>
                  <a:lnTo>
                    <a:pt x="435" y="33"/>
                  </a:lnTo>
                  <a:lnTo>
                    <a:pt x="422" y="57"/>
                  </a:lnTo>
                  <a:lnTo>
                    <a:pt x="383" y="102"/>
                  </a:lnTo>
                  <a:lnTo>
                    <a:pt x="366" y="118"/>
                  </a:lnTo>
                  <a:lnTo>
                    <a:pt x="355" y="130"/>
                  </a:lnTo>
                  <a:lnTo>
                    <a:pt x="344" y="171"/>
                  </a:lnTo>
                  <a:lnTo>
                    <a:pt x="351" y="194"/>
                  </a:lnTo>
                  <a:lnTo>
                    <a:pt x="359" y="180"/>
                  </a:lnTo>
                  <a:lnTo>
                    <a:pt x="394" y="155"/>
                  </a:lnTo>
                  <a:lnTo>
                    <a:pt x="416" y="157"/>
                  </a:lnTo>
                  <a:lnTo>
                    <a:pt x="432" y="149"/>
                  </a:lnTo>
                  <a:lnTo>
                    <a:pt x="505" y="181"/>
                  </a:lnTo>
                  <a:lnTo>
                    <a:pt x="561" y="245"/>
                  </a:lnTo>
                  <a:lnTo>
                    <a:pt x="607" y="239"/>
                  </a:lnTo>
                  <a:lnTo>
                    <a:pt x="631" y="241"/>
                  </a:lnTo>
                  <a:lnTo>
                    <a:pt x="649" y="249"/>
                  </a:lnTo>
                  <a:lnTo>
                    <a:pt x="661" y="251"/>
                  </a:lnTo>
                  <a:lnTo>
                    <a:pt x="668" y="249"/>
                  </a:lnTo>
                  <a:lnTo>
                    <a:pt x="684" y="255"/>
                  </a:lnTo>
                  <a:lnTo>
                    <a:pt x="686" y="264"/>
                  </a:lnTo>
                  <a:lnTo>
                    <a:pt x="696" y="256"/>
                  </a:lnTo>
                  <a:lnTo>
                    <a:pt x="706" y="237"/>
                  </a:lnTo>
                  <a:lnTo>
                    <a:pt x="757" y="203"/>
                  </a:lnTo>
                  <a:lnTo>
                    <a:pt x="921" y="159"/>
                  </a:lnTo>
                  <a:lnTo>
                    <a:pt x="966" y="134"/>
                  </a:lnTo>
                  <a:lnTo>
                    <a:pt x="986" y="127"/>
                  </a:lnTo>
                  <a:lnTo>
                    <a:pt x="995" y="138"/>
                  </a:lnTo>
                  <a:lnTo>
                    <a:pt x="982" y="162"/>
                  </a:lnTo>
                  <a:lnTo>
                    <a:pt x="982" y="177"/>
                  </a:lnTo>
                  <a:lnTo>
                    <a:pt x="1002" y="216"/>
                  </a:lnTo>
                  <a:lnTo>
                    <a:pt x="1017" y="220"/>
                  </a:lnTo>
                  <a:lnTo>
                    <a:pt x="1024" y="214"/>
                  </a:lnTo>
                  <a:lnTo>
                    <a:pt x="1050" y="216"/>
                  </a:lnTo>
                  <a:lnTo>
                    <a:pt x="1065" y="210"/>
                  </a:lnTo>
                  <a:lnTo>
                    <a:pt x="1117" y="204"/>
                  </a:lnTo>
                  <a:lnTo>
                    <a:pt x="1139" y="219"/>
                  </a:lnTo>
                  <a:lnTo>
                    <a:pt x="1160" y="261"/>
                  </a:lnTo>
                  <a:lnTo>
                    <a:pt x="1176" y="277"/>
                  </a:lnTo>
                  <a:lnTo>
                    <a:pt x="1219" y="296"/>
                  </a:lnTo>
                  <a:lnTo>
                    <a:pt x="1261" y="283"/>
                  </a:lnTo>
                  <a:lnTo>
                    <a:pt x="1274" y="285"/>
                  </a:lnTo>
                  <a:lnTo>
                    <a:pt x="1282" y="294"/>
                  </a:lnTo>
                  <a:lnTo>
                    <a:pt x="1283" y="310"/>
                  </a:lnTo>
                  <a:lnTo>
                    <a:pt x="1269" y="328"/>
                  </a:lnTo>
                  <a:lnTo>
                    <a:pt x="1239" y="330"/>
                  </a:lnTo>
                  <a:lnTo>
                    <a:pt x="1226" y="326"/>
                  </a:lnTo>
                  <a:lnTo>
                    <a:pt x="1222" y="318"/>
                  </a:lnTo>
                  <a:lnTo>
                    <a:pt x="1214" y="318"/>
                  </a:lnTo>
                  <a:lnTo>
                    <a:pt x="1185" y="332"/>
                  </a:lnTo>
                  <a:lnTo>
                    <a:pt x="1168" y="326"/>
                  </a:lnTo>
                  <a:lnTo>
                    <a:pt x="1151" y="324"/>
                  </a:lnTo>
                  <a:lnTo>
                    <a:pt x="1106" y="334"/>
                  </a:lnTo>
                  <a:lnTo>
                    <a:pt x="1078" y="326"/>
                  </a:lnTo>
                  <a:lnTo>
                    <a:pt x="1068" y="334"/>
                  </a:lnTo>
                  <a:lnTo>
                    <a:pt x="1074" y="359"/>
                  </a:lnTo>
                  <a:lnTo>
                    <a:pt x="1068" y="367"/>
                  </a:lnTo>
                  <a:lnTo>
                    <a:pt x="1056" y="365"/>
                  </a:lnTo>
                  <a:lnTo>
                    <a:pt x="1027" y="339"/>
                  </a:lnTo>
                  <a:lnTo>
                    <a:pt x="958" y="332"/>
                  </a:lnTo>
                  <a:lnTo>
                    <a:pt x="945" y="334"/>
                  </a:lnTo>
                  <a:lnTo>
                    <a:pt x="926" y="329"/>
                  </a:lnTo>
                  <a:lnTo>
                    <a:pt x="880" y="361"/>
                  </a:lnTo>
                  <a:lnTo>
                    <a:pt x="869" y="361"/>
                  </a:lnTo>
                  <a:lnTo>
                    <a:pt x="852" y="370"/>
                  </a:lnTo>
                  <a:lnTo>
                    <a:pt x="844" y="380"/>
                  </a:lnTo>
                  <a:lnTo>
                    <a:pt x="835" y="385"/>
                  </a:lnTo>
                  <a:lnTo>
                    <a:pt x="809" y="378"/>
                  </a:lnTo>
                  <a:lnTo>
                    <a:pt x="779" y="385"/>
                  </a:lnTo>
                  <a:lnTo>
                    <a:pt x="776" y="407"/>
                  </a:lnTo>
                  <a:lnTo>
                    <a:pt x="769" y="420"/>
                  </a:lnTo>
                  <a:lnTo>
                    <a:pt x="711" y="473"/>
                  </a:lnTo>
                  <a:lnTo>
                    <a:pt x="703" y="468"/>
                  </a:lnTo>
                  <a:lnTo>
                    <a:pt x="697" y="460"/>
                  </a:lnTo>
                  <a:lnTo>
                    <a:pt x="722" y="427"/>
                  </a:lnTo>
                  <a:lnTo>
                    <a:pt x="719" y="411"/>
                  </a:lnTo>
                  <a:lnTo>
                    <a:pt x="690" y="411"/>
                  </a:lnTo>
                  <a:lnTo>
                    <a:pt x="674" y="441"/>
                  </a:lnTo>
                  <a:lnTo>
                    <a:pt x="662" y="456"/>
                  </a:lnTo>
                  <a:lnTo>
                    <a:pt x="650" y="438"/>
                  </a:lnTo>
                  <a:lnTo>
                    <a:pt x="644" y="412"/>
                  </a:lnTo>
                  <a:lnTo>
                    <a:pt x="640" y="416"/>
                  </a:lnTo>
                  <a:lnTo>
                    <a:pt x="634" y="454"/>
                  </a:lnTo>
                  <a:lnTo>
                    <a:pt x="611" y="489"/>
                  </a:lnTo>
                  <a:lnTo>
                    <a:pt x="601" y="528"/>
                  </a:lnTo>
                  <a:lnTo>
                    <a:pt x="587" y="552"/>
                  </a:lnTo>
                  <a:lnTo>
                    <a:pt x="560" y="593"/>
                  </a:lnTo>
                  <a:lnTo>
                    <a:pt x="560" y="620"/>
                  </a:lnTo>
                  <a:lnTo>
                    <a:pt x="556" y="631"/>
                  </a:lnTo>
                  <a:lnTo>
                    <a:pt x="528" y="613"/>
                  </a:lnTo>
                  <a:lnTo>
                    <a:pt x="518" y="587"/>
                  </a:lnTo>
                  <a:lnTo>
                    <a:pt x="530" y="574"/>
                  </a:lnTo>
                  <a:lnTo>
                    <a:pt x="534" y="557"/>
                  </a:lnTo>
                  <a:lnTo>
                    <a:pt x="528" y="555"/>
                  </a:lnTo>
                  <a:lnTo>
                    <a:pt x="498" y="561"/>
                  </a:lnTo>
                  <a:lnTo>
                    <a:pt x="490" y="557"/>
                  </a:lnTo>
                  <a:lnTo>
                    <a:pt x="499" y="492"/>
                  </a:lnTo>
                  <a:lnTo>
                    <a:pt x="497" y="468"/>
                  </a:lnTo>
                  <a:lnTo>
                    <a:pt x="461" y="452"/>
                  </a:lnTo>
                  <a:lnTo>
                    <a:pt x="434" y="443"/>
                  </a:lnTo>
                  <a:lnTo>
                    <a:pt x="435" y="435"/>
                  </a:lnTo>
                  <a:lnTo>
                    <a:pt x="441" y="427"/>
                  </a:lnTo>
                  <a:lnTo>
                    <a:pt x="429" y="418"/>
                  </a:lnTo>
                  <a:lnTo>
                    <a:pt x="400" y="408"/>
                  </a:lnTo>
                  <a:lnTo>
                    <a:pt x="357" y="401"/>
                  </a:lnTo>
                  <a:lnTo>
                    <a:pt x="344" y="402"/>
                  </a:lnTo>
                  <a:lnTo>
                    <a:pt x="337" y="410"/>
                  </a:lnTo>
                  <a:lnTo>
                    <a:pt x="330" y="399"/>
                  </a:lnTo>
                  <a:lnTo>
                    <a:pt x="305" y="401"/>
                  </a:lnTo>
                  <a:lnTo>
                    <a:pt x="267" y="370"/>
                  </a:lnTo>
                  <a:lnTo>
                    <a:pt x="244" y="370"/>
                  </a:lnTo>
                  <a:lnTo>
                    <a:pt x="71" y="334"/>
                  </a:lnTo>
                  <a:lnTo>
                    <a:pt x="59" y="329"/>
                  </a:lnTo>
                  <a:lnTo>
                    <a:pt x="51" y="297"/>
                  </a:lnTo>
                  <a:lnTo>
                    <a:pt x="35" y="287"/>
                  </a:lnTo>
                  <a:lnTo>
                    <a:pt x="10" y="282"/>
                  </a:lnTo>
                  <a:lnTo>
                    <a:pt x="0" y="269"/>
                  </a:lnTo>
                  <a:lnTo>
                    <a:pt x="0" y="269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83160" y="2982960"/>
              <a:ext cx="338040" cy="592200"/>
            </a:xfrm>
            <a:custGeom>
              <a:avLst/>
              <a:gdLst/>
              <a:ahLst/>
              <a:rect l="l" t="t" r="r" b="b"/>
              <a:pathLst>
                <a:path w="639" h="1121">
                  <a:moveTo>
                    <a:pt x="21" y="67"/>
                  </a:moveTo>
                  <a:lnTo>
                    <a:pt x="73" y="698"/>
                  </a:lnTo>
                  <a:lnTo>
                    <a:pt x="65" y="707"/>
                  </a:lnTo>
                  <a:lnTo>
                    <a:pt x="69" y="730"/>
                  </a:lnTo>
                  <a:lnTo>
                    <a:pt x="61" y="764"/>
                  </a:lnTo>
                  <a:lnTo>
                    <a:pt x="84" y="811"/>
                  </a:lnTo>
                  <a:lnTo>
                    <a:pt x="92" y="868"/>
                  </a:lnTo>
                  <a:lnTo>
                    <a:pt x="65" y="921"/>
                  </a:lnTo>
                  <a:lnTo>
                    <a:pt x="63" y="938"/>
                  </a:lnTo>
                  <a:lnTo>
                    <a:pt x="43" y="981"/>
                  </a:lnTo>
                  <a:lnTo>
                    <a:pt x="12" y="1010"/>
                  </a:lnTo>
                  <a:lnTo>
                    <a:pt x="12" y="1052"/>
                  </a:lnTo>
                  <a:lnTo>
                    <a:pt x="0" y="1098"/>
                  </a:lnTo>
                  <a:lnTo>
                    <a:pt x="0" y="1110"/>
                  </a:lnTo>
                  <a:lnTo>
                    <a:pt x="2" y="1119"/>
                  </a:lnTo>
                  <a:lnTo>
                    <a:pt x="4" y="1119"/>
                  </a:lnTo>
                  <a:lnTo>
                    <a:pt x="19" y="1121"/>
                  </a:lnTo>
                  <a:lnTo>
                    <a:pt x="34" y="1115"/>
                  </a:lnTo>
                  <a:lnTo>
                    <a:pt x="33" y="1110"/>
                  </a:lnTo>
                  <a:lnTo>
                    <a:pt x="40" y="1090"/>
                  </a:lnTo>
                  <a:lnTo>
                    <a:pt x="79" y="1092"/>
                  </a:lnTo>
                  <a:lnTo>
                    <a:pt x="130" y="1073"/>
                  </a:lnTo>
                  <a:lnTo>
                    <a:pt x="191" y="1103"/>
                  </a:lnTo>
                  <a:lnTo>
                    <a:pt x="198" y="1110"/>
                  </a:lnTo>
                  <a:lnTo>
                    <a:pt x="210" y="1104"/>
                  </a:lnTo>
                  <a:lnTo>
                    <a:pt x="223" y="1062"/>
                  </a:lnTo>
                  <a:lnTo>
                    <a:pt x="258" y="1048"/>
                  </a:lnTo>
                  <a:lnTo>
                    <a:pt x="271" y="1070"/>
                  </a:lnTo>
                  <a:lnTo>
                    <a:pt x="292" y="1084"/>
                  </a:lnTo>
                  <a:lnTo>
                    <a:pt x="310" y="1068"/>
                  </a:lnTo>
                  <a:lnTo>
                    <a:pt x="326" y="1014"/>
                  </a:lnTo>
                  <a:lnTo>
                    <a:pt x="339" y="997"/>
                  </a:lnTo>
                  <a:lnTo>
                    <a:pt x="353" y="1000"/>
                  </a:lnTo>
                  <a:lnTo>
                    <a:pt x="379" y="1027"/>
                  </a:lnTo>
                  <a:lnTo>
                    <a:pt x="430" y="1025"/>
                  </a:lnTo>
                  <a:lnTo>
                    <a:pt x="444" y="978"/>
                  </a:lnTo>
                  <a:lnTo>
                    <a:pt x="526" y="868"/>
                  </a:lnTo>
                  <a:lnTo>
                    <a:pt x="526" y="829"/>
                  </a:lnTo>
                  <a:lnTo>
                    <a:pt x="544" y="819"/>
                  </a:lnTo>
                  <a:lnTo>
                    <a:pt x="579" y="824"/>
                  </a:lnTo>
                  <a:lnTo>
                    <a:pt x="606" y="801"/>
                  </a:lnTo>
                  <a:lnTo>
                    <a:pt x="629" y="798"/>
                  </a:lnTo>
                  <a:lnTo>
                    <a:pt x="639" y="780"/>
                  </a:lnTo>
                  <a:lnTo>
                    <a:pt x="624" y="734"/>
                  </a:lnTo>
                  <a:lnTo>
                    <a:pt x="628" y="720"/>
                  </a:lnTo>
                  <a:lnTo>
                    <a:pt x="634" y="699"/>
                  </a:lnTo>
                  <a:lnTo>
                    <a:pt x="555" y="13"/>
                  </a:lnTo>
                  <a:lnTo>
                    <a:pt x="553" y="0"/>
                  </a:lnTo>
                  <a:lnTo>
                    <a:pt x="145" y="48"/>
                  </a:lnTo>
                  <a:lnTo>
                    <a:pt x="134" y="58"/>
                  </a:lnTo>
                  <a:lnTo>
                    <a:pt x="102" y="73"/>
                  </a:lnTo>
                  <a:lnTo>
                    <a:pt x="84" y="80"/>
                  </a:lnTo>
                  <a:lnTo>
                    <a:pt x="47" y="88"/>
                  </a:lnTo>
                  <a:lnTo>
                    <a:pt x="21" y="6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38640" y="3971880"/>
              <a:ext cx="393840" cy="687600"/>
            </a:xfrm>
            <a:custGeom>
              <a:avLst/>
              <a:gdLst/>
              <a:ahLst/>
              <a:rect l="l" t="t" r="r" b="b"/>
              <a:pathLst>
                <a:path w="743" h="1299">
                  <a:moveTo>
                    <a:pt x="686" y="0"/>
                  </a:moveTo>
                  <a:lnTo>
                    <a:pt x="240" y="33"/>
                  </a:lnTo>
                  <a:lnTo>
                    <a:pt x="237" y="48"/>
                  </a:lnTo>
                  <a:lnTo>
                    <a:pt x="197" y="85"/>
                  </a:lnTo>
                  <a:lnTo>
                    <a:pt x="181" y="126"/>
                  </a:lnTo>
                  <a:lnTo>
                    <a:pt x="185" y="168"/>
                  </a:lnTo>
                  <a:lnTo>
                    <a:pt x="178" y="189"/>
                  </a:lnTo>
                  <a:lnTo>
                    <a:pt x="141" y="215"/>
                  </a:lnTo>
                  <a:lnTo>
                    <a:pt x="114" y="255"/>
                  </a:lnTo>
                  <a:lnTo>
                    <a:pt x="103" y="266"/>
                  </a:lnTo>
                  <a:lnTo>
                    <a:pt x="103" y="300"/>
                  </a:lnTo>
                  <a:lnTo>
                    <a:pt x="83" y="323"/>
                  </a:lnTo>
                  <a:lnTo>
                    <a:pt x="83" y="350"/>
                  </a:lnTo>
                  <a:lnTo>
                    <a:pt x="70" y="386"/>
                  </a:lnTo>
                  <a:lnTo>
                    <a:pt x="48" y="423"/>
                  </a:lnTo>
                  <a:lnTo>
                    <a:pt x="57" y="463"/>
                  </a:lnTo>
                  <a:lnTo>
                    <a:pt x="77" y="485"/>
                  </a:lnTo>
                  <a:lnTo>
                    <a:pt x="80" y="510"/>
                  </a:lnTo>
                  <a:lnTo>
                    <a:pt x="87" y="517"/>
                  </a:lnTo>
                  <a:lnTo>
                    <a:pt x="87" y="532"/>
                  </a:lnTo>
                  <a:lnTo>
                    <a:pt x="74" y="538"/>
                  </a:lnTo>
                  <a:lnTo>
                    <a:pt x="70" y="563"/>
                  </a:lnTo>
                  <a:lnTo>
                    <a:pt x="72" y="576"/>
                  </a:lnTo>
                  <a:lnTo>
                    <a:pt x="70" y="599"/>
                  </a:lnTo>
                  <a:lnTo>
                    <a:pt x="99" y="652"/>
                  </a:lnTo>
                  <a:lnTo>
                    <a:pt x="103" y="700"/>
                  </a:lnTo>
                  <a:lnTo>
                    <a:pt x="115" y="730"/>
                  </a:lnTo>
                  <a:lnTo>
                    <a:pt x="130" y="744"/>
                  </a:lnTo>
                  <a:lnTo>
                    <a:pt x="133" y="766"/>
                  </a:lnTo>
                  <a:lnTo>
                    <a:pt x="103" y="785"/>
                  </a:lnTo>
                  <a:lnTo>
                    <a:pt x="95" y="795"/>
                  </a:lnTo>
                  <a:lnTo>
                    <a:pt x="82" y="850"/>
                  </a:lnTo>
                  <a:lnTo>
                    <a:pt x="40" y="915"/>
                  </a:lnTo>
                  <a:lnTo>
                    <a:pt x="4" y="1028"/>
                  </a:lnTo>
                  <a:lnTo>
                    <a:pt x="0" y="1110"/>
                  </a:lnTo>
                  <a:lnTo>
                    <a:pt x="417" y="1090"/>
                  </a:lnTo>
                  <a:lnTo>
                    <a:pt x="425" y="1104"/>
                  </a:lnTo>
                  <a:lnTo>
                    <a:pt x="416" y="1144"/>
                  </a:lnTo>
                  <a:lnTo>
                    <a:pt x="417" y="1204"/>
                  </a:lnTo>
                  <a:lnTo>
                    <a:pt x="461" y="1246"/>
                  </a:lnTo>
                  <a:lnTo>
                    <a:pt x="470" y="1299"/>
                  </a:lnTo>
                  <a:lnTo>
                    <a:pt x="499" y="1299"/>
                  </a:lnTo>
                  <a:lnTo>
                    <a:pt x="543" y="1262"/>
                  </a:lnTo>
                  <a:lnTo>
                    <a:pt x="647" y="1231"/>
                  </a:lnTo>
                  <a:lnTo>
                    <a:pt x="669" y="1239"/>
                  </a:lnTo>
                  <a:lnTo>
                    <a:pt x="706" y="1227"/>
                  </a:lnTo>
                  <a:lnTo>
                    <a:pt x="714" y="1237"/>
                  </a:lnTo>
                  <a:lnTo>
                    <a:pt x="733" y="1245"/>
                  </a:lnTo>
                  <a:lnTo>
                    <a:pt x="743" y="1239"/>
                  </a:lnTo>
                  <a:lnTo>
                    <a:pt x="696" y="843"/>
                  </a:lnTo>
                  <a:lnTo>
                    <a:pt x="691" y="807"/>
                  </a:lnTo>
                  <a:lnTo>
                    <a:pt x="706" y="26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21400" y="4468680"/>
              <a:ext cx="1017360" cy="770040"/>
            </a:xfrm>
            <a:custGeom>
              <a:avLst/>
              <a:gdLst/>
              <a:ahLst/>
              <a:rect l="l" t="t" r="r" b="b"/>
              <a:pathLst>
                <a:path w="1923" h="1454">
                  <a:moveTo>
                    <a:pt x="590" y="52"/>
                  </a:moveTo>
                  <a:lnTo>
                    <a:pt x="5" y="109"/>
                  </a:lnTo>
                  <a:lnTo>
                    <a:pt x="5" y="123"/>
                  </a:lnTo>
                  <a:lnTo>
                    <a:pt x="5" y="127"/>
                  </a:lnTo>
                  <a:lnTo>
                    <a:pt x="0" y="133"/>
                  </a:lnTo>
                  <a:lnTo>
                    <a:pt x="1" y="153"/>
                  </a:lnTo>
                  <a:lnTo>
                    <a:pt x="20" y="177"/>
                  </a:lnTo>
                  <a:lnTo>
                    <a:pt x="30" y="188"/>
                  </a:lnTo>
                  <a:lnTo>
                    <a:pt x="36" y="188"/>
                  </a:lnTo>
                  <a:lnTo>
                    <a:pt x="54" y="202"/>
                  </a:lnTo>
                  <a:lnTo>
                    <a:pt x="58" y="213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60" y="249"/>
                  </a:lnTo>
                  <a:lnTo>
                    <a:pt x="64" y="256"/>
                  </a:lnTo>
                  <a:lnTo>
                    <a:pt x="64" y="260"/>
                  </a:lnTo>
                  <a:lnTo>
                    <a:pt x="50" y="272"/>
                  </a:lnTo>
                  <a:lnTo>
                    <a:pt x="51" y="289"/>
                  </a:lnTo>
                  <a:lnTo>
                    <a:pt x="57" y="291"/>
                  </a:lnTo>
                  <a:lnTo>
                    <a:pt x="91" y="282"/>
                  </a:lnTo>
                  <a:lnTo>
                    <a:pt x="103" y="274"/>
                  </a:lnTo>
                  <a:lnTo>
                    <a:pt x="113" y="241"/>
                  </a:lnTo>
                  <a:lnTo>
                    <a:pt x="121" y="231"/>
                  </a:lnTo>
                  <a:lnTo>
                    <a:pt x="133" y="237"/>
                  </a:lnTo>
                  <a:lnTo>
                    <a:pt x="145" y="237"/>
                  </a:lnTo>
                  <a:lnTo>
                    <a:pt x="150" y="231"/>
                  </a:lnTo>
                  <a:lnTo>
                    <a:pt x="161" y="234"/>
                  </a:lnTo>
                  <a:lnTo>
                    <a:pt x="160" y="243"/>
                  </a:lnTo>
                  <a:lnTo>
                    <a:pt x="138" y="263"/>
                  </a:lnTo>
                  <a:lnTo>
                    <a:pt x="140" y="265"/>
                  </a:lnTo>
                  <a:lnTo>
                    <a:pt x="160" y="257"/>
                  </a:lnTo>
                  <a:lnTo>
                    <a:pt x="187" y="255"/>
                  </a:lnTo>
                  <a:lnTo>
                    <a:pt x="291" y="222"/>
                  </a:lnTo>
                  <a:lnTo>
                    <a:pt x="309" y="220"/>
                  </a:lnTo>
                  <a:lnTo>
                    <a:pt x="309" y="228"/>
                  </a:lnTo>
                  <a:lnTo>
                    <a:pt x="289" y="245"/>
                  </a:lnTo>
                  <a:lnTo>
                    <a:pt x="297" y="249"/>
                  </a:lnTo>
                  <a:lnTo>
                    <a:pt x="341" y="253"/>
                  </a:lnTo>
                  <a:lnTo>
                    <a:pt x="388" y="270"/>
                  </a:lnTo>
                  <a:lnTo>
                    <a:pt x="437" y="292"/>
                  </a:lnTo>
                  <a:lnTo>
                    <a:pt x="447" y="297"/>
                  </a:lnTo>
                  <a:lnTo>
                    <a:pt x="445" y="282"/>
                  </a:lnTo>
                  <a:lnTo>
                    <a:pt x="456" y="274"/>
                  </a:lnTo>
                  <a:lnTo>
                    <a:pt x="464" y="285"/>
                  </a:lnTo>
                  <a:lnTo>
                    <a:pt x="491" y="295"/>
                  </a:lnTo>
                  <a:lnTo>
                    <a:pt x="499" y="298"/>
                  </a:lnTo>
                  <a:lnTo>
                    <a:pt x="499" y="304"/>
                  </a:lnTo>
                  <a:lnTo>
                    <a:pt x="491" y="308"/>
                  </a:lnTo>
                  <a:lnTo>
                    <a:pt x="495" y="317"/>
                  </a:lnTo>
                  <a:lnTo>
                    <a:pt x="552" y="363"/>
                  </a:lnTo>
                  <a:lnTo>
                    <a:pt x="557" y="379"/>
                  </a:lnTo>
                  <a:lnTo>
                    <a:pt x="556" y="390"/>
                  </a:lnTo>
                  <a:lnTo>
                    <a:pt x="550" y="400"/>
                  </a:lnTo>
                  <a:lnTo>
                    <a:pt x="544" y="394"/>
                  </a:lnTo>
                  <a:lnTo>
                    <a:pt x="538" y="384"/>
                  </a:lnTo>
                  <a:lnTo>
                    <a:pt x="533" y="395"/>
                  </a:lnTo>
                  <a:lnTo>
                    <a:pt x="538" y="405"/>
                  </a:lnTo>
                  <a:lnTo>
                    <a:pt x="550" y="412"/>
                  </a:lnTo>
                  <a:lnTo>
                    <a:pt x="631" y="388"/>
                  </a:lnTo>
                  <a:lnTo>
                    <a:pt x="635" y="379"/>
                  </a:lnTo>
                  <a:lnTo>
                    <a:pt x="664" y="375"/>
                  </a:lnTo>
                  <a:lnTo>
                    <a:pt x="729" y="323"/>
                  </a:lnTo>
                  <a:lnTo>
                    <a:pt x="773" y="322"/>
                  </a:lnTo>
                  <a:lnTo>
                    <a:pt x="773" y="312"/>
                  </a:lnTo>
                  <a:lnTo>
                    <a:pt x="766" y="300"/>
                  </a:lnTo>
                  <a:lnTo>
                    <a:pt x="779" y="272"/>
                  </a:lnTo>
                  <a:lnTo>
                    <a:pt x="851" y="263"/>
                  </a:lnTo>
                  <a:lnTo>
                    <a:pt x="955" y="317"/>
                  </a:lnTo>
                  <a:lnTo>
                    <a:pt x="959" y="331"/>
                  </a:lnTo>
                  <a:lnTo>
                    <a:pt x="986" y="352"/>
                  </a:lnTo>
                  <a:lnTo>
                    <a:pt x="1008" y="388"/>
                  </a:lnTo>
                  <a:lnTo>
                    <a:pt x="1072" y="434"/>
                  </a:lnTo>
                  <a:lnTo>
                    <a:pt x="1083" y="453"/>
                  </a:lnTo>
                  <a:lnTo>
                    <a:pt x="1103" y="473"/>
                  </a:lnTo>
                  <a:lnTo>
                    <a:pt x="1153" y="471"/>
                  </a:lnTo>
                  <a:lnTo>
                    <a:pt x="1190" y="526"/>
                  </a:lnTo>
                  <a:lnTo>
                    <a:pt x="1203" y="537"/>
                  </a:lnTo>
                  <a:lnTo>
                    <a:pt x="1197" y="553"/>
                  </a:lnTo>
                  <a:lnTo>
                    <a:pt x="1214" y="612"/>
                  </a:lnTo>
                  <a:lnTo>
                    <a:pt x="1207" y="676"/>
                  </a:lnTo>
                  <a:lnTo>
                    <a:pt x="1191" y="746"/>
                  </a:lnTo>
                  <a:lnTo>
                    <a:pt x="1192" y="802"/>
                  </a:lnTo>
                  <a:lnTo>
                    <a:pt x="1202" y="821"/>
                  </a:lnTo>
                  <a:lnTo>
                    <a:pt x="1242" y="847"/>
                  </a:lnTo>
                  <a:lnTo>
                    <a:pt x="1255" y="824"/>
                  </a:lnTo>
                  <a:lnTo>
                    <a:pt x="1242" y="814"/>
                  </a:lnTo>
                  <a:lnTo>
                    <a:pt x="1230" y="777"/>
                  </a:lnTo>
                  <a:lnTo>
                    <a:pt x="1234" y="770"/>
                  </a:lnTo>
                  <a:lnTo>
                    <a:pt x="1255" y="765"/>
                  </a:lnTo>
                  <a:lnTo>
                    <a:pt x="1273" y="802"/>
                  </a:lnTo>
                  <a:lnTo>
                    <a:pt x="1281" y="801"/>
                  </a:lnTo>
                  <a:lnTo>
                    <a:pt x="1287" y="783"/>
                  </a:lnTo>
                  <a:lnTo>
                    <a:pt x="1293" y="782"/>
                  </a:lnTo>
                  <a:lnTo>
                    <a:pt x="1304" y="789"/>
                  </a:lnTo>
                  <a:lnTo>
                    <a:pt x="1302" y="803"/>
                  </a:lnTo>
                  <a:lnTo>
                    <a:pt x="1292" y="821"/>
                  </a:lnTo>
                  <a:lnTo>
                    <a:pt x="1280" y="839"/>
                  </a:lnTo>
                  <a:lnTo>
                    <a:pt x="1265" y="883"/>
                  </a:lnTo>
                  <a:lnTo>
                    <a:pt x="1255" y="891"/>
                  </a:lnTo>
                  <a:lnTo>
                    <a:pt x="1253" y="910"/>
                  </a:lnTo>
                  <a:lnTo>
                    <a:pt x="1270" y="927"/>
                  </a:lnTo>
                  <a:lnTo>
                    <a:pt x="1291" y="948"/>
                  </a:lnTo>
                  <a:lnTo>
                    <a:pt x="1328" y="1026"/>
                  </a:lnTo>
                  <a:lnTo>
                    <a:pt x="1381" y="1062"/>
                  </a:lnTo>
                  <a:lnTo>
                    <a:pt x="1387" y="1060"/>
                  </a:lnTo>
                  <a:lnTo>
                    <a:pt x="1390" y="1042"/>
                  </a:lnTo>
                  <a:lnTo>
                    <a:pt x="1409" y="1042"/>
                  </a:lnTo>
                  <a:lnTo>
                    <a:pt x="1421" y="1073"/>
                  </a:lnTo>
                  <a:lnTo>
                    <a:pt x="1422" y="1093"/>
                  </a:lnTo>
                  <a:lnTo>
                    <a:pt x="1440" y="1136"/>
                  </a:lnTo>
                  <a:lnTo>
                    <a:pt x="1464" y="1150"/>
                  </a:lnTo>
                  <a:lnTo>
                    <a:pt x="1487" y="1156"/>
                  </a:lnTo>
                  <a:lnTo>
                    <a:pt x="1531" y="1268"/>
                  </a:lnTo>
                  <a:lnTo>
                    <a:pt x="1541" y="1276"/>
                  </a:lnTo>
                  <a:lnTo>
                    <a:pt x="1597" y="1287"/>
                  </a:lnTo>
                  <a:lnTo>
                    <a:pt x="1620" y="1300"/>
                  </a:lnTo>
                  <a:lnTo>
                    <a:pt x="1683" y="1378"/>
                  </a:lnTo>
                  <a:lnTo>
                    <a:pt x="1708" y="1397"/>
                  </a:lnTo>
                  <a:lnTo>
                    <a:pt x="1721" y="1398"/>
                  </a:lnTo>
                  <a:lnTo>
                    <a:pt x="1736" y="1407"/>
                  </a:lnTo>
                  <a:lnTo>
                    <a:pt x="1742" y="1423"/>
                  </a:lnTo>
                  <a:lnTo>
                    <a:pt x="1729" y="1426"/>
                  </a:lnTo>
                  <a:lnTo>
                    <a:pt x="1718" y="1422"/>
                  </a:lnTo>
                  <a:lnTo>
                    <a:pt x="1710" y="1422"/>
                  </a:lnTo>
                  <a:lnTo>
                    <a:pt x="1701" y="1426"/>
                  </a:lnTo>
                  <a:lnTo>
                    <a:pt x="1701" y="1435"/>
                  </a:lnTo>
                  <a:lnTo>
                    <a:pt x="1708" y="1447"/>
                  </a:lnTo>
                  <a:lnTo>
                    <a:pt x="1743" y="1454"/>
                  </a:lnTo>
                  <a:lnTo>
                    <a:pt x="1755" y="1443"/>
                  </a:lnTo>
                  <a:lnTo>
                    <a:pt x="1782" y="1441"/>
                  </a:lnTo>
                  <a:lnTo>
                    <a:pt x="1875" y="1404"/>
                  </a:lnTo>
                  <a:lnTo>
                    <a:pt x="1896" y="1369"/>
                  </a:lnTo>
                  <a:lnTo>
                    <a:pt x="1897" y="1360"/>
                  </a:lnTo>
                  <a:lnTo>
                    <a:pt x="1884" y="1312"/>
                  </a:lnTo>
                  <a:lnTo>
                    <a:pt x="1885" y="1285"/>
                  </a:lnTo>
                  <a:lnTo>
                    <a:pt x="1901" y="1240"/>
                  </a:lnTo>
                  <a:lnTo>
                    <a:pt x="1923" y="1245"/>
                  </a:lnTo>
                  <a:lnTo>
                    <a:pt x="1901" y="1154"/>
                  </a:lnTo>
                  <a:lnTo>
                    <a:pt x="1907" y="1108"/>
                  </a:lnTo>
                  <a:lnTo>
                    <a:pt x="1901" y="1022"/>
                  </a:lnTo>
                  <a:lnTo>
                    <a:pt x="1884" y="953"/>
                  </a:lnTo>
                  <a:lnTo>
                    <a:pt x="1870" y="929"/>
                  </a:lnTo>
                  <a:lnTo>
                    <a:pt x="1809" y="846"/>
                  </a:lnTo>
                  <a:lnTo>
                    <a:pt x="1768" y="751"/>
                  </a:lnTo>
                  <a:lnTo>
                    <a:pt x="1718" y="685"/>
                  </a:lnTo>
                  <a:lnTo>
                    <a:pt x="1719" y="676"/>
                  </a:lnTo>
                  <a:lnTo>
                    <a:pt x="1717" y="662"/>
                  </a:lnTo>
                  <a:lnTo>
                    <a:pt x="1699" y="625"/>
                  </a:lnTo>
                  <a:lnTo>
                    <a:pt x="1697" y="607"/>
                  </a:lnTo>
                  <a:lnTo>
                    <a:pt x="1714" y="584"/>
                  </a:lnTo>
                  <a:lnTo>
                    <a:pt x="1714" y="575"/>
                  </a:lnTo>
                  <a:lnTo>
                    <a:pt x="1650" y="487"/>
                  </a:lnTo>
                  <a:lnTo>
                    <a:pt x="1615" y="449"/>
                  </a:lnTo>
                  <a:lnTo>
                    <a:pt x="1589" y="434"/>
                  </a:lnTo>
                  <a:lnTo>
                    <a:pt x="1584" y="424"/>
                  </a:lnTo>
                  <a:lnTo>
                    <a:pt x="1540" y="367"/>
                  </a:lnTo>
                  <a:lnTo>
                    <a:pt x="1485" y="269"/>
                  </a:lnTo>
                  <a:lnTo>
                    <a:pt x="1470" y="209"/>
                  </a:lnTo>
                  <a:lnTo>
                    <a:pt x="1434" y="125"/>
                  </a:lnTo>
                  <a:lnTo>
                    <a:pt x="1434" y="115"/>
                  </a:lnTo>
                  <a:lnTo>
                    <a:pt x="1421" y="102"/>
                  </a:lnTo>
                  <a:lnTo>
                    <a:pt x="1412" y="96"/>
                  </a:lnTo>
                  <a:lnTo>
                    <a:pt x="1407" y="36"/>
                  </a:lnTo>
                  <a:lnTo>
                    <a:pt x="1397" y="15"/>
                  </a:lnTo>
                  <a:lnTo>
                    <a:pt x="1379" y="20"/>
                  </a:lnTo>
                  <a:lnTo>
                    <a:pt x="1339" y="19"/>
                  </a:lnTo>
                  <a:lnTo>
                    <a:pt x="1297" y="0"/>
                  </a:lnTo>
                  <a:lnTo>
                    <a:pt x="1277" y="13"/>
                  </a:lnTo>
                  <a:lnTo>
                    <a:pt x="1273" y="22"/>
                  </a:lnTo>
                  <a:lnTo>
                    <a:pt x="1271" y="42"/>
                  </a:lnTo>
                  <a:lnTo>
                    <a:pt x="1287" y="100"/>
                  </a:lnTo>
                  <a:lnTo>
                    <a:pt x="1281" y="130"/>
                  </a:lnTo>
                  <a:lnTo>
                    <a:pt x="1251" y="129"/>
                  </a:lnTo>
                  <a:lnTo>
                    <a:pt x="1242" y="117"/>
                  </a:lnTo>
                  <a:lnTo>
                    <a:pt x="1232" y="85"/>
                  </a:lnTo>
                  <a:lnTo>
                    <a:pt x="626" y="124"/>
                  </a:lnTo>
                  <a:lnTo>
                    <a:pt x="611" y="104"/>
                  </a:lnTo>
                  <a:lnTo>
                    <a:pt x="613" y="86"/>
                  </a:lnTo>
                  <a:lnTo>
                    <a:pt x="593" y="66"/>
                  </a:lnTo>
                  <a:lnTo>
                    <a:pt x="590" y="52"/>
                  </a:lnTo>
                  <a:lnTo>
                    <a:pt x="590" y="52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438800" y="3351240"/>
              <a:ext cx="820440" cy="420840"/>
            </a:xfrm>
            <a:custGeom>
              <a:avLst/>
              <a:gdLst/>
              <a:ahLst/>
              <a:rect l="l" t="t" r="r" b="b"/>
              <a:pathLst>
                <a:path w="1551" h="795">
                  <a:moveTo>
                    <a:pt x="0" y="795"/>
                  </a:moveTo>
                  <a:lnTo>
                    <a:pt x="310" y="770"/>
                  </a:lnTo>
                  <a:lnTo>
                    <a:pt x="309" y="743"/>
                  </a:lnTo>
                  <a:lnTo>
                    <a:pt x="304" y="728"/>
                  </a:lnTo>
                  <a:lnTo>
                    <a:pt x="338" y="726"/>
                  </a:lnTo>
                  <a:lnTo>
                    <a:pt x="351" y="733"/>
                  </a:lnTo>
                  <a:lnTo>
                    <a:pt x="1227" y="654"/>
                  </a:lnTo>
                  <a:lnTo>
                    <a:pt x="1243" y="640"/>
                  </a:lnTo>
                  <a:lnTo>
                    <a:pt x="1258" y="628"/>
                  </a:lnTo>
                  <a:lnTo>
                    <a:pt x="1333" y="591"/>
                  </a:lnTo>
                  <a:lnTo>
                    <a:pt x="1342" y="573"/>
                  </a:lnTo>
                  <a:lnTo>
                    <a:pt x="1384" y="543"/>
                  </a:lnTo>
                  <a:lnTo>
                    <a:pt x="1388" y="524"/>
                  </a:lnTo>
                  <a:lnTo>
                    <a:pt x="1392" y="514"/>
                  </a:lnTo>
                  <a:lnTo>
                    <a:pt x="1413" y="504"/>
                  </a:lnTo>
                  <a:lnTo>
                    <a:pt x="1413" y="478"/>
                  </a:lnTo>
                  <a:lnTo>
                    <a:pt x="1435" y="459"/>
                  </a:lnTo>
                  <a:lnTo>
                    <a:pt x="1543" y="364"/>
                  </a:lnTo>
                  <a:lnTo>
                    <a:pt x="1551" y="347"/>
                  </a:lnTo>
                  <a:lnTo>
                    <a:pt x="1535" y="347"/>
                  </a:lnTo>
                  <a:lnTo>
                    <a:pt x="1521" y="337"/>
                  </a:lnTo>
                  <a:lnTo>
                    <a:pt x="1515" y="335"/>
                  </a:lnTo>
                  <a:lnTo>
                    <a:pt x="1508" y="327"/>
                  </a:lnTo>
                  <a:lnTo>
                    <a:pt x="1488" y="317"/>
                  </a:lnTo>
                  <a:lnTo>
                    <a:pt x="1478" y="320"/>
                  </a:lnTo>
                  <a:lnTo>
                    <a:pt x="1471" y="316"/>
                  </a:lnTo>
                  <a:lnTo>
                    <a:pt x="1445" y="273"/>
                  </a:lnTo>
                  <a:lnTo>
                    <a:pt x="1399" y="217"/>
                  </a:lnTo>
                  <a:lnTo>
                    <a:pt x="1394" y="202"/>
                  </a:lnTo>
                  <a:lnTo>
                    <a:pt x="1398" y="185"/>
                  </a:lnTo>
                  <a:lnTo>
                    <a:pt x="1398" y="162"/>
                  </a:lnTo>
                  <a:lnTo>
                    <a:pt x="1394" y="129"/>
                  </a:lnTo>
                  <a:lnTo>
                    <a:pt x="1384" y="118"/>
                  </a:lnTo>
                  <a:lnTo>
                    <a:pt x="1362" y="102"/>
                  </a:lnTo>
                  <a:lnTo>
                    <a:pt x="1337" y="97"/>
                  </a:lnTo>
                  <a:lnTo>
                    <a:pt x="1319" y="66"/>
                  </a:lnTo>
                  <a:lnTo>
                    <a:pt x="1306" y="50"/>
                  </a:lnTo>
                  <a:lnTo>
                    <a:pt x="1280" y="68"/>
                  </a:lnTo>
                  <a:lnTo>
                    <a:pt x="1276" y="82"/>
                  </a:lnTo>
                  <a:lnTo>
                    <a:pt x="1260" y="88"/>
                  </a:lnTo>
                  <a:lnTo>
                    <a:pt x="1255" y="96"/>
                  </a:lnTo>
                  <a:lnTo>
                    <a:pt x="1225" y="99"/>
                  </a:lnTo>
                  <a:lnTo>
                    <a:pt x="1186" y="82"/>
                  </a:lnTo>
                  <a:lnTo>
                    <a:pt x="1173" y="88"/>
                  </a:lnTo>
                  <a:lnTo>
                    <a:pt x="1156" y="107"/>
                  </a:lnTo>
                  <a:lnTo>
                    <a:pt x="1113" y="78"/>
                  </a:lnTo>
                  <a:lnTo>
                    <a:pt x="1071" y="82"/>
                  </a:lnTo>
                  <a:lnTo>
                    <a:pt x="1039" y="68"/>
                  </a:lnTo>
                  <a:lnTo>
                    <a:pt x="1024" y="31"/>
                  </a:lnTo>
                  <a:lnTo>
                    <a:pt x="982" y="0"/>
                  </a:lnTo>
                  <a:lnTo>
                    <a:pt x="960" y="14"/>
                  </a:lnTo>
                  <a:lnTo>
                    <a:pt x="946" y="14"/>
                  </a:lnTo>
                  <a:lnTo>
                    <a:pt x="927" y="0"/>
                  </a:lnTo>
                  <a:lnTo>
                    <a:pt x="909" y="2"/>
                  </a:lnTo>
                  <a:lnTo>
                    <a:pt x="903" y="23"/>
                  </a:lnTo>
                  <a:lnTo>
                    <a:pt x="899" y="36"/>
                  </a:lnTo>
                  <a:lnTo>
                    <a:pt x="914" y="82"/>
                  </a:lnTo>
                  <a:lnTo>
                    <a:pt x="904" y="101"/>
                  </a:lnTo>
                  <a:lnTo>
                    <a:pt x="881" y="103"/>
                  </a:lnTo>
                  <a:lnTo>
                    <a:pt x="854" y="127"/>
                  </a:lnTo>
                  <a:lnTo>
                    <a:pt x="819" y="122"/>
                  </a:lnTo>
                  <a:lnTo>
                    <a:pt x="801" y="131"/>
                  </a:lnTo>
                  <a:lnTo>
                    <a:pt x="801" y="170"/>
                  </a:lnTo>
                  <a:lnTo>
                    <a:pt x="719" y="280"/>
                  </a:lnTo>
                  <a:lnTo>
                    <a:pt x="705" y="327"/>
                  </a:lnTo>
                  <a:lnTo>
                    <a:pt x="654" y="330"/>
                  </a:lnTo>
                  <a:lnTo>
                    <a:pt x="628" y="303"/>
                  </a:lnTo>
                  <a:lnTo>
                    <a:pt x="614" y="300"/>
                  </a:lnTo>
                  <a:lnTo>
                    <a:pt x="601" y="317"/>
                  </a:lnTo>
                  <a:lnTo>
                    <a:pt x="585" y="370"/>
                  </a:lnTo>
                  <a:lnTo>
                    <a:pt x="567" y="386"/>
                  </a:lnTo>
                  <a:lnTo>
                    <a:pt x="546" y="373"/>
                  </a:lnTo>
                  <a:lnTo>
                    <a:pt x="533" y="351"/>
                  </a:lnTo>
                  <a:lnTo>
                    <a:pt x="498" y="364"/>
                  </a:lnTo>
                  <a:lnTo>
                    <a:pt x="485" y="406"/>
                  </a:lnTo>
                  <a:lnTo>
                    <a:pt x="473" y="412"/>
                  </a:lnTo>
                  <a:lnTo>
                    <a:pt x="466" y="405"/>
                  </a:lnTo>
                  <a:lnTo>
                    <a:pt x="405" y="375"/>
                  </a:lnTo>
                  <a:lnTo>
                    <a:pt x="354" y="394"/>
                  </a:lnTo>
                  <a:lnTo>
                    <a:pt x="315" y="392"/>
                  </a:lnTo>
                  <a:lnTo>
                    <a:pt x="308" y="412"/>
                  </a:lnTo>
                  <a:lnTo>
                    <a:pt x="309" y="417"/>
                  </a:lnTo>
                  <a:lnTo>
                    <a:pt x="294" y="424"/>
                  </a:lnTo>
                  <a:lnTo>
                    <a:pt x="278" y="421"/>
                  </a:lnTo>
                  <a:lnTo>
                    <a:pt x="277" y="421"/>
                  </a:lnTo>
                  <a:lnTo>
                    <a:pt x="281" y="427"/>
                  </a:lnTo>
                  <a:lnTo>
                    <a:pt x="272" y="440"/>
                  </a:lnTo>
                  <a:lnTo>
                    <a:pt x="268" y="461"/>
                  </a:lnTo>
                  <a:lnTo>
                    <a:pt x="259" y="467"/>
                  </a:lnTo>
                  <a:lnTo>
                    <a:pt x="262" y="474"/>
                  </a:lnTo>
                  <a:lnTo>
                    <a:pt x="283" y="501"/>
                  </a:lnTo>
                  <a:lnTo>
                    <a:pt x="278" y="507"/>
                  </a:lnTo>
                  <a:lnTo>
                    <a:pt x="214" y="525"/>
                  </a:lnTo>
                  <a:lnTo>
                    <a:pt x="196" y="534"/>
                  </a:lnTo>
                  <a:lnTo>
                    <a:pt x="198" y="564"/>
                  </a:lnTo>
                  <a:lnTo>
                    <a:pt x="211" y="618"/>
                  </a:lnTo>
                  <a:lnTo>
                    <a:pt x="182" y="630"/>
                  </a:lnTo>
                  <a:lnTo>
                    <a:pt x="155" y="613"/>
                  </a:lnTo>
                  <a:lnTo>
                    <a:pt x="131" y="598"/>
                  </a:lnTo>
                  <a:lnTo>
                    <a:pt x="95" y="592"/>
                  </a:lnTo>
                  <a:lnTo>
                    <a:pt x="69" y="606"/>
                  </a:lnTo>
                  <a:lnTo>
                    <a:pt x="57" y="651"/>
                  </a:lnTo>
                  <a:lnTo>
                    <a:pt x="60" y="657"/>
                  </a:lnTo>
                  <a:lnTo>
                    <a:pt x="66" y="660"/>
                  </a:lnTo>
                  <a:lnTo>
                    <a:pt x="80" y="667"/>
                  </a:lnTo>
                  <a:lnTo>
                    <a:pt x="86" y="693"/>
                  </a:lnTo>
                  <a:lnTo>
                    <a:pt x="64" y="762"/>
                  </a:lnTo>
                  <a:lnTo>
                    <a:pt x="53" y="768"/>
                  </a:lnTo>
                  <a:lnTo>
                    <a:pt x="43" y="764"/>
                  </a:lnTo>
                  <a:lnTo>
                    <a:pt x="14" y="774"/>
                  </a:lnTo>
                  <a:lnTo>
                    <a:pt x="0" y="795"/>
                  </a:lnTo>
                  <a:lnTo>
                    <a:pt x="0" y="795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65720" y="3666960"/>
              <a:ext cx="917640" cy="322560"/>
            </a:xfrm>
            <a:custGeom>
              <a:avLst/>
              <a:gdLst/>
              <a:ahLst/>
              <a:rect l="l" t="t" r="r" b="b"/>
              <a:pathLst>
                <a:path w="1732" h="608">
                  <a:moveTo>
                    <a:pt x="1732" y="0"/>
                  </a:moveTo>
                  <a:lnTo>
                    <a:pt x="1379" y="42"/>
                  </a:lnTo>
                  <a:lnTo>
                    <a:pt x="1364" y="56"/>
                  </a:lnTo>
                  <a:lnTo>
                    <a:pt x="488" y="135"/>
                  </a:lnTo>
                  <a:lnTo>
                    <a:pt x="474" y="128"/>
                  </a:lnTo>
                  <a:lnTo>
                    <a:pt x="440" y="130"/>
                  </a:lnTo>
                  <a:lnTo>
                    <a:pt x="446" y="145"/>
                  </a:lnTo>
                  <a:lnTo>
                    <a:pt x="446" y="171"/>
                  </a:lnTo>
                  <a:lnTo>
                    <a:pt x="136" y="197"/>
                  </a:lnTo>
                  <a:lnTo>
                    <a:pt x="124" y="234"/>
                  </a:lnTo>
                  <a:lnTo>
                    <a:pt x="111" y="280"/>
                  </a:lnTo>
                  <a:lnTo>
                    <a:pt x="117" y="293"/>
                  </a:lnTo>
                  <a:lnTo>
                    <a:pt x="103" y="332"/>
                  </a:lnTo>
                  <a:lnTo>
                    <a:pt x="97" y="346"/>
                  </a:lnTo>
                  <a:lnTo>
                    <a:pt x="103" y="359"/>
                  </a:lnTo>
                  <a:lnTo>
                    <a:pt x="92" y="381"/>
                  </a:lnTo>
                  <a:lnTo>
                    <a:pt x="66" y="409"/>
                  </a:lnTo>
                  <a:lnTo>
                    <a:pt x="55" y="465"/>
                  </a:lnTo>
                  <a:lnTo>
                    <a:pt x="28" y="499"/>
                  </a:lnTo>
                  <a:lnTo>
                    <a:pt x="34" y="536"/>
                  </a:lnTo>
                  <a:lnTo>
                    <a:pt x="30" y="583"/>
                  </a:lnTo>
                  <a:lnTo>
                    <a:pt x="23" y="587"/>
                  </a:lnTo>
                  <a:lnTo>
                    <a:pt x="0" y="608"/>
                  </a:lnTo>
                  <a:lnTo>
                    <a:pt x="446" y="574"/>
                  </a:lnTo>
                  <a:lnTo>
                    <a:pt x="1004" y="526"/>
                  </a:lnTo>
                  <a:lnTo>
                    <a:pt x="1219" y="499"/>
                  </a:lnTo>
                  <a:lnTo>
                    <a:pt x="1225" y="440"/>
                  </a:lnTo>
                  <a:lnTo>
                    <a:pt x="1245" y="440"/>
                  </a:lnTo>
                  <a:lnTo>
                    <a:pt x="1254" y="437"/>
                  </a:lnTo>
                  <a:lnTo>
                    <a:pt x="1270" y="422"/>
                  </a:lnTo>
                  <a:lnTo>
                    <a:pt x="1271" y="406"/>
                  </a:lnTo>
                  <a:lnTo>
                    <a:pt x="1270" y="391"/>
                  </a:lnTo>
                  <a:lnTo>
                    <a:pt x="1276" y="377"/>
                  </a:lnTo>
                  <a:lnTo>
                    <a:pt x="1292" y="358"/>
                  </a:lnTo>
                  <a:lnTo>
                    <a:pt x="1337" y="339"/>
                  </a:lnTo>
                  <a:lnTo>
                    <a:pt x="1387" y="326"/>
                  </a:lnTo>
                  <a:lnTo>
                    <a:pt x="1437" y="283"/>
                  </a:lnTo>
                  <a:lnTo>
                    <a:pt x="1456" y="275"/>
                  </a:lnTo>
                  <a:lnTo>
                    <a:pt x="1487" y="246"/>
                  </a:lnTo>
                  <a:lnTo>
                    <a:pt x="1494" y="221"/>
                  </a:lnTo>
                  <a:lnTo>
                    <a:pt x="1499" y="218"/>
                  </a:lnTo>
                  <a:lnTo>
                    <a:pt x="1512" y="219"/>
                  </a:lnTo>
                  <a:lnTo>
                    <a:pt x="1522" y="208"/>
                  </a:lnTo>
                  <a:lnTo>
                    <a:pt x="1524" y="201"/>
                  </a:lnTo>
                  <a:lnTo>
                    <a:pt x="1541" y="183"/>
                  </a:lnTo>
                  <a:lnTo>
                    <a:pt x="1547" y="185"/>
                  </a:lnTo>
                  <a:lnTo>
                    <a:pt x="1562" y="197"/>
                  </a:lnTo>
                  <a:lnTo>
                    <a:pt x="1577" y="187"/>
                  </a:lnTo>
                  <a:lnTo>
                    <a:pt x="1582" y="177"/>
                  </a:lnTo>
                  <a:lnTo>
                    <a:pt x="1606" y="156"/>
                  </a:lnTo>
                  <a:lnTo>
                    <a:pt x="1624" y="150"/>
                  </a:lnTo>
                  <a:lnTo>
                    <a:pt x="1658" y="147"/>
                  </a:lnTo>
                  <a:lnTo>
                    <a:pt x="1695" y="88"/>
                  </a:lnTo>
                  <a:lnTo>
                    <a:pt x="1724" y="69"/>
                  </a:lnTo>
                  <a:lnTo>
                    <a:pt x="1726" y="53"/>
                  </a:lnTo>
                  <a:lnTo>
                    <a:pt x="1732" y="36"/>
                  </a:lnTo>
                  <a:lnTo>
                    <a:pt x="1726" y="16"/>
                  </a:lnTo>
                  <a:lnTo>
                    <a:pt x="1732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02240" y="3946680"/>
              <a:ext cx="430200" cy="684000"/>
            </a:xfrm>
            <a:custGeom>
              <a:avLst/>
              <a:gdLst/>
              <a:ahLst/>
              <a:rect l="l" t="t" r="r" b="b"/>
              <a:pathLst>
                <a:path w="814" h="1293">
                  <a:moveTo>
                    <a:pt x="0" y="48"/>
                  </a:moveTo>
                  <a:lnTo>
                    <a:pt x="21" y="74"/>
                  </a:lnTo>
                  <a:lnTo>
                    <a:pt x="6" y="855"/>
                  </a:lnTo>
                  <a:lnTo>
                    <a:pt x="10" y="891"/>
                  </a:lnTo>
                  <a:lnTo>
                    <a:pt x="57" y="1287"/>
                  </a:lnTo>
                  <a:lnTo>
                    <a:pt x="67" y="1280"/>
                  </a:lnTo>
                  <a:lnTo>
                    <a:pt x="80" y="1271"/>
                  </a:lnTo>
                  <a:lnTo>
                    <a:pt x="115" y="1283"/>
                  </a:lnTo>
                  <a:lnTo>
                    <a:pt x="122" y="1268"/>
                  </a:lnTo>
                  <a:lnTo>
                    <a:pt x="130" y="1211"/>
                  </a:lnTo>
                  <a:lnTo>
                    <a:pt x="145" y="1170"/>
                  </a:lnTo>
                  <a:lnTo>
                    <a:pt x="166" y="1211"/>
                  </a:lnTo>
                  <a:lnTo>
                    <a:pt x="164" y="1224"/>
                  </a:lnTo>
                  <a:lnTo>
                    <a:pt x="175" y="1255"/>
                  </a:lnTo>
                  <a:lnTo>
                    <a:pt x="200" y="1293"/>
                  </a:lnTo>
                  <a:lnTo>
                    <a:pt x="223" y="1293"/>
                  </a:lnTo>
                  <a:lnTo>
                    <a:pt x="242" y="1293"/>
                  </a:lnTo>
                  <a:lnTo>
                    <a:pt x="269" y="1264"/>
                  </a:lnTo>
                  <a:lnTo>
                    <a:pt x="273" y="1261"/>
                  </a:lnTo>
                  <a:lnTo>
                    <a:pt x="288" y="1249"/>
                  </a:lnTo>
                  <a:lnTo>
                    <a:pt x="288" y="1245"/>
                  </a:lnTo>
                  <a:lnTo>
                    <a:pt x="284" y="1238"/>
                  </a:lnTo>
                  <a:lnTo>
                    <a:pt x="271" y="1232"/>
                  </a:lnTo>
                  <a:lnTo>
                    <a:pt x="271" y="1224"/>
                  </a:lnTo>
                  <a:lnTo>
                    <a:pt x="282" y="1202"/>
                  </a:lnTo>
                  <a:lnTo>
                    <a:pt x="278" y="1191"/>
                  </a:lnTo>
                  <a:lnTo>
                    <a:pt x="260" y="1177"/>
                  </a:lnTo>
                  <a:lnTo>
                    <a:pt x="253" y="1177"/>
                  </a:lnTo>
                  <a:lnTo>
                    <a:pt x="244" y="1165"/>
                  </a:lnTo>
                  <a:lnTo>
                    <a:pt x="225" y="1142"/>
                  </a:lnTo>
                  <a:lnTo>
                    <a:pt x="223" y="1122"/>
                  </a:lnTo>
                  <a:lnTo>
                    <a:pt x="229" y="1116"/>
                  </a:lnTo>
                  <a:lnTo>
                    <a:pt x="228" y="1112"/>
                  </a:lnTo>
                  <a:lnTo>
                    <a:pt x="228" y="1098"/>
                  </a:lnTo>
                  <a:lnTo>
                    <a:pt x="814" y="1041"/>
                  </a:lnTo>
                  <a:lnTo>
                    <a:pt x="811" y="1024"/>
                  </a:lnTo>
                  <a:lnTo>
                    <a:pt x="784" y="983"/>
                  </a:lnTo>
                  <a:lnTo>
                    <a:pt x="786" y="914"/>
                  </a:lnTo>
                  <a:lnTo>
                    <a:pt x="762" y="855"/>
                  </a:lnTo>
                  <a:lnTo>
                    <a:pt x="757" y="808"/>
                  </a:lnTo>
                  <a:lnTo>
                    <a:pt x="772" y="777"/>
                  </a:lnTo>
                  <a:lnTo>
                    <a:pt x="772" y="741"/>
                  </a:lnTo>
                  <a:lnTo>
                    <a:pt x="792" y="713"/>
                  </a:lnTo>
                  <a:lnTo>
                    <a:pt x="795" y="706"/>
                  </a:lnTo>
                  <a:lnTo>
                    <a:pt x="774" y="682"/>
                  </a:lnTo>
                  <a:lnTo>
                    <a:pt x="780" y="659"/>
                  </a:lnTo>
                  <a:lnTo>
                    <a:pt x="768" y="644"/>
                  </a:lnTo>
                  <a:lnTo>
                    <a:pt x="748" y="631"/>
                  </a:lnTo>
                  <a:lnTo>
                    <a:pt x="741" y="613"/>
                  </a:lnTo>
                  <a:lnTo>
                    <a:pt x="727" y="574"/>
                  </a:lnTo>
                  <a:lnTo>
                    <a:pt x="715" y="560"/>
                  </a:lnTo>
                  <a:lnTo>
                    <a:pt x="55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95800" y="3201840"/>
              <a:ext cx="849240" cy="487440"/>
            </a:xfrm>
            <a:custGeom>
              <a:avLst/>
              <a:gdLst/>
              <a:ahLst/>
              <a:rect l="l" t="t" r="r" b="b"/>
              <a:pathLst>
                <a:path w="1606" h="921">
                  <a:moveTo>
                    <a:pt x="1585" y="672"/>
                  </a:moveTo>
                  <a:lnTo>
                    <a:pt x="1055" y="772"/>
                  </a:lnTo>
                  <a:lnTo>
                    <a:pt x="500" y="864"/>
                  </a:lnTo>
                  <a:lnTo>
                    <a:pt x="487" y="859"/>
                  </a:lnTo>
                  <a:lnTo>
                    <a:pt x="465" y="865"/>
                  </a:lnTo>
                  <a:lnTo>
                    <a:pt x="408" y="871"/>
                  </a:lnTo>
                  <a:lnTo>
                    <a:pt x="411" y="861"/>
                  </a:lnTo>
                  <a:lnTo>
                    <a:pt x="352" y="871"/>
                  </a:lnTo>
                  <a:lnTo>
                    <a:pt x="352" y="879"/>
                  </a:lnTo>
                  <a:lnTo>
                    <a:pt x="0" y="921"/>
                  </a:lnTo>
                  <a:lnTo>
                    <a:pt x="15" y="908"/>
                  </a:lnTo>
                  <a:lnTo>
                    <a:pt x="90" y="871"/>
                  </a:lnTo>
                  <a:lnTo>
                    <a:pt x="99" y="854"/>
                  </a:lnTo>
                  <a:lnTo>
                    <a:pt x="141" y="823"/>
                  </a:lnTo>
                  <a:lnTo>
                    <a:pt x="144" y="804"/>
                  </a:lnTo>
                  <a:lnTo>
                    <a:pt x="148" y="795"/>
                  </a:lnTo>
                  <a:lnTo>
                    <a:pt x="169" y="785"/>
                  </a:lnTo>
                  <a:lnTo>
                    <a:pt x="170" y="759"/>
                  </a:lnTo>
                  <a:lnTo>
                    <a:pt x="192" y="739"/>
                  </a:lnTo>
                  <a:lnTo>
                    <a:pt x="299" y="645"/>
                  </a:lnTo>
                  <a:lnTo>
                    <a:pt x="308" y="627"/>
                  </a:lnTo>
                  <a:lnTo>
                    <a:pt x="315" y="631"/>
                  </a:lnTo>
                  <a:lnTo>
                    <a:pt x="308" y="652"/>
                  </a:lnTo>
                  <a:lnTo>
                    <a:pt x="339" y="686"/>
                  </a:lnTo>
                  <a:lnTo>
                    <a:pt x="386" y="700"/>
                  </a:lnTo>
                  <a:lnTo>
                    <a:pt x="406" y="702"/>
                  </a:lnTo>
                  <a:lnTo>
                    <a:pt x="432" y="684"/>
                  </a:lnTo>
                  <a:lnTo>
                    <a:pt x="434" y="671"/>
                  </a:lnTo>
                  <a:lnTo>
                    <a:pt x="451" y="661"/>
                  </a:lnTo>
                  <a:lnTo>
                    <a:pt x="466" y="675"/>
                  </a:lnTo>
                  <a:lnTo>
                    <a:pt x="476" y="679"/>
                  </a:lnTo>
                  <a:lnTo>
                    <a:pt x="493" y="677"/>
                  </a:lnTo>
                  <a:lnTo>
                    <a:pt x="545" y="656"/>
                  </a:lnTo>
                  <a:lnTo>
                    <a:pt x="553" y="622"/>
                  </a:lnTo>
                  <a:lnTo>
                    <a:pt x="561" y="622"/>
                  </a:lnTo>
                  <a:lnTo>
                    <a:pt x="571" y="635"/>
                  </a:lnTo>
                  <a:lnTo>
                    <a:pt x="614" y="596"/>
                  </a:lnTo>
                  <a:lnTo>
                    <a:pt x="628" y="604"/>
                  </a:lnTo>
                  <a:lnTo>
                    <a:pt x="664" y="557"/>
                  </a:lnTo>
                  <a:lnTo>
                    <a:pt x="655" y="540"/>
                  </a:lnTo>
                  <a:lnTo>
                    <a:pt x="659" y="508"/>
                  </a:lnTo>
                  <a:lnTo>
                    <a:pt x="695" y="442"/>
                  </a:lnTo>
                  <a:lnTo>
                    <a:pt x="739" y="268"/>
                  </a:lnTo>
                  <a:lnTo>
                    <a:pt x="747" y="267"/>
                  </a:lnTo>
                  <a:lnTo>
                    <a:pt x="774" y="282"/>
                  </a:lnTo>
                  <a:lnTo>
                    <a:pt x="775" y="294"/>
                  </a:lnTo>
                  <a:lnTo>
                    <a:pt x="789" y="307"/>
                  </a:lnTo>
                  <a:lnTo>
                    <a:pt x="817" y="302"/>
                  </a:lnTo>
                  <a:lnTo>
                    <a:pt x="834" y="271"/>
                  </a:lnTo>
                  <a:lnTo>
                    <a:pt x="852" y="205"/>
                  </a:lnTo>
                  <a:lnTo>
                    <a:pt x="867" y="180"/>
                  </a:lnTo>
                  <a:lnTo>
                    <a:pt x="891" y="192"/>
                  </a:lnTo>
                  <a:lnTo>
                    <a:pt x="909" y="154"/>
                  </a:lnTo>
                  <a:lnTo>
                    <a:pt x="925" y="146"/>
                  </a:lnTo>
                  <a:lnTo>
                    <a:pt x="937" y="126"/>
                  </a:lnTo>
                  <a:lnTo>
                    <a:pt x="951" y="92"/>
                  </a:lnTo>
                  <a:lnTo>
                    <a:pt x="961" y="83"/>
                  </a:lnTo>
                  <a:lnTo>
                    <a:pt x="964" y="73"/>
                  </a:lnTo>
                  <a:lnTo>
                    <a:pt x="956" y="67"/>
                  </a:lnTo>
                  <a:lnTo>
                    <a:pt x="960" y="14"/>
                  </a:lnTo>
                  <a:lnTo>
                    <a:pt x="964" y="6"/>
                  </a:lnTo>
                  <a:lnTo>
                    <a:pt x="973" y="0"/>
                  </a:lnTo>
                  <a:lnTo>
                    <a:pt x="1067" y="60"/>
                  </a:lnTo>
                  <a:lnTo>
                    <a:pt x="1083" y="66"/>
                  </a:lnTo>
                  <a:lnTo>
                    <a:pt x="1087" y="62"/>
                  </a:lnTo>
                  <a:lnTo>
                    <a:pt x="1097" y="10"/>
                  </a:lnTo>
                  <a:lnTo>
                    <a:pt x="1112" y="7"/>
                  </a:lnTo>
                  <a:lnTo>
                    <a:pt x="1132" y="14"/>
                  </a:lnTo>
                  <a:lnTo>
                    <a:pt x="1152" y="20"/>
                  </a:lnTo>
                  <a:lnTo>
                    <a:pt x="1140" y="44"/>
                  </a:lnTo>
                  <a:lnTo>
                    <a:pt x="1160" y="67"/>
                  </a:lnTo>
                  <a:lnTo>
                    <a:pt x="1200" y="67"/>
                  </a:lnTo>
                  <a:lnTo>
                    <a:pt x="1219" y="85"/>
                  </a:lnTo>
                  <a:lnTo>
                    <a:pt x="1242" y="96"/>
                  </a:lnTo>
                  <a:lnTo>
                    <a:pt x="1262" y="120"/>
                  </a:lnTo>
                  <a:lnTo>
                    <a:pt x="1259" y="130"/>
                  </a:lnTo>
                  <a:lnTo>
                    <a:pt x="1234" y="178"/>
                  </a:lnTo>
                  <a:lnTo>
                    <a:pt x="1217" y="221"/>
                  </a:lnTo>
                  <a:lnTo>
                    <a:pt x="1222" y="248"/>
                  </a:lnTo>
                  <a:lnTo>
                    <a:pt x="1252" y="249"/>
                  </a:lnTo>
                  <a:lnTo>
                    <a:pt x="1279" y="233"/>
                  </a:lnTo>
                  <a:lnTo>
                    <a:pt x="1300" y="256"/>
                  </a:lnTo>
                  <a:lnTo>
                    <a:pt x="1315" y="264"/>
                  </a:lnTo>
                  <a:lnTo>
                    <a:pt x="1324" y="268"/>
                  </a:lnTo>
                  <a:lnTo>
                    <a:pt x="1341" y="281"/>
                  </a:lnTo>
                  <a:lnTo>
                    <a:pt x="1348" y="282"/>
                  </a:lnTo>
                  <a:lnTo>
                    <a:pt x="1362" y="276"/>
                  </a:lnTo>
                  <a:lnTo>
                    <a:pt x="1370" y="278"/>
                  </a:lnTo>
                  <a:lnTo>
                    <a:pt x="1419" y="303"/>
                  </a:lnTo>
                  <a:lnTo>
                    <a:pt x="1451" y="312"/>
                  </a:lnTo>
                  <a:lnTo>
                    <a:pt x="1471" y="334"/>
                  </a:lnTo>
                  <a:lnTo>
                    <a:pt x="1468" y="344"/>
                  </a:lnTo>
                  <a:lnTo>
                    <a:pt x="1457" y="354"/>
                  </a:lnTo>
                  <a:lnTo>
                    <a:pt x="1462" y="387"/>
                  </a:lnTo>
                  <a:lnTo>
                    <a:pt x="1457" y="394"/>
                  </a:lnTo>
                  <a:lnTo>
                    <a:pt x="1446" y="402"/>
                  </a:lnTo>
                  <a:lnTo>
                    <a:pt x="1446" y="404"/>
                  </a:lnTo>
                  <a:lnTo>
                    <a:pt x="1483" y="422"/>
                  </a:lnTo>
                  <a:lnTo>
                    <a:pt x="1495" y="447"/>
                  </a:lnTo>
                  <a:lnTo>
                    <a:pt x="1495" y="456"/>
                  </a:lnTo>
                  <a:lnTo>
                    <a:pt x="1487" y="467"/>
                  </a:lnTo>
                  <a:lnTo>
                    <a:pt x="1458" y="460"/>
                  </a:lnTo>
                  <a:lnTo>
                    <a:pt x="1454" y="473"/>
                  </a:lnTo>
                  <a:lnTo>
                    <a:pt x="1465" y="484"/>
                  </a:lnTo>
                  <a:lnTo>
                    <a:pt x="1470" y="484"/>
                  </a:lnTo>
                  <a:lnTo>
                    <a:pt x="1470" y="494"/>
                  </a:lnTo>
                  <a:lnTo>
                    <a:pt x="1452" y="499"/>
                  </a:lnTo>
                  <a:lnTo>
                    <a:pt x="1446" y="498"/>
                  </a:lnTo>
                  <a:lnTo>
                    <a:pt x="1444" y="505"/>
                  </a:lnTo>
                  <a:lnTo>
                    <a:pt x="1454" y="513"/>
                  </a:lnTo>
                  <a:lnTo>
                    <a:pt x="1477" y="517"/>
                  </a:lnTo>
                  <a:lnTo>
                    <a:pt x="1502" y="526"/>
                  </a:lnTo>
                  <a:lnTo>
                    <a:pt x="1508" y="539"/>
                  </a:lnTo>
                  <a:lnTo>
                    <a:pt x="1483" y="564"/>
                  </a:lnTo>
                  <a:lnTo>
                    <a:pt x="1470" y="564"/>
                  </a:lnTo>
                  <a:lnTo>
                    <a:pt x="1440" y="551"/>
                  </a:lnTo>
                  <a:lnTo>
                    <a:pt x="1440" y="564"/>
                  </a:lnTo>
                  <a:lnTo>
                    <a:pt x="1459" y="576"/>
                  </a:lnTo>
                  <a:lnTo>
                    <a:pt x="1482" y="593"/>
                  </a:lnTo>
                  <a:lnTo>
                    <a:pt x="1503" y="584"/>
                  </a:lnTo>
                  <a:lnTo>
                    <a:pt x="1525" y="564"/>
                  </a:lnTo>
                  <a:lnTo>
                    <a:pt x="1549" y="567"/>
                  </a:lnTo>
                  <a:lnTo>
                    <a:pt x="1577" y="564"/>
                  </a:lnTo>
                  <a:lnTo>
                    <a:pt x="1581" y="570"/>
                  </a:lnTo>
                  <a:lnTo>
                    <a:pt x="1606" y="645"/>
                  </a:lnTo>
                  <a:lnTo>
                    <a:pt x="1590" y="661"/>
                  </a:lnTo>
                  <a:lnTo>
                    <a:pt x="1584" y="661"/>
                  </a:lnTo>
                  <a:lnTo>
                    <a:pt x="1585" y="67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10120" y="3559320"/>
              <a:ext cx="984240" cy="422280"/>
            </a:xfrm>
            <a:custGeom>
              <a:avLst/>
              <a:gdLst/>
              <a:ahLst/>
              <a:rect l="l" t="t" r="r" b="b"/>
              <a:pathLst>
                <a:path w="1858" h="800">
                  <a:moveTo>
                    <a:pt x="0" y="705"/>
                  </a:moveTo>
                  <a:lnTo>
                    <a:pt x="6" y="646"/>
                  </a:lnTo>
                  <a:lnTo>
                    <a:pt x="26" y="646"/>
                  </a:lnTo>
                  <a:lnTo>
                    <a:pt x="35" y="642"/>
                  </a:lnTo>
                  <a:lnTo>
                    <a:pt x="51" y="628"/>
                  </a:lnTo>
                  <a:lnTo>
                    <a:pt x="52" y="611"/>
                  </a:lnTo>
                  <a:lnTo>
                    <a:pt x="51" y="597"/>
                  </a:lnTo>
                  <a:lnTo>
                    <a:pt x="57" y="583"/>
                  </a:lnTo>
                  <a:lnTo>
                    <a:pt x="73" y="564"/>
                  </a:lnTo>
                  <a:lnTo>
                    <a:pt x="118" y="545"/>
                  </a:lnTo>
                  <a:lnTo>
                    <a:pt x="168" y="532"/>
                  </a:lnTo>
                  <a:lnTo>
                    <a:pt x="218" y="489"/>
                  </a:lnTo>
                  <a:lnTo>
                    <a:pt x="237" y="480"/>
                  </a:lnTo>
                  <a:lnTo>
                    <a:pt x="268" y="452"/>
                  </a:lnTo>
                  <a:lnTo>
                    <a:pt x="275" y="427"/>
                  </a:lnTo>
                  <a:lnTo>
                    <a:pt x="280" y="424"/>
                  </a:lnTo>
                  <a:lnTo>
                    <a:pt x="293" y="425"/>
                  </a:lnTo>
                  <a:lnTo>
                    <a:pt x="303" y="414"/>
                  </a:lnTo>
                  <a:lnTo>
                    <a:pt x="305" y="407"/>
                  </a:lnTo>
                  <a:lnTo>
                    <a:pt x="322" y="389"/>
                  </a:lnTo>
                  <a:lnTo>
                    <a:pt x="328" y="391"/>
                  </a:lnTo>
                  <a:lnTo>
                    <a:pt x="343" y="402"/>
                  </a:lnTo>
                  <a:lnTo>
                    <a:pt x="358" y="392"/>
                  </a:lnTo>
                  <a:lnTo>
                    <a:pt x="363" y="383"/>
                  </a:lnTo>
                  <a:lnTo>
                    <a:pt x="387" y="362"/>
                  </a:lnTo>
                  <a:lnTo>
                    <a:pt x="406" y="355"/>
                  </a:lnTo>
                  <a:lnTo>
                    <a:pt x="439" y="353"/>
                  </a:lnTo>
                  <a:lnTo>
                    <a:pt x="476" y="294"/>
                  </a:lnTo>
                  <a:lnTo>
                    <a:pt x="505" y="275"/>
                  </a:lnTo>
                  <a:lnTo>
                    <a:pt x="507" y="259"/>
                  </a:lnTo>
                  <a:lnTo>
                    <a:pt x="513" y="241"/>
                  </a:lnTo>
                  <a:lnTo>
                    <a:pt x="507" y="222"/>
                  </a:lnTo>
                  <a:lnTo>
                    <a:pt x="513" y="206"/>
                  </a:lnTo>
                  <a:lnTo>
                    <a:pt x="513" y="199"/>
                  </a:lnTo>
                  <a:lnTo>
                    <a:pt x="572" y="188"/>
                  </a:lnTo>
                  <a:lnTo>
                    <a:pt x="568" y="199"/>
                  </a:lnTo>
                  <a:lnTo>
                    <a:pt x="625" y="193"/>
                  </a:lnTo>
                  <a:lnTo>
                    <a:pt x="647" y="187"/>
                  </a:lnTo>
                  <a:lnTo>
                    <a:pt x="661" y="191"/>
                  </a:lnTo>
                  <a:lnTo>
                    <a:pt x="1216" y="99"/>
                  </a:lnTo>
                  <a:lnTo>
                    <a:pt x="1745" y="0"/>
                  </a:lnTo>
                  <a:lnTo>
                    <a:pt x="1755" y="6"/>
                  </a:lnTo>
                  <a:lnTo>
                    <a:pt x="1759" y="16"/>
                  </a:lnTo>
                  <a:lnTo>
                    <a:pt x="1772" y="25"/>
                  </a:lnTo>
                  <a:lnTo>
                    <a:pt x="1783" y="27"/>
                  </a:lnTo>
                  <a:lnTo>
                    <a:pt x="1791" y="39"/>
                  </a:lnTo>
                  <a:lnTo>
                    <a:pt x="1799" y="49"/>
                  </a:lnTo>
                  <a:lnTo>
                    <a:pt x="1812" y="76"/>
                  </a:lnTo>
                  <a:lnTo>
                    <a:pt x="1806" y="82"/>
                  </a:lnTo>
                  <a:lnTo>
                    <a:pt x="1810" y="84"/>
                  </a:lnTo>
                  <a:lnTo>
                    <a:pt x="1801" y="84"/>
                  </a:lnTo>
                  <a:lnTo>
                    <a:pt x="1797" y="77"/>
                  </a:lnTo>
                  <a:lnTo>
                    <a:pt x="1783" y="80"/>
                  </a:lnTo>
                  <a:lnTo>
                    <a:pt x="1770" y="80"/>
                  </a:lnTo>
                  <a:lnTo>
                    <a:pt x="1760" y="76"/>
                  </a:lnTo>
                  <a:lnTo>
                    <a:pt x="1753" y="79"/>
                  </a:lnTo>
                  <a:lnTo>
                    <a:pt x="1759" y="88"/>
                  </a:lnTo>
                  <a:lnTo>
                    <a:pt x="1759" y="95"/>
                  </a:lnTo>
                  <a:lnTo>
                    <a:pt x="1708" y="118"/>
                  </a:lnTo>
                  <a:lnTo>
                    <a:pt x="1698" y="128"/>
                  </a:lnTo>
                  <a:lnTo>
                    <a:pt x="1676" y="147"/>
                  </a:lnTo>
                  <a:lnTo>
                    <a:pt x="1646" y="152"/>
                  </a:lnTo>
                  <a:lnTo>
                    <a:pt x="1639" y="173"/>
                  </a:lnTo>
                  <a:lnTo>
                    <a:pt x="1639" y="181"/>
                  </a:lnTo>
                  <a:lnTo>
                    <a:pt x="1645" y="181"/>
                  </a:lnTo>
                  <a:lnTo>
                    <a:pt x="1658" y="179"/>
                  </a:lnTo>
                  <a:lnTo>
                    <a:pt x="1688" y="162"/>
                  </a:lnTo>
                  <a:lnTo>
                    <a:pt x="1723" y="153"/>
                  </a:lnTo>
                  <a:lnTo>
                    <a:pt x="1742" y="140"/>
                  </a:lnTo>
                  <a:lnTo>
                    <a:pt x="1772" y="140"/>
                  </a:lnTo>
                  <a:lnTo>
                    <a:pt x="1776" y="147"/>
                  </a:lnTo>
                  <a:lnTo>
                    <a:pt x="1772" y="167"/>
                  </a:lnTo>
                  <a:lnTo>
                    <a:pt x="1776" y="175"/>
                  </a:lnTo>
                  <a:lnTo>
                    <a:pt x="1786" y="181"/>
                  </a:lnTo>
                  <a:lnTo>
                    <a:pt x="1797" y="177"/>
                  </a:lnTo>
                  <a:lnTo>
                    <a:pt x="1801" y="167"/>
                  </a:lnTo>
                  <a:lnTo>
                    <a:pt x="1821" y="141"/>
                  </a:lnTo>
                  <a:lnTo>
                    <a:pt x="1837" y="141"/>
                  </a:lnTo>
                  <a:lnTo>
                    <a:pt x="1848" y="167"/>
                  </a:lnTo>
                  <a:lnTo>
                    <a:pt x="1852" y="210"/>
                  </a:lnTo>
                  <a:lnTo>
                    <a:pt x="1858" y="222"/>
                  </a:lnTo>
                  <a:lnTo>
                    <a:pt x="1856" y="229"/>
                  </a:lnTo>
                  <a:lnTo>
                    <a:pt x="1829" y="251"/>
                  </a:lnTo>
                  <a:lnTo>
                    <a:pt x="1821" y="269"/>
                  </a:lnTo>
                  <a:lnTo>
                    <a:pt x="1819" y="279"/>
                  </a:lnTo>
                  <a:lnTo>
                    <a:pt x="1797" y="294"/>
                  </a:lnTo>
                  <a:lnTo>
                    <a:pt x="1783" y="303"/>
                  </a:lnTo>
                  <a:lnTo>
                    <a:pt x="1766" y="313"/>
                  </a:lnTo>
                  <a:lnTo>
                    <a:pt x="1730" y="308"/>
                  </a:lnTo>
                  <a:lnTo>
                    <a:pt x="1718" y="305"/>
                  </a:lnTo>
                  <a:lnTo>
                    <a:pt x="1717" y="310"/>
                  </a:lnTo>
                  <a:lnTo>
                    <a:pt x="1711" y="310"/>
                  </a:lnTo>
                  <a:lnTo>
                    <a:pt x="1705" y="292"/>
                  </a:lnTo>
                  <a:lnTo>
                    <a:pt x="1705" y="285"/>
                  </a:lnTo>
                  <a:lnTo>
                    <a:pt x="1699" y="279"/>
                  </a:lnTo>
                  <a:lnTo>
                    <a:pt x="1690" y="276"/>
                  </a:lnTo>
                  <a:lnTo>
                    <a:pt x="1684" y="282"/>
                  </a:lnTo>
                  <a:lnTo>
                    <a:pt x="1688" y="316"/>
                  </a:lnTo>
                  <a:lnTo>
                    <a:pt x="1684" y="324"/>
                  </a:lnTo>
                  <a:lnTo>
                    <a:pt x="1679" y="320"/>
                  </a:lnTo>
                  <a:lnTo>
                    <a:pt x="1690" y="336"/>
                  </a:lnTo>
                  <a:lnTo>
                    <a:pt x="1705" y="336"/>
                  </a:lnTo>
                  <a:lnTo>
                    <a:pt x="1718" y="353"/>
                  </a:lnTo>
                  <a:lnTo>
                    <a:pt x="1709" y="371"/>
                  </a:lnTo>
                  <a:lnTo>
                    <a:pt x="1717" y="381"/>
                  </a:lnTo>
                  <a:lnTo>
                    <a:pt x="1675" y="432"/>
                  </a:lnTo>
                  <a:lnTo>
                    <a:pt x="1664" y="434"/>
                  </a:lnTo>
                  <a:lnTo>
                    <a:pt x="1640" y="428"/>
                  </a:lnTo>
                  <a:lnTo>
                    <a:pt x="1625" y="428"/>
                  </a:lnTo>
                  <a:lnTo>
                    <a:pt x="1621" y="434"/>
                  </a:lnTo>
                  <a:lnTo>
                    <a:pt x="1636" y="444"/>
                  </a:lnTo>
                  <a:lnTo>
                    <a:pt x="1679" y="442"/>
                  </a:lnTo>
                  <a:lnTo>
                    <a:pt x="1708" y="436"/>
                  </a:lnTo>
                  <a:lnTo>
                    <a:pt x="1745" y="414"/>
                  </a:lnTo>
                  <a:lnTo>
                    <a:pt x="1752" y="401"/>
                  </a:lnTo>
                  <a:lnTo>
                    <a:pt x="1760" y="404"/>
                  </a:lnTo>
                  <a:lnTo>
                    <a:pt x="1775" y="417"/>
                  </a:lnTo>
                  <a:lnTo>
                    <a:pt x="1762" y="449"/>
                  </a:lnTo>
                  <a:lnTo>
                    <a:pt x="1728" y="487"/>
                  </a:lnTo>
                  <a:lnTo>
                    <a:pt x="1693" y="493"/>
                  </a:lnTo>
                  <a:lnTo>
                    <a:pt x="1676" y="501"/>
                  </a:lnTo>
                  <a:lnTo>
                    <a:pt x="1635" y="506"/>
                  </a:lnTo>
                  <a:lnTo>
                    <a:pt x="1598" y="566"/>
                  </a:lnTo>
                  <a:lnTo>
                    <a:pt x="1582" y="571"/>
                  </a:lnTo>
                  <a:lnTo>
                    <a:pt x="1582" y="578"/>
                  </a:lnTo>
                  <a:lnTo>
                    <a:pt x="1585" y="579"/>
                  </a:lnTo>
                  <a:lnTo>
                    <a:pt x="1542" y="605"/>
                  </a:lnTo>
                  <a:lnTo>
                    <a:pt x="1519" y="636"/>
                  </a:lnTo>
                  <a:lnTo>
                    <a:pt x="1497" y="688"/>
                  </a:lnTo>
                  <a:lnTo>
                    <a:pt x="1484" y="752"/>
                  </a:lnTo>
                  <a:lnTo>
                    <a:pt x="1475" y="766"/>
                  </a:lnTo>
                  <a:lnTo>
                    <a:pt x="1453" y="776"/>
                  </a:lnTo>
                  <a:lnTo>
                    <a:pt x="1366" y="792"/>
                  </a:lnTo>
                  <a:lnTo>
                    <a:pt x="1355" y="800"/>
                  </a:lnTo>
                  <a:lnTo>
                    <a:pt x="1072" y="603"/>
                  </a:lnTo>
                  <a:lnTo>
                    <a:pt x="832" y="634"/>
                  </a:lnTo>
                  <a:lnTo>
                    <a:pt x="826" y="600"/>
                  </a:lnTo>
                  <a:lnTo>
                    <a:pt x="780" y="566"/>
                  </a:lnTo>
                  <a:lnTo>
                    <a:pt x="762" y="578"/>
                  </a:lnTo>
                  <a:lnTo>
                    <a:pt x="754" y="569"/>
                  </a:lnTo>
                  <a:lnTo>
                    <a:pt x="757" y="558"/>
                  </a:lnTo>
                  <a:lnTo>
                    <a:pt x="755" y="552"/>
                  </a:lnTo>
                  <a:lnTo>
                    <a:pt x="476" y="585"/>
                  </a:lnTo>
                  <a:lnTo>
                    <a:pt x="467" y="583"/>
                  </a:lnTo>
                  <a:lnTo>
                    <a:pt x="462" y="591"/>
                  </a:lnTo>
                  <a:lnTo>
                    <a:pt x="406" y="619"/>
                  </a:lnTo>
                  <a:lnTo>
                    <a:pt x="404" y="631"/>
                  </a:lnTo>
                  <a:lnTo>
                    <a:pt x="384" y="631"/>
                  </a:lnTo>
                  <a:lnTo>
                    <a:pt x="321" y="662"/>
                  </a:lnTo>
                  <a:lnTo>
                    <a:pt x="0" y="705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57720" y="3851280"/>
              <a:ext cx="569880" cy="431640"/>
            </a:xfrm>
            <a:custGeom>
              <a:avLst/>
              <a:gdLst/>
              <a:ahLst/>
              <a:rect l="l" t="t" r="r" b="b"/>
              <a:pathLst>
                <a:path w="1078" h="818">
                  <a:moveTo>
                    <a:pt x="648" y="816"/>
                  </a:moveTo>
                  <a:lnTo>
                    <a:pt x="637" y="818"/>
                  </a:lnTo>
                  <a:lnTo>
                    <a:pt x="605" y="813"/>
                  </a:lnTo>
                  <a:lnTo>
                    <a:pt x="597" y="806"/>
                  </a:lnTo>
                  <a:lnTo>
                    <a:pt x="591" y="794"/>
                  </a:lnTo>
                  <a:lnTo>
                    <a:pt x="578" y="740"/>
                  </a:lnTo>
                  <a:lnTo>
                    <a:pt x="550" y="703"/>
                  </a:lnTo>
                  <a:lnTo>
                    <a:pt x="517" y="687"/>
                  </a:lnTo>
                  <a:lnTo>
                    <a:pt x="500" y="633"/>
                  </a:lnTo>
                  <a:lnTo>
                    <a:pt x="478" y="609"/>
                  </a:lnTo>
                  <a:lnTo>
                    <a:pt x="469" y="578"/>
                  </a:lnTo>
                  <a:lnTo>
                    <a:pt x="450" y="571"/>
                  </a:lnTo>
                  <a:lnTo>
                    <a:pt x="412" y="558"/>
                  </a:lnTo>
                  <a:lnTo>
                    <a:pt x="390" y="526"/>
                  </a:lnTo>
                  <a:lnTo>
                    <a:pt x="364" y="511"/>
                  </a:lnTo>
                  <a:lnTo>
                    <a:pt x="363" y="495"/>
                  </a:lnTo>
                  <a:lnTo>
                    <a:pt x="349" y="470"/>
                  </a:lnTo>
                  <a:lnTo>
                    <a:pt x="342" y="462"/>
                  </a:lnTo>
                  <a:lnTo>
                    <a:pt x="304" y="448"/>
                  </a:lnTo>
                  <a:lnTo>
                    <a:pt x="237" y="385"/>
                  </a:lnTo>
                  <a:lnTo>
                    <a:pt x="205" y="375"/>
                  </a:lnTo>
                  <a:lnTo>
                    <a:pt x="197" y="353"/>
                  </a:lnTo>
                  <a:lnTo>
                    <a:pt x="167" y="330"/>
                  </a:lnTo>
                  <a:lnTo>
                    <a:pt x="148" y="285"/>
                  </a:lnTo>
                  <a:lnTo>
                    <a:pt x="128" y="264"/>
                  </a:lnTo>
                  <a:lnTo>
                    <a:pt x="119" y="250"/>
                  </a:lnTo>
                  <a:lnTo>
                    <a:pt x="75" y="242"/>
                  </a:lnTo>
                  <a:lnTo>
                    <a:pt x="16" y="211"/>
                  </a:lnTo>
                  <a:lnTo>
                    <a:pt x="0" y="197"/>
                  </a:lnTo>
                  <a:lnTo>
                    <a:pt x="20" y="151"/>
                  </a:lnTo>
                  <a:lnTo>
                    <a:pt x="34" y="140"/>
                  </a:lnTo>
                  <a:lnTo>
                    <a:pt x="45" y="123"/>
                  </a:lnTo>
                  <a:lnTo>
                    <a:pt x="46" y="113"/>
                  </a:lnTo>
                  <a:lnTo>
                    <a:pt x="43" y="110"/>
                  </a:lnTo>
                  <a:lnTo>
                    <a:pt x="106" y="79"/>
                  </a:lnTo>
                  <a:lnTo>
                    <a:pt x="126" y="79"/>
                  </a:lnTo>
                  <a:lnTo>
                    <a:pt x="128" y="67"/>
                  </a:lnTo>
                  <a:lnTo>
                    <a:pt x="184" y="40"/>
                  </a:lnTo>
                  <a:lnTo>
                    <a:pt x="189" y="31"/>
                  </a:lnTo>
                  <a:lnTo>
                    <a:pt x="198" y="34"/>
                  </a:lnTo>
                  <a:lnTo>
                    <a:pt x="478" y="0"/>
                  </a:lnTo>
                  <a:lnTo>
                    <a:pt x="479" y="7"/>
                  </a:lnTo>
                  <a:lnTo>
                    <a:pt x="477" y="18"/>
                  </a:lnTo>
                  <a:lnTo>
                    <a:pt x="484" y="26"/>
                  </a:lnTo>
                  <a:lnTo>
                    <a:pt x="503" y="15"/>
                  </a:lnTo>
                  <a:lnTo>
                    <a:pt x="548" y="49"/>
                  </a:lnTo>
                  <a:lnTo>
                    <a:pt x="554" y="82"/>
                  </a:lnTo>
                  <a:lnTo>
                    <a:pt x="795" y="51"/>
                  </a:lnTo>
                  <a:lnTo>
                    <a:pt x="1078" y="249"/>
                  </a:lnTo>
                  <a:lnTo>
                    <a:pt x="1070" y="255"/>
                  </a:lnTo>
                  <a:lnTo>
                    <a:pt x="1045" y="270"/>
                  </a:lnTo>
                  <a:lnTo>
                    <a:pt x="1026" y="296"/>
                  </a:lnTo>
                  <a:lnTo>
                    <a:pt x="991" y="350"/>
                  </a:lnTo>
                  <a:lnTo>
                    <a:pt x="982" y="371"/>
                  </a:lnTo>
                  <a:lnTo>
                    <a:pt x="970" y="403"/>
                  </a:lnTo>
                  <a:lnTo>
                    <a:pt x="972" y="430"/>
                  </a:lnTo>
                  <a:lnTo>
                    <a:pt x="970" y="454"/>
                  </a:lnTo>
                  <a:lnTo>
                    <a:pt x="964" y="463"/>
                  </a:lnTo>
                  <a:lnTo>
                    <a:pt x="957" y="476"/>
                  </a:lnTo>
                  <a:lnTo>
                    <a:pt x="940" y="476"/>
                  </a:lnTo>
                  <a:lnTo>
                    <a:pt x="928" y="491"/>
                  </a:lnTo>
                  <a:lnTo>
                    <a:pt x="916" y="505"/>
                  </a:lnTo>
                  <a:lnTo>
                    <a:pt x="900" y="529"/>
                  </a:lnTo>
                  <a:lnTo>
                    <a:pt x="889" y="550"/>
                  </a:lnTo>
                  <a:lnTo>
                    <a:pt x="854" y="574"/>
                  </a:lnTo>
                  <a:lnTo>
                    <a:pt x="834" y="605"/>
                  </a:lnTo>
                  <a:lnTo>
                    <a:pt x="814" y="620"/>
                  </a:lnTo>
                  <a:lnTo>
                    <a:pt x="789" y="640"/>
                  </a:lnTo>
                  <a:lnTo>
                    <a:pt x="774" y="655"/>
                  </a:lnTo>
                  <a:lnTo>
                    <a:pt x="760" y="666"/>
                  </a:lnTo>
                  <a:lnTo>
                    <a:pt x="740" y="678"/>
                  </a:lnTo>
                  <a:lnTo>
                    <a:pt x="725" y="680"/>
                  </a:lnTo>
                  <a:lnTo>
                    <a:pt x="719" y="692"/>
                  </a:lnTo>
                  <a:lnTo>
                    <a:pt x="719" y="698"/>
                  </a:lnTo>
                  <a:lnTo>
                    <a:pt x="719" y="703"/>
                  </a:lnTo>
                  <a:lnTo>
                    <a:pt x="709" y="721"/>
                  </a:lnTo>
                  <a:lnTo>
                    <a:pt x="692" y="739"/>
                  </a:lnTo>
                  <a:lnTo>
                    <a:pt x="675" y="740"/>
                  </a:lnTo>
                  <a:lnTo>
                    <a:pt x="670" y="744"/>
                  </a:lnTo>
                  <a:lnTo>
                    <a:pt x="667" y="748"/>
                  </a:lnTo>
                  <a:lnTo>
                    <a:pt x="672" y="755"/>
                  </a:lnTo>
                  <a:lnTo>
                    <a:pt x="679" y="759"/>
                  </a:lnTo>
                  <a:lnTo>
                    <a:pt x="685" y="760"/>
                  </a:lnTo>
                  <a:lnTo>
                    <a:pt x="682" y="772"/>
                  </a:lnTo>
                  <a:lnTo>
                    <a:pt x="672" y="776"/>
                  </a:lnTo>
                  <a:lnTo>
                    <a:pt x="654" y="796"/>
                  </a:lnTo>
                  <a:lnTo>
                    <a:pt x="646" y="811"/>
                  </a:lnTo>
                  <a:lnTo>
                    <a:pt x="648" y="816"/>
                  </a:lnTo>
                  <a:lnTo>
                    <a:pt x="648" y="81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97440" y="3909960"/>
              <a:ext cx="611280" cy="628560"/>
            </a:xfrm>
            <a:custGeom>
              <a:avLst/>
              <a:gdLst/>
              <a:ahLst/>
              <a:rect l="l" t="t" r="r" b="b"/>
              <a:pathLst>
                <a:path w="1154" h="1189">
                  <a:moveTo>
                    <a:pt x="0" y="71"/>
                  </a:moveTo>
                  <a:lnTo>
                    <a:pt x="157" y="630"/>
                  </a:lnTo>
                  <a:lnTo>
                    <a:pt x="169" y="645"/>
                  </a:lnTo>
                  <a:lnTo>
                    <a:pt x="183" y="684"/>
                  </a:lnTo>
                  <a:lnTo>
                    <a:pt x="190" y="701"/>
                  </a:lnTo>
                  <a:lnTo>
                    <a:pt x="210" y="714"/>
                  </a:lnTo>
                  <a:lnTo>
                    <a:pt x="222" y="729"/>
                  </a:lnTo>
                  <a:lnTo>
                    <a:pt x="215" y="753"/>
                  </a:lnTo>
                  <a:lnTo>
                    <a:pt x="236" y="776"/>
                  </a:lnTo>
                  <a:lnTo>
                    <a:pt x="234" y="784"/>
                  </a:lnTo>
                  <a:lnTo>
                    <a:pt x="214" y="811"/>
                  </a:lnTo>
                  <a:lnTo>
                    <a:pt x="214" y="848"/>
                  </a:lnTo>
                  <a:lnTo>
                    <a:pt x="199" y="879"/>
                  </a:lnTo>
                  <a:lnTo>
                    <a:pt x="204" y="926"/>
                  </a:lnTo>
                  <a:lnTo>
                    <a:pt x="228" y="984"/>
                  </a:lnTo>
                  <a:lnTo>
                    <a:pt x="225" y="1053"/>
                  </a:lnTo>
                  <a:lnTo>
                    <a:pt x="253" y="1094"/>
                  </a:lnTo>
                  <a:lnTo>
                    <a:pt x="256" y="1112"/>
                  </a:lnTo>
                  <a:lnTo>
                    <a:pt x="259" y="1125"/>
                  </a:lnTo>
                  <a:lnTo>
                    <a:pt x="278" y="1146"/>
                  </a:lnTo>
                  <a:lnTo>
                    <a:pt x="277" y="1163"/>
                  </a:lnTo>
                  <a:lnTo>
                    <a:pt x="292" y="1183"/>
                  </a:lnTo>
                  <a:lnTo>
                    <a:pt x="897" y="1145"/>
                  </a:lnTo>
                  <a:lnTo>
                    <a:pt x="908" y="1176"/>
                  </a:lnTo>
                  <a:lnTo>
                    <a:pt x="917" y="1188"/>
                  </a:lnTo>
                  <a:lnTo>
                    <a:pt x="947" y="1189"/>
                  </a:lnTo>
                  <a:lnTo>
                    <a:pt x="953" y="1160"/>
                  </a:lnTo>
                  <a:lnTo>
                    <a:pt x="937" y="1101"/>
                  </a:lnTo>
                  <a:lnTo>
                    <a:pt x="939" y="1083"/>
                  </a:lnTo>
                  <a:lnTo>
                    <a:pt x="943" y="1072"/>
                  </a:lnTo>
                  <a:lnTo>
                    <a:pt x="962" y="1059"/>
                  </a:lnTo>
                  <a:lnTo>
                    <a:pt x="1004" y="1078"/>
                  </a:lnTo>
                  <a:lnTo>
                    <a:pt x="1044" y="1080"/>
                  </a:lnTo>
                  <a:lnTo>
                    <a:pt x="1063" y="1075"/>
                  </a:lnTo>
                  <a:lnTo>
                    <a:pt x="1056" y="1031"/>
                  </a:lnTo>
                  <a:lnTo>
                    <a:pt x="1048" y="1008"/>
                  </a:lnTo>
                  <a:lnTo>
                    <a:pt x="1048" y="978"/>
                  </a:lnTo>
                  <a:lnTo>
                    <a:pt x="1052" y="959"/>
                  </a:lnTo>
                  <a:lnTo>
                    <a:pt x="1085" y="866"/>
                  </a:lnTo>
                  <a:lnTo>
                    <a:pt x="1092" y="825"/>
                  </a:lnTo>
                  <a:lnTo>
                    <a:pt x="1104" y="790"/>
                  </a:lnTo>
                  <a:lnTo>
                    <a:pt x="1123" y="752"/>
                  </a:lnTo>
                  <a:lnTo>
                    <a:pt x="1143" y="731"/>
                  </a:lnTo>
                  <a:lnTo>
                    <a:pt x="1151" y="727"/>
                  </a:lnTo>
                  <a:lnTo>
                    <a:pt x="1154" y="716"/>
                  </a:lnTo>
                  <a:lnTo>
                    <a:pt x="1142" y="712"/>
                  </a:lnTo>
                  <a:lnTo>
                    <a:pt x="1141" y="706"/>
                  </a:lnTo>
                  <a:lnTo>
                    <a:pt x="1130" y="707"/>
                  </a:lnTo>
                  <a:lnTo>
                    <a:pt x="1098" y="704"/>
                  </a:lnTo>
                  <a:lnTo>
                    <a:pt x="1090" y="696"/>
                  </a:lnTo>
                  <a:lnTo>
                    <a:pt x="1084" y="684"/>
                  </a:lnTo>
                  <a:lnTo>
                    <a:pt x="1070" y="630"/>
                  </a:lnTo>
                  <a:lnTo>
                    <a:pt x="1043" y="593"/>
                  </a:lnTo>
                  <a:lnTo>
                    <a:pt x="1010" y="578"/>
                  </a:lnTo>
                  <a:lnTo>
                    <a:pt x="993" y="523"/>
                  </a:lnTo>
                  <a:lnTo>
                    <a:pt x="970" y="499"/>
                  </a:lnTo>
                  <a:lnTo>
                    <a:pt x="962" y="468"/>
                  </a:lnTo>
                  <a:lnTo>
                    <a:pt x="943" y="461"/>
                  </a:lnTo>
                  <a:lnTo>
                    <a:pt x="905" y="448"/>
                  </a:lnTo>
                  <a:lnTo>
                    <a:pt x="882" y="416"/>
                  </a:lnTo>
                  <a:lnTo>
                    <a:pt x="856" y="401"/>
                  </a:lnTo>
                  <a:lnTo>
                    <a:pt x="855" y="385"/>
                  </a:lnTo>
                  <a:lnTo>
                    <a:pt x="842" y="360"/>
                  </a:lnTo>
                  <a:lnTo>
                    <a:pt x="835" y="352"/>
                  </a:lnTo>
                  <a:lnTo>
                    <a:pt x="797" y="338"/>
                  </a:lnTo>
                  <a:lnTo>
                    <a:pt x="730" y="275"/>
                  </a:lnTo>
                  <a:lnTo>
                    <a:pt x="698" y="264"/>
                  </a:lnTo>
                  <a:lnTo>
                    <a:pt x="689" y="243"/>
                  </a:lnTo>
                  <a:lnTo>
                    <a:pt x="660" y="220"/>
                  </a:lnTo>
                  <a:lnTo>
                    <a:pt x="641" y="175"/>
                  </a:lnTo>
                  <a:lnTo>
                    <a:pt x="621" y="154"/>
                  </a:lnTo>
                  <a:lnTo>
                    <a:pt x="612" y="140"/>
                  </a:lnTo>
                  <a:lnTo>
                    <a:pt x="568" y="132"/>
                  </a:lnTo>
                  <a:lnTo>
                    <a:pt x="509" y="101"/>
                  </a:lnTo>
                  <a:lnTo>
                    <a:pt x="493" y="87"/>
                  </a:lnTo>
                  <a:lnTo>
                    <a:pt x="512" y="41"/>
                  </a:lnTo>
                  <a:lnTo>
                    <a:pt x="527" y="30"/>
                  </a:lnTo>
                  <a:lnTo>
                    <a:pt x="538" y="13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215" y="4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76800" y="3078000"/>
              <a:ext cx="500040" cy="495360"/>
            </a:xfrm>
            <a:custGeom>
              <a:avLst/>
              <a:gdLst/>
              <a:ahLst/>
              <a:rect l="l" t="t" r="r" b="b"/>
              <a:pathLst>
                <a:path w="945" h="937">
                  <a:moveTo>
                    <a:pt x="318" y="4"/>
                  </a:moveTo>
                  <a:lnTo>
                    <a:pt x="314" y="0"/>
                  </a:lnTo>
                  <a:lnTo>
                    <a:pt x="300" y="13"/>
                  </a:lnTo>
                  <a:lnTo>
                    <a:pt x="309" y="40"/>
                  </a:lnTo>
                  <a:lnTo>
                    <a:pt x="281" y="65"/>
                  </a:lnTo>
                  <a:lnTo>
                    <a:pt x="318" y="86"/>
                  </a:lnTo>
                  <a:lnTo>
                    <a:pt x="304" y="179"/>
                  </a:lnTo>
                  <a:lnTo>
                    <a:pt x="296" y="205"/>
                  </a:lnTo>
                  <a:lnTo>
                    <a:pt x="296" y="224"/>
                  </a:lnTo>
                  <a:lnTo>
                    <a:pt x="302" y="238"/>
                  </a:lnTo>
                  <a:lnTo>
                    <a:pt x="303" y="269"/>
                  </a:lnTo>
                  <a:lnTo>
                    <a:pt x="281" y="291"/>
                  </a:lnTo>
                  <a:lnTo>
                    <a:pt x="268" y="295"/>
                  </a:lnTo>
                  <a:lnTo>
                    <a:pt x="231" y="341"/>
                  </a:lnTo>
                  <a:lnTo>
                    <a:pt x="229" y="350"/>
                  </a:lnTo>
                  <a:lnTo>
                    <a:pt x="205" y="357"/>
                  </a:lnTo>
                  <a:lnTo>
                    <a:pt x="188" y="352"/>
                  </a:lnTo>
                  <a:lnTo>
                    <a:pt x="171" y="370"/>
                  </a:lnTo>
                  <a:lnTo>
                    <a:pt x="168" y="382"/>
                  </a:lnTo>
                  <a:lnTo>
                    <a:pt x="153" y="399"/>
                  </a:lnTo>
                  <a:lnTo>
                    <a:pt x="131" y="445"/>
                  </a:lnTo>
                  <a:lnTo>
                    <a:pt x="138" y="476"/>
                  </a:lnTo>
                  <a:lnTo>
                    <a:pt x="114" y="503"/>
                  </a:lnTo>
                  <a:lnTo>
                    <a:pt x="96" y="472"/>
                  </a:lnTo>
                  <a:lnTo>
                    <a:pt x="79" y="472"/>
                  </a:lnTo>
                  <a:lnTo>
                    <a:pt x="58" y="535"/>
                  </a:lnTo>
                  <a:lnTo>
                    <a:pt x="62" y="566"/>
                  </a:lnTo>
                  <a:lnTo>
                    <a:pt x="58" y="596"/>
                  </a:lnTo>
                  <a:lnTo>
                    <a:pt x="47" y="606"/>
                  </a:lnTo>
                  <a:lnTo>
                    <a:pt x="26" y="643"/>
                  </a:lnTo>
                  <a:lnTo>
                    <a:pt x="0" y="645"/>
                  </a:lnTo>
                  <a:lnTo>
                    <a:pt x="3" y="678"/>
                  </a:lnTo>
                  <a:lnTo>
                    <a:pt x="3" y="701"/>
                  </a:lnTo>
                  <a:lnTo>
                    <a:pt x="0" y="718"/>
                  </a:lnTo>
                  <a:lnTo>
                    <a:pt x="5" y="733"/>
                  </a:lnTo>
                  <a:lnTo>
                    <a:pt x="51" y="789"/>
                  </a:lnTo>
                  <a:lnTo>
                    <a:pt x="76" y="831"/>
                  </a:lnTo>
                  <a:lnTo>
                    <a:pt x="84" y="836"/>
                  </a:lnTo>
                  <a:lnTo>
                    <a:pt x="94" y="832"/>
                  </a:lnTo>
                  <a:lnTo>
                    <a:pt x="114" y="843"/>
                  </a:lnTo>
                  <a:lnTo>
                    <a:pt x="121" y="851"/>
                  </a:lnTo>
                  <a:lnTo>
                    <a:pt x="126" y="853"/>
                  </a:lnTo>
                  <a:lnTo>
                    <a:pt x="141" y="862"/>
                  </a:lnTo>
                  <a:lnTo>
                    <a:pt x="157" y="862"/>
                  </a:lnTo>
                  <a:lnTo>
                    <a:pt x="164" y="867"/>
                  </a:lnTo>
                  <a:lnTo>
                    <a:pt x="157" y="889"/>
                  </a:lnTo>
                  <a:lnTo>
                    <a:pt x="188" y="921"/>
                  </a:lnTo>
                  <a:lnTo>
                    <a:pt x="235" y="935"/>
                  </a:lnTo>
                  <a:lnTo>
                    <a:pt x="255" y="937"/>
                  </a:lnTo>
                  <a:lnTo>
                    <a:pt x="281" y="920"/>
                  </a:lnTo>
                  <a:lnTo>
                    <a:pt x="283" y="906"/>
                  </a:lnTo>
                  <a:lnTo>
                    <a:pt x="300" y="896"/>
                  </a:lnTo>
                  <a:lnTo>
                    <a:pt x="315" y="910"/>
                  </a:lnTo>
                  <a:lnTo>
                    <a:pt x="325" y="915"/>
                  </a:lnTo>
                  <a:lnTo>
                    <a:pt x="342" y="912"/>
                  </a:lnTo>
                  <a:lnTo>
                    <a:pt x="394" y="891"/>
                  </a:lnTo>
                  <a:lnTo>
                    <a:pt x="402" y="857"/>
                  </a:lnTo>
                  <a:lnTo>
                    <a:pt x="410" y="857"/>
                  </a:lnTo>
                  <a:lnTo>
                    <a:pt x="420" y="870"/>
                  </a:lnTo>
                  <a:lnTo>
                    <a:pt x="463" y="831"/>
                  </a:lnTo>
                  <a:lnTo>
                    <a:pt x="477" y="839"/>
                  </a:lnTo>
                  <a:lnTo>
                    <a:pt x="513" y="792"/>
                  </a:lnTo>
                  <a:lnTo>
                    <a:pt x="504" y="775"/>
                  </a:lnTo>
                  <a:lnTo>
                    <a:pt x="508" y="743"/>
                  </a:lnTo>
                  <a:lnTo>
                    <a:pt x="543" y="678"/>
                  </a:lnTo>
                  <a:lnTo>
                    <a:pt x="588" y="503"/>
                  </a:lnTo>
                  <a:lnTo>
                    <a:pt x="596" y="502"/>
                  </a:lnTo>
                  <a:lnTo>
                    <a:pt x="622" y="518"/>
                  </a:lnTo>
                  <a:lnTo>
                    <a:pt x="624" y="529"/>
                  </a:lnTo>
                  <a:lnTo>
                    <a:pt x="637" y="543"/>
                  </a:lnTo>
                  <a:lnTo>
                    <a:pt x="666" y="537"/>
                  </a:lnTo>
                  <a:lnTo>
                    <a:pt x="683" y="507"/>
                  </a:lnTo>
                  <a:lnTo>
                    <a:pt x="700" y="440"/>
                  </a:lnTo>
                  <a:lnTo>
                    <a:pt x="715" y="415"/>
                  </a:lnTo>
                  <a:lnTo>
                    <a:pt x="740" y="427"/>
                  </a:lnTo>
                  <a:lnTo>
                    <a:pt x="757" y="389"/>
                  </a:lnTo>
                  <a:lnTo>
                    <a:pt x="773" y="382"/>
                  </a:lnTo>
                  <a:lnTo>
                    <a:pt x="786" y="362"/>
                  </a:lnTo>
                  <a:lnTo>
                    <a:pt x="799" y="327"/>
                  </a:lnTo>
                  <a:lnTo>
                    <a:pt x="810" y="319"/>
                  </a:lnTo>
                  <a:lnTo>
                    <a:pt x="813" y="309"/>
                  </a:lnTo>
                  <a:lnTo>
                    <a:pt x="804" y="303"/>
                  </a:lnTo>
                  <a:lnTo>
                    <a:pt x="809" y="250"/>
                  </a:lnTo>
                  <a:lnTo>
                    <a:pt x="813" y="242"/>
                  </a:lnTo>
                  <a:lnTo>
                    <a:pt x="822" y="236"/>
                  </a:lnTo>
                  <a:lnTo>
                    <a:pt x="916" y="295"/>
                  </a:lnTo>
                  <a:lnTo>
                    <a:pt x="932" y="301"/>
                  </a:lnTo>
                  <a:lnTo>
                    <a:pt x="936" y="297"/>
                  </a:lnTo>
                  <a:lnTo>
                    <a:pt x="945" y="246"/>
                  </a:lnTo>
                  <a:lnTo>
                    <a:pt x="923" y="199"/>
                  </a:lnTo>
                  <a:lnTo>
                    <a:pt x="914" y="196"/>
                  </a:lnTo>
                  <a:lnTo>
                    <a:pt x="906" y="173"/>
                  </a:lnTo>
                  <a:lnTo>
                    <a:pt x="887" y="179"/>
                  </a:lnTo>
                  <a:lnTo>
                    <a:pt x="871" y="177"/>
                  </a:lnTo>
                  <a:lnTo>
                    <a:pt x="856" y="169"/>
                  </a:lnTo>
                  <a:lnTo>
                    <a:pt x="788" y="193"/>
                  </a:lnTo>
                  <a:lnTo>
                    <a:pt x="782" y="211"/>
                  </a:lnTo>
                  <a:lnTo>
                    <a:pt x="757" y="219"/>
                  </a:lnTo>
                  <a:lnTo>
                    <a:pt x="732" y="213"/>
                  </a:lnTo>
                  <a:lnTo>
                    <a:pt x="720" y="201"/>
                  </a:lnTo>
                  <a:lnTo>
                    <a:pt x="708" y="227"/>
                  </a:lnTo>
                  <a:lnTo>
                    <a:pt x="693" y="234"/>
                  </a:lnTo>
                  <a:lnTo>
                    <a:pt x="679" y="257"/>
                  </a:lnTo>
                  <a:lnTo>
                    <a:pt x="659" y="263"/>
                  </a:lnTo>
                  <a:lnTo>
                    <a:pt x="620" y="310"/>
                  </a:lnTo>
                  <a:lnTo>
                    <a:pt x="606" y="316"/>
                  </a:lnTo>
                  <a:lnTo>
                    <a:pt x="596" y="335"/>
                  </a:lnTo>
                  <a:lnTo>
                    <a:pt x="565" y="200"/>
                  </a:lnTo>
                  <a:lnTo>
                    <a:pt x="361" y="238"/>
                  </a:lnTo>
                  <a:lnTo>
                    <a:pt x="318" y="4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11800" y="2782800"/>
              <a:ext cx="654120" cy="420840"/>
            </a:xfrm>
            <a:custGeom>
              <a:avLst/>
              <a:gdLst/>
              <a:ahLst/>
              <a:rect l="l" t="t" r="r" b="b"/>
              <a:pathLst>
                <a:path w="1235" h="796">
                  <a:moveTo>
                    <a:pt x="308" y="758"/>
                  </a:moveTo>
                  <a:lnTo>
                    <a:pt x="866" y="650"/>
                  </a:lnTo>
                  <a:lnTo>
                    <a:pt x="1041" y="617"/>
                  </a:lnTo>
                  <a:lnTo>
                    <a:pt x="1042" y="614"/>
                  </a:lnTo>
                  <a:lnTo>
                    <a:pt x="1049" y="611"/>
                  </a:lnTo>
                  <a:lnTo>
                    <a:pt x="1052" y="594"/>
                  </a:lnTo>
                  <a:lnTo>
                    <a:pt x="1073" y="577"/>
                  </a:lnTo>
                  <a:lnTo>
                    <a:pt x="1094" y="573"/>
                  </a:lnTo>
                  <a:lnTo>
                    <a:pt x="1111" y="577"/>
                  </a:lnTo>
                  <a:lnTo>
                    <a:pt x="1162" y="541"/>
                  </a:lnTo>
                  <a:lnTo>
                    <a:pt x="1168" y="514"/>
                  </a:lnTo>
                  <a:lnTo>
                    <a:pt x="1201" y="482"/>
                  </a:lnTo>
                  <a:lnTo>
                    <a:pt x="1232" y="463"/>
                  </a:lnTo>
                  <a:lnTo>
                    <a:pt x="1235" y="455"/>
                  </a:lnTo>
                  <a:lnTo>
                    <a:pt x="1206" y="433"/>
                  </a:lnTo>
                  <a:lnTo>
                    <a:pt x="1195" y="421"/>
                  </a:lnTo>
                  <a:lnTo>
                    <a:pt x="1181" y="416"/>
                  </a:lnTo>
                  <a:lnTo>
                    <a:pt x="1172" y="407"/>
                  </a:lnTo>
                  <a:lnTo>
                    <a:pt x="1150" y="401"/>
                  </a:lnTo>
                  <a:lnTo>
                    <a:pt x="1141" y="369"/>
                  </a:lnTo>
                  <a:lnTo>
                    <a:pt x="1116" y="364"/>
                  </a:lnTo>
                  <a:lnTo>
                    <a:pt x="1112" y="362"/>
                  </a:lnTo>
                  <a:lnTo>
                    <a:pt x="1108" y="314"/>
                  </a:lnTo>
                  <a:lnTo>
                    <a:pt x="1122" y="306"/>
                  </a:lnTo>
                  <a:lnTo>
                    <a:pt x="1119" y="278"/>
                  </a:lnTo>
                  <a:lnTo>
                    <a:pt x="1100" y="263"/>
                  </a:lnTo>
                  <a:lnTo>
                    <a:pt x="1100" y="255"/>
                  </a:lnTo>
                  <a:lnTo>
                    <a:pt x="1106" y="246"/>
                  </a:lnTo>
                  <a:lnTo>
                    <a:pt x="1134" y="223"/>
                  </a:lnTo>
                  <a:lnTo>
                    <a:pt x="1141" y="183"/>
                  </a:lnTo>
                  <a:lnTo>
                    <a:pt x="1141" y="171"/>
                  </a:lnTo>
                  <a:lnTo>
                    <a:pt x="1153" y="148"/>
                  </a:lnTo>
                  <a:lnTo>
                    <a:pt x="1163" y="143"/>
                  </a:lnTo>
                  <a:lnTo>
                    <a:pt x="1147" y="130"/>
                  </a:lnTo>
                  <a:lnTo>
                    <a:pt x="1096" y="127"/>
                  </a:lnTo>
                  <a:lnTo>
                    <a:pt x="1094" y="117"/>
                  </a:lnTo>
                  <a:lnTo>
                    <a:pt x="1086" y="110"/>
                  </a:lnTo>
                  <a:lnTo>
                    <a:pt x="1081" y="91"/>
                  </a:lnTo>
                  <a:lnTo>
                    <a:pt x="1055" y="41"/>
                  </a:lnTo>
                  <a:lnTo>
                    <a:pt x="1041" y="38"/>
                  </a:lnTo>
                  <a:lnTo>
                    <a:pt x="1033" y="32"/>
                  </a:lnTo>
                  <a:lnTo>
                    <a:pt x="1027" y="32"/>
                  </a:lnTo>
                  <a:lnTo>
                    <a:pt x="1020" y="26"/>
                  </a:lnTo>
                  <a:lnTo>
                    <a:pt x="1014" y="10"/>
                  </a:lnTo>
                  <a:lnTo>
                    <a:pt x="999" y="0"/>
                  </a:lnTo>
                  <a:lnTo>
                    <a:pt x="147" y="170"/>
                  </a:lnTo>
                  <a:lnTo>
                    <a:pt x="132" y="101"/>
                  </a:lnTo>
                  <a:lnTo>
                    <a:pt x="85" y="146"/>
                  </a:lnTo>
                  <a:lnTo>
                    <a:pt x="78" y="149"/>
                  </a:lnTo>
                  <a:lnTo>
                    <a:pt x="71" y="142"/>
                  </a:lnTo>
                  <a:lnTo>
                    <a:pt x="65" y="142"/>
                  </a:lnTo>
                  <a:lnTo>
                    <a:pt x="54" y="168"/>
                  </a:lnTo>
                  <a:lnTo>
                    <a:pt x="15" y="202"/>
                  </a:lnTo>
                  <a:lnTo>
                    <a:pt x="0" y="211"/>
                  </a:lnTo>
                  <a:lnTo>
                    <a:pt x="60" y="562"/>
                  </a:lnTo>
                  <a:lnTo>
                    <a:pt x="103" y="796"/>
                  </a:lnTo>
                  <a:lnTo>
                    <a:pt x="308" y="75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75240" y="3110040"/>
              <a:ext cx="512640" cy="244440"/>
            </a:xfrm>
            <a:custGeom>
              <a:avLst/>
              <a:gdLst/>
              <a:ahLst/>
              <a:rect l="l" t="t" r="r" b="b"/>
              <a:pathLst>
                <a:path w="969" h="464">
                  <a:moveTo>
                    <a:pt x="733" y="0"/>
                  </a:moveTo>
                  <a:lnTo>
                    <a:pt x="558" y="33"/>
                  </a:lnTo>
                  <a:lnTo>
                    <a:pt x="0" y="141"/>
                  </a:lnTo>
                  <a:lnTo>
                    <a:pt x="31" y="277"/>
                  </a:lnTo>
                  <a:lnTo>
                    <a:pt x="41" y="258"/>
                  </a:lnTo>
                  <a:lnTo>
                    <a:pt x="55" y="252"/>
                  </a:lnTo>
                  <a:lnTo>
                    <a:pt x="94" y="204"/>
                  </a:lnTo>
                  <a:lnTo>
                    <a:pt x="113" y="200"/>
                  </a:lnTo>
                  <a:lnTo>
                    <a:pt x="128" y="176"/>
                  </a:lnTo>
                  <a:lnTo>
                    <a:pt x="143" y="168"/>
                  </a:lnTo>
                  <a:lnTo>
                    <a:pt x="154" y="143"/>
                  </a:lnTo>
                  <a:lnTo>
                    <a:pt x="167" y="155"/>
                  </a:lnTo>
                  <a:lnTo>
                    <a:pt x="192" y="161"/>
                  </a:lnTo>
                  <a:lnTo>
                    <a:pt x="217" y="152"/>
                  </a:lnTo>
                  <a:lnTo>
                    <a:pt x="223" y="135"/>
                  </a:lnTo>
                  <a:lnTo>
                    <a:pt x="291" y="111"/>
                  </a:lnTo>
                  <a:lnTo>
                    <a:pt x="306" y="119"/>
                  </a:lnTo>
                  <a:lnTo>
                    <a:pt x="321" y="121"/>
                  </a:lnTo>
                  <a:lnTo>
                    <a:pt x="341" y="115"/>
                  </a:lnTo>
                  <a:lnTo>
                    <a:pt x="349" y="137"/>
                  </a:lnTo>
                  <a:lnTo>
                    <a:pt x="357" y="141"/>
                  </a:lnTo>
                  <a:lnTo>
                    <a:pt x="380" y="187"/>
                  </a:lnTo>
                  <a:lnTo>
                    <a:pt x="396" y="184"/>
                  </a:lnTo>
                  <a:lnTo>
                    <a:pt x="415" y="192"/>
                  </a:lnTo>
                  <a:lnTo>
                    <a:pt x="435" y="198"/>
                  </a:lnTo>
                  <a:lnTo>
                    <a:pt x="424" y="221"/>
                  </a:lnTo>
                  <a:lnTo>
                    <a:pt x="444" y="245"/>
                  </a:lnTo>
                  <a:lnTo>
                    <a:pt x="483" y="245"/>
                  </a:lnTo>
                  <a:lnTo>
                    <a:pt x="503" y="263"/>
                  </a:lnTo>
                  <a:lnTo>
                    <a:pt x="526" y="273"/>
                  </a:lnTo>
                  <a:lnTo>
                    <a:pt x="545" y="297"/>
                  </a:lnTo>
                  <a:lnTo>
                    <a:pt x="543" y="307"/>
                  </a:lnTo>
                  <a:lnTo>
                    <a:pt x="518" y="355"/>
                  </a:lnTo>
                  <a:lnTo>
                    <a:pt x="501" y="398"/>
                  </a:lnTo>
                  <a:lnTo>
                    <a:pt x="506" y="425"/>
                  </a:lnTo>
                  <a:lnTo>
                    <a:pt x="535" y="426"/>
                  </a:lnTo>
                  <a:lnTo>
                    <a:pt x="563" y="410"/>
                  </a:lnTo>
                  <a:lnTo>
                    <a:pt x="583" y="433"/>
                  </a:lnTo>
                  <a:lnTo>
                    <a:pt x="598" y="441"/>
                  </a:lnTo>
                  <a:lnTo>
                    <a:pt x="596" y="433"/>
                  </a:lnTo>
                  <a:lnTo>
                    <a:pt x="624" y="429"/>
                  </a:lnTo>
                  <a:lnTo>
                    <a:pt x="657" y="431"/>
                  </a:lnTo>
                  <a:lnTo>
                    <a:pt x="699" y="444"/>
                  </a:lnTo>
                  <a:lnTo>
                    <a:pt x="720" y="455"/>
                  </a:lnTo>
                  <a:lnTo>
                    <a:pt x="728" y="454"/>
                  </a:lnTo>
                  <a:lnTo>
                    <a:pt x="728" y="444"/>
                  </a:lnTo>
                  <a:lnTo>
                    <a:pt x="720" y="433"/>
                  </a:lnTo>
                  <a:lnTo>
                    <a:pt x="701" y="404"/>
                  </a:lnTo>
                  <a:lnTo>
                    <a:pt x="683" y="400"/>
                  </a:lnTo>
                  <a:lnTo>
                    <a:pt x="680" y="394"/>
                  </a:lnTo>
                  <a:lnTo>
                    <a:pt x="683" y="384"/>
                  </a:lnTo>
                  <a:lnTo>
                    <a:pt x="691" y="384"/>
                  </a:lnTo>
                  <a:lnTo>
                    <a:pt x="696" y="375"/>
                  </a:lnTo>
                  <a:lnTo>
                    <a:pt x="675" y="365"/>
                  </a:lnTo>
                  <a:lnTo>
                    <a:pt x="659" y="339"/>
                  </a:lnTo>
                  <a:lnTo>
                    <a:pt x="642" y="292"/>
                  </a:lnTo>
                  <a:lnTo>
                    <a:pt x="638" y="277"/>
                  </a:lnTo>
                  <a:lnTo>
                    <a:pt x="634" y="249"/>
                  </a:lnTo>
                  <a:lnTo>
                    <a:pt x="642" y="202"/>
                  </a:lnTo>
                  <a:lnTo>
                    <a:pt x="639" y="189"/>
                  </a:lnTo>
                  <a:lnTo>
                    <a:pt x="632" y="180"/>
                  </a:lnTo>
                  <a:lnTo>
                    <a:pt x="632" y="167"/>
                  </a:lnTo>
                  <a:lnTo>
                    <a:pt x="633" y="157"/>
                  </a:lnTo>
                  <a:lnTo>
                    <a:pt x="640" y="146"/>
                  </a:lnTo>
                  <a:lnTo>
                    <a:pt x="645" y="129"/>
                  </a:lnTo>
                  <a:lnTo>
                    <a:pt x="683" y="102"/>
                  </a:lnTo>
                  <a:lnTo>
                    <a:pt x="691" y="95"/>
                  </a:lnTo>
                  <a:lnTo>
                    <a:pt x="699" y="58"/>
                  </a:lnTo>
                  <a:lnTo>
                    <a:pt x="720" y="60"/>
                  </a:lnTo>
                  <a:lnTo>
                    <a:pt x="732" y="74"/>
                  </a:lnTo>
                  <a:lnTo>
                    <a:pt x="712" y="104"/>
                  </a:lnTo>
                  <a:lnTo>
                    <a:pt x="701" y="123"/>
                  </a:lnTo>
                  <a:lnTo>
                    <a:pt x="685" y="141"/>
                  </a:lnTo>
                  <a:lnTo>
                    <a:pt x="678" y="162"/>
                  </a:lnTo>
                  <a:lnTo>
                    <a:pt x="687" y="187"/>
                  </a:lnTo>
                  <a:lnTo>
                    <a:pt x="705" y="192"/>
                  </a:lnTo>
                  <a:lnTo>
                    <a:pt x="716" y="243"/>
                  </a:lnTo>
                  <a:lnTo>
                    <a:pt x="714" y="249"/>
                  </a:lnTo>
                  <a:lnTo>
                    <a:pt x="685" y="266"/>
                  </a:lnTo>
                  <a:lnTo>
                    <a:pt x="691" y="278"/>
                  </a:lnTo>
                  <a:lnTo>
                    <a:pt x="714" y="287"/>
                  </a:lnTo>
                  <a:lnTo>
                    <a:pt x="720" y="297"/>
                  </a:lnTo>
                  <a:lnTo>
                    <a:pt x="714" y="318"/>
                  </a:lnTo>
                  <a:lnTo>
                    <a:pt x="720" y="331"/>
                  </a:lnTo>
                  <a:lnTo>
                    <a:pt x="718" y="345"/>
                  </a:lnTo>
                  <a:lnTo>
                    <a:pt x="728" y="374"/>
                  </a:lnTo>
                  <a:lnTo>
                    <a:pt x="759" y="397"/>
                  </a:lnTo>
                  <a:lnTo>
                    <a:pt x="774" y="397"/>
                  </a:lnTo>
                  <a:lnTo>
                    <a:pt x="784" y="384"/>
                  </a:lnTo>
                  <a:lnTo>
                    <a:pt x="800" y="385"/>
                  </a:lnTo>
                  <a:lnTo>
                    <a:pt x="809" y="392"/>
                  </a:lnTo>
                  <a:lnTo>
                    <a:pt x="805" y="406"/>
                  </a:lnTo>
                  <a:lnTo>
                    <a:pt x="821" y="433"/>
                  </a:lnTo>
                  <a:lnTo>
                    <a:pt x="822" y="445"/>
                  </a:lnTo>
                  <a:lnTo>
                    <a:pt x="832" y="463"/>
                  </a:lnTo>
                  <a:lnTo>
                    <a:pt x="856" y="463"/>
                  </a:lnTo>
                  <a:lnTo>
                    <a:pt x="859" y="464"/>
                  </a:lnTo>
                  <a:lnTo>
                    <a:pt x="876" y="444"/>
                  </a:lnTo>
                  <a:lnTo>
                    <a:pt x="944" y="422"/>
                  </a:lnTo>
                  <a:lnTo>
                    <a:pt x="944" y="412"/>
                  </a:lnTo>
                  <a:lnTo>
                    <a:pt x="951" y="395"/>
                  </a:lnTo>
                  <a:lnTo>
                    <a:pt x="969" y="305"/>
                  </a:lnTo>
                  <a:lnTo>
                    <a:pt x="966" y="298"/>
                  </a:lnTo>
                  <a:lnTo>
                    <a:pt x="832" y="326"/>
                  </a:lnTo>
                  <a:lnTo>
                    <a:pt x="733" y="0"/>
                  </a:lnTo>
                  <a:lnTo>
                    <a:pt x="733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62600" y="3086280"/>
              <a:ext cx="123840" cy="195120"/>
            </a:xfrm>
            <a:custGeom>
              <a:avLst/>
              <a:gdLst/>
              <a:ahLst/>
              <a:rect l="l" t="t" r="r" b="b"/>
              <a:pathLst>
                <a:path w="233" h="370">
                  <a:moveTo>
                    <a:pt x="233" y="342"/>
                  </a:moveTo>
                  <a:lnTo>
                    <a:pt x="228" y="317"/>
                  </a:lnTo>
                  <a:lnTo>
                    <a:pt x="213" y="279"/>
                  </a:lnTo>
                  <a:lnTo>
                    <a:pt x="187" y="254"/>
                  </a:lnTo>
                  <a:lnTo>
                    <a:pt x="152" y="229"/>
                  </a:lnTo>
                  <a:lnTo>
                    <a:pt x="137" y="213"/>
                  </a:lnTo>
                  <a:lnTo>
                    <a:pt x="129" y="196"/>
                  </a:lnTo>
                  <a:lnTo>
                    <a:pt x="101" y="147"/>
                  </a:lnTo>
                  <a:lnTo>
                    <a:pt x="91" y="127"/>
                  </a:lnTo>
                  <a:lnTo>
                    <a:pt x="66" y="98"/>
                  </a:lnTo>
                  <a:lnTo>
                    <a:pt x="57" y="82"/>
                  </a:lnTo>
                  <a:lnTo>
                    <a:pt x="54" y="65"/>
                  </a:lnTo>
                  <a:lnTo>
                    <a:pt x="56" y="61"/>
                  </a:lnTo>
                  <a:lnTo>
                    <a:pt x="56" y="51"/>
                  </a:lnTo>
                  <a:lnTo>
                    <a:pt x="70" y="4"/>
                  </a:lnTo>
                  <a:lnTo>
                    <a:pt x="54" y="0"/>
                  </a:lnTo>
                  <a:lnTo>
                    <a:pt x="32" y="4"/>
                  </a:lnTo>
                  <a:lnTo>
                    <a:pt x="11" y="21"/>
                  </a:lnTo>
                  <a:lnTo>
                    <a:pt x="9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99" y="370"/>
                  </a:lnTo>
                  <a:lnTo>
                    <a:pt x="233" y="342"/>
                  </a:lnTo>
                  <a:lnTo>
                    <a:pt x="233" y="34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83080" y="2325600"/>
              <a:ext cx="841680" cy="646200"/>
            </a:xfrm>
            <a:custGeom>
              <a:avLst/>
              <a:gdLst/>
              <a:ahLst/>
              <a:rect l="l" t="t" r="r" b="b"/>
              <a:pathLst>
                <a:path w="1590" h="1219">
                  <a:moveTo>
                    <a:pt x="1031" y="1006"/>
                  </a:moveTo>
                  <a:lnTo>
                    <a:pt x="1205" y="1066"/>
                  </a:lnTo>
                  <a:lnTo>
                    <a:pt x="1217" y="1096"/>
                  </a:lnTo>
                  <a:lnTo>
                    <a:pt x="1204" y="1106"/>
                  </a:lnTo>
                  <a:lnTo>
                    <a:pt x="1195" y="1119"/>
                  </a:lnTo>
                  <a:lnTo>
                    <a:pt x="1190" y="1137"/>
                  </a:lnTo>
                  <a:lnTo>
                    <a:pt x="1192" y="1163"/>
                  </a:lnTo>
                  <a:lnTo>
                    <a:pt x="1183" y="1164"/>
                  </a:lnTo>
                  <a:lnTo>
                    <a:pt x="1173" y="1172"/>
                  </a:lnTo>
                  <a:lnTo>
                    <a:pt x="1158" y="1207"/>
                  </a:lnTo>
                  <a:lnTo>
                    <a:pt x="1158" y="1217"/>
                  </a:lnTo>
                  <a:lnTo>
                    <a:pt x="1163" y="1219"/>
                  </a:lnTo>
                  <a:lnTo>
                    <a:pt x="1171" y="1214"/>
                  </a:lnTo>
                  <a:lnTo>
                    <a:pt x="1176" y="1207"/>
                  </a:lnTo>
                  <a:lnTo>
                    <a:pt x="1202" y="1181"/>
                  </a:lnTo>
                  <a:lnTo>
                    <a:pt x="1219" y="1185"/>
                  </a:lnTo>
                  <a:lnTo>
                    <a:pt x="1258" y="1183"/>
                  </a:lnTo>
                  <a:lnTo>
                    <a:pt x="1270" y="1172"/>
                  </a:lnTo>
                  <a:lnTo>
                    <a:pt x="1304" y="1163"/>
                  </a:lnTo>
                  <a:lnTo>
                    <a:pt x="1333" y="1151"/>
                  </a:lnTo>
                  <a:lnTo>
                    <a:pt x="1354" y="1139"/>
                  </a:lnTo>
                  <a:lnTo>
                    <a:pt x="1378" y="1118"/>
                  </a:lnTo>
                  <a:lnTo>
                    <a:pt x="1474" y="1053"/>
                  </a:lnTo>
                  <a:lnTo>
                    <a:pt x="1498" y="1036"/>
                  </a:lnTo>
                  <a:lnTo>
                    <a:pt x="1519" y="1018"/>
                  </a:lnTo>
                  <a:lnTo>
                    <a:pt x="1533" y="1012"/>
                  </a:lnTo>
                  <a:lnTo>
                    <a:pt x="1547" y="1000"/>
                  </a:lnTo>
                  <a:lnTo>
                    <a:pt x="1567" y="990"/>
                  </a:lnTo>
                  <a:lnTo>
                    <a:pt x="1580" y="979"/>
                  </a:lnTo>
                  <a:lnTo>
                    <a:pt x="1588" y="955"/>
                  </a:lnTo>
                  <a:lnTo>
                    <a:pt x="1590" y="949"/>
                  </a:lnTo>
                  <a:lnTo>
                    <a:pt x="1588" y="945"/>
                  </a:lnTo>
                  <a:lnTo>
                    <a:pt x="1567" y="962"/>
                  </a:lnTo>
                  <a:lnTo>
                    <a:pt x="1544" y="971"/>
                  </a:lnTo>
                  <a:lnTo>
                    <a:pt x="1520" y="980"/>
                  </a:lnTo>
                  <a:lnTo>
                    <a:pt x="1506" y="996"/>
                  </a:lnTo>
                  <a:lnTo>
                    <a:pt x="1498" y="1009"/>
                  </a:lnTo>
                  <a:lnTo>
                    <a:pt x="1474" y="1023"/>
                  </a:lnTo>
                  <a:lnTo>
                    <a:pt x="1470" y="1013"/>
                  </a:lnTo>
                  <a:lnTo>
                    <a:pt x="1479" y="998"/>
                  </a:lnTo>
                  <a:lnTo>
                    <a:pt x="1495" y="979"/>
                  </a:lnTo>
                  <a:lnTo>
                    <a:pt x="1514" y="948"/>
                  </a:lnTo>
                  <a:lnTo>
                    <a:pt x="1506" y="943"/>
                  </a:lnTo>
                  <a:lnTo>
                    <a:pt x="1491" y="958"/>
                  </a:lnTo>
                  <a:lnTo>
                    <a:pt x="1480" y="974"/>
                  </a:lnTo>
                  <a:lnTo>
                    <a:pt x="1466" y="990"/>
                  </a:lnTo>
                  <a:lnTo>
                    <a:pt x="1412" y="1019"/>
                  </a:lnTo>
                  <a:lnTo>
                    <a:pt x="1344" y="1053"/>
                  </a:lnTo>
                  <a:lnTo>
                    <a:pt x="1287" y="1081"/>
                  </a:lnTo>
                  <a:lnTo>
                    <a:pt x="1266" y="1093"/>
                  </a:lnTo>
                  <a:lnTo>
                    <a:pt x="1245" y="1122"/>
                  </a:lnTo>
                  <a:lnTo>
                    <a:pt x="1232" y="1111"/>
                  </a:lnTo>
                  <a:lnTo>
                    <a:pt x="1229" y="1091"/>
                  </a:lnTo>
                  <a:lnTo>
                    <a:pt x="1239" y="1066"/>
                  </a:lnTo>
                  <a:lnTo>
                    <a:pt x="1258" y="1053"/>
                  </a:lnTo>
                  <a:lnTo>
                    <a:pt x="1235" y="1030"/>
                  </a:lnTo>
                  <a:lnTo>
                    <a:pt x="1265" y="998"/>
                  </a:lnTo>
                  <a:lnTo>
                    <a:pt x="1270" y="985"/>
                  </a:lnTo>
                  <a:lnTo>
                    <a:pt x="1255" y="968"/>
                  </a:lnTo>
                  <a:lnTo>
                    <a:pt x="1229" y="772"/>
                  </a:lnTo>
                  <a:lnTo>
                    <a:pt x="1221" y="763"/>
                  </a:lnTo>
                  <a:lnTo>
                    <a:pt x="1223" y="581"/>
                  </a:lnTo>
                  <a:lnTo>
                    <a:pt x="1202" y="538"/>
                  </a:lnTo>
                  <a:lnTo>
                    <a:pt x="1188" y="495"/>
                  </a:lnTo>
                  <a:lnTo>
                    <a:pt x="1188" y="457"/>
                  </a:lnTo>
                  <a:lnTo>
                    <a:pt x="1176" y="390"/>
                  </a:lnTo>
                  <a:lnTo>
                    <a:pt x="1156" y="359"/>
                  </a:lnTo>
                  <a:lnTo>
                    <a:pt x="1144" y="362"/>
                  </a:lnTo>
                  <a:lnTo>
                    <a:pt x="1145" y="369"/>
                  </a:lnTo>
                  <a:lnTo>
                    <a:pt x="1141" y="371"/>
                  </a:lnTo>
                  <a:lnTo>
                    <a:pt x="1133" y="359"/>
                  </a:lnTo>
                  <a:lnTo>
                    <a:pt x="1138" y="324"/>
                  </a:lnTo>
                  <a:lnTo>
                    <a:pt x="1104" y="249"/>
                  </a:lnTo>
                  <a:lnTo>
                    <a:pt x="1101" y="220"/>
                  </a:lnTo>
                  <a:lnTo>
                    <a:pt x="1117" y="192"/>
                  </a:lnTo>
                  <a:lnTo>
                    <a:pt x="1104" y="138"/>
                  </a:lnTo>
                  <a:lnTo>
                    <a:pt x="1074" y="61"/>
                  </a:lnTo>
                  <a:lnTo>
                    <a:pt x="1073" y="51"/>
                  </a:lnTo>
                  <a:lnTo>
                    <a:pt x="1064" y="40"/>
                  </a:lnTo>
                  <a:lnTo>
                    <a:pt x="1068" y="27"/>
                  </a:lnTo>
                  <a:lnTo>
                    <a:pt x="1057" y="0"/>
                  </a:lnTo>
                  <a:lnTo>
                    <a:pt x="805" y="65"/>
                  </a:lnTo>
                  <a:lnTo>
                    <a:pt x="801" y="57"/>
                  </a:lnTo>
                  <a:lnTo>
                    <a:pt x="792" y="60"/>
                  </a:lnTo>
                  <a:lnTo>
                    <a:pt x="770" y="70"/>
                  </a:lnTo>
                  <a:lnTo>
                    <a:pt x="710" y="133"/>
                  </a:lnTo>
                  <a:lnTo>
                    <a:pt x="650" y="216"/>
                  </a:lnTo>
                  <a:lnTo>
                    <a:pt x="641" y="229"/>
                  </a:lnTo>
                  <a:lnTo>
                    <a:pt x="646" y="244"/>
                  </a:lnTo>
                  <a:lnTo>
                    <a:pt x="637" y="274"/>
                  </a:lnTo>
                  <a:lnTo>
                    <a:pt x="624" y="289"/>
                  </a:lnTo>
                  <a:lnTo>
                    <a:pt x="561" y="351"/>
                  </a:lnTo>
                  <a:lnTo>
                    <a:pt x="555" y="365"/>
                  </a:lnTo>
                  <a:lnTo>
                    <a:pt x="563" y="388"/>
                  </a:lnTo>
                  <a:lnTo>
                    <a:pt x="569" y="393"/>
                  </a:lnTo>
                  <a:lnTo>
                    <a:pt x="584" y="390"/>
                  </a:lnTo>
                  <a:lnTo>
                    <a:pt x="599" y="398"/>
                  </a:lnTo>
                  <a:lnTo>
                    <a:pt x="600" y="412"/>
                  </a:lnTo>
                  <a:lnTo>
                    <a:pt x="590" y="425"/>
                  </a:lnTo>
                  <a:lnTo>
                    <a:pt x="595" y="445"/>
                  </a:lnTo>
                  <a:lnTo>
                    <a:pt x="610" y="471"/>
                  </a:lnTo>
                  <a:lnTo>
                    <a:pt x="605" y="507"/>
                  </a:lnTo>
                  <a:lnTo>
                    <a:pt x="567" y="524"/>
                  </a:lnTo>
                  <a:lnTo>
                    <a:pt x="508" y="586"/>
                  </a:lnTo>
                  <a:lnTo>
                    <a:pt x="463" y="601"/>
                  </a:lnTo>
                  <a:lnTo>
                    <a:pt x="365" y="630"/>
                  </a:lnTo>
                  <a:lnTo>
                    <a:pt x="329" y="617"/>
                  </a:lnTo>
                  <a:lnTo>
                    <a:pt x="301" y="613"/>
                  </a:lnTo>
                  <a:lnTo>
                    <a:pt x="247" y="617"/>
                  </a:lnTo>
                  <a:lnTo>
                    <a:pt x="193" y="628"/>
                  </a:lnTo>
                  <a:lnTo>
                    <a:pt x="133" y="652"/>
                  </a:lnTo>
                  <a:lnTo>
                    <a:pt x="108" y="669"/>
                  </a:lnTo>
                  <a:lnTo>
                    <a:pt x="98" y="701"/>
                  </a:lnTo>
                  <a:lnTo>
                    <a:pt x="98" y="722"/>
                  </a:lnTo>
                  <a:lnTo>
                    <a:pt x="143" y="774"/>
                  </a:lnTo>
                  <a:lnTo>
                    <a:pt x="147" y="793"/>
                  </a:lnTo>
                  <a:lnTo>
                    <a:pt x="140" y="811"/>
                  </a:lnTo>
                  <a:lnTo>
                    <a:pt x="127" y="821"/>
                  </a:lnTo>
                  <a:lnTo>
                    <a:pt x="112" y="860"/>
                  </a:lnTo>
                  <a:lnTo>
                    <a:pt x="30" y="941"/>
                  </a:lnTo>
                  <a:lnTo>
                    <a:pt x="0" y="964"/>
                  </a:lnTo>
                  <a:lnTo>
                    <a:pt x="15" y="1033"/>
                  </a:lnTo>
                  <a:lnTo>
                    <a:pt x="866" y="863"/>
                  </a:lnTo>
                  <a:lnTo>
                    <a:pt x="881" y="873"/>
                  </a:lnTo>
                  <a:lnTo>
                    <a:pt x="887" y="889"/>
                  </a:lnTo>
                  <a:lnTo>
                    <a:pt x="895" y="895"/>
                  </a:lnTo>
                  <a:lnTo>
                    <a:pt x="901" y="895"/>
                  </a:lnTo>
                  <a:lnTo>
                    <a:pt x="908" y="901"/>
                  </a:lnTo>
                  <a:lnTo>
                    <a:pt x="923" y="904"/>
                  </a:lnTo>
                  <a:lnTo>
                    <a:pt x="948" y="954"/>
                  </a:lnTo>
                  <a:lnTo>
                    <a:pt x="953" y="973"/>
                  </a:lnTo>
                  <a:lnTo>
                    <a:pt x="962" y="980"/>
                  </a:lnTo>
                  <a:lnTo>
                    <a:pt x="964" y="990"/>
                  </a:lnTo>
                  <a:lnTo>
                    <a:pt x="1015" y="993"/>
                  </a:lnTo>
                  <a:lnTo>
                    <a:pt x="1031" y="100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92840" y="2859120"/>
              <a:ext cx="154080" cy="341280"/>
            </a:xfrm>
            <a:custGeom>
              <a:avLst/>
              <a:gdLst/>
              <a:ahLst/>
              <a:rect l="l" t="t" r="r" b="b"/>
              <a:pathLst>
                <a:path w="291" h="646">
                  <a:moveTo>
                    <a:pt x="13" y="434"/>
                  </a:moveTo>
                  <a:lnTo>
                    <a:pt x="0" y="481"/>
                  </a:lnTo>
                  <a:lnTo>
                    <a:pt x="0" y="491"/>
                  </a:lnTo>
                  <a:lnTo>
                    <a:pt x="9" y="488"/>
                  </a:lnTo>
                  <a:lnTo>
                    <a:pt x="22" y="512"/>
                  </a:lnTo>
                  <a:lnTo>
                    <a:pt x="39" y="529"/>
                  </a:lnTo>
                  <a:lnTo>
                    <a:pt x="53" y="548"/>
                  </a:lnTo>
                  <a:lnTo>
                    <a:pt x="101" y="571"/>
                  </a:lnTo>
                  <a:lnTo>
                    <a:pt x="114" y="577"/>
                  </a:lnTo>
                  <a:lnTo>
                    <a:pt x="152" y="582"/>
                  </a:lnTo>
                  <a:lnTo>
                    <a:pt x="162" y="585"/>
                  </a:lnTo>
                  <a:lnTo>
                    <a:pt x="162" y="617"/>
                  </a:lnTo>
                  <a:lnTo>
                    <a:pt x="162" y="636"/>
                  </a:lnTo>
                  <a:lnTo>
                    <a:pt x="173" y="646"/>
                  </a:lnTo>
                  <a:lnTo>
                    <a:pt x="186" y="632"/>
                  </a:lnTo>
                  <a:lnTo>
                    <a:pt x="200" y="601"/>
                  </a:lnTo>
                  <a:lnTo>
                    <a:pt x="202" y="573"/>
                  </a:lnTo>
                  <a:lnTo>
                    <a:pt x="224" y="534"/>
                  </a:lnTo>
                  <a:lnTo>
                    <a:pt x="236" y="506"/>
                  </a:lnTo>
                  <a:lnTo>
                    <a:pt x="267" y="463"/>
                  </a:lnTo>
                  <a:lnTo>
                    <a:pt x="279" y="430"/>
                  </a:lnTo>
                  <a:lnTo>
                    <a:pt x="291" y="400"/>
                  </a:lnTo>
                  <a:lnTo>
                    <a:pt x="289" y="381"/>
                  </a:lnTo>
                  <a:lnTo>
                    <a:pt x="284" y="292"/>
                  </a:lnTo>
                  <a:lnTo>
                    <a:pt x="276" y="223"/>
                  </a:lnTo>
                  <a:lnTo>
                    <a:pt x="261" y="202"/>
                  </a:lnTo>
                  <a:lnTo>
                    <a:pt x="232" y="210"/>
                  </a:lnTo>
                  <a:lnTo>
                    <a:pt x="221" y="217"/>
                  </a:lnTo>
                  <a:lnTo>
                    <a:pt x="212" y="214"/>
                  </a:lnTo>
                  <a:lnTo>
                    <a:pt x="207" y="208"/>
                  </a:lnTo>
                  <a:lnTo>
                    <a:pt x="200" y="213"/>
                  </a:lnTo>
                  <a:lnTo>
                    <a:pt x="195" y="211"/>
                  </a:lnTo>
                  <a:lnTo>
                    <a:pt x="195" y="201"/>
                  </a:lnTo>
                  <a:lnTo>
                    <a:pt x="209" y="166"/>
                  </a:lnTo>
                  <a:lnTo>
                    <a:pt x="219" y="158"/>
                  </a:lnTo>
                  <a:lnTo>
                    <a:pt x="228" y="157"/>
                  </a:lnTo>
                  <a:lnTo>
                    <a:pt x="226" y="131"/>
                  </a:lnTo>
                  <a:lnTo>
                    <a:pt x="232" y="113"/>
                  </a:lnTo>
                  <a:lnTo>
                    <a:pt x="240" y="100"/>
                  </a:lnTo>
                  <a:lnTo>
                    <a:pt x="253" y="90"/>
                  </a:lnTo>
                  <a:lnTo>
                    <a:pt x="242" y="60"/>
                  </a:lnTo>
                  <a:lnTo>
                    <a:pt x="67" y="0"/>
                  </a:lnTo>
                  <a:lnTo>
                    <a:pt x="57" y="5"/>
                  </a:lnTo>
                  <a:lnTo>
                    <a:pt x="45" y="28"/>
                  </a:lnTo>
                  <a:lnTo>
                    <a:pt x="45" y="40"/>
                  </a:lnTo>
                  <a:lnTo>
                    <a:pt x="38" y="80"/>
                  </a:lnTo>
                  <a:lnTo>
                    <a:pt x="10" y="103"/>
                  </a:lnTo>
                  <a:lnTo>
                    <a:pt x="4" y="112"/>
                  </a:lnTo>
                  <a:lnTo>
                    <a:pt x="4" y="120"/>
                  </a:lnTo>
                  <a:lnTo>
                    <a:pt x="23" y="135"/>
                  </a:lnTo>
                  <a:lnTo>
                    <a:pt x="26" y="164"/>
                  </a:lnTo>
                  <a:lnTo>
                    <a:pt x="12" y="171"/>
                  </a:lnTo>
                  <a:lnTo>
                    <a:pt x="16" y="219"/>
                  </a:lnTo>
                  <a:lnTo>
                    <a:pt x="20" y="221"/>
                  </a:lnTo>
                  <a:lnTo>
                    <a:pt x="45" y="226"/>
                  </a:lnTo>
                  <a:lnTo>
                    <a:pt x="54" y="258"/>
                  </a:lnTo>
                  <a:lnTo>
                    <a:pt x="76" y="264"/>
                  </a:lnTo>
                  <a:lnTo>
                    <a:pt x="85" y="273"/>
                  </a:lnTo>
                  <a:lnTo>
                    <a:pt x="99" y="278"/>
                  </a:lnTo>
                  <a:lnTo>
                    <a:pt x="110" y="290"/>
                  </a:lnTo>
                  <a:lnTo>
                    <a:pt x="139" y="312"/>
                  </a:lnTo>
                  <a:lnTo>
                    <a:pt x="136" y="320"/>
                  </a:lnTo>
                  <a:lnTo>
                    <a:pt x="105" y="339"/>
                  </a:lnTo>
                  <a:lnTo>
                    <a:pt x="72" y="371"/>
                  </a:lnTo>
                  <a:lnTo>
                    <a:pt x="66" y="398"/>
                  </a:lnTo>
                  <a:lnTo>
                    <a:pt x="13" y="434"/>
                  </a:lnTo>
                  <a:lnTo>
                    <a:pt x="13" y="4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97760" y="3311640"/>
              <a:ext cx="237960" cy="223560"/>
            </a:xfrm>
            <a:custGeom>
              <a:avLst/>
              <a:gdLst/>
              <a:ahLst/>
              <a:rect l="l" t="t" r="r" b="b"/>
              <a:pathLst>
                <a:path w="449" h="423">
                  <a:moveTo>
                    <a:pt x="228" y="0"/>
                  </a:moveTo>
                  <a:lnTo>
                    <a:pt x="0" y="220"/>
                  </a:lnTo>
                  <a:lnTo>
                    <a:pt x="136" y="354"/>
                  </a:lnTo>
                  <a:lnTo>
                    <a:pt x="137" y="354"/>
                  </a:lnTo>
                  <a:lnTo>
                    <a:pt x="138" y="355"/>
                  </a:lnTo>
                  <a:lnTo>
                    <a:pt x="141" y="355"/>
                  </a:lnTo>
                  <a:lnTo>
                    <a:pt x="143" y="355"/>
                  </a:lnTo>
                  <a:lnTo>
                    <a:pt x="146" y="354"/>
                  </a:lnTo>
                  <a:lnTo>
                    <a:pt x="148" y="353"/>
                  </a:lnTo>
                  <a:lnTo>
                    <a:pt x="149" y="350"/>
                  </a:lnTo>
                  <a:lnTo>
                    <a:pt x="150" y="346"/>
                  </a:lnTo>
                  <a:lnTo>
                    <a:pt x="150" y="345"/>
                  </a:lnTo>
                  <a:lnTo>
                    <a:pt x="150" y="343"/>
                  </a:lnTo>
                  <a:lnTo>
                    <a:pt x="150" y="341"/>
                  </a:lnTo>
                  <a:lnTo>
                    <a:pt x="150" y="339"/>
                  </a:lnTo>
                  <a:lnTo>
                    <a:pt x="150" y="337"/>
                  </a:lnTo>
                  <a:lnTo>
                    <a:pt x="150" y="335"/>
                  </a:lnTo>
                  <a:lnTo>
                    <a:pt x="151" y="334"/>
                  </a:lnTo>
                  <a:lnTo>
                    <a:pt x="151" y="332"/>
                  </a:lnTo>
                  <a:lnTo>
                    <a:pt x="152" y="331"/>
                  </a:lnTo>
                  <a:lnTo>
                    <a:pt x="153" y="330"/>
                  </a:lnTo>
                  <a:lnTo>
                    <a:pt x="154" y="330"/>
                  </a:lnTo>
                  <a:lnTo>
                    <a:pt x="155" y="329"/>
                  </a:lnTo>
                  <a:lnTo>
                    <a:pt x="157" y="329"/>
                  </a:lnTo>
                  <a:lnTo>
                    <a:pt x="158" y="328"/>
                  </a:lnTo>
                  <a:lnTo>
                    <a:pt x="159" y="328"/>
                  </a:lnTo>
                  <a:lnTo>
                    <a:pt x="160" y="329"/>
                  </a:lnTo>
                  <a:lnTo>
                    <a:pt x="162" y="330"/>
                  </a:lnTo>
                  <a:lnTo>
                    <a:pt x="164" y="330"/>
                  </a:lnTo>
                  <a:lnTo>
                    <a:pt x="166" y="329"/>
                  </a:lnTo>
                  <a:lnTo>
                    <a:pt x="168" y="329"/>
                  </a:lnTo>
                  <a:lnTo>
                    <a:pt x="170" y="328"/>
                  </a:lnTo>
                  <a:lnTo>
                    <a:pt x="172" y="327"/>
                  </a:lnTo>
                  <a:lnTo>
                    <a:pt x="174" y="327"/>
                  </a:lnTo>
                  <a:lnTo>
                    <a:pt x="176" y="328"/>
                  </a:lnTo>
                  <a:lnTo>
                    <a:pt x="177" y="328"/>
                  </a:lnTo>
                  <a:lnTo>
                    <a:pt x="177" y="329"/>
                  </a:lnTo>
                  <a:lnTo>
                    <a:pt x="177" y="330"/>
                  </a:lnTo>
                  <a:lnTo>
                    <a:pt x="177" y="330"/>
                  </a:lnTo>
                  <a:lnTo>
                    <a:pt x="179" y="330"/>
                  </a:lnTo>
                  <a:lnTo>
                    <a:pt x="180" y="330"/>
                  </a:lnTo>
                  <a:lnTo>
                    <a:pt x="181" y="329"/>
                  </a:lnTo>
                  <a:lnTo>
                    <a:pt x="183" y="328"/>
                  </a:lnTo>
                  <a:lnTo>
                    <a:pt x="184" y="327"/>
                  </a:lnTo>
                  <a:lnTo>
                    <a:pt x="185" y="327"/>
                  </a:lnTo>
                  <a:lnTo>
                    <a:pt x="186" y="327"/>
                  </a:lnTo>
                  <a:lnTo>
                    <a:pt x="187" y="327"/>
                  </a:lnTo>
                  <a:lnTo>
                    <a:pt x="189" y="328"/>
                  </a:lnTo>
                  <a:lnTo>
                    <a:pt x="191" y="329"/>
                  </a:lnTo>
                  <a:lnTo>
                    <a:pt x="193" y="330"/>
                  </a:lnTo>
                  <a:lnTo>
                    <a:pt x="195" y="331"/>
                  </a:lnTo>
                  <a:lnTo>
                    <a:pt x="197" y="332"/>
                  </a:lnTo>
                  <a:lnTo>
                    <a:pt x="199" y="332"/>
                  </a:lnTo>
                  <a:lnTo>
                    <a:pt x="201" y="333"/>
                  </a:lnTo>
                  <a:lnTo>
                    <a:pt x="203" y="333"/>
                  </a:lnTo>
                  <a:lnTo>
                    <a:pt x="203" y="333"/>
                  </a:lnTo>
                  <a:lnTo>
                    <a:pt x="202" y="333"/>
                  </a:lnTo>
                  <a:lnTo>
                    <a:pt x="202" y="333"/>
                  </a:lnTo>
                  <a:lnTo>
                    <a:pt x="202" y="333"/>
                  </a:lnTo>
                  <a:lnTo>
                    <a:pt x="203" y="333"/>
                  </a:lnTo>
                  <a:lnTo>
                    <a:pt x="206" y="333"/>
                  </a:lnTo>
                  <a:lnTo>
                    <a:pt x="208" y="333"/>
                  </a:lnTo>
                  <a:lnTo>
                    <a:pt x="209" y="334"/>
                  </a:lnTo>
                  <a:lnTo>
                    <a:pt x="211" y="335"/>
                  </a:lnTo>
                  <a:lnTo>
                    <a:pt x="212" y="335"/>
                  </a:lnTo>
                  <a:lnTo>
                    <a:pt x="213" y="337"/>
                  </a:lnTo>
                  <a:lnTo>
                    <a:pt x="214" y="338"/>
                  </a:lnTo>
                  <a:lnTo>
                    <a:pt x="215" y="338"/>
                  </a:lnTo>
                  <a:lnTo>
                    <a:pt x="216" y="338"/>
                  </a:lnTo>
                  <a:lnTo>
                    <a:pt x="217" y="338"/>
                  </a:lnTo>
                  <a:lnTo>
                    <a:pt x="218" y="338"/>
                  </a:lnTo>
                  <a:lnTo>
                    <a:pt x="218" y="339"/>
                  </a:lnTo>
                  <a:lnTo>
                    <a:pt x="218" y="341"/>
                  </a:lnTo>
                  <a:lnTo>
                    <a:pt x="218" y="342"/>
                  </a:lnTo>
                  <a:lnTo>
                    <a:pt x="218" y="343"/>
                  </a:lnTo>
                  <a:lnTo>
                    <a:pt x="217" y="344"/>
                  </a:lnTo>
                  <a:lnTo>
                    <a:pt x="217" y="346"/>
                  </a:lnTo>
                  <a:lnTo>
                    <a:pt x="217" y="347"/>
                  </a:lnTo>
                  <a:lnTo>
                    <a:pt x="217" y="348"/>
                  </a:lnTo>
                  <a:lnTo>
                    <a:pt x="217" y="350"/>
                  </a:lnTo>
                  <a:lnTo>
                    <a:pt x="219" y="351"/>
                  </a:lnTo>
                  <a:lnTo>
                    <a:pt x="220" y="352"/>
                  </a:lnTo>
                  <a:lnTo>
                    <a:pt x="221" y="352"/>
                  </a:lnTo>
                  <a:lnTo>
                    <a:pt x="223" y="352"/>
                  </a:lnTo>
                  <a:lnTo>
                    <a:pt x="224" y="352"/>
                  </a:lnTo>
                  <a:lnTo>
                    <a:pt x="225" y="352"/>
                  </a:lnTo>
                  <a:lnTo>
                    <a:pt x="226" y="353"/>
                  </a:lnTo>
                  <a:lnTo>
                    <a:pt x="228" y="355"/>
                  </a:lnTo>
                  <a:lnTo>
                    <a:pt x="228" y="357"/>
                  </a:lnTo>
                  <a:lnTo>
                    <a:pt x="229" y="360"/>
                  </a:lnTo>
                  <a:lnTo>
                    <a:pt x="229" y="362"/>
                  </a:lnTo>
                  <a:lnTo>
                    <a:pt x="229" y="365"/>
                  </a:lnTo>
                  <a:lnTo>
                    <a:pt x="228" y="367"/>
                  </a:lnTo>
                  <a:lnTo>
                    <a:pt x="228" y="370"/>
                  </a:lnTo>
                  <a:lnTo>
                    <a:pt x="228" y="373"/>
                  </a:lnTo>
                  <a:lnTo>
                    <a:pt x="227" y="372"/>
                  </a:lnTo>
                  <a:lnTo>
                    <a:pt x="227" y="373"/>
                  </a:lnTo>
                  <a:lnTo>
                    <a:pt x="227" y="374"/>
                  </a:lnTo>
                  <a:lnTo>
                    <a:pt x="226" y="374"/>
                  </a:lnTo>
                  <a:lnTo>
                    <a:pt x="226" y="377"/>
                  </a:lnTo>
                  <a:lnTo>
                    <a:pt x="226" y="380"/>
                  </a:lnTo>
                  <a:lnTo>
                    <a:pt x="226" y="383"/>
                  </a:lnTo>
                  <a:lnTo>
                    <a:pt x="227" y="387"/>
                  </a:lnTo>
                  <a:lnTo>
                    <a:pt x="227" y="390"/>
                  </a:lnTo>
                  <a:lnTo>
                    <a:pt x="227" y="393"/>
                  </a:lnTo>
                  <a:lnTo>
                    <a:pt x="228" y="396"/>
                  </a:lnTo>
                  <a:lnTo>
                    <a:pt x="228" y="399"/>
                  </a:lnTo>
                  <a:lnTo>
                    <a:pt x="228" y="401"/>
                  </a:lnTo>
                  <a:lnTo>
                    <a:pt x="229" y="404"/>
                  </a:lnTo>
                  <a:lnTo>
                    <a:pt x="229" y="407"/>
                  </a:lnTo>
                  <a:lnTo>
                    <a:pt x="229" y="410"/>
                  </a:lnTo>
                  <a:lnTo>
                    <a:pt x="229" y="413"/>
                  </a:lnTo>
                  <a:lnTo>
                    <a:pt x="229" y="416"/>
                  </a:lnTo>
                  <a:lnTo>
                    <a:pt x="229" y="419"/>
                  </a:lnTo>
                  <a:lnTo>
                    <a:pt x="228" y="422"/>
                  </a:lnTo>
                  <a:lnTo>
                    <a:pt x="231" y="422"/>
                  </a:lnTo>
                  <a:lnTo>
                    <a:pt x="233" y="422"/>
                  </a:lnTo>
                  <a:lnTo>
                    <a:pt x="236" y="423"/>
                  </a:lnTo>
                  <a:lnTo>
                    <a:pt x="239" y="423"/>
                  </a:lnTo>
                  <a:lnTo>
                    <a:pt x="241" y="423"/>
                  </a:lnTo>
                  <a:lnTo>
                    <a:pt x="243" y="423"/>
                  </a:lnTo>
                  <a:lnTo>
                    <a:pt x="245" y="422"/>
                  </a:lnTo>
                  <a:lnTo>
                    <a:pt x="246" y="421"/>
                  </a:lnTo>
                  <a:lnTo>
                    <a:pt x="249" y="419"/>
                  </a:lnTo>
                  <a:lnTo>
                    <a:pt x="251" y="417"/>
                  </a:lnTo>
                  <a:lnTo>
                    <a:pt x="254" y="416"/>
                  </a:lnTo>
                  <a:lnTo>
                    <a:pt x="256" y="415"/>
                  </a:lnTo>
                  <a:lnTo>
                    <a:pt x="259" y="414"/>
                  </a:lnTo>
                  <a:lnTo>
                    <a:pt x="262" y="414"/>
                  </a:lnTo>
                  <a:lnTo>
                    <a:pt x="265" y="413"/>
                  </a:lnTo>
                  <a:lnTo>
                    <a:pt x="269" y="412"/>
                  </a:lnTo>
                  <a:lnTo>
                    <a:pt x="270" y="411"/>
                  </a:lnTo>
                  <a:lnTo>
                    <a:pt x="271" y="410"/>
                  </a:lnTo>
                  <a:lnTo>
                    <a:pt x="272" y="409"/>
                  </a:lnTo>
                  <a:lnTo>
                    <a:pt x="272" y="408"/>
                  </a:lnTo>
                  <a:lnTo>
                    <a:pt x="271" y="407"/>
                  </a:lnTo>
                  <a:lnTo>
                    <a:pt x="270" y="407"/>
                  </a:lnTo>
                  <a:lnTo>
                    <a:pt x="269" y="406"/>
                  </a:lnTo>
                  <a:lnTo>
                    <a:pt x="267" y="405"/>
                  </a:lnTo>
                  <a:lnTo>
                    <a:pt x="266" y="404"/>
                  </a:lnTo>
                  <a:lnTo>
                    <a:pt x="265" y="404"/>
                  </a:lnTo>
                  <a:lnTo>
                    <a:pt x="264" y="403"/>
                  </a:lnTo>
                  <a:lnTo>
                    <a:pt x="263" y="402"/>
                  </a:lnTo>
                  <a:lnTo>
                    <a:pt x="449" y="223"/>
                  </a:lnTo>
                  <a:lnTo>
                    <a:pt x="228" y="0"/>
                  </a:lnTo>
                  <a:lnTo>
                    <a:pt x="228" y="0"/>
                  </a:lnTo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29280" y="2554200"/>
              <a:ext cx="370080" cy="192240"/>
            </a:xfrm>
            <a:custGeom>
              <a:avLst/>
              <a:gdLst/>
              <a:ahLst/>
              <a:rect l="l" t="t" r="r" b="b"/>
              <a:pathLst>
                <a:path w="701" h="362">
                  <a:moveTo>
                    <a:pt x="2" y="151"/>
                  </a:moveTo>
                  <a:lnTo>
                    <a:pt x="145" y="118"/>
                  </a:lnTo>
                  <a:lnTo>
                    <a:pt x="371" y="68"/>
                  </a:lnTo>
                  <a:lnTo>
                    <a:pt x="373" y="60"/>
                  </a:lnTo>
                  <a:lnTo>
                    <a:pt x="380" y="54"/>
                  </a:lnTo>
                  <a:lnTo>
                    <a:pt x="386" y="60"/>
                  </a:lnTo>
                  <a:lnTo>
                    <a:pt x="390" y="54"/>
                  </a:lnTo>
                  <a:lnTo>
                    <a:pt x="386" y="37"/>
                  </a:lnTo>
                  <a:lnTo>
                    <a:pt x="406" y="31"/>
                  </a:lnTo>
                  <a:lnTo>
                    <a:pt x="421" y="3"/>
                  </a:lnTo>
                  <a:lnTo>
                    <a:pt x="436" y="0"/>
                  </a:lnTo>
                  <a:lnTo>
                    <a:pt x="449" y="6"/>
                  </a:lnTo>
                  <a:lnTo>
                    <a:pt x="457" y="38"/>
                  </a:lnTo>
                  <a:lnTo>
                    <a:pt x="484" y="58"/>
                  </a:lnTo>
                  <a:lnTo>
                    <a:pt x="491" y="69"/>
                  </a:lnTo>
                  <a:lnTo>
                    <a:pt x="487" y="79"/>
                  </a:lnTo>
                  <a:lnTo>
                    <a:pt x="475" y="86"/>
                  </a:lnTo>
                  <a:lnTo>
                    <a:pt x="463" y="109"/>
                  </a:lnTo>
                  <a:lnTo>
                    <a:pt x="453" y="141"/>
                  </a:lnTo>
                  <a:lnTo>
                    <a:pt x="455" y="154"/>
                  </a:lnTo>
                  <a:lnTo>
                    <a:pt x="484" y="154"/>
                  </a:lnTo>
                  <a:lnTo>
                    <a:pt x="509" y="167"/>
                  </a:lnTo>
                  <a:lnTo>
                    <a:pt x="550" y="208"/>
                  </a:lnTo>
                  <a:lnTo>
                    <a:pt x="563" y="235"/>
                  </a:lnTo>
                  <a:lnTo>
                    <a:pt x="581" y="257"/>
                  </a:lnTo>
                  <a:lnTo>
                    <a:pt x="629" y="262"/>
                  </a:lnTo>
                  <a:lnTo>
                    <a:pt x="658" y="251"/>
                  </a:lnTo>
                  <a:lnTo>
                    <a:pt x="674" y="215"/>
                  </a:lnTo>
                  <a:lnTo>
                    <a:pt x="664" y="211"/>
                  </a:lnTo>
                  <a:lnTo>
                    <a:pt x="645" y="194"/>
                  </a:lnTo>
                  <a:lnTo>
                    <a:pt x="623" y="182"/>
                  </a:lnTo>
                  <a:lnTo>
                    <a:pt x="624" y="168"/>
                  </a:lnTo>
                  <a:lnTo>
                    <a:pt x="642" y="170"/>
                  </a:lnTo>
                  <a:lnTo>
                    <a:pt x="650" y="172"/>
                  </a:lnTo>
                  <a:lnTo>
                    <a:pt x="682" y="215"/>
                  </a:lnTo>
                  <a:lnTo>
                    <a:pt x="701" y="262"/>
                  </a:lnTo>
                  <a:lnTo>
                    <a:pt x="699" y="282"/>
                  </a:lnTo>
                  <a:lnTo>
                    <a:pt x="680" y="268"/>
                  </a:lnTo>
                  <a:lnTo>
                    <a:pt x="658" y="286"/>
                  </a:lnTo>
                  <a:lnTo>
                    <a:pt x="626" y="301"/>
                  </a:lnTo>
                  <a:lnTo>
                    <a:pt x="590" y="329"/>
                  </a:lnTo>
                  <a:lnTo>
                    <a:pt x="577" y="329"/>
                  </a:lnTo>
                  <a:lnTo>
                    <a:pt x="573" y="325"/>
                  </a:lnTo>
                  <a:lnTo>
                    <a:pt x="573" y="314"/>
                  </a:lnTo>
                  <a:lnTo>
                    <a:pt x="569" y="290"/>
                  </a:lnTo>
                  <a:lnTo>
                    <a:pt x="562" y="290"/>
                  </a:lnTo>
                  <a:lnTo>
                    <a:pt x="542" y="322"/>
                  </a:lnTo>
                  <a:lnTo>
                    <a:pt x="520" y="355"/>
                  </a:lnTo>
                  <a:lnTo>
                    <a:pt x="512" y="362"/>
                  </a:lnTo>
                  <a:lnTo>
                    <a:pt x="497" y="343"/>
                  </a:lnTo>
                  <a:lnTo>
                    <a:pt x="494" y="337"/>
                  </a:lnTo>
                  <a:lnTo>
                    <a:pt x="487" y="335"/>
                  </a:lnTo>
                  <a:lnTo>
                    <a:pt x="482" y="329"/>
                  </a:lnTo>
                  <a:lnTo>
                    <a:pt x="469" y="321"/>
                  </a:lnTo>
                  <a:lnTo>
                    <a:pt x="469" y="312"/>
                  </a:lnTo>
                  <a:lnTo>
                    <a:pt x="431" y="303"/>
                  </a:lnTo>
                  <a:lnTo>
                    <a:pt x="421" y="276"/>
                  </a:lnTo>
                  <a:lnTo>
                    <a:pt x="411" y="271"/>
                  </a:lnTo>
                  <a:lnTo>
                    <a:pt x="401" y="249"/>
                  </a:lnTo>
                  <a:lnTo>
                    <a:pt x="326" y="265"/>
                  </a:lnTo>
                  <a:lnTo>
                    <a:pt x="148" y="312"/>
                  </a:lnTo>
                  <a:lnTo>
                    <a:pt x="145" y="322"/>
                  </a:lnTo>
                  <a:lnTo>
                    <a:pt x="142" y="324"/>
                  </a:lnTo>
                  <a:lnTo>
                    <a:pt x="129" y="310"/>
                  </a:lnTo>
                  <a:lnTo>
                    <a:pt x="8" y="341"/>
                  </a:lnTo>
                  <a:lnTo>
                    <a:pt x="0" y="333"/>
                  </a:lnTo>
                  <a:lnTo>
                    <a:pt x="2" y="151"/>
                  </a:lnTo>
                  <a:lnTo>
                    <a:pt x="2" y="151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00640" y="2685960"/>
              <a:ext cx="98640" cy="106560"/>
            </a:xfrm>
            <a:custGeom>
              <a:avLst/>
              <a:gdLst/>
              <a:ahLst/>
              <a:rect l="l" t="t" r="r" b="b"/>
              <a:pathLst>
                <a:path w="186" h="203">
                  <a:moveTo>
                    <a:pt x="0" y="16"/>
                  </a:moveTo>
                  <a:lnTo>
                    <a:pt x="43" y="165"/>
                  </a:lnTo>
                  <a:lnTo>
                    <a:pt x="38" y="178"/>
                  </a:lnTo>
                  <a:lnTo>
                    <a:pt x="35" y="187"/>
                  </a:lnTo>
                  <a:lnTo>
                    <a:pt x="38" y="193"/>
                  </a:lnTo>
                  <a:lnTo>
                    <a:pt x="38" y="201"/>
                  </a:lnTo>
                  <a:lnTo>
                    <a:pt x="47" y="203"/>
                  </a:lnTo>
                  <a:lnTo>
                    <a:pt x="86" y="175"/>
                  </a:lnTo>
                  <a:lnTo>
                    <a:pt x="108" y="157"/>
                  </a:lnTo>
                  <a:lnTo>
                    <a:pt x="108" y="141"/>
                  </a:lnTo>
                  <a:lnTo>
                    <a:pt x="101" y="128"/>
                  </a:lnTo>
                  <a:lnTo>
                    <a:pt x="101" y="104"/>
                  </a:lnTo>
                  <a:lnTo>
                    <a:pt x="118" y="88"/>
                  </a:lnTo>
                  <a:lnTo>
                    <a:pt x="127" y="94"/>
                  </a:lnTo>
                  <a:lnTo>
                    <a:pt x="126" y="109"/>
                  </a:lnTo>
                  <a:lnTo>
                    <a:pt x="127" y="141"/>
                  </a:lnTo>
                  <a:lnTo>
                    <a:pt x="131" y="150"/>
                  </a:lnTo>
                  <a:lnTo>
                    <a:pt x="144" y="148"/>
                  </a:lnTo>
                  <a:lnTo>
                    <a:pt x="144" y="130"/>
                  </a:lnTo>
                  <a:lnTo>
                    <a:pt x="153" y="130"/>
                  </a:lnTo>
                  <a:lnTo>
                    <a:pt x="163" y="116"/>
                  </a:lnTo>
                  <a:lnTo>
                    <a:pt x="183" y="114"/>
                  </a:lnTo>
                  <a:lnTo>
                    <a:pt x="186" y="114"/>
                  </a:lnTo>
                  <a:lnTo>
                    <a:pt x="171" y="94"/>
                  </a:lnTo>
                  <a:lnTo>
                    <a:pt x="168" y="88"/>
                  </a:lnTo>
                  <a:lnTo>
                    <a:pt x="161" y="87"/>
                  </a:lnTo>
                  <a:lnTo>
                    <a:pt x="156" y="81"/>
                  </a:lnTo>
                  <a:lnTo>
                    <a:pt x="143" y="73"/>
                  </a:lnTo>
                  <a:lnTo>
                    <a:pt x="143" y="63"/>
                  </a:lnTo>
                  <a:lnTo>
                    <a:pt x="105" y="55"/>
                  </a:lnTo>
                  <a:lnTo>
                    <a:pt x="95" y="27"/>
                  </a:lnTo>
                  <a:lnTo>
                    <a:pt x="85" y="22"/>
                  </a:lnTo>
                  <a:lnTo>
                    <a:pt x="75" y="0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33960" y="2693880"/>
              <a:ext cx="190800" cy="189000"/>
            </a:xfrm>
            <a:custGeom>
              <a:avLst/>
              <a:gdLst/>
              <a:ahLst/>
              <a:rect l="l" t="t" r="r" b="b"/>
              <a:pathLst>
                <a:path w="361" h="358">
                  <a:moveTo>
                    <a:pt x="0" y="77"/>
                  </a:moveTo>
                  <a:lnTo>
                    <a:pt x="121" y="46"/>
                  </a:lnTo>
                  <a:lnTo>
                    <a:pt x="134" y="59"/>
                  </a:lnTo>
                  <a:lnTo>
                    <a:pt x="137" y="57"/>
                  </a:lnTo>
                  <a:lnTo>
                    <a:pt x="140" y="47"/>
                  </a:lnTo>
                  <a:lnTo>
                    <a:pt x="318" y="0"/>
                  </a:lnTo>
                  <a:lnTo>
                    <a:pt x="361" y="149"/>
                  </a:lnTo>
                  <a:lnTo>
                    <a:pt x="355" y="162"/>
                  </a:lnTo>
                  <a:lnTo>
                    <a:pt x="353" y="171"/>
                  </a:lnTo>
                  <a:lnTo>
                    <a:pt x="355" y="177"/>
                  </a:lnTo>
                  <a:lnTo>
                    <a:pt x="355" y="185"/>
                  </a:lnTo>
                  <a:lnTo>
                    <a:pt x="334" y="188"/>
                  </a:lnTo>
                  <a:lnTo>
                    <a:pt x="271" y="213"/>
                  </a:lnTo>
                  <a:lnTo>
                    <a:pt x="255" y="210"/>
                  </a:lnTo>
                  <a:lnTo>
                    <a:pt x="250" y="217"/>
                  </a:lnTo>
                  <a:lnTo>
                    <a:pt x="250" y="227"/>
                  </a:lnTo>
                  <a:lnTo>
                    <a:pt x="245" y="232"/>
                  </a:lnTo>
                  <a:lnTo>
                    <a:pt x="210" y="238"/>
                  </a:lnTo>
                  <a:lnTo>
                    <a:pt x="159" y="259"/>
                  </a:lnTo>
                  <a:lnTo>
                    <a:pt x="152" y="253"/>
                  </a:lnTo>
                  <a:lnTo>
                    <a:pt x="123" y="284"/>
                  </a:lnTo>
                  <a:lnTo>
                    <a:pt x="54" y="342"/>
                  </a:lnTo>
                  <a:lnTo>
                    <a:pt x="29" y="358"/>
                  </a:lnTo>
                  <a:lnTo>
                    <a:pt x="6" y="335"/>
                  </a:lnTo>
                  <a:lnTo>
                    <a:pt x="36" y="302"/>
                  </a:lnTo>
                  <a:lnTo>
                    <a:pt x="41" y="290"/>
                  </a:lnTo>
                  <a:lnTo>
                    <a:pt x="26" y="273"/>
                  </a:lnTo>
                  <a:lnTo>
                    <a:pt x="0" y="77"/>
                  </a:lnTo>
                  <a:lnTo>
                    <a:pt x="0" y="7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942160" y="2279520"/>
              <a:ext cx="193680" cy="354240"/>
            </a:xfrm>
            <a:custGeom>
              <a:avLst/>
              <a:gdLst/>
              <a:ahLst/>
              <a:rect l="l" t="t" r="r" b="b"/>
              <a:pathLst>
                <a:path w="366" h="667">
                  <a:moveTo>
                    <a:pt x="0" y="86"/>
                  </a:moveTo>
                  <a:lnTo>
                    <a:pt x="12" y="112"/>
                  </a:lnTo>
                  <a:lnTo>
                    <a:pt x="8" y="126"/>
                  </a:lnTo>
                  <a:lnTo>
                    <a:pt x="17" y="137"/>
                  </a:lnTo>
                  <a:lnTo>
                    <a:pt x="18" y="147"/>
                  </a:lnTo>
                  <a:lnTo>
                    <a:pt x="48" y="223"/>
                  </a:lnTo>
                  <a:lnTo>
                    <a:pt x="60" y="278"/>
                  </a:lnTo>
                  <a:lnTo>
                    <a:pt x="44" y="305"/>
                  </a:lnTo>
                  <a:lnTo>
                    <a:pt x="48" y="335"/>
                  </a:lnTo>
                  <a:lnTo>
                    <a:pt x="81" y="409"/>
                  </a:lnTo>
                  <a:lnTo>
                    <a:pt x="76" y="445"/>
                  </a:lnTo>
                  <a:lnTo>
                    <a:pt x="84" y="457"/>
                  </a:lnTo>
                  <a:lnTo>
                    <a:pt x="88" y="455"/>
                  </a:lnTo>
                  <a:lnTo>
                    <a:pt x="87" y="447"/>
                  </a:lnTo>
                  <a:lnTo>
                    <a:pt x="99" y="445"/>
                  </a:lnTo>
                  <a:lnTo>
                    <a:pt x="119" y="476"/>
                  </a:lnTo>
                  <a:lnTo>
                    <a:pt x="131" y="543"/>
                  </a:lnTo>
                  <a:lnTo>
                    <a:pt x="131" y="581"/>
                  </a:lnTo>
                  <a:lnTo>
                    <a:pt x="145" y="623"/>
                  </a:lnTo>
                  <a:lnTo>
                    <a:pt x="166" y="667"/>
                  </a:lnTo>
                  <a:lnTo>
                    <a:pt x="310" y="634"/>
                  </a:lnTo>
                  <a:lnTo>
                    <a:pt x="306" y="622"/>
                  </a:lnTo>
                  <a:lnTo>
                    <a:pt x="288" y="606"/>
                  </a:lnTo>
                  <a:lnTo>
                    <a:pt x="290" y="577"/>
                  </a:lnTo>
                  <a:lnTo>
                    <a:pt x="297" y="568"/>
                  </a:lnTo>
                  <a:lnTo>
                    <a:pt x="289" y="545"/>
                  </a:lnTo>
                  <a:lnTo>
                    <a:pt x="278" y="436"/>
                  </a:lnTo>
                  <a:lnTo>
                    <a:pt x="278" y="402"/>
                  </a:lnTo>
                  <a:lnTo>
                    <a:pt x="292" y="341"/>
                  </a:lnTo>
                  <a:lnTo>
                    <a:pt x="301" y="300"/>
                  </a:lnTo>
                  <a:lnTo>
                    <a:pt x="304" y="267"/>
                  </a:lnTo>
                  <a:lnTo>
                    <a:pt x="292" y="244"/>
                  </a:lnTo>
                  <a:lnTo>
                    <a:pt x="292" y="221"/>
                  </a:lnTo>
                  <a:lnTo>
                    <a:pt x="301" y="206"/>
                  </a:lnTo>
                  <a:lnTo>
                    <a:pt x="343" y="172"/>
                  </a:lnTo>
                  <a:lnTo>
                    <a:pt x="366" y="112"/>
                  </a:lnTo>
                  <a:lnTo>
                    <a:pt x="343" y="80"/>
                  </a:lnTo>
                  <a:lnTo>
                    <a:pt x="341" y="61"/>
                  </a:lnTo>
                  <a:lnTo>
                    <a:pt x="347" y="50"/>
                  </a:lnTo>
                  <a:lnTo>
                    <a:pt x="347" y="40"/>
                  </a:lnTo>
                  <a:lnTo>
                    <a:pt x="335" y="0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49880" y="1876320"/>
              <a:ext cx="408240" cy="658800"/>
            </a:xfrm>
            <a:custGeom>
              <a:avLst/>
              <a:gdLst/>
              <a:ahLst/>
              <a:rect l="l" t="t" r="r" b="b"/>
              <a:pathLst>
                <a:path w="771" h="1246">
                  <a:moveTo>
                    <a:pt x="0" y="667"/>
                  </a:moveTo>
                  <a:lnTo>
                    <a:pt x="150" y="1116"/>
                  </a:lnTo>
                  <a:lnTo>
                    <a:pt x="151" y="1126"/>
                  </a:lnTo>
                  <a:lnTo>
                    <a:pt x="150" y="1145"/>
                  </a:lnTo>
                  <a:lnTo>
                    <a:pt x="153" y="1153"/>
                  </a:lnTo>
                  <a:lnTo>
                    <a:pt x="189" y="1181"/>
                  </a:lnTo>
                  <a:lnTo>
                    <a:pt x="198" y="1183"/>
                  </a:lnTo>
                  <a:lnTo>
                    <a:pt x="202" y="1199"/>
                  </a:lnTo>
                  <a:lnTo>
                    <a:pt x="200" y="1209"/>
                  </a:lnTo>
                  <a:lnTo>
                    <a:pt x="223" y="1246"/>
                  </a:lnTo>
                  <a:lnTo>
                    <a:pt x="227" y="1235"/>
                  </a:lnTo>
                  <a:lnTo>
                    <a:pt x="232" y="1209"/>
                  </a:lnTo>
                  <a:lnTo>
                    <a:pt x="237" y="1175"/>
                  </a:lnTo>
                  <a:lnTo>
                    <a:pt x="252" y="1141"/>
                  </a:lnTo>
                  <a:lnTo>
                    <a:pt x="264" y="1091"/>
                  </a:lnTo>
                  <a:lnTo>
                    <a:pt x="283" y="1071"/>
                  </a:lnTo>
                  <a:lnTo>
                    <a:pt x="284" y="1063"/>
                  </a:lnTo>
                  <a:lnTo>
                    <a:pt x="274" y="1056"/>
                  </a:lnTo>
                  <a:lnTo>
                    <a:pt x="265" y="1028"/>
                  </a:lnTo>
                  <a:lnTo>
                    <a:pt x="315" y="983"/>
                  </a:lnTo>
                  <a:lnTo>
                    <a:pt x="322" y="987"/>
                  </a:lnTo>
                  <a:lnTo>
                    <a:pt x="331" y="1011"/>
                  </a:lnTo>
                  <a:lnTo>
                    <a:pt x="339" y="1016"/>
                  </a:lnTo>
                  <a:lnTo>
                    <a:pt x="343" y="1005"/>
                  </a:lnTo>
                  <a:lnTo>
                    <a:pt x="343" y="985"/>
                  </a:lnTo>
                  <a:lnTo>
                    <a:pt x="346" y="973"/>
                  </a:lnTo>
                  <a:lnTo>
                    <a:pt x="385" y="967"/>
                  </a:lnTo>
                  <a:lnTo>
                    <a:pt x="398" y="951"/>
                  </a:lnTo>
                  <a:lnTo>
                    <a:pt x="400" y="935"/>
                  </a:lnTo>
                  <a:lnTo>
                    <a:pt x="406" y="924"/>
                  </a:lnTo>
                  <a:lnTo>
                    <a:pt x="426" y="926"/>
                  </a:lnTo>
                  <a:lnTo>
                    <a:pt x="442" y="916"/>
                  </a:lnTo>
                  <a:lnTo>
                    <a:pt x="447" y="910"/>
                  </a:lnTo>
                  <a:lnTo>
                    <a:pt x="455" y="876"/>
                  </a:lnTo>
                  <a:lnTo>
                    <a:pt x="451" y="853"/>
                  </a:lnTo>
                  <a:lnTo>
                    <a:pt x="476" y="822"/>
                  </a:lnTo>
                  <a:lnTo>
                    <a:pt x="476" y="808"/>
                  </a:lnTo>
                  <a:lnTo>
                    <a:pt x="487" y="808"/>
                  </a:lnTo>
                  <a:lnTo>
                    <a:pt x="513" y="812"/>
                  </a:lnTo>
                  <a:lnTo>
                    <a:pt x="528" y="806"/>
                  </a:lnTo>
                  <a:lnTo>
                    <a:pt x="535" y="791"/>
                  </a:lnTo>
                  <a:lnTo>
                    <a:pt x="545" y="765"/>
                  </a:lnTo>
                  <a:lnTo>
                    <a:pt x="556" y="762"/>
                  </a:lnTo>
                  <a:lnTo>
                    <a:pt x="573" y="734"/>
                  </a:lnTo>
                  <a:lnTo>
                    <a:pt x="602" y="739"/>
                  </a:lnTo>
                  <a:lnTo>
                    <a:pt x="621" y="757"/>
                  </a:lnTo>
                  <a:lnTo>
                    <a:pt x="653" y="706"/>
                  </a:lnTo>
                  <a:lnTo>
                    <a:pt x="674" y="693"/>
                  </a:lnTo>
                  <a:lnTo>
                    <a:pt x="715" y="657"/>
                  </a:lnTo>
                  <a:lnTo>
                    <a:pt x="726" y="642"/>
                  </a:lnTo>
                  <a:lnTo>
                    <a:pt x="731" y="633"/>
                  </a:lnTo>
                  <a:lnTo>
                    <a:pt x="744" y="635"/>
                  </a:lnTo>
                  <a:lnTo>
                    <a:pt x="762" y="625"/>
                  </a:lnTo>
                  <a:lnTo>
                    <a:pt x="771" y="602"/>
                  </a:lnTo>
                  <a:lnTo>
                    <a:pt x="768" y="585"/>
                  </a:lnTo>
                  <a:lnTo>
                    <a:pt x="753" y="576"/>
                  </a:lnTo>
                  <a:lnTo>
                    <a:pt x="750" y="580"/>
                  </a:lnTo>
                  <a:lnTo>
                    <a:pt x="739" y="573"/>
                  </a:lnTo>
                  <a:lnTo>
                    <a:pt x="747" y="555"/>
                  </a:lnTo>
                  <a:lnTo>
                    <a:pt x="753" y="553"/>
                  </a:lnTo>
                  <a:lnTo>
                    <a:pt x="750" y="539"/>
                  </a:lnTo>
                  <a:lnTo>
                    <a:pt x="734" y="503"/>
                  </a:lnTo>
                  <a:lnTo>
                    <a:pt x="714" y="495"/>
                  </a:lnTo>
                  <a:lnTo>
                    <a:pt x="702" y="497"/>
                  </a:lnTo>
                  <a:lnTo>
                    <a:pt x="695" y="504"/>
                  </a:lnTo>
                  <a:lnTo>
                    <a:pt x="677" y="506"/>
                  </a:lnTo>
                  <a:lnTo>
                    <a:pt x="659" y="500"/>
                  </a:lnTo>
                  <a:lnTo>
                    <a:pt x="642" y="434"/>
                  </a:lnTo>
                  <a:lnTo>
                    <a:pt x="649" y="425"/>
                  </a:lnTo>
                  <a:lnTo>
                    <a:pt x="648" y="413"/>
                  </a:lnTo>
                  <a:lnTo>
                    <a:pt x="640" y="406"/>
                  </a:lnTo>
                  <a:lnTo>
                    <a:pt x="627" y="406"/>
                  </a:lnTo>
                  <a:lnTo>
                    <a:pt x="621" y="412"/>
                  </a:lnTo>
                  <a:lnTo>
                    <a:pt x="592" y="403"/>
                  </a:lnTo>
                  <a:lnTo>
                    <a:pt x="575" y="403"/>
                  </a:lnTo>
                  <a:lnTo>
                    <a:pt x="567" y="396"/>
                  </a:lnTo>
                  <a:lnTo>
                    <a:pt x="554" y="356"/>
                  </a:lnTo>
                  <a:lnTo>
                    <a:pt x="554" y="346"/>
                  </a:lnTo>
                  <a:lnTo>
                    <a:pt x="459" y="54"/>
                  </a:lnTo>
                  <a:lnTo>
                    <a:pt x="379" y="5"/>
                  </a:lnTo>
                  <a:lnTo>
                    <a:pt x="359" y="0"/>
                  </a:lnTo>
                  <a:lnTo>
                    <a:pt x="339" y="3"/>
                  </a:lnTo>
                  <a:lnTo>
                    <a:pt x="331" y="16"/>
                  </a:lnTo>
                  <a:lnTo>
                    <a:pt x="325" y="29"/>
                  </a:lnTo>
                  <a:lnTo>
                    <a:pt x="315" y="29"/>
                  </a:lnTo>
                  <a:lnTo>
                    <a:pt x="286" y="42"/>
                  </a:lnTo>
                  <a:lnTo>
                    <a:pt x="245" y="79"/>
                  </a:lnTo>
                  <a:lnTo>
                    <a:pt x="232" y="82"/>
                  </a:lnTo>
                  <a:lnTo>
                    <a:pt x="215" y="60"/>
                  </a:lnTo>
                  <a:lnTo>
                    <a:pt x="217" y="31"/>
                  </a:lnTo>
                  <a:lnTo>
                    <a:pt x="210" y="21"/>
                  </a:lnTo>
                  <a:lnTo>
                    <a:pt x="198" y="21"/>
                  </a:lnTo>
                  <a:lnTo>
                    <a:pt x="169" y="31"/>
                  </a:lnTo>
                  <a:lnTo>
                    <a:pt x="99" y="258"/>
                  </a:lnTo>
                  <a:lnTo>
                    <a:pt x="95" y="292"/>
                  </a:lnTo>
                  <a:lnTo>
                    <a:pt x="110" y="308"/>
                  </a:lnTo>
                  <a:lnTo>
                    <a:pt x="110" y="334"/>
                  </a:lnTo>
                  <a:lnTo>
                    <a:pt x="101" y="350"/>
                  </a:lnTo>
                  <a:lnTo>
                    <a:pt x="91" y="360"/>
                  </a:lnTo>
                  <a:lnTo>
                    <a:pt x="82" y="380"/>
                  </a:lnTo>
                  <a:lnTo>
                    <a:pt x="107" y="473"/>
                  </a:lnTo>
                  <a:lnTo>
                    <a:pt x="95" y="503"/>
                  </a:lnTo>
                  <a:lnTo>
                    <a:pt x="95" y="527"/>
                  </a:lnTo>
                  <a:lnTo>
                    <a:pt x="63" y="572"/>
                  </a:lnTo>
                  <a:lnTo>
                    <a:pt x="55" y="589"/>
                  </a:lnTo>
                  <a:lnTo>
                    <a:pt x="69" y="617"/>
                  </a:lnTo>
                  <a:lnTo>
                    <a:pt x="68" y="621"/>
                  </a:lnTo>
                  <a:lnTo>
                    <a:pt x="49" y="621"/>
                  </a:lnTo>
                  <a:lnTo>
                    <a:pt x="49" y="647"/>
                  </a:lnTo>
                  <a:lnTo>
                    <a:pt x="45" y="659"/>
                  </a:lnTo>
                  <a:lnTo>
                    <a:pt x="33" y="657"/>
                  </a:lnTo>
                  <a:lnTo>
                    <a:pt x="19" y="653"/>
                  </a:lnTo>
                  <a:lnTo>
                    <a:pt x="0" y="667"/>
                  </a:lnTo>
                  <a:lnTo>
                    <a:pt x="0" y="667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89760" y="2228760"/>
              <a:ext cx="179280" cy="387360"/>
            </a:xfrm>
            <a:custGeom>
              <a:avLst/>
              <a:gdLst/>
              <a:ahLst/>
              <a:rect l="l" t="t" r="r" b="b"/>
              <a:pathLst>
                <a:path w="339" h="732">
                  <a:moveTo>
                    <a:pt x="335" y="619"/>
                  </a:moveTo>
                  <a:lnTo>
                    <a:pt x="322" y="614"/>
                  </a:lnTo>
                  <a:lnTo>
                    <a:pt x="307" y="617"/>
                  </a:lnTo>
                  <a:lnTo>
                    <a:pt x="293" y="644"/>
                  </a:lnTo>
                  <a:lnTo>
                    <a:pt x="272" y="650"/>
                  </a:lnTo>
                  <a:lnTo>
                    <a:pt x="276" y="668"/>
                  </a:lnTo>
                  <a:lnTo>
                    <a:pt x="272" y="674"/>
                  </a:lnTo>
                  <a:lnTo>
                    <a:pt x="266" y="668"/>
                  </a:lnTo>
                  <a:lnTo>
                    <a:pt x="259" y="674"/>
                  </a:lnTo>
                  <a:lnTo>
                    <a:pt x="257" y="681"/>
                  </a:lnTo>
                  <a:lnTo>
                    <a:pt x="32" y="732"/>
                  </a:lnTo>
                  <a:lnTo>
                    <a:pt x="28" y="719"/>
                  </a:lnTo>
                  <a:lnTo>
                    <a:pt x="10" y="703"/>
                  </a:lnTo>
                  <a:lnTo>
                    <a:pt x="12" y="675"/>
                  </a:lnTo>
                  <a:lnTo>
                    <a:pt x="19" y="665"/>
                  </a:lnTo>
                  <a:lnTo>
                    <a:pt x="11" y="642"/>
                  </a:lnTo>
                  <a:lnTo>
                    <a:pt x="0" y="534"/>
                  </a:lnTo>
                  <a:lnTo>
                    <a:pt x="0" y="499"/>
                  </a:lnTo>
                  <a:lnTo>
                    <a:pt x="14" y="438"/>
                  </a:lnTo>
                  <a:lnTo>
                    <a:pt x="23" y="397"/>
                  </a:lnTo>
                  <a:lnTo>
                    <a:pt x="27" y="364"/>
                  </a:lnTo>
                  <a:lnTo>
                    <a:pt x="14" y="342"/>
                  </a:lnTo>
                  <a:lnTo>
                    <a:pt x="14" y="318"/>
                  </a:lnTo>
                  <a:lnTo>
                    <a:pt x="23" y="303"/>
                  </a:lnTo>
                  <a:lnTo>
                    <a:pt x="65" y="269"/>
                  </a:lnTo>
                  <a:lnTo>
                    <a:pt x="88" y="210"/>
                  </a:lnTo>
                  <a:lnTo>
                    <a:pt x="65" y="177"/>
                  </a:lnTo>
                  <a:lnTo>
                    <a:pt x="63" y="159"/>
                  </a:lnTo>
                  <a:lnTo>
                    <a:pt x="69" y="148"/>
                  </a:lnTo>
                  <a:lnTo>
                    <a:pt x="68" y="138"/>
                  </a:lnTo>
                  <a:lnTo>
                    <a:pt x="57" y="97"/>
                  </a:lnTo>
                  <a:lnTo>
                    <a:pt x="65" y="50"/>
                  </a:lnTo>
                  <a:lnTo>
                    <a:pt x="53" y="34"/>
                  </a:lnTo>
                  <a:lnTo>
                    <a:pt x="58" y="27"/>
                  </a:lnTo>
                  <a:lnTo>
                    <a:pt x="73" y="27"/>
                  </a:lnTo>
                  <a:lnTo>
                    <a:pt x="80" y="9"/>
                  </a:lnTo>
                  <a:lnTo>
                    <a:pt x="93" y="15"/>
                  </a:lnTo>
                  <a:lnTo>
                    <a:pt x="106" y="12"/>
                  </a:lnTo>
                  <a:lnTo>
                    <a:pt x="116" y="0"/>
                  </a:lnTo>
                  <a:lnTo>
                    <a:pt x="266" y="450"/>
                  </a:lnTo>
                  <a:lnTo>
                    <a:pt x="267" y="459"/>
                  </a:lnTo>
                  <a:lnTo>
                    <a:pt x="266" y="478"/>
                  </a:lnTo>
                  <a:lnTo>
                    <a:pt x="269" y="486"/>
                  </a:lnTo>
                  <a:lnTo>
                    <a:pt x="305" y="514"/>
                  </a:lnTo>
                  <a:lnTo>
                    <a:pt x="314" y="517"/>
                  </a:lnTo>
                  <a:lnTo>
                    <a:pt x="318" y="532"/>
                  </a:lnTo>
                  <a:lnTo>
                    <a:pt x="317" y="542"/>
                  </a:lnTo>
                  <a:lnTo>
                    <a:pt x="339" y="579"/>
                  </a:lnTo>
                  <a:lnTo>
                    <a:pt x="336" y="586"/>
                  </a:lnTo>
                  <a:lnTo>
                    <a:pt x="334" y="605"/>
                  </a:lnTo>
                  <a:lnTo>
                    <a:pt x="335" y="619"/>
                  </a:lnTo>
                  <a:lnTo>
                    <a:pt x="335" y="619"/>
                  </a:lnTo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435720" y="3281400"/>
              <a:ext cx="12240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51640" y="3078000"/>
              <a:ext cx="11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wis721 BT"/>
                </a:rPr>
                <a:t>D.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78760" y="1490760"/>
              <a:ext cx="17622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 = 12,667/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480" y="6195960"/>
              <a:ext cx="88390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ot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ased on ICD-10 codes W00-W19.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Data are age adjusted to the 2000 standard pop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7072200" y="3821040"/>
              <a:ext cx="1974960" cy="2252880"/>
              <a:chOff x="7072200" y="3821040"/>
              <a:chExt cx="1974960" cy="2252880"/>
            </a:xfrm>
          </p:grpSpPr>
          <p:sp>
            <p:nvSpPr>
              <p:cNvPr id="579" name=""/>
              <p:cNvSpPr/>
              <p:nvPr/>
            </p:nvSpPr>
            <p:spPr>
              <a:xfrm>
                <a:off x="7586640" y="4838760"/>
                <a:ext cx="1460520" cy="12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49.0-80.4   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35.7-48.9    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9.3-35.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16.5-29.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358040" y="5384880"/>
                <a:ext cx="152280" cy="1522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358040" y="5156280"/>
                <a:ext cx="152280" cy="152280"/>
              </a:xfrm>
              <a:prstGeom prst="rect">
                <a:avLst/>
              </a:prstGeom>
              <a:solidFill>
                <a:srgbClr val="00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072200" y="3821040"/>
                <a:ext cx="191772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Age-adjusted rate per 100,000 </a:t>
                </a:r>
                <a:br>
                  <a:rPr sz="15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(by quartiles)</a:t>
                </a:r>
                <a:r>
                  <a:rPr b="1" lang="en-US" sz="1500" spc="-1" strike="noStrike">
                    <a:solidFill>
                      <a:srgbClr val="fef2d8"/>
                    </a:solidFill>
                    <a:latin typeface="Tahoma"/>
                    <a:ea typeface="Tahoma"/>
                  </a:rPr>
                  <a:t>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58040" y="4927680"/>
                <a:ext cx="152280" cy="15228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58040" y="559764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176960" y="4726080"/>
                <a:ext cx="162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0" y="0"/>
              <a:ext cx="9151920" cy="12700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Deaths Due to Unintentional Falls Among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Persons 65 and Over, 2000-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09000" y="642456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0" y="0"/>
            <a:ext cx="9404280" cy="6858000"/>
            <a:chOff x="0" y="0"/>
            <a:chExt cx="9404280" cy="6858000"/>
          </a:xfrm>
        </p:grpSpPr>
        <p:graphicFrame>
          <p:nvGraphicFramePr>
            <p:cNvPr id="589" name=""/>
            <p:cNvGraphicFramePr/>
            <p:nvPr/>
          </p:nvGraphicFramePr>
          <p:xfrm>
            <a:off x="128520" y="2263680"/>
            <a:ext cx="4810320" cy="34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8520" y="2263680"/>
                      <a:ext cx="4810320" cy="34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1" name=""/>
            <p:cNvSpPr/>
            <p:nvPr/>
          </p:nvSpPr>
          <p:spPr>
            <a:xfrm>
              <a:off x="0" y="6153120"/>
              <a:ext cx="9144000" cy="7048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0320" y="6600960"/>
              <a:ext cx="520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rce: National Child Abuse and Neglect System (NCANDS), ACF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1120" y="6242040"/>
              <a:ext cx="8304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te: Children are defined as persons under 18 years of age or persons considered minors under State law.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cidents rate includes some child maltreatment deaths.  Number of reporting States varies by year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9151920" cy="105876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Child Maltreatment Incidents and Death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45840" y="6362640"/>
              <a:ext cx="2395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3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0840" y="2151000"/>
              <a:ext cx="461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ncidents per 1,000 child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4546440" y="2154240"/>
              <a:ext cx="4857840" cy="3586320"/>
              <a:chOff x="4546440" y="2154240"/>
              <a:chExt cx="4857840" cy="35863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4546440" y="2279520"/>
              <a:ext cx="4857840" cy="3461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46440" y="2279520"/>
                        <a:ext cx="4857840" cy="3461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0" name=""/>
              <p:cNvSpPr/>
              <p:nvPr/>
            </p:nvSpPr>
            <p:spPr>
              <a:xfrm>
                <a:off x="4565520" y="2154240"/>
                <a:ext cx="4048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Deaths per 100,000 childr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001880" y="1309680"/>
              <a:ext cx="7934040" cy="2729520"/>
              <a:chOff x="1001880" y="1309680"/>
              <a:chExt cx="7934040" cy="2729520"/>
            </a:xfrm>
          </p:grpSpPr>
          <p:grpSp>
            <p:nvGrpSpPr>
              <p:cNvPr id="602" name=""/>
              <p:cNvGrpSpPr/>
              <p:nvPr/>
            </p:nvGrpSpPr>
            <p:grpSpPr>
              <a:xfrm>
                <a:off x="6777000" y="1309680"/>
                <a:ext cx="2158920" cy="304920"/>
                <a:chOff x="6777000" y="1309680"/>
                <a:chExt cx="2158920" cy="3049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6989760" y="1355760"/>
                  <a:ext cx="1440" cy="2286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6777000" y="1309680"/>
                  <a:ext cx="2158920" cy="304920"/>
                  <a:chOff x="6777000" y="1309680"/>
                  <a:chExt cx="2158920" cy="3049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7005600" y="136692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777000" y="1309680"/>
                    <a:ext cx="2057400" cy="304920"/>
                  </a:xfrm>
                  <a:prstGeom prst="rect">
                    <a:avLst/>
                  </a:prstGeom>
                  <a:noFill/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7" name=""/>
              <p:cNvGrpSpPr/>
              <p:nvPr/>
            </p:nvGrpSpPr>
            <p:grpSpPr>
              <a:xfrm>
                <a:off x="1001880" y="3711600"/>
                <a:ext cx="3713040" cy="327600"/>
                <a:chOff x="1001880" y="3711600"/>
                <a:chExt cx="3713040" cy="327600"/>
              </a:xfrm>
            </p:grpSpPr>
            <p:sp>
              <p:nvSpPr>
                <p:cNvPr id="608" name=""/>
                <p:cNvSpPr/>
                <p:nvPr/>
              </p:nvSpPr>
              <p:spPr>
                <a:xfrm flipV="1">
                  <a:off x="1001880" y="3711600"/>
                  <a:ext cx="2873160" cy="18720"/>
                </a:xfrm>
                <a:prstGeom prst="line">
                  <a:avLst/>
                </a:prstGeom>
                <a:ln w="507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432160" y="3817800"/>
                  <a:ext cx="228276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>
                    <a:lnSpc>
                      <a:spcPct val="70000"/>
                    </a:lnSpc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4d4d"/>
                      </a:solidFill>
                      <a:latin typeface="Tahoma"/>
                    </a:rPr>
                    <a:t>2010 Target: 10.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0" name=""/>
            <p:cNvGrpSpPr/>
            <p:nvPr/>
          </p:nvGrpSpPr>
          <p:grpSpPr>
            <a:xfrm>
              <a:off x="5425920" y="3720960"/>
              <a:ext cx="3770280" cy="299160"/>
              <a:chOff x="5425920" y="3720960"/>
              <a:chExt cx="3770280" cy="29916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5425920" y="3720960"/>
                <a:ext cx="2873520" cy="18720"/>
              </a:xfrm>
              <a:prstGeom prst="line">
                <a:avLst/>
              </a:prstGeom>
              <a:ln w="507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913440" y="3798720"/>
                <a:ext cx="228276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7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4d4d"/>
                    </a:solidFill>
                    <a:latin typeface="Tahoma"/>
                  </a:rPr>
                  <a:t>2010 Target: 1.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809800" y="1450800"/>
              <a:ext cx="3492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13000" y="1355760"/>
              <a:ext cx="22827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7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em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48240" y="1446120"/>
              <a:ext cx="34920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1440" y="1351080"/>
              <a:ext cx="22827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7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-11160"/>
            <a:ext cx="9144000" cy="6869160"/>
            <a:chOff x="0" y="-11160"/>
            <a:chExt cx="9144000" cy="68691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1400" y="1943280"/>
              <a:ext cx="9084960" cy="36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-11160"/>
              <a:ext cx="9144000" cy="126036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Leading Causes of Death, 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13320"/>
              <a:ext cx="9144000" cy="5446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320" y="6475320"/>
              <a:ext cx="701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0" y="0"/>
            <a:ext cx="9437400" cy="6858000"/>
            <a:chOff x="0" y="0"/>
            <a:chExt cx="9437400" cy="6858000"/>
          </a:xfrm>
        </p:grpSpPr>
        <p:sp>
          <p:nvSpPr>
            <p:cNvPr id="618" name=""/>
            <p:cNvSpPr/>
            <p:nvPr/>
          </p:nvSpPr>
          <p:spPr>
            <a:xfrm>
              <a:off x="414360" y="1152360"/>
              <a:ext cx="46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idents per 1,000 child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6095880"/>
              <a:ext cx="9144000" cy="7621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0" name=""/>
            <p:cNvGraphicFramePr/>
            <p:nvPr/>
          </p:nvGraphicFramePr>
          <p:xfrm>
            <a:off x="331920" y="1397160"/>
            <a:ext cx="8218440" cy="431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20" y="1397160"/>
                      <a:ext cx="8218440" cy="431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2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Child Maltreatment Incidents, 20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6402240" y="1147680"/>
              <a:ext cx="1981440" cy="380880"/>
              <a:chOff x="6402240" y="1147680"/>
              <a:chExt cx="1981440" cy="380880"/>
            </a:xfrm>
          </p:grpSpPr>
          <p:sp>
            <p:nvSpPr>
              <p:cNvPr id="624" name=""/>
              <p:cNvSpPr/>
              <p:nvPr/>
            </p:nvSpPr>
            <p:spPr>
              <a:xfrm>
                <a:off x="6608520" y="1235160"/>
                <a:ext cx="17305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f5f5f"/>
                    </a:solidFill>
                    <a:latin typeface="Tahoma"/>
                  </a:rPr>
                  <a:t>Decrease desir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605640" y="1216080"/>
                <a:ext cx="0" cy="26172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02240" y="1147680"/>
                <a:ext cx="1981440" cy="380880"/>
              </a:xfrm>
              <a:prstGeom prst="rect">
                <a:avLst/>
              </a:prstGeom>
              <a:noFill/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7228080" y="6362640"/>
              <a:ext cx="2209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12320" y="552456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-3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26040" y="55324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8-11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40960" y="551484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-7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99600" y="553392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2-15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37960" y="552924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6-17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080" y="6558120"/>
              <a:ext cx="520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rce: National Child Abuse and Neglect System (NCANDS), ACF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840" y="6199200"/>
              <a:ext cx="8304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te: Children are defined as persons under 18 years of age or persons considered minors under State law.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cidents rate includes some child maltreatment deaths.  Rates are based on data from 51 States.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-504720" y="0"/>
            <a:ext cx="9948600" cy="6858000"/>
            <a:chOff x="-504720" y="0"/>
            <a:chExt cx="9948600" cy="6858000"/>
          </a:xfrm>
        </p:grpSpPr>
        <p:sp>
          <p:nvSpPr>
            <p:cNvPr id="636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2280" y="6504120"/>
              <a:ext cx="5203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Source: National Child Abuse and Neglect System (NCANDS), ACF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5520" y="6289560"/>
              <a:ext cx="901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Note: Percentages are based on data from 36 reporting Sta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9" name=""/>
            <p:cNvGraphicFramePr/>
            <p:nvPr/>
          </p:nvGraphicFramePr>
          <p:xfrm>
            <a:off x="-504720" y="2014560"/>
            <a:ext cx="5886360" cy="379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04720" y="2014560"/>
                      <a:ext cx="5886360" cy="37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2441520" y="3598920"/>
              <a:ext cx="1541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0-3 yrs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77%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6880" y="3208320"/>
              <a:ext cx="1265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-7 year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3%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5040" y="165420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-11 yr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0"/>
              <a:ext cx="9151920" cy="12193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Child Maltreatment Deaths, 20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28440" y="6276960"/>
              <a:ext cx="2215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68480" y="1511280"/>
              <a:ext cx="15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2-17 yrs*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89240" y="2232000"/>
              <a:ext cx="40932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2180880" y="2127240"/>
              <a:ext cx="31572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27120" y="2370240"/>
              <a:ext cx="295452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452680" y="5211360"/>
              <a:ext cx="29034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361120" y="2720880"/>
              <a:ext cx="1666800" cy="2492280"/>
              <a:chOff x="5361120" y="2720880"/>
              <a:chExt cx="1666800" cy="2492280"/>
            </a:xfrm>
          </p:grpSpPr>
          <p:sp>
            <p:nvSpPr>
              <p:cNvPr id="652" name=""/>
              <p:cNvSpPr/>
              <p:nvPr/>
            </p:nvSpPr>
            <p:spPr>
              <a:xfrm>
                <a:off x="5361120" y="5009760"/>
                <a:ext cx="1666800" cy="20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361120" y="4638240"/>
                <a:ext cx="1666800" cy="371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361120" y="4083120"/>
                <a:ext cx="1666800" cy="5551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361120" y="2720880"/>
                <a:ext cx="1666800" cy="136224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5483160" y="419580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79920" y="464652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01000" y="494172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 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72000" y="319896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42% 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10360" y="462276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 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20080" y="4175280"/>
              <a:ext cx="154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 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72200" y="319896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&lt; 1 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72000" y="495144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%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0840" y="6084720"/>
              <a:ext cx="901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* Includes some deaths to children 18 years or older who were considered minors under State law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-176040" y="0"/>
            <a:ext cx="10010520" cy="6858000"/>
            <a:chOff x="-176040" y="0"/>
            <a:chExt cx="10010520" cy="6858000"/>
          </a:xfrm>
        </p:grpSpPr>
        <p:sp>
          <p:nvSpPr>
            <p:cNvPr id="666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1080" y="6504120"/>
              <a:ext cx="5203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Source: National Child Abuse and Neglect System (NCANDS), ACF</a:t>
              </a:r>
              <a:r>
                <a:rPr b="0" lang="en-US" sz="1100" spc="-1" strike="noStrike">
                  <a:solidFill>
                    <a:srgbClr val="000000"/>
                  </a:solidFill>
                  <a:latin typeface="Swis721 BT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3040" y="6134040"/>
              <a:ext cx="901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Note: Children are defined as persons under 18 years of age or persons considered minors under State law.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Percentages are based on data from 34 reporting State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9" name=""/>
            <p:cNvGraphicFramePr/>
            <p:nvPr/>
          </p:nvGraphicFramePr>
          <p:xfrm>
            <a:off x="-176040" y="1728720"/>
            <a:ext cx="5886360" cy="379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176040" y="1728720"/>
                      <a:ext cx="5886360" cy="379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1" name=""/>
            <p:cNvSpPr/>
            <p:nvPr/>
          </p:nvSpPr>
          <p:spPr>
            <a:xfrm>
              <a:off x="3111480" y="287172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2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44680" y="391968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30560" y="420048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08600" y="2152800"/>
              <a:ext cx="402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08600" y="26240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ther and fa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821200" y="4410000"/>
              <a:ext cx="312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n-parental perpetr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4480" y="2232000"/>
              <a:ext cx="203040" cy="190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15120" y="3189240"/>
              <a:ext cx="203040" cy="190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15120" y="2717640"/>
              <a:ext cx="203040" cy="190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15120" y="4492800"/>
              <a:ext cx="20304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21200" y="396864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ather and 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15120" y="4060800"/>
              <a:ext cx="203040" cy="190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0" y="0"/>
              <a:ext cx="9151920" cy="15382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Child Maltreatment Deaths by Perpetrator’s Relationship to Child, 2005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8440" y="6276960"/>
              <a:ext cx="2215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19800" y="3613320"/>
              <a:ext cx="203040" cy="19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03920" y="3533760"/>
              <a:ext cx="402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a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16520" y="3106800"/>
              <a:ext cx="367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ther and 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5160" y="447984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27040" y="290520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5200" y="3456000"/>
              <a:ext cx="4363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6760" y="324324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830920" y="4834080"/>
              <a:ext cx="25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nknown or mi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24480" y="4930920"/>
              <a:ext cx="203040" cy="19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49480" y="236232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0" y="0"/>
            <a:ext cx="9753480" cy="6858000"/>
            <a:chOff x="0" y="0"/>
            <a:chExt cx="9753480" cy="6858000"/>
          </a:xfrm>
        </p:grpSpPr>
        <p:graphicFrame>
          <p:nvGraphicFramePr>
            <p:cNvPr id="696" name=""/>
            <p:cNvGraphicFramePr/>
            <p:nvPr/>
          </p:nvGraphicFramePr>
          <p:xfrm>
            <a:off x="95400" y="1519200"/>
            <a:ext cx="9658080" cy="533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5400" y="1519200"/>
                      <a:ext cx="9658080" cy="533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"/>
            <p:cNvSpPr/>
            <p:nvPr/>
          </p:nvSpPr>
          <p:spPr>
            <a:xfrm>
              <a:off x="0" y="6332400"/>
              <a:ext cx="9144000" cy="5256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0"/>
              <a:ext cx="9151920" cy="10080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Sexual Violen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878520" y="6461280"/>
              <a:ext cx="2265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5 &amp; 15-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7040" y="1143000"/>
              <a:ext cx="461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idents per 1,000 popul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d 12 years and 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06800" y="475128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00"/>
                  </a:solidFill>
                  <a:latin typeface="Tahoma"/>
                </a:rPr>
                <a:t>Sexual assault other than r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02000" y="2058840"/>
              <a:ext cx="379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80"/>
                  </a:solidFill>
                  <a:latin typeface="Tahoma"/>
                </a:rPr>
                <a:t>Rape or attempted r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1960" y="6380280"/>
              <a:ext cx="7823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Crime Victimization Survey (NCVS), U.S. Department of Justice, Bureau of Justice Statistic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1809720" y="1227240"/>
              <a:ext cx="7923240" cy="2923920"/>
              <a:chOff x="1809720" y="1227240"/>
              <a:chExt cx="7923240" cy="29239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6756480" y="1227240"/>
                <a:ext cx="2158920" cy="304560"/>
                <a:chOff x="6756480" y="1227240"/>
                <a:chExt cx="2158920" cy="3045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6969240" y="1272960"/>
                  <a:ext cx="1440" cy="22824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" name=""/>
                <p:cNvGrpSpPr/>
                <p:nvPr/>
              </p:nvGrpSpPr>
              <p:grpSpPr>
                <a:xfrm>
                  <a:off x="6756480" y="1227240"/>
                  <a:ext cx="2158920" cy="304560"/>
                  <a:chOff x="6756480" y="1227240"/>
                  <a:chExt cx="2158920" cy="3045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6985080" y="128412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756480" y="1227240"/>
                    <a:ext cx="2057400" cy="304560"/>
                  </a:xfrm>
                  <a:prstGeom prst="rect">
                    <a:avLst/>
                  </a:prstGeom>
                  <a:noFill/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1" name=""/>
              <p:cNvSpPr/>
              <p:nvPr/>
            </p:nvSpPr>
            <p:spPr>
              <a:xfrm flipV="1">
                <a:off x="1809720" y="2722680"/>
                <a:ext cx="6153120" cy="33120"/>
              </a:xfrm>
              <a:prstGeom prst="line">
                <a:avLst/>
              </a:prstGeom>
              <a:ln w="5076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450200" y="1655640"/>
                <a:ext cx="228276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7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Tahoma"/>
                  </a:rPr>
                  <a:t>2010 Targ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881760" y="1758600"/>
                <a:ext cx="595440" cy="4680"/>
              </a:xfrm>
              <a:prstGeom prst="line">
                <a:avLst/>
              </a:prstGeom>
              <a:ln w="50760">
                <a:solidFill>
                  <a:srgbClr val="4d4d4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1833480" y="4118040"/>
                <a:ext cx="6153120" cy="33120"/>
              </a:xfrm>
              <a:prstGeom prst="line">
                <a:avLst/>
              </a:prstGeom>
              <a:ln w="50760">
                <a:solidFill>
                  <a:srgbClr val="99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"/>
          <p:cNvGrpSpPr/>
          <p:nvPr/>
        </p:nvGrpSpPr>
        <p:grpSpPr>
          <a:xfrm>
            <a:off x="-1217520" y="0"/>
            <a:ext cx="10369440" cy="6858000"/>
            <a:chOff x="-1217520" y="0"/>
            <a:chExt cx="10369440" cy="6858000"/>
          </a:xfrm>
        </p:grpSpPr>
        <p:graphicFrame>
          <p:nvGraphicFramePr>
            <p:cNvPr id="716" name=""/>
            <p:cNvGraphicFramePr/>
            <p:nvPr/>
          </p:nvGraphicFramePr>
          <p:xfrm>
            <a:off x="1876320" y="1042920"/>
            <a:ext cx="6913800" cy="399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76320" y="1042920"/>
                      <a:ext cx="6913800" cy="399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8" name=""/>
            <p:cNvSpPr/>
            <p:nvPr/>
          </p:nvSpPr>
          <p:spPr>
            <a:xfrm>
              <a:off x="1800360" y="5133960"/>
              <a:ext cx="73436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0                   1.0                 2.0                 3.0                 4.0                 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-1217520" y="1179360"/>
              <a:ext cx="3112920" cy="43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i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ther 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wo or more ra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isp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e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2-15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6-19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0-24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5-34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5-49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50-64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Rape/Sexual Assault Incidents, 2004-2005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95560" y="5457960"/>
              <a:ext cx="65293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idents per 1,000 population aged 12 years and 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662880" y="1098720"/>
              <a:ext cx="2278800" cy="380880"/>
              <a:chOff x="6662880" y="1098720"/>
              <a:chExt cx="2278800" cy="380880"/>
            </a:xfrm>
          </p:grpSpPr>
          <p:sp>
            <p:nvSpPr>
              <p:cNvPr id="723" name=""/>
              <p:cNvSpPr/>
              <p:nvPr/>
            </p:nvSpPr>
            <p:spPr>
              <a:xfrm>
                <a:off x="6662880" y="1098720"/>
                <a:ext cx="2057040" cy="30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6756480" y="1155600"/>
                <a:ext cx="2185200" cy="324000"/>
                <a:chOff x="6756480" y="1155600"/>
                <a:chExt cx="2185200" cy="3240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6757560" y="1174680"/>
                  <a:ext cx="20570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011720" y="1155600"/>
                  <a:ext cx="1929960" cy="22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6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Decrease desire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>
                  <a:off x="6756480" y="1244520"/>
                  <a:ext cx="26784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8" name=""/>
            <p:cNvSpPr/>
            <p:nvPr/>
          </p:nvSpPr>
          <p:spPr>
            <a:xfrm>
              <a:off x="1987560" y="161136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82720" y="286380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22920" y="186372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0" y="5789520"/>
              <a:ext cx="9144000" cy="1068480"/>
              <a:chOff x="0" y="5789520"/>
              <a:chExt cx="9144000" cy="106848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5789520"/>
                <a:ext cx="9144000" cy="1068480"/>
              </a:xfrm>
              <a:prstGeom prst="rect">
                <a:avLst/>
              </a:prstGeom>
              <a:solidFill>
                <a:srgbClr val="ffe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77840" y="5872320"/>
                <a:ext cx="752328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* Based on 10 or fewer sample cases; rate should be interpreted with caution.        = 95% confidence interval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ote: The categories White, Black and Other race exclude persons of Hispanic origin.  Other race include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merican Indian, Alaska Native, Asian, and Native Hawaiian and Pacific Islander.  Persons of Hispanic origin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may be of any race.  One or more races could be recorded.  Data by single race categories are for persons for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whom only one racial group was recorded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Source: National Crime Victimization Survey (NCVS), U.S. Department of Justice, Bureau of Justice Statistic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875640" y="6189840"/>
                <a:ext cx="21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bj. 15-35/15-3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4683240" y="5924520"/>
                <a:ext cx="152280" cy="76320"/>
                <a:chOff x="4683240" y="5924520"/>
                <a:chExt cx="152280" cy="7632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683240" y="59245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835520" y="59245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683240" y="596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-176040" y="0"/>
            <a:ext cx="10010520" cy="6858000"/>
            <a:chOff x="-176040" y="0"/>
            <a:chExt cx="10010520" cy="6858000"/>
          </a:xfrm>
        </p:grpSpPr>
        <p:sp>
          <p:nvSpPr>
            <p:cNvPr id="740" name=""/>
            <p:cNvSpPr/>
            <p:nvPr/>
          </p:nvSpPr>
          <p:spPr>
            <a:xfrm>
              <a:off x="0" y="6066000"/>
              <a:ext cx="9144000" cy="7920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03040" y="6176880"/>
              <a:ext cx="901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* Based on 10 or fewer sample cases; percent should be interpreted with cau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2" name=""/>
            <p:cNvGraphicFramePr/>
            <p:nvPr/>
          </p:nvGraphicFramePr>
          <p:xfrm>
            <a:off x="-176040" y="2057400"/>
            <a:ext cx="5886360" cy="379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176040" y="2057400"/>
                      <a:ext cx="5886360" cy="37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4" name=""/>
            <p:cNvSpPr/>
            <p:nvPr/>
          </p:nvSpPr>
          <p:spPr>
            <a:xfrm>
              <a:off x="3111480" y="320040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58880" y="319248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62200" y="4210200"/>
              <a:ext cx="77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%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08600" y="2624040"/>
              <a:ext cx="402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timate part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08600" y="30956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ther rel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24480" y="2717640"/>
              <a:ext cx="203040" cy="190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5120" y="3646440"/>
              <a:ext cx="203040" cy="19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15120" y="3189240"/>
              <a:ext cx="203040" cy="190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21200" y="446868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lationship unknow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15120" y="4546440"/>
              <a:ext cx="203040" cy="19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9800" y="4127400"/>
              <a:ext cx="203040" cy="190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3920" y="4048200"/>
              <a:ext cx="402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ra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16520" y="3564000"/>
              <a:ext cx="367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riend or acquaint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63680" y="453708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77920" y="189396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2539800" y="2216160"/>
              <a:ext cx="1443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75640" y="6346800"/>
              <a:ext cx="216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5/15-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1960" y="6380280"/>
              <a:ext cx="7823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Percentages sum to greater than 100% due to rounding.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Crime Victimization Survey (NCVS), U.S. Department of Justice, Bureau of Justice Statistic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0"/>
              <a:ext cx="9151920" cy="15382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Rape/Sexual Assault Against Females by Perpetrator’s Relationship to Victim, 20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271440" y="1449360"/>
            <a:ext cx="87012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half (24/46) of the objectives have met or are moving toward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and sexual assault have decreased since the baseline; both objectives have met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arities by age, gender, education and geographic location persist for many objec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-11160"/>
            <a:ext cx="9144000" cy="12304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677520" y="5334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185904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wis721 BT"/>
              </a:rPr>
              <a:t>Progress review data and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wis721 BT"/>
              </a:rPr>
              <a:t>are available on the web 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62080" y="4191120"/>
            <a:ext cx="8766000" cy="76176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c09e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ttp://www.cdc.gov/nchs/hphome.h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3240"/>
            <a:ext cx="9144000" cy="6869160"/>
            <a:chOff x="0" y="3240"/>
            <a:chExt cx="9144000" cy="6869160"/>
          </a:xfrm>
        </p:grpSpPr>
        <p:sp>
          <p:nvSpPr>
            <p:cNvPr id="92" name=""/>
            <p:cNvSpPr/>
            <p:nvPr/>
          </p:nvSpPr>
          <p:spPr>
            <a:xfrm>
              <a:off x="0" y="3240"/>
              <a:ext cx="9144000" cy="126036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Leading Causes of Unintentional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jury Deaths, 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6124680"/>
              <a:ext cx="9144000" cy="7477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320" y="6232680"/>
              <a:ext cx="744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ote: Fires/burns includes all fire deaths, not just those that occurred in residences.  Healthy People 2010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bjective 15-25, highlighted later in this presentation, focuses exclusively on residential fire death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55440" y="2055960"/>
              <a:ext cx="9042480" cy="335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13920" y="1370160"/>
            <a:ext cx="8829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juries are the leading cause of death for peo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ges 1-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juries and violence resulted in 167,000 deaths in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ch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0 million injury episodes require medical attention, costing $406 billion in medical expenses and lost producti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1.4 million people sustain a traumatic brain inj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396,000 residential fires result in 3,000 deaths and nearly 14,000 ED visits for inju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1 in 3 adults 65 years and over fall, resulting in about 15,000 de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More than 1 in 7 children experience maltrea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200,000 people are victims of rape or sexual assa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-11160"/>
            <a:ext cx="9144000" cy="12304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urden of Injury and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-11160"/>
            <a:ext cx="9605880" cy="6755760"/>
            <a:chOff x="0" y="-11160"/>
            <a:chExt cx="9605880" cy="6755760"/>
          </a:xfrm>
        </p:grpSpPr>
        <p:sp>
          <p:nvSpPr>
            <p:cNvPr id="99" name=""/>
            <p:cNvSpPr/>
            <p:nvPr/>
          </p:nvSpPr>
          <p:spPr>
            <a:xfrm>
              <a:off x="504720" y="1709640"/>
              <a:ext cx="4648320" cy="40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.  Traumatic brain injur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hospitaliz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.   Nonfatal spinal cord injur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ospitaliz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.   Firearm-related dea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4.   Improper firearm storage in homes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5.   Nonfatal firearm-related inju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6.   State-level child fatality review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800" y="260028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7800" y="3457440"/>
              <a:ext cx="15264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800" y="4043520"/>
              <a:ext cx="15264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7800" y="459108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-11160"/>
              <a:ext cx="9144000" cy="12304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Status of Injury Prevention Objectiv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3080" y="6143760"/>
              <a:ext cx="9156600" cy="599400"/>
              <a:chOff x="73080" y="6143760"/>
              <a:chExt cx="9156600" cy="599400"/>
            </a:xfrm>
          </p:grpSpPr>
          <p:sp>
            <p:nvSpPr>
              <p:cNvPr id="106" name=""/>
              <p:cNvSpPr/>
              <p:nvPr/>
            </p:nvSpPr>
            <p:spPr>
              <a:xfrm>
                <a:off x="73080" y="6167160"/>
                <a:ext cx="8899560" cy="32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71360" y="6143760"/>
                <a:ext cx="9058320" cy="599400"/>
                <a:chOff x="171360" y="6143760"/>
                <a:chExt cx="9058320" cy="599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50960" y="6162480"/>
                  <a:ext cx="1111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mprov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037200" y="614808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Getting wor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3640" y="6148080"/>
                  <a:ext cx="228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Little or no change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05440" y="6257880"/>
                  <a:ext cx="154080" cy="14400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05120" y="6254640"/>
                  <a:ext cx="154080" cy="1440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414520" y="6252840"/>
                  <a:ext cx="154080" cy="1443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63520" y="6162480"/>
                  <a:ext cx="213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arget met/exceede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71360" y="6252840"/>
                  <a:ext cx="154080" cy="14436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32720" y="614376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aseline onl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500960" y="6252840"/>
                  <a:ext cx="154080" cy="14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303120" y="1809720"/>
              <a:ext cx="15264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7520" y="5143680"/>
              <a:ext cx="15228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7920" y="1704960"/>
              <a:ext cx="4647960" cy="41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7.  Nonfatal poiso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8.   Deaths from pois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9.   Deaths from suffo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0. Emergency department surveillan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of external causes of injury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1. Hospital discharge surveillan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of external causes of inju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2. Emergency department visit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due to injury or poisoning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1000" y="235260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61000" y="290988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61000" y="346716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61000" y="425772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56320" y="180504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70360" y="5067360"/>
              <a:ext cx="15264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7840" y="6531120"/>
              <a:ext cx="7823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* Percent of targeted change achieved is between -10% and 10%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-11160"/>
            <a:ext cx="9777240" cy="7324560"/>
            <a:chOff x="0" y="-11160"/>
            <a:chExt cx="9777240" cy="7324560"/>
          </a:xfrm>
        </p:grpSpPr>
        <p:sp>
          <p:nvSpPr>
            <p:cNvPr id="129" name=""/>
            <p:cNvSpPr/>
            <p:nvPr/>
          </p:nvSpPr>
          <p:spPr>
            <a:xfrm>
              <a:off x="576360" y="1366920"/>
              <a:ext cx="4647960" cy="59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3.  Deaths from unintentional inju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4.  Nonfatal unintentional injur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5a.  Motor vehicle crash death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(per 100,000)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5b.  Motor vehicle crash death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(per million miles travele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6.  Pedestrian dea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7.  Nonfatal motor vehicle inju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8.  Nonfatal pedestrian injur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9.  Safety belt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0.  Child restraint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1.  Motorcycle helmet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2.  Graduated driver licensing law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440" y="2243160"/>
              <a:ext cx="15228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9440" y="3800520"/>
              <a:ext cx="15228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9440" y="414324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440" y="451944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-11160"/>
              <a:ext cx="9144000" cy="12304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tatus of Unintentional Injury Prevention Objectiv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4760" y="1467000"/>
              <a:ext cx="152280" cy="14256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800" y="5257800"/>
              <a:ext cx="15264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17960" y="182412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17960" y="2195640"/>
              <a:ext cx="15264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17960" y="255276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17960" y="4543560"/>
              <a:ext cx="15264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11840" y="1459080"/>
              <a:ext cx="15228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13280" y="4896000"/>
              <a:ext cx="15228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29280" y="1362240"/>
              <a:ext cx="4647960" cy="48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3a-b.  Bicycle helmet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4.  Bicycle helmet law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5.  Residential fire dea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6a.  Functioning smoke alarms i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residences (prop. of pers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6a.  Functioning smoke alarms i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residences (prop. of home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7.  Deaths from fa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8a. Hip fractures in older fem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8b. Hip fractures in older m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9.   Drowning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0.   ED visits for dog bite injur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1a-c. Protective gear in school s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9720" y="184788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4760" y="342432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800" y="4886280"/>
              <a:ext cx="15264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280" y="5635800"/>
              <a:ext cx="15228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13280" y="377676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13280" y="416232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23000" y="526248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17960" y="5629320"/>
              <a:ext cx="15264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11240" y="6153120"/>
              <a:ext cx="9156600" cy="599760"/>
              <a:chOff x="111240" y="6153120"/>
              <a:chExt cx="9156600" cy="599760"/>
            </a:xfrm>
          </p:grpSpPr>
          <p:sp>
            <p:nvSpPr>
              <p:cNvPr id="153" name=""/>
              <p:cNvSpPr/>
              <p:nvPr/>
            </p:nvSpPr>
            <p:spPr>
              <a:xfrm>
                <a:off x="111240" y="6176880"/>
                <a:ext cx="8899560" cy="32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09520" y="6153120"/>
                <a:ext cx="9058320" cy="599760"/>
                <a:chOff x="209520" y="6153120"/>
                <a:chExt cx="9058320" cy="599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589120" y="6172200"/>
                  <a:ext cx="1111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mprov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075360" y="615780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Getting wor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71800" y="6157800"/>
                  <a:ext cx="228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Little or no change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943600" y="6267600"/>
                  <a:ext cx="154080" cy="144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743280" y="6264360"/>
                  <a:ext cx="154080" cy="14436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452680" y="6262560"/>
                  <a:ext cx="154080" cy="1447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1680" y="6172200"/>
                  <a:ext cx="213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arget met/exceede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09520" y="6262560"/>
                  <a:ext cx="154080" cy="14472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670880" y="615312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aseline onl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39120" y="6262560"/>
                  <a:ext cx="154080" cy="144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230040" y="6532560"/>
              <a:ext cx="782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* Percent of targeted change achieved is between -10% and 10%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4760" y="280980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3280" y="316224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-11160"/>
            <a:ext cx="9248760" cy="7114320"/>
            <a:chOff x="0" y="-11160"/>
            <a:chExt cx="9248760" cy="7114320"/>
          </a:xfrm>
        </p:grpSpPr>
        <p:sp>
          <p:nvSpPr>
            <p:cNvPr id="169" name=""/>
            <p:cNvSpPr/>
            <p:nvPr/>
          </p:nvSpPr>
          <p:spPr>
            <a:xfrm>
              <a:off x="1876320" y="1409760"/>
              <a:ext cx="5664240" cy="56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2.   Homicides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3a.  Child maltreatment incident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3b.  Child maltreatment fata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4.   Physical assault by intimate partn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5.   Rape or attempted rape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6.   Sexual assault other than r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7.  Physical assa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8.  Physical fighting among adolesc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9.  Weapon carrying by adolescents on school proper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5280" y="197172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65280" y="252900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65280" y="3057480"/>
              <a:ext cx="15228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65280" y="3605040"/>
              <a:ext cx="15228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-11160"/>
              <a:ext cx="9144000" cy="12304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tatus of Violence and Abuse Prevention Objectiv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60600" y="1509840"/>
              <a:ext cx="15228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63840" y="5175360"/>
              <a:ext cx="15228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58800" y="4135320"/>
              <a:ext cx="15264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57360" y="4667400"/>
              <a:ext cx="15228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58800" y="572760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2160" y="6205680"/>
              <a:ext cx="9156600" cy="599400"/>
              <a:chOff x="92160" y="6205680"/>
              <a:chExt cx="9156600" cy="599400"/>
            </a:xfrm>
          </p:grpSpPr>
          <p:sp>
            <p:nvSpPr>
              <p:cNvPr id="181" name=""/>
              <p:cNvSpPr/>
              <p:nvPr/>
            </p:nvSpPr>
            <p:spPr>
              <a:xfrm>
                <a:off x="92160" y="6229080"/>
                <a:ext cx="8899560" cy="32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90440" y="6205680"/>
                <a:ext cx="9058320" cy="599400"/>
                <a:chOff x="190440" y="6205680"/>
                <a:chExt cx="9058320" cy="5994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570040" y="6224400"/>
                  <a:ext cx="1111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mprov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056280" y="621000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Getting wor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52720" y="6210000"/>
                  <a:ext cx="228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Little or no change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924520" y="6319800"/>
                  <a:ext cx="154080" cy="14400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24200" y="6316560"/>
                  <a:ext cx="154080" cy="1440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33600" y="6314760"/>
                  <a:ext cx="154080" cy="1443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2600" y="6224400"/>
                  <a:ext cx="213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arget met/exceede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90440" y="6314760"/>
                  <a:ext cx="154080" cy="14436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651800" y="620568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aseline onl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520040" y="6314760"/>
                  <a:ext cx="154080" cy="14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210960" y="6599160"/>
              <a:ext cx="782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* Percent of targeted change achieved by most recent data point is between -10% and 10%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-11160"/>
            <a:ext cx="9144000" cy="13762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atus of Injury and Violence Preventio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502320"/>
            <a:ext cx="9144000" cy="3556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656100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* Percent of targeted change achieved is between -10% and 10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69720" y="1657440"/>
          <a:ext cx="8460000" cy="4548240"/>
        </p:xfrm>
        <a:graphic>
          <a:graphicData uri="http://schemas.openxmlformats.org/drawingml/2006/table">
            <a:tbl>
              <a:tblPr/>
              <a:tblGrid>
                <a:gridCol w="1872000"/>
                <a:gridCol w="1996920"/>
                <a:gridCol w="2351160"/>
                <a:gridCol w="223992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u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ntentional Inju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/exc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or no change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ing 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rend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-11160"/>
            <a:ext cx="9144000" cy="13320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atus of Highlighte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502320"/>
            <a:ext cx="9144000" cy="3556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656100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* Percent of targeted change achieved is between -10% and 10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51000" y="1628640"/>
          <a:ext cx="8470800" cy="4548240"/>
        </p:xfrm>
        <a:graphic>
          <a:graphicData uri="http://schemas.openxmlformats.org/drawingml/2006/table">
            <a:tbl>
              <a:tblPr/>
              <a:tblGrid>
                <a:gridCol w="1869840"/>
                <a:gridCol w="2005200"/>
                <a:gridCol w="2190600"/>
                <a:gridCol w="240516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u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ntentional Inju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/exc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ual vi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mal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or no change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tial fire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ing 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I hospitaliz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ths from f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 maltreatment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rend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4:12:58Z</dcterms:created>
  <dc:creator>Michael Hallquist</dc:creator>
  <dc:description/>
  <dc:language>en-US</dc:language>
  <cp:lastModifiedBy>sop9</cp:lastModifiedBy>
  <dcterms:modified xsi:type="dcterms:W3CDTF">2007-08-14T14:03:33Z</dcterms:modified>
  <cp:revision>1646</cp:revision>
  <dc:subject/>
  <dc:title> Focus Area 1 Access to Quality Health Services Progress Review  </dc:title>
</cp:coreProperties>
</file>