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778908-F9AE-4E89-9BCF-B44E610F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4A8AC0-1758-48EA-B461-5735C7F6E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6E5E36-DEDD-4B46-9FF1-8711B8F72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42200" cy="348156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AEEC69-316C-4EAB-91F1-03A5BFE1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42200" cy="348156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9BB78-C918-4BC6-AE62-AA6DEABB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E7755B-B3B9-4D21-9AD2-ED66D221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8D4272-277B-43C8-B851-BAA8D530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b5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solidFill>
            <a:srgbClr val="7cb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hs/hphom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2640" y="41526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wis721 BT"/>
              </a:rPr>
              <a:t>August 20,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5732640"/>
          <a:ext cx="1380960" cy="9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732640"/>
                    <a:ext cx="13809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859880" y="5678640"/>
          <a:ext cx="1066680" cy="101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59880" y="567864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199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721 BT"/>
              </a:rPr>
              <a:t>Focus Area 14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wis721 BT"/>
              </a:rPr>
              <a:t>Immunization and Infectious Diseases Progress Review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753320" y="246240"/>
            <a:ext cx="1162080" cy="101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304920" y="1905120"/>
          <a:ext cx="8458200" cy="45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4582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457200" y="6311880"/>
            <a:ext cx="63975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HI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,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62320" y="3549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5800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African Ameri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162920" y="46483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191120" y="2158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wis721 BT"/>
              </a:rPr>
              <a:t>2010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098040" y="4692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s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720920" y="35258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52280" y="88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Pneumococcal Vaccination Coverage Ever Received Among Adults 65 Years and Older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57560" y="1600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438280" y="2552760"/>
            <a:ext cx="5105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846560" y="640080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9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914400" y="2438280"/>
            <a:ext cx="430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914400" y="30862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914400" y="37720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14400" y="44578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914400" y="51436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944800" y="5372280"/>
            <a:ext cx="63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168880" y="5372280"/>
            <a:ext cx="107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451560" y="5372280"/>
            <a:ext cx="101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202600" y="5372280"/>
            <a:ext cx="63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74840" y="3571920"/>
            <a:ext cx="5445000" cy="350640"/>
          </a:xfrm>
          <a:custGeom>
            <a:avLst/>
            <a:gdLst/>
            <a:ahLst/>
            <a:rect l="l" t="t" r="r" b="b"/>
            <a:pathLst>
              <a:path w="3430" h="221">
                <a:moveTo>
                  <a:pt x="0" y="221"/>
                </a:moveTo>
                <a:lnTo>
                  <a:pt x="855" y="153"/>
                </a:lnTo>
                <a:lnTo>
                  <a:pt x="1714" y="66"/>
                </a:lnTo>
                <a:lnTo>
                  <a:pt x="2574" y="45"/>
                </a:lnTo>
                <a:lnTo>
                  <a:pt x="3430" y="0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274840" y="3708360"/>
            <a:ext cx="5445000" cy="347760"/>
          </a:xfrm>
          <a:custGeom>
            <a:avLst/>
            <a:gdLst/>
            <a:ahLst/>
            <a:rect l="l" t="t" r="r" b="b"/>
            <a:pathLst>
              <a:path w="3430" h="219">
                <a:moveTo>
                  <a:pt x="0" y="219"/>
                </a:moveTo>
                <a:lnTo>
                  <a:pt x="855" y="135"/>
                </a:lnTo>
                <a:lnTo>
                  <a:pt x="1716" y="66"/>
                </a:lnTo>
                <a:lnTo>
                  <a:pt x="2575" y="46"/>
                </a:lnTo>
                <a:lnTo>
                  <a:pt x="3430" y="0"/>
                </a:lnTo>
              </a:path>
            </a:pathLst>
          </a:custGeom>
          <a:noFill/>
          <a:ln w="82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274840" y="4189320"/>
            <a:ext cx="4092480" cy="476280"/>
          </a:xfrm>
          <a:custGeom>
            <a:avLst/>
            <a:gdLst/>
            <a:ahLst/>
            <a:rect l="l" t="t" r="r" b="b"/>
            <a:pathLst>
              <a:path w="2578" h="300">
                <a:moveTo>
                  <a:pt x="0" y="127"/>
                </a:moveTo>
                <a:lnTo>
                  <a:pt x="855" y="21"/>
                </a:lnTo>
                <a:lnTo>
                  <a:pt x="1719" y="0"/>
                </a:lnTo>
                <a:lnTo>
                  <a:pt x="2578" y="300"/>
                </a:lnTo>
              </a:path>
            </a:pathLst>
          </a:custGeom>
          <a:noFill/>
          <a:ln w="63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271600" y="4494240"/>
            <a:ext cx="5448240" cy="334800"/>
          </a:xfrm>
          <a:custGeom>
            <a:avLst/>
            <a:gdLst/>
            <a:ahLst/>
            <a:rect l="l" t="t" r="r" b="b"/>
            <a:pathLst>
              <a:path w="3432" h="211">
                <a:moveTo>
                  <a:pt x="0" y="211"/>
                </a:moveTo>
                <a:lnTo>
                  <a:pt x="855" y="85"/>
                </a:lnTo>
                <a:lnTo>
                  <a:pt x="1718" y="40"/>
                </a:lnTo>
                <a:lnTo>
                  <a:pt x="2579" y="0"/>
                </a:lnTo>
                <a:lnTo>
                  <a:pt x="3432" y="106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274840" y="4324320"/>
            <a:ext cx="5445000" cy="409680"/>
          </a:xfrm>
          <a:custGeom>
            <a:avLst/>
            <a:gdLst/>
            <a:ahLst/>
            <a:rect l="l" t="t" r="r" b="b"/>
            <a:pathLst>
              <a:path w="3430" h="258">
                <a:moveTo>
                  <a:pt x="0" y="258"/>
                </a:moveTo>
                <a:lnTo>
                  <a:pt x="855" y="107"/>
                </a:lnTo>
                <a:lnTo>
                  <a:pt x="1717" y="147"/>
                </a:lnTo>
                <a:lnTo>
                  <a:pt x="2577" y="86"/>
                </a:lnTo>
                <a:lnTo>
                  <a:pt x="3430" y="0"/>
                </a:ln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733920" y="5372280"/>
            <a:ext cx="107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979760" y="5864400"/>
            <a:ext cx="23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8" name=""/>
          <p:cNvGraphicFramePr/>
          <p:nvPr/>
        </p:nvGraphicFramePr>
        <p:xfrm>
          <a:off x="673200" y="1890720"/>
          <a:ext cx="737856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890720"/>
                    <a:ext cx="73785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0" name=""/>
          <p:cNvSpPr/>
          <p:nvPr/>
        </p:nvSpPr>
        <p:spPr>
          <a:xfrm>
            <a:off x="1784520" y="318960"/>
            <a:ext cx="531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A Inc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6481800" y="2959200"/>
            <a:ext cx="1980720" cy="1380600"/>
            <a:chOff x="6481800" y="2959200"/>
            <a:chExt cx="1980720" cy="1380600"/>
          </a:xfrm>
        </p:grpSpPr>
        <p:sp>
          <p:nvSpPr>
            <p:cNvPr id="1532" name=""/>
            <p:cNvSpPr/>
            <p:nvPr/>
          </p:nvSpPr>
          <p:spPr>
            <a:xfrm>
              <a:off x="6963120" y="32731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81800" y="29592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 ACI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840640" y="2021040"/>
            <a:ext cx="2972520" cy="1052280"/>
            <a:chOff x="5840640" y="2021040"/>
            <a:chExt cx="2972520" cy="1052280"/>
          </a:xfrm>
        </p:grpSpPr>
        <p:sp>
          <p:nvSpPr>
            <p:cNvPr id="1535" name=""/>
            <p:cNvSpPr/>
            <p:nvPr/>
          </p:nvSpPr>
          <p:spPr>
            <a:xfrm>
              <a:off x="5840640" y="2021040"/>
              <a:ext cx="29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 ACIP 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059520" y="231156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5353560" y="1714680"/>
            <a:ext cx="2378160" cy="1423440"/>
            <a:chOff x="5353560" y="1714680"/>
            <a:chExt cx="2378160" cy="1423440"/>
          </a:xfrm>
        </p:grpSpPr>
        <p:sp>
          <p:nvSpPr>
            <p:cNvPr id="1538" name=""/>
            <p:cNvSpPr/>
            <p:nvPr/>
          </p:nvSpPr>
          <p:spPr>
            <a:xfrm>
              <a:off x="5353560" y="17146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 vaccine licen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67200" y="207180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91440" y="6372360"/>
            <a:ext cx="219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0280" y="1712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 per 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218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6125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2228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320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8162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769000" y="2057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64200" y="2324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962760" y="351144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47920" y="4952880"/>
            <a:ext cx="651168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24480" y="4616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95816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60668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90512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2096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438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743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289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81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19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724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029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33088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562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867280" y="579276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95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400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34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543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848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3879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560600" y="3284640"/>
            <a:ext cx="6188040" cy="2130480"/>
          </a:xfrm>
          <a:custGeom>
            <a:avLst/>
            <a:gdLst/>
            <a:ahLst/>
            <a:rect l="l" t="t" r="r" b="b"/>
            <a:pathLst>
              <a:path w="3898" h="1342">
                <a:moveTo>
                  <a:pt x="0" y="189"/>
                </a:moveTo>
                <a:lnTo>
                  <a:pt x="181" y="361"/>
                </a:lnTo>
                <a:lnTo>
                  <a:pt x="355" y="505"/>
                </a:lnTo>
                <a:lnTo>
                  <a:pt x="531" y="607"/>
                </a:lnTo>
                <a:lnTo>
                  <a:pt x="711" y="594"/>
                </a:lnTo>
                <a:lnTo>
                  <a:pt x="885" y="517"/>
                </a:lnTo>
                <a:lnTo>
                  <a:pt x="1060" y="519"/>
                </a:lnTo>
                <a:lnTo>
                  <a:pt x="1242" y="466"/>
                </a:lnTo>
                <a:lnTo>
                  <a:pt x="1417" y="327"/>
                </a:lnTo>
                <a:lnTo>
                  <a:pt x="1590" y="0"/>
                </a:lnTo>
                <a:lnTo>
                  <a:pt x="1773" y="208"/>
                </a:lnTo>
                <a:lnTo>
                  <a:pt x="1948" y="550"/>
                </a:lnTo>
                <a:lnTo>
                  <a:pt x="2121" y="616"/>
                </a:lnTo>
                <a:lnTo>
                  <a:pt x="2301" y="583"/>
                </a:lnTo>
                <a:lnTo>
                  <a:pt x="2478" y="480"/>
                </a:lnTo>
                <a:lnTo>
                  <a:pt x="2650" y="280"/>
                </a:lnTo>
                <a:lnTo>
                  <a:pt x="2832" y="315"/>
                </a:lnTo>
                <a:lnTo>
                  <a:pt x="3007" y="373"/>
                </a:lnTo>
                <a:lnTo>
                  <a:pt x="3181" y="676"/>
                </a:lnTo>
                <a:lnTo>
                  <a:pt x="3363" y="940"/>
                </a:lnTo>
                <a:lnTo>
                  <a:pt x="3537" y="1119"/>
                </a:lnTo>
                <a:lnTo>
                  <a:pt x="3709" y="1236"/>
                </a:lnTo>
                <a:lnTo>
                  <a:pt x="3898" y="1342"/>
                </a:lnTo>
              </a:path>
            </a:pathLst>
          </a:custGeom>
          <a:noFill/>
          <a:ln w="63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8" name=""/>
          <p:cNvGraphicFramePr/>
          <p:nvPr/>
        </p:nvGraphicFramePr>
        <p:xfrm>
          <a:off x="673200" y="1890720"/>
          <a:ext cx="737856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890720"/>
                    <a:ext cx="73785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784520" y="318960"/>
            <a:ext cx="531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A Inc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6481800" y="2959200"/>
            <a:ext cx="1980720" cy="1380600"/>
            <a:chOff x="6481800" y="2959200"/>
            <a:chExt cx="1980720" cy="1380600"/>
          </a:xfrm>
        </p:grpSpPr>
        <p:sp>
          <p:nvSpPr>
            <p:cNvPr id="1582" name=""/>
            <p:cNvSpPr/>
            <p:nvPr/>
          </p:nvSpPr>
          <p:spPr>
            <a:xfrm>
              <a:off x="6963120" y="32731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81800" y="29592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 ACI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5840640" y="2021040"/>
            <a:ext cx="2972520" cy="1052280"/>
            <a:chOff x="5840640" y="2021040"/>
            <a:chExt cx="2972520" cy="1052280"/>
          </a:xfrm>
        </p:grpSpPr>
        <p:sp>
          <p:nvSpPr>
            <p:cNvPr id="1585" name=""/>
            <p:cNvSpPr/>
            <p:nvPr/>
          </p:nvSpPr>
          <p:spPr>
            <a:xfrm>
              <a:off x="5840640" y="2021040"/>
              <a:ext cx="29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 ACIP 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59520" y="231156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5353560" y="1714680"/>
            <a:ext cx="2378160" cy="1423440"/>
            <a:chOff x="5353560" y="1714680"/>
            <a:chExt cx="2378160" cy="1423440"/>
          </a:xfrm>
        </p:grpSpPr>
        <p:sp>
          <p:nvSpPr>
            <p:cNvPr id="1588" name=""/>
            <p:cNvSpPr/>
            <p:nvPr/>
          </p:nvSpPr>
          <p:spPr>
            <a:xfrm>
              <a:off x="5353560" y="17146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 vaccine licen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767200" y="207180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91440" y="6372360"/>
            <a:ext cx="219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0280" y="1712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 per 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218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125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02228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4320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162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769000" y="2057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064200" y="2324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962760" y="351144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447920" y="4952880"/>
            <a:ext cx="651168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224480" y="4616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95816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668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90512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2096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438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743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48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289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81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86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91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419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724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029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33088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562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867280" y="579276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095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400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705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934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38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543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848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3879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36320" y="247824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 years and 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364840" y="4616640"/>
            <a:ext cx="24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ss than 19 years 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560600" y="3284640"/>
            <a:ext cx="6188040" cy="2130480"/>
          </a:xfrm>
          <a:custGeom>
            <a:avLst/>
            <a:gdLst/>
            <a:ahLst/>
            <a:rect l="l" t="t" r="r" b="b"/>
            <a:pathLst>
              <a:path w="3898" h="1342">
                <a:moveTo>
                  <a:pt x="0" y="189"/>
                </a:moveTo>
                <a:lnTo>
                  <a:pt x="181" y="361"/>
                </a:lnTo>
                <a:lnTo>
                  <a:pt x="355" y="505"/>
                </a:lnTo>
                <a:lnTo>
                  <a:pt x="531" y="607"/>
                </a:lnTo>
                <a:lnTo>
                  <a:pt x="711" y="594"/>
                </a:lnTo>
                <a:lnTo>
                  <a:pt x="885" y="517"/>
                </a:lnTo>
                <a:lnTo>
                  <a:pt x="1060" y="519"/>
                </a:lnTo>
                <a:lnTo>
                  <a:pt x="1242" y="466"/>
                </a:lnTo>
                <a:lnTo>
                  <a:pt x="1417" y="327"/>
                </a:lnTo>
                <a:lnTo>
                  <a:pt x="1590" y="0"/>
                </a:lnTo>
                <a:lnTo>
                  <a:pt x="1773" y="208"/>
                </a:lnTo>
                <a:lnTo>
                  <a:pt x="1948" y="550"/>
                </a:lnTo>
                <a:lnTo>
                  <a:pt x="2121" y="616"/>
                </a:lnTo>
                <a:lnTo>
                  <a:pt x="2301" y="583"/>
                </a:lnTo>
                <a:lnTo>
                  <a:pt x="2478" y="480"/>
                </a:lnTo>
                <a:lnTo>
                  <a:pt x="2650" y="280"/>
                </a:lnTo>
                <a:lnTo>
                  <a:pt x="2832" y="315"/>
                </a:lnTo>
                <a:lnTo>
                  <a:pt x="3007" y="373"/>
                </a:lnTo>
                <a:lnTo>
                  <a:pt x="3181" y="676"/>
                </a:lnTo>
                <a:lnTo>
                  <a:pt x="3363" y="940"/>
                </a:lnTo>
                <a:lnTo>
                  <a:pt x="3537" y="1119"/>
                </a:lnTo>
                <a:lnTo>
                  <a:pt x="3709" y="1236"/>
                </a:lnTo>
                <a:lnTo>
                  <a:pt x="3898" y="1342"/>
                </a:lnTo>
              </a:path>
            </a:pathLst>
          </a:custGeom>
          <a:noFill/>
          <a:ln w="63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370400" y="2733840"/>
            <a:ext cx="3371760" cy="2803320"/>
          </a:xfrm>
          <a:custGeom>
            <a:avLst/>
            <a:gdLst/>
            <a:ahLst/>
            <a:rect l="l" t="t" r="r" b="b"/>
            <a:pathLst>
              <a:path w="2124" h="1766">
                <a:moveTo>
                  <a:pt x="0" y="0"/>
                </a:moveTo>
                <a:lnTo>
                  <a:pt x="177" y="453"/>
                </a:lnTo>
                <a:lnTo>
                  <a:pt x="351" y="552"/>
                </a:lnTo>
                <a:lnTo>
                  <a:pt x="534" y="675"/>
                </a:lnTo>
                <a:lnTo>
                  <a:pt x="706" y="350"/>
                </a:lnTo>
                <a:lnTo>
                  <a:pt x="882" y="282"/>
                </a:lnTo>
                <a:lnTo>
                  <a:pt x="1063" y="377"/>
                </a:lnTo>
                <a:lnTo>
                  <a:pt x="1236" y="356"/>
                </a:lnTo>
                <a:lnTo>
                  <a:pt x="1410" y="890"/>
                </a:lnTo>
                <a:lnTo>
                  <a:pt x="1591" y="1172"/>
                </a:lnTo>
                <a:lnTo>
                  <a:pt x="1767" y="1343"/>
                </a:lnTo>
                <a:lnTo>
                  <a:pt x="1941" y="1662"/>
                </a:lnTo>
                <a:lnTo>
                  <a:pt x="2124" y="176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370400" y="3979800"/>
            <a:ext cx="3371760" cy="1349280"/>
          </a:xfrm>
          <a:custGeom>
            <a:avLst/>
            <a:gdLst/>
            <a:ahLst/>
            <a:rect l="l" t="t" r="r" b="b"/>
            <a:pathLst>
              <a:path w="2124" h="850">
                <a:moveTo>
                  <a:pt x="0" y="72"/>
                </a:moveTo>
                <a:lnTo>
                  <a:pt x="175" y="345"/>
                </a:lnTo>
                <a:lnTo>
                  <a:pt x="351" y="373"/>
                </a:lnTo>
                <a:lnTo>
                  <a:pt x="531" y="267"/>
                </a:lnTo>
                <a:lnTo>
                  <a:pt x="708" y="267"/>
                </a:lnTo>
                <a:lnTo>
                  <a:pt x="882" y="0"/>
                </a:lnTo>
                <a:lnTo>
                  <a:pt x="1063" y="6"/>
                </a:lnTo>
                <a:lnTo>
                  <a:pt x="1237" y="96"/>
                </a:lnTo>
                <a:lnTo>
                  <a:pt x="1411" y="301"/>
                </a:lnTo>
                <a:lnTo>
                  <a:pt x="1593" y="559"/>
                </a:lnTo>
                <a:lnTo>
                  <a:pt x="1767" y="738"/>
                </a:lnTo>
                <a:lnTo>
                  <a:pt x="2124" y="850"/>
                </a:ln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77880" y="274320"/>
            <a:ext cx="7788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271440" y="1981080"/>
          <a:ext cx="7610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40" y="1981080"/>
                    <a:ext cx="761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"/>
          <p:cNvSpPr/>
          <p:nvPr/>
        </p:nvSpPr>
        <p:spPr>
          <a:xfrm>
            <a:off x="474840" y="6240600"/>
            <a:ext cx="115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6320" y="650700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5160" y="173664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cases per 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77720" y="33526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-3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75840" y="403848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06400" y="502920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han1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139760" y="2695680"/>
            <a:ext cx="6346800" cy="2104920"/>
          </a:xfrm>
          <a:custGeom>
            <a:avLst/>
            <a:gdLst/>
            <a:ahLst/>
            <a:rect l="l" t="t" r="r" b="b"/>
            <a:pathLst>
              <a:path w="3998" h="1326">
                <a:moveTo>
                  <a:pt x="0" y="0"/>
                </a:moveTo>
                <a:lnTo>
                  <a:pt x="336" y="306"/>
                </a:lnTo>
                <a:lnTo>
                  <a:pt x="668" y="508"/>
                </a:lnTo>
                <a:lnTo>
                  <a:pt x="1002" y="796"/>
                </a:lnTo>
                <a:lnTo>
                  <a:pt x="1334" y="858"/>
                </a:lnTo>
                <a:lnTo>
                  <a:pt x="1668" y="984"/>
                </a:lnTo>
                <a:lnTo>
                  <a:pt x="2000" y="1026"/>
                </a:lnTo>
                <a:lnTo>
                  <a:pt x="2338" y="1058"/>
                </a:lnTo>
                <a:lnTo>
                  <a:pt x="2666" y="1088"/>
                </a:lnTo>
                <a:lnTo>
                  <a:pt x="2998" y="1274"/>
                </a:lnTo>
                <a:lnTo>
                  <a:pt x="3330" y="1278"/>
                </a:lnTo>
                <a:lnTo>
                  <a:pt x="3666" y="1326"/>
                </a:lnTo>
                <a:lnTo>
                  <a:pt x="3998" y="1318"/>
                </a:ln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136520" y="4305240"/>
            <a:ext cx="6359760" cy="701640"/>
          </a:xfrm>
          <a:custGeom>
            <a:avLst/>
            <a:gdLst/>
            <a:ahLst/>
            <a:rect l="l" t="t" r="r" b="b"/>
            <a:pathLst>
              <a:path w="4006" h="442">
                <a:moveTo>
                  <a:pt x="0" y="0"/>
                </a:moveTo>
                <a:lnTo>
                  <a:pt x="344" y="48"/>
                </a:lnTo>
                <a:lnTo>
                  <a:pt x="672" y="108"/>
                </a:lnTo>
                <a:lnTo>
                  <a:pt x="1004" y="216"/>
                </a:lnTo>
                <a:lnTo>
                  <a:pt x="1338" y="204"/>
                </a:lnTo>
                <a:lnTo>
                  <a:pt x="1670" y="306"/>
                </a:lnTo>
                <a:lnTo>
                  <a:pt x="1998" y="270"/>
                </a:lnTo>
                <a:lnTo>
                  <a:pt x="2334" y="270"/>
                </a:lnTo>
                <a:lnTo>
                  <a:pt x="2666" y="270"/>
                </a:lnTo>
                <a:lnTo>
                  <a:pt x="2998" y="442"/>
                </a:lnTo>
                <a:lnTo>
                  <a:pt x="3332" y="398"/>
                </a:lnTo>
                <a:lnTo>
                  <a:pt x="3664" y="378"/>
                </a:lnTo>
                <a:lnTo>
                  <a:pt x="4006" y="360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136520" y="4467240"/>
            <a:ext cx="6356520" cy="1168560"/>
          </a:xfrm>
          <a:custGeom>
            <a:avLst/>
            <a:gdLst/>
            <a:ahLst/>
            <a:rect l="l" t="t" r="r" b="b"/>
            <a:pathLst>
              <a:path w="4004" h="736">
                <a:moveTo>
                  <a:pt x="0" y="0"/>
                </a:moveTo>
                <a:lnTo>
                  <a:pt x="338" y="86"/>
                </a:lnTo>
                <a:lnTo>
                  <a:pt x="680" y="192"/>
                </a:lnTo>
                <a:lnTo>
                  <a:pt x="1004" y="296"/>
                </a:lnTo>
                <a:lnTo>
                  <a:pt x="1344" y="354"/>
                </a:lnTo>
                <a:lnTo>
                  <a:pt x="1668" y="456"/>
                </a:lnTo>
                <a:lnTo>
                  <a:pt x="2002" y="480"/>
                </a:lnTo>
                <a:lnTo>
                  <a:pt x="2340" y="458"/>
                </a:lnTo>
                <a:lnTo>
                  <a:pt x="2668" y="468"/>
                </a:lnTo>
                <a:lnTo>
                  <a:pt x="3004" y="634"/>
                </a:lnTo>
                <a:lnTo>
                  <a:pt x="3328" y="672"/>
                </a:lnTo>
                <a:lnTo>
                  <a:pt x="3666" y="702"/>
                </a:lnTo>
                <a:lnTo>
                  <a:pt x="4004" y="736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907400" y="64771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0880" y="2514600"/>
            <a:ext cx="43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0880" y="3251160"/>
            <a:ext cx="43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4920" y="38862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04920" y="45720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4920" y="52578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668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18776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876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0065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96504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239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5688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20840" y="5641920"/>
            <a:ext cx="18108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82556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37168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86704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40056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337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6724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00076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5339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01992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5308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1341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67640" y="5638680"/>
            <a:ext cx="18108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638360" y="2730600"/>
            <a:ext cx="14400" cy="330120"/>
          </a:xfrm>
          <a:custGeom>
            <a:avLst/>
            <a:gdLst/>
            <a:ahLst/>
            <a:rect l="l" t="t" r="r" b="b"/>
            <a:pathLst>
              <a:path w="9" h="208">
                <a:moveTo>
                  <a:pt x="0" y="0"/>
                </a:moveTo>
                <a:lnTo>
                  <a:pt x="9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31720" y="2390760"/>
            <a:ext cx="42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 ACIP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 infant vaccination sche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77880" y="274320"/>
            <a:ext cx="7788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673" name=""/>
          <p:cNvGraphicFramePr/>
          <p:nvPr/>
        </p:nvGraphicFramePr>
        <p:xfrm>
          <a:off x="271440" y="1981080"/>
          <a:ext cx="7610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40" y="1981080"/>
                    <a:ext cx="761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5" name=""/>
          <p:cNvSpPr/>
          <p:nvPr/>
        </p:nvSpPr>
        <p:spPr>
          <a:xfrm>
            <a:off x="474840" y="6240600"/>
            <a:ext cx="115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320" y="650700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400" y="173664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cases per 100,000 (log-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30280" y="272880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-3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38000" y="374652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706400" y="398772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han1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907400" y="64771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668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18776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09876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65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96504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9239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5688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336680" y="2941560"/>
            <a:ext cx="6154560" cy="858960"/>
          </a:xfrm>
          <a:custGeom>
            <a:avLst/>
            <a:gdLst/>
            <a:ahLst/>
            <a:rect l="l" t="t" r="r" b="b"/>
            <a:pathLst>
              <a:path w="3877" h="541">
                <a:moveTo>
                  <a:pt x="0" y="0"/>
                </a:moveTo>
                <a:lnTo>
                  <a:pt x="324" y="79"/>
                </a:lnTo>
                <a:lnTo>
                  <a:pt x="646" y="141"/>
                </a:lnTo>
                <a:lnTo>
                  <a:pt x="969" y="247"/>
                </a:lnTo>
                <a:lnTo>
                  <a:pt x="1291" y="271"/>
                </a:lnTo>
                <a:lnTo>
                  <a:pt x="1615" y="331"/>
                </a:lnTo>
                <a:lnTo>
                  <a:pt x="1939" y="349"/>
                </a:lnTo>
                <a:lnTo>
                  <a:pt x="2262" y="367"/>
                </a:lnTo>
                <a:lnTo>
                  <a:pt x="2586" y="385"/>
                </a:lnTo>
                <a:lnTo>
                  <a:pt x="2908" y="498"/>
                </a:lnTo>
                <a:lnTo>
                  <a:pt x="3229" y="505"/>
                </a:lnTo>
                <a:lnTo>
                  <a:pt x="3553" y="541"/>
                </a:lnTo>
                <a:lnTo>
                  <a:pt x="3877" y="537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333440" y="3579840"/>
            <a:ext cx="6157800" cy="1863720"/>
          </a:xfrm>
          <a:custGeom>
            <a:avLst/>
            <a:gdLst/>
            <a:ahLst/>
            <a:rect l="l" t="t" r="r" b="b"/>
            <a:pathLst>
              <a:path w="3879" h="1174">
                <a:moveTo>
                  <a:pt x="0" y="0"/>
                </a:moveTo>
                <a:lnTo>
                  <a:pt x="324" y="49"/>
                </a:lnTo>
                <a:lnTo>
                  <a:pt x="648" y="127"/>
                </a:lnTo>
                <a:lnTo>
                  <a:pt x="971" y="211"/>
                </a:lnTo>
                <a:lnTo>
                  <a:pt x="1293" y="271"/>
                </a:lnTo>
                <a:lnTo>
                  <a:pt x="1617" y="385"/>
                </a:lnTo>
                <a:lnTo>
                  <a:pt x="1940" y="421"/>
                </a:lnTo>
                <a:lnTo>
                  <a:pt x="2259" y="390"/>
                </a:lnTo>
                <a:lnTo>
                  <a:pt x="2586" y="402"/>
                </a:lnTo>
                <a:lnTo>
                  <a:pt x="2910" y="715"/>
                </a:lnTo>
                <a:lnTo>
                  <a:pt x="3230" y="826"/>
                </a:lnTo>
                <a:lnTo>
                  <a:pt x="3555" y="961"/>
                </a:lnTo>
                <a:lnTo>
                  <a:pt x="3879" y="1174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333440" y="3484440"/>
            <a:ext cx="6161040" cy="497160"/>
          </a:xfrm>
          <a:custGeom>
            <a:avLst/>
            <a:gdLst/>
            <a:ahLst/>
            <a:rect l="l" t="t" r="r" b="b"/>
            <a:pathLst>
              <a:path w="3881" h="313">
                <a:moveTo>
                  <a:pt x="0" y="0"/>
                </a:moveTo>
                <a:lnTo>
                  <a:pt x="324" y="30"/>
                </a:lnTo>
                <a:lnTo>
                  <a:pt x="648" y="61"/>
                </a:lnTo>
                <a:lnTo>
                  <a:pt x="969" y="130"/>
                </a:lnTo>
                <a:lnTo>
                  <a:pt x="1295" y="124"/>
                </a:lnTo>
                <a:lnTo>
                  <a:pt x="1616" y="192"/>
                </a:lnTo>
                <a:lnTo>
                  <a:pt x="1940" y="168"/>
                </a:lnTo>
                <a:lnTo>
                  <a:pt x="2261" y="169"/>
                </a:lnTo>
                <a:lnTo>
                  <a:pt x="2586" y="168"/>
                </a:lnTo>
                <a:lnTo>
                  <a:pt x="2909" y="313"/>
                </a:lnTo>
                <a:lnTo>
                  <a:pt x="3227" y="273"/>
                </a:lnTo>
                <a:lnTo>
                  <a:pt x="3554" y="255"/>
                </a:lnTo>
                <a:lnTo>
                  <a:pt x="3881" y="241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"/>
          <p:cNvGraphicFramePr/>
          <p:nvPr/>
        </p:nvGraphicFramePr>
        <p:xfrm>
          <a:off x="533520" y="2590920"/>
          <a:ext cx="8076960" cy="35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590920"/>
                    <a:ext cx="807696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, 2001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362680" y="1676520"/>
            <a:ext cx="14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aska N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133720" y="2286000"/>
            <a:ext cx="152280" cy="152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1816200"/>
            <a:ext cx="15264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133720" y="18288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4200" y="6175440"/>
            <a:ext cx="2149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28600" y="24224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1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371600" y="5575320"/>
            <a:ext cx="207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09880" y="523224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184800" y="54864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739120" y="2201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608480" y="58514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-24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34520" y="58644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-39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082560" y="5865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413080" y="213372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267800" y="17654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280040" y="2133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699160" y="167652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038480" y="2286000"/>
            <a:ext cx="152640" cy="15228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86400" y="1828800"/>
            <a:ext cx="15228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86400" y="2349360"/>
            <a:ext cx="152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981080" y="1676520"/>
            <a:ext cx="4800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31080" y="64450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7" name=""/>
          <p:cNvGraphicFramePr/>
          <p:nvPr/>
        </p:nvGraphicFramePr>
        <p:xfrm>
          <a:off x="228600" y="1874880"/>
          <a:ext cx="868680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74880"/>
                    <a:ext cx="86868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9" name=""/>
          <p:cNvSpPr/>
          <p:nvPr/>
        </p:nvSpPr>
        <p:spPr>
          <a:xfrm>
            <a:off x="7947000" y="1752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168560" y="563868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76320" y="2790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Rates of Tuberculosis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56680" y="6321600"/>
            <a:ext cx="68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Note:  Data in parentheses represent the percent change in the rates between 1998 and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Source:  NTBSS, CDC, NCHS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34320" y="1828800"/>
            <a:ext cx="152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04268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28056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70160" y="57261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 or 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79760" y="57261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146640" y="5726160"/>
            <a:ext cx="1320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505640" y="5732640"/>
            <a:ext cx="122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105880" y="5737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220400" y="57276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830720" y="6324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6461280" y="2101680"/>
          <a:ext cx="2301840" cy="11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61280" y="2101680"/>
                    <a:ext cx="230184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7" name=""/>
          <p:cNvSpPr/>
          <p:nvPr/>
        </p:nvSpPr>
        <p:spPr>
          <a:xfrm>
            <a:off x="6834240" y="2266920"/>
            <a:ext cx="1814400" cy="500040"/>
          </a:xfrm>
          <a:custGeom>
            <a:avLst/>
            <a:gdLst/>
            <a:ahLst/>
            <a:rect l="l" t="t" r="r" b="b"/>
            <a:pathLst>
              <a:path w="1143" h="315">
                <a:moveTo>
                  <a:pt x="0" y="30"/>
                </a:moveTo>
                <a:lnTo>
                  <a:pt x="66" y="80"/>
                </a:lnTo>
                <a:lnTo>
                  <a:pt x="122" y="122"/>
                </a:lnTo>
                <a:lnTo>
                  <a:pt x="180" y="122"/>
                </a:lnTo>
                <a:lnTo>
                  <a:pt x="236" y="110"/>
                </a:lnTo>
                <a:lnTo>
                  <a:pt x="294" y="114"/>
                </a:lnTo>
                <a:lnTo>
                  <a:pt x="350" y="116"/>
                </a:lnTo>
                <a:lnTo>
                  <a:pt x="405" y="89"/>
                </a:lnTo>
                <a:lnTo>
                  <a:pt x="464" y="27"/>
                </a:lnTo>
                <a:lnTo>
                  <a:pt x="521" y="12"/>
                </a:lnTo>
                <a:lnTo>
                  <a:pt x="578" y="0"/>
                </a:lnTo>
                <a:lnTo>
                  <a:pt x="633" y="39"/>
                </a:lnTo>
                <a:lnTo>
                  <a:pt x="690" y="63"/>
                </a:lnTo>
                <a:lnTo>
                  <a:pt x="746" y="107"/>
                </a:lnTo>
                <a:lnTo>
                  <a:pt x="803" y="146"/>
                </a:lnTo>
                <a:lnTo>
                  <a:pt x="858" y="186"/>
                </a:lnTo>
                <a:lnTo>
                  <a:pt x="917" y="228"/>
                </a:lnTo>
                <a:lnTo>
                  <a:pt x="975" y="251"/>
                </a:lnTo>
                <a:lnTo>
                  <a:pt x="1029" y="282"/>
                </a:lnTo>
                <a:lnTo>
                  <a:pt x="1086" y="294"/>
                </a:lnTo>
                <a:lnTo>
                  <a:pt x="1143" y="315"/>
                </a:lnTo>
              </a:path>
            </a:pathLst>
          </a:custGeom>
          <a:noFill/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277120" y="2629080"/>
            <a:ext cx="309600" cy="357120"/>
          </a:xfrm>
          <a:custGeom>
            <a:avLst/>
            <a:gdLst/>
            <a:ahLst/>
            <a:rect l="l" t="t" r="r" b="b"/>
            <a:pathLst>
              <a:path w="195" h="225">
                <a:moveTo>
                  <a:pt x="0" y="0"/>
                </a:moveTo>
                <a:lnTo>
                  <a:pt x="23" y="15"/>
                </a:lnTo>
                <a:cubicBezTo>
                  <a:pt x="32" y="19"/>
                  <a:pt x="49" y="22"/>
                  <a:pt x="59" y="27"/>
                </a:cubicBezTo>
                <a:cubicBezTo>
                  <a:pt x="65" y="30"/>
                  <a:pt x="89" y="46"/>
                  <a:pt x="96" y="47"/>
                </a:cubicBezTo>
                <a:cubicBezTo>
                  <a:pt x="109" y="53"/>
                  <a:pt x="118" y="62"/>
                  <a:pt x="126" y="65"/>
                </a:cubicBezTo>
                <a:cubicBezTo>
                  <a:pt x="134" y="68"/>
                  <a:pt x="135" y="66"/>
                  <a:pt x="146" y="68"/>
                </a:cubicBezTo>
                <a:cubicBezTo>
                  <a:pt x="161" y="74"/>
                  <a:pt x="182" y="68"/>
                  <a:pt x="195" y="78"/>
                </a:cubicBezTo>
                <a:lnTo>
                  <a:pt x="194" y="225"/>
                </a:lnTo>
                <a:lnTo>
                  <a:pt x="2" y="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5600" y="1611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100,000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183320" y="4786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472480" y="4406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767760" y="2362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76000" y="4091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371280" y="3657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679520" y="519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2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271000" y="2629080"/>
            <a:ext cx="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586720" y="2751120"/>
            <a:ext cx="1800" cy="235080"/>
          </a:xfrm>
          <a:custGeom>
            <a:avLst/>
            <a:gdLst/>
            <a:ahLst/>
            <a:rect l="l" t="t" r="r" b="b"/>
            <a:pathLst>
              <a:path w="1" h="148">
                <a:moveTo>
                  <a:pt x="0" y="0"/>
                </a:moveTo>
                <a:lnTo>
                  <a:pt x="0" y="1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228600" y="1874880"/>
          <a:ext cx="868680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74880"/>
                    <a:ext cx="86868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367200" y="167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947000" y="1752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295280" y="260352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Proportion of Tuberculosis Patients Completing Curative Therapy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99320" y="6299280"/>
            <a:ext cx="2354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Source:  NTBSS, CDC, NCHS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1828800"/>
            <a:ext cx="152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4268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28056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371680" y="5726160"/>
            <a:ext cx="131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 or 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568680" y="57261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184800" y="5726160"/>
            <a:ext cx="1320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493040" y="571500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50520" y="57499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360080" y="57276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830720" y="6324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 data and slides can be found on the web at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http://www.cdc.gov/nchs/hphome.ht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munization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23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Vaccination in day care, grades K and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24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Fully immunized child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us others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ease prevale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Children and vacc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vider pract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Immunization regis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-risk adul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Adverse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ccine safe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ectious Disease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10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Identification of persons with chronic Hepatitis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15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Prevention services for International travel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us others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patitis A, B, and 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Bacterial meningit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ptic ulcer hospitaliza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Pneumococcal infectio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Antibiotics u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Meningococcal disease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Hospital-acquired infec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Lyme dise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Anti-microbial use in ICU’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Group B streptococca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uberculosis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ubercul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ative therapy for tubercul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for high-risk per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ly laboratory confi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Morbidity Profile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585800"/>
          <a:ext cx="7772400" cy="4934160"/>
        </p:xfrm>
        <a:graphic>
          <a:graphicData uri="http://schemas.openxmlformats.org/drawingml/2006/table">
            <a:tbl>
              <a:tblPr/>
              <a:tblGrid>
                <a:gridCol w="2816280"/>
                <a:gridCol w="2106720"/>
                <a:gridCol w="1425240"/>
                <a:gridCol w="1424160"/>
              </a:tblGrid>
              <a:tr h="105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erage preval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Cent.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s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3,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phth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5,8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p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2,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tus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7,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bel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. Influenzae,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ype 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lio (paralyti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ta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genital Rubella Syndro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685800" y="25909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48520" y="1832040"/>
            <a:ext cx="7441560" cy="4114800"/>
            <a:chOff x="848520" y="1832040"/>
            <a:chExt cx="7441560" cy="4114800"/>
          </a:xfrm>
        </p:grpSpPr>
        <p:grpSp>
          <p:nvGrpSpPr>
            <p:cNvPr id="64" name=""/>
            <p:cNvGrpSpPr/>
            <p:nvPr/>
          </p:nvGrpSpPr>
          <p:grpSpPr>
            <a:xfrm>
              <a:off x="1206360" y="4108320"/>
              <a:ext cx="7067520" cy="731880"/>
              <a:chOff x="1206360" y="4108320"/>
              <a:chExt cx="706752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206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4920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93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38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80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5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684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12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57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44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876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31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748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19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63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6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1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40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38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2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70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129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57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301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44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89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21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76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21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639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08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510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956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39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82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27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02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14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59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020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6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891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38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78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20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65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084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2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97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40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84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2728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71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147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59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03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46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90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364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782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2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65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10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28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97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41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84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292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721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16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10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038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8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910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356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79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22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674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102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991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420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862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37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18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60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55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483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92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372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801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4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672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18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56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99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436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86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0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736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18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2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05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50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928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37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81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24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68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172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56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00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43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88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309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5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19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62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7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94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38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1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6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690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137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58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00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454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883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32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772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20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64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072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518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96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38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836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6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70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135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58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02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45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89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328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77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217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64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08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16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96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40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83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8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709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15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598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06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4920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3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38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80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5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684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12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57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00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44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876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31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48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9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3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6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51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940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8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82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258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70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129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57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01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44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89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21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76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21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639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08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510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956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9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82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27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206360" y="3386160"/>
              <a:ext cx="7067520" cy="731880"/>
              <a:chOff x="1206360" y="3386160"/>
              <a:chExt cx="7067520" cy="731880"/>
            </a:xfrm>
          </p:grpSpPr>
          <p:sp>
            <p:nvSpPr>
              <p:cNvPr id="266" name=""/>
              <p:cNvSpPr/>
              <p:nvPr/>
            </p:nvSpPr>
            <p:spPr>
              <a:xfrm>
                <a:off x="28702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14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59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020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46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891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338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78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20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5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84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52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97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0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4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2728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71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147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59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03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6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90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3364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782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22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5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0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528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97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41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84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292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21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16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610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8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8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910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56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79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22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674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102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54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991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420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862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9291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737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18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60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055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83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2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372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801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24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672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18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56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99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436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86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30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736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18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05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50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928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37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81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24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68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72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56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00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43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88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309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75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19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62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07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502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94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38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1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26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690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137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58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00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454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883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32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72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20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64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072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518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6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38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36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26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70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135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8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02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45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89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328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77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8217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864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08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516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96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40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83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8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709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15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98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06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4920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93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38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0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5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84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12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57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00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4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76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31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748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19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63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06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51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940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38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82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1258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170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2129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57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01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44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89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321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76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21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39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08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510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956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82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27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702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14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9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20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6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891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338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78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20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265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084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352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97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40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84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2728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71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147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59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03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6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90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3364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782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22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65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10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528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97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41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84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92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721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16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10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038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48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910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206360" y="2664000"/>
              <a:ext cx="7067520" cy="731520"/>
              <a:chOff x="1206360" y="2664000"/>
              <a:chExt cx="7067520" cy="731520"/>
            </a:xfrm>
          </p:grpSpPr>
          <p:sp>
            <p:nvSpPr>
              <p:cNvPr id="467" name=""/>
              <p:cNvSpPr/>
              <p:nvPr/>
            </p:nvSpPr>
            <p:spPr>
              <a:xfrm>
                <a:off x="45356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9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22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674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102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54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991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420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862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291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737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8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60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055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483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92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372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2801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24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672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18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56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99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436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86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630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736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18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62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05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50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928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37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81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24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68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1172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56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00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43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88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3309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75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419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462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07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502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94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38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81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6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690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137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00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454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883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32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772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20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64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072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518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96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38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836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26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70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35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558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02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45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89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328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77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8217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64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08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516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96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040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83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28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709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15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98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06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4920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93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38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80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5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2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00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44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876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731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7748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19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63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06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51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940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38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82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258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70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129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57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01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44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9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321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76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21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639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08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510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956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739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782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27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702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14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59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20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46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891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338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8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0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65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84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2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97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40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84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2728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71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147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59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03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746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90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3364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782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922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65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10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528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97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41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184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2292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2721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610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038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48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10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356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79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22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674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102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54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991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8420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862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291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737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18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60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055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483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92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372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801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24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3672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118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56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99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436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86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30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736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18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762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05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50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928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37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81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24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68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1172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56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206360" y="1941480"/>
              <a:ext cx="7067520" cy="731880"/>
              <a:chOff x="1206360" y="1941480"/>
              <a:chExt cx="7067520" cy="731880"/>
            </a:xfrm>
          </p:grpSpPr>
          <p:sp>
            <p:nvSpPr>
              <p:cNvPr id="668" name=""/>
              <p:cNvSpPr/>
              <p:nvPr/>
            </p:nvSpPr>
            <p:spPr>
              <a:xfrm>
                <a:off x="6200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43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88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309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375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19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462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507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5502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94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638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81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26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690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137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58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00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454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883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32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772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20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64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072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518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96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38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836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26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0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135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58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02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45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89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7328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77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217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64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08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516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40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83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128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1709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15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2598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06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4920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93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38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80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25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684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512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57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002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44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876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31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748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819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63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06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951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940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038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2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258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70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129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2575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01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344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893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4321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4764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5210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639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082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10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956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739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782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827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8702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14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59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020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46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891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338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78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220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655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084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52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973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40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4844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2728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71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147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659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03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46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90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3364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782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922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965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010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0528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97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41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84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2292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2721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316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3610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4038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448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910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356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79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22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6674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7102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54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991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862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291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37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18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60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055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483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92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372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801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24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3672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4118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456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99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436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586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630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6736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18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62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05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50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928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937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81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024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68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11172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56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0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43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88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309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75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9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62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507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502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94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38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81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26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690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137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58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00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454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883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32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772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1200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64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072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2518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96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38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836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26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70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5135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558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2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45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89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328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777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8217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786456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0884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1680" y="1941480"/>
              <a:ext cx="15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9632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4060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8344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2808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70920" y="1941480"/>
              <a:ext cx="15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1520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984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06360" y="1941480"/>
              <a:ext cx="1800" cy="361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06360" y="5553000"/>
              <a:ext cx="7081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1206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130176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403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14986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1600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695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7971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8921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9940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20890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192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286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23893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2484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2585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2681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7828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878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979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0751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1701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271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33670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470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564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6669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7609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863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959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060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156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57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352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4546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4549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53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4746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842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49449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0385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141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5237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338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43384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5535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5630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7326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827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59292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24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1279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2215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3244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4198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65214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616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671184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13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8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010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71056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72072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302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4055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4995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6024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76960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7799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7894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9963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091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81932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8288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01760" y="2306520"/>
              <a:ext cx="6891480" cy="1800"/>
            </a:xfrm>
            <a:custGeom>
              <a:avLst/>
              <a:gdLst/>
              <a:ahLst/>
              <a:rect l="l" t="t" r="r" b="b"/>
              <a:pathLst>
                <a:path w="944" h="0">
                  <a:moveTo>
                    <a:pt x="0" y="0"/>
                  </a:moveTo>
                  <a:lnTo>
                    <a:pt x="27" y="0"/>
                  </a:lnTo>
                  <a:lnTo>
                    <a:pt x="54" y="0"/>
                  </a:lnTo>
                  <a:lnTo>
                    <a:pt x="81" y="0"/>
                  </a:lnTo>
                  <a:lnTo>
                    <a:pt x="108" y="0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9" y="0"/>
                  </a:lnTo>
                  <a:lnTo>
                    <a:pt x="216" y="0"/>
                  </a:lnTo>
                  <a:lnTo>
                    <a:pt x="243" y="0"/>
                  </a:lnTo>
                  <a:lnTo>
                    <a:pt x="270" y="0"/>
                  </a:lnTo>
                  <a:lnTo>
                    <a:pt x="297" y="0"/>
                  </a:lnTo>
                  <a:lnTo>
                    <a:pt x="324" y="0"/>
                  </a:lnTo>
                  <a:lnTo>
                    <a:pt x="351" y="0"/>
                  </a:lnTo>
                  <a:lnTo>
                    <a:pt x="378" y="0"/>
                  </a:lnTo>
                  <a:lnTo>
                    <a:pt x="405" y="0"/>
                  </a:lnTo>
                  <a:lnTo>
                    <a:pt x="432" y="0"/>
                  </a:lnTo>
                  <a:lnTo>
                    <a:pt x="459" y="0"/>
                  </a:lnTo>
                  <a:lnTo>
                    <a:pt x="485" y="0"/>
                  </a:lnTo>
                  <a:lnTo>
                    <a:pt x="512" y="0"/>
                  </a:lnTo>
                  <a:lnTo>
                    <a:pt x="539" y="0"/>
                  </a:lnTo>
                  <a:lnTo>
                    <a:pt x="566" y="0"/>
                  </a:lnTo>
                  <a:lnTo>
                    <a:pt x="593" y="0"/>
                  </a:lnTo>
                  <a:lnTo>
                    <a:pt x="620" y="0"/>
                  </a:lnTo>
                  <a:lnTo>
                    <a:pt x="647" y="0"/>
                  </a:lnTo>
                  <a:lnTo>
                    <a:pt x="674" y="0"/>
                  </a:lnTo>
                  <a:lnTo>
                    <a:pt x="701" y="0"/>
                  </a:lnTo>
                  <a:lnTo>
                    <a:pt x="728" y="0"/>
                  </a:lnTo>
                  <a:lnTo>
                    <a:pt x="755" y="0"/>
                  </a:lnTo>
                  <a:lnTo>
                    <a:pt x="782" y="0"/>
                  </a:lnTo>
                  <a:lnTo>
                    <a:pt x="809" y="0"/>
                  </a:lnTo>
                  <a:lnTo>
                    <a:pt x="836" y="0"/>
                  </a:lnTo>
                  <a:lnTo>
                    <a:pt x="863" y="0"/>
                  </a:lnTo>
                  <a:lnTo>
                    <a:pt x="890" y="0"/>
                  </a:lnTo>
                  <a:lnTo>
                    <a:pt x="917" y="0"/>
                  </a:lnTo>
                  <a:lnTo>
                    <a:pt x="94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40040" y="544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41400" y="4721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41400" y="3998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41400" y="3276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41400" y="2554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8520" y="18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3076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2296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137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59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963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885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728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632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554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458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380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4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690640" y="2654280"/>
            <a:ext cx="1043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P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94040" y="3530520"/>
            <a:ext cx="2044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R(1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82960" y="3657600"/>
            <a:ext cx="10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o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57800" y="4495680"/>
            <a:ext cx="9097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b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597800" y="2362320"/>
            <a:ext cx="1241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67480" y="4164120"/>
            <a:ext cx="1571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cella (1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8520" y="6095880"/>
            <a:ext cx="88632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Children in the USIS and NHIS were 24-35 months of age.  Children in the NIS were 19-35 months of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7240" indent="-687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SIS (1967-1985), CDC, Division of Immunization, NHIS (1991-1993) CDC, NCHS, and NIS (1994-December 2002), CDC, NIP and NCHS; No data from 1986-1990 due to cancellation of USIS because of budget re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14600" y="1994040"/>
            <a:ext cx="246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ccine-specific coverage rates among pre-school aged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01760" y="1587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8520" y="2733840"/>
            <a:ext cx="3556080" cy="504720"/>
          </a:xfrm>
          <a:custGeom>
            <a:avLst/>
            <a:gdLst/>
            <a:ahLst/>
            <a:rect l="l" t="t" r="r" b="b"/>
            <a:pathLst>
              <a:path w="2240" h="318">
                <a:moveTo>
                  <a:pt x="0" y="0"/>
                </a:moveTo>
                <a:lnTo>
                  <a:pt x="130" y="24"/>
                </a:lnTo>
                <a:lnTo>
                  <a:pt x="258" y="26"/>
                </a:lnTo>
                <a:lnTo>
                  <a:pt x="372" y="46"/>
                </a:lnTo>
                <a:lnTo>
                  <a:pt x="502" y="2"/>
                </a:lnTo>
                <a:lnTo>
                  <a:pt x="624" y="92"/>
                </a:lnTo>
                <a:lnTo>
                  <a:pt x="748" y="140"/>
                </a:lnTo>
                <a:lnTo>
                  <a:pt x="872" y="140"/>
                </a:lnTo>
                <a:lnTo>
                  <a:pt x="998" y="118"/>
                </a:lnTo>
                <a:lnTo>
                  <a:pt x="1122" y="118"/>
                </a:lnTo>
                <a:lnTo>
                  <a:pt x="1248" y="190"/>
                </a:lnTo>
                <a:lnTo>
                  <a:pt x="1372" y="250"/>
                </a:lnTo>
                <a:lnTo>
                  <a:pt x="1496" y="318"/>
                </a:lnTo>
                <a:lnTo>
                  <a:pt x="1618" y="272"/>
                </a:lnTo>
                <a:lnTo>
                  <a:pt x="1744" y="228"/>
                </a:lnTo>
                <a:lnTo>
                  <a:pt x="1870" y="252"/>
                </a:lnTo>
                <a:lnTo>
                  <a:pt x="1990" y="296"/>
                </a:lnTo>
                <a:lnTo>
                  <a:pt x="2116" y="296"/>
                </a:lnTo>
                <a:lnTo>
                  <a:pt x="2240" y="318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01760" y="3083040"/>
            <a:ext cx="3549600" cy="374400"/>
          </a:xfrm>
          <a:custGeom>
            <a:avLst/>
            <a:gdLst/>
            <a:ahLst/>
            <a:rect l="l" t="t" r="r" b="b"/>
            <a:pathLst>
              <a:path w="2236" h="236">
                <a:moveTo>
                  <a:pt x="0" y="192"/>
                </a:moveTo>
                <a:lnTo>
                  <a:pt x="126" y="142"/>
                </a:lnTo>
                <a:lnTo>
                  <a:pt x="250" y="168"/>
                </a:lnTo>
                <a:lnTo>
                  <a:pt x="376" y="236"/>
                </a:lnTo>
                <a:lnTo>
                  <a:pt x="498" y="142"/>
                </a:lnTo>
                <a:lnTo>
                  <a:pt x="624" y="122"/>
                </a:lnTo>
                <a:lnTo>
                  <a:pt x="750" y="170"/>
                </a:lnTo>
                <a:lnTo>
                  <a:pt x="870" y="122"/>
                </a:lnTo>
                <a:lnTo>
                  <a:pt x="998" y="50"/>
                </a:lnTo>
                <a:lnTo>
                  <a:pt x="1120" y="56"/>
                </a:lnTo>
                <a:lnTo>
                  <a:pt x="1244" y="78"/>
                </a:lnTo>
                <a:lnTo>
                  <a:pt x="1368" y="98"/>
                </a:lnTo>
                <a:lnTo>
                  <a:pt x="1492" y="28"/>
                </a:lnTo>
                <a:lnTo>
                  <a:pt x="1620" y="28"/>
                </a:lnTo>
                <a:lnTo>
                  <a:pt x="1744" y="30"/>
                </a:lnTo>
                <a:lnTo>
                  <a:pt x="1864" y="0"/>
                </a:lnTo>
                <a:lnTo>
                  <a:pt x="1988" y="54"/>
                </a:lnTo>
                <a:lnTo>
                  <a:pt x="2112" y="52"/>
                </a:lnTo>
                <a:lnTo>
                  <a:pt x="2236" y="172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86160" y="3241800"/>
            <a:ext cx="2361960" cy="403200"/>
          </a:xfrm>
          <a:custGeom>
            <a:avLst/>
            <a:gdLst/>
            <a:ahLst/>
            <a:rect l="l" t="t" r="r" b="b"/>
            <a:pathLst>
              <a:path w="1488" h="254">
                <a:moveTo>
                  <a:pt x="0" y="92"/>
                </a:moveTo>
                <a:lnTo>
                  <a:pt x="124" y="88"/>
                </a:lnTo>
                <a:lnTo>
                  <a:pt x="250" y="0"/>
                </a:lnTo>
                <a:lnTo>
                  <a:pt x="374" y="68"/>
                </a:lnTo>
                <a:lnTo>
                  <a:pt x="496" y="24"/>
                </a:lnTo>
                <a:lnTo>
                  <a:pt x="622" y="92"/>
                </a:lnTo>
                <a:lnTo>
                  <a:pt x="746" y="92"/>
                </a:lnTo>
                <a:lnTo>
                  <a:pt x="870" y="116"/>
                </a:lnTo>
                <a:lnTo>
                  <a:pt x="992" y="114"/>
                </a:lnTo>
                <a:lnTo>
                  <a:pt x="1120" y="162"/>
                </a:lnTo>
                <a:lnTo>
                  <a:pt x="1244" y="158"/>
                </a:lnTo>
                <a:lnTo>
                  <a:pt x="1372" y="254"/>
                </a:lnTo>
                <a:lnTo>
                  <a:pt x="1488" y="230"/>
                </a:lnTo>
              </a:path>
            </a:pathLst>
          </a:custGeom>
          <a:noFill/>
          <a:ln w="633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26200" y="2292480"/>
            <a:ext cx="1974960" cy="2974680"/>
          </a:xfrm>
          <a:custGeom>
            <a:avLst/>
            <a:gdLst/>
            <a:ahLst/>
            <a:rect l="l" t="t" r="r" b="b"/>
            <a:pathLst>
              <a:path w="1244" h="1874">
                <a:moveTo>
                  <a:pt x="0" y="1874"/>
                </a:moveTo>
                <a:lnTo>
                  <a:pt x="124" y="1692"/>
                </a:lnTo>
                <a:lnTo>
                  <a:pt x="246" y="1214"/>
                </a:lnTo>
                <a:lnTo>
                  <a:pt x="372" y="506"/>
                </a:lnTo>
                <a:lnTo>
                  <a:pt x="496" y="190"/>
                </a:lnTo>
                <a:lnTo>
                  <a:pt x="620" y="146"/>
                </a:lnTo>
                <a:lnTo>
                  <a:pt x="744" y="74"/>
                </a:lnTo>
                <a:lnTo>
                  <a:pt x="870" y="48"/>
                </a:lnTo>
                <a:lnTo>
                  <a:pt x="994" y="0"/>
                </a:lnTo>
                <a:lnTo>
                  <a:pt x="1122" y="32"/>
                </a:lnTo>
                <a:lnTo>
                  <a:pt x="1244" y="12"/>
                </a:lnTo>
              </a:path>
            </a:pathLst>
          </a:custGeom>
          <a:noFill/>
          <a:ln w="63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010280" y="2644920"/>
            <a:ext cx="1190880" cy="2333520"/>
          </a:xfrm>
          <a:custGeom>
            <a:avLst/>
            <a:gdLst/>
            <a:ahLst/>
            <a:rect l="l" t="t" r="r" b="b"/>
            <a:pathLst>
              <a:path w="750" h="1470">
                <a:moveTo>
                  <a:pt x="0" y="1470"/>
                </a:moveTo>
                <a:lnTo>
                  <a:pt x="128" y="1242"/>
                </a:lnTo>
                <a:lnTo>
                  <a:pt x="250" y="848"/>
                </a:lnTo>
                <a:lnTo>
                  <a:pt x="372" y="528"/>
                </a:lnTo>
                <a:lnTo>
                  <a:pt x="498" y="290"/>
                </a:lnTo>
                <a:lnTo>
                  <a:pt x="624" y="96"/>
                </a:lnTo>
                <a:lnTo>
                  <a:pt x="750" y="0"/>
                </a:lnTo>
              </a:path>
            </a:pathLst>
          </a:custGeom>
          <a:noFill/>
          <a:ln w="63360">
            <a:solidFill>
              <a:srgbClr val="99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22800" y="2178000"/>
            <a:ext cx="2178360" cy="3301920"/>
          </a:xfrm>
          <a:custGeom>
            <a:avLst/>
            <a:gdLst/>
            <a:ahLst/>
            <a:rect l="l" t="t" r="r" b="b"/>
            <a:pathLst>
              <a:path w="1372" h="2080">
                <a:moveTo>
                  <a:pt x="0" y="2080"/>
                </a:moveTo>
                <a:lnTo>
                  <a:pt x="130" y="1474"/>
                </a:lnTo>
                <a:lnTo>
                  <a:pt x="252" y="868"/>
                </a:lnTo>
                <a:lnTo>
                  <a:pt x="374" y="168"/>
                </a:lnTo>
                <a:lnTo>
                  <a:pt x="498" y="34"/>
                </a:lnTo>
                <a:lnTo>
                  <a:pt x="626" y="36"/>
                </a:lnTo>
                <a:lnTo>
                  <a:pt x="748" y="18"/>
                </a:lnTo>
                <a:lnTo>
                  <a:pt x="870" y="0"/>
                </a:lnTo>
                <a:lnTo>
                  <a:pt x="1002" y="2"/>
                </a:lnTo>
                <a:lnTo>
                  <a:pt x="1124" y="0"/>
                </a:lnTo>
                <a:lnTo>
                  <a:pt x="1250" y="12"/>
                </a:lnTo>
                <a:lnTo>
                  <a:pt x="1372" y="2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24600" y="2236680"/>
            <a:ext cx="2171520" cy="354240"/>
          </a:xfrm>
          <a:custGeom>
            <a:avLst/>
            <a:gdLst/>
            <a:ahLst/>
            <a:rect l="l" t="t" r="r" b="b"/>
            <a:pathLst>
              <a:path w="1368" h="223">
                <a:moveTo>
                  <a:pt x="0" y="223"/>
                </a:moveTo>
                <a:lnTo>
                  <a:pt x="125" y="204"/>
                </a:lnTo>
                <a:lnTo>
                  <a:pt x="249" y="178"/>
                </a:lnTo>
                <a:lnTo>
                  <a:pt x="372" y="63"/>
                </a:lnTo>
                <a:lnTo>
                  <a:pt x="498" y="45"/>
                </a:lnTo>
                <a:lnTo>
                  <a:pt x="626" y="21"/>
                </a:lnTo>
                <a:lnTo>
                  <a:pt x="747" y="30"/>
                </a:lnTo>
                <a:lnTo>
                  <a:pt x="872" y="0"/>
                </a:lnTo>
                <a:lnTo>
                  <a:pt x="996" y="12"/>
                </a:lnTo>
                <a:lnTo>
                  <a:pt x="1119" y="37"/>
                </a:lnTo>
                <a:lnTo>
                  <a:pt x="1245" y="12"/>
                </a:lnTo>
                <a:lnTo>
                  <a:pt x="1368" y="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022800" y="2271600"/>
            <a:ext cx="2173320" cy="1374840"/>
          </a:xfrm>
          <a:custGeom>
            <a:avLst/>
            <a:gdLst/>
            <a:ahLst/>
            <a:rect l="l" t="t" r="r" b="b"/>
            <a:pathLst>
              <a:path w="1369" h="866">
                <a:moveTo>
                  <a:pt x="0" y="866"/>
                </a:moveTo>
                <a:lnTo>
                  <a:pt x="126" y="435"/>
                </a:lnTo>
                <a:lnTo>
                  <a:pt x="252" y="272"/>
                </a:lnTo>
                <a:lnTo>
                  <a:pt x="373" y="180"/>
                </a:lnTo>
                <a:lnTo>
                  <a:pt x="498" y="65"/>
                </a:lnTo>
                <a:lnTo>
                  <a:pt x="624" y="3"/>
                </a:lnTo>
                <a:lnTo>
                  <a:pt x="748" y="0"/>
                </a:lnTo>
                <a:lnTo>
                  <a:pt x="870" y="0"/>
                </a:lnTo>
                <a:lnTo>
                  <a:pt x="996" y="33"/>
                </a:lnTo>
                <a:lnTo>
                  <a:pt x="1123" y="20"/>
                </a:lnTo>
                <a:lnTo>
                  <a:pt x="1242" y="32"/>
                </a:lnTo>
                <a:lnTo>
                  <a:pt x="1369" y="18"/>
                </a:lnTo>
              </a:path>
            </a:pathLst>
          </a:custGeom>
          <a:noFill/>
          <a:ln w="633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22800" y="2089080"/>
            <a:ext cx="2171880" cy="966960"/>
          </a:xfrm>
          <a:custGeom>
            <a:avLst/>
            <a:gdLst/>
            <a:ahLst/>
            <a:rect l="l" t="t" r="r" b="b"/>
            <a:pathLst>
              <a:path w="1368" h="609">
                <a:moveTo>
                  <a:pt x="0" y="609"/>
                </a:moveTo>
                <a:lnTo>
                  <a:pt x="129" y="271"/>
                </a:lnTo>
                <a:lnTo>
                  <a:pt x="250" y="177"/>
                </a:lnTo>
                <a:lnTo>
                  <a:pt x="373" y="69"/>
                </a:lnTo>
                <a:lnTo>
                  <a:pt x="498" y="24"/>
                </a:lnTo>
                <a:lnTo>
                  <a:pt x="625" y="22"/>
                </a:lnTo>
                <a:lnTo>
                  <a:pt x="750" y="10"/>
                </a:lnTo>
                <a:lnTo>
                  <a:pt x="871" y="4"/>
                </a:lnTo>
                <a:lnTo>
                  <a:pt x="997" y="0"/>
                </a:lnTo>
                <a:lnTo>
                  <a:pt x="1120" y="37"/>
                </a:lnTo>
                <a:lnTo>
                  <a:pt x="1245" y="42"/>
                </a:lnTo>
                <a:lnTo>
                  <a:pt x="1368" y="21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98520" y="2292480"/>
            <a:ext cx="689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8108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812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4316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3392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91796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864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588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924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2738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4872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876920" y="2590920"/>
            <a:ext cx="1143000" cy="76176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0" y="480"/>
                </a:moveTo>
                <a:cubicBezTo>
                  <a:pt x="56" y="457"/>
                  <a:pt x="216" y="424"/>
                  <a:pt x="336" y="344"/>
                </a:cubicBezTo>
                <a:cubicBezTo>
                  <a:pt x="456" y="264"/>
                  <a:pt x="640" y="72"/>
                  <a:pt x="720" y="0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76920" y="3568680"/>
            <a:ext cx="1143000" cy="88920"/>
          </a:xfrm>
          <a:custGeom>
            <a:avLst/>
            <a:gdLst/>
            <a:ahLst/>
            <a:rect l="l" t="t" r="r" b="b"/>
            <a:pathLst>
              <a:path w="720" h="56">
                <a:moveTo>
                  <a:pt x="0" y="8"/>
                </a:moveTo>
                <a:cubicBezTo>
                  <a:pt x="53" y="8"/>
                  <a:pt x="200" y="0"/>
                  <a:pt x="320" y="8"/>
                </a:cubicBezTo>
                <a:cubicBezTo>
                  <a:pt x="440" y="16"/>
                  <a:pt x="637" y="46"/>
                  <a:pt x="720" y="56"/>
                </a:cubicBezTo>
              </a:path>
            </a:pathLst>
          </a:custGeom>
          <a:noFill/>
          <a:ln w="25560">
            <a:solidFill>
              <a:srgbClr val="00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889520" y="3048120"/>
            <a:ext cx="1130400" cy="182520"/>
          </a:xfrm>
          <a:custGeom>
            <a:avLst/>
            <a:gdLst/>
            <a:ahLst/>
            <a:rect l="l" t="t" r="r" b="b"/>
            <a:pathLst>
              <a:path w="712" h="115">
                <a:moveTo>
                  <a:pt x="0" y="112"/>
                </a:moveTo>
                <a:cubicBezTo>
                  <a:pt x="79" y="111"/>
                  <a:pt x="353" y="115"/>
                  <a:pt x="472" y="96"/>
                </a:cubicBezTo>
                <a:cubicBezTo>
                  <a:pt x="591" y="77"/>
                  <a:pt x="672" y="16"/>
                  <a:pt x="712" y="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4268520" y="2200320"/>
            <a:ext cx="2767320" cy="1581840"/>
            <a:chOff x="4268520" y="2200320"/>
            <a:chExt cx="2767320" cy="1581840"/>
          </a:xfrm>
        </p:grpSpPr>
        <p:grpSp>
          <p:nvGrpSpPr>
            <p:cNvPr id="1008" name=""/>
            <p:cNvGrpSpPr/>
            <p:nvPr/>
          </p:nvGrpSpPr>
          <p:grpSpPr>
            <a:xfrm>
              <a:off x="4697280" y="2479680"/>
              <a:ext cx="2305080" cy="703080"/>
              <a:chOff x="4697280" y="2479680"/>
              <a:chExt cx="2305080" cy="7030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6972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7480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7991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8499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006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14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022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037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544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2052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563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071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3578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4086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594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101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609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116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624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7135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7643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150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58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9166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9673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0181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688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1196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707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2215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37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244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3752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4263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771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278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7864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2940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801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309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816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8324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835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9343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850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972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7480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7991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499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06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9514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0022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529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1037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544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052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2563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071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578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086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594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5101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5609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6116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624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135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643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50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58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166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673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181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688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196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707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215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737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44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752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263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771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278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7864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62940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6801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309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7816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324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8835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9343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850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972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7480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7991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499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9006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9514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0022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0529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1037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1544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052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563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3071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78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4086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594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5101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609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116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624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135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643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150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58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9166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73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181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688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196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1707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15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737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244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752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263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4771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5278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7864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2940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801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7309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7816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324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835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343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850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72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80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991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8499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9006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514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0022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529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037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44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563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3071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578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086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594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5101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609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6116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6624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5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643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150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58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166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9673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181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688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196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707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2215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737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244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752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4263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771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278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7864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62940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801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7309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7816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8324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8835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343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9850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69728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48040" y="247968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9916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4992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0068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95144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00220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5296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10372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15448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20524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25636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0712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5788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0864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5940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51016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092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61168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66244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135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643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1508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6584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1660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6736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1812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6888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964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707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215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737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244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75240" y="247968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2636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771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278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7864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2940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8016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309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816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832440" y="247968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835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343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8508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972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480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991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499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9006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514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022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529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037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544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052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563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071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578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086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594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101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609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116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624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135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643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150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658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166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673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181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688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96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707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215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737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3752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263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771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278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57864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2940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801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309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816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324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835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343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850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00680" y="2606760"/>
              <a:ext cx="271440" cy="73800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2120" y="2395440"/>
              <a:ext cx="279360" cy="949320"/>
            </a:xfrm>
            <a:prstGeom prst="rect">
              <a:avLst/>
            </a:prstGeom>
            <a:solidFill>
              <a:srgbClr val="3399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51480" y="2428920"/>
              <a:ext cx="271440" cy="915840"/>
            </a:xfrm>
            <a:prstGeom prst="rect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22920" y="2479680"/>
              <a:ext cx="279360" cy="865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02280" y="2446200"/>
              <a:ext cx="271440" cy="898560"/>
            </a:xfrm>
            <a:prstGeom prst="rect">
              <a:avLst/>
            </a:prstGeom>
            <a:solidFill>
              <a:srgbClr val="000080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73720" y="2446200"/>
              <a:ext cx="279360" cy="8985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553080" y="2413080"/>
              <a:ext cx="270000" cy="931680"/>
            </a:xfrm>
            <a:prstGeom prst="rect">
              <a:avLst/>
            </a:prstGeom>
            <a:solidFill>
              <a:srgbClr val="800000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5680" y="2403000"/>
              <a:ext cx="1440" cy="203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10120" y="240336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35680" y="260676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10120" y="280188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5307120" y="2370240"/>
              <a:ext cx="144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81560" y="237024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07120" y="2395440"/>
              <a:ext cx="144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81560" y="2428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5586480" y="2327400"/>
              <a:ext cx="1440" cy="1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60920" y="23274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86480" y="2428920"/>
              <a:ext cx="1440" cy="111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60920" y="254016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5857920" y="2387520"/>
              <a:ext cx="1440" cy="9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32360" y="238752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7920" y="2479680"/>
              <a:ext cx="1440" cy="1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32360" y="258120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6137280" y="2421000"/>
              <a:ext cx="144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11720" y="242100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37280" y="2446200"/>
              <a:ext cx="1440" cy="25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11720" y="247176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408720" y="2413080"/>
              <a:ext cx="144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83160" y="24130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08720" y="2446200"/>
              <a:ext cx="144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83160" y="24796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688080" y="2403000"/>
              <a:ext cx="1800" cy="9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2880" y="240336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88080" y="2413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62880" y="2428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97280" y="2311560"/>
              <a:ext cx="1800" cy="1033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97280" y="3344760"/>
              <a:ext cx="233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78320" y="3233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78320" y="3065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378320" y="2887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8320" y="271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78320" y="25480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8320" y="2370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68520" y="2200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41840" y="3538440"/>
              <a:ext cx="74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b (3+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7145280" y="2057400"/>
            <a:ext cx="238320" cy="18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497720" y="4819680"/>
            <a:ext cx="1646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145280" y="2971800"/>
            <a:ext cx="238320" cy="18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97720" y="4286160"/>
            <a:ext cx="1417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45280" y="2514600"/>
            <a:ext cx="238320" cy="190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490160" y="385776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145280" y="3429000"/>
            <a:ext cx="238320" cy="18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145280" y="3886200"/>
            <a:ext cx="238320" cy="185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497720" y="1968480"/>
            <a:ext cx="1800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Indian / Alaskan 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4127400" y="4300560"/>
          <a:ext cx="31100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7400" y="430056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1152360" y="1981080"/>
          <a:ext cx="31100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52360" y="198108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"/>
          <p:cNvGraphicFramePr/>
          <p:nvPr/>
        </p:nvGraphicFramePr>
        <p:xfrm>
          <a:off x="1152360" y="4191120"/>
          <a:ext cx="3144960" cy="188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2360" y="4191120"/>
                    <a:ext cx="314496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>
            <a:off x="7497720" y="251460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Universally Recommended Vaccination Coverage Among Children 19-35 Months, 2002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24560" y="6294600"/>
            <a:ext cx="4466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§  Data are statistically unrel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IS, CDC, NIP and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974880" y="1763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89440" y="1752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1476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889440" y="4114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6920" y="477504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943280" y="466092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05120" y="24382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24760" y="541008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26520" y="52578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60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716120" y="3187080"/>
            <a:ext cx="74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680120" y="318492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654560" y="312120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29280" y="323856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4622760" y="316224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703520" y="548640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4724280" y="548640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371600" y="5562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56000" y="5549760"/>
            <a:ext cx="13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667520" y="540720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680120" y="547092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690080" y="548352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677480" y="542016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390920" y="2238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26708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38760" y="247644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28004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660920" y="320040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4613760" y="313416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626360" y="3184920"/>
            <a:ext cx="17064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49960" y="4343400"/>
            <a:ext cx="23832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162920" y="4919760"/>
            <a:ext cx="237960" cy="185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96280" y="2819520"/>
            <a:ext cx="18000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Hawaiian/ Other Pacific Isla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96280" y="3429000"/>
            <a:ext cx="180000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R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3280" y="284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976400" y="5059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608440" y="5288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7145280" y="2266920"/>
            <a:ext cx="238320" cy="18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86920" y="5048280"/>
            <a:ext cx="10890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145280" y="2806560"/>
            <a:ext cx="238320" cy="189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486920" y="4540320"/>
            <a:ext cx="10890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145280" y="3348000"/>
            <a:ext cx="238320" cy="19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469640" y="420372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45280" y="3809880"/>
            <a:ext cx="238320" cy="18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145280" y="4203720"/>
            <a:ext cx="238320" cy="185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497720" y="2184480"/>
            <a:ext cx="1800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Indian / Alaskan 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5" name=""/>
          <p:cNvGraphicFramePr/>
          <p:nvPr/>
        </p:nvGraphicFramePr>
        <p:xfrm>
          <a:off x="584280" y="2070000"/>
          <a:ext cx="310968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2070000"/>
                    <a:ext cx="31096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"/>
          <p:cNvGraphicFramePr/>
          <p:nvPr/>
        </p:nvGraphicFramePr>
        <p:xfrm>
          <a:off x="3975120" y="2103480"/>
          <a:ext cx="31100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75120" y="210348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4005360" y="4206960"/>
          <a:ext cx="3144600" cy="188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05360" y="4206960"/>
                    <a:ext cx="314460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1" name=""/>
          <p:cNvSpPr/>
          <p:nvPr/>
        </p:nvSpPr>
        <p:spPr>
          <a:xfrm>
            <a:off x="7497720" y="281952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2280" y="6184800"/>
            <a:ext cx="89312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‡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evelopmental objective.  Target has not been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95% Confidence interval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§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a are statistically unrel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 NIS, CDC, NIP and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Universally Recommended Vaccination Coverage Among Children 19-35 Months, 2002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625320" y="4156200"/>
          <a:ext cx="3256200" cy="196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5320" y="4156200"/>
                    <a:ext cx="32562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"/>
          <p:cNvSpPr/>
          <p:nvPr/>
        </p:nvSpPr>
        <p:spPr>
          <a:xfrm>
            <a:off x="4724280" y="26416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37000" y="38228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(4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27520" y="37339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(3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17680" y="1839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876840" y="1828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876840" y="40543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88000" y="49528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056200" y="587844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:1:3:3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086600" y="55627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390080" y="541008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25480" y="365760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03720" y="370836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203720" y="582948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81160" y="358128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121400" y="350244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34000" y="356580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573440" y="361944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573440" y="576576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537440" y="361656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524840" y="355320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4537440" y="576288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4524840" y="5686920"/>
            <a:ext cx="17064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972080" y="58532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V(3+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448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346040" y="4648320"/>
            <a:ext cx="235908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162920" y="4648320"/>
            <a:ext cx="23796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62920" y="5148360"/>
            <a:ext cx="237960" cy="185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483320" y="3162240"/>
            <a:ext cx="1800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Hawaiian/ Other Pacific Isla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470720" y="380988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R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38320" y="1660680"/>
            <a:ext cx="294012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138320" y="636480"/>
            <a:ext cx="294012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301760" y="5721480"/>
            <a:ext cx="341280" cy="190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46280" y="5397480"/>
            <a:ext cx="350640" cy="512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343240" y="5522760"/>
            <a:ext cx="350640" cy="3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92440" y="5654520"/>
            <a:ext cx="341280" cy="257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038400" y="5638680"/>
            <a:ext cx="35100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89400" y="5522760"/>
            <a:ext cx="341280" cy="389160"/>
          </a:xfrm>
          <a:prstGeom prst="rect">
            <a:avLst/>
          </a:prstGeom>
          <a:solidFill>
            <a:srgbClr val="8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6280" y="4830840"/>
            <a:ext cx="36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001960" y="5057640"/>
            <a:ext cx="338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340000" y="4952880"/>
            <a:ext cx="5554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705040" y="508320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54160" y="5072040"/>
            <a:ext cx="430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00400" y="4834080"/>
            <a:ext cx="676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295280" y="4863960"/>
            <a:ext cx="351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0176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0484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708280" y="5619600"/>
            <a:ext cx="3286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04632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09680" y="5327640"/>
            <a:ext cx="23954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4360" y="5035680"/>
            <a:ext cx="666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43240" y="5035680"/>
            <a:ext cx="5522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191040" y="5035680"/>
            <a:ext cx="539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449360" y="2925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782960" y="3459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354640" y="3154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046240" y="559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33720" y="563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411880" y="5630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944440" y="47354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46240" y="47242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7" name=""/>
          <p:cNvGraphicFramePr/>
          <p:nvPr/>
        </p:nvGraphicFramePr>
        <p:xfrm>
          <a:off x="457200" y="1981080"/>
          <a:ext cx="82296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"/>
          <p:cNvSpPr/>
          <p:nvPr/>
        </p:nvSpPr>
        <p:spPr>
          <a:xfrm>
            <a:off x="438480" y="6245280"/>
            <a:ext cx="7462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Percent receiving vaccine is estimated per Influenza season, using the January-June interviews on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HIS, CDC,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38480" y="1828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220968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wis721 BT"/>
              </a:rPr>
              <a:t>Influenza Vaccination Coverage During the Past 12 Months, Among Adults 65 Years and Older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86160" y="16765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448280" y="5319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4208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10536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93732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8188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0736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43284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733400" y="2967120"/>
            <a:ext cx="5403960" cy="1305000"/>
          </a:xfrm>
          <a:custGeom>
            <a:avLst/>
            <a:gdLst/>
            <a:ahLst/>
            <a:rect l="l" t="t" r="r" b="b"/>
            <a:pathLst>
              <a:path w="3404" h="822">
                <a:moveTo>
                  <a:pt x="0" y="822"/>
                </a:moveTo>
                <a:lnTo>
                  <a:pt x="264" y="707"/>
                </a:lnTo>
                <a:lnTo>
                  <a:pt x="525" y="600"/>
                </a:lnTo>
                <a:lnTo>
                  <a:pt x="789" y="477"/>
                </a:lnTo>
                <a:lnTo>
                  <a:pt x="1047" y="362"/>
                </a:lnTo>
                <a:lnTo>
                  <a:pt x="1235" y="270"/>
                </a:lnTo>
                <a:lnTo>
                  <a:pt x="1308" y="245"/>
                </a:lnTo>
                <a:lnTo>
                  <a:pt x="1439" y="210"/>
                </a:lnTo>
                <a:lnTo>
                  <a:pt x="1571" y="188"/>
                </a:lnTo>
                <a:lnTo>
                  <a:pt x="1833" y="137"/>
                </a:lnTo>
                <a:lnTo>
                  <a:pt x="2097" y="83"/>
                </a:lnTo>
                <a:lnTo>
                  <a:pt x="2361" y="66"/>
                </a:lnTo>
                <a:lnTo>
                  <a:pt x="2622" y="39"/>
                </a:lnTo>
                <a:lnTo>
                  <a:pt x="2802" y="3"/>
                </a:lnTo>
                <a:lnTo>
                  <a:pt x="2877" y="0"/>
                </a:lnTo>
                <a:lnTo>
                  <a:pt x="2966" y="26"/>
                </a:lnTo>
                <a:lnTo>
                  <a:pt x="3074" y="71"/>
                </a:lnTo>
                <a:lnTo>
                  <a:pt x="3138" y="84"/>
                </a:lnTo>
                <a:lnTo>
                  <a:pt x="3231" y="72"/>
                </a:lnTo>
                <a:lnTo>
                  <a:pt x="3404" y="24"/>
                </a:ln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922520" y="63356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8162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2876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226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481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9884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178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117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7242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15628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944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199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41988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8137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2388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67700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25220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5:25:24Z</dcterms:created>
  <dc:creator>corporate</dc:creator>
  <dc:description/>
  <dc:language>en-US</dc:language>
  <cp:lastModifiedBy>eir5</cp:lastModifiedBy>
  <cp:lastPrinted>2003-04-14T20:04:05Z</cp:lastPrinted>
  <dcterms:modified xsi:type="dcterms:W3CDTF">2003-08-18T21:05:48Z</dcterms:modified>
  <cp:revision>411</cp:revision>
  <dc:subject/>
  <dc:title>PowerPoint Presentation</dc:title>
</cp:coreProperties>
</file>