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CBBEE3-096D-42E9-9268-8B37A83AD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087B9A-BA2A-4BD6-8E6A-1F5273B4C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440763-4FF7-4B5F-9934-916989E7D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87280" y="698400"/>
            <a:ext cx="4642200" cy="348156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3CF714-7813-4B87-81CF-FBA6E573B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1187280" y="698400"/>
            <a:ext cx="4642200" cy="348156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A8ACF1-5241-493B-A40C-F2261DBCD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B69400-C1A2-44F4-B7C0-A2F984570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724A9E-6461-4ED2-84BF-D595B3B18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b55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371600"/>
            <a:ext cx="9144000" cy="304920"/>
          </a:xfrm>
          <a:prstGeom prst="rect">
            <a:avLst/>
          </a:prstGeom>
          <a:solidFill>
            <a:srgbClr val="7cb9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nchs/hphome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142640" y="41526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wis721 BT"/>
              </a:rPr>
              <a:t>August 20,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5732640"/>
          <a:ext cx="1380960" cy="90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732640"/>
                    <a:ext cx="138096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859880" y="5678640"/>
          <a:ext cx="1066680" cy="101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59880" y="5678640"/>
                    <a:ext cx="1066680" cy="1011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199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721 BT"/>
              </a:rPr>
              <a:t>Focus Area 14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Swis721 BT"/>
              </a:rPr>
              <a:t>Immunization and Infectious Diseases Progress Review</a:t>
            </a:r>
            <a:endParaRPr b="0" lang="en-US" sz="44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753320" y="246240"/>
            <a:ext cx="1162080" cy="101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9" name=""/>
          <p:cNvGraphicFramePr/>
          <p:nvPr/>
        </p:nvGraphicFramePr>
        <p:xfrm>
          <a:off x="304920" y="1905120"/>
          <a:ext cx="8458200" cy="45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45820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1" name=""/>
          <p:cNvSpPr/>
          <p:nvPr/>
        </p:nvSpPr>
        <p:spPr>
          <a:xfrm>
            <a:off x="457200" y="6311880"/>
            <a:ext cx="63975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re prelimin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 NHI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C, NC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362320" y="35496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h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858000" y="39625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Arial"/>
              </a:rPr>
              <a:t>African Ameri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162920" y="46483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Hispa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191120" y="2158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wis721 BT"/>
              </a:rPr>
              <a:t>2010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098040" y="46926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As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720920" y="35258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52280" y="88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Swis721 BT"/>
              </a:rPr>
              <a:t>Pneumococcal Vaccination Coverage Ever Received Among Adults 65 Years and Older</a:t>
            </a:r>
            <a:endParaRPr b="0" lang="en-US" sz="3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457560" y="16002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438280" y="2552760"/>
            <a:ext cx="5105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7846560" y="6400800"/>
            <a:ext cx="114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29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914400" y="2438280"/>
            <a:ext cx="430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914400" y="3086280"/>
            <a:ext cx="4302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914400" y="3772080"/>
            <a:ext cx="4302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914400" y="4457880"/>
            <a:ext cx="4302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914400" y="5143680"/>
            <a:ext cx="4302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944800" y="5372280"/>
            <a:ext cx="63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168880" y="5372280"/>
            <a:ext cx="1079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451560" y="5372280"/>
            <a:ext cx="101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8202600" y="5372280"/>
            <a:ext cx="63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274840" y="3571920"/>
            <a:ext cx="5445000" cy="350640"/>
          </a:xfrm>
          <a:custGeom>
            <a:avLst/>
            <a:gdLst/>
            <a:ahLst/>
            <a:rect l="l" t="t" r="r" b="b"/>
            <a:pathLst>
              <a:path w="3430" h="221">
                <a:moveTo>
                  <a:pt x="0" y="221"/>
                </a:moveTo>
                <a:lnTo>
                  <a:pt x="855" y="153"/>
                </a:lnTo>
                <a:lnTo>
                  <a:pt x="1714" y="66"/>
                </a:lnTo>
                <a:lnTo>
                  <a:pt x="2574" y="45"/>
                </a:lnTo>
                <a:lnTo>
                  <a:pt x="3430" y="0"/>
                </a:ln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2274840" y="3708360"/>
            <a:ext cx="5445000" cy="347760"/>
          </a:xfrm>
          <a:custGeom>
            <a:avLst/>
            <a:gdLst/>
            <a:ahLst/>
            <a:rect l="l" t="t" r="r" b="b"/>
            <a:pathLst>
              <a:path w="3430" h="219">
                <a:moveTo>
                  <a:pt x="0" y="219"/>
                </a:moveTo>
                <a:lnTo>
                  <a:pt x="855" y="135"/>
                </a:lnTo>
                <a:lnTo>
                  <a:pt x="1716" y="66"/>
                </a:lnTo>
                <a:lnTo>
                  <a:pt x="2575" y="46"/>
                </a:lnTo>
                <a:lnTo>
                  <a:pt x="3430" y="0"/>
                </a:lnTo>
              </a:path>
            </a:pathLst>
          </a:custGeom>
          <a:noFill/>
          <a:ln w="82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274840" y="4189320"/>
            <a:ext cx="4092480" cy="476280"/>
          </a:xfrm>
          <a:custGeom>
            <a:avLst/>
            <a:gdLst/>
            <a:ahLst/>
            <a:rect l="l" t="t" r="r" b="b"/>
            <a:pathLst>
              <a:path w="2578" h="300">
                <a:moveTo>
                  <a:pt x="0" y="127"/>
                </a:moveTo>
                <a:lnTo>
                  <a:pt x="855" y="21"/>
                </a:lnTo>
                <a:lnTo>
                  <a:pt x="1719" y="0"/>
                </a:lnTo>
                <a:lnTo>
                  <a:pt x="2578" y="300"/>
                </a:lnTo>
              </a:path>
            </a:pathLst>
          </a:custGeom>
          <a:noFill/>
          <a:ln w="63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271600" y="4494240"/>
            <a:ext cx="5448240" cy="334800"/>
          </a:xfrm>
          <a:custGeom>
            <a:avLst/>
            <a:gdLst/>
            <a:ahLst/>
            <a:rect l="l" t="t" r="r" b="b"/>
            <a:pathLst>
              <a:path w="3432" h="211">
                <a:moveTo>
                  <a:pt x="0" y="211"/>
                </a:moveTo>
                <a:lnTo>
                  <a:pt x="855" y="85"/>
                </a:lnTo>
                <a:lnTo>
                  <a:pt x="1718" y="40"/>
                </a:lnTo>
                <a:lnTo>
                  <a:pt x="2579" y="0"/>
                </a:lnTo>
                <a:lnTo>
                  <a:pt x="3432" y="106"/>
                </a:lnTo>
              </a:path>
            </a:pathLst>
          </a:custGeom>
          <a:noFill/>
          <a:ln w="63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274840" y="4324320"/>
            <a:ext cx="5445000" cy="409680"/>
          </a:xfrm>
          <a:custGeom>
            <a:avLst/>
            <a:gdLst/>
            <a:ahLst/>
            <a:rect l="l" t="t" r="r" b="b"/>
            <a:pathLst>
              <a:path w="3430" h="258">
                <a:moveTo>
                  <a:pt x="0" y="258"/>
                </a:moveTo>
                <a:lnTo>
                  <a:pt x="855" y="107"/>
                </a:lnTo>
                <a:lnTo>
                  <a:pt x="1717" y="147"/>
                </a:lnTo>
                <a:lnTo>
                  <a:pt x="2577" y="86"/>
                </a:lnTo>
                <a:lnTo>
                  <a:pt x="3430" y="0"/>
                </a:ln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733920" y="5372280"/>
            <a:ext cx="1079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979760" y="5864400"/>
            <a:ext cx="23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8" name=""/>
          <p:cNvGraphicFramePr/>
          <p:nvPr/>
        </p:nvGraphicFramePr>
        <p:xfrm>
          <a:off x="673200" y="1890720"/>
          <a:ext cx="737856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00" y="1890720"/>
                    <a:ext cx="73785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0" name=""/>
          <p:cNvSpPr/>
          <p:nvPr/>
        </p:nvSpPr>
        <p:spPr>
          <a:xfrm>
            <a:off x="1784520" y="318960"/>
            <a:ext cx="5316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Swis721 BT"/>
              </a:rPr>
              <a:t>Hepatitis A Inciden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6481800" y="2959200"/>
            <a:ext cx="1980720" cy="1380600"/>
            <a:chOff x="6481800" y="2959200"/>
            <a:chExt cx="1980720" cy="1380600"/>
          </a:xfrm>
        </p:grpSpPr>
        <p:sp>
          <p:nvSpPr>
            <p:cNvPr id="1532" name=""/>
            <p:cNvSpPr/>
            <p:nvPr/>
          </p:nvSpPr>
          <p:spPr>
            <a:xfrm>
              <a:off x="6963120" y="3273120"/>
              <a:ext cx="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481800" y="2959200"/>
              <a:ext cx="19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9 ACIP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commend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5840640" y="2021040"/>
            <a:ext cx="2972520" cy="1052280"/>
            <a:chOff x="5840640" y="2021040"/>
            <a:chExt cx="2972520" cy="1052280"/>
          </a:xfrm>
        </p:grpSpPr>
        <p:sp>
          <p:nvSpPr>
            <p:cNvPr id="1535" name=""/>
            <p:cNvSpPr/>
            <p:nvPr/>
          </p:nvSpPr>
          <p:spPr>
            <a:xfrm>
              <a:off x="5840640" y="2021040"/>
              <a:ext cx="297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6 ACIP recommend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059520" y="231156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5353560" y="1714680"/>
            <a:ext cx="2378160" cy="1423440"/>
            <a:chOff x="5353560" y="1714680"/>
            <a:chExt cx="2378160" cy="1423440"/>
          </a:xfrm>
        </p:grpSpPr>
        <p:sp>
          <p:nvSpPr>
            <p:cNvPr id="1538" name=""/>
            <p:cNvSpPr/>
            <p:nvPr/>
          </p:nvSpPr>
          <p:spPr>
            <a:xfrm>
              <a:off x="5353560" y="1714680"/>
              <a:ext cx="237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5 vaccine licen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767200" y="2071800"/>
              <a:ext cx="0" cy="106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0" name=""/>
          <p:cNvSpPr/>
          <p:nvPr/>
        </p:nvSpPr>
        <p:spPr>
          <a:xfrm>
            <a:off x="91440" y="6372360"/>
            <a:ext cx="219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re prelimin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NDSS, CDC, EPO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80280" y="17128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s per 1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22184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61252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02228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43204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81624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769000" y="20574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64200" y="232416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962760" y="351144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447920" y="4952880"/>
            <a:ext cx="6511680" cy="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224480" y="46162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958160" y="64008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606680" y="579276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905120" y="579276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2096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4382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74320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0481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2893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5812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88620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1911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4197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7242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502920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33088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5627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867280" y="579276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0958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40080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7057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9343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54380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8487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38792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560600" y="3284640"/>
            <a:ext cx="6188040" cy="2130480"/>
          </a:xfrm>
          <a:custGeom>
            <a:avLst/>
            <a:gdLst/>
            <a:ahLst/>
            <a:rect l="l" t="t" r="r" b="b"/>
            <a:pathLst>
              <a:path w="3898" h="1342">
                <a:moveTo>
                  <a:pt x="0" y="189"/>
                </a:moveTo>
                <a:lnTo>
                  <a:pt x="181" y="361"/>
                </a:lnTo>
                <a:lnTo>
                  <a:pt x="355" y="505"/>
                </a:lnTo>
                <a:lnTo>
                  <a:pt x="531" y="607"/>
                </a:lnTo>
                <a:lnTo>
                  <a:pt x="711" y="594"/>
                </a:lnTo>
                <a:lnTo>
                  <a:pt x="885" y="517"/>
                </a:lnTo>
                <a:lnTo>
                  <a:pt x="1060" y="519"/>
                </a:lnTo>
                <a:lnTo>
                  <a:pt x="1242" y="466"/>
                </a:lnTo>
                <a:lnTo>
                  <a:pt x="1417" y="327"/>
                </a:lnTo>
                <a:lnTo>
                  <a:pt x="1590" y="0"/>
                </a:lnTo>
                <a:lnTo>
                  <a:pt x="1773" y="208"/>
                </a:lnTo>
                <a:lnTo>
                  <a:pt x="1948" y="550"/>
                </a:lnTo>
                <a:lnTo>
                  <a:pt x="2121" y="616"/>
                </a:lnTo>
                <a:lnTo>
                  <a:pt x="2301" y="583"/>
                </a:lnTo>
                <a:lnTo>
                  <a:pt x="2478" y="480"/>
                </a:lnTo>
                <a:lnTo>
                  <a:pt x="2650" y="280"/>
                </a:lnTo>
                <a:lnTo>
                  <a:pt x="2832" y="315"/>
                </a:lnTo>
                <a:lnTo>
                  <a:pt x="3007" y="373"/>
                </a:lnTo>
                <a:lnTo>
                  <a:pt x="3181" y="676"/>
                </a:lnTo>
                <a:lnTo>
                  <a:pt x="3363" y="940"/>
                </a:lnTo>
                <a:lnTo>
                  <a:pt x="3537" y="1119"/>
                </a:lnTo>
                <a:lnTo>
                  <a:pt x="3709" y="1236"/>
                </a:lnTo>
                <a:lnTo>
                  <a:pt x="3898" y="1342"/>
                </a:lnTo>
              </a:path>
            </a:pathLst>
          </a:custGeom>
          <a:noFill/>
          <a:ln w="63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8" name=""/>
          <p:cNvGraphicFramePr/>
          <p:nvPr/>
        </p:nvGraphicFramePr>
        <p:xfrm>
          <a:off x="673200" y="1890720"/>
          <a:ext cx="737856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00" y="1890720"/>
                    <a:ext cx="73785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0" name=""/>
          <p:cNvSpPr/>
          <p:nvPr/>
        </p:nvSpPr>
        <p:spPr>
          <a:xfrm>
            <a:off x="1784520" y="318960"/>
            <a:ext cx="5316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Swis721 BT"/>
              </a:rPr>
              <a:t>Hepatitis A Inciden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1" name=""/>
          <p:cNvGrpSpPr/>
          <p:nvPr/>
        </p:nvGrpSpPr>
        <p:grpSpPr>
          <a:xfrm>
            <a:off x="6481800" y="2959200"/>
            <a:ext cx="1980720" cy="1380600"/>
            <a:chOff x="6481800" y="2959200"/>
            <a:chExt cx="1980720" cy="1380600"/>
          </a:xfrm>
        </p:grpSpPr>
        <p:sp>
          <p:nvSpPr>
            <p:cNvPr id="1582" name=""/>
            <p:cNvSpPr/>
            <p:nvPr/>
          </p:nvSpPr>
          <p:spPr>
            <a:xfrm>
              <a:off x="6963120" y="3273120"/>
              <a:ext cx="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481800" y="2959200"/>
              <a:ext cx="19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9 ACIP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commend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4" name=""/>
          <p:cNvGrpSpPr/>
          <p:nvPr/>
        </p:nvGrpSpPr>
        <p:grpSpPr>
          <a:xfrm>
            <a:off x="5840640" y="2021040"/>
            <a:ext cx="2972520" cy="1052280"/>
            <a:chOff x="5840640" y="2021040"/>
            <a:chExt cx="2972520" cy="1052280"/>
          </a:xfrm>
        </p:grpSpPr>
        <p:sp>
          <p:nvSpPr>
            <p:cNvPr id="1585" name=""/>
            <p:cNvSpPr/>
            <p:nvPr/>
          </p:nvSpPr>
          <p:spPr>
            <a:xfrm>
              <a:off x="5840640" y="2021040"/>
              <a:ext cx="297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6 ACIP recommend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059520" y="231156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5353560" y="1714680"/>
            <a:ext cx="2378160" cy="1423440"/>
            <a:chOff x="5353560" y="1714680"/>
            <a:chExt cx="2378160" cy="1423440"/>
          </a:xfrm>
        </p:grpSpPr>
        <p:sp>
          <p:nvSpPr>
            <p:cNvPr id="1588" name=""/>
            <p:cNvSpPr/>
            <p:nvPr/>
          </p:nvSpPr>
          <p:spPr>
            <a:xfrm>
              <a:off x="5353560" y="1714680"/>
              <a:ext cx="237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995 vaccine licen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767200" y="2071800"/>
              <a:ext cx="0" cy="106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91440" y="6372360"/>
            <a:ext cx="219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re prelimin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NDSS, CDC, EPO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80280" y="17128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s per 1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22184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61252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02228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43204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81624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769000" y="20574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064200" y="232416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962760" y="351144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447920" y="4952880"/>
            <a:ext cx="6511680" cy="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224480" y="46162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958160" y="640080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606680" y="579276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905120" y="579276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2096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4382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74320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0481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2893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5812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88620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1911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4197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7242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02920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33088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5627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867280" y="579276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0958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40080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7057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9343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238880" y="5794200"/>
            <a:ext cx="1526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54380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848720" y="5794200"/>
            <a:ext cx="152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387920" y="58928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236320" y="2478240"/>
            <a:ext cx="203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 years and ol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364840" y="4616640"/>
            <a:ext cx="240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ss than 19 years 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560600" y="3284640"/>
            <a:ext cx="6188040" cy="2130480"/>
          </a:xfrm>
          <a:custGeom>
            <a:avLst/>
            <a:gdLst/>
            <a:ahLst/>
            <a:rect l="l" t="t" r="r" b="b"/>
            <a:pathLst>
              <a:path w="3898" h="1342">
                <a:moveTo>
                  <a:pt x="0" y="189"/>
                </a:moveTo>
                <a:lnTo>
                  <a:pt x="181" y="361"/>
                </a:lnTo>
                <a:lnTo>
                  <a:pt x="355" y="505"/>
                </a:lnTo>
                <a:lnTo>
                  <a:pt x="531" y="607"/>
                </a:lnTo>
                <a:lnTo>
                  <a:pt x="711" y="594"/>
                </a:lnTo>
                <a:lnTo>
                  <a:pt x="885" y="517"/>
                </a:lnTo>
                <a:lnTo>
                  <a:pt x="1060" y="519"/>
                </a:lnTo>
                <a:lnTo>
                  <a:pt x="1242" y="466"/>
                </a:lnTo>
                <a:lnTo>
                  <a:pt x="1417" y="327"/>
                </a:lnTo>
                <a:lnTo>
                  <a:pt x="1590" y="0"/>
                </a:lnTo>
                <a:lnTo>
                  <a:pt x="1773" y="208"/>
                </a:lnTo>
                <a:lnTo>
                  <a:pt x="1948" y="550"/>
                </a:lnTo>
                <a:lnTo>
                  <a:pt x="2121" y="616"/>
                </a:lnTo>
                <a:lnTo>
                  <a:pt x="2301" y="583"/>
                </a:lnTo>
                <a:lnTo>
                  <a:pt x="2478" y="480"/>
                </a:lnTo>
                <a:lnTo>
                  <a:pt x="2650" y="280"/>
                </a:lnTo>
                <a:lnTo>
                  <a:pt x="2832" y="315"/>
                </a:lnTo>
                <a:lnTo>
                  <a:pt x="3007" y="373"/>
                </a:lnTo>
                <a:lnTo>
                  <a:pt x="3181" y="676"/>
                </a:lnTo>
                <a:lnTo>
                  <a:pt x="3363" y="940"/>
                </a:lnTo>
                <a:lnTo>
                  <a:pt x="3537" y="1119"/>
                </a:lnTo>
                <a:lnTo>
                  <a:pt x="3709" y="1236"/>
                </a:lnTo>
                <a:lnTo>
                  <a:pt x="3898" y="1342"/>
                </a:lnTo>
              </a:path>
            </a:pathLst>
          </a:custGeom>
          <a:noFill/>
          <a:ln w="63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4370400" y="2733840"/>
            <a:ext cx="3371760" cy="2803320"/>
          </a:xfrm>
          <a:custGeom>
            <a:avLst/>
            <a:gdLst/>
            <a:ahLst/>
            <a:rect l="l" t="t" r="r" b="b"/>
            <a:pathLst>
              <a:path w="2124" h="1766">
                <a:moveTo>
                  <a:pt x="0" y="0"/>
                </a:moveTo>
                <a:lnTo>
                  <a:pt x="177" y="453"/>
                </a:lnTo>
                <a:lnTo>
                  <a:pt x="351" y="552"/>
                </a:lnTo>
                <a:lnTo>
                  <a:pt x="534" y="675"/>
                </a:lnTo>
                <a:lnTo>
                  <a:pt x="706" y="350"/>
                </a:lnTo>
                <a:lnTo>
                  <a:pt x="882" y="282"/>
                </a:lnTo>
                <a:lnTo>
                  <a:pt x="1063" y="377"/>
                </a:lnTo>
                <a:lnTo>
                  <a:pt x="1236" y="356"/>
                </a:lnTo>
                <a:lnTo>
                  <a:pt x="1410" y="890"/>
                </a:lnTo>
                <a:lnTo>
                  <a:pt x="1591" y="1172"/>
                </a:lnTo>
                <a:lnTo>
                  <a:pt x="1767" y="1343"/>
                </a:lnTo>
                <a:lnTo>
                  <a:pt x="1941" y="1662"/>
                </a:lnTo>
                <a:lnTo>
                  <a:pt x="2124" y="1766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370400" y="3979800"/>
            <a:ext cx="3371760" cy="1349280"/>
          </a:xfrm>
          <a:custGeom>
            <a:avLst/>
            <a:gdLst/>
            <a:ahLst/>
            <a:rect l="l" t="t" r="r" b="b"/>
            <a:pathLst>
              <a:path w="2124" h="850">
                <a:moveTo>
                  <a:pt x="0" y="72"/>
                </a:moveTo>
                <a:lnTo>
                  <a:pt x="175" y="345"/>
                </a:lnTo>
                <a:lnTo>
                  <a:pt x="351" y="373"/>
                </a:lnTo>
                <a:lnTo>
                  <a:pt x="531" y="267"/>
                </a:lnTo>
                <a:lnTo>
                  <a:pt x="708" y="267"/>
                </a:lnTo>
                <a:lnTo>
                  <a:pt x="882" y="0"/>
                </a:lnTo>
                <a:lnTo>
                  <a:pt x="1063" y="6"/>
                </a:lnTo>
                <a:lnTo>
                  <a:pt x="1237" y="96"/>
                </a:lnTo>
                <a:lnTo>
                  <a:pt x="1411" y="301"/>
                </a:lnTo>
                <a:lnTo>
                  <a:pt x="1593" y="559"/>
                </a:lnTo>
                <a:lnTo>
                  <a:pt x="1767" y="738"/>
                </a:lnTo>
                <a:lnTo>
                  <a:pt x="2124" y="850"/>
                </a:lnTo>
              </a:path>
            </a:pathLst>
          </a:custGeom>
          <a:noFill/>
          <a:ln w="63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77880" y="274320"/>
            <a:ext cx="7788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Swis721 BT"/>
              </a:rPr>
              <a:t>Hepatitis B Incidence</a:t>
            </a:r>
            <a:endParaRPr b="0" lang="en-US" sz="3800" spc="-1" strike="noStrike">
              <a:solidFill>
                <a:srgbClr val="008080"/>
              </a:solidFill>
              <a:latin typeface="Arial"/>
            </a:endParaRPr>
          </a:p>
        </p:txBody>
      </p:sp>
      <p:graphicFrame>
        <p:nvGraphicFramePr>
          <p:cNvPr id="1633" name=""/>
          <p:cNvGraphicFramePr/>
          <p:nvPr/>
        </p:nvGraphicFramePr>
        <p:xfrm>
          <a:off x="271440" y="1981080"/>
          <a:ext cx="7610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1440" y="1981080"/>
                    <a:ext cx="7610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5" name=""/>
          <p:cNvSpPr/>
          <p:nvPr/>
        </p:nvSpPr>
        <p:spPr>
          <a:xfrm>
            <a:off x="474840" y="6240600"/>
            <a:ext cx="115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6320" y="650700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NDSS, CDC, E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5160" y="1736640"/>
            <a:ext cx="29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imated cases per 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277720" y="335268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-39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275840" y="403848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 years and o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706400" y="5029200"/>
            <a:ext cx="172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s than19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139760" y="2695680"/>
            <a:ext cx="6346800" cy="2104920"/>
          </a:xfrm>
          <a:custGeom>
            <a:avLst/>
            <a:gdLst/>
            <a:ahLst/>
            <a:rect l="l" t="t" r="r" b="b"/>
            <a:pathLst>
              <a:path w="3998" h="1326">
                <a:moveTo>
                  <a:pt x="0" y="0"/>
                </a:moveTo>
                <a:lnTo>
                  <a:pt x="336" y="306"/>
                </a:lnTo>
                <a:lnTo>
                  <a:pt x="668" y="508"/>
                </a:lnTo>
                <a:lnTo>
                  <a:pt x="1002" y="796"/>
                </a:lnTo>
                <a:lnTo>
                  <a:pt x="1334" y="858"/>
                </a:lnTo>
                <a:lnTo>
                  <a:pt x="1668" y="984"/>
                </a:lnTo>
                <a:lnTo>
                  <a:pt x="2000" y="1026"/>
                </a:lnTo>
                <a:lnTo>
                  <a:pt x="2338" y="1058"/>
                </a:lnTo>
                <a:lnTo>
                  <a:pt x="2666" y="1088"/>
                </a:lnTo>
                <a:lnTo>
                  <a:pt x="2998" y="1274"/>
                </a:lnTo>
                <a:lnTo>
                  <a:pt x="3330" y="1278"/>
                </a:lnTo>
                <a:lnTo>
                  <a:pt x="3666" y="1326"/>
                </a:lnTo>
                <a:lnTo>
                  <a:pt x="3998" y="1318"/>
                </a:lnTo>
              </a:path>
            </a:pathLst>
          </a:custGeom>
          <a:noFill/>
          <a:ln w="63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136520" y="4305240"/>
            <a:ext cx="6359760" cy="701640"/>
          </a:xfrm>
          <a:custGeom>
            <a:avLst/>
            <a:gdLst/>
            <a:ahLst/>
            <a:rect l="l" t="t" r="r" b="b"/>
            <a:pathLst>
              <a:path w="4006" h="442">
                <a:moveTo>
                  <a:pt x="0" y="0"/>
                </a:moveTo>
                <a:lnTo>
                  <a:pt x="344" y="48"/>
                </a:lnTo>
                <a:lnTo>
                  <a:pt x="672" y="108"/>
                </a:lnTo>
                <a:lnTo>
                  <a:pt x="1004" y="216"/>
                </a:lnTo>
                <a:lnTo>
                  <a:pt x="1338" y="204"/>
                </a:lnTo>
                <a:lnTo>
                  <a:pt x="1670" y="306"/>
                </a:lnTo>
                <a:lnTo>
                  <a:pt x="1998" y="270"/>
                </a:lnTo>
                <a:lnTo>
                  <a:pt x="2334" y="270"/>
                </a:lnTo>
                <a:lnTo>
                  <a:pt x="2666" y="270"/>
                </a:lnTo>
                <a:lnTo>
                  <a:pt x="2998" y="442"/>
                </a:lnTo>
                <a:lnTo>
                  <a:pt x="3332" y="398"/>
                </a:lnTo>
                <a:lnTo>
                  <a:pt x="3664" y="378"/>
                </a:lnTo>
                <a:lnTo>
                  <a:pt x="4006" y="360"/>
                </a:ln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136520" y="4467240"/>
            <a:ext cx="6356520" cy="1168560"/>
          </a:xfrm>
          <a:custGeom>
            <a:avLst/>
            <a:gdLst/>
            <a:ahLst/>
            <a:rect l="l" t="t" r="r" b="b"/>
            <a:pathLst>
              <a:path w="4004" h="736">
                <a:moveTo>
                  <a:pt x="0" y="0"/>
                </a:moveTo>
                <a:lnTo>
                  <a:pt x="338" y="86"/>
                </a:lnTo>
                <a:lnTo>
                  <a:pt x="680" y="192"/>
                </a:lnTo>
                <a:lnTo>
                  <a:pt x="1004" y="296"/>
                </a:lnTo>
                <a:lnTo>
                  <a:pt x="1344" y="354"/>
                </a:lnTo>
                <a:lnTo>
                  <a:pt x="1668" y="456"/>
                </a:lnTo>
                <a:lnTo>
                  <a:pt x="2002" y="480"/>
                </a:lnTo>
                <a:lnTo>
                  <a:pt x="2340" y="458"/>
                </a:lnTo>
                <a:lnTo>
                  <a:pt x="2668" y="468"/>
                </a:lnTo>
                <a:lnTo>
                  <a:pt x="3004" y="634"/>
                </a:lnTo>
                <a:lnTo>
                  <a:pt x="3328" y="672"/>
                </a:lnTo>
                <a:lnTo>
                  <a:pt x="3666" y="702"/>
                </a:lnTo>
                <a:lnTo>
                  <a:pt x="4004" y="736"/>
                </a:lnTo>
              </a:path>
            </a:pathLst>
          </a:custGeom>
          <a:noFill/>
          <a:ln w="63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907400" y="64771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80880" y="2514600"/>
            <a:ext cx="43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80880" y="3251160"/>
            <a:ext cx="43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04920" y="3886200"/>
            <a:ext cx="43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04920" y="4572000"/>
            <a:ext cx="43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04920" y="5257800"/>
            <a:ext cx="43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96680" y="5827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187760" y="5827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8760" y="5816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006520" y="5816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965040" y="5816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923920" y="5816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856880" y="5816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320840" y="5641920"/>
            <a:ext cx="181080" cy="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1825560" y="5651640"/>
            <a:ext cx="18108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371680" y="5651640"/>
            <a:ext cx="18108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867040" y="5651640"/>
            <a:ext cx="18108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400560" y="5651640"/>
            <a:ext cx="18072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33720" y="5651640"/>
            <a:ext cx="18108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467240" y="5651640"/>
            <a:ext cx="18108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000760" y="5651640"/>
            <a:ext cx="18072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533920" y="5651640"/>
            <a:ext cx="18108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019920" y="5651640"/>
            <a:ext cx="18072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553080" y="5651640"/>
            <a:ext cx="18108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134120" y="5651640"/>
            <a:ext cx="18108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667640" y="5638680"/>
            <a:ext cx="181080" cy="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638360" y="2730600"/>
            <a:ext cx="14400" cy="330120"/>
          </a:xfrm>
          <a:custGeom>
            <a:avLst/>
            <a:gdLst/>
            <a:ahLst/>
            <a:rect l="l" t="t" r="r" b="b"/>
            <a:pathLst>
              <a:path w="9" h="208">
                <a:moveTo>
                  <a:pt x="0" y="0"/>
                </a:moveTo>
                <a:lnTo>
                  <a:pt x="9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431720" y="2390760"/>
            <a:ext cx="421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1 ACIP recommend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or infant vaccination schedu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77880" y="274320"/>
            <a:ext cx="77882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Swis721 BT"/>
              </a:rPr>
              <a:t>Hepatitis B Incidence</a:t>
            </a:r>
            <a:endParaRPr b="0" lang="en-US" sz="3800" spc="-1" strike="noStrike">
              <a:solidFill>
                <a:srgbClr val="008080"/>
              </a:solidFill>
              <a:latin typeface="Arial"/>
            </a:endParaRPr>
          </a:p>
        </p:txBody>
      </p:sp>
      <p:graphicFrame>
        <p:nvGraphicFramePr>
          <p:cNvPr id="1673" name=""/>
          <p:cNvGraphicFramePr/>
          <p:nvPr/>
        </p:nvGraphicFramePr>
        <p:xfrm>
          <a:off x="271440" y="1981080"/>
          <a:ext cx="7610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1440" y="1981080"/>
                    <a:ext cx="7610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5" name=""/>
          <p:cNvSpPr/>
          <p:nvPr/>
        </p:nvSpPr>
        <p:spPr>
          <a:xfrm>
            <a:off x="474840" y="6240600"/>
            <a:ext cx="115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76320" y="650700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NDSS, CDC, E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400" y="173664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imated cases per 100,000 (log-sca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430280" y="272880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-39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438000" y="374652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 years and o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706400" y="3987720"/>
            <a:ext cx="172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s than19 ye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7907400" y="64771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96680" y="5827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187760" y="5827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098760" y="5816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006520" y="5816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965040" y="5816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923920" y="5816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856880" y="58165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336680" y="2941560"/>
            <a:ext cx="6154560" cy="858960"/>
          </a:xfrm>
          <a:custGeom>
            <a:avLst/>
            <a:gdLst/>
            <a:ahLst/>
            <a:rect l="l" t="t" r="r" b="b"/>
            <a:pathLst>
              <a:path w="3877" h="541">
                <a:moveTo>
                  <a:pt x="0" y="0"/>
                </a:moveTo>
                <a:lnTo>
                  <a:pt x="324" y="79"/>
                </a:lnTo>
                <a:lnTo>
                  <a:pt x="646" y="141"/>
                </a:lnTo>
                <a:lnTo>
                  <a:pt x="969" y="247"/>
                </a:lnTo>
                <a:lnTo>
                  <a:pt x="1291" y="271"/>
                </a:lnTo>
                <a:lnTo>
                  <a:pt x="1615" y="331"/>
                </a:lnTo>
                <a:lnTo>
                  <a:pt x="1939" y="349"/>
                </a:lnTo>
                <a:lnTo>
                  <a:pt x="2262" y="367"/>
                </a:lnTo>
                <a:lnTo>
                  <a:pt x="2586" y="385"/>
                </a:lnTo>
                <a:lnTo>
                  <a:pt x="2908" y="498"/>
                </a:lnTo>
                <a:lnTo>
                  <a:pt x="3229" y="505"/>
                </a:lnTo>
                <a:lnTo>
                  <a:pt x="3553" y="541"/>
                </a:lnTo>
                <a:lnTo>
                  <a:pt x="3877" y="537"/>
                </a:lnTo>
              </a:path>
            </a:pathLst>
          </a:custGeom>
          <a:noFill/>
          <a:ln w="63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333440" y="3579840"/>
            <a:ext cx="6157800" cy="1863720"/>
          </a:xfrm>
          <a:custGeom>
            <a:avLst/>
            <a:gdLst/>
            <a:ahLst/>
            <a:rect l="l" t="t" r="r" b="b"/>
            <a:pathLst>
              <a:path w="3879" h="1174">
                <a:moveTo>
                  <a:pt x="0" y="0"/>
                </a:moveTo>
                <a:lnTo>
                  <a:pt x="324" y="49"/>
                </a:lnTo>
                <a:lnTo>
                  <a:pt x="648" y="127"/>
                </a:lnTo>
                <a:lnTo>
                  <a:pt x="971" y="211"/>
                </a:lnTo>
                <a:lnTo>
                  <a:pt x="1293" y="271"/>
                </a:lnTo>
                <a:lnTo>
                  <a:pt x="1617" y="385"/>
                </a:lnTo>
                <a:lnTo>
                  <a:pt x="1940" y="421"/>
                </a:lnTo>
                <a:lnTo>
                  <a:pt x="2259" y="390"/>
                </a:lnTo>
                <a:lnTo>
                  <a:pt x="2586" y="402"/>
                </a:lnTo>
                <a:lnTo>
                  <a:pt x="2910" y="715"/>
                </a:lnTo>
                <a:lnTo>
                  <a:pt x="3230" y="826"/>
                </a:lnTo>
                <a:lnTo>
                  <a:pt x="3555" y="961"/>
                </a:lnTo>
                <a:lnTo>
                  <a:pt x="3879" y="1174"/>
                </a:lnTo>
              </a:path>
            </a:pathLst>
          </a:custGeom>
          <a:noFill/>
          <a:ln w="63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333440" y="3484440"/>
            <a:ext cx="6161040" cy="497160"/>
          </a:xfrm>
          <a:custGeom>
            <a:avLst/>
            <a:gdLst/>
            <a:ahLst/>
            <a:rect l="l" t="t" r="r" b="b"/>
            <a:pathLst>
              <a:path w="3881" h="313">
                <a:moveTo>
                  <a:pt x="0" y="0"/>
                </a:moveTo>
                <a:lnTo>
                  <a:pt x="324" y="30"/>
                </a:lnTo>
                <a:lnTo>
                  <a:pt x="648" y="61"/>
                </a:lnTo>
                <a:lnTo>
                  <a:pt x="969" y="130"/>
                </a:lnTo>
                <a:lnTo>
                  <a:pt x="1295" y="124"/>
                </a:lnTo>
                <a:lnTo>
                  <a:pt x="1616" y="192"/>
                </a:lnTo>
                <a:lnTo>
                  <a:pt x="1940" y="168"/>
                </a:lnTo>
                <a:lnTo>
                  <a:pt x="2261" y="169"/>
                </a:lnTo>
                <a:lnTo>
                  <a:pt x="2586" y="168"/>
                </a:lnTo>
                <a:lnTo>
                  <a:pt x="2909" y="313"/>
                </a:lnTo>
                <a:lnTo>
                  <a:pt x="3227" y="273"/>
                </a:lnTo>
                <a:lnTo>
                  <a:pt x="3554" y="255"/>
                </a:lnTo>
                <a:lnTo>
                  <a:pt x="3881" y="241"/>
                </a:ln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2" name=""/>
          <p:cNvGraphicFramePr/>
          <p:nvPr/>
        </p:nvGraphicFramePr>
        <p:xfrm>
          <a:off x="533520" y="2590920"/>
          <a:ext cx="8076960" cy="359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590920"/>
                    <a:ext cx="807696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Swis721 BT"/>
              </a:rPr>
              <a:t>Hepatitis B Incidence, 2001</a:t>
            </a:r>
            <a:endParaRPr b="0" lang="en-US" sz="3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2362680" y="1676520"/>
            <a:ext cx="145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n Indian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aska N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133720" y="2286000"/>
            <a:ext cx="152280" cy="152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038480" y="1816200"/>
            <a:ext cx="152640" cy="152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2133720" y="18288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04200" y="6175440"/>
            <a:ext cx="2149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95% Confidence inter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NDSS, CDC, E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28600" y="242244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100,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371600" y="5575320"/>
            <a:ext cx="207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809880" y="523224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184800" y="54864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739120" y="220176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608480" y="585144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-24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034520" y="586440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-39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082560" y="586584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 years and 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2413080" y="2133720"/>
            <a:ext cx="139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an or Pacific Islan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267800" y="176544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280040" y="21337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, Not 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699160" y="1676520"/>
            <a:ext cx="108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, Not 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038480" y="2286000"/>
            <a:ext cx="152640" cy="152280"/>
          </a:xfrm>
          <a:prstGeom prst="rect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486400" y="1828800"/>
            <a:ext cx="152280" cy="15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486400" y="2349360"/>
            <a:ext cx="1522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981080" y="1676520"/>
            <a:ext cx="48006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831080" y="644508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7" name=""/>
          <p:cNvGraphicFramePr/>
          <p:nvPr/>
        </p:nvGraphicFramePr>
        <p:xfrm>
          <a:off x="228600" y="1874880"/>
          <a:ext cx="8686800" cy="422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874880"/>
                    <a:ext cx="868680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9" name=""/>
          <p:cNvSpPr/>
          <p:nvPr/>
        </p:nvSpPr>
        <p:spPr>
          <a:xfrm>
            <a:off x="7947000" y="175248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168560" y="5638680"/>
            <a:ext cx="739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76320" y="27900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Swis721 BT"/>
              </a:rPr>
              <a:t>Rates of Tuberculosis</a:t>
            </a:r>
            <a:endParaRPr b="0" lang="en-US" sz="3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256680" y="6321600"/>
            <a:ext cx="685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BT"/>
              </a:rPr>
              <a:t>Note:  Data in parentheses represent the percent change in the rates between 1998 and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BT"/>
              </a:rPr>
              <a:t>Source:  NTBSS, CDC, NCHS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696080" y="1905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934320" y="1828800"/>
            <a:ext cx="152280" cy="152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042680" y="1752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6172200" y="1828800"/>
            <a:ext cx="152280" cy="15228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280560" y="1752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270160" y="5726160"/>
            <a:ext cx="131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n Indian or Alaska 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479760" y="5726160"/>
            <a:ext cx="147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an or Pacific Isla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146640" y="5726160"/>
            <a:ext cx="13208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, Not Hispani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505640" y="5732640"/>
            <a:ext cx="122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, Not 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105880" y="573732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220400" y="572760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830720" y="6324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5" name=""/>
          <p:cNvGraphicFramePr/>
          <p:nvPr/>
        </p:nvGraphicFramePr>
        <p:xfrm>
          <a:off x="6461280" y="2101680"/>
          <a:ext cx="2301840" cy="11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61280" y="2101680"/>
                    <a:ext cx="2301840" cy="11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7" name=""/>
          <p:cNvSpPr/>
          <p:nvPr/>
        </p:nvSpPr>
        <p:spPr>
          <a:xfrm>
            <a:off x="6834240" y="2266920"/>
            <a:ext cx="1814400" cy="500040"/>
          </a:xfrm>
          <a:custGeom>
            <a:avLst/>
            <a:gdLst/>
            <a:ahLst/>
            <a:rect l="l" t="t" r="r" b="b"/>
            <a:pathLst>
              <a:path w="1143" h="315">
                <a:moveTo>
                  <a:pt x="0" y="30"/>
                </a:moveTo>
                <a:lnTo>
                  <a:pt x="66" y="80"/>
                </a:lnTo>
                <a:lnTo>
                  <a:pt x="122" y="122"/>
                </a:lnTo>
                <a:lnTo>
                  <a:pt x="180" y="122"/>
                </a:lnTo>
                <a:lnTo>
                  <a:pt x="236" y="110"/>
                </a:lnTo>
                <a:lnTo>
                  <a:pt x="294" y="114"/>
                </a:lnTo>
                <a:lnTo>
                  <a:pt x="350" y="116"/>
                </a:lnTo>
                <a:lnTo>
                  <a:pt x="405" y="89"/>
                </a:lnTo>
                <a:lnTo>
                  <a:pt x="464" y="27"/>
                </a:lnTo>
                <a:lnTo>
                  <a:pt x="521" y="12"/>
                </a:lnTo>
                <a:lnTo>
                  <a:pt x="578" y="0"/>
                </a:lnTo>
                <a:lnTo>
                  <a:pt x="633" y="39"/>
                </a:lnTo>
                <a:lnTo>
                  <a:pt x="690" y="63"/>
                </a:lnTo>
                <a:lnTo>
                  <a:pt x="746" y="107"/>
                </a:lnTo>
                <a:lnTo>
                  <a:pt x="803" y="146"/>
                </a:lnTo>
                <a:lnTo>
                  <a:pt x="858" y="186"/>
                </a:lnTo>
                <a:lnTo>
                  <a:pt x="917" y="228"/>
                </a:lnTo>
                <a:lnTo>
                  <a:pt x="975" y="251"/>
                </a:lnTo>
                <a:lnTo>
                  <a:pt x="1029" y="282"/>
                </a:lnTo>
                <a:lnTo>
                  <a:pt x="1086" y="294"/>
                </a:lnTo>
                <a:lnTo>
                  <a:pt x="1143" y="315"/>
                </a:lnTo>
              </a:path>
            </a:pathLst>
          </a:custGeom>
          <a:noFill/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8277120" y="2629080"/>
            <a:ext cx="309600" cy="357120"/>
          </a:xfrm>
          <a:custGeom>
            <a:avLst/>
            <a:gdLst/>
            <a:ahLst/>
            <a:rect l="l" t="t" r="r" b="b"/>
            <a:pathLst>
              <a:path w="195" h="225">
                <a:moveTo>
                  <a:pt x="0" y="0"/>
                </a:moveTo>
                <a:lnTo>
                  <a:pt x="23" y="15"/>
                </a:lnTo>
                <a:cubicBezTo>
                  <a:pt x="32" y="19"/>
                  <a:pt x="49" y="22"/>
                  <a:pt x="59" y="27"/>
                </a:cubicBezTo>
                <a:cubicBezTo>
                  <a:pt x="65" y="30"/>
                  <a:pt x="89" y="46"/>
                  <a:pt x="96" y="47"/>
                </a:cubicBezTo>
                <a:cubicBezTo>
                  <a:pt x="109" y="53"/>
                  <a:pt x="118" y="62"/>
                  <a:pt x="126" y="65"/>
                </a:cubicBezTo>
                <a:cubicBezTo>
                  <a:pt x="134" y="68"/>
                  <a:pt x="135" y="66"/>
                  <a:pt x="146" y="68"/>
                </a:cubicBezTo>
                <a:cubicBezTo>
                  <a:pt x="161" y="74"/>
                  <a:pt x="182" y="68"/>
                  <a:pt x="195" y="78"/>
                </a:cubicBezTo>
                <a:lnTo>
                  <a:pt x="194" y="225"/>
                </a:lnTo>
                <a:lnTo>
                  <a:pt x="2" y="2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5600" y="1611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100,000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1183320" y="4786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1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2472480" y="44067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11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767760" y="23623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12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76000" y="4091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13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371280" y="36576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2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7679520" y="5195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26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8271000" y="2629080"/>
            <a:ext cx="0" cy="357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8586720" y="2751120"/>
            <a:ext cx="1800" cy="235080"/>
          </a:xfrm>
          <a:custGeom>
            <a:avLst/>
            <a:gdLst/>
            <a:ahLst/>
            <a:rect l="l" t="t" r="r" b="b"/>
            <a:pathLst>
              <a:path w="1" h="148">
                <a:moveTo>
                  <a:pt x="0" y="0"/>
                </a:moveTo>
                <a:lnTo>
                  <a:pt x="0" y="14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8" name=""/>
          <p:cNvGraphicFramePr/>
          <p:nvPr/>
        </p:nvGraphicFramePr>
        <p:xfrm>
          <a:off x="228600" y="1874880"/>
          <a:ext cx="8686800" cy="422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874880"/>
                    <a:ext cx="868680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0" name=""/>
          <p:cNvSpPr/>
          <p:nvPr/>
        </p:nvSpPr>
        <p:spPr>
          <a:xfrm>
            <a:off x="367200" y="167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947000" y="175248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295280" y="260352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Swis721 BT"/>
              </a:rPr>
              <a:t>Proportion of Tuberculosis Patients Completing Curative Therapy</a:t>
            </a:r>
            <a:endParaRPr b="0" lang="en-US" sz="3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499320" y="6299280"/>
            <a:ext cx="2354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BT"/>
              </a:rPr>
              <a:t>Source:  NTBSS, CDC, NCHS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7696080" y="1905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934320" y="1828800"/>
            <a:ext cx="152280" cy="152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042680" y="1752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172200" y="1828800"/>
            <a:ext cx="152280" cy="15228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280560" y="1752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2371680" y="5726160"/>
            <a:ext cx="1311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n Indian or Alaska 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3568680" y="5726160"/>
            <a:ext cx="147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an or Pacific Isla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184800" y="5726160"/>
            <a:ext cx="13208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, Not Hispani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493040" y="5715000"/>
            <a:ext cx="122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, Not 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5150520" y="574992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p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360080" y="572760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830720" y="6324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rogress Review data and slides can be found on the web at: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http://www.cdc.gov/nchs/hphome.ht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wis721 BT"/>
              </a:rPr>
              <a:t>Immunization and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Swis721 BT"/>
              </a:rPr>
              <a:t>Infectious Disease Objectives</a:t>
            </a:r>
            <a:endParaRPr b="0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47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mmunization objec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14-23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Vaccination in day care, grades K and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14-24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Fully immunized child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us others 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ease prevalenc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Children and vacc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vider pract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Immunization regist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igh-risk adult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Adverse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ccine safet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wis721 BT"/>
              </a:rPr>
              <a:t>Immunization and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Swis721 BT"/>
              </a:rPr>
              <a:t>Infectious Disease Objectives</a:t>
            </a:r>
            <a:endParaRPr b="0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47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fectious Disease objec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14-10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Identification of persons with chronic Hepatitis 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14-15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Prevention services for International travel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us others 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patitis A, B, and 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Bacterial meningit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ptic ulcer hospitalization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Pneumococcal infection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Antibiotics u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Meningococcal disease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Hospital-acquired infection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Lyme dise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Anti-microbial use in ICU’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Group B streptococca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dis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5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wis721 BT"/>
              </a:rPr>
              <a:t>Immunization and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Swis721 BT"/>
              </a:rPr>
              <a:t>Infectious Disease Objectives</a:t>
            </a:r>
            <a:endParaRPr b="0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47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uberculosis objec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uberculo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urative therapy for tuberculo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for high-risk per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ly laboratory confi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Swis721 BT"/>
              </a:rPr>
              <a:t>Morbidity Profile</a:t>
            </a:r>
            <a:endParaRPr b="0" lang="en-US" sz="3000" spc="-1" strike="noStrike">
              <a:solidFill>
                <a:srgbClr val="00808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585800"/>
          <a:ext cx="7772400" cy="4934160"/>
        </p:xfrm>
        <a:graphic>
          <a:graphicData uri="http://schemas.openxmlformats.org/drawingml/2006/table">
            <a:tbl>
              <a:tblPr/>
              <a:tblGrid>
                <a:gridCol w="2816280"/>
                <a:gridCol w="2106720"/>
                <a:gridCol w="1425240"/>
                <a:gridCol w="1424160"/>
              </a:tblGrid>
              <a:tr h="105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9144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erage prevale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Cent.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s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03,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phth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5,8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p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2,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2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tuss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7,2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,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ubell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7,7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. Influenzae,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ype 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,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lio (paralytic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,3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tan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3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genital Rubella Syndro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685800" y="25909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848520" y="1832040"/>
            <a:ext cx="7441560" cy="4114800"/>
            <a:chOff x="848520" y="1832040"/>
            <a:chExt cx="7441560" cy="4114800"/>
          </a:xfrm>
        </p:grpSpPr>
        <p:grpSp>
          <p:nvGrpSpPr>
            <p:cNvPr id="64" name=""/>
            <p:cNvGrpSpPr/>
            <p:nvPr/>
          </p:nvGrpSpPr>
          <p:grpSpPr>
            <a:xfrm>
              <a:off x="1206360" y="4108320"/>
              <a:ext cx="7067520" cy="731880"/>
              <a:chOff x="1206360" y="4108320"/>
              <a:chExt cx="7067520" cy="731880"/>
            </a:xfrm>
          </p:grpSpPr>
          <p:sp>
            <p:nvSpPr>
              <p:cNvPr id="65" name=""/>
              <p:cNvSpPr/>
              <p:nvPr/>
            </p:nvSpPr>
            <p:spPr>
              <a:xfrm>
                <a:off x="12063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249200" y="483084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2938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381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809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256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46844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5127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5573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002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6444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8768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7319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77480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1944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8637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065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95120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9404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383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08296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2580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700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1292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5756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3018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3446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8932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3216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4764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52108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6392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6082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65104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69568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399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7828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82744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87028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9145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5920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0204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463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8916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3380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1780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209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26556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30840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526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9732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4401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4844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527280" y="483084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719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1476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6590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7036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465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908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33640" y="483084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782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225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654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100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05288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971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1418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846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2928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27212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164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6104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0388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481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49100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3564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799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227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6740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1024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7545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9916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84200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8862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2912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7376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0180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608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0552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4836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1926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3728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28012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244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6724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1188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4561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4990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4364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5864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307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7360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7182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625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053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500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9284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9371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817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0246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688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11720" y="483084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1563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2006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2434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881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33096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52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198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4627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070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55020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944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6387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68196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262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6908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1372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8580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9008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94548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98832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326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07724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12008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1643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20720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25184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2961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33896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38360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42644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4707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51356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5820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6024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64532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68996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3280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77708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82172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6456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9088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5168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99632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0406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08344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2808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170920" y="48308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215200" y="483084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259840" y="483084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063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49200" y="4108320"/>
                <a:ext cx="16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38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3381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809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256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6844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5127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5573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6002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6444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68768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7319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77480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81944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637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065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5120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99404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0383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08296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12580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1700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21292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25756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3018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3446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38932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3216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4764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52108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56392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6082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5104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9568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399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828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82744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1206360" y="3386160"/>
              <a:ext cx="7067520" cy="731880"/>
              <a:chOff x="1206360" y="3386160"/>
              <a:chExt cx="7067520" cy="731880"/>
            </a:xfrm>
          </p:grpSpPr>
          <p:sp>
            <p:nvSpPr>
              <p:cNvPr id="266" name=""/>
              <p:cNvSpPr/>
              <p:nvPr/>
            </p:nvSpPr>
            <p:spPr>
              <a:xfrm>
                <a:off x="287028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9145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5920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00204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463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08916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13380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1780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2209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6556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30840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526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9732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401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844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527280" y="4108320"/>
                <a:ext cx="16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5719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61476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590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7036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465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7908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833640" y="4108320"/>
                <a:ext cx="16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8782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9225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654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100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05288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971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1418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1846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22928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212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164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6104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40388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481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9100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3564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5799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6227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6740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1024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7545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79916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4200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862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92912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7376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0180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0608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10552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14836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926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23728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28012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3244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6724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188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4561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4990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54364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5864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6307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7360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182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625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053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8500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89284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9371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9817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246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688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11720" y="4108320"/>
                <a:ext cx="16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1563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2006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2434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2881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33096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3752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198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4627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070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5020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944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6387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8196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7262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76908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81372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8580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9008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4548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98832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0326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07724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12008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1643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20720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25184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2961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33896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360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42644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4707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51356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5820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024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4532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68996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73280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77708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82172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86456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9088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95168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9632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0406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8344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2808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170920" y="410832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215200" y="410832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259840" y="410832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2063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249200" y="338616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2938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381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3809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256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46844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5127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5573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002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444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8768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7319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77480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1944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637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9065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95120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99404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0383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08296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12580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1700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21292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25756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3018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446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38932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43216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4764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2108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56392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6082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65104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69568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7399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7828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82744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87028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9145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5920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00204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63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08916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3380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1780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2209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26556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30840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3526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39732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4401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844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527280" y="338616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719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61476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590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036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465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908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833640" y="338616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8782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9225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9654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0100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05288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0971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1418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1846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22928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27212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3164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6104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40388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4481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49100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1206360" y="2664000"/>
              <a:ext cx="7067520" cy="731520"/>
              <a:chOff x="1206360" y="2664000"/>
              <a:chExt cx="7067520" cy="731520"/>
            </a:xfrm>
          </p:grpSpPr>
          <p:sp>
            <p:nvSpPr>
              <p:cNvPr id="467" name=""/>
              <p:cNvSpPr/>
              <p:nvPr/>
            </p:nvSpPr>
            <p:spPr>
              <a:xfrm>
                <a:off x="453564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799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227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66740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71024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7545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79916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84200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8862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92912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97376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80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608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10552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14836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1926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23728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28012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244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6724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1188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561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990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54364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864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6307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67360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7182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7625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8053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8500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89284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371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817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0246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688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111720" y="338616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1563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2006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2434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2881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33096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3752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4198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4627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5070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55020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5944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6387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68196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262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76908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81372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8580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9008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94548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98832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0326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07724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12008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1643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20720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25184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2961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33896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8360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42644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4707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51356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55820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6024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64532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68996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73280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77708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82172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86456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9088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95168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99632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0406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08344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12808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170920" y="338616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215200" y="33861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259840" y="338616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2063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249200" y="266400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2938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381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809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256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6844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127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5573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002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6444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68768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7319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77480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81944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8637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9065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5120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9404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0383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08296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12580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1700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21292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25756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3018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3446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8932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43216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764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52108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56392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6082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65104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69568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7399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7828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82744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7028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9145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95920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0204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0463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8916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13380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1780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2209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26556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30840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3526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9732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4401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4844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527280" y="266400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5719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61476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6590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7036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7465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7908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833640" y="266400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8782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9225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9654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0100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05288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0971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1418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1846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22928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27212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3164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36104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40388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481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49100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53564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5799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6227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66740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71024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7545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79916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84200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8862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92912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97376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0180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0608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10552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4836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1926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23728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28012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3244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36724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1188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4561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4990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54364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5864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6307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67360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7182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7625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8053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8500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89284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9371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9817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246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0688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111720" y="266400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1563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1206360" y="1941480"/>
              <a:ext cx="7067520" cy="731880"/>
              <a:chOff x="1206360" y="1941480"/>
              <a:chExt cx="7067520" cy="731880"/>
            </a:xfrm>
          </p:grpSpPr>
          <p:sp>
            <p:nvSpPr>
              <p:cNvPr id="668" name=""/>
              <p:cNvSpPr/>
              <p:nvPr/>
            </p:nvSpPr>
            <p:spPr>
              <a:xfrm>
                <a:off x="62006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2434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2881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33096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3752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4198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4627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5070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55020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5944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6387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68196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7262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76908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81372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8580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9008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94548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98832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326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7724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12008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1643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20720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25184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2961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33896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38360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42644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4707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51356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55820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6024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64532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8996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73280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77708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82172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86456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9088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95168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99632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0406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08344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12808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170920" y="266400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215200" y="26640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259840" y="26640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2063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249200" y="1941480"/>
                <a:ext cx="16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2938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3381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3809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4256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46844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5127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5573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6002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6444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68768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7319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77480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81944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8637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9065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95120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99404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0383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08296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12580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1700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21292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25756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3018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3446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38932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43216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4764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52108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56392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6082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65104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69568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7399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7828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82744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87028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9145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95920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00204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0463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8916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3380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780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2209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6556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0840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3526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9732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4401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4844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527280" y="1941480"/>
                <a:ext cx="16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5719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61476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6590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7036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465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7908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833640" y="1941480"/>
                <a:ext cx="16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782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9225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9654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0100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05288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0971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1418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1846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22928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27212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3164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36104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40388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4481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49100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53564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5799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6227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66740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71024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7545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79916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4200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8862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92912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7376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0180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0608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10552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14836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1926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23728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28012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3244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36724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41188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4561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4990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54364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5864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6307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67360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7182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7625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8053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8500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89284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9371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9817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0246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0688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111720" y="1941480"/>
                <a:ext cx="16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1563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2006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2434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2881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33096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3752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198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627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5070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55020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5944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6387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68196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7262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76908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81372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8580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90084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94548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98832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03260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7724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12008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1643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20720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25184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2961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33896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38360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42644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4707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51356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55820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6024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64532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8996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732800" y="1941480"/>
                <a:ext cx="158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777080" y="1941480"/>
                <a:ext cx="144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821720" y="194148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7864560" y="1941480"/>
              <a:ext cx="140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908840" y="1941480"/>
              <a:ext cx="144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51680" y="1941480"/>
              <a:ext cx="158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996320" y="1941480"/>
              <a:ext cx="140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040600" y="1941480"/>
              <a:ext cx="144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083440" y="1941480"/>
              <a:ext cx="144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128080" y="1941480"/>
              <a:ext cx="140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70920" y="1941480"/>
              <a:ext cx="158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215200" y="1941480"/>
              <a:ext cx="144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259840" y="1941480"/>
              <a:ext cx="140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206360" y="1941480"/>
              <a:ext cx="1800" cy="361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206360" y="5553000"/>
              <a:ext cx="7081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12063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130176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14032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149868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16002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16956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17971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18921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199404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20890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1924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22860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23893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24843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25858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268128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78280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28782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29797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0751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31701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32716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336708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34704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35640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36669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37609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38638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95928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40608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41562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42577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3527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445464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45496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46530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47466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48420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49449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50385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51418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523728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53388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543384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55357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56307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573264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58276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592920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60246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61279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62215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63244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41988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652140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66168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671184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68137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69087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70102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710568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720720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73026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74055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4995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76024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76960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77994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789480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799632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809136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8193240" y="5506920"/>
              <a:ext cx="144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8288280" y="5506920"/>
              <a:ext cx="1800" cy="46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301760" y="2306520"/>
              <a:ext cx="6891480" cy="1800"/>
            </a:xfrm>
            <a:custGeom>
              <a:avLst/>
              <a:gdLst/>
              <a:ahLst/>
              <a:rect l="l" t="t" r="r" b="b"/>
              <a:pathLst>
                <a:path w="944" h="0">
                  <a:moveTo>
                    <a:pt x="0" y="0"/>
                  </a:moveTo>
                  <a:lnTo>
                    <a:pt x="27" y="0"/>
                  </a:lnTo>
                  <a:lnTo>
                    <a:pt x="54" y="0"/>
                  </a:lnTo>
                  <a:lnTo>
                    <a:pt x="81" y="0"/>
                  </a:lnTo>
                  <a:lnTo>
                    <a:pt x="108" y="0"/>
                  </a:lnTo>
                  <a:lnTo>
                    <a:pt x="135" y="0"/>
                  </a:lnTo>
                  <a:lnTo>
                    <a:pt x="162" y="0"/>
                  </a:lnTo>
                  <a:lnTo>
                    <a:pt x="189" y="0"/>
                  </a:lnTo>
                  <a:lnTo>
                    <a:pt x="216" y="0"/>
                  </a:lnTo>
                  <a:lnTo>
                    <a:pt x="243" y="0"/>
                  </a:lnTo>
                  <a:lnTo>
                    <a:pt x="270" y="0"/>
                  </a:lnTo>
                  <a:lnTo>
                    <a:pt x="297" y="0"/>
                  </a:lnTo>
                  <a:lnTo>
                    <a:pt x="324" y="0"/>
                  </a:lnTo>
                  <a:lnTo>
                    <a:pt x="351" y="0"/>
                  </a:lnTo>
                  <a:lnTo>
                    <a:pt x="378" y="0"/>
                  </a:lnTo>
                  <a:lnTo>
                    <a:pt x="405" y="0"/>
                  </a:lnTo>
                  <a:lnTo>
                    <a:pt x="432" y="0"/>
                  </a:lnTo>
                  <a:lnTo>
                    <a:pt x="459" y="0"/>
                  </a:lnTo>
                  <a:lnTo>
                    <a:pt x="485" y="0"/>
                  </a:lnTo>
                  <a:lnTo>
                    <a:pt x="512" y="0"/>
                  </a:lnTo>
                  <a:lnTo>
                    <a:pt x="539" y="0"/>
                  </a:lnTo>
                  <a:lnTo>
                    <a:pt x="566" y="0"/>
                  </a:lnTo>
                  <a:lnTo>
                    <a:pt x="593" y="0"/>
                  </a:lnTo>
                  <a:lnTo>
                    <a:pt x="620" y="0"/>
                  </a:lnTo>
                  <a:lnTo>
                    <a:pt x="647" y="0"/>
                  </a:lnTo>
                  <a:lnTo>
                    <a:pt x="674" y="0"/>
                  </a:lnTo>
                  <a:lnTo>
                    <a:pt x="701" y="0"/>
                  </a:lnTo>
                  <a:lnTo>
                    <a:pt x="728" y="0"/>
                  </a:lnTo>
                  <a:lnTo>
                    <a:pt x="755" y="0"/>
                  </a:lnTo>
                  <a:lnTo>
                    <a:pt x="782" y="0"/>
                  </a:lnTo>
                  <a:lnTo>
                    <a:pt x="809" y="0"/>
                  </a:lnTo>
                  <a:lnTo>
                    <a:pt x="836" y="0"/>
                  </a:lnTo>
                  <a:lnTo>
                    <a:pt x="863" y="0"/>
                  </a:lnTo>
                  <a:lnTo>
                    <a:pt x="890" y="0"/>
                  </a:lnTo>
                  <a:lnTo>
                    <a:pt x="917" y="0"/>
                  </a:lnTo>
                  <a:lnTo>
                    <a:pt x="944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040040" y="54435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941400" y="4721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941400" y="3998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941400" y="3276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941400" y="2554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48520" y="1832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13076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6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72296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7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1372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7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90592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7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49632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7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8852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67280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26320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85540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4580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03800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28400" y="57182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2690640" y="2654280"/>
            <a:ext cx="1043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P(3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994040" y="3530520"/>
            <a:ext cx="20444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R(1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782960" y="3657600"/>
            <a:ext cx="10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o (3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257800" y="4495680"/>
            <a:ext cx="9097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b (3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597800" y="2362320"/>
            <a:ext cx="1241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p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(3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467480" y="4164120"/>
            <a:ext cx="15717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cella (1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28520" y="6095880"/>
            <a:ext cx="88632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7240" indent="-68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Children in the USIS and NHIS were 24-35 months of age.  Children in the NIS were 19-35 months of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87240" indent="-6872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USIS (1967-1985), CDC, Division of Immunization, NHIS (1991-1993) CDC, NCHS, and NIS (1994-December 2002), CDC, NIP and NCHS; No data from 1986-1990 due to cancellation of USIS because of budget red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414600" y="1994040"/>
            <a:ext cx="2467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2860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accine-specific coverage rates among pre-school aged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01760" y="1587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98520" y="2733840"/>
            <a:ext cx="3556080" cy="504720"/>
          </a:xfrm>
          <a:custGeom>
            <a:avLst/>
            <a:gdLst/>
            <a:ahLst/>
            <a:rect l="l" t="t" r="r" b="b"/>
            <a:pathLst>
              <a:path w="2240" h="318">
                <a:moveTo>
                  <a:pt x="0" y="0"/>
                </a:moveTo>
                <a:lnTo>
                  <a:pt x="130" y="24"/>
                </a:lnTo>
                <a:lnTo>
                  <a:pt x="258" y="26"/>
                </a:lnTo>
                <a:lnTo>
                  <a:pt x="372" y="46"/>
                </a:lnTo>
                <a:lnTo>
                  <a:pt x="502" y="2"/>
                </a:lnTo>
                <a:lnTo>
                  <a:pt x="624" y="92"/>
                </a:lnTo>
                <a:lnTo>
                  <a:pt x="748" y="140"/>
                </a:lnTo>
                <a:lnTo>
                  <a:pt x="872" y="140"/>
                </a:lnTo>
                <a:lnTo>
                  <a:pt x="998" y="118"/>
                </a:lnTo>
                <a:lnTo>
                  <a:pt x="1122" y="118"/>
                </a:lnTo>
                <a:lnTo>
                  <a:pt x="1248" y="190"/>
                </a:lnTo>
                <a:lnTo>
                  <a:pt x="1372" y="250"/>
                </a:lnTo>
                <a:lnTo>
                  <a:pt x="1496" y="318"/>
                </a:lnTo>
                <a:lnTo>
                  <a:pt x="1618" y="272"/>
                </a:lnTo>
                <a:lnTo>
                  <a:pt x="1744" y="228"/>
                </a:lnTo>
                <a:lnTo>
                  <a:pt x="1870" y="252"/>
                </a:lnTo>
                <a:lnTo>
                  <a:pt x="1990" y="296"/>
                </a:lnTo>
                <a:lnTo>
                  <a:pt x="2116" y="296"/>
                </a:lnTo>
                <a:lnTo>
                  <a:pt x="2240" y="318"/>
                </a:ln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301760" y="3083040"/>
            <a:ext cx="3549600" cy="374400"/>
          </a:xfrm>
          <a:custGeom>
            <a:avLst/>
            <a:gdLst/>
            <a:ahLst/>
            <a:rect l="l" t="t" r="r" b="b"/>
            <a:pathLst>
              <a:path w="2236" h="236">
                <a:moveTo>
                  <a:pt x="0" y="192"/>
                </a:moveTo>
                <a:lnTo>
                  <a:pt x="126" y="142"/>
                </a:lnTo>
                <a:lnTo>
                  <a:pt x="250" y="168"/>
                </a:lnTo>
                <a:lnTo>
                  <a:pt x="376" y="236"/>
                </a:lnTo>
                <a:lnTo>
                  <a:pt x="498" y="142"/>
                </a:lnTo>
                <a:lnTo>
                  <a:pt x="624" y="122"/>
                </a:lnTo>
                <a:lnTo>
                  <a:pt x="750" y="170"/>
                </a:lnTo>
                <a:lnTo>
                  <a:pt x="870" y="122"/>
                </a:lnTo>
                <a:lnTo>
                  <a:pt x="998" y="50"/>
                </a:lnTo>
                <a:lnTo>
                  <a:pt x="1120" y="56"/>
                </a:lnTo>
                <a:lnTo>
                  <a:pt x="1244" y="78"/>
                </a:lnTo>
                <a:lnTo>
                  <a:pt x="1368" y="98"/>
                </a:lnTo>
                <a:lnTo>
                  <a:pt x="1492" y="28"/>
                </a:lnTo>
                <a:lnTo>
                  <a:pt x="1620" y="28"/>
                </a:lnTo>
                <a:lnTo>
                  <a:pt x="1744" y="30"/>
                </a:lnTo>
                <a:lnTo>
                  <a:pt x="1864" y="0"/>
                </a:lnTo>
                <a:lnTo>
                  <a:pt x="1988" y="54"/>
                </a:lnTo>
                <a:lnTo>
                  <a:pt x="2112" y="52"/>
                </a:lnTo>
                <a:lnTo>
                  <a:pt x="2236" y="172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86160" y="3241800"/>
            <a:ext cx="2361960" cy="403200"/>
          </a:xfrm>
          <a:custGeom>
            <a:avLst/>
            <a:gdLst/>
            <a:ahLst/>
            <a:rect l="l" t="t" r="r" b="b"/>
            <a:pathLst>
              <a:path w="1488" h="254">
                <a:moveTo>
                  <a:pt x="0" y="92"/>
                </a:moveTo>
                <a:lnTo>
                  <a:pt x="124" y="88"/>
                </a:lnTo>
                <a:lnTo>
                  <a:pt x="250" y="0"/>
                </a:lnTo>
                <a:lnTo>
                  <a:pt x="374" y="68"/>
                </a:lnTo>
                <a:lnTo>
                  <a:pt x="496" y="24"/>
                </a:lnTo>
                <a:lnTo>
                  <a:pt x="622" y="92"/>
                </a:lnTo>
                <a:lnTo>
                  <a:pt x="746" y="92"/>
                </a:lnTo>
                <a:lnTo>
                  <a:pt x="870" y="116"/>
                </a:lnTo>
                <a:lnTo>
                  <a:pt x="992" y="114"/>
                </a:lnTo>
                <a:lnTo>
                  <a:pt x="1120" y="162"/>
                </a:lnTo>
                <a:lnTo>
                  <a:pt x="1244" y="158"/>
                </a:lnTo>
                <a:lnTo>
                  <a:pt x="1372" y="254"/>
                </a:lnTo>
                <a:lnTo>
                  <a:pt x="1488" y="230"/>
                </a:lnTo>
              </a:path>
            </a:pathLst>
          </a:custGeom>
          <a:noFill/>
          <a:ln w="63360">
            <a:solidFill>
              <a:srgbClr val="00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226200" y="2292480"/>
            <a:ext cx="1974960" cy="2974680"/>
          </a:xfrm>
          <a:custGeom>
            <a:avLst/>
            <a:gdLst/>
            <a:ahLst/>
            <a:rect l="l" t="t" r="r" b="b"/>
            <a:pathLst>
              <a:path w="1244" h="1874">
                <a:moveTo>
                  <a:pt x="0" y="1874"/>
                </a:moveTo>
                <a:lnTo>
                  <a:pt x="124" y="1692"/>
                </a:lnTo>
                <a:lnTo>
                  <a:pt x="246" y="1214"/>
                </a:lnTo>
                <a:lnTo>
                  <a:pt x="372" y="506"/>
                </a:lnTo>
                <a:lnTo>
                  <a:pt x="496" y="190"/>
                </a:lnTo>
                <a:lnTo>
                  <a:pt x="620" y="146"/>
                </a:lnTo>
                <a:lnTo>
                  <a:pt x="744" y="74"/>
                </a:lnTo>
                <a:lnTo>
                  <a:pt x="870" y="48"/>
                </a:lnTo>
                <a:lnTo>
                  <a:pt x="994" y="0"/>
                </a:lnTo>
                <a:lnTo>
                  <a:pt x="1122" y="32"/>
                </a:lnTo>
                <a:lnTo>
                  <a:pt x="1244" y="12"/>
                </a:lnTo>
              </a:path>
            </a:pathLst>
          </a:custGeom>
          <a:noFill/>
          <a:ln w="63360">
            <a:solidFill>
              <a:srgbClr val="ff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010280" y="2644920"/>
            <a:ext cx="1190880" cy="2333520"/>
          </a:xfrm>
          <a:custGeom>
            <a:avLst/>
            <a:gdLst/>
            <a:ahLst/>
            <a:rect l="l" t="t" r="r" b="b"/>
            <a:pathLst>
              <a:path w="750" h="1470">
                <a:moveTo>
                  <a:pt x="0" y="1470"/>
                </a:moveTo>
                <a:lnTo>
                  <a:pt x="128" y="1242"/>
                </a:lnTo>
                <a:lnTo>
                  <a:pt x="250" y="848"/>
                </a:lnTo>
                <a:lnTo>
                  <a:pt x="372" y="528"/>
                </a:lnTo>
                <a:lnTo>
                  <a:pt x="498" y="290"/>
                </a:lnTo>
                <a:lnTo>
                  <a:pt x="624" y="96"/>
                </a:lnTo>
                <a:lnTo>
                  <a:pt x="750" y="0"/>
                </a:lnTo>
              </a:path>
            </a:pathLst>
          </a:custGeom>
          <a:noFill/>
          <a:ln w="63360">
            <a:solidFill>
              <a:srgbClr val="99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022800" y="2178000"/>
            <a:ext cx="2178360" cy="3301920"/>
          </a:xfrm>
          <a:custGeom>
            <a:avLst/>
            <a:gdLst/>
            <a:ahLst/>
            <a:rect l="l" t="t" r="r" b="b"/>
            <a:pathLst>
              <a:path w="1372" h="2080">
                <a:moveTo>
                  <a:pt x="0" y="2080"/>
                </a:moveTo>
                <a:lnTo>
                  <a:pt x="130" y="1474"/>
                </a:lnTo>
                <a:lnTo>
                  <a:pt x="252" y="868"/>
                </a:lnTo>
                <a:lnTo>
                  <a:pt x="374" y="168"/>
                </a:lnTo>
                <a:lnTo>
                  <a:pt x="498" y="34"/>
                </a:lnTo>
                <a:lnTo>
                  <a:pt x="626" y="36"/>
                </a:lnTo>
                <a:lnTo>
                  <a:pt x="748" y="18"/>
                </a:lnTo>
                <a:lnTo>
                  <a:pt x="870" y="0"/>
                </a:lnTo>
                <a:lnTo>
                  <a:pt x="1002" y="2"/>
                </a:lnTo>
                <a:lnTo>
                  <a:pt x="1124" y="0"/>
                </a:lnTo>
                <a:lnTo>
                  <a:pt x="1250" y="12"/>
                </a:lnTo>
                <a:lnTo>
                  <a:pt x="1372" y="2"/>
                </a:lnTo>
              </a:path>
            </a:pathLst>
          </a:custGeom>
          <a:noFill/>
          <a:ln w="63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024600" y="2236680"/>
            <a:ext cx="2171520" cy="354240"/>
          </a:xfrm>
          <a:custGeom>
            <a:avLst/>
            <a:gdLst/>
            <a:ahLst/>
            <a:rect l="l" t="t" r="r" b="b"/>
            <a:pathLst>
              <a:path w="1368" h="223">
                <a:moveTo>
                  <a:pt x="0" y="223"/>
                </a:moveTo>
                <a:lnTo>
                  <a:pt x="125" y="204"/>
                </a:lnTo>
                <a:lnTo>
                  <a:pt x="249" y="178"/>
                </a:lnTo>
                <a:lnTo>
                  <a:pt x="372" y="63"/>
                </a:lnTo>
                <a:lnTo>
                  <a:pt x="498" y="45"/>
                </a:lnTo>
                <a:lnTo>
                  <a:pt x="626" y="21"/>
                </a:lnTo>
                <a:lnTo>
                  <a:pt x="747" y="30"/>
                </a:lnTo>
                <a:lnTo>
                  <a:pt x="872" y="0"/>
                </a:lnTo>
                <a:lnTo>
                  <a:pt x="996" y="12"/>
                </a:lnTo>
                <a:lnTo>
                  <a:pt x="1119" y="37"/>
                </a:lnTo>
                <a:lnTo>
                  <a:pt x="1245" y="12"/>
                </a:lnTo>
                <a:lnTo>
                  <a:pt x="1368" y="6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022800" y="2271600"/>
            <a:ext cx="2173320" cy="1374840"/>
          </a:xfrm>
          <a:custGeom>
            <a:avLst/>
            <a:gdLst/>
            <a:ahLst/>
            <a:rect l="l" t="t" r="r" b="b"/>
            <a:pathLst>
              <a:path w="1369" h="866">
                <a:moveTo>
                  <a:pt x="0" y="866"/>
                </a:moveTo>
                <a:lnTo>
                  <a:pt x="126" y="435"/>
                </a:lnTo>
                <a:lnTo>
                  <a:pt x="252" y="272"/>
                </a:lnTo>
                <a:lnTo>
                  <a:pt x="373" y="180"/>
                </a:lnTo>
                <a:lnTo>
                  <a:pt x="498" y="65"/>
                </a:lnTo>
                <a:lnTo>
                  <a:pt x="624" y="3"/>
                </a:lnTo>
                <a:lnTo>
                  <a:pt x="748" y="0"/>
                </a:lnTo>
                <a:lnTo>
                  <a:pt x="870" y="0"/>
                </a:lnTo>
                <a:lnTo>
                  <a:pt x="996" y="33"/>
                </a:lnTo>
                <a:lnTo>
                  <a:pt x="1123" y="20"/>
                </a:lnTo>
                <a:lnTo>
                  <a:pt x="1242" y="32"/>
                </a:lnTo>
                <a:lnTo>
                  <a:pt x="1369" y="18"/>
                </a:lnTo>
              </a:path>
            </a:pathLst>
          </a:custGeom>
          <a:noFill/>
          <a:ln w="63360">
            <a:solidFill>
              <a:srgbClr val="00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22800" y="2089080"/>
            <a:ext cx="2171880" cy="966960"/>
          </a:xfrm>
          <a:custGeom>
            <a:avLst/>
            <a:gdLst/>
            <a:ahLst/>
            <a:rect l="l" t="t" r="r" b="b"/>
            <a:pathLst>
              <a:path w="1368" h="609">
                <a:moveTo>
                  <a:pt x="0" y="609"/>
                </a:moveTo>
                <a:lnTo>
                  <a:pt x="129" y="271"/>
                </a:lnTo>
                <a:lnTo>
                  <a:pt x="250" y="177"/>
                </a:lnTo>
                <a:lnTo>
                  <a:pt x="373" y="69"/>
                </a:lnTo>
                <a:lnTo>
                  <a:pt x="498" y="24"/>
                </a:lnTo>
                <a:lnTo>
                  <a:pt x="625" y="22"/>
                </a:lnTo>
                <a:lnTo>
                  <a:pt x="750" y="10"/>
                </a:lnTo>
                <a:lnTo>
                  <a:pt x="871" y="4"/>
                </a:lnTo>
                <a:lnTo>
                  <a:pt x="997" y="0"/>
                </a:lnTo>
                <a:lnTo>
                  <a:pt x="1120" y="37"/>
                </a:lnTo>
                <a:lnTo>
                  <a:pt x="1245" y="42"/>
                </a:lnTo>
                <a:lnTo>
                  <a:pt x="1368" y="21"/>
                </a:lnTo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298520" y="2292480"/>
            <a:ext cx="6896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7160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98108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58120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14316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73392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34340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91796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48640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09588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69924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27380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848720" y="5467320"/>
            <a:ext cx="457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876920" y="2590920"/>
            <a:ext cx="1143000" cy="761760"/>
          </a:xfrm>
          <a:custGeom>
            <a:avLst/>
            <a:gdLst/>
            <a:ahLst/>
            <a:rect l="l" t="t" r="r" b="b"/>
            <a:pathLst>
              <a:path w="720" h="480">
                <a:moveTo>
                  <a:pt x="0" y="480"/>
                </a:moveTo>
                <a:cubicBezTo>
                  <a:pt x="56" y="457"/>
                  <a:pt x="216" y="424"/>
                  <a:pt x="336" y="344"/>
                </a:cubicBezTo>
                <a:cubicBezTo>
                  <a:pt x="456" y="264"/>
                  <a:pt x="640" y="72"/>
                  <a:pt x="720" y="0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876920" y="3568680"/>
            <a:ext cx="1143000" cy="88920"/>
          </a:xfrm>
          <a:custGeom>
            <a:avLst/>
            <a:gdLst/>
            <a:ahLst/>
            <a:rect l="l" t="t" r="r" b="b"/>
            <a:pathLst>
              <a:path w="720" h="56">
                <a:moveTo>
                  <a:pt x="0" y="8"/>
                </a:moveTo>
                <a:cubicBezTo>
                  <a:pt x="53" y="8"/>
                  <a:pt x="200" y="0"/>
                  <a:pt x="320" y="8"/>
                </a:cubicBezTo>
                <a:cubicBezTo>
                  <a:pt x="440" y="16"/>
                  <a:pt x="637" y="46"/>
                  <a:pt x="720" y="56"/>
                </a:cubicBezTo>
              </a:path>
            </a:pathLst>
          </a:custGeom>
          <a:noFill/>
          <a:ln w="25560">
            <a:solidFill>
              <a:srgbClr val="0033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889520" y="3048120"/>
            <a:ext cx="1130400" cy="182520"/>
          </a:xfrm>
          <a:custGeom>
            <a:avLst/>
            <a:gdLst/>
            <a:ahLst/>
            <a:rect l="l" t="t" r="r" b="b"/>
            <a:pathLst>
              <a:path w="712" h="115">
                <a:moveTo>
                  <a:pt x="0" y="112"/>
                </a:moveTo>
                <a:cubicBezTo>
                  <a:pt x="79" y="111"/>
                  <a:pt x="353" y="115"/>
                  <a:pt x="472" y="96"/>
                </a:cubicBezTo>
                <a:cubicBezTo>
                  <a:pt x="591" y="77"/>
                  <a:pt x="672" y="16"/>
                  <a:pt x="712" y="0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"/>
          <p:cNvGrpSpPr/>
          <p:nvPr/>
        </p:nvGrpSpPr>
        <p:grpSpPr>
          <a:xfrm>
            <a:off x="4268520" y="2200320"/>
            <a:ext cx="2767320" cy="1581840"/>
            <a:chOff x="4268520" y="2200320"/>
            <a:chExt cx="2767320" cy="1581840"/>
          </a:xfrm>
        </p:grpSpPr>
        <p:grpSp>
          <p:nvGrpSpPr>
            <p:cNvPr id="1008" name=""/>
            <p:cNvGrpSpPr/>
            <p:nvPr/>
          </p:nvGrpSpPr>
          <p:grpSpPr>
            <a:xfrm>
              <a:off x="4697280" y="2479680"/>
              <a:ext cx="2305080" cy="703080"/>
              <a:chOff x="4697280" y="2479680"/>
              <a:chExt cx="2305080" cy="703080"/>
            </a:xfrm>
          </p:grpSpPr>
          <p:sp>
            <p:nvSpPr>
              <p:cNvPr id="1009" name=""/>
              <p:cNvSpPr/>
              <p:nvPr/>
            </p:nvSpPr>
            <p:spPr>
              <a:xfrm>
                <a:off x="469728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748040" y="3174840"/>
                <a:ext cx="16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79916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84992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90068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5144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00220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05296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10372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15448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20524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25636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0712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35788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40864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45940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1016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56092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1168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6244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71356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76432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81508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6584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91660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96736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01812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06888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119640" y="31748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17076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22152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27372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32448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375240" y="3174840"/>
                <a:ext cx="16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42636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47712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52788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57864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62940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68016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73092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781680" y="317484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832440" y="3174840"/>
                <a:ext cx="16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88356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93432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985080" y="317484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69728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748040" y="2997360"/>
                <a:ext cx="16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79916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84992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90068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95144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00220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05296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10372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15448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20524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25636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0712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35788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0864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5940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51016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56092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61168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66244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71356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76432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81508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6584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91660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96736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01812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06888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19640" y="299736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17076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22152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27372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32448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375240" y="2997360"/>
                <a:ext cx="16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42636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47712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52788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57864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62940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68016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73092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781680" y="2997360"/>
                <a:ext cx="158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832440" y="2997360"/>
                <a:ext cx="162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88356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93432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985080" y="2997360"/>
                <a:ext cx="17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69728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748040" y="282744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79916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84992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90068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95144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00220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05296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10372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15448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20524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25636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30712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788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40864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45940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51016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56092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61168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66244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71356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76432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81508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86584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91660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96736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01812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06888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119640" y="28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17076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22152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27372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32448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375240" y="282744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42636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47712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52788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57864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62940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68016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73092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781680" y="282744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832440" y="282744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8356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93432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985080" y="282744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69728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748040" y="265752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9916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84992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90068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95144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00220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05296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10372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15448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20524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25636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30712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35788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40864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45940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51016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56092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61168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66244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71356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76432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1508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6584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91660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96736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01812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06888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119640" y="265752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17076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22152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27372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32448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375240" y="265752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42636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47712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52788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57864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62940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68016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73092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781680" y="265752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832440" y="265752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88356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93432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985080" y="26575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697280" y="247968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748040" y="2479680"/>
                <a:ext cx="162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799160" y="247968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49920" y="247968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900680" y="2479680"/>
                <a:ext cx="158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951440" y="24796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002200" y="247968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052960" y="247968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103720" y="247968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154480" y="247968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205240" y="247968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256360" y="24796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307120" y="24796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357880" y="24796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408640" y="24796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459400" y="247968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9" name=""/>
            <p:cNvSpPr/>
            <p:nvPr/>
          </p:nvSpPr>
          <p:spPr>
            <a:xfrm>
              <a:off x="5510160" y="247968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60920" y="247968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611680" y="247968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662440" y="247968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713560" y="247968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764320" y="247968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815080" y="247968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865840" y="247968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916600" y="247968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967360" y="247968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018120" y="247968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68880" y="247968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119640" y="247968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70760" y="247968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221520" y="247968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273720" y="2479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324480" y="2479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375240" y="2479680"/>
              <a:ext cx="16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426360" y="2479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477120" y="2479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527880" y="2479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578640" y="2479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29400" y="2479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680160" y="2479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730920" y="2479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781680" y="2479680"/>
              <a:ext cx="15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832440" y="2479680"/>
              <a:ext cx="16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883560" y="247968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934320" y="247968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985080" y="247968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69728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748040" y="2311560"/>
              <a:ext cx="162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79916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84992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90068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95144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00220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05296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10372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15448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0524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25636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0712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35788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0864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45940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51016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56092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61168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66244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1356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6432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1508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86584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91660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96736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01812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06888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119640" y="231156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17076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2152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7372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375240" y="2311560"/>
              <a:ext cx="162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42636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47712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52788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57864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62940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68016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73092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781680" y="2311560"/>
              <a:ext cx="158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832440" y="2311560"/>
              <a:ext cx="162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8356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93432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985080" y="23115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00680" y="2606760"/>
              <a:ext cx="271440" cy="738000"/>
            </a:xfrm>
            <a:prstGeom prst="rect">
              <a:avLst/>
            </a:prstGeom>
            <a:solidFill>
              <a:srgbClr val="ff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172120" y="2395440"/>
              <a:ext cx="279360" cy="949320"/>
            </a:xfrm>
            <a:prstGeom prst="rect">
              <a:avLst/>
            </a:prstGeom>
            <a:solidFill>
              <a:srgbClr val="3399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451480" y="2428920"/>
              <a:ext cx="271440" cy="915840"/>
            </a:xfrm>
            <a:prstGeom prst="rect">
              <a:avLst/>
            </a:prstGeom>
            <a:solidFill>
              <a:srgbClr val="ff99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22920" y="2479680"/>
              <a:ext cx="279360" cy="865080"/>
            </a:xfrm>
            <a:prstGeom prst="rect">
              <a:avLst/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002280" y="2446200"/>
              <a:ext cx="271440" cy="898560"/>
            </a:xfrm>
            <a:prstGeom prst="rect">
              <a:avLst/>
            </a:prstGeom>
            <a:solidFill>
              <a:srgbClr val="000080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273720" y="2446200"/>
              <a:ext cx="279360" cy="898560"/>
            </a:xfrm>
            <a:prstGeom prst="rect">
              <a:avLst/>
            </a:prstGeom>
            <a:solidFill>
              <a:srgbClr val="ff99cc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553080" y="2413080"/>
              <a:ext cx="270000" cy="931680"/>
            </a:xfrm>
            <a:prstGeom prst="rect">
              <a:avLst/>
            </a:prstGeom>
            <a:solidFill>
              <a:srgbClr val="800000"/>
            </a:solidFill>
            <a:ln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5035680" y="2403000"/>
              <a:ext cx="1440" cy="203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010120" y="2403360"/>
              <a:ext cx="604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035680" y="2606760"/>
              <a:ext cx="1440" cy="195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010120" y="2801880"/>
              <a:ext cx="604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5307120" y="2370240"/>
              <a:ext cx="1440" cy="25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281560" y="2370240"/>
              <a:ext cx="586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307120" y="2395440"/>
              <a:ext cx="144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281560" y="2428920"/>
              <a:ext cx="586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5586480" y="2327400"/>
              <a:ext cx="1440" cy="10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560920" y="2327400"/>
              <a:ext cx="6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586480" y="2428920"/>
              <a:ext cx="1440" cy="111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560920" y="2540160"/>
              <a:ext cx="6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5857920" y="2387520"/>
              <a:ext cx="1440" cy="9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832360" y="2387520"/>
              <a:ext cx="58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57920" y="2479680"/>
              <a:ext cx="1440" cy="10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832360" y="2581200"/>
              <a:ext cx="58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6137280" y="2421000"/>
              <a:ext cx="1440" cy="25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111720" y="2421000"/>
              <a:ext cx="59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137280" y="2446200"/>
              <a:ext cx="1440" cy="25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111720" y="2471760"/>
              <a:ext cx="59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6408720" y="2413080"/>
              <a:ext cx="1440" cy="3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83160" y="2413080"/>
              <a:ext cx="59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408720" y="2446200"/>
              <a:ext cx="1440" cy="3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83160" y="2479680"/>
              <a:ext cx="59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6688080" y="2403000"/>
              <a:ext cx="1800" cy="9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62880" y="2403360"/>
              <a:ext cx="58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688080" y="2413080"/>
              <a:ext cx="1800" cy="1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662880" y="2428920"/>
              <a:ext cx="586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697280" y="2311560"/>
              <a:ext cx="1800" cy="1033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697280" y="3344760"/>
              <a:ext cx="2338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78320" y="3233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378320" y="30654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378320" y="28875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78320" y="27176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378320" y="25480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378320" y="23702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268520" y="22003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541840" y="3538440"/>
              <a:ext cx="74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ib (3+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0" name=""/>
          <p:cNvSpPr/>
          <p:nvPr/>
        </p:nvSpPr>
        <p:spPr>
          <a:xfrm>
            <a:off x="7145280" y="2057400"/>
            <a:ext cx="238320" cy="18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497720" y="4819680"/>
            <a:ext cx="1646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te, Not 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145280" y="2971800"/>
            <a:ext cx="238320" cy="189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497720" y="4286160"/>
            <a:ext cx="14176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ck, Not 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145280" y="2514600"/>
            <a:ext cx="238320" cy="190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490160" y="3857760"/>
            <a:ext cx="79308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pan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145280" y="3429000"/>
            <a:ext cx="238320" cy="185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145280" y="3886200"/>
            <a:ext cx="238320" cy="185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497720" y="1968480"/>
            <a:ext cx="18003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erican Indian / Alaskan Nat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9" name=""/>
          <p:cNvGraphicFramePr/>
          <p:nvPr/>
        </p:nvGraphicFramePr>
        <p:xfrm>
          <a:off x="4127400" y="4300560"/>
          <a:ext cx="31100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27400" y="4300560"/>
                    <a:ext cx="31100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1" name=""/>
          <p:cNvGraphicFramePr/>
          <p:nvPr/>
        </p:nvGraphicFramePr>
        <p:xfrm>
          <a:off x="1152360" y="1981080"/>
          <a:ext cx="3110040" cy="187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52360" y="1981080"/>
                    <a:ext cx="31100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3" name=""/>
          <p:cNvGraphicFramePr/>
          <p:nvPr/>
        </p:nvGraphicFramePr>
        <p:xfrm>
          <a:off x="1152360" y="4191120"/>
          <a:ext cx="3144960" cy="188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2360" y="4191120"/>
                    <a:ext cx="3144960" cy="18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5" name=""/>
          <p:cNvSpPr/>
          <p:nvPr/>
        </p:nvSpPr>
        <p:spPr>
          <a:xfrm>
            <a:off x="7497720" y="2514600"/>
            <a:ext cx="180036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Swis721 BT"/>
              </a:rPr>
              <a:t>Universally Recommended Vaccination Coverage Among Children 19-35 Months, 2002</a:t>
            </a:r>
            <a:endParaRPr b="0" lang="en-US" sz="3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24560" y="6294600"/>
            <a:ext cx="44661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95% Confidence interval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§  Data are statistically unrel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 NIS, CDC, NIP and NC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974880" y="17636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889440" y="175248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914760" y="403848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889440" y="41148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876920" y="4775040"/>
            <a:ext cx="2057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943280" y="4660920"/>
            <a:ext cx="2057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05120" y="2438280"/>
            <a:ext cx="2057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124760" y="541008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526520" y="525780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71600" y="3276720"/>
            <a:ext cx="139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716120" y="3187080"/>
            <a:ext cx="745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1680120" y="3184920"/>
            <a:ext cx="170280" cy="13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1654560" y="3121200"/>
            <a:ext cx="170640" cy="1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229280" y="3238560"/>
            <a:ext cx="139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4622760" y="3162240"/>
            <a:ext cx="74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1703520" y="5486400"/>
            <a:ext cx="74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4724280" y="5486400"/>
            <a:ext cx="74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371600" y="5562720"/>
            <a:ext cx="139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356000" y="5549760"/>
            <a:ext cx="139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1667520" y="5407200"/>
            <a:ext cx="170280" cy="1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1680120" y="5470920"/>
            <a:ext cx="170280" cy="13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4690080" y="5483520"/>
            <a:ext cx="170280" cy="1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4677480" y="5420160"/>
            <a:ext cx="170280" cy="13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390920" y="22384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267080" y="3276720"/>
            <a:ext cx="139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838760" y="2476440"/>
            <a:ext cx="2057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280040" y="3276720"/>
            <a:ext cx="139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4660920" y="3200400"/>
            <a:ext cx="74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4613760" y="3134160"/>
            <a:ext cx="170280" cy="13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4626360" y="3184920"/>
            <a:ext cx="170640" cy="13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149960" y="4343400"/>
            <a:ext cx="238320" cy="185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162920" y="4919760"/>
            <a:ext cx="237960" cy="185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496280" y="2819520"/>
            <a:ext cx="18000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ive Hawaiian/ Other Pacific Islan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496280" y="3429000"/>
            <a:ext cx="180000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e Ra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922880" y="6400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913280" y="2849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976400" y="50594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608440" y="52880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7145280" y="2266920"/>
            <a:ext cx="238320" cy="189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486920" y="5048280"/>
            <a:ext cx="10890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te,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145280" y="2806560"/>
            <a:ext cx="238320" cy="189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486920" y="4540320"/>
            <a:ext cx="10890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ck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Hisp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145280" y="3348000"/>
            <a:ext cx="238320" cy="190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469640" y="4203720"/>
            <a:ext cx="79308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pan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145280" y="3809880"/>
            <a:ext cx="238320" cy="185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145280" y="4203720"/>
            <a:ext cx="238320" cy="185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497720" y="2184480"/>
            <a:ext cx="18003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erican Indian / Alaskan Nat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5" name=""/>
          <p:cNvGraphicFramePr/>
          <p:nvPr/>
        </p:nvGraphicFramePr>
        <p:xfrm>
          <a:off x="584280" y="2070000"/>
          <a:ext cx="310968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280" y="2070000"/>
                    <a:ext cx="310968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7" name=""/>
          <p:cNvGraphicFramePr/>
          <p:nvPr/>
        </p:nvGraphicFramePr>
        <p:xfrm>
          <a:off x="3975120" y="2103480"/>
          <a:ext cx="3110040" cy="187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75120" y="2103480"/>
                    <a:ext cx="31100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9" name=""/>
          <p:cNvGraphicFramePr/>
          <p:nvPr/>
        </p:nvGraphicFramePr>
        <p:xfrm>
          <a:off x="4005360" y="4206960"/>
          <a:ext cx="3144600" cy="188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05360" y="4206960"/>
                    <a:ext cx="3144600" cy="18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1" name=""/>
          <p:cNvSpPr/>
          <p:nvPr/>
        </p:nvSpPr>
        <p:spPr>
          <a:xfrm>
            <a:off x="7497720" y="2819520"/>
            <a:ext cx="180036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i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52280" y="6184800"/>
            <a:ext cx="89312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‡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Developmental objective.  Target has not been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"/>
              </a:rPr>
              <a:t>I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95% Confidence interval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§ 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ata are statistically unrel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urce:  NIS, CDC, NIP and NC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Swis721 BT"/>
              </a:rPr>
              <a:t>Universally Recommended Vaccination Coverage Among Children 19-35 Months, 2002</a:t>
            </a:r>
            <a:endParaRPr b="0" lang="en-US" sz="3000" spc="-1" strike="noStrike">
              <a:solidFill>
                <a:srgbClr val="008080"/>
              </a:solidFill>
              <a:latin typeface="Arial"/>
            </a:endParaRPr>
          </a:p>
        </p:txBody>
      </p:sp>
      <p:graphicFrame>
        <p:nvGraphicFramePr>
          <p:cNvPr id="1404" name=""/>
          <p:cNvGraphicFramePr/>
          <p:nvPr/>
        </p:nvGraphicFramePr>
        <p:xfrm>
          <a:off x="625320" y="4156200"/>
          <a:ext cx="3256200" cy="1965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5320" y="4156200"/>
                    <a:ext cx="32562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6" name=""/>
          <p:cNvSpPr/>
          <p:nvPr/>
        </p:nvSpPr>
        <p:spPr>
          <a:xfrm>
            <a:off x="4724280" y="2641680"/>
            <a:ext cx="2057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337000" y="382284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TP (4+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027520" y="3733920"/>
            <a:ext cx="9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TP (3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17680" y="1839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876840" y="18288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876840" y="40543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788000" y="4952880"/>
            <a:ext cx="2057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056200" y="5878440"/>
            <a:ext cx="150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:3:1:3:3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086600" y="5562720"/>
            <a:ext cx="304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390080" y="541008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825480" y="3657600"/>
            <a:ext cx="139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203720" y="3708360"/>
            <a:ext cx="139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203720" y="5829480"/>
            <a:ext cx="139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181160" y="3581280"/>
            <a:ext cx="74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1121400" y="3502440"/>
            <a:ext cx="170280" cy="13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1134000" y="3565800"/>
            <a:ext cx="170280" cy="1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4573440" y="3619440"/>
            <a:ext cx="74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4573440" y="5765760"/>
            <a:ext cx="74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4537440" y="3616560"/>
            <a:ext cx="170640" cy="1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4524840" y="3553200"/>
            <a:ext cx="170640" cy="1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4537440" y="5762880"/>
            <a:ext cx="170640" cy="1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4524840" y="5686920"/>
            <a:ext cx="170640" cy="13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972080" y="58532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V(3+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84480" y="403848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346040" y="4648320"/>
            <a:ext cx="235908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162920" y="4648320"/>
            <a:ext cx="237960" cy="185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162920" y="5148360"/>
            <a:ext cx="237960" cy="185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483320" y="3162240"/>
            <a:ext cx="1800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ive Hawaiian/ Other Pacific Islan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470720" y="3809880"/>
            <a:ext cx="1800360" cy="1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e Ra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922880" y="6400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138320" y="1660680"/>
            <a:ext cx="2940120" cy="144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138320" y="636480"/>
            <a:ext cx="2940120" cy="180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301760" y="5721480"/>
            <a:ext cx="341280" cy="190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646280" y="5397480"/>
            <a:ext cx="350640" cy="512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343240" y="5522760"/>
            <a:ext cx="350640" cy="38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692440" y="5654520"/>
            <a:ext cx="341280" cy="2574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038400" y="5638680"/>
            <a:ext cx="351000" cy="276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389400" y="5522760"/>
            <a:ext cx="341280" cy="389160"/>
          </a:xfrm>
          <a:prstGeom prst="rect">
            <a:avLst/>
          </a:prstGeom>
          <a:solidFill>
            <a:srgbClr val="8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646280" y="4830840"/>
            <a:ext cx="36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001960" y="5057640"/>
            <a:ext cx="3380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340000" y="4952880"/>
            <a:ext cx="55548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705040" y="5083200"/>
            <a:ext cx="3286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954160" y="5072040"/>
            <a:ext cx="4305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200400" y="4834080"/>
            <a:ext cx="67644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295280" y="4863960"/>
            <a:ext cx="351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301760" y="5619600"/>
            <a:ext cx="328680" cy="0"/>
          </a:xfrm>
          <a:prstGeom prst="line">
            <a:avLst/>
          </a:prstGeom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004840" y="5619600"/>
            <a:ext cx="328680" cy="0"/>
          </a:xfrm>
          <a:prstGeom prst="line">
            <a:avLst/>
          </a:prstGeom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708280" y="5619600"/>
            <a:ext cx="32868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046320" y="5619600"/>
            <a:ext cx="328680" cy="0"/>
          </a:xfrm>
          <a:prstGeom prst="line">
            <a:avLst/>
          </a:prstGeom>
          <a:ln w="324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309680" y="5327640"/>
            <a:ext cx="23954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14360" y="5035680"/>
            <a:ext cx="66672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343240" y="5035680"/>
            <a:ext cx="5522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191040" y="5035680"/>
            <a:ext cx="539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449360" y="2925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782960" y="3459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354640" y="31543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046240" y="559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833720" y="56386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411880" y="56307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944440" y="473544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946240" y="472428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00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7" name=""/>
          <p:cNvGraphicFramePr/>
          <p:nvPr/>
        </p:nvGraphicFramePr>
        <p:xfrm>
          <a:off x="457200" y="1981080"/>
          <a:ext cx="8229600" cy="396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81080"/>
                    <a:ext cx="8229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9" name=""/>
          <p:cNvSpPr/>
          <p:nvPr/>
        </p:nvSpPr>
        <p:spPr>
          <a:xfrm>
            <a:off x="438480" y="6245280"/>
            <a:ext cx="7462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Percent receiving vaccine is estimated per Influenza season, using the January-June interviews on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 NHIS, CDC, NC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038480" y="18288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010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220968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wis721 BT"/>
              </a:rPr>
              <a:t>Influenza Vaccination Coverage During the Past 12 Months, Among Adults 65 Years and Older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86160" y="16765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448280" y="5319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242080" y="5334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105360" y="5334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937320" y="5334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781880" y="5334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607360" y="5321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432840" y="5321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733400" y="2967120"/>
            <a:ext cx="5403960" cy="1305000"/>
          </a:xfrm>
          <a:custGeom>
            <a:avLst/>
            <a:gdLst/>
            <a:ahLst/>
            <a:rect l="l" t="t" r="r" b="b"/>
            <a:pathLst>
              <a:path w="3404" h="822">
                <a:moveTo>
                  <a:pt x="0" y="822"/>
                </a:moveTo>
                <a:lnTo>
                  <a:pt x="264" y="707"/>
                </a:lnTo>
                <a:lnTo>
                  <a:pt x="525" y="600"/>
                </a:lnTo>
                <a:lnTo>
                  <a:pt x="789" y="477"/>
                </a:lnTo>
                <a:lnTo>
                  <a:pt x="1047" y="362"/>
                </a:lnTo>
                <a:lnTo>
                  <a:pt x="1235" y="270"/>
                </a:lnTo>
                <a:lnTo>
                  <a:pt x="1308" y="245"/>
                </a:lnTo>
                <a:lnTo>
                  <a:pt x="1439" y="210"/>
                </a:lnTo>
                <a:lnTo>
                  <a:pt x="1571" y="188"/>
                </a:lnTo>
                <a:lnTo>
                  <a:pt x="1833" y="137"/>
                </a:lnTo>
                <a:lnTo>
                  <a:pt x="2097" y="83"/>
                </a:lnTo>
                <a:lnTo>
                  <a:pt x="2361" y="66"/>
                </a:lnTo>
                <a:lnTo>
                  <a:pt x="2622" y="39"/>
                </a:lnTo>
                <a:lnTo>
                  <a:pt x="2802" y="3"/>
                </a:lnTo>
                <a:lnTo>
                  <a:pt x="2877" y="0"/>
                </a:lnTo>
                <a:lnTo>
                  <a:pt x="2966" y="26"/>
                </a:lnTo>
                <a:lnTo>
                  <a:pt x="3074" y="71"/>
                </a:lnTo>
                <a:lnTo>
                  <a:pt x="3138" y="84"/>
                </a:lnTo>
                <a:lnTo>
                  <a:pt x="3231" y="72"/>
                </a:lnTo>
                <a:lnTo>
                  <a:pt x="3404" y="24"/>
                </a:lnTo>
              </a:path>
            </a:pathLst>
          </a:custGeom>
          <a:noFill/>
          <a:ln w="69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922520" y="633564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Obj. 14-29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816200" y="5143680"/>
            <a:ext cx="272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228760" y="5143680"/>
            <a:ext cx="273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622600" y="5143680"/>
            <a:ext cx="272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048120" y="5143680"/>
            <a:ext cx="272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498840" y="5143680"/>
            <a:ext cx="273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917880" y="5143680"/>
            <a:ext cx="273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311720" y="5143680"/>
            <a:ext cx="272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724280" y="5143680"/>
            <a:ext cx="273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156280" y="5143680"/>
            <a:ext cx="272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594400" y="5143680"/>
            <a:ext cx="272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019920" y="5143680"/>
            <a:ext cx="272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419880" y="5143680"/>
            <a:ext cx="272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813720" y="5143680"/>
            <a:ext cx="272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238880" y="5143680"/>
            <a:ext cx="273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7677000" y="5143680"/>
            <a:ext cx="273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252200" y="5321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5:25:24Z</dcterms:created>
  <dc:creator>corporate</dc:creator>
  <dc:description/>
  <dc:language>en-US</dc:language>
  <cp:lastModifiedBy>eir5</cp:lastModifiedBy>
  <cp:lastPrinted>2003-04-14T20:04:05Z</cp:lastPrinted>
  <dcterms:modified xsi:type="dcterms:W3CDTF">2003-08-18T21:05:48Z</dcterms:modified>
  <cp:revision>411</cp:revision>
  <dc:subject/>
  <dc:title>PowerPoint Presentation</dc:title>
</cp:coreProperties>
</file>