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media/image27.wmf" ContentType="image/x-wmf"/>
  <Override PartName="/ppt/media/image26.wmf" ContentType="image/x-wmf"/>
  <Override PartName="/ppt/media/image25.wmf" ContentType="image/x-wmf"/>
  <Override PartName="/ppt/media/image6.wmf" ContentType="image/x-wmf"/>
  <Override PartName="/ppt/media/image11.png" ContentType="image/png"/>
  <Override PartName="/ppt/media/image31.wmf" ContentType="image/x-wmf"/>
  <Override PartName="/ppt/media/image12.png" ContentType="image/png"/>
  <Override PartName="/ppt/media/image7.wmf" ContentType="image/x-wmf"/>
  <Override PartName="/ppt/media/image3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8.wmf" ContentType="image/x-wmf"/>
  <Override PartName="/ppt/media/image5.wmf" ContentType="image/x-wmf"/>
  <Override PartName="/ppt/media/image10.png" ContentType="image/png"/>
  <Override PartName="/ppt/media/image30.wmf" ContentType="image/x-wmf"/>
  <Override PartName="/ppt/media/image4.png" ContentType="image/png"/>
  <Override PartName="/ppt/media/image3.png" ContentType="image/png"/>
  <Override PartName="/ppt/media/image2.png" ContentType="image/png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2220-D3A4-403B-A35A-7CBE2040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3162-DFCF-4C38-9778-D9F3B697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3B9F-C30A-4172-A671-8A512F1C8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D585-875A-4B16-9A3D-ECD2BB03F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5840-D352-4071-8A7C-23E9B0F7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54EB-B956-4ED1-B809-40DF3ED3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CA54-2EB4-4876-8244-FC5604AF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7ED4-AC0A-4F22-A3CD-3A3631AD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3AF2-61C7-4527-A114-4F555D41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5A54-509C-4D1C-B3D7-AA1AE950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2454-C5AB-4391-AA21-086D736F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D2AF-28FB-462F-9450-6BB556DF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7f7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7f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7f7f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7f1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7f7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7f1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7f7f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7f1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7f7f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7f1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7f7f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7f1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7f7f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7f1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7f7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7f7f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7f7f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7f7f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7f7f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AB9F-D540-4442-BE17-410A8921D1C2}" type="slidenum">
              <a:rPr b="0" lang="en-US" sz="1400" spc="-1" strike="noStrike">
                <a:solidFill>
                  <a:srgbClr val="f7f7f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543800" y="457200"/>
          <a:ext cx="1219320" cy="11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457200"/>
                    <a:ext cx="1219320" cy="11556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c70029"/>
                    </a:outerShdw>
                  </a:effectLst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50640"/>
            <a:ext cx="739152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Healthy People 2010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Focus Area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2136240"/>
            <a:ext cx="7772400" cy="23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Diabetes</a:t>
            </a:r>
            <a:endParaRPr b="0" lang="en-US" sz="5400" spc="-1" strike="noStrike">
              <a:solidFill>
                <a:srgbClr val="f7f7f1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rogress Review</a:t>
            </a:r>
            <a:endParaRPr b="0" lang="en-US" sz="4400" spc="-1" strike="noStrike">
              <a:solidFill>
                <a:srgbClr val="f7f7f1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cember 18, 2002</a:t>
            </a:r>
            <a:endParaRPr b="0" lang="en-US" sz="4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391520" y="5334120"/>
          <a:ext cx="11430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91520" y="5334120"/>
                    <a:ext cx="11430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80880" y="457200"/>
            <a:ext cx="1395360" cy="1219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762120" y="5560920"/>
            <a:ext cx="121896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654372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National Vital Statistics System-Mortality, (NVSS-M), CDC,  NCHS.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0" y="1066680"/>
          <a:ext cx="84582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84582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3048120" y="541008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merican Indian/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laska Nativ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163280" y="5408640"/>
            <a:ext cx="89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hite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249600" y="543384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lack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04600" y="543384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73360" y="5433840"/>
            <a:ext cx="782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sian/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acif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slander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351080" y="4421160"/>
            <a:ext cx="6686280" cy="74520"/>
          </a:xfrm>
          <a:custGeom>
            <a:avLst/>
            <a:gdLst/>
            <a:ahLst/>
            <a:rect l="l" t="t" r="r" b="b"/>
            <a:pathLst>
              <a:path w="5218" h="1">
                <a:moveTo>
                  <a:pt x="0" y="0"/>
                </a:moveTo>
                <a:lnTo>
                  <a:pt x="5218" y="0"/>
                </a:lnTo>
                <a:lnTo>
                  <a:pt x="5218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8800" bIns="28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43800" y="419112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8080" y="106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5.  Diabetes-Related Death Rates*: 2000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9720" y="139716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-adjusted death rate per 100,000 standard population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53560" y="549576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otal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-27000" y="6248520"/>
            <a:ext cx="660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Any mention of diabetes on death certificate as underlying or contributing cause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219320"/>
            <a:ext cx="9144000" cy="3045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654372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National Vital Statistics System (NVSS-M), CDC, NCHS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0" y="1295280"/>
          <a:ext cx="84582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4582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4770360" y="5715000"/>
            <a:ext cx="117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hite, not 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57150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lack, not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94920" y="571500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70000" y="2467080"/>
            <a:ext cx="6832440" cy="74520"/>
          </a:xfrm>
          <a:custGeom>
            <a:avLst/>
            <a:gdLst/>
            <a:ahLst/>
            <a:rect l="l" t="t" r="r" b="b"/>
            <a:pathLst>
              <a:path w="5218" h="1">
                <a:moveTo>
                  <a:pt x="0" y="0"/>
                </a:moveTo>
                <a:lnTo>
                  <a:pt x="5218" y="0"/>
                </a:lnTo>
                <a:lnTo>
                  <a:pt x="5218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8800" bIns="28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20120" y="222552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" y="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7.  Cardiovascular Disease Death Rates Among Persons with Diabetes, 2000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31720" y="1623960"/>
            <a:ext cx="413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ge-adjusted death rate per 100,000 standard population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48640" y="571500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otal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02600" y="5715000"/>
            <a:ext cx="7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Females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393680" y="571500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Males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-33120" y="6248520"/>
            <a:ext cx="889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Data for American Indian/Alaska Native and Asian/Pacific Islander are not shown due to small cell sizes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32400" y="1523880"/>
            <a:ext cx="203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ll Cause Deaths in  Persons with Diabetes 820  per 100,00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1371600"/>
            <a:ext cx="2362320" cy="990720"/>
          </a:xfrm>
          <a:prstGeom prst="ellipse">
            <a:avLst/>
          </a:prstGeom>
          <a:noFill/>
          <a:ln w="507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1219320"/>
            <a:ext cx="9144000" cy="3045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0" y="1295280"/>
          <a:ext cx="84582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4582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152280" y="0"/>
            <a:ext cx="899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Projected Increase in Total Heart Disease Deaths Related to Increased Diabetes Prevalence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6000" y="1676520"/>
            <a:ext cx="255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eart Disease Deaths (thousands)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05120" y="2984400"/>
            <a:ext cx="152280" cy="457200"/>
          </a:xfrm>
          <a:custGeom>
            <a:avLst/>
            <a:gdLst>
              <a:gd name="textAreaLeft" fmla="*/ 97200 w 152280"/>
              <a:gd name="textAreaRight" fmla="*/ 152640 w 15228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41360" y="30621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1%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2438280"/>
            <a:ext cx="152280" cy="838440"/>
          </a:xfrm>
          <a:custGeom>
            <a:avLst/>
            <a:gdLst>
              <a:gd name="textAreaLeft" fmla="*/ 0 w 152280"/>
              <a:gd name="textAreaRight" fmla="*/ 55080 w 1522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72400" y="26668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66200" y="2666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9%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714040" y="26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24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219000" y="2133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83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71800" y="1676520"/>
            <a:ext cx="304920" cy="3045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87880" y="1660680"/>
            <a:ext cx="50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ortion of heart disease deaths due to diabetes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6591240"/>
            <a:ext cx="9144000" cy="2667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Unpublished estimates from the National Heart, Lung, and Blood Institute, October 18, 2002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1219320"/>
            <a:ext cx="9144000" cy="3045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6591240"/>
            <a:ext cx="9144000" cy="2667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Unpublished estimates from the National Heart, Lung, and Blood Institute, October 18, 2002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0" y="1295280"/>
          <a:ext cx="84582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4582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152280" y="0"/>
            <a:ext cx="899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Projected Increase in Total Heart Disease Deaths, U.S. Population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4600" y="1623960"/>
            <a:ext cx="255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eart Disease Deaths (thousands)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772400" y="26668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34880" y="5878440"/>
            <a:ext cx="163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valenc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reases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366960" y="5867280"/>
            <a:ext cx="163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valenc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changed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1219320"/>
            <a:ext cx="9144000" cy="3045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6400800"/>
            <a:ext cx="9144000" cy="44784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0" y="1295280"/>
          <a:ext cx="843912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43912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"/>
          <p:cNvSpPr/>
          <p:nvPr/>
        </p:nvSpPr>
        <p:spPr>
          <a:xfrm>
            <a:off x="1206360" y="5372280"/>
            <a:ext cx="6954840" cy="75960"/>
          </a:xfrm>
          <a:custGeom>
            <a:avLst/>
            <a:gdLst/>
            <a:ahLst/>
            <a:rect l="l" t="t" r="r" b="b"/>
            <a:pathLst>
              <a:path w="5218" h="1">
                <a:moveTo>
                  <a:pt x="0" y="0"/>
                </a:moveTo>
                <a:lnTo>
                  <a:pt x="5218" y="0"/>
                </a:lnTo>
                <a:lnTo>
                  <a:pt x="5218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620120" y="504504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" y="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10. Lower Extremity Amputations 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Among Persons with Diabetes, 1998-2000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51880" y="1625760"/>
            <a:ext cx="426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-adjusted rate per 1,000 standard population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01120" y="5715000"/>
            <a:ext cx="5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otal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91640" y="5715000"/>
            <a:ext cx="6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Black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00400" y="5715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White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343400" y="57150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Female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05520" y="5715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le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5880" y="57150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&lt; 65 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781680" y="57150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65-74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391520" y="57150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75+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00800" y="6019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401160" y="6019920"/>
            <a:ext cx="164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ge (not adjusted)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-4320" y="6043680"/>
            <a:ext cx="198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95% confidence interval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6340320"/>
            <a:ext cx="88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Data for American Indians/Alaska Natives, Asian/Pacific Islanders and Hispanics are not shown due to small cell sizes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654372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National Hospital Discharge Survey (NHDS) and National Health Interview Survey (NHIS), CDC, NCHS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114480" y="1143000"/>
          <a:ext cx="891540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1143000"/>
                    <a:ext cx="8915400" cy="5105520"/>
                  </a:xfrm>
                  <a:prstGeom prst="rect">
                    <a:avLst/>
                  </a:prstGeom>
                  <a:ln w="28440">
                    <a:solidFill>
                      <a:srgbClr val="f7f7f1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0" y="380880"/>
            <a:ext cx="9144000" cy="9144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CDC: Behavioral Risk Factor Surveillance Survey (BRFSS), NCCDPHP; National Health Interview Survey (NHIS), National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and Nutrition Examination Survey (NHANES), NCHS. * Target-to-be-determined. **Exceeds total population target (50%)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Diabetes-Related Complications: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Provider Services For Adults with Diabetes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562720" y="5562720"/>
            <a:ext cx="175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Annual Influenza </a:t>
            </a:r>
            <a:endParaRPr b="0" lang="en-US" sz="13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vaccination</a:t>
            </a:r>
            <a:endParaRPr b="0" lang="en-US" sz="13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010280" y="5562720"/>
            <a:ext cx="2133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neumococcal </a:t>
            </a:r>
            <a:endParaRPr b="0" lang="en-US" sz="13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Vaccination (ever)</a:t>
            </a:r>
            <a:endParaRPr b="0" lang="en-US" sz="13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25720" y="534816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ge 18-64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143000" y="1905120"/>
            <a:ext cx="228600" cy="228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819520" y="1905120"/>
            <a:ext cx="228600" cy="228600"/>
          </a:xfrm>
          <a:prstGeom prst="rect">
            <a:avLst/>
          </a:prstGeom>
          <a:solidFill>
            <a:srgbClr val="a8b9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374120" y="1905120"/>
            <a:ext cx="136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Most recent level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21200" y="19051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010 Targe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82640" y="2819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38760" y="3517920"/>
            <a:ext cx="628560" cy="0"/>
          </a:xfrm>
          <a:prstGeom prst="line">
            <a:avLst/>
          </a:prstGeom>
          <a:ln w="28440">
            <a:solidFill>
              <a:srgbClr val="a8b9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6320" y="1508040"/>
            <a:ext cx="167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ge-adjusted percen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495840" y="53481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ge 65+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4343400" y="1904760"/>
            <a:ext cx="0" cy="228600"/>
          </a:xfrm>
          <a:prstGeom prst="line">
            <a:avLst/>
          </a:prstGeom>
          <a:ln w="28440">
            <a:solidFill>
              <a:srgbClr val="4241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6000" y="1905120"/>
            <a:ext cx="12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irection desired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302240" y="534816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ge 18-64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172360" y="53481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ge 65+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23880" y="5562720"/>
            <a:ext cx="228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35880" y="5500800"/>
            <a:ext cx="102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Annual exam</a:t>
            </a:r>
            <a:endParaRPr b="0" lang="en-US" sz="13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1280" y="5486400"/>
            <a:ext cx="682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2 x year</a:t>
            </a:r>
            <a:endParaRPr b="0" lang="en-US" sz="13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7648560" y="3123720"/>
            <a:ext cx="0" cy="1295640"/>
          </a:xfrm>
          <a:prstGeom prst="line">
            <a:avLst/>
          </a:prstGeom>
          <a:ln w="28440">
            <a:solidFill>
              <a:srgbClr val="4241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8486640" y="2133360"/>
            <a:ext cx="0" cy="1066680"/>
          </a:xfrm>
          <a:prstGeom prst="line">
            <a:avLst/>
          </a:prstGeom>
          <a:ln w="28440">
            <a:solidFill>
              <a:srgbClr val="4241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99080" y="60800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581640" y="60800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24280" y="608004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723920" y="608004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88-94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791320" y="60800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928200" y="60800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356200" y="60800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362320" y="6080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91520" y="563868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15000" y="563868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26120" y="31496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61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07240" y="31528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61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2399760" y="316224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6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078800" y="33274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55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76800" y="29844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65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545120" y="24382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83560" y="24382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02560" y="24382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555240" y="19051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736240" y="28796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393680" y="28796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250840" y="19051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98160" y="32004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1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23640" y="39625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36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587280" y="29336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68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12760" y="43876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23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250840" y="32004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6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3448080" y="2666880"/>
            <a:ext cx="0" cy="533520"/>
          </a:xfrm>
          <a:prstGeom prst="line">
            <a:avLst/>
          </a:prstGeom>
          <a:ln w="28440">
            <a:solidFill>
              <a:srgbClr val="4241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4321080" y="3123720"/>
            <a:ext cx="0" cy="228600"/>
          </a:xfrm>
          <a:prstGeom prst="line">
            <a:avLst/>
          </a:prstGeom>
          <a:ln w="28440">
            <a:solidFill>
              <a:srgbClr val="4241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85800" y="6095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276720" y="60958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2638440" y="2666880"/>
            <a:ext cx="0" cy="533520"/>
          </a:xfrm>
          <a:prstGeom prst="line">
            <a:avLst/>
          </a:prstGeom>
          <a:ln w="28440">
            <a:solidFill>
              <a:srgbClr val="4241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878000" y="29718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*</a:t>
            </a:r>
            <a:endParaRPr b="0" lang="en-US" sz="2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115520" y="28954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1828800" y="2666520"/>
            <a:ext cx="0" cy="381240"/>
          </a:xfrm>
          <a:prstGeom prst="line">
            <a:avLst/>
          </a:prstGeom>
          <a:ln w="28440">
            <a:solidFill>
              <a:srgbClr val="3938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994360" y="3149640"/>
            <a:ext cx="0" cy="838080"/>
          </a:xfrm>
          <a:prstGeom prst="line">
            <a:avLst/>
          </a:prstGeom>
          <a:ln w="28440">
            <a:solidFill>
              <a:srgbClr val="4241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6819840" y="2158560"/>
            <a:ext cx="0" cy="762120"/>
          </a:xfrm>
          <a:prstGeom prst="line">
            <a:avLst/>
          </a:prstGeom>
          <a:ln w="28440">
            <a:solidFill>
              <a:srgbClr val="3938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Behavioral Risk Factor Surveillance System (BRFSS), CDC, NCCDPHP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0" y="1295280"/>
          <a:ext cx="84582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4582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2896200" y="5662440"/>
            <a:ext cx="13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merican Indian/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laska Nativ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089840" y="5638680"/>
            <a:ext cx="98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hite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129000" y="566568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lack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04600" y="574200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192560" y="5662440"/>
            <a:ext cx="109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sian/Pacif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slander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8600" y="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12.  A1C Tests: Persons with Diabetes, 2001* 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5040" y="1539720"/>
            <a:ext cx="592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-adjusted percent receiving two or more tests in the past year**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32160" y="625968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Target-to-be-determined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553400" y="566568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otal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-7560" y="6248520"/>
            <a:ext cx="251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41 reporting States and D.C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29680" y="6248520"/>
            <a:ext cx="22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95% confidence interval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380880"/>
            <a:ext cx="9144000" cy="9144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13. Annual Dilated Eye Examinations: 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Persons with Diabetes, by Race/Ethnicity 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0" y="1295280"/>
          <a:ext cx="883908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83908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0" name=""/>
          <p:cNvSpPr/>
          <p:nvPr/>
        </p:nvSpPr>
        <p:spPr>
          <a:xfrm>
            <a:off x="5922720" y="5737320"/>
            <a:ext cx="115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ite, no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spanic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10360" y="5737320"/>
            <a:ext cx="114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ack, no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spanic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15238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10 Targe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8160" y="5813280"/>
            <a:ext cx="66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162920" y="571500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spanic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693960" y="15080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78360" y="15224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219320" y="228600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38560" y="159876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-adjusted percen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29000" y="1544760"/>
            <a:ext cx="228600" cy="228600"/>
          </a:xfrm>
          <a:prstGeom prst="rect">
            <a:avLst/>
          </a:prstGeom>
          <a:solidFill>
            <a:srgbClr val="a8b9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1563840"/>
            <a:ext cx="228600" cy="228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6324480"/>
            <a:ext cx="9601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Data for American Indians/Alaska Natives are for IHS Service Areas. Asian/Pacific Islander data are not  shown due to small cell sizes.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086600" y="1676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-4320" y="6043680"/>
            <a:ext cx="198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95% confidence interval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519280" y="5715000"/>
            <a:ext cx="181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erican Indian/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aska Native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National Health Interview Survey (NHIS), CDC, NCHS, and Indian Health Service. 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654372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Behavioral Risk Factor Surveillance System (BRFSS), CDC, NCCDPHP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0" y="1295280"/>
          <a:ext cx="84582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4582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"/>
          <p:cNvSpPr/>
          <p:nvPr/>
        </p:nvSpPr>
        <p:spPr>
          <a:xfrm>
            <a:off x="2972520" y="5713560"/>
            <a:ext cx="13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merican Indian/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laska Nativ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185600" y="5742000"/>
            <a:ext cx="89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hite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04960" y="574200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lack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228640" y="581508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241880" y="5738760"/>
            <a:ext cx="109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sian/Pacif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slander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620120" y="266688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68440" y="152244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-adjusted percen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380880"/>
            <a:ext cx="9144000" cy="9144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14.  Annual Foot Examinations: 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Persons with Diabetes, 2001* 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706040" y="572436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otal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181160" y="2914560"/>
            <a:ext cx="6934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-7560" y="6248520"/>
            <a:ext cx="251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41 reporting States and D.C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443680" y="6248520"/>
            <a:ext cx="22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95% confidence interval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0" y="1295280"/>
          <a:ext cx="84582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4582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"/>
          <p:cNvSpPr/>
          <p:nvPr/>
        </p:nvSpPr>
        <p:spPr>
          <a:xfrm>
            <a:off x="457200" y="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Provider Services Utilization:  Persons with Diabetes by Education Level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2240" y="167652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-adjusted percen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220400" y="5742000"/>
            <a:ext cx="81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1C Tes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 x year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943600" y="56833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Ey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343400" y="57150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Dental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248240" y="5710320"/>
            <a:ext cx="889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Diabetes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Education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(1999)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71800" y="5715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Fo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076640" y="5918040"/>
            <a:ext cx="26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nnual Exam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871720" y="6172200"/>
            <a:ext cx="340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278720" y="6172200"/>
            <a:ext cx="60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(2001)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715000" y="1676520"/>
            <a:ext cx="304920" cy="3045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8120" y="1676520"/>
            <a:ext cx="304560" cy="304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352680" y="167652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s than high school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41880" y="1676520"/>
            <a:ext cx="241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least some college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873040" y="6172200"/>
            <a:ext cx="60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(1999)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00200" y="68389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267080" y="617220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(2000)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898000" y="6172200"/>
            <a:ext cx="60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(2001)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s: CDC: Behavioral Risk Factor Surveillance Survey (BRFSS), NCCDPHP; National Health Interview Survey (NHIS), </a:t>
            </a:r>
            <a:endParaRPr b="0" lang="en-US" sz="10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tional Health and Nutrition Examination Survey (NHANES), NCHS.</a:t>
            </a:r>
            <a:endParaRPr b="0" lang="en-US" sz="10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-74520" y="627372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95% confidence interval</a:t>
            </a:r>
            <a:endParaRPr b="0" lang="en-US" sz="8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228600" y="0"/>
            <a:ext cx="967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7f1"/>
                </a:solidFill>
                <a:latin typeface="Times New Roman"/>
              </a:rPr>
              <a:t>Diabetes Model</a:t>
            </a:r>
            <a:endParaRPr b="0" lang="en-US" sz="2800" spc="-1" strike="noStrike">
              <a:solidFill>
                <a:srgbClr val="f7f7f1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486400" y="3519360"/>
            <a:ext cx="3549600" cy="3283920"/>
            <a:chOff x="5486400" y="3519360"/>
            <a:chExt cx="3549600" cy="3283920"/>
          </a:xfrm>
        </p:grpSpPr>
        <p:grpSp>
          <p:nvGrpSpPr>
            <p:cNvPr id="53" name=""/>
            <p:cNvGrpSpPr/>
            <p:nvPr/>
          </p:nvGrpSpPr>
          <p:grpSpPr>
            <a:xfrm>
              <a:off x="5486400" y="3519360"/>
              <a:ext cx="3549600" cy="3283920"/>
              <a:chOff x="5486400" y="3519360"/>
              <a:chExt cx="3549600" cy="3283920"/>
            </a:xfrm>
          </p:grpSpPr>
          <p:sp>
            <p:nvSpPr>
              <p:cNvPr id="54" name=""/>
              <p:cNvSpPr/>
              <p:nvPr/>
            </p:nvSpPr>
            <p:spPr>
              <a:xfrm>
                <a:off x="5759280" y="4032360"/>
                <a:ext cx="3276720" cy="277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Related Deaths Per Year: 200,000 +</a:t>
                </a:r>
                <a:endParaRPr b="0" lang="en-US" sz="1600" spc="-1" strike="noStrike">
                  <a:solidFill>
                    <a:srgbClr val="f7f7f1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7f7f1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Reduced Life Expectancy: 5-15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years</a:t>
                </a:r>
                <a:endParaRPr b="0" lang="en-US" sz="1400" spc="-1" strike="noStrike">
                  <a:solidFill>
                    <a:srgbClr val="f7f7f1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7f7f1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Medicare: 25% of Costs</a:t>
                </a:r>
                <a:endParaRPr b="0" lang="en-US" sz="1600" spc="-1" strike="noStrike">
                  <a:solidFill>
                    <a:srgbClr val="f7f7f1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7f7f1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Estimated Annual Costs: </a:t>
                </a:r>
                <a:endParaRPr b="0" lang="en-US" sz="1600" spc="-1" strike="noStrike">
                  <a:solidFill>
                    <a:srgbClr val="f7f7f1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~ $100 billion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</a:rPr>
                  <a:t>(direct and indirect)</a:t>
                </a:r>
                <a:endParaRPr b="0" lang="en-US" sz="1200" spc="-1" strike="noStrike">
                  <a:solidFill>
                    <a:srgbClr val="f7f7f1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                    </a:t>
                </a:r>
                <a:endParaRPr b="0" lang="en-US" sz="1600" spc="-1" strike="noStrike">
                  <a:solidFill>
                    <a:srgbClr val="f7f7f1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7f7f1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7f7f1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541920" y="3519360"/>
                <a:ext cx="1533960" cy="36828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7f7f1"/>
                    </a:solidFill>
                    <a:latin typeface="Times New Roman"/>
                  </a:rPr>
                  <a:t>Societal Costs</a:t>
                </a:r>
                <a:endParaRPr b="0" lang="en-US" sz="1800" spc="-1" strike="noStrike">
                  <a:solidFill>
                    <a:srgbClr val="f7f7f1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486400" y="441972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7f7f1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791320" y="3886200"/>
              <a:ext cx="2971800" cy="2666880"/>
            </a:xfrm>
            <a:prstGeom prst="rect">
              <a:avLst/>
            </a:prstGeom>
            <a:noFill/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276720" y="3048120"/>
            <a:ext cx="2209680" cy="3714480"/>
            <a:chOff x="3276720" y="3048120"/>
            <a:chExt cx="2209680" cy="3714480"/>
          </a:xfrm>
        </p:grpSpPr>
        <p:sp>
          <p:nvSpPr>
            <p:cNvPr id="59" name=""/>
            <p:cNvSpPr/>
            <p:nvPr/>
          </p:nvSpPr>
          <p:spPr>
            <a:xfrm>
              <a:off x="3276720" y="3429000"/>
              <a:ext cx="2209680" cy="3333600"/>
            </a:xfrm>
            <a:prstGeom prst="rect">
              <a:avLst/>
            </a:prstGeom>
            <a:noFill/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Acute Complications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Amputations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Birth Defects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Blindness/Eye Disease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Dental Disease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Flu &amp; Pneumonia-Related Deaths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Heart Disease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High Blood Pressure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Kidney Disease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Pregnancy Complications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Nervous System Damage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troke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30520" y="3162240"/>
              <a:ext cx="1752840" cy="3373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7f7f1"/>
                  </a:solidFill>
                  <a:latin typeface="Times New Roman"/>
                </a:rPr>
                <a:t>Increase risk for:</a:t>
              </a:r>
              <a:endParaRPr b="0" lang="en-US" sz="16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343400" y="3048120"/>
              <a:ext cx="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486040" y="2286000"/>
            <a:ext cx="3619800" cy="933480"/>
            <a:chOff x="5486040" y="2286000"/>
            <a:chExt cx="3619800" cy="933480"/>
          </a:xfrm>
        </p:grpSpPr>
        <p:sp>
          <p:nvSpPr>
            <p:cNvPr id="63" name=""/>
            <p:cNvSpPr/>
            <p:nvPr/>
          </p:nvSpPr>
          <p:spPr>
            <a:xfrm>
              <a:off x="5791320" y="2286000"/>
              <a:ext cx="1600200" cy="9144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f7f7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elf-management </a:t>
              </a:r>
              <a:endParaRPr b="0" lang="en-US" sz="16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of Diabetes</a:t>
              </a:r>
              <a:endParaRPr b="0" lang="en-US" sz="16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601040" y="2286000"/>
              <a:ext cx="1504800" cy="9334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f7f7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ovider</a:t>
              </a:r>
              <a:endParaRPr b="0" lang="en-US" sz="16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ervices </a:t>
              </a:r>
              <a:endParaRPr b="0" lang="en-US" sz="16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91520" y="2743200"/>
              <a:ext cx="228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5486040" y="267984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0" y="2286000"/>
            <a:ext cx="5486400" cy="914400"/>
            <a:chOff x="0" y="2286000"/>
            <a:chExt cx="5486400" cy="914400"/>
          </a:xfrm>
        </p:grpSpPr>
        <p:sp>
          <p:nvSpPr>
            <p:cNvPr id="68" name=""/>
            <p:cNvSpPr/>
            <p:nvPr/>
          </p:nvSpPr>
          <p:spPr>
            <a:xfrm>
              <a:off x="0" y="2286000"/>
              <a:ext cx="1219320" cy="9144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f7f7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eneral </a:t>
              </a:r>
              <a:endParaRPr b="0" lang="en-US" sz="18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endParaRPr b="0" lang="en-US" sz="18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7920" y="2286000"/>
              <a:ext cx="1371600" cy="9144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f7f7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e-diabetes</a:t>
              </a:r>
              <a:endParaRPr b="0" lang="en-US" sz="18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16 million persons) 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31920" y="2717640"/>
              <a:ext cx="228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70280" y="270504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00400" y="2286000"/>
              <a:ext cx="2286000" cy="7621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f7f7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7f7f1"/>
                  </a:solidFill>
                  <a:latin typeface="Times New Roman"/>
                </a:rPr>
                <a:t>Diagnosed Diabetes</a:t>
              </a:r>
              <a:endParaRPr b="0" lang="en-US" sz="18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7f7f1"/>
                  </a:solidFill>
                  <a:latin typeface="Times New Roman"/>
                </a:rPr>
                <a:t>Undiagnosed Diabetes</a:t>
              </a:r>
              <a:endParaRPr b="0" lang="en-US" sz="18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52280" y="990720"/>
            <a:ext cx="8534520" cy="1295280"/>
            <a:chOff x="152280" y="990720"/>
            <a:chExt cx="8534520" cy="1295280"/>
          </a:xfrm>
        </p:grpSpPr>
        <p:sp>
          <p:nvSpPr>
            <p:cNvPr id="74" name=""/>
            <p:cNvSpPr/>
            <p:nvPr/>
          </p:nvSpPr>
          <p:spPr>
            <a:xfrm>
              <a:off x="4343400" y="2057400"/>
              <a:ext cx="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152280" y="990720"/>
              <a:ext cx="8534520" cy="1295280"/>
              <a:chOff x="152280" y="990720"/>
              <a:chExt cx="8534520" cy="129528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152280" y="990720"/>
                <a:ext cx="8534520" cy="1066680"/>
                <a:chOff x="152280" y="990720"/>
                <a:chExt cx="8534520" cy="10666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019920" y="990720"/>
                  <a:ext cx="2666880" cy="533160"/>
                </a:xfrm>
                <a:prstGeom prst="rect">
                  <a:avLst/>
                </a:prstGeom>
                <a:solidFill>
                  <a:srgbClr val="dee4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revention of</a:t>
                  </a:r>
                  <a:endParaRPr b="0" lang="en-US" sz="1400" spc="-1" strike="noStrike">
                    <a:solidFill>
                      <a:srgbClr val="f7f7f1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iabetes-Related Complications</a:t>
                  </a:r>
                  <a:endParaRPr b="0" lang="en-US" sz="1400" spc="-1" strike="noStrike">
                    <a:solidFill>
                      <a:srgbClr val="f7f7f1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152280" y="990720"/>
                  <a:ext cx="2667240" cy="533160"/>
                </a:xfrm>
                <a:prstGeom prst="rect">
                  <a:avLst/>
                </a:prstGeom>
                <a:solidFill>
                  <a:srgbClr val="dee4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revention of</a:t>
                  </a:r>
                  <a:endParaRPr b="0" lang="en-US" sz="1400" spc="-1" strike="noStrike">
                    <a:solidFill>
                      <a:srgbClr val="f7f7f1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iabetes</a:t>
                  </a:r>
                  <a:endParaRPr b="0" lang="en-US" sz="1400" spc="-1" strike="noStrike">
                    <a:solidFill>
                      <a:srgbClr val="f7f7f1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581280" y="1066680"/>
                  <a:ext cx="1524240" cy="990720"/>
                </a:xfrm>
                <a:prstGeom prst="rect">
                  <a:avLst/>
                </a:prstGeom>
                <a:solidFill>
                  <a:srgbClr val="a8b987"/>
                </a:solidFill>
                <a:ln w="12600">
                  <a:solidFill>
                    <a:srgbClr val="f7f7f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7f7f1"/>
                      </a:solidFill>
                      <a:latin typeface="Times New Roman"/>
                    </a:rPr>
                    <a:t>Physical Activity</a:t>
                  </a:r>
                  <a:endParaRPr b="0" lang="en-US" sz="1600" spc="-1" strike="noStrike">
                    <a:solidFill>
                      <a:srgbClr val="f7f7f1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7f7f1"/>
                      </a:solidFill>
                      <a:latin typeface="Times New Roman"/>
                    </a:rPr>
                    <a:t>Nutrition</a:t>
                  </a:r>
                  <a:endParaRPr b="0" lang="en-US" sz="1600" spc="-1" strike="noStrike">
                    <a:solidFill>
                      <a:srgbClr val="f7f7f1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7f7f1"/>
                      </a:solidFill>
                      <a:latin typeface="Times New Roman"/>
                    </a:rPr>
                    <a:t>Healthy Weight</a:t>
                  </a:r>
                  <a:endParaRPr b="0" lang="en-US" sz="1600" spc="-1" strike="noStrike">
                    <a:solidFill>
                      <a:srgbClr val="f7f7f1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7f7f1"/>
                      </a:solidFill>
                      <a:latin typeface="Times New Roman"/>
                    </a:rPr>
                    <a:t>Access</a:t>
                  </a:r>
                  <a:endParaRPr b="0" lang="en-US" sz="1600" spc="-1" strike="noStrike">
                    <a:solidFill>
                      <a:srgbClr val="f7f7f1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flipH="1">
                  <a:off x="2666520" y="1676520"/>
                  <a:ext cx="8384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7f7f1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181480" y="1676520"/>
                  <a:ext cx="8384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7f7f1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" name=""/>
              <p:cNvSpPr/>
              <p:nvPr/>
            </p:nvSpPr>
            <p:spPr>
              <a:xfrm flipH="1">
                <a:off x="609120" y="1523880"/>
                <a:ext cx="38124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7f7f1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828800" y="1523880"/>
                <a:ext cx="30492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7f7f1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924680" y="1523880"/>
                <a:ext cx="38124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7f7f1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6552720" y="1523880"/>
                <a:ext cx="38124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7f7f1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0" y="380880"/>
            <a:ext cx="9144000" cy="9144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6496200"/>
            <a:ext cx="9144000" cy="3618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CDC: Behavioral Risk Factor Surveillance System (BRFSS), NCCDPHP;  National Health and Nutrition Examination Survey 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HANES), and National Health Interview Survey (NHIS), NCHS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219320"/>
          <a:ext cx="891540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89154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Diabetes-Related Complications: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Self-Management of Diabetes: Adults with Diabetes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60" y="5638680"/>
            <a:ext cx="129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elf monitoring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lood glucos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7721640" y="3822480"/>
            <a:ext cx="0" cy="609480"/>
          </a:xfrm>
          <a:prstGeom prst="line">
            <a:avLst/>
          </a:prstGeom>
          <a:ln w="28440">
            <a:solidFill>
              <a:srgbClr val="4241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362320" y="1400040"/>
            <a:ext cx="228600" cy="228600"/>
          </a:xfrm>
          <a:prstGeom prst="rect">
            <a:avLst/>
          </a:prstGeom>
          <a:solidFill>
            <a:srgbClr val="a8b9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633760" y="137160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 Targe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86200" y="1401840"/>
            <a:ext cx="228600" cy="228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056840" y="137160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t recent level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5943600" y="1371240"/>
            <a:ext cx="0" cy="304920"/>
          </a:xfrm>
          <a:prstGeom prst="line">
            <a:avLst/>
          </a:prstGeom>
          <a:ln w="28440">
            <a:solidFill>
              <a:srgbClr val="4241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965920" y="1371600"/>
            <a:ext cx="165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rection desired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3581280" y="2590920"/>
            <a:ext cx="0" cy="1752480"/>
          </a:xfrm>
          <a:prstGeom prst="line">
            <a:avLst/>
          </a:prstGeom>
          <a:ln w="28440">
            <a:solidFill>
              <a:srgbClr val="4241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1434960" y="1955520"/>
            <a:ext cx="0" cy="228600"/>
          </a:xfrm>
          <a:prstGeom prst="line">
            <a:avLst/>
          </a:prstGeom>
          <a:ln w="28440">
            <a:solidFill>
              <a:srgbClr val="4241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219320" y="1650960"/>
            <a:ext cx="59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469640" y="35053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412240" y="16765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354840" y="22860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129320" y="21193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57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469640" y="44197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2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6280" y="49528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12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76720" y="4406760"/>
            <a:ext cx="59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21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00280" y="62164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143000" y="620244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001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262320" y="6195960"/>
            <a:ext cx="7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00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010280" y="61722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394040" y="6172200"/>
            <a:ext cx="87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88-1994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-74880" y="13953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ge-adjusted percent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5638680" y="1980720"/>
            <a:ext cx="0" cy="2971800"/>
          </a:xfrm>
          <a:prstGeom prst="line">
            <a:avLst/>
          </a:prstGeom>
          <a:ln w="28440">
            <a:solidFill>
              <a:srgbClr val="3938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95480" y="621036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81480" y="6172200"/>
            <a:ext cx="119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99-200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084640" y="61722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0" y="654372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Behavioral Risk Factor Surveillance System (BRFSS), CDC, NCCDPHP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0" y="1295280"/>
          <a:ext cx="84582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4582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"/>
          <p:cNvSpPr/>
          <p:nvPr/>
        </p:nvSpPr>
        <p:spPr>
          <a:xfrm>
            <a:off x="2905920" y="5730840"/>
            <a:ext cx="13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merican Indian/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laska Nativ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113960" y="5740560"/>
            <a:ext cx="89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hite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173280" y="573876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lack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228640" y="573876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165560" y="5738760"/>
            <a:ext cx="109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sian/Pacif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slander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077840" y="2914560"/>
            <a:ext cx="6942240" cy="362160"/>
          </a:xfrm>
          <a:custGeom>
            <a:avLst/>
            <a:gdLst/>
            <a:ahLst/>
            <a:rect l="l" t="t" r="r" b="b"/>
            <a:pathLst>
              <a:path w="5218" h="1">
                <a:moveTo>
                  <a:pt x="0" y="0"/>
                </a:moveTo>
                <a:lnTo>
                  <a:pt x="5218" y="0"/>
                </a:lnTo>
                <a:lnTo>
                  <a:pt x="5218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620120" y="266688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68440" y="152244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-adjusted percen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380880"/>
            <a:ext cx="9144000" cy="9144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17.  Self-Blood Glucose Monitoring: 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Persons with Diabetes , 2001* 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553400" y="571032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otal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-7560" y="6248520"/>
            <a:ext cx="251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41 reporting States and D.C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443680" y="6248520"/>
            <a:ext cx="22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95% confidence interval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654372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National Health and Nutrition Examination Survey (NHANES), CDC, NCHS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0" y="1219320"/>
          <a:ext cx="84582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84582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4" name=""/>
          <p:cNvSpPr/>
          <p:nvPr/>
        </p:nvSpPr>
        <p:spPr>
          <a:xfrm>
            <a:off x="2863080" y="5575320"/>
            <a:ext cx="102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Black, not 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432920" y="5591160"/>
            <a:ext cx="64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les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467400" y="5591160"/>
            <a:ext cx="84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Females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725000" y="5562720"/>
            <a:ext cx="93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exican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merican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14920" y="5575320"/>
            <a:ext cx="98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White, no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84320" y="2533680"/>
            <a:ext cx="7068960" cy="103320"/>
          </a:xfrm>
          <a:custGeom>
            <a:avLst/>
            <a:gdLst/>
            <a:ahLst/>
            <a:rect l="l" t="t" r="r" b="b"/>
            <a:pathLst>
              <a:path w="5218" h="1">
                <a:moveTo>
                  <a:pt x="0" y="0"/>
                </a:moveTo>
                <a:lnTo>
                  <a:pt x="5218" y="0"/>
                </a:lnTo>
                <a:lnTo>
                  <a:pt x="5218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848720" y="228600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80880" y="-7632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16.  Aspirin Therapy*: Persons with Diabetes,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Age 40 years and Over, 1988-94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14520" y="149220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-adjusted percen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401120" y="5611680"/>
            <a:ext cx="5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otal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-14400" y="6265800"/>
            <a:ext cx="374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Took aspirin at least 15 times in past month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662640" y="6248520"/>
            <a:ext cx="22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95% confidence interval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National Health Interview Survey (NHIS), National Health and Nutrition Examination Survey (NHANES), CDC, NCHS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0" y="936720"/>
          <a:ext cx="876312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36720"/>
                    <a:ext cx="876312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9" name=""/>
          <p:cNvSpPr/>
          <p:nvPr/>
        </p:nvSpPr>
        <p:spPr>
          <a:xfrm>
            <a:off x="1146600" y="5330880"/>
            <a:ext cx="168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oderate physical 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ctivity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8560" y="126360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-adjusted percen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858000" y="531648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igh blood pressure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55440" y="530532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Obesity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895480" y="1219320"/>
            <a:ext cx="304920" cy="3045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486400" y="1219320"/>
            <a:ext cx="304920" cy="304560"/>
          </a:xfrm>
          <a:prstGeom prst="rect">
            <a:avLst/>
          </a:prstGeom>
          <a:solidFill>
            <a:srgbClr val="a8b9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146400" y="121932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s with diabetes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37320" y="121932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s without diabetes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201120" y="5334120"/>
            <a:ext cx="13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ealthy weigh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371600" y="5943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32240" y="59436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67120" y="59436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88-94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Selected Risk Factors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40" y="6248520"/>
            <a:ext cx="22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95% confidence interval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238880" y="5943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76720" y="5943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374000" y="594360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9-200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0" y="936720"/>
          <a:ext cx="876312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36720"/>
                    <a:ext cx="876312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" name=""/>
          <p:cNvSpPr/>
          <p:nvPr/>
        </p:nvSpPr>
        <p:spPr>
          <a:xfrm>
            <a:off x="1146600" y="5330880"/>
            <a:ext cx="168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oderate physical 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ctivity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8560" y="126360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-adjusted percen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858000" y="531648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igh blood pressure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455440" y="530532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Obesity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895480" y="1219320"/>
            <a:ext cx="304920" cy="3045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486400" y="1219320"/>
            <a:ext cx="30492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146400" y="121932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s with diabetes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737320" y="121932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s without diabetes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01120" y="5334120"/>
            <a:ext cx="13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ealthy weigh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371600" y="5943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632240" y="59436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467120" y="59436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88-94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2286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Selected Risk Factors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040" y="6248520"/>
            <a:ext cx="22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95% confidence interval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238880" y="5943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276720" y="5943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374000" y="594360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9-200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National Health Interview Survey (NHIS), National Health and Nutrition Examination Survey (NHANES), CDC, NCHS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0" y="380880"/>
            <a:ext cx="9144000" cy="9144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654372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National Health and Nutrition Examination Survey (NHANES), CDC, NCHS.  *Body Mass Index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3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19-2.  Obesity*: Adults Age 20 and Over,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by Race/Ethnicity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-228600" y="1447920"/>
          <a:ext cx="883908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1447920"/>
                    <a:ext cx="883908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7" name=""/>
          <p:cNvSpPr/>
          <p:nvPr/>
        </p:nvSpPr>
        <p:spPr>
          <a:xfrm>
            <a:off x="5237640" y="586440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hite, not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204000" y="5864400"/>
            <a:ext cx="107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lack, not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172200" y="1676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10 Targe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78360" y="5940360"/>
            <a:ext cx="6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otal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934320" y="586728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xican American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048120" y="1676520"/>
            <a:ext cx="380880" cy="304560"/>
          </a:xfrm>
          <a:prstGeom prst="rect">
            <a:avLst/>
          </a:prstGeom>
          <a:solidFill>
            <a:srgbClr val="a6c084"/>
          </a:solidFill>
          <a:ln w="9360">
            <a:solidFill>
              <a:srgbClr val="f7f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572000" y="1676520"/>
            <a:ext cx="380880" cy="304560"/>
          </a:xfrm>
          <a:prstGeom prst="rect">
            <a:avLst/>
          </a:prstGeom>
          <a:solidFill>
            <a:srgbClr val="993366"/>
          </a:solidFill>
          <a:ln w="9360">
            <a:solidFill>
              <a:srgbClr val="f7f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431160" y="166068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88-94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955040" y="1674720"/>
            <a:ext cx="11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9-2000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429680" y="18478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47600" y="467676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62240" y="175104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-adjusted percen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040" y="6248520"/>
            <a:ext cx="22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95% confidence interval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0" y="533520"/>
            <a:ext cx="9144000" cy="759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-171360" y="609480"/>
          <a:ext cx="937260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1360" y="609480"/>
                    <a:ext cx="937260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3" name=""/>
          <p:cNvSpPr/>
          <p:nvPr/>
        </p:nvSpPr>
        <p:spPr>
          <a:xfrm flipH="1">
            <a:off x="316800" y="1066680"/>
            <a:ext cx="303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-adjusted percent 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600200" y="6610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0" y="6324480"/>
            <a:ext cx="9144000" cy="60984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Obesity is Body Mass Index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30.  Obesity data for 1976-80 are for ages 20-74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National Health and Nutrition Examination Survey, CDC, NCHS.  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839160" y="4221000"/>
            <a:ext cx="7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(1976-80)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3800" y="3611520"/>
            <a:ext cx="7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(1988-94)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620840" y="30020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(1999-2000)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066680" y="4191120"/>
            <a:ext cx="92160" cy="91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1155600" y="3581280"/>
            <a:ext cx="4724640" cy="635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696080" y="5638680"/>
            <a:ext cx="990720" cy="3070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00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715000" y="5638680"/>
            <a:ext cx="990720" cy="3070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95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038480" y="5638680"/>
            <a:ext cx="990720" cy="3070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9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311560" y="5664240"/>
            <a:ext cx="990360" cy="3070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85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96880" y="5664240"/>
            <a:ext cx="990720" cy="3070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8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880240" y="3517920"/>
            <a:ext cx="91800" cy="92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305920" y="2819520"/>
            <a:ext cx="91800" cy="91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5943600" y="2832120"/>
            <a:ext cx="2425680" cy="736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-228600"/>
            <a:ext cx="9144000" cy="76212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80880" y="-1224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Obesity Prevalence: Adults Age 20 and Over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0" y="762120"/>
            <a:ext cx="9144000" cy="759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-177840" y="789120"/>
          <a:ext cx="9321840" cy="538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7840" y="789120"/>
                    <a:ext cx="9321840" cy="53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"/>
          <p:cNvSpPr/>
          <p:nvPr/>
        </p:nvSpPr>
        <p:spPr>
          <a:xfrm>
            <a:off x="228600" y="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Prevalence of Diagnosed Diabetes : 1980 - 2000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600200" y="68389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Diagnosed diabetes data are 3-year averages. Data from 1997 and later years my not be comparable with earlier years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a redesign of the NHIS in 1997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National Health Interview Survey, CDC, NCHS.  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545400" y="1143000"/>
            <a:ext cx="27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-adjusted percen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696080" y="5867280"/>
            <a:ext cx="990720" cy="3070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00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15000" y="5867280"/>
            <a:ext cx="990720" cy="3070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95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5867280"/>
            <a:ext cx="990720" cy="3070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9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311560" y="5892840"/>
            <a:ext cx="990360" cy="3070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85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96880" y="5892840"/>
            <a:ext cx="990720" cy="3070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8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-228600" y="0"/>
            <a:ext cx="9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Developmental Objectives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28600" y="990720"/>
            <a:ext cx="872496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-08.  Decrease the proportion of pregnant wom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gestational diabetes</a:t>
            </a: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future source, National Vital Statistics System-Natality)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-09.  Reduce frequency of foots ulcers in persons with </a:t>
            </a: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betes </a:t>
            </a: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future source, National Health and Nutrition Examination Survey)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-11.  Increase the proportion of persons with diabetes                   </a:t>
            </a: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obtain an annual urinary albumin   </a:t>
            </a: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ement </a:t>
            </a: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roposed source, Behavioral Risk Factor Surveillance System)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660" name=""/>
          <p:cNvGraphicFramePr/>
          <p:nvPr/>
        </p:nvGraphicFramePr>
        <p:xfrm>
          <a:off x="-76320" y="762120"/>
          <a:ext cx="9220320" cy="60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762120"/>
                    <a:ext cx="922032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2" name=""/>
          <p:cNvSpPr/>
          <p:nvPr/>
        </p:nvSpPr>
        <p:spPr>
          <a:xfrm>
            <a:off x="-228600" y="90360"/>
            <a:ext cx="967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7f1"/>
                </a:solidFill>
                <a:latin typeface="Times New Roman"/>
              </a:rPr>
              <a:t>Projected Diagnosed Diabetes in the U.S.</a:t>
            </a:r>
            <a:endParaRPr b="0" lang="en-US" sz="2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97080" y="1109520"/>
            <a:ext cx="622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jected number of people with diagnosed diabetes (millions)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429000" y="190512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pulation growth assumption*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352680" y="2286000"/>
            <a:ext cx="609840" cy="0"/>
          </a:xfrm>
          <a:prstGeom prst="line">
            <a:avLst/>
          </a:prstGeom>
          <a:ln w="12600">
            <a:solidFill>
              <a:srgbClr val="f7f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505320" y="2286000"/>
            <a:ext cx="5331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505320" y="2514600"/>
            <a:ext cx="533160" cy="0"/>
          </a:xfrm>
          <a:prstGeom prst="line">
            <a:avLst/>
          </a:prstGeom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505320" y="2743200"/>
            <a:ext cx="53316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00040" y="213372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114800" y="236232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115880" y="259092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-32400" y="6172200"/>
            <a:ext cx="592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All population projections assume increasing diabetes prevalence rates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05120" y="42670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orted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543800" y="16765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ed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133720" y="5867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523880" y="5715000"/>
            <a:ext cx="762120" cy="30492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066680" y="5638680"/>
            <a:ext cx="1143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 Narrow"/>
              </a:rPr>
              <a:t>1975</a:t>
            </a:r>
            <a:endParaRPr b="0" lang="en-US" sz="19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438280" y="44956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8001000" y="190512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0" y="6486480"/>
            <a:ext cx="9144000" cy="3715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s: U.S. Census Bureau, National Health Interview Survey (NHIS), CDC, NCHS.  Boyle et al.  Diabetes Care,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. 24, No.11, November 2001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1143000"/>
          <a:ext cx="84582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4582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3048840" y="5562720"/>
            <a:ext cx="13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merican Indian/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laska Nativ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85600" y="5614920"/>
            <a:ext cx="89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hite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04960" y="566244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lack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4600" y="566244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17840" y="5589720"/>
            <a:ext cx="109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sian/Pacif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slander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66840" y="4932360"/>
            <a:ext cx="6753240" cy="114480"/>
          </a:xfrm>
          <a:custGeom>
            <a:avLst/>
            <a:gdLst/>
            <a:ahLst/>
            <a:rect l="l" t="t" r="r" b="b"/>
            <a:pathLst>
              <a:path w="5218" h="1">
                <a:moveTo>
                  <a:pt x="0" y="0"/>
                </a:moveTo>
                <a:lnTo>
                  <a:pt x="5218" y="0"/>
                </a:lnTo>
                <a:lnTo>
                  <a:pt x="5218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0120" y="464832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600200" y="3438000"/>
            <a:ext cx="426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-adjusted rate per 1,000 standard population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82000" y="566568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otal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76760" y="1219320"/>
            <a:ext cx="57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s with diabetes in the U.S.: 17 million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1.1 million diagnosed + 5.9 million undiagnosed)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40" y="6248520"/>
            <a:ext cx="22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95% confidence interval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3.  Diagnosed Diabetes Prevalence, 2000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54372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National Health Interview Survey (NHIS), CDC, NCHS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0" y="-228600"/>
            <a:ext cx="9144000" cy="5335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654372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962520" y="652140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10 Targe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654372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219320" y="2286000"/>
            <a:ext cx="1371600" cy="152280"/>
          </a:xfrm>
          <a:prstGeom prst="line">
            <a:avLst/>
          </a:prstGeom>
          <a:ln w="9360">
            <a:solidFill>
              <a:srgbClr val="f7f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1523880"/>
            <a:ext cx="883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gress review data and slides</a:t>
            </a:r>
            <a:endParaRPr b="0" lang="en-US" sz="4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n be found on the web at:</a:t>
            </a:r>
            <a:endParaRPr b="0" lang="en-US" sz="4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http://www.cdc.gov/nchs/hphome.htm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95360" y="9907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 numbers in the “Provider Services For Adults with Diabetes” slide are as follows: A1C test (5-12), foot (5-14), dental (5-15), eye (5-13), education (5-1), high blood pressure control (12-10), and </a:t>
            </a: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luenza /pneumococcal vaccination (14-29).</a:t>
            </a: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 numbers in the “Self-management of Diabetes” slide are as follows: self-monitoring blood glucose (5-17), aspirin use (5-16), healthy weight (19-1), and moderate physical activity (22-2).</a:t>
            </a: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 numbers in the “Selected Risk Factors” slide are listed above except for high blood pressure (12-9).</a:t>
            </a: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are age adjusted to the 2000 standard population.  </a:t>
            </a: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merican Indian/Alaska Native and Asian Pacific Islander categories include persons of Hispanic and non-Hispanic origin.</a:t>
            </a: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ons of Hispanic origin may be of any race.</a:t>
            </a: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e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09440" y="838080"/>
          <a:ext cx="880596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440" y="838080"/>
                    <a:ext cx="88059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584280" y="4800600"/>
            <a:ext cx="164880" cy="190440"/>
          </a:xfrm>
          <a:prstGeom prst="rect">
            <a:avLst/>
          </a:prstGeom>
          <a:solidFill>
            <a:srgbClr val="e48a38"/>
          </a:solidFill>
          <a:ln w="9360">
            <a:solidFill>
              <a:srgbClr val="f7f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2730600"/>
            <a:ext cx="215640" cy="190440"/>
          </a:xfrm>
          <a:prstGeom prst="rect">
            <a:avLst/>
          </a:prstGeom>
          <a:solidFill>
            <a:srgbClr val="f7f7f1"/>
          </a:solidFill>
          <a:ln w="9360">
            <a:solidFill>
              <a:srgbClr val="f7f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6560" y="3111480"/>
            <a:ext cx="282600" cy="19044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3530520"/>
            <a:ext cx="215640" cy="19044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962520"/>
            <a:ext cx="215640" cy="19044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4381560"/>
            <a:ext cx="215640" cy="190440"/>
          </a:xfrm>
          <a:prstGeom prst="rect">
            <a:avLst/>
          </a:prstGeom>
          <a:solidFill>
            <a:srgbClr val="e48a38"/>
          </a:solidFill>
          <a:ln w="9360">
            <a:solidFill>
              <a:srgbClr val="f7f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2298600"/>
            <a:ext cx="215640" cy="19044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3048120"/>
            <a:ext cx="1324080" cy="26676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80880"/>
            <a:ext cx="9144000" cy="83844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21160" y="519264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0-44 Years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87640" y="454824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43760" y="407664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45-64 Years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51800" y="302904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65-74 Years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65400" y="324180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75+ Years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6400800"/>
            <a:ext cx="9144000" cy="4827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Note: Data are three-year averages. Data from 1997 and later years my not be comparable with earlier years due to a redesign of the NHIS in 1997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ource: National Health Interview Survey (NHIS), CDC, NCHS.  www.cdc.gov/diabetes/statistics/prev/national/Table8.htm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3.  Prevalence of Diagnosed Diabetes by Age: United States, 1980-1999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5181480"/>
            <a:ext cx="152640" cy="22860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8600" y="515448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8600" y="4743360"/>
            <a:ext cx="336240" cy="26136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8600" y="4324320"/>
            <a:ext cx="336240" cy="26136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2286000"/>
            <a:ext cx="426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0840" y="2666880"/>
            <a:ext cx="41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9000" y="3092400"/>
            <a:ext cx="41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0840" y="3495600"/>
            <a:ext cx="41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8600" y="391968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e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52280" y="838080"/>
          <a:ext cx="693432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8080"/>
                    <a:ext cx="6934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520560" y="4724280"/>
            <a:ext cx="165240" cy="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2730600"/>
            <a:ext cx="21600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3048120"/>
            <a:ext cx="20628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3530520"/>
            <a:ext cx="21600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3886200"/>
            <a:ext cx="21600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4343400"/>
            <a:ext cx="21600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2324160"/>
            <a:ext cx="21600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80880"/>
            <a:ext cx="9144000" cy="83844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70520" y="514368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0-44 years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6960" y="454824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8600" y="37339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45-64 years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42280" y="24192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65-74 years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4200" y="3241800"/>
            <a:ext cx="12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75+ years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400800"/>
            <a:ext cx="9144000" cy="4827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3. Prevalence of Diagnosed Diabetes by Age: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United States, 1980-1999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5181480"/>
            <a:ext cx="152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9920" y="510552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4724280"/>
            <a:ext cx="380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3960" y="4297320"/>
            <a:ext cx="339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2286000"/>
            <a:ext cx="427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2680" y="2666880"/>
            <a:ext cx="41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3086280"/>
            <a:ext cx="41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3840" y="3505320"/>
            <a:ext cx="41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9000" y="388620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705720" y="1616040"/>
          <a:ext cx="8381880" cy="4149720"/>
        </p:xfrm>
        <a:graphic>
          <a:graphicData uri="http://schemas.openxmlformats.org/drawingml/2006/table">
            <a:tbl>
              <a:tblPr/>
              <a:tblGrid>
                <a:gridCol w="407880"/>
                <a:gridCol w="262080"/>
                <a:gridCol w="549000"/>
                <a:gridCol w="716292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28</a:t>
                      </a:r>
                      <a:endParaRPr b="0" lang="en-US" sz="16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</a:t>
                      </a:r>
                      <a:endParaRPr b="0" lang="en-US" sz="16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23</a:t>
                      </a:r>
                      <a:endParaRPr b="0" lang="en-US" sz="16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5</a:t>
                      </a:r>
                      <a:endParaRPr b="0" lang="en-US" sz="16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0</a:t>
                      </a:r>
                      <a:endParaRPr b="0" lang="en-US" sz="16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4</a:t>
                      </a:r>
                      <a:endParaRPr b="0" lang="en-US" sz="16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26</a:t>
                      </a:r>
                      <a:endParaRPr b="0" lang="en-US" sz="16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</a:t>
                      </a:r>
                      <a:endParaRPr b="0" lang="en-US" sz="16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24</a:t>
                      </a:r>
                      <a:endParaRPr b="0" lang="en-US" sz="16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2</a:t>
                      </a:r>
                      <a:endParaRPr b="0" lang="en-US" sz="16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7108920" y="1905120"/>
            <a:ext cx="157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ercent change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42680" y="2220840"/>
            <a:ext cx="883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1980-1996)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804800" y="2220840"/>
            <a:ext cx="883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1997-1999)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86600" y="2438280"/>
            <a:ext cx="1562040" cy="324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86600" y="1905120"/>
            <a:ext cx="1566720" cy="533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6375240"/>
            <a:ext cx="9144000" cy="4827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Note: Data are three-year averages. Data from 1997 and later years my not be comparable with earlier years due to a redesign of the NHIS in 1997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ource: National Health Interview Survey (NHIS), CDC, NCHS.  www.cdc.gov/diabetes/statistics/prev/national/Table8.htm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477120"/>
            <a:ext cx="9144000" cy="3715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-304920" y="838080"/>
          <a:ext cx="922032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838080"/>
                    <a:ext cx="92203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-228600" y="-76320"/>
            <a:ext cx="967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7f1"/>
                </a:solidFill>
                <a:latin typeface="Times New Roman"/>
              </a:rPr>
              <a:t>5-3. Prevalence of Diagnosed Diabetes </a:t>
            </a:r>
            <a:endParaRPr b="0" lang="en-US" sz="28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7f1"/>
                </a:solidFill>
                <a:latin typeface="Times New Roman"/>
              </a:rPr>
              <a:t>by Race/Ethnicity and Gender </a:t>
            </a:r>
            <a:endParaRPr b="0" lang="en-US" sz="2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2286000"/>
            <a:ext cx="609840" cy="0"/>
          </a:xfrm>
          <a:prstGeom prst="line">
            <a:avLst/>
          </a:prstGeom>
          <a:ln w="12600">
            <a:solidFill>
              <a:srgbClr val="f7f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33720" y="5867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7000" y="2162160"/>
            <a:ext cx="137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Black females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7360" y="2878200"/>
            <a:ext cx="12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b195d"/>
                </a:solidFill>
                <a:latin typeface="Arial"/>
              </a:rPr>
              <a:t>Black males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36576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48a38"/>
                </a:solidFill>
                <a:latin typeface="Arial"/>
              </a:rPr>
              <a:t>White  females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99320" y="353376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ff"/>
                </a:solidFill>
                <a:latin typeface="Arial"/>
              </a:rPr>
              <a:t>White males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3809880"/>
            <a:ext cx="0" cy="1526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3733920"/>
            <a:ext cx="0" cy="152280"/>
          </a:xfrm>
          <a:prstGeom prst="line">
            <a:avLst/>
          </a:prstGeom>
          <a:ln w="12600">
            <a:solidFill>
              <a:srgbClr val="11c8e1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6360" y="153972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6360" y="193500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6360" y="236232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6360" y="277344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3230640"/>
            <a:ext cx="32364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4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6360" y="365760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3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6360" y="414504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6360" y="457200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-1539720" y="3108600"/>
            <a:ext cx="353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ge-adjusted rate per 1,000 standard population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3720" y="1752480"/>
            <a:ext cx="147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spanic males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12320" y="2514600"/>
            <a:ext cx="163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70029"/>
                </a:solidFill>
                <a:latin typeface="Arial"/>
              </a:rPr>
              <a:t>Hispanic females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86600" y="1981080"/>
            <a:ext cx="6858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8305920" y="2285640"/>
            <a:ext cx="304560" cy="304920"/>
          </a:xfrm>
          <a:prstGeom prst="line">
            <a:avLst/>
          </a:prstGeom>
          <a:ln w="19080">
            <a:solidFill>
              <a:srgbClr val="c7002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0120" y="2133720"/>
            <a:ext cx="1066680" cy="380880"/>
          </a:xfrm>
          <a:prstGeom prst="ellipse">
            <a:avLst/>
          </a:prstGeom>
          <a:noFill/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6375240"/>
            <a:ext cx="9144000" cy="4827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Note: Data are three-year averages. Data from 1997 and later years my not be comparable with earlier years due to a redesign of the NHIS in 1997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ource: National Health Interview Survey (NHIS), CDC, NCHS.  www.cdc.gov/diabetes/statistics/prev/national/fig4data.htm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0" y="1219320"/>
          <a:ext cx="685800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685800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-228600" y="-76320"/>
            <a:ext cx="967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7f1"/>
                </a:solidFill>
                <a:latin typeface="Times New Roman"/>
              </a:rPr>
              <a:t>5-3. Prevalence of Diagnosed Diabetes </a:t>
            </a:r>
            <a:endParaRPr b="0" lang="en-US" sz="28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7f1"/>
                </a:solidFill>
                <a:latin typeface="Times New Roman"/>
              </a:rPr>
              <a:t>by Race/Ethnicity and Gender </a:t>
            </a:r>
            <a:endParaRPr b="0" lang="en-US" sz="2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52680" y="2286000"/>
            <a:ext cx="609840" cy="0"/>
          </a:xfrm>
          <a:prstGeom prst="line">
            <a:avLst/>
          </a:prstGeom>
          <a:ln w="12600">
            <a:solidFill>
              <a:srgbClr val="f7f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33720" y="5867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69440" y="269712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Black females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69440" y="33829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b195d"/>
                </a:solidFill>
                <a:latin typeface="Arial"/>
              </a:rPr>
              <a:t>Black males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4068720"/>
            <a:ext cx="125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8a38"/>
                </a:solidFill>
                <a:latin typeface="Arial"/>
              </a:rPr>
              <a:t>White  females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4960" y="4038480"/>
            <a:ext cx="107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ff"/>
                </a:solidFill>
                <a:latin typeface="Arial"/>
              </a:rPr>
              <a:t>White males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4267080"/>
            <a:ext cx="0" cy="152640"/>
          </a:xfrm>
          <a:prstGeom prst="line">
            <a:avLst/>
          </a:prstGeom>
          <a:ln w="12600">
            <a:solidFill>
              <a:srgbClr val="e48a3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4191120"/>
            <a:ext cx="0" cy="152280"/>
          </a:xfrm>
          <a:prstGeom prst="line">
            <a:avLst/>
          </a:prstGeom>
          <a:ln w="12600">
            <a:solidFill>
              <a:srgbClr val="11c8e1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59920" y="2168640"/>
            <a:ext cx="133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spanic males 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2320" y="193500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3240" y="231624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3240" y="277344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3240" y="323064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1800" y="3687840"/>
            <a:ext cx="32400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4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3240" y="414504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3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3240" y="460224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3240" y="505944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629400" y="2131920"/>
          <a:ext cx="2286000" cy="2757600"/>
        </p:xfrm>
        <a:graphic>
          <a:graphicData uri="http://schemas.openxmlformats.org/drawingml/2006/table">
            <a:tbl>
              <a:tblPr/>
              <a:tblGrid>
                <a:gridCol w="1016280"/>
                <a:gridCol w="216000"/>
                <a:gridCol w="599040"/>
                <a:gridCol w="454680"/>
              </a:tblGrid>
              <a:tr h="38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female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2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4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panic male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4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male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50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3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panic female   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 male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6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1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1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 female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f7f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7f7f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1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5791320" y="2362320"/>
            <a:ext cx="53316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03840" y="2133720"/>
            <a:ext cx="2235240" cy="236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33240" y="1525680"/>
            <a:ext cx="15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ercent Chang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89160" y="19051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80-96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98640" y="19051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97-99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1289520" y="3893760"/>
            <a:ext cx="305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ge-adjusted rate per 1,000 standard population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92720" y="28954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70029"/>
                </a:solidFill>
                <a:latin typeface="Arial"/>
              </a:rPr>
              <a:t>Hispanic females 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6248160" y="2742840"/>
            <a:ext cx="75960" cy="304920"/>
          </a:xfrm>
          <a:prstGeom prst="line">
            <a:avLst/>
          </a:prstGeom>
          <a:ln w="12600">
            <a:solidFill>
              <a:srgbClr val="c7002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91240" y="1512720"/>
            <a:ext cx="224784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6400800"/>
            <a:ext cx="9144000" cy="4827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Note: Data are three-year averages. Data from 1997 and later years my not be comparable with earlier years due to a redesign of the NHIS in 1997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ource: National Health Interview Survey (NHIS), CDC, NCHS.  www.cdc.gov/diabetes/statistics/prev/national/fig4data.htm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7f7f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7f7f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Image of a key for the figures above.  Links for data figures, sources, methodology and data limitations, and detailed tables follow this figure."/>
          <p:cNvPicPr/>
          <p:nvPr/>
        </p:nvPicPr>
        <p:blipFill>
          <a:blip r:embed="rId1"/>
          <a:stretch/>
        </p:blipFill>
        <p:spPr>
          <a:xfrm>
            <a:off x="2587680" y="5802480"/>
            <a:ext cx="3965400" cy="2174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71160" y="304920"/>
            <a:ext cx="864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-3.  Prevalence of Diagnosed Diabetes, 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ults 18 years and over, by State, United States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520" y="6172200"/>
            <a:ext cx="60300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: 1994: 3-Year Average; 2000: 2-Year Average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Behavioral Risk Factor Surveillance Survey (BRFSS), CDC, NCCDPHP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cdc.gov/diabetes/statistics/prev/state/fig61994and2000.htm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2320" y="21178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42040" y="21178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61920" y="5396040"/>
            <a:ext cx="191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e-adjusted percen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48760" y="5707080"/>
            <a:ext cx="476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4%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62520" y="571500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-4.9%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29200" y="571500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-5.9%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5880" y="571500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+%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28600" y="2452680"/>
            <a:ext cx="4267080" cy="26384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646520" y="2438280"/>
            <a:ext cx="4268880" cy="27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Note: Diagnosed incidence derived from algorithm using age at interview and age at diagnosis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National Health Interview Survey (NHIS), CDC, NCHS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0" y="1295280"/>
          <a:ext cx="84582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4582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2981880" y="5665680"/>
            <a:ext cx="13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merican Indian/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laska Nativ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109280" y="5694480"/>
            <a:ext cx="89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hite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73280" y="566244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lack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28640" y="566568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41880" y="5665680"/>
            <a:ext cx="109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sian/Pacif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slander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52360" y="5154480"/>
            <a:ext cx="6867720" cy="84240"/>
          </a:xfrm>
          <a:custGeom>
            <a:avLst/>
            <a:gdLst/>
            <a:ahLst/>
            <a:rect l="l" t="t" r="r" b="b"/>
            <a:pathLst>
              <a:path w="5218" h="1">
                <a:moveTo>
                  <a:pt x="0" y="0"/>
                </a:moveTo>
                <a:lnTo>
                  <a:pt x="5218" y="0"/>
                </a:lnTo>
                <a:lnTo>
                  <a:pt x="5218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8520" bIns="3852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543800" y="472428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1880" y="1549440"/>
            <a:ext cx="426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-adjusted rate per 1,000 standard population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45480" y="564840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otal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380880"/>
            <a:ext cx="9144000" cy="9144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2.  Diagnosed Diabetes Incidence*: Adults 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Age 18-84, by Race/Ethnicity, 1998-2000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43480" y="2465280"/>
            <a:ext cx="4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*</a:t>
            </a: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60" y="6095880"/>
            <a:ext cx="350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**Unreliable estimate, relative standard error &gt;30%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06240" y="6095880"/>
            <a:ext cx="191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95% confidence interval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18:07:34Z</dcterms:created>
  <dc:creator>emw6</dc:creator>
  <dc:description/>
  <dc:language>en-US</dc:language>
  <cp:lastModifiedBy>aaq2</cp:lastModifiedBy>
  <dcterms:modified xsi:type="dcterms:W3CDTF">2004-06-01T14:17:18Z</dcterms:modified>
  <cp:revision>8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28237001</vt:r8>
  </property>
  <property fmtid="{D5CDD505-2E9C-101B-9397-08002B2CF9AE}" pid="3" name="_AuthorEmail">
    <vt:lpwstr>lug1@cdc.gov</vt:lpwstr>
  </property>
  <property fmtid="{D5CDD505-2E9C-101B-9397-08002B2CF9AE}" pid="4" name="_AuthorEmailDisplayName">
    <vt:lpwstr>Gbetibouo, Leda</vt:lpwstr>
  </property>
  <property fmtid="{D5CDD505-2E9C-101B-9397-08002B2CF9AE}" pid="5" name="_EmailSubject">
    <vt:lpwstr>Diabetes Progress review updated</vt:lpwstr>
  </property>
  <property fmtid="{D5CDD505-2E9C-101B-9397-08002B2CF9AE}" pid="6" name="_ReviewingToolsShownOnce">
    <vt:lpwstr/>
  </property>
</Properties>
</file>