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5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880-A2C8-420F-9D0A-8DBDE69A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658-06FA-4CA0-B3E8-9954B39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24E-ABF9-45B3-88DF-0B4685DC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B25-C978-465C-B949-68F44F5A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984-8155-4327-96FC-48FFBC8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508-DC2C-4045-A230-1452C4B4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B57-6FF5-44A9-8467-983FFF4F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A2E-DF9A-44C9-B5D8-9A60A2D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C34-9A85-4FE2-A2C9-08E4B6E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723-B9FD-4CC4-AA06-8BAAE4A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E4A-B0BC-4947-94A3-5478F4EF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B89-7F05-44F4-BF96-AA6C164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C9CF-0280-4550-BE63-3A819255A5C8}" type="slidenum"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3800" y="457200"/>
          <a:ext cx="12193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219320" cy="1155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70029"/>
                    </a:outerShdw>
                  </a:effectLst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391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ealthy People 2010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ocus Area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2136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Diabetes</a:t>
            </a:r>
            <a:endParaRPr b="0" lang="en-US" sz="5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ess Review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cember 18, 2002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91520" y="533412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33412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57200"/>
            <a:ext cx="139536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62120" y="5560920"/>
            <a:ext cx="121896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-Mortality, (NVSS-M), CDC,  NCHS.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0666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8120" y="54100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3280" y="540864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9600" y="54338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04600" y="54338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360" y="5433840"/>
            <a:ext cx="78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51080" y="4421160"/>
            <a:ext cx="668628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41911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06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5.  Diabetes-Related Death Rates*: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9720" y="139716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3560" y="54957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27000" y="6248520"/>
            <a:ext cx="660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ny mention of diabetes on death certificate as underlying or contributing cause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 (NVSS-M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70360" y="5715000"/>
            <a:ext cx="11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 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7150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94920" y="5715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2467080"/>
            <a:ext cx="683244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2225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7.  Cardiovascular Disease Death Rates Among Persons with Diabetes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1720" y="16239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8640" y="57150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2600" y="57150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3680" y="5715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33120" y="6248520"/>
            <a:ext cx="88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Data for American Indian/Alaska Native and Asian/Pacific Islander are not shown due to small cell siz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2400" y="152388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Cause Deaths in  Persons with Diabetes 820  per 100,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1371600"/>
            <a:ext cx="2362320" cy="990720"/>
          </a:xfrm>
          <a:prstGeom prst="ellipse">
            <a:avLst/>
          </a:prstGeom>
          <a:noFill/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 Related to Increased Diabetes Prevalence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6000" y="167652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98440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1360" y="3062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24382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6200" y="2666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4040" y="26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4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19000" y="2133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3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87880" y="1660680"/>
            <a:ext cx="50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rtion of heart disease deaths due to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, U.S. Population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600" y="162396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4880" y="587844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66960" y="586728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hang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400800"/>
            <a:ext cx="9144000" cy="4478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1295280"/>
          <a:ext cx="84391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39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206360" y="5372280"/>
            <a:ext cx="6954840" cy="759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50450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0. Lower Extremity Amputation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mong Persons with Diabetes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1880" y="162576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01120" y="5715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1640" y="5715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&lt; 65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65-7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75+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01160" y="60199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e (not adjusted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340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ata for American Indians/Alaska Natives, Asian/Pacific Islanders and Hispanics are not shown due to small cell size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ational Hospital Discharge Survey (NHDS) and National Health Interview Survey (NHI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4480" y="1143000"/>
          <a:ext cx="8915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143000"/>
                    <a:ext cx="8915400" cy="5105520"/>
                  </a:xfrm>
                  <a:prstGeom prst="rect">
                    <a:avLst/>
                  </a:prstGeom>
                  <a:ln w="28440">
                    <a:solidFill>
                      <a:srgbClr val="f7f7f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National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Nutrition Examination Survey (NHANES), NCHS. * Target-to-be-determined. **Exceeds total population target (50%)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For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556272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Influenza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556272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neumococcal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 (ever)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572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90512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190512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4120" y="1905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1200" y="1905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26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38760" y="3517920"/>
            <a:ext cx="628560" cy="0"/>
          </a:xfrm>
          <a:prstGeom prst="line">
            <a:avLst/>
          </a:prstGeom>
          <a:ln w="28440">
            <a:solidFill>
              <a:srgbClr val="a8b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150804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9584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343400" y="190476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190512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rection desired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0224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7236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562720"/>
            <a:ext cx="22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880" y="5500800"/>
            <a:ext cx="102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5486400"/>
            <a:ext cx="68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48560" y="3123720"/>
            <a:ext cx="0" cy="129564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486640" y="2133360"/>
            <a:ext cx="0" cy="10666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9908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64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6080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3920" y="60800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800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28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6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080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56386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56386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6120" y="314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7240" y="31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99760" y="3162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8800" y="3327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76800" y="2984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4512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83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2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52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3624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368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508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9816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3640" y="3962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87280" y="2933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12760" y="4387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5084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4808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21080" y="31237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095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095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3844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78000" y="2971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15520" y="2895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828800" y="2666520"/>
            <a:ext cx="0" cy="38124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94360" y="3149640"/>
            <a:ext cx="0" cy="8380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819840" y="2158560"/>
            <a:ext cx="0" cy="76212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896200" y="56624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5638680"/>
            <a:ext cx="9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9000" y="566568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04600" y="5742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2560" y="566244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2.  A1C Tests: 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5040" y="1539720"/>
            <a:ext cx="59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percent receiving two or more tests in the past year**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2160" y="62596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Target-to-be-determined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534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9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3. Annual Dilated Eye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by Race/Ethnicity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129528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5922720" y="573732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0360" y="573732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ck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52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8160" y="5813280"/>
            <a:ext cx="6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57150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93960" y="1508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78360" y="1522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22860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5987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154476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1563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324480"/>
            <a:ext cx="960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for American Indians/Alaska Natives are for IHS Service Areas. Asian/Pacific Islander data are not  shown due to small cell sizes.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1676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9280" y="571500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Indian/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ska Nativ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CDC, NCHS, and Indian Health Service.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2972520" y="571356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85600" y="574200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04960" y="574200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28640" y="5815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4188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4.  Annual Foot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06040" y="57243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81160" y="291456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Utilization:  Persons with Diabetes by Education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2240" y="16765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20400" y="574200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1C Tes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5683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y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5715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48240" y="5710320"/>
            <a:ext cx="88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iabetes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571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76640" y="5918040"/>
            <a:ext cx="26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1720" y="6172200"/>
            <a:ext cx="340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872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1676520"/>
            <a:ext cx="304920" cy="304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1676520"/>
            <a:ext cx="3045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16765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high schoo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41880" y="167652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some colleg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7304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61722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0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800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Health and Nutrition Examination Survey (NHANES), NCHS.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-74520" y="627372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95% confidence interval</a:t>
            </a:r>
            <a:endParaRPr b="0" lang="en-US" sz="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Diabetes Model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3519360"/>
            <a:ext cx="3549600" cy="3283920"/>
            <a:chOff x="5486400" y="3519360"/>
            <a:chExt cx="3549600" cy="3283920"/>
          </a:xfrm>
        </p:grpSpPr>
        <p:grpSp>
          <p:nvGrpSpPr>
            <p:cNvPr id="53" name=""/>
            <p:cNvGrpSpPr/>
            <p:nvPr/>
          </p:nvGrpSpPr>
          <p:grpSpPr>
            <a:xfrm>
              <a:off x="5486400" y="3519360"/>
              <a:ext cx="3549600" cy="3283920"/>
              <a:chOff x="5486400" y="3519360"/>
              <a:chExt cx="3549600" cy="3283920"/>
            </a:xfrm>
          </p:grpSpPr>
          <p:sp>
            <p:nvSpPr>
              <p:cNvPr id="54" name=""/>
              <p:cNvSpPr/>
              <p:nvPr/>
            </p:nvSpPr>
            <p:spPr>
              <a:xfrm>
                <a:off x="5759280" y="4032360"/>
                <a:ext cx="3276720" cy="27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lated Deaths Per Year: 200,000 +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duced Life Expectancy: 5-15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years</a:t>
                </a:r>
                <a:endParaRPr b="0" lang="en-US" sz="14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Medicare: 25% of Costs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stimated Annual Costs: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~ $100 billion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(direct and indirect)</a:t>
                </a:r>
                <a:endParaRPr b="0" lang="en-US" sz="12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                 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541920" y="3519360"/>
                <a:ext cx="1533960" cy="3682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7f7f1"/>
                    </a:solidFill>
                    <a:latin typeface="Times New Roman"/>
                  </a:rPr>
                  <a:t>Societal Costs</a:t>
                </a:r>
                <a:endParaRPr b="0" lang="en-US" sz="18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86400" y="4419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791320" y="3886200"/>
              <a:ext cx="2971800" cy="266688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276720" y="3048120"/>
            <a:ext cx="2209680" cy="3714480"/>
            <a:chOff x="3276720" y="3048120"/>
            <a:chExt cx="2209680" cy="3714480"/>
          </a:xfrm>
        </p:grpSpPr>
        <p:sp>
          <p:nvSpPr>
            <p:cNvPr id="59" name=""/>
            <p:cNvSpPr/>
            <p:nvPr/>
          </p:nvSpPr>
          <p:spPr>
            <a:xfrm>
              <a:off x="3276720" y="3429000"/>
              <a:ext cx="2209680" cy="333360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cute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mput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irth Defect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lindness/Eye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ntal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lu &amp; Pneumonia-Related Death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eart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 Blood Pressur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idney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gnancy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rvous System Damag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rok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30520" y="3162240"/>
              <a:ext cx="1752840" cy="337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7f7f1"/>
                  </a:solidFill>
                  <a:latin typeface="Times New Roman"/>
                </a:rPr>
                <a:t>Increase risk for: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86040" y="2286000"/>
            <a:ext cx="3619800" cy="933480"/>
            <a:chOff x="5486040" y="2286000"/>
            <a:chExt cx="3619800" cy="933480"/>
          </a:xfrm>
        </p:grpSpPr>
        <p:sp>
          <p:nvSpPr>
            <p:cNvPr id="63" name=""/>
            <p:cNvSpPr/>
            <p:nvPr/>
          </p:nvSpPr>
          <p:spPr>
            <a:xfrm>
              <a:off x="5791320" y="2286000"/>
              <a:ext cx="16002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lf-management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f Diabetes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01040" y="2286000"/>
              <a:ext cx="1504800" cy="933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rvices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7432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86040" y="26798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2286000"/>
            <a:ext cx="5486400" cy="914400"/>
            <a:chOff x="0" y="2286000"/>
            <a:chExt cx="5486400" cy="914400"/>
          </a:xfrm>
        </p:grpSpPr>
        <p:sp>
          <p:nvSpPr>
            <p:cNvPr id="68" name=""/>
            <p:cNvSpPr/>
            <p:nvPr/>
          </p:nvSpPr>
          <p:spPr>
            <a:xfrm>
              <a:off x="0" y="2286000"/>
              <a:ext cx="121932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l 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2286000"/>
              <a:ext cx="13716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e-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6 million persons) 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31920" y="271764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0280" y="270504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2286000"/>
              <a:ext cx="2286000" cy="76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Un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280" y="990720"/>
            <a:ext cx="8534520" cy="1295280"/>
            <a:chOff x="152280" y="990720"/>
            <a:chExt cx="8534520" cy="1295280"/>
          </a:xfrm>
        </p:grpSpPr>
        <p:sp>
          <p:nvSpPr>
            <p:cNvPr id="74" name=""/>
            <p:cNvSpPr/>
            <p:nvPr/>
          </p:nvSpPr>
          <p:spPr>
            <a:xfrm>
              <a:off x="4343400" y="205740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52280" y="990720"/>
              <a:ext cx="8534520" cy="1295280"/>
              <a:chOff x="152280" y="990720"/>
              <a:chExt cx="8534520" cy="12952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52280" y="990720"/>
                <a:ext cx="8534520" cy="1066680"/>
                <a:chOff x="152280" y="990720"/>
                <a:chExt cx="8534520" cy="10666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019920" y="990720"/>
                  <a:ext cx="266688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-Related Complication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52280" y="990720"/>
                  <a:ext cx="266724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81280" y="1066680"/>
                  <a:ext cx="1524240" cy="990720"/>
                </a:xfrm>
                <a:prstGeom prst="rect">
                  <a:avLst/>
                </a:prstGeom>
                <a:solidFill>
                  <a:srgbClr val="a8b987"/>
                </a:solidFill>
                <a:ln w="12600">
                  <a:solidFill>
                    <a:srgbClr val="f7f7f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Physical Activity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Nutrition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Healthy Weight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Access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266652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H="1">
                <a:off x="6091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1523880"/>
                <a:ext cx="30492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468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5527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496200"/>
            <a:ext cx="9144000" cy="3618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ystem (BRFSS), NCCDPHP;  National Health and Nutrition Examination Survey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HANES), and National Health Interview Survey (NHIS)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219320"/>
          <a:ext cx="8915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9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f-Management of Diabetes: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60" y="563868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lf monitoring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ood glucos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721640" y="3822480"/>
            <a:ext cx="0" cy="609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140004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33760" y="137160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1401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6840" y="13716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943600" y="1371240"/>
            <a:ext cx="0" cy="3049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65920" y="137160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 desired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581280" y="2590920"/>
            <a:ext cx="0" cy="1752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34960" y="19555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16509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9640" y="3505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224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2286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9320" y="2119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7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69640" y="44197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6280" y="49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6720" y="4406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0280" y="6216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6202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62320" y="619596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0280" y="6172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94040" y="6172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8-19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74880" y="13953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638680" y="1980720"/>
            <a:ext cx="0" cy="297180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62103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617220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84640" y="6172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905920" y="57308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13960" y="574056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73280" y="573876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28640" y="57387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6556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77840" y="2914560"/>
            <a:ext cx="6942240" cy="3621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7.  Self-Blood Glucose Monitoring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 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53400" y="571032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0" y="121932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2863080" y="5575320"/>
            <a:ext cx="102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32920" y="5591160"/>
            <a:ext cx="6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67400" y="559116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5000" y="556272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x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mer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4920" y="5575320"/>
            <a:ext cx="98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4320" y="2533680"/>
            <a:ext cx="7068960" cy="1033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48720" y="2286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-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6.  Aspirin Therapy*: Persons with Diabetes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40 years and Over, 1988-94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4520" y="1492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1120" y="561168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14400" y="62658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ook aspirin at least 15 times in past month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626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  *Body Mass Index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19-2.  Obesity*: Adults Age 20 and Over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by Race/Ethnicity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-228600" y="144792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4792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5237640" y="58644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4000" y="586440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1676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78360" y="5940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34320" y="58672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xican America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8120" y="1676520"/>
            <a:ext cx="380880" cy="304560"/>
          </a:xfrm>
          <a:prstGeom prst="rect">
            <a:avLst/>
          </a:prstGeom>
          <a:solidFill>
            <a:srgbClr val="a6c084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1676520"/>
            <a:ext cx="380880" cy="304560"/>
          </a:xfrm>
          <a:prstGeom prst="rect">
            <a:avLst/>
          </a:prstGeom>
          <a:solidFill>
            <a:srgbClr val="993366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31160" y="16606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5040" y="1674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29680" y="1847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7600" y="467676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240" y="17510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533520"/>
            <a:ext cx="9144000" cy="759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-171360" y="609480"/>
          <a:ext cx="9372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609480"/>
                    <a:ext cx="9372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"/>
          <p:cNvSpPr/>
          <p:nvPr/>
        </p:nvSpPr>
        <p:spPr>
          <a:xfrm flipH="1">
            <a:off x="316800" y="10666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00200" y="6610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6324480"/>
            <a:ext cx="9144000" cy="6098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besity is Body Mass Inde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0.  Obesity data for 1976-80 are for ages 20-74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and Nutrition Examination Survey, CDC, NCHS.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9160" y="4221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76-8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3800" y="36115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88-94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0840" y="30020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99-200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4191120"/>
            <a:ext cx="9216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155600" y="3581280"/>
            <a:ext cx="4724640" cy="635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96080" y="56386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15000" y="56386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56386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311560" y="5664240"/>
            <a:ext cx="99036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96880" y="566424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80240" y="3517920"/>
            <a:ext cx="91800" cy="92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05920" y="2819520"/>
            <a:ext cx="9180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943600" y="2832120"/>
            <a:ext cx="2425680" cy="736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-228600"/>
            <a:ext cx="9144000" cy="7621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0880" y="-122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Obesity Prevalence: Adults Age 20 and Over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-177840" y="789120"/>
          <a:ext cx="9321840" cy="53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789120"/>
                    <a:ext cx="932184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228600" y="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evalence of Diagnosed Diabetes : 1980 -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gnosed diabetes data are 3-year averages. Data from 1997 and later years my not be comparable with earlier year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, CDC, NCHS.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545400" y="1143000"/>
            <a:ext cx="27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960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11560" y="5892840"/>
            <a:ext cx="99036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880" y="589284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-228600" y="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evelopmental Objectiv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990720"/>
            <a:ext cx="87249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8.  Decrease the proportion of pregnant w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gestational diabetes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Vital Statistics System-Natalit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9.  Reduce frequency of foots ulcers in persons with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Health and Nutrition Examination Surve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11.  Increase the proportion of persons with diabetes                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obtain an annual urinary albumin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posed source, Behavioral Risk Factor Surveillance System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-76320" y="762120"/>
          <a:ext cx="92203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2120"/>
                    <a:ext cx="92203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-228600" y="9036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Projected Diagnosed Diabetes in the U.S.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080" y="1109520"/>
            <a:ext cx="62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ed number of people with diagnosed diabetes (millions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ulation growth assumption*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2514600"/>
            <a:ext cx="533160" cy="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05320" y="2743200"/>
            <a:ext cx="5331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040" y="2133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14800" y="23623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15880" y="2590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32400" y="6172200"/>
            <a:ext cx="592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ll population projections assume increasing diabetes prevalence rat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4267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4380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5715000"/>
            <a:ext cx="762120" cy="30492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66680" y="563868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1975</a:t>
            </a:r>
            <a:endParaRPr b="0" lang="en-US" sz="19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4495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001000" y="19051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648648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: U.S. Census Bureau, National Health Interview Survey (NHIS), CDC, NCHS.  Boyle et al.  Diabetes Care,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. 24, No.11, November 2001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14300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8840" y="556272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5600" y="561492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496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4600" y="56624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7840" y="558972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4932360"/>
            <a:ext cx="6753240" cy="11448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4648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600200" y="343800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20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6760" y="121932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s with diabetes in the U.S.: 17 millio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.1 million diagnosed + 5.9 million undiagnosed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Diagnosed Diabetes Prevalence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-22860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62520" y="6521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2286000"/>
            <a:ext cx="1371600" cy="152280"/>
          </a:xfrm>
          <a:prstGeom prst="line">
            <a:avLst/>
          </a:prstGeom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15238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review data and slides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be found on the web at: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tp://www.cdc.gov/nchs/hphome.ht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36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Provider Services For Adults with Diabetes” slide are as follows: A1C test (5-12), foot (5-14), dental (5-15), eye (5-13), education (5-1), high blood pressure control (12-10), and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uenza /pneumococcal vaccination (14-2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f-management of Diabetes” slide are as follows: self-monitoring blood glucose (5-17), aspirin use (5-16), healthy weight (19-1), and moderate physical activity (22-2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ected Risk Factors” slide are listed above except for high blood pressure (12-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re age adjusted to the 2000 standard population. 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merican Indian/Alaska Native and Asian Pacific Islander categories include persons of Hispanic and non-Hispanic origin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s of Hispanic origin may be of any race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9440" y="838080"/>
          <a:ext cx="880596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838080"/>
                    <a:ext cx="88059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84280" y="4800600"/>
            <a:ext cx="16488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730600"/>
            <a:ext cx="215640" cy="190440"/>
          </a:xfrm>
          <a:prstGeom prst="rect">
            <a:avLst/>
          </a:prstGeom>
          <a:solidFill>
            <a:srgbClr val="f7f7f1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" y="3111480"/>
            <a:ext cx="28260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530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962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381560"/>
            <a:ext cx="21564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9860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48120"/>
            <a:ext cx="1324080" cy="2667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1160" y="519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8764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376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1800" y="30290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5400" y="32418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Prevalence of Diagnosed Diabetes by Age: 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81480"/>
            <a:ext cx="152640" cy="22860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600" y="51544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600" y="474336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8600" y="432432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0"/>
            <a:ext cx="42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84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9000" y="30924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840" y="34956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600" y="39196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280" y="838080"/>
          <a:ext cx="69343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6934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20560" y="4724280"/>
            <a:ext cx="16524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7306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048120"/>
            <a:ext cx="20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3052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862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3434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2416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5143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696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8600" y="37339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2280" y="241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4200" y="32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Prevalence of Diagnosed Diabetes by Age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1814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920" y="51055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72428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960" y="4297320"/>
            <a:ext cx="33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0"/>
            <a:ext cx="42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68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0862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40" y="350532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8862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705720" y="1616040"/>
          <a:ext cx="8381880" cy="4149720"/>
        </p:xfrm>
        <a:graphic>
          <a:graphicData uri="http://schemas.openxmlformats.org/drawingml/2006/table">
            <a:tbl>
              <a:tblPr/>
              <a:tblGrid>
                <a:gridCol w="407880"/>
                <a:gridCol w="262080"/>
                <a:gridCol w="549000"/>
                <a:gridCol w="7162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8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6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7108920" y="190512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268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80-1996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480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97-1999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438280"/>
            <a:ext cx="1562040" cy="324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1905120"/>
            <a:ext cx="15667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7712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-304920" y="838080"/>
          <a:ext cx="92203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838080"/>
                    <a:ext cx="92203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7000" y="216216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7360" y="28782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365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99320" y="35337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809880"/>
            <a:ext cx="0" cy="1526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7339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6360" y="15397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36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360" y="23623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36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230640"/>
            <a:ext cx="32364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36576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636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6360" y="4572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1539720" y="3108600"/>
            <a:ext cx="353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3720" y="17524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2320" y="25146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0029"/>
                </a:solidFill>
                <a:latin typeface="Arial"/>
              </a:rPr>
              <a:t>Hispanic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1981080"/>
            <a:ext cx="6858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8305920" y="2285640"/>
            <a:ext cx="304560" cy="304920"/>
          </a:xfrm>
          <a:prstGeom prst="line">
            <a:avLst/>
          </a:prstGeom>
          <a:ln w="19080">
            <a:solidFill>
              <a:srgbClr val="c700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2133720"/>
            <a:ext cx="1066680" cy="380880"/>
          </a:xfrm>
          <a:prstGeom prst="ellipse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219320"/>
          <a:ext cx="68580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6858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26971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69440" y="33829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0687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960" y="40384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267080"/>
            <a:ext cx="0" cy="152640"/>
          </a:xfrm>
          <a:prstGeom prst="line">
            <a:avLst/>
          </a:prstGeom>
          <a:ln w="12600">
            <a:solidFill>
              <a:srgbClr val="e48a3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59920" y="216864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 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32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3240" y="2316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24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240" y="32306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1800" y="3687840"/>
            <a:ext cx="32400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24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240" y="4602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240" y="5059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29400" y="2131920"/>
          <a:ext cx="2286000" cy="2757600"/>
        </p:xfrm>
        <a:graphic>
          <a:graphicData uri="http://schemas.openxmlformats.org/drawingml/2006/table">
            <a:tbl>
              <a:tblPr/>
              <a:tblGrid>
                <a:gridCol w="1016280"/>
                <a:gridCol w="216000"/>
                <a:gridCol w="599040"/>
                <a:gridCol w="454680"/>
              </a:tblGrid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female   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f7f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7f7f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791320" y="236232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3840" y="2133720"/>
            <a:ext cx="223524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3240" y="152568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8916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-96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864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7-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89520" y="389376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8954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0029"/>
                </a:solidFill>
                <a:latin typeface="Arial"/>
              </a:rPr>
              <a:t>Hispanic fe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248160" y="2742840"/>
            <a:ext cx="75960" cy="304920"/>
          </a:xfrm>
          <a:prstGeom prst="line">
            <a:avLst/>
          </a:prstGeom>
          <a:ln w="12600">
            <a:solidFill>
              <a:srgbClr val="c7002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91240" y="1512720"/>
            <a:ext cx="22478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Image of a key for the figures above.  Links for data figures, sources, methodology and data limitations, and detailed tables follow this figure."/>
          <p:cNvPicPr/>
          <p:nvPr/>
        </p:nvPicPr>
        <p:blipFill>
          <a:blip r:embed="rId1"/>
          <a:stretch/>
        </p:blipFill>
        <p:spPr>
          <a:xfrm>
            <a:off x="2587680" y="5802480"/>
            <a:ext cx="3965400" cy="217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71160" y="304920"/>
            <a:ext cx="86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3.  Prevalence of Diagnosed Diabetes,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ults 18 years and over, by State, United Sta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20" y="6172200"/>
            <a:ext cx="60300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1994: 3-Year Average; 2000: 2-Year Avera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Behavioral Risk Factor Surveillance Survey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dc.gov/diabetes/statistics/prev/state/fig61994and2000.htm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232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61920" y="53960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48760" y="5707080"/>
            <a:ext cx="476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4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-4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-5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+%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8600" y="2452680"/>
            <a:ext cx="4267080" cy="2638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646520" y="2438280"/>
            <a:ext cx="4268880" cy="27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Note: Diagnosed incidence derived from algorithm using age at interview and age at diagnosi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981880" y="566568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09280" y="569448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328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8640" y="56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41880" y="566568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2360" y="5154480"/>
            <a:ext cx="6867720" cy="8424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3800" y="47242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880" y="154944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5480" y="5648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2.  Diagnosed Diabetes Incidence*: Adult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18-84, by Race/Ethnicity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43480" y="246528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0" y="609588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**Unreliable estimate, relative standard error &gt;30%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06240" y="6095880"/>
            <a:ext cx="19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8:07:34Z</dcterms:created>
  <dc:creator>emw6</dc:creator>
  <dc:description/>
  <dc:language>en-US</dc:language>
  <cp:lastModifiedBy>aaq2</cp:lastModifiedBy>
  <dcterms:modified xsi:type="dcterms:W3CDTF">2004-06-01T14:17:18Z</dcterms:modified>
  <cp:revision>8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8237001</vt:r8>
  </property>
  <property fmtid="{D5CDD505-2E9C-101B-9397-08002B2CF9AE}" pid="3" name="_AuthorEmail">
    <vt:lpwstr>lug1@cdc.gov</vt:lpwstr>
  </property>
  <property fmtid="{D5CDD505-2E9C-101B-9397-08002B2CF9AE}" pid="4" name="_AuthorEmailDisplayName">
    <vt:lpwstr>Gbetibouo, Leda</vt:lpwstr>
  </property>
  <property fmtid="{D5CDD505-2E9C-101B-9397-08002B2CF9AE}" pid="5" name="_EmailSubject">
    <vt:lpwstr>Diabetes Progress review updated</vt:lpwstr>
  </property>
  <property fmtid="{D5CDD505-2E9C-101B-9397-08002B2CF9AE}" pid="6" name="_ReviewingToolsShownOnce">
    <vt:lpwstr/>
  </property>
</Properties>
</file>