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27.wmf" ContentType="image/x-wmf"/>
  <Override PartName="/ppt/media/image6.wmf" ContentType="image/x-wmf"/>
  <Override PartName="/ppt/media/image11.png" ContentType="image/png"/>
  <Override PartName="/ppt/media/image4.png" ContentType="image/png"/>
  <Override PartName="/ppt/media/image12.wmf" ContentType="image/x-wmf"/>
  <Override PartName="/ppt/media/image7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28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F81-199C-4C7B-8ADB-231E640F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5BE-E523-4A46-AE3F-A3038FCC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7CE-D991-4BC0-851B-4A7B0EC4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394-8851-44C2-AFF2-10FE686D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B8D-7796-41B5-A120-25B59D7E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F9B-615C-4441-99BC-1534B10A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CFF-A949-416B-9011-5A14AC5E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EF8-527A-4411-99BF-70B79812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D05-FCAC-4C58-8DEB-E09C7404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3F1-5A59-463D-916E-D9825AC8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B41-3B42-41B8-8039-3A39DB9D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B7C-78BA-4510-B816-C75600E5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f7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7f7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7f7f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7f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f7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5A34-B025-471A-B903-25634A476046}" type="slidenum"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3800" y="457200"/>
          <a:ext cx="121932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57200"/>
                    <a:ext cx="1219320" cy="1155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c70029"/>
                    </a:outerShdw>
                  </a:effectLst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3915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ealthy People 2010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ocus Area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2136240"/>
            <a:ext cx="77724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Diabetes</a:t>
            </a:r>
            <a:endParaRPr b="0" lang="en-US" sz="5400" spc="-1" strike="noStrike">
              <a:solidFill>
                <a:srgbClr val="f7f7f1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gress Review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cember 18, 2002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391520" y="5334120"/>
          <a:ext cx="1143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533412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Hhslogo%20B%20copy" descr=""/>
          <p:cNvPicPr/>
          <p:nvPr/>
        </p:nvPicPr>
        <p:blipFill>
          <a:blip r:embed="rId5"/>
          <a:stretch/>
        </p:blipFill>
        <p:spPr>
          <a:xfrm>
            <a:off x="380880" y="457200"/>
            <a:ext cx="139536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62120" y="5560920"/>
            <a:ext cx="121896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Vital Statistics System-Mortality, (NVSS-M), CDC,  NCHS.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0" y="10666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048120" y="54100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3280" y="540864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9600" y="54338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04600" y="543384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73360" y="5433840"/>
            <a:ext cx="78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51080" y="4421160"/>
            <a:ext cx="6686280" cy="745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41911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106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5.  Diabetes-Related Death Rates*: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9720" y="139716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death rate per 100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3560" y="549576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27000" y="6248520"/>
            <a:ext cx="660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Any mention of diabetes on death certificate as underlying or contributing cause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Vital Statistics System (NVSS-M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770360" y="5715000"/>
            <a:ext cx="117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 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7150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94920" y="571500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70000" y="2467080"/>
            <a:ext cx="6832440" cy="745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22255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7.  Cardiovascular Disease Death Rates Among Persons with Diabetes,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1720" y="16239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death rate per 100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8640" y="57150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2600" y="571500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93680" y="57150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33120" y="6248520"/>
            <a:ext cx="88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Data for American Indian/Alaska Native and Asian/Pacific Islander are not shown due to small cell size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2400" y="152388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 Cause Deaths in  Persons with Diabetes 820  per 100,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1371600"/>
            <a:ext cx="2362320" cy="990720"/>
          </a:xfrm>
          <a:prstGeom prst="ellipse">
            <a:avLst/>
          </a:prstGeom>
          <a:noFill/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15228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jected Increase in Total Heart Disease Deaths Related to Increased Diabetes Prevalence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6000" y="1676520"/>
            <a:ext cx="25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eart Disease Deaths (thousands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2984400"/>
            <a:ext cx="152280" cy="457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41360" y="30621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1%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24382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6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66200" y="2666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9%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14040" y="26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4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19000" y="2133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3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1676520"/>
            <a:ext cx="304920" cy="304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87880" y="1660680"/>
            <a:ext cx="50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rtion of heart disease deaths due to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91240"/>
            <a:ext cx="9144000" cy="266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Unpublished estimates from the National Heart, Lung, and Blood Institute, October 18, 2002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6591240"/>
            <a:ext cx="9144000" cy="266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Unpublished estimates from the National Heart, Lung, and Blood Institute, October 18, 2002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152280" y="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jected Increase in Total Heart Disease Deaths, U.S. Population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4600" y="1623960"/>
            <a:ext cx="255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eart Disease Deaths (thousands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26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4880" y="5878440"/>
            <a:ext cx="163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66960" y="5867280"/>
            <a:ext cx="163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chang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219320"/>
            <a:ext cx="9144000" cy="3045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6400800"/>
            <a:ext cx="9144000" cy="4478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1295280"/>
          <a:ext cx="843912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39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1206360" y="5372280"/>
            <a:ext cx="6954840" cy="7596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0120" y="504504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0. Lower Extremity Amputations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mong Persons with Diabetes, 1998-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1880" y="162576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01120" y="571500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1640" y="5715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lack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it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emal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l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&lt; 65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8168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65-74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91520" y="5715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75+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6019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01160" y="601992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ge (not adjusted)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4320" y="6043680"/>
            <a:ext cx="198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6340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ata for American Indians/Alaska Natives, Asian/Pacific Islanders and Hispanics are not shown due to small cell size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ational Hospital Discharge Survey (NHDS) and National Health Interview Survey (NHI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14480" y="1143000"/>
          <a:ext cx="89154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143000"/>
                    <a:ext cx="8915400" cy="5105520"/>
                  </a:xfrm>
                  <a:prstGeom prst="rect">
                    <a:avLst/>
                  </a:prstGeom>
                  <a:ln w="28440">
                    <a:solidFill>
                      <a:srgbClr val="f7f7f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CDC: Behavioral Risk Factor Surveillance Survey (BRFSS), NCCDPHP; National Health Interview Survey (NHIS), National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Nutrition Examination Survey (NHANES), NCHS. * Target-to-be-determined. **Exceeds total population target (50%)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iabetes-Related Complications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vider Services For Adults with Diabe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556272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Annual Influenza 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vaccination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10280" y="556272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neumococcal 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Vaccination (ever)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5720" y="53481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18-64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190512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190512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4120" y="1905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ost recent leve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1200" y="19051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10 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264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38760" y="3517920"/>
            <a:ext cx="628560" cy="0"/>
          </a:xfrm>
          <a:prstGeom prst="line">
            <a:avLst/>
          </a:prstGeom>
          <a:ln w="28440">
            <a:solidFill>
              <a:srgbClr val="a8b9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320" y="150804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percen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95840" y="53481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65+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343400" y="190476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6000" y="190512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rection desired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02240" y="53481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18-64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72360" y="53481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 65+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5562720"/>
            <a:ext cx="228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35880" y="5500800"/>
            <a:ext cx="1020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Annual exam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5486400"/>
            <a:ext cx="68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2 x year</a:t>
            </a:r>
            <a:endParaRPr b="0" lang="en-US" sz="13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48560" y="3123720"/>
            <a:ext cx="0" cy="129564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486640" y="2133360"/>
            <a:ext cx="0" cy="10666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9908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64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6080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3920" y="60800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608004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2820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56200" y="6080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6080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1520" y="563868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563868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6120" y="314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07240" y="31528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399760" y="31622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78800" y="33274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5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76800" y="2984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4512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8356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2560" y="243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5240" y="1905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36240" y="287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93680" y="2879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50840" y="1905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98160" y="3200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23640" y="3962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36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87280" y="2933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8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12760" y="43876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50840" y="3200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448080" y="2666880"/>
            <a:ext cx="0" cy="5335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321080" y="312372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6095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6095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638440" y="2666880"/>
            <a:ext cx="0" cy="5335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78000" y="2971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15520" y="28954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828800" y="2666520"/>
            <a:ext cx="0" cy="38124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94360" y="3149640"/>
            <a:ext cx="0" cy="8380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819840" y="2158560"/>
            <a:ext cx="0" cy="76212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2896200" y="566244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5638680"/>
            <a:ext cx="9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29000" y="566568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04600" y="574200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92560" y="566244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2.  A1C Tests: Persons with Diabetes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5040" y="1539720"/>
            <a:ext cx="592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percent receiving two or more tests in the past year**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2160" y="62596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Target-to-be-determined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53400" y="566568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29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3. Annual Dilated Eye Examinations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, by Race/Ethnicity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1295280"/>
          <a:ext cx="883908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83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5922720" y="573732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te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10360" y="573732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ack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523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8160" y="5813280"/>
            <a:ext cx="66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57150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93960" y="1508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78360" y="15224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22860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8560" y="159876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154476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156384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6324480"/>
            <a:ext cx="960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Data for American Indians/Alaska Natives are for IHS Service Areas. Asian/Pacific Islander data are not  shown due to small cell sizes.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86600" y="1676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4320" y="6043680"/>
            <a:ext cx="198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9280" y="5715000"/>
            <a:ext cx="181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Indian/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ska Nativ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CDC, NCHS, and Indian Health Service.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2972520" y="571356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85600" y="574200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04960" y="574200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228640" y="58150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41880" y="5738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0120" y="26668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8440" y="15224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4.  Annual Foot Examinations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06040" y="572436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81160" y="291456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43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rovider Services Utilization:  Persons with Diabetes by Education Level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2240" y="167652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20400" y="5742000"/>
            <a:ext cx="8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1C Tes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 x year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43600" y="5683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y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43400" y="57150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48240" y="5710320"/>
            <a:ext cx="88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iabetes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duc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1999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5715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76640" y="5918040"/>
            <a:ext cx="26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nnual Exam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71720" y="6172200"/>
            <a:ext cx="340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7872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1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1676520"/>
            <a:ext cx="304920" cy="304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1676520"/>
            <a:ext cx="304560" cy="304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16765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high schoo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41880" y="167652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east some colleg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7304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1999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0200" y="68389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7080" y="61722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0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8000" y="617220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2001)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CDC: Behavioral Risk Factor Surveillance Survey (BRFSS), NCCDPHP; National Health Interview Survey (NHIS), </a:t>
            </a:r>
            <a:endParaRPr b="0" lang="en-US" sz="10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Health and Nutrition Examination Survey (NHANES), NCHS.</a:t>
            </a:r>
            <a:endParaRPr b="0" lang="en-US" sz="1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-74520" y="6273720"/>
            <a:ext cx="144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95% confidence interval</a:t>
            </a:r>
            <a:endParaRPr b="0" lang="en-US" sz="8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28600" y="0"/>
            <a:ext cx="9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Diabetes Model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486400" y="3519360"/>
            <a:ext cx="3549600" cy="3283920"/>
            <a:chOff x="5486400" y="3519360"/>
            <a:chExt cx="3549600" cy="3283920"/>
          </a:xfrm>
        </p:grpSpPr>
        <p:grpSp>
          <p:nvGrpSpPr>
            <p:cNvPr id="53" name=""/>
            <p:cNvGrpSpPr/>
            <p:nvPr/>
          </p:nvGrpSpPr>
          <p:grpSpPr>
            <a:xfrm>
              <a:off x="5486400" y="3519360"/>
              <a:ext cx="3549600" cy="3283920"/>
              <a:chOff x="5486400" y="3519360"/>
              <a:chExt cx="3549600" cy="3283920"/>
            </a:xfrm>
          </p:grpSpPr>
          <p:sp>
            <p:nvSpPr>
              <p:cNvPr id="54" name=""/>
              <p:cNvSpPr/>
              <p:nvPr/>
            </p:nvSpPr>
            <p:spPr>
              <a:xfrm>
                <a:off x="5759280" y="4032360"/>
                <a:ext cx="3276720" cy="277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Related Deaths Per Year: 200,000 +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Reduced Life Expectancy: 5-15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years</a:t>
                </a:r>
                <a:endParaRPr b="0" lang="en-US" sz="14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Medicare: 25% of Costs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Estimated Annual Costs: 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~ $100 billion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</a:rPr>
                  <a:t>(direct and indirect)</a:t>
                </a:r>
                <a:endParaRPr b="0" lang="en-US" sz="12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                    </a:t>
                </a: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541920" y="3519360"/>
                <a:ext cx="1533960" cy="36828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7f7f1"/>
                    </a:solidFill>
                    <a:latin typeface="Times New Roman"/>
                  </a:rPr>
                  <a:t>Societal Costs</a:t>
                </a:r>
                <a:endParaRPr b="0" lang="en-US" sz="18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486400" y="4419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791320" y="3886200"/>
              <a:ext cx="2971800" cy="2666880"/>
            </a:xfrm>
            <a:prstGeom prst="rect">
              <a:avLst/>
            </a:prstGeom>
            <a:noFill/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276720" y="3048120"/>
            <a:ext cx="2209680" cy="3714480"/>
            <a:chOff x="3276720" y="3048120"/>
            <a:chExt cx="2209680" cy="3714480"/>
          </a:xfrm>
        </p:grpSpPr>
        <p:sp>
          <p:nvSpPr>
            <p:cNvPr id="59" name=""/>
            <p:cNvSpPr/>
            <p:nvPr/>
          </p:nvSpPr>
          <p:spPr>
            <a:xfrm>
              <a:off x="3276720" y="3429000"/>
              <a:ext cx="2209680" cy="3333600"/>
            </a:xfrm>
            <a:prstGeom prst="rect">
              <a:avLst/>
            </a:prstGeom>
            <a:noFill/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cute Complic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mput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irth Defect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lindness/Eye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ental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lu &amp; Pneumonia-Related Death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eart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 Blood Pressur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Kidney Diseas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egnancy Complications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ervous System Damag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roke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30520" y="3162240"/>
              <a:ext cx="1752840" cy="337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7f7f1"/>
                  </a:solidFill>
                  <a:latin typeface="Times New Roman"/>
                </a:rPr>
                <a:t>Increase risk for: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43400" y="3048120"/>
              <a:ext cx="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486040" y="2286000"/>
            <a:ext cx="3619800" cy="933480"/>
            <a:chOff x="5486040" y="2286000"/>
            <a:chExt cx="3619800" cy="933480"/>
          </a:xfrm>
        </p:grpSpPr>
        <p:sp>
          <p:nvSpPr>
            <p:cNvPr id="63" name=""/>
            <p:cNvSpPr/>
            <p:nvPr/>
          </p:nvSpPr>
          <p:spPr>
            <a:xfrm>
              <a:off x="5791320" y="2286000"/>
              <a:ext cx="160020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lf-management 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f Diabetes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01040" y="2286000"/>
              <a:ext cx="1504800" cy="933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rvices </a:t>
              </a: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1520" y="27432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486040" y="267984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0" y="2286000"/>
            <a:ext cx="5486400" cy="914400"/>
            <a:chOff x="0" y="2286000"/>
            <a:chExt cx="5486400" cy="914400"/>
          </a:xfrm>
        </p:grpSpPr>
        <p:sp>
          <p:nvSpPr>
            <p:cNvPr id="68" name=""/>
            <p:cNvSpPr/>
            <p:nvPr/>
          </p:nvSpPr>
          <p:spPr>
            <a:xfrm>
              <a:off x="0" y="2286000"/>
              <a:ext cx="121932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neral 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7920" y="2286000"/>
              <a:ext cx="1371600" cy="914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e-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6 million persons) </a:t>
              </a:r>
              <a:endParaRPr b="0" lang="en-US" sz="12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31920" y="271764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70280" y="270504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400" y="2286000"/>
              <a:ext cx="2286000" cy="762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f7f7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f7f1"/>
                  </a:solidFill>
                  <a:latin typeface="Times New Roman"/>
                </a:rPr>
                <a:t>Diagnosed 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f7f1"/>
                  </a:solidFill>
                  <a:latin typeface="Times New Roman"/>
                </a:rPr>
                <a:t>Undiagnosed Diabetes</a:t>
              </a:r>
              <a:endParaRPr b="0" lang="en-US" sz="18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2280" y="990720"/>
            <a:ext cx="8534520" cy="1295280"/>
            <a:chOff x="152280" y="990720"/>
            <a:chExt cx="8534520" cy="1295280"/>
          </a:xfrm>
        </p:grpSpPr>
        <p:sp>
          <p:nvSpPr>
            <p:cNvPr id="74" name=""/>
            <p:cNvSpPr/>
            <p:nvPr/>
          </p:nvSpPr>
          <p:spPr>
            <a:xfrm>
              <a:off x="4343400" y="205740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f7f1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52280" y="990720"/>
              <a:ext cx="8534520" cy="1295280"/>
              <a:chOff x="152280" y="990720"/>
              <a:chExt cx="8534520" cy="129528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152280" y="990720"/>
                <a:ext cx="8534520" cy="1066680"/>
                <a:chOff x="152280" y="990720"/>
                <a:chExt cx="8534520" cy="10666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019920" y="990720"/>
                  <a:ext cx="2666880" cy="533160"/>
                </a:xfrm>
                <a:prstGeom prst="rect">
                  <a:avLst/>
                </a:prstGeom>
                <a:solidFill>
                  <a:srgbClr val="dee4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evention of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iabetes-Related Complications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52280" y="990720"/>
                  <a:ext cx="2667240" cy="533160"/>
                </a:xfrm>
                <a:prstGeom prst="rect">
                  <a:avLst/>
                </a:prstGeom>
                <a:solidFill>
                  <a:srgbClr val="dee4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evention of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iabetes</a:t>
                  </a:r>
                  <a:endParaRPr b="0" lang="en-US" sz="1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581280" y="1066680"/>
                  <a:ext cx="1524240" cy="990720"/>
                </a:xfrm>
                <a:prstGeom prst="rect">
                  <a:avLst/>
                </a:prstGeom>
                <a:solidFill>
                  <a:srgbClr val="a8b987"/>
                </a:solidFill>
                <a:ln w="12600">
                  <a:solidFill>
                    <a:srgbClr val="f7f7f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Physical Activity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Nutrition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Healthy Weight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7f7f1"/>
                      </a:solidFill>
                      <a:latin typeface="Times New Roman"/>
                    </a:rPr>
                    <a:t>Access</a:t>
                  </a:r>
                  <a:endParaRPr b="0" lang="en-US" sz="16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H="1">
                  <a:off x="2666520" y="1676520"/>
                  <a:ext cx="83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1676520"/>
                  <a:ext cx="83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7f7f1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 flipH="1">
                <a:off x="60912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28800" y="1523880"/>
                <a:ext cx="30492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92468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552720" y="1523880"/>
                <a:ext cx="38124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7f7f1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6496200"/>
            <a:ext cx="9144000" cy="3618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CDC: Behavioral Risk Factor Surveillance System (BRFSS), NCCDPHP;  National Health and Nutrition Examination Survey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HANES), and National Health Interview Survey (NHIS)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219320"/>
          <a:ext cx="89154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9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iabetes-Related Complications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f-Management of Diabetes: Adults with Diabe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60" y="5638680"/>
            <a:ext cx="129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elf monitoring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ood glucos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7721640" y="3822480"/>
            <a:ext cx="0" cy="6094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1400040"/>
            <a:ext cx="228600" cy="22860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33760" y="137160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1401840"/>
            <a:ext cx="228600" cy="228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56840" y="13716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recent leve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943600" y="1371240"/>
            <a:ext cx="0" cy="30492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65920" y="137160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 desired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581280" y="2590920"/>
            <a:ext cx="0" cy="175248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434960" y="1955520"/>
            <a:ext cx="0" cy="228600"/>
          </a:xfrm>
          <a:prstGeom prst="line">
            <a:avLst/>
          </a:prstGeom>
          <a:ln w="28440">
            <a:solidFill>
              <a:srgbClr val="4241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19320" y="165096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69640" y="35053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2240" y="1676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4840" y="2286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29320" y="21193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57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469640" y="44197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6280" y="49528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12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76720" y="440676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f7f1"/>
                </a:solidFill>
                <a:latin typeface="Arial"/>
              </a:rPr>
              <a:t>21%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0280" y="62164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62024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1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62320" y="619596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10280" y="6172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94040" y="617220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8-19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74880" y="13953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-adjusted percent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638680" y="1980720"/>
            <a:ext cx="0" cy="2971800"/>
          </a:xfrm>
          <a:prstGeom prst="line">
            <a:avLst/>
          </a:prstGeom>
          <a:ln w="28440">
            <a:solidFill>
              <a:srgbClr val="3938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95480" y="62103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81480" y="6172200"/>
            <a:ext cx="11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84640" y="6172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Behavioral Risk Factor Surveillance System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2905920" y="573084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113960" y="574056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73280" y="573876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28640" y="573876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65560" y="573876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77840" y="2914560"/>
            <a:ext cx="6942240" cy="36216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0120" y="26668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68440" y="15224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7.  Self-Blood Glucose Monitoring: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Persons with Diabetes , 2001*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53400" y="571032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-7560" y="6248520"/>
            <a:ext cx="25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41 reporting States and D.C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4368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and Nutrition Examination Survey (NHANE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0" y="121932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2863080" y="5575320"/>
            <a:ext cx="102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lack, not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32920" y="5591160"/>
            <a:ext cx="64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l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67400" y="5591160"/>
            <a:ext cx="8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emal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25000" y="5562720"/>
            <a:ext cx="93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exican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merican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4920" y="5575320"/>
            <a:ext cx="98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84320" y="2533680"/>
            <a:ext cx="7068960" cy="10332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848720" y="22860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880" y="-763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16.  Aspirin Therapy*: Persons with Diabetes,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ge 40 years and Over, 1988-94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4520" y="14922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01120" y="561168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14400" y="6265800"/>
            <a:ext cx="37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Took aspirin at least 15 times in past month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626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National Health and Nutrition Examination Survey (NHANE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0" y="936720"/>
          <a:ext cx="876312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720"/>
                    <a:ext cx="8763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1146600" y="5330880"/>
            <a:ext cx="168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derate physical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tiv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8560" y="12636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0" y="53164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gh blood pressur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55440" y="53053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es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95480" y="1219320"/>
            <a:ext cx="304920" cy="304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86400" y="1219320"/>
            <a:ext cx="304920" cy="304560"/>
          </a:xfrm>
          <a:prstGeom prst="rect">
            <a:avLst/>
          </a:prstGeom>
          <a:solidFill>
            <a:srgbClr val="a8b9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46400" y="12193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37320" y="121932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out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01120" y="53341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ealthy weigh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32240" y="5943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6712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ected Risk Factor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76720" y="5943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74000" y="5943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0" y="936720"/>
          <a:ext cx="876312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720"/>
                    <a:ext cx="8763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1146600" y="5330880"/>
            <a:ext cx="168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derate physical 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tiv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8560" y="126360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0" y="531648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igh blood pressure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55440" y="53053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bes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1219320"/>
            <a:ext cx="304920" cy="304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1219320"/>
            <a:ext cx="30492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46400" y="12193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37320" y="121932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s without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01120" y="53341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ealthy weigh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32240" y="5943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6712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Selected Risk Factor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5943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276720" y="5943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74000" y="5943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 (NHIS), National Health and Nutrition Examination Survey (NHANES), CDC, NCHS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and Nutrition Examination Survey (NHANES), CDC, NCHS.  *Body Mass Index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19-2.  Obesity*: Adults Age 20 and Over,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by Race/Ethnicity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-228600" y="1447920"/>
          <a:ext cx="883908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447920"/>
                    <a:ext cx="88390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5237640" y="58644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4000" y="5864400"/>
            <a:ext cx="10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72200" y="1676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78360" y="59403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34320" y="58672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xican American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48120" y="1676520"/>
            <a:ext cx="380880" cy="304560"/>
          </a:xfrm>
          <a:prstGeom prst="rect">
            <a:avLst/>
          </a:prstGeom>
          <a:solidFill>
            <a:srgbClr val="a6c084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1676520"/>
            <a:ext cx="380880" cy="304560"/>
          </a:xfrm>
          <a:prstGeom prst="rect">
            <a:avLst/>
          </a:prstGeom>
          <a:solidFill>
            <a:srgbClr val="993366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31160" y="16606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8-94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5040" y="16747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-2000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29680" y="1847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47600" y="467676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2240" y="1751040"/>
            <a:ext cx="22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-177840" y="838080"/>
          <a:ext cx="9321840" cy="53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840" y="838080"/>
                    <a:ext cx="9321840" cy="53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457200" y="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Obesity and Diagnosed Diabetes Prevalence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2600" y="1295280"/>
            <a:ext cx="303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percent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00200" y="68389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76320" y="6248520"/>
            <a:ext cx="9144000" cy="60948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gnosed diabetes data are 3-year averages.  Obesity is Body Mass Index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0.  Obesity data for 1976-80 are for ages 20-74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National Health Interview Survey, National Health and Nutrition Examination Survey, CDC, NCHS.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6565320" y="1095480"/>
            <a:ext cx="303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b195d"/>
                </a:solidFill>
                <a:latin typeface="Arial"/>
              </a:rPr>
              <a:t>Age-adjusted rate per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b195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8b195d"/>
                </a:solidFill>
                <a:latin typeface="Arial"/>
              </a:rPr>
              <a:t>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120" y="9144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esity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25160" y="83808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b195d"/>
                </a:solidFill>
                <a:latin typeface="Arial Black"/>
              </a:rPr>
              <a:t>Diagnosed Diabet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75760" y="266688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b195d"/>
                </a:solidFill>
                <a:latin typeface="Arial"/>
              </a:rPr>
              <a:t>Diagnosed Diabetes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7680" y="3581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39160" y="44496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76-80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3800" y="384012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88-94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20840" y="3230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1999-2000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4419720"/>
            <a:ext cx="92160" cy="9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155600" y="3809880"/>
            <a:ext cx="4724640" cy="635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9608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1500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038480" y="586728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560" y="5892840"/>
            <a:ext cx="99036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5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96880" y="5892840"/>
            <a:ext cx="990720" cy="3070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80240" y="3746520"/>
            <a:ext cx="91800" cy="92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05920" y="3048120"/>
            <a:ext cx="91800" cy="91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5943600" y="3060720"/>
            <a:ext cx="2425680" cy="736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58680" y="289404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b195d"/>
                </a:solidFill>
                <a:latin typeface="Arial"/>
              </a:rPr>
              <a:t>(All  ages)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800" y="3808440"/>
            <a:ext cx="106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0+ years) 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-228600" y="0"/>
            <a:ext cx="9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Developmental Objectiv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" y="990720"/>
            <a:ext cx="872496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08.  Decrease the proportion of pregnant w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gestational diabetes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ture source, National Vital Statistics System-Natality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09.  Reduce frequency of foots ulcers in persons with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betes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ture source, National Health and Nutrition Examination Survey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11.  Increase the proportion of persons with diabetes                  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obtain an annual urinary albumin  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posed source, Behavioral Risk Factor Surveillance System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-76320" y="762120"/>
          <a:ext cx="92203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762120"/>
                    <a:ext cx="92203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-228600" y="90360"/>
            <a:ext cx="9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Projected Diagnosed Diabetes in the U.S.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7080" y="1109520"/>
            <a:ext cx="62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ed number of people with diagnosed diabetes (millions)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19051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pulation growth assumption*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05320" y="2286000"/>
            <a:ext cx="5331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05320" y="2514600"/>
            <a:ext cx="533160" cy="0"/>
          </a:xfrm>
          <a:prstGeom prst="line">
            <a:avLst/>
          </a:prstGeom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05320" y="2743200"/>
            <a:ext cx="5331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00040" y="21337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14800" y="2362320"/>
            <a:ext cx="7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15880" y="25909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-32400" y="6172200"/>
            <a:ext cx="592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All population projections assume increasing diabetes prevalence rate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05120" y="4267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4380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ed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23880" y="5715000"/>
            <a:ext cx="762120" cy="30492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563868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1975</a:t>
            </a:r>
            <a:endParaRPr b="0" lang="en-US" sz="19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38280" y="4495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001000" y="19051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6486480"/>
            <a:ext cx="9144000" cy="371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s: U.S. Census Bureau, National Health Interview Survey (NHIS), CDC, NCHS.  Boyle et al.  Diabetes Care,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. 24, No.11, November 2001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-228600"/>
            <a:ext cx="9144000" cy="533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62520" y="6521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0 Targe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2286000"/>
            <a:ext cx="1371600" cy="152280"/>
          </a:xfrm>
          <a:prstGeom prst="line">
            <a:avLst/>
          </a:prstGeom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1523880"/>
            <a:ext cx="883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ess review data and slides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 be found on the web at: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tp://www.cdc.gov/nchs/hphome.ht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14300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48840" y="556272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85600" y="561492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04960" y="56624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4600" y="566244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17840" y="558972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66840" y="4932360"/>
            <a:ext cx="6753240" cy="11448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46483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600200" y="343800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2000" y="566568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6760" y="121932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s with diabetes in the U.S.: 17 million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1.1 million diagnosed + 5.9 million undiagnosed)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0" y="624852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 Diagnosed Diabetes Prevalence, 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543720"/>
            <a:ext cx="9144000" cy="3049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Interview Survey (NHI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536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Provider Services For Adults with Diabetes” slide are as follows: A1C test (5-12), foot (5-14), dental (5-15), eye (5-13), education (5-1), high blood pressure control (12-10), and 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uenza /pneumococcal vaccination (14-29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Self-management of Diabetes” slide are as follows: self-monitoring blood glucose (5-17), aspirin use (5-16), healthy weight (19-1), and moderate physical activity (22-2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numbers in the “Selected Risk Factors” slide are listed above except for high blood pressure (12-9)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re age adjusted to the 2000 standard population.  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merican Indian/Alaska Native and Asian Pacific Islander categories include persons of Hispanic and non-Hispanic origin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s of Hispanic origin may be of any race.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e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9440" y="838080"/>
          <a:ext cx="880596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838080"/>
                    <a:ext cx="88059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84280" y="4800600"/>
            <a:ext cx="164880" cy="190440"/>
          </a:xfrm>
          <a:prstGeom prst="rect">
            <a:avLst/>
          </a:prstGeom>
          <a:solidFill>
            <a:srgbClr val="e48a38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730600"/>
            <a:ext cx="215640" cy="190440"/>
          </a:xfrm>
          <a:prstGeom prst="rect">
            <a:avLst/>
          </a:prstGeom>
          <a:solidFill>
            <a:srgbClr val="f7f7f1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6560" y="3111480"/>
            <a:ext cx="28260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53052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96252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381560"/>
            <a:ext cx="215640" cy="190440"/>
          </a:xfrm>
          <a:prstGeom prst="rect">
            <a:avLst/>
          </a:prstGeom>
          <a:solidFill>
            <a:srgbClr val="e48a38"/>
          </a:solidFill>
          <a:ln w="936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298600"/>
            <a:ext cx="215640" cy="19044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048120"/>
            <a:ext cx="1324080" cy="2667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1160" y="519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0-4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87640" y="4548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43760" y="4076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45-6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51800" y="30290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5-7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65400" y="32418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+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Table8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 Prevalence of Diagnosed Diabetes by Age: United States, 1980-1999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181480"/>
            <a:ext cx="152640" cy="22860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8600" y="51544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600" y="4743360"/>
            <a:ext cx="336240" cy="2613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8600" y="4324320"/>
            <a:ext cx="336240" cy="26136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286000"/>
            <a:ext cx="42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840" y="26668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9000" y="309240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0840" y="349560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8600" y="391968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e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280" y="838080"/>
          <a:ext cx="69343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6934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20560" y="4724280"/>
            <a:ext cx="165240" cy="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7306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048120"/>
            <a:ext cx="206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53052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8862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34340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324160"/>
            <a:ext cx="2160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70520" y="5143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0-4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6960" y="4548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8600" y="37339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45-6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42280" y="24192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5-74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4200" y="324180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+ years</a:t>
            </a:r>
            <a:endParaRPr b="0" lang="en-US" sz="1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3. Prevalence of Diagnosed Diabetes by Age: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United States, 1980-1999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1814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9920" y="510552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72428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3960" y="4297320"/>
            <a:ext cx="33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0"/>
            <a:ext cx="42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680" y="26668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30862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840" y="350532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9000" y="3886200"/>
            <a:ext cx="33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705720" y="1616040"/>
          <a:ext cx="8381880" cy="4149720"/>
        </p:xfrm>
        <a:graphic>
          <a:graphicData uri="http://schemas.openxmlformats.org/drawingml/2006/table">
            <a:tbl>
              <a:tblPr/>
              <a:tblGrid>
                <a:gridCol w="407880"/>
                <a:gridCol w="262080"/>
                <a:gridCol w="549000"/>
                <a:gridCol w="71629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8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3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0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6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4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2</a:t>
                      </a:r>
                      <a:endParaRPr b="0" lang="en-US" sz="16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7108920" y="190512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cent change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42680" y="2220840"/>
            <a:ext cx="88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1980-1996)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04800" y="2220840"/>
            <a:ext cx="88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1997-1999)</a:t>
            </a:r>
            <a:endParaRPr b="0" lang="en-US" sz="11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2438280"/>
            <a:ext cx="1562040" cy="324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1905120"/>
            <a:ext cx="156672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37524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Table8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77120"/>
            <a:ext cx="9144000" cy="3715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-304920" y="838080"/>
          <a:ext cx="922032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838080"/>
                    <a:ext cx="92203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-228600" y="-76320"/>
            <a:ext cx="96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5-3. Prevalence of Diagnosed Diabetes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by Race/Ethnicity and Gender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7000" y="216216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Black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7360" y="287820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b195d"/>
                </a:solidFill>
                <a:latin typeface="Arial"/>
              </a:rPr>
              <a:t>Black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36576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48a38"/>
                </a:solidFill>
                <a:latin typeface="Arial"/>
              </a:rPr>
              <a:t>White 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99320" y="353376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White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809880"/>
            <a:ext cx="0" cy="1526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3733920"/>
            <a:ext cx="0" cy="152280"/>
          </a:xfrm>
          <a:prstGeom prst="line">
            <a:avLst/>
          </a:prstGeom>
          <a:ln w="12600">
            <a:solidFill>
              <a:srgbClr val="11c8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6360" y="153972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6360" y="1935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6360" y="236232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360" y="2773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230640"/>
            <a:ext cx="32364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6360" y="36576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6360" y="41450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6360" y="4572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-1539720" y="3108600"/>
            <a:ext cx="353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3720" y="175248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panic 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2320" y="25146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70029"/>
                </a:solidFill>
                <a:latin typeface="Arial"/>
              </a:rPr>
              <a:t>Hispanic females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1981080"/>
            <a:ext cx="6858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8305920" y="2285640"/>
            <a:ext cx="304560" cy="304920"/>
          </a:xfrm>
          <a:prstGeom prst="line">
            <a:avLst/>
          </a:prstGeom>
          <a:ln w="19080">
            <a:solidFill>
              <a:srgbClr val="c7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2133720"/>
            <a:ext cx="1066680" cy="380880"/>
          </a:xfrm>
          <a:prstGeom prst="ellipse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37524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fig4data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1219320"/>
          <a:ext cx="68580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6858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-228600" y="-76320"/>
            <a:ext cx="96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5-3. Prevalence of Diagnosed Diabetes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7f1"/>
                </a:solidFill>
                <a:latin typeface="Times New Roman"/>
              </a:rPr>
              <a:t>by Race/Ethnicity and Gender </a:t>
            </a:r>
            <a:endParaRPr b="0" lang="en-US" sz="28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2286000"/>
            <a:ext cx="609840" cy="0"/>
          </a:xfrm>
          <a:prstGeom prst="line">
            <a:avLst/>
          </a:prstGeom>
          <a:ln w="12600">
            <a:solidFill>
              <a:srgbClr val="f7f7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5867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9440" y="26971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lack fe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69440" y="338292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b195d"/>
                </a:solidFill>
                <a:latin typeface="Arial"/>
              </a:rPr>
              <a:t>Black 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406872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8a38"/>
                </a:solidFill>
                <a:latin typeface="Arial"/>
              </a:rPr>
              <a:t>White  fe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960" y="403848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ff"/>
                </a:solidFill>
                <a:latin typeface="Arial"/>
              </a:rPr>
              <a:t>White males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4267080"/>
            <a:ext cx="0" cy="152640"/>
          </a:xfrm>
          <a:prstGeom prst="line">
            <a:avLst/>
          </a:prstGeom>
          <a:ln w="12600">
            <a:solidFill>
              <a:srgbClr val="e48a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4191120"/>
            <a:ext cx="0" cy="152280"/>
          </a:xfrm>
          <a:prstGeom prst="line">
            <a:avLst/>
          </a:prstGeom>
          <a:ln w="12600">
            <a:solidFill>
              <a:srgbClr val="11c8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59920" y="216864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panic males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2320" y="193500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3240" y="23162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3240" y="2773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240" y="32306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1800" y="3687840"/>
            <a:ext cx="32400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3240" y="41450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240" y="46022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3240" y="5059440"/>
            <a:ext cx="320760" cy="276480"/>
          </a:xfrm>
          <a:prstGeom prst="rect">
            <a:avLst/>
          </a:prstGeom>
          <a:solidFill>
            <a:srgbClr val="f7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629400" y="2131920"/>
          <a:ext cx="2286000" cy="2757600"/>
        </p:xfrm>
        <a:graphic>
          <a:graphicData uri="http://schemas.openxmlformats.org/drawingml/2006/table">
            <a:tbl>
              <a:tblPr/>
              <a:tblGrid>
                <a:gridCol w="1016280"/>
                <a:gridCol w="216000"/>
                <a:gridCol w="599040"/>
                <a:gridCol w="454680"/>
              </a:tblGrid>
              <a:tr h="38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fe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panic female   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6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1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female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f7f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7f7f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12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7f7f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791320" y="2362320"/>
            <a:ext cx="5331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3840" y="2133720"/>
            <a:ext cx="223524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3240" y="152568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ercent Chang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89160" y="19051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80-96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98640" y="19051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97-99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1289520" y="3893760"/>
            <a:ext cx="305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ge-adjusted rate per 1,000 standard population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92720" y="28954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0029"/>
                </a:solidFill>
                <a:latin typeface="Arial"/>
              </a:rPr>
              <a:t>Hispanic females 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6248160" y="2742840"/>
            <a:ext cx="75960" cy="304920"/>
          </a:xfrm>
          <a:prstGeom prst="line">
            <a:avLst/>
          </a:prstGeom>
          <a:ln w="12600">
            <a:solidFill>
              <a:srgbClr val="c7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91240" y="1512720"/>
            <a:ext cx="22478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6400800"/>
            <a:ext cx="9144000" cy="48276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ote: Data are three-year averages. Data from 1997 and later years my not be comparable with earlier years due to a redesign of the NHIS in 1997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National Health Interview Survey (NHIS), CDC, NCHS.  www.cdc.gov/diabetes/statistics/prev/national/fig4data.htm.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f7f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key" descr="Image of a key for the figures above.  Links for data figures, sources, methodology and data limitations, and detailed tables follow this figure."/>
          <p:cNvPicPr/>
          <p:nvPr/>
        </p:nvPicPr>
        <p:blipFill>
          <a:blip r:embed="rId1"/>
          <a:stretch/>
        </p:blipFill>
        <p:spPr>
          <a:xfrm>
            <a:off x="2587680" y="5802480"/>
            <a:ext cx="3965400" cy="217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71160" y="304920"/>
            <a:ext cx="86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3.  Prevalence of Diagnosed Diabetes,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ults 18 years and over, by State, United States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520" y="6172200"/>
            <a:ext cx="60300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1994: 3-Year Average; 2000: 2-Year Average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Behavioral Risk Factor Surveillance Survey (BRFSS), CDC, NCCDPHP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dc.gov/diabetes/statistics/prev/state/fig61994and2000.htm</a:t>
            </a:r>
            <a:endParaRPr b="0" lang="en-US" sz="1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2320" y="21178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2040" y="21178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61920" y="539604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-adjusted percent</a:t>
            </a:r>
            <a:endParaRPr b="0" lang="en-US" sz="16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48760" y="5707080"/>
            <a:ext cx="476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4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-4.9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-5.9%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571500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+%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pic>
        <p:nvPicPr>
          <p:cNvPr id="240" name="f61994Small" descr=""/>
          <p:cNvPicPr/>
          <p:nvPr/>
        </p:nvPicPr>
        <p:blipFill>
          <a:blip r:embed="rId2"/>
          <a:stretch/>
        </p:blipFill>
        <p:spPr>
          <a:xfrm>
            <a:off x="228600" y="2452680"/>
            <a:ext cx="4267080" cy="2638440"/>
          </a:xfrm>
          <a:prstGeom prst="rect">
            <a:avLst/>
          </a:prstGeom>
          <a:ln w="0">
            <a:noFill/>
          </a:ln>
        </p:spPr>
      </p:pic>
      <p:pic>
        <p:nvPicPr>
          <p:cNvPr id="241" name="f62000Small" descr=""/>
          <p:cNvPicPr/>
          <p:nvPr/>
        </p:nvPicPr>
        <p:blipFill>
          <a:blip r:embed="rId3"/>
          <a:stretch/>
        </p:blipFill>
        <p:spPr>
          <a:xfrm>
            <a:off x="4646520" y="2438280"/>
            <a:ext cx="4268880" cy="27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7f7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Note: Diagnosed incidence derived from algorithm using age at interview and age at diagnosi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National Health Interview Survey (NHIS), CDC, NCHS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1295280"/>
          <a:ext cx="845820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458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2981880" y="5665680"/>
            <a:ext cx="13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merican Indian/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aska Native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09280" y="5694480"/>
            <a:ext cx="89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hite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3280" y="5662440"/>
            <a:ext cx="8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lack, no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28640" y="56656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span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41880" y="5665680"/>
            <a:ext cx="109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ian/Pacific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slander 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52360" y="5154480"/>
            <a:ext cx="6867720" cy="84240"/>
          </a:xfrm>
          <a:custGeom>
            <a:avLst/>
            <a:gdLst/>
            <a:ahLst/>
            <a:rect l="l" t="t" r="r" b="b"/>
            <a:pathLst>
              <a:path w="5218" h="1">
                <a:moveTo>
                  <a:pt x="0" y="0"/>
                </a:moveTo>
                <a:lnTo>
                  <a:pt x="5218" y="0"/>
                </a:lnTo>
                <a:lnTo>
                  <a:pt x="52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t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3800" y="472428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880" y="154944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-adjusted rate per 1,000 standard population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5480" y="56484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tal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80880"/>
            <a:ext cx="9144000" cy="914400"/>
          </a:xfrm>
          <a:prstGeom prst="rect">
            <a:avLst/>
          </a:prstGeom>
          <a:solidFill>
            <a:srgbClr val="ccd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5-2.  Diagnosed Diabetes Incidence*: Adults 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7f1"/>
                </a:solidFill>
                <a:latin typeface="Times New Roman"/>
              </a:rPr>
              <a:t>Age 18-84, by Race/Ethnicity, 1998-2000</a:t>
            </a:r>
            <a:endParaRPr b="0" lang="en-US" sz="32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43480" y="246528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*</a:t>
            </a:r>
            <a:endParaRPr b="0" lang="en-US" sz="20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0" y="6095880"/>
            <a:ext cx="350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**Unreliable estimate, relative standard error &gt;30%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06240" y="6095880"/>
            <a:ext cx="191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95% confidence interval.</a:t>
            </a:r>
            <a:endParaRPr b="0" lang="en-US" sz="1400" spc="-1" strike="noStrike">
              <a:solidFill>
                <a:srgbClr val="f7f7f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8:07:34Z</dcterms:created>
  <dc:creator>emw6</dc:creator>
  <dc:description/>
  <dc:language>en-US</dc:language>
  <cp:lastModifiedBy>emw6</cp:lastModifiedBy>
  <dcterms:modified xsi:type="dcterms:W3CDTF">2002-12-18T19:05:53Z</dcterms:modified>
  <cp:revision>801</cp:revision>
  <dc:subject/>
  <dc:title>PowerPoint Presentation</dc:title>
</cp:coreProperties>
</file>