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F625-54C5-43B4-9AB4-6ED00FC4A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9178-43CA-40C3-8967-A8229E42F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2453-E9A2-44FE-9909-9EBE1FCAC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9DC4-A4C7-4BAC-A522-955CC0E66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16F3-440F-42B0-ACFE-65F231BC1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6FA1-56A0-4921-A757-AB375639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B560-0063-45C0-9D20-78A093198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A62E-2B7D-40F5-A0DD-2F3E4FD55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7140-8CB3-4428-A5FD-7A598F016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E165-9300-45E3-AFD1-C0605E60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E810-1B17-4DA0-BE32-239A5E54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5F9C-5301-4BB3-AD5B-48F0C642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62E91-A25A-4D83-8DE7-16A7A0E92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975040" y="1981080"/>
          <a:ext cx="3882960" cy="664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5040" y="1981080"/>
                    <a:ext cx="3882960" cy="664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762120" y="1447920"/>
            <a:ext cx="57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ved away from targ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ved toward target                  Met targ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0440" y="152280"/>
            <a:ext cx="647712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cus Area 3:  Midcourse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cer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7160" y="5257800"/>
            <a:ext cx="6630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3962520"/>
            <a:ext cx="6629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960" y="1219320"/>
            <a:ext cx="6058080" cy="15228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523880"/>
            <a:ext cx="304920" cy="228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71800" y="15238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257800" y="1523880"/>
            <a:ext cx="304920" cy="22860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523880"/>
            <a:ext cx="304920" cy="228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523880"/>
            <a:ext cx="304920" cy="228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523880"/>
            <a:ext cx="304920" cy="228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523880"/>
            <a:ext cx="304920" cy="228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523880"/>
            <a:ext cx="304920" cy="228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523880"/>
            <a:ext cx="304920" cy="228600"/>
          </a:xfrm>
          <a:prstGeom prst="rect">
            <a:avLst/>
          </a:prstGeom>
          <a:solidFill>
            <a:srgbClr val="ffc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40360" y="4451400"/>
            <a:ext cx="378000" cy="0"/>
          </a:xfrm>
          <a:prstGeom prst="line">
            <a:avLst/>
          </a:prstGeom>
          <a:ln w="414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2362320"/>
            <a:ext cx="74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71800" y="7723080"/>
            <a:ext cx="3467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7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       25     50      75    100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9880" y="8015400"/>
            <a:ext cx="32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rcent of targeted change achie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4560" y="8723160"/>
            <a:ext cx="86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1 of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58840" y="8720280"/>
            <a:ext cx="170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notes at end of ch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8160" y="2286000"/>
            <a:ext cx="5505480" cy="55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1.     Overall cancer deaths  (1999, 2003)                                            2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2.      Lung cancer deaths  (1999, 2003)                                                   1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3.      Female breast cancer deaths                                                        2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999, 200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4.      Cervical cancer deaths                                                                 3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999, 200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5.      Colorectal cancer deaths                                                             2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999, 200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6.      Oropharyngeal cancer deaths                                                      3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999, 200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7.      Prostate cancer deaths                                                              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15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999, 200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8.      Melanoma cancer deaths                                                 33%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999, 200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9b.    Sun exposure and skin cancer:                                                    4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+ years  (2000, 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10h.  Primary care provider counseling                                               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cancer prevention:  phys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vity  (1998, 2000)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867280" y="5767560"/>
            <a:ext cx="338400" cy="118800"/>
          </a:xfrm>
          <a:prstGeom prst="rightArrow">
            <a:avLst>
              <a:gd name="adj1" fmla="val 50000"/>
              <a:gd name="adj2" fmla="val 712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2975040" y="1981080"/>
          <a:ext cx="3882960" cy="472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5040" y="1981080"/>
                    <a:ext cx="3882960" cy="47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762120" y="1447920"/>
            <a:ext cx="57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ved away from targ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ved toward target                  Met targ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440" y="152280"/>
            <a:ext cx="647712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cus Area 3:  Midcourse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cer  (continued)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7160" y="5257800"/>
            <a:ext cx="6630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3962520"/>
            <a:ext cx="6629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9960" y="1219320"/>
            <a:ext cx="6058080" cy="15228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523880"/>
            <a:ext cx="304920" cy="228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971800" y="15238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257800" y="1523880"/>
            <a:ext cx="304920" cy="22860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1523880"/>
            <a:ext cx="304920" cy="228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1523880"/>
            <a:ext cx="304920" cy="228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1523880"/>
            <a:ext cx="304920" cy="228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523880"/>
            <a:ext cx="304920" cy="228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1523880"/>
            <a:ext cx="304920" cy="228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1523880"/>
            <a:ext cx="304920" cy="228600"/>
          </a:xfrm>
          <a:prstGeom prst="rect">
            <a:avLst/>
          </a:prstGeom>
          <a:solidFill>
            <a:srgbClr val="ffc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2362320"/>
            <a:ext cx="74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70360" y="6059520"/>
            <a:ext cx="346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7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       25     50      75    100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86720" y="6400800"/>
            <a:ext cx="311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rcent of targeted change achie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8600" y="7086600"/>
            <a:ext cx="5546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S:  Tracking data for Objectives 3-9a and 3-10a through 3-10g are unavail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rs in parentheses represent the baseline data year and the most recent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r used to compute the percent of the Healthy People 2010 target achie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2040" y="872028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2 of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7080" y="1965240"/>
            <a:ext cx="5639400" cy="45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11.   Pap test:  females 18+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998, 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Ever received                                                                                 2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Within past 3 years                                                              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12a.  Fecal occult blood test within                                  -6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t 2 years:  50+ year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000, 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12b.  Sigmoidoscopy ever received:                                              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+ years  (1998, 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13.    Mammogram within past 2 years:                                         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133%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s 40+ years  (1998, 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14.    Statewide cancer registries:  number                                           2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States  (1999, 200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15.    Persons living 5+ years after  cancer                                              4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nosis  (1989-95, 1995-2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29080" y="7897680"/>
            <a:ext cx="231444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recent value – baseline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————————————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r 2010 target – baseline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60920" y="7978680"/>
            <a:ext cx="249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nt of targeted change achieved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34880" y="7978680"/>
            <a:ext cx="51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02360" y="782496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640480" y="782496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235320" y="6086160"/>
            <a:ext cx="298944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4680" y="6005520"/>
            <a:ext cx="0" cy="6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234120" y="600552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84480" y="6005520"/>
            <a:ext cx="0" cy="6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610080" y="6005520"/>
            <a:ext cx="0" cy="6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483160" y="6005520"/>
            <a:ext cx="0" cy="6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857920" y="6005520"/>
            <a:ext cx="0" cy="6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08400" y="6005520"/>
            <a:ext cx="0" cy="6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59240" y="6005520"/>
            <a:ext cx="0" cy="6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800680" y="4600440"/>
            <a:ext cx="338040" cy="119160"/>
          </a:xfrm>
          <a:prstGeom prst="rightArrow">
            <a:avLst>
              <a:gd name="adj1" fmla="val 50000"/>
              <a:gd name="adj2" fmla="val 7092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7:11:16Z</dcterms:created>
  <dc:creator>Kathleen M. Turczyn</dc:creator>
  <dc:description/>
  <dc:language>en-US</dc:language>
  <cp:lastModifiedBy>eir5</cp:lastModifiedBy>
  <dcterms:modified xsi:type="dcterms:W3CDTF">2006-07-20T20:59:57Z</dcterms:modified>
  <cp:revision>116</cp:revision>
  <dc:subject/>
  <dc:title>Slide 1</dc:title>
</cp:coreProperties>
</file>