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4F75-5A03-4DD4-9412-9A6C14E3F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0137-6FBB-4D1C-A7A8-1D7A739A6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45CE-4C03-4693-A860-8B8C0E5C8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9836-D6BF-4429-8754-0019503CD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BE4A-D374-47FF-903B-7250FD84F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2FC2-8F75-466A-9450-AA00DF409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931A-5ACB-4AED-842E-64A9B3737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981E-C11F-4C69-9B39-21E72349F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D0AB-34FD-43B0-B47F-997E2D5D3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49B5-E42B-49F1-B13E-63C8119F4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576D-DB99-44C9-8647-951035CB7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9409-B4F9-4260-BBB4-524F45A5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3ACB6-BBB1-4437-BF98-CDECB785D0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975040" y="1981080"/>
          <a:ext cx="3882960" cy="664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5040" y="1981080"/>
                    <a:ext cx="3882960" cy="664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762120" y="1447920"/>
            <a:ext cx="57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ved away from targ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ved toward target                  Met targe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0440" y="152280"/>
            <a:ext cx="647712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cus Area 3:  Midcourse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cer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7160" y="5257800"/>
            <a:ext cx="6630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3962520"/>
            <a:ext cx="6629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960" y="1219320"/>
            <a:ext cx="6058080" cy="15228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523880"/>
            <a:ext cx="304920" cy="228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971800" y="152388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257800" y="1523880"/>
            <a:ext cx="304920" cy="22860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523880"/>
            <a:ext cx="304920" cy="228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1523880"/>
            <a:ext cx="304920" cy="228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523880"/>
            <a:ext cx="304920" cy="228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523880"/>
            <a:ext cx="304920" cy="228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523880"/>
            <a:ext cx="304920" cy="228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523880"/>
            <a:ext cx="304920" cy="228600"/>
          </a:xfrm>
          <a:prstGeom prst="rect">
            <a:avLst/>
          </a:prstGeom>
          <a:solidFill>
            <a:srgbClr val="ffc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40360" y="4451400"/>
            <a:ext cx="378000" cy="0"/>
          </a:xfrm>
          <a:prstGeom prst="line">
            <a:avLst/>
          </a:prstGeom>
          <a:ln w="414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2362320"/>
            <a:ext cx="74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971800" y="7723080"/>
            <a:ext cx="3467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7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5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       25     50      75    100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9880" y="8015400"/>
            <a:ext cx="32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rcent of targeted change achie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4560" y="8723160"/>
            <a:ext cx="86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1 of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58840" y="8720280"/>
            <a:ext cx="170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notes at end of cha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8160" y="2286000"/>
            <a:ext cx="5505480" cy="55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1.     Overall cancer deaths  (1999, 2003)                                            2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2.      Lung cancer deaths  (1999, 2003)                                                   1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3.      Female breast cancer deaths                                                        2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999, 200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4.      Cervical cancer deaths                                                                 3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999, 200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5.      Colorectal cancer deaths                                                             2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999, 200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6.      Oropharyngeal cancer deaths                                                      3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999, 200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7.      Prostate cancer deaths                                                                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15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999, 200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8.      Melanoma cancer deaths                                                 33%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999, 200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9b.    Sun exposure and skin cancer:                                                    4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+ years  (2000, 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10h.  Primary care provider counseling                                               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cancer prevention:  phys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vity  (1998, 2000)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867280" y="5767560"/>
            <a:ext cx="338400" cy="118800"/>
          </a:xfrm>
          <a:prstGeom prst="rightArrow">
            <a:avLst>
              <a:gd name="adj1" fmla="val 50000"/>
              <a:gd name="adj2" fmla="val 7121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2975040" y="1981080"/>
          <a:ext cx="3882960" cy="472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5040" y="1981080"/>
                    <a:ext cx="3882960" cy="472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762120" y="1447920"/>
            <a:ext cx="57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ved away from targ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ved toward target                  Met targe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440" y="152280"/>
            <a:ext cx="647712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cus Area 3:  Midcourse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cer  (continued)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7160" y="5257800"/>
            <a:ext cx="6630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3520" y="3962520"/>
            <a:ext cx="6629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9960" y="1219320"/>
            <a:ext cx="6058080" cy="15228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1523880"/>
            <a:ext cx="304920" cy="228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971800" y="152388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257800" y="1523880"/>
            <a:ext cx="304920" cy="22860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1523880"/>
            <a:ext cx="304920" cy="228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1523880"/>
            <a:ext cx="304920" cy="228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1523880"/>
            <a:ext cx="304920" cy="228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1523880"/>
            <a:ext cx="304920" cy="228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1523880"/>
            <a:ext cx="304920" cy="228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1523880"/>
            <a:ext cx="304920" cy="228600"/>
          </a:xfrm>
          <a:prstGeom prst="rect">
            <a:avLst/>
          </a:prstGeom>
          <a:solidFill>
            <a:srgbClr val="ffc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2362320"/>
            <a:ext cx="74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70360" y="6059520"/>
            <a:ext cx="346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7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5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       25     50      75    100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86720" y="6400800"/>
            <a:ext cx="311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rcent of targeted change achie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8600" y="7086600"/>
            <a:ext cx="5546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S:  Tracking data for Objectives 3-9a and 3-10a through 3-10g are unavail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rs in parentheses represent the baseline data year and the most recent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r used to compute the percent of the Healthy People 2010 target achie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2040" y="8720280"/>
            <a:ext cx="8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2 of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7080" y="1965240"/>
            <a:ext cx="5639400" cy="45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11.   Pap test:  females 18+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998, 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Ever received                                                                                 2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Within past 3 years                                                              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12a.  Fecal occult blood test within                                  -6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t 2 years:  50+ year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000, 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12b.  Sigmoidoscopy ever received:                                                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+ years  (1998, 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13.    Mammogram within past 2 years:                                           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133%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s 40+ years  (1998, 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14.    Statewide cancer registries:  number                                           2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States  (1999, 200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15.    Persons living 5+ years after  cancer                                              4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gnosis  (1989-95, 1995-2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29080" y="7897680"/>
            <a:ext cx="231444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recent value – baseline 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————————————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r 2010 target – baseline 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60920" y="7978680"/>
            <a:ext cx="249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cent of targeted change achieved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34880" y="7978680"/>
            <a:ext cx="51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02360" y="782496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640480" y="782496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3235320" y="6086160"/>
            <a:ext cx="298944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4680" y="6005520"/>
            <a:ext cx="0" cy="6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234120" y="600552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84480" y="6005520"/>
            <a:ext cx="0" cy="6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610080" y="6005520"/>
            <a:ext cx="0" cy="6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483160" y="6005520"/>
            <a:ext cx="0" cy="6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857920" y="6005520"/>
            <a:ext cx="0" cy="6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08400" y="6005520"/>
            <a:ext cx="0" cy="6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359240" y="6005520"/>
            <a:ext cx="0" cy="6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800680" y="4600440"/>
            <a:ext cx="338040" cy="119160"/>
          </a:xfrm>
          <a:prstGeom prst="rightArrow">
            <a:avLst>
              <a:gd name="adj1" fmla="val 50000"/>
              <a:gd name="adj2" fmla="val 7092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17:11:16Z</dcterms:created>
  <dc:creator>Kathleen M. Turczyn</dc:creator>
  <dc:description/>
  <dc:language>en-US</dc:language>
  <cp:lastModifiedBy>eir5</cp:lastModifiedBy>
  <dcterms:modified xsi:type="dcterms:W3CDTF">2006-07-20T20:59:57Z</dcterms:modified>
  <cp:revision>116</cp:revision>
  <dc:subject/>
  <dc:title>Slide 1</dc:title>
</cp:coreProperties>
</file>