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5DB68A-BA2E-4A23-857E-63FEFADC6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2CBB59-78AE-45F1-93B9-33CA13FB9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6640" cy="4182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tle of the study should be, typically be an abbreviated form of the study question.  For example, the title could be “The cost-effectiveness of routinely vaccinating age group X  against Disease 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AVOIDED: Titles with subjective valuations, such as “Is it worthwhile to vaccinate against Disease 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Num" idx="17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8C8A5D-68D7-4C0A-98DB-116CE3035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3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6640" cy="4182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tatements should be very brief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00CAB9-DB46-486A-9D33-B9ADBABE0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3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6640" cy="4182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tatements should be very brief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Num" idx="19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91A36A-2070-4979-A990-EA04E79C8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3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6640" cy="4182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467-9519-48F5-9346-B49BAEFF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866-65F9-4472-910A-7B69EB75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FC8-EA6E-4BD9-8307-DFEC0A4A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357-4AE5-49B9-AA27-3E1F246D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5D80-8027-4890-9906-18D249AB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98E6-013F-4F2C-B8D3-C3CCE491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7B39-1397-48BD-AAA1-90110030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36FC-A420-4107-B8B9-16370C7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39FD-D33A-4D7B-AE03-DEF3C59B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84B7-6D2E-4FE6-BBBE-AB51C7DC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9BD1-D1E4-41F3-8E5F-07B4FF1E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D94-B8A2-4886-95BB-E75EA3FB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6E37-0E0E-4CB4-B8BB-4F6D9A0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0F45-6D14-4AF2-8475-986CE62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8CDF-20C2-43A2-A114-F97F054B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C178-515B-4952-92F5-5F9609D9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60EA-6588-4B7E-851F-F9B059B6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D068-7150-4DC7-97E5-A5350514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68635-BBB4-433C-8BD6-5D3DCC81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1731-83C3-4C97-B725-1AECC2ED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2107-D9A2-47EF-BCB0-DA777B50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D90E2-B150-4979-93EA-AB06A4F6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F6D-3C11-44D7-8013-B1043F8E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BFE6-261A-4BC0-A210-4583F149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4F421-1CCC-4FC8-8CC1-39B3E8C5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662C-7F8A-4A48-A0DE-8CE2E0DB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0FC0-7065-413B-AAC3-42B70F5B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9740-2457-4130-9533-0551FD81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907D9-629A-48CF-B9BE-8113A316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DCCC-8EED-41DB-99BF-1AA2D695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0F780-5691-4FAF-9D49-7D6A35BC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DEB0-D804-4646-B370-5863F11F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5A8A-568F-48D2-BF54-25F87884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159-F4A5-4E45-8462-71E90C0A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A95E-D025-4594-A72D-8DAEDA56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7C8B4-3309-4337-810C-FBAB2A88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A91A-CA6D-4130-9DE8-964D0E5B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BFEB-CDA2-44AB-8DEB-548EE924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43B5-9D1E-438A-8D2F-045DC42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2015E-B533-4239-9BCB-35D3FC07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0D2AB-033C-4401-9019-3AADDAC8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3774-84E7-4A92-BB52-1D6D8BAE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08DB-5DA7-4B8A-9BEF-D2EDAB58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864-BDD4-4B1D-8EC6-59B307FB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D54-4B0A-47D5-BFEC-106292D4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6E0-4C30-4E3C-BC0A-19B84857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D1A-7001-4E10-AE3F-BD682DA8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872-93B4-456B-8FE7-665B306E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624FC0-313F-4B9A-B5F1-16ECD7DD1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5D6A25-7E67-4053-8B08-36F128533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FD6D7E-3A07-4403-9760-6EDF3AFCF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CED1F4-7AA6-4539-B679-1AC7A4D18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tle of study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hould clearly represent the study qu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hors names and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063440" y="5105520"/>
            <a:ext cx="689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nclude logos, as desired, to identify affiliation of auth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Health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uld be presented in either a table or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uld be presented in either a table or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Summary measure(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health outcomes and costs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uld be presented in either a table or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Additional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tables and/or graphs presenting some addi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Sensitivity analy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slides presenting tables or graphs showing results from sensitivity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Influential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/table/graph of influential variables (typically 3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how they might chang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important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 to other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ppropriate, compare results to results from other studies. Could be presented as a list or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er review 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3 slides listing some comments from the internal peer-revie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lides may be presented by a CDC-based econom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licts of intere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y author has a real or perceived conflict of interest, this must be noted, 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C: Consultant for vaccin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hor(s) have no known conflict of interest, this must be noted,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 A, B and C: no known conflict of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Study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complete statement of study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perspectiv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Intervention(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tatement of intervention(s) included in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time frame and analytic horizon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ention time frame: 3 yea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 horizon: outcomes counted for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ing – rat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Economic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nalyt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ummary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ld be presented as a word equation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per case averted = etc.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tatement of econom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Health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health outcomes measured and their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Epidemiologica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85800" y="1984320"/>
            <a:ext cx="76197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eveloped and used as part of research, show as a schematic diagram with suitable an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In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Group 3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38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43"/>
          <p:cNvSpPr/>
          <p:nvPr/>
        </p:nvSpPr>
        <p:spPr>
          <a:xfrm>
            <a:off x="533880" y="2743200"/>
            <a:ext cx="780732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&gt; 1 of these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puts that should always be presented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sease 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accin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uration of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Sensitivity analy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what sensitivity analyses were cond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s an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  <Words>521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42:23Z</dcterms:created>
  <dc:creator>CDC/CCID/NCIRD</dc:creator>
  <dc:description/>
  <cp:keywords>Cost-effectiveness analysis ACIP economic studies</cp:keywords>
  <dc:language>en-US</dc:language>
  <cp:lastModifiedBy>Liz Gueguen</cp:lastModifiedBy>
  <dcterms:modified xsi:type="dcterms:W3CDTF">2023-04-19T18:46:55Z</dcterms:modified>
  <cp:revision>26</cp:revision>
  <dc:subject>Suggested Format for Slide Presentations of Economic Studies to the ACIP</dc:subject>
  <dc:title>Suggested Format for Slide Presen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7b94a7b8-f06c-4dfe-bdcc-9b548fd58c31_ActionId">
    <vt:lpwstr>99ce840e-3008-44e4-ab22-a60bb71b7e10</vt:lpwstr>
  </property>
  <property fmtid="{D5CDD505-2E9C-101B-9397-08002B2CF9AE}" pid="3" name="MSIP_Label_7b94a7b8-f06c-4dfe-bdcc-9b548fd58c31_ContentBits">
    <vt:lpwstr>0</vt:lpwstr>
  </property>
  <property fmtid="{D5CDD505-2E9C-101B-9397-08002B2CF9AE}" pid="4" name="MSIP_Label_7b94a7b8-f06c-4dfe-bdcc-9b548fd58c31_Enabled">
    <vt:lpwstr>true</vt:lpwstr>
  </property>
  <property fmtid="{D5CDD505-2E9C-101B-9397-08002B2CF9AE}" pid="5" name="MSIP_Label_7b94a7b8-f06c-4dfe-bdcc-9b548fd58c31_Method">
    <vt:lpwstr>Privileged</vt:lpwstr>
  </property>
  <property fmtid="{D5CDD505-2E9C-101B-9397-08002B2CF9AE}" pid="6" name="MSIP_Label_7b94a7b8-f06c-4dfe-bdcc-9b548fd58c31_Name">
    <vt:lpwstr>7b94a7b8-f06c-4dfe-bdcc-9b548fd58c31</vt:lpwstr>
  </property>
  <property fmtid="{D5CDD505-2E9C-101B-9397-08002B2CF9AE}" pid="7" name="MSIP_Label_7b94a7b8-f06c-4dfe-bdcc-9b548fd58c31_SetDate">
    <vt:lpwstr>2023-04-19T18:46:28Z</vt:lpwstr>
  </property>
  <property fmtid="{D5CDD505-2E9C-101B-9397-08002B2CF9AE}" pid="8" name="MSIP_Label_7b94a7b8-f06c-4dfe-bdcc-9b548fd58c31_SiteId">
    <vt:lpwstr>9ce70869-60db-44fd-abe8-d2767077fc8f</vt:lpwstr>
  </property>
  <property fmtid="{D5CDD505-2E9C-101B-9397-08002B2CF9AE}" pid="9" name="Notes">
    <vt:r8>4</vt:r8>
  </property>
  <property fmtid="{D5CDD505-2E9C-101B-9397-08002B2CF9AE}" pid="10" name="PresentationFormat">
    <vt:lpwstr>On-screen Show (4:3)</vt:lpwstr>
  </property>
  <property fmtid="{D5CDD505-2E9C-101B-9397-08002B2CF9AE}" pid="11" name="Slides">
    <vt:r8>18</vt:r8>
  </property>
</Properties>
</file>