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605071-1821-4B9D-A0DB-54FEF919C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96931F-4ABA-471A-A654-1CE80ED5E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6640" cy="4182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tle of the study should be, typically be an abbreviated form of the study question.  For example, the title could be “The cost-effectiveness of routinely vaccinating age group X  against Disease 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AVOIDED: Titles with subjective valuations, such as “Is it worthwhile to vaccinate against Disease 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7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881900-50ED-4124-BE85-E548144A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6640" cy="4182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tatements should be very brief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E454C3-8496-4C8C-8150-046FE95CB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3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6640" cy="4182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tatements should be very brief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Num" idx="19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E2BB15-7AF5-4CD7-82BC-54BEB83EE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3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6640" cy="4182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9B9-33D5-4E83-AF1D-9BAA79C3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7DF-A0DF-4AD4-85AA-3CCA63C9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D39-27F0-4EDB-B6B4-F819DF34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02A-84AB-4F04-B5F5-A4ED6FA1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DF5A-D52A-4FDF-9CAA-975A7450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98DB-BD3B-4D5B-A945-E8347A6F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8D23-8692-45A1-96F9-3CA663D5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B023-A27C-49BB-9746-F1774394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09A4-A1F1-4434-9E32-03D27B31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4CD8-E15C-42FA-A275-8233284A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C70C-8EF6-4470-93E5-5EC3B6A2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BCB-E120-4A31-B516-869E0F3A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85F1-7DF3-4C00-B030-45E9F53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C49-BD48-4D84-B8ED-AC1C4850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F847-32D3-44A8-A647-1165173C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91DA-4AB2-4239-9292-660D4616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0280-E236-4599-93A7-83ECF56F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3F736-3356-4AB9-BBE6-99E46BD2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AE97-93AC-44D0-8E7F-F1AADC59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A5CB-A0C8-4CF4-9587-9E065980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4472-9E4F-40C3-9127-EF02B2B4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1490-A3A0-4B54-A56A-9664EA27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827-D6C4-4196-ABCF-54E67964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288A-0E48-42E2-913C-10323CC7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4FA4-FD8F-451D-A7FC-96E16368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33AB-9C0C-4202-9CA7-A74F6B2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EE71-549F-4A91-89F3-4CE5F04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4048-8CF5-4A37-9118-487A780D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53AC-7B1C-4315-AC86-6A213C37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C31C-C198-43A4-95F8-98E29D54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6AAD-2B02-4093-B77E-51D7F86A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B2A7-A957-4D75-87C8-093DD4D2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FFCC-2C53-4A49-A6E7-64882EA3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37F-6C79-403B-973D-7A02C927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661D-70D4-4C64-8EF4-ACC487CD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C965B-23AC-4EF9-B35A-C59BD880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20A1-7E6E-400C-9004-23E82A4C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CA30C-73D2-4C2B-8578-A39E2F00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8BA87-BDB6-4257-95AA-1222981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A190-3A16-4770-BAC7-4508AB60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07CEA-8DF6-4441-9503-3AEBCEAA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3717-7983-4099-94F9-3A1A0E12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D0541-3566-4E17-8971-FAA11F43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DD6-F366-4349-8BF6-859C9CBF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A48-1226-42C9-8B96-69F204A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371-38BB-4D69-8D29-619A63B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247-DDFC-4CCB-9B89-7FBBD302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EB7-11A7-4388-BBEA-4CE1512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6A559D-8D66-4B5D-8F67-C0163D6F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1463F7-F8A3-44A6-84A4-1E5AAE9DC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3F12A0-817E-4D50-8E14-0B8C70BEF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1BBB53-F3AC-42AC-941B-88A99B26C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tle of study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hould clearly represent the study qu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hors names and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063440" y="5105520"/>
            <a:ext cx="689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clude logos, as desired, to identify affiliation of aut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Health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uld be presented in either a table or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uld be presented in either a table or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Summary measure(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health outcomes and costs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uld be presented in either a table or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Additional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tables and/or graphs presenting some addi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Sensitivity analy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slides presenting tables or graphs showing results from sensitivity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: Influential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/table/graph of influential variables (typically 3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how they might chang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important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 to other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ropriate, compare results to results from other studies. Could be presented as a list or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er review 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3 slides listing some comments from the internal peer-revie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lides may be presented by a CDC-based econom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licts of intere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y author has a real or perceived conflict of interest, this must be noted, 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C: Consultant for vaccin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hor(s) have no known conflict of interest, this must be noted,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A, B and C: no known conflict of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Study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complete statement of study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perspectiv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Intervention(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tatement of intervention(s) included in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time frame and analytic horizon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ention time frame: 3 yea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 horizon: outcomes counted for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ing – rat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Economic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nalyt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ummary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ld be presented as a word equation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per case averted = etc.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tatement of econom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Health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health outcomes measured and their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Epidemiologica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85800" y="1984320"/>
            <a:ext cx="76197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eveloped and used as part of research, show as a schematic diagram with suitable an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Inp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Group 3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38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43"/>
          <p:cNvSpPr/>
          <p:nvPr/>
        </p:nvSpPr>
        <p:spPr>
          <a:xfrm>
            <a:off x="533880" y="2743200"/>
            <a:ext cx="780732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&gt; 1 of these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puts that should always be presented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sease 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accin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uration of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s: Sensitivity analy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what sensitivity analyses were cond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s an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  <Words>521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42:23Z</dcterms:created>
  <dc:creator>CDC/CCID/NCIRD</dc:creator>
  <dc:description/>
  <cp:keywords>Cost-effectiveness analysis ACIP economic studies</cp:keywords>
  <dc:language>en-US</dc:language>
  <cp:lastModifiedBy>Liz Gueguen</cp:lastModifiedBy>
  <dcterms:modified xsi:type="dcterms:W3CDTF">2023-04-19T18:46:55Z</dcterms:modified>
  <cp:revision>26</cp:revision>
  <dc:subject>Suggested Format for Slide Presentations of Economic Studies to the ACIP</dc:subject>
  <dc:title>Suggested Format for Slide Pres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7b94a7b8-f06c-4dfe-bdcc-9b548fd58c31_ActionId">
    <vt:lpwstr>99ce840e-3008-44e4-ab22-a60bb71b7e10</vt:lpwstr>
  </property>
  <property fmtid="{D5CDD505-2E9C-101B-9397-08002B2CF9AE}" pid="3" name="MSIP_Label_7b94a7b8-f06c-4dfe-bdcc-9b548fd58c31_ContentBits">
    <vt:lpwstr>0</vt:lpwstr>
  </property>
  <property fmtid="{D5CDD505-2E9C-101B-9397-08002B2CF9AE}" pid="4" name="MSIP_Label_7b94a7b8-f06c-4dfe-bdcc-9b548fd58c31_Enabled">
    <vt:lpwstr>true</vt:lpwstr>
  </property>
  <property fmtid="{D5CDD505-2E9C-101B-9397-08002B2CF9AE}" pid="5" name="MSIP_Label_7b94a7b8-f06c-4dfe-bdcc-9b548fd58c31_Method">
    <vt:lpwstr>Privileged</vt:lpwstr>
  </property>
  <property fmtid="{D5CDD505-2E9C-101B-9397-08002B2CF9AE}" pid="6" name="MSIP_Label_7b94a7b8-f06c-4dfe-bdcc-9b548fd58c31_Name">
    <vt:lpwstr>7b94a7b8-f06c-4dfe-bdcc-9b548fd58c31</vt:lpwstr>
  </property>
  <property fmtid="{D5CDD505-2E9C-101B-9397-08002B2CF9AE}" pid="7" name="MSIP_Label_7b94a7b8-f06c-4dfe-bdcc-9b548fd58c31_SetDate">
    <vt:lpwstr>2023-04-19T18:46:28Z</vt:lpwstr>
  </property>
  <property fmtid="{D5CDD505-2E9C-101B-9397-08002B2CF9AE}" pid="8" name="MSIP_Label_7b94a7b8-f06c-4dfe-bdcc-9b548fd58c31_SiteId">
    <vt:lpwstr>9ce70869-60db-44fd-abe8-d2767077fc8f</vt:lpwstr>
  </property>
  <property fmtid="{D5CDD505-2E9C-101B-9397-08002B2CF9AE}" pid="9" name="Notes">
    <vt:r8>4</vt:r8>
  </property>
  <property fmtid="{D5CDD505-2E9C-101B-9397-08002B2CF9AE}" pid="10" name="PresentationFormat">
    <vt:lpwstr>On-screen Show (4:3)</vt:lpwstr>
  </property>
  <property fmtid="{D5CDD505-2E9C-101B-9397-08002B2CF9AE}" pid="11" name="Slides">
    <vt:r8>18</vt:r8>
  </property>
</Properties>
</file>